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bmp" ContentType="image/bmp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2127240" y="236520"/>
            <a:ext cx="6807240" cy="9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Batch Process Research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2057400" cy="685656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25640"/>
            <a:ext cx="8920080" cy="235080"/>
          </a:xfrm>
          <a:prstGeom prst="rect">
            <a:avLst/>
          </a:prstGeom>
          <a:solidFill>
            <a:srgbClr val="663300"/>
          </a:solidFill>
          <a:ln w="12600">
            <a:solidFill>
              <a:srgbClr val="6633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0" y="2228760"/>
            <a:ext cx="21016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P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001 Lingay Dr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llison Park, PA 15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680" y="3348000"/>
            <a:ext cx="195408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ll Free: 800-684-BP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ax: (412)635-05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prc@bprc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011480" y="1527120"/>
            <a:ext cx="237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Products an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78240" y="2228760"/>
            <a:ext cx="609768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Batch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Profes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BatchD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duc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om consulting sevices in Computer aided Batch and Continuous Process Design , Optimization, and Cont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nual seminars and in-house workshops on batch distillation    &amp; batch process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-house seminars at the client’s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arch and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ooks and other educational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view of Batch Disti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02 -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Simple Distillat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2036880" y="2111400"/>
            <a:ext cx="3165840" cy="3692520"/>
            <a:chOff x="2036880" y="2111400"/>
            <a:chExt cx="3165840" cy="3692520"/>
          </a:xfrm>
        </p:grpSpPr>
        <p:sp>
          <p:nvSpPr>
            <p:cNvPr id="918" name=""/>
            <p:cNvSpPr/>
            <p:nvPr/>
          </p:nvSpPr>
          <p:spPr>
            <a:xfrm>
              <a:off x="2036880" y="4786200"/>
              <a:ext cx="358200" cy="437400"/>
            </a:xfrm>
            <a:custGeom>
              <a:avLst/>
              <a:gdLst/>
              <a:ahLst/>
              <a:rect l="0" t="0" r="r" b="b"/>
              <a:pathLst>
                <a:path fill="none" w="995" h="1215">
                  <a:moveTo>
                    <a:pt x="995" y="0"/>
                  </a:moveTo>
                  <a:lnTo>
                    <a:pt x="995" y="0"/>
                  </a:lnTo>
                  <a:lnTo>
                    <a:pt x="995" y="0"/>
                  </a:lnTo>
                  <a:cubicBezTo>
                    <a:pt x="820" y="0"/>
                    <a:pt x="649" y="57"/>
                    <a:pt x="497" y="164"/>
                  </a:cubicBezTo>
                  <a:cubicBezTo>
                    <a:pt x="346" y="271"/>
                    <a:pt x="221" y="426"/>
                    <a:pt x="133" y="612"/>
                  </a:cubicBezTo>
                  <a:cubicBezTo>
                    <a:pt x="47" y="795"/>
                    <a:pt x="1" y="1003"/>
                    <a:pt x="0" y="121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036880" y="5223600"/>
              <a:ext cx="358200" cy="444240"/>
            </a:xfrm>
            <a:custGeom>
              <a:avLst/>
              <a:gdLst/>
              <a:ahLst/>
              <a:rect l="0" t="0" r="r" b="b"/>
              <a:pathLst>
                <a:path fill="none" w="995" h="1234">
                  <a:moveTo>
                    <a:pt x="0" y="0"/>
                  </a:moveTo>
                  <a:lnTo>
                    <a:pt x="0" y="0"/>
                  </a:lnTo>
                  <a:cubicBezTo>
                    <a:pt x="0" y="3"/>
                    <a:pt x="0" y="7"/>
                    <a:pt x="0" y="10"/>
                  </a:cubicBezTo>
                  <a:cubicBezTo>
                    <a:pt x="0" y="225"/>
                    <a:pt x="46" y="436"/>
                    <a:pt x="133" y="622"/>
                  </a:cubicBezTo>
                  <a:cubicBezTo>
                    <a:pt x="221" y="808"/>
                    <a:pt x="346" y="963"/>
                    <a:pt x="497" y="1070"/>
                  </a:cubicBezTo>
                  <a:cubicBezTo>
                    <a:pt x="649" y="1177"/>
                    <a:pt x="820" y="1234"/>
                    <a:pt x="995" y="1234"/>
                  </a:cubicBezTo>
                  <a:lnTo>
                    <a:pt x="995" y="123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2303640" y="5665680"/>
              <a:ext cx="2543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856040" y="4786200"/>
              <a:ext cx="346680" cy="437400"/>
            </a:xfrm>
            <a:custGeom>
              <a:avLst/>
              <a:gdLst/>
              <a:ahLst/>
              <a:rect l="0" t="0" r="r" b="b"/>
              <a:pathLst>
                <a:path fill="none" w="963" h="1215">
                  <a:moveTo>
                    <a:pt x="963" y="1215"/>
                  </a:moveTo>
                  <a:lnTo>
                    <a:pt x="963" y="1215"/>
                  </a:lnTo>
                  <a:cubicBezTo>
                    <a:pt x="962" y="1003"/>
                    <a:pt x="918" y="795"/>
                    <a:pt x="835" y="612"/>
                  </a:cubicBezTo>
                  <a:cubicBezTo>
                    <a:pt x="751" y="426"/>
                    <a:pt x="630" y="271"/>
                    <a:pt x="485" y="164"/>
                  </a:cubicBezTo>
                  <a:cubicBezTo>
                    <a:pt x="340" y="57"/>
                    <a:pt x="175" y="0"/>
                    <a:pt x="7" y="0"/>
                  </a:cubicBezTo>
                  <a:cubicBezTo>
                    <a:pt x="5" y="0"/>
                    <a:pt x="2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856040" y="5223600"/>
              <a:ext cx="346680" cy="444240"/>
            </a:xfrm>
            <a:custGeom>
              <a:avLst/>
              <a:gdLst/>
              <a:ahLst/>
              <a:rect l="0" t="0" r="r" b="b"/>
              <a:pathLst>
                <a:path fill="none" w="963" h="1234">
                  <a:moveTo>
                    <a:pt x="0" y="1234"/>
                  </a:moveTo>
                  <a:lnTo>
                    <a:pt x="0" y="1234"/>
                  </a:lnTo>
                  <a:cubicBezTo>
                    <a:pt x="2" y="1234"/>
                    <a:pt x="5" y="1234"/>
                    <a:pt x="7" y="1234"/>
                  </a:cubicBezTo>
                  <a:cubicBezTo>
                    <a:pt x="175" y="1234"/>
                    <a:pt x="340" y="1177"/>
                    <a:pt x="485" y="1070"/>
                  </a:cubicBezTo>
                  <a:cubicBezTo>
                    <a:pt x="630" y="963"/>
                    <a:pt x="751" y="808"/>
                    <a:pt x="835" y="622"/>
                  </a:cubicBezTo>
                  <a:cubicBezTo>
                    <a:pt x="919" y="436"/>
                    <a:pt x="963" y="225"/>
                    <a:pt x="963" y="10"/>
                  </a:cubicBezTo>
                  <a:cubicBezTo>
                    <a:pt x="963" y="7"/>
                    <a:pt x="963" y="3"/>
                    <a:pt x="96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733920" y="5580000"/>
              <a:ext cx="109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843360" y="5580000"/>
              <a:ext cx="0" cy="63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951360" y="5667480"/>
              <a:ext cx="90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041720" y="5667480"/>
              <a:ext cx="27000" cy="71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817800" y="5626080"/>
              <a:ext cx="115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3933720" y="5626080"/>
              <a:ext cx="17640" cy="65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041720" y="5738760"/>
              <a:ext cx="155520" cy="65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63920" y="5424480"/>
              <a:ext cx="111600" cy="82800"/>
            </a:xfrm>
            <a:custGeom>
              <a:avLst/>
              <a:gdLst/>
              <a:ahLst/>
              <a:rect l="0" t="0" r="r" b="b"/>
              <a:pathLst>
                <a:path w="310" h="230">
                  <a:moveTo>
                    <a:pt x="0" y="0"/>
                  </a:moveTo>
                  <a:lnTo>
                    <a:pt x="310" y="114"/>
                  </a:lnTo>
                  <a:lnTo>
                    <a:pt x="252" y="172"/>
                  </a:lnTo>
                  <a:lnTo>
                    <a:pt x="184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51400" y="5491080"/>
              <a:ext cx="133200" cy="79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1280" y="4788000"/>
              <a:ext cx="871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002120" y="4773600"/>
              <a:ext cx="895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3308400" y="2111400"/>
              <a:ext cx="1190880" cy="907560"/>
              <a:chOff x="3308400" y="2111400"/>
              <a:chExt cx="1190880" cy="907560"/>
            </a:xfrm>
          </p:grpSpPr>
          <p:sp>
            <p:nvSpPr>
              <p:cNvPr id="935" name=""/>
              <p:cNvSpPr/>
              <p:nvPr/>
            </p:nvSpPr>
            <p:spPr>
              <a:xfrm>
                <a:off x="4259160" y="2111400"/>
                <a:ext cx="240120" cy="144720"/>
              </a:xfrm>
              <a:custGeom>
                <a:avLst/>
                <a:gdLst/>
                <a:ahLst/>
                <a:rect l="0" t="0" r="r" b="b"/>
                <a:pathLst>
                  <a:path w="667" h="402">
                    <a:moveTo>
                      <a:pt x="667" y="205"/>
                    </a:moveTo>
                    <a:lnTo>
                      <a:pt x="0" y="402"/>
                    </a:lnTo>
                    <a:lnTo>
                      <a:pt x="0" y="205"/>
                    </a:lnTo>
                    <a:lnTo>
                      <a:pt x="0" y="0"/>
                    </a:lnTo>
                    <a:lnTo>
                      <a:pt x="667" y="20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308400" y="2646360"/>
                <a:ext cx="340920" cy="372600"/>
              </a:xfrm>
              <a:custGeom>
                <a:avLst/>
                <a:gdLst/>
                <a:ahLst/>
                <a:rect l="0" t="0" r="r" b="b"/>
                <a:pathLst>
                  <a:path fill="none" w="947" h="1035">
                    <a:moveTo>
                      <a:pt x="947" y="0"/>
                    </a:moveTo>
                    <a:lnTo>
                      <a:pt x="947" y="0"/>
                    </a:lnTo>
                    <a:lnTo>
                      <a:pt x="947" y="0"/>
                    </a:lnTo>
                    <a:cubicBezTo>
                      <a:pt x="781" y="0"/>
                      <a:pt x="617" y="48"/>
                      <a:pt x="473" y="140"/>
                    </a:cubicBezTo>
                    <a:cubicBezTo>
                      <a:pt x="330" y="232"/>
                      <a:pt x="210" y="363"/>
                      <a:pt x="127" y="522"/>
                    </a:cubicBezTo>
                    <a:cubicBezTo>
                      <a:pt x="45" y="678"/>
                      <a:pt x="1" y="855"/>
                      <a:pt x="0" y="1035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648960" y="2646360"/>
                <a:ext cx="340920" cy="372600"/>
              </a:xfrm>
              <a:custGeom>
                <a:avLst/>
                <a:gdLst/>
                <a:ahLst/>
                <a:rect l="0" t="0" r="r" b="b"/>
                <a:pathLst>
                  <a:path fill="none" w="947" h="1035">
                    <a:moveTo>
                      <a:pt x="947" y="1035"/>
                    </a:moveTo>
                    <a:lnTo>
                      <a:pt x="947" y="1035"/>
                    </a:lnTo>
                    <a:cubicBezTo>
                      <a:pt x="946" y="855"/>
                      <a:pt x="902" y="678"/>
                      <a:pt x="820" y="522"/>
                    </a:cubicBezTo>
                    <a:cubicBezTo>
                      <a:pt x="737" y="363"/>
                      <a:pt x="617" y="232"/>
                      <a:pt x="474" y="140"/>
                    </a:cubicBezTo>
                    <a:cubicBezTo>
                      <a:pt x="330" y="48"/>
                      <a:pt x="166" y="0"/>
                      <a:pt x="0" y="0"/>
                    </a:cubicBez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49680" y="2233440"/>
                <a:ext cx="0" cy="412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649680" y="2206800"/>
                <a:ext cx="758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>
              <a:off x="3311640" y="2990880"/>
              <a:ext cx="0" cy="1803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992400" y="3040200"/>
              <a:ext cx="0" cy="1738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2112840" y="5070600"/>
            <a:ext cx="3045240" cy="219600"/>
          </a:xfrm>
          <a:custGeom>
            <a:avLst/>
            <a:gdLst/>
            <a:ahLst/>
            <a:rect l="0" t="0" r="r" b="b"/>
            <a:pathLst>
              <a:path fill="none" w="8459" h="610">
                <a:moveTo>
                  <a:pt x="0" y="240"/>
                </a:moveTo>
                <a:lnTo>
                  <a:pt x="394" y="130"/>
                </a:lnTo>
                <a:lnTo>
                  <a:pt x="680" y="130"/>
                </a:lnTo>
                <a:lnTo>
                  <a:pt x="1093" y="0"/>
                </a:lnTo>
                <a:lnTo>
                  <a:pt x="1576" y="130"/>
                </a:lnTo>
                <a:lnTo>
                  <a:pt x="1989" y="240"/>
                </a:lnTo>
                <a:lnTo>
                  <a:pt x="2276" y="480"/>
                </a:lnTo>
                <a:lnTo>
                  <a:pt x="2688" y="240"/>
                </a:lnTo>
                <a:lnTo>
                  <a:pt x="3083" y="240"/>
                </a:lnTo>
                <a:lnTo>
                  <a:pt x="3477" y="240"/>
                </a:lnTo>
                <a:lnTo>
                  <a:pt x="3979" y="130"/>
                </a:lnTo>
                <a:lnTo>
                  <a:pt x="4480" y="240"/>
                </a:lnTo>
                <a:lnTo>
                  <a:pt x="4767" y="240"/>
                </a:lnTo>
                <a:lnTo>
                  <a:pt x="4982" y="610"/>
                </a:lnTo>
                <a:lnTo>
                  <a:pt x="5376" y="610"/>
                </a:lnTo>
                <a:lnTo>
                  <a:pt x="5663" y="610"/>
                </a:lnTo>
                <a:lnTo>
                  <a:pt x="6165" y="480"/>
                </a:lnTo>
                <a:lnTo>
                  <a:pt x="6470" y="240"/>
                </a:lnTo>
                <a:lnTo>
                  <a:pt x="6972" y="240"/>
                </a:lnTo>
                <a:lnTo>
                  <a:pt x="7259" y="240"/>
                </a:lnTo>
                <a:lnTo>
                  <a:pt x="7760" y="240"/>
                </a:lnTo>
                <a:lnTo>
                  <a:pt x="8262" y="240"/>
                </a:lnTo>
                <a:lnTo>
                  <a:pt x="8370" y="610"/>
                </a:lnTo>
                <a:lnTo>
                  <a:pt x="8459" y="6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1168560" y="6022800"/>
            <a:ext cx="565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Lord Rayleigh, 1902 - Rayleigh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5388120" y="2554200"/>
            <a:ext cx="3046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 (ln B/F) = d x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B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/(x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- x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B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3859200" y="478476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367080" y="4826160"/>
            <a:ext cx="35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162320" y="1662120"/>
            <a:ext cx="407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345360" y="454356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667560" y="3882960"/>
            <a:ext cx="0" cy="6746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581960" y="4562640"/>
            <a:ext cx="0" cy="674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417680" y="1787400"/>
            <a:ext cx="184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6161040" y="3646440"/>
            <a:ext cx="407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7807320" y="484812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5506920" y="3344760"/>
            <a:ext cx="2782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ingle theoretical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1130400" y="4140360"/>
            <a:ext cx="1431720" cy="1439640"/>
            <a:chOff x="1130400" y="4140360"/>
            <a:chExt cx="1431720" cy="1439640"/>
          </a:xfrm>
        </p:grpSpPr>
        <p:sp>
          <p:nvSpPr>
            <p:cNvPr id="956" name=""/>
            <p:cNvSpPr/>
            <p:nvPr/>
          </p:nvSpPr>
          <p:spPr>
            <a:xfrm>
              <a:off x="1130400" y="4140360"/>
              <a:ext cx="0" cy="1430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1130400" y="5580000"/>
              <a:ext cx="1431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1133640" y="4151160"/>
              <a:ext cx="1428480" cy="1419480"/>
            </a:xfrm>
            <a:prstGeom prst="line">
              <a:avLst/>
            </a:prstGeom>
            <a:ln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138320" y="4165560"/>
              <a:ext cx="1421280" cy="1413360"/>
            </a:xfrm>
            <a:custGeom>
              <a:avLst/>
              <a:gdLst/>
              <a:ahLst/>
              <a:rect l="0" t="0" r="r" b="b"/>
              <a:pathLst>
                <a:path fill="none" w="3948" h="3926">
                  <a:moveTo>
                    <a:pt x="3948" y="0"/>
                  </a:moveTo>
                  <a:lnTo>
                    <a:pt x="3948" y="0"/>
                  </a:lnTo>
                  <a:cubicBezTo>
                    <a:pt x="3931" y="0"/>
                    <a:pt x="3914" y="0"/>
                    <a:pt x="3897" y="0"/>
                  </a:cubicBezTo>
                  <a:cubicBezTo>
                    <a:pt x="3213" y="0"/>
                    <a:pt x="2541" y="181"/>
                    <a:pt x="1948" y="526"/>
                  </a:cubicBezTo>
                  <a:cubicBezTo>
                    <a:pt x="1356" y="870"/>
                    <a:pt x="864" y="1366"/>
                    <a:pt x="522" y="1963"/>
                  </a:cubicBezTo>
                  <a:cubicBezTo>
                    <a:pt x="180" y="2559"/>
                    <a:pt x="0" y="3237"/>
                    <a:pt x="0" y="3926"/>
                  </a:cubicBezTo>
                  <a:lnTo>
                    <a:pt x="0" y="392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>
            <a:off x="1390680" y="284328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712880" y="2182680"/>
            <a:ext cx="0" cy="6750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627280" y="2862360"/>
            <a:ext cx="0" cy="674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1206360" y="1946160"/>
            <a:ext cx="407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2852640" y="314784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552600" y="1644480"/>
            <a:ext cx="2782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ingle theoretical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655560" y="46054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1709640" y="5630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95840" y="5775480"/>
            <a:ext cx="201960" cy="276840"/>
          </a:xfrm>
          <a:custGeom>
            <a:avLst/>
            <a:gdLst/>
            <a:ahLst/>
            <a:rect l="0" t="0" r="r" b="b"/>
            <a:pathLst>
              <a:path fill="none" w="561" h="769">
                <a:moveTo>
                  <a:pt x="561" y="0"/>
                </a:moveTo>
                <a:lnTo>
                  <a:pt x="561" y="0"/>
                </a:lnTo>
                <a:lnTo>
                  <a:pt x="561" y="0"/>
                </a:lnTo>
                <a:cubicBezTo>
                  <a:pt x="463" y="0"/>
                  <a:pt x="366" y="36"/>
                  <a:pt x="280" y="104"/>
                </a:cubicBezTo>
                <a:cubicBezTo>
                  <a:pt x="195" y="172"/>
                  <a:pt x="124" y="270"/>
                  <a:pt x="75" y="388"/>
                </a:cubicBezTo>
                <a:cubicBezTo>
                  <a:pt x="27" y="504"/>
                  <a:pt x="1" y="635"/>
                  <a:pt x="0" y="76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795840" y="6051600"/>
            <a:ext cx="201960" cy="281160"/>
          </a:xfrm>
          <a:custGeom>
            <a:avLst/>
            <a:gdLst/>
            <a:ahLst/>
            <a:rect l="0" t="0" r="r" b="b"/>
            <a:pathLst>
              <a:path fill="none" w="561" h="781">
                <a:moveTo>
                  <a:pt x="0" y="0"/>
                </a:moveTo>
                <a:lnTo>
                  <a:pt x="0" y="0"/>
                </a:lnTo>
                <a:cubicBezTo>
                  <a:pt x="0" y="2"/>
                  <a:pt x="0" y="4"/>
                  <a:pt x="0" y="6"/>
                </a:cubicBezTo>
                <a:cubicBezTo>
                  <a:pt x="0" y="142"/>
                  <a:pt x="26" y="276"/>
                  <a:pt x="75" y="394"/>
                </a:cubicBezTo>
                <a:cubicBezTo>
                  <a:pt x="124" y="511"/>
                  <a:pt x="195" y="609"/>
                  <a:pt x="280" y="677"/>
                </a:cubicBezTo>
                <a:cubicBezTo>
                  <a:pt x="366" y="745"/>
                  <a:pt x="463" y="781"/>
                  <a:pt x="561" y="781"/>
                </a:cubicBezTo>
                <a:lnTo>
                  <a:pt x="561" y="78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475160" y="3770280"/>
            <a:ext cx="0" cy="1709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10040" y="3770280"/>
            <a:ext cx="0" cy="1709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475160" y="3541680"/>
            <a:ext cx="225000" cy="232560"/>
          </a:xfrm>
          <a:custGeom>
            <a:avLst/>
            <a:gdLst/>
            <a:ahLst/>
            <a:rect l="0" t="0" r="r" b="b"/>
            <a:pathLst>
              <a:path fill="none" w="625" h="646">
                <a:moveTo>
                  <a:pt x="625" y="0"/>
                </a:moveTo>
                <a:lnTo>
                  <a:pt x="625" y="0"/>
                </a:lnTo>
                <a:lnTo>
                  <a:pt x="625" y="0"/>
                </a:lnTo>
                <a:cubicBezTo>
                  <a:pt x="515" y="0"/>
                  <a:pt x="407" y="30"/>
                  <a:pt x="312" y="87"/>
                </a:cubicBezTo>
                <a:cubicBezTo>
                  <a:pt x="217" y="145"/>
                  <a:pt x="139" y="227"/>
                  <a:pt x="84" y="326"/>
                </a:cubicBezTo>
                <a:cubicBezTo>
                  <a:pt x="30" y="423"/>
                  <a:pt x="1" y="534"/>
                  <a:pt x="0" y="6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699800" y="3541680"/>
            <a:ext cx="225000" cy="232560"/>
          </a:xfrm>
          <a:custGeom>
            <a:avLst/>
            <a:gdLst/>
            <a:ahLst/>
            <a:rect l="0" t="0" r="r" b="b"/>
            <a:pathLst>
              <a:path fill="none" w="625" h="646">
                <a:moveTo>
                  <a:pt x="625" y="646"/>
                </a:moveTo>
                <a:lnTo>
                  <a:pt x="625" y="646"/>
                </a:lnTo>
                <a:cubicBezTo>
                  <a:pt x="624" y="534"/>
                  <a:pt x="595" y="423"/>
                  <a:pt x="541" y="326"/>
                </a:cubicBezTo>
                <a:cubicBezTo>
                  <a:pt x="486" y="227"/>
                  <a:pt x="408" y="145"/>
                  <a:pt x="313" y="87"/>
                </a:cubicBezTo>
                <a:cubicBezTo>
                  <a:pt x="218" y="30"/>
                  <a:pt x="110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475160" y="3811680"/>
            <a:ext cx="434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00520" y="3286080"/>
            <a:ext cx="0" cy="25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200560" y="3252960"/>
            <a:ext cx="76680" cy="44640"/>
          </a:xfrm>
          <a:custGeom>
            <a:avLst/>
            <a:gdLst/>
            <a:ahLst/>
            <a:rect l="0" t="0" r="r" b="b"/>
            <a:pathLst>
              <a:path w="213" h="124">
                <a:moveTo>
                  <a:pt x="213" y="41"/>
                </a:moveTo>
                <a:lnTo>
                  <a:pt x="0" y="124"/>
                </a:lnTo>
                <a:lnTo>
                  <a:pt x="0" y="41"/>
                </a:lnTo>
                <a:lnTo>
                  <a:pt x="0" y="0"/>
                </a:lnTo>
                <a:lnTo>
                  <a:pt x="213" y="4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700520" y="3268800"/>
            <a:ext cx="5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640480" y="2816280"/>
            <a:ext cx="0" cy="995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264280" y="3141720"/>
            <a:ext cx="750960" cy="314280"/>
          </a:xfrm>
          <a:prstGeom prst="roundRect">
            <a:avLst/>
          </a:prstGeom>
          <a:solidFill>
            <a:srgbClr val="0000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640480" y="281628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924440" y="3800520"/>
            <a:ext cx="62280" cy="30600"/>
          </a:xfrm>
          <a:custGeom>
            <a:avLst/>
            <a:gdLst/>
            <a:ahLst/>
            <a:rect l="0" t="0" r="r" b="b"/>
            <a:pathLst>
              <a:path w="173" h="85">
                <a:moveTo>
                  <a:pt x="0" y="42"/>
                </a:moveTo>
                <a:lnTo>
                  <a:pt x="173" y="0"/>
                </a:lnTo>
                <a:lnTo>
                  <a:pt x="173" y="42"/>
                </a:lnTo>
                <a:lnTo>
                  <a:pt x="173" y="85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20520" bIns="-20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986360" y="3811680"/>
            <a:ext cx="665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640480" y="381168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238720" y="2986200"/>
            <a:ext cx="63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02080" y="3002040"/>
            <a:ext cx="0" cy="4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351400" y="3056040"/>
            <a:ext cx="63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5415120" y="3057480"/>
            <a:ext cx="10800" cy="39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289480" y="3029040"/>
            <a:ext cx="61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351400" y="3029040"/>
            <a:ext cx="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415120" y="3100320"/>
            <a:ext cx="87120" cy="30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110200" y="2898720"/>
            <a:ext cx="66960" cy="60840"/>
          </a:xfrm>
          <a:custGeom>
            <a:avLst/>
            <a:gdLst/>
            <a:ahLst/>
            <a:rect l="0" t="0" r="r" b="b"/>
            <a:pathLst>
              <a:path w="186" h="169">
                <a:moveTo>
                  <a:pt x="0" y="0"/>
                </a:moveTo>
                <a:lnTo>
                  <a:pt x="186" y="84"/>
                </a:lnTo>
                <a:lnTo>
                  <a:pt x="152" y="126"/>
                </a:lnTo>
                <a:lnTo>
                  <a:pt x="113" y="16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162400" y="2944800"/>
            <a:ext cx="76320" cy="57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3946680" y="6316560"/>
            <a:ext cx="1430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381640" y="5775480"/>
            <a:ext cx="195480" cy="276840"/>
          </a:xfrm>
          <a:custGeom>
            <a:avLst/>
            <a:gdLst/>
            <a:ahLst/>
            <a:rect l="0" t="0" r="r" b="b"/>
            <a:pathLst>
              <a:path fill="none" w="543" h="769">
                <a:moveTo>
                  <a:pt x="543" y="769"/>
                </a:moveTo>
                <a:lnTo>
                  <a:pt x="543" y="769"/>
                </a:lnTo>
                <a:cubicBezTo>
                  <a:pt x="542" y="635"/>
                  <a:pt x="517" y="504"/>
                  <a:pt x="471" y="387"/>
                </a:cubicBezTo>
                <a:cubicBezTo>
                  <a:pt x="424" y="270"/>
                  <a:pt x="356" y="172"/>
                  <a:pt x="274" y="104"/>
                </a:cubicBezTo>
                <a:cubicBezTo>
                  <a:pt x="192" y="36"/>
                  <a:pt x="99" y="0"/>
                  <a:pt x="5" y="0"/>
                </a:cubicBezTo>
                <a:cubicBezTo>
                  <a:pt x="3" y="0"/>
                  <a:pt x="2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381640" y="6051600"/>
            <a:ext cx="195480" cy="281160"/>
          </a:xfrm>
          <a:custGeom>
            <a:avLst/>
            <a:gdLst/>
            <a:ahLst/>
            <a:rect l="0" t="0" r="r" b="b"/>
            <a:pathLst>
              <a:path fill="none" w="543" h="781">
                <a:moveTo>
                  <a:pt x="0" y="781"/>
                </a:moveTo>
                <a:lnTo>
                  <a:pt x="0" y="781"/>
                </a:lnTo>
                <a:cubicBezTo>
                  <a:pt x="2" y="781"/>
                  <a:pt x="3" y="781"/>
                  <a:pt x="5" y="781"/>
                </a:cubicBezTo>
                <a:cubicBezTo>
                  <a:pt x="99" y="781"/>
                  <a:pt x="192" y="745"/>
                  <a:pt x="274" y="677"/>
                </a:cubicBezTo>
                <a:cubicBezTo>
                  <a:pt x="356" y="609"/>
                  <a:pt x="424" y="511"/>
                  <a:pt x="471" y="394"/>
                </a:cubicBezTo>
                <a:cubicBezTo>
                  <a:pt x="518" y="276"/>
                  <a:pt x="543" y="142"/>
                  <a:pt x="543" y="6"/>
                </a:cubicBezTo>
                <a:cubicBezTo>
                  <a:pt x="543" y="4"/>
                  <a:pt x="543" y="2"/>
                  <a:pt x="543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995640" y="577548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749840" y="6275520"/>
            <a:ext cx="61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811760" y="6275520"/>
            <a:ext cx="0" cy="4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873680" y="6332400"/>
            <a:ext cx="50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4924440" y="6332400"/>
            <a:ext cx="14400" cy="4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797360" y="6305400"/>
            <a:ext cx="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4863960" y="6305400"/>
            <a:ext cx="9720" cy="4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924440" y="6375240"/>
            <a:ext cx="87120" cy="4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599000" y="6178680"/>
            <a:ext cx="62280" cy="52920"/>
          </a:xfrm>
          <a:custGeom>
            <a:avLst/>
            <a:gdLst/>
            <a:ahLst/>
            <a:rect l="0" t="0" r="r" b="b"/>
            <a:pathLst>
              <a:path w="173" h="147">
                <a:moveTo>
                  <a:pt x="0" y="0"/>
                </a:moveTo>
                <a:lnTo>
                  <a:pt x="173" y="73"/>
                </a:lnTo>
                <a:lnTo>
                  <a:pt x="141" y="111"/>
                </a:lnTo>
                <a:lnTo>
                  <a:pt x="103" y="14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48320" y="6221520"/>
            <a:ext cx="74520" cy="5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475160" y="5456520"/>
            <a:ext cx="225000" cy="235080"/>
          </a:xfrm>
          <a:custGeom>
            <a:avLst/>
            <a:gdLst/>
            <a:ahLst/>
            <a:rect l="0" t="0" r="r" b="b"/>
            <a:pathLst>
              <a:path fill="none" w="625" h="653">
                <a:moveTo>
                  <a:pt x="0" y="0"/>
                </a:moveTo>
                <a:lnTo>
                  <a:pt x="0" y="0"/>
                </a:lnTo>
                <a:cubicBezTo>
                  <a:pt x="0" y="2"/>
                  <a:pt x="0" y="3"/>
                  <a:pt x="0" y="5"/>
                </a:cubicBezTo>
                <a:cubicBezTo>
                  <a:pt x="0" y="119"/>
                  <a:pt x="29" y="231"/>
                  <a:pt x="84" y="329"/>
                </a:cubicBezTo>
                <a:cubicBezTo>
                  <a:pt x="139" y="428"/>
                  <a:pt x="217" y="509"/>
                  <a:pt x="312" y="566"/>
                </a:cubicBezTo>
                <a:cubicBezTo>
                  <a:pt x="407" y="623"/>
                  <a:pt x="515" y="653"/>
                  <a:pt x="625" y="653"/>
                </a:cubicBezTo>
                <a:lnTo>
                  <a:pt x="625" y="65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699800" y="5456520"/>
            <a:ext cx="225000" cy="235080"/>
          </a:xfrm>
          <a:custGeom>
            <a:avLst/>
            <a:gdLst/>
            <a:ahLst/>
            <a:rect l="0" t="0" r="r" b="b"/>
            <a:pathLst>
              <a:path fill="none" w="625" h="653">
                <a:moveTo>
                  <a:pt x="0" y="653"/>
                </a:moveTo>
                <a:lnTo>
                  <a:pt x="0" y="653"/>
                </a:lnTo>
                <a:lnTo>
                  <a:pt x="0" y="653"/>
                </a:lnTo>
                <a:cubicBezTo>
                  <a:pt x="110" y="653"/>
                  <a:pt x="218" y="623"/>
                  <a:pt x="313" y="566"/>
                </a:cubicBezTo>
                <a:cubicBezTo>
                  <a:pt x="408" y="509"/>
                  <a:pt x="486" y="428"/>
                  <a:pt x="541" y="329"/>
                </a:cubicBezTo>
                <a:cubicBezTo>
                  <a:pt x="596" y="231"/>
                  <a:pt x="625" y="119"/>
                  <a:pt x="625" y="5"/>
                </a:cubicBezTo>
                <a:cubicBezTo>
                  <a:pt x="625" y="3"/>
                  <a:pt x="625" y="2"/>
                  <a:pt x="62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486320" y="5438880"/>
            <a:ext cx="423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700520" y="5678640"/>
            <a:ext cx="12600" cy="96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497480" y="4038480"/>
            <a:ext cx="434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486320" y="4290840"/>
            <a:ext cx="434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506840" y="4576680"/>
            <a:ext cx="434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892920" y="235116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215120" y="1690560"/>
            <a:ext cx="0" cy="6746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8129520" y="2370240"/>
            <a:ext cx="0" cy="674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6708600" y="1454040"/>
            <a:ext cx="407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8354880" y="26557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883560" y="316404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7205760" y="2503440"/>
            <a:ext cx="0" cy="6746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8120160" y="3182760"/>
            <a:ext cx="0" cy="675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6699240" y="2266920"/>
            <a:ext cx="407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8345520" y="346860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942240" y="404172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7264440" y="3381480"/>
            <a:ext cx="0" cy="6746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178840" y="4060800"/>
            <a:ext cx="0" cy="674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6757920" y="3144960"/>
            <a:ext cx="407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8404200" y="43466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956280" y="5946840"/>
            <a:ext cx="152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7278840" y="5286240"/>
            <a:ext cx="0" cy="6750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8193240" y="5965920"/>
            <a:ext cx="0" cy="674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6772320" y="5049720"/>
            <a:ext cx="407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8418600" y="625140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5834160" y="1093680"/>
            <a:ext cx="3121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ultiple theoretical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3454560" y="1846440"/>
            <a:ext cx="2813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atch Disti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perating Mode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(linear represent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1552680" y="2652840"/>
            <a:ext cx="2365200" cy="2344680"/>
            <a:chOff x="1552680" y="2652840"/>
            <a:chExt cx="2365200" cy="2344680"/>
          </a:xfrm>
        </p:grpSpPr>
        <p:sp>
          <p:nvSpPr>
            <p:cNvPr id="1037" name=""/>
            <p:cNvSpPr/>
            <p:nvPr/>
          </p:nvSpPr>
          <p:spPr>
            <a:xfrm>
              <a:off x="1552680" y="2652840"/>
              <a:ext cx="0" cy="23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1573200" y="4987800"/>
              <a:ext cx="2344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251320" y="2673360"/>
            <a:ext cx="2365560" cy="2344680"/>
            <a:chOff x="5251320" y="2673360"/>
            <a:chExt cx="2365560" cy="2344680"/>
          </a:xfrm>
        </p:grpSpPr>
        <p:sp>
          <p:nvSpPr>
            <p:cNvPr id="1040" name=""/>
            <p:cNvSpPr/>
            <p:nvPr/>
          </p:nvSpPr>
          <p:spPr>
            <a:xfrm>
              <a:off x="5251320" y="2673360"/>
              <a:ext cx="0" cy="23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5272200" y="5008680"/>
              <a:ext cx="2344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2" name=""/>
          <p:cNvSpPr/>
          <p:nvPr/>
        </p:nvSpPr>
        <p:spPr>
          <a:xfrm>
            <a:off x="1568520" y="3765600"/>
            <a:ext cx="213840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246640" y="3765600"/>
            <a:ext cx="2183040" cy="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1641600" y="2975040"/>
            <a:ext cx="2050920" cy="155268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1611360" y="3457440"/>
            <a:ext cx="2286000" cy="543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289480" y="2871720"/>
            <a:ext cx="2052720" cy="172872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275440" y="3355920"/>
            <a:ext cx="2490480" cy="9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801720" y="3429000"/>
            <a:ext cx="441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2706840" y="5084640"/>
            <a:ext cx="401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861080" y="2081160"/>
            <a:ext cx="53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6062760" y="5070600"/>
            <a:ext cx="401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1887480" y="2579760"/>
            <a:ext cx="180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  <a:ea typeface="Arial"/>
              </a:rPr>
              <a:t>Variable refl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3657600" y="3051000"/>
            <a:ext cx="175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ptimal refl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6934320" y="3801960"/>
            <a:ext cx="180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  <a:ea typeface="Arial"/>
              </a:rPr>
              <a:t>Variable refl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3191040" y="3835440"/>
            <a:ext cx="1720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onstant re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5349960" y="2478240"/>
            <a:ext cx="1720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onstant re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 txBox="1"/>
          <p:nvPr/>
        </p:nvSpPr>
        <p:spPr>
          <a:xfrm>
            <a:off x="66996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lation between x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D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nd x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077840" y="3186000"/>
            <a:ext cx="0" cy="2860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1077840" y="6064200"/>
            <a:ext cx="2863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095480" y="3235320"/>
            <a:ext cx="2842200" cy="2826360"/>
          </a:xfrm>
          <a:custGeom>
            <a:avLst/>
            <a:gdLst/>
            <a:ahLst/>
            <a:rect l="0" t="0" r="r" b="b"/>
            <a:pathLst>
              <a:path fill="none" w="7895" h="7851">
                <a:moveTo>
                  <a:pt x="7895" y="1"/>
                </a:moveTo>
                <a:lnTo>
                  <a:pt x="7895" y="1"/>
                </a:lnTo>
                <a:cubicBezTo>
                  <a:pt x="7861" y="1"/>
                  <a:pt x="7827" y="0"/>
                  <a:pt x="7793" y="0"/>
                </a:cubicBezTo>
                <a:cubicBezTo>
                  <a:pt x="6425" y="0"/>
                  <a:pt x="5081" y="363"/>
                  <a:pt x="3896" y="1052"/>
                </a:cubicBezTo>
                <a:cubicBezTo>
                  <a:pt x="2712" y="1741"/>
                  <a:pt x="1728" y="2732"/>
                  <a:pt x="1044" y="3925"/>
                </a:cubicBezTo>
                <a:cubicBezTo>
                  <a:pt x="360" y="5119"/>
                  <a:pt x="0" y="6472"/>
                  <a:pt x="0" y="7850"/>
                </a:cubicBezTo>
                <a:cubicBezTo>
                  <a:pt x="0" y="7851"/>
                  <a:pt x="0" y="7851"/>
                  <a:pt x="0" y="785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1090440" y="3252960"/>
            <a:ext cx="2857680" cy="2838240"/>
          </a:xfrm>
          <a:prstGeom prst="line">
            <a:avLst/>
          </a:prstGeom>
          <a:ln w="126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2674800" y="3529080"/>
            <a:ext cx="973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801800" y="4935600"/>
            <a:ext cx="0" cy="630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03440" y="3560760"/>
            <a:ext cx="2930400" cy="221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440320" y="4487760"/>
            <a:ext cx="0" cy="630360"/>
          </a:xfrm>
          <a:prstGeom prst="line">
            <a:avLst/>
          </a:prstGeom>
          <a:ln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40360" y="2386080"/>
            <a:ext cx="0" cy="286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5040360" y="5264280"/>
            <a:ext cx="2863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057640" y="2435400"/>
            <a:ext cx="2842200" cy="2826360"/>
          </a:xfrm>
          <a:custGeom>
            <a:avLst/>
            <a:gdLst/>
            <a:ahLst/>
            <a:rect l="0" t="0" r="r" b="b"/>
            <a:pathLst>
              <a:path fill="none" w="7895" h="7851">
                <a:moveTo>
                  <a:pt x="7895" y="1"/>
                </a:moveTo>
                <a:lnTo>
                  <a:pt x="7895" y="1"/>
                </a:lnTo>
                <a:cubicBezTo>
                  <a:pt x="7861" y="1"/>
                  <a:pt x="7827" y="0"/>
                  <a:pt x="7793" y="0"/>
                </a:cubicBezTo>
                <a:cubicBezTo>
                  <a:pt x="6425" y="0"/>
                  <a:pt x="5081" y="363"/>
                  <a:pt x="3896" y="1052"/>
                </a:cubicBezTo>
                <a:cubicBezTo>
                  <a:pt x="2712" y="1741"/>
                  <a:pt x="1728" y="2732"/>
                  <a:pt x="1044" y="3925"/>
                </a:cubicBezTo>
                <a:cubicBezTo>
                  <a:pt x="360" y="5119"/>
                  <a:pt x="0" y="6472"/>
                  <a:pt x="0" y="7850"/>
                </a:cubicBezTo>
                <a:cubicBezTo>
                  <a:pt x="0" y="7851"/>
                  <a:pt x="0" y="7851"/>
                  <a:pt x="0" y="785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052960" y="2452680"/>
            <a:ext cx="2857680" cy="2838600"/>
          </a:xfrm>
          <a:prstGeom prst="line">
            <a:avLst/>
          </a:prstGeom>
          <a:ln w="126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6637320" y="2728800"/>
            <a:ext cx="97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632560" y="3637080"/>
            <a:ext cx="1440" cy="56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610400" y="2714760"/>
            <a:ext cx="0" cy="630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637320" y="2709720"/>
            <a:ext cx="0" cy="952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611680" y="3633840"/>
            <a:ext cx="1025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624640" y="4243320"/>
            <a:ext cx="0" cy="6303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4681440" y="2730600"/>
            <a:ext cx="2930760" cy="221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4394160" y="3059280"/>
            <a:ext cx="2930400" cy="221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H="1" flipV="1">
            <a:off x="6053040" y="3062160"/>
            <a:ext cx="1185840" cy="1440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110280" y="3092400"/>
            <a:ext cx="0" cy="87804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5437080" y="3927600"/>
            <a:ext cx="658800" cy="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437080" y="3897360"/>
            <a:ext cx="0" cy="61596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2668680" y="3546360"/>
            <a:ext cx="0" cy="731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1801800" y="4233960"/>
            <a:ext cx="806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787400" y="4235400"/>
            <a:ext cx="15840" cy="703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60240" y="3633840"/>
            <a:ext cx="2944800" cy="263844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517920" y="3619440"/>
            <a:ext cx="87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2563920" y="3575160"/>
            <a:ext cx="1055520" cy="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577960" y="3589200"/>
            <a:ext cx="0" cy="98280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481040" y="4572000"/>
            <a:ext cx="0" cy="92232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469880" y="5337000"/>
            <a:ext cx="0" cy="630360"/>
          </a:xfrm>
          <a:prstGeom prst="line">
            <a:avLst/>
          </a:prstGeom>
          <a:ln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2428920" y="1612800"/>
            <a:ext cx="3584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McCabe-Thiele, 19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18960" y="2492280"/>
            <a:ext cx="4081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Variable Reflux, Bogart 19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281400" y="5423040"/>
            <a:ext cx="5504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nstant Reflux, Smoker &amp; Rose,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242120" y="3076560"/>
            <a:ext cx="0" cy="630360"/>
          </a:xfrm>
          <a:prstGeom prst="line">
            <a:avLst/>
          </a:prstGeom>
          <a:ln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586320" y="3598920"/>
            <a:ext cx="0" cy="630360"/>
          </a:xfrm>
          <a:prstGeom prst="line">
            <a:avLst/>
          </a:prstGeom>
          <a:ln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495440" y="4586400"/>
            <a:ext cx="995400" cy="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614760" y="3570120"/>
            <a:ext cx="0" cy="6303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02440" y="3784680"/>
            <a:ext cx="49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1490760" y="5791320"/>
            <a:ext cx="4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7737480" y="3321000"/>
            <a:ext cx="49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3370320" y="4249800"/>
            <a:ext cx="407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1908000" y="5416560"/>
            <a:ext cx="4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5769000" y="4751280"/>
            <a:ext cx="4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5241960" y="5105520"/>
            <a:ext cx="484200" cy="366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5291280" y="3343320"/>
            <a:ext cx="0" cy="2387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igoro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427560" y="3063960"/>
            <a:ext cx="685800" cy="2328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3427560" y="2787480"/>
            <a:ext cx="686160" cy="274320"/>
            <a:chOff x="3427560" y="2787480"/>
            <a:chExt cx="686160" cy="274320"/>
          </a:xfrm>
        </p:grpSpPr>
        <p:sp>
          <p:nvSpPr>
            <p:cNvPr id="1109" name=""/>
            <p:cNvSpPr/>
            <p:nvPr/>
          </p:nvSpPr>
          <p:spPr>
            <a:xfrm>
              <a:off x="3427560" y="278748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954" y="0"/>
                  </a:moveTo>
                  <a:lnTo>
                    <a:pt x="954" y="0"/>
                  </a:lnTo>
                  <a:cubicBezTo>
                    <a:pt x="787" y="0"/>
                    <a:pt x="622" y="35"/>
                    <a:pt x="477" y="102"/>
                  </a:cubicBezTo>
                  <a:cubicBezTo>
                    <a:pt x="332" y="169"/>
                    <a:pt x="212" y="265"/>
                    <a:pt x="128" y="381"/>
                  </a:cubicBezTo>
                  <a:cubicBezTo>
                    <a:pt x="44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70280" y="278748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954" y="762"/>
                  </a:moveTo>
                  <a:lnTo>
                    <a:pt x="954" y="762"/>
                  </a:lnTo>
                  <a:lnTo>
                    <a:pt x="954" y="762"/>
                  </a:lnTo>
                  <a:cubicBezTo>
                    <a:pt x="954" y="628"/>
                    <a:pt x="910" y="497"/>
                    <a:pt x="826" y="381"/>
                  </a:cubicBezTo>
                  <a:cubicBezTo>
                    <a:pt x="742" y="265"/>
                    <a:pt x="622" y="169"/>
                    <a:pt x="477" y="102"/>
                  </a:cubicBezTo>
                  <a:cubicBezTo>
                    <a:pt x="332" y="35"/>
                    <a:pt x="167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3427560" y="5400000"/>
            <a:ext cx="686160" cy="274320"/>
            <a:chOff x="3427560" y="5400000"/>
            <a:chExt cx="686160" cy="274320"/>
          </a:xfrm>
        </p:grpSpPr>
        <p:sp>
          <p:nvSpPr>
            <p:cNvPr id="1112" name=""/>
            <p:cNvSpPr/>
            <p:nvPr/>
          </p:nvSpPr>
          <p:spPr>
            <a:xfrm>
              <a:off x="3427560" y="5400000"/>
              <a:ext cx="345600" cy="274320"/>
            </a:xfrm>
            <a:custGeom>
              <a:avLst/>
              <a:gdLst/>
              <a:ahLst/>
              <a:rect l="0" t="0" r="r" b="b"/>
              <a:pathLst>
                <a:path fill="none" w="960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44" y="265"/>
                    <a:pt x="129" y="381"/>
                  </a:cubicBezTo>
                  <a:cubicBezTo>
                    <a:pt x="213" y="497"/>
                    <a:pt x="334" y="593"/>
                    <a:pt x="480" y="660"/>
                  </a:cubicBezTo>
                  <a:cubicBezTo>
                    <a:pt x="626" y="727"/>
                    <a:pt x="791" y="762"/>
                    <a:pt x="96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70280" y="540000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0" y="762"/>
                  </a:moveTo>
                  <a:lnTo>
                    <a:pt x="0" y="762"/>
                  </a:lnTo>
                  <a:cubicBezTo>
                    <a:pt x="167" y="762"/>
                    <a:pt x="332" y="727"/>
                    <a:pt x="477" y="660"/>
                  </a:cubicBezTo>
                  <a:cubicBezTo>
                    <a:pt x="622" y="593"/>
                    <a:pt x="742" y="497"/>
                    <a:pt x="826" y="381"/>
                  </a:cubicBezTo>
                  <a:cubicBezTo>
                    <a:pt x="910" y="265"/>
                    <a:pt x="954" y="134"/>
                    <a:pt x="95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3084480" y="615456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084480" y="670248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4453920" y="6149880"/>
            <a:ext cx="274320" cy="548280"/>
            <a:chOff x="4453920" y="6149880"/>
            <a:chExt cx="274320" cy="548280"/>
          </a:xfrm>
        </p:grpSpPr>
        <p:sp>
          <p:nvSpPr>
            <p:cNvPr id="1117" name=""/>
            <p:cNvSpPr/>
            <p:nvPr/>
          </p:nvSpPr>
          <p:spPr>
            <a:xfrm>
              <a:off x="4453920" y="614988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762"/>
                  </a:moveTo>
                  <a:lnTo>
                    <a:pt x="762" y="762"/>
                  </a:lnTo>
                  <a:lnTo>
                    <a:pt x="762" y="762"/>
                  </a:lnTo>
                  <a:cubicBezTo>
                    <a:pt x="762" y="628"/>
                    <a:pt x="727" y="497"/>
                    <a:pt x="660" y="381"/>
                  </a:cubicBezTo>
                  <a:cubicBezTo>
                    <a:pt x="593" y="265"/>
                    <a:pt x="497" y="169"/>
                    <a:pt x="381" y="102"/>
                  </a:cubicBezTo>
                  <a:cubicBezTo>
                    <a:pt x="265" y="35"/>
                    <a:pt x="13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453920" y="64238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762"/>
                  </a:moveTo>
                  <a:lnTo>
                    <a:pt x="0" y="762"/>
                  </a:lnTo>
                  <a:cubicBezTo>
                    <a:pt x="134" y="762"/>
                    <a:pt x="265" y="727"/>
                    <a:pt x="381" y="660"/>
                  </a:cubicBezTo>
                  <a:cubicBezTo>
                    <a:pt x="497" y="593"/>
                    <a:pt x="593" y="497"/>
                    <a:pt x="660" y="381"/>
                  </a:cubicBezTo>
                  <a:cubicBezTo>
                    <a:pt x="727" y="265"/>
                    <a:pt x="762" y="134"/>
                    <a:pt x="76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2808360" y="6149880"/>
            <a:ext cx="274320" cy="548280"/>
            <a:chOff x="2808360" y="6149880"/>
            <a:chExt cx="274320" cy="548280"/>
          </a:xfrm>
        </p:grpSpPr>
        <p:sp>
          <p:nvSpPr>
            <p:cNvPr id="1120" name=""/>
            <p:cNvSpPr/>
            <p:nvPr/>
          </p:nvSpPr>
          <p:spPr>
            <a:xfrm>
              <a:off x="2808360" y="64238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35" y="265"/>
                    <a:pt x="102" y="381"/>
                  </a:cubicBezTo>
                  <a:cubicBezTo>
                    <a:pt x="169" y="497"/>
                    <a:pt x="265" y="593"/>
                    <a:pt x="381" y="660"/>
                  </a:cubicBezTo>
                  <a:cubicBezTo>
                    <a:pt x="497" y="727"/>
                    <a:pt x="628" y="762"/>
                    <a:pt x="762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808360" y="614988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0"/>
                  </a:moveTo>
                  <a:lnTo>
                    <a:pt x="762" y="0"/>
                  </a:lnTo>
                  <a:cubicBezTo>
                    <a:pt x="628" y="0"/>
                    <a:pt x="497" y="35"/>
                    <a:pt x="381" y="102"/>
                  </a:cubicBezTo>
                  <a:cubicBezTo>
                    <a:pt x="265" y="169"/>
                    <a:pt x="169" y="265"/>
                    <a:pt x="102" y="381"/>
                  </a:cubicBezTo>
                  <a:cubicBezTo>
                    <a:pt x="35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4780080" y="1968480"/>
            <a:ext cx="94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775040" y="2521080"/>
            <a:ext cx="943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5708520" y="1963800"/>
            <a:ext cx="186120" cy="552600"/>
            <a:chOff x="5708520" y="1963800"/>
            <a:chExt cx="186120" cy="552600"/>
          </a:xfrm>
        </p:grpSpPr>
        <p:sp>
          <p:nvSpPr>
            <p:cNvPr id="1125" name=""/>
            <p:cNvSpPr/>
            <p:nvPr/>
          </p:nvSpPr>
          <p:spPr>
            <a:xfrm>
              <a:off x="5708520" y="196380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517" y="768"/>
                  </a:moveTo>
                  <a:lnTo>
                    <a:pt x="517" y="768"/>
                  </a:lnTo>
                  <a:lnTo>
                    <a:pt x="517" y="768"/>
                  </a:lnTo>
                  <a:cubicBezTo>
                    <a:pt x="517" y="633"/>
                    <a:pt x="493" y="501"/>
                    <a:pt x="448" y="384"/>
                  </a:cubicBezTo>
                  <a:cubicBezTo>
                    <a:pt x="402" y="267"/>
                    <a:pt x="337" y="170"/>
                    <a:pt x="258" y="103"/>
                  </a:cubicBezTo>
                  <a:cubicBezTo>
                    <a:pt x="180" y="35"/>
                    <a:pt x="9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708520" y="223992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0" y="768"/>
                  </a:moveTo>
                  <a:lnTo>
                    <a:pt x="0" y="768"/>
                  </a:lnTo>
                  <a:cubicBezTo>
                    <a:pt x="91" y="768"/>
                    <a:pt x="180" y="733"/>
                    <a:pt x="259" y="665"/>
                  </a:cubicBezTo>
                  <a:cubicBezTo>
                    <a:pt x="337" y="598"/>
                    <a:pt x="402" y="501"/>
                    <a:pt x="448" y="384"/>
                  </a:cubicBezTo>
                  <a:cubicBezTo>
                    <a:pt x="493" y="267"/>
                    <a:pt x="517" y="135"/>
                    <a:pt x="517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4594320" y="1963800"/>
            <a:ext cx="186120" cy="552600"/>
            <a:chOff x="4594320" y="1963800"/>
            <a:chExt cx="186120" cy="552600"/>
          </a:xfrm>
        </p:grpSpPr>
        <p:sp>
          <p:nvSpPr>
            <p:cNvPr id="1128" name=""/>
            <p:cNvSpPr/>
            <p:nvPr/>
          </p:nvSpPr>
          <p:spPr>
            <a:xfrm>
              <a:off x="4594320" y="223992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0" y="0"/>
                  </a:moveTo>
                  <a:lnTo>
                    <a:pt x="0" y="0"/>
                  </a:lnTo>
                  <a:cubicBezTo>
                    <a:pt x="0" y="135"/>
                    <a:pt x="24" y="267"/>
                    <a:pt x="69" y="384"/>
                  </a:cubicBezTo>
                  <a:cubicBezTo>
                    <a:pt x="115" y="501"/>
                    <a:pt x="180" y="598"/>
                    <a:pt x="259" y="665"/>
                  </a:cubicBezTo>
                  <a:cubicBezTo>
                    <a:pt x="337" y="733"/>
                    <a:pt x="426" y="768"/>
                    <a:pt x="517" y="76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594320" y="196380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517" y="0"/>
                  </a:moveTo>
                  <a:lnTo>
                    <a:pt x="517" y="0"/>
                  </a:lnTo>
                  <a:cubicBezTo>
                    <a:pt x="426" y="0"/>
                    <a:pt x="337" y="35"/>
                    <a:pt x="258" y="103"/>
                  </a:cubicBezTo>
                  <a:cubicBezTo>
                    <a:pt x="180" y="170"/>
                    <a:pt x="115" y="267"/>
                    <a:pt x="69" y="384"/>
                  </a:cubicBezTo>
                  <a:cubicBezTo>
                    <a:pt x="24" y="501"/>
                    <a:pt x="0" y="633"/>
                    <a:pt x="0" y="76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3770280" y="2239920"/>
            <a:ext cx="662400" cy="547920"/>
          </a:xfrm>
          <a:custGeom>
            <a:avLst/>
            <a:gdLst/>
            <a:ahLst/>
            <a:rect l="0" t="0" r="r" b="b"/>
            <a:pathLst>
              <a:path fill="none" w="1840" h="1522">
                <a:moveTo>
                  <a:pt x="0" y="1522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422600" y="218772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270320" y="2516040"/>
            <a:ext cx="1010160" cy="614880"/>
          </a:xfrm>
          <a:custGeom>
            <a:avLst/>
            <a:gdLst/>
            <a:ahLst/>
            <a:rect l="0" t="0" r="r" b="b"/>
            <a:pathLst>
              <a:path fill="none" w="2806" h="1708">
                <a:moveTo>
                  <a:pt x="0" y="1708"/>
                </a:moveTo>
                <a:lnTo>
                  <a:pt x="2806" y="1708"/>
                </a:lnTo>
                <a:lnTo>
                  <a:pt x="2806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113360" y="307800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0" y="128"/>
                </a:moveTo>
                <a:lnTo>
                  <a:pt x="438" y="252"/>
                </a:lnTo>
                <a:lnTo>
                  <a:pt x="438" y="0"/>
                </a:lnTo>
                <a:lnTo>
                  <a:pt x="0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280120" y="1692360"/>
            <a:ext cx="662400" cy="271800"/>
          </a:xfrm>
          <a:custGeom>
            <a:avLst/>
            <a:gdLst/>
            <a:ahLst/>
            <a:rect l="0" t="0" r="r" b="b"/>
            <a:pathLst>
              <a:path fill="none" w="1840" h="755">
                <a:moveTo>
                  <a:pt x="0" y="755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932440" y="163980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770280" y="5668920"/>
            <a:ext cx="0" cy="480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429000" y="3414600"/>
            <a:ext cx="674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462480" y="3755880"/>
            <a:ext cx="674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463920" y="4138560"/>
            <a:ext cx="674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5850000" y="191448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230720" y="324180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4441680" y="352584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2814480" y="623736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4681440" y="387036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834080" y="410364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4460760" y="520380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190440" y="3125880"/>
            <a:ext cx="320508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uckaba &amp; Danly, 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istefano,1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oston et al., 198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(BATCHFR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iwekar, 19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(Batch-Dist, MultiBatch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Numeric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-103320" y="2898720"/>
            <a:ext cx="8398080" cy="3138480"/>
            <a:chOff x="-103320" y="2898720"/>
            <a:chExt cx="8398080" cy="3138480"/>
          </a:xfrm>
        </p:grpSpPr>
        <p:sp>
          <p:nvSpPr>
            <p:cNvPr id="1150" name=""/>
            <p:cNvSpPr/>
            <p:nvPr/>
          </p:nvSpPr>
          <p:spPr>
            <a:xfrm>
              <a:off x="1763640" y="3138480"/>
              <a:ext cx="12384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881360" y="3151080"/>
              <a:ext cx="131760" cy="3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014560" y="3182760"/>
              <a:ext cx="1238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124000" y="3192480"/>
              <a:ext cx="12564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232000" y="3238560"/>
              <a:ext cx="142920" cy="31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355840" y="3263760"/>
              <a:ext cx="142920" cy="6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484360" y="3324240"/>
              <a:ext cx="139680" cy="63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610000" y="3384720"/>
              <a:ext cx="122040" cy="60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716200" y="3440160"/>
              <a:ext cx="141480" cy="65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844720" y="3497400"/>
              <a:ext cx="125640" cy="79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952720" y="3570120"/>
              <a:ext cx="14292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078000" y="3641760"/>
              <a:ext cx="12564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186000" y="3716280"/>
              <a:ext cx="141480" cy="65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313080" y="3773520"/>
              <a:ext cx="12708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421080" y="3846600"/>
              <a:ext cx="142920" cy="8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548160" y="3921120"/>
              <a:ext cx="127080" cy="66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664080" y="3979800"/>
              <a:ext cx="133200" cy="63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787920" y="4038480"/>
              <a:ext cx="122040" cy="66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90880" y="4097160"/>
              <a:ext cx="155520" cy="65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032360" y="4159080"/>
              <a:ext cx="128520" cy="47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41800" y="4200480"/>
              <a:ext cx="142920" cy="63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268880" y="4260960"/>
              <a:ext cx="125280" cy="48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376880" y="4303800"/>
              <a:ext cx="141120" cy="48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1779480" y="5246640"/>
              <a:ext cx="10800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1871640" y="5213520"/>
              <a:ext cx="141480" cy="33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996920" y="52164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2124000" y="5184720"/>
              <a:ext cx="125640" cy="31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2232000" y="5153040"/>
              <a:ext cx="142920" cy="33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2362320" y="5110200"/>
              <a:ext cx="136440" cy="46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2481120" y="5079960"/>
              <a:ext cx="14292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2606760" y="5037120"/>
              <a:ext cx="125280" cy="47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2716200" y="4992840"/>
              <a:ext cx="141480" cy="48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2841480" y="4948200"/>
              <a:ext cx="12888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2955960" y="4890960"/>
              <a:ext cx="139680" cy="63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3078000" y="4865760"/>
              <a:ext cx="125640" cy="3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3186000" y="4816440"/>
              <a:ext cx="14148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3317760" y="4757760"/>
              <a:ext cx="122400" cy="63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3421080" y="4729320"/>
              <a:ext cx="142920" cy="33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3548160" y="4684680"/>
              <a:ext cx="127080" cy="4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3657600" y="4659480"/>
              <a:ext cx="139680" cy="31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3782880" y="4611600"/>
              <a:ext cx="127080" cy="4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3900600" y="4586400"/>
              <a:ext cx="145800" cy="29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4032360" y="4556160"/>
              <a:ext cx="128520" cy="31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4141800" y="4543560"/>
              <a:ext cx="14292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4278240" y="4513320"/>
              <a:ext cx="115920" cy="3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387680" y="4484520"/>
              <a:ext cx="13032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63640" y="5305320"/>
              <a:ext cx="123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1871640" y="5289480"/>
              <a:ext cx="14148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996920" y="528948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124000" y="5289480"/>
              <a:ext cx="125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2249640" y="5275440"/>
              <a:ext cx="12528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2355840" y="5259240"/>
              <a:ext cx="142920" cy="16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2489040" y="5230800"/>
              <a:ext cx="13500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2625840" y="5216400"/>
              <a:ext cx="1062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716200" y="5200560"/>
              <a:ext cx="14148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2841480" y="5172120"/>
              <a:ext cx="128880" cy="31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2952720" y="5156280"/>
              <a:ext cx="142920" cy="17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3086280" y="5129280"/>
              <a:ext cx="117360" cy="27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>
              <a:off x="3197160" y="5099040"/>
              <a:ext cx="130320" cy="3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3313080" y="5084640"/>
              <a:ext cx="12708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3421080" y="5035680"/>
              <a:ext cx="142920" cy="48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3548160" y="5025960"/>
              <a:ext cx="12708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>
              <a:off x="3668760" y="4997520"/>
              <a:ext cx="12852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3782880" y="4967280"/>
              <a:ext cx="127080" cy="31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3890880" y="4954680"/>
              <a:ext cx="1555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4041720" y="4924440"/>
              <a:ext cx="119160" cy="3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151160" y="4894200"/>
              <a:ext cx="133560" cy="3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4268880" y="4881600"/>
              <a:ext cx="1252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4376880" y="4846680"/>
              <a:ext cx="14112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641600" y="5318280"/>
              <a:ext cx="93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641600" y="4867200"/>
              <a:ext cx="93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641600" y="4411800"/>
              <a:ext cx="93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641600" y="3957480"/>
              <a:ext cx="93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641600" y="3521160"/>
              <a:ext cx="93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641600" y="3068640"/>
              <a:ext cx="93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4549680" y="5318280"/>
              <a:ext cx="79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4549680" y="4867200"/>
              <a:ext cx="79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H="1">
              <a:off x="4549680" y="4411800"/>
              <a:ext cx="79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4549680" y="3957480"/>
              <a:ext cx="79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4549680" y="3521160"/>
              <a:ext cx="79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4549680" y="3068640"/>
              <a:ext cx="79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1655640" y="523728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2249640" y="523728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2857680" y="523728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3440160" y="523728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>
              <a:off x="4046400" y="523728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4629240" y="523728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655640" y="3057480"/>
              <a:ext cx="0" cy="8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249640" y="3057480"/>
              <a:ext cx="0" cy="8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857680" y="3057480"/>
              <a:ext cx="0" cy="8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440160" y="3057480"/>
              <a:ext cx="0" cy="8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046400" y="3057480"/>
              <a:ext cx="0" cy="8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629240" y="3057480"/>
              <a:ext cx="0" cy="8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1655640" y="3019320"/>
              <a:ext cx="0" cy="2298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 flipV="1">
              <a:off x="4624560" y="3019320"/>
              <a:ext cx="4680" cy="2357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12880" y="5318280"/>
              <a:ext cx="2916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649520" y="3068640"/>
              <a:ext cx="2979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960560" y="3127320"/>
              <a:ext cx="93600" cy="100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571840" y="3333600"/>
              <a:ext cx="92160" cy="100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038400" y="3597120"/>
              <a:ext cx="95400" cy="100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635280" y="3932280"/>
              <a:ext cx="93600" cy="98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228920" y="4211640"/>
              <a:ext cx="95400" cy="98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960560" y="5176800"/>
              <a:ext cx="93960" cy="82800"/>
            </a:xfrm>
            <a:custGeom>
              <a:avLst/>
              <a:gdLst/>
              <a:ahLst/>
              <a:rect l="0" t="0" r="r" b="b"/>
              <a:pathLst>
                <a:path fill="none" w="261" h="230">
                  <a:moveTo>
                    <a:pt x="0" y="92"/>
                  </a:moveTo>
                  <a:lnTo>
                    <a:pt x="131" y="0"/>
                  </a:lnTo>
                  <a:lnTo>
                    <a:pt x="261" y="92"/>
                  </a:lnTo>
                  <a:lnTo>
                    <a:pt x="131" y="23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573280" y="5032440"/>
              <a:ext cx="76680" cy="82800"/>
            </a:xfrm>
            <a:custGeom>
              <a:avLst/>
              <a:gdLst/>
              <a:ahLst/>
              <a:rect l="0" t="0" r="r" b="b"/>
              <a:pathLst>
                <a:path fill="none" w="213" h="230">
                  <a:moveTo>
                    <a:pt x="0" y="137"/>
                  </a:moveTo>
                  <a:lnTo>
                    <a:pt x="126" y="0"/>
                  </a:lnTo>
                  <a:lnTo>
                    <a:pt x="213" y="137"/>
                  </a:lnTo>
                  <a:lnTo>
                    <a:pt x="126" y="23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040200" y="4856040"/>
              <a:ext cx="79560" cy="82800"/>
            </a:xfrm>
            <a:custGeom>
              <a:avLst/>
              <a:gdLst/>
              <a:ahLst/>
              <a:rect l="0" t="0" r="r" b="b"/>
              <a:pathLst>
                <a:path fill="none" w="221" h="230">
                  <a:moveTo>
                    <a:pt x="0" y="92"/>
                  </a:moveTo>
                  <a:lnTo>
                    <a:pt x="138" y="0"/>
                  </a:lnTo>
                  <a:lnTo>
                    <a:pt x="221" y="92"/>
                  </a:lnTo>
                  <a:lnTo>
                    <a:pt x="138" y="23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638520" y="4651200"/>
              <a:ext cx="79560" cy="82800"/>
            </a:xfrm>
            <a:custGeom>
              <a:avLst/>
              <a:gdLst/>
              <a:ahLst/>
              <a:rect l="0" t="0" r="r" b="b"/>
              <a:pathLst>
                <a:path fill="none" w="221" h="230">
                  <a:moveTo>
                    <a:pt x="0" y="92"/>
                  </a:moveTo>
                  <a:lnTo>
                    <a:pt x="89" y="0"/>
                  </a:lnTo>
                  <a:lnTo>
                    <a:pt x="221" y="92"/>
                  </a:lnTo>
                  <a:lnTo>
                    <a:pt x="89" y="23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230720" y="4489560"/>
              <a:ext cx="81360" cy="84600"/>
            </a:xfrm>
            <a:custGeom>
              <a:avLst/>
              <a:gdLst/>
              <a:ahLst/>
              <a:rect l="0" t="0" r="r" b="b"/>
              <a:pathLst>
                <a:path fill="none" w="226" h="235">
                  <a:moveTo>
                    <a:pt x="0" y="139"/>
                  </a:moveTo>
                  <a:lnTo>
                    <a:pt x="140" y="0"/>
                  </a:lnTo>
                  <a:lnTo>
                    <a:pt x="226" y="139"/>
                  </a:lnTo>
                  <a:lnTo>
                    <a:pt x="140" y="23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960560" y="5249880"/>
              <a:ext cx="93960" cy="82800"/>
            </a:xfrm>
            <a:custGeom>
              <a:avLst/>
              <a:gdLst/>
              <a:ahLst/>
              <a:rect l="0" t="0" r="r" b="b"/>
              <a:pathLst>
                <a:path w="261" h="230">
                  <a:moveTo>
                    <a:pt x="0" y="230"/>
                  </a:moveTo>
                  <a:lnTo>
                    <a:pt x="131" y="0"/>
                  </a:lnTo>
                  <a:lnTo>
                    <a:pt x="261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960560" y="5249880"/>
              <a:ext cx="93960" cy="82800"/>
            </a:xfrm>
            <a:custGeom>
              <a:avLst/>
              <a:gdLst/>
              <a:ahLst/>
              <a:rect l="0" t="0" r="r" b="b"/>
              <a:pathLst>
                <a:path fill="none" w="261" h="230">
                  <a:moveTo>
                    <a:pt x="0" y="230"/>
                  </a:moveTo>
                  <a:lnTo>
                    <a:pt x="131" y="0"/>
                  </a:lnTo>
                  <a:lnTo>
                    <a:pt x="261" y="23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573280" y="5192640"/>
              <a:ext cx="76680" cy="82800"/>
            </a:xfrm>
            <a:custGeom>
              <a:avLst/>
              <a:gdLst/>
              <a:ahLst/>
              <a:rect l="0" t="0" r="r" b="b"/>
              <a:pathLst>
                <a:path w="213" h="230">
                  <a:moveTo>
                    <a:pt x="0" y="230"/>
                  </a:moveTo>
                  <a:lnTo>
                    <a:pt x="126" y="0"/>
                  </a:lnTo>
                  <a:lnTo>
                    <a:pt x="213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573280" y="5192640"/>
              <a:ext cx="76680" cy="82800"/>
            </a:xfrm>
            <a:custGeom>
              <a:avLst/>
              <a:gdLst/>
              <a:ahLst/>
              <a:rect l="0" t="0" r="r" b="b"/>
              <a:pathLst>
                <a:path fill="none" w="213" h="230">
                  <a:moveTo>
                    <a:pt x="0" y="230"/>
                  </a:moveTo>
                  <a:lnTo>
                    <a:pt x="126" y="0"/>
                  </a:lnTo>
                  <a:lnTo>
                    <a:pt x="213" y="23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40200" y="5105520"/>
              <a:ext cx="79560" cy="81360"/>
            </a:xfrm>
            <a:custGeom>
              <a:avLst/>
              <a:gdLst/>
              <a:ahLst/>
              <a:rect l="0" t="0" r="r" b="b"/>
              <a:pathLst>
                <a:path w="221" h="226">
                  <a:moveTo>
                    <a:pt x="0" y="226"/>
                  </a:moveTo>
                  <a:lnTo>
                    <a:pt x="138" y="0"/>
                  </a:lnTo>
                  <a:lnTo>
                    <a:pt x="221" y="22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040200" y="5105520"/>
              <a:ext cx="79560" cy="81360"/>
            </a:xfrm>
            <a:custGeom>
              <a:avLst/>
              <a:gdLst/>
              <a:ahLst/>
              <a:rect l="0" t="0" r="r" b="b"/>
              <a:pathLst>
                <a:path fill="none" w="221" h="226">
                  <a:moveTo>
                    <a:pt x="0" y="226"/>
                  </a:moveTo>
                  <a:lnTo>
                    <a:pt x="138" y="0"/>
                  </a:lnTo>
                  <a:lnTo>
                    <a:pt x="221" y="22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638520" y="4971960"/>
              <a:ext cx="79560" cy="84600"/>
            </a:xfrm>
            <a:custGeom>
              <a:avLst/>
              <a:gdLst/>
              <a:ahLst/>
              <a:rect l="0" t="0" r="r" b="b"/>
              <a:pathLst>
                <a:path w="221" h="235">
                  <a:moveTo>
                    <a:pt x="0" y="235"/>
                  </a:moveTo>
                  <a:lnTo>
                    <a:pt x="89" y="0"/>
                  </a:lnTo>
                  <a:lnTo>
                    <a:pt x="221" y="235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638520" y="4971960"/>
              <a:ext cx="79560" cy="84600"/>
            </a:xfrm>
            <a:custGeom>
              <a:avLst/>
              <a:gdLst/>
              <a:ahLst/>
              <a:rect l="0" t="0" r="r" b="b"/>
              <a:pathLst>
                <a:path fill="none" w="221" h="235">
                  <a:moveTo>
                    <a:pt x="0" y="235"/>
                  </a:moveTo>
                  <a:lnTo>
                    <a:pt x="89" y="0"/>
                  </a:lnTo>
                  <a:lnTo>
                    <a:pt x="221" y="23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230720" y="4856040"/>
              <a:ext cx="81360" cy="82800"/>
            </a:xfrm>
            <a:custGeom>
              <a:avLst/>
              <a:gdLst/>
              <a:ahLst/>
              <a:rect l="0" t="0" r="r" b="b"/>
              <a:pathLst>
                <a:path w="226" h="230">
                  <a:moveTo>
                    <a:pt x="0" y="230"/>
                  </a:moveTo>
                  <a:lnTo>
                    <a:pt x="140" y="0"/>
                  </a:lnTo>
                  <a:lnTo>
                    <a:pt x="226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230720" y="4856040"/>
              <a:ext cx="81360" cy="82800"/>
            </a:xfrm>
            <a:custGeom>
              <a:avLst/>
              <a:gdLst/>
              <a:ahLst/>
              <a:rect l="0" t="0" r="r" b="b"/>
              <a:pathLst>
                <a:path fill="none" w="226" h="230">
                  <a:moveTo>
                    <a:pt x="0" y="230"/>
                  </a:moveTo>
                  <a:lnTo>
                    <a:pt x="140" y="0"/>
                  </a:lnTo>
                  <a:lnTo>
                    <a:pt x="226" y="23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 txBox="1"/>
            <p:nvPr/>
          </p:nvSpPr>
          <p:spPr>
            <a:xfrm>
              <a:off x="1341360" y="5148360"/>
              <a:ext cx="3366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 txBox="1"/>
            <p:nvPr/>
          </p:nvSpPr>
          <p:spPr>
            <a:xfrm>
              <a:off x="1198440" y="4710240"/>
              <a:ext cx="4777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 txBox="1"/>
            <p:nvPr/>
          </p:nvSpPr>
          <p:spPr>
            <a:xfrm>
              <a:off x="1198440" y="4241880"/>
              <a:ext cx="4777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 txBox="1"/>
            <p:nvPr/>
          </p:nvSpPr>
          <p:spPr>
            <a:xfrm>
              <a:off x="1198440" y="3803760"/>
              <a:ext cx="4777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 txBox="1"/>
            <p:nvPr/>
          </p:nvSpPr>
          <p:spPr>
            <a:xfrm>
              <a:off x="1198440" y="3352680"/>
              <a:ext cx="4777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 txBox="1"/>
            <p:nvPr/>
          </p:nvSpPr>
          <p:spPr>
            <a:xfrm>
              <a:off x="1341360" y="2898720"/>
              <a:ext cx="3366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 txBox="1"/>
            <p:nvPr/>
          </p:nvSpPr>
          <p:spPr>
            <a:xfrm>
              <a:off x="1479600" y="5351400"/>
              <a:ext cx="3366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 txBox="1"/>
            <p:nvPr/>
          </p:nvSpPr>
          <p:spPr>
            <a:xfrm>
              <a:off x="1986120" y="5351400"/>
              <a:ext cx="4762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 txBox="1"/>
            <p:nvPr/>
          </p:nvSpPr>
          <p:spPr>
            <a:xfrm>
              <a:off x="2597040" y="5351400"/>
              <a:ext cx="4762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 txBox="1"/>
            <p:nvPr/>
          </p:nvSpPr>
          <p:spPr>
            <a:xfrm>
              <a:off x="3176640" y="5351400"/>
              <a:ext cx="4777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 txBox="1"/>
            <p:nvPr/>
          </p:nvSpPr>
          <p:spPr>
            <a:xfrm>
              <a:off x="3787920" y="5351400"/>
              <a:ext cx="4762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 txBox="1"/>
            <p:nvPr/>
          </p:nvSpPr>
          <p:spPr>
            <a:xfrm>
              <a:off x="4452840" y="5351400"/>
              <a:ext cx="33804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 txBox="1"/>
            <p:nvPr/>
          </p:nvSpPr>
          <p:spPr>
            <a:xfrm>
              <a:off x="-103320" y="3925800"/>
              <a:ext cx="20829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istillate Compo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 txBox="1"/>
            <p:nvPr/>
          </p:nvSpPr>
          <p:spPr>
            <a:xfrm>
              <a:off x="2414520" y="5513400"/>
              <a:ext cx="14367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tch Time, h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 txBox="1"/>
            <p:nvPr/>
          </p:nvSpPr>
          <p:spPr>
            <a:xfrm>
              <a:off x="2793960" y="5705640"/>
              <a:ext cx="4507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462640" y="3157560"/>
              <a:ext cx="330120" cy="98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59280" y="3243240"/>
              <a:ext cx="324000" cy="130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041880" y="3354480"/>
              <a:ext cx="344520" cy="179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350040" y="3514680"/>
              <a:ext cx="326880" cy="181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637320" y="3673440"/>
              <a:ext cx="345960" cy="200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946920" y="3851280"/>
              <a:ext cx="326880" cy="179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232760" y="4011480"/>
              <a:ext cx="344520" cy="166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543800" y="4164120"/>
              <a:ext cx="324000" cy="129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840800" y="4282920"/>
              <a:ext cx="290520" cy="96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5473800" y="5167440"/>
              <a:ext cx="318960" cy="63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5754600" y="5075280"/>
              <a:ext cx="328680" cy="98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6041880" y="4970520"/>
              <a:ext cx="344520" cy="114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6348240" y="4867200"/>
              <a:ext cx="328680" cy="11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6640560" y="4730760"/>
              <a:ext cx="342720" cy="150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6951600" y="4651200"/>
              <a:ext cx="322200" cy="96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7232760" y="4578480"/>
              <a:ext cx="344520" cy="8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7539120" y="4506840"/>
              <a:ext cx="32868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7851600" y="4484520"/>
              <a:ext cx="27972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462640" y="5289480"/>
              <a:ext cx="330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V="1">
              <a:off x="5754600" y="5240160"/>
              <a:ext cx="328680" cy="4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6041880" y="5181480"/>
              <a:ext cx="344520" cy="65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6359400" y="5122800"/>
              <a:ext cx="317520" cy="63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6648480" y="5065560"/>
              <a:ext cx="334800" cy="63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6945480" y="5006880"/>
              <a:ext cx="328320" cy="65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7232760" y="4932360"/>
              <a:ext cx="344520" cy="79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7539120" y="4871880"/>
              <a:ext cx="328680" cy="66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7846920" y="4832280"/>
              <a:ext cx="284400" cy="4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160960" y="5318280"/>
              <a:ext cx="76320" cy="0"/>
            </a:xfrm>
            <a:prstGeom prst="line">
              <a:avLst/>
            </a:prstGeom>
            <a:ln w="12600">
              <a:solidFill>
                <a:srgbClr val="0000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160960" y="486720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160960" y="441180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160960" y="395748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160960" y="352116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160960" y="306864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8067600" y="5318280"/>
              <a:ext cx="77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8067600" y="4867200"/>
              <a:ext cx="77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8067600" y="4411800"/>
              <a:ext cx="77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8067600" y="3957480"/>
              <a:ext cx="77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8067600" y="3521160"/>
              <a:ext cx="77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8067600" y="3068640"/>
              <a:ext cx="77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5168880" y="5237280"/>
              <a:ext cx="0" cy="81000"/>
            </a:xfrm>
            <a:prstGeom prst="line">
              <a:avLst/>
            </a:prstGeom>
            <a:ln w="12600">
              <a:solidFill>
                <a:srgbClr val="0000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5751360" y="523728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6359400" y="523728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6954840" y="523728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7548480" y="523728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8145360" y="523728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168880" y="3057480"/>
              <a:ext cx="0" cy="8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751360" y="3057480"/>
              <a:ext cx="0" cy="8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359400" y="3057480"/>
              <a:ext cx="0" cy="8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954840" y="3057480"/>
              <a:ext cx="0" cy="8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548480" y="3057480"/>
              <a:ext cx="0" cy="8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8145360" y="3057480"/>
              <a:ext cx="0" cy="8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5168880" y="3005280"/>
              <a:ext cx="0" cy="2313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8145360" y="3005280"/>
              <a:ext cx="0" cy="2313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157720" y="5295960"/>
              <a:ext cx="29876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172120" y="3062160"/>
              <a:ext cx="297324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448240" y="3127320"/>
              <a:ext cx="95400" cy="100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043680" y="3333600"/>
              <a:ext cx="93600" cy="100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626160" y="3656160"/>
              <a:ext cx="93600" cy="98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234200" y="3989520"/>
              <a:ext cx="93600" cy="103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827840" y="4255920"/>
              <a:ext cx="95400" cy="98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450040" y="5192640"/>
              <a:ext cx="78120" cy="82800"/>
            </a:xfrm>
            <a:custGeom>
              <a:avLst/>
              <a:gdLst/>
              <a:ahLst/>
              <a:rect l="0" t="0" r="r" b="b"/>
              <a:pathLst>
                <a:path fill="none" w="217" h="230">
                  <a:moveTo>
                    <a:pt x="0" y="86"/>
                  </a:moveTo>
                  <a:lnTo>
                    <a:pt x="135" y="0"/>
                  </a:lnTo>
                  <a:lnTo>
                    <a:pt x="217" y="86"/>
                  </a:lnTo>
                  <a:lnTo>
                    <a:pt x="135" y="23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045120" y="5045040"/>
              <a:ext cx="81360" cy="84600"/>
            </a:xfrm>
            <a:custGeom>
              <a:avLst/>
              <a:gdLst/>
              <a:ahLst/>
              <a:rect l="0" t="0" r="r" b="b"/>
              <a:pathLst>
                <a:path fill="none" w="226" h="235">
                  <a:moveTo>
                    <a:pt x="0" y="95"/>
                  </a:moveTo>
                  <a:lnTo>
                    <a:pt x="92" y="0"/>
                  </a:lnTo>
                  <a:lnTo>
                    <a:pt x="226" y="95"/>
                  </a:lnTo>
                  <a:lnTo>
                    <a:pt x="92" y="23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626160" y="4826160"/>
              <a:ext cx="93960" cy="84600"/>
            </a:xfrm>
            <a:custGeom>
              <a:avLst/>
              <a:gdLst/>
              <a:ahLst/>
              <a:rect l="0" t="0" r="r" b="b"/>
              <a:pathLst>
                <a:path fill="none" w="261" h="235">
                  <a:moveTo>
                    <a:pt x="0" y="139"/>
                  </a:moveTo>
                  <a:lnTo>
                    <a:pt x="131" y="0"/>
                  </a:lnTo>
                  <a:lnTo>
                    <a:pt x="261" y="139"/>
                  </a:lnTo>
                  <a:lnTo>
                    <a:pt x="131" y="23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236000" y="4606920"/>
              <a:ext cx="81360" cy="84600"/>
            </a:xfrm>
            <a:custGeom>
              <a:avLst/>
              <a:gdLst/>
              <a:ahLst/>
              <a:rect l="0" t="0" r="r" b="b"/>
              <a:pathLst>
                <a:path fill="none" w="226" h="235">
                  <a:moveTo>
                    <a:pt x="0" y="142"/>
                  </a:moveTo>
                  <a:lnTo>
                    <a:pt x="92" y="0"/>
                  </a:lnTo>
                  <a:lnTo>
                    <a:pt x="226" y="142"/>
                  </a:lnTo>
                  <a:lnTo>
                    <a:pt x="92" y="23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829640" y="4478400"/>
              <a:ext cx="82800" cy="65520"/>
            </a:xfrm>
            <a:custGeom>
              <a:avLst/>
              <a:gdLst/>
              <a:ahLst/>
              <a:rect l="0" t="0" r="r" b="b"/>
              <a:pathLst>
                <a:path fill="none" w="230" h="182">
                  <a:moveTo>
                    <a:pt x="0" y="88"/>
                  </a:moveTo>
                  <a:lnTo>
                    <a:pt x="90" y="0"/>
                  </a:lnTo>
                  <a:lnTo>
                    <a:pt x="230" y="88"/>
                  </a:lnTo>
                  <a:lnTo>
                    <a:pt x="90" y="18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50040" y="5249880"/>
              <a:ext cx="78120" cy="82800"/>
            </a:xfrm>
            <a:custGeom>
              <a:avLst/>
              <a:gdLst/>
              <a:ahLst/>
              <a:rect l="0" t="0" r="r" b="b"/>
              <a:pathLst>
                <a:path w="217" h="230">
                  <a:moveTo>
                    <a:pt x="0" y="230"/>
                  </a:moveTo>
                  <a:lnTo>
                    <a:pt x="135" y="0"/>
                  </a:lnTo>
                  <a:lnTo>
                    <a:pt x="217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50040" y="5249880"/>
              <a:ext cx="78120" cy="82800"/>
            </a:xfrm>
            <a:custGeom>
              <a:avLst/>
              <a:gdLst/>
              <a:ahLst/>
              <a:rect l="0" t="0" r="r" b="b"/>
              <a:pathLst>
                <a:path fill="none" w="217" h="230">
                  <a:moveTo>
                    <a:pt x="0" y="230"/>
                  </a:moveTo>
                  <a:lnTo>
                    <a:pt x="135" y="0"/>
                  </a:lnTo>
                  <a:lnTo>
                    <a:pt x="217" y="23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045120" y="5207040"/>
              <a:ext cx="81360" cy="82800"/>
            </a:xfrm>
            <a:custGeom>
              <a:avLst/>
              <a:gdLst/>
              <a:ahLst/>
              <a:rect l="0" t="0" r="r" b="b"/>
              <a:pathLst>
                <a:path w="226" h="230">
                  <a:moveTo>
                    <a:pt x="0" y="230"/>
                  </a:moveTo>
                  <a:lnTo>
                    <a:pt x="92" y="0"/>
                  </a:lnTo>
                  <a:lnTo>
                    <a:pt x="226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045120" y="5207040"/>
              <a:ext cx="81360" cy="82800"/>
            </a:xfrm>
            <a:custGeom>
              <a:avLst/>
              <a:gdLst/>
              <a:ahLst/>
              <a:rect l="0" t="0" r="r" b="b"/>
              <a:pathLst>
                <a:path fill="none" w="226" h="230">
                  <a:moveTo>
                    <a:pt x="0" y="230"/>
                  </a:moveTo>
                  <a:lnTo>
                    <a:pt x="92" y="0"/>
                  </a:lnTo>
                  <a:lnTo>
                    <a:pt x="226" y="23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626160" y="5075280"/>
              <a:ext cx="93960" cy="81360"/>
            </a:xfrm>
            <a:custGeom>
              <a:avLst/>
              <a:gdLst/>
              <a:ahLst/>
              <a:rect l="0" t="0" r="r" b="b"/>
              <a:pathLst>
                <a:path w="261" h="226">
                  <a:moveTo>
                    <a:pt x="0" y="226"/>
                  </a:moveTo>
                  <a:lnTo>
                    <a:pt x="131" y="0"/>
                  </a:lnTo>
                  <a:lnTo>
                    <a:pt x="261" y="22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626160" y="5075280"/>
              <a:ext cx="93960" cy="81360"/>
            </a:xfrm>
            <a:custGeom>
              <a:avLst/>
              <a:gdLst/>
              <a:ahLst/>
              <a:rect l="0" t="0" r="r" b="b"/>
              <a:pathLst>
                <a:path fill="none" w="261" h="226">
                  <a:moveTo>
                    <a:pt x="0" y="226"/>
                  </a:moveTo>
                  <a:lnTo>
                    <a:pt x="131" y="0"/>
                  </a:lnTo>
                  <a:lnTo>
                    <a:pt x="261" y="22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236000" y="4959360"/>
              <a:ext cx="81360" cy="82800"/>
            </a:xfrm>
            <a:custGeom>
              <a:avLst/>
              <a:gdLst/>
              <a:ahLst/>
              <a:rect l="0" t="0" r="r" b="b"/>
              <a:pathLst>
                <a:path w="226" h="230">
                  <a:moveTo>
                    <a:pt x="0" y="230"/>
                  </a:moveTo>
                  <a:lnTo>
                    <a:pt x="92" y="0"/>
                  </a:lnTo>
                  <a:lnTo>
                    <a:pt x="226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236000" y="4959360"/>
              <a:ext cx="81360" cy="82800"/>
            </a:xfrm>
            <a:custGeom>
              <a:avLst/>
              <a:gdLst/>
              <a:ahLst/>
              <a:rect l="0" t="0" r="r" b="b"/>
              <a:pathLst>
                <a:path fill="none" w="226" h="230">
                  <a:moveTo>
                    <a:pt x="0" y="230"/>
                  </a:moveTo>
                  <a:lnTo>
                    <a:pt x="92" y="0"/>
                  </a:lnTo>
                  <a:lnTo>
                    <a:pt x="226" y="23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829640" y="4838760"/>
              <a:ext cx="82800" cy="86040"/>
            </a:xfrm>
            <a:custGeom>
              <a:avLst/>
              <a:gdLst/>
              <a:ahLst/>
              <a:rect l="0" t="0" r="r" b="b"/>
              <a:pathLst>
                <a:path w="230" h="239">
                  <a:moveTo>
                    <a:pt x="0" y="239"/>
                  </a:moveTo>
                  <a:lnTo>
                    <a:pt x="90" y="0"/>
                  </a:lnTo>
                  <a:lnTo>
                    <a:pt x="230" y="23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829640" y="4838760"/>
              <a:ext cx="82800" cy="86040"/>
            </a:xfrm>
            <a:custGeom>
              <a:avLst/>
              <a:gdLst/>
              <a:ahLst/>
              <a:rect l="0" t="0" r="r" b="b"/>
              <a:pathLst>
                <a:path fill="none" w="230" h="239">
                  <a:moveTo>
                    <a:pt x="0" y="239"/>
                  </a:moveTo>
                  <a:lnTo>
                    <a:pt x="90" y="0"/>
                  </a:lnTo>
                  <a:lnTo>
                    <a:pt x="230" y="23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 txBox="1"/>
            <p:nvPr/>
          </p:nvSpPr>
          <p:spPr>
            <a:xfrm>
              <a:off x="4843440" y="5148360"/>
              <a:ext cx="3366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 txBox="1"/>
            <p:nvPr/>
          </p:nvSpPr>
          <p:spPr>
            <a:xfrm>
              <a:off x="4700520" y="4710240"/>
              <a:ext cx="4777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 txBox="1"/>
            <p:nvPr/>
          </p:nvSpPr>
          <p:spPr>
            <a:xfrm>
              <a:off x="4700520" y="4241880"/>
              <a:ext cx="4777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 txBox="1"/>
            <p:nvPr/>
          </p:nvSpPr>
          <p:spPr>
            <a:xfrm>
              <a:off x="4700520" y="3803760"/>
              <a:ext cx="4777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 txBox="1"/>
            <p:nvPr/>
          </p:nvSpPr>
          <p:spPr>
            <a:xfrm>
              <a:off x="4700520" y="3352680"/>
              <a:ext cx="4777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 txBox="1"/>
            <p:nvPr/>
          </p:nvSpPr>
          <p:spPr>
            <a:xfrm>
              <a:off x="4843440" y="2898720"/>
              <a:ext cx="3366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 txBox="1"/>
            <p:nvPr/>
          </p:nvSpPr>
          <p:spPr>
            <a:xfrm>
              <a:off x="4981680" y="5351400"/>
              <a:ext cx="3366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 txBox="1"/>
            <p:nvPr/>
          </p:nvSpPr>
          <p:spPr>
            <a:xfrm>
              <a:off x="5505480" y="5351400"/>
              <a:ext cx="4762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 txBox="1"/>
            <p:nvPr/>
          </p:nvSpPr>
          <p:spPr>
            <a:xfrm>
              <a:off x="6099120" y="5351400"/>
              <a:ext cx="4762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 txBox="1"/>
            <p:nvPr/>
          </p:nvSpPr>
          <p:spPr>
            <a:xfrm>
              <a:off x="6696000" y="5351400"/>
              <a:ext cx="4762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 txBox="1"/>
            <p:nvPr/>
          </p:nvSpPr>
          <p:spPr>
            <a:xfrm>
              <a:off x="7289640" y="5351400"/>
              <a:ext cx="4762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 txBox="1"/>
            <p:nvPr/>
          </p:nvSpPr>
          <p:spPr>
            <a:xfrm>
              <a:off x="7956720" y="5351400"/>
              <a:ext cx="33804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 txBox="1"/>
            <p:nvPr/>
          </p:nvSpPr>
          <p:spPr>
            <a:xfrm>
              <a:off x="5931000" y="5513400"/>
              <a:ext cx="14367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tch Time, h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 txBox="1"/>
            <p:nvPr/>
          </p:nvSpPr>
          <p:spPr>
            <a:xfrm>
              <a:off x="6418440" y="5776920"/>
              <a:ext cx="4636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 txBox="1"/>
          <p:nvPr/>
        </p:nvSpPr>
        <p:spPr>
          <a:xfrm>
            <a:off x="2324160" y="2451240"/>
            <a:ext cx="1779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iff Integ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5435640" y="2441520"/>
            <a:ext cx="2330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on-Stiff Integ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3041640" y="6130800"/>
            <a:ext cx="2739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18 % Holdup on 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Numerical Integration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-125280" y="2373480"/>
            <a:ext cx="8145360" cy="3342960"/>
            <a:chOff x="-125280" y="2373480"/>
            <a:chExt cx="8145360" cy="3342960"/>
          </a:xfrm>
        </p:grpSpPr>
        <p:pic>
          <p:nvPicPr>
            <p:cNvPr id="1376" name="" descr=""/>
            <p:cNvPicPr/>
            <p:nvPr/>
          </p:nvPicPr>
          <p:blipFill>
            <a:blip r:embed="rId1"/>
            <a:stretch/>
          </p:blipFill>
          <p:spPr>
            <a:xfrm>
              <a:off x="2478240" y="2819520"/>
              <a:ext cx="337500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1366920" y="2600280"/>
              <a:ext cx="114120" cy="112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481040" y="2716200"/>
              <a:ext cx="130320" cy="169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611360" y="2887560"/>
              <a:ext cx="11592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727280" y="3048120"/>
              <a:ext cx="115920" cy="158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843200" y="3206880"/>
              <a:ext cx="131760" cy="99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600" bIns="48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976400" y="3306600"/>
              <a:ext cx="127080" cy="82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03480" y="3392640"/>
              <a:ext cx="119160" cy="58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222640" y="3451320"/>
              <a:ext cx="128520" cy="39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355840" y="3494160"/>
              <a:ext cx="112680" cy="27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468520" y="3522600"/>
              <a:ext cx="1285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597040" y="3537000"/>
              <a:ext cx="117720" cy="25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714760" y="3564000"/>
              <a:ext cx="115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36800" y="3579840"/>
              <a:ext cx="123840" cy="25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976480" y="3608280"/>
              <a:ext cx="101520" cy="12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078000" y="3622680"/>
              <a:ext cx="130320" cy="3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208320" y="3652920"/>
              <a:ext cx="114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332160" y="3652920"/>
              <a:ext cx="108000" cy="25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456000" y="3681360"/>
              <a:ext cx="11412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570120" y="3695760"/>
              <a:ext cx="13176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708360" y="3724200"/>
              <a:ext cx="108000" cy="25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833640" y="3754440"/>
              <a:ext cx="11304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946680" y="3767040"/>
              <a:ext cx="117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064040" y="3781440"/>
              <a:ext cx="114120" cy="27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1366920" y="4748040"/>
              <a:ext cx="114120" cy="100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1481040" y="4633920"/>
              <a:ext cx="130320" cy="112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1611360" y="4516560"/>
              <a:ext cx="115920" cy="11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1727280" y="4430880"/>
              <a:ext cx="115920" cy="85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1843200" y="4373640"/>
              <a:ext cx="131760" cy="5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1978200" y="4316400"/>
              <a:ext cx="125280" cy="55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2103480" y="4287960"/>
              <a:ext cx="119160" cy="27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2222640" y="4272120"/>
              <a:ext cx="1285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V="1">
              <a:off x="2363760" y="4257720"/>
              <a:ext cx="10476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468520" y="425592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2597040" y="4243320"/>
              <a:ext cx="11772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2728800" y="4229280"/>
              <a:ext cx="101880" cy="10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830680" y="4227480"/>
              <a:ext cx="129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2960640" y="4213080"/>
              <a:ext cx="117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3078000" y="4200480"/>
              <a:ext cx="13032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208320" y="4199040"/>
              <a:ext cx="114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V="1">
              <a:off x="3336840" y="4187880"/>
              <a:ext cx="10332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3440160" y="4172040"/>
              <a:ext cx="1299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3587760" y="4157640"/>
              <a:ext cx="11412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701880" y="4156200"/>
              <a:ext cx="114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3816360" y="4143240"/>
              <a:ext cx="130320" cy="12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V="1">
              <a:off x="3946680" y="4129200"/>
              <a:ext cx="1173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064040" y="4127400"/>
              <a:ext cx="114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1370160" y="4863960"/>
              <a:ext cx="110880" cy="25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V="1">
              <a:off x="1481040" y="4821120"/>
              <a:ext cx="130320" cy="41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1611360" y="4762440"/>
              <a:ext cx="115920" cy="5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1727280" y="4703760"/>
              <a:ext cx="115920" cy="5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V="1">
              <a:off x="1843200" y="4660920"/>
              <a:ext cx="13176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V="1">
              <a:off x="1978200" y="4618080"/>
              <a:ext cx="125280" cy="41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V="1">
              <a:off x="2117880" y="4603680"/>
              <a:ext cx="10476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V="1">
              <a:off x="2222640" y="4589640"/>
              <a:ext cx="12852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2359080" y="4560840"/>
              <a:ext cx="109440" cy="25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2486160" y="4545000"/>
              <a:ext cx="11088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V="1">
              <a:off x="2597040" y="4532400"/>
              <a:ext cx="11772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2714760" y="4518000"/>
              <a:ext cx="115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830680" y="4516560"/>
              <a:ext cx="129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2975040" y="4503600"/>
              <a:ext cx="102960" cy="12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3078000" y="4489560"/>
              <a:ext cx="13032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208320" y="4486320"/>
              <a:ext cx="114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3338640" y="4475160"/>
              <a:ext cx="10152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3440160" y="4459320"/>
              <a:ext cx="129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570120" y="4459320"/>
              <a:ext cx="131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3701880" y="4444920"/>
              <a:ext cx="1144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3832200" y="4432320"/>
              <a:ext cx="11448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3946680" y="4416480"/>
              <a:ext cx="117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4079880" y="4402080"/>
              <a:ext cx="9828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247760" y="4919760"/>
              <a:ext cx="73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47760" y="4430880"/>
              <a:ext cx="73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247760" y="3952800"/>
              <a:ext cx="73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247760" y="3463920"/>
              <a:ext cx="73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247760" y="2989440"/>
              <a:ext cx="73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247760" y="2500200"/>
              <a:ext cx="73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4237200" y="4919760"/>
              <a:ext cx="72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4237200" y="4430880"/>
              <a:ext cx="72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4237200" y="3952800"/>
              <a:ext cx="72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4237200" y="3463920"/>
              <a:ext cx="72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4237200" y="2989440"/>
              <a:ext cx="72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4237200" y="2500200"/>
              <a:ext cx="72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1247760" y="4848120"/>
              <a:ext cx="0" cy="71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1843200" y="4848120"/>
              <a:ext cx="0" cy="71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2468520" y="4848120"/>
              <a:ext cx="0" cy="71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3078000" y="4848120"/>
              <a:ext cx="0" cy="71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3701880" y="4848120"/>
              <a:ext cx="0" cy="71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>
              <a:off x="4309920" y="4848120"/>
              <a:ext cx="0" cy="71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247760" y="2500200"/>
              <a:ext cx="0" cy="69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843200" y="2500200"/>
              <a:ext cx="0" cy="69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468520" y="2500200"/>
              <a:ext cx="0" cy="69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78000" y="2500200"/>
              <a:ext cx="0" cy="69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701880" y="2500200"/>
              <a:ext cx="0" cy="69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309920" y="2500200"/>
              <a:ext cx="0" cy="69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1247760" y="2500200"/>
              <a:ext cx="0" cy="2419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4309920" y="2500200"/>
              <a:ext cx="0" cy="2419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247760" y="4919760"/>
              <a:ext cx="3062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247760" y="2500200"/>
              <a:ext cx="3062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566720" y="2846520"/>
              <a:ext cx="88920" cy="84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192400" y="3408480"/>
              <a:ext cx="85680" cy="85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671920" y="3522600"/>
              <a:ext cx="85680" cy="85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279600" y="3622680"/>
              <a:ext cx="85680" cy="85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903840" y="3724200"/>
              <a:ext cx="87480" cy="85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566720" y="4602240"/>
              <a:ext cx="73440" cy="73440"/>
            </a:xfrm>
            <a:custGeom>
              <a:avLst/>
              <a:gdLst/>
              <a:ahLst/>
              <a:rect l="0" t="0" r="r" b="b"/>
              <a:pathLst>
                <a:path fill="none" w="204" h="204">
                  <a:moveTo>
                    <a:pt x="0" y="83"/>
                  </a:moveTo>
                  <a:lnTo>
                    <a:pt x="121" y="0"/>
                  </a:lnTo>
                  <a:lnTo>
                    <a:pt x="204" y="83"/>
                  </a:lnTo>
                  <a:lnTo>
                    <a:pt x="121" y="20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192400" y="4255920"/>
              <a:ext cx="73440" cy="73440"/>
            </a:xfrm>
            <a:custGeom>
              <a:avLst/>
              <a:gdLst/>
              <a:ahLst/>
              <a:rect l="0" t="0" r="r" b="b"/>
              <a:pathLst>
                <a:path fill="none" w="204" h="204">
                  <a:moveTo>
                    <a:pt x="0" y="83"/>
                  </a:moveTo>
                  <a:lnTo>
                    <a:pt x="83" y="0"/>
                  </a:lnTo>
                  <a:lnTo>
                    <a:pt x="204" y="83"/>
                  </a:lnTo>
                  <a:lnTo>
                    <a:pt x="83" y="20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671920" y="4199040"/>
              <a:ext cx="86040" cy="71640"/>
            </a:xfrm>
            <a:custGeom>
              <a:avLst/>
              <a:gdLst/>
              <a:ahLst/>
              <a:rect l="0" t="0" r="r" b="b"/>
              <a:pathLst>
                <a:path fill="none" w="239" h="199">
                  <a:moveTo>
                    <a:pt x="0" y="118"/>
                  </a:moveTo>
                  <a:lnTo>
                    <a:pt x="120" y="0"/>
                  </a:lnTo>
                  <a:lnTo>
                    <a:pt x="239" y="118"/>
                  </a:lnTo>
                  <a:lnTo>
                    <a:pt x="120" y="19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79600" y="4156200"/>
              <a:ext cx="73440" cy="84600"/>
            </a:xfrm>
            <a:custGeom>
              <a:avLst/>
              <a:gdLst/>
              <a:ahLst/>
              <a:rect l="0" t="0" r="r" b="b"/>
              <a:pathLst>
                <a:path fill="none" w="204" h="235">
                  <a:moveTo>
                    <a:pt x="0" y="117"/>
                  </a:moveTo>
                  <a:lnTo>
                    <a:pt x="121" y="0"/>
                  </a:lnTo>
                  <a:lnTo>
                    <a:pt x="204" y="117"/>
                  </a:lnTo>
                  <a:lnTo>
                    <a:pt x="121" y="23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903840" y="4113360"/>
              <a:ext cx="74880" cy="73440"/>
            </a:xfrm>
            <a:custGeom>
              <a:avLst/>
              <a:gdLst/>
              <a:ahLst/>
              <a:rect l="0" t="0" r="r" b="b"/>
              <a:pathLst>
                <a:path fill="none" w="208" h="204">
                  <a:moveTo>
                    <a:pt x="0" y="83"/>
                  </a:moveTo>
                  <a:lnTo>
                    <a:pt x="124" y="0"/>
                  </a:lnTo>
                  <a:lnTo>
                    <a:pt x="208" y="83"/>
                  </a:lnTo>
                  <a:lnTo>
                    <a:pt x="124" y="20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566720" y="4776840"/>
              <a:ext cx="73440" cy="86040"/>
            </a:xfrm>
            <a:custGeom>
              <a:avLst/>
              <a:gdLst/>
              <a:ahLst/>
              <a:rect l="0" t="0" r="r" b="b"/>
              <a:pathLst>
                <a:path w="204" h="239">
                  <a:moveTo>
                    <a:pt x="0" y="239"/>
                  </a:moveTo>
                  <a:lnTo>
                    <a:pt x="121" y="0"/>
                  </a:lnTo>
                  <a:lnTo>
                    <a:pt x="204" y="23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566720" y="4776840"/>
              <a:ext cx="73440" cy="86040"/>
            </a:xfrm>
            <a:custGeom>
              <a:avLst/>
              <a:gdLst/>
              <a:ahLst/>
              <a:rect l="0" t="0" r="r" b="b"/>
              <a:pathLst>
                <a:path fill="none" w="204" h="239">
                  <a:moveTo>
                    <a:pt x="0" y="239"/>
                  </a:moveTo>
                  <a:lnTo>
                    <a:pt x="121" y="0"/>
                  </a:lnTo>
                  <a:lnTo>
                    <a:pt x="204" y="23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192400" y="4557600"/>
              <a:ext cx="73440" cy="74880"/>
            </a:xfrm>
            <a:custGeom>
              <a:avLst/>
              <a:gdLst/>
              <a:ahLst/>
              <a:rect l="0" t="0" r="r" b="b"/>
              <a:pathLst>
                <a:path w="204" h="208">
                  <a:moveTo>
                    <a:pt x="0" y="208"/>
                  </a:moveTo>
                  <a:lnTo>
                    <a:pt x="83" y="0"/>
                  </a:lnTo>
                  <a:lnTo>
                    <a:pt x="204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192400" y="4557600"/>
              <a:ext cx="73440" cy="74880"/>
            </a:xfrm>
            <a:custGeom>
              <a:avLst/>
              <a:gdLst/>
              <a:ahLst/>
              <a:rect l="0" t="0" r="r" b="b"/>
              <a:pathLst>
                <a:path fill="none" w="204" h="208">
                  <a:moveTo>
                    <a:pt x="0" y="208"/>
                  </a:moveTo>
                  <a:lnTo>
                    <a:pt x="83" y="0"/>
                  </a:lnTo>
                  <a:lnTo>
                    <a:pt x="204" y="20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671920" y="4486320"/>
              <a:ext cx="86040" cy="87840"/>
            </a:xfrm>
            <a:custGeom>
              <a:avLst/>
              <a:gdLst/>
              <a:ahLst/>
              <a:rect l="0" t="0" r="r" b="b"/>
              <a:pathLst>
                <a:path w="239" h="244">
                  <a:moveTo>
                    <a:pt x="0" y="244"/>
                  </a:moveTo>
                  <a:lnTo>
                    <a:pt x="120" y="0"/>
                  </a:lnTo>
                  <a:lnTo>
                    <a:pt x="239" y="24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671920" y="4486320"/>
              <a:ext cx="86040" cy="87840"/>
            </a:xfrm>
            <a:custGeom>
              <a:avLst/>
              <a:gdLst/>
              <a:ahLst/>
              <a:rect l="0" t="0" r="r" b="b"/>
              <a:pathLst>
                <a:path fill="none" w="239" h="244">
                  <a:moveTo>
                    <a:pt x="0" y="244"/>
                  </a:moveTo>
                  <a:lnTo>
                    <a:pt x="120" y="0"/>
                  </a:lnTo>
                  <a:lnTo>
                    <a:pt x="239" y="24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279600" y="4443480"/>
              <a:ext cx="73440" cy="73440"/>
            </a:xfrm>
            <a:custGeom>
              <a:avLst/>
              <a:gdLst/>
              <a:ahLst/>
              <a:rect l="0" t="0" r="r" b="b"/>
              <a:pathLst>
                <a:path w="204" h="204">
                  <a:moveTo>
                    <a:pt x="0" y="204"/>
                  </a:moveTo>
                  <a:lnTo>
                    <a:pt x="121" y="0"/>
                  </a:lnTo>
                  <a:lnTo>
                    <a:pt x="204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279600" y="4443480"/>
              <a:ext cx="73440" cy="73440"/>
            </a:xfrm>
            <a:custGeom>
              <a:avLst/>
              <a:gdLst/>
              <a:ahLst/>
              <a:rect l="0" t="0" r="r" b="b"/>
              <a:pathLst>
                <a:path fill="none" w="204" h="204">
                  <a:moveTo>
                    <a:pt x="0" y="204"/>
                  </a:moveTo>
                  <a:lnTo>
                    <a:pt x="121" y="0"/>
                  </a:lnTo>
                  <a:lnTo>
                    <a:pt x="204" y="20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903840" y="4387680"/>
              <a:ext cx="74880" cy="86040"/>
            </a:xfrm>
            <a:custGeom>
              <a:avLst/>
              <a:gdLst/>
              <a:ahLst/>
              <a:rect l="0" t="0" r="r" b="b"/>
              <a:pathLst>
                <a:path w="208" h="239">
                  <a:moveTo>
                    <a:pt x="0" y="239"/>
                  </a:moveTo>
                  <a:lnTo>
                    <a:pt x="124" y="0"/>
                  </a:lnTo>
                  <a:lnTo>
                    <a:pt x="208" y="23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903840" y="4387680"/>
              <a:ext cx="74880" cy="86040"/>
            </a:xfrm>
            <a:custGeom>
              <a:avLst/>
              <a:gdLst/>
              <a:ahLst/>
              <a:rect l="0" t="0" r="r" b="b"/>
              <a:pathLst>
                <a:path fill="none" w="208" h="239">
                  <a:moveTo>
                    <a:pt x="0" y="239"/>
                  </a:moveTo>
                  <a:lnTo>
                    <a:pt x="124" y="0"/>
                  </a:lnTo>
                  <a:lnTo>
                    <a:pt x="208" y="23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 txBox="1"/>
            <p:nvPr/>
          </p:nvSpPr>
          <p:spPr>
            <a:xfrm>
              <a:off x="947880" y="4794120"/>
              <a:ext cx="2541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 txBox="1"/>
            <p:nvPr/>
          </p:nvSpPr>
          <p:spPr>
            <a:xfrm>
              <a:off x="828720" y="430380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 txBox="1"/>
            <p:nvPr/>
          </p:nvSpPr>
          <p:spPr>
            <a:xfrm>
              <a:off x="828720" y="381492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 txBox="1"/>
            <p:nvPr/>
          </p:nvSpPr>
          <p:spPr>
            <a:xfrm>
              <a:off x="828720" y="333864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 txBox="1"/>
            <p:nvPr/>
          </p:nvSpPr>
          <p:spPr>
            <a:xfrm>
              <a:off x="828720" y="284940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 txBox="1"/>
            <p:nvPr/>
          </p:nvSpPr>
          <p:spPr>
            <a:xfrm>
              <a:off x="947880" y="2373480"/>
              <a:ext cx="2541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 txBox="1"/>
            <p:nvPr/>
          </p:nvSpPr>
          <p:spPr>
            <a:xfrm>
              <a:off x="1092240" y="5008680"/>
              <a:ext cx="2541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 txBox="1"/>
            <p:nvPr/>
          </p:nvSpPr>
          <p:spPr>
            <a:xfrm>
              <a:off x="1644480" y="500868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 txBox="1"/>
            <p:nvPr/>
          </p:nvSpPr>
          <p:spPr>
            <a:xfrm>
              <a:off x="2266920" y="500868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 txBox="1"/>
            <p:nvPr/>
          </p:nvSpPr>
          <p:spPr>
            <a:xfrm>
              <a:off x="2862360" y="500868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 txBox="1"/>
            <p:nvPr/>
          </p:nvSpPr>
          <p:spPr>
            <a:xfrm>
              <a:off x="3486240" y="500868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 txBox="1"/>
            <p:nvPr/>
          </p:nvSpPr>
          <p:spPr>
            <a:xfrm>
              <a:off x="4152960" y="5008680"/>
              <a:ext cx="2541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 txBox="1"/>
            <p:nvPr/>
          </p:nvSpPr>
          <p:spPr>
            <a:xfrm>
              <a:off x="-125280" y="3581280"/>
              <a:ext cx="14526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istillate Composi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 txBox="1"/>
            <p:nvPr/>
          </p:nvSpPr>
          <p:spPr>
            <a:xfrm>
              <a:off x="2209680" y="5199120"/>
              <a:ext cx="10810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tch Time, h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 txBox="1"/>
            <p:nvPr/>
          </p:nvSpPr>
          <p:spPr>
            <a:xfrm>
              <a:off x="2236680" y="5443560"/>
              <a:ext cx="33984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195880" y="3319560"/>
              <a:ext cx="30492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V="1">
              <a:off x="5500800" y="3278160"/>
              <a:ext cx="304560" cy="85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805360" y="3276720"/>
              <a:ext cx="304920" cy="11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110280" y="3392640"/>
              <a:ext cx="30492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6415200" y="3292560"/>
              <a:ext cx="318960" cy="11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6734160" y="3178080"/>
              <a:ext cx="304920" cy="11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7039080" y="3135240"/>
              <a:ext cx="303120" cy="41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7342200" y="3017880"/>
              <a:ext cx="306360" cy="11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7648560" y="2658960"/>
              <a:ext cx="260280" cy="358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5208480" y="3452760"/>
              <a:ext cx="292320" cy="41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500800" y="3451320"/>
              <a:ext cx="304560" cy="71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5810400" y="3395520"/>
              <a:ext cx="299880" cy="127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6111720" y="2603520"/>
              <a:ext cx="303480" cy="789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415200" y="2600280"/>
              <a:ext cx="318960" cy="360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734160" y="2960640"/>
              <a:ext cx="304920" cy="374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039080" y="3335400"/>
              <a:ext cx="303120" cy="212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342200" y="3551400"/>
              <a:ext cx="306360" cy="31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648560" y="3868560"/>
              <a:ext cx="260280" cy="790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195880" y="34084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500800" y="340848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805360" y="34084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110280" y="3408480"/>
              <a:ext cx="304920" cy="804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6415200" y="3968640"/>
              <a:ext cx="318960" cy="244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6734160" y="3710160"/>
              <a:ext cx="304920" cy="258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7040520" y="3540240"/>
              <a:ext cx="301680" cy="168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7343640" y="3335400"/>
              <a:ext cx="304920" cy="201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7648560" y="2916360"/>
              <a:ext cx="260280" cy="419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861080" y="4919760"/>
              <a:ext cx="74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861080" y="4616280"/>
              <a:ext cx="74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861080" y="4314960"/>
              <a:ext cx="74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861080" y="4011480"/>
              <a:ext cx="74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861080" y="3708360"/>
              <a:ext cx="74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861080" y="3408480"/>
              <a:ext cx="74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861080" y="3105000"/>
              <a:ext cx="74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861080" y="2803680"/>
              <a:ext cx="74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861080" y="2500200"/>
              <a:ext cx="74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7850160" y="4919760"/>
              <a:ext cx="74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7850160" y="4616280"/>
              <a:ext cx="74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7850160" y="4314960"/>
              <a:ext cx="74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7850160" y="4011480"/>
              <a:ext cx="74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7850160" y="3708360"/>
              <a:ext cx="74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7850160" y="3408480"/>
              <a:ext cx="74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7850160" y="3105000"/>
              <a:ext cx="74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7850160" y="2803680"/>
              <a:ext cx="74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7850160" y="2500200"/>
              <a:ext cx="74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4861080" y="4848120"/>
              <a:ext cx="0" cy="71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5456160" y="4848120"/>
              <a:ext cx="0" cy="71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6081840" y="4848120"/>
              <a:ext cx="0" cy="71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6691320" y="4848120"/>
              <a:ext cx="0" cy="71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V="1">
              <a:off x="7315200" y="4848120"/>
              <a:ext cx="0" cy="71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V="1">
              <a:off x="7924680" y="4848120"/>
              <a:ext cx="0" cy="71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861080" y="2500200"/>
              <a:ext cx="0" cy="69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456160" y="2500200"/>
              <a:ext cx="0" cy="69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081840" y="2500200"/>
              <a:ext cx="0" cy="69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691320" y="2500200"/>
              <a:ext cx="0" cy="69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315200" y="2500200"/>
              <a:ext cx="0" cy="69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924680" y="2500200"/>
              <a:ext cx="0" cy="69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4861080" y="2500200"/>
              <a:ext cx="0" cy="2419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7924680" y="2500200"/>
              <a:ext cx="0" cy="2419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861080" y="4919760"/>
              <a:ext cx="3063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61080" y="2500200"/>
              <a:ext cx="3063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168880" y="3276720"/>
              <a:ext cx="85680" cy="87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759280" y="3247920"/>
              <a:ext cx="88920" cy="87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372360" y="3363840"/>
              <a:ext cx="85680" cy="87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996240" y="3147840"/>
              <a:ext cx="85680" cy="85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605720" y="2975040"/>
              <a:ext cx="85680" cy="87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168880" y="3451320"/>
              <a:ext cx="71640" cy="71640"/>
            </a:xfrm>
            <a:custGeom>
              <a:avLst/>
              <a:gdLst/>
              <a:ahLst/>
              <a:rect l="0" t="0" r="r" b="b"/>
              <a:pathLst>
                <a:path fill="none" w="199" h="199">
                  <a:moveTo>
                    <a:pt x="0" y="118"/>
                  </a:moveTo>
                  <a:lnTo>
                    <a:pt x="75" y="0"/>
                  </a:lnTo>
                  <a:lnTo>
                    <a:pt x="199" y="118"/>
                  </a:lnTo>
                  <a:lnTo>
                    <a:pt x="75" y="19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759280" y="3494160"/>
              <a:ext cx="74880" cy="70200"/>
            </a:xfrm>
            <a:custGeom>
              <a:avLst/>
              <a:gdLst/>
              <a:ahLst/>
              <a:rect l="0" t="0" r="r" b="b"/>
              <a:pathLst>
                <a:path fill="none" w="208" h="195">
                  <a:moveTo>
                    <a:pt x="0" y="78"/>
                  </a:moveTo>
                  <a:lnTo>
                    <a:pt x="129" y="0"/>
                  </a:lnTo>
                  <a:lnTo>
                    <a:pt x="208" y="78"/>
                  </a:lnTo>
                  <a:lnTo>
                    <a:pt x="129" y="19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372360" y="2557440"/>
              <a:ext cx="71640" cy="86040"/>
            </a:xfrm>
            <a:custGeom>
              <a:avLst/>
              <a:gdLst/>
              <a:ahLst/>
              <a:rect l="0" t="0" r="r" b="b"/>
              <a:pathLst>
                <a:path fill="none" w="199" h="239">
                  <a:moveTo>
                    <a:pt x="0" y="120"/>
                  </a:moveTo>
                  <a:lnTo>
                    <a:pt x="118" y="0"/>
                  </a:lnTo>
                  <a:lnTo>
                    <a:pt x="199" y="120"/>
                  </a:lnTo>
                  <a:lnTo>
                    <a:pt x="118" y="23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996240" y="3292560"/>
              <a:ext cx="71640" cy="86040"/>
            </a:xfrm>
            <a:custGeom>
              <a:avLst/>
              <a:gdLst/>
              <a:ahLst/>
              <a:rect l="0" t="0" r="r" b="b"/>
              <a:pathLst>
                <a:path fill="none" w="199" h="239">
                  <a:moveTo>
                    <a:pt x="0" y="120"/>
                  </a:moveTo>
                  <a:lnTo>
                    <a:pt x="118" y="0"/>
                  </a:lnTo>
                  <a:lnTo>
                    <a:pt x="199" y="120"/>
                  </a:lnTo>
                  <a:lnTo>
                    <a:pt x="118" y="23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605720" y="3825720"/>
              <a:ext cx="71640" cy="71640"/>
            </a:xfrm>
            <a:custGeom>
              <a:avLst/>
              <a:gdLst/>
              <a:ahLst/>
              <a:rect l="0" t="0" r="r" b="b"/>
              <a:pathLst>
                <a:path fill="none" w="199" h="199">
                  <a:moveTo>
                    <a:pt x="0" y="118"/>
                  </a:moveTo>
                  <a:lnTo>
                    <a:pt x="118" y="0"/>
                  </a:lnTo>
                  <a:lnTo>
                    <a:pt x="199" y="118"/>
                  </a:lnTo>
                  <a:lnTo>
                    <a:pt x="118" y="19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168880" y="3363840"/>
              <a:ext cx="71640" cy="73440"/>
            </a:xfrm>
            <a:custGeom>
              <a:avLst/>
              <a:gdLst/>
              <a:ahLst/>
              <a:rect l="0" t="0" r="r" b="b"/>
              <a:pathLst>
                <a:path w="199" h="204">
                  <a:moveTo>
                    <a:pt x="0" y="204"/>
                  </a:moveTo>
                  <a:lnTo>
                    <a:pt x="75" y="0"/>
                  </a:lnTo>
                  <a:lnTo>
                    <a:pt x="199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168880" y="3363840"/>
              <a:ext cx="71640" cy="73440"/>
            </a:xfrm>
            <a:custGeom>
              <a:avLst/>
              <a:gdLst/>
              <a:ahLst/>
              <a:rect l="0" t="0" r="r" b="b"/>
              <a:pathLst>
                <a:path fill="none" w="199" h="204">
                  <a:moveTo>
                    <a:pt x="0" y="204"/>
                  </a:moveTo>
                  <a:lnTo>
                    <a:pt x="75" y="0"/>
                  </a:lnTo>
                  <a:lnTo>
                    <a:pt x="199" y="20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759280" y="3363840"/>
              <a:ext cx="74880" cy="73440"/>
            </a:xfrm>
            <a:custGeom>
              <a:avLst/>
              <a:gdLst/>
              <a:ahLst/>
              <a:rect l="0" t="0" r="r" b="b"/>
              <a:pathLst>
                <a:path w="208" h="204">
                  <a:moveTo>
                    <a:pt x="0" y="204"/>
                  </a:moveTo>
                  <a:lnTo>
                    <a:pt x="129" y="0"/>
                  </a:lnTo>
                  <a:lnTo>
                    <a:pt x="208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759280" y="3363840"/>
              <a:ext cx="74880" cy="73440"/>
            </a:xfrm>
            <a:custGeom>
              <a:avLst/>
              <a:gdLst/>
              <a:ahLst/>
              <a:rect l="0" t="0" r="r" b="b"/>
              <a:pathLst>
                <a:path fill="none" w="208" h="204">
                  <a:moveTo>
                    <a:pt x="0" y="204"/>
                  </a:moveTo>
                  <a:lnTo>
                    <a:pt x="129" y="0"/>
                  </a:lnTo>
                  <a:lnTo>
                    <a:pt x="208" y="20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372360" y="4170240"/>
              <a:ext cx="71640" cy="86040"/>
            </a:xfrm>
            <a:custGeom>
              <a:avLst/>
              <a:gdLst/>
              <a:ahLst/>
              <a:rect l="0" t="0" r="r" b="b"/>
              <a:pathLst>
                <a:path w="199" h="239">
                  <a:moveTo>
                    <a:pt x="0" y="239"/>
                  </a:moveTo>
                  <a:lnTo>
                    <a:pt x="118" y="0"/>
                  </a:lnTo>
                  <a:lnTo>
                    <a:pt x="199" y="23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372360" y="4170240"/>
              <a:ext cx="71640" cy="86040"/>
            </a:xfrm>
            <a:custGeom>
              <a:avLst/>
              <a:gdLst/>
              <a:ahLst/>
              <a:rect l="0" t="0" r="r" b="b"/>
              <a:pathLst>
                <a:path fill="none" w="199" h="239">
                  <a:moveTo>
                    <a:pt x="0" y="239"/>
                  </a:moveTo>
                  <a:lnTo>
                    <a:pt x="118" y="0"/>
                  </a:lnTo>
                  <a:lnTo>
                    <a:pt x="199" y="23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96240" y="3665520"/>
              <a:ext cx="71640" cy="89280"/>
            </a:xfrm>
            <a:custGeom>
              <a:avLst/>
              <a:gdLst/>
              <a:ahLst/>
              <a:rect l="0" t="0" r="r" b="b"/>
              <a:pathLst>
                <a:path w="199" h="248">
                  <a:moveTo>
                    <a:pt x="0" y="248"/>
                  </a:moveTo>
                  <a:lnTo>
                    <a:pt x="118" y="0"/>
                  </a:lnTo>
                  <a:lnTo>
                    <a:pt x="199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996240" y="3665520"/>
              <a:ext cx="71640" cy="89280"/>
            </a:xfrm>
            <a:custGeom>
              <a:avLst/>
              <a:gdLst/>
              <a:ahLst/>
              <a:rect l="0" t="0" r="r" b="b"/>
              <a:pathLst>
                <a:path fill="none" w="199" h="248">
                  <a:moveTo>
                    <a:pt x="0" y="248"/>
                  </a:moveTo>
                  <a:lnTo>
                    <a:pt x="118" y="0"/>
                  </a:lnTo>
                  <a:lnTo>
                    <a:pt x="199" y="24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605720" y="3292560"/>
              <a:ext cx="71640" cy="86040"/>
            </a:xfrm>
            <a:custGeom>
              <a:avLst/>
              <a:gdLst/>
              <a:ahLst/>
              <a:rect l="0" t="0" r="r" b="b"/>
              <a:pathLst>
                <a:path w="199" h="239">
                  <a:moveTo>
                    <a:pt x="0" y="239"/>
                  </a:moveTo>
                  <a:lnTo>
                    <a:pt x="118" y="0"/>
                  </a:lnTo>
                  <a:lnTo>
                    <a:pt x="199" y="23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605720" y="3292560"/>
              <a:ext cx="71640" cy="86040"/>
            </a:xfrm>
            <a:custGeom>
              <a:avLst/>
              <a:gdLst/>
              <a:ahLst/>
              <a:rect l="0" t="0" r="r" b="b"/>
              <a:pathLst>
                <a:path fill="none" w="199" h="239">
                  <a:moveTo>
                    <a:pt x="0" y="239"/>
                  </a:moveTo>
                  <a:lnTo>
                    <a:pt x="118" y="0"/>
                  </a:lnTo>
                  <a:lnTo>
                    <a:pt x="199" y="23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 txBox="1"/>
            <p:nvPr/>
          </p:nvSpPr>
          <p:spPr>
            <a:xfrm>
              <a:off x="4299120" y="4809960"/>
              <a:ext cx="4507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1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 txBox="1"/>
            <p:nvPr/>
          </p:nvSpPr>
          <p:spPr>
            <a:xfrm>
              <a:off x="4370400" y="4506840"/>
              <a:ext cx="3938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8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 txBox="1"/>
            <p:nvPr/>
          </p:nvSpPr>
          <p:spPr>
            <a:xfrm>
              <a:off x="4370400" y="4205160"/>
              <a:ext cx="3938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6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 txBox="1"/>
            <p:nvPr/>
          </p:nvSpPr>
          <p:spPr>
            <a:xfrm>
              <a:off x="4370400" y="3900600"/>
              <a:ext cx="3938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4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 txBox="1"/>
            <p:nvPr/>
          </p:nvSpPr>
          <p:spPr>
            <a:xfrm>
              <a:off x="4370400" y="3597120"/>
              <a:ext cx="3938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2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 txBox="1"/>
            <p:nvPr/>
          </p:nvSpPr>
          <p:spPr>
            <a:xfrm>
              <a:off x="4559400" y="3281400"/>
              <a:ext cx="2541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 txBox="1"/>
            <p:nvPr/>
          </p:nvSpPr>
          <p:spPr>
            <a:xfrm>
              <a:off x="4413240" y="2992320"/>
              <a:ext cx="3556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 txBox="1"/>
            <p:nvPr/>
          </p:nvSpPr>
          <p:spPr>
            <a:xfrm>
              <a:off x="4413240" y="2692440"/>
              <a:ext cx="3556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 txBox="1"/>
            <p:nvPr/>
          </p:nvSpPr>
          <p:spPr>
            <a:xfrm>
              <a:off x="4413240" y="2389320"/>
              <a:ext cx="3556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 txBox="1"/>
            <p:nvPr/>
          </p:nvSpPr>
          <p:spPr>
            <a:xfrm>
              <a:off x="4705200" y="5008680"/>
              <a:ext cx="2541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 txBox="1"/>
            <p:nvPr/>
          </p:nvSpPr>
          <p:spPr>
            <a:xfrm>
              <a:off x="5256360" y="500868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 txBox="1"/>
            <p:nvPr/>
          </p:nvSpPr>
          <p:spPr>
            <a:xfrm>
              <a:off x="5880240" y="500868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 txBox="1"/>
            <p:nvPr/>
          </p:nvSpPr>
          <p:spPr>
            <a:xfrm>
              <a:off x="6475320" y="500868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 txBox="1"/>
            <p:nvPr/>
          </p:nvSpPr>
          <p:spPr>
            <a:xfrm>
              <a:off x="7099200" y="500868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 txBox="1"/>
            <p:nvPr/>
          </p:nvSpPr>
          <p:spPr>
            <a:xfrm>
              <a:off x="7765920" y="5008680"/>
              <a:ext cx="2541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 txBox="1"/>
            <p:nvPr/>
          </p:nvSpPr>
          <p:spPr>
            <a:xfrm>
              <a:off x="5807160" y="5183280"/>
              <a:ext cx="10810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tch Time, h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 txBox="1"/>
            <p:nvPr/>
          </p:nvSpPr>
          <p:spPr>
            <a:xfrm>
              <a:off x="6184800" y="5456160"/>
              <a:ext cx="3477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"/>
          <p:cNvSpPr txBox="1"/>
          <p:nvPr/>
        </p:nvSpPr>
        <p:spPr>
          <a:xfrm>
            <a:off x="3041640" y="6130800"/>
            <a:ext cx="2739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10 % Holdup on 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1827360" y="1879560"/>
            <a:ext cx="1779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iff Integ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5481720" y="1916280"/>
            <a:ext cx="2330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on-Stiff Integ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Numerical Integration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27000" y="2263680"/>
            <a:ext cx="8344080" cy="2871720"/>
            <a:chOff x="27000" y="2263680"/>
            <a:chExt cx="8344080" cy="2871720"/>
          </a:xfrm>
        </p:grpSpPr>
        <p:sp>
          <p:nvSpPr>
            <p:cNvPr id="1612" name=""/>
            <p:cNvSpPr/>
            <p:nvPr/>
          </p:nvSpPr>
          <p:spPr>
            <a:xfrm>
              <a:off x="1546200" y="3186000"/>
              <a:ext cx="120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666800" y="318600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785960" y="3186000"/>
              <a:ext cx="135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920960" y="318600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039760" y="3186000"/>
              <a:ext cx="115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155680" y="3186000"/>
              <a:ext cx="136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292480" y="3186000"/>
              <a:ext cx="133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425680" y="318600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544840" y="318600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664000" y="3186000"/>
              <a:ext cx="136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800440" y="3186000"/>
              <a:ext cx="115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916360" y="318600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035160" y="3186000"/>
              <a:ext cx="120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156120" y="3186000"/>
              <a:ext cx="131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287880" y="3186000"/>
              <a:ext cx="120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408480" y="3186000"/>
              <a:ext cx="120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529080" y="3186000"/>
              <a:ext cx="133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662280" y="3186000"/>
              <a:ext cx="117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80000" y="3186000"/>
              <a:ext cx="134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914640" y="318600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033800" y="3186000"/>
              <a:ext cx="135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168800" y="318600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287960" y="318600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546200" y="4121280"/>
              <a:ext cx="120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666800" y="41212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785960" y="4121280"/>
              <a:ext cx="135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920960" y="412128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039760" y="4121280"/>
              <a:ext cx="115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155680" y="4121280"/>
              <a:ext cx="136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292480" y="4121280"/>
              <a:ext cx="133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425680" y="41212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44840" y="41212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664000" y="4121280"/>
              <a:ext cx="136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800440" y="4121280"/>
              <a:ext cx="115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916360" y="412128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035160" y="4121280"/>
              <a:ext cx="120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156120" y="4121280"/>
              <a:ext cx="131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287880" y="4121280"/>
              <a:ext cx="120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408480" y="4121280"/>
              <a:ext cx="120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529080" y="4121280"/>
              <a:ext cx="133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662280" y="4121280"/>
              <a:ext cx="117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780000" y="4121280"/>
              <a:ext cx="134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914640" y="41212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033800" y="4121280"/>
              <a:ext cx="135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168800" y="41212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287960" y="412128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546200" y="4356000"/>
              <a:ext cx="120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666800" y="435600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785960" y="4356000"/>
              <a:ext cx="135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920960" y="435600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039760" y="4356000"/>
              <a:ext cx="115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155680" y="4356000"/>
              <a:ext cx="136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292480" y="4356000"/>
              <a:ext cx="133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425680" y="435600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544840" y="435600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664000" y="4356000"/>
              <a:ext cx="136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800440" y="4356000"/>
              <a:ext cx="115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916360" y="435600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035160" y="4356000"/>
              <a:ext cx="120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156120" y="4356000"/>
              <a:ext cx="131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287880" y="4356000"/>
              <a:ext cx="120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408480" y="4356000"/>
              <a:ext cx="120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529080" y="4356000"/>
              <a:ext cx="133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662280" y="4356000"/>
              <a:ext cx="117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780000" y="4356000"/>
              <a:ext cx="134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914640" y="435600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033800" y="4356000"/>
              <a:ext cx="135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168800" y="435600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287960" y="435600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427040" y="463860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427040" y="417816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427040" y="374184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427040" y="328140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427040" y="284472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427040" y="239544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4451400" y="4638600"/>
              <a:ext cx="73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4451400" y="4178160"/>
              <a:ext cx="73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>
              <a:off x="4451400" y="3741840"/>
              <a:ext cx="73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4451400" y="3281400"/>
              <a:ext cx="73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4451400" y="2844720"/>
              <a:ext cx="73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>
              <a:off x="4451400" y="2395440"/>
              <a:ext cx="73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V="1">
              <a:off x="1427040" y="455760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2039760" y="455760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V="1">
              <a:off x="2664000" y="455760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V="1">
              <a:off x="3287880" y="455760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V="1">
              <a:off x="3914640" y="455760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4524480" y="455760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427040" y="2395440"/>
              <a:ext cx="0" cy="6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039760" y="2395440"/>
              <a:ext cx="0" cy="6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664000" y="2395440"/>
              <a:ext cx="0" cy="6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287880" y="2395440"/>
              <a:ext cx="0" cy="6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914640" y="2395440"/>
              <a:ext cx="0" cy="6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524480" y="2395440"/>
              <a:ext cx="0" cy="6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1427040" y="2395440"/>
              <a:ext cx="0" cy="2243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4524480" y="2395440"/>
              <a:ext cx="0" cy="2243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427040" y="4638600"/>
              <a:ext cx="3097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427040" y="2395440"/>
              <a:ext cx="3097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503360" y="3143160"/>
              <a:ext cx="889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635120" y="3143160"/>
              <a:ext cx="9216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754280" y="3143160"/>
              <a:ext cx="889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874880" y="3143160"/>
              <a:ext cx="8748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008080" y="3143160"/>
              <a:ext cx="889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127240" y="3143160"/>
              <a:ext cx="9036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262240" y="3143160"/>
              <a:ext cx="8748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379600" y="3143160"/>
              <a:ext cx="889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514600" y="3143160"/>
              <a:ext cx="889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635200" y="3143160"/>
              <a:ext cx="8748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754360" y="3143160"/>
              <a:ext cx="8748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873520" y="3143160"/>
              <a:ext cx="8748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008160" y="3143160"/>
              <a:ext cx="8748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127320" y="3143160"/>
              <a:ext cx="889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244680" y="3143160"/>
              <a:ext cx="9036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379680" y="3143160"/>
              <a:ext cx="8748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498840" y="3143160"/>
              <a:ext cx="8748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616200" y="3143160"/>
              <a:ext cx="889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735360" y="3143160"/>
              <a:ext cx="889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884760" y="3143160"/>
              <a:ext cx="889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003560" y="3143160"/>
              <a:ext cx="9036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121280" y="3143160"/>
              <a:ext cx="9036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241880" y="3143160"/>
              <a:ext cx="889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376880" y="3143160"/>
              <a:ext cx="9036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503360" y="4083120"/>
              <a:ext cx="73440" cy="81360"/>
            </a:xfrm>
            <a:custGeom>
              <a:avLst/>
              <a:gdLst/>
              <a:ahLst/>
              <a:rect l="0" t="0" r="r" b="b"/>
              <a:pathLst>
                <a:path w="204" h="226">
                  <a:moveTo>
                    <a:pt x="0" y="110"/>
                  </a:moveTo>
                  <a:lnTo>
                    <a:pt x="121" y="0"/>
                  </a:lnTo>
                  <a:lnTo>
                    <a:pt x="204" y="110"/>
                  </a:lnTo>
                  <a:lnTo>
                    <a:pt x="121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503360" y="4083120"/>
              <a:ext cx="73440" cy="66960"/>
            </a:xfrm>
            <a:custGeom>
              <a:avLst/>
              <a:gdLst/>
              <a:ahLst/>
              <a:rect l="0" t="0" r="r" b="b"/>
              <a:pathLst>
                <a:path fill="none" w="204" h="186">
                  <a:moveTo>
                    <a:pt x="0" y="75"/>
                  </a:moveTo>
                  <a:lnTo>
                    <a:pt x="121" y="0"/>
                  </a:lnTo>
                  <a:lnTo>
                    <a:pt x="204" y="75"/>
                  </a:lnTo>
                  <a:lnTo>
                    <a:pt x="121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635120" y="4083120"/>
              <a:ext cx="76680" cy="81360"/>
            </a:xfrm>
            <a:custGeom>
              <a:avLst/>
              <a:gdLst/>
              <a:ahLst/>
              <a:rect l="0" t="0" r="r" b="b"/>
              <a:pathLst>
                <a:path w="213" h="226">
                  <a:moveTo>
                    <a:pt x="0" y="110"/>
                  </a:moveTo>
                  <a:lnTo>
                    <a:pt x="86" y="0"/>
                  </a:lnTo>
                  <a:lnTo>
                    <a:pt x="213" y="110"/>
                  </a:lnTo>
                  <a:lnTo>
                    <a:pt x="86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620720" y="4083120"/>
              <a:ext cx="74880" cy="66960"/>
            </a:xfrm>
            <a:custGeom>
              <a:avLst/>
              <a:gdLst/>
              <a:ahLst/>
              <a:rect l="0" t="0" r="r" b="b"/>
              <a:pathLst>
                <a:path fill="none" w="208" h="186">
                  <a:moveTo>
                    <a:pt x="0" y="75"/>
                  </a:moveTo>
                  <a:lnTo>
                    <a:pt x="124" y="0"/>
                  </a:lnTo>
                  <a:lnTo>
                    <a:pt x="208" y="75"/>
                  </a:lnTo>
                  <a:lnTo>
                    <a:pt x="124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754280" y="4083120"/>
              <a:ext cx="74880" cy="81360"/>
            </a:xfrm>
            <a:custGeom>
              <a:avLst/>
              <a:gdLst/>
              <a:ahLst/>
              <a:rect l="0" t="0" r="r" b="b"/>
              <a:pathLst>
                <a:path w="208" h="226">
                  <a:moveTo>
                    <a:pt x="0" y="110"/>
                  </a:moveTo>
                  <a:lnTo>
                    <a:pt x="84" y="0"/>
                  </a:lnTo>
                  <a:lnTo>
                    <a:pt x="208" y="110"/>
                  </a:lnTo>
                  <a:lnTo>
                    <a:pt x="84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754280" y="4083120"/>
              <a:ext cx="74880" cy="66960"/>
            </a:xfrm>
            <a:custGeom>
              <a:avLst/>
              <a:gdLst/>
              <a:ahLst/>
              <a:rect l="0" t="0" r="r" b="b"/>
              <a:pathLst>
                <a:path fill="none" w="208" h="186">
                  <a:moveTo>
                    <a:pt x="0" y="75"/>
                  </a:moveTo>
                  <a:lnTo>
                    <a:pt x="84" y="0"/>
                  </a:lnTo>
                  <a:lnTo>
                    <a:pt x="208" y="75"/>
                  </a:lnTo>
                  <a:lnTo>
                    <a:pt x="84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874880" y="4083120"/>
              <a:ext cx="73440" cy="81360"/>
            </a:xfrm>
            <a:custGeom>
              <a:avLst/>
              <a:gdLst/>
              <a:ahLst/>
              <a:rect l="0" t="0" r="r" b="b"/>
              <a:pathLst>
                <a:path w="204" h="226">
                  <a:moveTo>
                    <a:pt x="0" y="110"/>
                  </a:moveTo>
                  <a:lnTo>
                    <a:pt x="124" y="0"/>
                  </a:lnTo>
                  <a:lnTo>
                    <a:pt x="204" y="110"/>
                  </a:lnTo>
                  <a:lnTo>
                    <a:pt x="124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874880" y="4083120"/>
              <a:ext cx="73440" cy="66960"/>
            </a:xfrm>
            <a:custGeom>
              <a:avLst/>
              <a:gdLst/>
              <a:ahLst/>
              <a:rect l="0" t="0" r="r" b="b"/>
              <a:pathLst>
                <a:path fill="none" w="204" h="186">
                  <a:moveTo>
                    <a:pt x="0" y="75"/>
                  </a:moveTo>
                  <a:lnTo>
                    <a:pt x="79" y="0"/>
                  </a:lnTo>
                  <a:lnTo>
                    <a:pt x="204" y="75"/>
                  </a:lnTo>
                  <a:lnTo>
                    <a:pt x="79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008080" y="4083120"/>
              <a:ext cx="73440" cy="81360"/>
            </a:xfrm>
            <a:custGeom>
              <a:avLst/>
              <a:gdLst/>
              <a:ahLst/>
              <a:rect l="0" t="0" r="r" b="b"/>
              <a:pathLst>
                <a:path w="204" h="226">
                  <a:moveTo>
                    <a:pt x="0" y="110"/>
                  </a:moveTo>
                  <a:lnTo>
                    <a:pt x="83" y="0"/>
                  </a:lnTo>
                  <a:lnTo>
                    <a:pt x="204" y="110"/>
                  </a:lnTo>
                  <a:lnTo>
                    <a:pt x="83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994040" y="4083120"/>
              <a:ext cx="74880" cy="66960"/>
            </a:xfrm>
            <a:custGeom>
              <a:avLst/>
              <a:gdLst/>
              <a:ahLst/>
              <a:rect l="0" t="0" r="r" b="b"/>
              <a:pathLst>
                <a:path fill="none" w="208" h="186">
                  <a:moveTo>
                    <a:pt x="0" y="75"/>
                  </a:moveTo>
                  <a:lnTo>
                    <a:pt x="124" y="0"/>
                  </a:lnTo>
                  <a:lnTo>
                    <a:pt x="208" y="75"/>
                  </a:lnTo>
                  <a:lnTo>
                    <a:pt x="124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127240" y="4083120"/>
              <a:ext cx="73440" cy="81360"/>
            </a:xfrm>
            <a:custGeom>
              <a:avLst/>
              <a:gdLst/>
              <a:ahLst/>
              <a:rect l="0" t="0" r="r" b="b"/>
              <a:pathLst>
                <a:path w="204" h="226">
                  <a:moveTo>
                    <a:pt x="0" y="110"/>
                  </a:moveTo>
                  <a:lnTo>
                    <a:pt x="83" y="0"/>
                  </a:lnTo>
                  <a:lnTo>
                    <a:pt x="204" y="110"/>
                  </a:lnTo>
                  <a:lnTo>
                    <a:pt x="83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112840" y="4083120"/>
              <a:ext cx="74880" cy="66960"/>
            </a:xfrm>
            <a:custGeom>
              <a:avLst/>
              <a:gdLst/>
              <a:ahLst/>
              <a:rect l="0" t="0" r="r" b="b"/>
              <a:pathLst>
                <a:path fill="none" w="208" h="186">
                  <a:moveTo>
                    <a:pt x="0" y="75"/>
                  </a:moveTo>
                  <a:lnTo>
                    <a:pt x="124" y="0"/>
                  </a:lnTo>
                  <a:lnTo>
                    <a:pt x="208" y="75"/>
                  </a:lnTo>
                  <a:lnTo>
                    <a:pt x="124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262240" y="4083120"/>
              <a:ext cx="74880" cy="81360"/>
            </a:xfrm>
            <a:custGeom>
              <a:avLst/>
              <a:gdLst/>
              <a:ahLst/>
              <a:rect l="0" t="0" r="r" b="b"/>
              <a:pathLst>
                <a:path w="208" h="226">
                  <a:moveTo>
                    <a:pt x="0" y="110"/>
                  </a:moveTo>
                  <a:lnTo>
                    <a:pt x="84" y="0"/>
                  </a:lnTo>
                  <a:lnTo>
                    <a:pt x="208" y="110"/>
                  </a:lnTo>
                  <a:lnTo>
                    <a:pt x="84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262240" y="4083120"/>
              <a:ext cx="74880" cy="66960"/>
            </a:xfrm>
            <a:custGeom>
              <a:avLst/>
              <a:gdLst/>
              <a:ahLst/>
              <a:rect l="0" t="0" r="r" b="b"/>
              <a:pathLst>
                <a:path fill="none" w="208" h="186">
                  <a:moveTo>
                    <a:pt x="0" y="75"/>
                  </a:moveTo>
                  <a:lnTo>
                    <a:pt x="84" y="0"/>
                  </a:lnTo>
                  <a:lnTo>
                    <a:pt x="208" y="75"/>
                  </a:lnTo>
                  <a:lnTo>
                    <a:pt x="84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379600" y="4083120"/>
              <a:ext cx="76680" cy="81360"/>
            </a:xfrm>
            <a:custGeom>
              <a:avLst/>
              <a:gdLst/>
              <a:ahLst/>
              <a:rect l="0" t="0" r="r" b="b"/>
              <a:pathLst>
                <a:path w="213" h="226">
                  <a:moveTo>
                    <a:pt x="0" y="110"/>
                  </a:moveTo>
                  <a:lnTo>
                    <a:pt x="126" y="0"/>
                  </a:lnTo>
                  <a:lnTo>
                    <a:pt x="213" y="110"/>
                  </a:lnTo>
                  <a:lnTo>
                    <a:pt x="126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379600" y="4083120"/>
              <a:ext cx="76680" cy="66960"/>
            </a:xfrm>
            <a:custGeom>
              <a:avLst/>
              <a:gdLst/>
              <a:ahLst/>
              <a:rect l="0" t="0" r="r" b="b"/>
              <a:pathLst>
                <a:path fill="none" w="213" h="186">
                  <a:moveTo>
                    <a:pt x="0" y="75"/>
                  </a:moveTo>
                  <a:lnTo>
                    <a:pt x="86" y="0"/>
                  </a:lnTo>
                  <a:lnTo>
                    <a:pt x="213" y="75"/>
                  </a:lnTo>
                  <a:lnTo>
                    <a:pt x="86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14600" y="4083120"/>
              <a:ext cx="76680" cy="81360"/>
            </a:xfrm>
            <a:custGeom>
              <a:avLst/>
              <a:gdLst/>
              <a:ahLst/>
              <a:rect l="0" t="0" r="r" b="b"/>
              <a:pathLst>
                <a:path w="213" h="226">
                  <a:moveTo>
                    <a:pt x="0" y="110"/>
                  </a:moveTo>
                  <a:lnTo>
                    <a:pt x="81" y="0"/>
                  </a:lnTo>
                  <a:lnTo>
                    <a:pt x="213" y="110"/>
                  </a:lnTo>
                  <a:lnTo>
                    <a:pt x="81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498760" y="4083120"/>
              <a:ext cx="76680" cy="66960"/>
            </a:xfrm>
            <a:custGeom>
              <a:avLst/>
              <a:gdLst/>
              <a:ahLst/>
              <a:rect l="0" t="0" r="r" b="b"/>
              <a:pathLst>
                <a:path fill="none" w="213" h="186">
                  <a:moveTo>
                    <a:pt x="0" y="75"/>
                  </a:moveTo>
                  <a:lnTo>
                    <a:pt x="126" y="0"/>
                  </a:lnTo>
                  <a:lnTo>
                    <a:pt x="213" y="75"/>
                  </a:lnTo>
                  <a:lnTo>
                    <a:pt x="126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635200" y="4083120"/>
              <a:ext cx="73440" cy="81360"/>
            </a:xfrm>
            <a:custGeom>
              <a:avLst/>
              <a:gdLst/>
              <a:ahLst/>
              <a:rect l="0" t="0" r="r" b="b"/>
              <a:pathLst>
                <a:path w="204" h="226">
                  <a:moveTo>
                    <a:pt x="0" y="110"/>
                  </a:moveTo>
                  <a:lnTo>
                    <a:pt x="83" y="0"/>
                  </a:lnTo>
                  <a:lnTo>
                    <a:pt x="204" y="110"/>
                  </a:lnTo>
                  <a:lnTo>
                    <a:pt x="83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619360" y="4083120"/>
              <a:ext cx="73440" cy="66960"/>
            </a:xfrm>
            <a:custGeom>
              <a:avLst/>
              <a:gdLst/>
              <a:ahLst/>
              <a:rect l="0" t="0" r="r" b="b"/>
              <a:pathLst>
                <a:path fill="none" w="204" h="186">
                  <a:moveTo>
                    <a:pt x="0" y="75"/>
                  </a:moveTo>
                  <a:lnTo>
                    <a:pt x="127" y="0"/>
                  </a:lnTo>
                  <a:lnTo>
                    <a:pt x="204" y="75"/>
                  </a:lnTo>
                  <a:lnTo>
                    <a:pt x="127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754360" y="4083120"/>
              <a:ext cx="74880" cy="81360"/>
            </a:xfrm>
            <a:custGeom>
              <a:avLst/>
              <a:gdLst/>
              <a:ahLst/>
              <a:rect l="0" t="0" r="r" b="b"/>
              <a:pathLst>
                <a:path w="208" h="226">
                  <a:moveTo>
                    <a:pt x="0" y="110"/>
                  </a:moveTo>
                  <a:lnTo>
                    <a:pt x="124" y="0"/>
                  </a:lnTo>
                  <a:lnTo>
                    <a:pt x="208" y="110"/>
                  </a:lnTo>
                  <a:lnTo>
                    <a:pt x="124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754360" y="4083120"/>
              <a:ext cx="74880" cy="66960"/>
            </a:xfrm>
            <a:custGeom>
              <a:avLst/>
              <a:gdLst/>
              <a:ahLst/>
              <a:rect l="0" t="0" r="r" b="b"/>
              <a:pathLst>
                <a:path fill="none" w="208" h="186">
                  <a:moveTo>
                    <a:pt x="0" y="75"/>
                  </a:moveTo>
                  <a:lnTo>
                    <a:pt x="84" y="0"/>
                  </a:lnTo>
                  <a:lnTo>
                    <a:pt x="208" y="75"/>
                  </a:lnTo>
                  <a:lnTo>
                    <a:pt x="84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873520" y="4083120"/>
              <a:ext cx="74880" cy="81360"/>
            </a:xfrm>
            <a:custGeom>
              <a:avLst/>
              <a:gdLst/>
              <a:ahLst/>
              <a:rect l="0" t="0" r="r" b="b"/>
              <a:pathLst>
                <a:path w="208" h="226">
                  <a:moveTo>
                    <a:pt x="0" y="110"/>
                  </a:moveTo>
                  <a:lnTo>
                    <a:pt x="124" y="0"/>
                  </a:lnTo>
                  <a:lnTo>
                    <a:pt x="208" y="110"/>
                  </a:lnTo>
                  <a:lnTo>
                    <a:pt x="124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873520" y="4083120"/>
              <a:ext cx="74880" cy="66960"/>
            </a:xfrm>
            <a:custGeom>
              <a:avLst/>
              <a:gdLst/>
              <a:ahLst/>
              <a:rect l="0" t="0" r="r" b="b"/>
              <a:pathLst>
                <a:path fill="none" w="208" h="186">
                  <a:moveTo>
                    <a:pt x="0" y="75"/>
                  </a:moveTo>
                  <a:lnTo>
                    <a:pt x="84" y="0"/>
                  </a:lnTo>
                  <a:lnTo>
                    <a:pt x="208" y="75"/>
                  </a:lnTo>
                  <a:lnTo>
                    <a:pt x="84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008160" y="4083120"/>
              <a:ext cx="73440" cy="81360"/>
            </a:xfrm>
            <a:custGeom>
              <a:avLst/>
              <a:gdLst/>
              <a:ahLst/>
              <a:rect l="0" t="0" r="r" b="b"/>
              <a:pathLst>
                <a:path w="204" h="226">
                  <a:moveTo>
                    <a:pt x="0" y="110"/>
                  </a:moveTo>
                  <a:lnTo>
                    <a:pt x="77" y="0"/>
                  </a:lnTo>
                  <a:lnTo>
                    <a:pt x="204" y="110"/>
                  </a:lnTo>
                  <a:lnTo>
                    <a:pt x="77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992320" y="4083120"/>
              <a:ext cx="74880" cy="66960"/>
            </a:xfrm>
            <a:custGeom>
              <a:avLst/>
              <a:gdLst/>
              <a:ahLst/>
              <a:rect l="0" t="0" r="r" b="b"/>
              <a:pathLst>
                <a:path fill="none" w="208" h="186">
                  <a:moveTo>
                    <a:pt x="0" y="75"/>
                  </a:moveTo>
                  <a:lnTo>
                    <a:pt x="124" y="0"/>
                  </a:lnTo>
                  <a:lnTo>
                    <a:pt x="208" y="75"/>
                  </a:lnTo>
                  <a:lnTo>
                    <a:pt x="124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127320" y="4083120"/>
              <a:ext cx="73440" cy="81360"/>
            </a:xfrm>
            <a:custGeom>
              <a:avLst/>
              <a:gdLst/>
              <a:ahLst/>
              <a:rect l="0" t="0" r="r" b="b"/>
              <a:pathLst>
                <a:path w="204" h="226">
                  <a:moveTo>
                    <a:pt x="0" y="110"/>
                  </a:moveTo>
                  <a:lnTo>
                    <a:pt x="83" y="0"/>
                  </a:lnTo>
                  <a:lnTo>
                    <a:pt x="204" y="110"/>
                  </a:lnTo>
                  <a:lnTo>
                    <a:pt x="83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127320" y="4083120"/>
              <a:ext cx="73440" cy="66960"/>
            </a:xfrm>
            <a:custGeom>
              <a:avLst/>
              <a:gdLst/>
              <a:ahLst/>
              <a:rect l="0" t="0" r="r" b="b"/>
              <a:pathLst>
                <a:path fill="none" w="204" h="186">
                  <a:moveTo>
                    <a:pt x="0" y="75"/>
                  </a:moveTo>
                  <a:lnTo>
                    <a:pt x="83" y="0"/>
                  </a:lnTo>
                  <a:lnTo>
                    <a:pt x="204" y="75"/>
                  </a:lnTo>
                  <a:lnTo>
                    <a:pt x="83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244680" y="4083120"/>
              <a:ext cx="74880" cy="81360"/>
            </a:xfrm>
            <a:custGeom>
              <a:avLst/>
              <a:gdLst/>
              <a:ahLst/>
              <a:rect l="0" t="0" r="r" b="b"/>
              <a:pathLst>
                <a:path w="208" h="226">
                  <a:moveTo>
                    <a:pt x="0" y="110"/>
                  </a:moveTo>
                  <a:lnTo>
                    <a:pt x="124" y="0"/>
                  </a:lnTo>
                  <a:lnTo>
                    <a:pt x="208" y="110"/>
                  </a:lnTo>
                  <a:lnTo>
                    <a:pt x="124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244680" y="4083120"/>
              <a:ext cx="74880" cy="66960"/>
            </a:xfrm>
            <a:custGeom>
              <a:avLst/>
              <a:gdLst/>
              <a:ahLst/>
              <a:rect l="0" t="0" r="r" b="b"/>
              <a:pathLst>
                <a:path fill="none" w="208" h="186">
                  <a:moveTo>
                    <a:pt x="0" y="75"/>
                  </a:moveTo>
                  <a:lnTo>
                    <a:pt x="84" y="0"/>
                  </a:lnTo>
                  <a:lnTo>
                    <a:pt x="208" y="75"/>
                  </a:lnTo>
                  <a:lnTo>
                    <a:pt x="84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379680" y="4083120"/>
              <a:ext cx="76680" cy="81360"/>
            </a:xfrm>
            <a:custGeom>
              <a:avLst/>
              <a:gdLst/>
              <a:ahLst/>
              <a:rect l="0" t="0" r="r" b="b"/>
              <a:pathLst>
                <a:path w="213" h="226">
                  <a:moveTo>
                    <a:pt x="0" y="110"/>
                  </a:moveTo>
                  <a:lnTo>
                    <a:pt x="81" y="0"/>
                  </a:lnTo>
                  <a:lnTo>
                    <a:pt x="213" y="110"/>
                  </a:lnTo>
                  <a:lnTo>
                    <a:pt x="81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362400" y="4083120"/>
              <a:ext cx="76680" cy="66960"/>
            </a:xfrm>
            <a:custGeom>
              <a:avLst/>
              <a:gdLst/>
              <a:ahLst/>
              <a:rect l="0" t="0" r="r" b="b"/>
              <a:pathLst>
                <a:path fill="none" w="213" h="186">
                  <a:moveTo>
                    <a:pt x="0" y="75"/>
                  </a:moveTo>
                  <a:lnTo>
                    <a:pt x="126" y="0"/>
                  </a:lnTo>
                  <a:lnTo>
                    <a:pt x="213" y="75"/>
                  </a:lnTo>
                  <a:lnTo>
                    <a:pt x="126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498840" y="4083120"/>
              <a:ext cx="74880" cy="81360"/>
            </a:xfrm>
            <a:custGeom>
              <a:avLst/>
              <a:gdLst/>
              <a:ahLst/>
              <a:rect l="0" t="0" r="r" b="b"/>
              <a:pathLst>
                <a:path w="208" h="226">
                  <a:moveTo>
                    <a:pt x="0" y="110"/>
                  </a:moveTo>
                  <a:lnTo>
                    <a:pt x="84" y="0"/>
                  </a:lnTo>
                  <a:lnTo>
                    <a:pt x="208" y="110"/>
                  </a:lnTo>
                  <a:lnTo>
                    <a:pt x="84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481560" y="4083120"/>
              <a:ext cx="73440" cy="66960"/>
            </a:xfrm>
            <a:custGeom>
              <a:avLst/>
              <a:gdLst/>
              <a:ahLst/>
              <a:rect l="0" t="0" r="r" b="b"/>
              <a:pathLst>
                <a:path fill="none" w="204" h="186">
                  <a:moveTo>
                    <a:pt x="0" y="75"/>
                  </a:moveTo>
                  <a:lnTo>
                    <a:pt x="127" y="0"/>
                  </a:lnTo>
                  <a:lnTo>
                    <a:pt x="204" y="75"/>
                  </a:lnTo>
                  <a:lnTo>
                    <a:pt x="127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616200" y="4083120"/>
              <a:ext cx="76680" cy="81360"/>
            </a:xfrm>
            <a:custGeom>
              <a:avLst/>
              <a:gdLst/>
              <a:ahLst/>
              <a:rect l="0" t="0" r="r" b="b"/>
              <a:pathLst>
                <a:path w="213" h="226">
                  <a:moveTo>
                    <a:pt x="0" y="110"/>
                  </a:moveTo>
                  <a:lnTo>
                    <a:pt x="126" y="0"/>
                  </a:lnTo>
                  <a:lnTo>
                    <a:pt x="213" y="110"/>
                  </a:lnTo>
                  <a:lnTo>
                    <a:pt x="126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616200" y="4083120"/>
              <a:ext cx="76680" cy="66960"/>
            </a:xfrm>
            <a:custGeom>
              <a:avLst/>
              <a:gdLst/>
              <a:ahLst/>
              <a:rect l="0" t="0" r="r" b="b"/>
              <a:pathLst>
                <a:path fill="none" w="213" h="186">
                  <a:moveTo>
                    <a:pt x="0" y="75"/>
                  </a:moveTo>
                  <a:lnTo>
                    <a:pt x="86" y="0"/>
                  </a:lnTo>
                  <a:lnTo>
                    <a:pt x="213" y="75"/>
                  </a:lnTo>
                  <a:lnTo>
                    <a:pt x="86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735360" y="4083120"/>
              <a:ext cx="74880" cy="81360"/>
            </a:xfrm>
            <a:custGeom>
              <a:avLst/>
              <a:gdLst/>
              <a:ahLst/>
              <a:rect l="0" t="0" r="r" b="b"/>
              <a:pathLst>
                <a:path w="208" h="226">
                  <a:moveTo>
                    <a:pt x="0" y="110"/>
                  </a:moveTo>
                  <a:lnTo>
                    <a:pt x="124" y="0"/>
                  </a:lnTo>
                  <a:lnTo>
                    <a:pt x="208" y="110"/>
                  </a:lnTo>
                  <a:lnTo>
                    <a:pt x="124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735360" y="4083120"/>
              <a:ext cx="74880" cy="66960"/>
            </a:xfrm>
            <a:custGeom>
              <a:avLst/>
              <a:gdLst/>
              <a:ahLst/>
              <a:rect l="0" t="0" r="r" b="b"/>
              <a:pathLst>
                <a:path fill="none" w="208" h="186">
                  <a:moveTo>
                    <a:pt x="0" y="75"/>
                  </a:moveTo>
                  <a:lnTo>
                    <a:pt x="84" y="0"/>
                  </a:lnTo>
                  <a:lnTo>
                    <a:pt x="208" y="75"/>
                  </a:lnTo>
                  <a:lnTo>
                    <a:pt x="84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884760" y="4083120"/>
              <a:ext cx="60840" cy="81360"/>
            </a:xfrm>
            <a:custGeom>
              <a:avLst/>
              <a:gdLst/>
              <a:ahLst/>
              <a:rect l="0" t="0" r="r" b="b"/>
              <a:pathLst>
                <a:path w="169" h="226">
                  <a:moveTo>
                    <a:pt x="0" y="110"/>
                  </a:moveTo>
                  <a:lnTo>
                    <a:pt x="84" y="0"/>
                  </a:lnTo>
                  <a:lnTo>
                    <a:pt x="169" y="110"/>
                  </a:lnTo>
                  <a:lnTo>
                    <a:pt x="84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870360" y="4083120"/>
              <a:ext cx="74880" cy="66960"/>
            </a:xfrm>
            <a:custGeom>
              <a:avLst/>
              <a:gdLst/>
              <a:ahLst/>
              <a:rect l="0" t="0" r="r" b="b"/>
              <a:pathLst>
                <a:path fill="none" w="208" h="186">
                  <a:moveTo>
                    <a:pt x="0" y="75"/>
                  </a:moveTo>
                  <a:lnTo>
                    <a:pt x="124" y="0"/>
                  </a:lnTo>
                  <a:lnTo>
                    <a:pt x="208" y="75"/>
                  </a:lnTo>
                  <a:lnTo>
                    <a:pt x="124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003560" y="4083120"/>
              <a:ext cx="76680" cy="81360"/>
            </a:xfrm>
            <a:custGeom>
              <a:avLst/>
              <a:gdLst/>
              <a:ahLst/>
              <a:rect l="0" t="0" r="r" b="b"/>
              <a:pathLst>
                <a:path w="213" h="226">
                  <a:moveTo>
                    <a:pt x="0" y="110"/>
                  </a:moveTo>
                  <a:lnTo>
                    <a:pt x="86" y="0"/>
                  </a:lnTo>
                  <a:lnTo>
                    <a:pt x="213" y="110"/>
                  </a:lnTo>
                  <a:lnTo>
                    <a:pt x="86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990960" y="4083120"/>
              <a:ext cx="71640" cy="66960"/>
            </a:xfrm>
            <a:custGeom>
              <a:avLst/>
              <a:gdLst/>
              <a:ahLst/>
              <a:rect l="0" t="0" r="r" b="b"/>
              <a:pathLst>
                <a:path fill="none" w="199" h="186">
                  <a:moveTo>
                    <a:pt x="0" y="75"/>
                  </a:moveTo>
                  <a:lnTo>
                    <a:pt x="118" y="0"/>
                  </a:lnTo>
                  <a:lnTo>
                    <a:pt x="199" y="75"/>
                  </a:lnTo>
                  <a:lnTo>
                    <a:pt x="118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121280" y="4083120"/>
              <a:ext cx="78120" cy="81360"/>
            </a:xfrm>
            <a:custGeom>
              <a:avLst/>
              <a:gdLst/>
              <a:ahLst/>
              <a:rect l="0" t="0" r="r" b="b"/>
              <a:pathLst>
                <a:path w="217" h="226">
                  <a:moveTo>
                    <a:pt x="0" y="110"/>
                  </a:moveTo>
                  <a:lnTo>
                    <a:pt x="135" y="0"/>
                  </a:lnTo>
                  <a:lnTo>
                    <a:pt x="217" y="110"/>
                  </a:lnTo>
                  <a:lnTo>
                    <a:pt x="135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121280" y="4083120"/>
              <a:ext cx="78120" cy="66960"/>
            </a:xfrm>
            <a:custGeom>
              <a:avLst/>
              <a:gdLst/>
              <a:ahLst/>
              <a:rect l="0" t="0" r="r" b="b"/>
              <a:pathLst>
                <a:path fill="none" w="217" h="186">
                  <a:moveTo>
                    <a:pt x="0" y="75"/>
                  </a:moveTo>
                  <a:lnTo>
                    <a:pt x="87" y="0"/>
                  </a:lnTo>
                  <a:lnTo>
                    <a:pt x="217" y="75"/>
                  </a:lnTo>
                  <a:lnTo>
                    <a:pt x="87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1880" y="4083120"/>
              <a:ext cx="74880" cy="81360"/>
            </a:xfrm>
            <a:custGeom>
              <a:avLst/>
              <a:gdLst/>
              <a:ahLst/>
              <a:rect l="0" t="0" r="r" b="b"/>
              <a:pathLst>
                <a:path w="208" h="226">
                  <a:moveTo>
                    <a:pt x="0" y="110"/>
                  </a:moveTo>
                  <a:lnTo>
                    <a:pt x="124" y="0"/>
                  </a:lnTo>
                  <a:lnTo>
                    <a:pt x="208" y="110"/>
                  </a:lnTo>
                  <a:lnTo>
                    <a:pt x="124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1880" y="4083120"/>
              <a:ext cx="74880" cy="66960"/>
            </a:xfrm>
            <a:custGeom>
              <a:avLst/>
              <a:gdLst/>
              <a:ahLst/>
              <a:rect l="0" t="0" r="r" b="b"/>
              <a:pathLst>
                <a:path fill="none" w="208" h="186">
                  <a:moveTo>
                    <a:pt x="0" y="75"/>
                  </a:moveTo>
                  <a:lnTo>
                    <a:pt x="78" y="0"/>
                  </a:lnTo>
                  <a:lnTo>
                    <a:pt x="208" y="75"/>
                  </a:lnTo>
                  <a:lnTo>
                    <a:pt x="78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376880" y="4083120"/>
              <a:ext cx="74880" cy="81360"/>
            </a:xfrm>
            <a:custGeom>
              <a:avLst/>
              <a:gdLst/>
              <a:ahLst/>
              <a:rect l="0" t="0" r="r" b="b"/>
              <a:pathLst>
                <a:path w="208" h="226">
                  <a:moveTo>
                    <a:pt x="0" y="110"/>
                  </a:moveTo>
                  <a:lnTo>
                    <a:pt x="84" y="0"/>
                  </a:lnTo>
                  <a:lnTo>
                    <a:pt x="208" y="110"/>
                  </a:lnTo>
                  <a:lnTo>
                    <a:pt x="84" y="2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361040" y="4083120"/>
              <a:ext cx="74880" cy="66960"/>
            </a:xfrm>
            <a:custGeom>
              <a:avLst/>
              <a:gdLst/>
              <a:ahLst/>
              <a:rect l="0" t="0" r="r" b="b"/>
              <a:pathLst>
                <a:path fill="none" w="208" h="186">
                  <a:moveTo>
                    <a:pt x="0" y="75"/>
                  </a:moveTo>
                  <a:lnTo>
                    <a:pt x="124" y="0"/>
                  </a:lnTo>
                  <a:lnTo>
                    <a:pt x="208" y="75"/>
                  </a:lnTo>
                  <a:lnTo>
                    <a:pt x="124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754280" y="4313160"/>
              <a:ext cx="74880" cy="81360"/>
            </a:xfrm>
            <a:custGeom>
              <a:avLst/>
              <a:gdLst/>
              <a:ahLst/>
              <a:rect l="0" t="0" r="r" b="b"/>
              <a:pathLst>
                <a:path fill="none" w="208" h="226">
                  <a:moveTo>
                    <a:pt x="0" y="226"/>
                  </a:moveTo>
                  <a:lnTo>
                    <a:pt x="84" y="0"/>
                  </a:lnTo>
                  <a:lnTo>
                    <a:pt x="208" y="22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379600" y="4313160"/>
              <a:ext cx="76680" cy="81360"/>
            </a:xfrm>
            <a:custGeom>
              <a:avLst/>
              <a:gdLst/>
              <a:ahLst/>
              <a:rect l="0" t="0" r="r" b="b"/>
              <a:pathLst>
                <a:path fill="none" w="213" h="226">
                  <a:moveTo>
                    <a:pt x="0" y="226"/>
                  </a:moveTo>
                  <a:lnTo>
                    <a:pt x="86" y="0"/>
                  </a:lnTo>
                  <a:lnTo>
                    <a:pt x="213" y="22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873520" y="4313160"/>
              <a:ext cx="74880" cy="81360"/>
            </a:xfrm>
            <a:custGeom>
              <a:avLst/>
              <a:gdLst/>
              <a:ahLst/>
              <a:rect l="0" t="0" r="r" b="b"/>
              <a:pathLst>
                <a:path fill="none" w="208" h="226">
                  <a:moveTo>
                    <a:pt x="0" y="226"/>
                  </a:moveTo>
                  <a:lnTo>
                    <a:pt x="84" y="0"/>
                  </a:lnTo>
                  <a:lnTo>
                    <a:pt x="208" y="22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481560" y="4313160"/>
              <a:ext cx="73440" cy="81360"/>
            </a:xfrm>
            <a:custGeom>
              <a:avLst/>
              <a:gdLst/>
              <a:ahLst/>
              <a:rect l="0" t="0" r="r" b="b"/>
              <a:pathLst>
                <a:path fill="none" w="204" h="226">
                  <a:moveTo>
                    <a:pt x="0" y="226"/>
                  </a:moveTo>
                  <a:lnTo>
                    <a:pt x="127" y="0"/>
                  </a:lnTo>
                  <a:lnTo>
                    <a:pt x="204" y="22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121280" y="4313160"/>
              <a:ext cx="78120" cy="81360"/>
            </a:xfrm>
            <a:custGeom>
              <a:avLst/>
              <a:gdLst/>
              <a:ahLst/>
              <a:rect l="0" t="0" r="r" b="b"/>
              <a:pathLst>
                <a:path fill="none" w="217" h="226">
                  <a:moveTo>
                    <a:pt x="0" y="226"/>
                  </a:moveTo>
                  <a:lnTo>
                    <a:pt x="87" y="0"/>
                  </a:lnTo>
                  <a:lnTo>
                    <a:pt x="217" y="22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 txBox="1"/>
            <p:nvPr/>
          </p:nvSpPr>
          <p:spPr>
            <a:xfrm>
              <a:off x="1190520" y="4398840"/>
              <a:ext cx="2541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 txBox="1"/>
            <p:nvPr/>
          </p:nvSpPr>
          <p:spPr>
            <a:xfrm>
              <a:off x="996840" y="397656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 txBox="1"/>
            <p:nvPr/>
          </p:nvSpPr>
          <p:spPr>
            <a:xfrm>
              <a:off x="996840" y="354168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 txBox="1"/>
            <p:nvPr/>
          </p:nvSpPr>
          <p:spPr>
            <a:xfrm>
              <a:off x="996840" y="313524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 txBox="1"/>
            <p:nvPr/>
          </p:nvSpPr>
          <p:spPr>
            <a:xfrm>
              <a:off x="996840" y="270036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 txBox="1"/>
            <p:nvPr/>
          </p:nvSpPr>
          <p:spPr>
            <a:xfrm>
              <a:off x="1190520" y="2263680"/>
              <a:ext cx="2541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 txBox="1"/>
            <p:nvPr/>
          </p:nvSpPr>
          <p:spPr>
            <a:xfrm>
              <a:off x="1265400" y="4711680"/>
              <a:ext cx="2541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 txBox="1"/>
            <p:nvPr/>
          </p:nvSpPr>
          <p:spPr>
            <a:xfrm>
              <a:off x="1847880" y="471168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 txBox="1"/>
            <p:nvPr/>
          </p:nvSpPr>
          <p:spPr>
            <a:xfrm>
              <a:off x="2502000" y="471168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 txBox="1"/>
            <p:nvPr/>
          </p:nvSpPr>
          <p:spPr>
            <a:xfrm>
              <a:off x="3141720" y="471168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 txBox="1"/>
            <p:nvPr/>
          </p:nvSpPr>
          <p:spPr>
            <a:xfrm>
              <a:off x="3797280" y="471168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 txBox="1"/>
            <p:nvPr/>
          </p:nvSpPr>
          <p:spPr>
            <a:xfrm>
              <a:off x="4514760" y="4711680"/>
              <a:ext cx="2541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 txBox="1"/>
            <p:nvPr/>
          </p:nvSpPr>
          <p:spPr>
            <a:xfrm>
              <a:off x="27000" y="3405240"/>
              <a:ext cx="14526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istillate Composi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 txBox="1"/>
            <p:nvPr/>
          </p:nvSpPr>
          <p:spPr>
            <a:xfrm>
              <a:off x="2397240" y="4862520"/>
              <a:ext cx="10810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tch Time, h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167440" y="2422440"/>
              <a:ext cx="117360" cy="776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284800" y="320040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421240" y="3200400"/>
              <a:ext cx="11772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538960" y="3213000"/>
              <a:ext cx="11880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657760" y="3224160"/>
              <a:ext cx="119160" cy="27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776920" y="3252960"/>
              <a:ext cx="13500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31000" y="3267000"/>
              <a:ext cx="11412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045120" y="3281400"/>
              <a:ext cx="11916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164280" y="3294000"/>
              <a:ext cx="1206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297480" y="3308400"/>
              <a:ext cx="10332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400800" y="3321000"/>
              <a:ext cx="13644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554880" y="3335400"/>
              <a:ext cx="10008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654960" y="3348000"/>
              <a:ext cx="11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773760" y="3362400"/>
              <a:ext cx="135000" cy="23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908760" y="3389400"/>
              <a:ext cx="1191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043760" y="3403440"/>
              <a:ext cx="10332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147080" y="3417840"/>
              <a:ext cx="11880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265880" y="3429000"/>
              <a:ext cx="13500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408800" y="3443400"/>
              <a:ext cx="111240" cy="23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537320" y="3470400"/>
              <a:ext cx="11448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659720" y="3484440"/>
              <a:ext cx="112680" cy="25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790040" y="3511440"/>
              <a:ext cx="11556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905600" y="3524400"/>
              <a:ext cx="1191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8024760" y="3538440"/>
              <a:ext cx="119160" cy="25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8143920" y="356544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V="1">
              <a:off x="5167440" y="4125960"/>
              <a:ext cx="117360" cy="487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84800" y="41212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V="1">
              <a:off x="5421240" y="4113360"/>
              <a:ext cx="1177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538960" y="411012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V="1">
              <a:off x="5657760" y="4095720"/>
              <a:ext cx="1191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V="1">
              <a:off x="5776920" y="4084560"/>
              <a:ext cx="13500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11920" y="4083120"/>
              <a:ext cx="133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6059520" y="4071960"/>
              <a:ext cx="10476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164280" y="4070520"/>
              <a:ext cx="120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V="1">
              <a:off x="6284880" y="4057560"/>
              <a:ext cx="115920" cy="12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V="1">
              <a:off x="6419880" y="4043520"/>
              <a:ext cx="117360" cy="10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537240" y="4041720"/>
              <a:ext cx="117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V="1">
              <a:off x="6654960" y="4029120"/>
              <a:ext cx="11880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773760" y="4029120"/>
              <a:ext cx="135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908760" y="402912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V="1">
              <a:off x="7027920" y="4016520"/>
              <a:ext cx="11916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V="1">
              <a:off x="7159680" y="4003560"/>
              <a:ext cx="10620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265880" y="4002120"/>
              <a:ext cx="135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7400880" y="3989520"/>
              <a:ext cx="11916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7537320" y="3975120"/>
              <a:ext cx="11448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651800" y="3973680"/>
              <a:ext cx="120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V="1">
              <a:off x="7772400" y="3960720"/>
              <a:ext cx="133200" cy="12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7905600" y="3948120"/>
              <a:ext cx="11916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8040600" y="3935520"/>
              <a:ext cx="10332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143920" y="393228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V="1">
              <a:off x="5167440" y="4370400"/>
              <a:ext cx="117360" cy="268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5284800" y="4357800"/>
              <a:ext cx="11916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403960" y="4356000"/>
              <a:ext cx="135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5553000" y="4344840"/>
              <a:ext cx="10476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657760" y="43419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V="1">
              <a:off x="5776920" y="4327560"/>
              <a:ext cx="1350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911920" y="4325760"/>
              <a:ext cx="133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045120" y="43257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V="1">
              <a:off x="6180120" y="4314960"/>
              <a:ext cx="104760" cy="10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284880" y="4313160"/>
              <a:ext cx="115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6400800" y="4300560"/>
              <a:ext cx="13644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V="1">
              <a:off x="6537240" y="4287960"/>
              <a:ext cx="11772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654960" y="428616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6792840" y="4275000"/>
              <a:ext cx="11592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6908760" y="4260960"/>
              <a:ext cx="11916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027920" y="42591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7161120" y="4248000"/>
              <a:ext cx="10476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7265880" y="4233960"/>
              <a:ext cx="13500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400880" y="42339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7520040" y="4218120"/>
              <a:ext cx="13176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651800" y="4216320"/>
              <a:ext cx="120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7788240" y="4205160"/>
              <a:ext cx="11736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7905600" y="4192560"/>
              <a:ext cx="11916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8040600" y="4179960"/>
              <a:ext cx="10332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8143920" y="417816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167440" y="4638600"/>
              <a:ext cx="72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167440" y="4191120"/>
              <a:ext cx="72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167440" y="3741840"/>
              <a:ext cx="72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167440" y="3294000"/>
              <a:ext cx="72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167440" y="2844720"/>
              <a:ext cx="72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167440" y="2382840"/>
              <a:ext cx="72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8202600" y="463860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8202600" y="419112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8202600" y="374184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8202600" y="329400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>
              <a:off x="8202600" y="284472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8202600" y="238284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5167440" y="4570560"/>
              <a:ext cx="0" cy="68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5776920" y="4570560"/>
              <a:ext cx="0" cy="68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6400800" y="4570560"/>
              <a:ext cx="0" cy="68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7027920" y="4570560"/>
              <a:ext cx="0" cy="68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7651800" y="4570560"/>
              <a:ext cx="0" cy="68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8278920" y="4570560"/>
              <a:ext cx="0" cy="68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167440" y="238284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776920" y="238284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400800" y="238284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027920" y="238284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651800" y="238284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278920" y="238284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5167440" y="2382840"/>
              <a:ext cx="0" cy="2255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8278920" y="2382840"/>
              <a:ext cx="0" cy="2255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167440" y="4638600"/>
              <a:ext cx="311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167440" y="2382840"/>
              <a:ext cx="311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121360" y="2382840"/>
              <a:ext cx="889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256360" y="3157560"/>
              <a:ext cx="9036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375160" y="3171960"/>
              <a:ext cx="9036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494320" y="3186000"/>
              <a:ext cx="889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611680" y="3200400"/>
              <a:ext cx="9036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746680" y="3213000"/>
              <a:ext cx="8748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865840" y="3224160"/>
              <a:ext cx="87480" cy="8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999040" y="3240000"/>
              <a:ext cx="9036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121440" y="3252960"/>
              <a:ext cx="8748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251400" y="3267000"/>
              <a:ext cx="889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370560" y="3294000"/>
              <a:ext cx="9216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491160" y="3308400"/>
              <a:ext cx="889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626160" y="3308400"/>
              <a:ext cx="8748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745320" y="3321000"/>
              <a:ext cx="889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864480" y="3348000"/>
              <a:ext cx="889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985080" y="3362400"/>
              <a:ext cx="8748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116840" y="3389400"/>
              <a:ext cx="9036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236000" y="3403440"/>
              <a:ext cx="9216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353360" y="3403440"/>
              <a:ext cx="9216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489800" y="3429000"/>
              <a:ext cx="8748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624800" y="3443400"/>
              <a:ext cx="889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745400" y="3470400"/>
              <a:ext cx="8748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862760" y="3497400"/>
              <a:ext cx="889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994520" y="3511440"/>
              <a:ext cx="889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113680" y="3524400"/>
              <a:ext cx="889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232840" y="3538440"/>
              <a:ext cx="9216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121360" y="4570560"/>
              <a:ext cx="74880" cy="68760"/>
            </a:xfrm>
            <a:custGeom>
              <a:avLst/>
              <a:gdLst/>
              <a:ahLst/>
              <a:rect l="0" t="0" r="r" b="b"/>
              <a:pathLst>
                <a:path w="208" h="191">
                  <a:moveTo>
                    <a:pt x="0" y="118"/>
                  </a:moveTo>
                  <a:lnTo>
                    <a:pt x="124" y="0"/>
                  </a:lnTo>
                  <a:lnTo>
                    <a:pt x="208" y="118"/>
                  </a:lnTo>
                  <a:lnTo>
                    <a:pt x="124" y="19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121360" y="4570560"/>
              <a:ext cx="74880" cy="68760"/>
            </a:xfrm>
            <a:custGeom>
              <a:avLst/>
              <a:gdLst/>
              <a:ahLst/>
              <a:rect l="0" t="0" r="r" b="b"/>
              <a:pathLst>
                <a:path fill="none" w="208" h="191">
                  <a:moveTo>
                    <a:pt x="0" y="77"/>
                  </a:moveTo>
                  <a:lnTo>
                    <a:pt x="84" y="0"/>
                  </a:lnTo>
                  <a:lnTo>
                    <a:pt x="208" y="77"/>
                  </a:lnTo>
                  <a:lnTo>
                    <a:pt x="84" y="19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256360" y="4083120"/>
              <a:ext cx="73440" cy="66960"/>
            </a:xfrm>
            <a:custGeom>
              <a:avLst/>
              <a:gdLst/>
              <a:ahLst/>
              <a:rect l="0" t="0" r="r" b="b"/>
              <a:pathLst>
                <a:path w="204" h="186">
                  <a:moveTo>
                    <a:pt x="0" y="111"/>
                  </a:moveTo>
                  <a:lnTo>
                    <a:pt x="77" y="0"/>
                  </a:lnTo>
                  <a:lnTo>
                    <a:pt x="204" y="111"/>
                  </a:lnTo>
                  <a:lnTo>
                    <a:pt x="77" y="186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240160" y="4083120"/>
              <a:ext cx="74880" cy="66960"/>
            </a:xfrm>
            <a:custGeom>
              <a:avLst/>
              <a:gdLst/>
              <a:ahLst/>
              <a:rect l="0" t="0" r="r" b="b"/>
              <a:pathLst>
                <a:path fill="none" w="208" h="186">
                  <a:moveTo>
                    <a:pt x="0" y="75"/>
                  </a:moveTo>
                  <a:lnTo>
                    <a:pt x="124" y="0"/>
                  </a:lnTo>
                  <a:lnTo>
                    <a:pt x="208" y="75"/>
                  </a:lnTo>
                  <a:lnTo>
                    <a:pt x="124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375160" y="4083120"/>
              <a:ext cx="73440" cy="66960"/>
            </a:xfrm>
            <a:custGeom>
              <a:avLst/>
              <a:gdLst/>
              <a:ahLst/>
              <a:rect l="0" t="0" r="r" b="b"/>
              <a:pathLst>
                <a:path w="204" h="186">
                  <a:moveTo>
                    <a:pt x="0" y="111"/>
                  </a:moveTo>
                  <a:lnTo>
                    <a:pt x="77" y="0"/>
                  </a:lnTo>
                  <a:lnTo>
                    <a:pt x="204" y="111"/>
                  </a:lnTo>
                  <a:lnTo>
                    <a:pt x="77" y="186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359320" y="4083120"/>
              <a:ext cx="74880" cy="66960"/>
            </a:xfrm>
            <a:custGeom>
              <a:avLst/>
              <a:gdLst/>
              <a:ahLst/>
              <a:rect l="0" t="0" r="r" b="b"/>
              <a:pathLst>
                <a:path fill="none" w="208" h="186">
                  <a:moveTo>
                    <a:pt x="0" y="75"/>
                  </a:moveTo>
                  <a:lnTo>
                    <a:pt x="124" y="0"/>
                  </a:lnTo>
                  <a:lnTo>
                    <a:pt x="208" y="75"/>
                  </a:lnTo>
                  <a:lnTo>
                    <a:pt x="124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94320" y="4070520"/>
              <a:ext cx="73440" cy="68760"/>
            </a:xfrm>
            <a:custGeom>
              <a:avLst/>
              <a:gdLst/>
              <a:ahLst/>
              <a:rect l="0" t="0" r="r" b="b"/>
              <a:pathLst>
                <a:path w="204" h="191">
                  <a:moveTo>
                    <a:pt x="0" y="113"/>
                  </a:moveTo>
                  <a:lnTo>
                    <a:pt x="121" y="0"/>
                  </a:lnTo>
                  <a:lnTo>
                    <a:pt x="204" y="113"/>
                  </a:lnTo>
                  <a:lnTo>
                    <a:pt x="121" y="191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494320" y="4070520"/>
              <a:ext cx="73440" cy="68760"/>
            </a:xfrm>
            <a:custGeom>
              <a:avLst/>
              <a:gdLst/>
              <a:ahLst/>
              <a:rect l="0" t="0" r="r" b="b"/>
              <a:pathLst>
                <a:path fill="none" w="204" h="191">
                  <a:moveTo>
                    <a:pt x="0" y="77"/>
                  </a:moveTo>
                  <a:lnTo>
                    <a:pt x="83" y="0"/>
                  </a:lnTo>
                  <a:lnTo>
                    <a:pt x="204" y="77"/>
                  </a:lnTo>
                  <a:lnTo>
                    <a:pt x="83" y="19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611680" y="4070520"/>
              <a:ext cx="74880" cy="68760"/>
            </a:xfrm>
            <a:custGeom>
              <a:avLst/>
              <a:gdLst/>
              <a:ahLst/>
              <a:rect l="0" t="0" r="r" b="b"/>
              <a:pathLst>
                <a:path w="208" h="191">
                  <a:moveTo>
                    <a:pt x="0" y="113"/>
                  </a:moveTo>
                  <a:lnTo>
                    <a:pt x="124" y="0"/>
                  </a:lnTo>
                  <a:lnTo>
                    <a:pt x="208" y="113"/>
                  </a:lnTo>
                  <a:lnTo>
                    <a:pt x="124" y="191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611680" y="4070520"/>
              <a:ext cx="74880" cy="68760"/>
            </a:xfrm>
            <a:custGeom>
              <a:avLst/>
              <a:gdLst/>
              <a:ahLst/>
              <a:rect l="0" t="0" r="r" b="b"/>
              <a:pathLst>
                <a:path fill="none" w="208" h="191">
                  <a:moveTo>
                    <a:pt x="0" y="77"/>
                  </a:moveTo>
                  <a:lnTo>
                    <a:pt x="124" y="0"/>
                  </a:lnTo>
                  <a:lnTo>
                    <a:pt x="208" y="77"/>
                  </a:lnTo>
                  <a:lnTo>
                    <a:pt x="124" y="19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746680" y="4054320"/>
              <a:ext cx="76680" cy="66960"/>
            </a:xfrm>
            <a:custGeom>
              <a:avLst/>
              <a:gdLst/>
              <a:ahLst/>
              <a:rect l="0" t="0" r="r" b="b"/>
              <a:pathLst>
                <a:path w="213" h="186">
                  <a:moveTo>
                    <a:pt x="0" y="116"/>
                  </a:moveTo>
                  <a:lnTo>
                    <a:pt x="81" y="0"/>
                  </a:lnTo>
                  <a:lnTo>
                    <a:pt x="213" y="116"/>
                  </a:lnTo>
                  <a:lnTo>
                    <a:pt x="81" y="18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732640" y="4054320"/>
              <a:ext cx="73440" cy="66960"/>
            </a:xfrm>
            <a:custGeom>
              <a:avLst/>
              <a:gdLst/>
              <a:ahLst/>
              <a:rect l="0" t="0" r="r" b="b"/>
              <a:pathLst>
                <a:path fill="none" w="204" h="186">
                  <a:moveTo>
                    <a:pt x="0" y="75"/>
                  </a:moveTo>
                  <a:lnTo>
                    <a:pt x="121" y="0"/>
                  </a:lnTo>
                  <a:lnTo>
                    <a:pt x="204" y="75"/>
                  </a:lnTo>
                  <a:lnTo>
                    <a:pt x="121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865840" y="4041720"/>
              <a:ext cx="74880" cy="79560"/>
            </a:xfrm>
            <a:custGeom>
              <a:avLst/>
              <a:gdLst/>
              <a:ahLst/>
              <a:rect l="0" t="0" r="r" b="b"/>
              <a:pathLst>
                <a:path w="208" h="221">
                  <a:moveTo>
                    <a:pt x="0" y="111"/>
                  </a:moveTo>
                  <a:lnTo>
                    <a:pt x="124" y="0"/>
                  </a:lnTo>
                  <a:lnTo>
                    <a:pt x="208" y="111"/>
                  </a:lnTo>
                  <a:lnTo>
                    <a:pt x="124" y="22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865840" y="4041720"/>
              <a:ext cx="74880" cy="68760"/>
            </a:xfrm>
            <a:custGeom>
              <a:avLst/>
              <a:gdLst/>
              <a:ahLst/>
              <a:rect l="0" t="0" r="r" b="b"/>
              <a:pathLst>
                <a:path fill="none" w="208" h="191">
                  <a:moveTo>
                    <a:pt x="0" y="113"/>
                  </a:moveTo>
                  <a:lnTo>
                    <a:pt x="84" y="0"/>
                  </a:lnTo>
                  <a:lnTo>
                    <a:pt x="208" y="113"/>
                  </a:lnTo>
                  <a:lnTo>
                    <a:pt x="84" y="19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999040" y="4041720"/>
              <a:ext cx="73440" cy="79560"/>
            </a:xfrm>
            <a:custGeom>
              <a:avLst/>
              <a:gdLst/>
              <a:ahLst/>
              <a:rect l="0" t="0" r="r" b="b"/>
              <a:pathLst>
                <a:path w="204" h="221">
                  <a:moveTo>
                    <a:pt x="0" y="111"/>
                  </a:moveTo>
                  <a:lnTo>
                    <a:pt x="127" y="0"/>
                  </a:lnTo>
                  <a:lnTo>
                    <a:pt x="204" y="111"/>
                  </a:lnTo>
                  <a:lnTo>
                    <a:pt x="127" y="22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999040" y="4041720"/>
              <a:ext cx="73440" cy="68760"/>
            </a:xfrm>
            <a:custGeom>
              <a:avLst/>
              <a:gdLst/>
              <a:ahLst/>
              <a:rect l="0" t="0" r="r" b="b"/>
              <a:pathLst>
                <a:path fill="none" w="204" h="191">
                  <a:moveTo>
                    <a:pt x="0" y="113"/>
                  </a:moveTo>
                  <a:lnTo>
                    <a:pt x="83" y="0"/>
                  </a:lnTo>
                  <a:lnTo>
                    <a:pt x="204" y="113"/>
                  </a:lnTo>
                  <a:lnTo>
                    <a:pt x="83" y="19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121440" y="4029120"/>
              <a:ext cx="71640" cy="81360"/>
            </a:xfrm>
            <a:custGeom>
              <a:avLst/>
              <a:gdLst/>
              <a:ahLst/>
              <a:rect l="0" t="0" r="r" b="b"/>
              <a:pathLst>
                <a:path w="199" h="226">
                  <a:moveTo>
                    <a:pt x="0" y="113"/>
                  </a:moveTo>
                  <a:lnTo>
                    <a:pt x="118" y="0"/>
                  </a:lnTo>
                  <a:lnTo>
                    <a:pt x="199" y="113"/>
                  </a:lnTo>
                  <a:lnTo>
                    <a:pt x="118" y="226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121440" y="4029120"/>
              <a:ext cx="71640" cy="66960"/>
            </a:xfrm>
            <a:custGeom>
              <a:avLst/>
              <a:gdLst/>
              <a:ahLst/>
              <a:rect l="0" t="0" r="r" b="b"/>
              <a:pathLst>
                <a:path fill="none" w="199" h="186">
                  <a:moveTo>
                    <a:pt x="0" y="111"/>
                  </a:moveTo>
                  <a:lnTo>
                    <a:pt x="118" y="0"/>
                  </a:lnTo>
                  <a:lnTo>
                    <a:pt x="199" y="111"/>
                  </a:lnTo>
                  <a:lnTo>
                    <a:pt x="118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251400" y="4029120"/>
              <a:ext cx="76680" cy="81360"/>
            </a:xfrm>
            <a:custGeom>
              <a:avLst/>
              <a:gdLst/>
              <a:ahLst/>
              <a:rect l="0" t="0" r="r" b="b"/>
              <a:pathLst>
                <a:path w="213" h="226">
                  <a:moveTo>
                    <a:pt x="0" y="113"/>
                  </a:moveTo>
                  <a:lnTo>
                    <a:pt x="86" y="0"/>
                  </a:lnTo>
                  <a:lnTo>
                    <a:pt x="213" y="113"/>
                  </a:lnTo>
                  <a:lnTo>
                    <a:pt x="86" y="226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240600" y="4029120"/>
              <a:ext cx="74880" cy="66960"/>
            </a:xfrm>
            <a:custGeom>
              <a:avLst/>
              <a:gdLst/>
              <a:ahLst/>
              <a:rect l="0" t="0" r="r" b="b"/>
              <a:pathLst>
                <a:path fill="none" w="208" h="186">
                  <a:moveTo>
                    <a:pt x="0" y="111"/>
                  </a:moveTo>
                  <a:lnTo>
                    <a:pt x="124" y="0"/>
                  </a:lnTo>
                  <a:lnTo>
                    <a:pt x="208" y="111"/>
                  </a:lnTo>
                  <a:lnTo>
                    <a:pt x="124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370560" y="4029120"/>
              <a:ext cx="76680" cy="66960"/>
            </a:xfrm>
            <a:custGeom>
              <a:avLst/>
              <a:gdLst/>
              <a:ahLst/>
              <a:rect l="0" t="0" r="r" b="b"/>
              <a:pathLst>
                <a:path w="213" h="186">
                  <a:moveTo>
                    <a:pt x="0" y="70"/>
                  </a:moveTo>
                  <a:lnTo>
                    <a:pt x="86" y="0"/>
                  </a:lnTo>
                  <a:lnTo>
                    <a:pt x="213" y="70"/>
                  </a:lnTo>
                  <a:lnTo>
                    <a:pt x="86" y="186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370560" y="4014720"/>
              <a:ext cx="76680" cy="68760"/>
            </a:xfrm>
            <a:custGeom>
              <a:avLst/>
              <a:gdLst/>
              <a:ahLst/>
              <a:rect l="0" t="0" r="r" b="b"/>
              <a:pathLst>
                <a:path fill="none" w="213" h="191">
                  <a:moveTo>
                    <a:pt x="0" y="113"/>
                  </a:moveTo>
                  <a:lnTo>
                    <a:pt x="86" y="0"/>
                  </a:lnTo>
                  <a:lnTo>
                    <a:pt x="213" y="113"/>
                  </a:lnTo>
                  <a:lnTo>
                    <a:pt x="86" y="19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491160" y="4014720"/>
              <a:ext cx="74880" cy="68760"/>
            </a:xfrm>
            <a:custGeom>
              <a:avLst/>
              <a:gdLst/>
              <a:ahLst/>
              <a:rect l="0" t="0" r="r" b="b"/>
              <a:pathLst>
                <a:path w="208" h="191">
                  <a:moveTo>
                    <a:pt x="0" y="77"/>
                  </a:moveTo>
                  <a:lnTo>
                    <a:pt x="129" y="0"/>
                  </a:lnTo>
                  <a:lnTo>
                    <a:pt x="208" y="77"/>
                  </a:lnTo>
                  <a:lnTo>
                    <a:pt x="129" y="19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491160" y="4002120"/>
              <a:ext cx="74880" cy="81360"/>
            </a:xfrm>
            <a:custGeom>
              <a:avLst/>
              <a:gdLst/>
              <a:ahLst/>
              <a:rect l="0" t="0" r="r" b="b"/>
              <a:pathLst>
                <a:path fill="none" w="208" h="226">
                  <a:moveTo>
                    <a:pt x="0" y="113"/>
                  </a:moveTo>
                  <a:lnTo>
                    <a:pt x="84" y="0"/>
                  </a:lnTo>
                  <a:lnTo>
                    <a:pt x="208" y="113"/>
                  </a:lnTo>
                  <a:lnTo>
                    <a:pt x="84" y="22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626160" y="4014720"/>
              <a:ext cx="74880" cy="68760"/>
            </a:xfrm>
            <a:custGeom>
              <a:avLst/>
              <a:gdLst/>
              <a:ahLst/>
              <a:rect l="0" t="0" r="r" b="b"/>
              <a:pathLst>
                <a:path w="208" h="191">
                  <a:moveTo>
                    <a:pt x="0" y="77"/>
                  </a:moveTo>
                  <a:lnTo>
                    <a:pt x="84" y="0"/>
                  </a:lnTo>
                  <a:lnTo>
                    <a:pt x="208" y="77"/>
                  </a:lnTo>
                  <a:lnTo>
                    <a:pt x="84" y="19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611760" y="4002120"/>
              <a:ext cx="74880" cy="81360"/>
            </a:xfrm>
            <a:custGeom>
              <a:avLst/>
              <a:gdLst/>
              <a:ahLst/>
              <a:rect l="0" t="0" r="r" b="b"/>
              <a:pathLst>
                <a:path fill="none" w="208" h="226">
                  <a:moveTo>
                    <a:pt x="0" y="113"/>
                  </a:moveTo>
                  <a:lnTo>
                    <a:pt x="124" y="0"/>
                  </a:lnTo>
                  <a:lnTo>
                    <a:pt x="208" y="113"/>
                  </a:lnTo>
                  <a:lnTo>
                    <a:pt x="124" y="22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745320" y="4002120"/>
              <a:ext cx="74880" cy="68760"/>
            </a:xfrm>
            <a:custGeom>
              <a:avLst/>
              <a:gdLst/>
              <a:ahLst/>
              <a:rect l="0" t="0" r="r" b="b"/>
              <a:pathLst>
                <a:path w="208" h="191">
                  <a:moveTo>
                    <a:pt x="0" y="77"/>
                  </a:moveTo>
                  <a:lnTo>
                    <a:pt x="84" y="0"/>
                  </a:lnTo>
                  <a:lnTo>
                    <a:pt x="208" y="77"/>
                  </a:lnTo>
                  <a:lnTo>
                    <a:pt x="84" y="19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730920" y="3987720"/>
              <a:ext cx="73440" cy="82800"/>
            </a:xfrm>
            <a:custGeom>
              <a:avLst/>
              <a:gdLst/>
              <a:ahLst/>
              <a:rect l="0" t="0" r="r" b="b"/>
              <a:pathLst>
                <a:path fill="none" w="204" h="230">
                  <a:moveTo>
                    <a:pt x="0" y="118"/>
                  </a:moveTo>
                  <a:lnTo>
                    <a:pt x="121" y="0"/>
                  </a:lnTo>
                  <a:lnTo>
                    <a:pt x="204" y="118"/>
                  </a:lnTo>
                  <a:lnTo>
                    <a:pt x="121" y="23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864480" y="3987720"/>
              <a:ext cx="74880" cy="66960"/>
            </a:xfrm>
            <a:custGeom>
              <a:avLst/>
              <a:gdLst/>
              <a:ahLst/>
              <a:rect l="0" t="0" r="r" b="b"/>
              <a:pathLst>
                <a:path w="208" h="186">
                  <a:moveTo>
                    <a:pt x="0" y="116"/>
                  </a:moveTo>
                  <a:lnTo>
                    <a:pt x="129" y="0"/>
                  </a:lnTo>
                  <a:lnTo>
                    <a:pt x="208" y="116"/>
                  </a:lnTo>
                  <a:lnTo>
                    <a:pt x="129" y="18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864480" y="3973680"/>
              <a:ext cx="74880" cy="81360"/>
            </a:xfrm>
            <a:custGeom>
              <a:avLst/>
              <a:gdLst/>
              <a:ahLst/>
              <a:rect l="0" t="0" r="r" b="b"/>
              <a:pathLst>
                <a:path fill="none" w="208" h="226">
                  <a:moveTo>
                    <a:pt x="0" y="113"/>
                  </a:moveTo>
                  <a:lnTo>
                    <a:pt x="84" y="0"/>
                  </a:lnTo>
                  <a:lnTo>
                    <a:pt x="208" y="113"/>
                  </a:lnTo>
                  <a:lnTo>
                    <a:pt x="84" y="22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985080" y="3987720"/>
              <a:ext cx="74880" cy="66960"/>
            </a:xfrm>
            <a:custGeom>
              <a:avLst/>
              <a:gdLst/>
              <a:ahLst/>
              <a:rect l="0" t="0" r="r" b="b"/>
              <a:pathLst>
                <a:path w="208" h="186">
                  <a:moveTo>
                    <a:pt x="0" y="116"/>
                  </a:moveTo>
                  <a:lnTo>
                    <a:pt x="124" y="0"/>
                  </a:lnTo>
                  <a:lnTo>
                    <a:pt x="208" y="116"/>
                  </a:lnTo>
                  <a:lnTo>
                    <a:pt x="124" y="18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985080" y="3973680"/>
              <a:ext cx="74880" cy="81360"/>
            </a:xfrm>
            <a:custGeom>
              <a:avLst/>
              <a:gdLst/>
              <a:ahLst/>
              <a:rect l="0" t="0" r="r" b="b"/>
              <a:pathLst>
                <a:path fill="none" w="208" h="226">
                  <a:moveTo>
                    <a:pt x="0" y="113"/>
                  </a:moveTo>
                  <a:lnTo>
                    <a:pt x="124" y="0"/>
                  </a:lnTo>
                  <a:lnTo>
                    <a:pt x="208" y="113"/>
                  </a:lnTo>
                  <a:lnTo>
                    <a:pt x="124" y="22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116840" y="3973680"/>
              <a:ext cx="74880" cy="68760"/>
            </a:xfrm>
            <a:custGeom>
              <a:avLst/>
              <a:gdLst/>
              <a:ahLst/>
              <a:rect l="0" t="0" r="r" b="b"/>
              <a:pathLst>
                <a:path w="208" h="191">
                  <a:moveTo>
                    <a:pt x="0" y="113"/>
                  </a:moveTo>
                  <a:lnTo>
                    <a:pt x="84" y="0"/>
                  </a:lnTo>
                  <a:lnTo>
                    <a:pt x="208" y="113"/>
                  </a:lnTo>
                  <a:lnTo>
                    <a:pt x="84" y="191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7102440" y="3973680"/>
              <a:ext cx="76680" cy="68760"/>
            </a:xfrm>
            <a:custGeom>
              <a:avLst/>
              <a:gdLst/>
              <a:ahLst/>
              <a:rect l="0" t="0" r="r" b="b"/>
              <a:pathLst>
                <a:path fill="none" w="213" h="191">
                  <a:moveTo>
                    <a:pt x="0" y="77"/>
                  </a:moveTo>
                  <a:lnTo>
                    <a:pt x="126" y="0"/>
                  </a:lnTo>
                  <a:lnTo>
                    <a:pt x="213" y="77"/>
                  </a:lnTo>
                  <a:lnTo>
                    <a:pt x="126" y="19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236000" y="3960720"/>
              <a:ext cx="74880" cy="68760"/>
            </a:xfrm>
            <a:custGeom>
              <a:avLst/>
              <a:gdLst/>
              <a:ahLst/>
              <a:rect l="0" t="0" r="r" b="b"/>
              <a:pathLst>
                <a:path w="208" h="191">
                  <a:moveTo>
                    <a:pt x="0" y="113"/>
                  </a:moveTo>
                  <a:lnTo>
                    <a:pt x="84" y="0"/>
                  </a:lnTo>
                  <a:lnTo>
                    <a:pt x="208" y="113"/>
                  </a:lnTo>
                  <a:lnTo>
                    <a:pt x="84" y="191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236000" y="3960720"/>
              <a:ext cx="74880" cy="68760"/>
            </a:xfrm>
            <a:custGeom>
              <a:avLst/>
              <a:gdLst/>
              <a:ahLst/>
              <a:rect l="0" t="0" r="r" b="b"/>
              <a:pathLst>
                <a:path fill="none" w="208" h="191">
                  <a:moveTo>
                    <a:pt x="0" y="72"/>
                  </a:moveTo>
                  <a:lnTo>
                    <a:pt x="84" y="0"/>
                  </a:lnTo>
                  <a:lnTo>
                    <a:pt x="208" y="72"/>
                  </a:lnTo>
                  <a:lnTo>
                    <a:pt x="84" y="19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353360" y="3960720"/>
              <a:ext cx="76680" cy="68760"/>
            </a:xfrm>
            <a:custGeom>
              <a:avLst/>
              <a:gdLst/>
              <a:ahLst/>
              <a:rect l="0" t="0" r="r" b="b"/>
              <a:pathLst>
                <a:path w="213" h="191">
                  <a:moveTo>
                    <a:pt x="0" y="113"/>
                  </a:moveTo>
                  <a:lnTo>
                    <a:pt x="132" y="0"/>
                  </a:lnTo>
                  <a:lnTo>
                    <a:pt x="213" y="113"/>
                  </a:lnTo>
                  <a:lnTo>
                    <a:pt x="132" y="191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353360" y="3960720"/>
              <a:ext cx="76680" cy="68760"/>
            </a:xfrm>
            <a:custGeom>
              <a:avLst/>
              <a:gdLst/>
              <a:ahLst/>
              <a:rect l="0" t="0" r="r" b="b"/>
              <a:pathLst>
                <a:path fill="none" w="213" h="191">
                  <a:moveTo>
                    <a:pt x="0" y="72"/>
                  </a:moveTo>
                  <a:lnTo>
                    <a:pt x="86" y="0"/>
                  </a:lnTo>
                  <a:lnTo>
                    <a:pt x="213" y="72"/>
                  </a:lnTo>
                  <a:lnTo>
                    <a:pt x="86" y="19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7489800" y="3946680"/>
              <a:ext cx="74880" cy="82800"/>
            </a:xfrm>
            <a:custGeom>
              <a:avLst/>
              <a:gdLst/>
              <a:ahLst/>
              <a:rect l="0" t="0" r="r" b="b"/>
              <a:pathLst>
                <a:path w="208" h="230">
                  <a:moveTo>
                    <a:pt x="0" y="112"/>
                  </a:moveTo>
                  <a:lnTo>
                    <a:pt x="84" y="0"/>
                  </a:lnTo>
                  <a:lnTo>
                    <a:pt x="208" y="112"/>
                  </a:lnTo>
                  <a:lnTo>
                    <a:pt x="84" y="23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475400" y="3946680"/>
              <a:ext cx="76680" cy="68760"/>
            </a:xfrm>
            <a:custGeom>
              <a:avLst/>
              <a:gdLst/>
              <a:ahLst/>
              <a:rect l="0" t="0" r="r" b="b"/>
              <a:pathLst>
                <a:path fill="none" w="213" h="191">
                  <a:moveTo>
                    <a:pt x="0" y="77"/>
                  </a:moveTo>
                  <a:lnTo>
                    <a:pt x="126" y="0"/>
                  </a:lnTo>
                  <a:lnTo>
                    <a:pt x="213" y="77"/>
                  </a:lnTo>
                  <a:lnTo>
                    <a:pt x="126" y="19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624800" y="3932280"/>
              <a:ext cx="73440" cy="82800"/>
            </a:xfrm>
            <a:custGeom>
              <a:avLst/>
              <a:gdLst/>
              <a:ahLst/>
              <a:rect l="0" t="0" r="r" b="b"/>
              <a:pathLst>
                <a:path w="204" h="230">
                  <a:moveTo>
                    <a:pt x="0" y="114"/>
                  </a:moveTo>
                  <a:lnTo>
                    <a:pt x="77" y="0"/>
                  </a:lnTo>
                  <a:lnTo>
                    <a:pt x="204" y="114"/>
                  </a:lnTo>
                  <a:lnTo>
                    <a:pt x="77" y="23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607160" y="3932280"/>
              <a:ext cx="76680" cy="70200"/>
            </a:xfrm>
            <a:custGeom>
              <a:avLst/>
              <a:gdLst/>
              <a:ahLst/>
              <a:rect l="0" t="0" r="r" b="b"/>
              <a:pathLst>
                <a:path fill="none" w="213" h="195">
                  <a:moveTo>
                    <a:pt x="0" y="116"/>
                  </a:moveTo>
                  <a:lnTo>
                    <a:pt x="126" y="0"/>
                  </a:lnTo>
                  <a:lnTo>
                    <a:pt x="213" y="116"/>
                  </a:lnTo>
                  <a:lnTo>
                    <a:pt x="126" y="19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745400" y="3932280"/>
              <a:ext cx="71640" cy="82800"/>
            </a:xfrm>
            <a:custGeom>
              <a:avLst/>
              <a:gdLst/>
              <a:ahLst/>
              <a:rect l="0" t="0" r="r" b="b"/>
              <a:pathLst>
                <a:path w="199" h="230">
                  <a:moveTo>
                    <a:pt x="0" y="114"/>
                  </a:moveTo>
                  <a:lnTo>
                    <a:pt x="80" y="0"/>
                  </a:lnTo>
                  <a:lnTo>
                    <a:pt x="199" y="114"/>
                  </a:lnTo>
                  <a:lnTo>
                    <a:pt x="80" y="23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745400" y="3932280"/>
              <a:ext cx="71640" cy="70200"/>
            </a:xfrm>
            <a:custGeom>
              <a:avLst/>
              <a:gdLst/>
              <a:ahLst/>
              <a:rect l="0" t="0" r="r" b="b"/>
              <a:pathLst>
                <a:path fill="none" w="199" h="195">
                  <a:moveTo>
                    <a:pt x="0" y="116"/>
                  </a:moveTo>
                  <a:lnTo>
                    <a:pt x="80" y="0"/>
                  </a:lnTo>
                  <a:lnTo>
                    <a:pt x="199" y="116"/>
                  </a:lnTo>
                  <a:lnTo>
                    <a:pt x="80" y="19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862760" y="3919680"/>
              <a:ext cx="73440" cy="82800"/>
            </a:xfrm>
            <a:custGeom>
              <a:avLst/>
              <a:gdLst/>
              <a:ahLst/>
              <a:rect l="0" t="0" r="r" b="b"/>
              <a:pathLst>
                <a:path w="204" h="230">
                  <a:moveTo>
                    <a:pt x="0" y="114"/>
                  </a:moveTo>
                  <a:lnTo>
                    <a:pt x="121" y="0"/>
                  </a:lnTo>
                  <a:lnTo>
                    <a:pt x="204" y="114"/>
                  </a:lnTo>
                  <a:lnTo>
                    <a:pt x="121" y="23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862760" y="3919680"/>
              <a:ext cx="73440" cy="68760"/>
            </a:xfrm>
            <a:custGeom>
              <a:avLst/>
              <a:gdLst/>
              <a:ahLst/>
              <a:rect l="0" t="0" r="r" b="b"/>
              <a:pathLst>
                <a:path fill="none" w="204" h="191">
                  <a:moveTo>
                    <a:pt x="0" y="116"/>
                  </a:moveTo>
                  <a:lnTo>
                    <a:pt x="83" y="0"/>
                  </a:lnTo>
                  <a:lnTo>
                    <a:pt x="204" y="116"/>
                  </a:lnTo>
                  <a:lnTo>
                    <a:pt x="83" y="19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7994520" y="3919680"/>
              <a:ext cx="76680" cy="68760"/>
            </a:xfrm>
            <a:custGeom>
              <a:avLst/>
              <a:gdLst/>
              <a:ahLst/>
              <a:rect l="0" t="0" r="r" b="b"/>
              <a:pathLst>
                <a:path w="213" h="191">
                  <a:moveTo>
                    <a:pt x="0" y="74"/>
                  </a:moveTo>
                  <a:lnTo>
                    <a:pt x="86" y="0"/>
                  </a:lnTo>
                  <a:lnTo>
                    <a:pt x="213" y="74"/>
                  </a:lnTo>
                  <a:lnTo>
                    <a:pt x="86" y="191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7980480" y="3905280"/>
              <a:ext cx="74880" cy="68760"/>
            </a:xfrm>
            <a:custGeom>
              <a:avLst/>
              <a:gdLst/>
              <a:ahLst/>
              <a:rect l="0" t="0" r="r" b="b"/>
              <a:pathLst>
                <a:path fill="none" w="208" h="191">
                  <a:moveTo>
                    <a:pt x="0" y="113"/>
                  </a:moveTo>
                  <a:lnTo>
                    <a:pt x="124" y="0"/>
                  </a:lnTo>
                  <a:lnTo>
                    <a:pt x="208" y="113"/>
                  </a:lnTo>
                  <a:lnTo>
                    <a:pt x="124" y="19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113680" y="3905280"/>
              <a:ext cx="78120" cy="68760"/>
            </a:xfrm>
            <a:custGeom>
              <a:avLst/>
              <a:gdLst/>
              <a:ahLst/>
              <a:rect l="0" t="0" r="r" b="b"/>
              <a:pathLst>
                <a:path w="217" h="191">
                  <a:moveTo>
                    <a:pt x="0" y="77"/>
                  </a:moveTo>
                  <a:lnTo>
                    <a:pt x="81" y="0"/>
                  </a:lnTo>
                  <a:lnTo>
                    <a:pt x="217" y="77"/>
                  </a:lnTo>
                  <a:lnTo>
                    <a:pt x="81" y="19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099280" y="3894120"/>
              <a:ext cx="74880" cy="79560"/>
            </a:xfrm>
            <a:custGeom>
              <a:avLst/>
              <a:gdLst/>
              <a:ahLst/>
              <a:rect l="0" t="0" r="r" b="b"/>
              <a:pathLst>
                <a:path fill="none" w="208" h="221">
                  <a:moveTo>
                    <a:pt x="0" y="111"/>
                  </a:moveTo>
                  <a:lnTo>
                    <a:pt x="124" y="0"/>
                  </a:lnTo>
                  <a:lnTo>
                    <a:pt x="208" y="111"/>
                  </a:lnTo>
                  <a:lnTo>
                    <a:pt x="124" y="22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232840" y="3905280"/>
              <a:ext cx="74880" cy="68760"/>
            </a:xfrm>
            <a:custGeom>
              <a:avLst/>
              <a:gdLst/>
              <a:ahLst/>
              <a:rect l="0" t="0" r="r" b="b"/>
              <a:pathLst>
                <a:path w="208" h="191">
                  <a:moveTo>
                    <a:pt x="0" y="77"/>
                  </a:moveTo>
                  <a:lnTo>
                    <a:pt x="124" y="0"/>
                  </a:lnTo>
                  <a:lnTo>
                    <a:pt x="208" y="77"/>
                  </a:lnTo>
                  <a:lnTo>
                    <a:pt x="124" y="19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8232840" y="3894120"/>
              <a:ext cx="74880" cy="79560"/>
            </a:xfrm>
            <a:custGeom>
              <a:avLst/>
              <a:gdLst/>
              <a:ahLst/>
              <a:rect l="0" t="0" r="r" b="b"/>
              <a:pathLst>
                <a:path fill="none" w="208" h="221">
                  <a:moveTo>
                    <a:pt x="0" y="111"/>
                  </a:moveTo>
                  <a:lnTo>
                    <a:pt x="84" y="0"/>
                  </a:lnTo>
                  <a:lnTo>
                    <a:pt x="208" y="111"/>
                  </a:lnTo>
                  <a:lnTo>
                    <a:pt x="84" y="22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359320" y="4313160"/>
              <a:ext cx="74880" cy="70200"/>
            </a:xfrm>
            <a:custGeom>
              <a:avLst/>
              <a:gdLst/>
              <a:ahLst/>
              <a:rect l="0" t="0" r="r" b="b"/>
              <a:pathLst>
                <a:path fill="none" w="208" h="195">
                  <a:moveTo>
                    <a:pt x="0" y="195"/>
                  </a:moveTo>
                  <a:lnTo>
                    <a:pt x="124" y="0"/>
                  </a:lnTo>
                  <a:lnTo>
                    <a:pt x="208" y="19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999040" y="4286160"/>
              <a:ext cx="73440" cy="70200"/>
            </a:xfrm>
            <a:custGeom>
              <a:avLst/>
              <a:gdLst/>
              <a:ahLst/>
              <a:rect l="0" t="0" r="r" b="b"/>
              <a:pathLst>
                <a:path fill="none" w="204" h="195">
                  <a:moveTo>
                    <a:pt x="0" y="195"/>
                  </a:moveTo>
                  <a:lnTo>
                    <a:pt x="83" y="0"/>
                  </a:lnTo>
                  <a:lnTo>
                    <a:pt x="204" y="19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611760" y="4246560"/>
              <a:ext cx="74880" cy="66960"/>
            </a:xfrm>
            <a:custGeom>
              <a:avLst/>
              <a:gdLst/>
              <a:ahLst/>
              <a:rect l="0" t="0" r="r" b="b"/>
              <a:pathLst>
                <a:path fill="none" w="208" h="186">
                  <a:moveTo>
                    <a:pt x="0" y="186"/>
                  </a:moveTo>
                  <a:lnTo>
                    <a:pt x="124" y="0"/>
                  </a:lnTo>
                  <a:lnTo>
                    <a:pt x="208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7353360" y="4191120"/>
              <a:ext cx="76680" cy="82800"/>
            </a:xfrm>
            <a:custGeom>
              <a:avLst/>
              <a:gdLst/>
              <a:ahLst/>
              <a:rect l="0" t="0" r="r" b="b"/>
              <a:pathLst>
                <a:path fill="none" w="213" h="230">
                  <a:moveTo>
                    <a:pt x="0" y="230"/>
                  </a:moveTo>
                  <a:lnTo>
                    <a:pt x="86" y="0"/>
                  </a:lnTo>
                  <a:lnTo>
                    <a:pt x="213" y="23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980480" y="4149720"/>
              <a:ext cx="74880" cy="66960"/>
            </a:xfrm>
            <a:custGeom>
              <a:avLst/>
              <a:gdLst/>
              <a:ahLst/>
              <a:rect l="0" t="0" r="r" b="b"/>
              <a:pathLst>
                <a:path fill="none" w="208" h="186">
                  <a:moveTo>
                    <a:pt x="0" y="186"/>
                  </a:moveTo>
                  <a:lnTo>
                    <a:pt x="124" y="0"/>
                  </a:lnTo>
                  <a:lnTo>
                    <a:pt x="208" y="1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 txBox="1"/>
            <p:nvPr/>
          </p:nvSpPr>
          <p:spPr>
            <a:xfrm>
              <a:off x="4930920" y="4522680"/>
              <a:ext cx="2541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 txBox="1"/>
            <p:nvPr/>
          </p:nvSpPr>
          <p:spPr>
            <a:xfrm>
              <a:off x="4737240" y="407196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 txBox="1"/>
            <p:nvPr/>
          </p:nvSpPr>
          <p:spPr>
            <a:xfrm>
              <a:off x="4737240" y="362268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 txBox="1"/>
            <p:nvPr/>
          </p:nvSpPr>
          <p:spPr>
            <a:xfrm>
              <a:off x="4737240" y="317664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 txBox="1"/>
            <p:nvPr/>
          </p:nvSpPr>
          <p:spPr>
            <a:xfrm>
              <a:off x="4737240" y="272736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 txBox="1"/>
            <p:nvPr/>
          </p:nvSpPr>
          <p:spPr>
            <a:xfrm>
              <a:off x="4930920" y="2263680"/>
              <a:ext cx="2541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 txBox="1"/>
            <p:nvPr/>
          </p:nvSpPr>
          <p:spPr>
            <a:xfrm>
              <a:off x="4737240" y="4726080"/>
              <a:ext cx="2541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 txBox="1"/>
            <p:nvPr/>
          </p:nvSpPr>
          <p:spPr>
            <a:xfrm>
              <a:off x="5348160" y="472608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 txBox="1"/>
            <p:nvPr/>
          </p:nvSpPr>
          <p:spPr>
            <a:xfrm>
              <a:off x="6032520" y="472608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 txBox="1"/>
            <p:nvPr/>
          </p:nvSpPr>
          <p:spPr>
            <a:xfrm>
              <a:off x="6688080" y="472608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 txBox="1"/>
            <p:nvPr/>
          </p:nvSpPr>
          <p:spPr>
            <a:xfrm>
              <a:off x="7372440" y="4726080"/>
              <a:ext cx="358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 txBox="1"/>
            <p:nvPr/>
          </p:nvSpPr>
          <p:spPr>
            <a:xfrm>
              <a:off x="8116920" y="4726080"/>
              <a:ext cx="2541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 txBox="1"/>
            <p:nvPr/>
          </p:nvSpPr>
          <p:spPr>
            <a:xfrm>
              <a:off x="6137280" y="4875120"/>
              <a:ext cx="10810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tch Time, h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"/>
          <p:cNvSpPr txBox="1"/>
          <p:nvPr/>
        </p:nvSpPr>
        <p:spPr>
          <a:xfrm>
            <a:off x="3041640" y="5743440"/>
            <a:ext cx="2739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1 % Holdup on 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2062080" y="1733400"/>
            <a:ext cx="1779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iff Integ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 txBox="1"/>
          <p:nvPr/>
        </p:nvSpPr>
        <p:spPr>
          <a:xfrm>
            <a:off x="5477040" y="1717560"/>
            <a:ext cx="1836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odel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"/>
          <p:cNvSpPr/>
          <p:nvPr/>
        </p:nvSpPr>
        <p:spPr>
          <a:xfrm>
            <a:off x="5291280" y="3343320"/>
            <a:ext cx="0" cy="2387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Semi-rigoro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3427560" y="3063960"/>
            <a:ext cx="685800" cy="2328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3427560" y="2787480"/>
            <a:ext cx="686160" cy="274320"/>
            <a:chOff x="3427560" y="2787480"/>
            <a:chExt cx="686160" cy="274320"/>
          </a:xfrm>
        </p:grpSpPr>
        <p:sp>
          <p:nvSpPr>
            <p:cNvPr id="2006" name=""/>
            <p:cNvSpPr/>
            <p:nvPr/>
          </p:nvSpPr>
          <p:spPr>
            <a:xfrm>
              <a:off x="3427560" y="278748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954" y="0"/>
                  </a:moveTo>
                  <a:lnTo>
                    <a:pt x="954" y="0"/>
                  </a:lnTo>
                  <a:cubicBezTo>
                    <a:pt x="787" y="0"/>
                    <a:pt x="622" y="35"/>
                    <a:pt x="477" y="102"/>
                  </a:cubicBezTo>
                  <a:cubicBezTo>
                    <a:pt x="332" y="169"/>
                    <a:pt x="212" y="265"/>
                    <a:pt x="128" y="381"/>
                  </a:cubicBezTo>
                  <a:cubicBezTo>
                    <a:pt x="44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770280" y="278748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954" y="762"/>
                  </a:moveTo>
                  <a:lnTo>
                    <a:pt x="954" y="762"/>
                  </a:lnTo>
                  <a:lnTo>
                    <a:pt x="954" y="762"/>
                  </a:lnTo>
                  <a:cubicBezTo>
                    <a:pt x="954" y="628"/>
                    <a:pt x="910" y="497"/>
                    <a:pt x="826" y="381"/>
                  </a:cubicBezTo>
                  <a:cubicBezTo>
                    <a:pt x="742" y="265"/>
                    <a:pt x="622" y="169"/>
                    <a:pt x="477" y="102"/>
                  </a:cubicBezTo>
                  <a:cubicBezTo>
                    <a:pt x="332" y="35"/>
                    <a:pt x="167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8" name=""/>
          <p:cNvGrpSpPr/>
          <p:nvPr/>
        </p:nvGrpSpPr>
        <p:grpSpPr>
          <a:xfrm>
            <a:off x="3427560" y="5400000"/>
            <a:ext cx="686160" cy="274320"/>
            <a:chOff x="3427560" y="5400000"/>
            <a:chExt cx="686160" cy="274320"/>
          </a:xfrm>
        </p:grpSpPr>
        <p:sp>
          <p:nvSpPr>
            <p:cNvPr id="2009" name=""/>
            <p:cNvSpPr/>
            <p:nvPr/>
          </p:nvSpPr>
          <p:spPr>
            <a:xfrm>
              <a:off x="3427560" y="5400000"/>
              <a:ext cx="345600" cy="274320"/>
            </a:xfrm>
            <a:custGeom>
              <a:avLst/>
              <a:gdLst/>
              <a:ahLst/>
              <a:rect l="0" t="0" r="r" b="b"/>
              <a:pathLst>
                <a:path fill="none" w="960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44" y="265"/>
                    <a:pt x="129" y="381"/>
                  </a:cubicBezTo>
                  <a:cubicBezTo>
                    <a:pt x="213" y="497"/>
                    <a:pt x="334" y="593"/>
                    <a:pt x="480" y="660"/>
                  </a:cubicBezTo>
                  <a:cubicBezTo>
                    <a:pt x="626" y="727"/>
                    <a:pt x="791" y="762"/>
                    <a:pt x="96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770280" y="540000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0" y="762"/>
                  </a:moveTo>
                  <a:lnTo>
                    <a:pt x="0" y="762"/>
                  </a:lnTo>
                  <a:cubicBezTo>
                    <a:pt x="167" y="762"/>
                    <a:pt x="332" y="727"/>
                    <a:pt x="477" y="660"/>
                  </a:cubicBezTo>
                  <a:cubicBezTo>
                    <a:pt x="622" y="593"/>
                    <a:pt x="742" y="497"/>
                    <a:pt x="826" y="381"/>
                  </a:cubicBezTo>
                  <a:cubicBezTo>
                    <a:pt x="910" y="265"/>
                    <a:pt x="954" y="134"/>
                    <a:pt x="95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1" name=""/>
          <p:cNvSpPr/>
          <p:nvPr/>
        </p:nvSpPr>
        <p:spPr>
          <a:xfrm>
            <a:off x="3084480" y="615456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084480" y="670248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3" name=""/>
          <p:cNvGrpSpPr/>
          <p:nvPr/>
        </p:nvGrpSpPr>
        <p:grpSpPr>
          <a:xfrm>
            <a:off x="4453920" y="6149880"/>
            <a:ext cx="274320" cy="548280"/>
            <a:chOff x="4453920" y="6149880"/>
            <a:chExt cx="274320" cy="548280"/>
          </a:xfrm>
        </p:grpSpPr>
        <p:sp>
          <p:nvSpPr>
            <p:cNvPr id="2014" name=""/>
            <p:cNvSpPr/>
            <p:nvPr/>
          </p:nvSpPr>
          <p:spPr>
            <a:xfrm>
              <a:off x="4453920" y="614988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762"/>
                  </a:moveTo>
                  <a:lnTo>
                    <a:pt x="762" y="762"/>
                  </a:lnTo>
                  <a:lnTo>
                    <a:pt x="762" y="762"/>
                  </a:lnTo>
                  <a:cubicBezTo>
                    <a:pt x="762" y="628"/>
                    <a:pt x="727" y="497"/>
                    <a:pt x="660" y="381"/>
                  </a:cubicBezTo>
                  <a:cubicBezTo>
                    <a:pt x="593" y="265"/>
                    <a:pt x="497" y="169"/>
                    <a:pt x="381" y="102"/>
                  </a:cubicBezTo>
                  <a:cubicBezTo>
                    <a:pt x="265" y="35"/>
                    <a:pt x="13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453920" y="64238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762"/>
                  </a:moveTo>
                  <a:lnTo>
                    <a:pt x="0" y="762"/>
                  </a:lnTo>
                  <a:cubicBezTo>
                    <a:pt x="134" y="762"/>
                    <a:pt x="265" y="727"/>
                    <a:pt x="381" y="660"/>
                  </a:cubicBezTo>
                  <a:cubicBezTo>
                    <a:pt x="497" y="593"/>
                    <a:pt x="593" y="497"/>
                    <a:pt x="660" y="381"/>
                  </a:cubicBezTo>
                  <a:cubicBezTo>
                    <a:pt x="727" y="265"/>
                    <a:pt x="762" y="134"/>
                    <a:pt x="76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2808360" y="6149880"/>
            <a:ext cx="274320" cy="548280"/>
            <a:chOff x="2808360" y="6149880"/>
            <a:chExt cx="274320" cy="548280"/>
          </a:xfrm>
        </p:grpSpPr>
        <p:sp>
          <p:nvSpPr>
            <p:cNvPr id="2017" name=""/>
            <p:cNvSpPr/>
            <p:nvPr/>
          </p:nvSpPr>
          <p:spPr>
            <a:xfrm>
              <a:off x="2808360" y="64238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35" y="265"/>
                    <a:pt x="102" y="381"/>
                  </a:cubicBezTo>
                  <a:cubicBezTo>
                    <a:pt x="169" y="497"/>
                    <a:pt x="265" y="593"/>
                    <a:pt x="381" y="660"/>
                  </a:cubicBezTo>
                  <a:cubicBezTo>
                    <a:pt x="497" y="727"/>
                    <a:pt x="628" y="762"/>
                    <a:pt x="762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808360" y="614988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0"/>
                  </a:moveTo>
                  <a:lnTo>
                    <a:pt x="762" y="0"/>
                  </a:lnTo>
                  <a:cubicBezTo>
                    <a:pt x="628" y="0"/>
                    <a:pt x="497" y="35"/>
                    <a:pt x="381" y="102"/>
                  </a:cubicBezTo>
                  <a:cubicBezTo>
                    <a:pt x="265" y="169"/>
                    <a:pt x="169" y="265"/>
                    <a:pt x="102" y="381"/>
                  </a:cubicBezTo>
                  <a:cubicBezTo>
                    <a:pt x="35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9" name=""/>
          <p:cNvSpPr/>
          <p:nvPr/>
        </p:nvSpPr>
        <p:spPr>
          <a:xfrm>
            <a:off x="4780080" y="1968480"/>
            <a:ext cx="94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4775040" y="2521080"/>
            <a:ext cx="943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1" name=""/>
          <p:cNvGrpSpPr/>
          <p:nvPr/>
        </p:nvGrpSpPr>
        <p:grpSpPr>
          <a:xfrm>
            <a:off x="5708520" y="1963800"/>
            <a:ext cx="186120" cy="552600"/>
            <a:chOff x="5708520" y="1963800"/>
            <a:chExt cx="186120" cy="552600"/>
          </a:xfrm>
        </p:grpSpPr>
        <p:sp>
          <p:nvSpPr>
            <p:cNvPr id="2022" name=""/>
            <p:cNvSpPr/>
            <p:nvPr/>
          </p:nvSpPr>
          <p:spPr>
            <a:xfrm>
              <a:off x="5708520" y="196380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517" y="768"/>
                  </a:moveTo>
                  <a:lnTo>
                    <a:pt x="517" y="768"/>
                  </a:lnTo>
                  <a:lnTo>
                    <a:pt x="517" y="768"/>
                  </a:lnTo>
                  <a:cubicBezTo>
                    <a:pt x="517" y="633"/>
                    <a:pt x="493" y="501"/>
                    <a:pt x="448" y="384"/>
                  </a:cubicBezTo>
                  <a:cubicBezTo>
                    <a:pt x="402" y="267"/>
                    <a:pt x="337" y="170"/>
                    <a:pt x="258" y="103"/>
                  </a:cubicBezTo>
                  <a:cubicBezTo>
                    <a:pt x="180" y="35"/>
                    <a:pt x="9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708520" y="223992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0" y="768"/>
                  </a:moveTo>
                  <a:lnTo>
                    <a:pt x="0" y="768"/>
                  </a:lnTo>
                  <a:cubicBezTo>
                    <a:pt x="91" y="768"/>
                    <a:pt x="180" y="733"/>
                    <a:pt x="259" y="665"/>
                  </a:cubicBezTo>
                  <a:cubicBezTo>
                    <a:pt x="337" y="598"/>
                    <a:pt x="402" y="501"/>
                    <a:pt x="448" y="384"/>
                  </a:cubicBezTo>
                  <a:cubicBezTo>
                    <a:pt x="493" y="267"/>
                    <a:pt x="517" y="135"/>
                    <a:pt x="517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4" name=""/>
          <p:cNvGrpSpPr/>
          <p:nvPr/>
        </p:nvGrpSpPr>
        <p:grpSpPr>
          <a:xfrm>
            <a:off x="4594320" y="1963800"/>
            <a:ext cx="186120" cy="552600"/>
            <a:chOff x="4594320" y="1963800"/>
            <a:chExt cx="186120" cy="552600"/>
          </a:xfrm>
        </p:grpSpPr>
        <p:sp>
          <p:nvSpPr>
            <p:cNvPr id="2025" name=""/>
            <p:cNvSpPr/>
            <p:nvPr/>
          </p:nvSpPr>
          <p:spPr>
            <a:xfrm>
              <a:off x="4594320" y="223992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0" y="0"/>
                  </a:moveTo>
                  <a:lnTo>
                    <a:pt x="0" y="0"/>
                  </a:lnTo>
                  <a:cubicBezTo>
                    <a:pt x="0" y="135"/>
                    <a:pt x="24" y="267"/>
                    <a:pt x="69" y="384"/>
                  </a:cubicBezTo>
                  <a:cubicBezTo>
                    <a:pt x="115" y="501"/>
                    <a:pt x="180" y="598"/>
                    <a:pt x="259" y="665"/>
                  </a:cubicBezTo>
                  <a:cubicBezTo>
                    <a:pt x="337" y="733"/>
                    <a:pt x="426" y="768"/>
                    <a:pt x="517" y="76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4594320" y="196380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517" y="0"/>
                  </a:moveTo>
                  <a:lnTo>
                    <a:pt x="517" y="0"/>
                  </a:lnTo>
                  <a:cubicBezTo>
                    <a:pt x="426" y="0"/>
                    <a:pt x="337" y="35"/>
                    <a:pt x="258" y="103"/>
                  </a:cubicBezTo>
                  <a:cubicBezTo>
                    <a:pt x="180" y="170"/>
                    <a:pt x="115" y="267"/>
                    <a:pt x="69" y="384"/>
                  </a:cubicBezTo>
                  <a:cubicBezTo>
                    <a:pt x="24" y="501"/>
                    <a:pt x="0" y="633"/>
                    <a:pt x="0" y="76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7" name=""/>
          <p:cNvSpPr/>
          <p:nvPr/>
        </p:nvSpPr>
        <p:spPr>
          <a:xfrm>
            <a:off x="3770280" y="2239920"/>
            <a:ext cx="662400" cy="547920"/>
          </a:xfrm>
          <a:custGeom>
            <a:avLst/>
            <a:gdLst/>
            <a:ahLst/>
            <a:rect l="0" t="0" r="r" b="b"/>
            <a:pathLst>
              <a:path fill="none" w="1840" h="1522">
                <a:moveTo>
                  <a:pt x="0" y="1522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4422600" y="218772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4270320" y="2516040"/>
            <a:ext cx="1010160" cy="614880"/>
          </a:xfrm>
          <a:custGeom>
            <a:avLst/>
            <a:gdLst/>
            <a:ahLst/>
            <a:rect l="0" t="0" r="r" b="b"/>
            <a:pathLst>
              <a:path fill="none" w="2806" h="1708">
                <a:moveTo>
                  <a:pt x="0" y="1708"/>
                </a:moveTo>
                <a:lnTo>
                  <a:pt x="2806" y="1708"/>
                </a:lnTo>
                <a:lnTo>
                  <a:pt x="2806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4113360" y="307800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0" y="128"/>
                </a:moveTo>
                <a:lnTo>
                  <a:pt x="438" y="252"/>
                </a:lnTo>
                <a:lnTo>
                  <a:pt x="438" y="0"/>
                </a:lnTo>
                <a:lnTo>
                  <a:pt x="0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5280120" y="1692360"/>
            <a:ext cx="662400" cy="271800"/>
          </a:xfrm>
          <a:custGeom>
            <a:avLst/>
            <a:gdLst/>
            <a:ahLst/>
            <a:rect l="0" t="0" r="r" b="b"/>
            <a:pathLst>
              <a:path fill="none" w="1840" h="755">
                <a:moveTo>
                  <a:pt x="0" y="755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5932440" y="163980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3770280" y="5668920"/>
            <a:ext cx="0" cy="480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3429000" y="3414600"/>
            <a:ext cx="674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3462480" y="3755880"/>
            <a:ext cx="674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3463920" y="4138560"/>
            <a:ext cx="674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5850000" y="1914480"/>
            <a:ext cx="1666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B, EB, 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4230720" y="3241800"/>
            <a:ext cx="166680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B, 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4441680" y="3525840"/>
            <a:ext cx="166680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B, 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"/>
          <p:cNvSpPr txBox="1"/>
          <p:nvPr/>
        </p:nvSpPr>
        <p:spPr>
          <a:xfrm>
            <a:off x="2814480" y="623736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"/>
          <p:cNvSpPr txBox="1"/>
          <p:nvPr/>
        </p:nvSpPr>
        <p:spPr>
          <a:xfrm>
            <a:off x="4681440" y="3870360"/>
            <a:ext cx="166680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B, 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"/>
          <p:cNvSpPr txBox="1"/>
          <p:nvPr/>
        </p:nvSpPr>
        <p:spPr>
          <a:xfrm>
            <a:off x="4834080" y="410364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B, 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"/>
          <p:cNvSpPr txBox="1"/>
          <p:nvPr/>
        </p:nvSpPr>
        <p:spPr>
          <a:xfrm>
            <a:off x="4460760" y="5203800"/>
            <a:ext cx="166680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B, 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"/>
          <p:cNvSpPr txBox="1"/>
          <p:nvPr/>
        </p:nvSpPr>
        <p:spPr>
          <a:xfrm>
            <a:off x="192240" y="3125880"/>
            <a:ext cx="32050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iwekar, 19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(Batch-Dist, MultiBatch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oherty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o-workers, 1990-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atch Distillation: Design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timization, and Optimal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43000" y="312408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rmila Diwek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ttsburgh, PA 152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ail: urmila@cmu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Shortcu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427560" y="3063960"/>
            <a:ext cx="685800" cy="2328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7" name=""/>
          <p:cNvGrpSpPr/>
          <p:nvPr/>
        </p:nvGrpSpPr>
        <p:grpSpPr>
          <a:xfrm>
            <a:off x="3427560" y="2787480"/>
            <a:ext cx="686160" cy="274320"/>
            <a:chOff x="3427560" y="2787480"/>
            <a:chExt cx="686160" cy="274320"/>
          </a:xfrm>
        </p:grpSpPr>
        <p:sp>
          <p:nvSpPr>
            <p:cNvPr id="2048" name=""/>
            <p:cNvSpPr/>
            <p:nvPr/>
          </p:nvSpPr>
          <p:spPr>
            <a:xfrm>
              <a:off x="3427560" y="278748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954" y="0"/>
                  </a:moveTo>
                  <a:lnTo>
                    <a:pt x="954" y="0"/>
                  </a:lnTo>
                  <a:cubicBezTo>
                    <a:pt x="787" y="0"/>
                    <a:pt x="622" y="35"/>
                    <a:pt x="477" y="102"/>
                  </a:cubicBezTo>
                  <a:cubicBezTo>
                    <a:pt x="332" y="169"/>
                    <a:pt x="212" y="265"/>
                    <a:pt x="128" y="381"/>
                  </a:cubicBezTo>
                  <a:cubicBezTo>
                    <a:pt x="44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770280" y="278748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954" y="762"/>
                  </a:moveTo>
                  <a:lnTo>
                    <a:pt x="954" y="762"/>
                  </a:lnTo>
                  <a:lnTo>
                    <a:pt x="954" y="762"/>
                  </a:lnTo>
                  <a:cubicBezTo>
                    <a:pt x="954" y="628"/>
                    <a:pt x="910" y="497"/>
                    <a:pt x="826" y="381"/>
                  </a:cubicBezTo>
                  <a:cubicBezTo>
                    <a:pt x="742" y="265"/>
                    <a:pt x="622" y="169"/>
                    <a:pt x="477" y="102"/>
                  </a:cubicBezTo>
                  <a:cubicBezTo>
                    <a:pt x="332" y="35"/>
                    <a:pt x="167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0" name=""/>
          <p:cNvGrpSpPr/>
          <p:nvPr/>
        </p:nvGrpSpPr>
        <p:grpSpPr>
          <a:xfrm>
            <a:off x="3427560" y="5400000"/>
            <a:ext cx="686160" cy="274320"/>
            <a:chOff x="3427560" y="5400000"/>
            <a:chExt cx="686160" cy="274320"/>
          </a:xfrm>
        </p:grpSpPr>
        <p:sp>
          <p:nvSpPr>
            <p:cNvPr id="2051" name=""/>
            <p:cNvSpPr/>
            <p:nvPr/>
          </p:nvSpPr>
          <p:spPr>
            <a:xfrm>
              <a:off x="3427560" y="5400000"/>
              <a:ext cx="345600" cy="274320"/>
            </a:xfrm>
            <a:custGeom>
              <a:avLst/>
              <a:gdLst/>
              <a:ahLst/>
              <a:rect l="0" t="0" r="r" b="b"/>
              <a:pathLst>
                <a:path fill="none" w="960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44" y="265"/>
                    <a:pt x="129" y="381"/>
                  </a:cubicBezTo>
                  <a:cubicBezTo>
                    <a:pt x="213" y="497"/>
                    <a:pt x="334" y="593"/>
                    <a:pt x="480" y="660"/>
                  </a:cubicBezTo>
                  <a:cubicBezTo>
                    <a:pt x="626" y="727"/>
                    <a:pt x="791" y="762"/>
                    <a:pt x="96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70280" y="540000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0" y="762"/>
                  </a:moveTo>
                  <a:lnTo>
                    <a:pt x="0" y="762"/>
                  </a:lnTo>
                  <a:cubicBezTo>
                    <a:pt x="167" y="762"/>
                    <a:pt x="332" y="727"/>
                    <a:pt x="477" y="660"/>
                  </a:cubicBezTo>
                  <a:cubicBezTo>
                    <a:pt x="622" y="593"/>
                    <a:pt x="742" y="497"/>
                    <a:pt x="826" y="381"/>
                  </a:cubicBezTo>
                  <a:cubicBezTo>
                    <a:pt x="910" y="265"/>
                    <a:pt x="954" y="134"/>
                    <a:pt x="95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3" name=""/>
          <p:cNvSpPr/>
          <p:nvPr/>
        </p:nvSpPr>
        <p:spPr>
          <a:xfrm>
            <a:off x="3084480" y="615456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3084480" y="670248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5" name=""/>
          <p:cNvGrpSpPr/>
          <p:nvPr/>
        </p:nvGrpSpPr>
        <p:grpSpPr>
          <a:xfrm>
            <a:off x="4453920" y="6149880"/>
            <a:ext cx="274320" cy="548280"/>
            <a:chOff x="4453920" y="6149880"/>
            <a:chExt cx="274320" cy="548280"/>
          </a:xfrm>
        </p:grpSpPr>
        <p:sp>
          <p:nvSpPr>
            <p:cNvPr id="2056" name=""/>
            <p:cNvSpPr/>
            <p:nvPr/>
          </p:nvSpPr>
          <p:spPr>
            <a:xfrm>
              <a:off x="4453920" y="614988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762"/>
                  </a:moveTo>
                  <a:lnTo>
                    <a:pt x="762" y="762"/>
                  </a:lnTo>
                  <a:lnTo>
                    <a:pt x="762" y="762"/>
                  </a:lnTo>
                  <a:cubicBezTo>
                    <a:pt x="762" y="628"/>
                    <a:pt x="727" y="497"/>
                    <a:pt x="660" y="381"/>
                  </a:cubicBezTo>
                  <a:cubicBezTo>
                    <a:pt x="593" y="265"/>
                    <a:pt x="497" y="169"/>
                    <a:pt x="381" y="102"/>
                  </a:cubicBezTo>
                  <a:cubicBezTo>
                    <a:pt x="265" y="35"/>
                    <a:pt x="13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4453920" y="64238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762"/>
                  </a:moveTo>
                  <a:lnTo>
                    <a:pt x="0" y="762"/>
                  </a:lnTo>
                  <a:cubicBezTo>
                    <a:pt x="134" y="762"/>
                    <a:pt x="265" y="727"/>
                    <a:pt x="381" y="660"/>
                  </a:cubicBezTo>
                  <a:cubicBezTo>
                    <a:pt x="497" y="593"/>
                    <a:pt x="593" y="497"/>
                    <a:pt x="660" y="381"/>
                  </a:cubicBezTo>
                  <a:cubicBezTo>
                    <a:pt x="727" y="265"/>
                    <a:pt x="762" y="134"/>
                    <a:pt x="76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2808360" y="6149880"/>
            <a:ext cx="274320" cy="548280"/>
            <a:chOff x="2808360" y="6149880"/>
            <a:chExt cx="274320" cy="548280"/>
          </a:xfrm>
        </p:grpSpPr>
        <p:sp>
          <p:nvSpPr>
            <p:cNvPr id="2059" name=""/>
            <p:cNvSpPr/>
            <p:nvPr/>
          </p:nvSpPr>
          <p:spPr>
            <a:xfrm>
              <a:off x="2808360" y="64238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35" y="265"/>
                    <a:pt x="102" y="381"/>
                  </a:cubicBezTo>
                  <a:cubicBezTo>
                    <a:pt x="169" y="497"/>
                    <a:pt x="265" y="593"/>
                    <a:pt x="381" y="660"/>
                  </a:cubicBezTo>
                  <a:cubicBezTo>
                    <a:pt x="497" y="727"/>
                    <a:pt x="628" y="762"/>
                    <a:pt x="762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808360" y="614988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0"/>
                  </a:moveTo>
                  <a:lnTo>
                    <a:pt x="762" y="0"/>
                  </a:lnTo>
                  <a:cubicBezTo>
                    <a:pt x="628" y="0"/>
                    <a:pt x="497" y="35"/>
                    <a:pt x="381" y="102"/>
                  </a:cubicBezTo>
                  <a:cubicBezTo>
                    <a:pt x="265" y="169"/>
                    <a:pt x="169" y="265"/>
                    <a:pt x="102" y="381"/>
                  </a:cubicBezTo>
                  <a:cubicBezTo>
                    <a:pt x="35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4780080" y="1968480"/>
            <a:ext cx="94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4775040" y="2521080"/>
            <a:ext cx="943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3" name=""/>
          <p:cNvGrpSpPr/>
          <p:nvPr/>
        </p:nvGrpSpPr>
        <p:grpSpPr>
          <a:xfrm>
            <a:off x="5708520" y="1963800"/>
            <a:ext cx="186120" cy="552600"/>
            <a:chOff x="5708520" y="1963800"/>
            <a:chExt cx="186120" cy="552600"/>
          </a:xfrm>
        </p:grpSpPr>
        <p:sp>
          <p:nvSpPr>
            <p:cNvPr id="2064" name=""/>
            <p:cNvSpPr/>
            <p:nvPr/>
          </p:nvSpPr>
          <p:spPr>
            <a:xfrm>
              <a:off x="5708520" y="196380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517" y="768"/>
                  </a:moveTo>
                  <a:lnTo>
                    <a:pt x="517" y="768"/>
                  </a:lnTo>
                  <a:lnTo>
                    <a:pt x="517" y="768"/>
                  </a:lnTo>
                  <a:cubicBezTo>
                    <a:pt x="517" y="633"/>
                    <a:pt x="493" y="501"/>
                    <a:pt x="448" y="384"/>
                  </a:cubicBezTo>
                  <a:cubicBezTo>
                    <a:pt x="402" y="267"/>
                    <a:pt x="337" y="170"/>
                    <a:pt x="258" y="103"/>
                  </a:cubicBezTo>
                  <a:cubicBezTo>
                    <a:pt x="180" y="35"/>
                    <a:pt x="9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708520" y="223992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0" y="768"/>
                  </a:moveTo>
                  <a:lnTo>
                    <a:pt x="0" y="768"/>
                  </a:lnTo>
                  <a:cubicBezTo>
                    <a:pt x="91" y="768"/>
                    <a:pt x="180" y="733"/>
                    <a:pt x="259" y="665"/>
                  </a:cubicBezTo>
                  <a:cubicBezTo>
                    <a:pt x="337" y="598"/>
                    <a:pt x="402" y="501"/>
                    <a:pt x="448" y="384"/>
                  </a:cubicBezTo>
                  <a:cubicBezTo>
                    <a:pt x="493" y="267"/>
                    <a:pt x="517" y="135"/>
                    <a:pt x="517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4594320" y="1963800"/>
            <a:ext cx="186120" cy="552600"/>
            <a:chOff x="4594320" y="1963800"/>
            <a:chExt cx="186120" cy="552600"/>
          </a:xfrm>
        </p:grpSpPr>
        <p:sp>
          <p:nvSpPr>
            <p:cNvPr id="2067" name=""/>
            <p:cNvSpPr/>
            <p:nvPr/>
          </p:nvSpPr>
          <p:spPr>
            <a:xfrm>
              <a:off x="4594320" y="223992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0" y="0"/>
                  </a:moveTo>
                  <a:lnTo>
                    <a:pt x="0" y="0"/>
                  </a:lnTo>
                  <a:cubicBezTo>
                    <a:pt x="0" y="135"/>
                    <a:pt x="24" y="267"/>
                    <a:pt x="69" y="384"/>
                  </a:cubicBezTo>
                  <a:cubicBezTo>
                    <a:pt x="115" y="501"/>
                    <a:pt x="180" y="598"/>
                    <a:pt x="259" y="665"/>
                  </a:cubicBezTo>
                  <a:cubicBezTo>
                    <a:pt x="337" y="733"/>
                    <a:pt x="426" y="768"/>
                    <a:pt x="517" y="76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594320" y="196380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517" y="0"/>
                  </a:moveTo>
                  <a:lnTo>
                    <a:pt x="517" y="0"/>
                  </a:lnTo>
                  <a:cubicBezTo>
                    <a:pt x="426" y="0"/>
                    <a:pt x="337" y="35"/>
                    <a:pt x="258" y="103"/>
                  </a:cubicBezTo>
                  <a:cubicBezTo>
                    <a:pt x="180" y="170"/>
                    <a:pt x="115" y="267"/>
                    <a:pt x="69" y="384"/>
                  </a:cubicBezTo>
                  <a:cubicBezTo>
                    <a:pt x="24" y="501"/>
                    <a:pt x="0" y="633"/>
                    <a:pt x="0" y="76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9" name=""/>
          <p:cNvSpPr/>
          <p:nvPr/>
        </p:nvSpPr>
        <p:spPr>
          <a:xfrm>
            <a:off x="3770280" y="2239920"/>
            <a:ext cx="662400" cy="547920"/>
          </a:xfrm>
          <a:custGeom>
            <a:avLst/>
            <a:gdLst/>
            <a:ahLst/>
            <a:rect l="0" t="0" r="r" b="b"/>
            <a:pathLst>
              <a:path fill="none" w="1840" h="1522">
                <a:moveTo>
                  <a:pt x="0" y="1522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4422600" y="218772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4270320" y="2516040"/>
            <a:ext cx="1010160" cy="614880"/>
          </a:xfrm>
          <a:custGeom>
            <a:avLst/>
            <a:gdLst/>
            <a:ahLst/>
            <a:rect l="0" t="0" r="r" b="b"/>
            <a:pathLst>
              <a:path fill="none" w="2806" h="1708">
                <a:moveTo>
                  <a:pt x="0" y="1708"/>
                </a:moveTo>
                <a:lnTo>
                  <a:pt x="2806" y="1708"/>
                </a:lnTo>
                <a:lnTo>
                  <a:pt x="2806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4113360" y="307800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0" y="128"/>
                </a:moveTo>
                <a:lnTo>
                  <a:pt x="438" y="252"/>
                </a:lnTo>
                <a:lnTo>
                  <a:pt x="438" y="0"/>
                </a:lnTo>
                <a:lnTo>
                  <a:pt x="0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5280120" y="1692360"/>
            <a:ext cx="662400" cy="271800"/>
          </a:xfrm>
          <a:custGeom>
            <a:avLst/>
            <a:gdLst/>
            <a:ahLst/>
            <a:rect l="0" t="0" r="r" b="b"/>
            <a:pathLst>
              <a:path fill="none" w="1840" h="755">
                <a:moveTo>
                  <a:pt x="0" y="755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5932440" y="163980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3770280" y="5668920"/>
            <a:ext cx="0" cy="480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3429000" y="3414600"/>
            <a:ext cx="674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3462480" y="3755880"/>
            <a:ext cx="674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3463920" y="4138560"/>
            <a:ext cx="674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2814480" y="623736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4776840" y="6373800"/>
            <a:ext cx="689040" cy="1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4191120" y="5421240"/>
            <a:ext cx="1288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5481720" y="5405400"/>
            <a:ext cx="0" cy="9525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 txBox="1"/>
          <p:nvPr/>
        </p:nvSpPr>
        <p:spPr>
          <a:xfrm>
            <a:off x="81000" y="3125880"/>
            <a:ext cx="30351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iwekar, 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iwekar, 1991 Bi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zeotrop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agnanam &amp; Diwek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1993,Ternary Azeotrop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 txBox="1"/>
          <p:nvPr/>
        </p:nvSpPr>
        <p:spPr>
          <a:xfrm>
            <a:off x="4348080" y="3827520"/>
            <a:ext cx="30654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atch distillation can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onsidered as continu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istillation with cha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feed, Diwekar 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5" name=""/>
          <p:cNvGrpSpPr/>
          <p:nvPr/>
        </p:nvGrpSpPr>
        <p:grpSpPr>
          <a:xfrm>
            <a:off x="1490760" y="1973160"/>
            <a:ext cx="687960" cy="2878560"/>
            <a:chOff x="1490760" y="1973160"/>
            <a:chExt cx="687960" cy="2878560"/>
          </a:xfrm>
        </p:grpSpPr>
        <p:sp>
          <p:nvSpPr>
            <p:cNvPr id="2086" name=""/>
            <p:cNvSpPr/>
            <p:nvPr/>
          </p:nvSpPr>
          <p:spPr>
            <a:xfrm>
              <a:off x="1492200" y="2249640"/>
              <a:ext cx="685800" cy="232884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7" name=""/>
            <p:cNvGrpSpPr/>
            <p:nvPr/>
          </p:nvGrpSpPr>
          <p:grpSpPr>
            <a:xfrm>
              <a:off x="1492200" y="1973160"/>
              <a:ext cx="686160" cy="274320"/>
              <a:chOff x="1492200" y="1973160"/>
              <a:chExt cx="686160" cy="274320"/>
            </a:xfrm>
          </p:grpSpPr>
          <p:sp>
            <p:nvSpPr>
              <p:cNvPr id="2088" name=""/>
              <p:cNvSpPr/>
              <p:nvPr/>
            </p:nvSpPr>
            <p:spPr>
              <a:xfrm>
                <a:off x="1492200" y="1973160"/>
                <a:ext cx="345600" cy="274320"/>
              </a:xfrm>
              <a:custGeom>
                <a:avLst/>
                <a:gdLst/>
                <a:ahLst/>
                <a:rect l="0" t="0" r="r" b="b"/>
                <a:pathLst>
                  <a:path fill="none" w="960" h="762">
                    <a:moveTo>
                      <a:pt x="960" y="0"/>
                    </a:moveTo>
                    <a:lnTo>
                      <a:pt x="960" y="0"/>
                    </a:lnTo>
                    <a:cubicBezTo>
                      <a:pt x="791" y="0"/>
                      <a:pt x="626" y="35"/>
                      <a:pt x="480" y="102"/>
                    </a:cubicBezTo>
                    <a:cubicBezTo>
                      <a:pt x="334" y="169"/>
                      <a:pt x="213" y="265"/>
                      <a:pt x="129" y="381"/>
                    </a:cubicBezTo>
                    <a:cubicBezTo>
                      <a:pt x="44" y="497"/>
                      <a:pt x="0" y="628"/>
                      <a:pt x="0" y="762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1837440" y="1973160"/>
                <a:ext cx="340920" cy="274320"/>
              </a:xfrm>
              <a:custGeom>
                <a:avLst/>
                <a:gdLst/>
                <a:ahLst/>
                <a:rect l="0" t="0" r="r" b="b"/>
                <a:pathLst>
                  <a:path fill="none" w="947" h="762">
                    <a:moveTo>
                      <a:pt x="947" y="762"/>
                    </a:moveTo>
                    <a:lnTo>
                      <a:pt x="947" y="762"/>
                    </a:lnTo>
                    <a:lnTo>
                      <a:pt x="947" y="762"/>
                    </a:lnTo>
                    <a:cubicBezTo>
                      <a:pt x="947" y="628"/>
                      <a:pt x="903" y="497"/>
                      <a:pt x="820" y="381"/>
                    </a:cubicBezTo>
                    <a:cubicBezTo>
                      <a:pt x="737" y="265"/>
                      <a:pt x="617" y="169"/>
                      <a:pt x="473" y="102"/>
                    </a:cubicBezTo>
                    <a:cubicBezTo>
                      <a:pt x="330" y="35"/>
                      <a:pt x="166" y="0"/>
                      <a:pt x="0" y="0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0" name=""/>
            <p:cNvGrpSpPr/>
            <p:nvPr/>
          </p:nvGrpSpPr>
          <p:grpSpPr>
            <a:xfrm>
              <a:off x="1490760" y="4577400"/>
              <a:ext cx="687960" cy="274320"/>
              <a:chOff x="1490760" y="4577400"/>
              <a:chExt cx="687960" cy="274320"/>
            </a:xfrm>
          </p:grpSpPr>
          <p:sp>
            <p:nvSpPr>
              <p:cNvPr id="2091" name=""/>
              <p:cNvSpPr/>
              <p:nvPr/>
            </p:nvSpPr>
            <p:spPr>
              <a:xfrm>
                <a:off x="1490760" y="4577400"/>
                <a:ext cx="345600" cy="274320"/>
              </a:xfrm>
              <a:custGeom>
                <a:avLst/>
                <a:gdLst/>
                <a:ahLst/>
                <a:rect l="0" t="0" r="r" b="b"/>
                <a:pathLst>
                  <a:path fill="none" w="960" h="762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34"/>
                      <a:pt x="44" y="265"/>
                      <a:pt x="129" y="381"/>
                    </a:cubicBezTo>
                    <a:cubicBezTo>
                      <a:pt x="213" y="497"/>
                      <a:pt x="334" y="593"/>
                      <a:pt x="480" y="660"/>
                    </a:cubicBezTo>
                    <a:cubicBezTo>
                      <a:pt x="626" y="727"/>
                      <a:pt x="791" y="762"/>
                      <a:pt x="960" y="762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1835280" y="4577400"/>
                <a:ext cx="343440" cy="274320"/>
              </a:xfrm>
              <a:custGeom>
                <a:avLst/>
                <a:gdLst/>
                <a:ahLst/>
                <a:rect l="0" t="0" r="r" b="b"/>
                <a:pathLst>
                  <a:path fill="none" w="954" h="762">
                    <a:moveTo>
                      <a:pt x="0" y="762"/>
                    </a:moveTo>
                    <a:lnTo>
                      <a:pt x="0" y="762"/>
                    </a:lnTo>
                    <a:cubicBezTo>
                      <a:pt x="167" y="762"/>
                      <a:pt x="332" y="727"/>
                      <a:pt x="477" y="660"/>
                    </a:cubicBezTo>
                    <a:cubicBezTo>
                      <a:pt x="622" y="593"/>
                      <a:pt x="742" y="497"/>
                      <a:pt x="826" y="381"/>
                    </a:cubicBezTo>
                    <a:cubicBezTo>
                      <a:pt x="910" y="265"/>
                      <a:pt x="954" y="134"/>
                      <a:pt x="954" y="0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3" name=""/>
          <p:cNvSpPr/>
          <p:nvPr/>
        </p:nvSpPr>
        <p:spPr>
          <a:xfrm>
            <a:off x="2363760" y="5130720"/>
            <a:ext cx="93348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2363760" y="5678640"/>
            <a:ext cx="93348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5" name=""/>
          <p:cNvGrpSpPr/>
          <p:nvPr/>
        </p:nvGrpSpPr>
        <p:grpSpPr>
          <a:xfrm>
            <a:off x="3295800" y="5126040"/>
            <a:ext cx="187560" cy="549720"/>
            <a:chOff x="3295800" y="5126040"/>
            <a:chExt cx="187560" cy="549720"/>
          </a:xfrm>
        </p:grpSpPr>
        <p:sp>
          <p:nvSpPr>
            <p:cNvPr id="2096" name=""/>
            <p:cNvSpPr/>
            <p:nvPr/>
          </p:nvSpPr>
          <p:spPr>
            <a:xfrm>
              <a:off x="3297240" y="512604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517" y="762"/>
                  </a:moveTo>
                  <a:lnTo>
                    <a:pt x="517" y="762"/>
                  </a:lnTo>
                  <a:lnTo>
                    <a:pt x="517" y="762"/>
                  </a:lnTo>
                  <a:cubicBezTo>
                    <a:pt x="517" y="628"/>
                    <a:pt x="493" y="497"/>
                    <a:pt x="448" y="381"/>
                  </a:cubicBezTo>
                  <a:cubicBezTo>
                    <a:pt x="402" y="265"/>
                    <a:pt x="337" y="169"/>
                    <a:pt x="258" y="102"/>
                  </a:cubicBezTo>
                  <a:cubicBezTo>
                    <a:pt x="180" y="35"/>
                    <a:pt x="91" y="0"/>
                    <a:pt x="0" y="0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295800" y="540144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0" y="762"/>
                  </a:moveTo>
                  <a:lnTo>
                    <a:pt x="0" y="762"/>
                  </a:lnTo>
                  <a:cubicBezTo>
                    <a:pt x="91" y="762"/>
                    <a:pt x="180" y="727"/>
                    <a:pt x="259" y="660"/>
                  </a:cubicBezTo>
                  <a:cubicBezTo>
                    <a:pt x="337" y="593"/>
                    <a:pt x="402" y="497"/>
                    <a:pt x="448" y="381"/>
                  </a:cubicBezTo>
                  <a:cubicBezTo>
                    <a:pt x="493" y="265"/>
                    <a:pt x="517" y="134"/>
                    <a:pt x="517" y="0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8" name=""/>
          <p:cNvGrpSpPr/>
          <p:nvPr/>
        </p:nvGrpSpPr>
        <p:grpSpPr>
          <a:xfrm>
            <a:off x="2176560" y="5126040"/>
            <a:ext cx="189720" cy="549720"/>
            <a:chOff x="2176560" y="5126040"/>
            <a:chExt cx="189720" cy="549720"/>
          </a:xfrm>
        </p:grpSpPr>
        <p:sp>
          <p:nvSpPr>
            <p:cNvPr id="2099" name=""/>
            <p:cNvSpPr/>
            <p:nvPr/>
          </p:nvSpPr>
          <p:spPr>
            <a:xfrm>
              <a:off x="2176560" y="540144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24" y="265"/>
                    <a:pt x="69" y="381"/>
                  </a:cubicBezTo>
                  <a:cubicBezTo>
                    <a:pt x="115" y="497"/>
                    <a:pt x="180" y="593"/>
                    <a:pt x="259" y="660"/>
                  </a:cubicBezTo>
                  <a:cubicBezTo>
                    <a:pt x="337" y="727"/>
                    <a:pt x="426" y="762"/>
                    <a:pt x="517" y="762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178000" y="5126040"/>
              <a:ext cx="188280" cy="274320"/>
            </a:xfrm>
            <a:custGeom>
              <a:avLst/>
              <a:gdLst/>
              <a:ahLst/>
              <a:rect l="0" t="0" r="r" b="b"/>
              <a:pathLst>
                <a:path fill="none" w="523" h="762">
                  <a:moveTo>
                    <a:pt x="523" y="0"/>
                  </a:moveTo>
                  <a:lnTo>
                    <a:pt x="523" y="0"/>
                  </a:lnTo>
                  <a:cubicBezTo>
                    <a:pt x="431" y="0"/>
                    <a:pt x="341" y="35"/>
                    <a:pt x="261" y="102"/>
                  </a:cubicBezTo>
                  <a:cubicBezTo>
                    <a:pt x="182" y="169"/>
                    <a:pt x="116" y="265"/>
                    <a:pt x="70" y="381"/>
                  </a:cubicBezTo>
                  <a:cubicBezTo>
                    <a:pt x="24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1" name=""/>
          <p:cNvSpPr/>
          <p:nvPr/>
        </p:nvSpPr>
        <p:spPr>
          <a:xfrm>
            <a:off x="1835280" y="4854600"/>
            <a:ext cx="343440" cy="547920"/>
          </a:xfrm>
          <a:custGeom>
            <a:avLst/>
            <a:gdLst/>
            <a:ahLst/>
            <a:rect l="0" t="0" r="r" b="b"/>
            <a:pathLst>
              <a:path fill="none" w="954" h="1522">
                <a:moveTo>
                  <a:pt x="954" y="1522"/>
                </a:moveTo>
                <a:lnTo>
                  <a:pt x="0" y="1522"/>
                </a:lnTo>
                <a:lnTo>
                  <a:pt x="0" y="0"/>
                </a:lnTo>
              </a:path>
            </a:pathLst>
          </a:custGeom>
          <a:ln w="12600">
            <a:solidFill>
              <a:srgbClr val="ffff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149480" y="949320"/>
            <a:ext cx="137160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149480" y="1501920"/>
            <a:ext cx="137160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2521080" y="944640"/>
            <a:ext cx="276480" cy="549720"/>
            <a:chOff x="2521080" y="944640"/>
            <a:chExt cx="276480" cy="549720"/>
          </a:xfrm>
        </p:grpSpPr>
        <p:sp>
          <p:nvSpPr>
            <p:cNvPr id="2105" name=""/>
            <p:cNvSpPr/>
            <p:nvPr/>
          </p:nvSpPr>
          <p:spPr>
            <a:xfrm>
              <a:off x="2523240" y="9446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762"/>
                  </a:moveTo>
                  <a:lnTo>
                    <a:pt x="762" y="762"/>
                  </a:lnTo>
                  <a:lnTo>
                    <a:pt x="762" y="762"/>
                  </a:lnTo>
                  <a:cubicBezTo>
                    <a:pt x="762" y="628"/>
                    <a:pt x="727" y="497"/>
                    <a:pt x="660" y="381"/>
                  </a:cubicBezTo>
                  <a:cubicBezTo>
                    <a:pt x="593" y="265"/>
                    <a:pt x="497" y="169"/>
                    <a:pt x="381" y="102"/>
                  </a:cubicBezTo>
                  <a:cubicBezTo>
                    <a:pt x="265" y="35"/>
                    <a:pt x="134" y="0"/>
                    <a:pt x="0" y="0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521080" y="1220040"/>
              <a:ext cx="276480" cy="274320"/>
            </a:xfrm>
            <a:custGeom>
              <a:avLst/>
              <a:gdLst/>
              <a:ahLst/>
              <a:rect l="0" t="0" r="r" b="b"/>
              <a:pathLst>
                <a:path fill="none" w="768" h="762">
                  <a:moveTo>
                    <a:pt x="0" y="762"/>
                  </a:moveTo>
                  <a:lnTo>
                    <a:pt x="0" y="762"/>
                  </a:lnTo>
                  <a:cubicBezTo>
                    <a:pt x="135" y="762"/>
                    <a:pt x="267" y="727"/>
                    <a:pt x="384" y="660"/>
                  </a:cubicBezTo>
                  <a:cubicBezTo>
                    <a:pt x="501" y="593"/>
                    <a:pt x="598" y="497"/>
                    <a:pt x="665" y="381"/>
                  </a:cubicBezTo>
                  <a:cubicBezTo>
                    <a:pt x="733" y="265"/>
                    <a:pt x="768" y="134"/>
                    <a:pt x="768" y="0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873000" y="944640"/>
            <a:ext cx="279360" cy="549720"/>
            <a:chOff x="873000" y="944640"/>
            <a:chExt cx="279360" cy="549720"/>
          </a:xfrm>
        </p:grpSpPr>
        <p:sp>
          <p:nvSpPr>
            <p:cNvPr id="2108" name=""/>
            <p:cNvSpPr/>
            <p:nvPr/>
          </p:nvSpPr>
          <p:spPr>
            <a:xfrm>
              <a:off x="873000" y="12200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35" y="265"/>
                    <a:pt x="102" y="381"/>
                  </a:cubicBezTo>
                  <a:cubicBezTo>
                    <a:pt x="169" y="497"/>
                    <a:pt x="265" y="593"/>
                    <a:pt x="381" y="660"/>
                  </a:cubicBezTo>
                  <a:cubicBezTo>
                    <a:pt x="497" y="727"/>
                    <a:pt x="628" y="762"/>
                    <a:pt x="762" y="762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78040" y="9446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0"/>
                  </a:moveTo>
                  <a:lnTo>
                    <a:pt x="762" y="0"/>
                  </a:lnTo>
                  <a:cubicBezTo>
                    <a:pt x="628" y="0"/>
                    <a:pt x="497" y="35"/>
                    <a:pt x="381" y="102"/>
                  </a:cubicBezTo>
                  <a:cubicBezTo>
                    <a:pt x="265" y="169"/>
                    <a:pt x="169" y="265"/>
                    <a:pt x="102" y="381"/>
                  </a:cubicBezTo>
                  <a:cubicBezTo>
                    <a:pt x="35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0" name=""/>
          <p:cNvSpPr/>
          <p:nvPr/>
        </p:nvSpPr>
        <p:spPr>
          <a:xfrm>
            <a:off x="2178000" y="4511520"/>
            <a:ext cx="686160" cy="614880"/>
          </a:xfrm>
          <a:custGeom>
            <a:avLst/>
            <a:gdLst/>
            <a:ahLst/>
            <a:rect l="0" t="0" r="r" b="b"/>
            <a:pathLst>
              <a:path fill="none" w="1906" h="1708">
                <a:moveTo>
                  <a:pt x="1906" y="1708"/>
                </a:moveTo>
                <a:lnTo>
                  <a:pt x="190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1835280" y="1492200"/>
            <a:ext cx="0" cy="480960"/>
          </a:xfrm>
          <a:prstGeom prst="line">
            <a:avLst/>
          </a:prstGeom>
          <a:ln w="12600">
            <a:solidFill>
              <a:srgbClr val="ff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3483000" y="5402160"/>
            <a:ext cx="685800" cy="0"/>
          </a:xfrm>
          <a:prstGeom prst="line">
            <a:avLst/>
          </a:prstGeom>
          <a:ln w="126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3" name=""/>
          <p:cNvGrpSpPr/>
          <p:nvPr/>
        </p:nvGrpSpPr>
        <p:grpSpPr>
          <a:xfrm>
            <a:off x="5986440" y="2090880"/>
            <a:ext cx="687960" cy="2878560"/>
            <a:chOff x="5986440" y="2090880"/>
            <a:chExt cx="687960" cy="2878560"/>
          </a:xfrm>
        </p:grpSpPr>
        <p:sp>
          <p:nvSpPr>
            <p:cNvPr id="2114" name=""/>
            <p:cNvSpPr/>
            <p:nvPr/>
          </p:nvSpPr>
          <p:spPr>
            <a:xfrm>
              <a:off x="5987880" y="2367000"/>
              <a:ext cx="685800" cy="2328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5" name=""/>
            <p:cNvGrpSpPr/>
            <p:nvPr/>
          </p:nvGrpSpPr>
          <p:grpSpPr>
            <a:xfrm>
              <a:off x="5987880" y="2090880"/>
              <a:ext cx="686520" cy="274320"/>
              <a:chOff x="5987880" y="2090880"/>
              <a:chExt cx="686520" cy="274320"/>
            </a:xfrm>
          </p:grpSpPr>
          <p:sp>
            <p:nvSpPr>
              <p:cNvPr id="2116" name=""/>
              <p:cNvSpPr/>
              <p:nvPr/>
            </p:nvSpPr>
            <p:spPr>
              <a:xfrm>
                <a:off x="5987880" y="2090880"/>
                <a:ext cx="345600" cy="274320"/>
              </a:xfrm>
              <a:custGeom>
                <a:avLst/>
                <a:gdLst/>
                <a:ahLst/>
                <a:rect l="0" t="0" r="r" b="b"/>
                <a:pathLst>
                  <a:path fill="none" w="960" h="762">
                    <a:moveTo>
                      <a:pt x="960" y="0"/>
                    </a:moveTo>
                    <a:lnTo>
                      <a:pt x="960" y="0"/>
                    </a:lnTo>
                    <a:cubicBezTo>
                      <a:pt x="791" y="0"/>
                      <a:pt x="626" y="35"/>
                      <a:pt x="480" y="102"/>
                    </a:cubicBezTo>
                    <a:cubicBezTo>
                      <a:pt x="334" y="169"/>
                      <a:pt x="213" y="265"/>
                      <a:pt x="129" y="381"/>
                    </a:cubicBezTo>
                    <a:cubicBezTo>
                      <a:pt x="44" y="497"/>
                      <a:pt x="0" y="628"/>
                      <a:pt x="0" y="762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6333480" y="2090880"/>
                <a:ext cx="340920" cy="274320"/>
              </a:xfrm>
              <a:custGeom>
                <a:avLst/>
                <a:gdLst/>
                <a:ahLst/>
                <a:rect l="0" t="0" r="r" b="b"/>
                <a:pathLst>
                  <a:path fill="none" w="947" h="762">
                    <a:moveTo>
                      <a:pt x="947" y="762"/>
                    </a:moveTo>
                    <a:lnTo>
                      <a:pt x="947" y="762"/>
                    </a:lnTo>
                    <a:lnTo>
                      <a:pt x="947" y="762"/>
                    </a:lnTo>
                    <a:cubicBezTo>
                      <a:pt x="947" y="628"/>
                      <a:pt x="903" y="497"/>
                      <a:pt x="820" y="381"/>
                    </a:cubicBezTo>
                    <a:cubicBezTo>
                      <a:pt x="737" y="265"/>
                      <a:pt x="617" y="169"/>
                      <a:pt x="473" y="102"/>
                    </a:cubicBezTo>
                    <a:cubicBezTo>
                      <a:pt x="330" y="35"/>
                      <a:pt x="166" y="0"/>
                      <a:pt x="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"/>
            <p:cNvGrpSpPr/>
            <p:nvPr/>
          </p:nvGrpSpPr>
          <p:grpSpPr>
            <a:xfrm>
              <a:off x="5986440" y="4695120"/>
              <a:ext cx="687960" cy="274320"/>
              <a:chOff x="5986440" y="4695120"/>
              <a:chExt cx="687960" cy="274320"/>
            </a:xfrm>
          </p:grpSpPr>
          <p:sp>
            <p:nvSpPr>
              <p:cNvPr id="2119" name=""/>
              <p:cNvSpPr/>
              <p:nvPr/>
            </p:nvSpPr>
            <p:spPr>
              <a:xfrm>
                <a:off x="5986440" y="4695120"/>
                <a:ext cx="345600" cy="274320"/>
              </a:xfrm>
              <a:custGeom>
                <a:avLst/>
                <a:gdLst/>
                <a:ahLst/>
                <a:rect l="0" t="0" r="r" b="b"/>
                <a:pathLst>
                  <a:path fill="none" w="960" h="762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34"/>
                      <a:pt x="44" y="265"/>
                      <a:pt x="129" y="381"/>
                    </a:cubicBezTo>
                    <a:cubicBezTo>
                      <a:pt x="213" y="497"/>
                      <a:pt x="334" y="593"/>
                      <a:pt x="480" y="660"/>
                    </a:cubicBezTo>
                    <a:cubicBezTo>
                      <a:pt x="626" y="727"/>
                      <a:pt x="791" y="762"/>
                      <a:pt x="960" y="762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6330960" y="4695120"/>
                <a:ext cx="343440" cy="274320"/>
              </a:xfrm>
              <a:custGeom>
                <a:avLst/>
                <a:gdLst/>
                <a:ahLst/>
                <a:rect l="0" t="0" r="r" b="b"/>
                <a:pathLst>
                  <a:path fill="none" w="954" h="762">
                    <a:moveTo>
                      <a:pt x="0" y="762"/>
                    </a:moveTo>
                    <a:lnTo>
                      <a:pt x="0" y="762"/>
                    </a:lnTo>
                    <a:cubicBezTo>
                      <a:pt x="167" y="762"/>
                      <a:pt x="332" y="727"/>
                      <a:pt x="477" y="660"/>
                    </a:cubicBezTo>
                    <a:cubicBezTo>
                      <a:pt x="622" y="593"/>
                      <a:pt x="742" y="497"/>
                      <a:pt x="826" y="381"/>
                    </a:cubicBezTo>
                    <a:cubicBezTo>
                      <a:pt x="910" y="265"/>
                      <a:pt x="954" y="134"/>
                      <a:pt x="954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1" name=""/>
          <p:cNvSpPr/>
          <p:nvPr/>
        </p:nvSpPr>
        <p:spPr>
          <a:xfrm>
            <a:off x="6859440" y="5248440"/>
            <a:ext cx="933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6859440" y="5796000"/>
            <a:ext cx="933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3" name=""/>
          <p:cNvGrpSpPr/>
          <p:nvPr/>
        </p:nvGrpSpPr>
        <p:grpSpPr>
          <a:xfrm>
            <a:off x="7791480" y="5243400"/>
            <a:ext cx="187560" cy="549720"/>
            <a:chOff x="7791480" y="5243400"/>
            <a:chExt cx="187560" cy="549720"/>
          </a:xfrm>
        </p:grpSpPr>
        <p:sp>
          <p:nvSpPr>
            <p:cNvPr id="2124" name=""/>
            <p:cNvSpPr/>
            <p:nvPr/>
          </p:nvSpPr>
          <p:spPr>
            <a:xfrm>
              <a:off x="7792920" y="524340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517" y="762"/>
                  </a:moveTo>
                  <a:lnTo>
                    <a:pt x="517" y="762"/>
                  </a:lnTo>
                  <a:lnTo>
                    <a:pt x="517" y="762"/>
                  </a:lnTo>
                  <a:cubicBezTo>
                    <a:pt x="517" y="628"/>
                    <a:pt x="493" y="497"/>
                    <a:pt x="448" y="381"/>
                  </a:cubicBezTo>
                  <a:cubicBezTo>
                    <a:pt x="402" y="265"/>
                    <a:pt x="337" y="169"/>
                    <a:pt x="258" y="102"/>
                  </a:cubicBezTo>
                  <a:cubicBezTo>
                    <a:pt x="180" y="35"/>
                    <a:pt x="9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791480" y="551880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0" y="762"/>
                  </a:moveTo>
                  <a:lnTo>
                    <a:pt x="0" y="762"/>
                  </a:lnTo>
                  <a:cubicBezTo>
                    <a:pt x="91" y="762"/>
                    <a:pt x="180" y="727"/>
                    <a:pt x="259" y="660"/>
                  </a:cubicBezTo>
                  <a:cubicBezTo>
                    <a:pt x="337" y="593"/>
                    <a:pt x="402" y="497"/>
                    <a:pt x="448" y="381"/>
                  </a:cubicBezTo>
                  <a:cubicBezTo>
                    <a:pt x="493" y="265"/>
                    <a:pt x="517" y="134"/>
                    <a:pt x="517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6672240" y="5243400"/>
            <a:ext cx="189720" cy="549720"/>
            <a:chOff x="6672240" y="5243400"/>
            <a:chExt cx="189720" cy="549720"/>
          </a:xfrm>
        </p:grpSpPr>
        <p:sp>
          <p:nvSpPr>
            <p:cNvPr id="2127" name=""/>
            <p:cNvSpPr/>
            <p:nvPr/>
          </p:nvSpPr>
          <p:spPr>
            <a:xfrm>
              <a:off x="6672240" y="551880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24" y="265"/>
                    <a:pt x="69" y="381"/>
                  </a:cubicBezTo>
                  <a:cubicBezTo>
                    <a:pt x="115" y="497"/>
                    <a:pt x="180" y="593"/>
                    <a:pt x="259" y="660"/>
                  </a:cubicBezTo>
                  <a:cubicBezTo>
                    <a:pt x="337" y="727"/>
                    <a:pt x="426" y="762"/>
                    <a:pt x="517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673680" y="5243400"/>
              <a:ext cx="188280" cy="274320"/>
            </a:xfrm>
            <a:custGeom>
              <a:avLst/>
              <a:gdLst/>
              <a:ahLst/>
              <a:rect l="0" t="0" r="r" b="b"/>
              <a:pathLst>
                <a:path fill="none" w="523" h="762">
                  <a:moveTo>
                    <a:pt x="523" y="0"/>
                  </a:moveTo>
                  <a:lnTo>
                    <a:pt x="523" y="0"/>
                  </a:lnTo>
                  <a:cubicBezTo>
                    <a:pt x="431" y="0"/>
                    <a:pt x="341" y="35"/>
                    <a:pt x="261" y="102"/>
                  </a:cubicBezTo>
                  <a:cubicBezTo>
                    <a:pt x="182" y="169"/>
                    <a:pt x="116" y="265"/>
                    <a:pt x="70" y="381"/>
                  </a:cubicBezTo>
                  <a:cubicBezTo>
                    <a:pt x="24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9" name=""/>
          <p:cNvSpPr/>
          <p:nvPr/>
        </p:nvSpPr>
        <p:spPr>
          <a:xfrm>
            <a:off x="6330960" y="4971960"/>
            <a:ext cx="343440" cy="547920"/>
          </a:xfrm>
          <a:custGeom>
            <a:avLst/>
            <a:gdLst/>
            <a:ahLst/>
            <a:rect l="0" t="0" r="r" b="b"/>
            <a:pathLst>
              <a:path fill="none" w="954" h="1522">
                <a:moveTo>
                  <a:pt x="954" y="1522"/>
                </a:moveTo>
                <a:lnTo>
                  <a:pt x="0" y="1522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5645160" y="10666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5645160" y="16192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2" name=""/>
          <p:cNvGrpSpPr/>
          <p:nvPr/>
        </p:nvGrpSpPr>
        <p:grpSpPr>
          <a:xfrm>
            <a:off x="7016760" y="1062000"/>
            <a:ext cx="276840" cy="549720"/>
            <a:chOff x="7016760" y="1062000"/>
            <a:chExt cx="276840" cy="549720"/>
          </a:xfrm>
        </p:grpSpPr>
        <p:sp>
          <p:nvSpPr>
            <p:cNvPr id="2133" name=""/>
            <p:cNvSpPr/>
            <p:nvPr/>
          </p:nvSpPr>
          <p:spPr>
            <a:xfrm>
              <a:off x="7019280" y="106200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762"/>
                  </a:moveTo>
                  <a:lnTo>
                    <a:pt x="762" y="762"/>
                  </a:lnTo>
                  <a:lnTo>
                    <a:pt x="762" y="762"/>
                  </a:lnTo>
                  <a:cubicBezTo>
                    <a:pt x="762" y="628"/>
                    <a:pt x="727" y="497"/>
                    <a:pt x="660" y="381"/>
                  </a:cubicBezTo>
                  <a:cubicBezTo>
                    <a:pt x="593" y="265"/>
                    <a:pt x="497" y="169"/>
                    <a:pt x="381" y="102"/>
                  </a:cubicBezTo>
                  <a:cubicBezTo>
                    <a:pt x="265" y="35"/>
                    <a:pt x="13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16760" y="1337400"/>
              <a:ext cx="276480" cy="274320"/>
            </a:xfrm>
            <a:custGeom>
              <a:avLst/>
              <a:gdLst/>
              <a:ahLst/>
              <a:rect l="0" t="0" r="r" b="b"/>
              <a:pathLst>
                <a:path fill="none" w="768" h="762">
                  <a:moveTo>
                    <a:pt x="0" y="762"/>
                  </a:moveTo>
                  <a:lnTo>
                    <a:pt x="0" y="762"/>
                  </a:lnTo>
                  <a:cubicBezTo>
                    <a:pt x="135" y="762"/>
                    <a:pt x="267" y="727"/>
                    <a:pt x="384" y="660"/>
                  </a:cubicBezTo>
                  <a:cubicBezTo>
                    <a:pt x="501" y="593"/>
                    <a:pt x="598" y="497"/>
                    <a:pt x="665" y="381"/>
                  </a:cubicBezTo>
                  <a:cubicBezTo>
                    <a:pt x="733" y="265"/>
                    <a:pt x="768" y="134"/>
                    <a:pt x="768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5369040" y="1062000"/>
            <a:ext cx="279000" cy="549720"/>
            <a:chOff x="5369040" y="1062000"/>
            <a:chExt cx="279000" cy="549720"/>
          </a:xfrm>
        </p:grpSpPr>
        <p:sp>
          <p:nvSpPr>
            <p:cNvPr id="2136" name=""/>
            <p:cNvSpPr/>
            <p:nvPr/>
          </p:nvSpPr>
          <p:spPr>
            <a:xfrm>
              <a:off x="5369040" y="133740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35" y="265"/>
                    <a:pt x="102" y="381"/>
                  </a:cubicBezTo>
                  <a:cubicBezTo>
                    <a:pt x="169" y="497"/>
                    <a:pt x="265" y="593"/>
                    <a:pt x="381" y="660"/>
                  </a:cubicBezTo>
                  <a:cubicBezTo>
                    <a:pt x="497" y="727"/>
                    <a:pt x="628" y="762"/>
                    <a:pt x="762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373720" y="106200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0"/>
                  </a:moveTo>
                  <a:lnTo>
                    <a:pt x="762" y="0"/>
                  </a:lnTo>
                  <a:cubicBezTo>
                    <a:pt x="628" y="0"/>
                    <a:pt x="497" y="35"/>
                    <a:pt x="381" y="102"/>
                  </a:cubicBezTo>
                  <a:cubicBezTo>
                    <a:pt x="265" y="169"/>
                    <a:pt x="169" y="265"/>
                    <a:pt x="102" y="381"/>
                  </a:cubicBezTo>
                  <a:cubicBezTo>
                    <a:pt x="35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8" name=""/>
          <p:cNvSpPr/>
          <p:nvPr/>
        </p:nvSpPr>
        <p:spPr>
          <a:xfrm>
            <a:off x="6673680" y="4629240"/>
            <a:ext cx="686160" cy="614880"/>
          </a:xfrm>
          <a:custGeom>
            <a:avLst/>
            <a:gdLst/>
            <a:ahLst/>
            <a:rect l="0" t="0" r="r" b="b"/>
            <a:pathLst>
              <a:path fill="none" w="1906" h="1708">
                <a:moveTo>
                  <a:pt x="1906" y="1708"/>
                </a:moveTo>
                <a:lnTo>
                  <a:pt x="190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6330960" y="1609560"/>
            <a:ext cx="0" cy="4813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7978680" y="55198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6019920" y="42670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 txBox="1"/>
          <p:nvPr/>
        </p:nvSpPr>
        <p:spPr>
          <a:xfrm>
            <a:off x="5318280" y="117324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 txBox="1"/>
          <p:nvPr/>
        </p:nvSpPr>
        <p:spPr>
          <a:xfrm>
            <a:off x="6842160" y="406872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6994440" y="422100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 txBox="1"/>
          <p:nvPr/>
        </p:nvSpPr>
        <p:spPr>
          <a:xfrm>
            <a:off x="6461280" y="521172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 txBox="1"/>
          <p:nvPr/>
        </p:nvSpPr>
        <p:spPr>
          <a:xfrm>
            <a:off x="6765840" y="284940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7147080" y="437364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6019920" y="2971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6505560" y="384012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 txBox="1"/>
          <p:nvPr/>
        </p:nvSpPr>
        <p:spPr>
          <a:xfrm>
            <a:off x="1508040" y="2652840"/>
            <a:ext cx="7272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q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 txBox="1"/>
          <p:nvPr/>
        </p:nvSpPr>
        <p:spPr>
          <a:xfrm>
            <a:off x="2422440" y="51656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 txBox="1"/>
          <p:nvPr/>
        </p:nvSpPr>
        <p:spPr>
          <a:xfrm>
            <a:off x="1508040" y="974880"/>
            <a:ext cx="64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 txBox="1"/>
          <p:nvPr/>
        </p:nvSpPr>
        <p:spPr>
          <a:xfrm>
            <a:off x="5699160" y="6110280"/>
            <a:ext cx="2674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gorou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 txBox="1"/>
          <p:nvPr/>
        </p:nvSpPr>
        <p:spPr>
          <a:xfrm>
            <a:off x="1203480" y="6111720"/>
            <a:ext cx="2674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hortcut 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Features of Shortcut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 txBox="1"/>
          <p:nvPr/>
        </p:nvSpPr>
        <p:spPr>
          <a:xfrm>
            <a:off x="498600" y="163512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st and reasonably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sy identification of fea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ick screening of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PU time independent of number of 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lution of non-integer algebraic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ful for design, optimization, and synthesi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 txBox="1"/>
          <p:nvPr/>
        </p:nvSpPr>
        <p:spPr>
          <a:xfrm>
            <a:off x="1143000" y="182880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y of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0 BC Queen Dido - Isoperimetric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Systematic theory of Optimization - Variational Calculus, June 4, 1694 by John Bernou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erical Optimization - 1947 -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1066680" y="411480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 Distillation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ly Optimal Control Problems - 1963-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Optimization (Nonlinear Programm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uyben 19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wekar et al. 19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ptimal Control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 txBox="1"/>
          <p:nvPr/>
        </p:nvSpPr>
        <p:spPr>
          <a:xfrm>
            <a:off x="685800" y="1676520"/>
            <a:ext cx="77724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um Distillate Proble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where the amount of distillate of a specified concentration for a specified time is maximized (Converse and Gross, 1963; Keith and Brunet, 1971; Murty et al., 1980; Diwekar et al., 1987; Logsdon et al., 1990; Farhat et al., 19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Time Proble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where the batch time needed to produce a prescribed amount of distillate of a specified concentration is minimized (Coward, 1967a, b; Hansen and Jorgensen, 1986; Mujtaba and Macchietto, 19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um Profit Proble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where a profit function for a specified concentration of distillate is maximized (Kerkhof and Vissers, 1978; Logsdon et al., 19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ptimal Control Solution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 txBox="1"/>
          <p:nvPr/>
        </p:nvSpPr>
        <p:spPr>
          <a:xfrm>
            <a:off x="762120" y="198108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culus of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tryagin’s Maximum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63 -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 txBox="1"/>
          <p:nvPr/>
        </p:nvSpPr>
        <p:spPr>
          <a:xfrm>
            <a:off x="838080" y="3733920"/>
            <a:ext cx="7315200" cy="19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linear Programming Optimization (NLP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ocation for Discretization : Logsdon et al, 1990, 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nomial Approximation: Mujtaba &amp; Machiatto, 1988;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rhat et al.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d Maximum Principle &amp; NLP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wekar et al.,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imitations of the Shortcut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 txBox="1"/>
          <p:nvPr/>
        </p:nvSpPr>
        <p:spPr>
          <a:xfrm>
            <a:off x="689040" y="2503440"/>
            <a:ext cx="838044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n handle nearly ideal and ideal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zeotropic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at effects not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t applicable to reactive disti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duced Ord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5291280" y="3343320"/>
            <a:ext cx="0" cy="2387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3427560" y="3063960"/>
            <a:ext cx="685800" cy="2328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3427560" y="2787480"/>
            <a:ext cx="686160" cy="274320"/>
            <a:chOff x="3427560" y="2787480"/>
            <a:chExt cx="686160" cy="274320"/>
          </a:xfrm>
        </p:grpSpPr>
        <p:sp>
          <p:nvSpPr>
            <p:cNvPr id="2171" name=""/>
            <p:cNvSpPr/>
            <p:nvPr/>
          </p:nvSpPr>
          <p:spPr>
            <a:xfrm>
              <a:off x="3427560" y="278748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954" y="0"/>
                  </a:moveTo>
                  <a:lnTo>
                    <a:pt x="954" y="0"/>
                  </a:lnTo>
                  <a:cubicBezTo>
                    <a:pt x="787" y="0"/>
                    <a:pt x="622" y="35"/>
                    <a:pt x="477" y="102"/>
                  </a:cubicBezTo>
                  <a:cubicBezTo>
                    <a:pt x="332" y="169"/>
                    <a:pt x="212" y="265"/>
                    <a:pt x="128" y="381"/>
                  </a:cubicBezTo>
                  <a:cubicBezTo>
                    <a:pt x="44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770280" y="278748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954" y="762"/>
                  </a:moveTo>
                  <a:lnTo>
                    <a:pt x="954" y="762"/>
                  </a:lnTo>
                  <a:lnTo>
                    <a:pt x="954" y="762"/>
                  </a:lnTo>
                  <a:cubicBezTo>
                    <a:pt x="954" y="628"/>
                    <a:pt x="910" y="497"/>
                    <a:pt x="826" y="381"/>
                  </a:cubicBezTo>
                  <a:cubicBezTo>
                    <a:pt x="742" y="265"/>
                    <a:pt x="622" y="169"/>
                    <a:pt x="477" y="102"/>
                  </a:cubicBezTo>
                  <a:cubicBezTo>
                    <a:pt x="332" y="35"/>
                    <a:pt x="167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3" name=""/>
          <p:cNvGrpSpPr/>
          <p:nvPr/>
        </p:nvGrpSpPr>
        <p:grpSpPr>
          <a:xfrm>
            <a:off x="3427560" y="5400000"/>
            <a:ext cx="686160" cy="274320"/>
            <a:chOff x="3427560" y="5400000"/>
            <a:chExt cx="686160" cy="274320"/>
          </a:xfrm>
        </p:grpSpPr>
        <p:sp>
          <p:nvSpPr>
            <p:cNvPr id="2174" name=""/>
            <p:cNvSpPr/>
            <p:nvPr/>
          </p:nvSpPr>
          <p:spPr>
            <a:xfrm>
              <a:off x="3427560" y="5400000"/>
              <a:ext cx="345600" cy="274320"/>
            </a:xfrm>
            <a:custGeom>
              <a:avLst/>
              <a:gdLst/>
              <a:ahLst/>
              <a:rect l="0" t="0" r="r" b="b"/>
              <a:pathLst>
                <a:path fill="none" w="960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44" y="265"/>
                    <a:pt x="129" y="381"/>
                  </a:cubicBezTo>
                  <a:cubicBezTo>
                    <a:pt x="213" y="497"/>
                    <a:pt x="334" y="593"/>
                    <a:pt x="480" y="660"/>
                  </a:cubicBezTo>
                  <a:cubicBezTo>
                    <a:pt x="626" y="727"/>
                    <a:pt x="791" y="762"/>
                    <a:pt x="96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770280" y="540000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0" y="762"/>
                  </a:moveTo>
                  <a:lnTo>
                    <a:pt x="0" y="762"/>
                  </a:lnTo>
                  <a:cubicBezTo>
                    <a:pt x="167" y="762"/>
                    <a:pt x="332" y="727"/>
                    <a:pt x="477" y="660"/>
                  </a:cubicBezTo>
                  <a:cubicBezTo>
                    <a:pt x="622" y="593"/>
                    <a:pt x="742" y="497"/>
                    <a:pt x="826" y="381"/>
                  </a:cubicBezTo>
                  <a:cubicBezTo>
                    <a:pt x="910" y="265"/>
                    <a:pt x="954" y="134"/>
                    <a:pt x="95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6" name=""/>
          <p:cNvSpPr/>
          <p:nvPr/>
        </p:nvSpPr>
        <p:spPr>
          <a:xfrm>
            <a:off x="3084480" y="615456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3084480" y="670248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8" name=""/>
          <p:cNvGrpSpPr/>
          <p:nvPr/>
        </p:nvGrpSpPr>
        <p:grpSpPr>
          <a:xfrm>
            <a:off x="4453920" y="6149880"/>
            <a:ext cx="274320" cy="548280"/>
            <a:chOff x="4453920" y="6149880"/>
            <a:chExt cx="274320" cy="548280"/>
          </a:xfrm>
        </p:grpSpPr>
        <p:sp>
          <p:nvSpPr>
            <p:cNvPr id="2179" name=""/>
            <p:cNvSpPr/>
            <p:nvPr/>
          </p:nvSpPr>
          <p:spPr>
            <a:xfrm>
              <a:off x="4453920" y="614988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762"/>
                  </a:moveTo>
                  <a:lnTo>
                    <a:pt x="762" y="762"/>
                  </a:lnTo>
                  <a:lnTo>
                    <a:pt x="762" y="762"/>
                  </a:lnTo>
                  <a:cubicBezTo>
                    <a:pt x="762" y="628"/>
                    <a:pt x="727" y="497"/>
                    <a:pt x="660" y="381"/>
                  </a:cubicBezTo>
                  <a:cubicBezTo>
                    <a:pt x="593" y="265"/>
                    <a:pt x="497" y="169"/>
                    <a:pt x="381" y="102"/>
                  </a:cubicBezTo>
                  <a:cubicBezTo>
                    <a:pt x="265" y="35"/>
                    <a:pt x="13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453920" y="64238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762"/>
                  </a:moveTo>
                  <a:lnTo>
                    <a:pt x="0" y="762"/>
                  </a:lnTo>
                  <a:cubicBezTo>
                    <a:pt x="134" y="762"/>
                    <a:pt x="265" y="727"/>
                    <a:pt x="381" y="660"/>
                  </a:cubicBezTo>
                  <a:cubicBezTo>
                    <a:pt x="497" y="593"/>
                    <a:pt x="593" y="497"/>
                    <a:pt x="660" y="381"/>
                  </a:cubicBezTo>
                  <a:cubicBezTo>
                    <a:pt x="727" y="265"/>
                    <a:pt x="762" y="134"/>
                    <a:pt x="76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"/>
          <p:cNvGrpSpPr/>
          <p:nvPr/>
        </p:nvGrpSpPr>
        <p:grpSpPr>
          <a:xfrm>
            <a:off x="2808360" y="6149880"/>
            <a:ext cx="274320" cy="548280"/>
            <a:chOff x="2808360" y="6149880"/>
            <a:chExt cx="274320" cy="548280"/>
          </a:xfrm>
        </p:grpSpPr>
        <p:sp>
          <p:nvSpPr>
            <p:cNvPr id="2182" name=""/>
            <p:cNvSpPr/>
            <p:nvPr/>
          </p:nvSpPr>
          <p:spPr>
            <a:xfrm>
              <a:off x="2808360" y="64238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35" y="265"/>
                    <a:pt x="102" y="381"/>
                  </a:cubicBezTo>
                  <a:cubicBezTo>
                    <a:pt x="169" y="497"/>
                    <a:pt x="265" y="593"/>
                    <a:pt x="381" y="660"/>
                  </a:cubicBezTo>
                  <a:cubicBezTo>
                    <a:pt x="497" y="727"/>
                    <a:pt x="628" y="762"/>
                    <a:pt x="762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808360" y="614988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0"/>
                  </a:moveTo>
                  <a:lnTo>
                    <a:pt x="762" y="0"/>
                  </a:lnTo>
                  <a:cubicBezTo>
                    <a:pt x="628" y="0"/>
                    <a:pt x="497" y="35"/>
                    <a:pt x="381" y="102"/>
                  </a:cubicBezTo>
                  <a:cubicBezTo>
                    <a:pt x="265" y="169"/>
                    <a:pt x="169" y="265"/>
                    <a:pt x="102" y="381"/>
                  </a:cubicBezTo>
                  <a:cubicBezTo>
                    <a:pt x="35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"/>
          <p:cNvSpPr/>
          <p:nvPr/>
        </p:nvSpPr>
        <p:spPr>
          <a:xfrm>
            <a:off x="4780080" y="1968480"/>
            <a:ext cx="94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4775040" y="2521080"/>
            <a:ext cx="943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6" name=""/>
          <p:cNvGrpSpPr/>
          <p:nvPr/>
        </p:nvGrpSpPr>
        <p:grpSpPr>
          <a:xfrm>
            <a:off x="5708520" y="1963800"/>
            <a:ext cx="186120" cy="552600"/>
            <a:chOff x="5708520" y="1963800"/>
            <a:chExt cx="186120" cy="552600"/>
          </a:xfrm>
        </p:grpSpPr>
        <p:sp>
          <p:nvSpPr>
            <p:cNvPr id="2187" name=""/>
            <p:cNvSpPr/>
            <p:nvPr/>
          </p:nvSpPr>
          <p:spPr>
            <a:xfrm>
              <a:off x="5708520" y="196380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517" y="768"/>
                  </a:moveTo>
                  <a:lnTo>
                    <a:pt x="517" y="768"/>
                  </a:lnTo>
                  <a:lnTo>
                    <a:pt x="517" y="768"/>
                  </a:lnTo>
                  <a:cubicBezTo>
                    <a:pt x="517" y="633"/>
                    <a:pt x="493" y="501"/>
                    <a:pt x="448" y="384"/>
                  </a:cubicBezTo>
                  <a:cubicBezTo>
                    <a:pt x="402" y="267"/>
                    <a:pt x="337" y="170"/>
                    <a:pt x="258" y="103"/>
                  </a:cubicBezTo>
                  <a:cubicBezTo>
                    <a:pt x="180" y="35"/>
                    <a:pt x="9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708520" y="223992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0" y="768"/>
                  </a:moveTo>
                  <a:lnTo>
                    <a:pt x="0" y="768"/>
                  </a:lnTo>
                  <a:cubicBezTo>
                    <a:pt x="91" y="768"/>
                    <a:pt x="180" y="733"/>
                    <a:pt x="259" y="665"/>
                  </a:cubicBezTo>
                  <a:cubicBezTo>
                    <a:pt x="337" y="598"/>
                    <a:pt x="402" y="501"/>
                    <a:pt x="448" y="384"/>
                  </a:cubicBezTo>
                  <a:cubicBezTo>
                    <a:pt x="493" y="267"/>
                    <a:pt x="517" y="135"/>
                    <a:pt x="517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9" name=""/>
          <p:cNvGrpSpPr/>
          <p:nvPr/>
        </p:nvGrpSpPr>
        <p:grpSpPr>
          <a:xfrm>
            <a:off x="4594320" y="1963800"/>
            <a:ext cx="186120" cy="552600"/>
            <a:chOff x="4594320" y="1963800"/>
            <a:chExt cx="186120" cy="552600"/>
          </a:xfrm>
        </p:grpSpPr>
        <p:sp>
          <p:nvSpPr>
            <p:cNvPr id="2190" name=""/>
            <p:cNvSpPr/>
            <p:nvPr/>
          </p:nvSpPr>
          <p:spPr>
            <a:xfrm>
              <a:off x="4594320" y="223992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0" y="0"/>
                  </a:moveTo>
                  <a:lnTo>
                    <a:pt x="0" y="0"/>
                  </a:lnTo>
                  <a:cubicBezTo>
                    <a:pt x="0" y="135"/>
                    <a:pt x="24" y="267"/>
                    <a:pt x="69" y="384"/>
                  </a:cubicBezTo>
                  <a:cubicBezTo>
                    <a:pt x="115" y="501"/>
                    <a:pt x="180" y="598"/>
                    <a:pt x="259" y="665"/>
                  </a:cubicBezTo>
                  <a:cubicBezTo>
                    <a:pt x="337" y="733"/>
                    <a:pt x="426" y="768"/>
                    <a:pt x="517" y="76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594320" y="196380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517" y="0"/>
                  </a:moveTo>
                  <a:lnTo>
                    <a:pt x="517" y="0"/>
                  </a:lnTo>
                  <a:cubicBezTo>
                    <a:pt x="426" y="0"/>
                    <a:pt x="337" y="35"/>
                    <a:pt x="258" y="103"/>
                  </a:cubicBezTo>
                  <a:cubicBezTo>
                    <a:pt x="180" y="170"/>
                    <a:pt x="115" y="267"/>
                    <a:pt x="69" y="384"/>
                  </a:cubicBezTo>
                  <a:cubicBezTo>
                    <a:pt x="24" y="501"/>
                    <a:pt x="0" y="633"/>
                    <a:pt x="0" y="76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"/>
          <p:cNvSpPr/>
          <p:nvPr/>
        </p:nvSpPr>
        <p:spPr>
          <a:xfrm>
            <a:off x="3770280" y="2239920"/>
            <a:ext cx="662400" cy="547920"/>
          </a:xfrm>
          <a:custGeom>
            <a:avLst/>
            <a:gdLst/>
            <a:ahLst/>
            <a:rect l="0" t="0" r="r" b="b"/>
            <a:pathLst>
              <a:path fill="none" w="1840" h="1522">
                <a:moveTo>
                  <a:pt x="0" y="1522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4422600" y="218772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4270320" y="2516040"/>
            <a:ext cx="1010160" cy="614880"/>
          </a:xfrm>
          <a:custGeom>
            <a:avLst/>
            <a:gdLst/>
            <a:ahLst/>
            <a:rect l="0" t="0" r="r" b="b"/>
            <a:pathLst>
              <a:path fill="none" w="2806" h="1708">
                <a:moveTo>
                  <a:pt x="0" y="1708"/>
                </a:moveTo>
                <a:lnTo>
                  <a:pt x="2806" y="1708"/>
                </a:lnTo>
                <a:lnTo>
                  <a:pt x="2806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4113360" y="307800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0" y="128"/>
                </a:moveTo>
                <a:lnTo>
                  <a:pt x="438" y="252"/>
                </a:lnTo>
                <a:lnTo>
                  <a:pt x="438" y="0"/>
                </a:lnTo>
                <a:lnTo>
                  <a:pt x="0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5280120" y="1692360"/>
            <a:ext cx="662400" cy="271800"/>
          </a:xfrm>
          <a:custGeom>
            <a:avLst/>
            <a:gdLst/>
            <a:ahLst/>
            <a:rect l="0" t="0" r="r" b="b"/>
            <a:pathLst>
              <a:path fill="none" w="1840" h="755">
                <a:moveTo>
                  <a:pt x="0" y="755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5932440" y="163980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3770280" y="5668920"/>
            <a:ext cx="0" cy="480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 txBox="1"/>
          <p:nvPr/>
        </p:nvSpPr>
        <p:spPr>
          <a:xfrm>
            <a:off x="5850000" y="191448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 txBox="1"/>
          <p:nvPr/>
        </p:nvSpPr>
        <p:spPr>
          <a:xfrm>
            <a:off x="2814480" y="623736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"/>
          <p:cNvSpPr txBox="1"/>
          <p:nvPr/>
        </p:nvSpPr>
        <p:spPr>
          <a:xfrm>
            <a:off x="0" y="2349360"/>
            <a:ext cx="320508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ontinuous Disti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Joseph &amp; Cowork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1983-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ewart et al, 19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Westerberg &amp; Co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atch Disti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iwekar, 19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(Batch-Dist, MultiBatch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 txBox="1"/>
          <p:nvPr/>
        </p:nvSpPr>
        <p:spPr>
          <a:xfrm>
            <a:off x="4248000" y="4165560"/>
            <a:ext cx="2058840" cy="42228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66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"/>
          <p:cNvSpPr txBox="1"/>
          <p:nvPr/>
        </p:nvSpPr>
        <p:spPr>
          <a:xfrm>
            <a:off x="3673440" y="3432240"/>
            <a:ext cx="282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 txBox="1"/>
          <p:nvPr/>
        </p:nvSpPr>
        <p:spPr>
          <a:xfrm>
            <a:off x="3614760" y="4165560"/>
            <a:ext cx="282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 txBox="1"/>
          <p:nvPr/>
        </p:nvSpPr>
        <p:spPr>
          <a:xfrm>
            <a:off x="4280040" y="343836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duced Ord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 txBox="1"/>
          <p:nvPr/>
        </p:nvSpPr>
        <p:spPr>
          <a:xfrm>
            <a:off x="990720" y="2273400"/>
            <a:ext cx="722628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llocation bas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like continuous distillation, no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LLK or HH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ful for packed columns, non-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dels, reactive disti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 txBox="1"/>
          <p:nvPr/>
        </p:nvSpPr>
        <p:spPr>
          <a:xfrm>
            <a:off x="1608120" y="5187960"/>
            <a:ext cx="496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Wajge et al., 1997 - packed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0" name=""/>
          <p:cNvGrpSpPr/>
          <p:nvPr/>
        </p:nvGrpSpPr>
        <p:grpSpPr>
          <a:xfrm>
            <a:off x="1268280" y="54000"/>
            <a:ext cx="6715080" cy="6481800"/>
            <a:chOff x="1268280" y="54000"/>
            <a:chExt cx="6715080" cy="6481800"/>
          </a:xfrm>
        </p:grpSpPr>
        <p:sp>
          <p:nvSpPr>
            <p:cNvPr id="2211" name=""/>
            <p:cNvSpPr/>
            <p:nvPr/>
          </p:nvSpPr>
          <p:spPr>
            <a:xfrm>
              <a:off x="3871800" y="901800"/>
              <a:ext cx="468360" cy="241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 txBox="1"/>
            <p:nvPr/>
          </p:nvSpPr>
          <p:spPr>
            <a:xfrm>
              <a:off x="3919680" y="88416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338640" y="1409760"/>
              <a:ext cx="1535400" cy="684720"/>
            </a:xfrm>
            <a:custGeom>
              <a:avLst/>
              <a:gdLst/>
              <a:ahLst/>
              <a:rect l="0" t="0" r="r" b="b"/>
              <a:pathLst>
                <a:path w="4265" h="1902">
                  <a:moveTo>
                    <a:pt x="4265" y="953"/>
                  </a:moveTo>
                  <a:lnTo>
                    <a:pt x="3736" y="1443"/>
                  </a:lnTo>
                  <a:lnTo>
                    <a:pt x="3206" y="1902"/>
                  </a:lnTo>
                  <a:lnTo>
                    <a:pt x="2148" y="1902"/>
                  </a:lnTo>
                  <a:lnTo>
                    <a:pt x="1058" y="1902"/>
                  </a:lnTo>
                  <a:lnTo>
                    <a:pt x="529" y="1443"/>
                  </a:lnTo>
                  <a:lnTo>
                    <a:pt x="0" y="953"/>
                  </a:lnTo>
                  <a:lnTo>
                    <a:pt x="529" y="494"/>
                  </a:lnTo>
                  <a:lnTo>
                    <a:pt x="1058" y="0"/>
                  </a:lnTo>
                  <a:lnTo>
                    <a:pt x="2148" y="0"/>
                  </a:lnTo>
                  <a:lnTo>
                    <a:pt x="3206" y="0"/>
                  </a:lnTo>
                  <a:lnTo>
                    <a:pt x="3736" y="494"/>
                  </a:lnTo>
                  <a:lnTo>
                    <a:pt x="4265" y="9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338640" y="1409760"/>
              <a:ext cx="1535400" cy="684720"/>
            </a:xfrm>
            <a:custGeom>
              <a:avLst/>
              <a:gdLst/>
              <a:ahLst/>
              <a:rect l="0" t="0" r="r" b="b"/>
              <a:pathLst>
                <a:path fill="none" w="4265" h="1902">
                  <a:moveTo>
                    <a:pt x="4265" y="953"/>
                  </a:moveTo>
                  <a:lnTo>
                    <a:pt x="3206" y="1902"/>
                  </a:lnTo>
                  <a:lnTo>
                    <a:pt x="1058" y="1902"/>
                  </a:lnTo>
                  <a:lnTo>
                    <a:pt x="0" y="953"/>
                  </a:lnTo>
                  <a:lnTo>
                    <a:pt x="1058" y="0"/>
                  </a:lnTo>
                  <a:lnTo>
                    <a:pt x="320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 txBox="1"/>
            <p:nvPr/>
          </p:nvSpPr>
          <p:spPr>
            <a:xfrm>
              <a:off x="3855960" y="1366920"/>
              <a:ext cx="585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p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 txBox="1"/>
            <p:nvPr/>
          </p:nvSpPr>
          <p:spPr>
            <a:xfrm>
              <a:off x="3462480" y="1519200"/>
              <a:ext cx="13730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alysis of colum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 txBox="1"/>
            <p:nvPr/>
          </p:nvSpPr>
          <p:spPr>
            <a:xfrm>
              <a:off x="3513240" y="1670040"/>
              <a:ext cx="1276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 Feasibility Info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 txBox="1"/>
            <p:nvPr/>
          </p:nvSpPr>
          <p:spPr>
            <a:xfrm>
              <a:off x="3830760" y="1822320"/>
              <a:ext cx="611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d.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387520" y="2576520"/>
              <a:ext cx="1395720" cy="875160"/>
            </a:xfrm>
            <a:custGeom>
              <a:avLst/>
              <a:gdLst/>
              <a:ahLst/>
              <a:rect l="0" t="0" r="r" b="b"/>
              <a:pathLst>
                <a:path w="3877" h="2431">
                  <a:moveTo>
                    <a:pt x="3877" y="1231"/>
                  </a:moveTo>
                  <a:lnTo>
                    <a:pt x="3383" y="1832"/>
                  </a:lnTo>
                  <a:lnTo>
                    <a:pt x="2889" y="2431"/>
                  </a:lnTo>
                  <a:lnTo>
                    <a:pt x="1935" y="2431"/>
                  </a:lnTo>
                  <a:lnTo>
                    <a:pt x="952" y="2431"/>
                  </a:lnTo>
                  <a:lnTo>
                    <a:pt x="493" y="1832"/>
                  </a:lnTo>
                  <a:lnTo>
                    <a:pt x="0" y="1231"/>
                  </a:lnTo>
                  <a:lnTo>
                    <a:pt x="493" y="636"/>
                  </a:lnTo>
                  <a:lnTo>
                    <a:pt x="952" y="0"/>
                  </a:lnTo>
                  <a:lnTo>
                    <a:pt x="1935" y="0"/>
                  </a:lnTo>
                  <a:lnTo>
                    <a:pt x="2889" y="0"/>
                  </a:lnTo>
                  <a:lnTo>
                    <a:pt x="3383" y="636"/>
                  </a:lnTo>
                  <a:lnTo>
                    <a:pt x="3877" y="1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387520" y="2576520"/>
              <a:ext cx="1395720" cy="875160"/>
            </a:xfrm>
            <a:custGeom>
              <a:avLst/>
              <a:gdLst/>
              <a:ahLst/>
              <a:rect l="0" t="0" r="r" b="b"/>
              <a:pathLst>
                <a:path fill="none" w="3877" h="2431">
                  <a:moveTo>
                    <a:pt x="3877" y="1231"/>
                  </a:moveTo>
                  <a:lnTo>
                    <a:pt x="2889" y="2431"/>
                  </a:lnTo>
                  <a:lnTo>
                    <a:pt x="952" y="2431"/>
                  </a:lnTo>
                  <a:lnTo>
                    <a:pt x="0" y="1231"/>
                  </a:lnTo>
                  <a:lnTo>
                    <a:pt x="952" y="0"/>
                  </a:lnTo>
                  <a:lnTo>
                    <a:pt x="288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 txBox="1"/>
            <p:nvPr/>
          </p:nvSpPr>
          <p:spPr>
            <a:xfrm>
              <a:off x="2941560" y="2584440"/>
              <a:ext cx="331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 txBox="1"/>
            <p:nvPr/>
          </p:nvSpPr>
          <p:spPr>
            <a:xfrm>
              <a:off x="2575080" y="2735280"/>
              <a:ext cx="1065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stem nearl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 txBox="1"/>
            <p:nvPr/>
          </p:nvSpPr>
          <p:spPr>
            <a:xfrm>
              <a:off x="2486160" y="2887560"/>
              <a:ext cx="123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deal and hold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 txBox="1"/>
            <p:nvPr/>
          </p:nvSpPr>
          <p:spPr>
            <a:xfrm>
              <a:off x="2486160" y="3040200"/>
              <a:ext cx="1216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ffect negligibl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 txBox="1"/>
            <p:nvPr/>
          </p:nvSpPr>
          <p:spPr>
            <a:xfrm>
              <a:off x="2967120" y="3192480"/>
              <a:ext cx="252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518000" y="2576520"/>
              <a:ext cx="1395720" cy="875160"/>
            </a:xfrm>
            <a:custGeom>
              <a:avLst/>
              <a:gdLst/>
              <a:ahLst/>
              <a:rect l="0" t="0" r="r" b="b"/>
              <a:pathLst>
                <a:path w="3877" h="2431">
                  <a:moveTo>
                    <a:pt x="3877" y="1231"/>
                  </a:moveTo>
                  <a:lnTo>
                    <a:pt x="3383" y="1832"/>
                  </a:lnTo>
                  <a:lnTo>
                    <a:pt x="2889" y="2431"/>
                  </a:lnTo>
                  <a:lnTo>
                    <a:pt x="1935" y="2431"/>
                  </a:lnTo>
                  <a:lnTo>
                    <a:pt x="952" y="2431"/>
                  </a:lnTo>
                  <a:lnTo>
                    <a:pt x="493" y="1832"/>
                  </a:lnTo>
                  <a:lnTo>
                    <a:pt x="0" y="1231"/>
                  </a:lnTo>
                  <a:lnTo>
                    <a:pt x="493" y="636"/>
                  </a:lnTo>
                  <a:lnTo>
                    <a:pt x="952" y="0"/>
                  </a:lnTo>
                  <a:lnTo>
                    <a:pt x="1935" y="0"/>
                  </a:lnTo>
                  <a:lnTo>
                    <a:pt x="2889" y="0"/>
                  </a:lnTo>
                  <a:lnTo>
                    <a:pt x="3383" y="636"/>
                  </a:lnTo>
                  <a:lnTo>
                    <a:pt x="3877" y="1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518000" y="2576520"/>
              <a:ext cx="1395720" cy="900360"/>
            </a:xfrm>
            <a:custGeom>
              <a:avLst/>
              <a:gdLst/>
              <a:ahLst/>
              <a:rect l="0" t="0" r="r" b="b"/>
              <a:pathLst>
                <a:path fill="none" w="3877" h="2501">
                  <a:moveTo>
                    <a:pt x="3877" y="1266"/>
                  </a:moveTo>
                  <a:lnTo>
                    <a:pt x="2889" y="2501"/>
                  </a:lnTo>
                  <a:lnTo>
                    <a:pt x="952" y="2501"/>
                  </a:lnTo>
                  <a:lnTo>
                    <a:pt x="0" y="1266"/>
                  </a:lnTo>
                  <a:lnTo>
                    <a:pt x="952" y="0"/>
                  </a:lnTo>
                  <a:lnTo>
                    <a:pt x="288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 txBox="1"/>
            <p:nvPr/>
          </p:nvSpPr>
          <p:spPr>
            <a:xfrm>
              <a:off x="5046840" y="2521080"/>
              <a:ext cx="331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 txBox="1"/>
            <p:nvPr/>
          </p:nvSpPr>
          <p:spPr>
            <a:xfrm>
              <a:off x="4692600" y="2673360"/>
              <a:ext cx="10303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ldup effec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 txBox="1"/>
            <p:nvPr/>
          </p:nvSpPr>
          <p:spPr>
            <a:xfrm>
              <a:off x="4705200" y="2824200"/>
              <a:ext cx="996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gligible 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 txBox="1"/>
            <p:nvPr/>
          </p:nvSpPr>
          <p:spPr>
            <a:xfrm>
              <a:off x="4870440" y="2976480"/>
              <a:ext cx="684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stem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 txBox="1"/>
            <p:nvPr/>
          </p:nvSpPr>
          <p:spPr>
            <a:xfrm>
              <a:off x="4908600" y="3129120"/>
              <a:ext cx="611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ghl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 txBox="1"/>
            <p:nvPr/>
          </p:nvSpPr>
          <p:spPr>
            <a:xfrm>
              <a:off x="4946760" y="3281400"/>
              <a:ext cx="496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iff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3021120" y="4732200"/>
              <a:ext cx="1370160" cy="36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 txBox="1"/>
            <p:nvPr/>
          </p:nvSpPr>
          <p:spPr>
            <a:xfrm>
              <a:off x="3068640" y="4778280"/>
              <a:ext cx="1357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ified Short-c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627200" y="4084560"/>
              <a:ext cx="13683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 txBox="1"/>
            <p:nvPr/>
          </p:nvSpPr>
          <p:spPr>
            <a:xfrm>
              <a:off x="1978200" y="4130640"/>
              <a:ext cx="7509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rt-c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060800" y="3654360"/>
              <a:ext cx="1370160" cy="36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 txBox="1"/>
            <p:nvPr/>
          </p:nvSpPr>
          <p:spPr>
            <a:xfrm>
              <a:off x="4260960" y="3700440"/>
              <a:ext cx="10555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mi-rigoro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0" name=""/>
            <p:cNvGrpSpPr/>
            <p:nvPr/>
          </p:nvGrpSpPr>
          <p:grpSpPr>
            <a:xfrm>
              <a:off x="6167520" y="5581800"/>
              <a:ext cx="1368360" cy="368280"/>
              <a:chOff x="6167520" y="5581800"/>
              <a:chExt cx="1368360" cy="368280"/>
            </a:xfrm>
          </p:grpSpPr>
          <p:sp>
            <p:nvSpPr>
              <p:cNvPr id="2241" name=""/>
              <p:cNvSpPr/>
              <p:nvPr/>
            </p:nvSpPr>
            <p:spPr>
              <a:xfrm>
                <a:off x="6167520" y="5581800"/>
                <a:ext cx="136836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 txBox="1"/>
              <p:nvPr/>
            </p:nvSpPr>
            <p:spPr>
              <a:xfrm>
                <a:off x="6531120" y="5627520"/>
                <a:ext cx="74304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igorou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3" name=""/>
            <p:cNvGrpSpPr/>
            <p:nvPr/>
          </p:nvGrpSpPr>
          <p:grpSpPr>
            <a:xfrm>
              <a:off x="4251240" y="5581800"/>
              <a:ext cx="1370160" cy="368280"/>
              <a:chOff x="4251240" y="5581800"/>
              <a:chExt cx="1370160" cy="368280"/>
            </a:xfrm>
          </p:grpSpPr>
          <p:sp>
            <p:nvSpPr>
              <p:cNvPr id="2244" name=""/>
              <p:cNvSpPr/>
              <p:nvPr/>
            </p:nvSpPr>
            <p:spPr>
              <a:xfrm>
                <a:off x="4251240" y="5581800"/>
                <a:ext cx="137016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 txBox="1"/>
              <p:nvPr/>
            </p:nvSpPr>
            <p:spPr>
              <a:xfrm>
                <a:off x="4425840" y="5627520"/>
                <a:ext cx="108900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duced-or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6" name=""/>
            <p:cNvSpPr/>
            <p:nvPr/>
          </p:nvSpPr>
          <p:spPr>
            <a:xfrm>
              <a:off x="5278320" y="4021200"/>
              <a:ext cx="1217880" cy="1053000"/>
            </a:xfrm>
            <a:custGeom>
              <a:avLst/>
              <a:gdLst/>
              <a:ahLst/>
              <a:rect l="0" t="0" r="r" b="b"/>
              <a:pathLst>
                <a:path w="3383" h="2925">
                  <a:moveTo>
                    <a:pt x="3383" y="1447"/>
                  </a:moveTo>
                  <a:lnTo>
                    <a:pt x="2959" y="2188"/>
                  </a:lnTo>
                  <a:lnTo>
                    <a:pt x="2536" y="2925"/>
                  </a:lnTo>
                  <a:lnTo>
                    <a:pt x="1694" y="2925"/>
                  </a:lnTo>
                  <a:lnTo>
                    <a:pt x="846" y="2925"/>
                  </a:lnTo>
                  <a:lnTo>
                    <a:pt x="423" y="2188"/>
                  </a:lnTo>
                  <a:lnTo>
                    <a:pt x="0" y="1447"/>
                  </a:lnTo>
                  <a:lnTo>
                    <a:pt x="423" y="741"/>
                  </a:lnTo>
                  <a:lnTo>
                    <a:pt x="846" y="0"/>
                  </a:lnTo>
                  <a:lnTo>
                    <a:pt x="1694" y="0"/>
                  </a:lnTo>
                  <a:lnTo>
                    <a:pt x="2536" y="0"/>
                  </a:lnTo>
                  <a:lnTo>
                    <a:pt x="2959" y="741"/>
                  </a:lnTo>
                  <a:lnTo>
                    <a:pt x="3383" y="14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278320" y="4021200"/>
              <a:ext cx="1217880" cy="1053000"/>
            </a:xfrm>
            <a:custGeom>
              <a:avLst/>
              <a:gdLst/>
              <a:ahLst/>
              <a:rect l="0" t="0" r="r" b="b"/>
              <a:pathLst>
                <a:path fill="none" w="3383" h="2925">
                  <a:moveTo>
                    <a:pt x="3383" y="1447"/>
                  </a:moveTo>
                  <a:lnTo>
                    <a:pt x="2536" y="2925"/>
                  </a:lnTo>
                  <a:lnTo>
                    <a:pt x="846" y="2925"/>
                  </a:lnTo>
                  <a:lnTo>
                    <a:pt x="0" y="1447"/>
                  </a:lnTo>
                  <a:lnTo>
                    <a:pt x="846" y="0"/>
                  </a:lnTo>
                  <a:lnTo>
                    <a:pt x="253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 txBox="1"/>
            <p:nvPr/>
          </p:nvSpPr>
          <p:spPr>
            <a:xfrm>
              <a:off x="5681520" y="4003560"/>
              <a:ext cx="407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 txBox="1"/>
            <p:nvPr/>
          </p:nvSpPr>
          <p:spPr>
            <a:xfrm>
              <a:off x="5376960" y="4156200"/>
              <a:ext cx="1022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umn lar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 txBox="1"/>
            <p:nvPr/>
          </p:nvSpPr>
          <p:spPr>
            <a:xfrm>
              <a:off x="5415120" y="4308480"/>
              <a:ext cx="936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packed,  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 txBox="1"/>
            <p:nvPr/>
          </p:nvSpPr>
          <p:spPr>
            <a:xfrm>
              <a:off x="5440320" y="4460760"/>
              <a:ext cx="8859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te-base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 txBox="1"/>
            <p:nvPr/>
          </p:nvSpPr>
          <p:spPr>
            <a:xfrm>
              <a:off x="5452920" y="4613400"/>
              <a:ext cx="865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mul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 txBox="1"/>
            <p:nvPr/>
          </p:nvSpPr>
          <p:spPr>
            <a:xfrm>
              <a:off x="5516640" y="4765680"/>
              <a:ext cx="692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ired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4" name=""/>
            <p:cNvGrpSpPr/>
            <p:nvPr/>
          </p:nvGrpSpPr>
          <p:grpSpPr>
            <a:xfrm>
              <a:off x="4024440" y="1143000"/>
              <a:ext cx="125640" cy="254520"/>
              <a:chOff x="4024440" y="1143000"/>
              <a:chExt cx="125640" cy="254520"/>
            </a:xfrm>
          </p:grpSpPr>
          <p:sp>
            <p:nvSpPr>
              <p:cNvPr id="2255" name=""/>
              <p:cNvSpPr/>
              <p:nvPr/>
            </p:nvSpPr>
            <p:spPr>
              <a:xfrm>
                <a:off x="4024440" y="1231920"/>
                <a:ext cx="125640" cy="165600"/>
              </a:xfrm>
              <a:custGeom>
                <a:avLst/>
                <a:gdLst/>
                <a:ahLst/>
                <a:rect l="0" t="0" r="r" b="b"/>
                <a:pathLst>
                  <a:path w="349" h="460">
                    <a:moveTo>
                      <a:pt x="171" y="460"/>
                    </a:moveTo>
                    <a:lnTo>
                      <a:pt x="0" y="0"/>
                    </a:lnTo>
                    <a:lnTo>
                      <a:pt x="171" y="0"/>
                    </a:lnTo>
                    <a:lnTo>
                      <a:pt x="349" y="0"/>
                    </a:lnTo>
                    <a:lnTo>
                      <a:pt x="171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V="1">
                <a:off x="4086360" y="114300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7" name=""/>
            <p:cNvSpPr/>
            <p:nvPr/>
          </p:nvSpPr>
          <p:spPr>
            <a:xfrm>
              <a:off x="2982960" y="175248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873680" y="175248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9" name=""/>
            <p:cNvGrpSpPr/>
            <p:nvPr/>
          </p:nvGrpSpPr>
          <p:grpSpPr>
            <a:xfrm>
              <a:off x="5151600" y="1752480"/>
              <a:ext cx="127440" cy="837360"/>
              <a:chOff x="5151600" y="1752480"/>
              <a:chExt cx="127440" cy="837360"/>
            </a:xfrm>
          </p:grpSpPr>
          <p:sp>
            <p:nvSpPr>
              <p:cNvPr id="2260" name=""/>
              <p:cNvSpPr/>
              <p:nvPr/>
            </p:nvSpPr>
            <p:spPr>
              <a:xfrm>
                <a:off x="5151600" y="2424240"/>
                <a:ext cx="127440" cy="165600"/>
              </a:xfrm>
              <a:custGeom>
                <a:avLst/>
                <a:gdLst/>
                <a:ahLst/>
                <a:rect l="0" t="0" r="r" b="b"/>
                <a:pathLst>
                  <a:path w="354" h="460">
                    <a:moveTo>
                      <a:pt x="177" y="460"/>
                    </a:moveTo>
                    <a:lnTo>
                      <a:pt x="0" y="0"/>
                    </a:lnTo>
                    <a:lnTo>
                      <a:pt x="177" y="0"/>
                    </a:lnTo>
                    <a:lnTo>
                      <a:pt x="354" y="0"/>
                    </a:lnTo>
                    <a:lnTo>
                      <a:pt x="177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flipV="1">
                <a:off x="5214960" y="1752480"/>
                <a:ext cx="0" cy="6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2" name=""/>
            <p:cNvGrpSpPr/>
            <p:nvPr/>
          </p:nvGrpSpPr>
          <p:grpSpPr>
            <a:xfrm>
              <a:off x="2908440" y="1752480"/>
              <a:ext cx="125640" cy="837360"/>
              <a:chOff x="2908440" y="1752480"/>
              <a:chExt cx="125640" cy="837360"/>
            </a:xfrm>
          </p:grpSpPr>
          <p:sp>
            <p:nvSpPr>
              <p:cNvPr id="2263" name=""/>
              <p:cNvSpPr/>
              <p:nvPr/>
            </p:nvSpPr>
            <p:spPr>
              <a:xfrm>
                <a:off x="2908440" y="2424240"/>
                <a:ext cx="125640" cy="165600"/>
              </a:xfrm>
              <a:custGeom>
                <a:avLst/>
                <a:gdLst/>
                <a:ahLst/>
                <a:rect l="0" t="0" r="r" b="b"/>
                <a:pathLst>
                  <a:path w="349" h="460">
                    <a:moveTo>
                      <a:pt x="171" y="460"/>
                    </a:moveTo>
                    <a:lnTo>
                      <a:pt x="0" y="0"/>
                    </a:lnTo>
                    <a:lnTo>
                      <a:pt x="171" y="0"/>
                    </a:lnTo>
                    <a:lnTo>
                      <a:pt x="349" y="0"/>
                    </a:lnTo>
                    <a:lnTo>
                      <a:pt x="171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V="1">
                <a:off x="2970360" y="1752480"/>
                <a:ext cx="0" cy="6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5" name=""/>
            <p:cNvGrpSpPr/>
            <p:nvPr/>
          </p:nvGrpSpPr>
          <p:grpSpPr>
            <a:xfrm>
              <a:off x="2120760" y="3019320"/>
              <a:ext cx="127440" cy="1065600"/>
              <a:chOff x="2120760" y="3019320"/>
              <a:chExt cx="127440" cy="1065600"/>
            </a:xfrm>
          </p:grpSpPr>
          <p:sp>
            <p:nvSpPr>
              <p:cNvPr id="2266" name=""/>
              <p:cNvSpPr/>
              <p:nvPr/>
            </p:nvSpPr>
            <p:spPr>
              <a:xfrm>
                <a:off x="2120760" y="3921120"/>
                <a:ext cx="127440" cy="163800"/>
              </a:xfrm>
              <a:custGeom>
                <a:avLst/>
                <a:gdLst/>
                <a:ahLst/>
                <a:rect l="0" t="0" r="r" b="b"/>
                <a:pathLst>
                  <a:path w="354" h="455">
                    <a:moveTo>
                      <a:pt x="177" y="455"/>
                    </a:moveTo>
                    <a:lnTo>
                      <a:pt x="0" y="0"/>
                    </a:lnTo>
                    <a:lnTo>
                      <a:pt x="177" y="0"/>
                    </a:lnTo>
                    <a:lnTo>
                      <a:pt x="354" y="0"/>
                    </a:lnTo>
                    <a:lnTo>
                      <a:pt x="177" y="45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flipV="1">
                <a:off x="2184480" y="3019320"/>
                <a:ext cx="0" cy="90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8" name=""/>
            <p:cNvSpPr/>
            <p:nvPr/>
          </p:nvSpPr>
          <p:spPr>
            <a:xfrm>
              <a:off x="2184480" y="301932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782880" y="3006720"/>
              <a:ext cx="190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0" name=""/>
            <p:cNvGrpSpPr/>
            <p:nvPr/>
          </p:nvGrpSpPr>
          <p:grpSpPr>
            <a:xfrm>
              <a:off x="3897360" y="3006720"/>
              <a:ext cx="127440" cy="1726200"/>
              <a:chOff x="3897360" y="3006720"/>
              <a:chExt cx="127440" cy="1726200"/>
            </a:xfrm>
          </p:grpSpPr>
          <p:sp>
            <p:nvSpPr>
              <p:cNvPr id="2271" name=""/>
              <p:cNvSpPr/>
              <p:nvPr/>
            </p:nvSpPr>
            <p:spPr>
              <a:xfrm>
                <a:off x="3897360" y="4567320"/>
                <a:ext cx="127440" cy="165600"/>
              </a:xfrm>
              <a:custGeom>
                <a:avLst/>
                <a:gdLst/>
                <a:ahLst/>
                <a:rect l="0" t="0" r="r" b="b"/>
                <a:pathLst>
                  <a:path w="354" h="460">
                    <a:moveTo>
                      <a:pt x="177" y="460"/>
                    </a:moveTo>
                    <a:lnTo>
                      <a:pt x="0" y="0"/>
                    </a:lnTo>
                    <a:lnTo>
                      <a:pt x="177" y="0"/>
                    </a:lnTo>
                    <a:lnTo>
                      <a:pt x="354" y="0"/>
                    </a:lnTo>
                    <a:lnTo>
                      <a:pt x="177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V="1">
                <a:off x="3960720" y="3006720"/>
                <a:ext cx="0" cy="156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3" name=""/>
            <p:cNvGrpSpPr/>
            <p:nvPr/>
          </p:nvGrpSpPr>
          <p:grpSpPr>
            <a:xfrm>
              <a:off x="4441680" y="3006720"/>
              <a:ext cx="127440" cy="648360"/>
              <a:chOff x="4441680" y="3006720"/>
              <a:chExt cx="127440" cy="648360"/>
            </a:xfrm>
          </p:grpSpPr>
          <p:sp>
            <p:nvSpPr>
              <p:cNvPr id="2274" name=""/>
              <p:cNvSpPr/>
              <p:nvPr/>
            </p:nvSpPr>
            <p:spPr>
              <a:xfrm>
                <a:off x="4441680" y="3489480"/>
                <a:ext cx="127440" cy="165600"/>
              </a:xfrm>
              <a:custGeom>
                <a:avLst/>
                <a:gdLst/>
                <a:ahLst/>
                <a:rect l="0" t="0" r="r" b="b"/>
                <a:pathLst>
                  <a:path w="354" h="460">
                    <a:moveTo>
                      <a:pt x="177" y="460"/>
                    </a:moveTo>
                    <a:lnTo>
                      <a:pt x="0" y="0"/>
                    </a:lnTo>
                    <a:lnTo>
                      <a:pt x="177" y="0"/>
                    </a:lnTo>
                    <a:lnTo>
                      <a:pt x="354" y="0"/>
                    </a:lnTo>
                    <a:lnTo>
                      <a:pt x="177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V="1">
                <a:off x="4505400" y="300672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6" name=""/>
            <p:cNvGrpSpPr/>
            <p:nvPr/>
          </p:nvGrpSpPr>
          <p:grpSpPr>
            <a:xfrm>
              <a:off x="5850000" y="3019320"/>
              <a:ext cx="127440" cy="989280"/>
              <a:chOff x="5850000" y="3019320"/>
              <a:chExt cx="127440" cy="989280"/>
            </a:xfrm>
          </p:grpSpPr>
          <p:sp>
            <p:nvSpPr>
              <p:cNvPr id="2277" name=""/>
              <p:cNvSpPr/>
              <p:nvPr/>
            </p:nvSpPr>
            <p:spPr>
              <a:xfrm>
                <a:off x="5850000" y="3844800"/>
                <a:ext cx="127440" cy="163800"/>
              </a:xfrm>
              <a:custGeom>
                <a:avLst/>
                <a:gdLst/>
                <a:ahLst/>
                <a:rect l="0" t="0" r="r" b="b"/>
                <a:pathLst>
                  <a:path w="354" h="455">
                    <a:moveTo>
                      <a:pt x="177" y="455"/>
                    </a:moveTo>
                    <a:lnTo>
                      <a:pt x="0" y="0"/>
                    </a:lnTo>
                    <a:lnTo>
                      <a:pt x="177" y="0"/>
                    </a:lnTo>
                    <a:lnTo>
                      <a:pt x="354" y="0"/>
                    </a:lnTo>
                    <a:lnTo>
                      <a:pt x="177" y="45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flipV="1">
                <a:off x="5913360" y="3019320"/>
                <a:ext cx="0" cy="82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9" name=""/>
            <p:cNvSpPr/>
            <p:nvPr/>
          </p:nvSpPr>
          <p:spPr>
            <a:xfrm>
              <a:off x="4911840" y="4440240"/>
              <a:ext cx="392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534000" y="445284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1" name=""/>
            <p:cNvGrpSpPr/>
            <p:nvPr/>
          </p:nvGrpSpPr>
          <p:grpSpPr>
            <a:xfrm>
              <a:off x="4848120" y="4440240"/>
              <a:ext cx="127440" cy="1116360"/>
              <a:chOff x="4848120" y="4440240"/>
              <a:chExt cx="127440" cy="1116360"/>
            </a:xfrm>
          </p:grpSpPr>
          <p:sp>
            <p:nvSpPr>
              <p:cNvPr id="2282" name=""/>
              <p:cNvSpPr/>
              <p:nvPr/>
            </p:nvSpPr>
            <p:spPr>
              <a:xfrm>
                <a:off x="4848120" y="5391000"/>
                <a:ext cx="127440" cy="165600"/>
              </a:xfrm>
              <a:custGeom>
                <a:avLst/>
                <a:gdLst/>
                <a:ahLst/>
                <a:rect l="0" t="0" r="r" b="b"/>
                <a:pathLst>
                  <a:path w="354" h="460">
                    <a:moveTo>
                      <a:pt x="177" y="460"/>
                    </a:moveTo>
                    <a:lnTo>
                      <a:pt x="0" y="0"/>
                    </a:lnTo>
                    <a:lnTo>
                      <a:pt x="177" y="0"/>
                    </a:lnTo>
                    <a:lnTo>
                      <a:pt x="354" y="0"/>
                    </a:lnTo>
                    <a:lnTo>
                      <a:pt x="177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4911840" y="4440240"/>
                <a:ext cx="0" cy="9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4" name=""/>
            <p:cNvGrpSpPr/>
            <p:nvPr/>
          </p:nvGrpSpPr>
          <p:grpSpPr>
            <a:xfrm>
              <a:off x="6864480" y="4452840"/>
              <a:ext cx="127440" cy="1129320"/>
              <a:chOff x="6864480" y="4452840"/>
              <a:chExt cx="127440" cy="1129320"/>
            </a:xfrm>
          </p:grpSpPr>
          <p:sp>
            <p:nvSpPr>
              <p:cNvPr id="2285" name=""/>
              <p:cNvSpPr/>
              <p:nvPr/>
            </p:nvSpPr>
            <p:spPr>
              <a:xfrm>
                <a:off x="6864480" y="5416560"/>
                <a:ext cx="127440" cy="165600"/>
              </a:xfrm>
              <a:custGeom>
                <a:avLst/>
                <a:gdLst/>
                <a:ahLst/>
                <a:rect l="0" t="0" r="r" b="b"/>
                <a:pathLst>
                  <a:path w="354" h="460">
                    <a:moveTo>
                      <a:pt x="177" y="460"/>
                    </a:moveTo>
                    <a:lnTo>
                      <a:pt x="0" y="0"/>
                    </a:lnTo>
                    <a:lnTo>
                      <a:pt x="177" y="0"/>
                    </a:lnTo>
                    <a:lnTo>
                      <a:pt x="354" y="0"/>
                    </a:lnTo>
                    <a:lnTo>
                      <a:pt x="177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V="1">
                <a:off x="6927840" y="4452840"/>
                <a:ext cx="0" cy="9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7" name=""/>
            <p:cNvSpPr txBox="1"/>
            <p:nvPr/>
          </p:nvSpPr>
          <p:spPr>
            <a:xfrm>
              <a:off x="2104920" y="2647800"/>
              <a:ext cx="420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 txBox="1"/>
            <p:nvPr/>
          </p:nvSpPr>
          <p:spPr>
            <a:xfrm>
              <a:off x="6568920" y="4156200"/>
              <a:ext cx="369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 txBox="1"/>
            <p:nvPr/>
          </p:nvSpPr>
          <p:spPr>
            <a:xfrm>
              <a:off x="2992320" y="1494000"/>
              <a:ext cx="420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 txBox="1"/>
            <p:nvPr/>
          </p:nvSpPr>
          <p:spPr>
            <a:xfrm>
              <a:off x="4933800" y="1506600"/>
              <a:ext cx="369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 txBox="1"/>
            <p:nvPr/>
          </p:nvSpPr>
          <p:spPr>
            <a:xfrm>
              <a:off x="5732640" y="2647800"/>
              <a:ext cx="369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 txBox="1"/>
            <p:nvPr/>
          </p:nvSpPr>
          <p:spPr>
            <a:xfrm>
              <a:off x="4299120" y="2647800"/>
              <a:ext cx="420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 txBox="1"/>
            <p:nvPr/>
          </p:nvSpPr>
          <p:spPr>
            <a:xfrm>
              <a:off x="3767040" y="2660760"/>
              <a:ext cx="369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 txBox="1"/>
            <p:nvPr/>
          </p:nvSpPr>
          <p:spPr>
            <a:xfrm>
              <a:off x="4946760" y="4118040"/>
              <a:ext cx="420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 txBox="1"/>
            <p:nvPr/>
          </p:nvSpPr>
          <p:spPr>
            <a:xfrm>
              <a:off x="2941560" y="54000"/>
              <a:ext cx="3365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uidelines for the Use of Mod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 txBox="1"/>
            <p:nvPr/>
          </p:nvSpPr>
          <p:spPr>
            <a:xfrm>
              <a:off x="2536920" y="6261120"/>
              <a:ext cx="565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 txBox="1"/>
            <p:nvPr/>
          </p:nvSpPr>
          <p:spPr>
            <a:xfrm>
              <a:off x="7545240" y="5462640"/>
              <a:ext cx="22716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 txBox="1"/>
            <p:nvPr/>
          </p:nvSpPr>
          <p:spPr>
            <a:xfrm>
              <a:off x="7545240" y="5665680"/>
              <a:ext cx="22716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 txBox="1"/>
            <p:nvPr/>
          </p:nvSpPr>
          <p:spPr>
            <a:xfrm>
              <a:off x="1268280" y="3940200"/>
              <a:ext cx="22716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 txBox="1"/>
            <p:nvPr/>
          </p:nvSpPr>
          <p:spPr>
            <a:xfrm>
              <a:off x="1268280" y="4143240"/>
              <a:ext cx="22716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 txBox="1"/>
            <p:nvPr/>
          </p:nvSpPr>
          <p:spPr>
            <a:xfrm>
              <a:off x="7545240" y="5576760"/>
              <a:ext cx="43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 txBox="1"/>
            <p:nvPr/>
          </p:nvSpPr>
          <p:spPr>
            <a:xfrm>
              <a:off x="7545240" y="578016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 txBox="1"/>
            <p:nvPr/>
          </p:nvSpPr>
          <p:spPr>
            <a:xfrm>
              <a:off x="1268280" y="4054320"/>
              <a:ext cx="43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 txBox="1"/>
            <p:nvPr/>
          </p:nvSpPr>
          <p:spPr>
            <a:xfrm>
              <a:off x="1268280" y="42577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tch vs.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actors that favor batch operation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times batch if less than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bs/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batch if less than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bs/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duct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et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son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 productio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e up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ong reactio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ing slurries at low flow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ly foul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omplex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 txBox="1"/>
          <p:nvPr/>
        </p:nvSpPr>
        <p:spPr>
          <a:xfrm>
            <a:off x="2851200" y="5740560"/>
            <a:ext cx="3859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nalysis of azeotrop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cept of residue curve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7" name=""/>
          <p:cNvGrpSpPr/>
          <p:nvPr/>
        </p:nvGrpSpPr>
        <p:grpSpPr>
          <a:xfrm>
            <a:off x="3427560" y="2173320"/>
            <a:ext cx="2927160" cy="2927160"/>
            <a:chOff x="3427560" y="2173320"/>
            <a:chExt cx="2927160" cy="2927160"/>
          </a:xfrm>
        </p:grpSpPr>
        <p:sp>
          <p:nvSpPr>
            <p:cNvPr id="2308" name=""/>
            <p:cNvSpPr/>
            <p:nvPr/>
          </p:nvSpPr>
          <p:spPr>
            <a:xfrm>
              <a:off x="3427560" y="218592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443400" y="5084640"/>
              <a:ext cx="2895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3427560" y="2173320"/>
              <a:ext cx="2927160" cy="292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1" name=""/>
          <p:cNvSpPr txBox="1"/>
          <p:nvPr/>
        </p:nvSpPr>
        <p:spPr>
          <a:xfrm>
            <a:off x="3224160" y="182736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Acet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 txBox="1"/>
          <p:nvPr/>
        </p:nvSpPr>
        <p:spPr>
          <a:xfrm>
            <a:off x="6384960" y="4989600"/>
            <a:ext cx="915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Methan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 txBox="1"/>
          <p:nvPr/>
        </p:nvSpPr>
        <p:spPr>
          <a:xfrm>
            <a:off x="2698920" y="5253120"/>
            <a:ext cx="1063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Chloro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351320" y="5003640"/>
            <a:ext cx="152280" cy="138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268880" y="3954600"/>
            <a:ext cx="152280" cy="138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3357720" y="3774960"/>
            <a:ext cx="152280" cy="138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3992400" y="2754360"/>
            <a:ext cx="152280" cy="138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592440" y="3635280"/>
            <a:ext cx="2801880" cy="146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384720" y="3622680"/>
            <a:ext cx="179640" cy="248040"/>
          </a:xfrm>
          <a:custGeom>
            <a:avLst/>
            <a:gdLst/>
            <a:ahLst/>
            <a:rect l="0" t="0" r="r" b="b"/>
            <a:pathLst>
              <a:path fill="none" w="499" h="689">
                <a:moveTo>
                  <a:pt x="499" y="0"/>
                </a:moveTo>
                <a:lnTo>
                  <a:pt x="499" y="0"/>
                </a:lnTo>
                <a:cubicBezTo>
                  <a:pt x="411" y="0"/>
                  <a:pt x="325" y="32"/>
                  <a:pt x="249" y="92"/>
                </a:cubicBezTo>
                <a:cubicBezTo>
                  <a:pt x="174" y="153"/>
                  <a:pt x="111" y="240"/>
                  <a:pt x="67" y="345"/>
                </a:cubicBezTo>
                <a:cubicBezTo>
                  <a:pt x="23" y="449"/>
                  <a:pt x="0" y="568"/>
                  <a:pt x="0" y="6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4102200" y="2862360"/>
            <a:ext cx="305280" cy="2183040"/>
          </a:xfrm>
          <a:custGeom>
            <a:avLst/>
            <a:gdLst/>
            <a:ahLst/>
            <a:rect l="0" t="0" r="r" b="b"/>
            <a:pathLst>
              <a:path fill="none" w="848" h="6064">
                <a:moveTo>
                  <a:pt x="848" y="6064"/>
                </a:moveTo>
                <a:lnTo>
                  <a:pt x="848" y="6064"/>
                </a:lnTo>
                <a:lnTo>
                  <a:pt x="848" y="6064"/>
                </a:lnTo>
                <a:cubicBezTo>
                  <a:pt x="848" y="5000"/>
                  <a:pt x="809" y="3954"/>
                  <a:pt x="734" y="3032"/>
                </a:cubicBezTo>
                <a:cubicBezTo>
                  <a:pt x="660" y="2110"/>
                  <a:pt x="553" y="1345"/>
                  <a:pt x="424" y="812"/>
                </a:cubicBezTo>
                <a:cubicBezTo>
                  <a:pt x="295" y="280"/>
                  <a:pt x="149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4079880" y="240840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54.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 txBox="1"/>
          <p:nvPr/>
        </p:nvSpPr>
        <p:spPr>
          <a:xfrm>
            <a:off x="2698920" y="374796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6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4245120" y="518328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5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 txBox="1"/>
          <p:nvPr/>
        </p:nvSpPr>
        <p:spPr>
          <a:xfrm>
            <a:off x="4494240" y="377352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56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 txBox="1"/>
          <p:nvPr/>
        </p:nvSpPr>
        <p:spPr>
          <a:xfrm>
            <a:off x="2809800" y="207792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5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 txBox="1"/>
          <p:nvPr/>
        </p:nvSpPr>
        <p:spPr>
          <a:xfrm>
            <a:off x="2836800" y="493560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61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 txBox="1"/>
          <p:nvPr/>
        </p:nvSpPr>
        <p:spPr>
          <a:xfrm>
            <a:off x="6343560" y="478296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6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 txBox="1"/>
          <p:nvPr/>
        </p:nvSpPr>
        <p:spPr>
          <a:xfrm>
            <a:off x="5638680" y="3627360"/>
            <a:ext cx="3176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oherty and Coworkers, 1981-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afrit et al., 1996-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omplex Colum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 txBox="1"/>
          <p:nvPr/>
        </p:nvSpPr>
        <p:spPr>
          <a:xfrm>
            <a:off x="2193840" y="2319480"/>
            <a:ext cx="424512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verted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orensen &amp; Skogestad,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Lotter &amp; Diwekar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iddle Vessel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evidyan et al., 1982-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iwekar &amp; Coworkers 1994-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arlo et al.,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ulti-vessel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asebe et al.,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kogestad et al.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"/>
          <p:cNvSpPr/>
          <p:nvPr/>
        </p:nvSpPr>
        <p:spPr>
          <a:xfrm>
            <a:off x="5815080" y="2322360"/>
            <a:ext cx="685800" cy="2328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2" name=""/>
          <p:cNvGrpSpPr/>
          <p:nvPr/>
        </p:nvGrpSpPr>
        <p:grpSpPr>
          <a:xfrm>
            <a:off x="5815080" y="2046240"/>
            <a:ext cx="686160" cy="274320"/>
            <a:chOff x="5815080" y="2046240"/>
            <a:chExt cx="686160" cy="274320"/>
          </a:xfrm>
        </p:grpSpPr>
        <p:sp>
          <p:nvSpPr>
            <p:cNvPr id="2333" name=""/>
            <p:cNvSpPr/>
            <p:nvPr/>
          </p:nvSpPr>
          <p:spPr>
            <a:xfrm>
              <a:off x="5815080" y="204624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954" y="0"/>
                  </a:moveTo>
                  <a:lnTo>
                    <a:pt x="954" y="0"/>
                  </a:lnTo>
                  <a:cubicBezTo>
                    <a:pt x="787" y="0"/>
                    <a:pt x="622" y="35"/>
                    <a:pt x="477" y="102"/>
                  </a:cubicBezTo>
                  <a:cubicBezTo>
                    <a:pt x="332" y="169"/>
                    <a:pt x="212" y="265"/>
                    <a:pt x="128" y="381"/>
                  </a:cubicBezTo>
                  <a:cubicBezTo>
                    <a:pt x="44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157800" y="204624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954" y="762"/>
                  </a:moveTo>
                  <a:lnTo>
                    <a:pt x="954" y="762"/>
                  </a:lnTo>
                  <a:lnTo>
                    <a:pt x="954" y="762"/>
                  </a:lnTo>
                  <a:cubicBezTo>
                    <a:pt x="954" y="628"/>
                    <a:pt x="910" y="497"/>
                    <a:pt x="826" y="381"/>
                  </a:cubicBezTo>
                  <a:cubicBezTo>
                    <a:pt x="742" y="265"/>
                    <a:pt x="622" y="169"/>
                    <a:pt x="477" y="102"/>
                  </a:cubicBezTo>
                  <a:cubicBezTo>
                    <a:pt x="332" y="35"/>
                    <a:pt x="167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5815080" y="4658400"/>
            <a:ext cx="686160" cy="274320"/>
            <a:chOff x="5815080" y="4658400"/>
            <a:chExt cx="686160" cy="274320"/>
          </a:xfrm>
        </p:grpSpPr>
        <p:sp>
          <p:nvSpPr>
            <p:cNvPr id="2336" name=""/>
            <p:cNvSpPr/>
            <p:nvPr/>
          </p:nvSpPr>
          <p:spPr>
            <a:xfrm>
              <a:off x="5815080" y="4658400"/>
              <a:ext cx="345600" cy="274320"/>
            </a:xfrm>
            <a:custGeom>
              <a:avLst/>
              <a:gdLst/>
              <a:ahLst/>
              <a:rect l="0" t="0" r="r" b="b"/>
              <a:pathLst>
                <a:path fill="none" w="960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44" y="265"/>
                    <a:pt x="129" y="381"/>
                  </a:cubicBezTo>
                  <a:cubicBezTo>
                    <a:pt x="213" y="497"/>
                    <a:pt x="334" y="593"/>
                    <a:pt x="480" y="660"/>
                  </a:cubicBezTo>
                  <a:cubicBezTo>
                    <a:pt x="626" y="727"/>
                    <a:pt x="791" y="762"/>
                    <a:pt x="96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157800" y="465840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0" y="762"/>
                  </a:moveTo>
                  <a:lnTo>
                    <a:pt x="0" y="762"/>
                  </a:lnTo>
                  <a:cubicBezTo>
                    <a:pt x="167" y="762"/>
                    <a:pt x="332" y="727"/>
                    <a:pt x="477" y="660"/>
                  </a:cubicBezTo>
                  <a:cubicBezTo>
                    <a:pt x="622" y="593"/>
                    <a:pt x="742" y="497"/>
                    <a:pt x="826" y="381"/>
                  </a:cubicBezTo>
                  <a:cubicBezTo>
                    <a:pt x="910" y="265"/>
                    <a:pt x="954" y="134"/>
                    <a:pt x="95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8" name=""/>
          <p:cNvSpPr/>
          <p:nvPr/>
        </p:nvSpPr>
        <p:spPr>
          <a:xfrm>
            <a:off x="5472000" y="541332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5472000" y="596124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6841440" y="5408640"/>
            <a:ext cx="274320" cy="548280"/>
            <a:chOff x="6841440" y="5408640"/>
            <a:chExt cx="274320" cy="548280"/>
          </a:xfrm>
        </p:grpSpPr>
        <p:sp>
          <p:nvSpPr>
            <p:cNvPr id="2341" name=""/>
            <p:cNvSpPr/>
            <p:nvPr/>
          </p:nvSpPr>
          <p:spPr>
            <a:xfrm>
              <a:off x="6841440" y="54086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762"/>
                  </a:moveTo>
                  <a:lnTo>
                    <a:pt x="762" y="762"/>
                  </a:lnTo>
                  <a:lnTo>
                    <a:pt x="762" y="762"/>
                  </a:lnTo>
                  <a:cubicBezTo>
                    <a:pt x="762" y="628"/>
                    <a:pt x="727" y="497"/>
                    <a:pt x="660" y="381"/>
                  </a:cubicBezTo>
                  <a:cubicBezTo>
                    <a:pt x="593" y="265"/>
                    <a:pt x="497" y="169"/>
                    <a:pt x="381" y="102"/>
                  </a:cubicBezTo>
                  <a:cubicBezTo>
                    <a:pt x="265" y="35"/>
                    <a:pt x="13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841440" y="568260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762"/>
                  </a:moveTo>
                  <a:lnTo>
                    <a:pt x="0" y="762"/>
                  </a:lnTo>
                  <a:cubicBezTo>
                    <a:pt x="134" y="762"/>
                    <a:pt x="265" y="727"/>
                    <a:pt x="381" y="660"/>
                  </a:cubicBezTo>
                  <a:cubicBezTo>
                    <a:pt x="497" y="593"/>
                    <a:pt x="593" y="497"/>
                    <a:pt x="660" y="381"/>
                  </a:cubicBezTo>
                  <a:cubicBezTo>
                    <a:pt x="727" y="265"/>
                    <a:pt x="762" y="134"/>
                    <a:pt x="76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5195880" y="5408640"/>
            <a:ext cx="274320" cy="548280"/>
            <a:chOff x="5195880" y="5408640"/>
            <a:chExt cx="274320" cy="548280"/>
          </a:xfrm>
        </p:grpSpPr>
        <p:sp>
          <p:nvSpPr>
            <p:cNvPr id="2344" name=""/>
            <p:cNvSpPr/>
            <p:nvPr/>
          </p:nvSpPr>
          <p:spPr>
            <a:xfrm>
              <a:off x="5195880" y="568260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35" y="265"/>
                    <a:pt x="102" y="381"/>
                  </a:cubicBezTo>
                  <a:cubicBezTo>
                    <a:pt x="169" y="497"/>
                    <a:pt x="265" y="593"/>
                    <a:pt x="381" y="660"/>
                  </a:cubicBezTo>
                  <a:cubicBezTo>
                    <a:pt x="497" y="727"/>
                    <a:pt x="628" y="762"/>
                    <a:pt x="762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195880" y="54086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0"/>
                  </a:moveTo>
                  <a:lnTo>
                    <a:pt x="762" y="0"/>
                  </a:lnTo>
                  <a:cubicBezTo>
                    <a:pt x="628" y="0"/>
                    <a:pt x="497" y="35"/>
                    <a:pt x="381" y="102"/>
                  </a:cubicBezTo>
                  <a:cubicBezTo>
                    <a:pt x="265" y="169"/>
                    <a:pt x="169" y="265"/>
                    <a:pt x="102" y="381"/>
                  </a:cubicBezTo>
                  <a:cubicBezTo>
                    <a:pt x="35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6" name=""/>
          <p:cNvSpPr/>
          <p:nvPr/>
        </p:nvSpPr>
        <p:spPr>
          <a:xfrm>
            <a:off x="7167600" y="1227240"/>
            <a:ext cx="94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7162920" y="1779480"/>
            <a:ext cx="94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8" name=""/>
          <p:cNvGrpSpPr/>
          <p:nvPr/>
        </p:nvGrpSpPr>
        <p:grpSpPr>
          <a:xfrm>
            <a:off x="8096400" y="1222200"/>
            <a:ext cx="186120" cy="552960"/>
            <a:chOff x="8096400" y="1222200"/>
            <a:chExt cx="186120" cy="552960"/>
          </a:xfrm>
        </p:grpSpPr>
        <p:sp>
          <p:nvSpPr>
            <p:cNvPr id="2349" name=""/>
            <p:cNvSpPr/>
            <p:nvPr/>
          </p:nvSpPr>
          <p:spPr>
            <a:xfrm>
              <a:off x="8096400" y="122220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517" y="768"/>
                  </a:moveTo>
                  <a:lnTo>
                    <a:pt x="517" y="768"/>
                  </a:lnTo>
                  <a:lnTo>
                    <a:pt x="517" y="768"/>
                  </a:lnTo>
                  <a:cubicBezTo>
                    <a:pt x="517" y="633"/>
                    <a:pt x="493" y="501"/>
                    <a:pt x="448" y="384"/>
                  </a:cubicBezTo>
                  <a:cubicBezTo>
                    <a:pt x="402" y="267"/>
                    <a:pt x="337" y="170"/>
                    <a:pt x="258" y="103"/>
                  </a:cubicBezTo>
                  <a:cubicBezTo>
                    <a:pt x="180" y="35"/>
                    <a:pt x="9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096400" y="149868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0" y="768"/>
                  </a:moveTo>
                  <a:lnTo>
                    <a:pt x="0" y="768"/>
                  </a:lnTo>
                  <a:cubicBezTo>
                    <a:pt x="91" y="768"/>
                    <a:pt x="180" y="733"/>
                    <a:pt x="259" y="665"/>
                  </a:cubicBezTo>
                  <a:cubicBezTo>
                    <a:pt x="337" y="598"/>
                    <a:pt x="402" y="501"/>
                    <a:pt x="448" y="384"/>
                  </a:cubicBezTo>
                  <a:cubicBezTo>
                    <a:pt x="493" y="267"/>
                    <a:pt x="517" y="135"/>
                    <a:pt x="517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1" name=""/>
          <p:cNvGrpSpPr/>
          <p:nvPr/>
        </p:nvGrpSpPr>
        <p:grpSpPr>
          <a:xfrm>
            <a:off x="6981840" y="1222200"/>
            <a:ext cx="186120" cy="552960"/>
            <a:chOff x="6981840" y="1222200"/>
            <a:chExt cx="186120" cy="552960"/>
          </a:xfrm>
        </p:grpSpPr>
        <p:sp>
          <p:nvSpPr>
            <p:cNvPr id="2352" name=""/>
            <p:cNvSpPr/>
            <p:nvPr/>
          </p:nvSpPr>
          <p:spPr>
            <a:xfrm>
              <a:off x="6981840" y="149868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0" y="0"/>
                  </a:moveTo>
                  <a:lnTo>
                    <a:pt x="0" y="0"/>
                  </a:lnTo>
                  <a:cubicBezTo>
                    <a:pt x="0" y="135"/>
                    <a:pt x="24" y="267"/>
                    <a:pt x="69" y="384"/>
                  </a:cubicBezTo>
                  <a:cubicBezTo>
                    <a:pt x="115" y="501"/>
                    <a:pt x="180" y="598"/>
                    <a:pt x="259" y="665"/>
                  </a:cubicBezTo>
                  <a:cubicBezTo>
                    <a:pt x="337" y="733"/>
                    <a:pt x="426" y="768"/>
                    <a:pt x="517" y="76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981840" y="122220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517" y="0"/>
                  </a:moveTo>
                  <a:lnTo>
                    <a:pt x="517" y="0"/>
                  </a:lnTo>
                  <a:cubicBezTo>
                    <a:pt x="426" y="0"/>
                    <a:pt x="337" y="35"/>
                    <a:pt x="258" y="103"/>
                  </a:cubicBezTo>
                  <a:cubicBezTo>
                    <a:pt x="180" y="170"/>
                    <a:pt x="115" y="267"/>
                    <a:pt x="69" y="384"/>
                  </a:cubicBezTo>
                  <a:cubicBezTo>
                    <a:pt x="24" y="501"/>
                    <a:pt x="0" y="633"/>
                    <a:pt x="0" y="76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4" name=""/>
          <p:cNvSpPr/>
          <p:nvPr/>
        </p:nvSpPr>
        <p:spPr>
          <a:xfrm>
            <a:off x="6157800" y="1498680"/>
            <a:ext cx="662400" cy="547920"/>
          </a:xfrm>
          <a:custGeom>
            <a:avLst/>
            <a:gdLst/>
            <a:ahLst/>
            <a:rect l="0" t="0" r="r" b="b"/>
            <a:pathLst>
              <a:path fill="none" w="1840" h="1522">
                <a:moveTo>
                  <a:pt x="0" y="1522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6810480" y="144612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6657840" y="1774800"/>
            <a:ext cx="1010160" cy="614880"/>
          </a:xfrm>
          <a:custGeom>
            <a:avLst/>
            <a:gdLst/>
            <a:ahLst/>
            <a:rect l="0" t="0" r="r" b="b"/>
            <a:pathLst>
              <a:path fill="none" w="2806" h="1708">
                <a:moveTo>
                  <a:pt x="0" y="1708"/>
                </a:moveTo>
                <a:lnTo>
                  <a:pt x="2806" y="1708"/>
                </a:lnTo>
                <a:lnTo>
                  <a:pt x="2806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6500880" y="233676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0" y="128"/>
                </a:moveTo>
                <a:lnTo>
                  <a:pt x="438" y="252"/>
                </a:lnTo>
                <a:lnTo>
                  <a:pt x="438" y="0"/>
                </a:lnTo>
                <a:lnTo>
                  <a:pt x="0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7667640" y="950760"/>
            <a:ext cx="662400" cy="271800"/>
          </a:xfrm>
          <a:custGeom>
            <a:avLst/>
            <a:gdLst/>
            <a:ahLst/>
            <a:rect l="0" t="0" r="r" b="b"/>
            <a:pathLst>
              <a:path fill="none" w="1840" h="755">
                <a:moveTo>
                  <a:pt x="0" y="755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8319960" y="89856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6157800" y="4927680"/>
            <a:ext cx="0" cy="480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669960" y="2909880"/>
            <a:ext cx="4944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ventional Batch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/>
          <p:nvPr/>
        </p:nvSpPr>
        <p:spPr>
          <a:xfrm>
            <a:off x="4254840" y="2758680"/>
            <a:ext cx="1925280" cy="2288520"/>
          </a:xfrm>
          <a:custGeom>
            <a:avLst/>
            <a:gdLst/>
            <a:ahLst/>
            <a:rect l="0" t="0" r="r" b="b"/>
            <a:pathLst>
              <a:path w="5348" h="6357">
                <a:moveTo>
                  <a:pt x="1544" y="6357"/>
                </a:moveTo>
                <a:lnTo>
                  <a:pt x="5348" y="1122"/>
                </a:lnTo>
                <a:lnTo>
                  <a:pt x="3803" y="0"/>
                </a:lnTo>
                <a:lnTo>
                  <a:pt x="0" y="5235"/>
                </a:lnTo>
                <a:lnTo>
                  <a:pt x="1544" y="635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3" name=""/>
          <p:cNvGrpSpPr/>
          <p:nvPr/>
        </p:nvGrpSpPr>
        <p:grpSpPr>
          <a:xfrm>
            <a:off x="3820680" y="4795920"/>
            <a:ext cx="1217880" cy="703440"/>
            <a:chOff x="3820680" y="4795920"/>
            <a:chExt cx="1217880" cy="703440"/>
          </a:xfrm>
        </p:grpSpPr>
        <p:sp>
          <p:nvSpPr>
            <p:cNvPr id="2364" name=""/>
            <p:cNvSpPr/>
            <p:nvPr/>
          </p:nvSpPr>
          <p:spPr>
            <a:xfrm>
              <a:off x="4599360" y="5199120"/>
              <a:ext cx="439200" cy="300240"/>
            </a:xfrm>
            <a:custGeom>
              <a:avLst/>
              <a:gdLst/>
              <a:ahLst/>
              <a:rect l="0" t="0" r="r" b="b"/>
              <a:pathLst>
                <a:path fill="none" w="1220" h="834">
                  <a:moveTo>
                    <a:pt x="449" y="0"/>
                  </a:moveTo>
                  <a:lnTo>
                    <a:pt x="0" y="618"/>
                  </a:lnTo>
                  <a:lnTo>
                    <a:pt x="0" y="618"/>
                  </a:lnTo>
                  <a:cubicBezTo>
                    <a:pt x="135" y="716"/>
                    <a:pt x="289" y="784"/>
                    <a:pt x="445" y="815"/>
                  </a:cubicBezTo>
                  <a:cubicBezTo>
                    <a:pt x="602" y="846"/>
                    <a:pt x="756" y="839"/>
                    <a:pt x="892" y="794"/>
                  </a:cubicBezTo>
                  <a:cubicBezTo>
                    <a:pt x="1028" y="749"/>
                    <a:pt x="1141" y="669"/>
                    <a:pt x="1220" y="560"/>
                  </a:cubicBezTo>
                  <a:lnTo>
                    <a:pt x="1220" y="56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3820680" y="4795920"/>
              <a:ext cx="321840" cy="424080"/>
            </a:xfrm>
            <a:custGeom>
              <a:avLst/>
              <a:gdLst/>
              <a:ahLst/>
              <a:rect l="0" t="0" r="r" b="b"/>
              <a:pathLst>
                <a:path fill="none" w="894" h="1178">
                  <a:moveTo>
                    <a:pt x="894" y="559"/>
                  </a:move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cubicBezTo>
                    <a:pt x="42" y="109"/>
                    <a:pt x="1" y="241"/>
                    <a:pt x="0" y="384"/>
                  </a:cubicBezTo>
                  <a:cubicBezTo>
                    <a:pt x="0" y="527"/>
                    <a:pt x="40" y="675"/>
                    <a:pt x="118" y="815"/>
                  </a:cubicBezTo>
                  <a:cubicBezTo>
                    <a:pt x="196" y="954"/>
                    <a:pt x="309" y="1079"/>
                    <a:pt x="444" y="1177"/>
                  </a:cubicBezTo>
                  <a:cubicBezTo>
                    <a:pt x="444" y="1178"/>
                    <a:pt x="445" y="1178"/>
                    <a:pt x="445" y="1178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6" name=""/>
          <p:cNvGrpSpPr/>
          <p:nvPr/>
        </p:nvGrpSpPr>
        <p:grpSpPr>
          <a:xfrm>
            <a:off x="5323320" y="2310840"/>
            <a:ext cx="1221480" cy="705600"/>
            <a:chOff x="5323320" y="2310840"/>
            <a:chExt cx="1221480" cy="705600"/>
          </a:xfrm>
        </p:grpSpPr>
        <p:sp>
          <p:nvSpPr>
            <p:cNvPr id="2367" name=""/>
            <p:cNvSpPr/>
            <p:nvPr/>
          </p:nvSpPr>
          <p:spPr>
            <a:xfrm>
              <a:off x="6222240" y="2590920"/>
              <a:ext cx="322560" cy="425520"/>
            </a:xfrm>
            <a:custGeom>
              <a:avLst/>
              <a:gdLst/>
              <a:ahLst/>
              <a:rect l="0" t="0" r="r" b="b"/>
              <a:pathLst>
                <a:path fill="none" w="896" h="1182">
                  <a:moveTo>
                    <a:pt x="0" y="618"/>
                  </a:moveTo>
                  <a:lnTo>
                    <a:pt x="776" y="1182"/>
                  </a:lnTo>
                  <a:lnTo>
                    <a:pt x="776" y="1182"/>
                  </a:lnTo>
                  <a:lnTo>
                    <a:pt x="776" y="1182"/>
                  </a:lnTo>
                  <a:cubicBezTo>
                    <a:pt x="855" y="1073"/>
                    <a:pt x="896" y="941"/>
                    <a:pt x="896" y="797"/>
                  </a:cubicBezTo>
                  <a:cubicBezTo>
                    <a:pt x="896" y="654"/>
                    <a:pt x="855" y="505"/>
                    <a:pt x="776" y="365"/>
                  </a:cubicBezTo>
                  <a:cubicBezTo>
                    <a:pt x="697" y="225"/>
                    <a:pt x="585" y="99"/>
                    <a:pt x="448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323320" y="2310840"/>
              <a:ext cx="439200" cy="300600"/>
            </a:xfrm>
            <a:custGeom>
              <a:avLst/>
              <a:gdLst/>
              <a:ahLst/>
              <a:rect l="0" t="0" r="r" b="b"/>
              <a:pathLst>
                <a:path fill="none" w="1220" h="835">
                  <a:moveTo>
                    <a:pt x="773" y="835"/>
                  </a:moveTo>
                  <a:lnTo>
                    <a:pt x="1220" y="219"/>
                  </a:lnTo>
                  <a:lnTo>
                    <a:pt x="1220" y="219"/>
                  </a:lnTo>
                  <a:cubicBezTo>
                    <a:pt x="1220" y="218"/>
                    <a:pt x="1220" y="218"/>
                    <a:pt x="1220" y="218"/>
                  </a:cubicBezTo>
                  <a:cubicBezTo>
                    <a:pt x="1084" y="120"/>
                    <a:pt x="930" y="51"/>
                    <a:pt x="774" y="20"/>
                  </a:cubicBezTo>
                  <a:cubicBezTo>
                    <a:pt x="617" y="-12"/>
                    <a:pt x="463" y="-5"/>
                    <a:pt x="327" y="40"/>
                  </a:cubicBezTo>
                  <a:cubicBezTo>
                    <a:pt x="191" y="84"/>
                    <a:pt x="79" y="164"/>
                    <a:pt x="0" y="272"/>
                  </a:cubicBezTo>
                  <a:cubicBezTo>
                    <a:pt x="0" y="273"/>
                    <a:pt x="0" y="273"/>
                    <a:pt x="0" y="273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9" name=""/>
          <p:cNvSpPr/>
          <p:nvPr/>
        </p:nvSpPr>
        <p:spPr>
          <a:xfrm flipH="1" flipV="1">
            <a:off x="5788080" y="1936800"/>
            <a:ext cx="1117440" cy="81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 flipV="1">
            <a:off x="6110280" y="1494000"/>
            <a:ext cx="1116000" cy="812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1" name=""/>
          <p:cNvGrpSpPr/>
          <p:nvPr/>
        </p:nvGrpSpPr>
        <p:grpSpPr>
          <a:xfrm>
            <a:off x="5353200" y="1125720"/>
            <a:ext cx="599040" cy="990720"/>
            <a:chOff x="5353200" y="1125720"/>
            <a:chExt cx="599040" cy="990720"/>
          </a:xfrm>
        </p:grpSpPr>
        <p:sp>
          <p:nvSpPr>
            <p:cNvPr id="2372" name=""/>
            <p:cNvSpPr/>
            <p:nvPr/>
          </p:nvSpPr>
          <p:spPr>
            <a:xfrm>
              <a:off x="5353200" y="1733760"/>
              <a:ext cx="274320" cy="382680"/>
            </a:xfrm>
            <a:custGeom>
              <a:avLst/>
              <a:gdLst/>
              <a:ahLst/>
              <a:rect l="0" t="0" r="r" b="b"/>
              <a:pathLst>
                <a:path fill="none" w="762" h="1063">
                  <a:moveTo>
                    <a:pt x="762" y="447"/>
                  </a:moveTo>
                  <a:lnTo>
                    <a:pt x="145" y="0"/>
                  </a:lnTo>
                  <a:lnTo>
                    <a:pt x="145" y="0"/>
                  </a:lnTo>
                  <a:lnTo>
                    <a:pt x="145" y="0"/>
                  </a:lnTo>
                  <a:cubicBezTo>
                    <a:pt x="67" y="108"/>
                    <a:pt x="18" y="235"/>
                    <a:pt x="4" y="368"/>
                  </a:cubicBezTo>
                  <a:cubicBezTo>
                    <a:pt x="-10" y="501"/>
                    <a:pt x="11" y="635"/>
                    <a:pt x="65" y="757"/>
                  </a:cubicBezTo>
                  <a:cubicBezTo>
                    <a:pt x="120" y="879"/>
                    <a:pt x="205" y="984"/>
                    <a:pt x="314" y="1063"/>
                  </a:cubicBezTo>
                  <a:lnTo>
                    <a:pt x="314" y="106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568840" y="1125720"/>
              <a:ext cx="383400" cy="274680"/>
            </a:xfrm>
            <a:custGeom>
              <a:avLst/>
              <a:gdLst/>
              <a:ahLst/>
              <a:rect l="0" t="0" r="r" b="b"/>
              <a:pathLst>
                <a:path fill="none" w="1065" h="763">
                  <a:moveTo>
                    <a:pt x="616" y="763"/>
                  </a:moveTo>
                  <a:lnTo>
                    <a:pt x="1065" y="144"/>
                  </a:lnTo>
                  <a:lnTo>
                    <a:pt x="1065" y="144"/>
                  </a:lnTo>
                  <a:cubicBezTo>
                    <a:pt x="957" y="66"/>
                    <a:pt x="830" y="17"/>
                    <a:pt x="697" y="4"/>
                  </a:cubicBezTo>
                  <a:cubicBezTo>
                    <a:pt x="564" y="-10"/>
                    <a:pt x="430" y="11"/>
                    <a:pt x="308" y="66"/>
                  </a:cubicBezTo>
                  <a:cubicBezTo>
                    <a:pt x="185" y="120"/>
                    <a:pt x="79" y="206"/>
                    <a:pt x="1" y="314"/>
                  </a:cubicBezTo>
                  <a:cubicBezTo>
                    <a:pt x="0" y="315"/>
                    <a:pt x="0" y="315"/>
                    <a:pt x="0" y="315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7073280" y="2146320"/>
            <a:ext cx="595800" cy="989280"/>
            <a:chOff x="7073280" y="2146320"/>
            <a:chExt cx="595800" cy="989280"/>
          </a:xfrm>
        </p:grpSpPr>
        <p:sp>
          <p:nvSpPr>
            <p:cNvPr id="2375" name=""/>
            <p:cNvSpPr/>
            <p:nvPr/>
          </p:nvSpPr>
          <p:spPr>
            <a:xfrm>
              <a:off x="7394400" y="2146320"/>
              <a:ext cx="274680" cy="383400"/>
            </a:xfrm>
            <a:custGeom>
              <a:avLst/>
              <a:gdLst/>
              <a:ahLst/>
              <a:rect l="0" t="0" r="r" b="b"/>
              <a:pathLst>
                <a:path fill="none" w="763" h="1065">
                  <a:moveTo>
                    <a:pt x="0" y="616"/>
                  </a:moveTo>
                  <a:lnTo>
                    <a:pt x="618" y="1065"/>
                  </a:lnTo>
                  <a:lnTo>
                    <a:pt x="618" y="1065"/>
                  </a:lnTo>
                  <a:lnTo>
                    <a:pt x="618" y="1065"/>
                  </a:lnTo>
                  <a:cubicBezTo>
                    <a:pt x="696" y="957"/>
                    <a:pt x="745" y="830"/>
                    <a:pt x="759" y="697"/>
                  </a:cubicBezTo>
                  <a:cubicBezTo>
                    <a:pt x="773" y="564"/>
                    <a:pt x="751" y="429"/>
                    <a:pt x="697" y="307"/>
                  </a:cubicBezTo>
                  <a:cubicBezTo>
                    <a:pt x="642" y="185"/>
                    <a:pt x="556" y="79"/>
                    <a:pt x="448" y="0"/>
                  </a:cubicBezTo>
                  <a:lnTo>
                    <a:pt x="44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073280" y="2861280"/>
              <a:ext cx="383400" cy="274320"/>
            </a:xfrm>
            <a:custGeom>
              <a:avLst/>
              <a:gdLst/>
              <a:ahLst/>
              <a:rect l="0" t="0" r="r" b="b"/>
              <a:pathLst>
                <a:path fill="none" w="1065" h="762">
                  <a:moveTo>
                    <a:pt x="447" y="0"/>
                  </a:moveTo>
                  <a:lnTo>
                    <a:pt x="0" y="616"/>
                  </a:lnTo>
                  <a:lnTo>
                    <a:pt x="0" y="616"/>
                  </a:lnTo>
                  <a:lnTo>
                    <a:pt x="1" y="616"/>
                  </a:lnTo>
                  <a:cubicBezTo>
                    <a:pt x="109" y="695"/>
                    <a:pt x="236" y="744"/>
                    <a:pt x="369" y="758"/>
                  </a:cubicBezTo>
                  <a:cubicBezTo>
                    <a:pt x="502" y="772"/>
                    <a:pt x="636" y="751"/>
                    <a:pt x="758" y="697"/>
                  </a:cubicBezTo>
                  <a:cubicBezTo>
                    <a:pt x="881" y="643"/>
                    <a:pt x="986" y="557"/>
                    <a:pt x="1065" y="449"/>
                  </a:cubicBezTo>
                  <a:lnTo>
                    <a:pt x="1065" y="4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7" name=""/>
          <p:cNvSpPr/>
          <p:nvPr/>
        </p:nvSpPr>
        <p:spPr>
          <a:xfrm flipH="1" flipV="1">
            <a:off x="2309760" y="4584600"/>
            <a:ext cx="763560" cy="554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 flipH="1" flipV="1">
            <a:off x="2638440" y="4140360"/>
            <a:ext cx="763560" cy="554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9" name=""/>
          <p:cNvGrpSpPr/>
          <p:nvPr/>
        </p:nvGrpSpPr>
        <p:grpSpPr>
          <a:xfrm>
            <a:off x="2012040" y="3821760"/>
            <a:ext cx="546840" cy="970920"/>
            <a:chOff x="2012040" y="3821760"/>
            <a:chExt cx="546840" cy="970920"/>
          </a:xfrm>
        </p:grpSpPr>
        <p:sp>
          <p:nvSpPr>
            <p:cNvPr id="2380" name=""/>
            <p:cNvSpPr/>
            <p:nvPr/>
          </p:nvSpPr>
          <p:spPr>
            <a:xfrm>
              <a:off x="2012040" y="4458960"/>
              <a:ext cx="221760" cy="333720"/>
            </a:xfrm>
            <a:custGeom>
              <a:avLst/>
              <a:gdLst/>
              <a:ahLst/>
              <a:rect l="0" t="0" r="r" b="b"/>
              <a:pathLst>
                <a:path fill="none" w="616" h="927">
                  <a:moveTo>
                    <a:pt x="616" y="304"/>
                  </a:moveTo>
                  <a:lnTo>
                    <a:pt x="198" y="0"/>
                  </a:lnTo>
                  <a:lnTo>
                    <a:pt x="198" y="0"/>
                  </a:lnTo>
                  <a:cubicBezTo>
                    <a:pt x="119" y="109"/>
                    <a:pt x="60" y="231"/>
                    <a:pt x="28" y="352"/>
                  </a:cubicBezTo>
                  <a:cubicBezTo>
                    <a:pt x="-4" y="474"/>
                    <a:pt x="-9" y="591"/>
                    <a:pt x="15" y="692"/>
                  </a:cubicBezTo>
                  <a:cubicBezTo>
                    <a:pt x="39" y="792"/>
                    <a:pt x="90" y="874"/>
                    <a:pt x="163" y="927"/>
                  </a:cubicBezTo>
                  <a:lnTo>
                    <a:pt x="163" y="9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245320" y="3821760"/>
              <a:ext cx="313560" cy="249840"/>
            </a:xfrm>
            <a:custGeom>
              <a:avLst/>
              <a:gdLst/>
              <a:ahLst/>
              <a:rect l="0" t="0" r="r" b="b"/>
              <a:pathLst>
                <a:path fill="none" w="871" h="694">
                  <a:moveTo>
                    <a:pt x="418" y="694"/>
                  </a:moveTo>
                  <a:lnTo>
                    <a:pt x="871" y="70"/>
                  </a:lnTo>
                  <a:lnTo>
                    <a:pt x="871" y="70"/>
                  </a:lnTo>
                  <a:cubicBezTo>
                    <a:pt x="798" y="17"/>
                    <a:pt x="705" y="-7"/>
                    <a:pt x="602" y="2"/>
                  </a:cubicBezTo>
                  <a:cubicBezTo>
                    <a:pt x="498" y="11"/>
                    <a:pt x="388" y="51"/>
                    <a:pt x="283" y="119"/>
                  </a:cubicBezTo>
                  <a:cubicBezTo>
                    <a:pt x="177" y="187"/>
                    <a:pt x="80" y="281"/>
                    <a:pt x="0" y="390"/>
                  </a:cubicBezTo>
                  <a:lnTo>
                    <a:pt x="0" y="3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"/>
          <p:cNvGrpSpPr/>
          <p:nvPr/>
        </p:nvGrpSpPr>
        <p:grpSpPr>
          <a:xfrm>
            <a:off x="3158640" y="4501080"/>
            <a:ext cx="545760" cy="972720"/>
            <a:chOff x="3158640" y="4501080"/>
            <a:chExt cx="545760" cy="972720"/>
          </a:xfrm>
        </p:grpSpPr>
        <p:sp>
          <p:nvSpPr>
            <p:cNvPr id="2383" name=""/>
            <p:cNvSpPr/>
            <p:nvPr/>
          </p:nvSpPr>
          <p:spPr>
            <a:xfrm>
              <a:off x="3483000" y="4501080"/>
              <a:ext cx="221400" cy="333000"/>
            </a:xfrm>
            <a:custGeom>
              <a:avLst/>
              <a:gdLst/>
              <a:ahLst/>
              <a:rect l="0" t="0" r="r" b="b"/>
              <a:pathLst>
                <a:path fill="none" w="615" h="925">
                  <a:moveTo>
                    <a:pt x="0" y="621"/>
                  </a:moveTo>
                  <a:lnTo>
                    <a:pt x="418" y="925"/>
                  </a:lnTo>
                  <a:lnTo>
                    <a:pt x="418" y="925"/>
                  </a:lnTo>
                  <a:lnTo>
                    <a:pt x="418" y="925"/>
                  </a:lnTo>
                  <a:cubicBezTo>
                    <a:pt x="497" y="816"/>
                    <a:pt x="556" y="694"/>
                    <a:pt x="588" y="573"/>
                  </a:cubicBezTo>
                  <a:cubicBezTo>
                    <a:pt x="620" y="452"/>
                    <a:pt x="624" y="336"/>
                    <a:pt x="600" y="235"/>
                  </a:cubicBezTo>
                  <a:cubicBezTo>
                    <a:pt x="577" y="135"/>
                    <a:pt x="525" y="54"/>
                    <a:pt x="452" y="0"/>
                  </a:cubicBezTo>
                  <a:lnTo>
                    <a:pt x="45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158640" y="5224320"/>
              <a:ext cx="312840" cy="249480"/>
            </a:xfrm>
            <a:custGeom>
              <a:avLst/>
              <a:gdLst/>
              <a:ahLst/>
              <a:rect l="0" t="0" r="r" b="b"/>
              <a:pathLst>
                <a:path fill="none" w="869" h="693">
                  <a:moveTo>
                    <a:pt x="452" y="0"/>
                  </a:moveTo>
                  <a:lnTo>
                    <a:pt x="0" y="622"/>
                  </a:lnTo>
                  <a:lnTo>
                    <a:pt x="0" y="622"/>
                  </a:lnTo>
                  <a:lnTo>
                    <a:pt x="1" y="622"/>
                  </a:lnTo>
                  <a:cubicBezTo>
                    <a:pt x="74" y="676"/>
                    <a:pt x="167" y="699"/>
                    <a:pt x="270" y="691"/>
                  </a:cubicBezTo>
                  <a:cubicBezTo>
                    <a:pt x="373" y="682"/>
                    <a:pt x="482" y="642"/>
                    <a:pt x="588" y="574"/>
                  </a:cubicBezTo>
                  <a:cubicBezTo>
                    <a:pt x="693" y="506"/>
                    <a:pt x="790" y="413"/>
                    <a:pt x="869" y="30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"/>
          <p:cNvGrpSpPr/>
          <p:nvPr/>
        </p:nvGrpSpPr>
        <p:grpSpPr>
          <a:xfrm>
            <a:off x="3390840" y="5041800"/>
            <a:ext cx="981720" cy="471960"/>
            <a:chOff x="3390840" y="5041800"/>
            <a:chExt cx="981720" cy="471960"/>
          </a:xfrm>
        </p:grpSpPr>
        <p:sp>
          <p:nvSpPr>
            <p:cNvPr id="2386" name=""/>
            <p:cNvSpPr/>
            <p:nvPr/>
          </p:nvSpPr>
          <p:spPr>
            <a:xfrm>
              <a:off x="3513240" y="5070600"/>
              <a:ext cx="859320" cy="443160"/>
            </a:xfrm>
            <a:custGeom>
              <a:avLst/>
              <a:gdLst/>
              <a:ahLst/>
              <a:rect l="0" t="0" r="r" b="b"/>
              <a:pathLst>
                <a:path fill="none" w="2387" h="1231">
                  <a:moveTo>
                    <a:pt x="2387" y="0"/>
                  </a:moveTo>
                  <a:lnTo>
                    <a:pt x="1491" y="1231"/>
                  </a:lnTo>
                  <a:lnTo>
                    <a:pt x="0" y="1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3390840" y="5041800"/>
              <a:ext cx="152640" cy="130680"/>
            </a:xfrm>
            <a:custGeom>
              <a:avLst/>
              <a:gdLst/>
              <a:ahLst/>
              <a:rect l="0" t="0" r="r" b="b"/>
              <a:pathLst>
                <a:path w="424" h="363">
                  <a:moveTo>
                    <a:pt x="0" y="0"/>
                  </a:moveTo>
                  <a:lnTo>
                    <a:pt x="278" y="363"/>
                  </a:lnTo>
                  <a:lnTo>
                    <a:pt x="42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8" name=""/>
          <p:cNvGrpSpPr/>
          <p:nvPr/>
        </p:nvGrpSpPr>
        <p:grpSpPr>
          <a:xfrm>
            <a:off x="2990880" y="3905280"/>
            <a:ext cx="1300680" cy="690840"/>
            <a:chOff x="2990880" y="3905280"/>
            <a:chExt cx="1300680" cy="690840"/>
          </a:xfrm>
        </p:grpSpPr>
        <p:sp>
          <p:nvSpPr>
            <p:cNvPr id="2389" name=""/>
            <p:cNvSpPr/>
            <p:nvPr/>
          </p:nvSpPr>
          <p:spPr>
            <a:xfrm>
              <a:off x="2990880" y="3905280"/>
              <a:ext cx="1178280" cy="594000"/>
            </a:xfrm>
            <a:custGeom>
              <a:avLst/>
              <a:gdLst/>
              <a:ahLst/>
              <a:rect l="0" t="0" r="r" b="b"/>
              <a:pathLst>
                <a:path fill="none" w="3273" h="1650">
                  <a:moveTo>
                    <a:pt x="3273" y="1650"/>
                  </a:moveTo>
                  <a:lnTo>
                    <a:pt x="1001" y="0"/>
                  </a:lnTo>
                  <a:lnTo>
                    <a:pt x="0" y="138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137120" y="4467240"/>
              <a:ext cx="154440" cy="128880"/>
            </a:xfrm>
            <a:custGeom>
              <a:avLst/>
              <a:gdLst/>
              <a:ahLst/>
              <a:rect l="0" t="0" r="r" b="b"/>
              <a:pathLst>
                <a:path w="429" h="358">
                  <a:moveTo>
                    <a:pt x="429" y="358"/>
                  </a:moveTo>
                  <a:lnTo>
                    <a:pt x="150" y="0"/>
                  </a:lnTo>
                  <a:lnTo>
                    <a:pt x="0" y="203"/>
                  </a:lnTo>
                  <a:lnTo>
                    <a:pt x="429" y="3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1" name=""/>
          <p:cNvGrpSpPr/>
          <p:nvPr/>
        </p:nvGrpSpPr>
        <p:grpSpPr>
          <a:xfrm>
            <a:off x="1847880" y="4597560"/>
            <a:ext cx="817560" cy="471600"/>
            <a:chOff x="1847880" y="4597560"/>
            <a:chExt cx="817560" cy="471600"/>
          </a:xfrm>
        </p:grpSpPr>
        <p:sp>
          <p:nvSpPr>
            <p:cNvPr id="2392" name=""/>
            <p:cNvSpPr/>
            <p:nvPr/>
          </p:nvSpPr>
          <p:spPr>
            <a:xfrm>
              <a:off x="1969920" y="4680000"/>
              <a:ext cx="695520" cy="389160"/>
            </a:xfrm>
            <a:custGeom>
              <a:avLst/>
              <a:gdLst/>
              <a:ahLst/>
              <a:rect l="0" t="0" r="r" b="b"/>
              <a:pathLst>
                <a:path fill="none" w="1932" h="1081">
                  <a:moveTo>
                    <a:pt x="1932" y="471"/>
                  </a:moveTo>
                  <a:lnTo>
                    <a:pt x="1491" y="108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1847880" y="4597560"/>
              <a:ext cx="152640" cy="130680"/>
            </a:xfrm>
            <a:custGeom>
              <a:avLst/>
              <a:gdLst/>
              <a:ahLst/>
              <a:rect l="0" t="0" r="r" b="b"/>
              <a:pathLst>
                <a:path w="424" h="363">
                  <a:moveTo>
                    <a:pt x="0" y="0"/>
                  </a:moveTo>
                  <a:lnTo>
                    <a:pt x="278" y="363"/>
                  </a:lnTo>
                  <a:lnTo>
                    <a:pt x="42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4" name=""/>
          <p:cNvSpPr/>
          <p:nvPr/>
        </p:nvSpPr>
        <p:spPr>
          <a:xfrm flipV="1">
            <a:off x="6064200" y="2349360"/>
            <a:ext cx="282600" cy="3891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5" name=""/>
          <p:cNvGrpSpPr/>
          <p:nvPr/>
        </p:nvGrpSpPr>
        <p:grpSpPr>
          <a:xfrm>
            <a:off x="1490760" y="1973160"/>
            <a:ext cx="687960" cy="2878560"/>
            <a:chOff x="1490760" y="1973160"/>
            <a:chExt cx="687960" cy="2878560"/>
          </a:xfrm>
        </p:grpSpPr>
        <p:sp>
          <p:nvSpPr>
            <p:cNvPr id="2396" name=""/>
            <p:cNvSpPr/>
            <p:nvPr/>
          </p:nvSpPr>
          <p:spPr>
            <a:xfrm>
              <a:off x="1492200" y="2249640"/>
              <a:ext cx="685800" cy="2328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7" name=""/>
            <p:cNvGrpSpPr/>
            <p:nvPr/>
          </p:nvGrpSpPr>
          <p:grpSpPr>
            <a:xfrm>
              <a:off x="1492200" y="1973160"/>
              <a:ext cx="686160" cy="274320"/>
              <a:chOff x="1492200" y="1973160"/>
              <a:chExt cx="686160" cy="274320"/>
            </a:xfrm>
          </p:grpSpPr>
          <p:sp>
            <p:nvSpPr>
              <p:cNvPr id="2398" name=""/>
              <p:cNvSpPr/>
              <p:nvPr/>
            </p:nvSpPr>
            <p:spPr>
              <a:xfrm>
                <a:off x="1492200" y="1973160"/>
                <a:ext cx="345600" cy="274320"/>
              </a:xfrm>
              <a:custGeom>
                <a:avLst/>
                <a:gdLst/>
                <a:ahLst/>
                <a:rect l="0" t="0" r="r" b="b"/>
                <a:pathLst>
                  <a:path fill="none" w="960" h="762">
                    <a:moveTo>
                      <a:pt x="960" y="0"/>
                    </a:moveTo>
                    <a:lnTo>
                      <a:pt x="960" y="0"/>
                    </a:lnTo>
                    <a:cubicBezTo>
                      <a:pt x="791" y="0"/>
                      <a:pt x="626" y="35"/>
                      <a:pt x="480" y="102"/>
                    </a:cubicBezTo>
                    <a:cubicBezTo>
                      <a:pt x="334" y="169"/>
                      <a:pt x="213" y="265"/>
                      <a:pt x="129" y="381"/>
                    </a:cubicBezTo>
                    <a:cubicBezTo>
                      <a:pt x="44" y="497"/>
                      <a:pt x="0" y="628"/>
                      <a:pt x="0" y="762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1837440" y="1973160"/>
                <a:ext cx="340920" cy="274320"/>
              </a:xfrm>
              <a:custGeom>
                <a:avLst/>
                <a:gdLst/>
                <a:ahLst/>
                <a:rect l="0" t="0" r="r" b="b"/>
                <a:pathLst>
                  <a:path fill="none" w="947" h="762">
                    <a:moveTo>
                      <a:pt x="947" y="762"/>
                    </a:moveTo>
                    <a:lnTo>
                      <a:pt x="947" y="762"/>
                    </a:lnTo>
                    <a:lnTo>
                      <a:pt x="947" y="762"/>
                    </a:lnTo>
                    <a:cubicBezTo>
                      <a:pt x="947" y="628"/>
                      <a:pt x="903" y="497"/>
                      <a:pt x="820" y="381"/>
                    </a:cubicBezTo>
                    <a:cubicBezTo>
                      <a:pt x="737" y="265"/>
                      <a:pt x="617" y="169"/>
                      <a:pt x="473" y="102"/>
                    </a:cubicBezTo>
                    <a:cubicBezTo>
                      <a:pt x="330" y="35"/>
                      <a:pt x="166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0" name=""/>
            <p:cNvGrpSpPr/>
            <p:nvPr/>
          </p:nvGrpSpPr>
          <p:grpSpPr>
            <a:xfrm>
              <a:off x="1490760" y="4577400"/>
              <a:ext cx="687960" cy="274320"/>
              <a:chOff x="1490760" y="4577400"/>
              <a:chExt cx="687960" cy="274320"/>
            </a:xfrm>
          </p:grpSpPr>
          <p:sp>
            <p:nvSpPr>
              <p:cNvPr id="2401" name=""/>
              <p:cNvSpPr/>
              <p:nvPr/>
            </p:nvSpPr>
            <p:spPr>
              <a:xfrm>
                <a:off x="1490760" y="4577400"/>
                <a:ext cx="345600" cy="274320"/>
              </a:xfrm>
              <a:custGeom>
                <a:avLst/>
                <a:gdLst/>
                <a:ahLst/>
                <a:rect l="0" t="0" r="r" b="b"/>
                <a:pathLst>
                  <a:path fill="none" w="960" h="762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34"/>
                      <a:pt x="44" y="265"/>
                      <a:pt x="129" y="381"/>
                    </a:cubicBezTo>
                    <a:cubicBezTo>
                      <a:pt x="213" y="497"/>
                      <a:pt x="334" y="593"/>
                      <a:pt x="480" y="660"/>
                    </a:cubicBezTo>
                    <a:cubicBezTo>
                      <a:pt x="626" y="727"/>
                      <a:pt x="791" y="762"/>
                      <a:pt x="960" y="762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1835280" y="4577400"/>
                <a:ext cx="343440" cy="274320"/>
              </a:xfrm>
              <a:custGeom>
                <a:avLst/>
                <a:gdLst/>
                <a:ahLst/>
                <a:rect l="0" t="0" r="r" b="b"/>
                <a:pathLst>
                  <a:path fill="none" w="954" h="762">
                    <a:moveTo>
                      <a:pt x="0" y="762"/>
                    </a:moveTo>
                    <a:lnTo>
                      <a:pt x="0" y="762"/>
                    </a:lnTo>
                    <a:cubicBezTo>
                      <a:pt x="167" y="762"/>
                      <a:pt x="332" y="727"/>
                      <a:pt x="477" y="660"/>
                    </a:cubicBezTo>
                    <a:cubicBezTo>
                      <a:pt x="622" y="593"/>
                      <a:pt x="742" y="497"/>
                      <a:pt x="826" y="381"/>
                    </a:cubicBezTo>
                    <a:cubicBezTo>
                      <a:pt x="910" y="265"/>
                      <a:pt x="954" y="134"/>
                      <a:pt x="954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3" name=""/>
          <p:cNvSpPr/>
          <p:nvPr/>
        </p:nvSpPr>
        <p:spPr>
          <a:xfrm>
            <a:off x="2363760" y="5130720"/>
            <a:ext cx="933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2363760" y="5678640"/>
            <a:ext cx="933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3295800" y="5126040"/>
            <a:ext cx="187560" cy="549720"/>
            <a:chOff x="3295800" y="5126040"/>
            <a:chExt cx="187560" cy="549720"/>
          </a:xfrm>
        </p:grpSpPr>
        <p:sp>
          <p:nvSpPr>
            <p:cNvPr id="2406" name=""/>
            <p:cNvSpPr/>
            <p:nvPr/>
          </p:nvSpPr>
          <p:spPr>
            <a:xfrm>
              <a:off x="3297240" y="512604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517" y="762"/>
                  </a:moveTo>
                  <a:lnTo>
                    <a:pt x="517" y="762"/>
                  </a:lnTo>
                  <a:lnTo>
                    <a:pt x="517" y="762"/>
                  </a:lnTo>
                  <a:cubicBezTo>
                    <a:pt x="517" y="628"/>
                    <a:pt x="493" y="497"/>
                    <a:pt x="448" y="381"/>
                  </a:cubicBezTo>
                  <a:cubicBezTo>
                    <a:pt x="402" y="265"/>
                    <a:pt x="337" y="169"/>
                    <a:pt x="258" y="102"/>
                  </a:cubicBezTo>
                  <a:cubicBezTo>
                    <a:pt x="180" y="35"/>
                    <a:pt x="91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295800" y="540144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0" y="762"/>
                  </a:moveTo>
                  <a:lnTo>
                    <a:pt x="0" y="762"/>
                  </a:lnTo>
                  <a:cubicBezTo>
                    <a:pt x="91" y="762"/>
                    <a:pt x="180" y="727"/>
                    <a:pt x="259" y="660"/>
                  </a:cubicBezTo>
                  <a:cubicBezTo>
                    <a:pt x="337" y="593"/>
                    <a:pt x="402" y="497"/>
                    <a:pt x="448" y="381"/>
                  </a:cubicBezTo>
                  <a:cubicBezTo>
                    <a:pt x="493" y="265"/>
                    <a:pt x="517" y="134"/>
                    <a:pt x="517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8" name=""/>
          <p:cNvGrpSpPr/>
          <p:nvPr/>
        </p:nvGrpSpPr>
        <p:grpSpPr>
          <a:xfrm>
            <a:off x="2176560" y="5126040"/>
            <a:ext cx="189720" cy="549720"/>
            <a:chOff x="2176560" y="5126040"/>
            <a:chExt cx="189720" cy="549720"/>
          </a:xfrm>
        </p:grpSpPr>
        <p:sp>
          <p:nvSpPr>
            <p:cNvPr id="2409" name=""/>
            <p:cNvSpPr/>
            <p:nvPr/>
          </p:nvSpPr>
          <p:spPr>
            <a:xfrm>
              <a:off x="2176560" y="540144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24" y="265"/>
                    <a:pt x="69" y="381"/>
                  </a:cubicBezTo>
                  <a:cubicBezTo>
                    <a:pt x="115" y="497"/>
                    <a:pt x="180" y="593"/>
                    <a:pt x="259" y="660"/>
                  </a:cubicBezTo>
                  <a:cubicBezTo>
                    <a:pt x="337" y="727"/>
                    <a:pt x="426" y="762"/>
                    <a:pt x="517" y="7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178000" y="5126040"/>
              <a:ext cx="188280" cy="274320"/>
            </a:xfrm>
            <a:custGeom>
              <a:avLst/>
              <a:gdLst/>
              <a:ahLst/>
              <a:rect l="0" t="0" r="r" b="b"/>
              <a:pathLst>
                <a:path fill="none" w="523" h="762">
                  <a:moveTo>
                    <a:pt x="523" y="0"/>
                  </a:moveTo>
                  <a:lnTo>
                    <a:pt x="523" y="0"/>
                  </a:lnTo>
                  <a:cubicBezTo>
                    <a:pt x="431" y="0"/>
                    <a:pt x="341" y="35"/>
                    <a:pt x="261" y="102"/>
                  </a:cubicBezTo>
                  <a:cubicBezTo>
                    <a:pt x="182" y="169"/>
                    <a:pt x="116" y="265"/>
                    <a:pt x="70" y="381"/>
                  </a:cubicBezTo>
                  <a:cubicBezTo>
                    <a:pt x="24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1" name=""/>
          <p:cNvSpPr/>
          <p:nvPr/>
        </p:nvSpPr>
        <p:spPr>
          <a:xfrm>
            <a:off x="1835280" y="4854600"/>
            <a:ext cx="343440" cy="547920"/>
          </a:xfrm>
          <a:custGeom>
            <a:avLst/>
            <a:gdLst/>
            <a:ahLst/>
            <a:rect l="0" t="0" r="r" b="b"/>
            <a:pathLst>
              <a:path fill="none" w="954" h="1522">
                <a:moveTo>
                  <a:pt x="954" y="1522"/>
                </a:moveTo>
                <a:lnTo>
                  <a:pt x="0" y="1522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1149480" y="949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1149480" y="15019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4" name=""/>
          <p:cNvGrpSpPr/>
          <p:nvPr/>
        </p:nvGrpSpPr>
        <p:grpSpPr>
          <a:xfrm>
            <a:off x="2521080" y="944640"/>
            <a:ext cx="276480" cy="549720"/>
            <a:chOff x="2521080" y="944640"/>
            <a:chExt cx="276480" cy="549720"/>
          </a:xfrm>
        </p:grpSpPr>
        <p:sp>
          <p:nvSpPr>
            <p:cNvPr id="2415" name=""/>
            <p:cNvSpPr/>
            <p:nvPr/>
          </p:nvSpPr>
          <p:spPr>
            <a:xfrm>
              <a:off x="2523240" y="9446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762"/>
                  </a:moveTo>
                  <a:lnTo>
                    <a:pt x="762" y="762"/>
                  </a:lnTo>
                  <a:lnTo>
                    <a:pt x="762" y="762"/>
                  </a:lnTo>
                  <a:cubicBezTo>
                    <a:pt x="762" y="628"/>
                    <a:pt x="727" y="497"/>
                    <a:pt x="660" y="381"/>
                  </a:cubicBezTo>
                  <a:cubicBezTo>
                    <a:pt x="593" y="265"/>
                    <a:pt x="497" y="169"/>
                    <a:pt x="381" y="102"/>
                  </a:cubicBezTo>
                  <a:cubicBezTo>
                    <a:pt x="265" y="35"/>
                    <a:pt x="134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521080" y="1220040"/>
              <a:ext cx="276480" cy="274320"/>
            </a:xfrm>
            <a:custGeom>
              <a:avLst/>
              <a:gdLst/>
              <a:ahLst/>
              <a:rect l="0" t="0" r="r" b="b"/>
              <a:pathLst>
                <a:path fill="none" w="768" h="762">
                  <a:moveTo>
                    <a:pt x="0" y="762"/>
                  </a:moveTo>
                  <a:lnTo>
                    <a:pt x="0" y="762"/>
                  </a:lnTo>
                  <a:cubicBezTo>
                    <a:pt x="135" y="762"/>
                    <a:pt x="267" y="727"/>
                    <a:pt x="384" y="660"/>
                  </a:cubicBezTo>
                  <a:cubicBezTo>
                    <a:pt x="501" y="593"/>
                    <a:pt x="598" y="497"/>
                    <a:pt x="665" y="381"/>
                  </a:cubicBezTo>
                  <a:cubicBezTo>
                    <a:pt x="733" y="265"/>
                    <a:pt x="768" y="134"/>
                    <a:pt x="768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7" name=""/>
          <p:cNvGrpSpPr/>
          <p:nvPr/>
        </p:nvGrpSpPr>
        <p:grpSpPr>
          <a:xfrm>
            <a:off x="873000" y="944640"/>
            <a:ext cx="279360" cy="549720"/>
            <a:chOff x="873000" y="944640"/>
            <a:chExt cx="279360" cy="549720"/>
          </a:xfrm>
        </p:grpSpPr>
        <p:sp>
          <p:nvSpPr>
            <p:cNvPr id="2418" name=""/>
            <p:cNvSpPr/>
            <p:nvPr/>
          </p:nvSpPr>
          <p:spPr>
            <a:xfrm>
              <a:off x="873000" y="12200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35" y="265"/>
                    <a:pt x="102" y="381"/>
                  </a:cubicBezTo>
                  <a:cubicBezTo>
                    <a:pt x="169" y="497"/>
                    <a:pt x="265" y="593"/>
                    <a:pt x="381" y="660"/>
                  </a:cubicBezTo>
                  <a:cubicBezTo>
                    <a:pt x="497" y="727"/>
                    <a:pt x="628" y="762"/>
                    <a:pt x="762" y="7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78040" y="9446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0"/>
                  </a:moveTo>
                  <a:lnTo>
                    <a:pt x="762" y="0"/>
                  </a:lnTo>
                  <a:cubicBezTo>
                    <a:pt x="628" y="0"/>
                    <a:pt x="497" y="35"/>
                    <a:pt x="381" y="102"/>
                  </a:cubicBezTo>
                  <a:cubicBezTo>
                    <a:pt x="265" y="169"/>
                    <a:pt x="169" y="265"/>
                    <a:pt x="102" y="381"/>
                  </a:cubicBezTo>
                  <a:cubicBezTo>
                    <a:pt x="35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0" name=""/>
          <p:cNvSpPr/>
          <p:nvPr/>
        </p:nvSpPr>
        <p:spPr>
          <a:xfrm>
            <a:off x="2178000" y="4511520"/>
            <a:ext cx="686160" cy="614880"/>
          </a:xfrm>
          <a:custGeom>
            <a:avLst/>
            <a:gdLst/>
            <a:ahLst/>
            <a:rect l="0" t="0" r="r" b="b"/>
            <a:pathLst>
              <a:path fill="none" w="1906" h="1708">
                <a:moveTo>
                  <a:pt x="1906" y="1708"/>
                </a:moveTo>
                <a:lnTo>
                  <a:pt x="190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1835280" y="1492200"/>
            <a:ext cx="0" cy="480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3483000" y="54021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 txBox="1"/>
          <p:nvPr/>
        </p:nvSpPr>
        <p:spPr>
          <a:xfrm>
            <a:off x="3870360" y="2637000"/>
            <a:ext cx="4927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 Inverted Batch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4" name=""/>
          <p:cNvGrpSpPr/>
          <p:nvPr/>
        </p:nvGrpSpPr>
        <p:grpSpPr>
          <a:xfrm>
            <a:off x="1490760" y="1973160"/>
            <a:ext cx="687960" cy="2878560"/>
            <a:chOff x="1490760" y="1973160"/>
            <a:chExt cx="687960" cy="2878560"/>
          </a:xfrm>
        </p:grpSpPr>
        <p:sp>
          <p:nvSpPr>
            <p:cNvPr id="2425" name=""/>
            <p:cNvSpPr/>
            <p:nvPr/>
          </p:nvSpPr>
          <p:spPr>
            <a:xfrm>
              <a:off x="1492200" y="2249640"/>
              <a:ext cx="685800" cy="2328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6" name=""/>
            <p:cNvGrpSpPr/>
            <p:nvPr/>
          </p:nvGrpSpPr>
          <p:grpSpPr>
            <a:xfrm>
              <a:off x="1492200" y="1973160"/>
              <a:ext cx="686160" cy="274320"/>
              <a:chOff x="1492200" y="1973160"/>
              <a:chExt cx="686160" cy="274320"/>
            </a:xfrm>
          </p:grpSpPr>
          <p:sp>
            <p:nvSpPr>
              <p:cNvPr id="2427" name=""/>
              <p:cNvSpPr/>
              <p:nvPr/>
            </p:nvSpPr>
            <p:spPr>
              <a:xfrm>
                <a:off x="1492200" y="1973160"/>
                <a:ext cx="345600" cy="274320"/>
              </a:xfrm>
              <a:custGeom>
                <a:avLst/>
                <a:gdLst/>
                <a:ahLst/>
                <a:rect l="0" t="0" r="r" b="b"/>
                <a:pathLst>
                  <a:path fill="none" w="960" h="762">
                    <a:moveTo>
                      <a:pt x="960" y="0"/>
                    </a:moveTo>
                    <a:lnTo>
                      <a:pt x="960" y="0"/>
                    </a:lnTo>
                    <a:cubicBezTo>
                      <a:pt x="791" y="0"/>
                      <a:pt x="626" y="35"/>
                      <a:pt x="480" y="102"/>
                    </a:cubicBezTo>
                    <a:cubicBezTo>
                      <a:pt x="334" y="169"/>
                      <a:pt x="213" y="265"/>
                      <a:pt x="129" y="381"/>
                    </a:cubicBezTo>
                    <a:cubicBezTo>
                      <a:pt x="44" y="497"/>
                      <a:pt x="0" y="628"/>
                      <a:pt x="0" y="762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1837440" y="1973160"/>
                <a:ext cx="340920" cy="274320"/>
              </a:xfrm>
              <a:custGeom>
                <a:avLst/>
                <a:gdLst/>
                <a:ahLst/>
                <a:rect l="0" t="0" r="r" b="b"/>
                <a:pathLst>
                  <a:path fill="none" w="947" h="762">
                    <a:moveTo>
                      <a:pt x="947" y="762"/>
                    </a:moveTo>
                    <a:lnTo>
                      <a:pt x="947" y="762"/>
                    </a:lnTo>
                    <a:lnTo>
                      <a:pt x="947" y="762"/>
                    </a:lnTo>
                    <a:cubicBezTo>
                      <a:pt x="947" y="628"/>
                      <a:pt x="903" y="497"/>
                      <a:pt x="820" y="381"/>
                    </a:cubicBezTo>
                    <a:cubicBezTo>
                      <a:pt x="737" y="265"/>
                      <a:pt x="617" y="169"/>
                      <a:pt x="473" y="102"/>
                    </a:cubicBezTo>
                    <a:cubicBezTo>
                      <a:pt x="330" y="35"/>
                      <a:pt x="166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9" name=""/>
            <p:cNvGrpSpPr/>
            <p:nvPr/>
          </p:nvGrpSpPr>
          <p:grpSpPr>
            <a:xfrm>
              <a:off x="1490760" y="4577400"/>
              <a:ext cx="687960" cy="274320"/>
              <a:chOff x="1490760" y="4577400"/>
              <a:chExt cx="687960" cy="274320"/>
            </a:xfrm>
          </p:grpSpPr>
          <p:sp>
            <p:nvSpPr>
              <p:cNvPr id="2430" name=""/>
              <p:cNvSpPr/>
              <p:nvPr/>
            </p:nvSpPr>
            <p:spPr>
              <a:xfrm>
                <a:off x="1490760" y="4577400"/>
                <a:ext cx="345600" cy="274320"/>
              </a:xfrm>
              <a:custGeom>
                <a:avLst/>
                <a:gdLst/>
                <a:ahLst/>
                <a:rect l="0" t="0" r="r" b="b"/>
                <a:pathLst>
                  <a:path fill="none" w="960" h="762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34"/>
                      <a:pt x="44" y="265"/>
                      <a:pt x="129" y="381"/>
                    </a:cubicBezTo>
                    <a:cubicBezTo>
                      <a:pt x="213" y="497"/>
                      <a:pt x="334" y="593"/>
                      <a:pt x="480" y="660"/>
                    </a:cubicBezTo>
                    <a:cubicBezTo>
                      <a:pt x="626" y="727"/>
                      <a:pt x="791" y="762"/>
                      <a:pt x="960" y="762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835280" y="4577400"/>
                <a:ext cx="343440" cy="274320"/>
              </a:xfrm>
              <a:custGeom>
                <a:avLst/>
                <a:gdLst/>
                <a:ahLst/>
                <a:rect l="0" t="0" r="r" b="b"/>
                <a:pathLst>
                  <a:path fill="none" w="954" h="762">
                    <a:moveTo>
                      <a:pt x="0" y="762"/>
                    </a:moveTo>
                    <a:lnTo>
                      <a:pt x="0" y="762"/>
                    </a:lnTo>
                    <a:cubicBezTo>
                      <a:pt x="167" y="762"/>
                      <a:pt x="332" y="727"/>
                      <a:pt x="477" y="660"/>
                    </a:cubicBezTo>
                    <a:cubicBezTo>
                      <a:pt x="622" y="593"/>
                      <a:pt x="742" y="497"/>
                      <a:pt x="826" y="381"/>
                    </a:cubicBezTo>
                    <a:cubicBezTo>
                      <a:pt x="910" y="265"/>
                      <a:pt x="954" y="134"/>
                      <a:pt x="954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2" name=""/>
          <p:cNvSpPr/>
          <p:nvPr/>
        </p:nvSpPr>
        <p:spPr>
          <a:xfrm>
            <a:off x="2363760" y="5130720"/>
            <a:ext cx="933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2363760" y="5678640"/>
            <a:ext cx="933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4" name=""/>
          <p:cNvGrpSpPr/>
          <p:nvPr/>
        </p:nvGrpSpPr>
        <p:grpSpPr>
          <a:xfrm>
            <a:off x="3295800" y="5126040"/>
            <a:ext cx="187560" cy="549720"/>
            <a:chOff x="3295800" y="5126040"/>
            <a:chExt cx="187560" cy="549720"/>
          </a:xfrm>
        </p:grpSpPr>
        <p:sp>
          <p:nvSpPr>
            <p:cNvPr id="2435" name=""/>
            <p:cNvSpPr/>
            <p:nvPr/>
          </p:nvSpPr>
          <p:spPr>
            <a:xfrm>
              <a:off x="3297240" y="512604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517" y="762"/>
                  </a:moveTo>
                  <a:lnTo>
                    <a:pt x="517" y="762"/>
                  </a:lnTo>
                  <a:lnTo>
                    <a:pt x="517" y="762"/>
                  </a:lnTo>
                  <a:cubicBezTo>
                    <a:pt x="517" y="628"/>
                    <a:pt x="493" y="497"/>
                    <a:pt x="448" y="381"/>
                  </a:cubicBezTo>
                  <a:cubicBezTo>
                    <a:pt x="402" y="265"/>
                    <a:pt x="337" y="169"/>
                    <a:pt x="258" y="102"/>
                  </a:cubicBezTo>
                  <a:cubicBezTo>
                    <a:pt x="180" y="35"/>
                    <a:pt x="91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295800" y="540144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0" y="762"/>
                  </a:moveTo>
                  <a:lnTo>
                    <a:pt x="0" y="762"/>
                  </a:lnTo>
                  <a:cubicBezTo>
                    <a:pt x="91" y="762"/>
                    <a:pt x="180" y="727"/>
                    <a:pt x="259" y="660"/>
                  </a:cubicBezTo>
                  <a:cubicBezTo>
                    <a:pt x="337" y="593"/>
                    <a:pt x="402" y="497"/>
                    <a:pt x="448" y="381"/>
                  </a:cubicBezTo>
                  <a:cubicBezTo>
                    <a:pt x="493" y="265"/>
                    <a:pt x="517" y="134"/>
                    <a:pt x="517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7" name=""/>
          <p:cNvGrpSpPr/>
          <p:nvPr/>
        </p:nvGrpSpPr>
        <p:grpSpPr>
          <a:xfrm>
            <a:off x="2176560" y="5126040"/>
            <a:ext cx="189720" cy="549720"/>
            <a:chOff x="2176560" y="5126040"/>
            <a:chExt cx="189720" cy="549720"/>
          </a:xfrm>
        </p:grpSpPr>
        <p:sp>
          <p:nvSpPr>
            <p:cNvPr id="2438" name=""/>
            <p:cNvSpPr/>
            <p:nvPr/>
          </p:nvSpPr>
          <p:spPr>
            <a:xfrm>
              <a:off x="2176560" y="540144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24" y="265"/>
                    <a:pt x="69" y="381"/>
                  </a:cubicBezTo>
                  <a:cubicBezTo>
                    <a:pt x="115" y="497"/>
                    <a:pt x="180" y="593"/>
                    <a:pt x="259" y="660"/>
                  </a:cubicBezTo>
                  <a:cubicBezTo>
                    <a:pt x="337" y="727"/>
                    <a:pt x="426" y="762"/>
                    <a:pt x="517" y="7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178000" y="5126040"/>
              <a:ext cx="188280" cy="274320"/>
            </a:xfrm>
            <a:custGeom>
              <a:avLst/>
              <a:gdLst/>
              <a:ahLst/>
              <a:rect l="0" t="0" r="r" b="b"/>
              <a:pathLst>
                <a:path fill="none" w="523" h="762">
                  <a:moveTo>
                    <a:pt x="523" y="0"/>
                  </a:moveTo>
                  <a:lnTo>
                    <a:pt x="523" y="0"/>
                  </a:lnTo>
                  <a:cubicBezTo>
                    <a:pt x="431" y="0"/>
                    <a:pt x="341" y="35"/>
                    <a:pt x="261" y="102"/>
                  </a:cubicBezTo>
                  <a:cubicBezTo>
                    <a:pt x="182" y="169"/>
                    <a:pt x="116" y="265"/>
                    <a:pt x="70" y="381"/>
                  </a:cubicBezTo>
                  <a:cubicBezTo>
                    <a:pt x="24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0" name=""/>
          <p:cNvSpPr/>
          <p:nvPr/>
        </p:nvSpPr>
        <p:spPr>
          <a:xfrm>
            <a:off x="1835280" y="4854600"/>
            <a:ext cx="343440" cy="547920"/>
          </a:xfrm>
          <a:custGeom>
            <a:avLst/>
            <a:gdLst/>
            <a:ahLst/>
            <a:rect l="0" t="0" r="r" b="b"/>
            <a:pathLst>
              <a:path fill="none" w="954" h="1522">
                <a:moveTo>
                  <a:pt x="954" y="1522"/>
                </a:moveTo>
                <a:lnTo>
                  <a:pt x="0" y="1522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1149480" y="949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1149480" y="15019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3" name=""/>
          <p:cNvGrpSpPr/>
          <p:nvPr/>
        </p:nvGrpSpPr>
        <p:grpSpPr>
          <a:xfrm>
            <a:off x="2521080" y="944640"/>
            <a:ext cx="276480" cy="549720"/>
            <a:chOff x="2521080" y="944640"/>
            <a:chExt cx="276480" cy="549720"/>
          </a:xfrm>
        </p:grpSpPr>
        <p:sp>
          <p:nvSpPr>
            <p:cNvPr id="2444" name=""/>
            <p:cNvSpPr/>
            <p:nvPr/>
          </p:nvSpPr>
          <p:spPr>
            <a:xfrm>
              <a:off x="2523240" y="9446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762"/>
                  </a:moveTo>
                  <a:lnTo>
                    <a:pt x="762" y="762"/>
                  </a:lnTo>
                  <a:lnTo>
                    <a:pt x="762" y="762"/>
                  </a:lnTo>
                  <a:cubicBezTo>
                    <a:pt x="762" y="628"/>
                    <a:pt x="727" y="497"/>
                    <a:pt x="660" y="381"/>
                  </a:cubicBezTo>
                  <a:cubicBezTo>
                    <a:pt x="593" y="265"/>
                    <a:pt x="497" y="169"/>
                    <a:pt x="381" y="102"/>
                  </a:cubicBezTo>
                  <a:cubicBezTo>
                    <a:pt x="265" y="35"/>
                    <a:pt x="134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521080" y="1220040"/>
              <a:ext cx="276480" cy="274320"/>
            </a:xfrm>
            <a:custGeom>
              <a:avLst/>
              <a:gdLst/>
              <a:ahLst/>
              <a:rect l="0" t="0" r="r" b="b"/>
              <a:pathLst>
                <a:path fill="none" w="768" h="762">
                  <a:moveTo>
                    <a:pt x="0" y="762"/>
                  </a:moveTo>
                  <a:lnTo>
                    <a:pt x="0" y="762"/>
                  </a:lnTo>
                  <a:cubicBezTo>
                    <a:pt x="135" y="762"/>
                    <a:pt x="267" y="727"/>
                    <a:pt x="384" y="660"/>
                  </a:cubicBezTo>
                  <a:cubicBezTo>
                    <a:pt x="501" y="593"/>
                    <a:pt x="598" y="497"/>
                    <a:pt x="665" y="381"/>
                  </a:cubicBezTo>
                  <a:cubicBezTo>
                    <a:pt x="733" y="265"/>
                    <a:pt x="768" y="134"/>
                    <a:pt x="768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873000" y="944640"/>
            <a:ext cx="279360" cy="549720"/>
            <a:chOff x="873000" y="944640"/>
            <a:chExt cx="279360" cy="549720"/>
          </a:xfrm>
        </p:grpSpPr>
        <p:sp>
          <p:nvSpPr>
            <p:cNvPr id="2447" name=""/>
            <p:cNvSpPr/>
            <p:nvPr/>
          </p:nvSpPr>
          <p:spPr>
            <a:xfrm>
              <a:off x="873000" y="12200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35" y="265"/>
                    <a:pt x="102" y="381"/>
                  </a:cubicBezTo>
                  <a:cubicBezTo>
                    <a:pt x="169" y="497"/>
                    <a:pt x="265" y="593"/>
                    <a:pt x="381" y="660"/>
                  </a:cubicBezTo>
                  <a:cubicBezTo>
                    <a:pt x="497" y="727"/>
                    <a:pt x="628" y="762"/>
                    <a:pt x="762" y="7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878040" y="9446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0"/>
                  </a:moveTo>
                  <a:lnTo>
                    <a:pt x="762" y="0"/>
                  </a:lnTo>
                  <a:cubicBezTo>
                    <a:pt x="628" y="0"/>
                    <a:pt x="497" y="35"/>
                    <a:pt x="381" y="102"/>
                  </a:cubicBezTo>
                  <a:cubicBezTo>
                    <a:pt x="265" y="169"/>
                    <a:pt x="169" y="265"/>
                    <a:pt x="102" y="381"/>
                  </a:cubicBezTo>
                  <a:cubicBezTo>
                    <a:pt x="35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9" name=""/>
          <p:cNvSpPr/>
          <p:nvPr/>
        </p:nvSpPr>
        <p:spPr>
          <a:xfrm>
            <a:off x="2178000" y="4511520"/>
            <a:ext cx="686160" cy="614880"/>
          </a:xfrm>
          <a:custGeom>
            <a:avLst/>
            <a:gdLst/>
            <a:ahLst/>
            <a:rect l="0" t="0" r="r" b="b"/>
            <a:pathLst>
              <a:path fill="none" w="1906" h="1708">
                <a:moveTo>
                  <a:pt x="1906" y="1708"/>
                </a:moveTo>
                <a:lnTo>
                  <a:pt x="190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1835280" y="1492200"/>
            <a:ext cx="0" cy="480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3483000" y="54021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5738760" y="1967040"/>
            <a:ext cx="685800" cy="2328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5738760" y="1690560"/>
            <a:ext cx="343440" cy="274320"/>
          </a:xfrm>
          <a:custGeom>
            <a:avLst/>
            <a:gdLst/>
            <a:ahLst/>
            <a:rect l="0" t="0" r="r" b="b"/>
            <a:pathLst>
              <a:path fill="none" w="954" h="762">
                <a:moveTo>
                  <a:pt x="954" y="0"/>
                </a:moveTo>
                <a:lnTo>
                  <a:pt x="954" y="0"/>
                </a:lnTo>
                <a:cubicBezTo>
                  <a:pt x="787" y="0"/>
                  <a:pt x="622" y="35"/>
                  <a:pt x="477" y="102"/>
                </a:cubicBezTo>
                <a:cubicBezTo>
                  <a:pt x="332" y="169"/>
                  <a:pt x="212" y="265"/>
                  <a:pt x="128" y="381"/>
                </a:cubicBezTo>
                <a:cubicBezTo>
                  <a:pt x="44" y="497"/>
                  <a:pt x="0" y="628"/>
                  <a:pt x="0" y="762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6081840" y="1690560"/>
            <a:ext cx="343440" cy="274320"/>
          </a:xfrm>
          <a:custGeom>
            <a:avLst/>
            <a:gdLst/>
            <a:ahLst/>
            <a:rect l="0" t="0" r="r" b="b"/>
            <a:pathLst>
              <a:path fill="none" w="954" h="762">
                <a:moveTo>
                  <a:pt x="954" y="762"/>
                </a:moveTo>
                <a:lnTo>
                  <a:pt x="954" y="762"/>
                </a:lnTo>
                <a:lnTo>
                  <a:pt x="954" y="762"/>
                </a:lnTo>
                <a:cubicBezTo>
                  <a:pt x="954" y="628"/>
                  <a:pt x="910" y="497"/>
                  <a:pt x="826" y="381"/>
                </a:cubicBezTo>
                <a:cubicBezTo>
                  <a:pt x="742" y="265"/>
                  <a:pt x="622" y="169"/>
                  <a:pt x="477" y="102"/>
                </a:cubicBezTo>
                <a:cubicBezTo>
                  <a:pt x="332" y="35"/>
                  <a:pt x="16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5738760" y="4302720"/>
            <a:ext cx="345600" cy="274320"/>
          </a:xfrm>
          <a:custGeom>
            <a:avLst/>
            <a:gdLst/>
            <a:ahLst/>
            <a:rect l="0" t="0" r="r" b="b"/>
            <a:pathLst>
              <a:path fill="none" w="960" h="762">
                <a:moveTo>
                  <a:pt x="0" y="0"/>
                </a:moveTo>
                <a:lnTo>
                  <a:pt x="0" y="0"/>
                </a:lnTo>
                <a:cubicBezTo>
                  <a:pt x="0" y="134"/>
                  <a:pt x="44" y="265"/>
                  <a:pt x="129" y="381"/>
                </a:cubicBezTo>
                <a:cubicBezTo>
                  <a:pt x="213" y="497"/>
                  <a:pt x="334" y="593"/>
                  <a:pt x="480" y="660"/>
                </a:cubicBezTo>
                <a:cubicBezTo>
                  <a:pt x="626" y="727"/>
                  <a:pt x="791" y="762"/>
                  <a:pt x="960" y="762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6081840" y="4302720"/>
            <a:ext cx="343440" cy="274320"/>
          </a:xfrm>
          <a:custGeom>
            <a:avLst/>
            <a:gdLst/>
            <a:ahLst/>
            <a:rect l="0" t="0" r="r" b="b"/>
            <a:pathLst>
              <a:path fill="none" w="954" h="762">
                <a:moveTo>
                  <a:pt x="0" y="762"/>
                </a:moveTo>
                <a:lnTo>
                  <a:pt x="0" y="762"/>
                </a:lnTo>
                <a:cubicBezTo>
                  <a:pt x="167" y="762"/>
                  <a:pt x="332" y="727"/>
                  <a:pt x="477" y="660"/>
                </a:cubicBezTo>
                <a:cubicBezTo>
                  <a:pt x="622" y="593"/>
                  <a:pt x="742" y="497"/>
                  <a:pt x="826" y="381"/>
                </a:cubicBezTo>
                <a:cubicBezTo>
                  <a:pt x="910" y="265"/>
                  <a:pt x="954" y="134"/>
                  <a:pt x="954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5396040" y="5057640"/>
            <a:ext cx="138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5396040" y="5605560"/>
            <a:ext cx="138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6765120" y="5052960"/>
            <a:ext cx="274320" cy="274320"/>
          </a:xfrm>
          <a:custGeom>
            <a:avLst/>
            <a:gdLst/>
            <a:ahLst/>
            <a:rect l="0" t="0" r="r" b="b"/>
            <a:pathLst>
              <a:path fill="none" w="762" h="762">
                <a:moveTo>
                  <a:pt x="762" y="762"/>
                </a:moveTo>
                <a:lnTo>
                  <a:pt x="762" y="762"/>
                </a:lnTo>
                <a:lnTo>
                  <a:pt x="762" y="762"/>
                </a:lnTo>
                <a:cubicBezTo>
                  <a:pt x="762" y="628"/>
                  <a:pt x="727" y="497"/>
                  <a:pt x="660" y="381"/>
                </a:cubicBezTo>
                <a:cubicBezTo>
                  <a:pt x="593" y="265"/>
                  <a:pt x="497" y="169"/>
                  <a:pt x="381" y="102"/>
                </a:cubicBezTo>
                <a:cubicBezTo>
                  <a:pt x="265" y="35"/>
                  <a:pt x="134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6765120" y="5326920"/>
            <a:ext cx="274320" cy="274320"/>
          </a:xfrm>
          <a:custGeom>
            <a:avLst/>
            <a:gdLst/>
            <a:ahLst/>
            <a:rect l="0" t="0" r="r" b="b"/>
            <a:pathLst>
              <a:path fill="none" w="762" h="762">
                <a:moveTo>
                  <a:pt x="0" y="762"/>
                </a:moveTo>
                <a:lnTo>
                  <a:pt x="0" y="762"/>
                </a:lnTo>
                <a:cubicBezTo>
                  <a:pt x="134" y="762"/>
                  <a:pt x="265" y="727"/>
                  <a:pt x="381" y="660"/>
                </a:cubicBezTo>
                <a:cubicBezTo>
                  <a:pt x="497" y="593"/>
                  <a:pt x="593" y="497"/>
                  <a:pt x="660" y="381"/>
                </a:cubicBezTo>
                <a:cubicBezTo>
                  <a:pt x="727" y="265"/>
                  <a:pt x="762" y="134"/>
                  <a:pt x="762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5119560" y="5326920"/>
            <a:ext cx="274320" cy="274320"/>
          </a:xfrm>
          <a:custGeom>
            <a:avLst/>
            <a:gdLst/>
            <a:ahLst/>
            <a:rect l="0" t="0" r="r" b="b"/>
            <a:pathLst>
              <a:path fill="none" w="762" h="762">
                <a:moveTo>
                  <a:pt x="0" y="0"/>
                </a:moveTo>
                <a:lnTo>
                  <a:pt x="0" y="0"/>
                </a:lnTo>
                <a:cubicBezTo>
                  <a:pt x="0" y="134"/>
                  <a:pt x="35" y="265"/>
                  <a:pt x="102" y="381"/>
                </a:cubicBezTo>
                <a:cubicBezTo>
                  <a:pt x="169" y="497"/>
                  <a:pt x="265" y="593"/>
                  <a:pt x="381" y="660"/>
                </a:cubicBezTo>
                <a:cubicBezTo>
                  <a:pt x="497" y="727"/>
                  <a:pt x="628" y="762"/>
                  <a:pt x="762" y="762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5119560" y="5052960"/>
            <a:ext cx="274320" cy="274320"/>
          </a:xfrm>
          <a:custGeom>
            <a:avLst/>
            <a:gdLst/>
            <a:ahLst/>
            <a:rect l="0" t="0" r="r" b="b"/>
            <a:pathLst>
              <a:path fill="none" w="762" h="762">
                <a:moveTo>
                  <a:pt x="762" y="0"/>
                </a:moveTo>
                <a:lnTo>
                  <a:pt x="762" y="0"/>
                </a:lnTo>
                <a:cubicBezTo>
                  <a:pt x="628" y="0"/>
                  <a:pt x="497" y="35"/>
                  <a:pt x="381" y="102"/>
                </a:cubicBezTo>
                <a:cubicBezTo>
                  <a:pt x="265" y="169"/>
                  <a:pt x="169" y="265"/>
                  <a:pt x="102" y="381"/>
                </a:cubicBezTo>
                <a:cubicBezTo>
                  <a:pt x="35" y="497"/>
                  <a:pt x="0" y="628"/>
                  <a:pt x="0" y="762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7091280" y="871560"/>
            <a:ext cx="943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7086600" y="1424160"/>
            <a:ext cx="942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8020080" y="866880"/>
            <a:ext cx="186120" cy="276480"/>
          </a:xfrm>
          <a:custGeom>
            <a:avLst/>
            <a:gdLst/>
            <a:ahLst/>
            <a:rect l="0" t="0" r="r" b="b"/>
            <a:pathLst>
              <a:path fill="none" w="517" h="768">
                <a:moveTo>
                  <a:pt x="517" y="768"/>
                </a:moveTo>
                <a:lnTo>
                  <a:pt x="517" y="768"/>
                </a:lnTo>
                <a:lnTo>
                  <a:pt x="517" y="768"/>
                </a:lnTo>
                <a:cubicBezTo>
                  <a:pt x="517" y="633"/>
                  <a:pt x="493" y="501"/>
                  <a:pt x="448" y="384"/>
                </a:cubicBezTo>
                <a:cubicBezTo>
                  <a:pt x="402" y="267"/>
                  <a:pt x="337" y="170"/>
                  <a:pt x="258" y="103"/>
                </a:cubicBezTo>
                <a:cubicBezTo>
                  <a:pt x="180" y="35"/>
                  <a:pt x="9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8020080" y="1143000"/>
            <a:ext cx="186120" cy="276480"/>
          </a:xfrm>
          <a:custGeom>
            <a:avLst/>
            <a:gdLst/>
            <a:ahLst/>
            <a:rect l="0" t="0" r="r" b="b"/>
            <a:pathLst>
              <a:path fill="none" w="517" h="768">
                <a:moveTo>
                  <a:pt x="0" y="768"/>
                </a:moveTo>
                <a:lnTo>
                  <a:pt x="0" y="768"/>
                </a:lnTo>
                <a:cubicBezTo>
                  <a:pt x="91" y="768"/>
                  <a:pt x="180" y="733"/>
                  <a:pt x="259" y="665"/>
                </a:cubicBezTo>
                <a:cubicBezTo>
                  <a:pt x="337" y="598"/>
                  <a:pt x="402" y="501"/>
                  <a:pt x="448" y="384"/>
                </a:cubicBezTo>
                <a:cubicBezTo>
                  <a:pt x="493" y="267"/>
                  <a:pt x="517" y="135"/>
                  <a:pt x="517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6905520" y="1143000"/>
            <a:ext cx="186120" cy="276480"/>
          </a:xfrm>
          <a:custGeom>
            <a:avLst/>
            <a:gdLst/>
            <a:ahLst/>
            <a:rect l="0" t="0" r="r" b="b"/>
            <a:pathLst>
              <a:path fill="none" w="517" h="768">
                <a:moveTo>
                  <a:pt x="0" y="0"/>
                </a:moveTo>
                <a:lnTo>
                  <a:pt x="0" y="0"/>
                </a:lnTo>
                <a:cubicBezTo>
                  <a:pt x="0" y="135"/>
                  <a:pt x="24" y="267"/>
                  <a:pt x="69" y="384"/>
                </a:cubicBezTo>
                <a:cubicBezTo>
                  <a:pt x="115" y="501"/>
                  <a:pt x="180" y="598"/>
                  <a:pt x="259" y="665"/>
                </a:cubicBezTo>
                <a:cubicBezTo>
                  <a:pt x="337" y="733"/>
                  <a:pt x="426" y="768"/>
                  <a:pt x="517" y="768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6905520" y="866880"/>
            <a:ext cx="186120" cy="276480"/>
          </a:xfrm>
          <a:custGeom>
            <a:avLst/>
            <a:gdLst/>
            <a:ahLst/>
            <a:rect l="0" t="0" r="r" b="b"/>
            <a:pathLst>
              <a:path fill="none" w="517" h="768">
                <a:moveTo>
                  <a:pt x="517" y="0"/>
                </a:moveTo>
                <a:lnTo>
                  <a:pt x="517" y="0"/>
                </a:lnTo>
                <a:cubicBezTo>
                  <a:pt x="426" y="0"/>
                  <a:pt x="337" y="35"/>
                  <a:pt x="258" y="103"/>
                </a:cubicBezTo>
                <a:cubicBezTo>
                  <a:pt x="180" y="170"/>
                  <a:pt x="115" y="267"/>
                  <a:pt x="69" y="384"/>
                </a:cubicBezTo>
                <a:cubicBezTo>
                  <a:pt x="24" y="501"/>
                  <a:pt x="0" y="633"/>
                  <a:pt x="0" y="768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6081840" y="1143000"/>
            <a:ext cx="662400" cy="547920"/>
          </a:xfrm>
          <a:custGeom>
            <a:avLst/>
            <a:gdLst/>
            <a:ahLst/>
            <a:rect l="0" t="0" r="r" b="b"/>
            <a:pathLst>
              <a:path fill="none" w="1840" h="1522">
                <a:moveTo>
                  <a:pt x="0" y="1522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6734160" y="109044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6581880" y="1419120"/>
            <a:ext cx="1010160" cy="614880"/>
          </a:xfrm>
          <a:custGeom>
            <a:avLst/>
            <a:gdLst/>
            <a:ahLst/>
            <a:rect l="0" t="0" r="r" b="b"/>
            <a:pathLst>
              <a:path fill="none" w="2806" h="1708">
                <a:moveTo>
                  <a:pt x="0" y="1708"/>
                </a:moveTo>
                <a:lnTo>
                  <a:pt x="2806" y="1708"/>
                </a:lnTo>
                <a:lnTo>
                  <a:pt x="2806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6424560" y="198108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0" y="128"/>
                </a:moveTo>
                <a:lnTo>
                  <a:pt x="438" y="252"/>
                </a:lnTo>
                <a:lnTo>
                  <a:pt x="438" y="0"/>
                </a:lnTo>
                <a:lnTo>
                  <a:pt x="0" y="12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7591320" y="595440"/>
            <a:ext cx="662400" cy="271800"/>
          </a:xfrm>
          <a:custGeom>
            <a:avLst/>
            <a:gdLst/>
            <a:ahLst/>
            <a:rect l="0" t="0" r="r" b="b"/>
            <a:pathLst>
              <a:path fill="none" w="1840" h="755">
                <a:moveTo>
                  <a:pt x="0" y="755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8244000" y="54288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6081840" y="4572000"/>
            <a:ext cx="0" cy="480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 txBox="1"/>
          <p:nvPr/>
        </p:nvSpPr>
        <p:spPr>
          <a:xfrm>
            <a:off x="6918480" y="944640"/>
            <a:ext cx="12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il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 txBox="1"/>
          <p:nvPr/>
        </p:nvSpPr>
        <p:spPr>
          <a:xfrm>
            <a:off x="5699160" y="5135400"/>
            <a:ext cx="776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 txBox="1"/>
          <p:nvPr/>
        </p:nvSpPr>
        <p:spPr>
          <a:xfrm>
            <a:off x="1432080" y="1020600"/>
            <a:ext cx="776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 txBox="1"/>
          <p:nvPr/>
        </p:nvSpPr>
        <p:spPr>
          <a:xfrm>
            <a:off x="2346480" y="5211720"/>
            <a:ext cx="1015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t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0" name=""/>
          <p:cNvGrpSpPr/>
          <p:nvPr/>
        </p:nvGrpSpPr>
        <p:grpSpPr>
          <a:xfrm>
            <a:off x="1073160" y="3765600"/>
            <a:ext cx="686160" cy="1503720"/>
            <a:chOff x="1073160" y="3765600"/>
            <a:chExt cx="686160" cy="1503720"/>
          </a:xfrm>
        </p:grpSpPr>
        <p:sp>
          <p:nvSpPr>
            <p:cNvPr id="2481" name=""/>
            <p:cNvSpPr/>
            <p:nvPr/>
          </p:nvSpPr>
          <p:spPr>
            <a:xfrm>
              <a:off x="1073160" y="3908520"/>
              <a:ext cx="685800" cy="1217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2" name=""/>
            <p:cNvGrpSpPr/>
            <p:nvPr/>
          </p:nvGrpSpPr>
          <p:grpSpPr>
            <a:xfrm>
              <a:off x="1073160" y="3765600"/>
              <a:ext cx="686160" cy="143280"/>
              <a:chOff x="1073160" y="3765600"/>
              <a:chExt cx="686160" cy="143280"/>
            </a:xfrm>
          </p:grpSpPr>
          <p:sp>
            <p:nvSpPr>
              <p:cNvPr id="2483" name=""/>
              <p:cNvSpPr/>
              <p:nvPr/>
            </p:nvSpPr>
            <p:spPr>
              <a:xfrm>
                <a:off x="1073160" y="3765600"/>
                <a:ext cx="341640" cy="143280"/>
              </a:xfrm>
              <a:custGeom>
                <a:avLst/>
                <a:gdLst/>
                <a:ahLst/>
                <a:rect l="0" t="0" r="r" b="b"/>
                <a:pathLst>
                  <a:path fill="none" w="949" h="398">
                    <a:moveTo>
                      <a:pt x="949" y="0"/>
                    </a:moveTo>
                    <a:lnTo>
                      <a:pt x="949" y="0"/>
                    </a:lnTo>
                    <a:cubicBezTo>
                      <a:pt x="783" y="0"/>
                      <a:pt x="620" y="19"/>
                      <a:pt x="477" y="53"/>
                    </a:cubicBezTo>
                    <a:cubicBezTo>
                      <a:pt x="332" y="88"/>
                      <a:pt x="211" y="138"/>
                      <a:pt x="128" y="199"/>
                    </a:cubicBezTo>
                    <a:cubicBezTo>
                      <a:pt x="44" y="260"/>
                      <a:pt x="0" y="328"/>
                      <a:pt x="0" y="398"/>
                    </a:cubicBezTo>
                    <a:lnTo>
                      <a:pt x="0" y="39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1414440" y="3765600"/>
                <a:ext cx="344880" cy="143280"/>
              </a:xfrm>
              <a:custGeom>
                <a:avLst/>
                <a:gdLst/>
                <a:ahLst/>
                <a:rect l="0" t="0" r="r" b="b"/>
                <a:pathLst>
                  <a:path fill="none" w="958" h="398">
                    <a:moveTo>
                      <a:pt x="958" y="398"/>
                    </a:moveTo>
                    <a:lnTo>
                      <a:pt x="958" y="398"/>
                    </a:lnTo>
                    <a:lnTo>
                      <a:pt x="958" y="398"/>
                    </a:lnTo>
                    <a:cubicBezTo>
                      <a:pt x="958" y="328"/>
                      <a:pt x="914" y="260"/>
                      <a:pt x="830" y="199"/>
                    </a:cubicBezTo>
                    <a:cubicBezTo>
                      <a:pt x="746" y="138"/>
                      <a:pt x="626" y="88"/>
                      <a:pt x="481" y="53"/>
                    </a:cubicBezTo>
                    <a:cubicBezTo>
                      <a:pt x="336" y="18"/>
                      <a:pt x="171" y="0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5" name=""/>
            <p:cNvGrpSpPr/>
            <p:nvPr/>
          </p:nvGrpSpPr>
          <p:grpSpPr>
            <a:xfrm>
              <a:off x="1073160" y="5123520"/>
              <a:ext cx="686160" cy="145800"/>
              <a:chOff x="1073160" y="5123520"/>
              <a:chExt cx="686160" cy="145800"/>
            </a:xfrm>
          </p:grpSpPr>
          <p:sp>
            <p:nvSpPr>
              <p:cNvPr id="2486" name=""/>
              <p:cNvSpPr/>
              <p:nvPr/>
            </p:nvSpPr>
            <p:spPr>
              <a:xfrm>
                <a:off x="1073160" y="5123520"/>
                <a:ext cx="341640" cy="145800"/>
              </a:xfrm>
              <a:custGeom>
                <a:avLst/>
                <a:gdLst/>
                <a:ahLst/>
                <a:rect l="0" t="0" r="r" b="b"/>
                <a:pathLst>
                  <a:path fill="none" w="949" h="40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0" y="71"/>
                      <a:pt x="44" y="141"/>
                      <a:pt x="128" y="203"/>
                    </a:cubicBezTo>
                    <a:cubicBezTo>
                      <a:pt x="211" y="264"/>
                      <a:pt x="332" y="315"/>
                      <a:pt x="477" y="351"/>
                    </a:cubicBezTo>
                    <a:cubicBezTo>
                      <a:pt x="620" y="386"/>
                      <a:pt x="783" y="405"/>
                      <a:pt x="949" y="405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414440" y="5123520"/>
                <a:ext cx="344880" cy="145800"/>
              </a:xfrm>
              <a:custGeom>
                <a:avLst/>
                <a:gdLst/>
                <a:ahLst/>
                <a:rect l="0" t="0" r="r" b="b"/>
                <a:pathLst>
                  <a:path fill="none" w="958" h="405">
                    <a:moveTo>
                      <a:pt x="0" y="405"/>
                    </a:moveTo>
                    <a:lnTo>
                      <a:pt x="0" y="405"/>
                    </a:lnTo>
                    <a:cubicBezTo>
                      <a:pt x="1" y="405"/>
                      <a:pt x="3" y="405"/>
                      <a:pt x="4" y="405"/>
                    </a:cubicBezTo>
                    <a:cubicBezTo>
                      <a:pt x="171" y="405"/>
                      <a:pt x="336" y="386"/>
                      <a:pt x="481" y="351"/>
                    </a:cubicBezTo>
                    <a:cubicBezTo>
                      <a:pt x="626" y="315"/>
                      <a:pt x="746" y="264"/>
                      <a:pt x="830" y="203"/>
                    </a:cubicBezTo>
                    <a:cubicBezTo>
                      <a:pt x="914" y="141"/>
                      <a:pt x="958" y="71"/>
                      <a:pt x="958" y="0"/>
                    </a:cubicBezTo>
                    <a:lnTo>
                      <a:pt x="958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88" name=""/>
          <p:cNvSpPr/>
          <p:nvPr/>
        </p:nvSpPr>
        <p:spPr>
          <a:xfrm>
            <a:off x="730080" y="2946240"/>
            <a:ext cx="137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730080" y="3355920"/>
            <a:ext cx="137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0" name=""/>
          <p:cNvGrpSpPr/>
          <p:nvPr/>
        </p:nvGrpSpPr>
        <p:grpSpPr>
          <a:xfrm>
            <a:off x="2100240" y="2941560"/>
            <a:ext cx="278280" cy="410040"/>
            <a:chOff x="2100240" y="2941560"/>
            <a:chExt cx="278280" cy="410040"/>
          </a:xfrm>
        </p:grpSpPr>
        <p:sp>
          <p:nvSpPr>
            <p:cNvPr id="2491" name=""/>
            <p:cNvSpPr/>
            <p:nvPr/>
          </p:nvSpPr>
          <p:spPr>
            <a:xfrm>
              <a:off x="2103480" y="2941560"/>
              <a:ext cx="275040" cy="205920"/>
            </a:xfrm>
            <a:custGeom>
              <a:avLst/>
              <a:gdLst/>
              <a:ahLst/>
              <a:rect l="0" t="0" r="r" b="b"/>
              <a:pathLst>
                <a:path fill="none" w="764" h="572">
                  <a:moveTo>
                    <a:pt x="764" y="572"/>
                  </a:moveTo>
                  <a:lnTo>
                    <a:pt x="764" y="572"/>
                  </a:lnTo>
                  <a:lnTo>
                    <a:pt x="764" y="572"/>
                  </a:lnTo>
                  <a:cubicBezTo>
                    <a:pt x="764" y="472"/>
                    <a:pt x="729" y="373"/>
                    <a:pt x="662" y="286"/>
                  </a:cubicBezTo>
                  <a:cubicBezTo>
                    <a:pt x="595" y="199"/>
                    <a:pt x="498" y="127"/>
                    <a:pt x="382" y="77"/>
                  </a:cubicBezTo>
                  <a:cubicBezTo>
                    <a:pt x="266" y="26"/>
                    <a:pt x="134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00240" y="3145680"/>
              <a:ext cx="275040" cy="205920"/>
            </a:xfrm>
            <a:custGeom>
              <a:avLst/>
              <a:gdLst/>
              <a:ahLst/>
              <a:rect l="0" t="0" r="r" b="b"/>
              <a:pathLst>
                <a:path fill="none" w="764" h="572">
                  <a:moveTo>
                    <a:pt x="0" y="572"/>
                  </a:moveTo>
                  <a:lnTo>
                    <a:pt x="0" y="572"/>
                  </a:lnTo>
                  <a:cubicBezTo>
                    <a:pt x="134" y="572"/>
                    <a:pt x="266" y="546"/>
                    <a:pt x="382" y="495"/>
                  </a:cubicBezTo>
                  <a:cubicBezTo>
                    <a:pt x="498" y="445"/>
                    <a:pt x="595" y="373"/>
                    <a:pt x="662" y="286"/>
                  </a:cubicBezTo>
                  <a:cubicBezTo>
                    <a:pt x="729" y="199"/>
                    <a:pt x="764" y="100"/>
                    <a:pt x="764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3" name=""/>
          <p:cNvGrpSpPr/>
          <p:nvPr/>
        </p:nvGrpSpPr>
        <p:grpSpPr>
          <a:xfrm>
            <a:off x="453960" y="2941560"/>
            <a:ext cx="279720" cy="410040"/>
            <a:chOff x="453960" y="2941560"/>
            <a:chExt cx="279720" cy="410040"/>
          </a:xfrm>
        </p:grpSpPr>
        <p:sp>
          <p:nvSpPr>
            <p:cNvPr id="2494" name=""/>
            <p:cNvSpPr/>
            <p:nvPr/>
          </p:nvSpPr>
          <p:spPr>
            <a:xfrm>
              <a:off x="453960" y="3145680"/>
              <a:ext cx="275040" cy="205920"/>
            </a:xfrm>
            <a:custGeom>
              <a:avLst/>
              <a:gdLst/>
              <a:ahLst/>
              <a:rect l="0" t="0" r="r" b="b"/>
              <a:pathLst>
                <a:path fill="none" w="764" h="572">
                  <a:moveTo>
                    <a:pt x="0" y="0"/>
                  </a:moveTo>
                  <a:lnTo>
                    <a:pt x="0" y="0"/>
                  </a:lnTo>
                  <a:cubicBezTo>
                    <a:pt x="0" y="100"/>
                    <a:pt x="35" y="199"/>
                    <a:pt x="102" y="286"/>
                  </a:cubicBezTo>
                  <a:cubicBezTo>
                    <a:pt x="169" y="373"/>
                    <a:pt x="266" y="445"/>
                    <a:pt x="382" y="495"/>
                  </a:cubicBezTo>
                  <a:cubicBezTo>
                    <a:pt x="498" y="546"/>
                    <a:pt x="630" y="572"/>
                    <a:pt x="764" y="57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58640" y="2941560"/>
              <a:ext cx="275040" cy="205920"/>
            </a:xfrm>
            <a:custGeom>
              <a:avLst/>
              <a:gdLst/>
              <a:ahLst/>
              <a:rect l="0" t="0" r="r" b="b"/>
              <a:pathLst>
                <a:path fill="none" w="764" h="572">
                  <a:moveTo>
                    <a:pt x="764" y="0"/>
                  </a:moveTo>
                  <a:lnTo>
                    <a:pt x="764" y="0"/>
                  </a:lnTo>
                  <a:cubicBezTo>
                    <a:pt x="630" y="0"/>
                    <a:pt x="498" y="26"/>
                    <a:pt x="382" y="77"/>
                  </a:cubicBezTo>
                  <a:cubicBezTo>
                    <a:pt x="266" y="127"/>
                    <a:pt x="169" y="199"/>
                    <a:pt x="102" y="286"/>
                  </a:cubicBezTo>
                  <a:cubicBezTo>
                    <a:pt x="35" y="373"/>
                    <a:pt x="0" y="472"/>
                    <a:pt x="0" y="57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6" name=""/>
          <p:cNvSpPr/>
          <p:nvPr/>
        </p:nvSpPr>
        <p:spPr>
          <a:xfrm>
            <a:off x="1943280" y="5305320"/>
            <a:ext cx="9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1943280" y="5824440"/>
            <a:ext cx="9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8" name=""/>
          <p:cNvGrpSpPr/>
          <p:nvPr/>
        </p:nvGrpSpPr>
        <p:grpSpPr>
          <a:xfrm>
            <a:off x="2873520" y="5300640"/>
            <a:ext cx="189360" cy="521280"/>
            <a:chOff x="2873520" y="5300640"/>
            <a:chExt cx="189360" cy="521280"/>
          </a:xfrm>
        </p:grpSpPr>
        <p:sp>
          <p:nvSpPr>
            <p:cNvPr id="2499" name=""/>
            <p:cNvSpPr/>
            <p:nvPr/>
          </p:nvSpPr>
          <p:spPr>
            <a:xfrm>
              <a:off x="2873520" y="5300640"/>
              <a:ext cx="189360" cy="260640"/>
            </a:xfrm>
            <a:custGeom>
              <a:avLst/>
              <a:gdLst/>
              <a:ahLst/>
              <a:rect l="0" t="0" r="r" b="b"/>
              <a:pathLst>
                <a:path fill="none" w="526" h="724">
                  <a:moveTo>
                    <a:pt x="526" y="724"/>
                  </a:moveTo>
                  <a:lnTo>
                    <a:pt x="526" y="724"/>
                  </a:lnTo>
                  <a:lnTo>
                    <a:pt x="526" y="724"/>
                  </a:lnTo>
                  <a:cubicBezTo>
                    <a:pt x="526" y="597"/>
                    <a:pt x="502" y="472"/>
                    <a:pt x="456" y="362"/>
                  </a:cubicBezTo>
                  <a:cubicBezTo>
                    <a:pt x="409" y="252"/>
                    <a:pt x="343" y="161"/>
                    <a:pt x="263" y="97"/>
                  </a:cubicBezTo>
                  <a:cubicBezTo>
                    <a:pt x="183" y="33"/>
                    <a:pt x="92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874240" y="5563440"/>
              <a:ext cx="186840" cy="258480"/>
            </a:xfrm>
            <a:custGeom>
              <a:avLst/>
              <a:gdLst/>
              <a:ahLst/>
              <a:rect l="0" t="0" r="r" b="b"/>
              <a:pathLst>
                <a:path fill="none" w="519" h="718">
                  <a:moveTo>
                    <a:pt x="0" y="718"/>
                  </a:moveTo>
                  <a:lnTo>
                    <a:pt x="0" y="718"/>
                  </a:lnTo>
                  <a:cubicBezTo>
                    <a:pt x="91" y="718"/>
                    <a:pt x="181" y="685"/>
                    <a:pt x="260" y="622"/>
                  </a:cubicBezTo>
                  <a:cubicBezTo>
                    <a:pt x="338" y="559"/>
                    <a:pt x="404" y="468"/>
                    <a:pt x="449" y="359"/>
                  </a:cubicBezTo>
                  <a:cubicBezTo>
                    <a:pt x="495" y="250"/>
                    <a:pt x="519" y="126"/>
                    <a:pt x="519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1" name=""/>
          <p:cNvGrpSpPr/>
          <p:nvPr/>
        </p:nvGrpSpPr>
        <p:grpSpPr>
          <a:xfrm>
            <a:off x="1755720" y="5300640"/>
            <a:ext cx="188640" cy="521280"/>
            <a:chOff x="1755720" y="5300640"/>
            <a:chExt cx="188640" cy="521280"/>
          </a:xfrm>
        </p:grpSpPr>
        <p:sp>
          <p:nvSpPr>
            <p:cNvPr id="2502" name=""/>
            <p:cNvSpPr/>
            <p:nvPr/>
          </p:nvSpPr>
          <p:spPr>
            <a:xfrm>
              <a:off x="1755720" y="5563440"/>
              <a:ext cx="186840" cy="258480"/>
            </a:xfrm>
            <a:custGeom>
              <a:avLst/>
              <a:gdLst/>
              <a:ahLst/>
              <a:rect l="0" t="0" r="r" b="b"/>
              <a:pathLst>
                <a:path fill="none" w="519" h="718">
                  <a:moveTo>
                    <a:pt x="0" y="0"/>
                  </a:moveTo>
                  <a:lnTo>
                    <a:pt x="0" y="0"/>
                  </a:lnTo>
                  <a:cubicBezTo>
                    <a:pt x="0" y="126"/>
                    <a:pt x="24" y="250"/>
                    <a:pt x="70" y="359"/>
                  </a:cubicBezTo>
                  <a:cubicBezTo>
                    <a:pt x="115" y="468"/>
                    <a:pt x="181" y="559"/>
                    <a:pt x="260" y="622"/>
                  </a:cubicBezTo>
                  <a:cubicBezTo>
                    <a:pt x="338" y="685"/>
                    <a:pt x="428" y="718"/>
                    <a:pt x="519" y="718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757520" y="5300640"/>
              <a:ext cx="186840" cy="260640"/>
            </a:xfrm>
            <a:custGeom>
              <a:avLst/>
              <a:gdLst/>
              <a:ahLst/>
              <a:rect l="0" t="0" r="r" b="b"/>
              <a:pathLst>
                <a:path fill="none" w="519" h="724">
                  <a:moveTo>
                    <a:pt x="519" y="0"/>
                  </a:moveTo>
                  <a:lnTo>
                    <a:pt x="519" y="0"/>
                  </a:lnTo>
                  <a:cubicBezTo>
                    <a:pt x="428" y="0"/>
                    <a:pt x="338" y="33"/>
                    <a:pt x="259" y="97"/>
                  </a:cubicBezTo>
                  <a:cubicBezTo>
                    <a:pt x="181" y="161"/>
                    <a:pt x="115" y="252"/>
                    <a:pt x="70" y="362"/>
                  </a:cubicBezTo>
                  <a:cubicBezTo>
                    <a:pt x="24" y="472"/>
                    <a:pt x="0" y="597"/>
                    <a:pt x="0" y="7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4" name=""/>
          <p:cNvSpPr/>
          <p:nvPr/>
        </p:nvSpPr>
        <p:spPr>
          <a:xfrm>
            <a:off x="1419120" y="5272200"/>
            <a:ext cx="197280" cy="290880"/>
          </a:xfrm>
          <a:custGeom>
            <a:avLst/>
            <a:gdLst/>
            <a:ahLst/>
            <a:rect l="0" t="0" r="r" b="b"/>
            <a:pathLst>
              <a:path fill="none" w="548" h="808">
                <a:moveTo>
                  <a:pt x="548" y="808"/>
                </a:moveTo>
                <a:lnTo>
                  <a:pt x="0" y="808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1568520" y="5502240"/>
            <a:ext cx="194040" cy="120960"/>
          </a:xfrm>
          <a:custGeom>
            <a:avLst/>
            <a:gdLst/>
            <a:ahLst/>
            <a:rect l="0" t="0" r="r" b="b"/>
            <a:pathLst>
              <a:path w="539" h="336">
                <a:moveTo>
                  <a:pt x="0" y="336"/>
                </a:moveTo>
                <a:lnTo>
                  <a:pt x="66" y="167"/>
                </a:lnTo>
                <a:lnTo>
                  <a:pt x="0" y="0"/>
                </a:lnTo>
                <a:lnTo>
                  <a:pt x="539" y="167"/>
                </a:lnTo>
                <a:lnTo>
                  <a:pt x="0" y="3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1906560" y="4959360"/>
            <a:ext cx="541800" cy="341640"/>
          </a:xfrm>
          <a:custGeom>
            <a:avLst/>
            <a:gdLst/>
            <a:ahLst/>
            <a:rect l="0" t="0" r="r" b="b"/>
            <a:pathLst>
              <a:path fill="none" w="1505" h="949">
                <a:moveTo>
                  <a:pt x="1505" y="949"/>
                </a:moveTo>
                <a:lnTo>
                  <a:pt x="1505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1762200" y="4898880"/>
            <a:ext cx="194040" cy="120960"/>
          </a:xfrm>
          <a:custGeom>
            <a:avLst/>
            <a:gdLst/>
            <a:ahLst/>
            <a:rect l="0" t="0" r="r" b="b"/>
            <a:pathLst>
              <a:path w="539" h="336">
                <a:moveTo>
                  <a:pt x="539" y="0"/>
                </a:moveTo>
                <a:lnTo>
                  <a:pt x="473" y="167"/>
                </a:lnTo>
                <a:lnTo>
                  <a:pt x="539" y="336"/>
                </a:lnTo>
                <a:lnTo>
                  <a:pt x="0" y="167"/>
                </a:lnTo>
                <a:lnTo>
                  <a:pt x="53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3070080" y="5553000"/>
            <a:ext cx="54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3562200" y="5492880"/>
            <a:ext cx="194040" cy="120960"/>
          </a:xfrm>
          <a:custGeom>
            <a:avLst/>
            <a:gdLst/>
            <a:ahLst/>
            <a:rect l="0" t="0" r="r" b="b"/>
            <a:pathLst>
              <a:path w="539" h="336">
                <a:moveTo>
                  <a:pt x="0" y="336"/>
                </a:moveTo>
                <a:lnTo>
                  <a:pt x="66" y="167"/>
                </a:lnTo>
                <a:lnTo>
                  <a:pt x="0" y="0"/>
                </a:lnTo>
                <a:lnTo>
                  <a:pt x="539" y="167"/>
                </a:lnTo>
                <a:lnTo>
                  <a:pt x="0" y="3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0" name=""/>
          <p:cNvGrpSpPr/>
          <p:nvPr/>
        </p:nvGrpSpPr>
        <p:grpSpPr>
          <a:xfrm>
            <a:off x="1073160" y="1020600"/>
            <a:ext cx="686160" cy="1510200"/>
            <a:chOff x="1073160" y="1020600"/>
            <a:chExt cx="686160" cy="1510200"/>
          </a:xfrm>
        </p:grpSpPr>
        <p:sp>
          <p:nvSpPr>
            <p:cNvPr id="2511" name=""/>
            <p:cNvSpPr/>
            <p:nvPr/>
          </p:nvSpPr>
          <p:spPr>
            <a:xfrm>
              <a:off x="1073160" y="1168560"/>
              <a:ext cx="685800" cy="121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2" name=""/>
            <p:cNvGrpSpPr/>
            <p:nvPr/>
          </p:nvGrpSpPr>
          <p:grpSpPr>
            <a:xfrm>
              <a:off x="1073160" y="1020600"/>
              <a:ext cx="686160" cy="146520"/>
              <a:chOff x="1073160" y="1020600"/>
              <a:chExt cx="686160" cy="146520"/>
            </a:xfrm>
          </p:grpSpPr>
          <p:sp>
            <p:nvSpPr>
              <p:cNvPr id="2513" name=""/>
              <p:cNvSpPr/>
              <p:nvPr/>
            </p:nvSpPr>
            <p:spPr>
              <a:xfrm>
                <a:off x="1073160" y="1020600"/>
                <a:ext cx="341640" cy="146520"/>
              </a:xfrm>
              <a:custGeom>
                <a:avLst/>
                <a:gdLst/>
                <a:ahLst/>
                <a:rect l="0" t="0" r="r" b="b"/>
                <a:pathLst>
                  <a:path fill="none" w="949" h="407">
                    <a:moveTo>
                      <a:pt x="949" y="0"/>
                    </a:moveTo>
                    <a:lnTo>
                      <a:pt x="949" y="0"/>
                    </a:lnTo>
                    <a:cubicBezTo>
                      <a:pt x="783" y="0"/>
                      <a:pt x="620" y="19"/>
                      <a:pt x="477" y="55"/>
                    </a:cubicBezTo>
                    <a:cubicBezTo>
                      <a:pt x="332" y="90"/>
                      <a:pt x="211" y="142"/>
                      <a:pt x="128" y="203"/>
                    </a:cubicBezTo>
                    <a:cubicBezTo>
                      <a:pt x="44" y="265"/>
                      <a:pt x="0" y="336"/>
                      <a:pt x="0" y="407"/>
                    </a:cubicBezTo>
                    <a:lnTo>
                      <a:pt x="0" y="40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414440" y="1020600"/>
                <a:ext cx="344880" cy="146520"/>
              </a:xfrm>
              <a:custGeom>
                <a:avLst/>
                <a:gdLst/>
                <a:ahLst/>
                <a:rect l="0" t="0" r="r" b="b"/>
                <a:pathLst>
                  <a:path fill="none" w="958" h="407">
                    <a:moveTo>
                      <a:pt x="958" y="407"/>
                    </a:moveTo>
                    <a:lnTo>
                      <a:pt x="958" y="407"/>
                    </a:lnTo>
                    <a:lnTo>
                      <a:pt x="958" y="407"/>
                    </a:lnTo>
                    <a:cubicBezTo>
                      <a:pt x="958" y="336"/>
                      <a:pt x="914" y="265"/>
                      <a:pt x="830" y="203"/>
                    </a:cubicBezTo>
                    <a:cubicBezTo>
                      <a:pt x="746" y="142"/>
                      <a:pt x="626" y="90"/>
                      <a:pt x="481" y="55"/>
                    </a:cubicBezTo>
                    <a:cubicBezTo>
                      <a:pt x="336" y="19"/>
                      <a:pt x="171" y="0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5" name=""/>
            <p:cNvGrpSpPr/>
            <p:nvPr/>
          </p:nvGrpSpPr>
          <p:grpSpPr>
            <a:xfrm>
              <a:off x="1073160" y="2384280"/>
              <a:ext cx="686160" cy="146520"/>
              <a:chOff x="1073160" y="2384280"/>
              <a:chExt cx="686160" cy="146520"/>
            </a:xfrm>
          </p:grpSpPr>
          <p:sp>
            <p:nvSpPr>
              <p:cNvPr id="2516" name=""/>
              <p:cNvSpPr/>
              <p:nvPr/>
            </p:nvSpPr>
            <p:spPr>
              <a:xfrm>
                <a:off x="1073160" y="2384280"/>
                <a:ext cx="341640" cy="146520"/>
              </a:xfrm>
              <a:custGeom>
                <a:avLst/>
                <a:gdLst/>
                <a:ahLst/>
                <a:rect l="0" t="0" r="r" b="b"/>
                <a:pathLst>
                  <a:path fill="none" w="949" h="4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0" y="71"/>
                      <a:pt x="44" y="142"/>
                      <a:pt x="128" y="204"/>
                    </a:cubicBezTo>
                    <a:cubicBezTo>
                      <a:pt x="211" y="265"/>
                      <a:pt x="332" y="317"/>
                      <a:pt x="477" y="352"/>
                    </a:cubicBezTo>
                    <a:cubicBezTo>
                      <a:pt x="620" y="388"/>
                      <a:pt x="783" y="407"/>
                      <a:pt x="949" y="407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414440" y="2384280"/>
                <a:ext cx="344880" cy="146520"/>
              </a:xfrm>
              <a:custGeom>
                <a:avLst/>
                <a:gdLst/>
                <a:ahLst/>
                <a:rect l="0" t="0" r="r" b="b"/>
                <a:pathLst>
                  <a:path fill="none" w="958" h="407">
                    <a:moveTo>
                      <a:pt x="0" y="407"/>
                    </a:moveTo>
                    <a:lnTo>
                      <a:pt x="0" y="407"/>
                    </a:lnTo>
                    <a:cubicBezTo>
                      <a:pt x="1" y="407"/>
                      <a:pt x="3" y="407"/>
                      <a:pt x="4" y="407"/>
                    </a:cubicBezTo>
                    <a:cubicBezTo>
                      <a:pt x="171" y="407"/>
                      <a:pt x="336" y="388"/>
                      <a:pt x="481" y="352"/>
                    </a:cubicBezTo>
                    <a:cubicBezTo>
                      <a:pt x="626" y="317"/>
                      <a:pt x="746" y="265"/>
                      <a:pt x="830" y="204"/>
                    </a:cubicBezTo>
                    <a:cubicBezTo>
                      <a:pt x="914" y="142"/>
                      <a:pt x="958" y="71"/>
                      <a:pt x="958" y="0"/>
                    </a:cubicBezTo>
                    <a:lnTo>
                      <a:pt x="958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8" name=""/>
          <p:cNvSpPr/>
          <p:nvPr/>
        </p:nvSpPr>
        <p:spPr>
          <a:xfrm>
            <a:off x="1943280" y="446040"/>
            <a:ext cx="9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1952640" y="958680"/>
            <a:ext cx="9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0" name=""/>
          <p:cNvGrpSpPr/>
          <p:nvPr/>
        </p:nvGrpSpPr>
        <p:grpSpPr>
          <a:xfrm>
            <a:off x="2873520" y="441360"/>
            <a:ext cx="189360" cy="514800"/>
            <a:chOff x="2873520" y="441360"/>
            <a:chExt cx="189360" cy="514800"/>
          </a:xfrm>
        </p:grpSpPr>
        <p:sp>
          <p:nvSpPr>
            <p:cNvPr id="2521" name=""/>
            <p:cNvSpPr/>
            <p:nvPr/>
          </p:nvSpPr>
          <p:spPr>
            <a:xfrm>
              <a:off x="2873520" y="441360"/>
              <a:ext cx="189360" cy="257400"/>
            </a:xfrm>
            <a:custGeom>
              <a:avLst/>
              <a:gdLst/>
              <a:ahLst/>
              <a:rect l="0" t="0" r="r" b="b"/>
              <a:pathLst>
                <a:path fill="none" w="526" h="715">
                  <a:moveTo>
                    <a:pt x="526" y="715"/>
                  </a:moveTo>
                  <a:lnTo>
                    <a:pt x="526" y="715"/>
                  </a:lnTo>
                  <a:lnTo>
                    <a:pt x="526" y="715"/>
                  </a:lnTo>
                  <a:cubicBezTo>
                    <a:pt x="526" y="589"/>
                    <a:pt x="502" y="466"/>
                    <a:pt x="456" y="357"/>
                  </a:cubicBezTo>
                  <a:cubicBezTo>
                    <a:pt x="409" y="249"/>
                    <a:pt x="343" y="159"/>
                    <a:pt x="263" y="96"/>
                  </a:cubicBezTo>
                  <a:cubicBezTo>
                    <a:pt x="183" y="33"/>
                    <a:pt x="92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2874240" y="698400"/>
              <a:ext cx="186840" cy="257760"/>
            </a:xfrm>
            <a:custGeom>
              <a:avLst/>
              <a:gdLst/>
              <a:ahLst/>
              <a:rect l="0" t="0" r="r" b="b"/>
              <a:pathLst>
                <a:path fill="none" w="519" h="716">
                  <a:moveTo>
                    <a:pt x="0" y="716"/>
                  </a:moveTo>
                  <a:lnTo>
                    <a:pt x="0" y="716"/>
                  </a:lnTo>
                  <a:cubicBezTo>
                    <a:pt x="91" y="716"/>
                    <a:pt x="181" y="683"/>
                    <a:pt x="260" y="620"/>
                  </a:cubicBezTo>
                  <a:cubicBezTo>
                    <a:pt x="338" y="557"/>
                    <a:pt x="404" y="467"/>
                    <a:pt x="449" y="358"/>
                  </a:cubicBezTo>
                  <a:cubicBezTo>
                    <a:pt x="495" y="249"/>
                    <a:pt x="519" y="126"/>
                    <a:pt x="519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3" name=""/>
          <p:cNvGrpSpPr/>
          <p:nvPr/>
        </p:nvGrpSpPr>
        <p:grpSpPr>
          <a:xfrm>
            <a:off x="1755720" y="441360"/>
            <a:ext cx="188640" cy="514440"/>
            <a:chOff x="1755720" y="441360"/>
            <a:chExt cx="188640" cy="514440"/>
          </a:xfrm>
        </p:grpSpPr>
        <p:sp>
          <p:nvSpPr>
            <p:cNvPr id="2524" name=""/>
            <p:cNvSpPr/>
            <p:nvPr/>
          </p:nvSpPr>
          <p:spPr>
            <a:xfrm>
              <a:off x="1755720" y="698400"/>
              <a:ext cx="186840" cy="257400"/>
            </a:xfrm>
            <a:custGeom>
              <a:avLst/>
              <a:gdLst/>
              <a:ahLst/>
              <a:rect l="0" t="0" r="r" b="b"/>
              <a:pathLst>
                <a:path fill="none" w="519" h="715">
                  <a:moveTo>
                    <a:pt x="0" y="0"/>
                  </a:moveTo>
                  <a:lnTo>
                    <a:pt x="0" y="0"/>
                  </a:lnTo>
                  <a:cubicBezTo>
                    <a:pt x="0" y="126"/>
                    <a:pt x="24" y="249"/>
                    <a:pt x="70" y="358"/>
                  </a:cubicBezTo>
                  <a:cubicBezTo>
                    <a:pt x="115" y="466"/>
                    <a:pt x="181" y="556"/>
                    <a:pt x="260" y="619"/>
                  </a:cubicBezTo>
                  <a:cubicBezTo>
                    <a:pt x="338" y="682"/>
                    <a:pt x="428" y="715"/>
                    <a:pt x="519" y="715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757520" y="441360"/>
              <a:ext cx="186840" cy="257400"/>
            </a:xfrm>
            <a:custGeom>
              <a:avLst/>
              <a:gdLst/>
              <a:ahLst/>
              <a:rect l="0" t="0" r="r" b="b"/>
              <a:pathLst>
                <a:path fill="none" w="519" h="715">
                  <a:moveTo>
                    <a:pt x="519" y="0"/>
                  </a:moveTo>
                  <a:lnTo>
                    <a:pt x="519" y="0"/>
                  </a:lnTo>
                  <a:cubicBezTo>
                    <a:pt x="428" y="0"/>
                    <a:pt x="338" y="33"/>
                    <a:pt x="259" y="96"/>
                  </a:cubicBezTo>
                  <a:cubicBezTo>
                    <a:pt x="181" y="159"/>
                    <a:pt x="115" y="249"/>
                    <a:pt x="70" y="358"/>
                  </a:cubicBezTo>
                  <a:cubicBezTo>
                    <a:pt x="24" y="466"/>
                    <a:pt x="0" y="589"/>
                    <a:pt x="0" y="715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6" name=""/>
          <p:cNvSpPr/>
          <p:nvPr/>
        </p:nvSpPr>
        <p:spPr>
          <a:xfrm>
            <a:off x="1414440" y="679320"/>
            <a:ext cx="197280" cy="341640"/>
          </a:xfrm>
          <a:custGeom>
            <a:avLst/>
            <a:gdLst/>
            <a:ahLst/>
            <a:rect l="0" t="0" r="r" b="b"/>
            <a:pathLst>
              <a:path fill="none" w="548" h="949">
                <a:moveTo>
                  <a:pt x="548" y="0"/>
                </a:moveTo>
                <a:lnTo>
                  <a:pt x="0" y="0"/>
                </a:lnTo>
                <a:lnTo>
                  <a:pt x="0" y="94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1563840" y="619200"/>
            <a:ext cx="194040" cy="119520"/>
          </a:xfrm>
          <a:custGeom>
            <a:avLst/>
            <a:gdLst/>
            <a:ahLst/>
            <a:rect l="0" t="0" r="r" b="b"/>
            <a:pathLst>
              <a:path w="539" h="332">
                <a:moveTo>
                  <a:pt x="0" y="332"/>
                </a:moveTo>
                <a:lnTo>
                  <a:pt x="66" y="168"/>
                </a:lnTo>
                <a:lnTo>
                  <a:pt x="0" y="0"/>
                </a:lnTo>
                <a:lnTo>
                  <a:pt x="539" y="168"/>
                </a:lnTo>
                <a:lnTo>
                  <a:pt x="0" y="33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1901880" y="954000"/>
            <a:ext cx="541800" cy="343440"/>
          </a:xfrm>
          <a:custGeom>
            <a:avLst/>
            <a:gdLst/>
            <a:ahLst/>
            <a:rect l="0" t="0" r="r" b="b"/>
            <a:pathLst>
              <a:path fill="none" w="1505" h="954">
                <a:moveTo>
                  <a:pt x="1505" y="0"/>
                </a:moveTo>
                <a:lnTo>
                  <a:pt x="1505" y="954"/>
                </a:lnTo>
                <a:lnTo>
                  <a:pt x="0" y="95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1757520" y="1236600"/>
            <a:ext cx="194040" cy="120960"/>
          </a:xfrm>
          <a:custGeom>
            <a:avLst/>
            <a:gdLst/>
            <a:ahLst/>
            <a:rect l="0" t="0" r="r" b="b"/>
            <a:pathLst>
              <a:path w="539" h="336">
                <a:moveTo>
                  <a:pt x="539" y="0"/>
                </a:moveTo>
                <a:lnTo>
                  <a:pt x="473" y="167"/>
                </a:lnTo>
                <a:lnTo>
                  <a:pt x="539" y="336"/>
                </a:lnTo>
                <a:lnTo>
                  <a:pt x="0" y="167"/>
                </a:lnTo>
                <a:lnTo>
                  <a:pt x="53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2438280" y="169920"/>
            <a:ext cx="538560" cy="276480"/>
          </a:xfrm>
          <a:custGeom>
            <a:avLst/>
            <a:gdLst/>
            <a:ahLst/>
            <a:rect l="0" t="0" r="r" b="b"/>
            <a:pathLst>
              <a:path fill="none" w="1496" h="768">
                <a:moveTo>
                  <a:pt x="0" y="768"/>
                </a:moveTo>
                <a:lnTo>
                  <a:pt x="0" y="0"/>
                </a:lnTo>
                <a:lnTo>
                  <a:pt x="1496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2928960" y="109440"/>
            <a:ext cx="194040" cy="120960"/>
          </a:xfrm>
          <a:custGeom>
            <a:avLst/>
            <a:gdLst/>
            <a:ahLst/>
            <a:rect l="0" t="0" r="r" b="b"/>
            <a:pathLst>
              <a:path w="539" h="336">
                <a:moveTo>
                  <a:pt x="0" y="336"/>
                </a:moveTo>
                <a:lnTo>
                  <a:pt x="66" y="167"/>
                </a:lnTo>
                <a:lnTo>
                  <a:pt x="0" y="0"/>
                </a:lnTo>
                <a:lnTo>
                  <a:pt x="539" y="167"/>
                </a:lnTo>
                <a:lnTo>
                  <a:pt x="0" y="3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1414440" y="26719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1353960" y="2529000"/>
            <a:ext cx="120960" cy="194040"/>
          </a:xfrm>
          <a:custGeom>
            <a:avLst/>
            <a:gdLst/>
            <a:ahLst/>
            <a:rect l="0" t="0" r="r" b="b"/>
            <a:pathLst>
              <a:path w="336" h="539">
                <a:moveTo>
                  <a:pt x="336" y="539"/>
                </a:moveTo>
                <a:lnTo>
                  <a:pt x="167" y="473"/>
                </a:lnTo>
                <a:lnTo>
                  <a:pt x="0" y="539"/>
                </a:lnTo>
                <a:lnTo>
                  <a:pt x="167" y="0"/>
                </a:lnTo>
                <a:lnTo>
                  <a:pt x="336" y="53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1353960" y="2749680"/>
            <a:ext cx="120960" cy="192600"/>
          </a:xfrm>
          <a:custGeom>
            <a:avLst/>
            <a:gdLst/>
            <a:ahLst/>
            <a:rect l="0" t="0" r="r" b="b"/>
            <a:pathLst>
              <a:path w="336" h="535">
                <a:moveTo>
                  <a:pt x="0" y="0"/>
                </a:moveTo>
                <a:lnTo>
                  <a:pt x="167" y="66"/>
                </a:lnTo>
                <a:lnTo>
                  <a:pt x="336" y="0"/>
                </a:lnTo>
                <a:lnTo>
                  <a:pt x="167" y="53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1414440" y="349416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1353960" y="3351240"/>
            <a:ext cx="120960" cy="194040"/>
          </a:xfrm>
          <a:custGeom>
            <a:avLst/>
            <a:gdLst/>
            <a:ahLst/>
            <a:rect l="0" t="0" r="r" b="b"/>
            <a:pathLst>
              <a:path w="336" h="539">
                <a:moveTo>
                  <a:pt x="336" y="539"/>
                </a:moveTo>
                <a:lnTo>
                  <a:pt x="167" y="473"/>
                </a:lnTo>
                <a:lnTo>
                  <a:pt x="0" y="539"/>
                </a:lnTo>
                <a:lnTo>
                  <a:pt x="167" y="0"/>
                </a:lnTo>
                <a:lnTo>
                  <a:pt x="336" y="53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1353960" y="3571920"/>
            <a:ext cx="120960" cy="194040"/>
          </a:xfrm>
          <a:custGeom>
            <a:avLst/>
            <a:gdLst/>
            <a:ahLst/>
            <a:rect l="0" t="0" r="r" b="b"/>
            <a:pathLst>
              <a:path w="336" h="539">
                <a:moveTo>
                  <a:pt x="0" y="0"/>
                </a:moveTo>
                <a:lnTo>
                  <a:pt x="167" y="66"/>
                </a:lnTo>
                <a:lnTo>
                  <a:pt x="336" y="0"/>
                </a:lnTo>
                <a:lnTo>
                  <a:pt x="167" y="5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5168880" y="5400720"/>
            <a:ext cx="1373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5164200" y="5810400"/>
            <a:ext cx="1373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0" name=""/>
          <p:cNvGrpSpPr/>
          <p:nvPr/>
        </p:nvGrpSpPr>
        <p:grpSpPr>
          <a:xfrm>
            <a:off x="6539760" y="5391000"/>
            <a:ext cx="275400" cy="410040"/>
            <a:chOff x="6539760" y="5391000"/>
            <a:chExt cx="275400" cy="410040"/>
          </a:xfrm>
        </p:grpSpPr>
        <p:sp>
          <p:nvSpPr>
            <p:cNvPr id="2541" name=""/>
            <p:cNvSpPr/>
            <p:nvPr/>
          </p:nvSpPr>
          <p:spPr>
            <a:xfrm>
              <a:off x="6542640" y="5391000"/>
              <a:ext cx="272520" cy="205920"/>
            </a:xfrm>
            <a:custGeom>
              <a:avLst/>
              <a:gdLst/>
              <a:ahLst/>
              <a:rect l="0" t="0" r="r" b="b"/>
              <a:pathLst>
                <a:path fill="none" w="757" h="572">
                  <a:moveTo>
                    <a:pt x="757" y="572"/>
                  </a:moveTo>
                  <a:lnTo>
                    <a:pt x="757" y="572"/>
                  </a:lnTo>
                  <a:lnTo>
                    <a:pt x="757" y="572"/>
                  </a:lnTo>
                  <a:cubicBezTo>
                    <a:pt x="757" y="472"/>
                    <a:pt x="722" y="373"/>
                    <a:pt x="655" y="286"/>
                  </a:cubicBezTo>
                  <a:cubicBezTo>
                    <a:pt x="588" y="199"/>
                    <a:pt x="492" y="127"/>
                    <a:pt x="376" y="77"/>
                  </a:cubicBezTo>
                  <a:cubicBezTo>
                    <a:pt x="262" y="27"/>
                    <a:pt x="132" y="1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539760" y="5595120"/>
              <a:ext cx="272520" cy="205920"/>
            </a:xfrm>
            <a:custGeom>
              <a:avLst/>
              <a:gdLst/>
              <a:ahLst/>
              <a:rect l="0" t="0" r="r" b="b"/>
              <a:pathLst>
                <a:path fill="none" w="757" h="572">
                  <a:moveTo>
                    <a:pt x="0" y="572"/>
                  </a:moveTo>
                  <a:lnTo>
                    <a:pt x="0" y="572"/>
                  </a:lnTo>
                  <a:cubicBezTo>
                    <a:pt x="132" y="571"/>
                    <a:pt x="262" y="545"/>
                    <a:pt x="376" y="495"/>
                  </a:cubicBezTo>
                  <a:cubicBezTo>
                    <a:pt x="492" y="445"/>
                    <a:pt x="588" y="373"/>
                    <a:pt x="655" y="286"/>
                  </a:cubicBezTo>
                  <a:cubicBezTo>
                    <a:pt x="722" y="199"/>
                    <a:pt x="757" y="100"/>
                    <a:pt x="757" y="0"/>
                  </a:cubicBezTo>
                  <a:lnTo>
                    <a:pt x="75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3" name=""/>
          <p:cNvGrpSpPr/>
          <p:nvPr/>
        </p:nvGrpSpPr>
        <p:grpSpPr>
          <a:xfrm>
            <a:off x="4892760" y="5391000"/>
            <a:ext cx="280440" cy="410040"/>
            <a:chOff x="4892760" y="5391000"/>
            <a:chExt cx="280440" cy="410040"/>
          </a:xfrm>
        </p:grpSpPr>
        <p:sp>
          <p:nvSpPr>
            <p:cNvPr id="2544" name=""/>
            <p:cNvSpPr/>
            <p:nvPr/>
          </p:nvSpPr>
          <p:spPr>
            <a:xfrm>
              <a:off x="4892760" y="5595120"/>
              <a:ext cx="275760" cy="205920"/>
            </a:xfrm>
            <a:custGeom>
              <a:avLst/>
              <a:gdLst/>
              <a:ahLst/>
              <a:rect l="0" t="0" r="r" b="b"/>
              <a:pathLst>
                <a:path fill="none" w="766" h="57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00"/>
                    <a:pt x="35" y="199"/>
                    <a:pt x="102" y="286"/>
                  </a:cubicBezTo>
                  <a:cubicBezTo>
                    <a:pt x="169" y="373"/>
                    <a:pt x="265" y="445"/>
                    <a:pt x="381" y="495"/>
                  </a:cubicBezTo>
                  <a:cubicBezTo>
                    <a:pt x="497" y="546"/>
                    <a:pt x="628" y="572"/>
                    <a:pt x="762" y="572"/>
                  </a:cubicBezTo>
                  <a:cubicBezTo>
                    <a:pt x="763" y="572"/>
                    <a:pt x="765" y="572"/>
                    <a:pt x="766" y="57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4897440" y="5391000"/>
              <a:ext cx="275760" cy="205920"/>
            </a:xfrm>
            <a:custGeom>
              <a:avLst/>
              <a:gdLst/>
              <a:ahLst/>
              <a:rect l="0" t="0" r="r" b="b"/>
              <a:pathLst>
                <a:path fill="none" w="766" h="572">
                  <a:moveTo>
                    <a:pt x="766" y="0"/>
                  </a:moveTo>
                  <a:lnTo>
                    <a:pt x="766" y="0"/>
                  </a:lnTo>
                  <a:cubicBezTo>
                    <a:pt x="765" y="0"/>
                    <a:pt x="763" y="0"/>
                    <a:pt x="762" y="0"/>
                  </a:cubicBezTo>
                  <a:cubicBezTo>
                    <a:pt x="628" y="0"/>
                    <a:pt x="497" y="26"/>
                    <a:pt x="381" y="77"/>
                  </a:cubicBezTo>
                  <a:cubicBezTo>
                    <a:pt x="265" y="127"/>
                    <a:pt x="169" y="199"/>
                    <a:pt x="102" y="286"/>
                  </a:cubicBezTo>
                  <a:cubicBezTo>
                    <a:pt x="35" y="373"/>
                    <a:pt x="0" y="472"/>
                    <a:pt x="0" y="572"/>
                  </a:cubicBezTo>
                  <a:lnTo>
                    <a:pt x="0" y="5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6" name=""/>
          <p:cNvGrpSpPr/>
          <p:nvPr/>
        </p:nvGrpSpPr>
        <p:grpSpPr>
          <a:xfrm>
            <a:off x="5662440" y="4002120"/>
            <a:ext cx="510120" cy="978120"/>
            <a:chOff x="5662440" y="4002120"/>
            <a:chExt cx="510120" cy="978120"/>
          </a:xfrm>
        </p:grpSpPr>
        <p:sp>
          <p:nvSpPr>
            <p:cNvPr id="2547" name=""/>
            <p:cNvSpPr/>
            <p:nvPr/>
          </p:nvSpPr>
          <p:spPr>
            <a:xfrm>
              <a:off x="5662440" y="4097160"/>
              <a:ext cx="509760" cy="790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8" name=""/>
            <p:cNvGrpSpPr/>
            <p:nvPr/>
          </p:nvGrpSpPr>
          <p:grpSpPr>
            <a:xfrm>
              <a:off x="5662440" y="4002120"/>
              <a:ext cx="510120" cy="94680"/>
              <a:chOff x="5662440" y="4002120"/>
              <a:chExt cx="510120" cy="94680"/>
            </a:xfrm>
          </p:grpSpPr>
          <p:sp>
            <p:nvSpPr>
              <p:cNvPr id="2549" name=""/>
              <p:cNvSpPr/>
              <p:nvPr/>
            </p:nvSpPr>
            <p:spPr>
              <a:xfrm>
                <a:off x="5662440" y="400212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709" y="0"/>
                    </a:moveTo>
                    <a:lnTo>
                      <a:pt x="709" y="0"/>
                    </a:lnTo>
                    <a:cubicBezTo>
                      <a:pt x="585" y="0"/>
                      <a:pt x="462" y="12"/>
                      <a:pt x="354" y="35"/>
                    </a:cubicBezTo>
                    <a:cubicBezTo>
                      <a:pt x="247" y="58"/>
                      <a:pt x="157" y="92"/>
                      <a:pt x="95" y="132"/>
                    </a:cubicBezTo>
                    <a:cubicBezTo>
                      <a:pt x="33" y="171"/>
                      <a:pt x="0" y="217"/>
                      <a:pt x="0" y="26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917320" y="400212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709" y="263"/>
                    </a:moveTo>
                    <a:lnTo>
                      <a:pt x="709" y="263"/>
                    </a:lnTo>
                    <a:lnTo>
                      <a:pt x="709" y="263"/>
                    </a:lnTo>
                    <a:cubicBezTo>
                      <a:pt x="709" y="217"/>
                      <a:pt x="676" y="171"/>
                      <a:pt x="614" y="131"/>
                    </a:cubicBezTo>
                    <a:cubicBezTo>
                      <a:pt x="552" y="92"/>
                      <a:pt x="462" y="58"/>
                      <a:pt x="354" y="35"/>
                    </a:cubicBezTo>
                    <a:cubicBezTo>
                      <a:pt x="247" y="12"/>
                      <a:pt x="124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1" name=""/>
            <p:cNvGrpSpPr/>
            <p:nvPr/>
          </p:nvGrpSpPr>
          <p:grpSpPr>
            <a:xfrm>
              <a:off x="5662440" y="4885560"/>
              <a:ext cx="510120" cy="94680"/>
              <a:chOff x="5662440" y="4885560"/>
              <a:chExt cx="510120" cy="94680"/>
            </a:xfrm>
          </p:grpSpPr>
          <p:sp>
            <p:nvSpPr>
              <p:cNvPr id="2552" name=""/>
              <p:cNvSpPr/>
              <p:nvPr/>
            </p:nvSpPr>
            <p:spPr>
              <a:xfrm>
                <a:off x="5662440" y="488556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46"/>
                      <a:pt x="33" y="92"/>
                      <a:pt x="95" y="132"/>
                    </a:cubicBezTo>
                    <a:cubicBezTo>
                      <a:pt x="157" y="171"/>
                      <a:pt x="247" y="205"/>
                      <a:pt x="355" y="228"/>
                    </a:cubicBezTo>
                    <a:cubicBezTo>
                      <a:pt x="462" y="251"/>
                      <a:pt x="585" y="263"/>
                      <a:pt x="709" y="26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5917320" y="488556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0" y="263"/>
                    </a:moveTo>
                    <a:lnTo>
                      <a:pt x="0" y="263"/>
                    </a:lnTo>
                    <a:cubicBezTo>
                      <a:pt x="124" y="263"/>
                      <a:pt x="247" y="251"/>
                      <a:pt x="355" y="228"/>
                    </a:cubicBezTo>
                    <a:cubicBezTo>
                      <a:pt x="462" y="205"/>
                      <a:pt x="552" y="171"/>
                      <a:pt x="614" y="131"/>
                    </a:cubicBezTo>
                    <a:cubicBezTo>
                      <a:pt x="676" y="92"/>
                      <a:pt x="709" y="46"/>
                      <a:pt x="709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4" name=""/>
          <p:cNvSpPr/>
          <p:nvPr/>
        </p:nvSpPr>
        <p:spPr>
          <a:xfrm>
            <a:off x="5929200" y="5119560"/>
            <a:ext cx="0" cy="1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5869080" y="4978440"/>
            <a:ext cx="120960" cy="192600"/>
          </a:xfrm>
          <a:custGeom>
            <a:avLst/>
            <a:gdLst/>
            <a:ahLst/>
            <a:rect l="0" t="0" r="r" b="b"/>
            <a:pathLst>
              <a:path w="336" h="535">
                <a:moveTo>
                  <a:pt x="336" y="535"/>
                </a:moveTo>
                <a:lnTo>
                  <a:pt x="167" y="469"/>
                </a:lnTo>
                <a:lnTo>
                  <a:pt x="0" y="535"/>
                </a:lnTo>
                <a:lnTo>
                  <a:pt x="167" y="0"/>
                </a:lnTo>
                <a:lnTo>
                  <a:pt x="336" y="53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6" name=""/>
          <p:cNvGrpSpPr/>
          <p:nvPr/>
        </p:nvGrpSpPr>
        <p:grpSpPr>
          <a:xfrm>
            <a:off x="5662440" y="2557440"/>
            <a:ext cx="510120" cy="976680"/>
            <a:chOff x="5662440" y="2557440"/>
            <a:chExt cx="510120" cy="976680"/>
          </a:xfrm>
        </p:grpSpPr>
        <p:sp>
          <p:nvSpPr>
            <p:cNvPr id="2557" name=""/>
            <p:cNvSpPr/>
            <p:nvPr/>
          </p:nvSpPr>
          <p:spPr>
            <a:xfrm>
              <a:off x="5662440" y="2652840"/>
              <a:ext cx="509760" cy="78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8" name=""/>
            <p:cNvGrpSpPr/>
            <p:nvPr/>
          </p:nvGrpSpPr>
          <p:grpSpPr>
            <a:xfrm>
              <a:off x="5662440" y="2557440"/>
              <a:ext cx="510120" cy="94680"/>
              <a:chOff x="5662440" y="2557440"/>
              <a:chExt cx="510120" cy="94680"/>
            </a:xfrm>
          </p:grpSpPr>
          <p:sp>
            <p:nvSpPr>
              <p:cNvPr id="2559" name=""/>
              <p:cNvSpPr/>
              <p:nvPr/>
            </p:nvSpPr>
            <p:spPr>
              <a:xfrm>
                <a:off x="5662440" y="255744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709" y="0"/>
                    </a:moveTo>
                    <a:lnTo>
                      <a:pt x="709" y="0"/>
                    </a:lnTo>
                    <a:cubicBezTo>
                      <a:pt x="585" y="0"/>
                      <a:pt x="462" y="12"/>
                      <a:pt x="354" y="35"/>
                    </a:cubicBezTo>
                    <a:cubicBezTo>
                      <a:pt x="247" y="58"/>
                      <a:pt x="157" y="92"/>
                      <a:pt x="95" y="132"/>
                    </a:cubicBezTo>
                    <a:cubicBezTo>
                      <a:pt x="33" y="171"/>
                      <a:pt x="0" y="217"/>
                      <a:pt x="0" y="26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917320" y="255744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709" y="263"/>
                    </a:moveTo>
                    <a:lnTo>
                      <a:pt x="709" y="263"/>
                    </a:lnTo>
                    <a:lnTo>
                      <a:pt x="709" y="263"/>
                    </a:lnTo>
                    <a:cubicBezTo>
                      <a:pt x="709" y="217"/>
                      <a:pt x="676" y="171"/>
                      <a:pt x="614" y="131"/>
                    </a:cubicBezTo>
                    <a:cubicBezTo>
                      <a:pt x="552" y="92"/>
                      <a:pt x="462" y="58"/>
                      <a:pt x="354" y="35"/>
                    </a:cubicBezTo>
                    <a:cubicBezTo>
                      <a:pt x="247" y="12"/>
                      <a:pt x="124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1" name=""/>
            <p:cNvGrpSpPr/>
            <p:nvPr/>
          </p:nvGrpSpPr>
          <p:grpSpPr>
            <a:xfrm>
              <a:off x="5662440" y="3439440"/>
              <a:ext cx="510120" cy="94680"/>
              <a:chOff x="5662440" y="3439440"/>
              <a:chExt cx="510120" cy="94680"/>
            </a:xfrm>
          </p:grpSpPr>
          <p:sp>
            <p:nvSpPr>
              <p:cNvPr id="2562" name=""/>
              <p:cNvSpPr/>
              <p:nvPr/>
            </p:nvSpPr>
            <p:spPr>
              <a:xfrm>
                <a:off x="5662440" y="343944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46"/>
                      <a:pt x="33" y="92"/>
                      <a:pt x="95" y="132"/>
                    </a:cubicBezTo>
                    <a:cubicBezTo>
                      <a:pt x="157" y="171"/>
                      <a:pt x="247" y="205"/>
                      <a:pt x="355" y="228"/>
                    </a:cubicBezTo>
                    <a:cubicBezTo>
                      <a:pt x="462" y="251"/>
                      <a:pt x="585" y="263"/>
                      <a:pt x="709" y="26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5917320" y="343944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0" y="263"/>
                    </a:moveTo>
                    <a:lnTo>
                      <a:pt x="0" y="263"/>
                    </a:lnTo>
                    <a:cubicBezTo>
                      <a:pt x="124" y="263"/>
                      <a:pt x="247" y="251"/>
                      <a:pt x="355" y="228"/>
                    </a:cubicBezTo>
                    <a:cubicBezTo>
                      <a:pt x="462" y="205"/>
                      <a:pt x="552" y="171"/>
                      <a:pt x="614" y="131"/>
                    </a:cubicBezTo>
                    <a:cubicBezTo>
                      <a:pt x="676" y="92"/>
                      <a:pt x="709" y="46"/>
                      <a:pt x="709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4" name=""/>
          <p:cNvGrpSpPr/>
          <p:nvPr/>
        </p:nvGrpSpPr>
        <p:grpSpPr>
          <a:xfrm>
            <a:off x="5662440" y="1111320"/>
            <a:ext cx="510120" cy="976320"/>
            <a:chOff x="5662440" y="1111320"/>
            <a:chExt cx="510120" cy="976320"/>
          </a:xfrm>
        </p:grpSpPr>
        <p:sp>
          <p:nvSpPr>
            <p:cNvPr id="2565" name=""/>
            <p:cNvSpPr/>
            <p:nvPr/>
          </p:nvSpPr>
          <p:spPr>
            <a:xfrm>
              <a:off x="5662440" y="1206360"/>
              <a:ext cx="509760" cy="78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6" name=""/>
            <p:cNvGrpSpPr/>
            <p:nvPr/>
          </p:nvGrpSpPr>
          <p:grpSpPr>
            <a:xfrm>
              <a:off x="5662440" y="1111320"/>
              <a:ext cx="510120" cy="94680"/>
              <a:chOff x="5662440" y="1111320"/>
              <a:chExt cx="510120" cy="94680"/>
            </a:xfrm>
          </p:grpSpPr>
          <p:sp>
            <p:nvSpPr>
              <p:cNvPr id="2567" name=""/>
              <p:cNvSpPr/>
              <p:nvPr/>
            </p:nvSpPr>
            <p:spPr>
              <a:xfrm>
                <a:off x="5662440" y="111132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709" y="0"/>
                    </a:moveTo>
                    <a:lnTo>
                      <a:pt x="709" y="0"/>
                    </a:lnTo>
                    <a:cubicBezTo>
                      <a:pt x="585" y="0"/>
                      <a:pt x="462" y="12"/>
                      <a:pt x="354" y="35"/>
                    </a:cubicBezTo>
                    <a:cubicBezTo>
                      <a:pt x="247" y="58"/>
                      <a:pt x="157" y="92"/>
                      <a:pt x="95" y="132"/>
                    </a:cubicBezTo>
                    <a:cubicBezTo>
                      <a:pt x="33" y="171"/>
                      <a:pt x="0" y="217"/>
                      <a:pt x="0" y="26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5917320" y="111132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709" y="263"/>
                    </a:moveTo>
                    <a:lnTo>
                      <a:pt x="709" y="263"/>
                    </a:lnTo>
                    <a:lnTo>
                      <a:pt x="709" y="263"/>
                    </a:lnTo>
                    <a:cubicBezTo>
                      <a:pt x="709" y="217"/>
                      <a:pt x="676" y="171"/>
                      <a:pt x="614" y="131"/>
                    </a:cubicBezTo>
                    <a:cubicBezTo>
                      <a:pt x="552" y="92"/>
                      <a:pt x="462" y="58"/>
                      <a:pt x="354" y="35"/>
                    </a:cubicBezTo>
                    <a:cubicBezTo>
                      <a:pt x="247" y="12"/>
                      <a:pt x="124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9" name=""/>
            <p:cNvGrpSpPr/>
            <p:nvPr/>
          </p:nvGrpSpPr>
          <p:grpSpPr>
            <a:xfrm>
              <a:off x="5662440" y="1992960"/>
              <a:ext cx="510120" cy="94680"/>
              <a:chOff x="5662440" y="1992960"/>
              <a:chExt cx="510120" cy="94680"/>
            </a:xfrm>
          </p:grpSpPr>
          <p:sp>
            <p:nvSpPr>
              <p:cNvPr id="2570" name=""/>
              <p:cNvSpPr/>
              <p:nvPr/>
            </p:nvSpPr>
            <p:spPr>
              <a:xfrm>
                <a:off x="5662440" y="199296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46"/>
                      <a:pt x="33" y="92"/>
                      <a:pt x="95" y="132"/>
                    </a:cubicBezTo>
                    <a:cubicBezTo>
                      <a:pt x="157" y="171"/>
                      <a:pt x="247" y="205"/>
                      <a:pt x="355" y="228"/>
                    </a:cubicBezTo>
                    <a:cubicBezTo>
                      <a:pt x="462" y="251"/>
                      <a:pt x="585" y="263"/>
                      <a:pt x="709" y="26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5917320" y="199296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0" y="263"/>
                    </a:moveTo>
                    <a:lnTo>
                      <a:pt x="0" y="263"/>
                    </a:lnTo>
                    <a:cubicBezTo>
                      <a:pt x="124" y="263"/>
                      <a:pt x="247" y="251"/>
                      <a:pt x="355" y="228"/>
                    </a:cubicBezTo>
                    <a:cubicBezTo>
                      <a:pt x="462" y="205"/>
                      <a:pt x="552" y="171"/>
                      <a:pt x="614" y="131"/>
                    </a:cubicBezTo>
                    <a:cubicBezTo>
                      <a:pt x="676" y="92"/>
                      <a:pt x="709" y="46"/>
                      <a:pt x="709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2" name=""/>
          <p:cNvSpPr/>
          <p:nvPr/>
        </p:nvSpPr>
        <p:spPr>
          <a:xfrm>
            <a:off x="5923080" y="3676680"/>
            <a:ext cx="0" cy="189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5862600" y="3532320"/>
            <a:ext cx="120960" cy="194040"/>
          </a:xfrm>
          <a:custGeom>
            <a:avLst/>
            <a:gdLst/>
            <a:ahLst/>
            <a:rect l="0" t="0" r="r" b="b"/>
            <a:pathLst>
              <a:path w="336" h="539">
                <a:moveTo>
                  <a:pt x="336" y="539"/>
                </a:moveTo>
                <a:lnTo>
                  <a:pt x="167" y="473"/>
                </a:lnTo>
                <a:lnTo>
                  <a:pt x="0" y="539"/>
                </a:lnTo>
                <a:lnTo>
                  <a:pt x="167" y="0"/>
                </a:lnTo>
                <a:lnTo>
                  <a:pt x="336" y="53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5923080" y="2230560"/>
            <a:ext cx="0" cy="188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5862600" y="2085840"/>
            <a:ext cx="120960" cy="194040"/>
          </a:xfrm>
          <a:custGeom>
            <a:avLst/>
            <a:gdLst/>
            <a:ahLst/>
            <a:rect l="0" t="0" r="r" b="b"/>
            <a:pathLst>
              <a:path w="336" h="539">
                <a:moveTo>
                  <a:pt x="336" y="539"/>
                </a:moveTo>
                <a:lnTo>
                  <a:pt x="167" y="473"/>
                </a:lnTo>
                <a:lnTo>
                  <a:pt x="0" y="539"/>
                </a:lnTo>
                <a:lnTo>
                  <a:pt x="167" y="0"/>
                </a:lnTo>
                <a:lnTo>
                  <a:pt x="336" y="53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6843600" y="660240"/>
            <a:ext cx="5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6843600" y="1049400"/>
            <a:ext cx="5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8" name=""/>
          <p:cNvGrpSpPr/>
          <p:nvPr/>
        </p:nvGrpSpPr>
        <p:grpSpPr>
          <a:xfrm>
            <a:off x="7425720" y="655560"/>
            <a:ext cx="118440" cy="389520"/>
            <a:chOff x="7425720" y="655560"/>
            <a:chExt cx="118440" cy="389520"/>
          </a:xfrm>
        </p:grpSpPr>
        <p:sp>
          <p:nvSpPr>
            <p:cNvPr id="2579" name=""/>
            <p:cNvSpPr/>
            <p:nvPr/>
          </p:nvSpPr>
          <p:spPr>
            <a:xfrm>
              <a:off x="7425720" y="655560"/>
              <a:ext cx="118440" cy="194040"/>
            </a:xfrm>
            <a:custGeom>
              <a:avLst/>
              <a:gdLst/>
              <a:ahLst/>
              <a:rect l="0" t="0" r="r" b="b"/>
              <a:pathLst>
                <a:path fill="none" w="329" h="539">
                  <a:moveTo>
                    <a:pt x="329" y="539"/>
                  </a:moveTo>
                  <a:lnTo>
                    <a:pt x="329" y="539"/>
                  </a:lnTo>
                  <a:cubicBezTo>
                    <a:pt x="328" y="445"/>
                    <a:pt x="313" y="353"/>
                    <a:pt x="285" y="272"/>
                  </a:cubicBezTo>
                  <a:cubicBezTo>
                    <a:pt x="256" y="189"/>
                    <a:pt x="215" y="121"/>
                    <a:pt x="165" y="73"/>
                  </a:cubicBezTo>
                  <a:cubicBezTo>
                    <a:pt x="114" y="25"/>
                    <a:pt x="58" y="0"/>
                    <a:pt x="0" y="0"/>
                  </a:cubicBez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425720" y="847800"/>
              <a:ext cx="117000" cy="197280"/>
            </a:xfrm>
            <a:custGeom>
              <a:avLst/>
              <a:gdLst/>
              <a:ahLst/>
              <a:rect l="0" t="0" r="r" b="b"/>
              <a:pathLst>
                <a:path fill="none" w="325" h="548">
                  <a:moveTo>
                    <a:pt x="0" y="548"/>
                  </a:moveTo>
                  <a:lnTo>
                    <a:pt x="0" y="548"/>
                  </a:lnTo>
                  <a:lnTo>
                    <a:pt x="0" y="548"/>
                  </a:lnTo>
                  <a:cubicBezTo>
                    <a:pt x="57" y="548"/>
                    <a:pt x="113" y="523"/>
                    <a:pt x="163" y="475"/>
                  </a:cubicBezTo>
                  <a:cubicBezTo>
                    <a:pt x="212" y="428"/>
                    <a:pt x="253" y="359"/>
                    <a:pt x="281" y="277"/>
                  </a:cubicBezTo>
                  <a:cubicBezTo>
                    <a:pt x="310" y="194"/>
                    <a:pt x="325" y="100"/>
                    <a:pt x="325" y="5"/>
                  </a:cubicBezTo>
                  <a:cubicBezTo>
                    <a:pt x="325" y="3"/>
                    <a:pt x="325" y="2"/>
                    <a:pt x="325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1" name=""/>
          <p:cNvGrpSpPr/>
          <p:nvPr/>
        </p:nvGrpSpPr>
        <p:grpSpPr>
          <a:xfrm>
            <a:off x="6726240" y="655560"/>
            <a:ext cx="118440" cy="389520"/>
            <a:chOff x="6726240" y="655560"/>
            <a:chExt cx="118440" cy="389520"/>
          </a:xfrm>
        </p:grpSpPr>
        <p:sp>
          <p:nvSpPr>
            <p:cNvPr id="2582" name=""/>
            <p:cNvSpPr/>
            <p:nvPr/>
          </p:nvSpPr>
          <p:spPr>
            <a:xfrm>
              <a:off x="6726240" y="847800"/>
              <a:ext cx="117000" cy="197280"/>
            </a:xfrm>
            <a:custGeom>
              <a:avLst/>
              <a:gdLst/>
              <a:ahLst/>
              <a:rect l="0" t="0" r="r" b="b"/>
              <a:pathLst>
                <a:path fill="none" w="325" h="548">
                  <a:moveTo>
                    <a:pt x="0" y="0"/>
                  </a:moveTo>
                  <a:lnTo>
                    <a:pt x="0" y="0"/>
                  </a:lnTo>
                  <a:cubicBezTo>
                    <a:pt x="0" y="2"/>
                    <a:pt x="0" y="3"/>
                    <a:pt x="0" y="5"/>
                  </a:cubicBezTo>
                  <a:cubicBezTo>
                    <a:pt x="0" y="100"/>
                    <a:pt x="15" y="194"/>
                    <a:pt x="44" y="277"/>
                  </a:cubicBezTo>
                  <a:cubicBezTo>
                    <a:pt x="72" y="359"/>
                    <a:pt x="113" y="428"/>
                    <a:pt x="162" y="475"/>
                  </a:cubicBezTo>
                  <a:cubicBezTo>
                    <a:pt x="212" y="523"/>
                    <a:pt x="268" y="548"/>
                    <a:pt x="325" y="548"/>
                  </a:cubicBezTo>
                  <a:lnTo>
                    <a:pt x="325" y="5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727680" y="655560"/>
              <a:ext cx="117000" cy="194040"/>
            </a:xfrm>
            <a:custGeom>
              <a:avLst/>
              <a:gdLst/>
              <a:ahLst/>
              <a:rect l="0" t="0" r="r" b="b"/>
              <a:pathLst>
                <a:path fill="none" w="325" h="539">
                  <a:moveTo>
                    <a:pt x="325" y="0"/>
                  </a:moveTo>
                  <a:lnTo>
                    <a:pt x="325" y="0"/>
                  </a:lnTo>
                  <a:lnTo>
                    <a:pt x="325" y="0"/>
                  </a:lnTo>
                  <a:cubicBezTo>
                    <a:pt x="268" y="0"/>
                    <a:pt x="212" y="25"/>
                    <a:pt x="162" y="73"/>
                  </a:cubicBezTo>
                  <a:cubicBezTo>
                    <a:pt x="113" y="121"/>
                    <a:pt x="72" y="189"/>
                    <a:pt x="44" y="272"/>
                  </a:cubicBezTo>
                  <a:cubicBezTo>
                    <a:pt x="16" y="353"/>
                    <a:pt x="1" y="445"/>
                    <a:pt x="0" y="539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4" name=""/>
          <p:cNvSpPr/>
          <p:nvPr/>
        </p:nvSpPr>
        <p:spPr>
          <a:xfrm>
            <a:off x="5942160" y="806400"/>
            <a:ext cx="651240" cy="305280"/>
          </a:xfrm>
          <a:custGeom>
            <a:avLst/>
            <a:gdLst/>
            <a:ahLst/>
            <a:rect l="0" t="0" r="r" b="b"/>
            <a:pathLst>
              <a:path fill="none" w="1809" h="848">
                <a:moveTo>
                  <a:pt x="0" y="848"/>
                </a:moveTo>
                <a:lnTo>
                  <a:pt x="0" y="0"/>
                </a:lnTo>
                <a:lnTo>
                  <a:pt x="1809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6543720" y="746280"/>
            <a:ext cx="192600" cy="120960"/>
          </a:xfrm>
          <a:custGeom>
            <a:avLst/>
            <a:gdLst/>
            <a:ahLst/>
            <a:rect l="0" t="0" r="r" b="b"/>
            <a:pathLst>
              <a:path w="535" h="336">
                <a:moveTo>
                  <a:pt x="0" y="336"/>
                </a:moveTo>
                <a:lnTo>
                  <a:pt x="66" y="167"/>
                </a:lnTo>
                <a:lnTo>
                  <a:pt x="0" y="0"/>
                </a:lnTo>
                <a:lnTo>
                  <a:pt x="535" y="167"/>
                </a:lnTo>
                <a:lnTo>
                  <a:pt x="0" y="3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7174080" y="351000"/>
            <a:ext cx="464040" cy="305280"/>
          </a:xfrm>
          <a:custGeom>
            <a:avLst/>
            <a:gdLst/>
            <a:ahLst/>
            <a:rect l="0" t="0" r="r" b="b"/>
            <a:pathLst>
              <a:path fill="none" w="1289" h="848">
                <a:moveTo>
                  <a:pt x="0" y="848"/>
                </a:moveTo>
                <a:lnTo>
                  <a:pt x="0" y="0"/>
                </a:lnTo>
                <a:lnTo>
                  <a:pt x="1289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7575480" y="290520"/>
            <a:ext cx="194040" cy="120960"/>
          </a:xfrm>
          <a:custGeom>
            <a:avLst/>
            <a:gdLst/>
            <a:ahLst/>
            <a:rect l="0" t="0" r="r" b="b"/>
            <a:pathLst>
              <a:path w="539" h="336">
                <a:moveTo>
                  <a:pt x="0" y="336"/>
                </a:moveTo>
                <a:lnTo>
                  <a:pt x="66" y="167"/>
                </a:lnTo>
                <a:lnTo>
                  <a:pt x="0" y="0"/>
                </a:lnTo>
                <a:lnTo>
                  <a:pt x="539" y="167"/>
                </a:lnTo>
                <a:lnTo>
                  <a:pt x="0" y="3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6315120" y="1058760"/>
            <a:ext cx="844920" cy="205200"/>
          </a:xfrm>
          <a:custGeom>
            <a:avLst/>
            <a:gdLst/>
            <a:ahLst/>
            <a:rect l="0" t="0" r="r" b="b"/>
            <a:pathLst>
              <a:path fill="none" w="2347" h="570">
                <a:moveTo>
                  <a:pt x="2347" y="0"/>
                </a:moveTo>
                <a:lnTo>
                  <a:pt x="2347" y="570"/>
                </a:lnTo>
                <a:lnTo>
                  <a:pt x="0" y="57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6170760" y="1203480"/>
            <a:ext cx="194040" cy="120960"/>
          </a:xfrm>
          <a:custGeom>
            <a:avLst/>
            <a:gdLst/>
            <a:ahLst/>
            <a:rect l="0" t="0" r="r" b="b"/>
            <a:pathLst>
              <a:path w="539" h="336">
                <a:moveTo>
                  <a:pt x="539" y="0"/>
                </a:moveTo>
                <a:lnTo>
                  <a:pt x="473" y="167"/>
                </a:lnTo>
                <a:lnTo>
                  <a:pt x="539" y="336"/>
                </a:lnTo>
                <a:lnTo>
                  <a:pt x="0" y="167"/>
                </a:lnTo>
                <a:lnTo>
                  <a:pt x="53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6843600" y="1725480"/>
            <a:ext cx="5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6843600" y="2114640"/>
            <a:ext cx="5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2" name=""/>
          <p:cNvGrpSpPr/>
          <p:nvPr/>
        </p:nvGrpSpPr>
        <p:grpSpPr>
          <a:xfrm>
            <a:off x="7425720" y="1720800"/>
            <a:ext cx="118440" cy="389160"/>
            <a:chOff x="7425720" y="1720800"/>
            <a:chExt cx="118440" cy="389160"/>
          </a:xfrm>
        </p:grpSpPr>
        <p:sp>
          <p:nvSpPr>
            <p:cNvPr id="2593" name=""/>
            <p:cNvSpPr/>
            <p:nvPr/>
          </p:nvSpPr>
          <p:spPr>
            <a:xfrm>
              <a:off x="7425720" y="1720800"/>
              <a:ext cx="118440" cy="194040"/>
            </a:xfrm>
            <a:custGeom>
              <a:avLst/>
              <a:gdLst/>
              <a:ahLst/>
              <a:rect l="0" t="0" r="r" b="b"/>
              <a:pathLst>
                <a:path fill="none" w="329" h="539">
                  <a:moveTo>
                    <a:pt x="329" y="539"/>
                  </a:moveTo>
                  <a:lnTo>
                    <a:pt x="329" y="539"/>
                  </a:lnTo>
                  <a:cubicBezTo>
                    <a:pt x="328" y="445"/>
                    <a:pt x="313" y="353"/>
                    <a:pt x="285" y="272"/>
                  </a:cubicBezTo>
                  <a:cubicBezTo>
                    <a:pt x="256" y="189"/>
                    <a:pt x="215" y="121"/>
                    <a:pt x="165" y="73"/>
                  </a:cubicBezTo>
                  <a:cubicBezTo>
                    <a:pt x="114" y="25"/>
                    <a:pt x="58" y="0"/>
                    <a:pt x="0" y="0"/>
                  </a:cubicBez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425720" y="1912680"/>
              <a:ext cx="117000" cy="197280"/>
            </a:xfrm>
            <a:custGeom>
              <a:avLst/>
              <a:gdLst/>
              <a:ahLst/>
              <a:rect l="0" t="0" r="r" b="b"/>
              <a:pathLst>
                <a:path fill="none" w="325" h="548">
                  <a:moveTo>
                    <a:pt x="0" y="548"/>
                  </a:moveTo>
                  <a:lnTo>
                    <a:pt x="0" y="548"/>
                  </a:lnTo>
                  <a:lnTo>
                    <a:pt x="0" y="548"/>
                  </a:lnTo>
                  <a:cubicBezTo>
                    <a:pt x="57" y="548"/>
                    <a:pt x="113" y="523"/>
                    <a:pt x="163" y="475"/>
                  </a:cubicBezTo>
                  <a:cubicBezTo>
                    <a:pt x="212" y="428"/>
                    <a:pt x="253" y="359"/>
                    <a:pt x="281" y="277"/>
                  </a:cubicBezTo>
                  <a:cubicBezTo>
                    <a:pt x="310" y="194"/>
                    <a:pt x="325" y="100"/>
                    <a:pt x="325" y="5"/>
                  </a:cubicBezTo>
                  <a:cubicBezTo>
                    <a:pt x="325" y="3"/>
                    <a:pt x="325" y="2"/>
                    <a:pt x="325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5" name=""/>
          <p:cNvGrpSpPr/>
          <p:nvPr/>
        </p:nvGrpSpPr>
        <p:grpSpPr>
          <a:xfrm>
            <a:off x="6726240" y="1720800"/>
            <a:ext cx="118440" cy="389160"/>
            <a:chOff x="6726240" y="1720800"/>
            <a:chExt cx="118440" cy="389160"/>
          </a:xfrm>
        </p:grpSpPr>
        <p:sp>
          <p:nvSpPr>
            <p:cNvPr id="2596" name=""/>
            <p:cNvSpPr/>
            <p:nvPr/>
          </p:nvSpPr>
          <p:spPr>
            <a:xfrm>
              <a:off x="6726240" y="1912680"/>
              <a:ext cx="117000" cy="197280"/>
            </a:xfrm>
            <a:custGeom>
              <a:avLst/>
              <a:gdLst/>
              <a:ahLst/>
              <a:rect l="0" t="0" r="r" b="b"/>
              <a:pathLst>
                <a:path fill="none" w="325" h="548">
                  <a:moveTo>
                    <a:pt x="0" y="0"/>
                  </a:moveTo>
                  <a:lnTo>
                    <a:pt x="0" y="0"/>
                  </a:lnTo>
                  <a:cubicBezTo>
                    <a:pt x="0" y="2"/>
                    <a:pt x="0" y="3"/>
                    <a:pt x="0" y="5"/>
                  </a:cubicBezTo>
                  <a:cubicBezTo>
                    <a:pt x="0" y="100"/>
                    <a:pt x="15" y="194"/>
                    <a:pt x="44" y="277"/>
                  </a:cubicBezTo>
                  <a:cubicBezTo>
                    <a:pt x="72" y="359"/>
                    <a:pt x="113" y="428"/>
                    <a:pt x="162" y="475"/>
                  </a:cubicBezTo>
                  <a:cubicBezTo>
                    <a:pt x="212" y="523"/>
                    <a:pt x="268" y="548"/>
                    <a:pt x="325" y="548"/>
                  </a:cubicBezTo>
                  <a:lnTo>
                    <a:pt x="325" y="5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727680" y="1720800"/>
              <a:ext cx="117000" cy="194040"/>
            </a:xfrm>
            <a:custGeom>
              <a:avLst/>
              <a:gdLst/>
              <a:ahLst/>
              <a:rect l="0" t="0" r="r" b="b"/>
              <a:pathLst>
                <a:path fill="none" w="325" h="539">
                  <a:moveTo>
                    <a:pt x="325" y="0"/>
                  </a:moveTo>
                  <a:lnTo>
                    <a:pt x="325" y="0"/>
                  </a:lnTo>
                  <a:lnTo>
                    <a:pt x="325" y="0"/>
                  </a:lnTo>
                  <a:cubicBezTo>
                    <a:pt x="268" y="0"/>
                    <a:pt x="212" y="25"/>
                    <a:pt x="162" y="73"/>
                  </a:cubicBezTo>
                  <a:cubicBezTo>
                    <a:pt x="113" y="121"/>
                    <a:pt x="72" y="189"/>
                    <a:pt x="44" y="272"/>
                  </a:cubicBezTo>
                  <a:cubicBezTo>
                    <a:pt x="16" y="353"/>
                    <a:pt x="1" y="445"/>
                    <a:pt x="0" y="539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"/>
          <p:cNvSpPr/>
          <p:nvPr/>
        </p:nvSpPr>
        <p:spPr>
          <a:xfrm>
            <a:off x="6315120" y="2128680"/>
            <a:ext cx="844920" cy="581400"/>
          </a:xfrm>
          <a:custGeom>
            <a:avLst/>
            <a:gdLst/>
            <a:ahLst/>
            <a:rect l="0" t="0" r="r" b="b"/>
            <a:pathLst>
              <a:path fill="none" w="2347" h="1615">
                <a:moveTo>
                  <a:pt x="2347" y="0"/>
                </a:moveTo>
                <a:lnTo>
                  <a:pt x="2347" y="1615"/>
                </a:lnTo>
                <a:lnTo>
                  <a:pt x="0" y="161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6170760" y="2649600"/>
            <a:ext cx="194040" cy="120960"/>
          </a:xfrm>
          <a:custGeom>
            <a:avLst/>
            <a:gdLst/>
            <a:ahLst/>
            <a:rect l="0" t="0" r="r" b="b"/>
            <a:pathLst>
              <a:path w="539" h="336">
                <a:moveTo>
                  <a:pt x="539" y="0"/>
                </a:moveTo>
                <a:lnTo>
                  <a:pt x="473" y="167"/>
                </a:lnTo>
                <a:lnTo>
                  <a:pt x="539" y="336"/>
                </a:lnTo>
                <a:lnTo>
                  <a:pt x="0" y="167"/>
                </a:lnTo>
                <a:lnTo>
                  <a:pt x="53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H="1">
            <a:off x="6170760" y="1871640"/>
            <a:ext cx="412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6534000" y="1811160"/>
            <a:ext cx="192600" cy="120960"/>
          </a:xfrm>
          <a:custGeom>
            <a:avLst/>
            <a:gdLst/>
            <a:ahLst/>
            <a:rect l="0" t="0" r="r" b="b"/>
            <a:pathLst>
              <a:path w="535" h="336">
                <a:moveTo>
                  <a:pt x="0" y="336"/>
                </a:moveTo>
                <a:lnTo>
                  <a:pt x="66" y="167"/>
                </a:lnTo>
                <a:lnTo>
                  <a:pt x="0" y="0"/>
                </a:lnTo>
                <a:lnTo>
                  <a:pt x="535" y="167"/>
                </a:lnTo>
                <a:lnTo>
                  <a:pt x="0" y="3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7159680" y="1492200"/>
            <a:ext cx="616320" cy="228960"/>
          </a:xfrm>
          <a:custGeom>
            <a:avLst/>
            <a:gdLst/>
            <a:ahLst/>
            <a:rect l="0" t="0" r="r" b="b"/>
            <a:pathLst>
              <a:path fill="none" w="1712" h="636">
                <a:moveTo>
                  <a:pt x="0" y="636"/>
                </a:moveTo>
                <a:lnTo>
                  <a:pt x="0" y="0"/>
                </a:lnTo>
                <a:lnTo>
                  <a:pt x="1712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7728120" y="1432080"/>
            <a:ext cx="194040" cy="120960"/>
          </a:xfrm>
          <a:custGeom>
            <a:avLst/>
            <a:gdLst/>
            <a:ahLst/>
            <a:rect l="0" t="0" r="r" b="b"/>
            <a:pathLst>
              <a:path w="539" h="336">
                <a:moveTo>
                  <a:pt x="0" y="336"/>
                </a:moveTo>
                <a:lnTo>
                  <a:pt x="66" y="167"/>
                </a:lnTo>
                <a:lnTo>
                  <a:pt x="0" y="0"/>
                </a:lnTo>
                <a:lnTo>
                  <a:pt x="539" y="167"/>
                </a:lnTo>
                <a:lnTo>
                  <a:pt x="0" y="3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6843600" y="3170160"/>
            <a:ext cx="5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6843600" y="3560760"/>
            <a:ext cx="5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6" name=""/>
          <p:cNvGrpSpPr/>
          <p:nvPr/>
        </p:nvGrpSpPr>
        <p:grpSpPr>
          <a:xfrm>
            <a:off x="7425720" y="3165480"/>
            <a:ext cx="118440" cy="390960"/>
            <a:chOff x="7425720" y="3165480"/>
            <a:chExt cx="118440" cy="390960"/>
          </a:xfrm>
        </p:grpSpPr>
        <p:sp>
          <p:nvSpPr>
            <p:cNvPr id="2607" name=""/>
            <p:cNvSpPr/>
            <p:nvPr/>
          </p:nvSpPr>
          <p:spPr>
            <a:xfrm>
              <a:off x="7425720" y="3165480"/>
              <a:ext cx="118440" cy="196560"/>
            </a:xfrm>
            <a:custGeom>
              <a:avLst/>
              <a:gdLst/>
              <a:ahLst/>
              <a:rect l="0" t="0" r="r" b="b"/>
              <a:pathLst>
                <a:path fill="none" w="329" h="546">
                  <a:moveTo>
                    <a:pt x="329" y="546"/>
                  </a:moveTo>
                  <a:lnTo>
                    <a:pt x="329" y="546"/>
                  </a:lnTo>
                  <a:lnTo>
                    <a:pt x="329" y="546"/>
                  </a:lnTo>
                  <a:cubicBezTo>
                    <a:pt x="329" y="450"/>
                    <a:pt x="314" y="356"/>
                    <a:pt x="285" y="273"/>
                  </a:cubicBezTo>
                  <a:cubicBezTo>
                    <a:pt x="256" y="190"/>
                    <a:pt x="215" y="121"/>
                    <a:pt x="164" y="73"/>
                  </a:cubicBezTo>
                  <a:cubicBezTo>
                    <a:pt x="114" y="25"/>
                    <a:pt x="58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425720" y="3359880"/>
              <a:ext cx="117000" cy="196560"/>
            </a:xfrm>
            <a:custGeom>
              <a:avLst/>
              <a:gdLst/>
              <a:ahLst/>
              <a:rect l="0" t="0" r="r" b="b"/>
              <a:pathLst>
                <a:path fill="none" w="325" h="546">
                  <a:moveTo>
                    <a:pt x="0" y="546"/>
                  </a:moveTo>
                  <a:lnTo>
                    <a:pt x="0" y="546"/>
                  </a:lnTo>
                  <a:cubicBezTo>
                    <a:pt x="57" y="546"/>
                    <a:pt x="113" y="521"/>
                    <a:pt x="163" y="473"/>
                  </a:cubicBezTo>
                  <a:cubicBezTo>
                    <a:pt x="212" y="425"/>
                    <a:pt x="253" y="356"/>
                    <a:pt x="281" y="273"/>
                  </a:cubicBezTo>
                  <a:cubicBezTo>
                    <a:pt x="310" y="190"/>
                    <a:pt x="325" y="96"/>
                    <a:pt x="325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9" name=""/>
          <p:cNvGrpSpPr/>
          <p:nvPr/>
        </p:nvGrpSpPr>
        <p:grpSpPr>
          <a:xfrm>
            <a:off x="6726240" y="3165480"/>
            <a:ext cx="118440" cy="390960"/>
            <a:chOff x="6726240" y="3165480"/>
            <a:chExt cx="118440" cy="390960"/>
          </a:xfrm>
        </p:grpSpPr>
        <p:sp>
          <p:nvSpPr>
            <p:cNvPr id="2610" name=""/>
            <p:cNvSpPr/>
            <p:nvPr/>
          </p:nvSpPr>
          <p:spPr>
            <a:xfrm>
              <a:off x="6726240" y="3359880"/>
              <a:ext cx="117000" cy="196560"/>
            </a:xfrm>
            <a:custGeom>
              <a:avLst/>
              <a:gdLst/>
              <a:ahLst/>
              <a:rect l="0" t="0" r="r" b="b"/>
              <a:pathLst>
                <a:path fill="none" w="325" h="546">
                  <a:moveTo>
                    <a:pt x="0" y="0"/>
                  </a:moveTo>
                  <a:lnTo>
                    <a:pt x="0" y="0"/>
                  </a:lnTo>
                  <a:cubicBezTo>
                    <a:pt x="0" y="96"/>
                    <a:pt x="15" y="190"/>
                    <a:pt x="44" y="273"/>
                  </a:cubicBezTo>
                  <a:cubicBezTo>
                    <a:pt x="72" y="356"/>
                    <a:pt x="113" y="425"/>
                    <a:pt x="163" y="473"/>
                  </a:cubicBezTo>
                  <a:cubicBezTo>
                    <a:pt x="212" y="521"/>
                    <a:pt x="268" y="546"/>
                    <a:pt x="325" y="546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727680" y="3165480"/>
              <a:ext cx="117000" cy="196560"/>
            </a:xfrm>
            <a:custGeom>
              <a:avLst/>
              <a:gdLst/>
              <a:ahLst/>
              <a:rect l="0" t="0" r="r" b="b"/>
              <a:pathLst>
                <a:path fill="none" w="325" h="546">
                  <a:moveTo>
                    <a:pt x="325" y="0"/>
                  </a:moveTo>
                  <a:lnTo>
                    <a:pt x="325" y="0"/>
                  </a:lnTo>
                  <a:cubicBezTo>
                    <a:pt x="268" y="0"/>
                    <a:pt x="212" y="25"/>
                    <a:pt x="162" y="73"/>
                  </a:cubicBezTo>
                  <a:cubicBezTo>
                    <a:pt x="113" y="121"/>
                    <a:pt x="72" y="190"/>
                    <a:pt x="44" y="273"/>
                  </a:cubicBezTo>
                  <a:cubicBezTo>
                    <a:pt x="15" y="356"/>
                    <a:pt x="0" y="450"/>
                    <a:pt x="0" y="546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2" name=""/>
          <p:cNvSpPr/>
          <p:nvPr/>
        </p:nvSpPr>
        <p:spPr>
          <a:xfrm>
            <a:off x="6315120" y="3565440"/>
            <a:ext cx="844920" cy="589320"/>
          </a:xfrm>
          <a:custGeom>
            <a:avLst/>
            <a:gdLst/>
            <a:ahLst/>
            <a:rect l="0" t="0" r="r" b="b"/>
            <a:pathLst>
              <a:path fill="none" w="2347" h="1637">
                <a:moveTo>
                  <a:pt x="2347" y="0"/>
                </a:moveTo>
                <a:lnTo>
                  <a:pt x="2347" y="1637"/>
                </a:lnTo>
                <a:lnTo>
                  <a:pt x="0" y="16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6170760" y="4094280"/>
            <a:ext cx="194040" cy="120960"/>
          </a:xfrm>
          <a:custGeom>
            <a:avLst/>
            <a:gdLst/>
            <a:ahLst/>
            <a:rect l="0" t="0" r="r" b="b"/>
            <a:pathLst>
              <a:path w="539" h="336">
                <a:moveTo>
                  <a:pt x="539" y="0"/>
                </a:moveTo>
                <a:lnTo>
                  <a:pt x="473" y="167"/>
                </a:lnTo>
                <a:lnTo>
                  <a:pt x="539" y="336"/>
                </a:lnTo>
                <a:lnTo>
                  <a:pt x="0" y="167"/>
                </a:lnTo>
                <a:lnTo>
                  <a:pt x="53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 flipH="1">
            <a:off x="6180120" y="3322800"/>
            <a:ext cx="392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6524640" y="3262320"/>
            <a:ext cx="192600" cy="120960"/>
          </a:xfrm>
          <a:custGeom>
            <a:avLst/>
            <a:gdLst/>
            <a:ahLst/>
            <a:rect l="0" t="0" r="r" b="b"/>
            <a:pathLst>
              <a:path w="535" h="336">
                <a:moveTo>
                  <a:pt x="0" y="336"/>
                </a:moveTo>
                <a:lnTo>
                  <a:pt x="66" y="167"/>
                </a:lnTo>
                <a:lnTo>
                  <a:pt x="0" y="0"/>
                </a:lnTo>
                <a:lnTo>
                  <a:pt x="535" y="167"/>
                </a:lnTo>
                <a:lnTo>
                  <a:pt x="0" y="3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7159680" y="2936880"/>
            <a:ext cx="616320" cy="228960"/>
          </a:xfrm>
          <a:custGeom>
            <a:avLst/>
            <a:gdLst/>
            <a:ahLst/>
            <a:rect l="0" t="0" r="r" b="b"/>
            <a:pathLst>
              <a:path fill="none" w="1712" h="636">
                <a:moveTo>
                  <a:pt x="0" y="636"/>
                </a:moveTo>
                <a:lnTo>
                  <a:pt x="0" y="0"/>
                </a:lnTo>
                <a:lnTo>
                  <a:pt x="1712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7728120" y="2878200"/>
            <a:ext cx="194040" cy="119520"/>
          </a:xfrm>
          <a:custGeom>
            <a:avLst/>
            <a:gdLst/>
            <a:ahLst/>
            <a:rect l="0" t="0" r="r" b="b"/>
            <a:pathLst>
              <a:path w="539" h="332">
                <a:moveTo>
                  <a:pt x="0" y="332"/>
                </a:moveTo>
                <a:lnTo>
                  <a:pt x="66" y="164"/>
                </a:lnTo>
                <a:lnTo>
                  <a:pt x="0" y="0"/>
                </a:lnTo>
                <a:lnTo>
                  <a:pt x="539" y="164"/>
                </a:lnTo>
                <a:lnTo>
                  <a:pt x="0" y="33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"/>
          <p:cNvSpPr txBox="1"/>
          <p:nvPr/>
        </p:nvSpPr>
        <p:spPr>
          <a:xfrm>
            <a:off x="7626240" y="442800"/>
            <a:ext cx="957240" cy="42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 txBox="1"/>
          <p:nvPr/>
        </p:nvSpPr>
        <p:spPr>
          <a:xfrm>
            <a:off x="7693200" y="1593720"/>
            <a:ext cx="957240" cy="42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 txBox="1"/>
          <p:nvPr/>
        </p:nvSpPr>
        <p:spPr>
          <a:xfrm>
            <a:off x="7716960" y="3030480"/>
            <a:ext cx="957240" cy="42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5869080" y="5197320"/>
            <a:ext cx="120960" cy="194040"/>
          </a:xfrm>
          <a:custGeom>
            <a:avLst/>
            <a:gdLst/>
            <a:ahLst/>
            <a:rect l="0" t="0" r="r" b="b"/>
            <a:pathLst>
              <a:path w="336" h="539">
                <a:moveTo>
                  <a:pt x="0" y="0"/>
                </a:moveTo>
                <a:lnTo>
                  <a:pt x="167" y="66"/>
                </a:lnTo>
                <a:lnTo>
                  <a:pt x="336" y="0"/>
                </a:lnTo>
                <a:lnTo>
                  <a:pt x="167" y="5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"/>
          <p:cNvSpPr txBox="1"/>
          <p:nvPr/>
        </p:nvSpPr>
        <p:spPr>
          <a:xfrm>
            <a:off x="380880" y="603396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ddle Vessel Column                   Multivessel Batch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 txBox="1"/>
          <p:nvPr/>
        </p:nvSpPr>
        <p:spPr>
          <a:xfrm>
            <a:off x="746280" y="3032280"/>
            <a:ext cx="1511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ed/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 txBox="1"/>
          <p:nvPr/>
        </p:nvSpPr>
        <p:spPr>
          <a:xfrm>
            <a:off x="2041560" y="487440"/>
            <a:ext cx="861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 txBox="1"/>
          <p:nvPr/>
        </p:nvSpPr>
        <p:spPr>
          <a:xfrm>
            <a:off x="1965240" y="5364000"/>
            <a:ext cx="861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 txBox="1"/>
          <p:nvPr/>
        </p:nvSpPr>
        <p:spPr>
          <a:xfrm>
            <a:off x="5241960" y="5440320"/>
            <a:ext cx="1511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ed/Prod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 txBox="1"/>
          <p:nvPr/>
        </p:nvSpPr>
        <p:spPr>
          <a:xfrm>
            <a:off x="6737400" y="666720"/>
            <a:ext cx="1535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 txBox="1"/>
          <p:nvPr/>
        </p:nvSpPr>
        <p:spPr>
          <a:xfrm>
            <a:off x="6711840" y="1751040"/>
            <a:ext cx="1174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 txBox="1"/>
          <p:nvPr/>
        </p:nvSpPr>
        <p:spPr>
          <a:xfrm>
            <a:off x="6738840" y="3189240"/>
            <a:ext cx="1535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"/>
          <p:cNvSpPr/>
          <p:nvPr/>
        </p:nvSpPr>
        <p:spPr>
          <a:xfrm>
            <a:off x="5246640" y="2546280"/>
            <a:ext cx="0" cy="89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3832200" y="3405240"/>
            <a:ext cx="0" cy="1541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4361040" y="3405240"/>
            <a:ext cx="0" cy="1541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3832200" y="3200400"/>
            <a:ext cx="273240" cy="208800"/>
          </a:xfrm>
          <a:custGeom>
            <a:avLst/>
            <a:gdLst/>
            <a:ahLst/>
            <a:rect l="0" t="0" r="r" b="b"/>
            <a:pathLst>
              <a:path fill="none" w="759" h="580">
                <a:moveTo>
                  <a:pt x="759" y="0"/>
                </a:moveTo>
                <a:lnTo>
                  <a:pt x="759" y="0"/>
                </a:lnTo>
                <a:lnTo>
                  <a:pt x="759" y="0"/>
                </a:lnTo>
                <a:cubicBezTo>
                  <a:pt x="626" y="0"/>
                  <a:pt x="495" y="27"/>
                  <a:pt x="379" y="78"/>
                </a:cubicBezTo>
                <a:cubicBezTo>
                  <a:pt x="264" y="130"/>
                  <a:pt x="168" y="204"/>
                  <a:pt x="102" y="293"/>
                </a:cubicBezTo>
                <a:cubicBezTo>
                  <a:pt x="36" y="380"/>
                  <a:pt x="1" y="479"/>
                  <a:pt x="0" y="58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4105440" y="3200400"/>
            <a:ext cx="273240" cy="208800"/>
          </a:xfrm>
          <a:custGeom>
            <a:avLst/>
            <a:gdLst/>
            <a:ahLst/>
            <a:rect l="0" t="0" r="r" b="b"/>
            <a:pathLst>
              <a:path fill="none" w="759" h="580">
                <a:moveTo>
                  <a:pt x="759" y="580"/>
                </a:moveTo>
                <a:lnTo>
                  <a:pt x="759" y="580"/>
                </a:lnTo>
                <a:cubicBezTo>
                  <a:pt x="758" y="479"/>
                  <a:pt x="723" y="380"/>
                  <a:pt x="657" y="293"/>
                </a:cubicBezTo>
                <a:cubicBezTo>
                  <a:pt x="591" y="204"/>
                  <a:pt x="495" y="130"/>
                  <a:pt x="380" y="78"/>
                </a:cubicBezTo>
                <a:cubicBezTo>
                  <a:pt x="264" y="27"/>
                  <a:pt x="133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5962680" y="2546280"/>
            <a:ext cx="0" cy="89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6464160" y="2546280"/>
            <a:ext cx="0" cy="89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5962680" y="2414520"/>
            <a:ext cx="258480" cy="130680"/>
          </a:xfrm>
          <a:custGeom>
            <a:avLst/>
            <a:gdLst/>
            <a:ahLst/>
            <a:rect l="0" t="0" r="r" b="b"/>
            <a:pathLst>
              <a:path fill="none" w="718" h="363">
                <a:moveTo>
                  <a:pt x="718" y="0"/>
                </a:moveTo>
                <a:lnTo>
                  <a:pt x="718" y="0"/>
                </a:lnTo>
                <a:cubicBezTo>
                  <a:pt x="592" y="0"/>
                  <a:pt x="468" y="17"/>
                  <a:pt x="359" y="49"/>
                </a:cubicBezTo>
                <a:cubicBezTo>
                  <a:pt x="250" y="80"/>
                  <a:pt x="159" y="126"/>
                  <a:pt x="96" y="182"/>
                </a:cubicBezTo>
                <a:cubicBezTo>
                  <a:pt x="33" y="237"/>
                  <a:pt x="0" y="299"/>
                  <a:pt x="0" y="36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6220800" y="2414520"/>
            <a:ext cx="258480" cy="130680"/>
          </a:xfrm>
          <a:custGeom>
            <a:avLst/>
            <a:gdLst/>
            <a:ahLst/>
            <a:rect l="0" t="0" r="r" b="b"/>
            <a:pathLst>
              <a:path fill="none" w="718" h="363">
                <a:moveTo>
                  <a:pt x="718" y="363"/>
                </a:moveTo>
                <a:lnTo>
                  <a:pt x="718" y="363"/>
                </a:lnTo>
                <a:lnTo>
                  <a:pt x="718" y="363"/>
                </a:lnTo>
                <a:cubicBezTo>
                  <a:pt x="718" y="299"/>
                  <a:pt x="685" y="237"/>
                  <a:pt x="622" y="181"/>
                </a:cubicBezTo>
                <a:cubicBezTo>
                  <a:pt x="559" y="126"/>
                  <a:pt x="468" y="80"/>
                  <a:pt x="359" y="49"/>
                </a:cubicBezTo>
                <a:cubicBezTo>
                  <a:pt x="250" y="17"/>
                  <a:pt x="126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5962680" y="3421800"/>
            <a:ext cx="258480" cy="124920"/>
          </a:xfrm>
          <a:custGeom>
            <a:avLst/>
            <a:gdLst/>
            <a:ahLst/>
            <a:rect l="0" t="0" r="r" b="b"/>
            <a:pathLst>
              <a:path fill="none" w="718" h="347">
                <a:moveTo>
                  <a:pt x="0" y="0"/>
                </a:moveTo>
                <a:lnTo>
                  <a:pt x="0" y="0"/>
                </a:lnTo>
                <a:cubicBezTo>
                  <a:pt x="0" y="2"/>
                  <a:pt x="0" y="4"/>
                  <a:pt x="0" y="6"/>
                </a:cubicBezTo>
                <a:cubicBezTo>
                  <a:pt x="0" y="66"/>
                  <a:pt x="33" y="125"/>
                  <a:pt x="96" y="177"/>
                </a:cubicBezTo>
                <a:cubicBezTo>
                  <a:pt x="159" y="228"/>
                  <a:pt x="250" y="271"/>
                  <a:pt x="359" y="301"/>
                </a:cubicBezTo>
                <a:cubicBezTo>
                  <a:pt x="468" y="331"/>
                  <a:pt x="592" y="347"/>
                  <a:pt x="718" y="347"/>
                </a:cubicBezTo>
                <a:lnTo>
                  <a:pt x="718" y="3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6220800" y="3421800"/>
            <a:ext cx="258480" cy="124920"/>
          </a:xfrm>
          <a:custGeom>
            <a:avLst/>
            <a:gdLst/>
            <a:ahLst/>
            <a:rect l="0" t="0" r="r" b="b"/>
            <a:pathLst>
              <a:path fill="none" w="718" h="347">
                <a:moveTo>
                  <a:pt x="0" y="347"/>
                </a:moveTo>
                <a:lnTo>
                  <a:pt x="0" y="347"/>
                </a:lnTo>
                <a:lnTo>
                  <a:pt x="0" y="347"/>
                </a:lnTo>
                <a:cubicBezTo>
                  <a:pt x="126" y="347"/>
                  <a:pt x="250" y="331"/>
                  <a:pt x="359" y="301"/>
                </a:cubicBezTo>
                <a:cubicBezTo>
                  <a:pt x="468" y="271"/>
                  <a:pt x="559" y="228"/>
                  <a:pt x="622" y="177"/>
                </a:cubicBezTo>
                <a:cubicBezTo>
                  <a:pt x="685" y="125"/>
                  <a:pt x="718" y="66"/>
                  <a:pt x="718" y="6"/>
                </a:cubicBezTo>
                <a:cubicBezTo>
                  <a:pt x="718" y="4"/>
                  <a:pt x="718" y="2"/>
                  <a:pt x="71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5962680" y="3354480"/>
            <a:ext cx="258480" cy="128160"/>
          </a:xfrm>
          <a:custGeom>
            <a:avLst/>
            <a:gdLst/>
            <a:ahLst/>
            <a:rect l="0" t="0" r="r" b="b"/>
            <a:pathLst>
              <a:path fill="none" w="718" h="356">
                <a:moveTo>
                  <a:pt x="718" y="0"/>
                </a:moveTo>
                <a:lnTo>
                  <a:pt x="718" y="0"/>
                </a:lnTo>
                <a:cubicBezTo>
                  <a:pt x="592" y="0"/>
                  <a:pt x="468" y="16"/>
                  <a:pt x="359" y="48"/>
                </a:cubicBezTo>
                <a:cubicBezTo>
                  <a:pt x="250" y="79"/>
                  <a:pt x="159" y="124"/>
                  <a:pt x="96" y="178"/>
                </a:cubicBezTo>
                <a:cubicBezTo>
                  <a:pt x="33" y="232"/>
                  <a:pt x="0" y="294"/>
                  <a:pt x="0" y="356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6220800" y="3354480"/>
            <a:ext cx="258480" cy="128160"/>
          </a:xfrm>
          <a:custGeom>
            <a:avLst/>
            <a:gdLst/>
            <a:ahLst/>
            <a:rect l="0" t="0" r="r" b="b"/>
            <a:pathLst>
              <a:path fill="none" w="718" h="356">
                <a:moveTo>
                  <a:pt x="718" y="356"/>
                </a:moveTo>
                <a:lnTo>
                  <a:pt x="718" y="356"/>
                </a:lnTo>
                <a:lnTo>
                  <a:pt x="718" y="356"/>
                </a:lnTo>
                <a:cubicBezTo>
                  <a:pt x="718" y="294"/>
                  <a:pt x="685" y="232"/>
                  <a:pt x="622" y="178"/>
                </a:cubicBezTo>
                <a:cubicBezTo>
                  <a:pt x="559" y="124"/>
                  <a:pt x="468" y="79"/>
                  <a:pt x="359" y="48"/>
                </a:cubicBezTo>
                <a:cubicBezTo>
                  <a:pt x="250" y="16"/>
                  <a:pt x="126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5962680" y="2494080"/>
            <a:ext cx="258480" cy="127440"/>
          </a:xfrm>
          <a:custGeom>
            <a:avLst/>
            <a:gdLst/>
            <a:ahLst/>
            <a:rect l="0" t="0" r="r" b="b"/>
            <a:pathLst>
              <a:path fill="none" w="718" h="354">
                <a:moveTo>
                  <a:pt x="0" y="0"/>
                </a:moveTo>
                <a:lnTo>
                  <a:pt x="0" y="0"/>
                </a:lnTo>
                <a:cubicBezTo>
                  <a:pt x="0" y="62"/>
                  <a:pt x="33" y="123"/>
                  <a:pt x="96" y="177"/>
                </a:cubicBezTo>
                <a:cubicBezTo>
                  <a:pt x="159" y="231"/>
                  <a:pt x="250" y="276"/>
                  <a:pt x="359" y="307"/>
                </a:cubicBezTo>
                <a:cubicBezTo>
                  <a:pt x="468" y="338"/>
                  <a:pt x="592" y="354"/>
                  <a:pt x="718" y="354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6220800" y="2494080"/>
            <a:ext cx="258480" cy="127440"/>
          </a:xfrm>
          <a:custGeom>
            <a:avLst/>
            <a:gdLst/>
            <a:ahLst/>
            <a:rect l="0" t="0" r="r" b="b"/>
            <a:pathLst>
              <a:path fill="none" w="718" h="354">
                <a:moveTo>
                  <a:pt x="0" y="354"/>
                </a:moveTo>
                <a:lnTo>
                  <a:pt x="0" y="354"/>
                </a:lnTo>
                <a:cubicBezTo>
                  <a:pt x="126" y="354"/>
                  <a:pt x="250" y="338"/>
                  <a:pt x="359" y="307"/>
                </a:cubicBezTo>
                <a:cubicBezTo>
                  <a:pt x="468" y="276"/>
                  <a:pt x="559" y="231"/>
                  <a:pt x="622" y="177"/>
                </a:cubicBezTo>
                <a:cubicBezTo>
                  <a:pt x="685" y="123"/>
                  <a:pt x="718" y="62"/>
                  <a:pt x="71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6797520" y="2560680"/>
            <a:ext cx="0" cy="90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7300800" y="2560680"/>
            <a:ext cx="0" cy="90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6797880" y="2443320"/>
            <a:ext cx="259200" cy="118800"/>
          </a:xfrm>
          <a:custGeom>
            <a:avLst/>
            <a:gdLst/>
            <a:ahLst/>
            <a:rect l="0" t="0" r="r" b="b"/>
            <a:pathLst>
              <a:path fill="none" w="720" h="330">
                <a:moveTo>
                  <a:pt x="720" y="0"/>
                </a:moveTo>
                <a:lnTo>
                  <a:pt x="720" y="0"/>
                </a:lnTo>
                <a:lnTo>
                  <a:pt x="720" y="0"/>
                </a:lnTo>
                <a:cubicBezTo>
                  <a:pt x="593" y="0"/>
                  <a:pt x="469" y="16"/>
                  <a:pt x="360" y="45"/>
                </a:cubicBezTo>
                <a:cubicBezTo>
                  <a:pt x="250" y="75"/>
                  <a:pt x="159" y="117"/>
                  <a:pt x="96" y="169"/>
                </a:cubicBezTo>
                <a:cubicBezTo>
                  <a:pt x="36" y="218"/>
                  <a:pt x="3" y="273"/>
                  <a:pt x="0" y="33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7056360" y="2443320"/>
            <a:ext cx="259200" cy="118800"/>
          </a:xfrm>
          <a:custGeom>
            <a:avLst/>
            <a:gdLst/>
            <a:ahLst/>
            <a:rect l="0" t="0" r="r" b="b"/>
            <a:pathLst>
              <a:path fill="none" w="720" h="330">
                <a:moveTo>
                  <a:pt x="720" y="330"/>
                </a:moveTo>
                <a:lnTo>
                  <a:pt x="720" y="330"/>
                </a:lnTo>
                <a:cubicBezTo>
                  <a:pt x="717" y="273"/>
                  <a:pt x="684" y="218"/>
                  <a:pt x="624" y="169"/>
                </a:cubicBezTo>
                <a:cubicBezTo>
                  <a:pt x="561" y="117"/>
                  <a:pt x="470" y="75"/>
                  <a:pt x="360" y="45"/>
                </a:cubicBezTo>
                <a:cubicBezTo>
                  <a:pt x="251" y="16"/>
                  <a:pt x="127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6797520" y="3442680"/>
            <a:ext cx="259200" cy="115560"/>
          </a:xfrm>
          <a:custGeom>
            <a:avLst/>
            <a:gdLst/>
            <a:ahLst/>
            <a:rect l="0" t="0" r="r" b="b"/>
            <a:pathLst>
              <a:path fill="none" w="720" h="321">
                <a:moveTo>
                  <a:pt x="0" y="0"/>
                </a:moveTo>
                <a:lnTo>
                  <a:pt x="0" y="0"/>
                </a:lnTo>
                <a:cubicBezTo>
                  <a:pt x="0" y="56"/>
                  <a:pt x="33" y="112"/>
                  <a:pt x="96" y="161"/>
                </a:cubicBezTo>
                <a:cubicBezTo>
                  <a:pt x="160" y="209"/>
                  <a:pt x="251" y="250"/>
                  <a:pt x="360" y="278"/>
                </a:cubicBezTo>
                <a:cubicBezTo>
                  <a:pt x="469" y="306"/>
                  <a:pt x="594" y="321"/>
                  <a:pt x="720" y="321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7056360" y="3442680"/>
            <a:ext cx="259200" cy="115560"/>
          </a:xfrm>
          <a:custGeom>
            <a:avLst/>
            <a:gdLst/>
            <a:ahLst/>
            <a:rect l="0" t="0" r="r" b="b"/>
            <a:pathLst>
              <a:path fill="none" w="720" h="321">
                <a:moveTo>
                  <a:pt x="0" y="321"/>
                </a:moveTo>
                <a:lnTo>
                  <a:pt x="0" y="321"/>
                </a:lnTo>
                <a:cubicBezTo>
                  <a:pt x="126" y="321"/>
                  <a:pt x="251" y="306"/>
                  <a:pt x="360" y="278"/>
                </a:cubicBezTo>
                <a:cubicBezTo>
                  <a:pt x="469" y="250"/>
                  <a:pt x="560" y="209"/>
                  <a:pt x="624" y="160"/>
                </a:cubicBezTo>
                <a:cubicBezTo>
                  <a:pt x="687" y="112"/>
                  <a:pt x="720" y="56"/>
                  <a:pt x="72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6797520" y="3379680"/>
            <a:ext cx="259200" cy="128160"/>
          </a:xfrm>
          <a:custGeom>
            <a:avLst/>
            <a:gdLst/>
            <a:ahLst/>
            <a:rect l="0" t="0" r="r" b="b"/>
            <a:pathLst>
              <a:path fill="none" w="720" h="356">
                <a:moveTo>
                  <a:pt x="720" y="0"/>
                </a:moveTo>
                <a:lnTo>
                  <a:pt x="720" y="0"/>
                </a:lnTo>
                <a:cubicBezTo>
                  <a:pt x="594" y="0"/>
                  <a:pt x="469" y="16"/>
                  <a:pt x="360" y="48"/>
                </a:cubicBezTo>
                <a:cubicBezTo>
                  <a:pt x="251" y="79"/>
                  <a:pt x="160" y="124"/>
                  <a:pt x="96" y="178"/>
                </a:cubicBezTo>
                <a:cubicBezTo>
                  <a:pt x="33" y="232"/>
                  <a:pt x="0" y="294"/>
                  <a:pt x="0" y="356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7056360" y="3379680"/>
            <a:ext cx="259200" cy="128160"/>
          </a:xfrm>
          <a:custGeom>
            <a:avLst/>
            <a:gdLst/>
            <a:ahLst/>
            <a:rect l="0" t="0" r="r" b="b"/>
            <a:pathLst>
              <a:path fill="none" w="720" h="356">
                <a:moveTo>
                  <a:pt x="720" y="356"/>
                </a:moveTo>
                <a:lnTo>
                  <a:pt x="720" y="356"/>
                </a:lnTo>
                <a:lnTo>
                  <a:pt x="720" y="356"/>
                </a:lnTo>
                <a:cubicBezTo>
                  <a:pt x="720" y="294"/>
                  <a:pt x="687" y="232"/>
                  <a:pt x="624" y="178"/>
                </a:cubicBezTo>
                <a:cubicBezTo>
                  <a:pt x="560" y="124"/>
                  <a:pt x="469" y="79"/>
                  <a:pt x="360" y="48"/>
                </a:cubicBezTo>
                <a:cubicBezTo>
                  <a:pt x="251" y="16"/>
                  <a:pt x="126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6797520" y="2506680"/>
            <a:ext cx="259200" cy="130680"/>
          </a:xfrm>
          <a:custGeom>
            <a:avLst/>
            <a:gdLst/>
            <a:ahLst/>
            <a:rect l="0" t="0" r="r" b="b"/>
            <a:pathLst>
              <a:path fill="none" w="720" h="363">
                <a:moveTo>
                  <a:pt x="0" y="0"/>
                </a:moveTo>
                <a:lnTo>
                  <a:pt x="0" y="0"/>
                </a:lnTo>
                <a:cubicBezTo>
                  <a:pt x="0" y="64"/>
                  <a:pt x="33" y="126"/>
                  <a:pt x="96" y="182"/>
                </a:cubicBezTo>
                <a:cubicBezTo>
                  <a:pt x="160" y="237"/>
                  <a:pt x="251" y="283"/>
                  <a:pt x="360" y="314"/>
                </a:cubicBezTo>
                <a:cubicBezTo>
                  <a:pt x="469" y="346"/>
                  <a:pt x="594" y="363"/>
                  <a:pt x="720" y="36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7056360" y="2506680"/>
            <a:ext cx="259200" cy="130680"/>
          </a:xfrm>
          <a:custGeom>
            <a:avLst/>
            <a:gdLst/>
            <a:ahLst/>
            <a:rect l="0" t="0" r="r" b="b"/>
            <a:pathLst>
              <a:path fill="none" w="720" h="363">
                <a:moveTo>
                  <a:pt x="0" y="363"/>
                </a:moveTo>
                <a:lnTo>
                  <a:pt x="0" y="363"/>
                </a:lnTo>
                <a:cubicBezTo>
                  <a:pt x="126" y="363"/>
                  <a:pt x="251" y="346"/>
                  <a:pt x="360" y="314"/>
                </a:cubicBezTo>
                <a:cubicBezTo>
                  <a:pt x="469" y="283"/>
                  <a:pt x="560" y="237"/>
                  <a:pt x="624" y="181"/>
                </a:cubicBezTo>
                <a:cubicBezTo>
                  <a:pt x="687" y="126"/>
                  <a:pt x="720" y="64"/>
                  <a:pt x="72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3832200" y="3443400"/>
            <a:ext cx="528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846600" y="372600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832200" y="4059360"/>
            <a:ext cx="528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4105440" y="2970360"/>
            <a:ext cx="0" cy="230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4713120" y="2940120"/>
            <a:ext cx="92520" cy="39960"/>
          </a:xfrm>
          <a:custGeom>
            <a:avLst/>
            <a:gdLst/>
            <a:ahLst/>
            <a:rect l="0" t="0" r="r" b="b"/>
            <a:pathLst>
              <a:path w="257" h="111">
                <a:moveTo>
                  <a:pt x="257" y="36"/>
                </a:moveTo>
                <a:lnTo>
                  <a:pt x="0" y="111"/>
                </a:lnTo>
                <a:lnTo>
                  <a:pt x="0" y="36"/>
                </a:lnTo>
                <a:lnTo>
                  <a:pt x="0" y="0"/>
                </a:lnTo>
                <a:lnTo>
                  <a:pt x="257" y="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4105440" y="2954160"/>
            <a:ext cx="607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4789440" y="2840040"/>
            <a:ext cx="911160" cy="282600"/>
          </a:xfrm>
          <a:prstGeom prst="round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5870520" y="2530440"/>
            <a:ext cx="74880" cy="39960"/>
          </a:xfrm>
          <a:custGeom>
            <a:avLst/>
            <a:gdLst/>
            <a:ahLst/>
            <a:rect l="0" t="0" r="r" b="b"/>
            <a:pathLst>
              <a:path w="208" h="111">
                <a:moveTo>
                  <a:pt x="208" y="36"/>
                </a:moveTo>
                <a:lnTo>
                  <a:pt x="0" y="111"/>
                </a:lnTo>
                <a:lnTo>
                  <a:pt x="0" y="36"/>
                </a:lnTo>
                <a:lnTo>
                  <a:pt x="0" y="0"/>
                </a:lnTo>
                <a:lnTo>
                  <a:pt x="208" y="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5246640" y="2546280"/>
            <a:ext cx="6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4378320" y="3432240"/>
            <a:ext cx="74880" cy="28800"/>
          </a:xfrm>
          <a:custGeom>
            <a:avLst/>
            <a:gdLst/>
            <a:ahLst/>
            <a:rect l="0" t="0" r="r" b="b"/>
            <a:pathLst>
              <a:path w="208" h="80">
                <a:moveTo>
                  <a:pt x="0" y="39"/>
                </a:moveTo>
                <a:lnTo>
                  <a:pt x="208" y="0"/>
                </a:lnTo>
                <a:lnTo>
                  <a:pt x="208" y="39"/>
                </a:lnTo>
                <a:lnTo>
                  <a:pt x="208" y="80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4452840" y="3443400"/>
            <a:ext cx="806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 flipH="1">
            <a:off x="5962680" y="34322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5870520" y="3432240"/>
            <a:ext cx="92520" cy="28800"/>
          </a:xfrm>
          <a:custGeom>
            <a:avLst/>
            <a:gdLst/>
            <a:ahLst/>
            <a:rect l="0" t="0" r="r" b="b"/>
            <a:pathLst>
              <a:path w="257" h="80">
                <a:moveTo>
                  <a:pt x="257" y="39"/>
                </a:moveTo>
                <a:lnTo>
                  <a:pt x="0" y="80"/>
                </a:lnTo>
                <a:lnTo>
                  <a:pt x="0" y="39"/>
                </a:lnTo>
                <a:lnTo>
                  <a:pt x="0" y="0"/>
                </a:lnTo>
                <a:lnTo>
                  <a:pt x="257" y="3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5246640" y="3443400"/>
            <a:ext cx="6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4759200" y="2698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4835520" y="271296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4896000" y="2762280"/>
            <a:ext cx="77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 flipH="1">
            <a:off x="4973760" y="2763720"/>
            <a:ext cx="12600" cy="3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4821120" y="2738520"/>
            <a:ext cx="74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4896000" y="273852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4973760" y="2801880"/>
            <a:ext cx="104760" cy="27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4603680" y="2620800"/>
            <a:ext cx="79560" cy="54360"/>
          </a:xfrm>
          <a:custGeom>
            <a:avLst/>
            <a:gdLst/>
            <a:ahLst/>
            <a:rect l="0" t="0" r="r" b="b"/>
            <a:pathLst>
              <a:path w="221" h="151">
                <a:moveTo>
                  <a:pt x="0" y="0"/>
                </a:moveTo>
                <a:lnTo>
                  <a:pt x="221" y="75"/>
                </a:lnTo>
                <a:lnTo>
                  <a:pt x="181" y="114"/>
                </a:lnTo>
                <a:lnTo>
                  <a:pt x="134" y="15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4667400" y="2662200"/>
            <a:ext cx="9180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 flipH="1">
            <a:off x="3191040" y="5699160"/>
            <a:ext cx="1736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4932360" y="5211720"/>
            <a:ext cx="237240" cy="249120"/>
          </a:xfrm>
          <a:custGeom>
            <a:avLst/>
            <a:gdLst/>
            <a:ahLst/>
            <a:rect l="0" t="0" r="r" b="b"/>
            <a:pathLst>
              <a:path fill="none" w="659" h="692">
                <a:moveTo>
                  <a:pt x="659" y="692"/>
                </a:moveTo>
                <a:lnTo>
                  <a:pt x="659" y="692"/>
                </a:lnTo>
                <a:cubicBezTo>
                  <a:pt x="658" y="571"/>
                  <a:pt x="628" y="453"/>
                  <a:pt x="571" y="348"/>
                </a:cubicBezTo>
                <a:cubicBezTo>
                  <a:pt x="514" y="243"/>
                  <a:pt x="431" y="155"/>
                  <a:pt x="332" y="93"/>
                </a:cubicBezTo>
                <a:cubicBezTo>
                  <a:pt x="233" y="32"/>
                  <a:pt x="120" y="0"/>
                  <a:pt x="5" y="0"/>
                </a:cubicBezTo>
                <a:cubicBezTo>
                  <a:pt x="3" y="0"/>
                  <a:pt x="2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4932360" y="5460840"/>
            <a:ext cx="237240" cy="253080"/>
          </a:xfrm>
          <a:custGeom>
            <a:avLst/>
            <a:gdLst/>
            <a:ahLst/>
            <a:rect l="0" t="0" r="r" b="b"/>
            <a:pathLst>
              <a:path fill="none" w="659" h="703">
                <a:moveTo>
                  <a:pt x="0" y="703"/>
                </a:moveTo>
                <a:lnTo>
                  <a:pt x="0" y="703"/>
                </a:lnTo>
                <a:cubicBezTo>
                  <a:pt x="2" y="703"/>
                  <a:pt x="3" y="703"/>
                  <a:pt x="5" y="703"/>
                </a:cubicBezTo>
                <a:cubicBezTo>
                  <a:pt x="120" y="703"/>
                  <a:pt x="233" y="671"/>
                  <a:pt x="332" y="610"/>
                </a:cubicBezTo>
                <a:cubicBezTo>
                  <a:pt x="431" y="548"/>
                  <a:pt x="514" y="460"/>
                  <a:pt x="571" y="355"/>
                </a:cubicBezTo>
                <a:cubicBezTo>
                  <a:pt x="629" y="249"/>
                  <a:pt x="659" y="128"/>
                  <a:pt x="659" y="6"/>
                </a:cubicBezTo>
                <a:cubicBezTo>
                  <a:pt x="659" y="4"/>
                  <a:pt x="659" y="2"/>
                  <a:pt x="659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3008160" y="5211720"/>
            <a:ext cx="244800" cy="249120"/>
          </a:xfrm>
          <a:custGeom>
            <a:avLst/>
            <a:gdLst/>
            <a:ahLst/>
            <a:rect l="0" t="0" r="r" b="b"/>
            <a:pathLst>
              <a:path fill="none" w="680" h="692">
                <a:moveTo>
                  <a:pt x="680" y="0"/>
                </a:moveTo>
                <a:lnTo>
                  <a:pt x="680" y="0"/>
                </a:lnTo>
                <a:lnTo>
                  <a:pt x="680" y="0"/>
                </a:lnTo>
                <a:cubicBezTo>
                  <a:pt x="561" y="0"/>
                  <a:pt x="443" y="32"/>
                  <a:pt x="340" y="93"/>
                </a:cubicBezTo>
                <a:cubicBezTo>
                  <a:pt x="237" y="155"/>
                  <a:pt x="151" y="243"/>
                  <a:pt x="91" y="349"/>
                </a:cubicBezTo>
                <a:cubicBezTo>
                  <a:pt x="32" y="453"/>
                  <a:pt x="1" y="571"/>
                  <a:pt x="0" y="692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3008160" y="5460840"/>
            <a:ext cx="244800" cy="253080"/>
          </a:xfrm>
          <a:custGeom>
            <a:avLst/>
            <a:gdLst/>
            <a:ahLst/>
            <a:rect l="0" t="0" r="r" b="b"/>
            <a:pathLst>
              <a:path fill="none" w="680" h="703">
                <a:moveTo>
                  <a:pt x="0" y="0"/>
                </a:moveTo>
                <a:lnTo>
                  <a:pt x="0" y="0"/>
                </a:lnTo>
                <a:cubicBezTo>
                  <a:pt x="0" y="2"/>
                  <a:pt x="0" y="4"/>
                  <a:pt x="0" y="6"/>
                </a:cubicBezTo>
                <a:cubicBezTo>
                  <a:pt x="0" y="128"/>
                  <a:pt x="31" y="249"/>
                  <a:pt x="91" y="355"/>
                </a:cubicBezTo>
                <a:cubicBezTo>
                  <a:pt x="151" y="460"/>
                  <a:pt x="237" y="548"/>
                  <a:pt x="340" y="610"/>
                </a:cubicBezTo>
                <a:cubicBezTo>
                  <a:pt x="443" y="671"/>
                  <a:pt x="561" y="703"/>
                  <a:pt x="680" y="703"/>
                </a:cubicBezTo>
                <a:lnTo>
                  <a:pt x="680" y="70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3251160" y="52117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3038400" y="5343480"/>
            <a:ext cx="1994400" cy="90720"/>
          </a:xfrm>
          <a:custGeom>
            <a:avLst/>
            <a:gdLst/>
            <a:ahLst/>
            <a:rect l="0" t="0" r="r" b="b"/>
            <a:pathLst>
              <a:path fill="none" w="5540" h="252">
                <a:moveTo>
                  <a:pt x="0" y="104"/>
                </a:moveTo>
                <a:lnTo>
                  <a:pt x="251" y="73"/>
                </a:lnTo>
                <a:lnTo>
                  <a:pt x="464" y="36"/>
                </a:lnTo>
                <a:lnTo>
                  <a:pt x="760" y="0"/>
                </a:lnTo>
                <a:lnTo>
                  <a:pt x="1012" y="73"/>
                </a:lnTo>
                <a:lnTo>
                  <a:pt x="1308" y="104"/>
                </a:lnTo>
                <a:lnTo>
                  <a:pt x="1522" y="179"/>
                </a:lnTo>
                <a:lnTo>
                  <a:pt x="1774" y="104"/>
                </a:lnTo>
                <a:lnTo>
                  <a:pt x="2032" y="104"/>
                </a:lnTo>
                <a:lnTo>
                  <a:pt x="2283" y="73"/>
                </a:lnTo>
                <a:lnTo>
                  <a:pt x="2580" y="73"/>
                </a:lnTo>
                <a:lnTo>
                  <a:pt x="2915" y="104"/>
                </a:lnTo>
                <a:lnTo>
                  <a:pt x="3173" y="104"/>
                </a:lnTo>
                <a:lnTo>
                  <a:pt x="3257" y="215"/>
                </a:lnTo>
                <a:lnTo>
                  <a:pt x="3508" y="252"/>
                </a:lnTo>
                <a:lnTo>
                  <a:pt x="3721" y="215"/>
                </a:lnTo>
                <a:lnTo>
                  <a:pt x="4017" y="179"/>
                </a:lnTo>
                <a:lnTo>
                  <a:pt x="4231" y="104"/>
                </a:lnTo>
                <a:lnTo>
                  <a:pt x="4567" y="104"/>
                </a:lnTo>
                <a:lnTo>
                  <a:pt x="4734" y="73"/>
                </a:lnTo>
                <a:lnTo>
                  <a:pt x="5076" y="73"/>
                </a:lnTo>
                <a:lnTo>
                  <a:pt x="5411" y="104"/>
                </a:lnTo>
                <a:lnTo>
                  <a:pt x="5456" y="215"/>
                </a:lnTo>
                <a:lnTo>
                  <a:pt x="5540" y="25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4165560" y="566244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4240080" y="566244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4316400" y="571356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 flipH="1">
            <a:off x="4378320" y="5713560"/>
            <a:ext cx="15840" cy="39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4224240" y="5689440"/>
            <a:ext cx="77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 flipH="1">
            <a:off x="4303800" y="5689440"/>
            <a:ext cx="12600" cy="38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4378320" y="5753160"/>
            <a:ext cx="106200" cy="38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3983040" y="5575320"/>
            <a:ext cx="74880" cy="47880"/>
          </a:xfrm>
          <a:custGeom>
            <a:avLst/>
            <a:gdLst/>
            <a:ahLst/>
            <a:rect l="0" t="0" r="r" b="b"/>
            <a:pathLst>
              <a:path w="208" h="133">
                <a:moveTo>
                  <a:pt x="0" y="0"/>
                </a:moveTo>
                <a:lnTo>
                  <a:pt x="208" y="67"/>
                </a:lnTo>
                <a:lnTo>
                  <a:pt x="169" y="100"/>
                </a:lnTo>
                <a:lnTo>
                  <a:pt x="124" y="13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4043520" y="5613480"/>
            <a:ext cx="90360" cy="4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3832200" y="4924080"/>
            <a:ext cx="273240" cy="211680"/>
          </a:xfrm>
          <a:custGeom>
            <a:avLst/>
            <a:gdLst/>
            <a:ahLst/>
            <a:rect l="0" t="0" r="r" b="b"/>
            <a:pathLst>
              <a:path fill="none" w="759" h="588">
                <a:moveTo>
                  <a:pt x="0" y="0"/>
                </a:moveTo>
                <a:lnTo>
                  <a:pt x="0" y="0"/>
                </a:lnTo>
                <a:cubicBezTo>
                  <a:pt x="0" y="2"/>
                  <a:pt x="0" y="3"/>
                  <a:pt x="0" y="5"/>
                </a:cubicBezTo>
                <a:cubicBezTo>
                  <a:pt x="0" y="107"/>
                  <a:pt x="35" y="208"/>
                  <a:pt x="102" y="297"/>
                </a:cubicBezTo>
                <a:cubicBezTo>
                  <a:pt x="168" y="385"/>
                  <a:pt x="264" y="459"/>
                  <a:pt x="379" y="510"/>
                </a:cubicBezTo>
                <a:cubicBezTo>
                  <a:pt x="495" y="561"/>
                  <a:pt x="626" y="588"/>
                  <a:pt x="759" y="588"/>
                </a:cubicBezTo>
                <a:lnTo>
                  <a:pt x="759" y="58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4105440" y="4924080"/>
            <a:ext cx="273240" cy="211680"/>
          </a:xfrm>
          <a:custGeom>
            <a:avLst/>
            <a:gdLst/>
            <a:ahLst/>
            <a:rect l="0" t="0" r="r" b="b"/>
            <a:pathLst>
              <a:path fill="none" w="759" h="588">
                <a:moveTo>
                  <a:pt x="0" y="588"/>
                </a:moveTo>
                <a:lnTo>
                  <a:pt x="0" y="588"/>
                </a:lnTo>
                <a:lnTo>
                  <a:pt x="0" y="588"/>
                </a:lnTo>
                <a:cubicBezTo>
                  <a:pt x="133" y="588"/>
                  <a:pt x="264" y="561"/>
                  <a:pt x="380" y="510"/>
                </a:cubicBezTo>
                <a:cubicBezTo>
                  <a:pt x="495" y="459"/>
                  <a:pt x="591" y="385"/>
                  <a:pt x="657" y="297"/>
                </a:cubicBezTo>
                <a:cubicBezTo>
                  <a:pt x="724" y="208"/>
                  <a:pt x="759" y="107"/>
                  <a:pt x="759" y="5"/>
                </a:cubicBezTo>
                <a:cubicBezTo>
                  <a:pt x="759" y="3"/>
                  <a:pt x="759" y="2"/>
                  <a:pt x="759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3846600" y="490860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 flipH="1">
            <a:off x="4106880" y="5124600"/>
            <a:ext cx="14400" cy="8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229360" y="5535720"/>
            <a:ext cx="182880" cy="78120"/>
          </a:xfrm>
          <a:custGeom>
            <a:avLst/>
            <a:gdLst/>
            <a:ahLst/>
            <a:rect l="0" t="0" r="r" b="b"/>
            <a:pathLst>
              <a:path w="508" h="217">
                <a:moveTo>
                  <a:pt x="508" y="108"/>
                </a:moveTo>
                <a:lnTo>
                  <a:pt x="0" y="217"/>
                </a:lnTo>
                <a:lnTo>
                  <a:pt x="0" y="108"/>
                </a:lnTo>
                <a:lnTo>
                  <a:pt x="0" y="0"/>
                </a:lnTo>
                <a:lnTo>
                  <a:pt x="508" y="10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4713120" y="5575320"/>
            <a:ext cx="51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7042320" y="2057400"/>
            <a:ext cx="90720" cy="155880"/>
          </a:xfrm>
          <a:custGeom>
            <a:avLst/>
            <a:gdLst/>
            <a:ahLst/>
            <a:rect l="0" t="0" r="r" b="b"/>
            <a:pathLst>
              <a:path w="252" h="433">
                <a:moveTo>
                  <a:pt x="129" y="0"/>
                </a:moveTo>
                <a:lnTo>
                  <a:pt x="252" y="433"/>
                </a:lnTo>
                <a:lnTo>
                  <a:pt x="129" y="433"/>
                </a:lnTo>
                <a:lnTo>
                  <a:pt x="0" y="433"/>
                </a:lnTo>
                <a:lnTo>
                  <a:pt x="12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7088040" y="221292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 txBox="1"/>
          <p:nvPr/>
        </p:nvSpPr>
        <p:spPr>
          <a:xfrm>
            <a:off x="2270160" y="426960"/>
            <a:ext cx="40464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dustrial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 txBox="1"/>
          <p:nvPr/>
        </p:nvSpPr>
        <p:spPr>
          <a:xfrm>
            <a:off x="533520" y="4100400"/>
            <a:ext cx="230184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-1 24.4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-2 26.8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-3 48.8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 txBox="1"/>
          <p:nvPr/>
        </p:nvSpPr>
        <p:spPr>
          <a:xfrm>
            <a:off x="5927760" y="272736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 txBox="1"/>
          <p:nvPr/>
        </p:nvSpPr>
        <p:spPr>
          <a:xfrm>
            <a:off x="6765840" y="274320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 txBox="1"/>
          <p:nvPr/>
        </p:nvSpPr>
        <p:spPr>
          <a:xfrm>
            <a:off x="6461280" y="974880"/>
            <a:ext cx="23018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-1 11.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-2 88.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-3 N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 txBox="1"/>
          <p:nvPr/>
        </p:nvSpPr>
        <p:spPr>
          <a:xfrm>
            <a:off x="5851440" y="5089680"/>
            <a:ext cx="2301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-2 2.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-3 97.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 txBox="1"/>
          <p:nvPr/>
        </p:nvSpPr>
        <p:spPr>
          <a:xfrm>
            <a:off x="593640" y="5927760"/>
            <a:ext cx="4386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2 and 3 are close bo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"/>
          <p:cNvSpPr/>
          <p:nvPr/>
        </p:nvSpPr>
        <p:spPr>
          <a:xfrm>
            <a:off x="2400480" y="668160"/>
            <a:ext cx="210240" cy="270720"/>
          </a:xfrm>
          <a:custGeom>
            <a:avLst/>
            <a:gdLst/>
            <a:ahLst/>
            <a:rect l="0" t="0" r="r" b="b"/>
            <a:pathLst>
              <a:path fill="none" w="584" h="752">
                <a:moveTo>
                  <a:pt x="584" y="0"/>
                </a:moveTo>
                <a:lnTo>
                  <a:pt x="584" y="0"/>
                </a:lnTo>
                <a:cubicBezTo>
                  <a:pt x="482" y="1"/>
                  <a:pt x="382" y="36"/>
                  <a:pt x="294" y="101"/>
                </a:cubicBezTo>
                <a:cubicBezTo>
                  <a:pt x="205" y="168"/>
                  <a:pt x="130" y="263"/>
                  <a:pt x="79" y="378"/>
                </a:cubicBezTo>
                <a:cubicBezTo>
                  <a:pt x="28" y="492"/>
                  <a:pt x="1" y="621"/>
                  <a:pt x="0" y="752"/>
                </a:cubicBez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V="1">
            <a:off x="3784680" y="1560600"/>
            <a:ext cx="0" cy="166356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V="1">
            <a:off x="4260960" y="1560600"/>
            <a:ext cx="0" cy="166356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3784680" y="3229560"/>
            <a:ext cx="244800" cy="231480"/>
          </a:xfrm>
          <a:custGeom>
            <a:avLst/>
            <a:gdLst/>
            <a:ahLst/>
            <a:rect l="0" t="0" r="r" b="b"/>
            <a:pathLst>
              <a:path fill="none" w="680" h="643">
                <a:moveTo>
                  <a:pt x="0" y="0"/>
                </a:moveTo>
                <a:lnTo>
                  <a:pt x="0" y="0"/>
                </a:lnTo>
                <a:cubicBezTo>
                  <a:pt x="0" y="2"/>
                  <a:pt x="0" y="3"/>
                  <a:pt x="0" y="5"/>
                </a:cubicBezTo>
                <a:cubicBezTo>
                  <a:pt x="0" y="117"/>
                  <a:pt x="31" y="227"/>
                  <a:pt x="91" y="324"/>
                </a:cubicBezTo>
                <a:cubicBezTo>
                  <a:pt x="151" y="421"/>
                  <a:pt x="237" y="502"/>
                  <a:pt x="340" y="558"/>
                </a:cubicBezTo>
                <a:cubicBezTo>
                  <a:pt x="443" y="614"/>
                  <a:pt x="561" y="643"/>
                  <a:pt x="680" y="643"/>
                </a:cubicBezTo>
                <a:lnTo>
                  <a:pt x="680" y="643"/>
                </a:ln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4029120" y="3229560"/>
            <a:ext cx="244800" cy="231480"/>
          </a:xfrm>
          <a:custGeom>
            <a:avLst/>
            <a:gdLst/>
            <a:ahLst/>
            <a:rect l="0" t="0" r="r" b="b"/>
            <a:pathLst>
              <a:path fill="none" w="680" h="643">
                <a:moveTo>
                  <a:pt x="0" y="643"/>
                </a:moveTo>
                <a:lnTo>
                  <a:pt x="0" y="643"/>
                </a:lnTo>
                <a:lnTo>
                  <a:pt x="0" y="643"/>
                </a:lnTo>
                <a:cubicBezTo>
                  <a:pt x="119" y="643"/>
                  <a:pt x="237" y="614"/>
                  <a:pt x="340" y="558"/>
                </a:cubicBezTo>
                <a:cubicBezTo>
                  <a:pt x="443" y="502"/>
                  <a:pt x="529" y="421"/>
                  <a:pt x="589" y="324"/>
                </a:cubicBezTo>
                <a:cubicBezTo>
                  <a:pt x="649" y="227"/>
                  <a:pt x="680" y="117"/>
                  <a:pt x="680" y="5"/>
                </a:cubicBezTo>
                <a:cubicBezTo>
                  <a:pt x="680" y="3"/>
                  <a:pt x="680" y="2"/>
                  <a:pt x="680" y="0"/>
                </a:cubicBez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3784680" y="3195720"/>
            <a:ext cx="47628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3798720" y="2887560"/>
            <a:ext cx="46224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3784680" y="2511360"/>
            <a:ext cx="47628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V="1">
            <a:off x="4030560" y="3460680"/>
            <a:ext cx="0" cy="23832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8" name=""/>
          <p:cNvGrpSpPr/>
          <p:nvPr/>
        </p:nvGrpSpPr>
        <p:grpSpPr>
          <a:xfrm>
            <a:off x="4030560" y="3699000"/>
            <a:ext cx="611640" cy="30600"/>
            <a:chOff x="4030560" y="3699000"/>
            <a:chExt cx="611640" cy="30600"/>
          </a:xfrm>
        </p:grpSpPr>
        <p:sp>
          <p:nvSpPr>
            <p:cNvPr id="2719" name=""/>
            <p:cNvSpPr/>
            <p:nvPr/>
          </p:nvSpPr>
          <p:spPr>
            <a:xfrm>
              <a:off x="4572000" y="3699000"/>
              <a:ext cx="70200" cy="30600"/>
            </a:xfrm>
            <a:custGeom>
              <a:avLst/>
              <a:gdLst/>
              <a:ahLst/>
              <a:rect l="0" t="0" r="r" b="b"/>
              <a:pathLst>
                <a:path w="195" h="85">
                  <a:moveTo>
                    <a:pt x="195" y="45"/>
                  </a:moveTo>
                  <a:lnTo>
                    <a:pt x="0" y="0"/>
                  </a:lnTo>
                  <a:lnTo>
                    <a:pt x="0" y="45"/>
                  </a:lnTo>
                  <a:lnTo>
                    <a:pt x="0" y="85"/>
                  </a:lnTo>
                  <a:lnTo>
                    <a:pt x="195" y="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030560" y="3713040"/>
              <a:ext cx="54144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1" name=""/>
          <p:cNvSpPr/>
          <p:nvPr/>
        </p:nvSpPr>
        <p:spPr>
          <a:xfrm>
            <a:off x="4554360" y="3559320"/>
            <a:ext cx="812880" cy="306360"/>
          </a:xfrm>
          <a:prstGeom prst="roundRect">
            <a:avLst/>
          </a:prstGeom>
          <a:solidFill>
            <a:srgbClr val="000066"/>
          </a:solidFill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2" name=""/>
          <p:cNvGrpSpPr/>
          <p:nvPr/>
        </p:nvGrpSpPr>
        <p:grpSpPr>
          <a:xfrm>
            <a:off x="4273560" y="3168720"/>
            <a:ext cx="787320" cy="43200"/>
            <a:chOff x="4273560" y="3168720"/>
            <a:chExt cx="787320" cy="43200"/>
          </a:xfrm>
        </p:grpSpPr>
        <p:sp>
          <p:nvSpPr>
            <p:cNvPr id="2723" name=""/>
            <p:cNvSpPr/>
            <p:nvPr/>
          </p:nvSpPr>
          <p:spPr>
            <a:xfrm>
              <a:off x="4273560" y="3168720"/>
              <a:ext cx="68760" cy="43200"/>
            </a:xfrm>
            <a:custGeom>
              <a:avLst/>
              <a:gdLst/>
              <a:ahLst/>
              <a:rect l="0" t="0" r="r" b="b"/>
              <a:pathLst>
                <a:path w="191" h="120">
                  <a:moveTo>
                    <a:pt x="0" y="78"/>
                  </a:moveTo>
                  <a:lnTo>
                    <a:pt x="191" y="120"/>
                  </a:lnTo>
                  <a:lnTo>
                    <a:pt x="191" y="78"/>
                  </a:lnTo>
                  <a:lnTo>
                    <a:pt x="191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341960" y="3195720"/>
              <a:ext cx="71892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5" name=""/>
          <p:cNvSpPr/>
          <p:nvPr/>
        </p:nvSpPr>
        <p:spPr>
          <a:xfrm>
            <a:off x="5684760" y="3195720"/>
            <a:ext cx="0" cy="99360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6134040" y="3195720"/>
            <a:ext cx="0" cy="99360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5684760" y="3070080"/>
            <a:ext cx="231480" cy="140040"/>
          </a:xfrm>
          <a:custGeom>
            <a:avLst/>
            <a:gdLst/>
            <a:ahLst/>
            <a:rect l="0" t="0" r="r" b="b"/>
            <a:pathLst>
              <a:path fill="none" w="643" h="389">
                <a:moveTo>
                  <a:pt x="643" y="0"/>
                </a:moveTo>
                <a:lnTo>
                  <a:pt x="643" y="0"/>
                </a:lnTo>
                <a:cubicBezTo>
                  <a:pt x="530" y="0"/>
                  <a:pt x="419" y="18"/>
                  <a:pt x="321" y="52"/>
                </a:cubicBezTo>
                <a:cubicBezTo>
                  <a:pt x="224" y="86"/>
                  <a:pt x="143" y="135"/>
                  <a:pt x="86" y="195"/>
                </a:cubicBezTo>
                <a:cubicBezTo>
                  <a:pt x="30" y="254"/>
                  <a:pt x="0" y="321"/>
                  <a:pt x="0" y="389"/>
                </a:cubicBez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5915880" y="3070080"/>
            <a:ext cx="231480" cy="140040"/>
          </a:xfrm>
          <a:custGeom>
            <a:avLst/>
            <a:gdLst/>
            <a:ahLst/>
            <a:rect l="0" t="0" r="r" b="b"/>
            <a:pathLst>
              <a:path fill="none" w="643" h="389">
                <a:moveTo>
                  <a:pt x="643" y="389"/>
                </a:moveTo>
                <a:lnTo>
                  <a:pt x="643" y="389"/>
                </a:lnTo>
                <a:lnTo>
                  <a:pt x="643" y="389"/>
                </a:lnTo>
                <a:cubicBezTo>
                  <a:pt x="643" y="321"/>
                  <a:pt x="613" y="254"/>
                  <a:pt x="557" y="194"/>
                </a:cubicBezTo>
                <a:cubicBezTo>
                  <a:pt x="500" y="135"/>
                  <a:pt x="419" y="86"/>
                  <a:pt x="321" y="52"/>
                </a:cubicBezTo>
                <a:cubicBezTo>
                  <a:pt x="224" y="18"/>
                  <a:pt x="113" y="0"/>
                  <a:pt x="0" y="0"/>
                </a:cubicBez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5684760" y="4165920"/>
            <a:ext cx="231480" cy="135000"/>
          </a:xfrm>
          <a:custGeom>
            <a:avLst/>
            <a:gdLst/>
            <a:ahLst/>
            <a:rect l="0" t="0" r="r" b="b"/>
            <a:pathLst>
              <a:path fill="none" w="643" h="375">
                <a:moveTo>
                  <a:pt x="0" y="0"/>
                </a:moveTo>
                <a:lnTo>
                  <a:pt x="0" y="0"/>
                </a:lnTo>
                <a:cubicBezTo>
                  <a:pt x="0" y="2"/>
                  <a:pt x="0" y="3"/>
                  <a:pt x="0" y="5"/>
                </a:cubicBezTo>
                <a:cubicBezTo>
                  <a:pt x="0" y="70"/>
                  <a:pt x="30" y="134"/>
                  <a:pt x="86" y="190"/>
                </a:cubicBezTo>
                <a:cubicBezTo>
                  <a:pt x="143" y="246"/>
                  <a:pt x="224" y="293"/>
                  <a:pt x="321" y="325"/>
                </a:cubicBezTo>
                <a:cubicBezTo>
                  <a:pt x="419" y="358"/>
                  <a:pt x="530" y="375"/>
                  <a:pt x="643" y="375"/>
                </a:cubicBezTo>
                <a:lnTo>
                  <a:pt x="643" y="375"/>
                </a:ln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5915880" y="4165920"/>
            <a:ext cx="231480" cy="135000"/>
          </a:xfrm>
          <a:custGeom>
            <a:avLst/>
            <a:gdLst/>
            <a:ahLst/>
            <a:rect l="0" t="0" r="r" b="b"/>
            <a:pathLst>
              <a:path fill="none" w="643" h="375">
                <a:moveTo>
                  <a:pt x="0" y="375"/>
                </a:moveTo>
                <a:lnTo>
                  <a:pt x="0" y="375"/>
                </a:lnTo>
                <a:lnTo>
                  <a:pt x="0" y="375"/>
                </a:lnTo>
                <a:cubicBezTo>
                  <a:pt x="113" y="375"/>
                  <a:pt x="224" y="358"/>
                  <a:pt x="322" y="325"/>
                </a:cubicBezTo>
                <a:cubicBezTo>
                  <a:pt x="419" y="293"/>
                  <a:pt x="500" y="246"/>
                  <a:pt x="557" y="190"/>
                </a:cubicBezTo>
                <a:cubicBezTo>
                  <a:pt x="613" y="134"/>
                  <a:pt x="643" y="70"/>
                  <a:pt x="643" y="5"/>
                </a:cubicBezTo>
                <a:cubicBezTo>
                  <a:pt x="643" y="3"/>
                  <a:pt x="643" y="2"/>
                  <a:pt x="643" y="0"/>
                </a:cubicBez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5684760" y="4091040"/>
            <a:ext cx="231480" cy="139320"/>
          </a:xfrm>
          <a:custGeom>
            <a:avLst/>
            <a:gdLst/>
            <a:ahLst/>
            <a:rect l="0" t="0" r="r" b="b"/>
            <a:pathLst>
              <a:path fill="none" w="643" h="387">
                <a:moveTo>
                  <a:pt x="643" y="0"/>
                </a:moveTo>
                <a:lnTo>
                  <a:pt x="643" y="0"/>
                </a:lnTo>
                <a:cubicBezTo>
                  <a:pt x="530" y="0"/>
                  <a:pt x="419" y="18"/>
                  <a:pt x="321" y="52"/>
                </a:cubicBezTo>
                <a:cubicBezTo>
                  <a:pt x="224" y="86"/>
                  <a:pt x="143" y="135"/>
                  <a:pt x="86" y="194"/>
                </a:cubicBezTo>
                <a:cubicBezTo>
                  <a:pt x="30" y="252"/>
                  <a:pt x="0" y="319"/>
                  <a:pt x="0" y="387"/>
                </a:cubicBez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5915880" y="4091040"/>
            <a:ext cx="231480" cy="139320"/>
          </a:xfrm>
          <a:custGeom>
            <a:avLst/>
            <a:gdLst/>
            <a:ahLst/>
            <a:rect l="0" t="0" r="r" b="b"/>
            <a:pathLst>
              <a:path fill="none" w="643" h="387">
                <a:moveTo>
                  <a:pt x="643" y="387"/>
                </a:moveTo>
                <a:lnTo>
                  <a:pt x="643" y="387"/>
                </a:lnTo>
                <a:lnTo>
                  <a:pt x="643" y="387"/>
                </a:lnTo>
                <a:cubicBezTo>
                  <a:pt x="643" y="319"/>
                  <a:pt x="613" y="252"/>
                  <a:pt x="557" y="193"/>
                </a:cubicBezTo>
                <a:cubicBezTo>
                  <a:pt x="500" y="135"/>
                  <a:pt x="419" y="86"/>
                  <a:pt x="321" y="52"/>
                </a:cubicBezTo>
                <a:cubicBezTo>
                  <a:pt x="224" y="18"/>
                  <a:pt x="113" y="0"/>
                  <a:pt x="0" y="0"/>
                </a:cubicBez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5684760" y="3154320"/>
            <a:ext cx="231480" cy="140040"/>
          </a:xfrm>
          <a:custGeom>
            <a:avLst/>
            <a:gdLst/>
            <a:ahLst/>
            <a:rect l="0" t="0" r="r" b="b"/>
            <a:pathLst>
              <a:path fill="none" w="643" h="389">
                <a:moveTo>
                  <a:pt x="0" y="0"/>
                </a:moveTo>
                <a:lnTo>
                  <a:pt x="0" y="0"/>
                </a:lnTo>
                <a:cubicBezTo>
                  <a:pt x="0" y="68"/>
                  <a:pt x="30" y="135"/>
                  <a:pt x="86" y="195"/>
                </a:cubicBezTo>
                <a:cubicBezTo>
                  <a:pt x="143" y="254"/>
                  <a:pt x="224" y="303"/>
                  <a:pt x="322" y="337"/>
                </a:cubicBezTo>
                <a:cubicBezTo>
                  <a:pt x="419" y="371"/>
                  <a:pt x="530" y="389"/>
                  <a:pt x="643" y="389"/>
                </a:cubicBez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5915880" y="3154320"/>
            <a:ext cx="231480" cy="140040"/>
          </a:xfrm>
          <a:custGeom>
            <a:avLst/>
            <a:gdLst/>
            <a:ahLst/>
            <a:rect l="0" t="0" r="r" b="b"/>
            <a:pathLst>
              <a:path fill="none" w="643" h="389">
                <a:moveTo>
                  <a:pt x="0" y="389"/>
                </a:moveTo>
                <a:lnTo>
                  <a:pt x="0" y="389"/>
                </a:lnTo>
                <a:cubicBezTo>
                  <a:pt x="113" y="389"/>
                  <a:pt x="224" y="371"/>
                  <a:pt x="322" y="337"/>
                </a:cubicBezTo>
                <a:cubicBezTo>
                  <a:pt x="419" y="303"/>
                  <a:pt x="500" y="254"/>
                  <a:pt x="557" y="194"/>
                </a:cubicBezTo>
                <a:cubicBezTo>
                  <a:pt x="613" y="135"/>
                  <a:pt x="643" y="68"/>
                  <a:pt x="643" y="0"/>
                </a:cubicBez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6432480" y="3224160"/>
            <a:ext cx="0" cy="99216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6880320" y="3224160"/>
            <a:ext cx="0" cy="99216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6432480" y="3097080"/>
            <a:ext cx="231480" cy="131040"/>
          </a:xfrm>
          <a:custGeom>
            <a:avLst/>
            <a:gdLst/>
            <a:ahLst/>
            <a:rect l="0" t="0" r="r" b="b"/>
            <a:pathLst>
              <a:path fill="none" w="643" h="364">
                <a:moveTo>
                  <a:pt x="643" y="0"/>
                </a:moveTo>
                <a:lnTo>
                  <a:pt x="643" y="0"/>
                </a:lnTo>
                <a:lnTo>
                  <a:pt x="643" y="0"/>
                </a:lnTo>
                <a:cubicBezTo>
                  <a:pt x="530" y="0"/>
                  <a:pt x="419" y="17"/>
                  <a:pt x="321" y="50"/>
                </a:cubicBezTo>
                <a:cubicBezTo>
                  <a:pt x="224" y="82"/>
                  <a:pt x="142" y="129"/>
                  <a:pt x="86" y="185"/>
                </a:cubicBezTo>
                <a:cubicBezTo>
                  <a:pt x="31" y="239"/>
                  <a:pt x="2" y="301"/>
                  <a:pt x="0" y="364"/>
                </a:cubicBez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6663600" y="3097080"/>
            <a:ext cx="231480" cy="131040"/>
          </a:xfrm>
          <a:custGeom>
            <a:avLst/>
            <a:gdLst/>
            <a:ahLst/>
            <a:rect l="0" t="0" r="r" b="b"/>
            <a:pathLst>
              <a:path fill="none" w="643" h="364">
                <a:moveTo>
                  <a:pt x="643" y="364"/>
                </a:moveTo>
                <a:lnTo>
                  <a:pt x="643" y="364"/>
                </a:lnTo>
                <a:cubicBezTo>
                  <a:pt x="641" y="301"/>
                  <a:pt x="612" y="239"/>
                  <a:pt x="557" y="185"/>
                </a:cubicBezTo>
                <a:cubicBezTo>
                  <a:pt x="501" y="129"/>
                  <a:pt x="419" y="82"/>
                  <a:pt x="322" y="50"/>
                </a:cubicBezTo>
                <a:cubicBezTo>
                  <a:pt x="224" y="17"/>
                  <a:pt x="113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6432480" y="4187880"/>
            <a:ext cx="231480" cy="125640"/>
          </a:xfrm>
          <a:custGeom>
            <a:avLst/>
            <a:gdLst/>
            <a:ahLst/>
            <a:rect l="0" t="0" r="r" b="b"/>
            <a:pathLst>
              <a:path fill="none" w="643" h="349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30" y="121"/>
                  <a:pt x="86" y="175"/>
                </a:cubicBezTo>
                <a:cubicBezTo>
                  <a:pt x="143" y="228"/>
                  <a:pt x="224" y="272"/>
                  <a:pt x="322" y="302"/>
                </a:cubicBezTo>
                <a:cubicBezTo>
                  <a:pt x="419" y="333"/>
                  <a:pt x="530" y="349"/>
                  <a:pt x="643" y="349"/>
                </a:cubicBez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6663600" y="4187880"/>
            <a:ext cx="231480" cy="125640"/>
          </a:xfrm>
          <a:custGeom>
            <a:avLst/>
            <a:gdLst/>
            <a:ahLst/>
            <a:rect l="0" t="0" r="r" b="b"/>
            <a:pathLst>
              <a:path fill="none" w="643" h="349">
                <a:moveTo>
                  <a:pt x="0" y="349"/>
                </a:moveTo>
                <a:lnTo>
                  <a:pt x="0" y="349"/>
                </a:lnTo>
                <a:cubicBezTo>
                  <a:pt x="113" y="349"/>
                  <a:pt x="224" y="333"/>
                  <a:pt x="322" y="302"/>
                </a:cubicBezTo>
                <a:cubicBezTo>
                  <a:pt x="419" y="272"/>
                  <a:pt x="500" y="228"/>
                  <a:pt x="557" y="174"/>
                </a:cubicBezTo>
                <a:cubicBezTo>
                  <a:pt x="613" y="121"/>
                  <a:pt x="643" y="61"/>
                  <a:pt x="643" y="0"/>
                </a:cubicBez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6432480" y="4118040"/>
            <a:ext cx="231480" cy="140040"/>
          </a:xfrm>
          <a:custGeom>
            <a:avLst/>
            <a:gdLst/>
            <a:ahLst/>
            <a:rect l="0" t="0" r="r" b="b"/>
            <a:pathLst>
              <a:path fill="none" w="643" h="389">
                <a:moveTo>
                  <a:pt x="643" y="0"/>
                </a:moveTo>
                <a:lnTo>
                  <a:pt x="643" y="0"/>
                </a:lnTo>
                <a:cubicBezTo>
                  <a:pt x="530" y="0"/>
                  <a:pt x="419" y="18"/>
                  <a:pt x="321" y="52"/>
                </a:cubicBezTo>
                <a:cubicBezTo>
                  <a:pt x="224" y="86"/>
                  <a:pt x="143" y="135"/>
                  <a:pt x="86" y="195"/>
                </a:cubicBezTo>
                <a:cubicBezTo>
                  <a:pt x="30" y="254"/>
                  <a:pt x="0" y="321"/>
                  <a:pt x="0" y="389"/>
                </a:cubicBez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6663600" y="4118040"/>
            <a:ext cx="231480" cy="140040"/>
          </a:xfrm>
          <a:custGeom>
            <a:avLst/>
            <a:gdLst/>
            <a:ahLst/>
            <a:rect l="0" t="0" r="r" b="b"/>
            <a:pathLst>
              <a:path fill="none" w="643" h="389">
                <a:moveTo>
                  <a:pt x="643" y="389"/>
                </a:moveTo>
                <a:lnTo>
                  <a:pt x="643" y="389"/>
                </a:lnTo>
                <a:lnTo>
                  <a:pt x="643" y="389"/>
                </a:lnTo>
                <a:cubicBezTo>
                  <a:pt x="643" y="321"/>
                  <a:pt x="613" y="254"/>
                  <a:pt x="557" y="194"/>
                </a:cubicBezTo>
                <a:cubicBezTo>
                  <a:pt x="500" y="135"/>
                  <a:pt x="419" y="86"/>
                  <a:pt x="321" y="52"/>
                </a:cubicBezTo>
                <a:cubicBezTo>
                  <a:pt x="224" y="18"/>
                  <a:pt x="113" y="0"/>
                  <a:pt x="0" y="0"/>
                </a:cubicBez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432480" y="3168000"/>
            <a:ext cx="231480" cy="139320"/>
          </a:xfrm>
          <a:custGeom>
            <a:avLst/>
            <a:gdLst/>
            <a:ahLst/>
            <a:rect l="0" t="0" r="r" b="b"/>
            <a:pathLst>
              <a:path fill="none" w="643" h="387">
                <a:moveTo>
                  <a:pt x="0" y="0"/>
                </a:moveTo>
                <a:lnTo>
                  <a:pt x="0" y="0"/>
                </a:lnTo>
                <a:cubicBezTo>
                  <a:pt x="0" y="68"/>
                  <a:pt x="30" y="135"/>
                  <a:pt x="86" y="194"/>
                </a:cubicBezTo>
                <a:cubicBezTo>
                  <a:pt x="143" y="252"/>
                  <a:pt x="224" y="301"/>
                  <a:pt x="322" y="335"/>
                </a:cubicBezTo>
                <a:cubicBezTo>
                  <a:pt x="419" y="369"/>
                  <a:pt x="530" y="387"/>
                  <a:pt x="643" y="387"/>
                </a:cubicBez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6663600" y="3168000"/>
            <a:ext cx="231480" cy="139320"/>
          </a:xfrm>
          <a:custGeom>
            <a:avLst/>
            <a:gdLst/>
            <a:ahLst/>
            <a:rect l="0" t="0" r="r" b="b"/>
            <a:pathLst>
              <a:path fill="none" w="643" h="387">
                <a:moveTo>
                  <a:pt x="0" y="387"/>
                </a:moveTo>
                <a:lnTo>
                  <a:pt x="0" y="387"/>
                </a:lnTo>
                <a:cubicBezTo>
                  <a:pt x="113" y="387"/>
                  <a:pt x="224" y="369"/>
                  <a:pt x="322" y="335"/>
                </a:cubicBezTo>
                <a:cubicBezTo>
                  <a:pt x="419" y="301"/>
                  <a:pt x="500" y="252"/>
                  <a:pt x="557" y="193"/>
                </a:cubicBezTo>
                <a:cubicBezTo>
                  <a:pt x="613" y="135"/>
                  <a:pt x="643" y="68"/>
                  <a:pt x="643" y="0"/>
                </a:cubicBez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 flipH="1">
            <a:off x="5684760" y="4173480"/>
            <a:ext cx="1440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6" name=""/>
          <p:cNvGrpSpPr/>
          <p:nvPr/>
        </p:nvGrpSpPr>
        <p:grpSpPr>
          <a:xfrm>
            <a:off x="5427720" y="3643200"/>
            <a:ext cx="257400" cy="84600"/>
            <a:chOff x="5427720" y="3643200"/>
            <a:chExt cx="257400" cy="84600"/>
          </a:xfrm>
        </p:grpSpPr>
        <p:sp>
          <p:nvSpPr>
            <p:cNvPr id="2747" name=""/>
            <p:cNvSpPr/>
            <p:nvPr/>
          </p:nvSpPr>
          <p:spPr>
            <a:xfrm>
              <a:off x="5522760" y="3643200"/>
              <a:ext cx="162360" cy="84600"/>
            </a:xfrm>
            <a:custGeom>
              <a:avLst/>
              <a:gdLst/>
              <a:ahLst/>
              <a:rect l="0" t="0" r="r" b="b"/>
              <a:pathLst>
                <a:path w="451" h="235">
                  <a:moveTo>
                    <a:pt x="451" y="78"/>
                  </a:moveTo>
                  <a:lnTo>
                    <a:pt x="39" y="235"/>
                  </a:lnTo>
                  <a:lnTo>
                    <a:pt x="0" y="120"/>
                  </a:lnTo>
                  <a:lnTo>
                    <a:pt x="0" y="0"/>
                  </a:lnTo>
                  <a:lnTo>
                    <a:pt x="451" y="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427720" y="3686040"/>
              <a:ext cx="9504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9" name=""/>
          <p:cNvSpPr/>
          <p:nvPr/>
        </p:nvSpPr>
        <p:spPr>
          <a:xfrm>
            <a:off x="4613400" y="3992400"/>
            <a:ext cx="6804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 flipV="1">
            <a:off x="4681440" y="3951360"/>
            <a:ext cx="0" cy="2844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4735440" y="3924360"/>
            <a:ext cx="6840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 flipV="1">
            <a:off x="4803840" y="3894120"/>
            <a:ext cx="0" cy="3024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4668840" y="3951360"/>
            <a:ext cx="6660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 flipV="1">
            <a:off x="4735440" y="3924360"/>
            <a:ext cx="0" cy="2700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 flipV="1">
            <a:off x="4807080" y="3854520"/>
            <a:ext cx="91800" cy="3960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6" name=""/>
          <p:cNvGrpSpPr/>
          <p:nvPr/>
        </p:nvGrpSpPr>
        <p:grpSpPr>
          <a:xfrm>
            <a:off x="4925880" y="3713040"/>
            <a:ext cx="149760" cy="125640"/>
            <a:chOff x="4925880" y="3713040"/>
            <a:chExt cx="149760" cy="125640"/>
          </a:xfrm>
        </p:grpSpPr>
        <p:sp>
          <p:nvSpPr>
            <p:cNvPr id="2757" name=""/>
            <p:cNvSpPr/>
            <p:nvPr/>
          </p:nvSpPr>
          <p:spPr>
            <a:xfrm>
              <a:off x="4925880" y="3713040"/>
              <a:ext cx="149760" cy="125640"/>
            </a:xfrm>
            <a:custGeom>
              <a:avLst/>
              <a:gdLst/>
              <a:ahLst/>
              <a:rect l="0" t="0" r="r" b="b"/>
              <a:pathLst>
                <a:path w="416" h="349">
                  <a:moveTo>
                    <a:pt x="416" y="0"/>
                  </a:moveTo>
                  <a:lnTo>
                    <a:pt x="110" y="349"/>
                  </a:lnTo>
                  <a:lnTo>
                    <a:pt x="74" y="234"/>
                  </a:lnTo>
                  <a:lnTo>
                    <a:pt x="0" y="155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938840" y="3797280"/>
              <a:ext cx="1404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9" name=""/>
          <p:cNvSpPr/>
          <p:nvPr/>
        </p:nvSpPr>
        <p:spPr>
          <a:xfrm>
            <a:off x="3784680" y="1351080"/>
            <a:ext cx="244800" cy="229680"/>
          </a:xfrm>
          <a:custGeom>
            <a:avLst/>
            <a:gdLst/>
            <a:ahLst/>
            <a:rect l="0" t="0" r="r" b="b"/>
            <a:pathLst>
              <a:path fill="none" w="680" h="638">
                <a:moveTo>
                  <a:pt x="680" y="0"/>
                </a:moveTo>
                <a:lnTo>
                  <a:pt x="680" y="0"/>
                </a:lnTo>
                <a:lnTo>
                  <a:pt x="680" y="0"/>
                </a:lnTo>
                <a:cubicBezTo>
                  <a:pt x="561" y="0"/>
                  <a:pt x="443" y="30"/>
                  <a:pt x="340" y="86"/>
                </a:cubicBezTo>
                <a:cubicBezTo>
                  <a:pt x="237" y="143"/>
                  <a:pt x="151" y="224"/>
                  <a:pt x="91" y="322"/>
                </a:cubicBezTo>
                <a:cubicBezTo>
                  <a:pt x="32" y="418"/>
                  <a:pt x="1" y="527"/>
                  <a:pt x="0" y="638"/>
                </a:cubicBez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4029120" y="1351080"/>
            <a:ext cx="244800" cy="229680"/>
          </a:xfrm>
          <a:custGeom>
            <a:avLst/>
            <a:gdLst/>
            <a:ahLst/>
            <a:rect l="0" t="0" r="r" b="b"/>
            <a:pathLst>
              <a:path fill="none" w="680" h="638">
                <a:moveTo>
                  <a:pt x="680" y="638"/>
                </a:moveTo>
                <a:lnTo>
                  <a:pt x="680" y="638"/>
                </a:lnTo>
                <a:cubicBezTo>
                  <a:pt x="679" y="527"/>
                  <a:pt x="648" y="418"/>
                  <a:pt x="589" y="322"/>
                </a:cubicBezTo>
                <a:cubicBezTo>
                  <a:pt x="529" y="224"/>
                  <a:pt x="443" y="143"/>
                  <a:pt x="340" y="86"/>
                </a:cubicBezTo>
                <a:cubicBezTo>
                  <a:pt x="237" y="30"/>
                  <a:pt x="119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3784680" y="1603440"/>
            <a:ext cx="47628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 flipH="1">
            <a:off x="2562120" y="1198440"/>
            <a:ext cx="153504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4110120" y="668160"/>
            <a:ext cx="217800" cy="270720"/>
          </a:xfrm>
          <a:custGeom>
            <a:avLst/>
            <a:gdLst/>
            <a:ahLst/>
            <a:rect l="0" t="0" r="r" b="b"/>
            <a:pathLst>
              <a:path fill="none" w="605" h="752">
                <a:moveTo>
                  <a:pt x="605" y="752"/>
                </a:moveTo>
                <a:lnTo>
                  <a:pt x="605" y="752"/>
                </a:lnTo>
                <a:cubicBezTo>
                  <a:pt x="604" y="621"/>
                  <a:pt x="576" y="492"/>
                  <a:pt x="524" y="379"/>
                </a:cubicBezTo>
                <a:cubicBezTo>
                  <a:pt x="471" y="263"/>
                  <a:pt x="394" y="168"/>
                  <a:pt x="303" y="101"/>
                </a:cubicBezTo>
                <a:cubicBezTo>
                  <a:pt x="211" y="35"/>
                  <a:pt x="106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4110120" y="938880"/>
            <a:ext cx="217800" cy="274320"/>
          </a:xfrm>
          <a:custGeom>
            <a:avLst/>
            <a:gdLst/>
            <a:ahLst/>
            <a:rect l="0" t="0" r="r" b="b"/>
            <a:pathLst>
              <a:path fill="none" w="605" h="762">
                <a:moveTo>
                  <a:pt x="0" y="762"/>
                </a:moveTo>
                <a:lnTo>
                  <a:pt x="0" y="762"/>
                </a:lnTo>
                <a:lnTo>
                  <a:pt x="0" y="762"/>
                </a:lnTo>
                <a:cubicBezTo>
                  <a:pt x="106" y="762"/>
                  <a:pt x="211" y="727"/>
                  <a:pt x="303" y="661"/>
                </a:cubicBezTo>
                <a:cubicBezTo>
                  <a:pt x="394" y="594"/>
                  <a:pt x="471" y="499"/>
                  <a:pt x="524" y="384"/>
                </a:cubicBezTo>
                <a:cubicBezTo>
                  <a:pt x="577" y="268"/>
                  <a:pt x="605" y="138"/>
                  <a:pt x="605" y="5"/>
                </a:cubicBezTo>
                <a:cubicBezTo>
                  <a:pt x="605" y="3"/>
                  <a:pt x="605" y="2"/>
                  <a:pt x="605" y="0"/>
                </a:cubicBez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2400480" y="938880"/>
            <a:ext cx="210240" cy="274320"/>
          </a:xfrm>
          <a:custGeom>
            <a:avLst/>
            <a:gdLst/>
            <a:ahLst/>
            <a:rect l="0" t="0" r="r" b="b"/>
            <a:pathLst>
              <a:path fill="none" w="584" h="762">
                <a:moveTo>
                  <a:pt x="0" y="0"/>
                </a:moveTo>
                <a:lnTo>
                  <a:pt x="0" y="0"/>
                </a:lnTo>
                <a:cubicBezTo>
                  <a:pt x="0" y="2"/>
                  <a:pt x="0" y="3"/>
                  <a:pt x="0" y="5"/>
                </a:cubicBezTo>
                <a:cubicBezTo>
                  <a:pt x="0" y="138"/>
                  <a:pt x="27" y="268"/>
                  <a:pt x="79" y="384"/>
                </a:cubicBezTo>
                <a:cubicBezTo>
                  <a:pt x="130" y="499"/>
                  <a:pt x="205" y="594"/>
                  <a:pt x="294" y="661"/>
                </a:cubicBezTo>
                <a:cubicBezTo>
                  <a:pt x="382" y="726"/>
                  <a:pt x="482" y="761"/>
                  <a:pt x="584" y="762"/>
                </a:cubicBez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2617920" y="668160"/>
            <a:ext cx="149364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2427120" y="792000"/>
            <a:ext cx="1779840" cy="98640"/>
          </a:xfrm>
          <a:custGeom>
            <a:avLst/>
            <a:gdLst/>
            <a:ahLst/>
            <a:rect l="0" t="0" r="r" b="b"/>
            <a:pathLst>
              <a:path fill="none" w="4944" h="274">
                <a:moveTo>
                  <a:pt x="0" y="118"/>
                </a:moveTo>
                <a:lnTo>
                  <a:pt x="190" y="77"/>
                </a:lnTo>
                <a:lnTo>
                  <a:pt x="415" y="41"/>
                </a:lnTo>
                <a:lnTo>
                  <a:pt x="681" y="0"/>
                </a:lnTo>
                <a:lnTo>
                  <a:pt x="906" y="77"/>
                </a:lnTo>
                <a:lnTo>
                  <a:pt x="1171" y="118"/>
                </a:lnTo>
                <a:lnTo>
                  <a:pt x="1322" y="197"/>
                </a:lnTo>
                <a:lnTo>
                  <a:pt x="1547" y="118"/>
                </a:lnTo>
                <a:lnTo>
                  <a:pt x="1813" y="118"/>
                </a:lnTo>
                <a:lnTo>
                  <a:pt x="2038" y="118"/>
                </a:lnTo>
                <a:lnTo>
                  <a:pt x="2298" y="77"/>
                </a:lnTo>
                <a:lnTo>
                  <a:pt x="2605" y="118"/>
                </a:lnTo>
                <a:lnTo>
                  <a:pt x="2790" y="118"/>
                </a:lnTo>
                <a:lnTo>
                  <a:pt x="2865" y="233"/>
                </a:lnTo>
                <a:lnTo>
                  <a:pt x="3096" y="274"/>
                </a:lnTo>
                <a:lnTo>
                  <a:pt x="3281" y="233"/>
                </a:lnTo>
                <a:lnTo>
                  <a:pt x="3546" y="197"/>
                </a:lnTo>
                <a:lnTo>
                  <a:pt x="3737" y="118"/>
                </a:lnTo>
                <a:lnTo>
                  <a:pt x="4037" y="118"/>
                </a:lnTo>
                <a:lnTo>
                  <a:pt x="4228" y="118"/>
                </a:lnTo>
                <a:lnTo>
                  <a:pt x="4528" y="118"/>
                </a:lnTo>
                <a:lnTo>
                  <a:pt x="4829" y="118"/>
                </a:lnTo>
                <a:lnTo>
                  <a:pt x="4869" y="233"/>
                </a:lnTo>
                <a:lnTo>
                  <a:pt x="4944" y="274"/>
                </a:lnTo>
                <a:lnTo>
                  <a:pt x="4904" y="274"/>
                </a:ln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47520" bIns="47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8" name=""/>
          <p:cNvGrpSpPr/>
          <p:nvPr/>
        </p:nvGrpSpPr>
        <p:grpSpPr>
          <a:xfrm>
            <a:off x="6594480" y="2735280"/>
            <a:ext cx="82800" cy="279720"/>
            <a:chOff x="6594480" y="2735280"/>
            <a:chExt cx="82800" cy="279720"/>
          </a:xfrm>
        </p:grpSpPr>
        <p:sp>
          <p:nvSpPr>
            <p:cNvPr id="2769" name=""/>
            <p:cNvSpPr/>
            <p:nvPr/>
          </p:nvSpPr>
          <p:spPr>
            <a:xfrm>
              <a:off x="6594480" y="2846520"/>
              <a:ext cx="82800" cy="168480"/>
            </a:xfrm>
            <a:custGeom>
              <a:avLst/>
              <a:gdLst/>
              <a:ahLst/>
              <a:rect l="0" t="0" r="r" b="b"/>
              <a:pathLst>
                <a:path w="230" h="468">
                  <a:moveTo>
                    <a:pt x="118" y="468"/>
                  </a:moveTo>
                  <a:lnTo>
                    <a:pt x="0" y="0"/>
                  </a:lnTo>
                  <a:lnTo>
                    <a:pt x="118" y="0"/>
                  </a:lnTo>
                  <a:lnTo>
                    <a:pt x="230" y="0"/>
                  </a:lnTo>
                  <a:lnTo>
                    <a:pt x="118" y="46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637320" y="2735280"/>
              <a:ext cx="0" cy="11124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1" name=""/>
          <p:cNvSpPr/>
          <p:nvPr/>
        </p:nvSpPr>
        <p:spPr>
          <a:xfrm>
            <a:off x="4014720" y="1212840"/>
            <a:ext cx="0" cy="15408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087880" y="3211560"/>
            <a:ext cx="0" cy="34776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3" name=""/>
          <p:cNvGrpSpPr/>
          <p:nvPr/>
        </p:nvGrpSpPr>
        <p:grpSpPr>
          <a:xfrm>
            <a:off x="5875200" y="4383000"/>
            <a:ext cx="81360" cy="281160"/>
            <a:chOff x="5875200" y="4383000"/>
            <a:chExt cx="81360" cy="281160"/>
          </a:xfrm>
        </p:grpSpPr>
        <p:sp>
          <p:nvSpPr>
            <p:cNvPr id="2774" name=""/>
            <p:cNvSpPr/>
            <p:nvPr/>
          </p:nvSpPr>
          <p:spPr>
            <a:xfrm>
              <a:off x="5875200" y="4383000"/>
              <a:ext cx="81360" cy="168480"/>
            </a:xfrm>
            <a:custGeom>
              <a:avLst/>
              <a:gdLst/>
              <a:ahLst/>
              <a:rect l="0" t="0" r="r" b="b"/>
              <a:pathLst>
                <a:path w="226" h="468">
                  <a:moveTo>
                    <a:pt x="110" y="0"/>
                  </a:moveTo>
                  <a:lnTo>
                    <a:pt x="226" y="468"/>
                  </a:lnTo>
                  <a:lnTo>
                    <a:pt x="110" y="468"/>
                  </a:lnTo>
                  <a:lnTo>
                    <a:pt x="0" y="46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915160" y="4551480"/>
              <a:ext cx="12600" cy="11268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6" name=""/>
          <p:cNvSpPr txBox="1"/>
          <p:nvPr/>
        </p:nvSpPr>
        <p:spPr>
          <a:xfrm>
            <a:off x="5773680" y="347184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 txBox="1"/>
          <p:nvPr/>
        </p:nvSpPr>
        <p:spPr>
          <a:xfrm>
            <a:off x="6459480" y="347184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 txBox="1"/>
          <p:nvPr/>
        </p:nvSpPr>
        <p:spPr>
          <a:xfrm>
            <a:off x="884160" y="5532480"/>
            <a:ext cx="7639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The Inverted Column Product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 txBox="1"/>
          <p:nvPr/>
        </p:nvSpPr>
        <p:spPr>
          <a:xfrm>
            <a:off x="5927760" y="1432080"/>
            <a:ext cx="23018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mp-1 11.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mp-2 88.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mp-3 N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4327560" y="4389480"/>
            <a:ext cx="1843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 txBox="1"/>
          <p:nvPr/>
        </p:nvSpPr>
        <p:spPr>
          <a:xfrm>
            <a:off x="3154320" y="4465800"/>
            <a:ext cx="2301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-2 2.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-3 97.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 txBox="1"/>
          <p:nvPr/>
        </p:nvSpPr>
        <p:spPr>
          <a:xfrm>
            <a:off x="258840" y="1052640"/>
            <a:ext cx="230184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mp-1 24.4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mp-2 26.8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mp-3 48.8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3" name="" descr=""/>
          <p:cNvPicPr/>
          <p:nvPr/>
        </p:nvPicPr>
        <p:blipFill>
          <a:blip r:embed="rId1"/>
          <a:stretch/>
        </p:blipFill>
        <p:spPr>
          <a:xfrm>
            <a:off x="0" y="131760"/>
            <a:ext cx="9142560" cy="6580080"/>
          </a:xfrm>
          <a:prstGeom prst="rect">
            <a:avLst/>
          </a:prstGeom>
          <a:ln w="0">
            <a:noFill/>
          </a:ln>
        </p:spPr>
      </p:pic>
      <p:sp>
        <p:nvSpPr>
          <p:cNvPr id="2784" name=""/>
          <p:cNvSpPr txBox="1"/>
          <p:nvPr/>
        </p:nvSpPr>
        <p:spPr>
          <a:xfrm>
            <a:off x="2803680" y="2484360"/>
            <a:ext cx="531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 txBox="1"/>
          <p:nvPr/>
        </p:nvSpPr>
        <p:spPr>
          <a:xfrm>
            <a:off x="6842160" y="2332080"/>
            <a:ext cx="531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 txBox="1"/>
          <p:nvPr/>
        </p:nvSpPr>
        <p:spPr>
          <a:xfrm>
            <a:off x="1889280" y="2193840"/>
            <a:ext cx="1490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>
              <a:lnSpc>
                <a:spcPct val="100000"/>
              </a:lnSpc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N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 txBox="1"/>
          <p:nvPr/>
        </p:nvSpPr>
        <p:spPr>
          <a:xfrm>
            <a:off x="6264360" y="2209680"/>
            <a:ext cx="1033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N =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tch Process Design &amp;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 Re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Batch Disti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 Crystal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ying &amp; Fil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omatographic S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dimentation &amp; Thicke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eric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ation &amp; Optim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&amp;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ility &amp; Uncertaint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"/>
          <p:cNvSpPr txBox="1"/>
          <p:nvPr/>
        </p:nvSpPr>
        <p:spPr>
          <a:xfrm>
            <a:off x="1419120" y="960480"/>
            <a:ext cx="63277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dustrial Case Study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ea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 txBox="1"/>
          <p:nvPr/>
        </p:nvSpPr>
        <p:spPr>
          <a:xfrm>
            <a:off x="457200" y="2689200"/>
            <a:ext cx="845820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50000"/>
              </a:lnSpc>
              <a:spcAft>
                <a:spcPts val="1199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ventional column with nearly infinite plates (N=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high reflux ratio (R &gt;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50000"/>
              </a:lnSpc>
              <a:spcAft>
                <a:spcPts val="1199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ipper with reasonable number of plates (N &lt;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50000"/>
              </a:lnSpc>
              <a:spcAft>
                <a:spcPts val="1199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ious middle vessel configu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"/>
          <p:cNvSpPr txBox="1"/>
          <p:nvPr/>
        </p:nvSpPr>
        <p:spPr>
          <a:xfrm>
            <a:off x="158760" y="225360"/>
            <a:ext cx="857556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atch Distillation Column Softwar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 txBox="1"/>
          <p:nvPr/>
        </p:nvSpPr>
        <p:spPr>
          <a:xfrm>
            <a:off x="719280" y="760320"/>
            <a:ext cx="3478320" cy="57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Windows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ata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eration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stant Re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ariable Re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ixed Eqn. Opt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al Re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hort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mirigor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duced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igor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ign Fea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active Disti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 phase Disti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Uncertainty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figu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mi-b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ycle waste 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trip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ddle Ves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 txBox="1"/>
          <p:nvPr/>
        </p:nvSpPr>
        <p:spPr>
          <a:xfrm>
            <a:off x="3771720" y="760320"/>
            <a:ext cx="510696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User friendly state of the art input/output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bility to generate data from structural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Yield improvement due to operational flexibility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ystematic optimization/optimal control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Hierarchy of models for numerical stability, design feasibility, and advanced system desig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dvanced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merging designs provide promising directions for cost effective designs to obtain purer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482616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482616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645624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645624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645624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717876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4826160" y="129060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6456240" y="128736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7470720" y="128736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3201840" y="1622520"/>
            <a:ext cx="2109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3201840" y="1792440"/>
            <a:ext cx="2109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482616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482616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645624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645624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645624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717876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 txBox="1"/>
          <p:nvPr/>
        </p:nvSpPr>
        <p:spPr>
          <a:xfrm>
            <a:off x="334800" y="1216080"/>
            <a:ext cx="411336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isual High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ser-friendly graphical input interface based on Windows 95 and NT. Also supports keyword input struct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and easy-to-use menus and sub-men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ful, interactive plotting with multiple options for abscissa and ordin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al as well as textual output resul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line help screens and tutori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line monitoring and control of the program exec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3" name="" descr=""/>
          <p:cNvPicPr/>
          <p:nvPr/>
        </p:nvPicPr>
        <p:blipFill>
          <a:blip r:embed="rId1"/>
          <a:stretch/>
        </p:blipFill>
        <p:spPr>
          <a:xfrm>
            <a:off x="4695840" y="2027160"/>
            <a:ext cx="3894120" cy="2919240"/>
          </a:xfrm>
          <a:prstGeom prst="rect">
            <a:avLst/>
          </a:prstGeom>
          <a:ln w="0">
            <a:noFill/>
          </a:ln>
        </p:spPr>
      </p:pic>
      <p:sp>
        <p:nvSpPr>
          <p:cNvPr id="2814" name=""/>
          <p:cNvSpPr/>
          <p:nvPr/>
        </p:nvSpPr>
        <p:spPr>
          <a:xfrm>
            <a:off x="250920" y="331920"/>
            <a:ext cx="8462880" cy="846000"/>
          </a:xfrm>
          <a:prstGeom prst="rect">
            <a:avLst/>
          </a:prstGeom>
          <a:solidFill>
            <a:srgbClr val="cc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426960" y="488880"/>
            <a:ext cx="80802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ultibatchD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: Professional Batch Distillation Systems for multiple column configurations, multiple operating modes, multiple fractions, and multiple products---with multiple levels of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"/>
          <p:cNvSpPr txBox="1"/>
          <p:nvPr/>
        </p:nvSpPr>
        <p:spPr>
          <a:xfrm>
            <a:off x="158760" y="225360"/>
            <a:ext cx="857556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atch Distillation Column Softwar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 txBox="1"/>
          <p:nvPr/>
        </p:nvSpPr>
        <p:spPr>
          <a:xfrm>
            <a:off x="719280" y="760320"/>
            <a:ext cx="3478320" cy="57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indow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Data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eration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stant Re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ariable Re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ixed Eqn. Opt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al Re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hort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mirigor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duced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igor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ign Fea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active Disti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 phase Disti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Uncertainty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figu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mi-b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ycle waste 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trip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ddle Ves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 txBox="1"/>
          <p:nvPr/>
        </p:nvSpPr>
        <p:spPr>
          <a:xfrm>
            <a:off x="3771720" y="760320"/>
            <a:ext cx="510696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User friendly state of the art input/output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Ability to generate data from structural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Yield improvement due to operational flexibility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ystematic optimization/optimal control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Hierarchy of models for numerical stability, design feasibility, and advanced system desig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dvanced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merging designs provide promising directions for cost effective designs to obtain purer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482616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482616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645624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645624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645624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717876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4826160" y="129060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6456240" y="128736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7470720" y="128736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3201840" y="1622520"/>
            <a:ext cx="2109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3201840" y="1792440"/>
            <a:ext cx="2109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482616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82616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645624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645624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645624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717876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6" name="" descr=""/>
          <p:cNvPicPr/>
          <p:nvPr/>
        </p:nvPicPr>
        <p:blipFill>
          <a:blip r:embed="rId1"/>
          <a:stretch/>
        </p:blipFill>
        <p:spPr>
          <a:xfrm>
            <a:off x="1452600" y="338040"/>
            <a:ext cx="7689960" cy="6518160"/>
          </a:xfrm>
          <a:prstGeom prst="rect">
            <a:avLst/>
          </a:prstGeom>
          <a:ln w="0">
            <a:noFill/>
          </a:ln>
        </p:spPr>
      </p:pic>
      <p:sp>
        <p:nvSpPr>
          <p:cNvPr id="2837" name=""/>
          <p:cNvSpPr txBox="1"/>
          <p:nvPr/>
        </p:nvSpPr>
        <p:spPr>
          <a:xfrm>
            <a:off x="-2303640" y="2628720"/>
            <a:ext cx="55879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Molecular De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 txBox="1"/>
          <p:nvPr/>
        </p:nvSpPr>
        <p:spPr>
          <a:xfrm>
            <a:off x="2936880" y="69840"/>
            <a:ext cx="498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imulating distillation with no data? No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"/>
          <p:cNvSpPr txBox="1"/>
          <p:nvPr/>
        </p:nvSpPr>
        <p:spPr>
          <a:xfrm>
            <a:off x="158760" y="225360"/>
            <a:ext cx="857556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atch Distillation Column Softwar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 txBox="1"/>
          <p:nvPr/>
        </p:nvSpPr>
        <p:spPr>
          <a:xfrm>
            <a:off x="719280" y="760320"/>
            <a:ext cx="3478320" cy="57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indow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ata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eration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stant Re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ariable Re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ixed Eqn. Opt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al Re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Short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Semirigor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Reduced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Rigor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ign Fea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active Disti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 phase Disti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Uncertainty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figu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mi-b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ycle waste 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trip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ddle Ves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 txBox="1"/>
          <p:nvPr/>
        </p:nvSpPr>
        <p:spPr>
          <a:xfrm>
            <a:off x="3771720" y="760320"/>
            <a:ext cx="510696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User friendly state of the art input/output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bility to generate data from structural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Yield improvement due to operational flexibility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ystematic optimization/optimal control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Hierarchy of models for numerical stability, design feasibility, and advanced system desig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dvanced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merging designs provide promising directions for cost effective designs to obtain purer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482616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482616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645624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645624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645624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717876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4826160" y="129060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6456240" y="128736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7470720" y="128736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3201840" y="1622520"/>
            <a:ext cx="2109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3201840" y="1792440"/>
            <a:ext cx="2109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482616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482616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645624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645624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645624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717876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Modeling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 txBox="1"/>
          <p:nvPr/>
        </p:nvSpPr>
        <p:spPr>
          <a:xfrm>
            <a:off x="1978200" y="2425680"/>
            <a:ext cx="50655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Unsteady state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"/>
          <p:cNvSpPr/>
          <p:nvPr/>
        </p:nvSpPr>
        <p:spPr>
          <a:xfrm>
            <a:off x="5291280" y="3343320"/>
            <a:ext cx="0" cy="2387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igoro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3427560" y="3063960"/>
            <a:ext cx="685800" cy="2328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4" name=""/>
          <p:cNvGrpSpPr/>
          <p:nvPr/>
        </p:nvGrpSpPr>
        <p:grpSpPr>
          <a:xfrm>
            <a:off x="3427560" y="2787480"/>
            <a:ext cx="686160" cy="274320"/>
            <a:chOff x="3427560" y="2787480"/>
            <a:chExt cx="686160" cy="274320"/>
          </a:xfrm>
        </p:grpSpPr>
        <p:sp>
          <p:nvSpPr>
            <p:cNvPr id="2865" name=""/>
            <p:cNvSpPr/>
            <p:nvPr/>
          </p:nvSpPr>
          <p:spPr>
            <a:xfrm>
              <a:off x="3427560" y="278748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954" y="0"/>
                  </a:moveTo>
                  <a:lnTo>
                    <a:pt x="954" y="0"/>
                  </a:lnTo>
                  <a:cubicBezTo>
                    <a:pt x="787" y="0"/>
                    <a:pt x="622" y="35"/>
                    <a:pt x="477" y="102"/>
                  </a:cubicBezTo>
                  <a:cubicBezTo>
                    <a:pt x="332" y="169"/>
                    <a:pt x="212" y="265"/>
                    <a:pt x="128" y="381"/>
                  </a:cubicBezTo>
                  <a:cubicBezTo>
                    <a:pt x="44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3770280" y="278748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954" y="762"/>
                  </a:moveTo>
                  <a:lnTo>
                    <a:pt x="954" y="762"/>
                  </a:lnTo>
                  <a:lnTo>
                    <a:pt x="954" y="762"/>
                  </a:lnTo>
                  <a:cubicBezTo>
                    <a:pt x="954" y="628"/>
                    <a:pt x="910" y="497"/>
                    <a:pt x="826" y="381"/>
                  </a:cubicBezTo>
                  <a:cubicBezTo>
                    <a:pt x="742" y="265"/>
                    <a:pt x="622" y="169"/>
                    <a:pt x="477" y="102"/>
                  </a:cubicBezTo>
                  <a:cubicBezTo>
                    <a:pt x="332" y="35"/>
                    <a:pt x="167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7" name=""/>
          <p:cNvGrpSpPr/>
          <p:nvPr/>
        </p:nvGrpSpPr>
        <p:grpSpPr>
          <a:xfrm>
            <a:off x="3427560" y="5400000"/>
            <a:ext cx="686160" cy="274320"/>
            <a:chOff x="3427560" y="5400000"/>
            <a:chExt cx="686160" cy="274320"/>
          </a:xfrm>
        </p:grpSpPr>
        <p:sp>
          <p:nvSpPr>
            <p:cNvPr id="2868" name=""/>
            <p:cNvSpPr/>
            <p:nvPr/>
          </p:nvSpPr>
          <p:spPr>
            <a:xfrm>
              <a:off x="3427560" y="5400000"/>
              <a:ext cx="345600" cy="274320"/>
            </a:xfrm>
            <a:custGeom>
              <a:avLst/>
              <a:gdLst/>
              <a:ahLst/>
              <a:rect l="0" t="0" r="r" b="b"/>
              <a:pathLst>
                <a:path fill="none" w="960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44" y="265"/>
                    <a:pt x="129" y="381"/>
                  </a:cubicBezTo>
                  <a:cubicBezTo>
                    <a:pt x="213" y="497"/>
                    <a:pt x="334" y="593"/>
                    <a:pt x="480" y="660"/>
                  </a:cubicBezTo>
                  <a:cubicBezTo>
                    <a:pt x="626" y="727"/>
                    <a:pt x="791" y="762"/>
                    <a:pt x="96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770280" y="540000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0" y="762"/>
                  </a:moveTo>
                  <a:lnTo>
                    <a:pt x="0" y="762"/>
                  </a:lnTo>
                  <a:cubicBezTo>
                    <a:pt x="167" y="762"/>
                    <a:pt x="332" y="727"/>
                    <a:pt x="477" y="660"/>
                  </a:cubicBezTo>
                  <a:cubicBezTo>
                    <a:pt x="622" y="593"/>
                    <a:pt x="742" y="497"/>
                    <a:pt x="826" y="381"/>
                  </a:cubicBezTo>
                  <a:cubicBezTo>
                    <a:pt x="910" y="265"/>
                    <a:pt x="954" y="134"/>
                    <a:pt x="95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0" name=""/>
          <p:cNvSpPr/>
          <p:nvPr/>
        </p:nvSpPr>
        <p:spPr>
          <a:xfrm>
            <a:off x="3084480" y="615456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3084480" y="670248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2" name=""/>
          <p:cNvGrpSpPr/>
          <p:nvPr/>
        </p:nvGrpSpPr>
        <p:grpSpPr>
          <a:xfrm>
            <a:off x="4453920" y="6149880"/>
            <a:ext cx="274320" cy="548280"/>
            <a:chOff x="4453920" y="6149880"/>
            <a:chExt cx="274320" cy="548280"/>
          </a:xfrm>
        </p:grpSpPr>
        <p:sp>
          <p:nvSpPr>
            <p:cNvPr id="2873" name=""/>
            <p:cNvSpPr/>
            <p:nvPr/>
          </p:nvSpPr>
          <p:spPr>
            <a:xfrm>
              <a:off x="4453920" y="614988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762"/>
                  </a:moveTo>
                  <a:lnTo>
                    <a:pt x="762" y="762"/>
                  </a:lnTo>
                  <a:lnTo>
                    <a:pt x="762" y="762"/>
                  </a:lnTo>
                  <a:cubicBezTo>
                    <a:pt x="762" y="628"/>
                    <a:pt x="727" y="497"/>
                    <a:pt x="660" y="381"/>
                  </a:cubicBezTo>
                  <a:cubicBezTo>
                    <a:pt x="593" y="265"/>
                    <a:pt x="497" y="169"/>
                    <a:pt x="381" y="102"/>
                  </a:cubicBezTo>
                  <a:cubicBezTo>
                    <a:pt x="265" y="35"/>
                    <a:pt x="13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453920" y="64238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762"/>
                  </a:moveTo>
                  <a:lnTo>
                    <a:pt x="0" y="762"/>
                  </a:lnTo>
                  <a:cubicBezTo>
                    <a:pt x="134" y="762"/>
                    <a:pt x="265" y="727"/>
                    <a:pt x="381" y="660"/>
                  </a:cubicBezTo>
                  <a:cubicBezTo>
                    <a:pt x="497" y="593"/>
                    <a:pt x="593" y="497"/>
                    <a:pt x="660" y="381"/>
                  </a:cubicBezTo>
                  <a:cubicBezTo>
                    <a:pt x="727" y="265"/>
                    <a:pt x="762" y="134"/>
                    <a:pt x="76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2808360" y="6149880"/>
            <a:ext cx="274320" cy="548280"/>
            <a:chOff x="2808360" y="6149880"/>
            <a:chExt cx="274320" cy="548280"/>
          </a:xfrm>
        </p:grpSpPr>
        <p:sp>
          <p:nvSpPr>
            <p:cNvPr id="2876" name=""/>
            <p:cNvSpPr/>
            <p:nvPr/>
          </p:nvSpPr>
          <p:spPr>
            <a:xfrm>
              <a:off x="2808360" y="64238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35" y="265"/>
                    <a:pt x="102" y="381"/>
                  </a:cubicBezTo>
                  <a:cubicBezTo>
                    <a:pt x="169" y="497"/>
                    <a:pt x="265" y="593"/>
                    <a:pt x="381" y="660"/>
                  </a:cubicBezTo>
                  <a:cubicBezTo>
                    <a:pt x="497" y="727"/>
                    <a:pt x="628" y="762"/>
                    <a:pt x="762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2808360" y="614988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0"/>
                  </a:moveTo>
                  <a:lnTo>
                    <a:pt x="762" y="0"/>
                  </a:lnTo>
                  <a:cubicBezTo>
                    <a:pt x="628" y="0"/>
                    <a:pt x="497" y="35"/>
                    <a:pt x="381" y="102"/>
                  </a:cubicBezTo>
                  <a:cubicBezTo>
                    <a:pt x="265" y="169"/>
                    <a:pt x="169" y="265"/>
                    <a:pt x="102" y="381"/>
                  </a:cubicBezTo>
                  <a:cubicBezTo>
                    <a:pt x="35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8" name=""/>
          <p:cNvSpPr/>
          <p:nvPr/>
        </p:nvSpPr>
        <p:spPr>
          <a:xfrm>
            <a:off x="4780080" y="1968480"/>
            <a:ext cx="94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4775040" y="2521080"/>
            <a:ext cx="943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0" name=""/>
          <p:cNvGrpSpPr/>
          <p:nvPr/>
        </p:nvGrpSpPr>
        <p:grpSpPr>
          <a:xfrm>
            <a:off x="5708520" y="1963800"/>
            <a:ext cx="186120" cy="552600"/>
            <a:chOff x="5708520" y="1963800"/>
            <a:chExt cx="186120" cy="552600"/>
          </a:xfrm>
        </p:grpSpPr>
        <p:sp>
          <p:nvSpPr>
            <p:cNvPr id="2881" name=""/>
            <p:cNvSpPr/>
            <p:nvPr/>
          </p:nvSpPr>
          <p:spPr>
            <a:xfrm>
              <a:off x="5708520" y="196380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517" y="768"/>
                  </a:moveTo>
                  <a:lnTo>
                    <a:pt x="517" y="768"/>
                  </a:lnTo>
                  <a:lnTo>
                    <a:pt x="517" y="768"/>
                  </a:lnTo>
                  <a:cubicBezTo>
                    <a:pt x="517" y="633"/>
                    <a:pt x="493" y="501"/>
                    <a:pt x="448" y="384"/>
                  </a:cubicBezTo>
                  <a:cubicBezTo>
                    <a:pt x="402" y="267"/>
                    <a:pt x="337" y="170"/>
                    <a:pt x="258" y="103"/>
                  </a:cubicBezTo>
                  <a:cubicBezTo>
                    <a:pt x="180" y="35"/>
                    <a:pt x="9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5708520" y="223992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0" y="768"/>
                  </a:moveTo>
                  <a:lnTo>
                    <a:pt x="0" y="768"/>
                  </a:lnTo>
                  <a:cubicBezTo>
                    <a:pt x="91" y="768"/>
                    <a:pt x="180" y="733"/>
                    <a:pt x="259" y="665"/>
                  </a:cubicBezTo>
                  <a:cubicBezTo>
                    <a:pt x="337" y="598"/>
                    <a:pt x="402" y="501"/>
                    <a:pt x="448" y="384"/>
                  </a:cubicBezTo>
                  <a:cubicBezTo>
                    <a:pt x="493" y="267"/>
                    <a:pt x="517" y="135"/>
                    <a:pt x="517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3" name=""/>
          <p:cNvGrpSpPr/>
          <p:nvPr/>
        </p:nvGrpSpPr>
        <p:grpSpPr>
          <a:xfrm>
            <a:off x="4594320" y="1963800"/>
            <a:ext cx="186120" cy="552600"/>
            <a:chOff x="4594320" y="1963800"/>
            <a:chExt cx="186120" cy="552600"/>
          </a:xfrm>
        </p:grpSpPr>
        <p:sp>
          <p:nvSpPr>
            <p:cNvPr id="2884" name=""/>
            <p:cNvSpPr/>
            <p:nvPr/>
          </p:nvSpPr>
          <p:spPr>
            <a:xfrm>
              <a:off x="4594320" y="223992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0" y="0"/>
                  </a:moveTo>
                  <a:lnTo>
                    <a:pt x="0" y="0"/>
                  </a:lnTo>
                  <a:cubicBezTo>
                    <a:pt x="0" y="135"/>
                    <a:pt x="24" y="267"/>
                    <a:pt x="69" y="384"/>
                  </a:cubicBezTo>
                  <a:cubicBezTo>
                    <a:pt x="115" y="501"/>
                    <a:pt x="180" y="598"/>
                    <a:pt x="259" y="665"/>
                  </a:cubicBezTo>
                  <a:cubicBezTo>
                    <a:pt x="337" y="733"/>
                    <a:pt x="426" y="768"/>
                    <a:pt x="517" y="76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594320" y="196380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517" y="0"/>
                  </a:moveTo>
                  <a:lnTo>
                    <a:pt x="517" y="0"/>
                  </a:lnTo>
                  <a:cubicBezTo>
                    <a:pt x="426" y="0"/>
                    <a:pt x="337" y="35"/>
                    <a:pt x="258" y="103"/>
                  </a:cubicBezTo>
                  <a:cubicBezTo>
                    <a:pt x="180" y="170"/>
                    <a:pt x="115" y="267"/>
                    <a:pt x="69" y="384"/>
                  </a:cubicBezTo>
                  <a:cubicBezTo>
                    <a:pt x="24" y="501"/>
                    <a:pt x="0" y="633"/>
                    <a:pt x="0" y="76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6" name=""/>
          <p:cNvSpPr/>
          <p:nvPr/>
        </p:nvSpPr>
        <p:spPr>
          <a:xfrm>
            <a:off x="3770280" y="2239920"/>
            <a:ext cx="662400" cy="547920"/>
          </a:xfrm>
          <a:custGeom>
            <a:avLst/>
            <a:gdLst/>
            <a:ahLst/>
            <a:rect l="0" t="0" r="r" b="b"/>
            <a:pathLst>
              <a:path fill="none" w="1840" h="1522">
                <a:moveTo>
                  <a:pt x="0" y="1522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4422600" y="218772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4270320" y="2516040"/>
            <a:ext cx="1010160" cy="614880"/>
          </a:xfrm>
          <a:custGeom>
            <a:avLst/>
            <a:gdLst/>
            <a:ahLst/>
            <a:rect l="0" t="0" r="r" b="b"/>
            <a:pathLst>
              <a:path fill="none" w="2806" h="1708">
                <a:moveTo>
                  <a:pt x="0" y="1708"/>
                </a:moveTo>
                <a:lnTo>
                  <a:pt x="2806" y="1708"/>
                </a:lnTo>
                <a:lnTo>
                  <a:pt x="2806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4113360" y="307800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0" y="128"/>
                </a:moveTo>
                <a:lnTo>
                  <a:pt x="438" y="252"/>
                </a:lnTo>
                <a:lnTo>
                  <a:pt x="438" y="0"/>
                </a:lnTo>
                <a:lnTo>
                  <a:pt x="0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5280120" y="1692360"/>
            <a:ext cx="662400" cy="271800"/>
          </a:xfrm>
          <a:custGeom>
            <a:avLst/>
            <a:gdLst/>
            <a:ahLst/>
            <a:rect l="0" t="0" r="r" b="b"/>
            <a:pathLst>
              <a:path fill="none" w="1840" h="755">
                <a:moveTo>
                  <a:pt x="0" y="755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5932440" y="163980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770280" y="5668920"/>
            <a:ext cx="0" cy="480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3429000" y="3414600"/>
            <a:ext cx="674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3462480" y="3755880"/>
            <a:ext cx="674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3463920" y="4138560"/>
            <a:ext cx="674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5850000" y="191448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4230720" y="324180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"/>
          <p:cNvSpPr txBox="1"/>
          <p:nvPr/>
        </p:nvSpPr>
        <p:spPr>
          <a:xfrm>
            <a:off x="4441680" y="352584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9" name=""/>
          <p:cNvSpPr txBox="1"/>
          <p:nvPr/>
        </p:nvSpPr>
        <p:spPr>
          <a:xfrm>
            <a:off x="2814480" y="623736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"/>
          <p:cNvSpPr txBox="1"/>
          <p:nvPr/>
        </p:nvSpPr>
        <p:spPr>
          <a:xfrm>
            <a:off x="4681440" y="387036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"/>
          <p:cNvSpPr txBox="1"/>
          <p:nvPr/>
        </p:nvSpPr>
        <p:spPr>
          <a:xfrm>
            <a:off x="4834080" y="410364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"/>
          <p:cNvSpPr txBox="1"/>
          <p:nvPr/>
        </p:nvSpPr>
        <p:spPr>
          <a:xfrm>
            <a:off x="4460760" y="520380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3" name=""/>
          <p:cNvSpPr txBox="1"/>
          <p:nvPr/>
        </p:nvSpPr>
        <p:spPr>
          <a:xfrm>
            <a:off x="190440" y="3125880"/>
            <a:ext cx="320508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uckaba &amp; Danly, 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istefano,1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oston et al., 198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(BATCHFR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iwekar, 19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(Batch-Dist, MultiBatch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/>
          <p:nvPr/>
        </p:nvSpPr>
        <p:spPr>
          <a:xfrm>
            <a:off x="5291280" y="3343320"/>
            <a:ext cx="0" cy="2387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Semi-rigoro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3427560" y="3063960"/>
            <a:ext cx="685800" cy="2328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7" name=""/>
          <p:cNvGrpSpPr/>
          <p:nvPr/>
        </p:nvGrpSpPr>
        <p:grpSpPr>
          <a:xfrm>
            <a:off x="3427560" y="2787480"/>
            <a:ext cx="686160" cy="274320"/>
            <a:chOff x="3427560" y="2787480"/>
            <a:chExt cx="686160" cy="274320"/>
          </a:xfrm>
        </p:grpSpPr>
        <p:sp>
          <p:nvSpPr>
            <p:cNvPr id="2908" name=""/>
            <p:cNvSpPr/>
            <p:nvPr/>
          </p:nvSpPr>
          <p:spPr>
            <a:xfrm>
              <a:off x="3427560" y="278748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954" y="0"/>
                  </a:moveTo>
                  <a:lnTo>
                    <a:pt x="954" y="0"/>
                  </a:lnTo>
                  <a:cubicBezTo>
                    <a:pt x="787" y="0"/>
                    <a:pt x="622" y="35"/>
                    <a:pt x="477" y="102"/>
                  </a:cubicBezTo>
                  <a:cubicBezTo>
                    <a:pt x="332" y="169"/>
                    <a:pt x="212" y="265"/>
                    <a:pt x="128" y="381"/>
                  </a:cubicBezTo>
                  <a:cubicBezTo>
                    <a:pt x="44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770280" y="278748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954" y="762"/>
                  </a:moveTo>
                  <a:lnTo>
                    <a:pt x="954" y="762"/>
                  </a:lnTo>
                  <a:lnTo>
                    <a:pt x="954" y="762"/>
                  </a:lnTo>
                  <a:cubicBezTo>
                    <a:pt x="954" y="628"/>
                    <a:pt x="910" y="497"/>
                    <a:pt x="826" y="381"/>
                  </a:cubicBezTo>
                  <a:cubicBezTo>
                    <a:pt x="742" y="265"/>
                    <a:pt x="622" y="169"/>
                    <a:pt x="477" y="102"/>
                  </a:cubicBezTo>
                  <a:cubicBezTo>
                    <a:pt x="332" y="35"/>
                    <a:pt x="167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0" name=""/>
          <p:cNvGrpSpPr/>
          <p:nvPr/>
        </p:nvGrpSpPr>
        <p:grpSpPr>
          <a:xfrm>
            <a:off x="3427560" y="5400000"/>
            <a:ext cx="686160" cy="274320"/>
            <a:chOff x="3427560" y="5400000"/>
            <a:chExt cx="686160" cy="274320"/>
          </a:xfrm>
        </p:grpSpPr>
        <p:sp>
          <p:nvSpPr>
            <p:cNvPr id="2911" name=""/>
            <p:cNvSpPr/>
            <p:nvPr/>
          </p:nvSpPr>
          <p:spPr>
            <a:xfrm>
              <a:off x="3427560" y="5400000"/>
              <a:ext cx="345600" cy="274320"/>
            </a:xfrm>
            <a:custGeom>
              <a:avLst/>
              <a:gdLst/>
              <a:ahLst/>
              <a:rect l="0" t="0" r="r" b="b"/>
              <a:pathLst>
                <a:path fill="none" w="960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44" y="265"/>
                    <a:pt x="129" y="381"/>
                  </a:cubicBezTo>
                  <a:cubicBezTo>
                    <a:pt x="213" y="497"/>
                    <a:pt x="334" y="593"/>
                    <a:pt x="480" y="660"/>
                  </a:cubicBezTo>
                  <a:cubicBezTo>
                    <a:pt x="626" y="727"/>
                    <a:pt x="791" y="762"/>
                    <a:pt x="96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770280" y="540000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0" y="762"/>
                  </a:moveTo>
                  <a:lnTo>
                    <a:pt x="0" y="762"/>
                  </a:lnTo>
                  <a:cubicBezTo>
                    <a:pt x="167" y="762"/>
                    <a:pt x="332" y="727"/>
                    <a:pt x="477" y="660"/>
                  </a:cubicBezTo>
                  <a:cubicBezTo>
                    <a:pt x="622" y="593"/>
                    <a:pt x="742" y="497"/>
                    <a:pt x="826" y="381"/>
                  </a:cubicBezTo>
                  <a:cubicBezTo>
                    <a:pt x="910" y="265"/>
                    <a:pt x="954" y="134"/>
                    <a:pt x="95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3" name=""/>
          <p:cNvSpPr/>
          <p:nvPr/>
        </p:nvSpPr>
        <p:spPr>
          <a:xfrm>
            <a:off x="3084480" y="615456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3084480" y="670248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5" name=""/>
          <p:cNvGrpSpPr/>
          <p:nvPr/>
        </p:nvGrpSpPr>
        <p:grpSpPr>
          <a:xfrm>
            <a:off x="4453920" y="6149880"/>
            <a:ext cx="274320" cy="548280"/>
            <a:chOff x="4453920" y="6149880"/>
            <a:chExt cx="274320" cy="548280"/>
          </a:xfrm>
        </p:grpSpPr>
        <p:sp>
          <p:nvSpPr>
            <p:cNvPr id="2916" name=""/>
            <p:cNvSpPr/>
            <p:nvPr/>
          </p:nvSpPr>
          <p:spPr>
            <a:xfrm>
              <a:off x="4453920" y="614988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762"/>
                  </a:moveTo>
                  <a:lnTo>
                    <a:pt x="762" y="762"/>
                  </a:lnTo>
                  <a:lnTo>
                    <a:pt x="762" y="762"/>
                  </a:lnTo>
                  <a:cubicBezTo>
                    <a:pt x="762" y="628"/>
                    <a:pt x="727" y="497"/>
                    <a:pt x="660" y="381"/>
                  </a:cubicBezTo>
                  <a:cubicBezTo>
                    <a:pt x="593" y="265"/>
                    <a:pt x="497" y="169"/>
                    <a:pt x="381" y="102"/>
                  </a:cubicBezTo>
                  <a:cubicBezTo>
                    <a:pt x="265" y="35"/>
                    <a:pt x="13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453920" y="64238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762"/>
                  </a:moveTo>
                  <a:lnTo>
                    <a:pt x="0" y="762"/>
                  </a:lnTo>
                  <a:cubicBezTo>
                    <a:pt x="134" y="762"/>
                    <a:pt x="265" y="727"/>
                    <a:pt x="381" y="660"/>
                  </a:cubicBezTo>
                  <a:cubicBezTo>
                    <a:pt x="497" y="593"/>
                    <a:pt x="593" y="497"/>
                    <a:pt x="660" y="381"/>
                  </a:cubicBezTo>
                  <a:cubicBezTo>
                    <a:pt x="727" y="265"/>
                    <a:pt x="762" y="134"/>
                    <a:pt x="76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2808360" y="6149880"/>
            <a:ext cx="274320" cy="548280"/>
            <a:chOff x="2808360" y="6149880"/>
            <a:chExt cx="274320" cy="548280"/>
          </a:xfrm>
        </p:grpSpPr>
        <p:sp>
          <p:nvSpPr>
            <p:cNvPr id="2919" name=""/>
            <p:cNvSpPr/>
            <p:nvPr/>
          </p:nvSpPr>
          <p:spPr>
            <a:xfrm>
              <a:off x="2808360" y="64238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35" y="265"/>
                    <a:pt x="102" y="381"/>
                  </a:cubicBezTo>
                  <a:cubicBezTo>
                    <a:pt x="169" y="497"/>
                    <a:pt x="265" y="593"/>
                    <a:pt x="381" y="660"/>
                  </a:cubicBezTo>
                  <a:cubicBezTo>
                    <a:pt x="497" y="727"/>
                    <a:pt x="628" y="762"/>
                    <a:pt x="762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2808360" y="614988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0"/>
                  </a:moveTo>
                  <a:lnTo>
                    <a:pt x="762" y="0"/>
                  </a:lnTo>
                  <a:cubicBezTo>
                    <a:pt x="628" y="0"/>
                    <a:pt x="497" y="35"/>
                    <a:pt x="381" y="102"/>
                  </a:cubicBezTo>
                  <a:cubicBezTo>
                    <a:pt x="265" y="169"/>
                    <a:pt x="169" y="265"/>
                    <a:pt x="102" y="381"/>
                  </a:cubicBezTo>
                  <a:cubicBezTo>
                    <a:pt x="35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1" name=""/>
          <p:cNvSpPr/>
          <p:nvPr/>
        </p:nvSpPr>
        <p:spPr>
          <a:xfrm>
            <a:off x="4780080" y="1968480"/>
            <a:ext cx="94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4775040" y="2521080"/>
            <a:ext cx="943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3" name=""/>
          <p:cNvGrpSpPr/>
          <p:nvPr/>
        </p:nvGrpSpPr>
        <p:grpSpPr>
          <a:xfrm>
            <a:off x="5708520" y="1963800"/>
            <a:ext cx="186120" cy="552600"/>
            <a:chOff x="5708520" y="1963800"/>
            <a:chExt cx="186120" cy="552600"/>
          </a:xfrm>
        </p:grpSpPr>
        <p:sp>
          <p:nvSpPr>
            <p:cNvPr id="2924" name=""/>
            <p:cNvSpPr/>
            <p:nvPr/>
          </p:nvSpPr>
          <p:spPr>
            <a:xfrm>
              <a:off x="5708520" y="196380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517" y="768"/>
                  </a:moveTo>
                  <a:lnTo>
                    <a:pt x="517" y="768"/>
                  </a:lnTo>
                  <a:lnTo>
                    <a:pt x="517" y="768"/>
                  </a:lnTo>
                  <a:cubicBezTo>
                    <a:pt x="517" y="633"/>
                    <a:pt x="493" y="501"/>
                    <a:pt x="448" y="384"/>
                  </a:cubicBezTo>
                  <a:cubicBezTo>
                    <a:pt x="402" y="267"/>
                    <a:pt x="337" y="170"/>
                    <a:pt x="258" y="103"/>
                  </a:cubicBezTo>
                  <a:cubicBezTo>
                    <a:pt x="180" y="35"/>
                    <a:pt x="9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5708520" y="223992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0" y="768"/>
                  </a:moveTo>
                  <a:lnTo>
                    <a:pt x="0" y="768"/>
                  </a:lnTo>
                  <a:cubicBezTo>
                    <a:pt x="91" y="768"/>
                    <a:pt x="180" y="733"/>
                    <a:pt x="259" y="665"/>
                  </a:cubicBezTo>
                  <a:cubicBezTo>
                    <a:pt x="337" y="598"/>
                    <a:pt x="402" y="501"/>
                    <a:pt x="448" y="384"/>
                  </a:cubicBezTo>
                  <a:cubicBezTo>
                    <a:pt x="493" y="267"/>
                    <a:pt x="517" y="135"/>
                    <a:pt x="517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6" name=""/>
          <p:cNvGrpSpPr/>
          <p:nvPr/>
        </p:nvGrpSpPr>
        <p:grpSpPr>
          <a:xfrm>
            <a:off x="4594320" y="1963800"/>
            <a:ext cx="186120" cy="552600"/>
            <a:chOff x="4594320" y="1963800"/>
            <a:chExt cx="186120" cy="552600"/>
          </a:xfrm>
        </p:grpSpPr>
        <p:sp>
          <p:nvSpPr>
            <p:cNvPr id="2927" name=""/>
            <p:cNvSpPr/>
            <p:nvPr/>
          </p:nvSpPr>
          <p:spPr>
            <a:xfrm>
              <a:off x="4594320" y="223992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0" y="0"/>
                  </a:moveTo>
                  <a:lnTo>
                    <a:pt x="0" y="0"/>
                  </a:lnTo>
                  <a:cubicBezTo>
                    <a:pt x="0" y="135"/>
                    <a:pt x="24" y="267"/>
                    <a:pt x="69" y="384"/>
                  </a:cubicBezTo>
                  <a:cubicBezTo>
                    <a:pt x="115" y="501"/>
                    <a:pt x="180" y="598"/>
                    <a:pt x="259" y="665"/>
                  </a:cubicBezTo>
                  <a:cubicBezTo>
                    <a:pt x="337" y="733"/>
                    <a:pt x="426" y="768"/>
                    <a:pt x="517" y="76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594320" y="196380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517" y="0"/>
                  </a:moveTo>
                  <a:lnTo>
                    <a:pt x="517" y="0"/>
                  </a:lnTo>
                  <a:cubicBezTo>
                    <a:pt x="426" y="0"/>
                    <a:pt x="337" y="35"/>
                    <a:pt x="258" y="103"/>
                  </a:cubicBezTo>
                  <a:cubicBezTo>
                    <a:pt x="180" y="170"/>
                    <a:pt x="115" y="267"/>
                    <a:pt x="69" y="384"/>
                  </a:cubicBezTo>
                  <a:cubicBezTo>
                    <a:pt x="24" y="501"/>
                    <a:pt x="0" y="633"/>
                    <a:pt x="0" y="76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9" name=""/>
          <p:cNvSpPr/>
          <p:nvPr/>
        </p:nvSpPr>
        <p:spPr>
          <a:xfrm>
            <a:off x="3770280" y="2239920"/>
            <a:ext cx="662400" cy="547920"/>
          </a:xfrm>
          <a:custGeom>
            <a:avLst/>
            <a:gdLst/>
            <a:ahLst/>
            <a:rect l="0" t="0" r="r" b="b"/>
            <a:pathLst>
              <a:path fill="none" w="1840" h="1522">
                <a:moveTo>
                  <a:pt x="0" y="1522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4422600" y="218772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4270320" y="2516040"/>
            <a:ext cx="1010160" cy="614880"/>
          </a:xfrm>
          <a:custGeom>
            <a:avLst/>
            <a:gdLst/>
            <a:ahLst/>
            <a:rect l="0" t="0" r="r" b="b"/>
            <a:pathLst>
              <a:path fill="none" w="2806" h="1708">
                <a:moveTo>
                  <a:pt x="0" y="1708"/>
                </a:moveTo>
                <a:lnTo>
                  <a:pt x="2806" y="1708"/>
                </a:lnTo>
                <a:lnTo>
                  <a:pt x="2806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4113360" y="307800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0" y="128"/>
                </a:moveTo>
                <a:lnTo>
                  <a:pt x="438" y="252"/>
                </a:lnTo>
                <a:lnTo>
                  <a:pt x="438" y="0"/>
                </a:lnTo>
                <a:lnTo>
                  <a:pt x="0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280120" y="1692360"/>
            <a:ext cx="662400" cy="271800"/>
          </a:xfrm>
          <a:custGeom>
            <a:avLst/>
            <a:gdLst/>
            <a:ahLst/>
            <a:rect l="0" t="0" r="r" b="b"/>
            <a:pathLst>
              <a:path fill="none" w="1840" h="755">
                <a:moveTo>
                  <a:pt x="0" y="755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5932440" y="163980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3770280" y="5668920"/>
            <a:ext cx="0" cy="480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3429000" y="3414600"/>
            <a:ext cx="674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3462480" y="3755880"/>
            <a:ext cx="674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3463920" y="4138560"/>
            <a:ext cx="674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 txBox="1"/>
          <p:nvPr/>
        </p:nvSpPr>
        <p:spPr>
          <a:xfrm>
            <a:off x="5850000" y="1914480"/>
            <a:ext cx="1666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B, EB, 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 txBox="1"/>
          <p:nvPr/>
        </p:nvSpPr>
        <p:spPr>
          <a:xfrm>
            <a:off x="4230720" y="3241800"/>
            <a:ext cx="166680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B, 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"/>
          <p:cNvSpPr txBox="1"/>
          <p:nvPr/>
        </p:nvSpPr>
        <p:spPr>
          <a:xfrm>
            <a:off x="4441680" y="3525840"/>
            <a:ext cx="166680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B, 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"/>
          <p:cNvSpPr txBox="1"/>
          <p:nvPr/>
        </p:nvSpPr>
        <p:spPr>
          <a:xfrm>
            <a:off x="2814480" y="623736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"/>
          <p:cNvSpPr txBox="1"/>
          <p:nvPr/>
        </p:nvSpPr>
        <p:spPr>
          <a:xfrm>
            <a:off x="4681440" y="3870360"/>
            <a:ext cx="166680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B, 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"/>
          <p:cNvSpPr txBox="1"/>
          <p:nvPr/>
        </p:nvSpPr>
        <p:spPr>
          <a:xfrm>
            <a:off x="4834080" y="410364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B, 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"/>
          <p:cNvSpPr txBox="1"/>
          <p:nvPr/>
        </p:nvSpPr>
        <p:spPr>
          <a:xfrm>
            <a:off x="4460760" y="5203800"/>
            <a:ext cx="166680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B, 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"/>
          <p:cNvSpPr txBox="1"/>
          <p:nvPr/>
        </p:nvSpPr>
        <p:spPr>
          <a:xfrm>
            <a:off x="843120" y="3125880"/>
            <a:ext cx="1892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iwekar,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(MultiBatch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Shortcu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3427560" y="3063960"/>
            <a:ext cx="685800" cy="2328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9" name=""/>
          <p:cNvGrpSpPr/>
          <p:nvPr/>
        </p:nvGrpSpPr>
        <p:grpSpPr>
          <a:xfrm>
            <a:off x="3427560" y="2787480"/>
            <a:ext cx="686160" cy="274320"/>
            <a:chOff x="3427560" y="2787480"/>
            <a:chExt cx="686160" cy="274320"/>
          </a:xfrm>
        </p:grpSpPr>
        <p:sp>
          <p:nvSpPr>
            <p:cNvPr id="2950" name=""/>
            <p:cNvSpPr/>
            <p:nvPr/>
          </p:nvSpPr>
          <p:spPr>
            <a:xfrm>
              <a:off x="3427560" y="278748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954" y="0"/>
                  </a:moveTo>
                  <a:lnTo>
                    <a:pt x="954" y="0"/>
                  </a:lnTo>
                  <a:cubicBezTo>
                    <a:pt x="787" y="0"/>
                    <a:pt x="622" y="35"/>
                    <a:pt x="477" y="102"/>
                  </a:cubicBezTo>
                  <a:cubicBezTo>
                    <a:pt x="332" y="169"/>
                    <a:pt x="212" y="265"/>
                    <a:pt x="128" y="381"/>
                  </a:cubicBezTo>
                  <a:cubicBezTo>
                    <a:pt x="44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770280" y="278748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954" y="762"/>
                  </a:moveTo>
                  <a:lnTo>
                    <a:pt x="954" y="762"/>
                  </a:lnTo>
                  <a:lnTo>
                    <a:pt x="954" y="762"/>
                  </a:lnTo>
                  <a:cubicBezTo>
                    <a:pt x="954" y="628"/>
                    <a:pt x="910" y="497"/>
                    <a:pt x="826" y="381"/>
                  </a:cubicBezTo>
                  <a:cubicBezTo>
                    <a:pt x="742" y="265"/>
                    <a:pt x="622" y="169"/>
                    <a:pt x="477" y="102"/>
                  </a:cubicBezTo>
                  <a:cubicBezTo>
                    <a:pt x="332" y="35"/>
                    <a:pt x="167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2" name=""/>
          <p:cNvGrpSpPr/>
          <p:nvPr/>
        </p:nvGrpSpPr>
        <p:grpSpPr>
          <a:xfrm>
            <a:off x="3427560" y="5400000"/>
            <a:ext cx="686160" cy="274320"/>
            <a:chOff x="3427560" y="5400000"/>
            <a:chExt cx="686160" cy="274320"/>
          </a:xfrm>
        </p:grpSpPr>
        <p:sp>
          <p:nvSpPr>
            <p:cNvPr id="2953" name=""/>
            <p:cNvSpPr/>
            <p:nvPr/>
          </p:nvSpPr>
          <p:spPr>
            <a:xfrm>
              <a:off x="3427560" y="5400000"/>
              <a:ext cx="345600" cy="274320"/>
            </a:xfrm>
            <a:custGeom>
              <a:avLst/>
              <a:gdLst/>
              <a:ahLst/>
              <a:rect l="0" t="0" r="r" b="b"/>
              <a:pathLst>
                <a:path fill="none" w="960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44" y="265"/>
                    <a:pt x="129" y="381"/>
                  </a:cubicBezTo>
                  <a:cubicBezTo>
                    <a:pt x="213" y="497"/>
                    <a:pt x="334" y="593"/>
                    <a:pt x="480" y="660"/>
                  </a:cubicBezTo>
                  <a:cubicBezTo>
                    <a:pt x="626" y="727"/>
                    <a:pt x="791" y="762"/>
                    <a:pt x="96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770280" y="540000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0" y="762"/>
                  </a:moveTo>
                  <a:lnTo>
                    <a:pt x="0" y="762"/>
                  </a:lnTo>
                  <a:cubicBezTo>
                    <a:pt x="167" y="762"/>
                    <a:pt x="332" y="727"/>
                    <a:pt x="477" y="660"/>
                  </a:cubicBezTo>
                  <a:cubicBezTo>
                    <a:pt x="622" y="593"/>
                    <a:pt x="742" y="497"/>
                    <a:pt x="826" y="381"/>
                  </a:cubicBezTo>
                  <a:cubicBezTo>
                    <a:pt x="910" y="265"/>
                    <a:pt x="954" y="134"/>
                    <a:pt x="95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5" name=""/>
          <p:cNvSpPr/>
          <p:nvPr/>
        </p:nvSpPr>
        <p:spPr>
          <a:xfrm>
            <a:off x="3084480" y="615456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3084480" y="670248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7" name=""/>
          <p:cNvGrpSpPr/>
          <p:nvPr/>
        </p:nvGrpSpPr>
        <p:grpSpPr>
          <a:xfrm>
            <a:off x="4453920" y="6149880"/>
            <a:ext cx="274320" cy="548280"/>
            <a:chOff x="4453920" y="6149880"/>
            <a:chExt cx="274320" cy="548280"/>
          </a:xfrm>
        </p:grpSpPr>
        <p:sp>
          <p:nvSpPr>
            <p:cNvPr id="2958" name=""/>
            <p:cNvSpPr/>
            <p:nvPr/>
          </p:nvSpPr>
          <p:spPr>
            <a:xfrm>
              <a:off x="4453920" y="614988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762"/>
                  </a:moveTo>
                  <a:lnTo>
                    <a:pt x="762" y="762"/>
                  </a:lnTo>
                  <a:lnTo>
                    <a:pt x="762" y="762"/>
                  </a:lnTo>
                  <a:cubicBezTo>
                    <a:pt x="762" y="628"/>
                    <a:pt x="727" y="497"/>
                    <a:pt x="660" y="381"/>
                  </a:cubicBezTo>
                  <a:cubicBezTo>
                    <a:pt x="593" y="265"/>
                    <a:pt x="497" y="169"/>
                    <a:pt x="381" y="102"/>
                  </a:cubicBezTo>
                  <a:cubicBezTo>
                    <a:pt x="265" y="35"/>
                    <a:pt x="13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453920" y="64238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762"/>
                  </a:moveTo>
                  <a:lnTo>
                    <a:pt x="0" y="762"/>
                  </a:lnTo>
                  <a:cubicBezTo>
                    <a:pt x="134" y="762"/>
                    <a:pt x="265" y="727"/>
                    <a:pt x="381" y="660"/>
                  </a:cubicBezTo>
                  <a:cubicBezTo>
                    <a:pt x="497" y="593"/>
                    <a:pt x="593" y="497"/>
                    <a:pt x="660" y="381"/>
                  </a:cubicBezTo>
                  <a:cubicBezTo>
                    <a:pt x="727" y="265"/>
                    <a:pt x="762" y="134"/>
                    <a:pt x="76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0" name=""/>
          <p:cNvGrpSpPr/>
          <p:nvPr/>
        </p:nvGrpSpPr>
        <p:grpSpPr>
          <a:xfrm>
            <a:off x="2808360" y="6149880"/>
            <a:ext cx="274320" cy="548280"/>
            <a:chOff x="2808360" y="6149880"/>
            <a:chExt cx="274320" cy="548280"/>
          </a:xfrm>
        </p:grpSpPr>
        <p:sp>
          <p:nvSpPr>
            <p:cNvPr id="2961" name=""/>
            <p:cNvSpPr/>
            <p:nvPr/>
          </p:nvSpPr>
          <p:spPr>
            <a:xfrm>
              <a:off x="2808360" y="64238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35" y="265"/>
                    <a:pt x="102" y="381"/>
                  </a:cubicBezTo>
                  <a:cubicBezTo>
                    <a:pt x="169" y="497"/>
                    <a:pt x="265" y="593"/>
                    <a:pt x="381" y="660"/>
                  </a:cubicBezTo>
                  <a:cubicBezTo>
                    <a:pt x="497" y="727"/>
                    <a:pt x="628" y="762"/>
                    <a:pt x="762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2808360" y="614988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0"/>
                  </a:moveTo>
                  <a:lnTo>
                    <a:pt x="762" y="0"/>
                  </a:lnTo>
                  <a:cubicBezTo>
                    <a:pt x="628" y="0"/>
                    <a:pt x="497" y="35"/>
                    <a:pt x="381" y="102"/>
                  </a:cubicBezTo>
                  <a:cubicBezTo>
                    <a:pt x="265" y="169"/>
                    <a:pt x="169" y="265"/>
                    <a:pt x="102" y="381"/>
                  </a:cubicBezTo>
                  <a:cubicBezTo>
                    <a:pt x="35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3" name=""/>
          <p:cNvSpPr/>
          <p:nvPr/>
        </p:nvSpPr>
        <p:spPr>
          <a:xfrm>
            <a:off x="4780080" y="1968480"/>
            <a:ext cx="94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4775040" y="2521080"/>
            <a:ext cx="943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5" name=""/>
          <p:cNvGrpSpPr/>
          <p:nvPr/>
        </p:nvGrpSpPr>
        <p:grpSpPr>
          <a:xfrm>
            <a:off x="5708520" y="1963800"/>
            <a:ext cx="186120" cy="552600"/>
            <a:chOff x="5708520" y="1963800"/>
            <a:chExt cx="186120" cy="552600"/>
          </a:xfrm>
        </p:grpSpPr>
        <p:sp>
          <p:nvSpPr>
            <p:cNvPr id="2966" name=""/>
            <p:cNvSpPr/>
            <p:nvPr/>
          </p:nvSpPr>
          <p:spPr>
            <a:xfrm>
              <a:off x="5708520" y="196380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517" y="768"/>
                  </a:moveTo>
                  <a:lnTo>
                    <a:pt x="517" y="768"/>
                  </a:lnTo>
                  <a:lnTo>
                    <a:pt x="517" y="768"/>
                  </a:lnTo>
                  <a:cubicBezTo>
                    <a:pt x="517" y="633"/>
                    <a:pt x="493" y="501"/>
                    <a:pt x="448" y="384"/>
                  </a:cubicBezTo>
                  <a:cubicBezTo>
                    <a:pt x="402" y="267"/>
                    <a:pt x="337" y="170"/>
                    <a:pt x="258" y="103"/>
                  </a:cubicBezTo>
                  <a:cubicBezTo>
                    <a:pt x="180" y="35"/>
                    <a:pt x="9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5708520" y="223992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0" y="768"/>
                  </a:moveTo>
                  <a:lnTo>
                    <a:pt x="0" y="768"/>
                  </a:lnTo>
                  <a:cubicBezTo>
                    <a:pt x="91" y="768"/>
                    <a:pt x="180" y="733"/>
                    <a:pt x="259" y="665"/>
                  </a:cubicBezTo>
                  <a:cubicBezTo>
                    <a:pt x="337" y="598"/>
                    <a:pt x="402" y="501"/>
                    <a:pt x="448" y="384"/>
                  </a:cubicBezTo>
                  <a:cubicBezTo>
                    <a:pt x="493" y="267"/>
                    <a:pt x="517" y="135"/>
                    <a:pt x="517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8" name=""/>
          <p:cNvGrpSpPr/>
          <p:nvPr/>
        </p:nvGrpSpPr>
        <p:grpSpPr>
          <a:xfrm>
            <a:off x="4594320" y="1963800"/>
            <a:ext cx="186120" cy="552600"/>
            <a:chOff x="4594320" y="1963800"/>
            <a:chExt cx="186120" cy="552600"/>
          </a:xfrm>
        </p:grpSpPr>
        <p:sp>
          <p:nvSpPr>
            <p:cNvPr id="2969" name=""/>
            <p:cNvSpPr/>
            <p:nvPr/>
          </p:nvSpPr>
          <p:spPr>
            <a:xfrm>
              <a:off x="4594320" y="223992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0" y="0"/>
                  </a:moveTo>
                  <a:lnTo>
                    <a:pt x="0" y="0"/>
                  </a:lnTo>
                  <a:cubicBezTo>
                    <a:pt x="0" y="135"/>
                    <a:pt x="24" y="267"/>
                    <a:pt x="69" y="384"/>
                  </a:cubicBezTo>
                  <a:cubicBezTo>
                    <a:pt x="115" y="501"/>
                    <a:pt x="180" y="598"/>
                    <a:pt x="259" y="665"/>
                  </a:cubicBezTo>
                  <a:cubicBezTo>
                    <a:pt x="337" y="733"/>
                    <a:pt x="426" y="768"/>
                    <a:pt x="517" y="76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594320" y="196380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517" y="0"/>
                  </a:moveTo>
                  <a:lnTo>
                    <a:pt x="517" y="0"/>
                  </a:lnTo>
                  <a:cubicBezTo>
                    <a:pt x="426" y="0"/>
                    <a:pt x="337" y="35"/>
                    <a:pt x="258" y="103"/>
                  </a:cubicBezTo>
                  <a:cubicBezTo>
                    <a:pt x="180" y="170"/>
                    <a:pt x="115" y="267"/>
                    <a:pt x="69" y="384"/>
                  </a:cubicBezTo>
                  <a:cubicBezTo>
                    <a:pt x="24" y="501"/>
                    <a:pt x="0" y="633"/>
                    <a:pt x="0" y="76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1" name=""/>
          <p:cNvSpPr/>
          <p:nvPr/>
        </p:nvSpPr>
        <p:spPr>
          <a:xfrm>
            <a:off x="3770280" y="2239920"/>
            <a:ext cx="662400" cy="547920"/>
          </a:xfrm>
          <a:custGeom>
            <a:avLst/>
            <a:gdLst/>
            <a:ahLst/>
            <a:rect l="0" t="0" r="r" b="b"/>
            <a:pathLst>
              <a:path fill="none" w="1840" h="1522">
                <a:moveTo>
                  <a:pt x="0" y="1522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4422600" y="218772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4270320" y="2516040"/>
            <a:ext cx="1010160" cy="614880"/>
          </a:xfrm>
          <a:custGeom>
            <a:avLst/>
            <a:gdLst/>
            <a:ahLst/>
            <a:rect l="0" t="0" r="r" b="b"/>
            <a:pathLst>
              <a:path fill="none" w="2806" h="1708">
                <a:moveTo>
                  <a:pt x="0" y="1708"/>
                </a:moveTo>
                <a:lnTo>
                  <a:pt x="2806" y="1708"/>
                </a:lnTo>
                <a:lnTo>
                  <a:pt x="2806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4113360" y="307800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0" y="128"/>
                </a:moveTo>
                <a:lnTo>
                  <a:pt x="438" y="252"/>
                </a:lnTo>
                <a:lnTo>
                  <a:pt x="438" y="0"/>
                </a:lnTo>
                <a:lnTo>
                  <a:pt x="0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5280120" y="1692360"/>
            <a:ext cx="662400" cy="271800"/>
          </a:xfrm>
          <a:custGeom>
            <a:avLst/>
            <a:gdLst/>
            <a:ahLst/>
            <a:rect l="0" t="0" r="r" b="b"/>
            <a:pathLst>
              <a:path fill="none" w="1840" h="755">
                <a:moveTo>
                  <a:pt x="0" y="755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5932440" y="163980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3770280" y="5668920"/>
            <a:ext cx="0" cy="480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429000" y="3414600"/>
            <a:ext cx="674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3462480" y="3755880"/>
            <a:ext cx="674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3463920" y="4138560"/>
            <a:ext cx="674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 txBox="1"/>
          <p:nvPr/>
        </p:nvSpPr>
        <p:spPr>
          <a:xfrm>
            <a:off x="2814480" y="623736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 flipV="1">
            <a:off x="4776840" y="6373800"/>
            <a:ext cx="689040" cy="1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4191120" y="5421240"/>
            <a:ext cx="1288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5481720" y="5405400"/>
            <a:ext cx="0" cy="9525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 txBox="1"/>
          <p:nvPr/>
        </p:nvSpPr>
        <p:spPr>
          <a:xfrm>
            <a:off x="81000" y="3125880"/>
            <a:ext cx="30351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iwekar, 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iwekar, 1991 Bi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zeotrop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agnanam &amp; Diwek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1993,Ternary Azeotrop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 txBox="1"/>
          <p:nvPr/>
        </p:nvSpPr>
        <p:spPr>
          <a:xfrm>
            <a:off x="4348080" y="3827520"/>
            <a:ext cx="30654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atch distillation can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onsidered as continu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istillation with cha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feed, Diwekar 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89120" y="2484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Batch Distill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7" name=""/>
          <p:cNvGrpSpPr/>
          <p:nvPr/>
        </p:nvGrpSpPr>
        <p:grpSpPr>
          <a:xfrm>
            <a:off x="1490760" y="1973160"/>
            <a:ext cx="687960" cy="2878560"/>
            <a:chOff x="1490760" y="1973160"/>
            <a:chExt cx="687960" cy="2878560"/>
          </a:xfrm>
        </p:grpSpPr>
        <p:sp>
          <p:nvSpPr>
            <p:cNvPr id="2988" name=""/>
            <p:cNvSpPr/>
            <p:nvPr/>
          </p:nvSpPr>
          <p:spPr>
            <a:xfrm>
              <a:off x="1492200" y="2249640"/>
              <a:ext cx="685800" cy="232884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9" name=""/>
            <p:cNvGrpSpPr/>
            <p:nvPr/>
          </p:nvGrpSpPr>
          <p:grpSpPr>
            <a:xfrm>
              <a:off x="1492200" y="1973160"/>
              <a:ext cx="686160" cy="274320"/>
              <a:chOff x="1492200" y="1973160"/>
              <a:chExt cx="686160" cy="274320"/>
            </a:xfrm>
          </p:grpSpPr>
          <p:sp>
            <p:nvSpPr>
              <p:cNvPr id="2990" name=""/>
              <p:cNvSpPr/>
              <p:nvPr/>
            </p:nvSpPr>
            <p:spPr>
              <a:xfrm>
                <a:off x="1492200" y="1973160"/>
                <a:ext cx="345600" cy="274320"/>
              </a:xfrm>
              <a:custGeom>
                <a:avLst/>
                <a:gdLst/>
                <a:ahLst/>
                <a:rect l="0" t="0" r="r" b="b"/>
                <a:pathLst>
                  <a:path fill="none" w="960" h="762">
                    <a:moveTo>
                      <a:pt x="960" y="0"/>
                    </a:moveTo>
                    <a:lnTo>
                      <a:pt x="960" y="0"/>
                    </a:lnTo>
                    <a:cubicBezTo>
                      <a:pt x="791" y="0"/>
                      <a:pt x="626" y="35"/>
                      <a:pt x="480" y="102"/>
                    </a:cubicBezTo>
                    <a:cubicBezTo>
                      <a:pt x="334" y="169"/>
                      <a:pt x="213" y="265"/>
                      <a:pt x="129" y="381"/>
                    </a:cubicBezTo>
                    <a:cubicBezTo>
                      <a:pt x="44" y="497"/>
                      <a:pt x="0" y="628"/>
                      <a:pt x="0" y="762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837440" y="1973160"/>
                <a:ext cx="340920" cy="274320"/>
              </a:xfrm>
              <a:custGeom>
                <a:avLst/>
                <a:gdLst/>
                <a:ahLst/>
                <a:rect l="0" t="0" r="r" b="b"/>
                <a:pathLst>
                  <a:path fill="none" w="947" h="762">
                    <a:moveTo>
                      <a:pt x="947" y="762"/>
                    </a:moveTo>
                    <a:lnTo>
                      <a:pt x="947" y="762"/>
                    </a:lnTo>
                    <a:lnTo>
                      <a:pt x="947" y="762"/>
                    </a:lnTo>
                    <a:cubicBezTo>
                      <a:pt x="947" y="628"/>
                      <a:pt x="903" y="497"/>
                      <a:pt x="820" y="381"/>
                    </a:cubicBezTo>
                    <a:cubicBezTo>
                      <a:pt x="737" y="265"/>
                      <a:pt x="617" y="169"/>
                      <a:pt x="473" y="102"/>
                    </a:cubicBezTo>
                    <a:cubicBezTo>
                      <a:pt x="330" y="35"/>
                      <a:pt x="166" y="0"/>
                      <a:pt x="0" y="0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2" name=""/>
            <p:cNvGrpSpPr/>
            <p:nvPr/>
          </p:nvGrpSpPr>
          <p:grpSpPr>
            <a:xfrm>
              <a:off x="1490760" y="4577400"/>
              <a:ext cx="687960" cy="274320"/>
              <a:chOff x="1490760" y="4577400"/>
              <a:chExt cx="687960" cy="274320"/>
            </a:xfrm>
          </p:grpSpPr>
          <p:sp>
            <p:nvSpPr>
              <p:cNvPr id="2993" name=""/>
              <p:cNvSpPr/>
              <p:nvPr/>
            </p:nvSpPr>
            <p:spPr>
              <a:xfrm>
                <a:off x="1490760" y="4577400"/>
                <a:ext cx="345600" cy="274320"/>
              </a:xfrm>
              <a:custGeom>
                <a:avLst/>
                <a:gdLst/>
                <a:ahLst/>
                <a:rect l="0" t="0" r="r" b="b"/>
                <a:pathLst>
                  <a:path fill="none" w="960" h="762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34"/>
                      <a:pt x="44" y="265"/>
                      <a:pt x="129" y="381"/>
                    </a:cubicBezTo>
                    <a:cubicBezTo>
                      <a:pt x="213" y="497"/>
                      <a:pt x="334" y="593"/>
                      <a:pt x="480" y="660"/>
                    </a:cubicBezTo>
                    <a:cubicBezTo>
                      <a:pt x="626" y="727"/>
                      <a:pt x="791" y="762"/>
                      <a:pt x="960" y="762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1835280" y="4577400"/>
                <a:ext cx="343440" cy="274320"/>
              </a:xfrm>
              <a:custGeom>
                <a:avLst/>
                <a:gdLst/>
                <a:ahLst/>
                <a:rect l="0" t="0" r="r" b="b"/>
                <a:pathLst>
                  <a:path fill="none" w="954" h="762">
                    <a:moveTo>
                      <a:pt x="0" y="762"/>
                    </a:moveTo>
                    <a:lnTo>
                      <a:pt x="0" y="762"/>
                    </a:lnTo>
                    <a:cubicBezTo>
                      <a:pt x="167" y="762"/>
                      <a:pt x="332" y="727"/>
                      <a:pt x="477" y="660"/>
                    </a:cubicBezTo>
                    <a:cubicBezTo>
                      <a:pt x="622" y="593"/>
                      <a:pt x="742" y="497"/>
                      <a:pt x="826" y="381"/>
                    </a:cubicBezTo>
                    <a:cubicBezTo>
                      <a:pt x="910" y="265"/>
                      <a:pt x="954" y="134"/>
                      <a:pt x="954" y="0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95" name=""/>
          <p:cNvSpPr/>
          <p:nvPr/>
        </p:nvSpPr>
        <p:spPr>
          <a:xfrm>
            <a:off x="2363760" y="5130720"/>
            <a:ext cx="93348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2363760" y="5678640"/>
            <a:ext cx="93348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7" name=""/>
          <p:cNvGrpSpPr/>
          <p:nvPr/>
        </p:nvGrpSpPr>
        <p:grpSpPr>
          <a:xfrm>
            <a:off x="3295800" y="5126040"/>
            <a:ext cx="187560" cy="549720"/>
            <a:chOff x="3295800" y="5126040"/>
            <a:chExt cx="187560" cy="549720"/>
          </a:xfrm>
        </p:grpSpPr>
        <p:sp>
          <p:nvSpPr>
            <p:cNvPr id="2998" name=""/>
            <p:cNvSpPr/>
            <p:nvPr/>
          </p:nvSpPr>
          <p:spPr>
            <a:xfrm>
              <a:off x="3297240" y="512604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517" y="762"/>
                  </a:moveTo>
                  <a:lnTo>
                    <a:pt x="517" y="762"/>
                  </a:lnTo>
                  <a:lnTo>
                    <a:pt x="517" y="762"/>
                  </a:lnTo>
                  <a:cubicBezTo>
                    <a:pt x="517" y="628"/>
                    <a:pt x="493" y="497"/>
                    <a:pt x="448" y="381"/>
                  </a:cubicBezTo>
                  <a:cubicBezTo>
                    <a:pt x="402" y="265"/>
                    <a:pt x="337" y="169"/>
                    <a:pt x="258" y="102"/>
                  </a:cubicBezTo>
                  <a:cubicBezTo>
                    <a:pt x="180" y="35"/>
                    <a:pt x="91" y="0"/>
                    <a:pt x="0" y="0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3295800" y="540144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0" y="762"/>
                  </a:moveTo>
                  <a:lnTo>
                    <a:pt x="0" y="762"/>
                  </a:lnTo>
                  <a:cubicBezTo>
                    <a:pt x="91" y="762"/>
                    <a:pt x="180" y="727"/>
                    <a:pt x="259" y="660"/>
                  </a:cubicBezTo>
                  <a:cubicBezTo>
                    <a:pt x="337" y="593"/>
                    <a:pt x="402" y="497"/>
                    <a:pt x="448" y="381"/>
                  </a:cubicBezTo>
                  <a:cubicBezTo>
                    <a:pt x="493" y="265"/>
                    <a:pt x="517" y="134"/>
                    <a:pt x="517" y="0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0" name=""/>
          <p:cNvGrpSpPr/>
          <p:nvPr/>
        </p:nvGrpSpPr>
        <p:grpSpPr>
          <a:xfrm>
            <a:off x="2176560" y="5126040"/>
            <a:ext cx="189720" cy="549720"/>
            <a:chOff x="2176560" y="5126040"/>
            <a:chExt cx="189720" cy="549720"/>
          </a:xfrm>
        </p:grpSpPr>
        <p:sp>
          <p:nvSpPr>
            <p:cNvPr id="3001" name=""/>
            <p:cNvSpPr/>
            <p:nvPr/>
          </p:nvSpPr>
          <p:spPr>
            <a:xfrm>
              <a:off x="2176560" y="540144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24" y="265"/>
                    <a:pt x="69" y="381"/>
                  </a:cubicBezTo>
                  <a:cubicBezTo>
                    <a:pt x="115" y="497"/>
                    <a:pt x="180" y="593"/>
                    <a:pt x="259" y="660"/>
                  </a:cubicBezTo>
                  <a:cubicBezTo>
                    <a:pt x="337" y="727"/>
                    <a:pt x="426" y="762"/>
                    <a:pt x="517" y="762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2178000" y="5126040"/>
              <a:ext cx="188280" cy="274320"/>
            </a:xfrm>
            <a:custGeom>
              <a:avLst/>
              <a:gdLst/>
              <a:ahLst/>
              <a:rect l="0" t="0" r="r" b="b"/>
              <a:pathLst>
                <a:path fill="none" w="523" h="762">
                  <a:moveTo>
                    <a:pt x="523" y="0"/>
                  </a:moveTo>
                  <a:lnTo>
                    <a:pt x="523" y="0"/>
                  </a:lnTo>
                  <a:cubicBezTo>
                    <a:pt x="431" y="0"/>
                    <a:pt x="341" y="35"/>
                    <a:pt x="261" y="102"/>
                  </a:cubicBezTo>
                  <a:cubicBezTo>
                    <a:pt x="182" y="169"/>
                    <a:pt x="116" y="265"/>
                    <a:pt x="70" y="381"/>
                  </a:cubicBezTo>
                  <a:cubicBezTo>
                    <a:pt x="24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3" name=""/>
          <p:cNvSpPr/>
          <p:nvPr/>
        </p:nvSpPr>
        <p:spPr>
          <a:xfrm>
            <a:off x="1835280" y="4854600"/>
            <a:ext cx="343440" cy="547920"/>
          </a:xfrm>
          <a:custGeom>
            <a:avLst/>
            <a:gdLst/>
            <a:ahLst/>
            <a:rect l="0" t="0" r="r" b="b"/>
            <a:pathLst>
              <a:path fill="none" w="954" h="1522">
                <a:moveTo>
                  <a:pt x="954" y="1522"/>
                </a:moveTo>
                <a:lnTo>
                  <a:pt x="0" y="1522"/>
                </a:lnTo>
                <a:lnTo>
                  <a:pt x="0" y="0"/>
                </a:lnTo>
              </a:path>
            </a:pathLst>
          </a:custGeom>
          <a:ln w="12600">
            <a:solidFill>
              <a:srgbClr val="ffff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1149480" y="949320"/>
            <a:ext cx="137160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1149480" y="1501920"/>
            <a:ext cx="137160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6" name=""/>
          <p:cNvGrpSpPr/>
          <p:nvPr/>
        </p:nvGrpSpPr>
        <p:grpSpPr>
          <a:xfrm>
            <a:off x="2521080" y="944640"/>
            <a:ext cx="276480" cy="549720"/>
            <a:chOff x="2521080" y="944640"/>
            <a:chExt cx="276480" cy="549720"/>
          </a:xfrm>
        </p:grpSpPr>
        <p:sp>
          <p:nvSpPr>
            <p:cNvPr id="3007" name=""/>
            <p:cNvSpPr/>
            <p:nvPr/>
          </p:nvSpPr>
          <p:spPr>
            <a:xfrm>
              <a:off x="2523240" y="9446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762"/>
                  </a:moveTo>
                  <a:lnTo>
                    <a:pt x="762" y="762"/>
                  </a:lnTo>
                  <a:lnTo>
                    <a:pt x="762" y="762"/>
                  </a:lnTo>
                  <a:cubicBezTo>
                    <a:pt x="762" y="628"/>
                    <a:pt x="727" y="497"/>
                    <a:pt x="660" y="381"/>
                  </a:cubicBezTo>
                  <a:cubicBezTo>
                    <a:pt x="593" y="265"/>
                    <a:pt x="497" y="169"/>
                    <a:pt x="381" y="102"/>
                  </a:cubicBezTo>
                  <a:cubicBezTo>
                    <a:pt x="265" y="35"/>
                    <a:pt x="134" y="0"/>
                    <a:pt x="0" y="0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2521080" y="1220040"/>
              <a:ext cx="276480" cy="274320"/>
            </a:xfrm>
            <a:custGeom>
              <a:avLst/>
              <a:gdLst/>
              <a:ahLst/>
              <a:rect l="0" t="0" r="r" b="b"/>
              <a:pathLst>
                <a:path fill="none" w="768" h="762">
                  <a:moveTo>
                    <a:pt x="0" y="762"/>
                  </a:moveTo>
                  <a:lnTo>
                    <a:pt x="0" y="762"/>
                  </a:lnTo>
                  <a:cubicBezTo>
                    <a:pt x="135" y="762"/>
                    <a:pt x="267" y="727"/>
                    <a:pt x="384" y="660"/>
                  </a:cubicBezTo>
                  <a:cubicBezTo>
                    <a:pt x="501" y="593"/>
                    <a:pt x="598" y="497"/>
                    <a:pt x="665" y="381"/>
                  </a:cubicBezTo>
                  <a:cubicBezTo>
                    <a:pt x="733" y="265"/>
                    <a:pt x="768" y="134"/>
                    <a:pt x="768" y="0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873000" y="944640"/>
            <a:ext cx="279360" cy="549720"/>
            <a:chOff x="873000" y="944640"/>
            <a:chExt cx="279360" cy="549720"/>
          </a:xfrm>
        </p:grpSpPr>
        <p:sp>
          <p:nvSpPr>
            <p:cNvPr id="3010" name=""/>
            <p:cNvSpPr/>
            <p:nvPr/>
          </p:nvSpPr>
          <p:spPr>
            <a:xfrm>
              <a:off x="873000" y="12200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35" y="265"/>
                    <a:pt x="102" y="381"/>
                  </a:cubicBezTo>
                  <a:cubicBezTo>
                    <a:pt x="169" y="497"/>
                    <a:pt x="265" y="593"/>
                    <a:pt x="381" y="660"/>
                  </a:cubicBezTo>
                  <a:cubicBezTo>
                    <a:pt x="497" y="727"/>
                    <a:pt x="628" y="762"/>
                    <a:pt x="762" y="762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78040" y="9446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0"/>
                  </a:moveTo>
                  <a:lnTo>
                    <a:pt x="762" y="0"/>
                  </a:lnTo>
                  <a:cubicBezTo>
                    <a:pt x="628" y="0"/>
                    <a:pt x="497" y="35"/>
                    <a:pt x="381" y="102"/>
                  </a:cubicBezTo>
                  <a:cubicBezTo>
                    <a:pt x="265" y="169"/>
                    <a:pt x="169" y="265"/>
                    <a:pt x="102" y="381"/>
                  </a:cubicBezTo>
                  <a:cubicBezTo>
                    <a:pt x="35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2" name=""/>
          <p:cNvSpPr/>
          <p:nvPr/>
        </p:nvSpPr>
        <p:spPr>
          <a:xfrm>
            <a:off x="2178000" y="4511520"/>
            <a:ext cx="686160" cy="614880"/>
          </a:xfrm>
          <a:custGeom>
            <a:avLst/>
            <a:gdLst/>
            <a:ahLst/>
            <a:rect l="0" t="0" r="r" b="b"/>
            <a:pathLst>
              <a:path fill="none" w="1906" h="1708">
                <a:moveTo>
                  <a:pt x="1906" y="1708"/>
                </a:moveTo>
                <a:lnTo>
                  <a:pt x="190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1835280" y="1492200"/>
            <a:ext cx="0" cy="480960"/>
          </a:xfrm>
          <a:prstGeom prst="line">
            <a:avLst/>
          </a:prstGeom>
          <a:ln w="12600">
            <a:solidFill>
              <a:srgbClr val="ff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3483000" y="5402160"/>
            <a:ext cx="685800" cy="0"/>
          </a:xfrm>
          <a:prstGeom prst="line">
            <a:avLst/>
          </a:prstGeom>
          <a:ln w="126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5" name=""/>
          <p:cNvGrpSpPr/>
          <p:nvPr/>
        </p:nvGrpSpPr>
        <p:grpSpPr>
          <a:xfrm>
            <a:off x="5986440" y="2090880"/>
            <a:ext cx="687960" cy="2878560"/>
            <a:chOff x="5986440" y="2090880"/>
            <a:chExt cx="687960" cy="2878560"/>
          </a:xfrm>
        </p:grpSpPr>
        <p:sp>
          <p:nvSpPr>
            <p:cNvPr id="3016" name=""/>
            <p:cNvSpPr/>
            <p:nvPr/>
          </p:nvSpPr>
          <p:spPr>
            <a:xfrm>
              <a:off x="5987880" y="2367000"/>
              <a:ext cx="685800" cy="2328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7" name=""/>
            <p:cNvGrpSpPr/>
            <p:nvPr/>
          </p:nvGrpSpPr>
          <p:grpSpPr>
            <a:xfrm>
              <a:off x="5987880" y="2090880"/>
              <a:ext cx="686520" cy="274320"/>
              <a:chOff x="5987880" y="2090880"/>
              <a:chExt cx="686520" cy="274320"/>
            </a:xfrm>
          </p:grpSpPr>
          <p:sp>
            <p:nvSpPr>
              <p:cNvPr id="3018" name=""/>
              <p:cNvSpPr/>
              <p:nvPr/>
            </p:nvSpPr>
            <p:spPr>
              <a:xfrm>
                <a:off x="5987880" y="2090880"/>
                <a:ext cx="345600" cy="274320"/>
              </a:xfrm>
              <a:custGeom>
                <a:avLst/>
                <a:gdLst/>
                <a:ahLst/>
                <a:rect l="0" t="0" r="r" b="b"/>
                <a:pathLst>
                  <a:path fill="none" w="960" h="762">
                    <a:moveTo>
                      <a:pt x="960" y="0"/>
                    </a:moveTo>
                    <a:lnTo>
                      <a:pt x="960" y="0"/>
                    </a:lnTo>
                    <a:cubicBezTo>
                      <a:pt x="791" y="0"/>
                      <a:pt x="626" y="35"/>
                      <a:pt x="480" y="102"/>
                    </a:cubicBezTo>
                    <a:cubicBezTo>
                      <a:pt x="334" y="169"/>
                      <a:pt x="213" y="265"/>
                      <a:pt x="129" y="381"/>
                    </a:cubicBezTo>
                    <a:cubicBezTo>
                      <a:pt x="44" y="497"/>
                      <a:pt x="0" y="628"/>
                      <a:pt x="0" y="762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6333480" y="2090880"/>
                <a:ext cx="340920" cy="274320"/>
              </a:xfrm>
              <a:custGeom>
                <a:avLst/>
                <a:gdLst/>
                <a:ahLst/>
                <a:rect l="0" t="0" r="r" b="b"/>
                <a:pathLst>
                  <a:path fill="none" w="947" h="762">
                    <a:moveTo>
                      <a:pt x="947" y="762"/>
                    </a:moveTo>
                    <a:lnTo>
                      <a:pt x="947" y="762"/>
                    </a:lnTo>
                    <a:lnTo>
                      <a:pt x="947" y="762"/>
                    </a:lnTo>
                    <a:cubicBezTo>
                      <a:pt x="947" y="628"/>
                      <a:pt x="903" y="497"/>
                      <a:pt x="820" y="381"/>
                    </a:cubicBezTo>
                    <a:cubicBezTo>
                      <a:pt x="737" y="265"/>
                      <a:pt x="617" y="169"/>
                      <a:pt x="473" y="102"/>
                    </a:cubicBezTo>
                    <a:cubicBezTo>
                      <a:pt x="330" y="35"/>
                      <a:pt x="166" y="0"/>
                      <a:pt x="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0" name=""/>
            <p:cNvGrpSpPr/>
            <p:nvPr/>
          </p:nvGrpSpPr>
          <p:grpSpPr>
            <a:xfrm>
              <a:off x="5986440" y="4695120"/>
              <a:ext cx="687960" cy="274320"/>
              <a:chOff x="5986440" y="4695120"/>
              <a:chExt cx="687960" cy="274320"/>
            </a:xfrm>
          </p:grpSpPr>
          <p:sp>
            <p:nvSpPr>
              <p:cNvPr id="3021" name=""/>
              <p:cNvSpPr/>
              <p:nvPr/>
            </p:nvSpPr>
            <p:spPr>
              <a:xfrm>
                <a:off x="5986440" y="4695120"/>
                <a:ext cx="345600" cy="274320"/>
              </a:xfrm>
              <a:custGeom>
                <a:avLst/>
                <a:gdLst/>
                <a:ahLst/>
                <a:rect l="0" t="0" r="r" b="b"/>
                <a:pathLst>
                  <a:path fill="none" w="960" h="762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34"/>
                      <a:pt x="44" y="265"/>
                      <a:pt x="129" y="381"/>
                    </a:cubicBezTo>
                    <a:cubicBezTo>
                      <a:pt x="213" y="497"/>
                      <a:pt x="334" y="593"/>
                      <a:pt x="480" y="660"/>
                    </a:cubicBezTo>
                    <a:cubicBezTo>
                      <a:pt x="626" y="727"/>
                      <a:pt x="791" y="762"/>
                      <a:pt x="960" y="762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330960" y="4695120"/>
                <a:ext cx="343440" cy="274320"/>
              </a:xfrm>
              <a:custGeom>
                <a:avLst/>
                <a:gdLst/>
                <a:ahLst/>
                <a:rect l="0" t="0" r="r" b="b"/>
                <a:pathLst>
                  <a:path fill="none" w="954" h="762">
                    <a:moveTo>
                      <a:pt x="0" y="762"/>
                    </a:moveTo>
                    <a:lnTo>
                      <a:pt x="0" y="762"/>
                    </a:lnTo>
                    <a:cubicBezTo>
                      <a:pt x="167" y="762"/>
                      <a:pt x="332" y="727"/>
                      <a:pt x="477" y="660"/>
                    </a:cubicBezTo>
                    <a:cubicBezTo>
                      <a:pt x="622" y="593"/>
                      <a:pt x="742" y="497"/>
                      <a:pt x="826" y="381"/>
                    </a:cubicBezTo>
                    <a:cubicBezTo>
                      <a:pt x="910" y="265"/>
                      <a:pt x="954" y="134"/>
                      <a:pt x="954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3" name=""/>
          <p:cNvSpPr/>
          <p:nvPr/>
        </p:nvSpPr>
        <p:spPr>
          <a:xfrm>
            <a:off x="6859440" y="5248440"/>
            <a:ext cx="933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6859440" y="5796000"/>
            <a:ext cx="933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5" name=""/>
          <p:cNvGrpSpPr/>
          <p:nvPr/>
        </p:nvGrpSpPr>
        <p:grpSpPr>
          <a:xfrm>
            <a:off x="7791480" y="5243400"/>
            <a:ext cx="187560" cy="549720"/>
            <a:chOff x="7791480" y="5243400"/>
            <a:chExt cx="187560" cy="549720"/>
          </a:xfrm>
        </p:grpSpPr>
        <p:sp>
          <p:nvSpPr>
            <p:cNvPr id="3026" name=""/>
            <p:cNvSpPr/>
            <p:nvPr/>
          </p:nvSpPr>
          <p:spPr>
            <a:xfrm>
              <a:off x="7792920" y="524340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517" y="762"/>
                  </a:moveTo>
                  <a:lnTo>
                    <a:pt x="517" y="762"/>
                  </a:lnTo>
                  <a:lnTo>
                    <a:pt x="517" y="762"/>
                  </a:lnTo>
                  <a:cubicBezTo>
                    <a:pt x="517" y="628"/>
                    <a:pt x="493" y="497"/>
                    <a:pt x="448" y="381"/>
                  </a:cubicBezTo>
                  <a:cubicBezTo>
                    <a:pt x="402" y="265"/>
                    <a:pt x="337" y="169"/>
                    <a:pt x="258" y="102"/>
                  </a:cubicBezTo>
                  <a:cubicBezTo>
                    <a:pt x="180" y="35"/>
                    <a:pt x="9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7791480" y="551880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0" y="762"/>
                  </a:moveTo>
                  <a:lnTo>
                    <a:pt x="0" y="762"/>
                  </a:lnTo>
                  <a:cubicBezTo>
                    <a:pt x="91" y="762"/>
                    <a:pt x="180" y="727"/>
                    <a:pt x="259" y="660"/>
                  </a:cubicBezTo>
                  <a:cubicBezTo>
                    <a:pt x="337" y="593"/>
                    <a:pt x="402" y="497"/>
                    <a:pt x="448" y="381"/>
                  </a:cubicBezTo>
                  <a:cubicBezTo>
                    <a:pt x="493" y="265"/>
                    <a:pt x="517" y="134"/>
                    <a:pt x="517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8" name=""/>
          <p:cNvGrpSpPr/>
          <p:nvPr/>
        </p:nvGrpSpPr>
        <p:grpSpPr>
          <a:xfrm>
            <a:off x="6672240" y="5243400"/>
            <a:ext cx="189720" cy="549720"/>
            <a:chOff x="6672240" y="5243400"/>
            <a:chExt cx="189720" cy="549720"/>
          </a:xfrm>
        </p:grpSpPr>
        <p:sp>
          <p:nvSpPr>
            <p:cNvPr id="3029" name=""/>
            <p:cNvSpPr/>
            <p:nvPr/>
          </p:nvSpPr>
          <p:spPr>
            <a:xfrm>
              <a:off x="6672240" y="551880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24" y="265"/>
                    <a:pt x="69" y="381"/>
                  </a:cubicBezTo>
                  <a:cubicBezTo>
                    <a:pt x="115" y="497"/>
                    <a:pt x="180" y="593"/>
                    <a:pt x="259" y="660"/>
                  </a:cubicBezTo>
                  <a:cubicBezTo>
                    <a:pt x="337" y="727"/>
                    <a:pt x="426" y="762"/>
                    <a:pt x="517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673680" y="5243400"/>
              <a:ext cx="188280" cy="274320"/>
            </a:xfrm>
            <a:custGeom>
              <a:avLst/>
              <a:gdLst/>
              <a:ahLst/>
              <a:rect l="0" t="0" r="r" b="b"/>
              <a:pathLst>
                <a:path fill="none" w="523" h="762">
                  <a:moveTo>
                    <a:pt x="523" y="0"/>
                  </a:moveTo>
                  <a:lnTo>
                    <a:pt x="523" y="0"/>
                  </a:lnTo>
                  <a:cubicBezTo>
                    <a:pt x="431" y="0"/>
                    <a:pt x="341" y="35"/>
                    <a:pt x="261" y="102"/>
                  </a:cubicBezTo>
                  <a:cubicBezTo>
                    <a:pt x="182" y="169"/>
                    <a:pt x="116" y="265"/>
                    <a:pt x="70" y="381"/>
                  </a:cubicBezTo>
                  <a:cubicBezTo>
                    <a:pt x="24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1" name=""/>
          <p:cNvSpPr/>
          <p:nvPr/>
        </p:nvSpPr>
        <p:spPr>
          <a:xfrm>
            <a:off x="6330960" y="4971960"/>
            <a:ext cx="343440" cy="547920"/>
          </a:xfrm>
          <a:custGeom>
            <a:avLst/>
            <a:gdLst/>
            <a:ahLst/>
            <a:rect l="0" t="0" r="r" b="b"/>
            <a:pathLst>
              <a:path fill="none" w="954" h="1522">
                <a:moveTo>
                  <a:pt x="954" y="1522"/>
                </a:moveTo>
                <a:lnTo>
                  <a:pt x="0" y="1522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5645160" y="10666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5645160" y="16192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4" name=""/>
          <p:cNvGrpSpPr/>
          <p:nvPr/>
        </p:nvGrpSpPr>
        <p:grpSpPr>
          <a:xfrm>
            <a:off x="7016760" y="1062000"/>
            <a:ext cx="276840" cy="549720"/>
            <a:chOff x="7016760" y="1062000"/>
            <a:chExt cx="276840" cy="549720"/>
          </a:xfrm>
        </p:grpSpPr>
        <p:sp>
          <p:nvSpPr>
            <p:cNvPr id="3035" name=""/>
            <p:cNvSpPr/>
            <p:nvPr/>
          </p:nvSpPr>
          <p:spPr>
            <a:xfrm>
              <a:off x="7019280" y="106200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762"/>
                  </a:moveTo>
                  <a:lnTo>
                    <a:pt x="762" y="762"/>
                  </a:lnTo>
                  <a:lnTo>
                    <a:pt x="762" y="762"/>
                  </a:lnTo>
                  <a:cubicBezTo>
                    <a:pt x="762" y="628"/>
                    <a:pt x="727" y="497"/>
                    <a:pt x="660" y="381"/>
                  </a:cubicBezTo>
                  <a:cubicBezTo>
                    <a:pt x="593" y="265"/>
                    <a:pt x="497" y="169"/>
                    <a:pt x="381" y="102"/>
                  </a:cubicBezTo>
                  <a:cubicBezTo>
                    <a:pt x="265" y="35"/>
                    <a:pt x="13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7016760" y="1337400"/>
              <a:ext cx="276480" cy="274320"/>
            </a:xfrm>
            <a:custGeom>
              <a:avLst/>
              <a:gdLst/>
              <a:ahLst/>
              <a:rect l="0" t="0" r="r" b="b"/>
              <a:pathLst>
                <a:path fill="none" w="768" h="762">
                  <a:moveTo>
                    <a:pt x="0" y="762"/>
                  </a:moveTo>
                  <a:lnTo>
                    <a:pt x="0" y="762"/>
                  </a:lnTo>
                  <a:cubicBezTo>
                    <a:pt x="135" y="762"/>
                    <a:pt x="267" y="727"/>
                    <a:pt x="384" y="660"/>
                  </a:cubicBezTo>
                  <a:cubicBezTo>
                    <a:pt x="501" y="593"/>
                    <a:pt x="598" y="497"/>
                    <a:pt x="665" y="381"/>
                  </a:cubicBezTo>
                  <a:cubicBezTo>
                    <a:pt x="733" y="265"/>
                    <a:pt x="768" y="134"/>
                    <a:pt x="768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7" name=""/>
          <p:cNvGrpSpPr/>
          <p:nvPr/>
        </p:nvGrpSpPr>
        <p:grpSpPr>
          <a:xfrm>
            <a:off x="5369040" y="1062000"/>
            <a:ext cx="279000" cy="549720"/>
            <a:chOff x="5369040" y="1062000"/>
            <a:chExt cx="279000" cy="549720"/>
          </a:xfrm>
        </p:grpSpPr>
        <p:sp>
          <p:nvSpPr>
            <p:cNvPr id="3038" name=""/>
            <p:cNvSpPr/>
            <p:nvPr/>
          </p:nvSpPr>
          <p:spPr>
            <a:xfrm>
              <a:off x="5369040" y="133740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35" y="265"/>
                    <a:pt x="102" y="381"/>
                  </a:cubicBezTo>
                  <a:cubicBezTo>
                    <a:pt x="169" y="497"/>
                    <a:pt x="265" y="593"/>
                    <a:pt x="381" y="660"/>
                  </a:cubicBezTo>
                  <a:cubicBezTo>
                    <a:pt x="497" y="727"/>
                    <a:pt x="628" y="762"/>
                    <a:pt x="762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5373720" y="106200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0"/>
                  </a:moveTo>
                  <a:lnTo>
                    <a:pt x="762" y="0"/>
                  </a:lnTo>
                  <a:cubicBezTo>
                    <a:pt x="628" y="0"/>
                    <a:pt x="497" y="35"/>
                    <a:pt x="381" y="102"/>
                  </a:cubicBezTo>
                  <a:cubicBezTo>
                    <a:pt x="265" y="169"/>
                    <a:pt x="169" y="265"/>
                    <a:pt x="102" y="381"/>
                  </a:cubicBezTo>
                  <a:cubicBezTo>
                    <a:pt x="35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0" name=""/>
          <p:cNvSpPr/>
          <p:nvPr/>
        </p:nvSpPr>
        <p:spPr>
          <a:xfrm>
            <a:off x="6673680" y="4629240"/>
            <a:ext cx="686160" cy="614880"/>
          </a:xfrm>
          <a:custGeom>
            <a:avLst/>
            <a:gdLst/>
            <a:ahLst/>
            <a:rect l="0" t="0" r="r" b="b"/>
            <a:pathLst>
              <a:path fill="none" w="1906" h="1708">
                <a:moveTo>
                  <a:pt x="1906" y="1708"/>
                </a:moveTo>
                <a:lnTo>
                  <a:pt x="190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6330960" y="1609560"/>
            <a:ext cx="0" cy="4813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7978680" y="55198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6019920" y="42670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 txBox="1"/>
          <p:nvPr/>
        </p:nvSpPr>
        <p:spPr>
          <a:xfrm>
            <a:off x="5318280" y="117324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 txBox="1"/>
          <p:nvPr/>
        </p:nvSpPr>
        <p:spPr>
          <a:xfrm>
            <a:off x="6842160" y="406872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 txBox="1"/>
          <p:nvPr/>
        </p:nvSpPr>
        <p:spPr>
          <a:xfrm>
            <a:off x="6994440" y="422100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 txBox="1"/>
          <p:nvPr/>
        </p:nvSpPr>
        <p:spPr>
          <a:xfrm>
            <a:off x="6461280" y="521172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 txBox="1"/>
          <p:nvPr/>
        </p:nvSpPr>
        <p:spPr>
          <a:xfrm>
            <a:off x="6765840" y="284940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 txBox="1"/>
          <p:nvPr/>
        </p:nvSpPr>
        <p:spPr>
          <a:xfrm>
            <a:off x="7147080" y="437364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6019920" y="2971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 txBox="1"/>
          <p:nvPr/>
        </p:nvSpPr>
        <p:spPr>
          <a:xfrm>
            <a:off x="6505560" y="384012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 txBox="1"/>
          <p:nvPr/>
        </p:nvSpPr>
        <p:spPr>
          <a:xfrm>
            <a:off x="1508040" y="2652840"/>
            <a:ext cx="7272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q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 txBox="1"/>
          <p:nvPr/>
        </p:nvSpPr>
        <p:spPr>
          <a:xfrm>
            <a:off x="2422440" y="51656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 txBox="1"/>
          <p:nvPr/>
        </p:nvSpPr>
        <p:spPr>
          <a:xfrm>
            <a:off x="1508040" y="974880"/>
            <a:ext cx="64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 txBox="1"/>
          <p:nvPr/>
        </p:nvSpPr>
        <p:spPr>
          <a:xfrm>
            <a:off x="5699160" y="6110280"/>
            <a:ext cx="2674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gorou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 txBox="1"/>
          <p:nvPr/>
        </p:nvSpPr>
        <p:spPr>
          <a:xfrm>
            <a:off x="1203480" y="6111720"/>
            <a:ext cx="2674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hortcut 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duced Ord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5291280" y="3343320"/>
            <a:ext cx="0" cy="2387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3427560" y="3063960"/>
            <a:ext cx="685800" cy="2328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0" name=""/>
          <p:cNvGrpSpPr/>
          <p:nvPr/>
        </p:nvGrpSpPr>
        <p:grpSpPr>
          <a:xfrm>
            <a:off x="3427560" y="2787480"/>
            <a:ext cx="686160" cy="274320"/>
            <a:chOff x="3427560" y="2787480"/>
            <a:chExt cx="686160" cy="274320"/>
          </a:xfrm>
        </p:grpSpPr>
        <p:sp>
          <p:nvSpPr>
            <p:cNvPr id="3061" name=""/>
            <p:cNvSpPr/>
            <p:nvPr/>
          </p:nvSpPr>
          <p:spPr>
            <a:xfrm>
              <a:off x="3427560" y="278748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954" y="0"/>
                  </a:moveTo>
                  <a:lnTo>
                    <a:pt x="954" y="0"/>
                  </a:lnTo>
                  <a:cubicBezTo>
                    <a:pt x="787" y="0"/>
                    <a:pt x="622" y="35"/>
                    <a:pt x="477" y="102"/>
                  </a:cubicBezTo>
                  <a:cubicBezTo>
                    <a:pt x="332" y="169"/>
                    <a:pt x="212" y="265"/>
                    <a:pt x="128" y="381"/>
                  </a:cubicBezTo>
                  <a:cubicBezTo>
                    <a:pt x="44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3770280" y="278748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954" y="762"/>
                  </a:moveTo>
                  <a:lnTo>
                    <a:pt x="954" y="762"/>
                  </a:lnTo>
                  <a:lnTo>
                    <a:pt x="954" y="762"/>
                  </a:lnTo>
                  <a:cubicBezTo>
                    <a:pt x="954" y="628"/>
                    <a:pt x="910" y="497"/>
                    <a:pt x="826" y="381"/>
                  </a:cubicBezTo>
                  <a:cubicBezTo>
                    <a:pt x="742" y="265"/>
                    <a:pt x="622" y="169"/>
                    <a:pt x="477" y="102"/>
                  </a:cubicBezTo>
                  <a:cubicBezTo>
                    <a:pt x="332" y="35"/>
                    <a:pt x="167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3" name=""/>
          <p:cNvGrpSpPr/>
          <p:nvPr/>
        </p:nvGrpSpPr>
        <p:grpSpPr>
          <a:xfrm>
            <a:off x="3427560" y="5400000"/>
            <a:ext cx="686160" cy="274320"/>
            <a:chOff x="3427560" y="5400000"/>
            <a:chExt cx="686160" cy="274320"/>
          </a:xfrm>
        </p:grpSpPr>
        <p:sp>
          <p:nvSpPr>
            <p:cNvPr id="3064" name=""/>
            <p:cNvSpPr/>
            <p:nvPr/>
          </p:nvSpPr>
          <p:spPr>
            <a:xfrm>
              <a:off x="3427560" y="5400000"/>
              <a:ext cx="345600" cy="274320"/>
            </a:xfrm>
            <a:custGeom>
              <a:avLst/>
              <a:gdLst/>
              <a:ahLst/>
              <a:rect l="0" t="0" r="r" b="b"/>
              <a:pathLst>
                <a:path fill="none" w="960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44" y="265"/>
                    <a:pt x="129" y="381"/>
                  </a:cubicBezTo>
                  <a:cubicBezTo>
                    <a:pt x="213" y="497"/>
                    <a:pt x="334" y="593"/>
                    <a:pt x="480" y="660"/>
                  </a:cubicBezTo>
                  <a:cubicBezTo>
                    <a:pt x="626" y="727"/>
                    <a:pt x="791" y="762"/>
                    <a:pt x="96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3770280" y="540000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0" y="762"/>
                  </a:moveTo>
                  <a:lnTo>
                    <a:pt x="0" y="762"/>
                  </a:lnTo>
                  <a:cubicBezTo>
                    <a:pt x="167" y="762"/>
                    <a:pt x="332" y="727"/>
                    <a:pt x="477" y="660"/>
                  </a:cubicBezTo>
                  <a:cubicBezTo>
                    <a:pt x="622" y="593"/>
                    <a:pt x="742" y="497"/>
                    <a:pt x="826" y="381"/>
                  </a:cubicBezTo>
                  <a:cubicBezTo>
                    <a:pt x="910" y="265"/>
                    <a:pt x="954" y="134"/>
                    <a:pt x="95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6" name=""/>
          <p:cNvSpPr/>
          <p:nvPr/>
        </p:nvSpPr>
        <p:spPr>
          <a:xfrm>
            <a:off x="3084480" y="615456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3084480" y="670248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8" name=""/>
          <p:cNvGrpSpPr/>
          <p:nvPr/>
        </p:nvGrpSpPr>
        <p:grpSpPr>
          <a:xfrm>
            <a:off x="4453920" y="6149880"/>
            <a:ext cx="274320" cy="548280"/>
            <a:chOff x="4453920" y="6149880"/>
            <a:chExt cx="274320" cy="548280"/>
          </a:xfrm>
        </p:grpSpPr>
        <p:sp>
          <p:nvSpPr>
            <p:cNvPr id="3069" name=""/>
            <p:cNvSpPr/>
            <p:nvPr/>
          </p:nvSpPr>
          <p:spPr>
            <a:xfrm>
              <a:off x="4453920" y="614988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762"/>
                  </a:moveTo>
                  <a:lnTo>
                    <a:pt x="762" y="762"/>
                  </a:lnTo>
                  <a:lnTo>
                    <a:pt x="762" y="762"/>
                  </a:lnTo>
                  <a:cubicBezTo>
                    <a:pt x="762" y="628"/>
                    <a:pt x="727" y="497"/>
                    <a:pt x="660" y="381"/>
                  </a:cubicBezTo>
                  <a:cubicBezTo>
                    <a:pt x="593" y="265"/>
                    <a:pt x="497" y="169"/>
                    <a:pt x="381" y="102"/>
                  </a:cubicBezTo>
                  <a:cubicBezTo>
                    <a:pt x="265" y="35"/>
                    <a:pt x="13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453920" y="64238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762"/>
                  </a:moveTo>
                  <a:lnTo>
                    <a:pt x="0" y="762"/>
                  </a:lnTo>
                  <a:cubicBezTo>
                    <a:pt x="134" y="762"/>
                    <a:pt x="265" y="727"/>
                    <a:pt x="381" y="660"/>
                  </a:cubicBezTo>
                  <a:cubicBezTo>
                    <a:pt x="497" y="593"/>
                    <a:pt x="593" y="497"/>
                    <a:pt x="660" y="381"/>
                  </a:cubicBezTo>
                  <a:cubicBezTo>
                    <a:pt x="727" y="265"/>
                    <a:pt x="762" y="134"/>
                    <a:pt x="76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1" name=""/>
          <p:cNvGrpSpPr/>
          <p:nvPr/>
        </p:nvGrpSpPr>
        <p:grpSpPr>
          <a:xfrm>
            <a:off x="2808360" y="6149880"/>
            <a:ext cx="274320" cy="548280"/>
            <a:chOff x="2808360" y="6149880"/>
            <a:chExt cx="274320" cy="548280"/>
          </a:xfrm>
        </p:grpSpPr>
        <p:sp>
          <p:nvSpPr>
            <p:cNvPr id="3072" name=""/>
            <p:cNvSpPr/>
            <p:nvPr/>
          </p:nvSpPr>
          <p:spPr>
            <a:xfrm>
              <a:off x="2808360" y="64238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35" y="265"/>
                    <a:pt x="102" y="381"/>
                  </a:cubicBezTo>
                  <a:cubicBezTo>
                    <a:pt x="169" y="497"/>
                    <a:pt x="265" y="593"/>
                    <a:pt x="381" y="660"/>
                  </a:cubicBezTo>
                  <a:cubicBezTo>
                    <a:pt x="497" y="727"/>
                    <a:pt x="628" y="762"/>
                    <a:pt x="762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2808360" y="614988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0"/>
                  </a:moveTo>
                  <a:lnTo>
                    <a:pt x="762" y="0"/>
                  </a:lnTo>
                  <a:cubicBezTo>
                    <a:pt x="628" y="0"/>
                    <a:pt x="497" y="35"/>
                    <a:pt x="381" y="102"/>
                  </a:cubicBezTo>
                  <a:cubicBezTo>
                    <a:pt x="265" y="169"/>
                    <a:pt x="169" y="265"/>
                    <a:pt x="102" y="381"/>
                  </a:cubicBezTo>
                  <a:cubicBezTo>
                    <a:pt x="35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4" name=""/>
          <p:cNvSpPr/>
          <p:nvPr/>
        </p:nvSpPr>
        <p:spPr>
          <a:xfrm>
            <a:off x="4780080" y="1968480"/>
            <a:ext cx="94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>
            <a:off x="4775040" y="2521080"/>
            <a:ext cx="943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6" name=""/>
          <p:cNvGrpSpPr/>
          <p:nvPr/>
        </p:nvGrpSpPr>
        <p:grpSpPr>
          <a:xfrm>
            <a:off x="5708520" y="1963800"/>
            <a:ext cx="186120" cy="552600"/>
            <a:chOff x="5708520" y="1963800"/>
            <a:chExt cx="186120" cy="552600"/>
          </a:xfrm>
        </p:grpSpPr>
        <p:sp>
          <p:nvSpPr>
            <p:cNvPr id="3077" name=""/>
            <p:cNvSpPr/>
            <p:nvPr/>
          </p:nvSpPr>
          <p:spPr>
            <a:xfrm>
              <a:off x="5708520" y="196380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517" y="768"/>
                  </a:moveTo>
                  <a:lnTo>
                    <a:pt x="517" y="768"/>
                  </a:lnTo>
                  <a:lnTo>
                    <a:pt x="517" y="768"/>
                  </a:lnTo>
                  <a:cubicBezTo>
                    <a:pt x="517" y="633"/>
                    <a:pt x="493" y="501"/>
                    <a:pt x="448" y="384"/>
                  </a:cubicBezTo>
                  <a:cubicBezTo>
                    <a:pt x="402" y="267"/>
                    <a:pt x="337" y="170"/>
                    <a:pt x="258" y="103"/>
                  </a:cubicBezTo>
                  <a:cubicBezTo>
                    <a:pt x="180" y="35"/>
                    <a:pt x="9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5708520" y="223992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0" y="768"/>
                  </a:moveTo>
                  <a:lnTo>
                    <a:pt x="0" y="768"/>
                  </a:lnTo>
                  <a:cubicBezTo>
                    <a:pt x="91" y="768"/>
                    <a:pt x="180" y="733"/>
                    <a:pt x="259" y="665"/>
                  </a:cubicBezTo>
                  <a:cubicBezTo>
                    <a:pt x="337" y="598"/>
                    <a:pt x="402" y="501"/>
                    <a:pt x="448" y="384"/>
                  </a:cubicBezTo>
                  <a:cubicBezTo>
                    <a:pt x="493" y="267"/>
                    <a:pt x="517" y="135"/>
                    <a:pt x="517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9" name=""/>
          <p:cNvGrpSpPr/>
          <p:nvPr/>
        </p:nvGrpSpPr>
        <p:grpSpPr>
          <a:xfrm>
            <a:off x="4594320" y="1963800"/>
            <a:ext cx="186120" cy="552600"/>
            <a:chOff x="4594320" y="1963800"/>
            <a:chExt cx="186120" cy="552600"/>
          </a:xfrm>
        </p:grpSpPr>
        <p:sp>
          <p:nvSpPr>
            <p:cNvPr id="3080" name=""/>
            <p:cNvSpPr/>
            <p:nvPr/>
          </p:nvSpPr>
          <p:spPr>
            <a:xfrm>
              <a:off x="4594320" y="223992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0" y="0"/>
                  </a:moveTo>
                  <a:lnTo>
                    <a:pt x="0" y="0"/>
                  </a:lnTo>
                  <a:cubicBezTo>
                    <a:pt x="0" y="135"/>
                    <a:pt x="24" y="267"/>
                    <a:pt x="69" y="384"/>
                  </a:cubicBezTo>
                  <a:cubicBezTo>
                    <a:pt x="115" y="501"/>
                    <a:pt x="180" y="598"/>
                    <a:pt x="259" y="665"/>
                  </a:cubicBezTo>
                  <a:cubicBezTo>
                    <a:pt x="337" y="733"/>
                    <a:pt x="426" y="768"/>
                    <a:pt x="517" y="76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594320" y="196380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517" y="0"/>
                  </a:moveTo>
                  <a:lnTo>
                    <a:pt x="517" y="0"/>
                  </a:lnTo>
                  <a:cubicBezTo>
                    <a:pt x="426" y="0"/>
                    <a:pt x="337" y="35"/>
                    <a:pt x="258" y="103"/>
                  </a:cubicBezTo>
                  <a:cubicBezTo>
                    <a:pt x="180" y="170"/>
                    <a:pt x="115" y="267"/>
                    <a:pt x="69" y="384"/>
                  </a:cubicBezTo>
                  <a:cubicBezTo>
                    <a:pt x="24" y="501"/>
                    <a:pt x="0" y="633"/>
                    <a:pt x="0" y="76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2" name=""/>
          <p:cNvSpPr/>
          <p:nvPr/>
        </p:nvSpPr>
        <p:spPr>
          <a:xfrm>
            <a:off x="3770280" y="2239920"/>
            <a:ext cx="662400" cy="547920"/>
          </a:xfrm>
          <a:custGeom>
            <a:avLst/>
            <a:gdLst/>
            <a:ahLst/>
            <a:rect l="0" t="0" r="r" b="b"/>
            <a:pathLst>
              <a:path fill="none" w="1840" h="1522">
                <a:moveTo>
                  <a:pt x="0" y="1522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4422600" y="218772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4270320" y="2516040"/>
            <a:ext cx="1010160" cy="614880"/>
          </a:xfrm>
          <a:custGeom>
            <a:avLst/>
            <a:gdLst/>
            <a:ahLst/>
            <a:rect l="0" t="0" r="r" b="b"/>
            <a:pathLst>
              <a:path fill="none" w="2806" h="1708">
                <a:moveTo>
                  <a:pt x="0" y="1708"/>
                </a:moveTo>
                <a:lnTo>
                  <a:pt x="2806" y="1708"/>
                </a:lnTo>
                <a:lnTo>
                  <a:pt x="2806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4113360" y="307800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0" y="128"/>
                </a:moveTo>
                <a:lnTo>
                  <a:pt x="438" y="252"/>
                </a:lnTo>
                <a:lnTo>
                  <a:pt x="438" y="0"/>
                </a:lnTo>
                <a:lnTo>
                  <a:pt x="0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5280120" y="1692360"/>
            <a:ext cx="662400" cy="271800"/>
          </a:xfrm>
          <a:custGeom>
            <a:avLst/>
            <a:gdLst/>
            <a:ahLst/>
            <a:rect l="0" t="0" r="r" b="b"/>
            <a:pathLst>
              <a:path fill="none" w="1840" h="755">
                <a:moveTo>
                  <a:pt x="0" y="755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932440" y="163980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770280" y="5668920"/>
            <a:ext cx="0" cy="480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 txBox="1"/>
          <p:nvPr/>
        </p:nvSpPr>
        <p:spPr>
          <a:xfrm>
            <a:off x="5850000" y="191448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 txBox="1"/>
          <p:nvPr/>
        </p:nvSpPr>
        <p:spPr>
          <a:xfrm>
            <a:off x="2814480" y="623736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1" name=""/>
          <p:cNvSpPr txBox="1"/>
          <p:nvPr/>
        </p:nvSpPr>
        <p:spPr>
          <a:xfrm>
            <a:off x="0" y="2349360"/>
            <a:ext cx="320508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ontinuous Disti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Joseph &amp; Cowork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1983-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ewart et al, 19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Westerberg &amp; Co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atch Disti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iwekar, 19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(Batch-Dist, MultiBatch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 txBox="1"/>
          <p:nvPr/>
        </p:nvSpPr>
        <p:spPr>
          <a:xfrm>
            <a:off x="4248000" y="4165560"/>
            <a:ext cx="2058840" cy="42228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66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3" name=""/>
          <p:cNvSpPr txBox="1"/>
          <p:nvPr/>
        </p:nvSpPr>
        <p:spPr>
          <a:xfrm>
            <a:off x="3673440" y="3432240"/>
            <a:ext cx="282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 txBox="1"/>
          <p:nvPr/>
        </p:nvSpPr>
        <p:spPr>
          <a:xfrm>
            <a:off x="3614760" y="4165560"/>
            <a:ext cx="282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 txBox="1"/>
          <p:nvPr/>
        </p:nvSpPr>
        <p:spPr>
          <a:xfrm>
            <a:off x="4280040" y="3438360"/>
            <a:ext cx="2033640" cy="39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MB, DEB, V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7" name=""/>
          <p:cNvGrpSpPr/>
          <p:nvPr/>
        </p:nvGrpSpPr>
        <p:grpSpPr>
          <a:xfrm>
            <a:off x="1268280" y="54000"/>
            <a:ext cx="6715080" cy="6481800"/>
            <a:chOff x="1268280" y="54000"/>
            <a:chExt cx="6715080" cy="6481800"/>
          </a:xfrm>
        </p:grpSpPr>
        <p:sp>
          <p:nvSpPr>
            <p:cNvPr id="3098" name=""/>
            <p:cNvSpPr/>
            <p:nvPr/>
          </p:nvSpPr>
          <p:spPr>
            <a:xfrm>
              <a:off x="3871800" y="901800"/>
              <a:ext cx="468360" cy="241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 txBox="1"/>
            <p:nvPr/>
          </p:nvSpPr>
          <p:spPr>
            <a:xfrm>
              <a:off x="3919680" y="88416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3338640" y="1409760"/>
              <a:ext cx="1535400" cy="684720"/>
            </a:xfrm>
            <a:custGeom>
              <a:avLst/>
              <a:gdLst/>
              <a:ahLst/>
              <a:rect l="0" t="0" r="r" b="b"/>
              <a:pathLst>
                <a:path w="4265" h="1902">
                  <a:moveTo>
                    <a:pt x="4265" y="953"/>
                  </a:moveTo>
                  <a:lnTo>
                    <a:pt x="3736" y="1443"/>
                  </a:lnTo>
                  <a:lnTo>
                    <a:pt x="3206" y="1902"/>
                  </a:lnTo>
                  <a:lnTo>
                    <a:pt x="2148" y="1902"/>
                  </a:lnTo>
                  <a:lnTo>
                    <a:pt x="1058" y="1902"/>
                  </a:lnTo>
                  <a:lnTo>
                    <a:pt x="529" y="1443"/>
                  </a:lnTo>
                  <a:lnTo>
                    <a:pt x="0" y="953"/>
                  </a:lnTo>
                  <a:lnTo>
                    <a:pt x="529" y="494"/>
                  </a:lnTo>
                  <a:lnTo>
                    <a:pt x="1058" y="0"/>
                  </a:lnTo>
                  <a:lnTo>
                    <a:pt x="2148" y="0"/>
                  </a:lnTo>
                  <a:lnTo>
                    <a:pt x="3206" y="0"/>
                  </a:lnTo>
                  <a:lnTo>
                    <a:pt x="3736" y="494"/>
                  </a:lnTo>
                  <a:lnTo>
                    <a:pt x="4265" y="9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3338640" y="1409760"/>
              <a:ext cx="1535400" cy="684720"/>
            </a:xfrm>
            <a:custGeom>
              <a:avLst/>
              <a:gdLst/>
              <a:ahLst/>
              <a:rect l="0" t="0" r="r" b="b"/>
              <a:pathLst>
                <a:path fill="none" w="4265" h="1902">
                  <a:moveTo>
                    <a:pt x="4265" y="953"/>
                  </a:moveTo>
                  <a:lnTo>
                    <a:pt x="3206" y="1902"/>
                  </a:lnTo>
                  <a:lnTo>
                    <a:pt x="1058" y="1902"/>
                  </a:lnTo>
                  <a:lnTo>
                    <a:pt x="0" y="953"/>
                  </a:lnTo>
                  <a:lnTo>
                    <a:pt x="1058" y="0"/>
                  </a:lnTo>
                  <a:lnTo>
                    <a:pt x="320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 txBox="1"/>
            <p:nvPr/>
          </p:nvSpPr>
          <p:spPr>
            <a:xfrm>
              <a:off x="3855960" y="1366920"/>
              <a:ext cx="585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p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 txBox="1"/>
            <p:nvPr/>
          </p:nvSpPr>
          <p:spPr>
            <a:xfrm>
              <a:off x="3462480" y="1519200"/>
              <a:ext cx="13730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alysis of colum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 txBox="1"/>
            <p:nvPr/>
          </p:nvSpPr>
          <p:spPr>
            <a:xfrm>
              <a:off x="3513240" y="1670040"/>
              <a:ext cx="1276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 Feasibility Info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 txBox="1"/>
            <p:nvPr/>
          </p:nvSpPr>
          <p:spPr>
            <a:xfrm>
              <a:off x="3830760" y="1822320"/>
              <a:ext cx="611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d.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387520" y="2576520"/>
              <a:ext cx="1395720" cy="875160"/>
            </a:xfrm>
            <a:custGeom>
              <a:avLst/>
              <a:gdLst/>
              <a:ahLst/>
              <a:rect l="0" t="0" r="r" b="b"/>
              <a:pathLst>
                <a:path w="3877" h="2431">
                  <a:moveTo>
                    <a:pt x="3877" y="1231"/>
                  </a:moveTo>
                  <a:lnTo>
                    <a:pt x="3383" y="1832"/>
                  </a:lnTo>
                  <a:lnTo>
                    <a:pt x="2889" y="2431"/>
                  </a:lnTo>
                  <a:lnTo>
                    <a:pt x="1935" y="2431"/>
                  </a:lnTo>
                  <a:lnTo>
                    <a:pt x="952" y="2431"/>
                  </a:lnTo>
                  <a:lnTo>
                    <a:pt x="493" y="1832"/>
                  </a:lnTo>
                  <a:lnTo>
                    <a:pt x="0" y="1231"/>
                  </a:lnTo>
                  <a:lnTo>
                    <a:pt x="493" y="636"/>
                  </a:lnTo>
                  <a:lnTo>
                    <a:pt x="952" y="0"/>
                  </a:lnTo>
                  <a:lnTo>
                    <a:pt x="1935" y="0"/>
                  </a:lnTo>
                  <a:lnTo>
                    <a:pt x="2889" y="0"/>
                  </a:lnTo>
                  <a:lnTo>
                    <a:pt x="3383" y="636"/>
                  </a:lnTo>
                  <a:lnTo>
                    <a:pt x="3877" y="1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387520" y="2576520"/>
              <a:ext cx="1395720" cy="875160"/>
            </a:xfrm>
            <a:custGeom>
              <a:avLst/>
              <a:gdLst/>
              <a:ahLst/>
              <a:rect l="0" t="0" r="r" b="b"/>
              <a:pathLst>
                <a:path fill="none" w="3877" h="2431">
                  <a:moveTo>
                    <a:pt x="3877" y="1231"/>
                  </a:moveTo>
                  <a:lnTo>
                    <a:pt x="2889" y="2431"/>
                  </a:lnTo>
                  <a:lnTo>
                    <a:pt x="952" y="2431"/>
                  </a:lnTo>
                  <a:lnTo>
                    <a:pt x="0" y="1231"/>
                  </a:lnTo>
                  <a:lnTo>
                    <a:pt x="952" y="0"/>
                  </a:lnTo>
                  <a:lnTo>
                    <a:pt x="288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 txBox="1"/>
            <p:nvPr/>
          </p:nvSpPr>
          <p:spPr>
            <a:xfrm>
              <a:off x="2941560" y="2584440"/>
              <a:ext cx="331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 txBox="1"/>
            <p:nvPr/>
          </p:nvSpPr>
          <p:spPr>
            <a:xfrm>
              <a:off x="2575080" y="2735280"/>
              <a:ext cx="1065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stem nearl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 txBox="1"/>
            <p:nvPr/>
          </p:nvSpPr>
          <p:spPr>
            <a:xfrm>
              <a:off x="2486160" y="2887560"/>
              <a:ext cx="123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deal and hold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 txBox="1"/>
            <p:nvPr/>
          </p:nvSpPr>
          <p:spPr>
            <a:xfrm>
              <a:off x="2486160" y="3040200"/>
              <a:ext cx="1216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ffect negligibl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 txBox="1"/>
            <p:nvPr/>
          </p:nvSpPr>
          <p:spPr>
            <a:xfrm>
              <a:off x="2967120" y="3192480"/>
              <a:ext cx="252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4518000" y="2576520"/>
              <a:ext cx="1395720" cy="875160"/>
            </a:xfrm>
            <a:custGeom>
              <a:avLst/>
              <a:gdLst/>
              <a:ahLst/>
              <a:rect l="0" t="0" r="r" b="b"/>
              <a:pathLst>
                <a:path w="3877" h="2431">
                  <a:moveTo>
                    <a:pt x="3877" y="1231"/>
                  </a:moveTo>
                  <a:lnTo>
                    <a:pt x="3383" y="1832"/>
                  </a:lnTo>
                  <a:lnTo>
                    <a:pt x="2889" y="2431"/>
                  </a:lnTo>
                  <a:lnTo>
                    <a:pt x="1935" y="2431"/>
                  </a:lnTo>
                  <a:lnTo>
                    <a:pt x="952" y="2431"/>
                  </a:lnTo>
                  <a:lnTo>
                    <a:pt x="493" y="1832"/>
                  </a:lnTo>
                  <a:lnTo>
                    <a:pt x="0" y="1231"/>
                  </a:lnTo>
                  <a:lnTo>
                    <a:pt x="493" y="636"/>
                  </a:lnTo>
                  <a:lnTo>
                    <a:pt x="952" y="0"/>
                  </a:lnTo>
                  <a:lnTo>
                    <a:pt x="1935" y="0"/>
                  </a:lnTo>
                  <a:lnTo>
                    <a:pt x="2889" y="0"/>
                  </a:lnTo>
                  <a:lnTo>
                    <a:pt x="3383" y="636"/>
                  </a:lnTo>
                  <a:lnTo>
                    <a:pt x="3877" y="1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4518000" y="2576520"/>
              <a:ext cx="1395720" cy="900360"/>
            </a:xfrm>
            <a:custGeom>
              <a:avLst/>
              <a:gdLst/>
              <a:ahLst/>
              <a:rect l="0" t="0" r="r" b="b"/>
              <a:pathLst>
                <a:path fill="none" w="3877" h="2501">
                  <a:moveTo>
                    <a:pt x="3877" y="1266"/>
                  </a:moveTo>
                  <a:lnTo>
                    <a:pt x="2889" y="2501"/>
                  </a:lnTo>
                  <a:lnTo>
                    <a:pt x="952" y="2501"/>
                  </a:lnTo>
                  <a:lnTo>
                    <a:pt x="0" y="1266"/>
                  </a:lnTo>
                  <a:lnTo>
                    <a:pt x="952" y="0"/>
                  </a:lnTo>
                  <a:lnTo>
                    <a:pt x="288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 txBox="1"/>
            <p:nvPr/>
          </p:nvSpPr>
          <p:spPr>
            <a:xfrm>
              <a:off x="5046840" y="2521080"/>
              <a:ext cx="331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 txBox="1"/>
            <p:nvPr/>
          </p:nvSpPr>
          <p:spPr>
            <a:xfrm>
              <a:off x="4692600" y="2673360"/>
              <a:ext cx="10303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ldup effec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 txBox="1"/>
            <p:nvPr/>
          </p:nvSpPr>
          <p:spPr>
            <a:xfrm>
              <a:off x="4705200" y="2824200"/>
              <a:ext cx="996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gligible 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 txBox="1"/>
            <p:nvPr/>
          </p:nvSpPr>
          <p:spPr>
            <a:xfrm>
              <a:off x="4870440" y="2976480"/>
              <a:ext cx="684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stem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 txBox="1"/>
            <p:nvPr/>
          </p:nvSpPr>
          <p:spPr>
            <a:xfrm>
              <a:off x="4908600" y="3129120"/>
              <a:ext cx="611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ghl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 txBox="1"/>
            <p:nvPr/>
          </p:nvSpPr>
          <p:spPr>
            <a:xfrm>
              <a:off x="4946760" y="3281400"/>
              <a:ext cx="496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iff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3021120" y="4732200"/>
              <a:ext cx="1370160" cy="36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 txBox="1"/>
            <p:nvPr/>
          </p:nvSpPr>
          <p:spPr>
            <a:xfrm>
              <a:off x="3068640" y="4778280"/>
              <a:ext cx="1357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ified Short-c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627200" y="4084560"/>
              <a:ext cx="13683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 txBox="1"/>
            <p:nvPr/>
          </p:nvSpPr>
          <p:spPr>
            <a:xfrm>
              <a:off x="1978200" y="4130640"/>
              <a:ext cx="7509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rt-c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4060800" y="3654360"/>
              <a:ext cx="1370160" cy="36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 txBox="1"/>
            <p:nvPr/>
          </p:nvSpPr>
          <p:spPr>
            <a:xfrm>
              <a:off x="4260960" y="3700440"/>
              <a:ext cx="10555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mi-rigoro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7" name=""/>
            <p:cNvGrpSpPr/>
            <p:nvPr/>
          </p:nvGrpSpPr>
          <p:grpSpPr>
            <a:xfrm>
              <a:off x="6167520" y="5581800"/>
              <a:ext cx="1368360" cy="368280"/>
              <a:chOff x="6167520" y="5581800"/>
              <a:chExt cx="1368360" cy="368280"/>
            </a:xfrm>
          </p:grpSpPr>
          <p:sp>
            <p:nvSpPr>
              <p:cNvPr id="3128" name=""/>
              <p:cNvSpPr/>
              <p:nvPr/>
            </p:nvSpPr>
            <p:spPr>
              <a:xfrm>
                <a:off x="6167520" y="5581800"/>
                <a:ext cx="136836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 txBox="1"/>
              <p:nvPr/>
            </p:nvSpPr>
            <p:spPr>
              <a:xfrm>
                <a:off x="6531120" y="5627520"/>
                <a:ext cx="74304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igorou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0" name=""/>
            <p:cNvGrpSpPr/>
            <p:nvPr/>
          </p:nvGrpSpPr>
          <p:grpSpPr>
            <a:xfrm>
              <a:off x="4251240" y="5581800"/>
              <a:ext cx="1370160" cy="368280"/>
              <a:chOff x="4251240" y="5581800"/>
              <a:chExt cx="1370160" cy="368280"/>
            </a:xfrm>
          </p:grpSpPr>
          <p:sp>
            <p:nvSpPr>
              <p:cNvPr id="3131" name=""/>
              <p:cNvSpPr/>
              <p:nvPr/>
            </p:nvSpPr>
            <p:spPr>
              <a:xfrm>
                <a:off x="4251240" y="5581800"/>
                <a:ext cx="137016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 txBox="1"/>
              <p:nvPr/>
            </p:nvSpPr>
            <p:spPr>
              <a:xfrm>
                <a:off x="4425840" y="5627520"/>
                <a:ext cx="108900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duced-or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3" name=""/>
            <p:cNvSpPr/>
            <p:nvPr/>
          </p:nvSpPr>
          <p:spPr>
            <a:xfrm>
              <a:off x="5278320" y="4021200"/>
              <a:ext cx="1217880" cy="1053000"/>
            </a:xfrm>
            <a:custGeom>
              <a:avLst/>
              <a:gdLst/>
              <a:ahLst/>
              <a:rect l="0" t="0" r="r" b="b"/>
              <a:pathLst>
                <a:path w="3383" h="2925">
                  <a:moveTo>
                    <a:pt x="3383" y="1447"/>
                  </a:moveTo>
                  <a:lnTo>
                    <a:pt x="2959" y="2188"/>
                  </a:lnTo>
                  <a:lnTo>
                    <a:pt x="2536" y="2925"/>
                  </a:lnTo>
                  <a:lnTo>
                    <a:pt x="1694" y="2925"/>
                  </a:lnTo>
                  <a:lnTo>
                    <a:pt x="846" y="2925"/>
                  </a:lnTo>
                  <a:lnTo>
                    <a:pt x="423" y="2188"/>
                  </a:lnTo>
                  <a:lnTo>
                    <a:pt x="0" y="1447"/>
                  </a:lnTo>
                  <a:lnTo>
                    <a:pt x="423" y="741"/>
                  </a:lnTo>
                  <a:lnTo>
                    <a:pt x="846" y="0"/>
                  </a:lnTo>
                  <a:lnTo>
                    <a:pt x="1694" y="0"/>
                  </a:lnTo>
                  <a:lnTo>
                    <a:pt x="2536" y="0"/>
                  </a:lnTo>
                  <a:lnTo>
                    <a:pt x="2959" y="741"/>
                  </a:lnTo>
                  <a:lnTo>
                    <a:pt x="3383" y="14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5278320" y="4021200"/>
              <a:ext cx="1217880" cy="1053000"/>
            </a:xfrm>
            <a:custGeom>
              <a:avLst/>
              <a:gdLst/>
              <a:ahLst/>
              <a:rect l="0" t="0" r="r" b="b"/>
              <a:pathLst>
                <a:path fill="none" w="3383" h="2925">
                  <a:moveTo>
                    <a:pt x="3383" y="1447"/>
                  </a:moveTo>
                  <a:lnTo>
                    <a:pt x="2536" y="2925"/>
                  </a:lnTo>
                  <a:lnTo>
                    <a:pt x="846" y="2925"/>
                  </a:lnTo>
                  <a:lnTo>
                    <a:pt x="0" y="1447"/>
                  </a:lnTo>
                  <a:lnTo>
                    <a:pt x="846" y="0"/>
                  </a:lnTo>
                  <a:lnTo>
                    <a:pt x="253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 txBox="1"/>
            <p:nvPr/>
          </p:nvSpPr>
          <p:spPr>
            <a:xfrm>
              <a:off x="5681520" y="4003560"/>
              <a:ext cx="407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 txBox="1"/>
            <p:nvPr/>
          </p:nvSpPr>
          <p:spPr>
            <a:xfrm>
              <a:off x="5376960" y="4156200"/>
              <a:ext cx="1022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umn lar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 txBox="1"/>
            <p:nvPr/>
          </p:nvSpPr>
          <p:spPr>
            <a:xfrm>
              <a:off x="5415120" y="4308480"/>
              <a:ext cx="936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packed,  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 txBox="1"/>
            <p:nvPr/>
          </p:nvSpPr>
          <p:spPr>
            <a:xfrm>
              <a:off x="5440320" y="4460760"/>
              <a:ext cx="8859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te-base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 txBox="1"/>
            <p:nvPr/>
          </p:nvSpPr>
          <p:spPr>
            <a:xfrm>
              <a:off x="5452920" y="4613400"/>
              <a:ext cx="865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mul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 txBox="1"/>
            <p:nvPr/>
          </p:nvSpPr>
          <p:spPr>
            <a:xfrm>
              <a:off x="5516640" y="4765680"/>
              <a:ext cx="692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ired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1" name=""/>
            <p:cNvGrpSpPr/>
            <p:nvPr/>
          </p:nvGrpSpPr>
          <p:grpSpPr>
            <a:xfrm>
              <a:off x="4024440" y="1143000"/>
              <a:ext cx="125640" cy="254520"/>
              <a:chOff x="4024440" y="1143000"/>
              <a:chExt cx="125640" cy="254520"/>
            </a:xfrm>
          </p:grpSpPr>
          <p:sp>
            <p:nvSpPr>
              <p:cNvPr id="3142" name=""/>
              <p:cNvSpPr/>
              <p:nvPr/>
            </p:nvSpPr>
            <p:spPr>
              <a:xfrm>
                <a:off x="4024440" y="1231920"/>
                <a:ext cx="125640" cy="165600"/>
              </a:xfrm>
              <a:custGeom>
                <a:avLst/>
                <a:gdLst/>
                <a:ahLst/>
                <a:rect l="0" t="0" r="r" b="b"/>
                <a:pathLst>
                  <a:path w="349" h="460">
                    <a:moveTo>
                      <a:pt x="171" y="460"/>
                    </a:moveTo>
                    <a:lnTo>
                      <a:pt x="0" y="0"/>
                    </a:lnTo>
                    <a:lnTo>
                      <a:pt x="171" y="0"/>
                    </a:lnTo>
                    <a:lnTo>
                      <a:pt x="349" y="0"/>
                    </a:lnTo>
                    <a:lnTo>
                      <a:pt x="171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 flipV="1">
                <a:off x="4086360" y="114300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4" name=""/>
            <p:cNvSpPr/>
            <p:nvPr/>
          </p:nvSpPr>
          <p:spPr>
            <a:xfrm>
              <a:off x="2982960" y="175248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873680" y="175248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6" name=""/>
            <p:cNvGrpSpPr/>
            <p:nvPr/>
          </p:nvGrpSpPr>
          <p:grpSpPr>
            <a:xfrm>
              <a:off x="5151600" y="1752480"/>
              <a:ext cx="127440" cy="837360"/>
              <a:chOff x="5151600" y="1752480"/>
              <a:chExt cx="127440" cy="837360"/>
            </a:xfrm>
          </p:grpSpPr>
          <p:sp>
            <p:nvSpPr>
              <p:cNvPr id="3147" name=""/>
              <p:cNvSpPr/>
              <p:nvPr/>
            </p:nvSpPr>
            <p:spPr>
              <a:xfrm>
                <a:off x="5151600" y="2424240"/>
                <a:ext cx="127440" cy="165600"/>
              </a:xfrm>
              <a:custGeom>
                <a:avLst/>
                <a:gdLst/>
                <a:ahLst/>
                <a:rect l="0" t="0" r="r" b="b"/>
                <a:pathLst>
                  <a:path w="354" h="460">
                    <a:moveTo>
                      <a:pt x="177" y="460"/>
                    </a:moveTo>
                    <a:lnTo>
                      <a:pt x="0" y="0"/>
                    </a:lnTo>
                    <a:lnTo>
                      <a:pt x="177" y="0"/>
                    </a:lnTo>
                    <a:lnTo>
                      <a:pt x="354" y="0"/>
                    </a:lnTo>
                    <a:lnTo>
                      <a:pt x="177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V="1">
                <a:off x="5214960" y="1752480"/>
                <a:ext cx="0" cy="6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9" name=""/>
            <p:cNvGrpSpPr/>
            <p:nvPr/>
          </p:nvGrpSpPr>
          <p:grpSpPr>
            <a:xfrm>
              <a:off x="2908440" y="1752480"/>
              <a:ext cx="125640" cy="837360"/>
              <a:chOff x="2908440" y="1752480"/>
              <a:chExt cx="125640" cy="837360"/>
            </a:xfrm>
          </p:grpSpPr>
          <p:sp>
            <p:nvSpPr>
              <p:cNvPr id="3150" name=""/>
              <p:cNvSpPr/>
              <p:nvPr/>
            </p:nvSpPr>
            <p:spPr>
              <a:xfrm>
                <a:off x="2908440" y="2424240"/>
                <a:ext cx="125640" cy="165600"/>
              </a:xfrm>
              <a:custGeom>
                <a:avLst/>
                <a:gdLst/>
                <a:ahLst/>
                <a:rect l="0" t="0" r="r" b="b"/>
                <a:pathLst>
                  <a:path w="349" h="460">
                    <a:moveTo>
                      <a:pt x="171" y="460"/>
                    </a:moveTo>
                    <a:lnTo>
                      <a:pt x="0" y="0"/>
                    </a:lnTo>
                    <a:lnTo>
                      <a:pt x="171" y="0"/>
                    </a:lnTo>
                    <a:lnTo>
                      <a:pt x="349" y="0"/>
                    </a:lnTo>
                    <a:lnTo>
                      <a:pt x="171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V="1">
                <a:off x="2970360" y="1752480"/>
                <a:ext cx="0" cy="6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2" name=""/>
            <p:cNvGrpSpPr/>
            <p:nvPr/>
          </p:nvGrpSpPr>
          <p:grpSpPr>
            <a:xfrm>
              <a:off x="2120760" y="3019320"/>
              <a:ext cx="127440" cy="1065600"/>
              <a:chOff x="2120760" y="3019320"/>
              <a:chExt cx="127440" cy="1065600"/>
            </a:xfrm>
          </p:grpSpPr>
          <p:sp>
            <p:nvSpPr>
              <p:cNvPr id="3153" name=""/>
              <p:cNvSpPr/>
              <p:nvPr/>
            </p:nvSpPr>
            <p:spPr>
              <a:xfrm>
                <a:off x="2120760" y="3921120"/>
                <a:ext cx="127440" cy="163800"/>
              </a:xfrm>
              <a:custGeom>
                <a:avLst/>
                <a:gdLst/>
                <a:ahLst/>
                <a:rect l="0" t="0" r="r" b="b"/>
                <a:pathLst>
                  <a:path w="354" h="455">
                    <a:moveTo>
                      <a:pt x="177" y="455"/>
                    </a:moveTo>
                    <a:lnTo>
                      <a:pt x="0" y="0"/>
                    </a:lnTo>
                    <a:lnTo>
                      <a:pt x="177" y="0"/>
                    </a:lnTo>
                    <a:lnTo>
                      <a:pt x="354" y="0"/>
                    </a:lnTo>
                    <a:lnTo>
                      <a:pt x="177" y="45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 flipV="1">
                <a:off x="2184480" y="3019320"/>
                <a:ext cx="0" cy="90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5" name=""/>
            <p:cNvSpPr/>
            <p:nvPr/>
          </p:nvSpPr>
          <p:spPr>
            <a:xfrm>
              <a:off x="2184480" y="301932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3782880" y="3006720"/>
              <a:ext cx="190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7" name=""/>
            <p:cNvGrpSpPr/>
            <p:nvPr/>
          </p:nvGrpSpPr>
          <p:grpSpPr>
            <a:xfrm>
              <a:off x="3897360" y="3006720"/>
              <a:ext cx="127440" cy="1726200"/>
              <a:chOff x="3897360" y="3006720"/>
              <a:chExt cx="127440" cy="1726200"/>
            </a:xfrm>
          </p:grpSpPr>
          <p:sp>
            <p:nvSpPr>
              <p:cNvPr id="3158" name=""/>
              <p:cNvSpPr/>
              <p:nvPr/>
            </p:nvSpPr>
            <p:spPr>
              <a:xfrm>
                <a:off x="3897360" y="4567320"/>
                <a:ext cx="127440" cy="165600"/>
              </a:xfrm>
              <a:custGeom>
                <a:avLst/>
                <a:gdLst/>
                <a:ahLst/>
                <a:rect l="0" t="0" r="r" b="b"/>
                <a:pathLst>
                  <a:path w="354" h="460">
                    <a:moveTo>
                      <a:pt x="177" y="460"/>
                    </a:moveTo>
                    <a:lnTo>
                      <a:pt x="0" y="0"/>
                    </a:lnTo>
                    <a:lnTo>
                      <a:pt x="177" y="0"/>
                    </a:lnTo>
                    <a:lnTo>
                      <a:pt x="354" y="0"/>
                    </a:lnTo>
                    <a:lnTo>
                      <a:pt x="177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 flipV="1">
                <a:off x="3960720" y="3006720"/>
                <a:ext cx="0" cy="156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0" name=""/>
            <p:cNvGrpSpPr/>
            <p:nvPr/>
          </p:nvGrpSpPr>
          <p:grpSpPr>
            <a:xfrm>
              <a:off x="4441680" y="3006720"/>
              <a:ext cx="127440" cy="648360"/>
              <a:chOff x="4441680" y="3006720"/>
              <a:chExt cx="127440" cy="648360"/>
            </a:xfrm>
          </p:grpSpPr>
          <p:sp>
            <p:nvSpPr>
              <p:cNvPr id="3161" name=""/>
              <p:cNvSpPr/>
              <p:nvPr/>
            </p:nvSpPr>
            <p:spPr>
              <a:xfrm>
                <a:off x="4441680" y="3489480"/>
                <a:ext cx="127440" cy="165600"/>
              </a:xfrm>
              <a:custGeom>
                <a:avLst/>
                <a:gdLst/>
                <a:ahLst/>
                <a:rect l="0" t="0" r="r" b="b"/>
                <a:pathLst>
                  <a:path w="354" h="460">
                    <a:moveTo>
                      <a:pt x="177" y="460"/>
                    </a:moveTo>
                    <a:lnTo>
                      <a:pt x="0" y="0"/>
                    </a:lnTo>
                    <a:lnTo>
                      <a:pt x="177" y="0"/>
                    </a:lnTo>
                    <a:lnTo>
                      <a:pt x="354" y="0"/>
                    </a:lnTo>
                    <a:lnTo>
                      <a:pt x="177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 flipV="1">
                <a:off x="4505400" y="300672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3" name=""/>
            <p:cNvGrpSpPr/>
            <p:nvPr/>
          </p:nvGrpSpPr>
          <p:grpSpPr>
            <a:xfrm>
              <a:off x="5850000" y="3019320"/>
              <a:ext cx="127440" cy="989280"/>
              <a:chOff x="5850000" y="3019320"/>
              <a:chExt cx="127440" cy="989280"/>
            </a:xfrm>
          </p:grpSpPr>
          <p:sp>
            <p:nvSpPr>
              <p:cNvPr id="3164" name=""/>
              <p:cNvSpPr/>
              <p:nvPr/>
            </p:nvSpPr>
            <p:spPr>
              <a:xfrm>
                <a:off x="5850000" y="3844800"/>
                <a:ext cx="127440" cy="163800"/>
              </a:xfrm>
              <a:custGeom>
                <a:avLst/>
                <a:gdLst/>
                <a:ahLst/>
                <a:rect l="0" t="0" r="r" b="b"/>
                <a:pathLst>
                  <a:path w="354" h="455">
                    <a:moveTo>
                      <a:pt x="177" y="455"/>
                    </a:moveTo>
                    <a:lnTo>
                      <a:pt x="0" y="0"/>
                    </a:lnTo>
                    <a:lnTo>
                      <a:pt x="177" y="0"/>
                    </a:lnTo>
                    <a:lnTo>
                      <a:pt x="354" y="0"/>
                    </a:lnTo>
                    <a:lnTo>
                      <a:pt x="177" y="45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 flipV="1">
                <a:off x="5913360" y="3019320"/>
                <a:ext cx="0" cy="82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6" name=""/>
            <p:cNvSpPr/>
            <p:nvPr/>
          </p:nvSpPr>
          <p:spPr>
            <a:xfrm>
              <a:off x="4911840" y="4440240"/>
              <a:ext cx="392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6534000" y="445284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8" name=""/>
            <p:cNvGrpSpPr/>
            <p:nvPr/>
          </p:nvGrpSpPr>
          <p:grpSpPr>
            <a:xfrm>
              <a:off x="4848120" y="4440240"/>
              <a:ext cx="127440" cy="1116360"/>
              <a:chOff x="4848120" y="4440240"/>
              <a:chExt cx="127440" cy="1116360"/>
            </a:xfrm>
          </p:grpSpPr>
          <p:sp>
            <p:nvSpPr>
              <p:cNvPr id="3169" name=""/>
              <p:cNvSpPr/>
              <p:nvPr/>
            </p:nvSpPr>
            <p:spPr>
              <a:xfrm>
                <a:off x="4848120" y="5391000"/>
                <a:ext cx="127440" cy="165600"/>
              </a:xfrm>
              <a:custGeom>
                <a:avLst/>
                <a:gdLst/>
                <a:ahLst/>
                <a:rect l="0" t="0" r="r" b="b"/>
                <a:pathLst>
                  <a:path w="354" h="460">
                    <a:moveTo>
                      <a:pt x="177" y="460"/>
                    </a:moveTo>
                    <a:lnTo>
                      <a:pt x="0" y="0"/>
                    </a:lnTo>
                    <a:lnTo>
                      <a:pt x="177" y="0"/>
                    </a:lnTo>
                    <a:lnTo>
                      <a:pt x="354" y="0"/>
                    </a:lnTo>
                    <a:lnTo>
                      <a:pt x="177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V="1">
                <a:off x="4911840" y="4440240"/>
                <a:ext cx="0" cy="9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1" name=""/>
            <p:cNvGrpSpPr/>
            <p:nvPr/>
          </p:nvGrpSpPr>
          <p:grpSpPr>
            <a:xfrm>
              <a:off x="6864480" y="4452840"/>
              <a:ext cx="127440" cy="1129320"/>
              <a:chOff x="6864480" y="4452840"/>
              <a:chExt cx="127440" cy="1129320"/>
            </a:xfrm>
          </p:grpSpPr>
          <p:sp>
            <p:nvSpPr>
              <p:cNvPr id="3172" name=""/>
              <p:cNvSpPr/>
              <p:nvPr/>
            </p:nvSpPr>
            <p:spPr>
              <a:xfrm>
                <a:off x="6864480" y="5416560"/>
                <a:ext cx="127440" cy="165600"/>
              </a:xfrm>
              <a:custGeom>
                <a:avLst/>
                <a:gdLst/>
                <a:ahLst/>
                <a:rect l="0" t="0" r="r" b="b"/>
                <a:pathLst>
                  <a:path w="354" h="460">
                    <a:moveTo>
                      <a:pt x="177" y="460"/>
                    </a:moveTo>
                    <a:lnTo>
                      <a:pt x="0" y="0"/>
                    </a:lnTo>
                    <a:lnTo>
                      <a:pt x="177" y="0"/>
                    </a:lnTo>
                    <a:lnTo>
                      <a:pt x="354" y="0"/>
                    </a:lnTo>
                    <a:lnTo>
                      <a:pt x="177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V="1">
                <a:off x="6927840" y="4452840"/>
                <a:ext cx="0" cy="9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4" name=""/>
            <p:cNvSpPr txBox="1"/>
            <p:nvPr/>
          </p:nvSpPr>
          <p:spPr>
            <a:xfrm>
              <a:off x="2104920" y="2647800"/>
              <a:ext cx="420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 txBox="1"/>
            <p:nvPr/>
          </p:nvSpPr>
          <p:spPr>
            <a:xfrm>
              <a:off x="6568920" y="4156200"/>
              <a:ext cx="369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 txBox="1"/>
            <p:nvPr/>
          </p:nvSpPr>
          <p:spPr>
            <a:xfrm>
              <a:off x="2992320" y="1494000"/>
              <a:ext cx="420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 txBox="1"/>
            <p:nvPr/>
          </p:nvSpPr>
          <p:spPr>
            <a:xfrm>
              <a:off x="4933800" y="1506600"/>
              <a:ext cx="369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 txBox="1"/>
            <p:nvPr/>
          </p:nvSpPr>
          <p:spPr>
            <a:xfrm>
              <a:off x="5732640" y="2647800"/>
              <a:ext cx="369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 txBox="1"/>
            <p:nvPr/>
          </p:nvSpPr>
          <p:spPr>
            <a:xfrm>
              <a:off x="4299120" y="2647800"/>
              <a:ext cx="420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 txBox="1"/>
            <p:nvPr/>
          </p:nvSpPr>
          <p:spPr>
            <a:xfrm>
              <a:off x="3767040" y="2660760"/>
              <a:ext cx="369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 txBox="1"/>
            <p:nvPr/>
          </p:nvSpPr>
          <p:spPr>
            <a:xfrm>
              <a:off x="4946760" y="4118040"/>
              <a:ext cx="420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 txBox="1"/>
            <p:nvPr/>
          </p:nvSpPr>
          <p:spPr>
            <a:xfrm>
              <a:off x="2941560" y="54000"/>
              <a:ext cx="3365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uidelines for the Use of Mod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 txBox="1"/>
            <p:nvPr/>
          </p:nvSpPr>
          <p:spPr>
            <a:xfrm>
              <a:off x="2536920" y="6261120"/>
              <a:ext cx="565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 txBox="1"/>
            <p:nvPr/>
          </p:nvSpPr>
          <p:spPr>
            <a:xfrm>
              <a:off x="7545240" y="5462640"/>
              <a:ext cx="22716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 txBox="1"/>
            <p:nvPr/>
          </p:nvSpPr>
          <p:spPr>
            <a:xfrm>
              <a:off x="7545240" y="5665680"/>
              <a:ext cx="22716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 txBox="1"/>
            <p:nvPr/>
          </p:nvSpPr>
          <p:spPr>
            <a:xfrm>
              <a:off x="1268280" y="3940200"/>
              <a:ext cx="22716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 txBox="1"/>
            <p:nvPr/>
          </p:nvSpPr>
          <p:spPr>
            <a:xfrm>
              <a:off x="1268280" y="4143240"/>
              <a:ext cx="22716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 txBox="1"/>
            <p:nvPr/>
          </p:nvSpPr>
          <p:spPr>
            <a:xfrm>
              <a:off x="7545240" y="5576760"/>
              <a:ext cx="43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 txBox="1"/>
            <p:nvPr/>
          </p:nvSpPr>
          <p:spPr>
            <a:xfrm>
              <a:off x="7545240" y="578016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 txBox="1"/>
            <p:nvPr/>
          </p:nvSpPr>
          <p:spPr>
            <a:xfrm>
              <a:off x="1268280" y="4054320"/>
              <a:ext cx="43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 txBox="1"/>
            <p:nvPr/>
          </p:nvSpPr>
          <p:spPr>
            <a:xfrm>
              <a:off x="1268280" y="42577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Modeling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 txBox="1"/>
          <p:nvPr/>
        </p:nvSpPr>
        <p:spPr>
          <a:xfrm>
            <a:off x="1978200" y="2425680"/>
            <a:ext cx="50655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steady state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perating Mode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(linear represent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5" name=""/>
          <p:cNvGrpSpPr/>
          <p:nvPr/>
        </p:nvGrpSpPr>
        <p:grpSpPr>
          <a:xfrm>
            <a:off x="1552680" y="2652840"/>
            <a:ext cx="2365200" cy="2344680"/>
            <a:chOff x="1552680" y="2652840"/>
            <a:chExt cx="2365200" cy="2344680"/>
          </a:xfrm>
        </p:grpSpPr>
        <p:sp>
          <p:nvSpPr>
            <p:cNvPr id="3196" name=""/>
            <p:cNvSpPr/>
            <p:nvPr/>
          </p:nvSpPr>
          <p:spPr>
            <a:xfrm>
              <a:off x="1552680" y="2652840"/>
              <a:ext cx="0" cy="23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 flipH="1">
              <a:off x="1573200" y="4987800"/>
              <a:ext cx="2344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8" name=""/>
          <p:cNvGrpSpPr/>
          <p:nvPr/>
        </p:nvGrpSpPr>
        <p:grpSpPr>
          <a:xfrm>
            <a:off x="5251320" y="2673360"/>
            <a:ext cx="2365560" cy="2344680"/>
            <a:chOff x="5251320" y="2673360"/>
            <a:chExt cx="2365560" cy="2344680"/>
          </a:xfrm>
        </p:grpSpPr>
        <p:sp>
          <p:nvSpPr>
            <p:cNvPr id="3199" name=""/>
            <p:cNvSpPr/>
            <p:nvPr/>
          </p:nvSpPr>
          <p:spPr>
            <a:xfrm>
              <a:off x="5251320" y="2673360"/>
              <a:ext cx="0" cy="23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 flipH="1">
              <a:off x="5272200" y="5008680"/>
              <a:ext cx="2344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1" name=""/>
          <p:cNvSpPr/>
          <p:nvPr/>
        </p:nvSpPr>
        <p:spPr>
          <a:xfrm>
            <a:off x="1568520" y="3765600"/>
            <a:ext cx="213840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5246640" y="3765600"/>
            <a:ext cx="2183040" cy="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 flipV="1">
            <a:off x="1641600" y="2975040"/>
            <a:ext cx="2050920" cy="1552680"/>
          </a:xfrm>
          <a:prstGeom prst="line">
            <a:avLst/>
          </a:prstGeom>
          <a:ln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 flipV="1">
            <a:off x="1611360" y="3457440"/>
            <a:ext cx="2286000" cy="543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5289480" y="2871720"/>
            <a:ext cx="2052720" cy="172872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5275440" y="3355920"/>
            <a:ext cx="2490480" cy="9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 txBox="1"/>
          <p:nvPr/>
        </p:nvSpPr>
        <p:spPr>
          <a:xfrm>
            <a:off x="801720" y="3429000"/>
            <a:ext cx="441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 txBox="1"/>
          <p:nvPr/>
        </p:nvSpPr>
        <p:spPr>
          <a:xfrm>
            <a:off x="2706840" y="5084640"/>
            <a:ext cx="401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 txBox="1"/>
          <p:nvPr/>
        </p:nvSpPr>
        <p:spPr>
          <a:xfrm>
            <a:off x="4861080" y="2081160"/>
            <a:ext cx="53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 txBox="1"/>
          <p:nvPr/>
        </p:nvSpPr>
        <p:spPr>
          <a:xfrm>
            <a:off x="6062760" y="5070600"/>
            <a:ext cx="401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 txBox="1"/>
          <p:nvPr/>
        </p:nvSpPr>
        <p:spPr>
          <a:xfrm>
            <a:off x="1887480" y="2579760"/>
            <a:ext cx="180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  <a:ea typeface="Arial"/>
              </a:rPr>
              <a:t>Variable refl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 txBox="1"/>
          <p:nvPr/>
        </p:nvSpPr>
        <p:spPr>
          <a:xfrm>
            <a:off x="3657600" y="3051000"/>
            <a:ext cx="175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ptimal refl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 txBox="1"/>
          <p:nvPr/>
        </p:nvSpPr>
        <p:spPr>
          <a:xfrm>
            <a:off x="6934320" y="3801960"/>
            <a:ext cx="180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  <a:ea typeface="Arial"/>
              </a:rPr>
              <a:t>Variable refl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 txBox="1"/>
          <p:nvPr/>
        </p:nvSpPr>
        <p:spPr>
          <a:xfrm>
            <a:off x="3191040" y="3835440"/>
            <a:ext cx="1720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onstant re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 txBox="1"/>
          <p:nvPr/>
        </p:nvSpPr>
        <p:spPr>
          <a:xfrm>
            <a:off x="5349960" y="2478240"/>
            <a:ext cx="1720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onstant re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"/>
          <p:cNvSpPr txBox="1"/>
          <p:nvPr/>
        </p:nvSpPr>
        <p:spPr>
          <a:xfrm>
            <a:off x="158760" y="225360"/>
            <a:ext cx="857556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atch Distillation Column Softwar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 txBox="1"/>
          <p:nvPr/>
        </p:nvSpPr>
        <p:spPr>
          <a:xfrm>
            <a:off x="719280" y="760320"/>
            <a:ext cx="3478320" cy="57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indow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ata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eration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stant Re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ariable Re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ixed Eqn. Opt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al Re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hort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mirigor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duced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igor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ign Fea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active Disti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 phase Disti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Uncertainty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Configu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Semi-b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Recycle waste 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Rec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Strip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Middle Ves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 txBox="1"/>
          <p:nvPr/>
        </p:nvSpPr>
        <p:spPr>
          <a:xfrm>
            <a:off x="3771720" y="760320"/>
            <a:ext cx="510696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User friendly state of the art input/output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bility to generate data from structural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Yield improvement due to operational flexibility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ystematic optimization/optimal control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Hierarchy of models for numerical stability, design feasibility, and advanced system desig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dvanced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Emerging designs provide promising directions for cost effective designs to obtain purer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482616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482616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645624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645624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645624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717876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4826160" y="129060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6456240" y="128736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7470720" y="128736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3201840" y="1622520"/>
            <a:ext cx="2109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3201840" y="1792440"/>
            <a:ext cx="2109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482616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482616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645624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645624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645624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717876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"/>
          <p:cNvSpPr/>
          <p:nvPr/>
        </p:nvSpPr>
        <p:spPr>
          <a:xfrm>
            <a:off x="5815080" y="2322360"/>
            <a:ext cx="685800" cy="2328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7" name=""/>
          <p:cNvGrpSpPr/>
          <p:nvPr/>
        </p:nvGrpSpPr>
        <p:grpSpPr>
          <a:xfrm>
            <a:off x="5815080" y="2046240"/>
            <a:ext cx="686160" cy="274320"/>
            <a:chOff x="5815080" y="2046240"/>
            <a:chExt cx="686160" cy="274320"/>
          </a:xfrm>
        </p:grpSpPr>
        <p:sp>
          <p:nvSpPr>
            <p:cNvPr id="3238" name=""/>
            <p:cNvSpPr/>
            <p:nvPr/>
          </p:nvSpPr>
          <p:spPr>
            <a:xfrm>
              <a:off x="5815080" y="204624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954" y="0"/>
                  </a:moveTo>
                  <a:lnTo>
                    <a:pt x="954" y="0"/>
                  </a:lnTo>
                  <a:cubicBezTo>
                    <a:pt x="787" y="0"/>
                    <a:pt x="622" y="35"/>
                    <a:pt x="477" y="102"/>
                  </a:cubicBezTo>
                  <a:cubicBezTo>
                    <a:pt x="332" y="169"/>
                    <a:pt x="212" y="265"/>
                    <a:pt x="128" y="381"/>
                  </a:cubicBezTo>
                  <a:cubicBezTo>
                    <a:pt x="44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6157800" y="204624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954" y="762"/>
                  </a:moveTo>
                  <a:lnTo>
                    <a:pt x="954" y="762"/>
                  </a:lnTo>
                  <a:lnTo>
                    <a:pt x="954" y="762"/>
                  </a:lnTo>
                  <a:cubicBezTo>
                    <a:pt x="954" y="628"/>
                    <a:pt x="910" y="497"/>
                    <a:pt x="826" y="381"/>
                  </a:cubicBezTo>
                  <a:cubicBezTo>
                    <a:pt x="742" y="265"/>
                    <a:pt x="622" y="169"/>
                    <a:pt x="477" y="102"/>
                  </a:cubicBezTo>
                  <a:cubicBezTo>
                    <a:pt x="332" y="35"/>
                    <a:pt x="167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0" name=""/>
          <p:cNvGrpSpPr/>
          <p:nvPr/>
        </p:nvGrpSpPr>
        <p:grpSpPr>
          <a:xfrm>
            <a:off x="5815080" y="4658400"/>
            <a:ext cx="686160" cy="274320"/>
            <a:chOff x="5815080" y="4658400"/>
            <a:chExt cx="686160" cy="274320"/>
          </a:xfrm>
        </p:grpSpPr>
        <p:sp>
          <p:nvSpPr>
            <p:cNvPr id="3241" name=""/>
            <p:cNvSpPr/>
            <p:nvPr/>
          </p:nvSpPr>
          <p:spPr>
            <a:xfrm>
              <a:off x="5815080" y="4658400"/>
              <a:ext cx="345600" cy="274320"/>
            </a:xfrm>
            <a:custGeom>
              <a:avLst/>
              <a:gdLst/>
              <a:ahLst/>
              <a:rect l="0" t="0" r="r" b="b"/>
              <a:pathLst>
                <a:path fill="none" w="960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44" y="265"/>
                    <a:pt x="129" y="381"/>
                  </a:cubicBezTo>
                  <a:cubicBezTo>
                    <a:pt x="213" y="497"/>
                    <a:pt x="334" y="593"/>
                    <a:pt x="480" y="660"/>
                  </a:cubicBezTo>
                  <a:cubicBezTo>
                    <a:pt x="626" y="727"/>
                    <a:pt x="791" y="762"/>
                    <a:pt x="96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6157800" y="4658400"/>
              <a:ext cx="343440" cy="274320"/>
            </a:xfrm>
            <a:custGeom>
              <a:avLst/>
              <a:gdLst/>
              <a:ahLst/>
              <a:rect l="0" t="0" r="r" b="b"/>
              <a:pathLst>
                <a:path fill="none" w="954" h="762">
                  <a:moveTo>
                    <a:pt x="0" y="762"/>
                  </a:moveTo>
                  <a:lnTo>
                    <a:pt x="0" y="762"/>
                  </a:lnTo>
                  <a:cubicBezTo>
                    <a:pt x="167" y="762"/>
                    <a:pt x="332" y="727"/>
                    <a:pt x="477" y="660"/>
                  </a:cubicBezTo>
                  <a:cubicBezTo>
                    <a:pt x="622" y="593"/>
                    <a:pt x="742" y="497"/>
                    <a:pt x="826" y="381"/>
                  </a:cubicBezTo>
                  <a:cubicBezTo>
                    <a:pt x="910" y="265"/>
                    <a:pt x="954" y="134"/>
                    <a:pt x="95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3" name=""/>
          <p:cNvSpPr/>
          <p:nvPr/>
        </p:nvSpPr>
        <p:spPr>
          <a:xfrm>
            <a:off x="5472000" y="541332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5472000" y="5961240"/>
            <a:ext cx="138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5" name=""/>
          <p:cNvGrpSpPr/>
          <p:nvPr/>
        </p:nvGrpSpPr>
        <p:grpSpPr>
          <a:xfrm>
            <a:off x="6841440" y="5408640"/>
            <a:ext cx="274320" cy="548280"/>
            <a:chOff x="6841440" y="5408640"/>
            <a:chExt cx="274320" cy="548280"/>
          </a:xfrm>
        </p:grpSpPr>
        <p:sp>
          <p:nvSpPr>
            <p:cNvPr id="3246" name=""/>
            <p:cNvSpPr/>
            <p:nvPr/>
          </p:nvSpPr>
          <p:spPr>
            <a:xfrm>
              <a:off x="6841440" y="54086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762"/>
                  </a:moveTo>
                  <a:lnTo>
                    <a:pt x="762" y="762"/>
                  </a:lnTo>
                  <a:lnTo>
                    <a:pt x="762" y="762"/>
                  </a:lnTo>
                  <a:cubicBezTo>
                    <a:pt x="762" y="628"/>
                    <a:pt x="727" y="497"/>
                    <a:pt x="660" y="381"/>
                  </a:cubicBezTo>
                  <a:cubicBezTo>
                    <a:pt x="593" y="265"/>
                    <a:pt x="497" y="169"/>
                    <a:pt x="381" y="102"/>
                  </a:cubicBezTo>
                  <a:cubicBezTo>
                    <a:pt x="265" y="35"/>
                    <a:pt x="13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6841440" y="568260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762"/>
                  </a:moveTo>
                  <a:lnTo>
                    <a:pt x="0" y="762"/>
                  </a:lnTo>
                  <a:cubicBezTo>
                    <a:pt x="134" y="762"/>
                    <a:pt x="265" y="727"/>
                    <a:pt x="381" y="660"/>
                  </a:cubicBezTo>
                  <a:cubicBezTo>
                    <a:pt x="497" y="593"/>
                    <a:pt x="593" y="497"/>
                    <a:pt x="660" y="381"/>
                  </a:cubicBezTo>
                  <a:cubicBezTo>
                    <a:pt x="727" y="265"/>
                    <a:pt x="762" y="134"/>
                    <a:pt x="76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8" name=""/>
          <p:cNvGrpSpPr/>
          <p:nvPr/>
        </p:nvGrpSpPr>
        <p:grpSpPr>
          <a:xfrm>
            <a:off x="5195880" y="5408640"/>
            <a:ext cx="274320" cy="548280"/>
            <a:chOff x="5195880" y="5408640"/>
            <a:chExt cx="274320" cy="548280"/>
          </a:xfrm>
        </p:grpSpPr>
        <p:sp>
          <p:nvSpPr>
            <p:cNvPr id="3249" name=""/>
            <p:cNvSpPr/>
            <p:nvPr/>
          </p:nvSpPr>
          <p:spPr>
            <a:xfrm>
              <a:off x="5195880" y="568260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35" y="265"/>
                    <a:pt x="102" y="381"/>
                  </a:cubicBezTo>
                  <a:cubicBezTo>
                    <a:pt x="169" y="497"/>
                    <a:pt x="265" y="593"/>
                    <a:pt x="381" y="660"/>
                  </a:cubicBezTo>
                  <a:cubicBezTo>
                    <a:pt x="497" y="727"/>
                    <a:pt x="628" y="762"/>
                    <a:pt x="762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5195880" y="54086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0"/>
                  </a:moveTo>
                  <a:lnTo>
                    <a:pt x="762" y="0"/>
                  </a:lnTo>
                  <a:cubicBezTo>
                    <a:pt x="628" y="0"/>
                    <a:pt x="497" y="35"/>
                    <a:pt x="381" y="102"/>
                  </a:cubicBezTo>
                  <a:cubicBezTo>
                    <a:pt x="265" y="169"/>
                    <a:pt x="169" y="265"/>
                    <a:pt x="102" y="381"/>
                  </a:cubicBezTo>
                  <a:cubicBezTo>
                    <a:pt x="35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1" name=""/>
          <p:cNvSpPr/>
          <p:nvPr/>
        </p:nvSpPr>
        <p:spPr>
          <a:xfrm>
            <a:off x="7167600" y="1227240"/>
            <a:ext cx="94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7162920" y="1779480"/>
            <a:ext cx="94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3" name=""/>
          <p:cNvGrpSpPr/>
          <p:nvPr/>
        </p:nvGrpSpPr>
        <p:grpSpPr>
          <a:xfrm>
            <a:off x="8096400" y="1222200"/>
            <a:ext cx="186120" cy="552960"/>
            <a:chOff x="8096400" y="1222200"/>
            <a:chExt cx="186120" cy="552960"/>
          </a:xfrm>
        </p:grpSpPr>
        <p:sp>
          <p:nvSpPr>
            <p:cNvPr id="3254" name=""/>
            <p:cNvSpPr/>
            <p:nvPr/>
          </p:nvSpPr>
          <p:spPr>
            <a:xfrm>
              <a:off x="8096400" y="122220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517" y="768"/>
                  </a:moveTo>
                  <a:lnTo>
                    <a:pt x="517" y="768"/>
                  </a:lnTo>
                  <a:lnTo>
                    <a:pt x="517" y="768"/>
                  </a:lnTo>
                  <a:cubicBezTo>
                    <a:pt x="517" y="633"/>
                    <a:pt x="493" y="501"/>
                    <a:pt x="448" y="384"/>
                  </a:cubicBezTo>
                  <a:cubicBezTo>
                    <a:pt x="402" y="267"/>
                    <a:pt x="337" y="170"/>
                    <a:pt x="258" y="103"/>
                  </a:cubicBezTo>
                  <a:cubicBezTo>
                    <a:pt x="180" y="35"/>
                    <a:pt x="9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8096400" y="149868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0" y="768"/>
                  </a:moveTo>
                  <a:lnTo>
                    <a:pt x="0" y="768"/>
                  </a:lnTo>
                  <a:cubicBezTo>
                    <a:pt x="91" y="768"/>
                    <a:pt x="180" y="733"/>
                    <a:pt x="259" y="665"/>
                  </a:cubicBezTo>
                  <a:cubicBezTo>
                    <a:pt x="337" y="598"/>
                    <a:pt x="402" y="501"/>
                    <a:pt x="448" y="384"/>
                  </a:cubicBezTo>
                  <a:cubicBezTo>
                    <a:pt x="493" y="267"/>
                    <a:pt x="517" y="135"/>
                    <a:pt x="517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6" name=""/>
          <p:cNvGrpSpPr/>
          <p:nvPr/>
        </p:nvGrpSpPr>
        <p:grpSpPr>
          <a:xfrm>
            <a:off x="6981840" y="1222200"/>
            <a:ext cx="186120" cy="552960"/>
            <a:chOff x="6981840" y="1222200"/>
            <a:chExt cx="186120" cy="552960"/>
          </a:xfrm>
        </p:grpSpPr>
        <p:sp>
          <p:nvSpPr>
            <p:cNvPr id="3257" name=""/>
            <p:cNvSpPr/>
            <p:nvPr/>
          </p:nvSpPr>
          <p:spPr>
            <a:xfrm>
              <a:off x="6981840" y="149868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0" y="0"/>
                  </a:moveTo>
                  <a:lnTo>
                    <a:pt x="0" y="0"/>
                  </a:lnTo>
                  <a:cubicBezTo>
                    <a:pt x="0" y="135"/>
                    <a:pt x="24" y="267"/>
                    <a:pt x="69" y="384"/>
                  </a:cubicBezTo>
                  <a:cubicBezTo>
                    <a:pt x="115" y="501"/>
                    <a:pt x="180" y="598"/>
                    <a:pt x="259" y="665"/>
                  </a:cubicBezTo>
                  <a:cubicBezTo>
                    <a:pt x="337" y="733"/>
                    <a:pt x="426" y="768"/>
                    <a:pt x="517" y="76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6981840" y="1222200"/>
              <a:ext cx="186120" cy="276480"/>
            </a:xfrm>
            <a:custGeom>
              <a:avLst/>
              <a:gdLst/>
              <a:ahLst/>
              <a:rect l="0" t="0" r="r" b="b"/>
              <a:pathLst>
                <a:path fill="none" w="517" h="768">
                  <a:moveTo>
                    <a:pt x="517" y="0"/>
                  </a:moveTo>
                  <a:lnTo>
                    <a:pt x="517" y="0"/>
                  </a:lnTo>
                  <a:cubicBezTo>
                    <a:pt x="426" y="0"/>
                    <a:pt x="337" y="35"/>
                    <a:pt x="258" y="103"/>
                  </a:cubicBezTo>
                  <a:cubicBezTo>
                    <a:pt x="180" y="170"/>
                    <a:pt x="115" y="267"/>
                    <a:pt x="69" y="384"/>
                  </a:cubicBezTo>
                  <a:cubicBezTo>
                    <a:pt x="24" y="501"/>
                    <a:pt x="0" y="633"/>
                    <a:pt x="0" y="76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9" name=""/>
          <p:cNvSpPr/>
          <p:nvPr/>
        </p:nvSpPr>
        <p:spPr>
          <a:xfrm>
            <a:off x="6157800" y="1498680"/>
            <a:ext cx="662400" cy="547920"/>
          </a:xfrm>
          <a:custGeom>
            <a:avLst/>
            <a:gdLst/>
            <a:ahLst/>
            <a:rect l="0" t="0" r="r" b="b"/>
            <a:pathLst>
              <a:path fill="none" w="1840" h="1522">
                <a:moveTo>
                  <a:pt x="0" y="1522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6810480" y="144612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6657840" y="1774800"/>
            <a:ext cx="1010160" cy="614880"/>
          </a:xfrm>
          <a:custGeom>
            <a:avLst/>
            <a:gdLst/>
            <a:ahLst/>
            <a:rect l="0" t="0" r="r" b="b"/>
            <a:pathLst>
              <a:path fill="none" w="2806" h="1708">
                <a:moveTo>
                  <a:pt x="0" y="1708"/>
                </a:moveTo>
                <a:lnTo>
                  <a:pt x="2806" y="1708"/>
                </a:lnTo>
                <a:lnTo>
                  <a:pt x="2806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6500880" y="233676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0" y="128"/>
                </a:moveTo>
                <a:lnTo>
                  <a:pt x="438" y="252"/>
                </a:lnTo>
                <a:lnTo>
                  <a:pt x="438" y="0"/>
                </a:lnTo>
                <a:lnTo>
                  <a:pt x="0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7667640" y="950760"/>
            <a:ext cx="662400" cy="271800"/>
          </a:xfrm>
          <a:custGeom>
            <a:avLst/>
            <a:gdLst/>
            <a:ahLst/>
            <a:rect l="0" t="0" r="r" b="b"/>
            <a:pathLst>
              <a:path fill="none" w="1840" h="755">
                <a:moveTo>
                  <a:pt x="0" y="755"/>
                </a:moveTo>
                <a:lnTo>
                  <a:pt x="0" y="0"/>
                </a:lnTo>
                <a:lnTo>
                  <a:pt x="184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8319960" y="898560"/>
            <a:ext cx="157680" cy="90720"/>
          </a:xfrm>
          <a:custGeom>
            <a:avLst/>
            <a:gdLst/>
            <a:ahLst/>
            <a:rect l="0" t="0" r="r" b="b"/>
            <a:pathLst>
              <a:path w="438" h="252">
                <a:moveTo>
                  <a:pt x="438" y="128"/>
                </a:moveTo>
                <a:lnTo>
                  <a:pt x="0" y="0"/>
                </a:lnTo>
                <a:lnTo>
                  <a:pt x="0" y="252"/>
                </a:lnTo>
                <a:lnTo>
                  <a:pt x="438" y="1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6157800" y="4927680"/>
            <a:ext cx="0" cy="480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669960" y="2909880"/>
            <a:ext cx="4944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ventional Batch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7" name=""/>
          <p:cNvGrpSpPr/>
          <p:nvPr/>
        </p:nvGrpSpPr>
        <p:grpSpPr>
          <a:xfrm>
            <a:off x="1490760" y="1973160"/>
            <a:ext cx="687960" cy="2878560"/>
            <a:chOff x="1490760" y="1973160"/>
            <a:chExt cx="687960" cy="2878560"/>
          </a:xfrm>
        </p:grpSpPr>
        <p:sp>
          <p:nvSpPr>
            <p:cNvPr id="3268" name=""/>
            <p:cNvSpPr/>
            <p:nvPr/>
          </p:nvSpPr>
          <p:spPr>
            <a:xfrm>
              <a:off x="1492200" y="2249640"/>
              <a:ext cx="685800" cy="2328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9" name=""/>
            <p:cNvGrpSpPr/>
            <p:nvPr/>
          </p:nvGrpSpPr>
          <p:grpSpPr>
            <a:xfrm>
              <a:off x="1492200" y="1973160"/>
              <a:ext cx="686160" cy="274320"/>
              <a:chOff x="1492200" y="1973160"/>
              <a:chExt cx="686160" cy="274320"/>
            </a:xfrm>
          </p:grpSpPr>
          <p:sp>
            <p:nvSpPr>
              <p:cNvPr id="3270" name=""/>
              <p:cNvSpPr/>
              <p:nvPr/>
            </p:nvSpPr>
            <p:spPr>
              <a:xfrm>
                <a:off x="1492200" y="1973160"/>
                <a:ext cx="345600" cy="274320"/>
              </a:xfrm>
              <a:custGeom>
                <a:avLst/>
                <a:gdLst/>
                <a:ahLst/>
                <a:rect l="0" t="0" r="r" b="b"/>
                <a:pathLst>
                  <a:path fill="none" w="960" h="762">
                    <a:moveTo>
                      <a:pt x="960" y="0"/>
                    </a:moveTo>
                    <a:lnTo>
                      <a:pt x="960" y="0"/>
                    </a:lnTo>
                    <a:cubicBezTo>
                      <a:pt x="791" y="0"/>
                      <a:pt x="626" y="35"/>
                      <a:pt x="480" y="102"/>
                    </a:cubicBezTo>
                    <a:cubicBezTo>
                      <a:pt x="334" y="169"/>
                      <a:pt x="213" y="265"/>
                      <a:pt x="129" y="381"/>
                    </a:cubicBezTo>
                    <a:cubicBezTo>
                      <a:pt x="44" y="497"/>
                      <a:pt x="0" y="628"/>
                      <a:pt x="0" y="762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1837440" y="1973160"/>
                <a:ext cx="340920" cy="274320"/>
              </a:xfrm>
              <a:custGeom>
                <a:avLst/>
                <a:gdLst/>
                <a:ahLst/>
                <a:rect l="0" t="0" r="r" b="b"/>
                <a:pathLst>
                  <a:path fill="none" w="947" h="762">
                    <a:moveTo>
                      <a:pt x="947" y="762"/>
                    </a:moveTo>
                    <a:lnTo>
                      <a:pt x="947" y="762"/>
                    </a:lnTo>
                    <a:lnTo>
                      <a:pt x="947" y="762"/>
                    </a:lnTo>
                    <a:cubicBezTo>
                      <a:pt x="947" y="628"/>
                      <a:pt x="903" y="497"/>
                      <a:pt x="820" y="381"/>
                    </a:cubicBezTo>
                    <a:cubicBezTo>
                      <a:pt x="737" y="265"/>
                      <a:pt x="617" y="169"/>
                      <a:pt x="473" y="102"/>
                    </a:cubicBezTo>
                    <a:cubicBezTo>
                      <a:pt x="330" y="35"/>
                      <a:pt x="166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2" name=""/>
            <p:cNvGrpSpPr/>
            <p:nvPr/>
          </p:nvGrpSpPr>
          <p:grpSpPr>
            <a:xfrm>
              <a:off x="1490760" y="4577400"/>
              <a:ext cx="687960" cy="274320"/>
              <a:chOff x="1490760" y="4577400"/>
              <a:chExt cx="687960" cy="274320"/>
            </a:xfrm>
          </p:grpSpPr>
          <p:sp>
            <p:nvSpPr>
              <p:cNvPr id="3273" name=""/>
              <p:cNvSpPr/>
              <p:nvPr/>
            </p:nvSpPr>
            <p:spPr>
              <a:xfrm>
                <a:off x="1490760" y="4577400"/>
                <a:ext cx="345600" cy="274320"/>
              </a:xfrm>
              <a:custGeom>
                <a:avLst/>
                <a:gdLst/>
                <a:ahLst/>
                <a:rect l="0" t="0" r="r" b="b"/>
                <a:pathLst>
                  <a:path fill="none" w="960" h="762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34"/>
                      <a:pt x="44" y="265"/>
                      <a:pt x="129" y="381"/>
                    </a:cubicBezTo>
                    <a:cubicBezTo>
                      <a:pt x="213" y="497"/>
                      <a:pt x="334" y="593"/>
                      <a:pt x="480" y="660"/>
                    </a:cubicBezTo>
                    <a:cubicBezTo>
                      <a:pt x="626" y="727"/>
                      <a:pt x="791" y="762"/>
                      <a:pt x="960" y="762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1835280" y="4577400"/>
                <a:ext cx="343440" cy="274320"/>
              </a:xfrm>
              <a:custGeom>
                <a:avLst/>
                <a:gdLst/>
                <a:ahLst/>
                <a:rect l="0" t="0" r="r" b="b"/>
                <a:pathLst>
                  <a:path fill="none" w="954" h="762">
                    <a:moveTo>
                      <a:pt x="0" y="762"/>
                    </a:moveTo>
                    <a:lnTo>
                      <a:pt x="0" y="762"/>
                    </a:lnTo>
                    <a:cubicBezTo>
                      <a:pt x="167" y="762"/>
                      <a:pt x="332" y="727"/>
                      <a:pt x="477" y="660"/>
                    </a:cubicBezTo>
                    <a:cubicBezTo>
                      <a:pt x="622" y="593"/>
                      <a:pt x="742" y="497"/>
                      <a:pt x="826" y="381"/>
                    </a:cubicBezTo>
                    <a:cubicBezTo>
                      <a:pt x="910" y="265"/>
                      <a:pt x="954" y="134"/>
                      <a:pt x="954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5" name=""/>
          <p:cNvSpPr/>
          <p:nvPr/>
        </p:nvSpPr>
        <p:spPr>
          <a:xfrm>
            <a:off x="2363760" y="5130720"/>
            <a:ext cx="933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2363760" y="5678640"/>
            <a:ext cx="933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7" name=""/>
          <p:cNvGrpSpPr/>
          <p:nvPr/>
        </p:nvGrpSpPr>
        <p:grpSpPr>
          <a:xfrm>
            <a:off x="3295800" y="5126040"/>
            <a:ext cx="187560" cy="549720"/>
            <a:chOff x="3295800" y="5126040"/>
            <a:chExt cx="187560" cy="549720"/>
          </a:xfrm>
        </p:grpSpPr>
        <p:sp>
          <p:nvSpPr>
            <p:cNvPr id="3278" name=""/>
            <p:cNvSpPr/>
            <p:nvPr/>
          </p:nvSpPr>
          <p:spPr>
            <a:xfrm>
              <a:off x="3297240" y="512604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517" y="762"/>
                  </a:moveTo>
                  <a:lnTo>
                    <a:pt x="517" y="762"/>
                  </a:lnTo>
                  <a:lnTo>
                    <a:pt x="517" y="762"/>
                  </a:lnTo>
                  <a:cubicBezTo>
                    <a:pt x="517" y="628"/>
                    <a:pt x="493" y="497"/>
                    <a:pt x="448" y="381"/>
                  </a:cubicBezTo>
                  <a:cubicBezTo>
                    <a:pt x="402" y="265"/>
                    <a:pt x="337" y="169"/>
                    <a:pt x="258" y="102"/>
                  </a:cubicBezTo>
                  <a:cubicBezTo>
                    <a:pt x="180" y="35"/>
                    <a:pt x="91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3295800" y="540144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0" y="762"/>
                  </a:moveTo>
                  <a:lnTo>
                    <a:pt x="0" y="762"/>
                  </a:lnTo>
                  <a:cubicBezTo>
                    <a:pt x="91" y="762"/>
                    <a:pt x="180" y="727"/>
                    <a:pt x="259" y="660"/>
                  </a:cubicBezTo>
                  <a:cubicBezTo>
                    <a:pt x="337" y="593"/>
                    <a:pt x="402" y="497"/>
                    <a:pt x="448" y="381"/>
                  </a:cubicBezTo>
                  <a:cubicBezTo>
                    <a:pt x="493" y="265"/>
                    <a:pt x="517" y="134"/>
                    <a:pt x="517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0" name=""/>
          <p:cNvGrpSpPr/>
          <p:nvPr/>
        </p:nvGrpSpPr>
        <p:grpSpPr>
          <a:xfrm>
            <a:off x="2176560" y="5126040"/>
            <a:ext cx="189720" cy="549720"/>
            <a:chOff x="2176560" y="5126040"/>
            <a:chExt cx="189720" cy="549720"/>
          </a:xfrm>
        </p:grpSpPr>
        <p:sp>
          <p:nvSpPr>
            <p:cNvPr id="3281" name=""/>
            <p:cNvSpPr/>
            <p:nvPr/>
          </p:nvSpPr>
          <p:spPr>
            <a:xfrm>
              <a:off x="2176560" y="540144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24" y="265"/>
                    <a:pt x="69" y="381"/>
                  </a:cubicBezTo>
                  <a:cubicBezTo>
                    <a:pt x="115" y="497"/>
                    <a:pt x="180" y="593"/>
                    <a:pt x="259" y="660"/>
                  </a:cubicBezTo>
                  <a:cubicBezTo>
                    <a:pt x="337" y="727"/>
                    <a:pt x="426" y="762"/>
                    <a:pt x="517" y="7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178000" y="5126040"/>
              <a:ext cx="188280" cy="274320"/>
            </a:xfrm>
            <a:custGeom>
              <a:avLst/>
              <a:gdLst/>
              <a:ahLst/>
              <a:rect l="0" t="0" r="r" b="b"/>
              <a:pathLst>
                <a:path fill="none" w="523" h="762">
                  <a:moveTo>
                    <a:pt x="523" y="0"/>
                  </a:moveTo>
                  <a:lnTo>
                    <a:pt x="523" y="0"/>
                  </a:lnTo>
                  <a:cubicBezTo>
                    <a:pt x="431" y="0"/>
                    <a:pt x="341" y="35"/>
                    <a:pt x="261" y="102"/>
                  </a:cubicBezTo>
                  <a:cubicBezTo>
                    <a:pt x="182" y="169"/>
                    <a:pt x="116" y="265"/>
                    <a:pt x="70" y="381"/>
                  </a:cubicBezTo>
                  <a:cubicBezTo>
                    <a:pt x="24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3" name=""/>
          <p:cNvSpPr/>
          <p:nvPr/>
        </p:nvSpPr>
        <p:spPr>
          <a:xfrm>
            <a:off x="1835280" y="4854600"/>
            <a:ext cx="343440" cy="547920"/>
          </a:xfrm>
          <a:custGeom>
            <a:avLst/>
            <a:gdLst/>
            <a:ahLst/>
            <a:rect l="0" t="0" r="r" b="b"/>
            <a:pathLst>
              <a:path fill="none" w="954" h="1522">
                <a:moveTo>
                  <a:pt x="954" y="1522"/>
                </a:moveTo>
                <a:lnTo>
                  <a:pt x="0" y="1522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1149480" y="949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1149480" y="15019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6" name=""/>
          <p:cNvGrpSpPr/>
          <p:nvPr/>
        </p:nvGrpSpPr>
        <p:grpSpPr>
          <a:xfrm>
            <a:off x="2521080" y="944640"/>
            <a:ext cx="276480" cy="549720"/>
            <a:chOff x="2521080" y="944640"/>
            <a:chExt cx="276480" cy="549720"/>
          </a:xfrm>
        </p:grpSpPr>
        <p:sp>
          <p:nvSpPr>
            <p:cNvPr id="3287" name=""/>
            <p:cNvSpPr/>
            <p:nvPr/>
          </p:nvSpPr>
          <p:spPr>
            <a:xfrm>
              <a:off x="2523240" y="9446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762"/>
                  </a:moveTo>
                  <a:lnTo>
                    <a:pt x="762" y="762"/>
                  </a:lnTo>
                  <a:lnTo>
                    <a:pt x="762" y="762"/>
                  </a:lnTo>
                  <a:cubicBezTo>
                    <a:pt x="762" y="628"/>
                    <a:pt x="727" y="497"/>
                    <a:pt x="660" y="381"/>
                  </a:cubicBezTo>
                  <a:cubicBezTo>
                    <a:pt x="593" y="265"/>
                    <a:pt x="497" y="169"/>
                    <a:pt x="381" y="102"/>
                  </a:cubicBezTo>
                  <a:cubicBezTo>
                    <a:pt x="265" y="35"/>
                    <a:pt x="134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2521080" y="1220040"/>
              <a:ext cx="276480" cy="274320"/>
            </a:xfrm>
            <a:custGeom>
              <a:avLst/>
              <a:gdLst/>
              <a:ahLst/>
              <a:rect l="0" t="0" r="r" b="b"/>
              <a:pathLst>
                <a:path fill="none" w="768" h="762">
                  <a:moveTo>
                    <a:pt x="0" y="762"/>
                  </a:moveTo>
                  <a:lnTo>
                    <a:pt x="0" y="762"/>
                  </a:lnTo>
                  <a:cubicBezTo>
                    <a:pt x="135" y="762"/>
                    <a:pt x="267" y="727"/>
                    <a:pt x="384" y="660"/>
                  </a:cubicBezTo>
                  <a:cubicBezTo>
                    <a:pt x="501" y="593"/>
                    <a:pt x="598" y="497"/>
                    <a:pt x="665" y="381"/>
                  </a:cubicBezTo>
                  <a:cubicBezTo>
                    <a:pt x="733" y="265"/>
                    <a:pt x="768" y="134"/>
                    <a:pt x="768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9" name=""/>
          <p:cNvGrpSpPr/>
          <p:nvPr/>
        </p:nvGrpSpPr>
        <p:grpSpPr>
          <a:xfrm>
            <a:off x="873000" y="944640"/>
            <a:ext cx="279360" cy="549720"/>
            <a:chOff x="873000" y="944640"/>
            <a:chExt cx="279360" cy="549720"/>
          </a:xfrm>
        </p:grpSpPr>
        <p:sp>
          <p:nvSpPr>
            <p:cNvPr id="3290" name=""/>
            <p:cNvSpPr/>
            <p:nvPr/>
          </p:nvSpPr>
          <p:spPr>
            <a:xfrm>
              <a:off x="873000" y="12200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35" y="265"/>
                    <a:pt x="102" y="381"/>
                  </a:cubicBezTo>
                  <a:cubicBezTo>
                    <a:pt x="169" y="497"/>
                    <a:pt x="265" y="593"/>
                    <a:pt x="381" y="660"/>
                  </a:cubicBezTo>
                  <a:cubicBezTo>
                    <a:pt x="497" y="727"/>
                    <a:pt x="628" y="762"/>
                    <a:pt x="762" y="7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878040" y="9446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0"/>
                  </a:moveTo>
                  <a:lnTo>
                    <a:pt x="762" y="0"/>
                  </a:lnTo>
                  <a:cubicBezTo>
                    <a:pt x="628" y="0"/>
                    <a:pt x="497" y="35"/>
                    <a:pt x="381" y="102"/>
                  </a:cubicBezTo>
                  <a:cubicBezTo>
                    <a:pt x="265" y="169"/>
                    <a:pt x="169" y="265"/>
                    <a:pt x="102" y="381"/>
                  </a:cubicBezTo>
                  <a:cubicBezTo>
                    <a:pt x="35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2" name=""/>
          <p:cNvSpPr/>
          <p:nvPr/>
        </p:nvSpPr>
        <p:spPr>
          <a:xfrm>
            <a:off x="2178000" y="4511520"/>
            <a:ext cx="686160" cy="614880"/>
          </a:xfrm>
          <a:custGeom>
            <a:avLst/>
            <a:gdLst/>
            <a:ahLst/>
            <a:rect l="0" t="0" r="r" b="b"/>
            <a:pathLst>
              <a:path fill="none" w="1906" h="1708">
                <a:moveTo>
                  <a:pt x="1906" y="1708"/>
                </a:moveTo>
                <a:lnTo>
                  <a:pt x="190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1835280" y="1492200"/>
            <a:ext cx="0" cy="480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3483000" y="54021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 txBox="1"/>
          <p:nvPr/>
        </p:nvSpPr>
        <p:spPr>
          <a:xfrm>
            <a:off x="3870360" y="2637000"/>
            <a:ext cx="4927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 Inverted Batch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6" name=""/>
          <p:cNvGrpSpPr/>
          <p:nvPr/>
        </p:nvGrpSpPr>
        <p:grpSpPr>
          <a:xfrm>
            <a:off x="1073160" y="3765600"/>
            <a:ext cx="686160" cy="1503720"/>
            <a:chOff x="1073160" y="3765600"/>
            <a:chExt cx="686160" cy="1503720"/>
          </a:xfrm>
        </p:grpSpPr>
        <p:sp>
          <p:nvSpPr>
            <p:cNvPr id="3297" name=""/>
            <p:cNvSpPr/>
            <p:nvPr/>
          </p:nvSpPr>
          <p:spPr>
            <a:xfrm>
              <a:off x="1073160" y="3908520"/>
              <a:ext cx="685800" cy="1217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8" name=""/>
            <p:cNvGrpSpPr/>
            <p:nvPr/>
          </p:nvGrpSpPr>
          <p:grpSpPr>
            <a:xfrm>
              <a:off x="1073160" y="3765600"/>
              <a:ext cx="686160" cy="143280"/>
              <a:chOff x="1073160" y="3765600"/>
              <a:chExt cx="686160" cy="143280"/>
            </a:xfrm>
          </p:grpSpPr>
          <p:sp>
            <p:nvSpPr>
              <p:cNvPr id="3299" name=""/>
              <p:cNvSpPr/>
              <p:nvPr/>
            </p:nvSpPr>
            <p:spPr>
              <a:xfrm>
                <a:off x="1073160" y="3765600"/>
                <a:ext cx="341640" cy="143280"/>
              </a:xfrm>
              <a:custGeom>
                <a:avLst/>
                <a:gdLst/>
                <a:ahLst/>
                <a:rect l="0" t="0" r="r" b="b"/>
                <a:pathLst>
                  <a:path fill="none" w="949" h="398">
                    <a:moveTo>
                      <a:pt x="949" y="0"/>
                    </a:moveTo>
                    <a:lnTo>
                      <a:pt x="949" y="0"/>
                    </a:lnTo>
                    <a:cubicBezTo>
                      <a:pt x="783" y="0"/>
                      <a:pt x="620" y="19"/>
                      <a:pt x="477" y="53"/>
                    </a:cubicBezTo>
                    <a:cubicBezTo>
                      <a:pt x="332" y="88"/>
                      <a:pt x="211" y="138"/>
                      <a:pt x="128" y="199"/>
                    </a:cubicBezTo>
                    <a:cubicBezTo>
                      <a:pt x="44" y="260"/>
                      <a:pt x="0" y="328"/>
                      <a:pt x="0" y="398"/>
                    </a:cubicBezTo>
                    <a:lnTo>
                      <a:pt x="0" y="39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1414440" y="3765600"/>
                <a:ext cx="344880" cy="143280"/>
              </a:xfrm>
              <a:custGeom>
                <a:avLst/>
                <a:gdLst/>
                <a:ahLst/>
                <a:rect l="0" t="0" r="r" b="b"/>
                <a:pathLst>
                  <a:path fill="none" w="958" h="398">
                    <a:moveTo>
                      <a:pt x="958" y="398"/>
                    </a:moveTo>
                    <a:lnTo>
                      <a:pt x="958" y="398"/>
                    </a:lnTo>
                    <a:lnTo>
                      <a:pt x="958" y="398"/>
                    </a:lnTo>
                    <a:cubicBezTo>
                      <a:pt x="958" y="328"/>
                      <a:pt x="914" y="260"/>
                      <a:pt x="830" y="199"/>
                    </a:cubicBezTo>
                    <a:cubicBezTo>
                      <a:pt x="746" y="138"/>
                      <a:pt x="626" y="88"/>
                      <a:pt x="481" y="53"/>
                    </a:cubicBezTo>
                    <a:cubicBezTo>
                      <a:pt x="336" y="18"/>
                      <a:pt x="171" y="0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1" name=""/>
            <p:cNvGrpSpPr/>
            <p:nvPr/>
          </p:nvGrpSpPr>
          <p:grpSpPr>
            <a:xfrm>
              <a:off x="1073160" y="5123520"/>
              <a:ext cx="686160" cy="145800"/>
              <a:chOff x="1073160" y="5123520"/>
              <a:chExt cx="686160" cy="145800"/>
            </a:xfrm>
          </p:grpSpPr>
          <p:sp>
            <p:nvSpPr>
              <p:cNvPr id="3302" name=""/>
              <p:cNvSpPr/>
              <p:nvPr/>
            </p:nvSpPr>
            <p:spPr>
              <a:xfrm>
                <a:off x="1073160" y="5123520"/>
                <a:ext cx="341640" cy="145800"/>
              </a:xfrm>
              <a:custGeom>
                <a:avLst/>
                <a:gdLst/>
                <a:ahLst/>
                <a:rect l="0" t="0" r="r" b="b"/>
                <a:pathLst>
                  <a:path fill="none" w="949" h="40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0" y="71"/>
                      <a:pt x="44" y="141"/>
                      <a:pt x="128" y="203"/>
                    </a:cubicBezTo>
                    <a:cubicBezTo>
                      <a:pt x="211" y="264"/>
                      <a:pt x="332" y="315"/>
                      <a:pt x="477" y="351"/>
                    </a:cubicBezTo>
                    <a:cubicBezTo>
                      <a:pt x="620" y="386"/>
                      <a:pt x="783" y="405"/>
                      <a:pt x="949" y="405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1414440" y="5123520"/>
                <a:ext cx="344880" cy="145800"/>
              </a:xfrm>
              <a:custGeom>
                <a:avLst/>
                <a:gdLst/>
                <a:ahLst/>
                <a:rect l="0" t="0" r="r" b="b"/>
                <a:pathLst>
                  <a:path fill="none" w="958" h="405">
                    <a:moveTo>
                      <a:pt x="0" y="405"/>
                    </a:moveTo>
                    <a:lnTo>
                      <a:pt x="0" y="405"/>
                    </a:lnTo>
                    <a:cubicBezTo>
                      <a:pt x="1" y="405"/>
                      <a:pt x="3" y="405"/>
                      <a:pt x="4" y="405"/>
                    </a:cubicBezTo>
                    <a:cubicBezTo>
                      <a:pt x="171" y="405"/>
                      <a:pt x="336" y="386"/>
                      <a:pt x="481" y="351"/>
                    </a:cubicBezTo>
                    <a:cubicBezTo>
                      <a:pt x="626" y="315"/>
                      <a:pt x="746" y="264"/>
                      <a:pt x="830" y="203"/>
                    </a:cubicBezTo>
                    <a:cubicBezTo>
                      <a:pt x="914" y="141"/>
                      <a:pt x="958" y="71"/>
                      <a:pt x="958" y="0"/>
                    </a:cubicBezTo>
                    <a:lnTo>
                      <a:pt x="958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4" name=""/>
          <p:cNvSpPr/>
          <p:nvPr/>
        </p:nvSpPr>
        <p:spPr>
          <a:xfrm>
            <a:off x="730080" y="2946240"/>
            <a:ext cx="137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730080" y="3355920"/>
            <a:ext cx="137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6" name=""/>
          <p:cNvGrpSpPr/>
          <p:nvPr/>
        </p:nvGrpSpPr>
        <p:grpSpPr>
          <a:xfrm>
            <a:off x="2100240" y="2941560"/>
            <a:ext cx="278280" cy="410040"/>
            <a:chOff x="2100240" y="2941560"/>
            <a:chExt cx="278280" cy="410040"/>
          </a:xfrm>
        </p:grpSpPr>
        <p:sp>
          <p:nvSpPr>
            <p:cNvPr id="3307" name=""/>
            <p:cNvSpPr/>
            <p:nvPr/>
          </p:nvSpPr>
          <p:spPr>
            <a:xfrm>
              <a:off x="2103480" y="2941560"/>
              <a:ext cx="275040" cy="205920"/>
            </a:xfrm>
            <a:custGeom>
              <a:avLst/>
              <a:gdLst/>
              <a:ahLst/>
              <a:rect l="0" t="0" r="r" b="b"/>
              <a:pathLst>
                <a:path fill="none" w="764" h="572">
                  <a:moveTo>
                    <a:pt x="764" y="572"/>
                  </a:moveTo>
                  <a:lnTo>
                    <a:pt x="764" y="572"/>
                  </a:lnTo>
                  <a:lnTo>
                    <a:pt x="764" y="572"/>
                  </a:lnTo>
                  <a:cubicBezTo>
                    <a:pt x="764" y="472"/>
                    <a:pt x="729" y="373"/>
                    <a:pt x="662" y="286"/>
                  </a:cubicBezTo>
                  <a:cubicBezTo>
                    <a:pt x="595" y="199"/>
                    <a:pt x="498" y="127"/>
                    <a:pt x="382" y="77"/>
                  </a:cubicBezTo>
                  <a:cubicBezTo>
                    <a:pt x="266" y="26"/>
                    <a:pt x="134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100240" y="3145680"/>
              <a:ext cx="275040" cy="205920"/>
            </a:xfrm>
            <a:custGeom>
              <a:avLst/>
              <a:gdLst/>
              <a:ahLst/>
              <a:rect l="0" t="0" r="r" b="b"/>
              <a:pathLst>
                <a:path fill="none" w="764" h="572">
                  <a:moveTo>
                    <a:pt x="0" y="572"/>
                  </a:moveTo>
                  <a:lnTo>
                    <a:pt x="0" y="572"/>
                  </a:lnTo>
                  <a:cubicBezTo>
                    <a:pt x="134" y="572"/>
                    <a:pt x="266" y="546"/>
                    <a:pt x="382" y="495"/>
                  </a:cubicBezTo>
                  <a:cubicBezTo>
                    <a:pt x="498" y="445"/>
                    <a:pt x="595" y="373"/>
                    <a:pt x="662" y="286"/>
                  </a:cubicBezTo>
                  <a:cubicBezTo>
                    <a:pt x="729" y="199"/>
                    <a:pt x="764" y="100"/>
                    <a:pt x="764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9" name=""/>
          <p:cNvGrpSpPr/>
          <p:nvPr/>
        </p:nvGrpSpPr>
        <p:grpSpPr>
          <a:xfrm>
            <a:off x="453960" y="2941560"/>
            <a:ext cx="279720" cy="410040"/>
            <a:chOff x="453960" y="2941560"/>
            <a:chExt cx="279720" cy="410040"/>
          </a:xfrm>
        </p:grpSpPr>
        <p:sp>
          <p:nvSpPr>
            <p:cNvPr id="3310" name=""/>
            <p:cNvSpPr/>
            <p:nvPr/>
          </p:nvSpPr>
          <p:spPr>
            <a:xfrm>
              <a:off x="453960" y="3145680"/>
              <a:ext cx="275040" cy="205920"/>
            </a:xfrm>
            <a:custGeom>
              <a:avLst/>
              <a:gdLst/>
              <a:ahLst/>
              <a:rect l="0" t="0" r="r" b="b"/>
              <a:pathLst>
                <a:path fill="none" w="764" h="572">
                  <a:moveTo>
                    <a:pt x="0" y="0"/>
                  </a:moveTo>
                  <a:lnTo>
                    <a:pt x="0" y="0"/>
                  </a:lnTo>
                  <a:cubicBezTo>
                    <a:pt x="0" y="100"/>
                    <a:pt x="35" y="199"/>
                    <a:pt x="102" y="286"/>
                  </a:cubicBezTo>
                  <a:cubicBezTo>
                    <a:pt x="169" y="373"/>
                    <a:pt x="266" y="445"/>
                    <a:pt x="382" y="495"/>
                  </a:cubicBezTo>
                  <a:cubicBezTo>
                    <a:pt x="498" y="546"/>
                    <a:pt x="630" y="572"/>
                    <a:pt x="764" y="57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58640" y="2941560"/>
              <a:ext cx="275040" cy="205920"/>
            </a:xfrm>
            <a:custGeom>
              <a:avLst/>
              <a:gdLst/>
              <a:ahLst/>
              <a:rect l="0" t="0" r="r" b="b"/>
              <a:pathLst>
                <a:path fill="none" w="764" h="572">
                  <a:moveTo>
                    <a:pt x="764" y="0"/>
                  </a:moveTo>
                  <a:lnTo>
                    <a:pt x="764" y="0"/>
                  </a:lnTo>
                  <a:cubicBezTo>
                    <a:pt x="630" y="0"/>
                    <a:pt x="498" y="26"/>
                    <a:pt x="382" y="77"/>
                  </a:cubicBezTo>
                  <a:cubicBezTo>
                    <a:pt x="266" y="127"/>
                    <a:pt x="169" y="199"/>
                    <a:pt x="102" y="286"/>
                  </a:cubicBezTo>
                  <a:cubicBezTo>
                    <a:pt x="35" y="373"/>
                    <a:pt x="0" y="472"/>
                    <a:pt x="0" y="57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2" name=""/>
          <p:cNvSpPr/>
          <p:nvPr/>
        </p:nvSpPr>
        <p:spPr>
          <a:xfrm>
            <a:off x="1943280" y="5305320"/>
            <a:ext cx="9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1943280" y="5824440"/>
            <a:ext cx="9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4" name=""/>
          <p:cNvGrpSpPr/>
          <p:nvPr/>
        </p:nvGrpSpPr>
        <p:grpSpPr>
          <a:xfrm>
            <a:off x="2873520" y="5300640"/>
            <a:ext cx="189360" cy="521280"/>
            <a:chOff x="2873520" y="5300640"/>
            <a:chExt cx="189360" cy="521280"/>
          </a:xfrm>
        </p:grpSpPr>
        <p:sp>
          <p:nvSpPr>
            <p:cNvPr id="3315" name=""/>
            <p:cNvSpPr/>
            <p:nvPr/>
          </p:nvSpPr>
          <p:spPr>
            <a:xfrm>
              <a:off x="2873520" y="5300640"/>
              <a:ext cx="189360" cy="260640"/>
            </a:xfrm>
            <a:custGeom>
              <a:avLst/>
              <a:gdLst/>
              <a:ahLst/>
              <a:rect l="0" t="0" r="r" b="b"/>
              <a:pathLst>
                <a:path fill="none" w="526" h="724">
                  <a:moveTo>
                    <a:pt x="526" y="724"/>
                  </a:moveTo>
                  <a:lnTo>
                    <a:pt x="526" y="724"/>
                  </a:lnTo>
                  <a:lnTo>
                    <a:pt x="526" y="724"/>
                  </a:lnTo>
                  <a:cubicBezTo>
                    <a:pt x="526" y="597"/>
                    <a:pt x="502" y="472"/>
                    <a:pt x="456" y="362"/>
                  </a:cubicBezTo>
                  <a:cubicBezTo>
                    <a:pt x="409" y="252"/>
                    <a:pt x="343" y="161"/>
                    <a:pt x="263" y="97"/>
                  </a:cubicBezTo>
                  <a:cubicBezTo>
                    <a:pt x="183" y="33"/>
                    <a:pt x="92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874240" y="5563440"/>
              <a:ext cx="186840" cy="258480"/>
            </a:xfrm>
            <a:custGeom>
              <a:avLst/>
              <a:gdLst/>
              <a:ahLst/>
              <a:rect l="0" t="0" r="r" b="b"/>
              <a:pathLst>
                <a:path fill="none" w="519" h="718">
                  <a:moveTo>
                    <a:pt x="0" y="718"/>
                  </a:moveTo>
                  <a:lnTo>
                    <a:pt x="0" y="718"/>
                  </a:lnTo>
                  <a:cubicBezTo>
                    <a:pt x="91" y="718"/>
                    <a:pt x="181" y="685"/>
                    <a:pt x="260" y="622"/>
                  </a:cubicBezTo>
                  <a:cubicBezTo>
                    <a:pt x="338" y="559"/>
                    <a:pt x="404" y="468"/>
                    <a:pt x="449" y="359"/>
                  </a:cubicBezTo>
                  <a:cubicBezTo>
                    <a:pt x="495" y="250"/>
                    <a:pt x="519" y="126"/>
                    <a:pt x="519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7" name=""/>
          <p:cNvGrpSpPr/>
          <p:nvPr/>
        </p:nvGrpSpPr>
        <p:grpSpPr>
          <a:xfrm>
            <a:off x="1755720" y="5300640"/>
            <a:ext cx="188640" cy="521280"/>
            <a:chOff x="1755720" y="5300640"/>
            <a:chExt cx="188640" cy="521280"/>
          </a:xfrm>
        </p:grpSpPr>
        <p:sp>
          <p:nvSpPr>
            <p:cNvPr id="3318" name=""/>
            <p:cNvSpPr/>
            <p:nvPr/>
          </p:nvSpPr>
          <p:spPr>
            <a:xfrm>
              <a:off x="1755720" y="5563440"/>
              <a:ext cx="186840" cy="258480"/>
            </a:xfrm>
            <a:custGeom>
              <a:avLst/>
              <a:gdLst/>
              <a:ahLst/>
              <a:rect l="0" t="0" r="r" b="b"/>
              <a:pathLst>
                <a:path fill="none" w="519" h="718">
                  <a:moveTo>
                    <a:pt x="0" y="0"/>
                  </a:moveTo>
                  <a:lnTo>
                    <a:pt x="0" y="0"/>
                  </a:lnTo>
                  <a:cubicBezTo>
                    <a:pt x="0" y="126"/>
                    <a:pt x="24" y="250"/>
                    <a:pt x="70" y="359"/>
                  </a:cubicBezTo>
                  <a:cubicBezTo>
                    <a:pt x="115" y="468"/>
                    <a:pt x="181" y="559"/>
                    <a:pt x="260" y="622"/>
                  </a:cubicBezTo>
                  <a:cubicBezTo>
                    <a:pt x="338" y="685"/>
                    <a:pt x="428" y="718"/>
                    <a:pt x="519" y="718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1757520" y="5300640"/>
              <a:ext cx="186840" cy="260640"/>
            </a:xfrm>
            <a:custGeom>
              <a:avLst/>
              <a:gdLst/>
              <a:ahLst/>
              <a:rect l="0" t="0" r="r" b="b"/>
              <a:pathLst>
                <a:path fill="none" w="519" h="724">
                  <a:moveTo>
                    <a:pt x="519" y="0"/>
                  </a:moveTo>
                  <a:lnTo>
                    <a:pt x="519" y="0"/>
                  </a:lnTo>
                  <a:cubicBezTo>
                    <a:pt x="428" y="0"/>
                    <a:pt x="338" y="33"/>
                    <a:pt x="259" y="97"/>
                  </a:cubicBezTo>
                  <a:cubicBezTo>
                    <a:pt x="181" y="161"/>
                    <a:pt x="115" y="252"/>
                    <a:pt x="70" y="362"/>
                  </a:cubicBezTo>
                  <a:cubicBezTo>
                    <a:pt x="24" y="472"/>
                    <a:pt x="0" y="597"/>
                    <a:pt x="0" y="7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0" name=""/>
          <p:cNvSpPr/>
          <p:nvPr/>
        </p:nvSpPr>
        <p:spPr>
          <a:xfrm>
            <a:off x="1419120" y="5272200"/>
            <a:ext cx="197280" cy="290880"/>
          </a:xfrm>
          <a:custGeom>
            <a:avLst/>
            <a:gdLst/>
            <a:ahLst/>
            <a:rect l="0" t="0" r="r" b="b"/>
            <a:pathLst>
              <a:path fill="none" w="548" h="808">
                <a:moveTo>
                  <a:pt x="548" y="808"/>
                </a:moveTo>
                <a:lnTo>
                  <a:pt x="0" y="808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1568520" y="5502240"/>
            <a:ext cx="194040" cy="120960"/>
          </a:xfrm>
          <a:custGeom>
            <a:avLst/>
            <a:gdLst/>
            <a:ahLst/>
            <a:rect l="0" t="0" r="r" b="b"/>
            <a:pathLst>
              <a:path w="539" h="336">
                <a:moveTo>
                  <a:pt x="0" y="336"/>
                </a:moveTo>
                <a:lnTo>
                  <a:pt x="66" y="167"/>
                </a:lnTo>
                <a:lnTo>
                  <a:pt x="0" y="0"/>
                </a:lnTo>
                <a:lnTo>
                  <a:pt x="539" y="167"/>
                </a:lnTo>
                <a:lnTo>
                  <a:pt x="0" y="3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1906560" y="4959360"/>
            <a:ext cx="541800" cy="341640"/>
          </a:xfrm>
          <a:custGeom>
            <a:avLst/>
            <a:gdLst/>
            <a:ahLst/>
            <a:rect l="0" t="0" r="r" b="b"/>
            <a:pathLst>
              <a:path fill="none" w="1505" h="949">
                <a:moveTo>
                  <a:pt x="1505" y="949"/>
                </a:moveTo>
                <a:lnTo>
                  <a:pt x="1505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1762200" y="4898880"/>
            <a:ext cx="194040" cy="120960"/>
          </a:xfrm>
          <a:custGeom>
            <a:avLst/>
            <a:gdLst/>
            <a:ahLst/>
            <a:rect l="0" t="0" r="r" b="b"/>
            <a:pathLst>
              <a:path w="539" h="336">
                <a:moveTo>
                  <a:pt x="539" y="0"/>
                </a:moveTo>
                <a:lnTo>
                  <a:pt x="473" y="167"/>
                </a:lnTo>
                <a:lnTo>
                  <a:pt x="539" y="336"/>
                </a:lnTo>
                <a:lnTo>
                  <a:pt x="0" y="167"/>
                </a:lnTo>
                <a:lnTo>
                  <a:pt x="53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3070080" y="5553000"/>
            <a:ext cx="54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3562200" y="5492880"/>
            <a:ext cx="194040" cy="120960"/>
          </a:xfrm>
          <a:custGeom>
            <a:avLst/>
            <a:gdLst/>
            <a:ahLst/>
            <a:rect l="0" t="0" r="r" b="b"/>
            <a:pathLst>
              <a:path w="539" h="336">
                <a:moveTo>
                  <a:pt x="0" y="336"/>
                </a:moveTo>
                <a:lnTo>
                  <a:pt x="66" y="167"/>
                </a:lnTo>
                <a:lnTo>
                  <a:pt x="0" y="0"/>
                </a:lnTo>
                <a:lnTo>
                  <a:pt x="539" y="167"/>
                </a:lnTo>
                <a:lnTo>
                  <a:pt x="0" y="3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6" name=""/>
          <p:cNvGrpSpPr/>
          <p:nvPr/>
        </p:nvGrpSpPr>
        <p:grpSpPr>
          <a:xfrm>
            <a:off x="1073160" y="1020600"/>
            <a:ext cx="686160" cy="1510200"/>
            <a:chOff x="1073160" y="1020600"/>
            <a:chExt cx="686160" cy="1510200"/>
          </a:xfrm>
        </p:grpSpPr>
        <p:sp>
          <p:nvSpPr>
            <p:cNvPr id="3327" name=""/>
            <p:cNvSpPr/>
            <p:nvPr/>
          </p:nvSpPr>
          <p:spPr>
            <a:xfrm>
              <a:off x="1073160" y="1168560"/>
              <a:ext cx="685800" cy="121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8" name=""/>
            <p:cNvGrpSpPr/>
            <p:nvPr/>
          </p:nvGrpSpPr>
          <p:grpSpPr>
            <a:xfrm>
              <a:off x="1073160" y="1020600"/>
              <a:ext cx="686160" cy="146520"/>
              <a:chOff x="1073160" y="1020600"/>
              <a:chExt cx="686160" cy="146520"/>
            </a:xfrm>
          </p:grpSpPr>
          <p:sp>
            <p:nvSpPr>
              <p:cNvPr id="3329" name=""/>
              <p:cNvSpPr/>
              <p:nvPr/>
            </p:nvSpPr>
            <p:spPr>
              <a:xfrm>
                <a:off x="1073160" y="1020600"/>
                <a:ext cx="341640" cy="146520"/>
              </a:xfrm>
              <a:custGeom>
                <a:avLst/>
                <a:gdLst/>
                <a:ahLst/>
                <a:rect l="0" t="0" r="r" b="b"/>
                <a:pathLst>
                  <a:path fill="none" w="949" h="407">
                    <a:moveTo>
                      <a:pt x="949" y="0"/>
                    </a:moveTo>
                    <a:lnTo>
                      <a:pt x="949" y="0"/>
                    </a:lnTo>
                    <a:cubicBezTo>
                      <a:pt x="783" y="0"/>
                      <a:pt x="620" y="19"/>
                      <a:pt x="477" y="55"/>
                    </a:cubicBezTo>
                    <a:cubicBezTo>
                      <a:pt x="332" y="90"/>
                      <a:pt x="211" y="142"/>
                      <a:pt x="128" y="203"/>
                    </a:cubicBezTo>
                    <a:cubicBezTo>
                      <a:pt x="44" y="265"/>
                      <a:pt x="0" y="336"/>
                      <a:pt x="0" y="407"/>
                    </a:cubicBezTo>
                    <a:lnTo>
                      <a:pt x="0" y="40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1414440" y="1020600"/>
                <a:ext cx="344880" cy="146520"/>
              </a:xfrm>
              <a:custGeom>
                <a:avLst/>
                <a:gdLst/>
                <a:ahLst/>
                <a:rect l="0" t="0" r="r" b="b"/>
                <a:pathLst>
                  <a:path fill="none" w="958" h="407">
                    <a:moveTo>
                      <a:pt x="958" y="407"/>
                    </a:moveTo>
                    <a:lnTo>
                      <a:pt x="958" y="407"/>
                    </a:lnTo>
                    <a:lnTo>
                      <a:pt x="958" y="407"/>
                    </a:lnTo>
                    <a:cubicBezTo>
                      <a:pt x="958" y="336"/>
                      <a:pt x="914" y="265"/>
                      <a:pt x="830" y="203"/>
                    </a:cubicBezTo>
                    <a:cubicBezTo>
                      <a:pt x="746" y="142"/>
                      <a:pt x="626" y="90"/>
                      <a:pt x="481" y="55"/>
                    </a:cubicBezTo>
                    <a:cubicBezTo>
                      <a:pt x="336" y="19"/>
                      <a:pt x="171" y="0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1" name=""/>
            <p:cNvGrpSpPr/>
            <p:nvPr/>
          </p:nvGrpSpPr>
          <p:grpSpPr>
            <a:xfrm>
              <a:off x="1073160" y="2384280"/>
              <a:ext cx="686160" cy="146520"/>
              <a:chOff x="1073160" y="2384280"/>
              <a:chExt cx="686160" cy="146520"/>
            </a:xfrm>
          </p:grpSpPr>
          <p:sp>
            <p:nvSpPr>
              <p:cNvPr id="3332" name=""/>
              <p:cNvSpPr/>
              <p:nvPr/>
            </p:nvSpPr>
            <p:spPr>
              <a:xfrm>
                <a:off x="1073160" y="2384280"/>
                <a:ext cx="341640" cy="146520"/>
              </a:xfrm>
              <a:custGeom>
                <a:avLst/>
                <a:gdLst/>
                <a:ahLst/>
                <a:rect l="0" t="0" r="r" b="b"/>
                <a:pathLst>
                  <a:path fill="none" w="949" h="4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0" y="71"/>
                      <a:pt x="44" y="142"/>
                      <a:pt x="128" y="204"/>
                    </a:cubicBezTo>
                    <a:cubicBezTo>
                      <a:pt x="211" y="265"/>
                      <a:pt x="332" y="317"/>
                      <a:pt x="477" y="352"/>
                    </a:cubicBezTo>
                    <a:cubicBezTo>
                      <a:pt x="620" y="388"/>
                      <a:pt x="783" y="407"/>
                      <a:pt x="949" y="407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1414440" y="2384280"/>
                <a:ext cx="344880" cy="146520"/>
              </a:xfrm>
              <a:custGeom>
                <a:avLst/>
                <a:gdLst/>
                <a:ahLst/>
                <a:rect l="0" t="0" r="r" b="b"/>
                <a:pathLst>
                  <a:path fill="none" w="958" h="407">
                    <a:moveTo>
                      <a:pt x="0" y="407"/>
                    </a:moveTo>
                    <a:lnTo>
                      <a:pt x="0" y="407"/>
                    </a:lnTo>
                    <a:cubicBezTo>
                      <a:pt x="1" y="407"/>
                      <a:pt x="3" y="407"/>
                      <a:pt x="4" y="407"/>
                    </a:cubicBezTo>
                    <a:cubicBezTo>
                      <a:pt x="171" y="407"/>
                      <a:pt x="336" y="388"/>
                      <a:pt x="481" y="352"/>
                    </a:cubicBezTo>
                    <a:cubicBezTo>
                      <a:pt x="626" y="317"/>
                      <a:pt x="746" y="265"/>
                      <a:pt x="830" y="204"/>
                    </a:cubicBezTo>
                    <a:cubicBezTo>
                      <a:pt x="914" y="142"/>
                      <a:pt x="958" y="71"/>
                      <a:pt x="958" y="0"/>
                    </a:cubicBezTo>
                    <a:lnTo>
                      <a:pt x="958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4" name=""/>
          <p:cNvSpPr/>
          <p:nvPr/>
        </p:nvSpPr>
        <p:spPr>
          <a:xfrm>
            <a:off x="1943280" y="446040"/>
            <a:ext cx="9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1952640" y="958680"/>
            <a:ext cx="9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6" name=""/>
          <p:cNvGrpSpPr/>
          <p:nvPr/>
        </p:nvGrpSpPr>
        <p:grpSpPr>
          <a:xfrm>
            <a:off x="2873520" y="441360"/>
            <a:ext cx="189360" cy="514800"/>
            <a:chOff x="2873520" y="441360"/>
            <a:chExt cx="189360" cy="514800"/>
          </a:xfrm>
        </p:grpSpPr>
        <p:sp>
          <p:nvSpPr>
            <p:cNvPr id="3337" name=""/>
            <p:cNvSpPr/>
            <p:nvPr/>
          </p:nvSpPr>
          <p:spPr>
            <a:xfrm>
              <a:off x="2873520" y="441360"/>
              <a:ext cx="189360" cy="257400"/>
            </a:xfrm>
            <a:custGeom>
              <a:avLst/>
              <a:gdLst/>
              <a:ahLst/>
              <a:rect l="0" t="0" r="r" b="b"/>
              <a:pathLst>
                <a:path fill="none" w="526" h="715">
                  <a:moveTo>
                    <a:pt x="526" y="715"/>
                  </a:moveTo>
                  <a:lnTo>
                    <a:pt x="526" y="715"/>
                  </a:lnTo>
                  <a:lnTo>
                    <a:pt x="526" y="715"/>
                  </a:lnTo>
                  <a:cubicBezTo>
                    <a:pt x="526" y="589"/>
                    <a:pt x="502" y="466"/>
                    <a:pt x="456" y="357"/>
                  </a:cubicBezTo>
                  <a:cubicBezTo>
                    <a:pt x="409" y="249"/>
                    <a:pt x="343" y="159"/>
                    <a:pt x="263" y="96"/>
                  </a:cubicBezTo>
                  <a:cubicBezTo>
                    <a:pt x="183" y="33"/>
                    <a:pt x="92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2874240" y="698400"/>
              <a:ext cx="186840" cy="257760"/>
            </a:xfrm>
            <a:custGeom>
              <a:avLst/>
              <a:gdLst/>
              <a:ahLst/>
              <a:rect l="0" t="0" r="r" b="b"/>
              <a:pathLst>
                <a:path fill="none" w="519" h="716">
                  <a:moveTo>
                    <a:pt x="0" y="716"/>
                  </a:moveTo>
                  <a:lnTo>
                    <a:pt x="0" y="716"/>
                  </a:lnTo>
                  <a:cubicBezTo>
                    <a:pt x="91" y="716"/>
                    <a:pt x="181" y="683"/>
                    <a:pt x="260" y="620"/>
                  </a:cubicBezTo>
                  <a:cubicBezTo>
                    <a:pt x="338" y="557"/>
                    <a:pt x="404" y="467"/>
                    <a:pt x="449" y="358"/>
                  </a:cubicBezTo>
                  <a:cubicBezTo>
                    <a:pt x="495" y="249"/>
                    <a:pt x="519" y="126"/>
                    <a:pt x="519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9" name=""/>
          <p:cNvGrpSpPr/>
          <p:nvPr/>
        </p:nvGrpSpPr>
        <p:grpSpPr>
          <a:xfrm>
            <a:off x="1755720" y="441360"/>
            <a:ext cx="188640" cy="514440"/>
            <a:chOff x="1755720" y="441360"/>
            <a:chExt cx="188640" cy="514440"/>
          </a:xfrm>
        </p:grpSpPr>
        <p:sp>
          <p:nvSpPr>
            <p:cNvPr id="3340" name=""/>
            <p:cNvSpPr/>
            <p:nvPr/>
          </p:nvSpPr>
          <p:spPr>
            <a:xfrm>
              <a:off x="1755720" y="698400"/>
              <a:ext cx="186840" cy="257400"/>
            </a:xfrm>
            <a:custGeom>
              <a:avLst/>
              <a:gdLst/>
              <a:ahLst/>
              <a:rect l="0" t="0" r="r" b="b"/>
              <a:pathLst>
                <a:path fill="none" w="519" h="715">
                  <a:moveTo>
                    <a:pt x="0" y="0"/>
                  </a:moveTo>
                  <a:lnTo>
                    <a:pt x="0" y="0"/>
                  </a:lnTo>
                  <a:cubicBezTo>
                    <a:pt x="0" y="126"/>
                    <a:pt x="24" y="249"/>
                    <a:pt x="70" y="358"/>
                  </a:cubicBezTo>
                  <a:cubicBezTo>
                    <a:pt x="115" y="466"/>
                    <a:pt x="181" y="556"/>
                    <a:pt x="260" y="619"/>
                  </a:cubicBezTo>
                  <a:cubicBezTo>
                    <a:pt x="338" y="682"/>
                    <a:pt x="428" y="715"/>
                    <a:pt x="519" y="715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1757520" y="441360"/>
              <a:ext cx="186840" cy="257400"/>
            </a:xfrm>
            <a:custGeom>
              <a:avLst/>
              <a:gdLst/>
              <a:ahLst/>
              <a:rect l="0" t="0" r="r" b="b"/>
              <a:pathLst>
                <a:path fill="none" w="519" h="715">
                  <a:moveTo>
                    <a:pt x="519" y="0"/>
                  </a:moveTo>
                  <a:lnTo>
                    <a:pt x="519" y="0"/>
                  </a:lnTo>
                  <a:cubicBezTo>
                    <a:pt x="428" y="0"/>
                    <a:pt x="338" y="33"/>
                    <a:pt x="259" y="96"/>
                  </a:cubicBezTo>
                  <a:cubicBezTo>
                    <a:pt x="181" y="159"/>
                    <a:pt x="115" y="249"/>
                    <a:pt x="70" y="358"/>
                  </a:cubicBezTo>
                  <a:cubicBezTo>
                    <a:pt x="24" y="466"/>
                    <a:pt x="0" y="589"/>
                    <a:pt x="0" y="715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2" name=""/>
          <p:cNvSpPr/>
          <p:nvPr/>
        </p:nvSpPr>
        <p:spPr>
          <a:xfrm>
            <a:off x="1414440" y="679320"/>
            <a:ext cx="197280" cy="341640"/>
          </a:xfrm>
          <a:custGeom>
            <a:avLst/>
            <a:gdLst/>
            <a:ahLst/>
            <a:rect l="0" t="0" r="r" b="b"/>
            <a:pathLst>
              <a:path fill="none" w="548" h="949">
                <a:moveTo>
                  <a:pt x="548" y="0"/>
                </a:moveTo>
                <a:lnTo>
                  <a:pt x="0" y="0"/>
                </a:lnTo>
                <a:lnTo>
                  <a:pt x="0" y="94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1563840" y="619200"/>
            <a:ext cx="194040" cy="119520"/>
          </a:xfrm>
          <a:custGeom>
            <a:avLst/>
            <a:gdLst/>
            <a:ahLst/>
            <a:rect l="0" t="0" r="r" b="b"/>
            <a:pathLst>
              <a:path w="539" h="332">
                <a:moveTo>
                  <a:pt x="0" y="332"/>
                </a:moveTo>
                <a:lnTo>
                  <a:pt x="66" y="168"/>
                </a:lnTo>
                <a:lnTo>
                  <a:pt x="0" y="0"/>
                </a:lnTo>
                <a:lnTo>
                  <a:pt x="539" y="168"/>
                </a:lnTo>
                <a:lnTo>
                  <a:pt x="0" y="33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1901880" y="954000"/>
            <a:ext cx="541800" cy="343440"/>
          </a:xfrm>
          <a:custGeom>
            <a:avLst/>
            <a:gdLst/>
            <a:ahLst/>
            <a:rect l="0" t="0" r="r" b="b"/>
            <a:pathLst>
              <a:path fill="none" w="1505" h="954">
                <a:moveTo>
                  <a:pt x="1505" y="0"/>
                </a:moveTo>
                <a:lnTo>
                  <a:pt x="1505" y="954"/>
                </a:lnTo>
                <a:lnTo>
                  <a:pt x="0" y="95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1757520" y="1236600"/>
            <a:ext cx="194040" cy="120960"/>
          </a:xfrm>
          <a:custGeom>
            <a:avLst/>
            <a:gdLst/>
            <a:ahLst/>
            <a:rect l="0" t="0" r="r" b="b"/>
            <a:pathLst>
              <a:path w="539" h="336">
                <a:moveTo>
                  <a:pt x="539" y="0"/>
                </a:moveTo>
                <a:lnTo>
                  <a:pt x="473" y="167"/>
                </a:lnTo>
                <a:lnTo>
                  <a:pt x="539" y="336"/>
                </a:lnTo>
                <a:lnTo>
                  <a:pt x="0" y="167"/>
                </a:lnTo>
                <a:lnTo>
                  <a:pt x="53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>
            <a:off x="2438280" y="169920"/>
            <a:ext cx="538560" cy="276480"/>
          </a:xfrm>
          <a:custGeom>
            <a:avLst/>
            <a:gdLst/>
            <a:ahLst/>
            <a:rect l="0" t="0" r="r" b="b"/>
            <a:pathLst>
              <a:path fill="none" w="1496" h="768">
                <a:moveTo>
                  <a:pt x="0" y="768"/>
                </a:moveTo>
                <a:lnTo>
                  <a:pt x="0" y="0"/>
                </a:lnTo>
                <a:lnTo>
                  <a:pt x="1496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2928960" y="109440"/>
            <a:ext cx="194040" cy="120960"/>
          </a:xfrm>
          <a:custGeom>
            <a:avLst/>
            <a:gdLst/>
            <a:ahLst/>
            <a:rect l="0" t="0" r="r" b="b"/>
            <a:pathLst>
              <a:path w="539" h="336">
                <a:moveTo>
                  <a:pt x="0" y="336"/>
                </a:moveTo>
                <a:lnTo>
                  <a:pt x="66" y="167"/>
                </a:lnTo>
                <a:lnTo>
                  <a:pt x="0" y="0"/>
                </a:lnTo>
                <a:lnTo>
                  <a:pt x="539" y="167"/>
                </a:lnTo>
                <a:lnTo>
                  <a:pt x="0" y="3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1414440" y="26719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1353960" y="2529000"/>
            <a:ext cx="120960" cy="194040"/>
          </a:xfrm>
          <a:custGeom>
            <a:avLst/>
            <a:gdLst/>
            <a:ahLst/>
            <a:rect l="0" t="0" r="r" b="b"/>
            <a:pathLst>
              <a:path w="336" h="539">
                <a:moveTo>
                  <a:pt x="336" y="539"/>
                </a:moveTo>
                <a:lnTo>
                  <a:pt x="167" y="473"/>
                </a:lnTo>
                <a:lnTo>
                  <a:pt x="0" y="539"/>
                </a:lnTo>
                <a:lnTo>
                  <a:pt x="167" y="0"/>
                </a:lnTo>
                <a:lnTo>
                  <a:pt x="336" y="53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>
            <a:off x="1353960" y="2749680"/>
            <a:ext cx="120960" cy="192600"/>
          </a:xfrm>
          <a:custGeom>
            <a:avLst/>
            <a:gdLst/>
            <a:ahLst/>
            <a:rect l="0" t="0" r="r" b="b"/>
            <a:pathLst>
              <a:path w="336" h="535">
                <a:moveTo>
                  <a:pt x="0" y="0"/>
                </a:moveTo>
                <a:lnTo>
                  <a:pt x="167" y="66"/>
                </a:lnTo>
                <a:lnTo>
                  <a:pt x="336" y="0"/>
                </a:lnTo>
                <a:lnTo>
                  <a:pt x="167" y="53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1414440" y="349416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1353960" y="3351240"/>
            <a:ext cx="120960" cy="194040"/>
          </a:xfrm>
          <a:custGeom>
            <a:avLst/>
            <a:gdLst/>
            <a:ahLst/>
            <a:rect l="0" t="0" r="r" b="b"/>
            <a:pathLst>
              <a:path w="336" h="539">
                <a:moveTo>
                  <a:pt x="336" y="539"/>
                </a:moveTo>
                <a:lnTo>
                  <a:pt x="167" y="473"/>
                </a:lnTo>
                <a:lnTo>
                  <a:pt x="0" y="539"/>
                </a:lnTo>
                <a:lnTo>
                  <a:pt x="167" y="0"/>
                </a:lnTo>
                <a:lnTo>
                  <a:pt x="336" y="53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1353960" y="3571920"/>
            <a:ext cx="120960" cy="194040"/>
          </a:xfrm>
          <a:custGeom>
            <a:avLst/>
            <a:gdLst/>
            <a:ahLst/>
            <a:rect l="0" t="0" r="r" b="b"/>
            <a:pathLst>
              <a:path w="336" h="539">
                <a:moveTo>
                  <a:pt x="0" y="0"/>
                </a:moveTo>
                <a:lnTo>
                  <a:pt x="167" y="66"/>
                </a:lnTo>
                <a:lnTo>
                  <a:pt x="336" y="0"/>
                </a:lnTo>
                <a:lnTo>
                  <a:pt x="167" y="5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5168880" y="5400720"/>
            <a:ext cx="1373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5164200" y="5810400"/>
            <a:ext cx="1373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6" name=""/>
          <p:cNvGrpSpPr/>
          <p:nvPr/>
        </p:nvGrpSpPr>
        <p:grpSpPr>
          <a:xfrm>
            <a:off x="6539760" y="5391000"/>
            <a:ext cx="275400" cy="410040"/>
            <a:chOff x="6539760" y="5391000"/>
            <a:chExt cx="275400" cy="410040"/>
          </a:xfrm>
        </p:grpSpPr>
        <p:sp>
          <p:nvSpPr>
            <p:cNvPr id="3357" name=""/>
            <p:cNvSpPr/>
            <p:nvPr/>
          </p:nvSpPr>
          <p:spPr>
            <a:xfrm>
              <a:off x="6542640" y="5391000"/>
              <a:ext cx="272520" cy="205920"/>
            </a:xfrm>
            <a:custGeom>
              <a:avLst/>
              <a:gdLst/>
              <a:ahLst/>
              <a:rect l="0" t="0" r="r" b="b"/>
              <a:pathLst>
                <a:path fill="none" w="757" h="572">
                  <a:moveTo>
                    <a:pt x="757" y="572"/>
                  </a:moveTo>
                  <a:lnTo>
                    <a:pt x="757" y="572"/>
                  </a:lnTo>
                  <a:lnTo>
                    <a:pt x="757" y="572"/>
                  </a:lnTo>
                  <a:cubicBezTo>
                    <a:pt x="757" y="472"/>
                    <a:pt x="722" y="373"/>
                    <a:pt x="655" y="286"/>
                  </a:cubicBezTo>
                  <a:cubicBezTo>
                    <a:pt x="588" y="199"/>
                    <a:pt x="492" y="127"/>
                    <a:pt x="376" y="77"/>
                  </a:cubicBezTo>
                  <a:cubicBezTo>
                    <a:pt x="262" y="27"/>
                    <a:pt x="132" y="1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6539760" y="5595120"/>
              <a:ext cx="272520" cy="205920"/>
            </a:xfrm>
            <a:custGeom>
              <a:avLst/>
              <a:gdLst/>
              <a:ahLst/>
              <a:rect l="0" t="0" r="r" b="b"/>
              <a:pathLst>
                <a:path fill="none" w="757" h="572">
                  <a:moveTo>
                    <a:pt x="0" y="572"/>
                  </a:moveTo>
                  <a:lnTo>
                    <a:pt x="0" y="572"/>
                  </a:lnTo>
                  <a:cubicBezTo>
                    <a:pt x="132" y="571"/>
                    <a:pt x="262" y="545"/>
                    <a:pt x="376" y="495"/>
                  </a:cubicBezTo>
                  <a:cubicBezTo>
                    <a:pt x="492" y="445"/>
                    <a:pt x="588" y="373"/>
                    <a:pt x="655" y="286"/>
                  </a:cubicBezTo>
                  <a:cubicBezTo>
                    <a:pt x="722" y="199"/>
                    <a:pt x="757" y="100"/>
                    <a:pt x="757" y="0"/>
                  </a:cubicBezTo>
                  <a:lnTo>
                    <a:pt x="75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9" name=""/>
          <p:cNvGrpSpPr/>
          <p:nvPr/>
        </p:nvGrpSpPr>
        <p:grpSpPr>
          <a:xfrm>
            <a:off x="4892760" y="5391000"/>
            <a:ext cx="280440" cy="410040"/>
            <a:chOff x="4892760" y="5391000"/>
            <a:chExt cx="280440" cy="410040"/>
          </a:xfrm>
        </p:grpSpPr>
        <p:sp>
          <p:nvSpPr>
            <p:cNvPr id="3360" name=""/>
            <p:cNvSpPr/>
            <p:nvPr/>
          </p:nvSpPr>
          <p:spPr>
            <a:xfrm>
              <a:off x="4892760" y="5595120"/>
              <a:ext cx="275760" cy="205920"/>
            </a:xfrm>
            <a:custGeom>
              <a:avLst/>
              <a:gdLst/>
              <a:ahLst/>
              <a:rect l="0" t="0" r="r" b="b"/>
              <a:pathLst>
                <a:path fill="none" w="766" h="57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00"/>
                    <a:pt x="35" y="199"/>
                    <a:pt x="102" y="286"/>
                  </a:cubicBezTo>
                  <a:cubicBezTo>
                    <a:pt x="169" y="373"/>
                    <a:pt x="265" y="445"/>
                    <a:pt x="381" y="495"/>
                  </a:cubicBezTo>
                  <a:cubicBezTo>
                    <a:pt x="497" y="546"/>
                    <a:pt x="628" y="572"/>
                    <a:pt x="762" y="572"/>
                  </a:cubicBezTo>
                  <a:cubicBezTo>
                    <a:pt x="763" y="572"/>
                    <a:pt x="765" y="572"/>
                    <a:pt x="766" y="57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4897440" y="5391000"/>
              <a:ext cx="275760" cy="205920"/>
            </a:xfrm>
            <a:custGeom>
              <a:avLst/>
              <a:gdLst/>
              <a:ahLst/>
              <a:rect l="0" t="0" r="r" b="b"/>
              <a:pathLst>
                <a:path fill="none" w="766" h="572">
                  <a:moveTo>
                    <a:pt x="766" y="0"/>
                  </a:moveTo>
                  <a:lnTo>
                    <a:pt x="766" y="0"/>
                  </a:lnTo>
                  <a:cubicBezTo>
                    <a:pt x="765" y="0"/>
                    <a:pt x="763" y="0"/>
                    <a:pt x="762" y="0"/>
                  </a:cubicBezTo>
                  <a:cubicBezTo>
                    <a:pt x="628" y="0"/>
                    <a:pt x="497" y="26"/>
                    <a:pt x="381" y="77"/>
                  </a:cubicBezTo>
                  <a:cubicBezTo>
                    <a:pt x="265" y="127"/>
                    <a:pt x="169" y="199"/>
                    <a:pt x="102" y="286"/>
                  </a:cubicBezTo>
                  <a:cubicBezTo>
                    <a:pt x="35" y="373"/>
                    <a:pt x="0" y="472"/>
                    <a:pt x="0" y="572"/>
                  </a:cubicBezTo>
                  <a:lnTo>
                    <a:pt x="0" y="5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2" name=""/>
          <p:cNvGrpSpPr/>
          <p:nvPr/>
        </p:nvGrpSpPr>
        <p:grpSpPr>
          <a:xfrm>
            <a:off x="5662440" y="4002120"/>
            <a:ext cx="510120" cy="978120"/>
            <a:chOff x="5662440" y="4002120"/>
            <a:chExt cx="510120" cy="978120"/>
          </a:xfrm>
        </p:grpSpPr>
        <p:sp>
          <p:nvSpPr>
            <p:cNvPr id="3363" name=""/>
            <p:cNvSpPr/>
            <p:nvPr/>
          </p:nvSpPr>
          <p:spPr>
            <a:xfrm>
              <a:off x="5662440" y="4097160"/>
              <a:ext cx="509760" cy="790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4" name=""/>
            <p:cNvGrpSpPr/>
            <p:nvPr/>
          </p:nvGrpSpPr>
          <p:grpSpPr>
            <a:xfrm>
              <a:off x="5662440" y="4002120"/>
              <a:ext cx="510120" cy="94680"/>
              <a:chOff x="5662440" y="4002120"/>
              <a:chExt cx="510120" cy="94680"/>
            </a:xfrm>
          </p:grpSpPr>
          <p:sp>
            <p:nvSpPr>
              <p:cNvPr id="3365" name=""/>
              <p:cNvSpPr/>
              <p:nvPr/>
            </p:nvSpPr>
            <p:spPr>
              <a:xfrm>
                <a:off x="5662440" y="400212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709" y="0"/>
                    </a:moveTo>
                    <a:lnTo>
                      <a:pt x="709" y="0"/>
                    </a:lnTo>
                    <a:cubicBezTo>
                      <a:pt x="585" y="0"/>
                      <a:pt x="462" y="12"/>
                      <a:pt x="354" y="35"/>
                    </a:cubicBezTo>
                    <a:cubicBezTo>
                      <a:pt x="247" y="58"/>
                      <a:pt x="157" y="92"/>
                      <a:pt x="95" y="132"/>
                    </a:cubicBezTo>
                    <a:cubicBezTo>
                      <a:pt x="33" y="171"/>
                      <a:pt x="0" y="217"/>
                      <a:pt x="0" y="26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917320" y="400212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709" y="263"/>
                    </a:moveTo>
                    <a:lnTo>
                      <a:pt x="709" y="263"/>
                    </a:lnTo>
                    <a:lnTo>
                      <a:pt x="709" y="263"/>
                    </a:lnTo>
                    <a:cubicBezTo>
                      <a:pt x="709" y="217"/>
                      <a:pt x="676" y="171"/>
                      <a:pt x="614" y="131"/>
                    </a:cubicBezTo>
                    <a:cubicBezTo>
                      <a:pt x="552" y="92"/>
                      <a:pt x="462" y="58"/>
                      <a:pt x="354" y="35"/>
                    </a:cubicBezTo>
                    <a:cubicBezTo>
                      <a:pt x="247" y="12"/>
                      <a:pt x="124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7" name=""/>
            <p:cNvGrpSpPr/>
            <p:nvPr/>
          </p:nvGrpSpPr>
          <p:grpSpPr>
            <a:xfrm>
              <a:off x="5662440" y="4885560"/>
              <a:ext cx="510120" cy="94680"/>
              <a:chOff x="5662440" y="4885560"/>
              <a:chExt cx="510120" cy="94680"/>
            </a:xfrm>
          </p:grpSpPr>
          <p:sp>
            <p:nvSpPr>
              <p:cNvPr id="3368" name=""/>
              <p:cNvSpPr/>
              <p:nvPr/>
            </p:nvSpPr>
            <p:spPr>
              <a:xfrm>
                <a:off x="5662440" y="488556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46"/>
                      <a:pt x="33" y="92"/>
                      <a:pt x="95" y="132"/>
                    </a:cubicBezTo>
                    <a:cubicBezTo>
                      <a:pt x="157" y="171"/>
                      <a:pt x="247" y="205"/>
                      <a:pt x="355" y="228"/>
                    </a:cubicBezTo>
                    <a:cubicBezTo>
                      <a:pt x="462" y="251"/>
                      <a:pt x="585" y="263"/>
                      <a:pt x="709" y="26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917320" y="488556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0" y="263"/>
                    </a:moveTo>
                    <a:lnTo>
                      <a:pt x="0" y="263"/>
                    </a:lnTo>
                    <a:cubicBezTo>
                      <a:pt x="124" y="263"/>
                      <a:pt x="247" y="251"/>
                      <a:pt x="355" y="228"/>
                    </a:cubicBezTo>
                    <a:cubicBezTo>
                      <a:pt x="462" y="205"/>
                      <a:pt x="552" y="171"/>
                      <a:pt x="614" y="131"/>
                    </a:cubicBezTo>
                    <a:cubicBezTo>
                      <a:pt x="676" y="92"/>
                      <a:pt x="709" y="46"/>
                      <a:pt x="709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0" name=""/>
          <p:cNvSpPr/>
          <p:nvPr/>
        </p:nvSpPr>
        <p:spPr>
          <a:xfrm>
            <a:off x="5929200" y="5119560"/>
            <a:ext cx="0" cy="1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5869080" y="4978440"/>
            <a:ext cx="120960" cy="192600"/>
          </a:xfrm>
          <a:custGeom>
            <a:avLst/>
            <a:gdLst/>
            <a:ahLst/>
            <a:rect l="0" t="0" r="r" b="b"/>
            <a:pathLst>
              <a:path w="336" h="535">
                <a:moveTo>
                  <a:pt x="336" y="535"/>
                </a:moveTo>
                <a:lnTo>
                  <a:pt x="167" y="469"/>
                </a:lnTo>
                <a:lnTo>
                  <a:pt x="0" y="535"/>
                </a:lnTo>
                <a:lnTo>
                  <a:pt x="167" y="0"/>
                </a:lnTo>
                <a:lnTo>
                  <a:pt x="336" y="53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2" name=""/>
          <p:cNvGrpSpPr/>
          <p:nvPr/>
        </p:nvGrpSpPr>
        <p:grpSpPr>
          <a:xfrm>
            <a:off x="5662440" y="2557440"/>
            <a:ext cx="510120" cy="976680"/>
            <a:chOff x="5662440" y="2557440"/>
            <a:chExt cx="510120" cy="976680"/>
          </a:xfrm>
        </p:grpSpPr>
        <p:sp>
          <p:nvSpPr>
            <p:cNvPr id="3373" name=""/>
            <p:cNvSpPr/>
            <p:nvPr/>
          </p:nvSpPr>
          <p:spPr>
            <a:xfrm>
              <a:off x="5662440" y="2652840"/>
              <a:ext cx="509760" cy="78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4" name=""/>
            <p:cNvGrpSpPr/>
            <p:nvPr/>
          </p:nvGrpSpPr>
          <p:grpSpPr>
            <a:xfrm>
              <a:off x="5662440" y="2557440"/>
              <a:ext cx="510120" cy="94680"/>
              <a:chOff x="5662440" y="2557440"/>
              <a:chExt cx="510120" cy="94680"/>
            </a:xfrm>
          </p:grpSpPr>
          <p:sp>
            <p:nvSpPr>
              <p:cNvPr id="3375" name=""/>
              <p:cNvSpPr/>
              <p:nvPr/>
            </p:nvSpPr>
            <p:spPr>
              <a:xfrm>
                <a:off x="5662440" y="255744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709" y="0"/>
                    </a:moveTo>
                    <a:lnTo>
                      <a:pt x="709" y="0"/>
                    </a:lnTo>
                    <a:cubicBezTo>
                      <a:pt x="585" y="0"/>
                      <a:pt x="462" y="12"/>
                      <a:pt x="354" y="35"/>
                    </a:cubicBezTo>
                    <a:cubicBezTo>
                      <a:pt x="247" y="58"/>
                      <a:pt x="157" y="92"/>
                      <a:pt x="95" y="132"/>
                    </a:cubicBezTo>
                    <a:cubicBezTo>
                      <a:pt x="33" y="171"/>
                      <a:pt x="0" y="217"/>
                      <a:pt x="0" y="26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5917320" y="255744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709" y="263"/>
                    </a:moveTo>
                    <a:lnTo>
                      <a:pt x="709" y="263"/>
                    </a:lnTo>
                    <a:lnTo>
                      <a:pt x="709" y="263"/>
                    </a:lnTo>
                    <a:cubicBezTo>
                      <a:pt x="709" y="217"/>
                      <a:pt x="676" y="171"/>
                      <a:pt x="614" y="131"/>
                    </a:cubicBezTo>
                    <a:cubicBezTo>
                      <a:pt x="552" y="92"/>
                      <a:pt x="462" y="58"/>
                      <a:pt x="354" y="35"/>
                    </a:cubicBezTo>
                    <a:cubicBezTo>
                      <a:pt x="247" y="12"/>
                      <a:pt x="124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7" name=""/>
            <p:cNvGrpSpPr/>
            <p:nvPr/>
          </p:nvGrpSpPr>
          <p:grpSpPr>
            <a:xfrm>
              <a:off x="5662440" y="3439440"/>
              <a:ext cx="510120" cy="94680"/>
              <a:chOff x="5662440" y="3439440"/>
              <a:chExt cx="510120" cy="94680"/>
            </a:xfrm>
          </p:grpSpPr>
          <p:sp>
            <p:nvSpPr>
              <p:cNvPr id="3378" name=""/>
              <p:cNvSpPr/>
              <p:nvPr/>
            </p:nvSpPr>
            <p:spPr>
              <a:xfrm>
                <a:off x="5662440" y="343944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46"/>
                      <a:pt x="33" y="92"/>
                      <a:pt x="95" y="132"/>
                    </a:cubicBezTo>
                    <a:cubicBezTo>
                      <a:pt x="157" y="171"/>
                      <a:pt x="247" y="205"/>
                      <a:pt x="355" y="228"/>
                    </a:cubicBezTo>
                    <a:cubicBezTo>
                      <a:pt x="462" y="251"/>
                      <a:pt x="585" y="263"/>
                      <a:pt x="709" y="26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5917320" y="343944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0" y="263"/>
                    </a:moveTo>
                    <a:lnTo>
                      <a:pt x="0" y="263"/>
                    </a:lnTo>
                    <a:cubicBezTo>
                      <a:pt x="124" y="263"/>
                      <a:pt x="247" y="251"/>
                      <a:pt x="355" y="228"/>
                    </a:cubicBezTo>
                    <a:cubicBezTo>
                      <a:pt x="462" y="205"/>
                      <a:pt x="552" y="171"/>
                      <a:pt x="614" y="131"/>
                    </a:cubicBezTo>
                    <a:cubicBezTo>
                      <a:pt x="676" y="92"/>
                      <a:pt x="709" y="46"/>
                      <a:pt x="709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0" name=""/>
          <p:cNvGrpSpPr/>
          <p:nvPr/>
        </p:nvGrpSpPr>
        <p:grpSpPr>
          <a:xfrm>
            <a:off x="5662440" y="1111320"/>
            <a:ext cx="510120" cy="976320"/>
            <a:chOff x="5662440" y="1111320"/>
            <a:chExt cx="510120" cy="976320"/>
          </a:xfrm>
        </p:grpSpPr>
        <p:sp>
          <p:nvSpPr>
            <p:cNvPr id="3381" name=""/>
            <p:cNvSpPr/>
            <p:nvPr/>
          </p:nvSpPr>
          <p:spPr>
            <a:xfrm>
              <a:off x="5662440" y="1206360"/>
              <a:ext cx="509760" cy="78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2" name=""/>
            <p:cNvGrpSpPr/>
            <p:nvPr/>
          </p:nvGrpSpPr>
          <p:grpSpPr>
            <a:xfrm>
              <a:off x="5662440" y="1111320"/>
              <a:ext cx="510120" cy="94680"/>
              <a:chOff x="5662440" y="1111320"/>
              <a:chExt cx="510120" cy="94680"/>
            </a:xfrm>
          </p:grpSpPr>
          <p:sp>
            <p:nvSpPr>
              <p:cNvPr id="3383" name=""/>
              <p:cNvSpPr/>
              <p:nvPr/>
            </p:nvSpPr>
            <p:spPr>
              <a:xfrm>
                <a:off x="5662440" y="111132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709" y="0"/>
                    </a:moveTo>
                    <a:lnTo>
                      <a:pt x="709" y="0"/>
                    </a:lnTo>
                    <a:cubicBezTo>
                      <a:pt x="585" y="0"/>
                      <a:pt x="462" y="12"/>
                      <a:pt x="354" y="35"/>
                    </a:cubicBezTo>
                    <a:cubicBezTo>
                      <a:pt x="247" y="58"/>
                      <a:pt x="157" y="92"/>
                      <a:pt x="95" y="132"/>
                    </a:cubicBezTo>
                    <a:cubicBezTo>
                      <a:pt x="33" y="171"/>
                      <a:pt x="0" y="217"/>
                      <a:pt x="0" y="26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5917320" y="111132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709" y="263"/>
                    </a:moveTo>
                    <a:lnTo>
                      <a:pt x="709" y="263"/>
                    </a:lnTo>
                    <a:lnTo>
                      <a:pt x="709" y="263"/>
                    </a:lnTo>
                    <a:cubicBezTo>
                      <a:pt x="709" y="217"/>
                      <a:pt x="676" y="171"/>
                      <a:pt x="614" y="131"/>
                    </a:cubicBezTo>
                    <a:cubicBezTo>
                      <a:pt x="552" y="92"/>
                      <a:pt x="462" y="58"/>
                      <a:pt x="354" y="35"/>
                    </a:cubicBezTo>
                    <a:cubicBezTo>
                      <a:pt x="247" y="12"/>
                      <a:pt x="124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5" name=""/>
            <p:cNvGrpSpPr/>
            <p:nvPr/>
          </p:nvGrpSpPr>
          <p:grpSpPr>
            <a:xfrm>
              <a:off x="5662440" y="1992960"/>
              <a:ext cx="510120" cy="94680"/>
              <a:chOff x="5662440" y="1992960"/>
              <a:chExt cx="510120" cy="94680"/>
            </a:xfrm>
          </p:grpSpPr>
          <p:sp>
            <p:nvSpPr>
              <p:cNvPr id="3386" name=""/>
              <p:cNvSpPr/>
              <p:nvPr/>
            </p:nvSpPr>
            <p:spPr>
              <a:xfrm>
                <a:off x="5662440" y="199296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46"/>
                      <a:pt x="33" y="92"/>
                      <a:pt x="95" y="132"/>
                    </a:cubicBezTo>
                    <a:cubicBezTo>
                      <a:pt x="157" y="171"/>
                      <a:pt x="247" y="205"/>
                      <a:pt x="355" y="228"/>
                    </a:cubicBezTo>
                    <a:cubicBezTo>
                      <a:pt x="462" y="251"/>
                      <a:pt x="585" y="263"/>
                      <a:pt x="709" y="26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5917320" y="1992960"/>
                <a:ext cx="255240" cy="94680"/>
              </a:xfrm>
              <a:custGeom>
                <a:avLst/>
                <a:gdLst/>
                <a:ahLst/>
                <a:rect l="0" t="0" r="r" b="b"/>
                <a:pathLst>
                  <a:path fill="none" w="709" h="263">
                    <a:moveTo>
                      <a:pt x="0" y="263"/>
                    </a:moveTo>
                    <a:lnTo>
                      <a:pt x="0" y="263"/>
                    </a:lnTo>
                    <a:cubicBezTo>
                      <a:pt x="124" y="263"/>
                      <a:pt x="247" y="251"/>
                      <a:pt x="355" y="228"/>
                    </a:cubicBezTo>
                    <a:cubicBezTo>
                      <a:pt x="462" y="205"/>
                      <a:pt x="552" y="171"/>
                      <a:pt x="614" y="131"/>
                    </a:cubicBezTo>
                    <a:cubicBezTo>
                      <a:pt x="676" y="92"/>
                      <a:pt x="709" y="46"/>
                      <a:pt x="709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8" name=""/>
          <p:cNvSpPr/>
          <p:nvPr/>
        </p:nvSpPr>
        <p:spPr>
          <a:xfrm>
            <a:off x="5923080" y="3676680"/>
            <a:ext cx="0" cy="189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>
            <a:off x="5862600" y="3532320"/>
            <a:ext cx="120960" cy="194040"/>
          </a:xfrm>
          <a:custGeom>
            <a:avLst/>
            <a:gdLst/>
            <a:ahLst/>
            <a:rect l="0" t="0" r="r" b="b"/>
            <a:pathLst>
              <a:path w="336" h="539">
                <a:moveTo>
                  <a:pt x="336" y="539"/>
                </a:moveTo>
                <a:lnTo>
                  <a:pt x="167" y="473"/>
                </a:lnTo>
                <a:lnTo>
                  <a:pt x="0" y="539"/>
                </a:lnTo>
                <a:lnTo>
                  <a:pt x="167" y="0"/>
                </a:lnTo>
                <a:lnTo>
                  <a:pt x="336" y="53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>
            <a:off x="5923080" y="2230560"/>
            <a:ext cx="0" cy="188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5862600" y="2085840"/>
            <a:ext cx="120960" cy="194040"/>
          </a:xfrm>
          <a:custGeom>
            <a:avLst/>
            <a:gdLst/>
            <a:ahLst/>
            <a:rect l="0" t="0" r="r" b="b"/>
            <a:pathLst>
              <a:path w="336" h="539">
                <a:moveTo>
                  <a:pt x="336" y="539"/>
                </a:moveTo>
                <a:lnTo>
                  <a:pt x="167" y="473"/>
                </a:lnTo>
                <a:lnTo>
                  <a:pt x="0" y="539"/>
                </a:lnTo>
                <a:lnTo>
                  <a:pt x="167" y="0"/>
                </a:lnTo>
                <a:lnTo>
                  <a:pt x="336" y="53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>
            <a:off x="6843600" y="660240"/>
            <a:ext cx="5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6843600" y="1049400"/>
            <a:ext cx="5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4" name=""/>
          <p:cNvGrpSpPr/>
          <p:nvPr/>
        </p:nvGrpSpPr>
        <p:grpSpPr>
          <a:xfrm>
            <a:off x="7425720" y="655560"/>
            <a:ext cx="118440" cy="389520"/>
            <a:chOff x="7425720" y="655560"/>
            <a:chExt cx="118440" cy="389520"/>
          </a:xfrm>
        </p:grpSpPr>
        <p:sp>
          <p:nvSpPr>
            <p:cNvPr id="3395" name=""/>
            <p:cNvSpPr/>
            <p:nvPr/>
          </p:nvSpPr>
          <p:spPr>
            <a:xfrm>
              <a:off x="7425720" y="655560"/>
              <a:ext cx="118440" cy="194040"/>
            </a:xfrm>
            <a:custGeom>
              <a:avLst/>
              <a:gdLst/>
              <a:ahLst/>
              <a:rect l="0" t="0" r="r" b="b"/>
              <a:pathLst>
                <a:path fill="none" w="329" h="539">
                  <a:moveTo>
                    <a:pt x="329" y="539"/>
                  </a:moveTo>
                  <a:lnTo>
                    <a:pt x="329" y="539"/>
                  </a:lnTo>
                  <a:cubicBezTo>
                    <a:pt x="328" y="445"/>
                    <a:pt x="313" y="353"/>
                    <a:pt x="285" y="272"/>
                  </a:cubicBezTo>
                  <a:cubicBezTo>
                    <a:pt x="256" y="189"/>
                    <a:pt x="215" y="121"/>
                    <a:pt x="165" y="73"/>
                  </a:cubicBezTo>
                  <a:cubicBezTo>
                    <a:pt x="114" y="25"/>
                    <a:pt x="58" y="0"/>
                    <a:pt x="0" y="0"/>
                  </a:cubicBez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425720" y="847800"/>
              <a:ext cx="117000" cy="197280"/>
            </a:xfrm>
            <a:custGeom>
              <a:avLst/>
              <a:gdLst/>
              <a:ahLst/>
              <a:rect l="0" t="0" r="r" b="b"/>
              <a:pathLst>
                <a:path fill="none" w="325" h="548">
                  <a:moveTo>
                    <a:pt x="0" y="548"/>
                  </a:moveTo>
                  <a:lnTo>
                    <a:pt x="0" y="548"/>
                  </a:lnTo>
                  <a:lnTo>
                    <a:pt x="0" y="548"/>
                  </a:lnTo>
                  <a:cubicBezTo>
                    <a:pt x="57" y="548"/>
                    <a:pt x="113" y="523"/>
                    <a:pt x="163" y="475"/>
                  </a:cubicBezTo>
                  <a:cubicBezTo>
                    <a:pt x="212" y="428"/>
                    <a:pt x="253" y="359"/>
                    <a:pt x="281" y="277"/>
                  </a:cubicBezTo>
                  <a:cubicBezTo>
                    <a:pt x="310" y="194"/>
                    <a:pt x="325" y="100"/>
                    <a:pt x="325" y="5"/>
                  </a:cubicBezTo>
                  <a:cubicBezTo>
                    <a:pt x="325" y="3"/>
                    <a:pt x="325" y="2"/>
                    <a:pt x="325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7" name=""/>
          <p:cNvGrpSpPr/>
          <p:nvPr/>
        </p:nvGrpSpPr>
        <p:grpSpPr>
          <a:xfrm>
            <a:off x="6726240" y="655560"/>
            <a:ext cx="118440" cy="389520"/>
            <a:chOff x="6726240" y="655560"/>
            <a:chExt cx="118440" cy="389520"/>
          </a:xfrm>
        </p:grpSpPr>
        <p:sp>
          <p:nvSpPr>
            <p:cNvPr id="3398" name=""/>
            <p:cNvSpPr/>
            <p:nvPr/>
          </p:nvSpPr>
          <p:spPr>
            <a:xfrm>
              <a:off x="6726240" y="847800"/>
              <a:ext cx="117000" cy="197280"/>
            </a:xfrm>
            <a:custGeom>
              <a:avLst/>
              <a:gdLst/>
              <a:ahLst/>
              <a:rect l="0" t="0" r="r" b="b"/>
              <a:pathLst>
                <a:path fill="none" w="325" h="548">
                  <a:moveTo>
                    <a:pt x="0" y="0"/>
                  </a:moveTo>
                  <a:lnTo>
                    <a:pt x="0" y="0"/>
                  </a:lnTo>
                  <a:cubicBezTo>
                    <a:pt x="0" y="2"/>
                    <a:pt x="0" y="3"/>
                    <a:pt x="0" y="5"/>
                  </a:cubicBezTo>
                  <a:cubicBezTo>
                    <a:pt x="0" y="100"/>
                    <a:pt x="15" y="194"/>
                    <a:pt x="44" y="277"/>
                  </a:cubicBezTo>
                  <a:cubicBezTo>
                    <a:pt x="72" y="359"/>
                    <a:pt x="113" y="428"/>
                    <a:pt x="162" y="475"/>
                  </a:cubicBezTo>
                  <a:cubicBezTo>
                    <a:pt x="212" y="523"/>
                    <a:pt x="268" y="548"/>
                    <a:pt x="325" y="548"/>
                  </a:cubicBezTo>
                  <a:lnTo>
                    <a:pt x="325" y="5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6727680" y="655560"/>
              <a:ext cx="117000" cy="194040"/>
            </a:xfrm>
            <a:custGeom>
              <a:avLst/>
              <a:gdLst/>
              <a:ahLst/>
              <a:rect l="0" t="0" r="r" b="b"/>
              <a:pathLst>
                <a:path fill="none" w="325" h="539">
                  <a:moveTo>
                    <a:pt x="325" y="0"/>
                  </a:moveTo>
                  <a:lnTo>
                    <a:pt x="325" y="0"/>
                  </a:lnTo>
                  <a:lnTo>
                    <a:pt x="325" y="0"/>
                  </a:lnTo>
                  <a:cubicBezTo>
                    <a:pt x="268" y="0"/>
                    <a:pt x="212" y="25"/>
                    <a:pt x="162" y="73"/>
                  </a:cubicBezTo>
                  <a:cubicBezTo>
                    <a:pt x="113" y="121"/>
                    <a:pt x="72" y="189"/>
                    <a:pt x="44" y="272"/>
                  </a:cubicBezTo>
                  <a:cubicBezTo>
                    <a:pt x="16" y="353"/>
                    <a:pt x="1" y="445"/>
                    <a:pt x="0" y="539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0" name=""/>
          <p:cNvSpPr/>
          <p:nvPr/>
        </p:nvSpPr>
        <p:spPr>
          <a:xfrm>
            <a:off x="5942160" y="806400"/>
            <a:ext cx="651240" cy="305280"/>
          </a:xfrm>
          <a:custGeom>
            <a:avLst/>
            <a:gdLst/>
            <a:ahLst/>
            <a:rect l="0" t="0" r="r" b="b"/>
            <a:pathLst>
              <a:path fill="none" w="1809" h="848">
                <a:moveTo>
                  <a:pt x="0" y="848"/>
                </a:moveTo>
                <a:lnTo>
                  <a:pt x="0" y="0"/>
                </a:lnTo>
                <a:lnTo>
                  <a:pt x="1809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6543720" y="746280"/>
            <a:ext cx="192600" cy="120960"/>
          </a:xfrm>
          <a:custGeom>
            <a:avLst/>
            <a:gdLst/>
            <a:ahLst/>
            <a:rect l="0" t="0" r="r" b="b"/>
            <a:pathLst>
              <a:path w="535" h="336">
                <a:moveTo>
                  <a:pt x="0" y="336"/>
                </a:moveTo>
                <a:lnTo>
                  <a:pt x="66" y="167"/>
                </a:lnTo>
                <a:lnTo>
                  <a:pt x="0" y="0"/>
                </a:lnTo>
                <a:lnTo>
                  <a:pt x="535" y="167"/>
                </a:lnTo>
                <a:lnTo>
                  <a:pt x="0" y="3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7174080" y="351000"/>
            <a:ext cx="464040" cy="305280"/>
          </a:xfrm>
          <a:custGeom>
            <a:avLst/>
            <a:gdLst/>
            <a:ahLst/>
            <a:rect l="0" t="0" r="r" b="b"/>
            <a:pathLst>
              <a:path fill="none" w="1289" h="848">
                <a:moveTo>
                  <a:pt x="0" y="848"/>
                </a:moveTo>
                <a:lnTo>
                  <a:pt x="0" y="0"/>
                </a:lnTo>
                <a:lnTo>
                  <a:pt x="1289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7575480" y="290520"/>
            <a:ext cx="194040" cy="120960"/>
          </a:xfrm>
          <a:custGeom>
            <a:avLst/>
            <a:gdLst/>
            <a:ahLst/>
            <a:rect l="0" t="0" r="r" b="b"/>
            <a:pathLst>
              <a:path w="539" h="336">
                <a:moveTo>
                  <a:pt x="0" y="336"/>
                </a:moveTo>
                <a:lnTo>
                  <a:pt x="66" y="167"/>
                </a:lnTo>
                <a:lnTo>
                  <a:pt x="0" y="0"/>
                </a:lnTo>
                <a:lnTo>
                  <a:pt x="539" y="167"/>
                </a:lnTo>
                <a:lnTo>
                  <a:pt x="0" y="3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6315120" y="1058760"/>
            <a:ext cx="844920" cy="205200"/>
          </a:xfrm>
          <a:custGeom>
            <a:avLst/>
            <a:gdLst/>
            <a:ahLst/>
            <a:rect l="0" t="0" r="r" b="b"/>
            <a:pathLst>
              <a:path fill="none" w="2347" h="570">
                <a:moveTo>
                  <a:pt x="2347" y="0"/>
                </a:moveTo>
                <a:lnTo>
                  <a:pt x="2347" y="570"/>
                </a:lnTo>
                <a:lnTo>
                  <a:pt x="0" y="57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6170760" y="1203480"/>
            <a:ext cx="194040" cy="120960"/>
          </a:xfrm>
          <a:custGeom>
            <a:avLst/>
            <a:gdLst/>
            <a:ahLst/>
            <a:rect l="0" t="0" r="r" b="b"/>
            <a:pathLst>
              <a:path w="539" h="336">
                <a:moveTo>
                  <a:pt x="539" y="0"/>
                </a:moveTo>
                <a:lnTo>
                  <a:pt x="473" y="167"/>
                </a:lnTo>
                <a:lnTo>
                  <a:pt x="539" y="336"/>
                </a:lnTo>
                <a:lnTo>
                  <a:pt x="0" y="167"/>
                </a:lnTo>
                <a:lnTo>
                  <a:pt x="53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6843600" y="1725480"/>
            <a:ext cx="5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843600" y="2114640"/>
            <a:ext cx="5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8" name=""/>
          <p:cNvGrpSpPr/>
          <p:nvPr/>
        </p:nvGrpSpPr>
        <p:grpSpPr>
          <a:xfrm>
            <a:off x="7425720" y="1720800"/>
            <a:ext cx="118440" cy="389160"/>
            <a:chOff x="7425720" y="1720800"/>
            <a:chExt cx="118440" cy="389160"/>
          </a:xfrm>
        </p:grpSpPr>
        <p:sp>
          <p:nvSpPr>
            <p:cNvPr id="3409" name=""/>
            <p:cNvSpPr/>
            <p:nvPr/>
          </p:nvSpPr>
          <p:spPr>
            <a:xfrm>
              <a:off x="7425720" y="1720800"/>
              <a:ext cx="118440" cy="194040"/>
            </a:xfrm>
            <a:custGeom>
              <a:avLst/>
              <a:gdLst/>
              <a:ahLst/>
              <a:rect l="0" t="0" r="r" b="b"/>
              <a:pathLst>
                <a:path fill="none" w="329" h="539">
                  <a:moveTo>
                    <a:pt x="329" y="539"/>
                  </a:moveTo>
                  <a:lnTo>
                    <a:pt x="329" y="539"/>
                  </a:lnTo>
                  <a:cubicBezTo>
                    <a:pt x="328" y="445"/>
                    <a:pt x="313" y="353"/>
                    <a:pt x="285" y="272"/>
                  </a:cubicBezTo>
                  <a:cubicBezTo>
                    <a:pt x="256" y="189"/>
                    <a:pt x="215" y="121"/>
                    <a:pt x="165" y="73"/>
                  </a:cubicBezTo>
                  <a:cubicBezTo>
                    <a:pt x="114" y="25"/>
                    <a:pt x="58" y="0"/>
                    <a:pt x="0" y="0"/>
                  </a:cubicBez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425720" y="1912680"/>
              <a:ext cx="117000" cy="197280"/>
            </a:xfrm>
            <a:custGeom>
              <a:avLst/>
              <a:gdLst/>
              <a:ahLst/>
              <a:rect l="0" t="0" r="r" b="b"/>
              <a:pathLst>
                <a:path fill="none" w="325" h="548">
                  <a:moveTo>
                    <a:pt x="0" y="548"/>
                  </a:moveTo>
                  <a:lnTo>
                    <a:pt x="0" y="548"/>
                  </a:lnTo>
                  <a:lnTo>
                    <a:pt x="0" y="548"/>
                  </a:lnTo>
                  <a:cubicBezTo>
                    <a:pt x="57" y="548"/>
                    <a:pt x="113" y="523"/>
                    <a:pt x="163" y="475"/>
                  </a:cubicBezTo>
                  <a:cubicBezTo>
                    <a:pt x="212" y="428"/>
                    <a:pt x="253" y="359"/>
                    <a:pt x="281" y="277"/>
                  </a:cubicBezTo>
                  <a:cubicBezTo>
                    <a:pt x="310" y="194"/>
                    <a:pt x="325" y="100"/>
                    <a:pt x="325" y="5"/>
                  </a:cubicBezTo>
                  <a:cubicBezTo>
                    <a:pt x="325" y="3"/>
                    <a:pt x="325" y="2"/>
                    <a:pt x="325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1" name=""/>
          <p:cNvGrpSpPr/>
          <p:nvPr/>
        </p:nvGrpSpPr>
        <p:grpSpPr>
          <a:xfrm>
            <a:off x="6726240" y="1720800"/>
            <a:ext cx="118440" cy="389160"/>
            <a:chOff x="6726240" y="1720800"/>
            <a:chExt cx="118440" cy="389160"/>
          </a:xfrm>
        </p:grpSpPr>
        <p:sp>
          <p:nvSpPr>
            <p:cNvPr id="3412" name=""/>
            <p:cNvSpPr/>
            <p:nvPr/>
          </p:nvSpPr>
          <p:spPr>
            <a:xfrm>
              <a:off x="6726240" y="1912680"/>
              <a:ext cx="117000" cy="197280"/>
            </a:xfrm>
            <a:custGeom>
              <a:avLst/>
              <a:gdLst/>
              <a:ahLst/>
              <a:rect l="0" t="0" r="r" b="b"/>
              <a:pathLst>
                <a:path fill="none" w="325" h="548">
                  <a:moveTo>
                    <a:pt x="0" y="0"/>
                  </a:moveTo>
                  <a:lnTo>
                    <a:pt x="0" y="0"/>
                  </a:lnTo>
                  <a:cubicBezTo>
                    <a:pt x="0" y="2"/>
                    <a:pt x="0" y="3"/>
                    <a:pt x="0" y="5"/>
                  </a:cubicBezTo>
                  <a:cubicBezTo>
                    <a:pt x="0" y="100"/>
                    <a:pt x="15" y="194"/>
                    <a:pt x="44" y="277"/>
                  </a:cubicBezTo>
                  <a:cubicBezTo>
                    <a:pt x="72" y="359"/>
                    <a:pt x="113" y="428"/>
                    <a:pt x="162" y="475"/>
                  </a:cubicBezTo>
                  <a:cubicBezTo>
                    <a:pt x="212" y="523"/>
                    <a:pt x="268" y="548"/>
                    <a:pt x="325" y="548"/>
                  </a:cubicBezTo>
                  <a:lnTo>
                    <a:pt x="325" y="5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6727680" y="1720800"/>
              <a:ext cx="117000" cy="194040"/>
            </a:xfrm>
            <a:custGeom>
              <a:avLst/>
              <a:gdLst/>
              <a:ahLst/>
              <a:rect l="0" t="0" r="r" b="b"/>
              <a:pathLst>
                <a:path fill="none" w="325" h="539">
                  <a:moveTo>
                    <a:pt x="325" y="0"/>
                  </a:moveTo>
                  <a:lnTo>
                    <a:pt x="325" y="0"/>
                  </a:lnTo>
                  <a:lnTo>
                    <a:pt x="325" y="0"/>
                  </a:lnTo>
                  <a:cubicBezTo>
                    <a:pt x="268" y="0"/>
                    <a:pt x="212" y="25"/>
                    <a:pt x="162" y="73"/>
                  </a:cubicBezTo>
                  <a:cubicBezTo>
                    <a:pt x="113" y="121"/>
                    <a:pt x="72" y="189"/>
                    <a:pt x="44" y="272"/>
                  </a:cubicBezTo>
                  <a:cubicBezTo>
                    <a:pt x="16" y="353"/>
                    <a:pt x="1" y="445"/>
                    <a:pt x="0" y="539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4" name=""/>
          <p:cNvSpPr/>
          <p:nvPr/>
        </p:nvSpPr>
        <p:spPr>
          <a:xfrm>
            <a:off x="6315120" y="2128680"/>
            <a:ext cx="844920" cy="581400"/>
          </a:xfrm>
          <a:custGeom>
            <a:avLst/>
            <a:gdLst/>
            <a:ahLst/>
            <a:rect l="0" t="0" r="r" b="b"/>
            <a:pathLst>
              <a:path fill="none" w="2347" h="1615">
                <a:moveTo>
                  <a:pt x="2347" y="0"/>
                </a:moveTo>
                <a:lnTo>
                  <a:pt x="2347" y="1615"/>
                </a:lnTo>
                <a:lnTo>
                  <a:pt x="0" y="161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6170760" y="2649600"/>
            <a:ext cx="194040" cy="120960"/>
          </a:xfrm>
          <a:custGeom>
            <a:avLst/>
            <a:gdLst/>
            <a:ahLst/>
            <a:rect l="0" t="0" r="r" b="b"/>
            <a:pathLst>
              <a:path w="539" h="336">
                <a:moveTo>
                  <a:pt x="539" y="0"/>
                </a:moveTo>
                <a:lnTo>
                  <a:pt x="473" y="167"/>
                </a:lnTo>
                <a:lnTo>
                  <a:pt x="539" y="336"/>
                </a:lnTo>
                <a:lnTo>
                  <a:pt x="0" y="167"/>
                </a:lnTo>
                <a:lnTo>
                  <a:pt x="53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 flipH="1">
            <a:off x="6170760" y="1871640"/>
            <a:ext cx="412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6534000" y="1811160"/>
            <a:ext cx="192600" cy="120960"/>
          </a:xfrm>
          <a:custGeom>
            <a:avLst/>
            <a:gdLst/>
            <a:ahLst/>
            <a:rect l="0" t="0" r="r" b="b"/>
            <a:pathLst>
              <a:path w="535" h="336">
                <a:moveTo>
                  <a:pt x="0" y="336"/>
                </a:moveTo>
                <a:lnTo>
                  <a:pt x="66" y="167"/>
                </a:lnTo>
                <a:lnTo>
                  <a:pt x="0" y="0"/>
                </a:lnTo>
                <a:lnTo>
                  <a:pt x="535" y="167"/>
                </a:lnTo>
                <a:lnTo>
                  <a:pt x="0" y="3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>
            <a:off x="7159680" y="1492200"/>
            <a:ext cx="616320" cy="228960"/>
          </a:xfrm>
          <a:custGeom>
            <a:avLst/>
            <a:gdLst/>
            <a:ahLst/>
            <a:rect l="0" t="0" r="r" b="b"/>
            <a:pathLst>
              <a:path fill="none" w="1712" h="636">
                <a:moveTo>
                  <a:pt x="0" y="636"/>
                </a:moveTo>
                <a:lnTo>
                  <a:pt x="0" y="0"/>
                </a:lnTo>
                <a:lnTo>
                  <a:pt x="1712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7728120" y="1432080"/>
            <a:ext cx="194040" cy="120960"/>
          </a:xfrm>
          <a:custGeom>
            <a:avLst/>
            <a:gdLst/>
            <a:ahLst/>
            <a:rect l="0" t="0" r="r" b="b"/>
            <a:pathLst>
              <a:path w="539" h="336">
                <a:moveTo>
                  <a:pt x="0" y="336"/>
                </a:moveTo>
                <a:lnTo>
                  <a:pt x="66" y="167"/>
                </a:lnTo>
                <a:lnTo>
                  <a:pt x="0" y="0"/>
                </a:lnTo>
                <a:lnTo>
                  <a:pt x="539" y="167"/>
                </a:lnTo>
                <a:lnTo>
                  <a:pt x="0" y="3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>
            <a:off x="6843600" y="3170160"/>
            <a:ext cx="5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6843600" y="3560760"/>
            <a:ext cx="5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2" name=""/>
          <p:cNvGrpSpPr/>
          <p:nvPr/>
        </p:nvGrpSpPr>
        <p:grpSpPr>
          <a:xfrm>
            <a:off x="7425720" y="3165480"/>
            <a:ext cx="118440" cy="390960"/>
            <a:chOff x="7425720" y="3165480"/>
            <a:chExt cx="118440" cy="390960"/>
          </a:xfrm>
        </p:grpSpPr>
        <p:sp>
          <p:nvSpPr>
            <p:cNvPr id="3423" name=""/>
            <p:cNvSpPr/>
            <p:nvPr/>
          </p:nvSpPr>
          <p:spPr>
            <a:xfrm>
              <a:off x="7425720" y="3165480"/>
              <a:ext cx="118440" cy="196560"/>
            </a:xfrm>
            <a:custGeom>
              <a:avLst/>
              <a:gdLst/>
              <a:ahLst/>
              <a:rect l="0" t="0" r="r" b="b"/>
              <a:pathLst>
                <a:path fill="none" w="329" h="546">
                  <a:moveTo>
                    <a:pt x="329" y="546"/>
                  </a:moveTo>
                  <a:lnTo>
                    <a:pt x="329" y="546"/>
                  </a:lnTo>
                  <a:lnTo>
                    <a:pt x="329" y="546"/>
                  </a:lnTo>
                  <a:cubicBezTo>
                    <a:pt x="329" y="450"/>
                    <a:pt x="314" y="356"/>
                    <a:pt x="285" y="273"/>
                  </a:cubicBezTo>
                  <a:cubicBezTo>
                    <a:pt x="256" y="190"/>
                    <a:pt x="215" y="121"/>
                    <a:pt x="164" y="73"/>
                  </a:cubicBezTo>
                  <a:cubicBezTo>
                    <a:pt x="114" y="25"/>
                    <a:pt x="58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7425720" y="3359880"/>
              <a:ext cx="117000" cy="196560"/>
            </a:xfrm>
            <a:custGeom>
              <a:avLst/>
              <a:gdLst/>
              <a:ahLst/>
              <a:rect l="0" t="0" r="r" b="b"/>
              <a:pathLst>
                <a:path fill="none" w="325" h="546">
                  <a:moveTo>
                    <a:pt x="0" y="546"/>
                  </a:moveTo>
                  <a:lnTo>
                    <a:pt x="0" y="546"/>
                  </a:lnTo>
                  <a:cubicBezTo>
                    <a:pt x="57" y="546"/>
                    <a:pt x="113" y="521"/>
                    <a:pt x="163" y="473"/>
                  </a:cubicBezTo>
                  <a:cubicBezTo>
                    <a:pt x="212" y="425"/>
                    <a:pt x="253" y="356"/>
                    <a:pt x="281" y="273"/>
                  </a:cubicBezTo>
                  <a:cubicBezTo>
                    <a:pt x="310" y="190"/>
                    <a:pt x="325" y="96"/>
                    <a:pt x="325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5" name=""/>
          <p:cNvGrpSpPr/>
          <p:nvPr/>
        </p:nvGrpSpPr>
        <p:grpSpPr>
          <a:xfrm>
            <a:off x="6726240" y="3165480"/>
            <a:ext cx="118440" cy="390960"/>
            <a:chOff x="6726240" y="3165480"/>
            <a:chExt cx="118440" cy="390960"/>
          </a:xfrm>
        </p:grpSpPr>
        <p:sp>
          <p:nvSpPr>
            <p:cNvPr id="3426" name=""/>
            <p:cNvSpPr/>
            <p:nvPr/>
          </p:nvSpPr>
          <p:spPr>
            <a:xfrm>
              <a:off x="6726240" y="3359880"/>
              <a:ext cx="117000" cy="196560"/>
            </a:xfrm>
            <a:custGeom>
              <a:avLst/>
              <a:gdLst/>
              <a:ahLst/>
              <a:rect l="0" t="0" r="r" b="b"/>
              <a:pathLst>
                <a:path fill="none" w="325" h="546">
                  <a:moveTo>
                    <a:pt x="0" y="0"/>
                  </a:moveTo>
                  <a:lnTo>
                    <a:pt x="0" y="0"/>
                  </a:lnTo>
                  <a:cubicBezTo>
                    <a:pt x="0" y="96"/>
                    <a:pt x="15" y="190"/>
                    <a:pt x="44" y="273"/>
                  </a:cubicBezTo>
                  <a:cubicBezTo>
                    <a:pt x="72" y="356"/>
                    <a:pt x="113" y="425"/>
                    <a:pt x="163" y="473"/>
                  </a:cubicBezTo>
                  <a:cubicBezTo>
                    <a:pt x="212" y="521"/>
                    <a:pt x="268" y="546"/>
                    <a:pt x="325" y="546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6727680" y="3165480"/>
              <a:ext cx="117000" cy="196560"/>
            </a:xfrm>
            <a:custGeom>
              <a:avLst/>
              <a:gdLst/>
              <a:ahLst/>
              <a:rect l="0" t="0" r="r" b="b"/>
              <a:pathLst>
                <a:path fill="none" w="325" h="546">
                  <a:moveTo>
                    <a:pt x="325" y="0"/>
                  </a:moveTo>
                  <a:lnTo>
                    <a:pt x="325" y="0"/>
                  </a:lnTo>
                  <a:cubicBezTo>
                    <a:pt x="268" y="0"/>
                    <a:pt x="212" y="25"/>
                    <a:pt x="162" y="73"/>
                  </a:cubicBezTo>
                  <a:cubicBezTo>
                    <a:pt x="113" y="121"/>
                    <a:pt x="72" y="190"/>
                    <a:pt x="44" y="273"/>
                  </a:cubicBezTo>
                  <a:cubicBezTo>
                    <a:pt x="15" y="356"/>
                    <a:pt x="0" y="450"/>
                    <a:pt x="0" y="546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8" name=""/>
          <p:cNvSpPr/>
          <p:nvPr/>
        </p:nvSpPr>
        <p:spPr>
          <a:xfrm>
            <a:off x="6315120" y="3565440"/>
            <a:ext cx="844920" cy="589320"/>
          </a:xfrm>
          <a:custGeom>
            <a:avLst/>
            <a:gdLst/>
            <a:ahLst/>
            <a:rect l="0" t="0" r="r" b="b"/>
            <a:pathLst>
              <a:path fill="none" w="2347" h="1637">
                <a:moveTo>
                  <a:pt x="2347" y="0"/>
                </a:moveTo>
                <a:lnTo>
                  <a:pt x="2347" y="1637"/>
                </a:lnTo>
                <a:lnTo>
                  <a:pt x="0" y="16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6170760" y="4094280"/>
            <a:ext cx="194040" cy="120960"/>
          </a:xfrm>
          <a:custGeom>
            <a:avLst/>
            <a:gdLst/>
            <a:ahLst/>
            <a:rect l="0" t="0" r="r" b="b"/>
            <a:pathLst>
              <a:path w="539" h="336">
                <a:moveTo>
                  <a:pt x="539" y="0"/>
                </a:moveTo>
                <a:lnTo>
                  <a:pt x="473" y="167"/>
                </a:lnTo>
                <a:lnTo>
                  <a:pt x="539" y="336"/>
                </a:lnTo>
                <a:lnTo>
                  <a:pt x="0" y="167"/>
                </a:lnTo>
                <a:lnTo>
                  <a:pt x="53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 flipH="1">
            <a:off x="6180120" y="3322800"/>
            <a:ext cx="392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6524640" y="3262320"/>
            <a:ext cx="192600" cy="120960"/>
          </a:xfrm>
          <a:custGeom>
            <a:avLst/>
            <a:gdLst/>
            <a:ahLst/>
            <a:rect l="0" t="0" r="r" b="b"/>
            <a:pathLst>
              <a:path w="535" h="336">
                <a:moveTo>
                  <a:pt x="0" y="336"/>
                </a:moveTo>
                <a:lnTo>
                  <a:pt x="66" y="167"/>
                </a:lnTo>
                <a:lnTo>
                  <a:pt x="0" y="0"/>
                </a:lnTo>
                <a:lnTo>
                  <a:pt x="535" y="167"/>
                </a:lnTo>
                <a:lnTo>
                  <a:pt x="0" y="3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7159680" y="2936880"/>
            <a:ext cx="616320" cy="228960"/>
          </a:xfrm>
          <a:custGeom>
            <a:avLst/>
            <a:gdLst/>
            <a:ahLst/>
            <a:rect l="0" t="0" r="r" b="b"/>
            <a:pathLst>
              <a:path fill="none" w="1712" h="636">
                <a:moveTo>
                  <a:pt x="0" y="636"/>
                </a:moveTo>
                <a:lnTo>
                  <a:pt x="0" y="0"/>
                </a:lnTo>
                <a:lnTo>
                  <a:pt x="1712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7728120" y="2878200"/>
            <a:ext cx="194040" cy="119520"/>
          </a:xfrm>
          <a:custGeom>
            <a:avLst/>
            <a:gdLst/>
            <a:ahLst/>
            <a:rect l="0" t="0" r="r" b="b"/>
            <a:pathLst>
              <a:path w="539" h="332">
                <a:moveTo>
                  <a:pt x="0" y="332"/>
                </a:moveTo>
                <a:lnTo>
                  <a:pt x="66" y="164"/>
                </a:lnTo>
                <a:lnTo>
                  <a:pt x="0" y="0"/>
                </a:lnTo>
                <a:lnTo>
                  <a:pt x="539" y="164"/>
                </a:lnTo>
                <a:lnTo>
                  <a:pt x="0" y="33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4" name=""/>
          <p:cNvSpPr txBox="1"/>
          <p:nvPr/>
        </p:nvSpPr>
        <p:spPr>
          <a:xfrm>
            <a:off x="7626240" y="442800"/>
            <a:ext cx="957240" cy="42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 txBox="1"/>
          <p:nvPr/>
        </p:nvSpPr>
        <p:spPr>
          <a:xfrm>
            <a:off x="7693200" y="1593720"/>
            <a:ext cx="957240" cy="42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 txBox="1"/>
          <p:nvPr/>
        </p:nvSpPr>
        <p:spPr>
          <a:xfrm>
            <a:off x="7716960" y="3030480"/>
            <a:ext cx="957240" cy="42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5869080" y="5197320"/>
            <a:ext cx="120960" cy="194040"/>
          </a:xfrm>
          <a:custGeom>
            <a:avLst/>
            <a:gdLst/>
            <a:ahLst/>
            <a:rect l="0" t="0" r="r" b="b"/>
            <a:pathLst>
              <a:path w="336" h="539">
                <a:moveTo>
                  <a:pt x="0" y="0"/>
                </a:moveTo>
                <a:lnTo>
                  <a:pt x="167" y="66"/>
                </a:lnTo>
                <a:lnTo>
                  <a:pt x="336" y="0"/>
                </a:lnTo>
                <a:lnTo>
                  <a:pt x="167" y="5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8" name=""/>
          <p:cNvSpPr txBox="1"/>
          <p:nvPr/>
        </p:nvSpPr>
        <p:spPr>
          <a:xfrm>
            <a:off x="380880" y="603396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ddle Vessel Column                   Multivessel Batch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 txBox="1"/>
          <p:nvPr/>
        </p:nvSpPr>
        <p:spPr>
          <a:xfrm>
            <a:off x="746280" y="3032280"/>
            <a:ext cx="1511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ed/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 txBox="1"/>
          <p:nvPr/>
        </p:nvSpPr>
        <p:spPr>
          <a:xfrm>
            <a:off x="2041560" y="487440"/>
            <a:ext cx="861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 txBox="1"/>
          <p:nvPr/>
        </p:nvSpPr>
        <p:spPr>
          <a:xfrm>
            <a:off x="1965240" y="5364000"/>
            <a:ext cx="861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 txBox="1"/>
          <p:nvPr/>
        </p:nvSpPr>
        <p:spPr>
          <a:xfrm>
            <a:off x="5241960" y="5440320"/>
            <a:ext cx="1511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ed/Prod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 txBox="1"/>
          <p:nvPr/>
        </p:nvSpPr>
        <p:spPr>
          <a:xfrm>
            <a:off x="6737400" y="666720"/>
            <a:ext cx="1535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 txBox="1"/>
          <p:nvPr/>
        </p:nvSpPr>
        <p:spPr>
          <a:xfrm>
            <a:off x="6711840" y="1751040"/>
            <a:ext cx="1174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 txBox="1"/>
          <p:nvPr/>
        </p:nvSpPr>
        <p:spPr>
          <a:xfrm>
            <a:off x="6738840" y="3189240"/>
            <a:ext cx="1535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"/>
          <p:cNvSpPr/>
          <p:nvPr/>
        </p:nvSpPr>
        <p:spPr>
          <a:xfrm>
            <a:off x="336600" y="2541600"/>
            <a:ext cx="128160" cy="181440"/>
          </a:xfrm>
          <a:custGeom>
            <a:avLst/>
            <a:gdLst/>
            <a:ahLst/>
            <a:rect l="0" t="0" r="r" b="b"/>
            <a:pathLst>
              <a:path fill="none" w="356" h="504">
                <a:moveTo>
                  <a:pt x="356" y="0"/>
                </a:moveTo>
                <a:lnTo>
                  <a:pt x="356" y="0"/>
                </a:lnTo>
                <a:cubicBezTo>
                  <a:pt x="294" y="0"/>
                  <a:pt x="232" y="23"/>
                  <a:pt x="178" y="68"/>
                </a:cubicBezTo>
                <a:cubicBezTo>
                  <a:pt x="124" y="112"/>
                  <a:pt x="79" y="175"/>
                  <a:pt x="48" y="252"/>
                </a:cubicBezTo>
                <a:cubicBezTo>
                  <a:pt x="16" y="329"/>
                  <a:pt x="0" y="416"/>
                  <a:pt x="0" y="50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>
            <a:off x="336600" y="2722680"/>
            <a:ext cx="128160" cy="181440"/>
          </a:xfrm>
          <a:custGeom>
            <a:avLst/>
            <a:gdLst/>
            <a:ahLst/>
            <a:rect l="0" t="0" r="r" b="b"/>
            <a:pathLst>
              <a:path fill="none" w="356" h="504">
                <a:moveTo>
                  <a:pt x="0" y="0"/>
                </a:moveTo>
                <a:lnTo>
                  <a:pt x="0" y="0"/>
                </a:lnTo>
                <a:cubicBezTo>
                  <a:pt x="0" y="88"/>
                  <a:pt x="16" y="175"/>
                  <a:pt x="48" y="252"/>
                </a:cubicBezTo>
                <a:cubicBezTo>
                  <a:pt x="79" y="329"/>
                  <a:pt x="124" y="392"/>
                  <a:pt x="178" y="436"/>
                </a:cubicBezTo>
                <a:cubicBezTo>
                  <a:pt x="232" y="481"/>
                  <a:pt x="294" y="504"/>
                  <a:pt x="356" y="50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>
            <a:off x="765000" y="1262160"/>
            <a:ext cx="0" cy="108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>
            <a:off x="1047600" y="1262160"/>
            <a:ext cx="0" cy="108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765000" y="1111320"/>
            <a:ext cx="147960" cy="151200"/>
          </a:xfrm>
          <a:custGeom>
            <a:avLst/>
            <a:gdLst/>
            <a:ahLst/>
            <a:rect l="0" t="0" r="r" b="b"/>
            <a:pathLst>
              <a:path fill="none" w="411" h="420">
                <a:moveTo>
                  <a:pt x="411" y="0"/>
                </a:moveTo>
                <a:lnTo>
                  <a:pt x="411" y="0"/>
                </a:lnTo>
                <a:cubicBezTo>
                  <a:pt x="339" y="0"/>
                  <a:pt x="268" y="19"/>
                  <a:pt x="205" y="56"/>
                </a:cubicBezTo>
                <a:cubicBezTo>
                  <a:pt x="143" y="93"/>
                  <a:pt x="91" y="146"/>
                  <a:pt x="55" y="210"/>
                </a:cubicBezTo>
                <a:cubicBezTo>
                  <a:pt x="19" y="274"/>
                  <a:pt x="0" y="346"/>
                  <a:pt x="0" y="42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912960" y="1111320"/>
            <a:ext cx="147960" cy="151200"/>
          </a:xfrm>
          <a:custGeom>
            <a:avLst/>
            <a:gdLst/>
            <a:ahLst/>
            <a:rect l="0" t="0" r="r" b="b"/>
            <a:pathLst>
              <a:path fill="none" w="411" h="420">
                <a:moveTo>
                  <a:pt x="411" y="420"/>
                </a:moveTo>
                <a:lnTo>
                  <a:pt x="411" y="420"/>
                </a:lnTo>
                <a:lnTo>
                  <a:pt x="411" y="420"/>
                </a:lnTo>
                <a:cubicBezTo>
                  <a:pt x="411" y="346"/>
                  <a:pt x="392" y="274"/>
                  <a:pt x="356" y="210"/>
                </a:cubicBezTo>
                <a:cubicBezTo>
                  <a:pt x="320" y="146"/>
                  <a:pt x="268" y="93"/>
                  <a:pt x="205" y="56"/>
                </a:cubicBezTo>
                <a:cubicBezTo>
                  <a:pt x="143" y="19"/>
                  <a:pt x="72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>
            <a:off x="765000" y="126216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777960" y="1471680"/>
            <a:ext cx="269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>
            <a:off x="777960" y="1681200"/>
            <a:ext cx="269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923760" y="947880"/>
            <a:ext cx="0" cy="163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6" name=""/>
          <p:cNvGrpSpPr/>
          <p:nvPr/>
        </p:nvGrpSpPr>
        <p:grpSpPr>
          <a:xfrm>
            <a:off x="923760" y="912960"/>
            <a:ext cx="357840" cy="71640"/>
            <a:chOff x="923760" y="912960"/>
            <a:chExt cx="357840" cy="71640"/>
          </a:xfrm>
        </p:grpSpPr>
        <p:sp>
          <p:nvSpPr>
            <p:cNvPr id="3457" name=""/>
            <p:cNvSpPr/>
            <p:nvPr/>
          </p:nvSpPr>
          <p:spPr>
            <a:xfrm>
              <a:off x="1133640" y="912960"/>
              <a:ext cx="147960" cy="71640"/>
            </a:xfrm>
            <a:custGeom>
              <a:avLst/>
              <a:gdLst/>
              <a:ahLst/>
              <a:rect l="0" t="0" r="r" b="b"/>
              <a:pathLst>
                <a:path w="411" h="199">
                  <a:moveTo>
                    <a:pt x="411" y="99"/>
                  </a:moveTo>
                  <a:lnTo>
                    <a:pt x="0" y="1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411" y="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923760" y="947880"/>
              <a:ext cx="209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9" name=""/>
          <p:cNvSpPr/>
          <p:nvPr/>
        </p:nvSpPr>
        <p:spPr>
          <a:xfrm>
            <a:off x="1512720" y="657360"/>
            <a:ext cx="0" cy="641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>
            <a:off x="1281240" y="855720"/>
            <a:ext cx="479520" cy="2095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6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1" name=""/>
          <p:cNvGrpSpPr/>
          <p:nvPr/>
        </p:nvGrpSpPr>
        <p:grpSpPr>
          <a:xfrm>
            <a:off x="1525680" y="633240"/>
            <a:ext cx="331920" cy="70200"/>
            <a:chOff x="1525680" y="633240"/>
            <a:chExt cx="331920" cy="70200"/>
          </a:xfrm>
        </p:grpSpPr>
        <p:sp>
          <p:nvSpPr>
            <p:cNvPr id="3462" name=""/>
            <p:cNvSpPr/>
            <p:nvPr/>
          </p:nvSpPr>
          <p:spPr>
            <a:xfrm>
              <a:off x="1709640" y="633240"/>
              <a:ext cx="147960" cy="70200"/>
            </a:xfrm>
            <a:custGeom>
              <a:avLst/>
              <a:gdLst/>
              <a:ahLst/>
              <a:rect l="0" t="0" r="r" b="b"/>
              <a:pathLst>
                <a:path w="411" h="195">
                  <a:moveTo>
                    <a:pt x="411" y="100"/>
                  </a:moveTo>
                  <a:lnTo>
                    <a:pt x="0" y="195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411" y="1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1525680" y="669960"/>
              <a:ext cx="183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4" name=""/>
          <p:cNvGrpSpPr/>
          <p:nvPr/>
        </p:nvGrpSpPr>
        <p:grpSpPr>
          <a:xfrm>
            <a:off x="1060560" y="1249200"/>
            <a:ext cx="452160" cy="71640"/>
            <a:chOff x="1060560" y="1249200"/>
            <a:chExt cx="452160" cy="71640"/>
          </a:xfrm>
        </p:grpSpPr>
        <p:sp>
          <p:nvSpPr>
            <p:cNvPr id="3465" name=""/>
            <p:cNvSpPr/>
            <p:nvPr/>
          </p:nvSpPr>
          <p:spPr>
            <a:xfrm>
              <a:off x="1060560" y="1249200"/>
              <a:ext cx="135360" cy="71640"/>
            </a:xfrm>
            <a:custGeom>
              <a:avLst/>
              <a:gdLst/>
              <a:ahLst/>
              <a:rect l="0" t="0" r="r" b="b"/>
              <a:pathLst>
                <a:path w="376" h="199">
                  <a:moveTo>
                    <a:pt x="0" y="99"/>
                  </a:moveTo>
                  <a:lnTo>
                    <a:pt x="376" y="0"/>
                  </a:lnTo>
                  <a:lnTo>
                    <a:pt x="376" y="99"/>
                  </a:lnTo>
                  <a:lnTo>
                    <a:pt x="376" y="1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1195560" y="1285920"/>
              <a:ext cx="317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7" name=""/>
          <p:cNvSpPr/>
          <p:nvPr/>
        </p:nvSpPr>
        <p:spPr>
          <a:xfrm>
            <a:off x="1257480" y="762120"/>
            <a:ext cx="34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1292400" y="762120"/>
            <a:ext cx="0" cy="2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1330200" y="808200"/>
            <a:ext cx="3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 flipH="1">
            <a:off x="1366920" y="808200"/>
            <a:ext cx="11160" cy="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1292400" y="784080"/>
            <a:ext cx="3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1330200" y="784080"/>
            <a:ext cx="0" cy="2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1370160" y="820800"/>
            <a:ext cx="56880" cy="3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"/>
          <p:cNvGrpSpPr/>
          <p:nvPr/>
        </p:nvGrpSpPr>
        <p:grpSpPr>
          <a:xfrm>
            <a:off x="1171440" y="703440"/>
            <a:ext cx="133560" cy="117720"/>
            <a:chOff x="1171440" y="703440"/>
            <a:chExt cx="133560" cy="117720"/>
          </a:xfrm>
        </p:grpSpPr>
        <p:sp>
          <p:nvSpPr>
            <p:cNvPr id="3475" name=""/>
            <p:cNvSpPr/>
            <p:nvPr/>
          </p:nvSpPr>
          <p:spPr>
            <a:xfrm>
              <a:off x="1171440" y="703440"/>
              <a:ext cx="133560" cy="117720"/>
            </a:xfrm>
            <a:custGeom>
              <a:avLst/>
              <a:gdLst/>
              <a:ahLst/>
              <a:rect l="0" t="0" r="r" b="b"/>
              <a:pathLst>
                <a:path w="371" h="327">
                  <a:moveTo>
                    <a:pt x="0" y="0"/>
                  </a:moveTo>
                  <a:lnTo>
                    <a:pt x="371" y="164"/>
                  </a:lnTo>
                  <a:lnTo>
                    <a:pt x="334" y="228"/>
                  </a:lnTo>
                  <a:lnTo>
                    <a:pt x="268" y="3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 flipH="1" flipV="1">
              <a:off x="1257480" y="76356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7" name=""/>
          <p:cNvSpPr/>
          <p:nvPr/>
        </p:nvSpPr>
        <p:spPr>
          <a:xfrm flipH="1">
            <a:off x="433440" y="2913120"/>
            <a:ext cx="909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1348560" y="2541600"/>
            <a:ext cx="129600" cy="181440"/>
          </a:xfrm>
          <a:custGeom>
            <a:avLst/>
            <a:gdLst/>
            <a:ahLst/>
            <a:rect l="0" t="0" r="r" b="b"/>
            <a:pathLst>
              <a:path fill="none" w="360" h="504">
                <a:moveTo>
                  <a:pt x="360" y="504"/>
                </a:moveTo>
                <a:lnTo>
                  <a:pt x="360" y="504"/>
                </a:lnTo>
                <a:lnTo>
                  <a:pt x="360" y="504"/>
                </a:lnTo>
                <a:cubicBezTo>
                  <a:pt x="360" y="416"/>
                  <a:pt x="343" y="329"/>
                  <a:pt x="312" y="252"/>
                </a:cubicBezTo>
                <a:cubicBezTo>
                  <a:pt x="280" y="175"/>
                  <a:pt x="235" y="112"/>
                  <a:pt x="180" y="68"/>
                </a:cubicBezTo>
                <a:cubicBezTo>
                  <a:pt x="125" y="23"/>
                  <a:pt x="63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1348560" y="2722680"/>
            <a:ext cx="129600" cy="181440"/>
          </a:xfrm>
          <a:custGeom>
            <a:avLst/>
            <a:gdLst/>
            <a:ahLst/>
            <a:rect l="0" t="0" r="r" b="b"/>
            <a:pathLst>
              <a:path fill="none" w="360" h="504">
                <a:moveTo>
                  <a:pt x="0" y="504"/>
                </a:moveTo>
                <a:lnTo>
                  <a:pt x="0" y="504"/>
                </a:lnTo>
                <a:cubicBezTo>
                  <a:pt x="63" y="504"/>
                  <a:pt x="125" y="481"/>
                  <a:pt x="180" y="436"/>
                </a:cubicBezTo>
                <a:cubicBezTo>
                  <a:pt x="235" y="392"/>
                  <a:pt x="280" y="329"/>
                  <a:pt x="312" y="252"/>
                </a:cubicBezTo>
                <a:cubicBezTo>
                  <a:pt x="343" y="175"/>
                  <a:pt x="360" y="88"/>
                  <a:pt x="36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457200" y="2541600"/>
            <a:ext cx="885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347760" y="2624040"/>
            <a:ext cx="1054440" cy="70200"/>
          </a:xfrm>
          <a:custGeom>
            <a:avLst/>
            <a:gdLst/>
            <a:ahLst/>
            <a:rect l="0" t="0" r="r" b="b"/>
            <a:pathLst>
              <a:path fill="none" w="2929" h="195">
                <a:moveTo>
                  <a:pt x="0" y="98"/>
                </a:moveTo>
                <a:lnTo>
                  <a:pt x="134" y="62"/>
                </a:lnTo>
                <a:lnTo>
                  <a:pt x="275" y="34"/>
                </a:lnTo>
                <a:lnTo>
                  <a:pt x="410" y="0"/>
                </a:lnTo>
                <a:lnTo>
                  <a:pt x="545" y="62"/>
                </a:lnTo>
                <a:lnTo>
                  <a:pt x="716" y="98"/>
                </a:lnTo>
                <a:lnTo>
                  <a:pt x="820" y="126"/>
                </a:lnTo>
                <a:lnTo>
                  <a:pt x="955" y="98"/>
                </a:lnTo>
                <a:lnTo>
                  <a:pt x="1090" y="98"/>
                </a:lnTo>
                <a:lnTo>
                  <a:pt x="1225" y="62"/>
                </a:lnTo>
                <a:lnTo>
                  <a:pt x="1366" y="62"/>
                </a:lnTo>
                <a:lnTo>
                  <a:pt x="1532" y="98"/>
                </a:lnTo>
                <a:lnTo>
                  <a:pt x="1673" y="98"/>
                </a:lnTo>
                <a:lnTo>
                  <a:pt x="1703" y="160"/>
                </a:lnTo>
                <a:lnTo>
                  <a:pt x="1838" y="195"/>
                </a:lnTo>
                <a:lnTo>
                  <a:pt x="1942" y="160"/>
                </a:lnTo>
                <a:lnTo>
                  <a:pt x="2114" y="126"/>
                </a:lnTo>
                <a:lnTo>
                  <a:pt x="2218" y="98"/>
                </a:lnTo>
                <a:lnTo>
                  <a:pt x="2420" y="98"/>
                </a:lnTo>
                <a:lnTo>
                  <a:pt x="2488" y="62"/>
                </a:lnTo>
                <a:lnTo>
                  <a:pt x="2690" y="62"/>
                </a:lnTo>
                <a:lnTo>
                  <a:pt x="2861" y="98"/>
                </a:lnTo>
                <a:lnTo>
                  <a:pt x="2898" y="160"/>
                </a:lnTo>
                <a:lnTo>
                  <a:pt x="2929" y="19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949320" y="2855880"/>
            <a:ext cx="36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985680" y="2855880"/>
            <a:ext cx="0" cy="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1022400" y="289080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>
            <a:off x="1060560" y="2890800"/>
            <a:ext cx="0" cy="2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985680" y="2878200"/>
            <a:ext cx="3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1022400" y="2878200"/>
            <a:ext cx="0" cy="1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1060560" y="2914560"/>
            <a:ext cx="60120" cy="2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9" name=""/>
          <p:cNvGrpSpPr/>
          <p:nvPr/>
        </p:nvGrpSpPr>
        <p:grpSpPr>
          <a:xfrm>
            <a:off x="863640" y="2798640"/>
            <a:ext cx="135360" cy="105120"/>
            <a:chOff x="863640" y="2798640"/>
            <a:chExt cx="135360" cy="105120"/>
          </a:xfrm>
        </p:grpSpPr>
        <p:sp>
          <p:nvSpPr>
            <p:cNvPr id="3490" name=""/>
            <p:cNvSpPr/>
            <p:nvPr/>
          </p:nvSpPr>
          <p:spPr>
            <a:xfrm>
              <a:off x="863640" y="2798640"/>
              <a:ext cx="135360" cy="105120"/>
            </a:xfrm>
            <a:custGeom>
              <a:avLst/>
              <a:gdLst/>
              <a:ahLst/>
              <a:rect l="0" t="0" r="r" b="b"/>
              <a:pathLst>
                <a:path w="376" h="292">
                  <a:moveTo>
                    <a:pt x="0" y="0"/>
                  </a:moveTo>
                  <a:lnTo>
                    <a:pt x="376" y="158"/>
                  </a:lnTo>
                  <a:lnTo>
                    <a:pt x="309" y="222"/>
                  </a:lnTo>
                  <a:lnTo>
                    <a:pt x="240" y="2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 flipH="1" flipV="1">
              <a:off x="949320" y="2857680"/>
              <a:ext cx="223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2" name=""/>
          <p:cNvSpPr/>
          <p:nvPr/>
        </p:nvSpPr>
        <p:spPr>
          <a:xfrm>
            <a:off x="777960" y="2320920"/>
            <a:ext cx="147240" cy="152640"/>
          </a:xfrm>
          <a:custGeom>
            <a:avLst/>
            <a:gdLst/>
            <a:ahLst/>
            <a:rect l="0" t="0" r="r" b="b"/>
            <a:pathLst>
              <a:path fill="none" w="409" h="424">
                <a:moveTo>
                  <a:pt x="0" y="0"/>
                </a:moveTo>
                <a:lnTo>
                  <a:pt x="0" y="0"/>
                </a:lnTo>
                <a:cubicBezTo>
                  <a:pt x="0" y="74"/>
                  <a:pt x="19" y="148"/>
                  <a:pt x="55" y="212"/>
                </a:cubicBezTo>
                <a:cubicBezTo>
                  <a:pt x="91" y="276"/>
                  <a:pt x="142" y="330"/>
                  <a:pt x="205" y="367"/>
                </a:cubicBezTo>
                <a:cubicBezTo>
                  <a:pt x="267" y="404"/>
                  <a:pt x="337" y="424"/>
                  <a:pt x="409" y="42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924840" y="2320920"/>
            <a:ext cx="147240" cy="152640"/>
          </a:xfrm>
          <a:custGeom>
            <a:avLst/>
            <a:gdLst/>
            <a:ahLst/>
            <a:rect l="0" t="0" r="r" b="b"/>
            <a:pathLst>
              <a:path fill="none" w="409" h="424">
                <a:moveTo>
                  <a:pt x="0" y="424"/>
                </a:moveTo>
                <a:lnTo>
                  <a:pt x="0" y="424"/>
                </a:lnTo>
                <a:cubicBezTo>
                  <a:pt x="72" y="424"/>
                  <a:pt x="142" y="404"/>
                  <a:pt x="205" y="367"/>
                </a:cubicBezTo>
                <a:cubicBezTo>
                  <a:pt x="267" y="330"/>
                  <a:pt x="318" y="276"/>
                  <a:pt x="354" y="212"/>
                </a:cubicBezTo>
                <a:cubicBezTo>
                  <a:pt x="390" y="148"/>
                  <a:pt x="409" y="74"/>
                  <a:pt x="4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777960" y="2309760"/>
            <a:ext cx="269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912960" y="2460600"/>
            <a:ext cx="0" cy="81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>
            <a:off x="777960" y="189072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2998800" y="1308240"/>
            <a:ext cx="0" cy="108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3328920" y="1308240"/>
            <a:ext cx="0" cy="108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2998800" y="1170000"/>
            <a:ext cx="172800" cy="151200"/>
          </a:xfrm>
          <a:custGeom>
            <a:avLst/>
            <a:gdLst/>
            <a:ahLst/>
            <a:rect l="0" t="0" r="r" b="b"/>
            <a:pathLst>
              <a:path fill="none" w="480" h="420">
                <a:moveTo>
                  <a:pt x="480" y="0"/>
                </a:moveTo>
                <a:lnTo>
                  <a:pt x="480" y="0"/>
                </a:lnTo>
                <a:cubicBezTo>
                  <a:pt x="396" y="0"/>
                  <a:pt x="313" y="19"/>
                  <a:pt x="240" y="56"/>
                </a:cubicBezTo>
                <a:cubicBezTo>
                  <a:pt x="167" y="93"/>
                  <a:pt x="106" y="146"/>
                  <a:pt x="64" y="210"/>
                </a:cubicBezTo>
                <a:cubicBezTo>
                  <a:pt x="22" y="274"/>
                  <a:pt x="0" y="346"/>
                  <a:pt x="0" y="42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3170880" y="1170000"/>
            <a:ext cx="172800" cy="151200"/>
          </a:xfrm>
          <a:custGeom>
            <a:avLst/>
            <a:gdLst/>
            <a:ahLst/>
            <a:rect l="0" t="0" r="r" b="b"/>
            <a:pathLst>
              <a:path fill="none" w="480" h="420">
                <a:moveTo>
                  <a:pt x="480" y="420"/>
                </a:moveTo>
                <a:lnTo>
                  <a:pt x="480" y="420"/>
                </a:lnTo>
                <a:lnTo>
                  <a:pt x="480" y="420"/>
                </a:lnTo>
                <a:cubicBezTo>
                  <a:pt x="480" y="346"/>
                  <a:pt x="458" y="274"/>
                  <a:pt x="416" y="210"/>
                </a:cubicBezTo>
                <a:cubicBezTo>
                  <a:pt x="374" y="146"/>
                  <a:pt x="313" y="93"/>
                  <a:pt x="240" y="56"/>
                </a:cubicBezTo>
                <a:cubicBezTo>
                  <a:pt x="167" y="19"/>
                  <a:pt x="8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4815000" y="703440"/>
            <a:ext cx="0" cy="641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5121360" y="703440"/>
            <a:ext cx="0" cy="641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4815000" y="622440"/>
            <a:ext cx="159840" cy="93240"/>
          </a:xfrm>
          <a:custGeom>
            <a:avLst/>
            <a:gdLst/>
            <a:ahLst/>
            <a:rect l="0" t="0" r="r" b="b"/>
            <a:pathLst>
              <a:path fill="none" w="444" h="259">
                <a:moveTo>
                  <a:pt x="444" y="0"/>
                </a:moveTo>
                <a:lnTo>
                  <a:pt x="444" y="0"/>
                </a:lnTo>
                <a:cubicBezTo>
                  <a:pt x="366" y="0"/>
                  <a:pt x="289" y="12"/>
                  <a:pt x="222" y="35"/>
                </a:cubicBezTo>
                <a:cubicBezTo>
                  <a:pt x="155" y="57"/>
                  <a:pt x="98" y="90"/>
                  <a:pt x="59" y="130"/>
                </a:cubicBezTo>
                <a:cubicBezTo>
                  <a:pt x="21" y="169"/>
                  <a:pt x="0" y="214"/>
                  <a:pt x="0" y="2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4974480" y="622440"/>
            <a:ext cx="159840" cy="93240"/>
          </a:xfrm>
          <a:custGeom>
            <a:avLst/>
            <a:gdLst/>
            <a:ahLst/>
            <a:rect l="0" t="0" r="r" b="b"/>
            <a:pathLst>
              <a:path fill="none" w="444" h="259">
                <a:moveTo>
                  <a:pt x="444" y="259"/>
                </a:moveTo>
                <a:lnTo>
                  <a:pt x="444" y="259"/>
                </a:lnTo>
                <a:lnTo>
                  <a:pt x="444" y="259"/>
                </a:lnTo>
                <a:cubicBezTo>
                  <a:pt x="444" y="214"/>
                  <a:pt x="423" y="169"/>
                  <a:pt x="385" y="129"/>
                </a:cubicBezTo>
                <a:cubicBezTo>
                  <a:pt x="346" y="90"/>
                  <a:pt x="289" y="57"/>
                  <a:pt x="222" y="35"/>
                </a:cubicBezTo>
                <a:cubicBezTo>
                  <a:pt x="155" y="12"/>
                  <a:pt x="78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4815000" y="1337400"/>
            <a:ext cx="159840" cy="88560"/>
          </a:xfrm>
          <a:custGeom>
            <a:avLst/>
            <a:gdLst/>
            <a:ahLst/>
            <a:rect l="0" t="0" r="r" b="b"/>
            <a:pathLst>
              <a:path fill="none" w="444" h="246">
                <a:moveTo>
                  <a:pt x="0" y="0"/>
                </a:moveTo>
                <a:lnTo>
                  <a:pt x="0" y="0"/>
                </a:lnTo>
                <a:cubicBezTo>
                  <a:pt x="0" y="43"/>
                  <a:pt x="21" y="86"/>
                  <a:pt x="59" y="123"/>
                </a:cubicBezTo>
                <a:cubicBezTo>
                  <a:pt x="98" y="160"/>
                  <a:pt x="155" y="191"/>
                  <a:pt x="222" y="213"/>
                </a:cubicBezTo>
                <a:cubicBezTo>
                  <a:pt x="289" y="235"/>
                  <a:pt x="366" y="246"/>
                  <a:pt x="444" y="2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4974480" y="1337400"/>
            <a:ext cx="159840" cy="88560"/>
          </a:xfrm>
          <a:custGeom>
            <a:avLst/>
            <a:gdLst/>
            <a:ahLst/>
            <a:rect l="0" t="0" r="r" b="b"/>
            <a:pathLst>
              <a:path fill="none" w="444" h="246">
                <a:moveTo>
                  <a:pt x="0" y="246"/>
                </a:moveTo>
                <a:lnTo>
                  <a:pt x="0" y="246"/>
                </a:lnTo>
                <a:cubicBezTo>
                  <a:pt x="78" y="246"/>
                  <a:pt x="155" y="235"/>
                  <a:pt x="222" y="213"/>
                </a:cubicBezTo>
                <a:cubicBezTo>
                  <a:pt x="289" y="191"/>
                  <a:pt x="346" y="160"/>
                  <a:pt x="385" y="123"/>
                </a:cubicBezTo>
                <a:cubicBezTo>
                  <a:pt x="423" y="86"/>
                  <a:pt x="444" y="43"/>
                  <a:pt x="444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4815000" y="681120"/>
            <a:ext cx="159840" cy="93960"/>
          </a:xfrm>
          <a:custGeom>
            <a:avLst/>
            <a:gdLst/>
            <a:ahLst/>
            <a:rect l="0" t="0" r="r" b="b"/>
            <a:pathLst>
              <a:path fill="none" w="444" h="261">
                <a:moveTo>
                  <a:pt x="0" y="0"/>
                </a:moveTo>
                <a:lnTo>
                  <a:pt x="0" y="0"/>
                </a:lnTo>
                <a:cubicBezTo>
                  <a:pt x="0" y="46"/>
                  <a:pt x="21" y="91"/>
                  <a:pt x="59" y="131"/>
                </a:cubicBezTo>
                <a:cubicBezTo>
                  <a:pt x="98" y="170"/>
                  <a:pt x="155" y="203"/>
                  <a:pt x="222" y="226"/>
                </a:cubicBezTo>
                <a:cubicBezTo>
                  <a:pt x="289" y="249"/>
                  <a:pt x="366" y="261"/>
                  <a:pt x="444" y="26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4974480" y="681120"/>
            <a:ext cx="159840" cy="93960"/>
          </a:xfrm>
          <a:custGeom>
            <a:avLst/>
            <a:gdLst/>
            <a:ahLst/>
            <a:rect l="0" t="0" r="r" b="b"/>
            <a:pathLst>
              <a:path fill="none" w="444" h="261">
                <a:moveTo>
                  <a:pt x="0" y="261"/>
                </a:moveTo>
                <a:lnTo>
                  <a:pt x="0" y="261"/>
                </a:lnTo>
                <a:cubicBezTo>
                  <a:pt x="78" y="261"/>
                  <a:pt x="155" y="249"/>
                  <a:pt x="222" y="226"/>
                </a:cubicBezTo>
                <a:cubicBezTo>
                  <a:pt x="289" y="203"/>
                  <a:pt x="346" y="170"/>
                  <a:pt x="385" y="130"/>
                </a:cubicBezTo>
                <a:cubicBezTo>
                  <a:pt x="423" y="91"/>
                  <a:pt x="444" y="46"/>
                  <a:pt x="444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2998800" y="1332000"/>
            <a:ext cx="31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>
            <a:off x="2998800" y="1530360"/>
            <a:ext cx="31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2998800" y="1774800"/>
            <a:ext cx="31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3170160" y="1006560"/>
            <a:ext cx="0" cy="163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3" name=""/>
          <p:cNvGrpSpPr/>
          <p:nvPr/>
        </p:nvGrpSpPr>
        <p:grpSpPr>
          <a:xfrm>
            <a:off x="3170160" y="971640"/>
            <a:ext cx="430560" cy="68760"/>
            <a:chOff x="3170160" y="971640"/>
            <a:chExt cx="430560" cy="68760"/>
          </a:xfrm>
        </p:grpSpPr>
        <p:sp>
          <p:nvSpPr>
            <p:cNvPr id="3514" name=""/>
            <p:cNvSpPr/>
            <p:nvPr/>
          </p:nvSpPr>
          <p:spPr>
            <a:xfrm>
              <a:off x="3452760" y="971640"/>
              <a:ext cx="147960" cy="68760"/>
            </a:xfrm>
            <a:custGeom>
              <a:avLst/>
              <a:gdLst/>
              <a:ahLst/>
              <a:rect l="0" t="0" r="r" b="b"/>
              <a:pathLst>
                <a:path w="411" h="191">
                  <a:moveTo>
                    <a:pt x="411" y="98"/>
                  </a:moveTo>
                  <a:lnTo>
                    <a:pt x="0" y="191"/>
                  </a:lnTo>
                  <a:lnTo>
                    <a:pt x="0" y="98"/>
                  </a:lnTo>
                  <a:lnTo>
                    <a:pt x="0" y="0"/>
                  </a:lnTo>
                  <a:lnTo>
                    <a:pt x="411" y="9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3170160" y="1006560"/>
              <a:ext cx="282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6" name=""/>
          <p:cNvSpPr/>
          <p:nvPr/>
        </p:nvSpPr>
        <p:spPr>
          <a:xfrm>
            <a:off x="3870360" y="70344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3587760" y="901800"/>
            <a:ext cx="565200" cy="2095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6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8" name=""/>
          <p:cNvGrpSpPr/>
          <p:nvPr/>
        </p:nvGrpSpPr>
        <p:grpSpPr>
          <a:xfrm>
            <a:off x="3882960" y="669960"/>
            <a:ext cx="417960" cy="68760"/>
            <a:chOff x="3882960" y="669960"/>
            <a:chExt cx="417960" cy="68760"/>
          </a:xfrm>
        </p:grpSpPr>
        <p:sp>
          <p:nvSpPr>
            <p:cNvPr id="3519" name=""/>
            <p:cNvSpPr/>
            <p:nvPr/>
          </p:nvSpPr>
          <p:spPr>
            <a:xfrm>
              <a:off x="4152960" y="669960"/>
              <a:ext cx="147960" cy="68760"/>
            </a:xfrm>
            <a:custGeom>
              <a:avLst/>
              <a:gdLst/>
              <a:ahLst/>
              <a:rect l="0" t="0" r="r" b="b"/>
              <a:pathLst>
                <a:path w="411" h="191">
                  <a:moveTo>
                    <a:pt x="411" y="92"/>
                  </a:moveTo>
                  <a:lnTo>
                    <a:pt x="0" y="191"/>
                  </a:lnTo>
                  <a:lnTo>
                    <a:pt x="0" y="92"/>
                  </a:lnTo>
                  <a:lnTo>
                    <a:pt x="0" y="0"/>
                  </a:lnTo>
                  <a:lnTo>
                    <a:pt x="411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3882960" y="703440"/>
              <a:ext cx="270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1" name=""/>
          <p:cNvGrpSpPr/>
          <p:nvPr/>
        </p:nvGrpSpPr>
        <p:grpSpPr>
          <a:xfrm>
            <a:off x="3343320" y="1298520"/>
            <a:ext cx="527040" cy="68760"/>
            <a:chOff x="3343320" y="1298520"/>
            <a:chExt cx="527040" cy="68760"/>
          </a:xfrm>
        </p:grpSpPr>
        <p:sp>
          <p:nvSpPr>
            <p:cNvPr id="3522" name=""/>
            <p:cNvSpPr/>
            <p:nvPr/>
          </p:nvSpPr>
          <p:spPr>
            <a:xfrm>
              <a:off x="3343320" y="1298520"/>
              <a:ext cx="147960" cy="68760"/>
            </a:xfrm>
            <a:custGeom>
              <a:avLst/>
              <a:gdLst/>
              <a:ahLst/>
              <a:rect l="0" t="0" r="r" b="b"/>
              <a:pathLst>
                <a:path w="411" h="191">
                  <a:moveTo>
                    <a:pt x="0" y="92"/>
                  </a:moveTo>
                  <a:lnTo>
                    <a:pt x="411" y="0"/>
                  </a:lnTo>
                  <a:lnTo>
                    <a:pt x="411" y="92"/>
                  </a:lnTo>
                  <a:lnTo>
                    <a:pt x="411" y="191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3490920" y="1332000"/>
              <a:ext cx="379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4" name=""/>
          <p:cNvSpPr/>
          <p:nvPr/>
        </p:nvSpPr>
        <p:spPr>
          <a:xfrm>
            <a:off x="4287960" y="69228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4606920" y="69228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4287960" y="611280"/>
            <a:ext cx="159840" cy="93240"/>
          </a:xfrm>
          <a:custGeom>
            <a:avLst/>
            <a:gdLst/>
            <a:ahLst/>
            <a:rect l="0" t="0" r="r" b="b"/>
            <a:pathLst>
              <a:path fill="none" w="444" h="259">
                <a:moveTo>
                  <a:pt x="444" y="0"/>
                </a:moveTo>
                <a:lnTo>
                  <a:pt x="444" y="0"/>
                </a:lnTo>
                <a:cubicBezTo>
                  <a:pt x="366" y="0"/>
                  <a:pt x="289" y="12"/>
                  <a:pt x="222" y="35"/>
                </a:cubicBezTo>
                <a:cubicBezTo>
                  <a:pt x="155" y="57"/>
                  <a:pt x="98" y="90"/>
                  <a:pt x="59" y="130"/>
                </a:cubicBezTo>
                <a:cubicBezTo>
                  <a:pt x="21" y="169"/>
                  <a:pt x="0" y="214"/>
                  <a:pt x="0" y="2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4447440" y="611280"/>
            <a:ext cx="159840" cy="93240"/>
          </a:xfrm>
          <a:custGeom>
            <a:avLst/>
            <a:gdLst/>
            <a:ahLst/>
            <a:rect l="0" t="0" r="r" b="b"/>
            <a:pathLst>
              <a:path fill="none" w="444" h="259">
                <a:moveTo>
                  <a:pt x="444" y="259"/>
                </a:moveTo>
                <a:lnTo>
                  <a:pt x="444" y="259"/>
                </a:lnTo>
                <a:lnTo>
                  <a:pt x="444" y="259"/>
                </a:lnTo>
                <a:cubicBezTo>
                  <a:pt x="444" y="214"/>
                  <a:pt x="423" y="169"/>
                  <a:pt x="385" y="129"/>
                </a:cubicBezTo>
                <a:cubicBezTo>
                  <a:pt x="346" y="90"/>
                  <a:pt x="289" y="57"/>
                  <a:pt x="222" y="35"/>
                </a:cubicBezTo>
                <a:cubicBezTo>
                  <a:pt x="155" y="12"/>
                  <a:pt x="78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4287960" y="1326240"/>
            <a:ext cx="159840" cy="86760"/>
          </a:xfrm>
          <a:custGeom>
            <a:avLst/>
            <a:gdLst/>
            <a:ahLst/>
            <a:rect l="0" t="0" r="r" b="b"/>
            <a:pathLst>
              <a:path fill="none" w="444" h="241">
                <a:moveTo>
                  <a:pt x="0" y="0"/>
                </a:moveTo>
                <a:lnTo>
                  <a:pt x="0" y="0"/>
                </a:lnTo>
                <a:cubicBezTo>
                  <a:pt x="0" y="42"/>
                  <a:pt x="21" y="84"/>
                  <a:pt x="59" y="121"/>
                </a:cubicBezTo>
                <a:cubicBezTo>
                  <a:pt x="98" y="157"/>
                  <a:pt x="155" y="188"/>
                  <a:pt x="222" y="209"/>
                </a:cubicBezTo>
                <a:cubicBezTo>
                  <a:pt x="289" y="230"/>
                  <a:pt x="366" y="241"/>
                  <a:pt x="444" y="24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4447440" y="1326240"/>
            <a:ext cx="159840" cy="86760"/>
          </a:xfrm>
          <a:custGeom>
            <a:avLst/>
            <a:gdLst/>
            <a:ahLst/>
            <a:rect l="0" t="0" r="r" b="b"/>
            <a:pathLst>
              <a:path fill="none" w="444" h="241">
                <a:moveTo>
                  <a:pt x="0" y="241"/>
                </a:moveTo>
                <a:lnTo>
                  <a:pt x="0" y="241"/>
                </a:lnTo>
                <a:cubicBezTo>
                  <a:pt x="78" y="241"/>
                  <a:pt x="155" y="230"/>
                  <a:pt x="222" y="209"/>
                </a:cubicBezTo>
                <a:cubicBezTo>
                  <a:pt x="289" y="188"/>
                  <a:pt x="346" y="157"/>
                  <a:pt x="385" y="120"/>
                </a:cubicBezTo>
                <a:cubicBezTo>
                  <a:pt x="423" y="84"/>
                  <a:pt x="444" y="42"/>
                  <a:pt x="444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4287960" y="669240"/>
            <a:ext cx="159840" cy="93240"/>
          </a:xfrm>
          <a:custGeom>
            <a:avLst/>
            <a:gdLst/>
            <a:ahLst/>
            <a:rect l="0" t="0" r="r" b="b"/>
            <a:pathLst>
              <a:path fill="none" w="444" h="259">
                <a:moveTo>
                  <a:pt x="0" y="0"/>
                </a:moveTo>
                <a:lnTo>
                  <a:pt x="0" y="0"/>
                </a:lnTo>
                <a:cubicBezTo>
                  <a:pt x="0" y="45"/>
                  <a:pt x="21" y="90"/>
                  <a:pt x="59" y="130"/>
                </a:cubicBezTo>
                <a:cubicBezTo>
                  <a:pt x="98" y="169"/>
                  <a:pt x="155" y="202"/>
                  <a:pt x="222" y="224"/>
                </a:cubicBezTo>
                <a:cubicBezTo>
                  <a:pt x="289" y="247"/>
                  <a:pt x="366" y="259"/>
                  <a:pt x="444" y="2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4447440" y="669240"/>
            <a:ext cx="159840" cy="93240"/>
          </a:xfrm>
          <a:custGeom>
            <a:avLst/>
            <a:gdLst/>
            <a:ahLst/>
            <a:rect l="0" t="0" r="r" b="b"/>
            <a:pathLst>
              <a:path fill="none" w="444" h="259">
                <a:moveTo>
                  <a:pt x="0" y="259"/>
                </a:moveTo>
                <a:lnTo>
                  <a:pt x="0" y="259"/>
                </a:lnTo>
                <a:cubicBezTo>
                  <a:pt x="78" y="259"/>
                  <a:pt x="155" y="247"/>
                  <a:pt x="222" y="224"/>
                </a:cubicBezTo>
                <a:cubicBezTo>
                  <a:pt x="289" y="202"/>
                  <a:pt x="346" y="169"/>
                  <a:pt x="385" y="129"/>
                </a:cubicBezTo>
                <a:cubicBezTo>
                  <a:pt x="423" y="90"/>
                  <a:pt x="444" y="45"/>
                  <a:pt x="444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 flipH="1">
            <a:off x="4300560" y="1320840"/>
            <a:ext cx="11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 txBox="1"/>
          <p:nvPr/>
        </p:nvSpPr>
        <p:spPr>
          <a:xfrm>
            <a:off x="4282920" y="887400"/>
            <a:ext cx="247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 txBox="1"/>
          <p:nvPr/>
        </p:nvSpPr>
        <p:spPr>
          <a:xfrm>
            <a:off x="4797360" y="887400"/>
            <a:ext cx="247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5" name=""/>
          <p:cNvGrpSpPr/>
          <p:nvPr/>
        </p:nvGrpSpPr>
        <p:grpSpPr>
          <a:xfrm>
            <a:off x="3882960" y="1298520"/>
            <a:ext cx="417960" cy="68760"/>
            <a:chOff x="3882960" y="1298520"/>
            <a:chExt cx="417960" cy="68760"/>
          </a:xfrm>
        </p:grpSpPr>
        <p:sp>
          <p:nvSpPr>
            <p:cNvPr id="3536" name=""/>
            <p:cNvSpPr/>
            <p:nvPr/>
          </p:nvSpPr>
          <p:spPr>
            <a:xfrm>
              <a:off x="4152960" y="1298520"/>
              <a:ext cx="147960" cy="68760"/>
            </a:xfrm>
            <a:custGeom>
              <a:avLst/>
              <a:gdLst/>
              <a:ahLst/>
              <a:rect l="0" t="0" r="r" b="b"/>
              <a:pathLst>
                <a:path w="411" h="191">
                  <a:moveTo>
                    <a:pt x="411" y="92"/>
                  </a:moveTo>
                  <a:lnTo>
                    <a:pt x="0" y="191"/>
                  </a:lnTo>
                  <a:lnTo>
                    <a:pt x="0" y="92"/>
                  </a:lnTo>
                  <a:lnTo>
                    <a:pt x="0" y="0"/>
                  </a:lnTo>
                  <a:lnTo>
                    <a:pt x="411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3882960" y="1332000"/>
              <a:ext cx="270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8" name=""/>
          <p:cNvSpPr/>
          <p:nvPr/>
        </p:nvSpPr>
        <p:spPr>
          <a:xfrm>
            <a:off x="3564000" y="808200"/>
            <a:ext cx="4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3611520" y="820800"/>
            <a:ext cx="0" cy="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3662280" y="855720"/>
            <a:ext cx="34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3697200" y="855720"/>
            <a:ext cx="0" cy="2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3611520" y="83016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 flipH="1">
            <a:off x="3649680" y="830160"/>
            <a:ext cx="12600" cy="25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3697200" y="879480"/>
            <a:ext cx="61920" cy="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5" name=""/>
          <p:cNvGrpSpPr/>
          <p:nvPr/>
        </p:nvGrpSpPr>
        <p:grpSpPr>
          <a:xfrm>
            <a:off x="3465360" y="749160"/>
            <a:ext cx="146520" cy="106560"/>
            <a:chOff x="3465360" y="749160"/>
            <a:chExt cx="146520" cy="106560"/>
          </a:xfrm>
        </p:grpSpPr>
        <p:sp>
          <p:nvSpPr>
            <p:cNvPr id="3546" name=""/>
            <p:cNvSpPr/>
            <p:nvPr/>
          </p:nvSpPr>
          <p:spPr>
            <a:xfrm>
              <a:off x="3465360" y="749160"/>
              <a:ext cx="146520" cy="106560"/>
            </a:xfrm>
            <a:custGeom>
              <a:avLst/>
              <a:gdLst/>
              <a:ahLst/>
              <a:rect l="0" t="0" r="r" b="b"/>
              <a:pathLst>
                <a:path w="407" h="296">
                  <a:moveTo>
                    <a:pt x="0" y="0"/>
                  </a:moveTo>
                  <a:lnTo>
                    <a:pt x="407" y="163"/>
                  </a:lnTo>
                  <a:lnTo>
                    <a:pt x="340" y="226"/>
                  </a:lnTo>
                  <a:lnTo>
                    <a:pt x="309" y="2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 flipH="1" flipV="1">
              <a:off x="3564000" y="820800"/>
              <a:ext cx="20520" cy="9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8" name=""/>
          <p:cNvSpPr/>
          <p:nvPr/>
        </p:nvSpPr>
        <p:spPr>
          <a:xfrm flipH="1">
            <a:off x="2624040" y="2962440"/>
            <a:ext cx="1057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3673440" y="2589120"/>
            <a:ext cx="147960" cy="180360"/>
          </a:xfrm>
          <a:custGeom>
            <a:avLst/>
            <a:gdLst/>
            <a:ahLst/>
            <a:rect l="0" t="0" r="r" b="b"/>
            <a:pathLst>
              <a:path fill="none" w="411" h="501">
                <a:moveTo>
                  <a:pt x="411" y="501"/>
                </a:moveTo>
                <a:lnTo>
                  <a:pt x="411" y="501"/>
                </a:lnTo>
                <a:lnTo>
                  <a:pt x="411" y="501"/>
                </a:lnTo>
                <a:cubicBezTo>
                  <a:pt x="411" y="413"/>
                  <a:pt x="392" y="327"/>
                  <a:pt x="356" y="250"/>
                </a:cubicBezTo>
                <a:cubicBezTo>
                  <a:pt x="320" y="174"/>
                  <a:pt x="268" y="111"/>
                  <a:pt x="205" y="67"/>
                </a:cubicBezTo>
                <a:cubicBezTo>
                  <a:pt x="143" y="23"/>
                  <a:pt x="72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673440" y="2769480"/>
            <a:ext cx="147960" cy="180360"/>
          </a:xfrm>
          <a:custGeom>
            <a:avLst/>
            <a:gdLst/>
            <a:ahLst/>
            <a:rect l="0" t="0" r="r" b="b"/>
            <a:pathLst>
              <a:path fill="none" w="411" h="501">
                <a:moveTo>
                  <a:pt x="0" y="501"/>
                </a:moveTo>
                <a:lnTo>
                  <a:pt x="0" y="501"/>
                </a:lnTo>
                <a:cubicBezTo>
                  <a:pt x="72" y="501"/>
                  <a:pt x="143" y="478"/>
                  <a:pt x="206" y="434"/>
                </a:cubicBezTo>
                <a:cubicBezTo>
                  <a:pt x="268" y="390"/>
                  <a:pt x="320" y="327"/>
                  <a:pt x="356" y="250"/>
                </a:cubicBezTo>
                <a:cubicBezTo>
                  <a:pt x="392" y="174"/>
                  <a:pt x="411" y="88"/>
                  <a:pt x="411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2495520" y="2589120"/>
            <a:ext cx="147960" cy="180360"/>
          </a:xfrm>
          <a:custGeom>
            <a:avLst/>
            <a:gdLst/>
            <a:ahLst/>
            <a:rect l="0" t="0" r="r" b="b"/>
            <a:pathLst>
              <a:path fill="none" w="411" h="501">
                <a:moveTo>
                  <a:pt x="411" y="0"/>
                </a:moveTo>
                <a:lnTo>
                  <a:pt x="411" y="0"/>
                </a:lnTo>
                <a:cubicBezTo>
                  <a:pt x="339" y="0"/>
                  <a:pt x="268" y="23"/>
                  <a:pt x="205" y="67"/>
                </a:cubicBezTo>
                <a:cubicBezTo>
                  <a:pt x="143" y="111"/>
                  <a:pt x="91" y="174"/>
                  <a:pt x="55" y="251"/>
                </a:cubicBezTo>
                <a:cubicBezTo>
                  <a:pt x="19" y="327"/>
                  <a:pt x="0" y="413"/>
                  <a:pt x="0" y="50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2495520" y="2769480"/>
            <a:ext cx="147960" cy="180360"/>
          </a:xfrm>
          <a:custGeom>
            <a:avLst/>
            <a:gdLst/>
            <a:ahLst/>
            <a:rect l="0" t="0" r="r" b="b"/>
            <a:pathLst>
              <a:path fill="none" w="411" h="501">
                <a:moveTo>
                  <a:pt x="0" y="0"/>
                </a:moveTo>
                <a:lnTo>
                  <a:pt x="0" y="0"/>
                </a:lnTo>
                <a:cubicBezTo>
                  <a:pt x="0" y="88"/>
                  <a:pt x="19" y="174"/>
                  <a:pt x="55" y="251"/>
                </a:cubicBezTo>
                <a:cubicBezTo>
                  <a:pt x="91" y="327"/>
                  <a:pt x="143" y="390"/>
                  <a:pt x="206" y="434"/>
                </a:cubicBezTo>
                <a:cubicBezTo>
                  <a:pt x="268" y="478"/>
                  <a:pt x="339" y="501"/>
                  <a:pt x="411" y="50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2619360" y="2589120"/>
            <a:ext cx="1042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2508120" y="2670120"/>
            <a:ext cx="1227600" cy="70200"/>
          </a:xfrm>
          <a:custGeom>
            <a:avLst/>
            <a:gdLst/>
            <a:ahLst/>
            <a:rect l="0" t="0" r="r" b="b"/>
            <a:pathLst>
              <a:path fill="none" w="3410" h="195">
                <a:moveTo>
                  <a:pt x="0" y="98"/>
                </a:moveTo>
                <a:lnTo>
                  <a:pt x="171" y="68"/>
                </a:lnTo>
                <a:lnTo>
                  <a:pt x="306" y="34"/>
                </a:lnTo>
                <a:lnTo>
                  <a:pt x="478" y="0"/>
                </a:lnTo>
                <a:lnTo>
                  <a:pt x="649" y="68"/>
                </a:lnTo>
                <a:lnTo>
                  <a:pt x="815" y="98"/>
                </a:lnTo>
                <a:lnTo>
                  <a:pt x="957" y="132"/>
                </a:lnTo>
                <a:lnTo>
                  <a:pt x="1092" y="98"/>
                </a:lnTo>
                <a:lnTo>
                  <a:pt x="1263" y="98"/>
                </a:lnTo>
                <a:lnTo>
                  <a:pt x="1429" y="68"/>
                </a:lnTo>
                <a:lnTo>
                  <a:pt x="1601" y="68"/>
                </a:lnTo>
                <a:lnTo>
                  <a:pt x="1809" y="98"/>
                </a:lnTo>
                <a:lnTo>
                  <a:pt x="1944" y="98"/>
                </a:lnTo>
                <a:lnTo>
                  <a:pt x="2011" y="160"/>
                </a:lnTo>
                <a:lnTo>
                  <a:pt x="2146" y="195"/>
                </a:lnTo>
                <a:lnTo>
                  <a:pt x="2281" y="160"/>
                </a:lnTo>
                <a:lnTo>
                  <a:pt x="2453" y="132"/>
                </a:lnTo>
                <a:lnTo>
                  <a:pt x="2595" y="98"/>
                </a:lnTo>
                <a:lnTo>
                  <a:pt x="2797" y="98"/>
                </a:lnTo>
                <a:lnTo>
                  <a:pt x="2932" y="68"/>
                </a:lnTo>
                <a:lnTo>
                  <a:pt x="3134" y="68"/>
                </a:lnTo>
                <a:lnTo>
                  <a:pt x="3343" y="98"/>
                </a:lnTo>
                <a:lnTo>
                  <a:pt x="3373" y="160"/>
                </a:lnTo>
                <a:lnTo>
                  <a:pt x="3410" y="19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3208320" y="2903400"/>
            <a:ext cx="4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3255840" y="2903400"/>
            <a:ext cx="0" cy="2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3294000" y="2936880"/>
            <a:ext cx="49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3343320" y="2936880"/>
            <a:ext cx="0" cy="2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3244680" y="2927520"/>
            <a:ext cx="49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3294000" y="2927520"/>
            <a:ext cx="0" cy="9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3343320" y="2960640"/>
            <a:ext cx="60120" cy="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2" name=""/>
          <p:cNvGrpSpPr/>
          <p:nvPr/>
        </p:nvGrpSpPr>
        <p:grpSpPr>
          <a:xfrm>
            <a:off x="3108240" y="2844720"/>
            <a:ext cx="147960" cy="105120"/>
            <a:chOff x="3108240" y="2844720"/>
            <a:chExt cx="147960" cy="105120"/>
          </a:xfrm>
        </p:grpSpPr>
        <p:sp>
          <p:nvSpPr>
            <p:cNvPr id="3563" name=""/>
            <p:cNvSpPr/>
            <p:nvPr/>
          </p:nvSpPr>
          <p:spPr>
            <a:xfrm>
              <a:off x="3108240" y="2844720"/>
              <a:ext cx="147960" cy="105120"/>
            </a:xfrm>
            <a:custGeom>
              <a:avLst/>
              <a:gdLst/>
              <a:ahLst/>
              <a:rect l="0" t="0" r="r" b="b"/>
              <a:pathLst>
                <a:path w="411" h="292">
                  <a:moveTo>
                    <a:pt x="0" y="0"/>
                  </a:moveTo>
                  <a:lnTo>
                    <a:pt x="411" y="128"/>
                  </a:lnTo>
                  <a:lnTo>
                    <a:pt x="343" y="193"/>
                  </a:lnTo>
                  <a:lnTo>
                    <a:pt x="276" y="2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 flipH="1" flipV="1">
              <a:off x="3208320" y="2903400"/>
              <a:ext cx="2232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5" name=""/>
          <p:cNvSpPr/>
          <p:nvPr/>
        </p:nvSpPr>
        <p:spPr>
          <a:xfrm>
            <a:off x="2998800" y="2378880"/>
            <a:ext cx="172800" cy="151920"/>
          </a:xfrm>
          <a:custGeom>
            <a:avLst/>
            <a:gdLst/>
            <a:ahLst/>
            <a:rect l="0" t="0" r="r" b="b"/>
            <a:pathLst>
              <a:path fill="none" w="480" h="422">
                <a:moveTo>
                  <a:pt x="0" y="0"/>
                </a:moveTo>
                <a:lnTo>
                  <a:pt x="0" y="0"/>
                </a:lnTo>
                <a:cubicBezTo>
                  <a:pt x="0" y="74"/>
                  <a:pt x="22" y="147"/>
                  <a:pt x="64" y="211"/>
                </a:cubicBezTo>
                <a:cubicBezTo>
                  <a:pt x="106" y="275"/>
                  <a:pt x="167" y="328"/>
                  <a:pt x="240" y="365"/>
                </a:cubicBezTo>
                <a:cubicBezTo>
                  <a:pt x="313" y="403"/>
                  <a:pt x="396" y="422"/>
                  <a:pt x="480" y="42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3170880" y="2378880"/>
            <a:ext cx="172800" cy="151920"/>
          </a:xfrm>
          <a:custGeom>
            <a:avLst/>
            <a:gdLst/>
            <a:ahLst/>
            <a:rect l="0" t="0" r="r" b="b"/>
            <a:pathLst>
              <a:path fill="none" w="480" h="422">
                <a:moveTo>
                  <a:pt x="0" y="422"/>
                </a:moveTo>
                <a:lnTo>
                  <a:pt x="0" y="422"/>
                </a:lnTo>
                <a:cubicBezTo>
                  <a:pt x="84" y="422"/>
                  <a:pt x="167" y="403"/>
                  <a:pt x="240" y="365"/>
                </a:cubicBezTo>
                <a:cubicBezTo>
                  <a:pt x="313" y="328"/>
                  <a:pt x="374" y="275"/>
                  <a:pt x="416" y="211"/>
                </a:cubicBezTo>
                <a:cubicBezTo>
                  <a:pt x="458" y="147"/>
                  <a:pt x="480" y="74"/>
                  <a:pt x="48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3011400" y="235584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3159000" y="2519280"/>
            <a:ext cx="0" cy="5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9" name=""/>
          <p:cNvGrpSpPr/>
          <p:nvPr/>
        </p:nvGrpSpPr>
        <p:grpSpPr>
          <a:xfrm>
            <a:off x="3524400" y="2844720"/>
            <a:ext cx="432000" cy="105120"/>
            <a:chOff x="3524400" y="2844720"/>
            <a:chExt cx="432000" cy="105120"/>
          </a:xfrm>
        </p:grpSpPr>
        <p:sp>
          <p:nvSpPr>
            <p:cNvPr id="3570" name=""/>
            <p:cNvSpPr/>
            <p:nvPr/>
          </p:nvSpPr>
          <p:spPr>
            <a:xfrm>
              <a:off x="3808440" y="2878200"/>
              <a:ext cx="147960" cy="71640"/>
            </a:xfrm>
            <a:custGeom>
              <a:avLst/>
              <a:gdLst/>
              <a:ahLst/>
              <a:rect l="0" t="0" r="r" b="b"/>
              <a:pathLst>
                <a:path w="411" h="199">
                  <a:moveTo>
                    <a:pt x="411" y="199"/>
                  </a:moveTo>
                  <a:lnTo>
                    <a:pt x="0" y="199"/>
                  </a:lnTo>
                  <a:lnTo>
                    <a:pt x="36" y="99"/>
                  </a:lnTo>
                  <a:lnTo>
                    <a:pt x="36" y="0"/>
                  </a:lnTo>
                  <a:lnTo>
                    <a:pt x="411" y="1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3524400" y="2844720"/>
              <a:ext cx="296640" cy="6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2" name=""/>
          <p:cNvSpPr/>
          <p:nvPr/>
        </p:nvSpPr>
        <p:spPr>
          <a:xfrm>
            <a:off x="3906720" y="1913040"/>
            <a:ext cx="0" cy="641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4233960" y="1913040"/>
            <a:ext cx="0" cy="641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4" name=""/>
          <p:cNvGrpSpPr/>
          <p:nvPr/>
        </p:nvGrpSpPr>
        <p:grpSpPr>
          <a:xfrm>
            <a:off x="3906720" y="1832040"/>
            <a:ext cx="319320" cy="93240"/>
            <a:chOff x="3906720" y="1832040"/>
            <a:chExt cx="319320" cy="93240"/>
          </a:xfrm>
        </p:grpSpPr>
        <p:sp>
          <p:nvSpPr>
            <p:cNvPr id="3575" name=""/>
            <p:cNvSpPr/>
            <p:nvPr/>
          </p:nvSpPr>
          <p:spPr>
            <a:xfrm>
              <a:off x="3906720" y="1832040"/>
              <a:ext cx="159840" cy="93240"/>
            </a:xfrm>
            <a:custGeom>
              <a:avLst/>
              <a:gdLst/>
              <a:ahLst/>
              <a:rect l="0" t="0" r="r" b="b"/>
              <a:pathLst>
                <a:path fill="none" w="444" h="259">
                  <a:moveTo>
                    <a:pt x="444" y="0"/>
                  </a:moveTo>
                  <a:lnTo>
                    <a:pt x="444" y="0"/>
                  </a:lnTo>
                  <a:cubicBezTo>
                    <a:pt x="366" y="0"/>
                    <a:pt x="289" y="12"/>
                    <a:pt x="222" y="35"/>
                  </a:cubicBezTo>
                  <a:cubicBezTo>
                    <a:pt x="155" y="57"/>
                    <a:pt x="98" y="90"/>
                    <a:pt x="59" y="130"/>
                  </a:cubicBezTo>
                  <a:cubicBezTo>
                    <a:pt x="21" y="169"/>
                    <a:pt x="0" y="214"/>
                    <a:pt x="0" y="25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4066200" y="1832040"/>
              <a:ext cx="159840" cy="93240"/>
            </a:xfrm>
            <a:custGeom>
              <a:avLst/>
              <a:gdLst/>
              <a:ahLst/>
              <a:rect l="0" t="0" r="r" b="b"/>
              <a:pathLst>
                <a:path fill="none" w="444" h="259">
                  <a:moveTo>
                    <a:pt x="444" y="259"/>
                  </a:moveTo>
                  <a:lnTo>
                    <a:pt x="444" y="259"/>
                  </a:lnTo>
                  <a:lnTo>
                    <a:pt x="444" y="259"/>
                  </a:lnTo>
                  <a:cubicBezTo>
                    <a:pt x="444" y="214"/>
                    <a:pt x="423" y="169"/>
                    <a:pt x="385" y="129"/>
                  </a:cubicBezTo>
                  <a:cubicBezTo>
                    <a:pt x="346" y="90"/>
                    <a:pt x="289" y="57"/>
                    <a:pt x="222" y="35"/>
                  </a:cubicBezTo>
                  <a:cubicBezTo>
                    <a:pt x="155" y="12"/>
                    <a:pt x="78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7" name=""/>
          <p:cNvSpPr/>
          <p:nvPr/>
        </p:nvSpPr>
        <p:spPr>
          <a:xfrm>
            <a:off x="3906720" y="2548080"/>
            <a:ext cx="159840" cy="87840"/>
          </a:xfrm>
          <a:custGeom>
            <a:avLst/>
            <a:gdLst/>
            <a:ahLst/>
            <a:rect l="0" t="0" r="r" b="b"/>
            <a:pathLst>
              <a:path fill="none" w="444" h="244">
                <a:moveTo>
                  <a:pt x="0" y="0"/>
                </a:moveTo>
                <a:lnTo>
                  <a:pt x="0" y="0"/>
                </a:lnTo>
                <a:cubicBezTo>
                  <a:pt x="0" y="43"/>
                  <a:pt x="21" y="85"/>
                  <a:pt x="59" y="122"/>
                </a:cubicBezTo>
                <a:cubicBezTo>
                  <a:pt x="98" y="159"/>
                  <a:pt x="155" y="190"/>
                  <a:pt x="222" y="211"/>
                </a:cubicBezTo>
                <a:cubicBezTo>
                  <a:pt x="289" y="233"/>
                  <a:pt x="366" y="244"/>
                  <a:pt x="444" y="24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4066200" y="2548080"/>
            <a:ext cx="159840" cy="87840"/>
          </a:xfrm>
          <a:custGeom>
            <a:avLst/>
            <a:gdLst/>
            <a:ahLst/>
            <a:rect l="0" t="0" r="r" b="b"/>
            <a:pathLst>
              <a:path fill="none" w="444" h="244">
                <a:moveTo>
                  <a:pt x="0" y="244"/>
                </a:moveTo>
                <a:lnTo>
                  <a:pt x="0" y="244"/>
                </a:lnTo>
                <a:cubicBezTo>
                  <a:pt x="78" y="244"/>
                  <a:pt x="155" y="233"/>
                  <a:pt x="222" y="211"/>
                </a:cubicBezTo>
                <a:cubicBezTo>
                  <a:pt x="289" y="190"/>
                  <a:pt x="346" y="159"/>
                  <a:pt x="385" y="122"/>
                </a:cubicBezTo>
                <a:cubicBezTo>
                  <a:pt x="423" y="85"/>
                  <a:pt x="444" y="43"/>
                  <a:pt x="444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9" name=""/>
          <p:cNvGrpSpPr/>
          <p:nvPr/>
        </p:nvGrpSpPr>
        <p:grpSpPr>
          <a:xfrm>
            <a:off x="3906720" y="1891440"/>
            <a:ext cx="319320" cy="93240"/>
            <a:chOff x="3906720" y="1891440"/>
            <a:chExt cx="319320" cy="93240"/>
          </a:xfrm>
        </p:grpSpPr>
        <p:sp>
          <p:nvSpPr>
            <p:cNvPr id="3580" name=""/>
            <p:cNvSpPr/>
            <p:nvPr/>
          </p:nvSpPr>
          <p:spPr>
            <a:xfrm>
              <a:off x="3906720" y="1891440"/>
              <a:ext cx="159840" cy="93240"/>
            </a:xfrm>
            <a:custGeom>
              <a:avLst/>
              <a:gdLst/>
              <a:ahLst/>
              <a:rect l="0" t="0" r="r" b="b"/>
              <a:pathLst>
                <a:path fill="none" w="444" h="259">
                  <a:moveTo>
                    <a:pt x="0" y="0"/>
                  </a:moveTo>
                  <a:lnTo>
                    <a:pt x="0" y="0"/>
                  </a:lnTo>
                  <a:cubicBezTo>
                    <a:pt x="0" y="45"/>
                    <a:pt x="21" y="90"/>
                    <a:pt x="59" y="130"/>
                  </a:cubicBezTo>
                  <a:cubicBezTo>
                    <a:pt x="98" y="169"/>
                    <a:pt x="155" y="202"/>
                    <a:pt x="222" y="224"/>
                  </a:cubicBezTo>
                  <a:cubicBezTo>
                    <a:pt x="289" y="247"/>
                    <a:pt x="366" y="259"/>
                    <a:pt x="444" y="25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4066200" y="1891440"/>
              <a:ext cx="159840" cy="93240"/>
            </a:xfrm>
            <a:custGeom>
              <a:avLst/>
              <a:gdLst/>
              <a:ahLst/>
              <a:rect l="0" t="0" r="r" b="b"/>
              <a:pathLst>
                <a:path fill="none" w="444" h="259">
                  <a:moveTo>
                    <a:pt x="0" y="259"/>
                  </a:moveTo>
                  <a:lnTo>
                    <a:pt x="0" y="259"/>
                  </a:lnTo>
                  <a:cubicBezTo>
                    <a:pt x="78" y="259"/>
                    <a:pt x="155" y="247"/>
                    <a:pt x="222" y="224"/>
                  </a:cubicBezTo>
                  <a:cubicBezTo>
                    <a:pt x="289" y="202"/>
                    <a:pt x="346" y="169"/>
                    <a:pt x="385" y="129"/>
                  </a:cubicBezTo>
                  <a:cubicBezTo>
                    <a:pt x="423" y="90"/>
                    <a:pt x="444" y="45"/>
                    <a:pt x="44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2" name=""/>
          <p:cNvSpPr txBox="1"/>
          <p:nvPr/>
        </p:nvSpPr>
        <p:spPr>
          <a:xfrm>
            <a:off x="3900600" y="2097000"/>
            <a:ext cx="247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1636560" y="5904000"/>
            <a:ext cx="3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1673280" y="5904000"/>
            <a:ext cx="0" cy="2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1709640" y="5940360"/>
            <a:ext cx="3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 flipH="1">
            <a:off x="1749600" y="5940360"/>
            <a:ext cx="10800" cy="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1673280" y="5927760"/>
            <a:ext cx="36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1709640" y="5927760"/>
            <a:ext cx="0" cy="1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1746360" y="5962680"/>
            <a:ext cx="61920" cy="2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1463760" y="4311720"/>
            <a:ext cx="0" cy="108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1746360" y="4311720"/>
            <a:ext cx="0" cy="108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1463760" y="4160880"/>
            <a:ext cx="148680" cy="151200"/>
          </a:xfrm>
          <a:custGeom>
            <a:avLst/>
            <a:gdLst/>
            <a:ahLst/>
            <a:rect l="0" t="0" r="r" b="b"/>
            <a:pathLst>
              <a:path fill="none" w="413" h="420">
                <a:moveTo>
                  <a:pt x="413" y="0"/>
                </a:moveTo>
                <a:lnTo>
                  <a:pt x="413" y="0"/>
                </a:lnTo>
                <a:cubicBezTo>
                  <a:pt x="341" y="0"/>
                  <a:pt x="269" y="19"/>
                  <a:pt x="206" y="56"/>
                </a:cubicBezTo>
                <a:cubicBezTo>
                  <a:pt x="144" y="93"/>
                  <a:pt x="92" y="146"/>
                  <a:pt x="55" y="210"/>
                </a:cubicBezTo>
                <a:cubicBezTo>
                  <a:pt x="19" y="274"/>
                  <a:pt x="0" y="346"/>
                  <a:pt x="0" y="42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1612080" y="4160880"/>
            <a:ext cx="148680" cy="151200"/>
          </a:xfrm>
          <a:custGeom>
            <a:avLst/>
            <a:gdLst/>
            <a:ahLst/>
            <a:rect l="0" t="0" r="r" b="b"/>
            <a:pathLst>
              <a:path fill="none" w="413" h="420">
                <a:moveTo>
                  <a:pt x="413" y="420"/>
                </a:moveTo>
                <a:lnTo>
                  <a:pt x="413" y="420"/>
                </a:lnTo>
                <a:lnTo>
                  <a:pt x="413" y="420"/>
                </a:lnTo>
                <a:cubicBezTo>
                  <a:pt x="413" y="346"/>
                  <a:pt x="394" y="274"/>
                  <a:pt x="358" y="210"/>
                </a:cubicBezTo>
                <a:cubicBezTo>
                  <a:pt x="321" y="146"/>
                  <a:pt x="269" y="93"/>
                  <a:pt x="206" y="56"/>
                </a:cubicBezTo>
                <a:cubicBezTo>
                  <a:pt x="144" y="19"/>
                  <a:pt x="72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1463760" y="431172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1463760" y="452124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1463760" y="472932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 flipH="1">
            <a:off x="1120680" y="5945040"/>
            <a:ext cx="908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8" name=""/>
          <p:cNvGrpSpPr/>
          <p:nvPr/>
        </p:nvGrpSpPr>
        <p:grpSpPr>
          <a:xfrm>
            <a:off x="2034360" y="5591160"/>
            <a:ext cx="129600" cy="362520"/>
            <a:chOff x="2034360" y="5591160"/>
            <a:chExt cx="129600" cy="362520"/>
          </a:xfrm>
        </p:grpSpPr>
        <p:sp>
          <p:nvSpPr>
            <p:cNvPr id="3599" name=""/>
            <p:cNvSpPr/>
            <p:nvPr/>
          </p:nvSpPr>
          <p:spPr>
            <a:xfrm>
              <a:off x="2034360" y="5591160"/>
              <a:ext cx="129600" cy="181440"/>
            </a:xfrm>
            <a:custGeom>
              <a:avLst/>
              <a:gdLst/>
              <a:ahLst/>
              <a:rect l="0" t="0" r="r" b="b"/>
              <a:pathLst>
                <a:path fill="none" w="360" h="504">
                  <a:moveTo>
                    <a:pt x="360" y="504"/>
                  </a:moveTo>
                  <a:lnTo>
                    <a:pt x="360" y="504"/>
                  </a:lnTo>
                  <a:lnTo>
                    <a:pt x="360" y="504"/>
                  </a:lnTo>
                  <a:cubicBezTo>
                    <a:pt x="360" y="416"/>
                    <a:pt x="343" y="329"/>
                    <a:pt x="312" y="252"/>
                  </a:cubicBezTo>
                  <a:cubicBezTo>
                    <a:pt x="280" y="175"/>
                    <a:pt x="235" y="112"/>
                    <a:pt x="180" y="68"/>
                  </a:cubicBezTo>
                  <a:cubicBezTo>
                    <a:pt x="125" y="23"/>
                    <a:pt x="63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034360" y="5772240"/>
              <a:ext cx="129600" cy="181440"/>
            </a:xfrm>
            <a:custGeom>
              <a:avLst/>
              <a:gdLst/>
              <a:ahLst/>
              <a:rect l="0" t="0" r="r" b="b"/>
              <a:pathLst>
                <a:path fill="none" w="360" h="504">
                  <a:moveTo>
                    <a:pt x="0" y="504"/>
                  </a:moveTo>
                  <a:lnTo>
                    <a:pt x="0" y="504"/>
                  </a:lnTo>
                  <a:cubicBezTo>
                    <a:pt x="63" y="504"/>
                    <a:pt x="125" y="481"/>
                    <a:pt x="180" y="436"/>
                  </a:cubicBezTo>
                  <a:cubicBezTo>
                    <a:pt x="235" y="392"/>
                    <a:pt x="280" y="329"/>
                    <a:pt x="312" y="252"/>
                  </a:cubicBezTo>
                  <a:cubicBezTo>
                    <a:pt x="343" y="175"/>
                    <a:pt x="360" y="88"/>
                    <a:pt x="36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1" name=""/>
          <p:cNvGrpSpPr/>
          <p:nvPr/>
        </p:nvGrpSpPr>
        <p:grpSpPr>
          <a:xfrm>
            <a:off x="1036800" y="5591160"/>
            <a:ext cx="128160" cy="362520"/>
            <a:chOff x="1036800" y="5591160"/>
            <a:chExt cx="128160" cy="362520"/>
          </a:xfrm>
        </p:grpSpPr>
        <p:sp>
          <p:nvSpPr>
            <p:cNvPr id="3602" name=""/>
            <p:cNvSpPr/>
            <p:nvPr/>
          </p:nvSpPr>
          <p:spPr>
            <a:xfrm>
              <a:off x="1036800" y="5591160"/>
              <a:ext cx="128160" cy="181440"/>
            </a:xfrm>
            <a:custGeom>
              <a:avLst/>
              <a:gdLst/>
              <a:ahLst/>
              <a:rect l="0" t="0" r="r" b="b"/>
              <a:pathLst>
                <a:path fill="none" w="356" h="504">
                  <a:moveTo>
                    <a:pt x="356" y="0"/>
                  </a:moveTo>
                  <a:lnTo>
                    <a:pt x="356" y="0"/>
                  </a:lnTo>
                  <a:cubicBezTo>
                    <a:pt x="294" y="0"/>
                    <a:pt x="232" y="23"/>
                    <a:pt x="178" y="68"/>
                  </a:cubicBezTo>
                  <a:cubicBezTo>
                    <a:pt x="124" y="112"/>
                    <a:pt x="79" y="175"/>
                    <a:pt x="48" y="252"/>
                  </a:cubicBezTo>
                  <a:cubicBezTo>
                    <a:pt x="16" y="329"/>
                    <a:pt x="0" y="416"/>
                    <a:pt x="0" y="504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1036800" y="5772240"/>
              <a:ext cx="128160" cy="181440"/>
            </a:xfrm>
            <a:custGeom>
              <a:avLst/>
              <a:gdLst/>
              <a:ahLst/>
              <a:rect l="0" t="0" r="r" b="b"/>
              <a:pathLst>
                <a:path fill="none" w="356" h="504">
                  <a:moveTo>
                    <a:pt x="0" y="0"/>
                  </a:moveTo>
                  <a:lnTo>
                    <a:pt x="0" y="0"/>
                  </a:lnTo>
                  <a:cubicBezTo>
                    <a:pt x="0" y="88"/>
                    <a:pt x="16" y="175"/>
                    <a:pt x="48" y="252"/>
                  </a:cubicBezTo>
                  <a:cubicBezTo>
                    <a:pt x="79" y="329"/>
                    <a:pt x="124" y="392"/>
                    <a:pt x="178" y="436"/>
                  </a:cubicBezTo>
                  <a:cubicBezTo>
                    <a:pt x="232" y="481"/>
                    <a:pt x="294" y="504"/>
                    <a:pt x="356" y="504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4" name=""/>
          <p:cNvSpPr/>
          <p:nvPr/>
        </p:nvSpPr>
        <p:spPr>
          <a:xfrm>
            <a:off x="1146240" y="5591160"/>
            <a:ext cx="882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047600" y="5672160"/>
            <a:ext cx="1043280" cy="71640"/>
          </a:xfrm>
          <a:custGeom>
            <a:avLst/>
            <a:gdLst/>
            <a:ahLst/>
            <a:rect l="0" t="0" r="r" b="b"/>
            <a:pathLst>
              <a:path fill="none" w="2898" h="199">
                <a:moveTo>
                  <a:pt x="0" y="99"/>
                </a:moveTo>
                <a:lnTo>
                  <a:pt x="104" y="64"/>
                </a:lnTo>
                <a:lnTo>
                  <a:pt x="238" y="35"/>
                </a:lnTo>
                <a:lnTo>
                  <a:pt x="373" y="0"/>
                </a:lnTo>
                <a:lnTo>
                  <a:pt x="545" y="64"/>
                </a:lnTo>
                <a:lnTo>
                  <a:pt x="679" y="99"/>
                </a:lnTo>
                <a:lnTo>
                  <a:pt x="784" y="129"/>
                </a:lnTo>
                <a:lnTo>
                  <a:pt x="918" y="99"/>
                </a:lnTo>
                <a:lnTo>
                  <a:pt x="1053" y="99"/>
                </a:lnTo>
                <a:lnTo>
                  <a:pt x="1194" y="64"/>
                </a:lnTo>
                <a:lnTo>
                  <a:pt x="1329" y="64"/>
                </a:lnTo>
                <a:lnTo>
                  <a:pt x="1532" y="99"/>
                </a:lnTo>
                <a:lnTo>
                  <a:pt x="1636" y="99"/>
                </a:lnTo>
                <a:lnTo>
                  <a:pt x="1703" y="164"/>
                </a:lnTo>
                <a:lnTo>
                  <a:pt x="1807" y="199"/>
                </a:lnTo>
                <a:lnTo>
                  <a:pt x="1942" y="164"/>
                </a:lnTo>
                <a:lnTo>
                  <a:pt x="2077" y="129"/>
                </a:lnTo>
                <a:lnTo>
                  <a:pt x="2218" y="99"/>
                </a:lnTo>
                <a:lnTo>
                  <a:pt x="2383" y="99"/>
                </a:lnTo>
                <a:lnTo>
                  <a:pt x="2487" y="64"/>
                </a:lnTo>
                <a:lnTo>
                  <a:pt x="2659" y="64"/>
                </a:lnTo>
                <a:lnTo>
                  <a:pt x="2830" y="99"/>
                </a:lnTo>
                <a:lnTo>
                  <a:pt x="2861" y="164"/>
                </a:lnTo>
                <a:lnTo>
                  <a:pt x="2898" y="19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6" name=""/>
          <p:cNvGrpSpPr/>
          <p:nvPr/>
        </p:nvGrpSpPr>
        <p:grpSpPr>
          <a:xfrm>
            <a:off x="1550880" y="5848200"/>
            <a:ext cx="133560" cy="105120"/>
            <a:chOff x="1550880" y="5848200"/>
            <a:chExt cx="133560" cy="105120"/>
          </a:xfrm>
        </p:grpSpPr>
        <p:sp>
          <p:nvSpPr>
            <p:cNvPr id="3607" name=""/>
            <p:cNvSpPr/>
            <p:nvPr/>
          </p:nvSpPr>
          <p:spPr>
            <a:xfrm>
              <a:off x="1550880" y="5848200"/>
              <a:ext cx="133560" cy="105120"/>
            </a:xfrm>
            <a:custGeom>
              <a:avLst/>
              <a:gdLst/>
              <a:ahLst/>
              <a:rect l="0" t="0" r="r" b="b"/>
              <a:pathLst>
                <a:path w="371" h="292">
                  <a:moveTo>
                    <a:pt x="0" y="0"/>
                  </a:moveTo>
                  <a:lnTo>
                    <a:pt x="371" y="158"/>
                  </a:lnTo>
                  <a:lnTo>
                    <a:pt x="341" y="222"/>
                  </a:lnTo>
                  <a:lnTo>
                    <a:pt x="274" y="2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 flipH="1" flipV="1">
              <a:off x="1636560" y="5907240"/>
              <a:ext cx="3348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9" name=""/>
          <p:cNvSpPr/>
          <p:nvPr/>
        </p:nvSpPr>
        <p:spPr>
          <a:xfrm>
            <a:off x="1452600" y="5369760"/>
            <a:ext cx="147240" cy="151920"/>
          </a:xfrm>
          <a:custGeom>
            <a:avLst/>
            <a:gdLst/>
            <a:ahLst/>
            <a:rect l="0" t="0" r="r" b="b"/>
            <a:pathLst>
              <a:path fill="none" w="409" h="422">
                <a:moveTo>
                  <a:pt x="0" y="0"/>
                </a:moveTo>
                <a:lnTo>
                  <a:pt x="0" y="0"/>
                </a:lnTo>
                <a:cubicBezTo>
                  <a:pt x="0" y="74"/>
                  <a:pt x="19" y="147"/>
                  <a:pt x="55" y="211"/>
                </a:cubicBezTo>
                <a:cubicBezTo>
                  <a:pt x="91" y="275"/>
                  <a:pt x="142" y="328"/>
                  <a:pt x="205" y="365"/>
                </a:cubicBezTo>
                <a:cubicBezTo>
                  <a:pt x="267" y="403"/>
                  <a:pt x="337" y="422"/>
                  <a:pt x="409" y="42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1599480" y="5369760"/>
            <a:ext cx="147240" cy="151920"/>
          </a:xfrm>
          <a:custGeom>
            <a:avLst/>
            <a:gdLst/>
            <a:ahLst/>
            <a:rect l="0" t="0" r="r" b="b"/>
            <a:pathLst>
              <a:path fill="none" w="409" h="422">
                <a:moveTo>
                  <a:pt x="0" y="422"/>
                </a:moveTo>
                <a:lnTo>
                  <a:pt x="0" y="422"/>
                </a:lnTo>
                <a:cubicBezTo>
                  <a:pt x="72" y="422"/>
                  <a:pt x="142" y="403"/>
                  <a:pt x="205" y="365"/>
                </a:cubicBezTo>
                <a:cubicBezTo>
                  <a:pt x="267" y="328"/>
                  <a:pt x="318" y="275"/>
                  <a:pt x="354" y="211"/>
                </a:cubicBezTo>
                <a:cubicBezTo>
                  <a:pt x="390" y="147"/>
                  <a:pt x="409" y="74"/>
                  <a:pt x="4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1463760" y="535788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1612800" y="5508720"/>
            <a:ext cx="0" cy="82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1477800" y="4938840"/>
            <a:ext cx="268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4" name=""/>
          <p:cNvGrpSpPr/>
          <p:nvPr/>
        </p:nvGrpSpPr>
        <p:grpSpPr>
          <a:xfrm>
            <a:off x="1574640" y="3973680"/>
            <a:ext cx="62280" cy="196560"/>
            <a:chOff x="1574640" y="3973680"/>
            <a:chExt cx="62280" cy="196560"/>
          </a:xfrm>
        </p:grpSpPr>
        <p:sp>
          <p:nvSpPr>
            <p:cNvPr id="3615" name=""/>
            <p:cNvSpPr/>
            <p:nvPr/>
          </p:nvSpPr>
          <p:spPr>
            <a:xfrm>
              <a:off x="1574640" y="3973680"/>
              <a:ext cx="62280" cy="128880"/>
            </a:xfrm>
            <a:custGeom>
              <a:avLst/>
              <a:gdLst/>
              <a:ahLst/>
              <a:rect l="0" t="0" r="r" b="b"/>
              <a:pathLst>
                <a:path w="173" h="358">
                  <a:moveTo>
                    <a:pt x="105" y="0"/>
                  </a:moveTo>
                  <a:lnTo>
                    <a:pt x="173" y="358"/>
                  </a:lnTo>
                  <a:lnTo>
                    <a:pt x="105" y="358"/>
                  </a:lnTo>
                  <a:lnTo>
                    <a:pt x="0" y="358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1612800" y="4102200"/>
              <a:ext cx="0" cy="68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7" name=""/>
          <p:cNvSpPr/>
          <p:nvPr/>
        </p:nvSpPr>
        <p:spPr>
          <a:xfrm>
            <a:off x="2028960" y="3973680"/>
            <a:ext cx="0" cy="245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8" name=""/>
          <p:cNvGrpSpPr/>
          <p:nvPr/>
        </p:nvGrpSpPr>
        <p:grpSpPr>
          <a:xfrm>
            <a:off x="1709640" y="4183200"/>
            <a:ext cx="319320" cy="70200"/>
            <a:chOff x="1709640" y="4183200"/>
            <a:chExt cx="319320" cy="70200"/>
          </a:xfrm>
        </p:grpSpPr>
        <p:sp>
          <p:nvSpPr>
            <p:cNvPr id="3619" name=""/>
            <p:cNvSpPr/>
            <p:nvPr/>
          </p:nvSpPr>
          <p:spPr>
            <a:xfrm>
              <a:off x="1709640" y="4183200"/>
              <a:ext cx="136800" cy="70200"/>
            </a:xfrm>
            <a:custGeom>
              <a:avLst/>
              <a:gdLst/>
              <a:ahLst/>
              <a:rect l="0" t="0" r="r" b="b"/>
              <a:pathLst>
                <a:path w="380" h="195">
                  <a:moveTo>
                    <a:pt x="0" y="100"/>
                  </a:moveTo>
                  <a:lnTo>
                    <a:pt x="380" y="0"/>
                  </a:lnTo>
                  <a:lnTo>
                    <a:pt x="380" y="100"/>
                  </a:lnTo>
                  <a:lnTo>
                    <a:pt x="380" y="195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1846440" y="4219560"/>
              <a:ext cx="182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1" name=""/>
          <p:cNvSpPr/>
          <p:nvPr/>
        </p:nvSpPr>
        <p:spPr>
          <a:xfrm flipH="1">
            <a:off x="1550880" y="3973680"/>
            <a:ext cx="908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2" name=""/>
          <p:cNvGrpSpPr/>
          <p:nvPr/>
        </p:nvGrpSpPr>
        <p:grpSpPr>
          <a:xfrm>
            <a:off x="2465280" y="3624120"/>
            <a:ext cx="128880" cy="360720"/>
            <a:chOff x="2465280" y="3624120"/>
            <a:chExt cx="128880" cy="360720"/>
          </a:xfrm>
        </p:grpSpPr>
        <p:sp>
          <p:nvSpPr>
            <p:cNvPr id="3623" name=""/>
            <p:cNvSpPr/>
            <p:nvPr/>
          </p:nvSpPr>
          <p:spPr>
            <a:xfrm>
              <a:off x="2465280" y="3624120"/>
              <a:ext cx="128880" cy="180360"/>
            </a:xfrm>
            <a:custGeom>
              <a:avLst/>
              <a:gdLst/>
              <a:ahLst/>
              <a:rect l="0" t="0" r="r" b="b"/>
              <a:pathLst>
                <a:path fill="none" w="358" h="501">
                  <a:moveTo>
                    <a:pt x="358" y="501"/>
                  </a:moveTo>
                  <a:lnTo>
                    <a:pt x="358" y="501"/>
                  </a:lnTo>
                  <a:lnTo>
                    <a:pt x="358" y="501"/>
                  </a:lnTo>
                  <a:cubicBezTo>
                    <a:pt x="358" y="413"/>
                    <a:pt x="341" y="327"/>
                    <a:pt x="310" y="250"/>
                  </a:cubicBezTo>
                  <a:cubicBezTo>
                    <a:pt x="279" y="174"/>
                    <a:pt x="233" y="111"/>
                    <a:pt x="179" y="67"/>
                  </a:cubicBezTo>
                  <a:cubicBezTo>
                    <a:pt x="125" y="23"/>
                    <a:pt x="63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2465280" y="3804480"/>
              <a:ext cx="128880" cy="180360"/>
            </a:xfrm>
            <a:custGeom>
              <a:avLst/>
              <a:gdLst/>
              <a:ahLst/>
              <a:rect l="0" t="0" r="r" b="b"/>
              <a:pathLst>
                <a:path fill="none" w="358" h="501">
                  <a:moveTo>
                    <a:pt x="0" y="501"/>
                  </a:moveTo>
                  <a:lnTo>
                    <a:pt x="0" y="501"/>
                  </a:lnTo>
                  <a:cubicBezTo>
                    <a:pt x="63" y="501"/>
                    <a:pt x="125" y="478"/>
                    <a:pt x="179" y="434"/>
                  </a:cubicBezTo>
                  <a:cubicBezTo>
                    <a:pt x="233" y="390"/>
                    <a:pt x="279" y="327"/>
                    <a:pt x="310" y="250"/>
                  </a:cubicBezTo>
                  <a:cubicBezTo>
                    <a:pt x="341" y="174"/>
                    <a:pt x="358" y="88"/>
                    <a:pt x="358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5" name=""/>
          <p:cNvGrpSpPr/>
          <p:nvPr/>
        </p:nvGrpSpPr>
        <p:grpSpPr>
          <a:xfrm>
            <a:off x="1452600" y="3624120"/>
            <a:ext cx="128880" cy="360720"/>
            <a:chOff x="1452600" y="3624120"/>
            <a:chExt cx="128880" cy="360720"/>
          </a:xfrm>
        </p:grpSpPr>
        <p:sp>
          <p:nvSpPr>
            <p:cNvPr id="3626" name=""/>
            <p:cNvSpPr/>
            <p:nvPr/>
          </p:nvSpPr>
          <p:spPr>
            <a:xfrm>
              <a:off x="1452600" y="3624120"/>
              <a:ext cx="128880" cy="180360"/>
            </a:xfrm>
            <a:custGeom>
              <a:avLst/>
              <a:gdLst/>
              <a:ahLst/>
              <a:rect l="0" t="0" r="r" b="b"/>
              <a:pathLst>
                <a:path fill="none" w="358" h="501">
                  <a:moveTo>
                    <a:pt x="358" y="0"/>
                  </a:moveTo>
                  <a:lnTo>
                    <a:pt x="358" y="0"/>
                  </a:lnTo>
                  <a:cubicBezTo>
                    <a:pt x="295" y="0"/>
                    <a:pt x="233" y="23"/>
                    <a:pt x="179" y="67"/>
                  </a:cubicBezTo>
                  <a:cubicBezTo>
                    <a:pt x="125" y="111"/>
                    <a:pt x="79" y="174"/>
                    <a:pt x="48" y="251"/>
                  </a:cubicBezTo>
                  <a:cubicBezTo>
                    <a:pt x="17" y="327"/>
                    <a:pt x="0" y="413"/>
                    <a:pt x="0" y="501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1452600" y="3804480"/>
              <a:ext cx="128880" cy="180360"/>
            </a:xfrm>
            <a:custGeom>
              <a:avLst/>
              <a:gdLst/>
              <a:ahLst/>
              <a:rect l="0" t="0" r="r" b="b"/>
              <a:pathLst>
                <a:path fill="none" w="358" h="501">
                  <a:moveTo>
                    <a:pt x="0" y="0"/>
                  </a:moveTo>
                  <a:lnTo>
                    <a:pt x="0" y="0"/>
                  </a:lnTo>
                  <a:cubicBezTo>
                    <a:pt x="0" y="88"/>
                    <a:pt x="17" y="174"/>
                    <a:pt x="48" y="251"/>
                  </a:cubicBezTo>
                  <a:cubicBezTo>
                    <a:pt x="79" y="327"/>
                    <a:pt x="125" y="390"/>
                    <a:pt x="179" y="434"/>
                  </a:cubicBezTo>
                  <a:cubicBezTo>
                    <a:pt x="233" y="478"/>
                    <a:pt x="295" y="501"/>
                    <a:pt x="358" y="501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8" name=""/>
          <p:cNvSpPr/>
          <p:nvPr/>
        </p:nvSpPr>
        <p:spPr>
          <a:xfrm>
            <a:off x="1574640" y="3624120"/>
            <a:ext cx="884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1463760" y="3718080"/>
            <a:ext cx="1055880" cy="57600"/>
          </a:xfrm>
          <a:custGeom>
            <a:avLst/>
            <a:gdLst/>
            <a:ahLst/>
            <a:rect l="0" t="0" r="r" b="b"/>
            <a:pathLst>
              <a:path fill="none" w="2933" h="160">
                <a:moveTo>
                  <a:pt x="0" y="65"/>
                </a:moveTo>
                <a:lnTo>
                  <a:pt x="134" y="29"/>
                </a:lnTo>
                <a:lnTo>
                  <a:pt x="276" y="29"/>
                </a:lnTo>
                <a:lnTo>
                  <a:pt x="411" y="0"/>
                </a:lnTo>
                <a:lnTo>
                  <a:pt x="546" y="29"/>
                </a:lnTo>
                <a:lnTo>
                  <a:pt x="717" y="65"/>
                </a:lnTo>
                <a:lnTo>
                  <a:pt x="822" y="131"/>
                </a:lnTo>
                <a:lnTo>
                  <a:pt x="920" y="65"/>
                </a:lnTo>
                <a:lnTo>
                  <a:pt x="1092" y="65"/>
                </a:lnTo>
                <a:lnTo>
                  <a:pt x="1226" y="65"/>
                </a:lnTo>
                <a:lnTo>
                  <a:pt x="1368" y="29"/>
                </a:lnTo>
                <a:lnTo>
                  <a:pt x="1534" y="65"/>
                </a:lnTo>
                <a:lnTo>
                  <a:pt x="1675" y="65"/>
                </a:lnTo>
                <a:lnTo>
                  <a:pt x="1706" y="160"/>
                </a:lnTo>
                <a:lnTo>
                  <a:pt x="1841" y="160"/>
                </a:lnTo>
                <a:lnTo>
                  <a:pt x="1945" y="160"/>
                </a:lnTo>
                <a:lnTo>
                  <a:pt x="2117" y="131"/>
                </a:lnTo>
                <a:lnTo>
                  <a:pt x="2221" y="65"/>
                </a:lnTo>
                <a:lnTo>
                  <a:pt x="2387" y="65"/>
                </a:lnTo>
                <a:lnTo>
                  <a:pt x="2491" y="65"/>
                </a:lnTo>
                <a:lnTo>
                  <a:pt x="2663" y="65"/>
                </a:lnTo>
                <a:lnTo>
                  <a:pt x="2865" y="65"/>
                </a:lnTo>
                <a:lnTo>
                  <a:pt x="2865" y="160"/>
                </a:lnTo>
                <a:lnTo>
                  <a:pt x="2933" y="160"/>
                </a:lnTo>
                <a:lnTo>
                  <a:pt x="2902" y="16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6620040" y="1157400"/>
            <a:ext cx="0" cy="108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6951600" y="1157400"/>
            <a:ext cx="0" cy="108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6620040" y="1006560"/>
            <a:ext cx="172800" cy="151200"/>
          </a:xfrm>
          <a:custGeom>
            <a:avLst/>
            <a:gdLst/>
            <a:ahLst/>
            <a:rect l="0" t="0" r="r" b="b"/>
            <a:pathLst>
              <a:path fill="none" w="480" h="420">
                <a:moveTo>
                  <a:pt x="480" y="0"/>
                </a:moveTo>
                <a:lnTo>
                  <a:pt x="480" y="0"/>
                </a:lnTo>
                <a:cubicBezTo>
                  <a:pt x="396" y="0"/>
                  <a:pt x="313" y="19"/>
                  <a:pt x="240" y="56"/>
                </a:cubicBezTo>
                <a:cubicBezTo>
                  <a:pt x="167" y="93"/>
                  <a:pt x="106" y="146"/>
                  <a:pt x="64" y="210"/>
                </a:cubicBezTo>
                <a:cubicBezTo>
                  <a:pt x="22" y="274"/>
                  <a:pt x="0" y="346"/>
                  <a:pt x="0" y="42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6792120" y="1006560"/>
            <a:ext cx="172800" cy="151200"/>
          </a:xfrm>
          <a:custGeom>
            <a:avLst/>
            <a:gdLst/>
            <a:ahLst/>
            <a:rect l="0" t="0" r="r" b="b"/>
            <a:pathLst>
              <a:path fill="none" w="480" h="420">
                <a:moveTo>
                  <a:pt x="480" y="420"/>
                </a:moveTo>
                <a:lnTo>
                  <a:pt x="480" y="420"/>
                </a:lnTo>
                <a:lnTo>
                  <a:pt x="480" y="420"/>
                </a:lnTo>
                <a:cubicBezTo>
                  <a:pt x="480" y="346"/>
                  <a:pt x="458" y="274"/>
                  <a:pt x="416" y="210"/>
                </a:cubicBezTo>
                <a:cubicBezTo>
                  <a:pt x="374" y="146"/>
                  <a:pt x="313" y="93"/>
                  <a:pt x="240" y="56"/>
                </a:cubicBezTo>
                <a:cubicBezTo>
                  <a:pt x="167" y="19"/>
                  <a:pt x="8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8435880" y="552600"/>
            <a:ext cx="0" cy="641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8742240" y="552600"/>
            <a:ext cx="0" cy="641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8435880" y="471600"/>
            <a:ext cx="159120" cy="93240"/>
          </a:xfrm>
          <a:custGeom>
            <a:avLst/>
            <a:gdLst/>
            <a:ahLst/>
            <a:rect l="0" t="0" r="r" b="b"/>
            <a:pathLst>
              <a:path fill="none" w="442" h="259">
                <a:moveTo>
                  <a:pt x="442" y="0"/>
                </a:moveTo>
                <a:lnTo>
                  <a:pt x="442" y="0"/>
                </a:lnTo>
                <a:cubicBezTo>
                  <a:pt x="364" y="0"/>
                  <a:pt x="288" y="12"/>
                  <a:pt x="221" y="35"/>
                </a:cubicBezTo>
                <a:cubicBezTo>
                  <a:pt x="154" y="57"/>
                  <a:pt x="98" y="90"/>
                  <a:pt x="59" y="130"/>
                </a:cubicBezTo>
                <a:cubicBezTo>
                  <a:pt x="20" y="169"/>
                  <a:pt x="0" y="214"/>
                  <a:pt x="0" y="2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8594640" y="471600"/>
            <a:ext cx="159120" cy="93240"/>
          </a:xfrm>
          <a:custGeom>
            <a:avLst/>
            <a:gdLst/>
            <a:ahLst/>
            <a:rect l="0" t="0" r="r" b="b"/>
            <a:pathLst>
              <a:path fill="none" w="442" h="259">
                <a:moveTo>
                  <a:pt x="442" y="259"/>
                </a:moveTo>
                <a:lnTo>
                  <a:pt x="442" y="259"/>
                </a:lnTo>
                <a:lnTo>
                  <a:pt x="442" y="259"/>
                </a:lnTo>
                <a:cubicBezTo>
                  <a:pt x="442" y="214"/>
                  <a:pt x="422" y="169"/>
                  <a:pt x="383" y="129"/>
                </a:cubicBezTo>
                <a:cubicBezTo>
                  <a:pt x="344" y="90"/>
                  <a:pt x="288" y="57"/>
                  <a:pt x="221" y="35"/>
                </a:cubicBezTo>
                <a:cubicBezTo>
                  <a:pt x="154" y="12"/>
                  <a:pt x="78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8435880" y="1186560"/>
            <a:ext cx="159120" cy="88560"/>
          </a:xfrm>
          <a:custGeom>
            <a:avLst/>
            <a:gdLst/>
            <a:ahLst/>
            <a:rect l="0" t="0" r="r" b="b"/>
            <a:pathLst>
              <a:path fill="none" w="442" h="246">
                <a:moveTo>
                  <a:pt x="0" y="0"/>
                </a:moveTo>
                <a:lnTo>
                  <a:pt x="0" y="0"/>
                </a:lnTo>
                <a:cubicBezTo>
                  <a:pt x="0" y="43"/>
                  <a:pt x="20" y="86"/>
                  <a:pt x="59" y="123"/>
                </a:cubicBezTo>
                <a:cubicBezTo>
                  <a:pt x="98" y="160"/>
                  <a:pt x="154" y="191"/>
                  <a:pt x="221" y="213"/>
                </a:cubicBezTo>
                <a:cubicBezTo>
                  <a:pt x="288" y="235"/>
                  <a:pt x="364" y="246"/>
                  <a:pt x="442" y="2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8594640" y="1186560"/>
            <a:ext cx="159120" cy="88560"/>
          </a:xfrm>
          <a:custGeom>
            <a:avLst/>
            <a:gdLst/>
            <a:ahLst/>
            <a:rect l="0" t="0" r="r" b="b"/>
            <a:pathLst>
              <a:path fill="none" w="442" h="246">
                <a:moveTo>
                  <a:pt x="0" y="246"/>
                </a:moveTo>
                <a:lnTo>
                  <a:pt x="0" y="246"/>
                </a:lnTo>
                <a:cubicBezTo>
                  <a:pt x="78" y="246"/>
                  <a:pt x="154" y="235"/>
                  <a:pt x="221" y="213"/>
                </a:cubicBezTo>
                <a:cubicBezTo>
                  <a:pt x="288" y="191"/>
                  <a:pt x="344" y="160"/>
                  <a:pt x="383" y="123"/>
                </a:cubicBezTo>
                <a:cubicBezTo>
                  <a:pt x="422" y="86"/>
                  <a:pt x="442" y="43"/>
                  <a:pt x="44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8435880" y="528480"/>
            <a:ext cx="159120" cy="93960"/>
          </a:xfrm>
          <a:custGeom>
            <a:avLst/>
            <a:gdLst/>
            <a:ahLst/>
            <a:rect l="0" t="0" r="r" b="b"/>
            <a:pathLst>
              <a:path fill="none" w="442" h="261">
                <a:moveTo>
                  <a:pt x="0" y="0"/>
                </a:moveTo>
                <a:lnTo>
                  <a:pt x="0" y="0"/>
                </a:lnTo>
                <a:cubicBezTo>
                  <a:pt x="0" y="46"/>
                  <a:pt x="20" y="91"/>
                  <a:pt x="59" y="131"/>
                </a:cubicBezTo>
                <a:cubicBezTo>
                  <a:pt x="98" y="170"/>
                  <a:pt x="154" y="203"/>
                  <a:pt x="221" y="226"/>
                </a:cubicBezTo>
                <a:cubicBezTo>
                  <a:pt x="288" y="249"/>
                  <a:pt x="364" y="261"/>
                  <a:pt x="442" y="26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8594640" y="528480"/>
            <a:ext cx="159120" cy="93960"/>
          </a:xfrm>
          <a:custGeom>
            <a:avLst/>
            <a:gdLst/>
            <a:ahLst/>
            <a:rect l="0" t="0" r="r" b="b"/>
            <a:pathLst>
              <a:path fill="none" w="442" h="261">
                <a:moveTo>
                  <a:pt x="0" y="261"/>
                </a:moveTo>
                <a:lnTo>
                  <a:pt x="0" y="261"/>
                </a:lnTo>
                <a:cubicBezTo>
                  <a:pt x="78" y="261"/>
                  <a:pt x="154" y="249"/>
                  <a:pt x="221" y="226"/>
                </a:cubicBezTo>
                <a:cubicBezTo>
                  <a:pt x="288" y="203"/>
                  <a:pt x="344" y="170"/>
                  <a:pt x="383" y="130"/>
                </a:cubicBezTo>
                <a:cubicBezTo>
                  <a:pt x="422" y="91"/>
                  <a:pt x="442" y="46"/>
                  <a:pt x="44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620040" y="1181160"/>
            <a:ext cx="331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6620040" y="1379520"/>
            <a:ext cx="331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6630840" y="1622520"/>
            <a:ext cx="320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6792840" y="843120"/>
            <a:ext cx="0" cy="163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6" name=""/>
          <p:cNvGrpSpPr/>
          <p:nvPr/>
        </p:nvGrpSpPr>
        <p:grpSpPr>
          <a:xfrm>
            <a:off x="6792840" y="808200"/>
            <a:ext cx="416160" cy="71640"/>
            <a:chOff x="6792840" y="808200"/>
            <a:chExt cx="416160" cy="71640"/>
          </a:xfrm>
        </p:grpSpPr>
        <p:sp>
          <p:nvSpPr>
            <p:cNvPr id="3647" name=""/>
            <p:cNvSpPr/>
            <p:nvPr/>
          </p:nvSpPr>
          <p:spPr>
            <a:xfrm>
              <a:off x="7061040" y="808200"/>
              <a:ext cx="147960" cy="71640"/>
            </a:xfrm>
            <a:custGeom>
              <a:avLst/>
              <a:gdLst/>
              <a:ahLst/>
              <a:rect l="0" t="0" r="r" b="b"/>
              <a:pathLst>
                <a:path w="411" h="199">
                  <a:moveTo>
                    <a:pt x="411" y="99"/>
                  </a:moveTo>
                  <a:lnTo>
                    <a:pt x="0" y="1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411" y="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792840" y="843120"/>
              <a:ext cx="268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9" name=""/>
          <p:cNvSpPr/>
          <p:nvPr/>
        </p:nvSpPr>
        <p:spPr>
          <a:xfrm>
            <a:off x="7491240" y="539640"/>
            <a:ext cx="0" cy="64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7209000" y="749160"/>
            <a:ext cx="565200" cy="21096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6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1" name=""/>
          <p:cNvGrpSpPr/>
          <p:nvPr/>
        </p:nvGrpSpPr>
        <p:grpSpPr>
          <a:xfrm>
            <a:off x="7502400" y="517680"/>
            <a:ext cx="406800" cy="70200"/>
            <a:chOff x="7502400" y="517680"/>
            <a:chExt cx="406800" cy="70200"/>
          </a:xfrm>
        </p:grpSpPr>
        <p:sp>
          <p:nvSpPr>
            <p:cNvPr id="3652" name=""/>
            <p:cNvSpPr/>
            <p:nvPr/>
          </p:nvSpPr>
          <p:spPr>
            <a:xfrm>
              <a:off x="7761240" y="517680"/>
              <a:ext cx="147960" cy="70200"/>
            </a:xfrm>
            <a:custGeom>
              <a:avLst/>
              <a:gdLst/>
              <a:ahLst/>
              <a:rect l="0" t="0" r="r" b="b"/>
              <a:pathLst>
                <a:path w="411" h="195">
                  <a:moveTo>
                    <a:pt x="411" y="98"/>
                  </a:moveTo>
                  <a:lnTo>
                    <a:pt x="0" y="195"/>
                  </a:lnTo>
                  <a:lnTo>
                    <a:pt x="0" y="98"/>
                  </a:lnTo>
                  <a:lnTo>
                    <a:pt x="0" y="0"/>
                  </a:lnTo>
                  <a:lnTo>
                    <a:pt x="411" y="9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7502400" y="552600"/>
              <a:ext cx="258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4" name=""/>
          <p:cNvGrpSpPr/>
          <p:nvPr/>
        </p:nvGrpSpPr>
        <p:grpSpPr>
          <a:xfrm>
            <a:off x="6937200" y="1144440"/>
            <a:ext cx="554040" cy="71640"/>
            <a:chOff x="6937200" y="1144440"/>
            <a:chExt cx="554040" cy="71640"/>
          </a:xfrm>
        </p:grpSpPr>
        <p:sp>
          <p:nvSpPr>
            <p:cNvPr id="3655" name=""/>
            <p:cNvSpPr/>
            <p:nvPr/>
          </p:nvSpPr>
          <p:spPr>
            <a:xfrm>
              <a:off x="6937200" y="1144440"/>
              <a:ext cx="147960" cy="71640"/>
            </a:xfrm>
            <a:custGeom>
              <a:avLst/>
              <a:gdLst/>
              <a:ahLst/>
              <a:rect l="0" t="0" r="r" b="b"/>
              <a:pathLst>
                <a:path w="411" h="199">
                  <a:moveTo>
                    <a:pt x="0" y="99"/>
                  </a:moveTo>
                  <a:lnTo>
                    <a:pt x="411" y="0"/>
                  </a:lnTo>
                  <a:lnTo>
                    <a:pt x="411" y="99"/>
                  </a:lnTo>
                  <a:lnTo>
                    <a:pt x="411" y="1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7085160" y="1181160"/>
              <a:ext cx="406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7" name=""/>
          <p:cNvSpPr/>
          <p:nvPr/>
        </p:nvSpPr>
        <p:spPr>
          <a:xfrm>
            <a:off x="7920000" y="539640"/>
            <a:ext cx="0" cy="64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8226360" y="539640"/>
            <a:ext cx="0" cy="64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7920000" y="460440"/>
            <a:ext cx="160560" cy="92520"/>
          </a:xfrm>
          <a:custGeom>
            <a:avLst/>
            <a:gdLst/>
            <a:ahLst/>
            <a:rect l="0" t="0" r="r" b="b"/>
            <a:pathLst>
              <a:path fill="none" w="446" h="257">
                <a:moveTo>
                  <a:pt x="446" y="0"/>
                </a:moveTo>
                <a:lnTo>
                  <a:pt x="446" y="0"/>
                </a:lnTo>
                <a:cubicBezTo>
                  <a:pt x="368" y="0"/>
                  <a:pt x="291" y="12"/>
                  <a:pt x="223" y="34"/>
                </a:cubicBezTo>
                <a:cubicBezTo>
                  <a:pt x="155" y="57"/>
                  <a:pt x="99" y="89"/>
                  <a:pt x="60" y="129"/>
                </a:cubicBezTo>
                <a:cubicBezTo>
                  <a:pt x="21" y="168"/>
                  <a:pt x="0" y="212"/>
                  <a:pt x="0" y="25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8080200" y="460440"/>
            <a:ext cx="160560" cy="92520"/>
          </a:xfrm>
          <a:custGeom>
            <a:avLst/>
            <a:gdLst/>
            <a:ahLst/>
            <a:rect l="0" t="0" r="r" b="b"/>
            <a:pathLst>
              <a:path fill="none" w="446" h="257">
                <a:moveTo>
                  <a:pt x="446" y="257"/>
                </a:moveTo>
                <a:lnTo>
                  <a:pt x="446" y="257"/>
                </a:lnTo>
                <a:lnTo>
                  <a:pt x="446" y="257"/>
                </a:lnTo>
                <a:cubicBezTo>
                  <a:pt x="446" y="212"/>
                  <a:pt x="425" y="168"/>
                  <a:pt x="386" y="128"/>
                </a:cubicBezTo>
                <a:cubicBezTo>
                  <a:pt x="347" y="89"/>
                  <a:pt x="291" y="57"/>
                  <a:pt x="223" y="34"/>
                </a:cubicBezTo>
                <a:cubicBezTo>
                  <a:pt x="155" y="12"/>
                  <a:pt x="78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7920000" y="1175400"/>
            <a:ext cx="160560" cy="86760"/>
          </a:xfrm>
          <a:custGeom>
            <a:avLst/>
            <a:gdLst/>
            <a:ahLst/>
            <a:rect l="0" t="0" r="r" b="b"/>
            <a:pathLst>
              <a:path fill="none" w="446" h="241">
                <a:moveTo>
                  <a:pt x="0" y="0"/>
                </a:moveTo>
                <a:lnTo>
                  <a:pt x="0" y="0"/>
                </a:lnTo>
                <a:cubicBezTo>
                  <a:pt x="0" y="42"/>
                  <a:pt x="21" y="84"/>
                  <a:pt x="60" y="121"/>
                </a:cubicBezTo>
                <a:cubicBezTo>
                  <a:pt x="99" y="157"/>
                  <a:pt x="155" y="188"/>
                  <a:pt x="223" y="209"/>
                </a:cubicBezTo>
                <a:cubicBezTo>
                  <a:pt x="291" y="230"/>
                  <a:pt x="368" y="241"/>
                  <a:pt x="446" y="24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8080200" y="1175400"/>
            <a:ext cx="160560" cy="86760"/>
          </a:xfrm>
          <a:custGeom>
            <a:avLst/>
            <a:gdLst/>
            <a:ahLst/>
            <a:rect l="0" t="0" r="r" b="b"/>
            <a:pathLst>
              <a:path fill="none" w="446" h="241">
                <a:moveTo>
                  <a:pt x="0" y="241"/>
                </a:moveTo>
                <a:lnTo>
                  <a:pt x="0" y="241"/>
                </a:lnTo>
                <a:cubicBezTo>
                  <a:pt x="78" y="241"/>
                  <a:pt x="155" y="230"/>
                  <a:pt x="223" y="209"/>
                </a:cubicBezTo>
                <a:cubicBezTo>
                  <a:pt x="291" y="188"/>
                  <a:pt x="347" y="157"/>
                  <a:pt x="386" y="120"/>
                </a:cubicBezTo>
                <a:cubicBezTo>
                  <a:pt x="425" y="84"/>
                  <a:pt x="446" y="42"/>
                  <a:pt x="446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7920000" y="518400"/>
            <a:ext cx="160560" cy="93240"/>
          </a:xfrm>
          <a:custGeom>
            <a:avLst/>
            <a:gdLst/>
            <a:ahLst/>
            <a:rect l="0" t="0" r="r" b="b"/>
            <a:pathLst>
              <a:path fill="none" w="446" h="259">
                <a:moveTo>
                  <a:pt x="0" y="0"/>
                </a:moveTo>
                <a:lnTo>
                  <a:pt x="0" y="0"/>
                </a:lnTo>
                <a:cubicBezTo>
                  <a:pt x="0" y="45"/>
                  <a:pt x="21" y="90"/>
                  <a:pt x="60" y="130"/>
                </a:cubicBezTo>
                <a:cubicBezTo>
                  <a:pt x="99" y="169"/>
                  <a:pt x="155" y="202"/>
                  <a:pt x="223" y="224"/>
                </a:cubicBezTo>
                <a:cubicBezTo>
                  <a:pt x="291" y="247"/>
                  <a:pt x="368" y="259"/>
                  <a:pt x="446" y="2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8080200" y="518400"/>
            <a:ext cx="160560" cy="93240"/>
          </a:xfrm>
          <a:custGeom>
            <a:avLst/>
            <a:gdLst/>
            <a:ahLst/>
            <a:rect l="0" t="0" r="r" b="b"/>
            <a:pathLst>
              <a:path fill="none" w="446" h="259">
                <a:moveTo>
                  <a:pt x="0" y="259"/>
                </a:moveTo>
                <a:lnTo>
                  <a:pt x="0" y="259"/>
                </a:lnTo>
                <a:cubicBezTo>
                  <a:pt x="78" y="259"/>
                  <a:pt x="155" y="247"/>
                  <a:pt x="223" y="224"/>
                </a:cubicBezTo>
                <a:cubicBezTo>
                  <a:pt x="291" y="202"/>
                  <a:pt x="347" y="169"/>
                  <a:pt x="386" y="129"/>
                </a:cubicBezTo>
                <a:cubicBezTo>
                  <a:pt x="425" y="90"/>
                  <a:pt x="446" y="45"/>
                  <a:pt x="446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 flipH="1">
            <a:off x="7920000" y="1170000"/>
            <a:ext cx="1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 txBox="1"/>
          <p:nvPr/>
        </p:nvSpPr>
        <p:spPr>
          <a:xfrm>
            <a:off x="7915320" y="736560"/>
            <a:ext cx="247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 txBox="1"/>
          <p:nvPr/>
        </p:nvSpPr>
        <p:spPr>
          <a:xfrm>
            <a:off x="8418600" y="736560"/>
            <a:ext cx="247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8" name=""/>
          <p:cNvGrpSpPr/>
          <p:nvPr/>
        </p:nvGrpSpPr>
        <p:grpSpPr>
          <a:xfrm>
            <a:off x="7491240" y="1144440"/>
            <a:ext cx="417960" cy="71640"/>
            <a:chOff x="7491240" y="1144440"/>
            <a:chExt cx="417960" cy="71640"/>
          </a:xfrm>
        </p:grpSpPr>
        <p:sp>
          <p:nvSpPr>
            <p:cNvPr id="3669" name=""/>
            <p:cNvSpPr/>
            <p:nvPr/>
          </p:nvSpPr>
          <p:spPr>
            <a:xfrm>
              <a:off x="7761240" y="1144440"/>
              <a:ext cx="147960" cy="71640"/>
            </a:xfrm>
            <a:custGeom>
              <a:avLst/>
              <a:gdLst/>
              <a:ahLst/>
              <a:rect l="0" t="0" r="r" b="b"/>
              <a:pathLst>
                <a:path w="411" h="199">
                  <a:moveTo>
                    <a:pt x="411" y="99"/>
                  </a:moveTo>
                  <a:lnTo>
                    <a:pt x="0" y="1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411" y="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7491240" y="1181160"/>
              <a:ext cx="270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1" name=""/>
          <p:cNvSpPr/>
          <p:nvPr/>
        </p:nvSpPr>
        <p:spPr>
          <a:xfrm>
            <a:off x="7196040" y="65736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 flipH="1">
            <a:off x="7234200" y="669960"/>
            <a:ext cx="11160" cy="20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7281720" y="70344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 flipH="1">
            <a:off x="7319880" y="703440"/>
            <a:ext cx="11160" cy="1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7234200" y="679320"/>
            <a:ext cx="3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 flipH="1">
            <a:off x="7270920" y="679320"/>
            <a:ext cx="10800" cy="19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7319880" y="727200"/>
            <a:ext cx="73080" cy="2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8" name=""/>
          <p:cNvGrpSpPr/>
          <p:nvPr/>
        </p:nvGrpSpPr>
        <p:grpSpPr>
          <a:xfrm>
            <a:off x="7099200" y="598320"/>
            <a:ext cx="135360" cy="105120"/>
            <a:chOff x="7099200" y="598320"/>
            <a:chExt cx="135360" cy="105120"/>
          </a:xfrm>
        </p:grpSpPr>
        <p:sp>
          <p:nvSpPr>
            <p:cNvPr id="3679" name=""/>
            <p:cNvSpPr/>
            <p:nvPr/>
          </p:nvSpPr>
          <p:spPr>
            <a:xfrm>
              <a:off x="7099200" y="598320"/>
              <a:ext cx="135360" cy="105120"/>
            </a:xfrm>
            <a:custGeom>
              <a:avLst/>
              <a:gdLst/>
              <a:ahLst/>
              <a:rect l="0" t="0" r="r" b="b"/>
              <a:pathLst>
                <a:path w="376" h="292">
                  <a:moveTo>
                    <a:pt x="0" y="0"/>
                  </a:moveTo>
                  <a:lnTo>
                    <a:pt x="376" y="163"/>
                  </a:lnTo>
                  <a:lnTo>
                    <a:pt x="339" y="228"/>
                  </a:lnTo>
                  <a:lnTo>
                    <a:pt x="271" y="2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 flipH="1" flipV="1">
              <a:off x="7184880" y="671400"/>
              <a:ext cx="302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1" name=""/>
          <p:cNvSpPr/>
          <p:nvPr/>
        </p:nvSpPr>
        <p:spPr>
          <a:xfrm flipH="1">
            <a:off x="6238800" y="27925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7293960" y="2436840"/>
            <a:ext cx="147240" cy="181440"/>
          </a:xfrm>
          <a:custGeom>
            <a:avLst/>
            <a:gdLst/>
            <a:ahLst/>
            <a:rect l="0" t="0" r="r" b="b"/>
            <a:pathLst>
              <a:path fill="none" w="409" h="504">
                <a:moveTo>
                  <a:pt x="409" y="504"/>
                </a:moveTo>
                <a:lnTo>
                  <a:pt x="409" y="504"/>
                </a:lnTo>
                <a:lnTo>
                  <a:pt x="409" y="504"/>
                </a:lnTo>
                <a:cubicBezTo>
                  <a:pt x="409" y="416"/>
                  <a:pt x="390" y="329"/>
                  <a:pt x="354" y="252"/>
                </a:cubicBezTo>
                <a:cubicBezTo>
                  <a:pt x="318" y="175"/>
                  <a:pt x="267" y="112"/>
                  <a:pt x="204" y="68"/>
                </a:cubicBezTo>
                <a:cubicBezTo>
                  <a:pt x="142" y="23"/>
                  <a:pt x="72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7293960" y="2617920"/>
            <a:ext cx="147240" cy="181440"/>
          </a:xfrm>
          <a:custGeom>
            <a:avLst/>
            <a:gdLst/>
            <a:ahLst/>
            <a:rect l="0" t="0" r="r" b="b"/>
            <a:pathLst>
              <a:path fill="none" w="409" h="504">
                <a:moveTo>
                  <a:pt x="0" y="504"/>
                </a:moveTo>
                <a:lnTo>
                  <a:pt x="0" y="504"/>
                </a:lnTo>
                <a:cubicBezTo>
                  <a:pt x="72" y="504"/>
                  <a:pt x="142" y="481"/>
                  <a:pt x="205" y="436"/>
                </a:cubicBezTo>
                <a:cubicBezTo>
                  <a:pt x="267" y="392"/>
                  <a:pt x="318" y="329"/>
                  <a:pt x="354" y="252"/>
                </a:cubicBezTo>
                <a:cubicBezTo>
                  <a:pt x="390" y="175"/>
                  <a:pt x="409" y="88"/>
                  <a:pt x="4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6127920" y="2436840"/>
            <a:ext cx="147960" cy="181440"/>
          </a:xfrm>
          <a:custGeom>
            <a:avLst/>
            <a:gdLst/>
            <a:ahLst/>
            <a:rect l="0" t="0" r="r" b="b"/>
            <a:pathLst>
              <a:path fill="none" w="411" h="504">
                <a:moveTo>
                  <a:pt x="411" y="0"/>
                </a:moveTo>
                <a:lnTo>
                  <a:pt x="411" y="0"/>
                </a:lnTo>
                <a:cubicBezTo>
                  <a:pt x="339" y="0"/>
                  <a:pt x="268" y="23"/>
                  <a:pt x="205" y="68"/>
                </a:cubicBezTo>
                <a:cubicBezTo>
                  <a:pt x="143" y="112"/>
                  <a:pt x="91" y="175"/>
                  <a:pt x="55" y="252"/>
                </a:cubicBezTo>
                <a:cubicBezTo>
                  <a:pt x="19" y="329"/>
                  <a:pt x="0" y="416"/>
                  <a:pt x="0" y="50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6127920" y="2617920"/>
            <a:ext cx="147960" cy="181440"/>
          </a:xfrm>
          <a:custGeom>
            <a:avLst/>
            <a:gdLst/>
            <a:ahLst/>
            <a:rect l="0" t="0" r="r" b="b"/>
            <a:pathLst>
              <a:path fill="none" w="411" h="504">
                <a:moveTo>
                  <a:pt x="0" y="0"/>
                </a:moveTo>
                <a:lnTo>
                  <a:pt x="0" y="0"/>
                </a:lnTo>
                <a:cubicBezTo>
                  <a:pt x="0" y="88"/>
                  <a:pt x="19" y="175"/>
                  <a:pt x="55" y="252"/>
                </a:cubicBezTo>
                <a:cubicBezTo>
                  <a:pt x="91" y="329"/>
                  <a:pt x="143" y="392"/>
                  <a:pt x="206" y="436"/>
                </a:cubicBezTo>
                <a:cubicBezTo>
                  <a:pt x="268" y="481"/>
                  <a:pt x="339" y="504"/>
                  <a:pt x="411" y="50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>
            <a:off x="6275520" y="2436840"/>
            <a:ext cx="1019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6140520" y="2519280"/>
            <a:ext cx="1227600" cy="70200"/>
          </a:xfrm>
          <a:custGeom>
            <a:avLst/>
            <a:gdLst/>
            <a:ahLst/>
            <a:rect l="0" t="0" r="r" b="b"/>
            <a:pathLst>
              <a:path fill="none" w="3410" h="195">
                <a:moveTo>
                  <a:pt x="0" y="98"/>
                </a:moveTo>
                <a:lnTo>
                  <a:pt x="134" y="62"/>
                </a:lnTo>
                <a:lnTo>
                  <a:pt x="269" y="34"/>
                </a:lnTo>
                <a:lnTo>
                  <a:pt x="441" y="0"/>
                </a:lnTo>
                <a:lnTo>
                  <a:pt x="613" y="62"/>
                </a:lnTo>
                <a:lnTo>
                  <a:pt x="815" y="98"/>
                </a:lnTo>
                <a:lnTo>
                  <a:pt x="920" y="126"/>
                </a:lnTo>
                <a:lnTo>
                  <a:pt x="1055" y="98"/>
                </a:lnTo>
                <a:lnTo>
                  <a:pt x="1227" y="98"/>
                </a:lnTo>
                <a:lnTo>
                  <a:pt x="1398" y="62"/>
                </a:lnTo>
                <a:lnTo>
                  <a:pt x="1570" y="62"/>
                </a:lnTo>
                <a:lnTo>
                  <a:pt x="1772" y="98"/>
                </a:lnTo>
                <a:lnTo>
                  <a:pt x="1907" y="98"/>
                </a:lnTo>
                <a:lnTo>
                  <a:pt x="1975" y="160"/>
                </a:lnTo>
                <a:lnTo>
                  <a:pt x="2116" y="195"/>
                </a:lnTo>
                <a:lnTo>
                  <a:pt x="2250" y="160"/>
                </a:lnTo>
                <a:lnTo>
                  <a:pt x="2453" y="126"/>
                </a:lnTo>
                <a:lnTo>
                  <a:pt x="2595" y="98"/>
                </a:lnTo>
                <a:lnTo>
                  <a:pt x="2797" y="98"/>
                </a:lnTo>
                <a:lnTo>
                  <a:pt x="2901" y="62"/>
                </a:lnTo>
                <a:lnTo>
                  <a:pt x="3104" y="62"/>
                </a:lnTo>
                <a:lnTo>
                  <a:pt x="3306" y="98"/>
                </a:lnTo>
                <a:lnTo>
                  <a:pt x="3343" y="160"/>
                </a:lnTo>
                <a:lnTo>
                  <a:pt x="3410" y="195"/>
                </a:lnTo>
                <a:lnTo>
                  <a:pt x="3373" y="19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6827760" y="2751120"/>
            <a:ext cx="50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6878520" y="2751120"/>
            <a:ext cx="0" cy="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6913440" y="2786040"/>
            <a:ext cx="50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6964200" y="2786040"/>
            <a:ext cx="0" cy="2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6864480" y="2773440"/>
            <a:ext cx="4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6913440" y="2773440"/>
            <a:ext cx="0" cy="1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6964200" y="2809800"/>
            <a:ext cx="59040" cy="2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5" name=""/>
          <p:cNvGrpSpPr/>
          <p:nvPr/>
        </p:nvGrpSpPr>
        <p:grpSpPr>
          <a:xfrm>
            <a:off x="6730920" y="2693880"/>
            <a:ext cx="147960" cy="105120"/>
            <a:chOff x="6730920" y="2693880"/>
            <a:chExt cx="147960" cy="105120"/>
          </a:xfrm>
        </p:grpSpPr>
        <p:sp>
          <p:nvSpPr>
            <p:cNvPr id="3696" name=""/>
            <p:cNvSpPr/>
            <p:nvPr/>
          </p:nvSpPr>
          <p:spPr>
            <a:xfrm>
              <a:off x="6730920" y="2693880"/>
              <a:ext cx="147960" cy="105120"/>
            </a:xfrm>
            <a:custGeom>
              <a:avLst/>
              <a:gdLst/>
              <a:ahLst/>
              <a:rect l="0" t="0" r="r" b="b"/>
              <a:pathLst>
                <a:path w="411" h="292">
                  <a:moveTo>
                    <a:pt x="0" y="0"/>
                  </a:moveTo>
                  <a:lnTo>
                    <a:pt x="411" y="128"/>
                  </a:lnTo>
                  <a:lnTo>
                    <a:pt x="337" y="193"/>
                  </a:lnTo>
                  <a:lnTo>
                    <a:pt x="270" y="2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 flipH="1" flipV="1">
              <a:off x="6827760" y="2752560"/>
              <a:ext cx="2376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8" name=""/>
          <p:cNvSpPr/>
          <p:nvPr/>
        </p:nvSpPr>
        <p:spPr>
          <a:xfrm>
            <a:off x="6620040" y="2216160"/>
            <a:ext cx="172800" cy="152640"/>
          </a:xfrm>
          <a:custGeom>
            <a:avLst/>
            <a:gdLst/>
            <a:ahLst/>
            <a:rect l="0" t="0" r="r" b="b"/>
            <a:pathLst>
              <a:path fill="none" w="480" h="424">
                <a:moveTo>
                  <a:pt x="0" y="0"/>
                </a:moveTo>
                <a:lnTo>
                  <a:pt x="0" y="0"/>
                </a:lnTo>
                <a:cubicBezTo>
                  <a:pt x="0" y="74"/>
                  <a:pt x="22" y="148"/>
                  <a:pt x="64" y="212"/>
                </a:cubicBezTo>
                <a:cubicBezTo>
                  <a:pt x="106" y="276"/>
                  <a:pt x="167" y="330"/>
                  <a:pt x="240" y="367"/>
                </a:cubicBezTo>
                <a:cubicBezTo>
                  <a:pt x="313" y="404"/>
                  <a:pt x="396" y="424"/>
                  <a:pt x="480" y="42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6792120" y="2216160"/>
            <a:ext cx="172800" cy="152640"/>
          </a:xfrm>
          <a:custGeom>
            <a:avLst/>
            <a:gdLst/>
            <a:ahLst/>
            <a:rect l="0" t="0" r="r" b="b"/>
            <a:pathLst>
              <a:path fill="none" w="480" h="424">
                <a:moveTo>
                  <a:pt x="0" y="424"/>
                </a:moveTo>
                <a:lnTo>
                  <a:pt x="0" y="424"/>
                </a:lnTo>
                <a:cubicBezTo>
                  <a:pt x="84" y="424"/>
                  <a:pt x="167" y="404"/>
                  <a:pt x="240" y="367"/>
                </a:cubicBezTo>
                <a:cubicBezTo>
                  <a:pt x="313" y="330"/>
                  <a:pt x="374" y="276"/>
                  <a:pt x="416" y="212"/>
                </a:cubicBezTo>
                <a:cubicBezTo>
                  <a:pt x="458" y="148"/>
                  <a:pt x="480" y="74"/>
                  <a:pt x="48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6630840" y="2205000"/>
            <a:ext cx="320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6778800" y="235584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2" name=""/>
          <p:cNvGrpSpPr/>
          <p:nvPr/>
        </p:nvGrpSpPr>
        <p:grpSpPr>
          <a:xfrm>
            <a:off x="7143840" y="2693880"/>
            <a:ext cx="433800" cy="105120"/>
            <a:chOff x="7143840" y="2693880"/>
            <a:chExt cx="433800" cy="105120"/>
          </a:xfrm>
        </p:grpSpPr>
        <p:sp>
          <p:nvSpPr>
            <p:cNvPr id="3703" name=""/>
            <p:cNvSpPr/>
            <p:nvPr/>
          </p:nvSpPr>
          <p:spPr>
            <a:xfrm>
              <a:off x="7429680" y="2727360"/>
              <a:ext cx="147960" cy="71640"/>
            </a:xfrm>
            <a:custGeom>
              <a:avLst/>
              <a:gdLst/>
              <a:ahLst/>
              <a:rect l="0" t="0" r="r" b="b"/>
              <a:pathLst>
                <a:path w="411" h="199">
                  <a:moveTo>
                    <a:pt x="411" y="199"/>
                  </a:moveTo>
                  <a:lnTo>
                    <a:pt x="0" y="199"/>
                  </a:lnTo>
                  <a:lnTo>
                    <a:pt x="30" y="99"/>
                  </a:lnTo>
                  <a:lnTo>
                    <a:pt x="30" y="0"/>
                  </a:lnTo>
                  <a:lnTo>
                    <a:pt x="411" y="1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143840" y="2693880"/>
              <a:ext cx="296640" cy="6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5" name=""/>
          <p:cNvSpPr/>
          <p:nvPr/>
        </p:nvSpPr>
        <p:spPr>
          <a:xfrm>
            <a:off x="7526160" y="1762200"/>
            <a:ext cx="0" cy="641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7850160" y="1762200"/>
            <a:ext cx="0" cy="641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7" name=""/>
          <p:cNvGrpSpPr/>
          <p:nvPr/>
        </p:nvGrpSpPr>
        <p:grpSpPr>
          <a:xfrm>
            <a:off x="7526160" y="1681200"/>
            <a:ext cx="321120" cy="93240"/>
            <a:chOff x="7526160" y="1681200"/>
            <a:chExt cx="321120" cy="93240"/>
          </a:xfrm>
        </p:grpSpPr>
        <p:sp>
          <p:nvSpPr>
            <p:cNvPr id="3708" name=""/>
            <p:cNvSpPr/>
            <p:nvPr/>
          </p:nvSpPr>
          <p:spPr>
            <a:xfrm>
              <a:off x="7526160" y="1681200"/>
              <a:ext cx="160560" cy="93240"/>
            </a:xfrm>
            <a:custGeom>
              <a:avLst/>
              <a:gdLst/>
              <a:ahLst/>
              <a:rect l="0" t="0" r="r" b="b"/>
              <a:pathLst>
                <a:path fill="none" w="446" h="259">
                  <a:moveTo>
                    <a:pt x="446" y="0"/>
                  </a:moveTo>
                  <a:lnTo>
                    <a:pt x="446" y="0"/>
                  </a:lnTo>
                  <a:cubicBezTo>
                    <a:pt x="368" y="0"/>
                    <a:pt x="291" y="12"/>
                    <a:pt x="223" y="35"/>
                  </a:cubicBezTo>
                  <a:cubicBezTo>
                    <a:pt x="155" y="57"/>
                    <a:pt x="99" y="90"/>
                    <a:pt x="60" y="130"/>
                  </a:cubicBezTo>
                  <a:cubicBezTo>
                    <a:pt x="21" y="169"/>
                    <a:pt x="0" y="214"/>
                    <a:pt x="0" y="25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7686720" y="1681200"/>
              <a:ext cx="160560" cy="93240"/>
            </a:xfrm>
            <a:custGeom>
              <a:avLst/>
              <a:gdLst/>
              <a:ahLst/>
              <a:rect l="0" t="0" r="r" b="b"/>
              <a:pathLst>
                <a:path fill="none" w="446" h="259">
                  <a:moveTo>
                    <a:pt x="446" y="259"/>
                  </a:moveTo>
                  <a:lnTo>
                    <a:pt x="446" y="259"/>
                  </a:lnTo>
                  <a:lnTo>
                    <a:pt x="446" y="259"/>
                  </a:lnTo>
                  <a:cubicBezTo>
                    <a:pt x="446" y="214"/>
                    <a:pt x="425" y="169"/>
                    <a:pt x="386" y="129"/>
                  </a:cubicBezTo>
                  <a:cubicBezTo>
                    <a:pt x="347" y="90"/>
                    <a:pt x="291" y="57"/>
                    <a:pt x="223" y="35"/>
                  </a:cubicBezTo>
                  <a:cubicBezTo>
                    <a:pt x="155" y="12"/>
                    <a:pt x="78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0" name=""/>
          <p:cNvSpPr/>
          <p:nvPr/>
        </p:nvSpPr>
        <p:spPr>
          <a:xfrm>
            <a:off x="7526160" y="2397240"/>
            <a:ext cx="160560" cy="87840"/>
          </a:xfrm>
          <a:custGeom>
            <a:avLst/>
            <a:gdLst/>
            <a:ahLst/>
            <a:rect l="0" t="0" r="r" b="b"/>
            <a:pathLst>
              <a:path fill="none" w="446" h="244">
                <a:moveTo>
                  <a:pt x="0" y="0"/>
                </a:moveTo>
                <a:lnTo>
                  <a:pt x="0" y="0"/>
                </a:lnTo>
                <a:cubicBezTo>
                  <a:pt x="0" y="43"/>
                  <a:pt x="21" y="85"/>
                  <a:pt x="60" y="122"/>
                </a:cubicBezTo>
                <a:cubicBezTo>
                  <a:pt x="99" y="159"/>
                  <a:pt x="155" y="190"/>
                  <a:pt x="223" y="211"/>
                </a:cubicBezTo>
                <a:cubicBezTo>
                  <a:pt x="291" y="233"/>
                  <a:pt x="368" y="244"/>
                  <a:pt x="446" y="24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>
            <a:off x="7686720" y="2397240"/>
            <a:ext cx="160560" cy="87840"/>
          </a:xfrm>
          <a:custGeom>
            <a:avLst/>
            <a:gdLst/>
            <a:ahLst/>
            <a:rect l="0" t="0" r="r" b="b"/>
            <a:pathLst>
              <a:path fill="none" w="446" h="244">
                <a:moveTo>
                  <a:pt x="0" y="244"/>
                </a:moveTo>
                <a:lnTo>
                  <a:pt x="0" y="244"/>
                </a:lnTo>
                <a:cubicBezTo>
                  <a:pt x="78" y="244"/>
                  <a:pt x="155" y="233"/>
                  <a:pt x="223" y="211"/>
                </a:cubicBezTo>
                <a:cubicBezTo>
                  <a:pt x="291" y="190"/>
                  <a:pt x="347" y="159"/>
                  <a:pt x="386" y="122"/>
                </a:cubicBezTo>
                <a:cubicBezTo>
                  <a:pt x="425" y="85"/>
                  <a:pt x="446" y="43"/>
                  <a:pt x="446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2" name=""/>
          <p:cNvGrpSpPr/>
          <p:nvPr/>
        </p:nvGrpSpPr>
        <p:grpSpPr>
          <a:xfrm>
            <a:off x="7526160" y="1739160"/>
            <a:ext cx="321120" cy="93240"/>
            <a:chOff x="7526160" y="1739160"/>
            <a:chExt cx="321120" cy="93240"/>
          </a:xfrm>
        </p:grpSpPr>
        <p:sp>
          <p:nvSpPr>
            <p:cNvPr id="3713" name=""/>
            <p:cNvSpPr/>
            <p:nvPr/>
          </p:nvSpPr>
          <p:spPr>
            <a:xfrm>
              <a:off x="7526160" y="1739160"/>
              <a:ext cx="160560" cy="93240"/>
            </a:xfrm>
            <a:custGeom>
              <a:avLst/>
              <a:gdLst/>
              <a:ahLst/>
              <a:rect l="0" t="0" r="r" b="b"/>
              <a:pathLst>
                <a:path fill="none" w="446" h="259">
                  <a:moveTo>
                    <a:pt x="0" y="0"/>
                  </a:moveTo>
                  <a:lnTo>
                    <a:pt x="0" y="0"/>
                  </a:lnTo>
                  <a:cubicBezTo>
                    <a:pt x="0" y="45"/>
                    <a:pt x="21" y="90"/>
                    <a:pt x="60" y="130"/>
                  </a:cubicBezTo>
                  <a:cubicBezTo>
                    <a:pt x="99" y="169"/>
                    <a:pt x="155" y="202"/>
                    <a:pt x="223" y="224"/>
                  </a:cubicBezTo>
                  <a:cubicBezTo>
                    <a:pt x="291" y="247"/>
                    <a:pt x="368" y="259"/>
                    <a:pt x="446" y="25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686720" y="1739160"/>
              <a:ext cx="160560" cy="93240"/>
            </a:xfrm>
            <a:custGeom>
              <a:avLst/>
              <a:gdLst/>
              <a:ahLst/>
              <a:rect l="0" t="0" r="r" b="b"/>
              <a:pathLst>
                <a:path fill="none" w="446" h="259">
                  <a:moveTo>
                    <a:pt x="0" y="259"/>
                  </a:moveTo>
                  <a:lnTo>
                    <a:pt x="0" y="259"/>
                  </a:lnTo>
                  <a:cubicBezTo>
                    <a:pt x="78" y="259"/>
                    <a:pt x="155" y="247"/>
                    <a:pt x="223" y="224"/>
                  </a:cubicBezTo>
                  <a:cubicBezTo>
                    <a:pt x="291" y="202"/>
                    <a:pt x="347" y="169"/>
                    <a:pt x="386" y="129"/>
                  </a:cubicBezTo>
                  <a:cubicBezTo>
                    <a:pt x="425" y="90"/>
                    <a:pt x="446" y="45"/>
                    <a:pt x="446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5" name=""/>
          <p:cNvSpPr/>
          <p:nvPr/>
        </p:nvSpPr>
        <p:spPr>
          <a:xfrm flipH="1">
            <a:off x="7540560" y="2390760"/>
            <a:ext cx="11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 txBox="1"/>
          <p:nvPr/>
        </p:nvSpPr>
        <p:spPr>
          <a:xfrm>
            <a:off x="7523280" y="1946160"/>
            <a:ext cx="247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8091360" y="1249200"/>
            <a:ext cx="0" cy="1374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8" name=""/>
          <p:cNvGrpSpPr/>
          <p:nvPr/>
        </p:nvGrpSpPr>
        <p:grpSpPr>
          <a:xfrm>
            <a:off x="7429680" y="2589120"/>
            <a:ext cx="650520" cy="70200"/>
            <a:chOff x="7429680" y="2589120"/>
            <a:chExt cx="650520" cy="70200"/>
          </a:xfrm>
        </p:grpSpPr>
        <p:sp>
          <p:nvSpPr>
            <p:cNvPr id="3719" name=""/>
            <p:cNvSpPr/>
            <p:nvPr/>
          </p:nvSpPr>
          <p:spPr>
            <a:xfrm>
              <a:off x="7429680" y="2589120"/>
              <a:ext cx="135360" cy="70200"/>
            </a:xfrm>
            <a:custGeom>
              <a:avLst/>
              <a:gdLst/>
              <a:ahLst/>
              <a:rect l="0" t="0" r="r" b="b"/>
              <a:pathLst>
                <a:path w="376" h="195">
                  <a:moveTo>
                    <a:pt x="0" y="94"/>
                  </a:moveTo>
                  <a:lnTo>
                    <a:pt x="376" y="0"/>
                  </a:lnTo>
                  <a:lnTo>
                    <a:pt x="376" y="94"/>
                  </a:lnTo>
                  <a:lnTo>
                    <a:pt x="376" y="195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7564320" y="2624040"/>
              <a:ext cx="515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1" name=""/>
          <p:cNvSpPr txBox="1"/>
          <p:nvPr/>
        </p:nvSpPr>
        <p:spPr>
          <a:xfrm>
            <a:off x="587520" y="2954160"/>
            <a:ext cx="297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 txBox="1"/>
          <p:nvPr/>
        </p:nvSpPr>
        <p:spPr>
          <a:xfrm>
            <a:off x="2882880" y="2987640"/>
            <a:ext cx="303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 txBox="1"/>
          <p:nvPr/>
        </p:nvSpPr>
        <p:spPr>
          <a:xfrm>
            <a:off x="6750000" y="2871720"/>
            <a:ext cx="297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 txBox="1"/>
          <p:nvPr/>
        </p:nvSpPr>
        <p:spPr>
          <a:xfrm>
            <a:off x="4319640" y="6118200"/>
            <a:ext cx="297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 txBox="1"/>
          <p:nvPr/>
        </p:nvSpPr>
        <p:spPr>
          <a:xfrm>
            <a:off x="1434960" y="6002280"/>
            <a:ext cx="303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>
            <a:off x="4913280" y="4462560"/>
            <a:ext cx="0" cy="25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4348080" y="4775040"/>
            <a:ext cx="0" cy="8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4630680" y="4775040"/>
            <a:ext cx="0" cy="8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4348080" y="4660920"/>
            <a:ext cx="147240" cy="116280"/>
          </a:xfrm>
          <a:custGeom>
            <a:avLst/>
            <a:gdLst/>
            <a:ahLst/>
            <a:rect l="0" t="0" r="r" b="b"/>
            <a:pathLst>
              <a:path fill="none" w="409" h="323">
                <a:moveTo>
                  <a:pt x="409" y="0"/>
                </a:moveTo>
                <a:lnTo>
                  <a:pt x="409" y="0"/>
                </a:lnTo>
                <a:cubicBezTo>
                  <a:pt x="337" y="0"/>
                  <a:pt x="267" y="15"/>
                  <a:pt x="204" y="43"/>
                </a:cubicBezTo>
                <a:cubicBezTo>
                  <a:pt x="142" y="72"/>
                  <a:pt x="91" y="112"/>
                  <a:pt x="55" y="162"/>
                </a:cubicBezTo>
                <a:cubicBezTo>
                  <a:pt x="19" y="211"/>
                  <a:pt x="0" y="266"/>
                  <a:pt x="0" y="323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4494960" y="4660920"/>
            <a:ext cx="147240" cy="116280"/>
          </a:xfrm>
          <a:custGeom>
            <a:avLst/>
            <a:gdLst/>
            <a:ahLst/>
            <a:rect l="0" t="0" r="r" b="b"/>
            <a:pathLst>
              <a:path fill="none" w="409" h="323">
                <a:moveTo>
                  <a:pt x="409" y="323"/>
                </a:moveTo>
                <a:lnTo>
                  <a:pt x="409" y="323"/>
                </a:lnTo>
                <a:lnTo>
                  <a:pt x="409" y="323"/>
                </a:lnTo>
                <a:cubicBezTo>
                  <a:pt x="409" y="266"/>
                  <a:pt x="390" y="211"/>
                  <a:pt x="354" y="161"/>
                </a:cubicBezTo>
                <a:cubicBezTo>
                  <a:pt x="318" y="112"/>
                  <a:pt x="267" y="72"/>
                  <a:pt x="204" y="43"/>
                </a:cubicBezTo>
                <a:cubicBezTo>
                  <a:pt x="142" y="15"/>
                  <a:pt x="72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4348080" y="4775040"/>
            <a:ext cx="270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4362480" y="4938840"/>
            <a:ext cx="268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>
            <a:off x="4348080" y="510228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4348080" y="5591160"/>
            <a:ext cx="147240" cy="116280"/>
          </a:xfrm>
          <a:custGeom>
            <a:avLst/>
            <a:gdLst/>
            <a:ahLst/>
            <a:rect l="0" t="0" r="r" b="b"/>
            <a:pathLst>
              <a:path fill="none" w="409" h="323">
                <a:moveTo>
                  <a:pt x="0" y="0"/>
                </a:moveTo>
                <a:lnTo>
                  <a:pt x="0" y="0"/>
                </a:lnTo>
                <a:cubicBezTo>
                  <a:pt x="0" y="57"/>
                  <a:pt x="19" y="112"/>
                  <a:pt x="55" y="162"/>
                </a:cubicBezTo>
                <a:cubicBezTo>
                  <a:pt x="91" y="211"/>
                  <a:pt x="142" y="251"/>
                  <a:pt x="205" y="280"/>
                </a:cubicBezTo>
                <a:cubicBezTo>
                  <a:pt x="267" y="308"/>
                  <a:pt x="337" y="323"/>
                  <a:pt x="409" y="323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>
            <a:off x="4494960" y="5591160"/>
            <a:ext cx="147240" cy="116280"/>
          </a:xfrm>
          <a:custGeom>
            <a:avLst/>
            <a:gdLst/>
            <a:ahLst/>
            <a:rect l="0" t="0" r="r" b="b"/>
            <a:pathLst>
              <a:path fill="none" w="409" h="323">
                <a:moveTo>
                  <a:pt x="0" y="323"/>
                </a:moveTo>
                <a:lnTo>
                  <a:pt x="0" y="323"/>
                </a:lnTo>
                <a:cubicBezTo>
                  <a:pt x="72" y="323"/>
                  <a:pt x="142" y="308"/>
                  <a:pt x="205" y="280"/>
                </a:cubicBezTo>
                <a:cubicBezTo>
                  <a:pt x="267" y="251"/>
                  <a:pt x="318" y="211"/>
                  <a:pt x="354" y="161"/>
                </a:cubicBezTo>
                <a:cubicBezTo>
                  <a:pt x="390" y="112"/>
                  <a:pt x="409" y="57"/>
                  <a:pt x="4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4362480" y="5567400"/>
            <a:ext cx="268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4362480" y="5265720"/>
            <a:ext cx="268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8" name=""/>
          <p:cNvGrpSpPr/>
          <p:nvPr/>
        </p:nvGrpSpPr>
        <p:grpSpPr>
          <a:xfrm>
            <a:off x="4459320" y="4451400"/>
            <a:ext cx="62280" cy="220680"/>
            <a:chOff x="4459320" y="4451400"/>
            <a:chExt cx="62280" cy="220680"/>
          </a:xfrm>
        </p:grpSpPr>
        <p:sp>
          <p:nvSpPr>
            <p:cNvPr id="3739" name=""/>
            <p:cNvSpPr/>
            <p:nvPr/>
          </p:nvSpPr>
          <p:spPr>
            <a:xfrm>
              <a:off x="4459320" y="4451400"/>
              <a:ext cx="62280" cy="127440"/>
            </a:xfrm>
            <a:custGeom>
              <a:avLst/>
              <a:gdLst/>
              <a:ahLst/>
              <a:rect l="0" t="0" r="r" b="b"/>
              <a:pathLst>
                <a:path w="173" h="354">
                  <a:moveTo>
                    <a:pt x="105" y="0"/>
                  </a:moveTo>
                  <a:lnTo>
                    <a:pt x="173" y="354"/>
                  </a:lnTo>
                  <a:lnTo>
                    <a:pt x="68" y="354"/>
                  </a:lnTo>
                  <a:lnTo>
                    <a:pt x="0" y="354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4483080" y="4578480"/>
              <a:ext cx="0" cy="93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1" name=""/>
          <p:cNvGrpSpPr/>
          <p:nvPr/>
        </p:nvGrpSpPr>
        <p:grpSpPr>
          <a:xfrm>
            <a:off x="4606920" y="4683240"/>
            <a:ext cx="306360" cy="70200"/>
            <a:chOff x="4606920" y="4683240"/>
            <a:chExt cx="306360" cy="70200"/>
          </a:xfrm>
        </p:grpSpPr>
        <p:sp>
          <p:nvSpPr>
            <p:cNvPr id="3742" name=""/>
            <p:cNvSpPr/>
            <p:nvPr/>
          </p:nvSpPr>
          <p:spPr>
            <a:xfrm>
              <a:off x="4606920" y="4683240"/>
              <a:ext cx="147960" cy="70200"/>
            </a:xfrm>
            <a:custGeom>
              <a:avLst/>
              <a:gdLst/>
              <a:ahLst/>
              <a:rect l="0" t="0" r="r" b="b"/>
              <a:pathLst>
                <a:path w="411" h="195">
                  <a:moveTo>
                    <a:pt x="0" y="100"/>
                  </a:moveTo>
                  <a:lnTo>
                    <a:pt x="411" y="0"/>
                  </a:lnTo>
                  <a:lnTo>
                    <a:pt x="411" y="100"/>
                  </a:lnTo>
                  <a:lnTo>
                    <a:pt x="411" y="195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4754520" y="4719600"/>
              <a:ext cx="158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4" name=""/>
          <p:cNvSpPr/>
          <p:nvPr/>
        </p:nvSpPr>
        <p:spPr>
          <a:xfrm>
            <a:off x="4754520" y="3967200"/>
            <a:ext cx="135360" cy="111600"/>
          </a:xfrm>
          <a:custGeom>
            <a:avLst/>
            <a:gdLst/>
            <a:ahLst/>
            <a:rect l="0" t="0" r="r" b="b"/>
            <a:pathLst>
              <a:path fill="none" w="376" h="310">
                <a:moveTo>
                  <a:pt x="0" y="0"/>
                </a:moveTo>
                <a:lnTo>
                  <a:pt x="0" y="0"/>
                </a:lnTo>
                <a:cubicBezTo>
                  <a:pt x="0" y="54"/>
                  <a:pt x="17" y="108"/>
                  <a:pt x="50" y="155"/>
                </a:cubicBezTo>
                <a:cubicBezTo>
                  <a:pt x="83" y="202"/>
                  <a:pt x="131" y="241"/>
                  <a:pt x="188" y="268"/>
                </a:cubicBezTo>
                <a:cubicBezTo>
                  <a:pt x="245" y="296"/>
                  <a:pt x="310" y="310"/>
                  <a:pt x="376" y="31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4889520" y="3967200"/>
            <a:ext cx="135360" cy="111600"/>
          </a:xfrm>
          <a:custGeom>
            <a:avLst/>
            <a:gdLst/>
            <a:ahLst/>
            <a:rect l="0" t="0" r="r" b="b"/>
            <a:pathLst>
              <a:path fill="none" w="376" h="310">
                <a:moveTo>
                  <a:pt x="0" y="310"/>
                </a:moveTo>
                <a:lnTo>
                  <a:pt x="0" y="310"/>
                </a:lnTo>
                <a:cubicBezTo>
                  <a:pt x="66" y="310"/>
                  <a:pt x="131" y="296"/>
                  <a:pt x="188" y="268"/>
                </a:cubicBezTo>
                <a:cubicBezTo>
                  <a:pt x="245" y="241"/>
                  <a:pt x="293" y="202"/>
                  <a:pt x="326" y="155"/>
                </a:cubicBezTo>
                <a:cubicBezTo>
                  <a:pt x="359" y="108"/>
                  <a:pt x="376" y="54"/>
                  <a:pt x="376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4754520" y="3951360"/>
            <a:ext cx="24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>
            <a:off x="4876920" y="2878200"/>
            <a:ext cx="0" cy="18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8" name=""/>
          <p:cNvGrpSpPr/>
          <p:nvPr/>
        </p:nvGrpSpPr>
        <p:grpSpPr>
          <a:xfrm>
            <a:off x="4876920" y="2844720"/>
            <a:ext cx="344880" cy="70200"/>
            <a:chOff x="4876920" y="2844720"/>
            <a:chExt cx="344880" cy="70200"/>
          </a:xfrm>
        </p:grpSpPr>
        <p:sp>
          <p:nvSpPr>
            <p:cNvPr id="3749" name=""/>
            <p:cNvSpPr/>
            <p:nvPr/>
          </p:nvSpPr>
          <p:spPr>
            <a:xfrm>
              <a:off x="5072040" y="2844720"/>
              <a:ext cx="149760" cy="70200"/>
            </a:xfrm>
            <a:custGeom>
              <a:avLst/>
              <a:gdLst/>
              <a:ahLst/>
              <a:rect l="0" t="0" r="r" b="b"/>
              <a:pathLst>
                <a:path w="416" h="195">
                  <a:moveTo>
                    <a:pt x="416" y="94"/>
                  </a:moveTo>
                  <a:lnTo>
                    <a:pt x="0" y="195"/>
                  </a:lnTo>
                  <a:lnTo>
                    <a:pt x="0" y="94"/>
                  </a:lnTo>
                  <a:lnTo>
                    <a:pt x="0" y="0"/>
                  </a:lnTo>
                  <a:lnTo>
                    <a:pt x="416" y="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4876920" y="2878200"/>
              <a:ext cx="195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1" name=""/>
          <p:cNvSpPr/>
          <p:nvPr/>
        </p:nvSpPr>
        <p:spPr>
          <a:xfrm>
            <a:off x="5465880" y="2600280"/>
            <a:ext cx="0" cy="64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5221440" y="2798640"/>
            <a:ext cx="477720" cy="2095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6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3" name=""/>
          <p:cNvGrpSpPr/>
          <p:nvPr/>
        </p:nvGrpSpPr>
        <p:grpSpPr>
          <a:xfrm>
            <a:off x="5465880" y="2565360"/>
            <a:ext cx="330480" cy="70200"/>
            <a:chOff x="5465880" y="2565360"/>
            <a:chExt cx="330480" cy="70200"/>
          </a:xfrm>
        </p:grpSpPr>
        <p:sp>
          <p:nvSpPr>
            <p:cNvPr id="3754" name=""/>
            <p:cNvSpPr/>
            <p:nvPr/>
          </p:nvSpPr>
          <p:spPr>
            <a:xfrm>
              <a:off x="5648400" y="2565360"/>
              <a:ext cx="147960" cy="70200"/>
            </a:xfrm>
            <a:custGeom>
              <a:avLst/>
              <a:gdLst/>
              <a:ahLst/>
              <a:rect l="0" t="0" r="r" b="b"/>
              <a:pathLst>
                <a:path w="411" h="195">
                  <a:moveTo>
                    <a:pt x="411" y="98"/>
                  </a:moveTo>
                  <a:lnTo>
                    <a:pt x="0" y="195"/>
                  </a:lnTo>
                  <a:lnTo>
                    <a:pt x="0" y="98"/>
                  </a:lnTo>
                  <a:lnTo>
                    <a:pt x="0" y="0"/>
                  </a:lnTo>
                  <a:lnTo>
                    <a:pt x="411" y="9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5465880" y="2600280"/>
              <a:ext cx="182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6" name=""/>
          <p:cNvGrpSpPr/>
          <p:nvPr/>
        </p:nvGrpSpPr>
        <p:grpSpPr>
          <a:xfrm>
            <a:off x="5011560" y="3205080"/>
            <a:ext cx="454320" cy="70200"/>
            <a:chOff x="5011560" y="3205080"/>
            <a:chExt cx="454320" cy="70200"/>
          </a:xfrm>
        </p:grpSpPr>
        <p:sp>
          <p:nvSpPr>
            <p:cNvPr id="3757" name=""/>
            <p:cNvSpPr/>
            <p:nvPr/>
          </p:nvSpPr>
          <p:spPr>
            <a:xfrm>
              <a:off x="5011560" y="3205080"/>
              <a:ext cx="147960" cy="70200"/>
            </a:xfrm>
            <a:custGeom>
              <a:avLst/>
              <a:gdLst/>
              <a:ahLst/>
              <a:rect l="0" t="0" r="r" b="b"/>
              <a:pathLst>
                <a:path w="411" h="195">
                  <a:moveTo>
                    <a:pt x="0" y="100"/>
                  </a:moveTo>
                  <a:lnTo>
                    <a:pt x="411" y="0"/>
                  </a:lnTo>
                  <a:lnTo>
                    <a:pt x="411" y="100"/>
                  </a:lnTo>
                  <a:lnTo>
                    <a:pt x="411" y="195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5159520" y="3241800"/>
              <a:ext cx="306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9" name=""/>
          <p:cNvSpPr/>
          <p:nvPr/>
        </p:nvSpPr>
        <p:spPr>
          <a:xfrm>
            <a:off x="5207040" y="269388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5245200" y="2705040"/>
            <a:ext cx="0" cy="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1" name=""/>
          <p:cNvGrpSpPr/>
          <p:nvPr/>
        </p:nvGrpSpPr>
        <p:grpSpPr>
          <a:xfrm>
            <a:off x="5283360" y="2739960"/>
            <a:ext cx="34920" cy="23760"/>
            <a:chOff x="5283360" y="2739960"/>
            <a:chExt cx="34920" cy="23760"/>
          </a:xfrm>
        </p:grpSpPr>
        <p:sp>
          <p:nvSpPr>
            <p:cNvPr id="3762" name=""/>
            <p:cNvSpPr/>
            <p:nvPr/>
          </p:nvSpPr>
          <p:spPr>
            <a:xfrm>
              <a:off x="5283360" y="2739960"/>
              <a:ext cx="34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5318280" y="2739960"/>
              <a:ext cx="0" cy="23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5232240" y="2727360"/>
            <a:ext cx="51120" cy="12600"/>
            <a:chOff x="5232240" y="2727360"/>
            <a:chExt cx="51120" cy="12600"/>
          </a:xfrm>
        </p:grpSpPr>
        <p:sp>
          <p:nvSpPr>
            <p:cNvPr id="3765" name=""/>
            <p:cNvSpPr/>
            <p:nvPr/>
          </p:nvSpPr>
          <p:spPr>
            <a:xfrm>
              <a:off x="5232240" y="2727360"/>
              <a:ext cx="5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5283360" y="2727360"/>
              <a:ext cx="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7" name=""/>
          <p:cNvSpPr/>
          <p:nvPr/>
        </p:nvSpPr>
        <p:spPr>
          <a:xfrm>
            <a:off x="5322960" y="2763720"/>
            <a:ext cx="57240" cy="2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8" name=""/>
          <p:cNvGrpSpPr/>
          <p:nvPr/>
        </p:nvGrpSpPr>
        <p:grpSpPr>
          <a:xfrm>
            <a:off x="5121360" y="2635200"/>
            <a:ext cx="136800" cy="116280"/>
            <a:chOff x="5121360" y="2635200"/>
            <a:chExt cx="136800" cy="116280"/>
          </a:xfrm>
        </p:grpSpPr>
        <p:sp>
          <p:nvSpPr>
            <p:cNvPr id="3769" name=""/>
            <p:cNvSpPr/>
            <p:nvPr/>
          </p:nvSpPr>
          <p:spPr>
            <a:xfrm>
              <a:off x="5121360" y="2635200"/>
              <a:ext cx="136800" cy="116280"/>
            </a:xfrm>
            <a:custGeom>
              <a:avLst/>
              <a:gdLst/>
              <a:ahLst/>
              <a:rect l="0" t="0" r="r" b="b"/>
              <a:pathLst>
                <a:path w="380" h="323">
                  <a:moveTo>
                    <a:pt x="0" y="0"/>
                  </a:moveTo>
                  <a:lnTo>
                    <a:pt x="380" y="194"/>
                  </a:lnTo>
                  <a:lnTo>
                    <a:pt x="306" y="259"/>
                  </a:lnTo>
                  <a:lnTo>
                    <a:pt x="239" y="3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 flipH="1" flipV="1">
              <a:off x="5195880" y="270684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"/>
          <p:cNvSpPr/>
          <p:nvPr/>
        </p:nvSpPr>
        <p:spPr>
          <a:xfrm>
            <a:off x="4754520" y="317016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5011560" y="317016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4754520" y="3065400"/>
            <a:ext cx="135360" cy="111600"/>
          </a:xfrm>
          <a:custGeom>
            <a:avLst/>
            <a:gdLst/>
            <a:ahLst/>
            <a:rect l="0" t="0" r="r" b="b"/>
            <a:pathLst>
              <a:path fill="none" w="376" h="310">
                <a:moveTo>
                  <a:pt x="376" y="0"/>
                </a:moveTo>
                <a:lnTo>
                  <a:pt x="376" y="0"/>
                </a:lnTo>
                <a:cubicBezTo>
                  <a:pt x="310" y="0"/>
                  <a:pt x="245" y="14"/>
                  <a:pt x="188" y="42"/>
                </a:cubicBezTo>
                <a:cubicBezTo>
                  <a:pt x="131" y="69"/>
                  <a:pt x="83" y="108"/>
                  <a:pt x="50" y="155"/>
                </a:cubicBezTo>
                <a:cubicBezTo>
                  <a:pt x="17" y="202"/>
                  <a:pt x="0" y="256"/>
                  <a:pt x="0" y="31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4889520" y="3065400"/>
            <a:ext cx="135360" cy="111600"/>
          </a:xfrm>
          <a:custGeom>
            <a:avLst/>
            <a:gdLst/>
            <a:ahLst/>
            <a:rect l="0" t="0" r="r" b="b"/>
            <a:pathLst>
              <a:path fill="none" w="376" h="310">
                <a:moveTo>
                  <a:pt x="376" y="310"/>
                </a:moveTo>
                <a:lnTo>
                  <a:pt x="376" y="310"/>
                </a:lnTo>
                <a:lnTo>
                  <a:pt x="376" y="310"/>
                </a:lnTo>
                <a:cubicBezTo>
                  <a:pt x="376" y="256"/>
                  <a:pt x="359" y="202"/>
                  <a:pt x="326" y="155"/>
                </a:cubicBezTo>
                <a:cubicBezTo>
                  <a:pt x="293" y="108"/>
                  <a:pt x="245" y="69"/>
                  <a:pt x="188" y="42"/>
                </a:cubicBezTo>
                <a:cubicBezTo>
                  <a:pt x="131" y="14"/>
                  <a:pt x="6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4754520" y="3182760"/>
            <a:ext cx="257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4765680" y="3333600"/>
            <a:ext cx="245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4754520" y="3484440"/>
            <a:ext cx="257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 flipH="1">
            <a:off x="4438800" y="4468680"/>
            <a:ext cx="909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5336280" y="4102200"/>
            <a:ext cx="129600" cy="180360"/>
          </a:xfrm>
          <a:custGeom>
            <a:avLst/>
            <a:gdLst/>
            <a:ahLst/>
            <a:rect l="0" t="0" r="r" b="b"/>
            <a:pathLst>
              <a:path fill="none" w="360" h="501">
                <a:moveTo>
                  <a:pt x="360" y="501"/>
                </a:moveTo>
                <a:lnTo>
                  <a:pt x="360" y="501"/>
                </a:lnTo>
                <a:lnTo>
                  <a:pt x="360" y="501"/>
                </a:lnTo>
                <a:cubicBezTo>
                  <a:pt x="360" y="413"/>
                  <a:pt x="343" y="327"/>
                  <a:pt x="312" y="250"/>
                </a:cubicBezTo>
                <a:cubicBezTo>
                  <a:pt x="280" y="174"/>
                  <a:pt x="235" y="111"/>
                  <a:pt x="180" y="67"/>
                </a:cubicBezTo>
                <a:cubicBezTo>
                  <a:pt x="125" y="23"/>
                  <a:pt x="63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5336280" y="4282200"/>
            <a:ext cx="129600" cy="180360"/>
          </a:xfrm>
          <a:custGeom>
            <a:avLst/>
            <a:gdLst/>
            <a:ahLst/>
            <a:rect l="0" t="0" r="r" b="b"/>
            <a:pathLst>
              <a:path fill="none" w="360" h="501">
                <a:moveTo>
                  <a:pt x="0" y="501"/>
                </a:moveTo>
                <a:lnTo>
                  <a:pt x="0" y="501"/>
                </a:lnTo>
                <a:cubicBezTo>
                  <a:pt x="63" y="501"/>
                  <a:pt x="125" y="478"/>
                  <a:pt x="180" y="434"/>
                </a:cubicBezTo>
                <a:cubicBezTo>
                  <a:pt x="235" y="390"/>
                  <a:pt x="280" y="327"/>
                  <a:pt x="312" y="250"/>
                </a:cubicBezTo>
                <a:cubicBezTo>
                  <a:pt x="343" y="174"/>
                  <a:pt x="360" y="88"/>
                  <a:pt x="36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4324320" y="4102200"/>
            <a:ext cx="129600" cy="180360"/>
          </a:xfrm>
          <a:custGeom>
            <a:avLst/>
            <a:gdLst/>
            <a:ahLst/>
            <a:rect l="0" t="0" r="r" b="b"/>
            <a:pathLst>
              <a:path fill="none" w="360" h="501">
                <a:moveTo>
                  <a:pt x="360" y="0"/>
                </a:moveTo>
                <a:lnTo>
                  <a:pt x="360" y="0"/>
                </a:lnTo>
                <a:cubicBezTo>
                  <a:pt x="297" y="0"/>
                  <a:pt x="235" y="23"/>
                  <a:pt x="180" y="67"/>
                </a:cubicBezTo>
                <a:cubicBezTo>
                  <a:pt x="125" y="111"/>
                  <a:pt x="80" y="174"/>
                  <a:pt x="48" y="251"/>
                </a:cubicBezTo>
                <a:cubicBezTo>
                  <a:pt x="17" y="327"/>
                  <a:pt x="0" y="413"/>
                  <a:pt x="0" y="50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4324320" y="4282200"/>
            <a:ext cx="129600" cy="180360"/>
          </a:xfrm>
          <a:custGeom>
            <a:avLst/>
            <a:gdLst/>
            <a:ahLst/>
            <a:rect l="0" t="0" r="r" b="b"/>
            <a:pathLst>
              <a:path fill="none" w="360" h="501">
                <a:moveTo>
                  <a:pt x="0" y="0"/>
                </a:moveTo>
                <a:lnTo>
                  <a:pt x="0" y="0"/>
                </a:lnTo>
                <a:cubicBezTo>
                  <a:pt x="0" y="88"/>
                  <a:pt x="17" y="174"/>
                  <a:pt x="48" y="251"/>
                </a:cubicBezTo>
                <a:cubicBezTo>
                  <a:pt x="80" y="327"/>
                  <a:pt x="125" y="390"/>
                  <a:pt x="180" y="434"/>
                </a:cubicBezTo>
                <a:cubicBezTo>
                  <a:pt x="235" y="478"/>
                  <a:pt x="297" y="501"/>
                  <a:pt x="360" y="50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4448160" y="4102200"/>
            <a:ext cx="882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4335480" y="4194000"/>
            <a:ext cx="1057680" cy="59040"/>
          </a:xfrm>
          <a:custGeom>
            <a:avLst/>
            <a:gdLst/>
            <a:ahLst/>
            <a:rect l="0" t="0" r="r" b="b"/>
            <a:pathLst>
              <a:path fill="none" w="2938" h="164">
                <a:moveTo>
                  <a:pt x="0" y="69"/>
                </a:moveTo>
                <a:lnTo>
                  <a:pt x="141" y="34"/>
                </a:lnTo>
                <a:lnTo>
                  <a:pt x="275" y="34"/>
                </a:lnTo>
                <a:lnTo>
                  <a:pt x="410" y="0"/>
                </a:lnTo>
                <a:lnTo>
                  <a:pt x="545" y="34"/>
                </a:lnTo>
                <a:lnTo>
                  <a:pt x="717" y="69"/>
                </a:lnTo>
                <a:lnTo>
                  <a:pt x="822" y="135"/>
                </a:lnTo>
                <a:lnTo>
                  <a:pt x="926" y="69"/>
                </a:lnTo>
                <a:lnTo>
                  <a:pt x="1092" y="69"/>
                </a:lnTo>
                <a:lnTo>
                  <a:pt x="1233" y="69"/>
                </a:lnTo>
                <a:lnTo>
                  <a:pt x="1368" y="34"/>
                </a:lnTo>
                <a:lnTo>
                  <a:pt x="1539" y="69"/>
                </a:lnTo>
                <a:lnTo>
                  <a:pt x="1674" y="69"/>
                </a:lnTo>
                <a:lnTo>
                  <a:pt x="1711" y="164"/>
                </a:lnTo>
                <a:lnTo>
                  <a:pt x="1846" y="164"/>
                </a:lnTo>
                <a:lnTo>
                  <a:pt x="1944" y="164"/>
                </a:lnTo>
                <a:lnTo>
                  <a:pt x="2116" y="135"/>
                </a:lnTo>
                <a:lnTo>
                  <a:pt x="2221" y="69"/>
                </a:lnTo>
                <a:lnTo>
                  <a:pt x="2393" y="69"/>
                </a:lnTo>
                <a:lnTo>
                  <a:pt x="2491" y="69"/>
                </a:lnTo>
                <a:lnTo>
                  <a:pt x="2662" y="69"/>
                </a:lnTo>
                <a:lnTo>
                  <a:pt x="2834" y="69"/>
                </a:lnTo>
                <a:lnTo>
                  <a:pt x="2871" y="164"/>
                </a:lnTo>
                <a:lnTo>
                  <a:pt x="2938" y="164"/>
                </a:lnTo>
                <a:lnTo>
                  <a:pt x="2902" y="16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4938840" y="4416480"/>
            <a:ext cx="36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4975200" y="4429080"/>
            <a:ext cx="0" cy="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5011560" y="4462560"/>
            <a:ext cx="3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5048280" y="4462560"/>
            <a:ext cx="0" cy="2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4962600" y="443880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 flipH="1">
            <a:off x="5000760" y="4438800"/>
            <a:ext cx="10800" cy="19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5048280" y="4484520"/>
            <a:ext cx="49320" cy="2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2" name=""/>
          <p:cNvGrpSpPr/>
          <p:nvPr/>
        </p:nvGrpSpPr>
        <p:grpSpPr>
          <a:xfrm>
            <a:off x="4851360" y="4357800"/>
            <a:ext cx="135360" cy="117720"/>
            <a:chOff x="4851360" y="4357800"/>
            <a:chExt cx="135360" cy="117720"/>
          </a:xfrm>
        </p:grpSpPr>
        <p:sp>
          <p:nvSpPr>
            <p:cNvPr id="3793" name=""/>
            <p:cNvSpPr/>
            <p:nvPr/>
          </p:nvSpPr>
          <p:spPr>
            <a:xfrm>
              <a:off x="4851360" y="4357800"/>
              <a:ext cx="135360" cy="117720"/>
            </a:xfrm>
            <a:custGeom>
              <a:avLst/>
              <a:gdLst/>
              <a:ahLst/>
              <a:rect l="0" t="0" r="r" b="b"/>
              <a:pathLst>
                <a:path w="376" h="327">
                  <a:moveTo>
                    <a:pt x="0" y="0"/>
                  </a:moveTo>
                  <a:lnTo>
                    <a:pt x="376" y="164"/>
                  </a:lnTo>
                  <a:lnTo>
                    <a:pt x="309" y="263"/>
                  </a:lnTo>
                  <a:lnTo>
                    <a:pt x="240" y="3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 flipH="1" flipV="1">
              <a:off x="4927680" y="4416480"/>
              <a:ext cx="34920" cy="33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5" name=""/>
          <p:cNvSpPr/>
          <p:nvPr/>
        </p:nvSpPr>
        <p:spPr>
          <a:xfrm>
            <a:off x="4876920" y="4065480"/>
            <a:ext cx="0" cy="3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4754520" y="3648240"/>
            <a:ext cx="24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 flipH="1">
            <a:off x="4029120" y="6108840"/>
            <a:ext cx="895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>
            <a:off x="4933080" y="5743440"/>
            <a:ext cx="129600" cy="180360"/>
          </a:xfrm>
          <a:custGeom>
            <a:avLst/>
            <a:gdLst/>
            <a:ahLst/>
            <a:rect l="0" t="0" r="r" b="b"/>
            <a:pathLst>
              <a:path fill="none" w="360" h="501">
                <a:moveTo>
                  <a:pt x="360" y="501"/>
                </a:moveTo>
                <a:lnTo>
                  <a:pt x="360" y="501"/>
                </a:lnTo>
                <a:lnTo>
                  <a:pt x="360" y="501"/>
                </a:lnTo>
                <a:cubicBezTo>
                  <a:pt x="360" y="413"/>
                  <a:pt x="343" y="327"/>
                  <a:pt x="312" y="250"/>
                </a:cubicBezTo>
                <a:cubicBezTo>
                  <a:pt x="280" y="174"/>
                  <a:pt x="235" y="111"/>
                  <a:pt x="180" y="67"/>
                </a:cubicBezTo>
                <a:cubicBezTo>
                  <a:pt x="125" y="23"/>
                  <a:pt x="63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4933080" y="5923800"/>
            <a:ext cx="129600" cy="180360"/>
          </a:xfrm>
          <a:custGeom>
            <a:avLst/>
            <a:gdLst/>
            <a:ahLst/>
            <a:rect l="0" t="0" r="r" b="b"/>
            <a:pathLst>
              <a:path fill="none" w="360" h="501">
                <a:moveTo>
                  <a:pt x="0" y="501"/>
                </a:moveTo>
                <a:lnTo>
                  <a:pt x="0" y="501"/>
                </a:lnTo>
                <a:cubicBezTo>
                  <a:pt x="63" y="501"/>
                  <a:pt x="125" y="478"/>
                  <a:pt x="180" y="434"/>
                </a:cubicBezTo>
                <a:cubicBezTo>
                  <a:pt x="235" y="390"/>
                  <a:pt x="280" y="327"/>
                  <a:pt x="312" y="250"/>
                </a:cubicBezTo>
                <a:cubicBezTo>
                  <a:pt x="343" y="174"/>
                  <a:pt x="360" y="88"/>
                  <a:pt x="36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>
            <a:off x="3932280" y="5743440"/>
            <a:ext cx="128880" cy="180360"/>
          </a:xfrm>
          <a:custGeom>
            <a:avLst/>
            <a:gdLst/>
            <a:ahLst/>
            <a:rect l="0" t="0" r="r" b="b"/>
            <a:pathLst>
              <a:path fill="none" w="358" h="501">
                <a:moveTo>
                  <a:pt x="358" y="0"/>
                </a:moveTo>
                <a:lnTo>
                  <a:pt x="358" y="0"/>
                </a:lnTo>
                <a:cubicBezTo>
                  <a:pt x="295" y="0"/>
                  <a:pt x="233" y="23"/>
                  <a:pt x="179" y="67"/>
                </a:cubicBezTo>
                <a:cubicBezTo>
                  <a:pt x="125" y="111"/>
                  <a:pt x="79" y="174"/>
                  <a:pt x="48" y="251"/>
                </a:cubicBezTo>
                <a:cubicBezTo>
                  <a:pt x="17" y="327"/>
                  <a:pt x="0" y="413"/>
                  <a:pt x="0" y="50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3932280" y="5923800"/>
            <a:ext cx="128880" cy="180360"/>
          </a:xfrm>
          <a:custGeom>
            <a:avLst/>
            <a:gdLst/>
            <a:ahLst/>
            <a:rect l="0" t="0" r="r" b="b"/>
            <a:pathLst>
              <a:path fill="none" w="358" h="501">
                <a:moveTo>
                  <a:pt x="0" y="0"/>
                </a:moveTo>
                <a:lnTo>
                  <a:pt x="0" y="0"/>
                </a:lnTo>
                <a:cubicBezTo>
                  <a:pt x="0" y="88"/>
                  <a:pt x="17" y="174"/>
                  <a:pt x="48" y="251"/>
                </a:cubicBezTo>
                <a:cubicBezTo>
                  <a:pt x="79" y="327"/>
                  <a:pt x="125" y="390"/>
                  <a:pt x="179" y="434"/>
                </a:cubicBezTo>
                <a:cubicBezTo>
                  <a:pt x="233" y="478"/>
                  <a:pt x="295" y="501"/>
                  <a:pt x="358" y="50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4041720" y="5743440"/>
            <a:ext cx="909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3944880" y="5835600"/>
            <a:ext cx="1041840" cy="59040"/>
          </a:xfrm>
          <a:custGeom>
            <a:avLst/>
            <a:gdLst/>
            <a:ahLst/>
            <a:rect l="0" t="0" r="r" b="b"/>
            <a:pathLst>
              <a:path fill="none" w="2894" h="164">
                <a:moveTo>
                  <a:pt x="0" y="64"/>
                </a:moveTo>
                <a:lnTo>
                  <a:pt x="134" y="34"/>
                </a:lnTo>
                <a:lnTo>
                  <a:pt x="232" y="34"/>
                </a:lnTo>
                <a:lnTo>
                  <a:pt x="373" y="0"/>
                </a:lnTo>
                <a:lnTo>
                  <a:pt x="539" y="34"/>
                </a:lnTo>
                <a:lnTo>
                  <a:pt x="680" y="64"/>
                </a:lnTo>
                <a:lnTo>
                  <a:pt x="779" y="129"/>
                </a:lnTo>
                <a:lnTo>
                  <a:pt x="920" y="64"/>
                </a:lnTo>
                <a:lnTo>
                  <a:pt x="1055" y="64"/>
                </a:lnTo>
                <a:lnTo>
                  <a:pt x="1189" y="64"/>
                </a:lnTo>
                <a:lnTo>
                  <a:pt x="1361" y="34"/>
                </a:lnTo>
                <a:lnTo>
                  <a:pt x="1533" y="64"/>
                </a:lnTo>
                <a:lnTo>
                  <a:pt x="1631" y="64"/>
                </a:lnTo>
                <a:lnTo>
                  <a:pt x="1704" y="164"/>
                </a:lnTo>
                <a:lnTo>
                  <a:pt x="1839" y="164"/>
                </a:lnTo>
                <a:lnTo>
                  <a:pt x="1937" y="164"/>
                </a:lnTo>
                <a:lnTo>
                  <a:pt x="2109" y="129"/>
                </a:lnTo>
                <a:lnTo>
                  <a:pt x="2214" y="64"/>
                </a:lnTo>
                <a:lnTo>
                  <a:pt x="2386" y="64"/>
                </a:lnTo>
                <a:lnTo>
                  <a:pt x="2484" y="64"/>
                </a:lnTo>
                <a:lnTo>
                  <a:pt x="2655" y="64"/>
                </a:lnTo>
                <a:lnTo>
                  <a:pt x="2827" y="64"/>
                </a:lnTo>
                <a:lnTo>
                  <a:pt x="2864" y="164"/>
                </a:lnTo>
                <a:lnTo>
                  <a:pt x="2894" y="16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>
            <a:off x="4532400" y="605808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 flipH="1">
            <a:off x="4572000" y="6067440"/>
            <a:ext cx="11160" cy="2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4606920" y="6103800"/>
            <a:ext cx="34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 flipH="1">
            <a:off x="4641840" y="6103800"/>
            <a:ext cx="14400" cy="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4570560" y="6080040"/>
            <a:ext cx="36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"/>
          <p:cNvSpPr/>
          <p:nvPr/>
        </p:nvSpPr>
        <p:spPr>
          <a:xfrm>
            <a:off x="4606920" y="6080040"/>
            <a:ext cx="0" cy="2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"/>
          <p:cNvSpPr/>
          <p:nvPr/>
        </p:nvSpPr>
        <p:spPr>
          <a:xfrm>
            <a:off x="4646520" y="6126120"/>
            <a:ext cx="57240" cy="20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1" name=""/>
          <p:cNvGrpSpPr/>
          <p:nvPr/>
        </p:nvGrpSpPr>
        <p:grpSpPr>
          <a:xfrm>
            <a:off x="4448160" y="5999040"/>
            <a:ext cx="146520" cy="114840"/>
            <a:chOff x="4448160" y="5999040"/>
            <a:chExt cx="146520" cy="114840"/>
          </a:xfrm>
        </p:grpSpPr>
        <p:sp>
          <p:nvSpPr>
            <p:cNvPr id="3812" name=""/>
            <p:cNvSpPr/>
            <p:nvPr/>
          </p:nvSpPr>
          <p:spPr>
            <a:xfrm>
              <a:off x="4448160" y="5999040"/>
              <a:ext cx="146520" cy="114840"/>
            </a:xfrm>
            <a:custGeom>
              <a:avLst/>
              <a:gdLst/>
              <a:ahLst/>
              <a:rect l="0" t="0" r="r" b="b"/>
              <a:pathLst>
                <a:path w="407" h="319">
                  <a:moveTo>
                    <a:pt x="0" y="0"/>
                  </a:moveTo>
                  <a:lnTo>
                    <a:pt x="407" y="162"/>
                  </a:lnTo>
                  <a:lnTo>
                    <a:pt x="340" y="226"/>
                  </a:lnTo>
                  <a:lnTo>
                    <a:pt x="271" y="3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 flipH="1" flipV="1">
              <a:off x="4532400" y="6058080"/>
              <a:ext cx="3816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4" name=""/>
          <p:cNvSpPr/>
          <p:nvPr/>
        </p:nvSpPr>
        <p:spPr>
          <a:xfrm>
            <a:off x="4497480" y="5684760"/>
            <a:ext cx="0" cy="5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 txBox="1"/>
          <p:nvPr/>
        </p:nvSpPr>
        <p:spPr>
          <a:xfrm>
            <a:off x="5857920" y="3668760"/>
            <a:ext cx="3036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ifferent column configurations including emerging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 txBox="1"/>
          <p:nvPr/>
        </p:nvSpPr>
        <p:spPr>
          <a:xfrm>
            <a:off x="1155600" y="1611360"/>
            <a:ext cx="1844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Conventional 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a rec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 txBox="1"/>
          <p:nvPr/>
        </p:nvSpPr>
        <p:spPr>
          <a:xfrm>
            <a:off x="4479840" y="1492200"/>
            <a:ext cx="11430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Multif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 txBox="1"/>
          <p:nvPr/>
        </p:nvSpPr>
        <p:spPr>
          <a:xfrm>
            <a:off x="7161120" y="114480"/>
            <a:ext cx="161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Recycle waste 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 txBox="1"/>
          <p:nvPr/>
        </p:nvSpPr>
        <p:spPr>
          <a:xfrm>
            <a:off x="25560" y="3897360"/>
            <a:ext cx="1449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Inverted 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a strip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 txBox="1"/>
          <p:nvPr/>
        </p:nvSpPr>
        <p:spPr>
          <a:xfrm>
            <a:off x="2955960" y="4979880"/>
            <a:ext cx="14097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Column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a middle ves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522360" y="1036800"/>
            <a:ext cx="4372560" cy="5663880"/>
            <a:chOff x="522360" y="1036800"/>
            <a:chExt cx="4372560" cy="5663880"/>
          </a:xfrm>
        </p:grpSpPr>
        <p:grpSp>
          <p:nvGrpSpPr>
            <p:cNvPr id="56" name=""/>
            <p:cNvGrpSpPr/>
            <p:nvPr/>
          </p:nvGrpSpPr>
          <p:grpSpPr>
            <a:xfrm>
              <a:off x="533520" y="1036800"/>
              <a:ext cx="4361400" cy="4916160"/>
              <a:chOff x="533520" y="1036800"/>
              <a:chExt cx="4361400" cy="4916160"/>
            </a:xfrm>
          </p:grpSpPr>
          <p:sp>
            <p:nvSpPr>
              <p:cNvPr id="57" name=""/>
              <p:cNvSpPr/>
              <p:nvPr/>
            </p:nvSpPr>
            <p:spPr>
              <a:xfrm>
                <a:off x="2232000" y="2460600"/>
                <a:ext cx="685800" cy="23288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2232000" y="2184480"/>
                <a:ext cx="686520" cy="274320"/>
                <a:chOff x="2232000" y="2184480"/>
                <a:chExt cx="686520" cy="2743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2232000" y="2184480"/>
                  <a:ext cx="343440" cy="274320"/>
                </a:xfrm>
                <a:custGeom>
                  <a:avLst/>
                  <a:gdLst/>
                  <a:ahLst/>
                  <a:rect l="0" t="0" r="r" b="b"/>
                  <a:pathLst>
                    <a:path fill="none" w="954" h="762">
                      <a:moveTo>
                        <a:pt x="954" y="0"/>
                      </a:moveTo>
                      <a:lnTo>
                        <a:pt x="954" y="0"/>
                      </a:lnTo>
                      <a:cubicBezTo>
                        <a:pt x="787" y="0"/>
                        <a:pt x="622" y="35"/>
                        <a:pt x="477" y="102"/>
                      </a:cubicBezTo>
                      <a:cubicBezTo>
                        <a:pt x="332" y="169"/>
                        <a:pt x="212" y="265"/>
                        <a:pt x="128" y="381"/>
                      </a:cubicBezTo>
                      <a:cubicBezTo>
                        <a:pt x="44" y="497"/>
                        <a:pt x="0" y="628"/>
                        <a:pt x="0" y="762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575080" y="2184480"/>
                  <a:ext cx="343440" cy="274320"/>
                </a:xfrm>
                <a:custGeom>
                  <a:avLst/>
                  <a:gdLst/>
                  <a:ahLst/>
                  <a:rect l="0" t="0" r="r" b="b"/>
                  <a:pathLst>
                    <a:path fill="none" w="954" h="762">
                      <a:moveTo>
                        <a:pt x="954" y="762"/>
                      </a:moveTo>
                      <a:lnTo>
                        <a:pt x="954" y="762"/>
                      </a:lnTo>
                      <a:lnTo>
                        <a:pt x="954" y="762"/>
                      </a:lnTo>
                      <a:cubicBezTo>
                        <a:pt x="954" y="628"/>
                        <a:pt x="910" y="497"/>
                        <a:pt x="826" y="381"/>
                      </a:cubicBezTo>
                      <a:cubicBezTo>
                        <a:pt x="742" y="265"/>
                        <a:pt x="622" y="169"/>
                        <a:pt x="477" y="102"/>
                      </a:cubicBezTo>
                      <a:cubicBezTo>
                        <a:pt x="332" y="35"/>
                        <a:pt x="167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2232000" y="4796640"/>
                <a:ext cx="686520" cy="274320"/>
                <a:chOff x="2232000" y="4796640"/>
                <a:chExt cx="686520" cy="2743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2232000" y="4796640"/>
                  <a:ext cx="345600" cy="274320"/>
                </a:xfrm>
                <a:custGeom>
                  <a:avLst/>
                  <a:gdLst/>
                  <a:ahLst/>
                  <a:rect l="0" t="0" r="r" b="b"/>
                  <a:pathLst>
                    <a:path fill="none" w="960" h="762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0" y="134"/>
                        <a:pt x="44" y="265"/>
                        <a:pt x="129" y="381"/>
                      </a:cubicBezTo>
                      <a:cubicBezTo>
                        <a:pt x="213" y="497"/>
                        <a:pt x="334" y="593"/>
                        <a:pt x="480" y="660"/>
                      </a:cubicBezTo>
                      <a:cubicBezTo>
                        <a:pt x="626" y="727"/>
                        <a:pt x="791" y="762"/>
                        <a:pt x="960" y="762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575080" y="4796640"/>
                  <a:ext cx="343440" cy="274320"/>
                </a:xfrm>
                <a:custGeom>
                  <a:avLst/>
                  <a:gdLst/>
                  <a:ahLst/>
                  <a:rect l="0" t="0" r="r" b="b"/>
                  <a:pathLst>
                    <a:path fill="none" w="954" h="762">
                      <a:moveTo>
                        <a:pt x="0" y="762"/>
                      </a:moveTo>
                      <a:lnTo>
                        <a:pt x="0" y="762"/>
                      </a:lnTo>
                      <a:cubicBezTo>
                        <a:pt x="167" y="762"/>
                        <a:pt x="332" y="727"/>
                        <a:pt x="477" y="660"/>
                      </a:cubicBezTo>
                      <a:cubicBezTo>
                        <a:pt x="622" y="593"/>
                        <a:pt x="742" y="497"/>
                        <a:pt x="826" y="381"/>
                      </a:cubicBezTo>
                      <a:cubicBezTo>
                        <a:pt x="910" y="265"/>
                        <a:pt x="954" y="134"/>
                        <a:pt x="954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3584520" y="1365120"/>
                <a:ext cx="94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579840" y="1917720"/>
                <a:ext cx="942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4513320" y="1360440"/>
                <a:ext cx="186120" cy="552600"/>
                <a:chOff x="4513320" y="1360440"/>
                <a:chExt cx="186120" cy="5526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4513320" y="1360440"/>
                  <a:ext cx="186120" cy="276480"/>
                </a:xfrm>
                <a:custGeom>
                  <a:avLst/>
                  <a:gdLst/>
                  <a:ahLst/>
                  <a:rect l="0" t="0" r="r" b="b"/>
                  <a:pathLst>
                    <a:path fill="none" w="517" h="768">
                      <a:moveTo>
                        <a:pt x="517" y="768"/>
                      </a:moveTo>
                      <a:lnTo>
                        <a:pt x="517" y="768"/>
                      </a:lnTo>
                      <a:lnTo>
                        <a:pt x="517" y="768"/>
                      </a:lnTo>
                      <a:cubicBezTo>
                        <a:pt x="517" y="633"/>
                        <a:pt x="493" y="501"/>
                        <a:pt x="448" y="384"/>
                      </a:cubicBezTo>
                      <a:cubicBezTo>
                        <a:pt x="402" y="267"/>
                        <a:pt x="337" y="170"/>
                        <a:pt x="258" y="103"/>
                      </a:cubicBezTo>
                      <a:cubicBezTo>
                        <a:pt x="180" y="35"/>
                        <a:pt x="91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513320" y="1636560"/>
                  <a:ext cx="186120" cy="276480"/>
                </a:xfrm>
                <a:custGeom>
                  <a:avLst/>
                  <a:gdLst/>
                  <a:ahLst/>
                  <a:rect l="0" t="0" r="r" b="b"/>
                  <a:pathLst>
                    <a:path fill="none" w="517" h="768">
                      <a:moveTo>
                        <a:pt x="0" y="768"/>
                      </a:moveTo>
                      <a:lnTo>
                        <a:pt x="0" y="768"/>
                      </a:lnTo>
                      <a:cubicBezTo>
                        <a:pt x="91" y="768"/>
                        <a:pt x="180" y="733"/>
                        <a:pt x="259" y="665"/>
                      </a:cubicBezTo>
                      <a:cubicBezTo>
                        <a:pt x="337" y="598"/>
                        <a:pt x="402" y="501"/>
                        <a:pt x="448" y="384"/>
                      </a:cubicBezTo>
                      <a:cubicBezTo>
                        <a:pt x="493" y="267"/>
                        <a:pt x="517" y="135"/>
                        <a:pt x="517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398760" y="1360440"/>
                <a:ext cx="186120" cy="552600"/>
                <a:chOff x="3398760" y="1360440"/>
                <a:chExt cx="186120" cy="5526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398760" y="1636560"/>
                  <a:ext cx="186120" cy="276480"/>
                </a:xfrm>
                <a:custGeom>
                  <a:avLst/>
                  <a:gdLst/>
                  <a:ahLst/>
                  <a:rect l="0" t="0" r="r" b="b"/>
                  <a:pathLst>
                    <a:path fill="none" w="517" h="768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0" y="135"/>
                        <a:pt x="24" y="267"/>
                        <a:pt x="69" y="384"/>
                      </a:cubicBezTo>
                      <a:cubicBezTo>
                        <a:pt x="115" y="501"/>
                        <a:pt x="180" y="598"/>
                        <a:pt x="259" y="665"/>
                      </a:cubicBezTo>
                      <a:cubicBezTo>
                        <a:pt x="337" y="733"/>
                        <a:pt x="426" y="768"/>
                        <a:pt x="517" y="768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398760" y="1360440"/>
                  <a:ext cx="186120" cy="276480"/>
                </a:xfrm>
                <a:custGeom>
                  <a:avLst/>
                  <a:gdLst/>
                  <a:ahLst/>
                  <a:rect l="0" t="0" r="r" b="b"/>
                  <a:pathLst>
                    <a:path fill="none" w="517" h="768">
                      <a:moveTo>
                        <a:pt x="517" y="0"/>
                      </a:moveTo>
                      <a:lnTo>
                        <a:pt x="517" y="0"/>
                      </a:lnTo>
                      <a:cubicBezTo>
                        <a:pt x="426" y="0"/>
                        <a:pt x="337" y="35"/>
                        <a:pt x="258" y="103"/>
                      </a:cubicBezTo>
                      <a:cubicBezTo>
                        <a:pt x="180" y="170"/>
                        <a:pt x="115" y="267"/>
                        <a:pt x="69" y="384"/>
                      </a:cubicBezTo>
                      <a:cubicBezTo>
                        <a:pt x="24" y="501"/>
                        <a:pt x="0" y="633"/>
                        <a:pt x="0" y="768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>
                <a:off x="2575080" y="1636560"/>
                <a:ext cx="662400" cy="547920"/>
              </a:xfrm>
              <a:custGeom>
                <a:avLst/>
                <a:gdLst/>
                <a:ahLst/>
                <a:rect l="0" t="0" r="r" b="b"/>
                <a:pathLst>
                  <a:path fill="none" w="1840" h="1522">
                    <a:moveTo>
                      <a:pt x="0" y="1522"/>
                    </a:moveTo>
                    <a:lnTo>
                      <a:pt x="0" y="0"/>
                    </a:lnTo>
                    <a:lnTo>
                      <a:pt x="184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227400" y="1584360"/>
                <a:ext cx="157680" cy="90720"/>
              </a:xfrm>
              <a:custGeom>
                <a:avLst/>
                <a:gdLst/>
                <a:ahLst/>
                <a:rect l="0" t="0" r="r" b="b"/>
                <a:pathLst>
                  <a:path w="438" h="252">
                    <a:moveTo>
                      <a:pt x="438" y="128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438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075120" y="1913040"/>
                <a:ext cx="1010160" cy="614880"/>
              </a:xfrm>
              <a:custGeom>
                <a:avLst/>
                <a:gdLst/>
                <a:ahLst/>
                <a:rect l="0" t="0" r="r" b="b"/>
                <a:pathLst>
                  <a:path fill="none" w="2806" h="1708">
                    <a:moveTo>
                      <a:pt x="0" y="1708"/>
                    </a:moveTo>
                    <a:lnTo>
                      <a:pt x="2806" y="1708"/>
                    </a:lnTo>
                    <a:lnTo>
                      <a:pt x="2806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917800" y="2475000"/>
                <a:ext cx="157680" cy="90720"/>
              </a:xfrm>
              <a:custGeom>
                <a:avLst/>
                <a:gdLst/>
                <a:ahLst/>
                <a:rect l="0" t="0" r="r" b="b"/>
                <a:pathLst>
                  <a:path w="438" h="252">
                    <a:moveTo>
                      <a:pt x="0" y="128"/>
                    </a:moveTo>
                    <a:lnTo>
                      <a:pt x="438" y="252"/>
                    </a:lnTo>
                    <a:lnTo>
                      <a:pt x="438" y="0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084560" y="1089000"/>
                <a:ext cx="662400" cy="271800"/>
              </a:xfrm>
              <a:custGeom>
                <a:avLst/>
                <a:gdLst/>
                <a:ahLst/>
                <a:rect l="0" t="0" r="r" b="b"/>
                <a:pathLst>
                  <a:path fill="none" w="1840" h="755">
                    <a:moveTo>
                      <a:pt x="0" y="755"/>
                    </a:moveTo>
                    <a:lnTo>
                      <a:pt x="0" y="0"/>
                    </a:lnTo>
                    <a:lnTo>
                      <a:pt x="184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737240" y="1036800"/>
                <a:ext cx="157680" cy="90720"/>
              </a:xfrm>
              <a:custGeom>
                <a:avLst/>
                <a:gdLst/>
                <a:ahLst/>
                <a:rect l="0" t="0" r="r" b="b"/>
                <a:pathLst>
                  <a:path w="438" h="252">
                    <a:moveTo>
                      <a:pt x="438" y="128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438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9160" y="5400720"/>
                <a:ext cx="942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284120" y="5952960"/>
                <a:ext cx="94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2217600" y="5396040"/>
                <a:ext cx="186120" cy="552600"/>
                <a:chOff x="2217600" y="5396040"/>
                <a:chExt cx="186120" cy="5526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2217600" y="5396040"/>
                  <a:ext cx="186120" cy="276480"/>
                </a:xfrm>
                <a:custGeom>
                  <a:avLst/>
                  <a:gdLst/>
                  <a:ahLst/>
                  <a:rect l="0" t="0" r="r" b="b"/>
                  <a:pathLst>
                    <a:path fill="none" w="517" h="768">
                      <a:moveTo>
                        <a:pt x="517" y="768"/>
                      </a:moveTo>
                      <a:lnTo>
                        <a:pt x="517" y="768"/>
                      </a:lnTo>
                      <a:lnTo>
                        <a:pt x="517" y="768"/>
                      </a:lnTo>
                      <a:cubicBezTo>
                        <a:pt x="517" y="633"/>
                        <a:pt x="493" y="501"/>
                        <a:pt x="448" y="384"/>
                      </a:cubicBezTo>
                      <a:cubicBezTo>
                        <a:pt x="402" y="267"/>
                        <a:pt x="337" y="170"/>
                        <a:pt x="258" y="103"/>
                      </a:cubicBezTo>
                      <a:cubicBezTo>
                        <a:pt x="180" y="35"/>
                        <a:pt x="91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217600" y="5672160"/>
                  <a:ext cx="186120" cy="276480"/>
                </a:xfrm>
                <a:custGeom>
                  <a:avLst/>
                  <a:gdLst/>
                  <a:ahLst/>
                  <a:rect l="0" t="0" r="r" b="b"/>
                  <a:pathLst>
                    <a:path fill="none" w="517" h="768">
                      <a:moveTo>
                        <a:pt x="0" y="768"/>
                      </a:moveTo>
                      <a:lnTo>
                        <a:pt x="0" y="768"/>
                      </a:lnTo>
                      <a:cubicBezTo>
                        <a:pt x="91" y="768"/>
                        <a:pt x="180" y="733"/>
                        <a:pt x="259" y="665"/>
                      </a:cubicBezTo>
                      <a:cubicBezTo>
                        <a:pt x="337" y="598"/>
                        <a:pt x="402" y="501"/>
                        <a:pt x="448" y="384"/>
                      </a:cubicBezTo>
                      <a:cubicBezTo>
                        <a:pt x="493" y="267"/>
                        <a:pt x="517" y="135"/>
                        <a:pt x="517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1103400" y="5396040"/>
                <a:ext cx="186120" cy="552600"/>
                <a:chOff x="1103400" y="5396040"/>
                <a:chExt cx="186120" cy="55260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1103400" y="5672160"/>
                  <a:ext cx="186120" cy="276480"/>
                </a:xfrm>
                <a:custGeom>
                  <a:avLst/>
                  <a:gdLst/>
                  <a:ahLst/>
                  <a:rect l="0" t="0" r="r" b="b"/>
                  <a:pathLst>
                    <a:path fill="none" w="517" h="768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0" y="135"/>
                        <a:pt x="24" y="267"/>
                        <a:pt x="69" y="384"/>
                      </a:cubicBezTo>
                      <a:cubicBezTo>
                        <a:pt x="115" y="501"/>
                        <a:pt x="180" y="598"/>
                        <a:pt x="259" y="665"/>
                      </a:cubicBezTo>
                      <a:cubicBezTo>
                        <a:pt x="337" y="733"/>
                        <a:pt x="426" y="768"/>
                        <a:pt x="517" y="768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103400" y="5396040"/>
                  <a:ext cx="186120" cy="276480"/>
                </a:xfrm>
                <a:custGeom>
                  <a:avLst/>
                  <a:gdLst/>
                  <a:ahLst/>
                  <a:rect l="0" t="0" r="r" b="b"/>
                  <a:pathLst>
                    <a:path fill="none" w="517" h="768">
                      <a:moveTo>
                        <a:pt x="517" y="0"/>
                      </a:moveTo>
                      <a:lnTo>
                        <a:pt x="517" y="0"/>
                      </a:lnTo>
                      <a:cubicBezTo>
                        <a:pt x="426" y="0"/>
                        <a:pt x="337" y="35"/>
                        <a:pt x="258" y="103"/>
                      </a:cubicBezTo>
                      <a:cubicBezTo>
                        <a:pt x="180" y="170"/>
                        <a:pt x="115" y="267"/>
                        <a:pt x="69" y="384"/>
                      </a:cubicBezTo>
                      <a:cubicBezTo>
                        <a:pt x="24" y="501"/>
                        <a:pt x="0" y="633"/>
                        <a:pt x="0" y="768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533520" y="5692680"/>
                <a:ext cx="157680" cy="90720"/>
              </a:xfrm>
              <a:custGeom>
                <a:avLst/>
                <a:gdLst/>
                <a:ahLst/>
                <a:rect l="0" t="0" r="r" b="b"/>
                <a:pathLst>
                  <a:path w="438" h="252">
                    <a:moveTo>
                      <a:pt x="0" y="128"/>
                    </a:moveTo>
                    <a:lnTo>
                      <a:pt x="438" y="0"/>
                    </a:lnTo>
                    <a:lnTo>
                      <a:pt x="438" y="252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06600" y="5643720"/>
                <a:ext cx="157680" cy="90720"/>
              </a:xfrm>
              <a:custGeom>
                <a:avLst/>
                <a:gdLst/>
                <a:ahLst/>
                <a:rect l="0" t="0" r="r" b="b"/>
                <a:pathLst>
                  <a:path w="438" h="252">
                    <a:moveTo>
                      <a:pt x="0" y="123"/>
                    </a:moveTo>
                    <a:lnTo>
                      <a:pt x="438" y="0"/>
                    </a:lnTo>
                    <a:lnTo>
                      <a:pt x="438" y="252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33720" y="4749840"/>
                <a:ext cx="157680" cy="90720"/>
              </a:xfrm>
              <a:custGeom>
                <a:avLst/>
                <a:gdLst/>
                <a:ahLst/>
                <a:rect l="0" t="0" r="r" b="b"/>
                <a:pathLst>
                  <a:path w="438" h="252">
                    <a:moveTo>
                      <a:pt x="438" y="128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438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685880" y="4791240"/>
                <a:ext cx="614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671480" y="4791240"/>
                <a:ext cx="0" cy="556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593800" y="5099040"/>
                <a:ext cx="0" cy="585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17760" y="5670720"/>
                <a:ext cx="16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9040" y="5729400"/>
                <a:ext cx="395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93880" y="3546360"/>
                <a:ext cx="1260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03400" y="3484440"/>
                <a:ext cx="157680" cy="90720"/>
              </a:xfrm>
              <a:custGeom>
                <a:avLst/>
                <a:gdLst/>
                <a:ahLst/>
                <a:rect l="0" t="0" r="r" b="b"/>
                <a:pathLst>
                  <a:path w="438" h="252">
                    <a:moveTo>
                      <a:pt x="438" y="128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438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 txBox="1"/>
            <p:nvPr/>
          </p:nvSpPr>
          <p:spPr>
            <a:xfrm>
              <a:off x="522360" y="624348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Continuous Distil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195880" y="912960"/>
            <a:ext cx="3281760" cy="5802120"/>
            <a:chOff x="5195880" y="912960"/>
            <a:chExt cx="3281760" cy="5802120"/>
          </a:xfrm>
        </p:grpSpPr>
        <p:grpSp>
          <p:nvGrpSpPr>
            <p:cNvPr id="98" name=""/>
            <p:cNvGrpSpPr/>
            <p:nvPr/>
          </p:nvGrpSpPr>
          <p:grpSpPr>
            <a:xfrm>
              <a:off x="5195880" y="912960"/>
              <a:ext cx="3281760" cy="5062320"/>
              <a:chOff x="5195880" y="912960"/>
              <a:chExt cx="3281760" cy="5062320"/>
            </a:xfrm>
          </p:grpSpPr>
          <p:sp>
            <p:nvSpPr>
              <p:cNvPr id="99" name=""/>
              <p:cNvSpPr/>
              <p:nvPr/>
            </p:nvSpPr>
            <p:spPr>
              <a:xfrm>
                <a:off x="5815080" y="2336760"/>
                <a:ext cx="685800" cy="23288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5815080" y="2060640"/>
                <a:ext cx="686160" cy="274320"/>
                <a:chOff x="5815080" y="2060640"/>
                <a:chExt cx="686160" cy="2743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815080" y="2060640"/>
                  <a:ext cx="343440" cy="274320"/>
                </a:xfrm>
                <a:custGeom>
                  <a:avLst/>
                  <a:gdLst/>
                  <a:ahLst/>
                  <a:rect l="0" t="0" r="r" b="b"/>
                  <a:pathLst>
                    <a:path fill="none" w="954" h="762">
                      <a:moveTo>
                        <a:pt x="954" y="0"/>
                      </a:moveTo>
                      <a:lnTo>
                        <a:pt x="954" y="0"/>
                      </a:lnTo>
                      <a:cubicBezTo>
                        <a:pt x="787" y="0"/>
                        <a:pt x="622" y="35"/>
                        <a:pt x="477" y="102"/>
                      </a:cubicBezTo>
                      <a:cubicBezTo>
                        <a:pt x="332" y="169"/>
                        <a:pt x="212" y="265"/>
                        <a:pt x="128" y="381"/>
                      </a:cubicBezTo>
                      <a:cubicBezTo>
                        <a:pt x="44" y="497"/>
                        <a:pt x="0" y="628"/>
                        <a:pt x="0" y="762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157800" y="2060640"/>
                  <a:ext cx="343440" cy="274320"/>
                </a:xfrm>
                <a:custGeom>
                  <a:avLst/>
                  <a:gdLst/>
                  <a:ahLst/>
                  <a:rect l="0" t="0" r="r" b="b"/>
                  <a:pathLst>
                    <a:path fill="none" w="954" h="762">
                      <a:moveTo>
                        <a:pt x="954" y="762"/>
                      </a:moveTo>
                      <a:lnTo>
                        <a:pt x="954" y="762"/>
                      </a:lnTo>
                      <a:lnTo>
                        <a:pt x="954" y="762"/>
                      </a:lnTo>
                      <a:cubicBezTo>
                        <a:pt x="954" y="628"/>
                        <a:pt x="910" y="497"/>
                        <a:pt x="826" y="381"/>
                      </a:cubicBezTo>
                      <a:cubicBezTo>
                        <a:pt x="742" y="265"/>
                        <a:pt x="622" y="169"/>
                        <a:pt x="477" y="102"/>
                      </a:cubicBezTo>
                      <a:cubicBezTo>
                        <a:pt x="332" y="35"/>
                        <a:pt x="167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5815080" y="4672800"/>
                <a:ext cx="686160" cy="274320"/>
                <a:chOff x="5815080" y="4672800"/>
                <a:chExt cx="686160" cy="2743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815080" y="4672800"/>
                  <a:ext cx="345600" cy="274320"/>
                </a:xfrm>
                <a:custGeom>
                  <a:avLst/>
                  <a:gdLst/>
                  <a:ahLst/>
                  <a:rect l="0" t="0" r="r" b="b"/>
                  <a:pathLst>
                    <a:path fill="none" w="960" h="762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0" y="134"/>
                        <a:pt x="44" y="265"/>
                        <a:pt x="129" y="381"/>
                      </a:cubicBezTo>
                      <a:cubicBezTo>
                        <a:pt x="213" y="497"/>
                        <a:pt x="334" y="593"/>
                        <a:pt x="480" y="660"/>
                      </a:cubicBezTo>
                      <a:cubicBezTo>
                        <a:pt x="626" y="727"/>
                        <a:pt x="791" y="762"/>
                        <a:pt x="960" y="762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157800" y="4672800"/>
                  <a:ext cx="343440" cy="274320"/>
                </a:xfrm>
                <a:custGeom>
                  <a:avLst/>
                  <a:gdLst/>
                  <a:ahLst/>
                  <a:rect l="0" t="0" r="r" b="b"/>
                  <a:pathLst>
                    <a:path fill="none" w="954" h="762">
                      <a:moveTo>
                        <a:pt x="0" y="762"/>
                      </a:moveTo>
                      <a:lnTo>
                        <a:pt x="0" y="762"/>
                      </a:lnTo>
                      <a:cubicBezTo>
                        <a:pt x="167" y="762"/>
                        <a:pt x="332" y="727"/>
                        <a:pt x="477" y="660"/>
                      </a:cubicBezTo>
                      <a:cubicBezTo>
                        <a:pt x="622" y="593"/>
                        <a:pt x="742" y="497"/>
                        <a:pt x="826" y="381"/>
                      </a:cubicBezTo>
                      <a:cubicBezTo>
                        <a:pt x="910" y="265"/>
                        <a:pt x="954" y="134"/>
                        <a:pt x="954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>
                <a:off x="5472000" y="5427720"/>
                <a:ext cx="1381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472000" y="5975280"/>
                <a:ext cx="1381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6841440" y="5423040"/>
                <a:ext cx="274320" cy="547920"/>
                <a:chOff x="6841440" y="5423040"/>
                <a:chExt cx="274320" cy="5479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6841440" y="5423040"/>
                  <a:ext cx="274320" cy="274320"/>
                </a:xfrm>
                <a:custGeom>
                  <a:avLst/>
                  <a:gdLst/>
                  <a:ahLst/>
                  <a:rect l="0" t="0" r="r" b="b"/>
                  <a:pathLst>
                    <a:path fill="none" w="762" h="762">
                      <a:moveTo>
                        <a:pt x="762" y="762"/>
                      </a:moveTo>
                      <a:lnTo>
                        <a:pt x="762" y="762"/>
                      </a:lnTo>
                      <a:lnTo>
                        <a:pt x="762" y="762"/>
                      </a:lnTo>
                      <a:cubicBezTo>
                        <a:pt x="762" y="628"/>
                        <a:pt x="727" y="497"/>
                        <a:pt x="660" y="381"/>
                      </a:cubicBezTo>
                      <a:cubicBezTo>
                        <a:pt x="593" y="265"/>
                        <a:pt x="497" y="169"/>
                        <a:pt x="381" y="102"/>
                      </a:cubicBezTo>
                      <a:cubicBezTo>
                        <a:pt x="265" y="35"/>
                        <a:pt x="134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841440" y="5696640"/>
                  <a:ext cx="274320" cy="274320"/>
                </a:xfrm>
                <a:custGeom>
                  <a:avLst/>
                  <a:gdLst/>
                  <a:ahLst/>
                  <a:rect l="0" t="0" r="r" b="b"/>
                  <a:pathLst>
                    <a:path fill="none" w="762" h="762">
                      <a:moveTo>
                        <a:pt x="0" y="762"/>
                      </a:moveTo>
                      <a:lnTo>
                        <a:pt x="0" y="762"/>
                      </a:lnTo>
                      <a:cubicBezTo>
                        <a:pt x="134" y="762"/>
                        <a:pt x="265" y="727"/>
                        <a:pt x="381" y="660"/>
                      </a:cubicBezTo>
                      <a:cubicBezTo>
                        <a:pt x="497" y="593"/>
                        <a:pt x="593" y="497"/>
                        <a:pt x="660" y="381"/>
                      </a:cubicBezTo>
                      <a:cubicBezTo>
                        <a:pt x="727" y="265"/>
                        <a:pt x="762" y="134"/>
                        <a:pt x="762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5195880" y="5423040"/>
                <a:ext cx="274320" cy="547920"/>
                <a:chOff x="5195880" y="5423040"/>
                <a:chExt cx="274320" cy="5479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195880" y="5696640"/>
                  <a:ext cx="274320" cy="274320"/>
                </a:xfrm>
                <a:custGeom>
                  <a:avLst/>
                  <a:gdLst/>
                  <a:ahLst/>
                  <a:rect l="0" t="0" r="r" b="b"/>
                  <a:pathLst>
                    <a:path fill="none" w="762" h="762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0" y="134"/>
                        <a:pt x="35" y="265"/>
                        <a:pt x="102" y="381"/>
                      </a:cubicBezTo>
                      <a:cubicBezTo>
                        <a:pt x="169" y="497"/>
                        <a:pt x="265" y="593"/>
                        <a:pt x="381" y="660"/>
                      </a:cubicBezTo>
                      <a:cubicBezTo>
                        <a:pt x="497" y="727"/>
                        <a:pt x="628" y="762"/>
                        <a:pt x="762" y="762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195880" y="5423040"/>
                  <a:ext cx="274320" cy="274320"/>
                </a:xfrm>
                <a:custGeom>
                  <a:avLst/>
                  <a:gdLst/>
                  <a:ahLst/>
                  <a:rect l="0" t="0" r="r" b="b"/>
                  <a:pathLst>
                    <a:path fill="none" w="762" h="762">
                      <a:moveTo>
                        <a:pt x="762" y="0"/>
                      </a:moveTo>
                      <a:lnTo>
                        <a:pt x="762" y="0"/>
                      </a:lnTo>
                      <a:cubicBezTo>
                        <a:pt x="628" y="0"/>
                        <a:pt x="497" y="35"/>
                        <a:pt x="381" y="102"/>
                      </a:cubicBezTo>
                      <a:cubicBezTo>
                        <a:pt x="265" y="169"/>
                        <a:pt x="169" y="265"/>
                        <a:pt x="102" y="381"/>
                      </a:cubicBezTo>
                      <a:cubicBezTo>
                        <a:pt x="35" y="497"/>
                        <a:pt x="0" y="628"/>
                        <a:pt x="0" y="762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7167600" y="1241280"/>
                <a:ext cx="942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62920" y="1793880"/>
                <a:ext cx="942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8096400" y="1236600"/>
                <a:ext cx="186120" cy="552600"/>
                <a:chOff x="8096400" y="1236600"/>
                <a:chExt cx="186120" cy="5526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8096400" y="1236600"/>
                  <a:ext cx="186120" cy="276480"/>
                </a:xfrm>
                <a:custGeom>
                  <a:avLst/>
                  <a:gdLst/>
                  <a:ahLst/>
                  <a:rect l="0" t="0" r="r" b="b"/>
                  <a:pathLst>
                    <a:path fill="none" w="517" h="768">
                      <a:moveTo>
                        <a:pt x="517" y="768"/>
                      </a:moveTo>
                      <a:lnTo>
                        <a:pt x="517" y="768"/>
                      </a:lnTo>
                      <a:lnTo>
                        <a:pt x="517" y="768"/>
                      </a:lnTo>
                      <a:cubicBezTo>
                        <a:pt x="517" y="633"/>
                        <a:pt x="493" y="501"/>
                        <a:pt x="448" y="384"/>
                      </a:cubicBezTo>
                      <a:cubicBezTo>
                        <a:pt x="402" y="267"/>
                        <a:pt x="337" y="170"/>
                        <a:pt x="258" y="103"/>
                      </a:cubicBezTo>
                      <a:cubicBezTo>
                        <a:pt x="180" y="35"/>
                        <a:pt x="91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8096400" y="1512720"/>
                  <a:ext cx="186120" cy="276480"/>
                </a:xfrm>
                <a:custGeom>
                  <a:avLst/>
                  <a:gdLst/>
                  <a:ahLst/>
                  <a:rect l="0" t="0" r="r" b="b"/>
                  <a:pathLst>
                    <a:path fill="none" w="517" h="768">
                      <a:moveTo>
                        <a:pt x="0" y="768"/>
                      </a:moveTo>
                      <a:lnTo>
                        <a:pt x="0" y="768"/>
                      </a:lnTo>
                      <a:cubicBezTo>
                        <a:pt x="91" y="768"/>
                        <a:pt x="180" y="733"/>
                        <a:pt x="259" y="665"/>
                      </a:cubicBezTo>
                      <a:cubicBezTo>
                        <a:pt x="337" y="598"/>
                        <a:pt x="402" y="501"/>
                        <a:pt x="448" y="384"/>
                      </a:cubicBezTo>
                      <a:cubicBezTo>
                        <a:pt x="493" y="267"/>
                        <a:pt x="517" y="135"/>
                        <a:pt x="517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981840" y="1236600"/>
                <a:ext cx="186120" cy="552600"/>
                <a:chOff x="6981840" y="1236600"/>
                <a:chExt cx="186120" cy="5526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981840" y="1512720"/>
                  <a:ext cx="186120" cy="276480"/>
                </a:xfrm>
                <a:custGeom>
                  <a:avLst/>
                  <a:gdLst/>
                  <a:ahLst/>
                  <a:rect l="0" t="0" r="r" b="b"/>
                  <a:pathLst>
                    <a:path fill="none" w="517" h="768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0" y="135"/>
                        <a:pt x="24" y="267"/>
                        <a:pt x="69" y="384"/>
                      </a:cubicBezTo>
                      <a:cubicBezTo>
                        <a:pt x="115" y="501"/>
                        <a:pt x="180" y="598"/>
                        <a:pt x="259" y="665"/>
                      </a:cubicBezTo>
                      <a:cubicBezTo>
                        <a:pt x="337" y="733"/>
                        <a:pt x="426" y="768"/>
                        <a:pt x="517" y="768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981840" y="1236600"/>
                  <a:ext cx="186120" cy="276480"/>
                </a:xfrm>
                <a:custGeom>
                  <a:avLst/>
                  <a:gdLst/>
                  <a:ahLst/>
                  <a:rect l="0" t="0" r="r" b="b"/>
                  <a:pathLst>
                    <a:path fill="none" w="517" h="768">
                      <a:moveTo>
                        <a:pt x="517" y="0"/>
                      </a:moveTo>
                      <a:lnTo>
                        <a:pt x="517" y="0"/>
                      </a:lnTo>
                      <a:cubicBezTo>
                        <a:pt x="426" y="0"/>
                        <a:pt x="337" y="35"/>
                        <a:pt x="258" y="103"/>
                      </a:cubicBezTo>
                      <a:cubicBezTo>
                        <a:pt x="180" y="170"/>
                        <a:pt x="115" y="267"/>
                        <a:pt x="69" y="384"/>
                      </a:cubicBezTo>
                      <a:cubicBezTo>
                        <a:pt x="24" y="501"/>
                        <a:pt x="0" y="633"/>
                        <a:pt x="0" y="768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6157800" y="1512720"/>
                <a:ext cx="662400" cy="547920"/>
              </a:xfrm>
              <a:custGeom>
                <a:avLst/>
                <a:gdLst/>
                <a:ahLst/>
                <a:rect l="0" t="0" r="r" b="b"/>
                <a:pathLst>
                  <a:path fill="none" w="1840" h="1522">
                    <a:moveTo>
                      <a:pt x="0" y="1522"/>
                    </a:moveTo>
                    <a:lnTo>
                      <a:pt x="0" y="0"/>
                    </a:lnTo>
                    <a:lnTo>
                      <a:pt x="184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10480" y="1460520"/>
                <a:ext cx="157680" cy="90720"/>
              </a:xfrm>
              <a:custGeom>
                <a:avLst/>
                <a:gdLst/>
                <a:ahLst/>
                <a:rect l="0" t="0" r="r" b="b"/>
                <a:pathLst>
                  <a:path w="438" h="252">
                    <a:moveTo>
                      <a:pt x="438" y="128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438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657840" y="1789200"/>
                <a:ext cx="1010160" cy="614880"/>
              </a:xfrm>
              <a:custGeom>
                <a:avLst/>
                <a:gdLst/>
                <a:ahLst/>
                <a:rect l="0" t="0" r="r" b="b"/>
                <a:pathLst>
                  <a:path fill="none" w="2806" h="1708">
                    <a:moveTo>
                      <a:pt x="0" y="1708"/>
                    </a:moveTo>
                    <a:lnTo>
                      <a:pt x="2806" y="1708"/>
                    </a:lnTo>
                    <a:lnTo>
                      <a:pt x="2806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500880" y="2351160"/>
                <a:ext cx="157680" cy="90720"/>
              </a:xfrm>
              <a:custGeom>
                <a:avLst/>
                <a:gdLst/>
                <a:ahLst/>
                <a:rect l="0" t="0" r="r" b="b"/>
                <a:pathLst>
                  <a:path w="438" h="252">
                    <a:moveTo>
                      <a:pt x="0" y="128"/>
                    </a:moveTo>
                    <a:lnTo>
                      <a:pt x="438" y="252"/>
                    </a:lnTo>
                    <a:lnTo>
                      <a:pt x="438" y="0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67640" y="965160"/>
                <a:ext cx="662400" cy="271800"/>
              </a:xfrm>
              <a:custGeom>
                <a:avLst/>
                <a:gdLst/>
                <a:ahLst/>
                <a:rect l="0" t="0" r="r" b="b"/>
                <a:pathLst>
                  <a:path fill="none" w="1840" h="755">
                    <a:moveTo>
                      <a:pt x="0" y="755"/>
                    </a:moveTo>
                    <a:lnTo>
                      <a:pt x="0" y="0"/>
                    </a:lnTo>
                    <a:lnTo>
                      <a:pt x="184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319960" y="912960"/>
                <a:ext cx="157680" cy="90720"/>
              </a:xfrm>
              <a:custGeom>
                <a:avLst/>
                <a:gdLst/>
                <a:ahLst/>
                <a:rect l="0" t="0" r="r" b="b"/>
                <a:pathLst>
                  <a:path w="438" h="252">
                    <a:moveTo>
                      <a:pt x="438" y="128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438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57800" y="4941720"/>
                <a:ext cx="0" cy="48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 txBox="1"/>
            <p:nvPr/>
          </p:nvSpPr>
          <p:spPr>
            <a:xfrm>
              <a:off x="5272200" y="6257880"/>
              <a:ext cx="2436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Batch Distil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 txBox="1"/>
          <p:nvPr/>
        </p:nvSpPr>
        <p:spPr>
          <a:xfrm>
            <a:off x="647640" y="217440"/>
            <a:ext cx="7864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Unsteady State Nature of Batch Disti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"/>
          <p:cNvSpPr/>
          <p:nvPr/>
        </p:nvSpPr>
        <p:spPr>
          <a:xfrm>
            <a:off x="3832200" y="3405240"/>
            <a:ext cx="0" cy="1541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361040" y="3405240"/>
            <a:ext cx="0" cy="1541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3832200" y="3200400"/>
            <a:ext cx="273240" cy="208800"/>
          </a:xfrm>
          <a:custGeom>
            <a:avLst/>
            <a:gdLst/>
            <a:ahLst/>
            <a:rect l="0" t="0" r="r" b="b"/>
            <a:pathLst>
              <a:path fill="none" w="759" h="580">
                <a:moveTo>
                  <a:pt x="759" y="0"/>
                </a:moveTo>
                <a:lnTo>
                  <a:pt x="759" y="0"/>
                </a:lnTo>
                <a:lnTo>
                  <a:pt x="759" y="0"/>
                </a:lnTo>
                <a:cubicBezTo>
                  <a:pt x="626" y="0"/>
                  <a:pt x="495" y="27"/>
                  <a:pt x="379" y="78"/>
                </a:cubicBezTo>
                <a:cubicBezTo>
                  <a:pt x="264" y="130"/>
                  <a:pt x="168" y="204"/>
                  <a:pt x="102" y="293"/>
                </a:cubicBezTo>
                <a:cubicBezTo>
                  <a:pt x="36" y="380"/>
                  <a:pt x="1" y="479"/>
                  <a:pt x="0" y="58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4105440" y="3200400"/>
            <a:ext cx="273240" cy="208800"/>
          </a:xfrm>
          <a:custGeom>
            <a:avLst/>
            <a:gdLst/>
            <a:ahLst/>
            <a:rect l="0" t="0" r="r" b="b"/>
            <a:pathLst>
              <a:path fill="none" w="759" h="580">
                <a:moveTo>
                  <a:pt x="759" y="580"/>
                </a:moveTo>
                <a:lnTo>
                  <a:pt x="759" y="580"/>
                </a:lnTo>
                <a:cubicBezTo>
                  <a:pt x="758" y="479"/>
                  <a:pt x="723" y="380"/>
                  <a:pt x="657" y="293"/>
                </a:cubicBezTo>
                <a:cubicBezTo>
                  <a:pt x="591" y="204"/>
                  <a:pt x="495" y="130"/>
                  <a:pt x="380" y="78"/>
                </a:cubicBezTo>
                <a:cubicBezTo>
                  <a:pt x="264" y="27"/>
                  <a:pt x="133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5962680" y="2546280"/>
            <a:ext cx="0" cy="89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6464160" y="2546280"/>
            <a:ext cx="0" cy="89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5962680" y="2414520"/>
            <a:ext cx="258480" cy="130680"/>
          </a:xfrm>
          <a:custGeom>
            <a:avLst/>
            <a:gdLst/>
            <a:ahLst/>
            <a:rect l="0" t="0" r="r" b="b"/>
            <a:pathLst>
              <a:path fill="none" w="718" h="363">
                <a:moveTo>
                  <a:pt x="718" y="0"/>
                </a:moveTo>
                <a:lnTo>
                  <a:pt x="718" y="0"/>
                </a:lnTo>
                <a:cubicBezTo>
                  <a:pt x="592" y="0"/>
                  <a:pt x="468" y="17"/>
                  <a:pt x="359" y="49"/>
                </a:cubicBezTo>
                <a:cubicBezTo>
                  <a:pt x="250" y="80"/>
                  <a:pt x="159" y="126"/>
                  <a:pt x="96" y="182"/>
                </a:cubicBezTo>
                <a:cubicBezTo>
                  <a:pt x="33" y="237"/>
                  <a:pt x="0" y="299"/>
                  <a:pt x="0" y="36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6220800" y="2414520"/>
            <a:ext cx="258480" cy="130680"/>
          </a:xfrm>
          <a:custGeom>
            <a:avLst/>
            <a:gdLst/>
            <a:ahLst/>
            <a:rect l="0" t="0" r="r" b="b"/>
            <a:pathLst>
              <a:path fill="none" w="718" h="363">
                <a:moveTo>
                  <a:pt x="718" y="363"/>
                </a:moveTo>
                <a:lnTo>
                  <a:pt x="718" y="363"/>
                </a:lnTo>
                <a:lnTo>
                  <a:pt x="718" y="363"/>
                </a:lnTo>
                <a:cubicBezTo>
                  <a:pt x="718" y="299"/>
                  <a:pt x="685" y="237"/>
                  <a:pt x="622" y="181"/>
                </a:cubicBezTo>
                <a:cubicBezTo>
                  <a:pt x="559" y="126"/>
                  <a:pt x="468" y="80"/>
                  <a:pt x="359" y="49"/>
                </a:cubicBezTo>
                <a:cubicBezTo>
                  <a:pt x="250" y="17"/>
                  <a:pt x="126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5962680" y="3421800"/>
            <a:ext cx="258480" cy="124920"/>
          </a:xfrm>
          <a:custGeom>
            <a:avLst/>
            <a:gdLst/>
            <a:ahLst/>
            <a:rect l="0" t="0" r="r" b="b"/>
            <a:pathLst>
              <a:path fill="none" w="718" h="347">
                <a:moveTo>
                  <a:pt x="0" y="0"/>
                </a:moveTo>
                <a:lnTo>
                  <a:pt x="0" y="0"/>
                </a:lnTo>
                <a:cubicBezTo>
                  <a:pt x="0" y="2"/>
                  <a:pt x="0" y="4"/>
                  <a:pt x="0" y="6"/>
                </a:cubicBezTo>
                <a:cubicBezTo>
                  <a:pt x="0" y="66"/>
                  <a:pt x="33" y="125"/>
                  <a:pt x="96" y="177"/>
                </a:cubicBezTo>
                <a:cubicBezTo>
                  <a:pt x="159" y="228"/>
                  <a:pt x="250" y="271"/>
                  <a:pt x="359" y="301"/>
                </a:cubicBezTo>
                <a:cubicBezTo>
                  <a:pt x="468" y="331"/>
                  <a:pt x="592" y="347"/>
                  <a:pt x="718" y="347"/>
                </a:cubicBezTo>
                <a:lnTo>
                  <a:pt x="718" y="3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6220800" y="3421800"/>
            <a:ext cx="258480" cy="124920"/>
          </a:xfrm>
          <a:custGeom>
            <a:avLst/>
            <a:gdLst/>
            <a:ahLst/>
            <a:rect l="0" t="0" r="r" b="b"/>
            <a:pathLst>
              <a:path fill="none" w="718" h="347">
                <a:moveTo>
                  <a:pt x="0" y="347"/>
                </a:moveTo>
                <a:lnTo>
                  <a:pt x="0" y="347"/>
                </a:lnTo>
                <a:lnTo>
                  <a:pt x="0" y="347"/>
                </a:lnTo>
                <a:cubicBezTo>
                  <a:pt x="126" y="347"/>
                  <a:pt x="250" y="331"/>
                  <a:pt x="359" y="301"/>
                </a:cubicBezTo>
                <a:cubicBezTo>
                  <a:pt x="468" y="271"/>
                  <a:pt x="559" y="228"/>
                  <a:pt x="622" y="177"/>
                </a:cubicBezTo>
                <a:cubicBezTo>
                  <a:pt x="685" y="125"/>
                  <a:pt x="718" y="66"/>
                  <a:pt x="718" y="6"/>
                </a:cubicBezTo>
                <a:cubicBezTo>
                  <a:pt x="718" y="4"/>
                  <a:pt x="718" y="2"/>
                  <a:pt x="71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>
            <a:off x="5962680" y="3354480"/>
            <a:ext cx="258480" cy="128160"/>
          </a:xfrm>
          <a:custGeom>
            <a:avLst/>
            <a:gdLst/>
            <a:ahLst/>
            <a:rect l="0" t="0" r="r" b="b"/>
            <a:pathLst>
              <a:path fill="none" w="718" h="356">
                <a:moveTo>
                  <a:pt x="718" y="0"/>
                </a:moveTo>
                <a:lnTo>
                  <a:pt x="718" y="0"/>
                </a:lnTo>
                <a:cubicBezTo>
                  <a:pt x="592" y="0"/>
                  <a:pt x="468" y="16"/>
                  <a:pt x="359" y="48"/>
                </a:cubicBezTo>
                <a:cubicBezTo>
                  <a:pt x="250" y="79"/>
                  <a:pt x="159" y="124"/>
                  <a:pt x="96" y="178"/>
                </a:cubicBezTo>
                <a:cubicBezTo>
                  <a:pt x="33" y="232"/>
                  <a:pt x="0" y="294"/>
                  <a:pt x="0" y="356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6220800" y="3354480"/>
            <a:ext cx="258480" cy="128160"/>
          </a:xfrm>
          <a:custGeom>
            <a:avLst/>
            <a:gdLst/>
            <a:ahLst/>
            <a:rect l="0" t="0" r="r" b="b"/>
            <a:pathLst>
              <a:path fill="none" w="718" h="356">
                <a:moveTo>
                  <a:pt x="718" y="356"/>
                </a:moveTo>
                <a:lnTo>
                  <a:pt x="718" y="356"/>
                </a:lnTo>
                <a:lnTo>
                  <a:pt x="718" y="356"/>
                </a:lnTo>
                <a:cubicBezTo>
                  <a:pt x="718" y="294"/>
                  <a:pt x="685" y="232"/>
                  <a:pt x="622" y="178"/>
                </a:cubicBezTo>
                <a:cubicBezTo>
                  <a:pt x="559" y="124"/>
                  <a:pt x="468" y="79"/>
                  <a:pt x="359" y="48"/>
                </a:cubicBezTo>
                <a:cubicBezTo>
                  <a:pt x="250" y="16"/>
                  <a:pt x="126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"/>
          <p:cNvSpPr/>
          <p:nvPr/>
        </p:nvSpPr>
        <p:spPr>
          <a:xfrm>
            <a:off x="5962680" y="2494080"/>
            <a:ext cx="258480" cy="127440"/>
          </a:xfrm>
          <a:custGeom>
            <a:avLst/>
            <a:gdLst/>
            <a:ahLst/>
            <a:rect l="0" t="0" r="r" b="b"/>
            <a:pathLst>
              <a:path fill="none" w="718" h="354">
                <a:moveTo>
                  <a:pt x="0" y="0"/>
                </a:moveTo>
                <a:lnTo>
                  <a:pt x="0" y="0"/>
                </a:lnTo>
                <a:cubicBezTo>
                  <a:pt x="0" y="62"/>
                  <a:pt x="33" y="123"/>
                  <a:pt x="96" y="177"/>
                </a:cubicBezTo>
                <a:cubicBezTo>
                  <a:pt x="159" y="231"/>
                  <a:pt x="250" y="276"/>
                  <a:pt x="359" y="307"/>
                </a:cubicBezTo>
                <a:cubicBezTo>
                  <a:pt x="468" y="338"/>
                  <a:pt x="592" y="354"/>
                  <a:pt x="718" y="354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"/>
          <p:cNvSpPr/>
          <p:nvPr/>
        </p:nvSpPr>
        <p:spPr>
          <a:xfrm>
            <a:off x="6220800" y="2494080"/>
            <a:ext cx="258480" cy="127440"/>
          </a:xfrm>
          <a:custGeom>
            <a:avLst/>
            <a:gdLst/>
            <a:ahLst/>
            <a:rect l="0" t="0" r="r" b="b"/>
            <a:pathLst>
              <a:path fill="none" w="718" h="354">
                <a:moveTo>
                  <a:pt x="0" y="354"/>
                </a:moveTo>
                <a:lnTo>
                  <a:pt x="0" y="354"/>
                </a:lnTo>
                <a:cubicBezTo>
                  <a:pt x="126" y="354"/>
                  <a:pt x="250" y="338"/>
                  <a:pt x="359" y="307"/>
                </a:cubicBezTo>
                <a:cubicBezTo>
                  <a:pt x="468" y="276"/>
                  <a:pt x="559" y="231"/>
                  <a:pt x="622" y="177"/>
                </a:cubicBezTo>
                <a:cubicBezTo>
                  <a:pt x="685" y="123"/>
                  <a:pt x="718" y="62"/>
                  <a:pt x="71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6797520" y="2560680"/>
            <a:ext cx="0" cy="90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7300800" y="2560680"/>
            <a:ext cx="0" cy="90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6797880" y="2443320"/>
            <a:ext cx="259200" cy="118800"/>
          </a:xfrm>
          <a:custGeom>
            <a:avLst/>
            <a:gdLst/>
            <a:ahLst/>
            <a:rect l="0" t="0" r="r" b="b"/>
            <a:pathLst>
              <a:path fill="none" w="720" h="330">
                <a:moveTo>
                  <a:pt x="720" y="0"/>
                </a:moveTo>
                <a:lnTo>
                  <a:pt x="720" y="0"/>
                </a:lnTo>
                <a:lnTo>
                  <a:pt x="720" y="0"/>
                </a:lnTo>
                <a:cubicBezTo>
                  <a:pt x="593" y="0"/>
                  <a:pt x="469" y="16"/>
                  <a:pt x="360" y="45"/>
                </a:cubicBezTo>
                <a:cubicBezTo>
                  <a:pt x="250" y="75"/>
                  <a:pt x="159" y="117"/>
                  <a:pt x="96" y="169"/>
                </a:cubicBezTo>
                <a:cubicBezTo>
                  <a:pt x="36" y="218"/>
                  <a:pt x="3" y="273"/>
                  <a:pt x="0" y="33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7056360" y="2443320"/>
            <a:ext cx="259200" cy="118800"/>
          </a:xfrm>
          <a:custGeom>
            <a:avLst/>
            <a:gdLst/>
            <a:ahLst/>
            <a:rect l="0" t="0" r="r" b="b"/>
            <a:pathLst>
              <a:path fill="none" w="720" h="330">
                <a:moveTo>
                  <a:pt x="720" y="330"/>
                </a:moveTo>
                <a:lnTo>
                  <a:pt x="720" y="330"/>
                </a:lnTo>
                <a:cubicBezTo>
                  <a:pt x="717" y="273"/>
                  <a:pt x="684" y="218"/>
                  <a:pt x="624" y="169"/>
                </a:cubicBezTo>
                <a:cubicBezTo>
                  <a:pt x="561" y="117"/>
                  <a:pt x="470" y="75"/>
                  <a:pt x="360" y="45"/>
                </a:cubicBezTo>
                <a:cubicBezTo>
                  <a:pt x="251" y="16"/>
                  <a:pt x="127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"/>
          <p:cNvSpPr/>
          <p:nvPr/>
        </p:nvSpPr>
        <p:spPr>
          <a:xfrm>
            <a:off x="6797520" y="3442680"/>
            <a:ext cx="259200" cy="115560"/>
          </a:xfrm>
          <a:custGeom>
            <a:avLst/>
            <a:gdLst/>
            <a:ahLst/>
            <a:rect l="0" t="0" r="r" b="b"/>
            <a:pathLst>
              <a:path fill="none" w="720" h="321">
                <a:moveTo>
                  <a:pt x="0" y="0"/>
                </a:moveTo>
                <a:lnTo>
                  <a:pt x="0" y="0"/>
                </a:lnTo>
                <a:cubicBezTo>
                  <a:pt x="0" y="56"/>
                  <a:pt x="33" y="112"/>
                  <a:pt x="96" y="161"/>
                </a:cubicBezTo>
                <a:cubicBezTo>
                  <a:pt x="160" y="209"/>
                  <a:pt x="251" y="250"/>
                  <a:pt x="360" y="278"/>
                </a:cubicBezTo>
                <a:cubicBezTo>
                  <a:pt x="469" y="306"/>
                  <a:pt x="594" y="321"/>
                  <a:pt x="720" y="321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"/>
          <p:cNvSpPr/>
          <p:nvPr/>
        </p:nvSpPr>
        <p:spPr>
          <a:xfrm>
            <a:off x="7056360" y="3442680"/>
            <a:ext cx="259200" cy="115560"/>
          </a:xfrm>
          <a:custGeom>
            <a:avLst/>
            <a:gdLst/>
            <a:ahLst/>
            <a:rect l="0" t="0" r="r" b="b"/>
            <a:pathLst>
              <a:path fill="none" w="720" h="321">
                <a:moveTo>
                  <a:pt x="0" y="321"/>
                </a:moveTo>
                <a:lnTo>
                  <a:pt x="0" y="321"/>
                </a:lnTo>
                <a:cubicBezTo>
                  <a:pt x="126" y="321"/>
                  <a:pt x="251" y="306"/>
                  <a:pt x="360" y="278"/>
                </a:cubicBezTo>
                <a:cubicBezTo>
                  <a:pt x="469" y="250"/>
                  <a:pt x="560" y="209"/>
                  <a:pt x="624" y="160"/>
                </a:cubicBezTo>
                <a:cubicBezTo>
                  <a:pt x="687" y="112"/>
                  <a:pt x="720" y="56"/>
                  <a:pt x="72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>
            <a:off x="6797520" y="3379680"/>
            <a:ext cx="259200" cy="128160"/>
          </a:xfrm>
          <a:custGeom>
            <a:avLst/>
            <a:gdLst/>
            <a:ahLst/>
            <a:rect l="0" t="0" r="r" b="b"/>
            <a:pathLst>
              <a:path fill="none" w="720" h="356">
                <a:moveTo>
                  <a:pt x="720" y="0"/>
                </a:moveTo>
                <a:lnTo>
                  <a:pt x="720" y="0"/>
                </a:lnTo>
                <a:cubicBezTo>
                  <a:pt x="594" y="0"/>
                  <a:pt x="469" y="16"/>
                  <a:pt x="360" y="48"/>
                </a:cubicBezTo>
                <a:cubicBezTo>
                  <a:pt x="251" y="79"/>
                  <a:pt x="160" y="124"/>
                  <a:pt x="96" y="178"/>
                </a:cubicBezTo>
                <a:cubicBezTo>
                  <a:pt x="33" y="232"/>
                  <a:pt x="0" y="294"/>
                  <a:pt x="0" y="356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>
            <a:off x="7056360" y="3379680"/>
            <a:ext cx="259200" cy="128160"/>
          </a:xfrm>
          <a:custGeom>
            <a:avLst/>
            <a:gdLst/>
            <a:ahLst/>
            <a:rect l="0" t="0" r="r" b="b"/>
            <a:pathLst>
              <a:path fill="none" w="720" h="356">
                <a:moveTo>
                  <a:pt x="720" y="356"/>
                </a:moveTo>
                <a:lnTo>
                  <a:pt x="720" y="356"/>
                </a:lnTo>
                <a:lnTo>
                  <a:pt x="720" y="356"/>
                </a:lnTo>
                <a:cubicBezTo>
                  <a:pt x="720" y="294"/>
                  <a:pt x="687" y="232"/>
                  <a:pt x="624" y="178"/>
                </a:cubicBezTo>
                <a:cubicBezTo>
                  <a:pt x="560" y="124"/>
                  <a:pt x="469" y="79"/>
                  <a:pt x="360" y="48"/>
                </a:cubicBezTo>
                <a:cubicBezTo>
                  <a:pt x="251" y="16"/>
                  <a:pt x="126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>
            <a:off x="6797520" y="2506680"/>
            <a:ext cx="259200" cy="130680"/>
          </a:xfrm>
          <a:custGeom>
            <a:avLst/>
            <a:gdLst/>
            <a:ahLst/>
            <a:rect l="0" t="0" r="r" b="b"/>
            <a:pathLst>
              <a:path fill="none" w="720" h="363">
                <a:moveTo>
                  <a:pt x="0" y="0"/>
                </a:moveTo>
                <a:lnTo>
                  <a:pt x="0" y="0"/>
                </a:lnTo>
                <a:cubicBezTo>
                  <a:pt x="0" y="64"/>
                  <a:pt x="33" y="126"/>
                  <a:pt x="96" y="182"/>
                </a:cubicBezTo>
                <a:cubicBezTo>
                  <a:pt x="160" y="237"/>
                  <a:pt x="251" y="283"/>
                  <a:pt x="360" y="314"/>
                </a:cubicBezTo>
                <a:cubicBezTo>
                  <a:pt x="469" y="346"/>
                  <a:pt x="594" y="363"/>
                  <a:pt x="720" y="36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"/>
          <p:cNvSpPr/>
          <p:nvPr/>
        </p:nvSpPr>
        <p:spPr>
          <a:xfrm>
            <a:off x="7056360" y="2506680"/>
            <a:ext cx="259200" cy="130680"/>
          </a:xfrm>
          <a:custGeom>
            <a:avLst/>
            <a:gdLst/>
            <a:ahLst/>
            <a:rect l="0" t="0" r="r" b="b"/>
            <a:pathLst>
              <a:path fill="none" w="720" h="363">
                <a:moveTo>
                  <a:pt x="0" y="363"/>
                </a:moveTo>
                <a:lnTo>
                  <a:pt x="0" y="363"/>
                </a:lnTo>
                <a:cubicBezTo>
                  <a:pt x="126" y="363"/>
                  <a:pt x="251" y="346"/>
                  <a:pt x="360" y="314"/>
                </a:cubicBezTo>
                <a:cubicBezTo>
                  <a:pt x="469" y="283"/>
                  <a:pt x="560" y="237"/>
                  <a:pt x="624" y="181"/>
                </a:cubicBezTo>
                <a:cubicBezTo>
                  <a:pt x="687" y="126"/>
                  <a:pt x="720" y="64"/>
                  <a:pt x="72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"/>
          <p:cNvSpPr/>
          <p:nvPr/>
        </p:nvSpPr>
        <p:spPr>
          <a:xfrm>
            <a:off x="3832200" y="3443400"/>
            <a:ext cx="528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>
            <a:off x="3846600" y="372600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"/>
          <p:cNvSpPr/>
          <p:nvPr/>
        </p:nvSpPr>
        <p:spPr>
          <a:xfrm>
            <a:off x="3832200" y="4059360"/>
            <a:ext cx="528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>
            <a:off x="4105440" y="2970360"/>
            <a:ext cx="0" cy="230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>
            <a:off x="4713120" y="2940120"/>
            <a:ext cx="92520" cy="39960"/>
          </a:xfrm>
          <a:custGeom>
            <a:avLst/>
            <a:gdLst/>
            <a:ahLst/>
            <a:rect l="0" t="0" r="r" b="b"/>
            <a:pathLst>
              <a:path w="257" h="111">
                <a:moveTo>
                  <a:pt x="257" y="36"/>
                </a:moveTo>
                <a:lnTo>
                  <a:pt x="0" y="111"/>
                </a:lnTo>
                <a:lnTo>
                  <a:pt x="0" y="36"/>
                </a:lnTo>
                <a:lnTo>
                  <a:pt x="0" y="0"/>
                </a:lnTo>
                <a:lnTo>
                  <a:pt x="257" y="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0" name=""/>
          <p:cNvSpPr/>
          <p:nvPr/>
        </p:nvSpPr>
        <p:spPr>
          <a:xfrm>
            <a:off x="4105440" y="2954160"/>
            <a:ext cx="607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/>
          <p:cNvSpPr/>
          <p:nvPr/>
        </p:nvSpPr>
        <p:spPr>
          <a:xfrm>
            <a:off x="5246640" y="2546280"/>
            <a:ext cx="0" cy="89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/>
          <p:cNvSpPr/>
          <p:nvPr/>
        </p:nvSpPr>
        <p:spPr>
          <a:xfrm>
            <a:off x="4789440" y="2840040"/>
            <a:ext cx="911160" cy="282600"/>
          </a:xfrm>
          <a:prstGeom prst="round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3" name=""/>
          <p:cNvSpPr/>
          <p:nvPr/>
        </p:nvSpPr>
        <p:spPr>
          <a:xfrm>
            <a:off x="5870520" y="2530440"/>
            <a:ext cx="74880" cy="39960"/>
          </a:xfrm>
          <a:custGeom>
            <a:avLst/>
            <a:gdLst/>
            <a:ahLst/>
            <a:rect l="0" t="0" r="r" b="b"/>
            <a:pathLst>
              <a:path w="208" h="111">
                <a:moveTo>
                  <a:pt x="208" y="36"/>
                </a:moveTo>
                <a:lnTo>
                  <a:pt x="0" y="111"/>
                </a:lnTo>
                <a:lnTo>
                  <a:pt x="0" y="36"/>
                </a:lnTo>
                <a:lnTo>
                  <a:pt x="0" y="0"/>
                </a:lnTo>
                <a:lnTo>
                  <a:pt x="208" y="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>
            <a:off x="5246640" y="2546280"/>
            <a:ext cx="6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>
            <a:off x="4378320" y="3432240"/>
            <a:ext cx="74880" cy="28800"/>
          </a:xfrm>
          <a:custGeom>
            <a:avLst/>
            <a:gdLst/>
            <a:ahLst/>
            <a:rect l="0" t="0" r="r" b="b"/>
            <a:pathLst>
              <a:path w="208" h="80">
                <a:moveTo>
                  <a:pt x="0" y="39"/>
                </a:moveTo>
                <a:lnTo>
                  <a:pt x="208" y="0"/>
                </a:lnTo>
                <a:lnTo>
                  <a:pt x="208" y="39"/>
                </a:lnTo>
                <a:lnTo>
                  <a:pt x="208" y="80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>
            <a:off x="4452840" y="3443400"/>
            <a:ext cx="806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/>
          <p:cNvSpPr/>
          <p:nvPr/>
        </p:nvSpPr>
        <p:spPr>
          <a:xfrm flipH="1">
            <a:off x="5962680" y="34322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>
            <a:off x="5870520" y="3432240"/>
            <a:ext cx="92520" cy="28800"/>
          </a:xfrm>
          <a:custGeom>
            <a:avLst/>
            <a:gdLst/>
            <a:ahLst/>
            <a:rect l="0" t="0" r="r" b="b"/>
            <a:pathLst>
              <a:path w="257" h="80">
                <a:moveTo>
                  <a:pt x="257" y="39"/>
                </a:moveTo>
                <a:lnTo>
                  <a:pt x="0" y="80"/>
                </a:lnTo>
                <a:lnTo>
                  <a:pt x="0" y="39"/>
                </a:lnTo>
                <a:lnTo>
                  <a:pt x="0" y="0"/>
                </a:lnTo>
                <a:lnTo>
                  <a:pt x="257" y="3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5246640" y="3443400"/>
            <a:ext cx="6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/>
          <p:cNvSpPr/>
          <p:nvPr/>
        </p:nvSpPr>
        <p:spPr>
          <a:xfrm>
            <a:off x="4759200" y="2698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/>
          <p:cNvSpPr/>
          <p:nvPr/>
        </p:nvSpPr>
        <p:spPr>
          <a:xfrm>
            <a:off x="4835520" y="271296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"/>
          <p:cNvSpPr/>
          <p:nvPr/>
        </p:nvSpPr>
        <p:spPr>
          <a:xfrm>
            <a:off x="4896000" y="2762280"/>
            <a:ext cx="77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/>
          <p:cNvSpPr/>
          <p:nvPr/>
        </p:nvSpPr>
        <p:spPr>
          <a:xfrm flipH="1">
            <a:off x="4973760" y="2763720"/>
            <a:ext cx="12600" cy="3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/>
          <p:cNvSpPr/>
          <p:nvPr/>
        </p:nvSpPr>
        <p:spPr>
          <a:xfrm>
            <a:off x="4821120" y="2738520"/>
            <a:ext cx="74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/>
          <p:cNvSpPr/>
          <p:nvPr/>
        </p:nvSpPr>
        <p:spPr>
          <a:xfrm>
            <a:off x="4896000" y="273852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/>
          <p:cNvSpPr/>
          <p:nvPr/>
        </p:nvSpPr>
        <p:spPr>
          <a:xfrm>
            <a:off x="4973760" y="2801880"/>
            <a:ext cx="104760" cy="27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/>
          <p:cNvSpPr/>
          <p:nvPr/>
        </p:nvSpPr>
        <p:spPr>
          <a:xfrm>
            <a:off x="4603680" y="2620800"/>
            <a:ext cx="79560" cy="54360"/>
          </a:xfrm>
          <a:custGeom>
            <a:avLst/>
            <a:gdLst/>
            <a:ahLst/>
            <a:rect l="0" t="0" r="r" b="b"/>
            <a:pathLst>
              <a:path w="221" h="151">
                <a:moveTo>
                  <a:pt x="0" y="0"/>
                </a:moveTo>
                <a:lnTo>
                  <a:pt x="221" y="75"/>
                </a:lnTo>
                <a:lnTo>
                  <a:pt x="181" y="114"/>
                </a:lnTo>
                <a:lnTo>
                  <a:pt x="134" y="15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8" name=""/>
          <p:cNvSpPr/>
          <p:nvPr/>
        </p:nvSpPr>
        <p:spPr>
          <a:xfrm>
            <a:off x="4667400" y="2662200"/>
            <a:ext cx="9180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 flipH="1">
            <a:off x="3191040" y="5713560"/>
            <a:ext cx="1736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"/>
          <p:cNvSpPr/>
          <p:nvPr/>
        </p:nvSpPr>
        <p:spPr>
          <a:xfrm>
            <a:off x="4932360" y="5211720"/>
            <a:ext cx="237240" cy="249120"/>
          </a:xfrm>
          <a:custGeom>
            <a:avLst/>
            <a:gdLst/>
            <a:ahLst/>
            <a:rect l="0" t="0" r="r" b="b"/>
            <a:pathLst>
              <a:path fill="none" w="659" h="692">
                <a:moveTo>
                  <a:pt x="659" y="692"/>
                </a:moveTo>
                <a:lnTo>
                  <a:pt x="659" y="692"/>
                </a:lnTo>
                <a:cubicBezTo>
                  <a:pt x="658" y="571"/>
                  <a:pt x="628" y="453"/>
                  <a:pt x="571" y="348"/>
                </a:cubicBezTo>
                <a:cubicBezTo>
                  <a:pt x="514" y="243"/>
                  <a:pt x="431" y="155"/>
                  <a:pt x="332" y="93"/>
                </a:cubicBezTo>
                <a:cubicBezTo>
                  <a:pt x="233" y="32"/>
                  <a:pt x="120" y="0"/>
                  <a:pt x="5" y="0"/>
                </a:cubicBezTo>
                <a:cubicBezTo>
                  <a:pt x="3" y="0"/>
                  <a:pt x="2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"/>
          <p:cNvSpPr/>
          <p:nvPr/>
        </p:nvSpPr>
        <p:spPr>
          <a:xfrm>
            <a:off x="4932360" y="5460840"/>
            <a:ext cx="237240" cy="253080"/>
          </a:xfrm>
          <a:custGeom>
            <a:avLst/>
            <a:gdLst/>
            <a:ahLst/>
            <a:rect l="0" t="0" r="r" b="b"/>
            <a:pathLst>
              <a:path fill="none" w="659" h="703">
                <a:moveTo>
                  <a:pt x="0" y="703"/>
                </a:moveTo>
                <a:lnTo>
                  <a:pt x="0" y="703"/>
                </a:lnTo>
                <a:cubicBezTo>
                  <a:pt x="2" y="703"/>
                  <a:pt x="3" y="703"/>
                  <a:pt x="5" y="703"/>
                </a:cubicBezTo>
                <a:cubicBezTo>
                  <a:pt x="120" y="703"/>
                  <a:pt x="233" y="671"/>
                  <a:pt x="332" y="610"/>
                </a:cubicBezTo>
                <a:cubicBezTo>
                  <a:pt x="431" y="548"/>
                  <a:pt x="514" y="460"/>
                  <a:pt x="571" y="355"/>
                </a:cubicBezTo>
                <a:cubicBezTo>
                  <a:pt x="629" y="249"/>
                  <a:pt x="659" y="128"/>
                  <a:pt x="659" y="6"/>
                </a:cubicBezTo>
                <a:cubicBezTo>
                  <a:pt x="659" y="4"/>
                  <a:pt x="659" y="2"/>
                  <a:pt x="659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/>
          <p:nvPr/>
        </p:nvSpPr>
        <p:spPr>
          <a:xfrm>
            <a:off x="3008160" y="5211720"/>
            <a:ext cx="244800" cy="249120"/>
          </a:xfrm>
          <a:custGeom>
            <a:avLst/>
            <a:gdLst/>
            <a:ahLst/>
            <a:rect l="0" t="0" r="r" b="b"/>
            <a:pathLst>
              <a:path fill="none" w="680" h="692">
                <a:moveTo>
                  <a:pt x="680" y="0"/>
                </a:moveTo>
                <a:lnTo>
                  <a:pt x="680" y="0"/>
                </a:lnTo>
                <a:lnTo>
                  <a:pt x="680" y="0"/>
                </a:lnTo>
                <a:cubicBezTo>
                  <a:pt x="561" y="0"/>
                  <a:pt x="443" y="32"/>
                  <a:pt x="340" y="93"/>
                </a:cubicBezTo>
                <a:cubicBezTo>
                  <a:pt x="237" y="155"/>
                  <a:pt x="151" y="243"/>
                  <a:pt x="91" y="349"/>
                </a:cubicBezTo>
                <a:cubicBezTo>
                  <a:pt x="32" y="453"/>
                  <a:pt x="1" y="571"/>
                  <a:pt x="0" y="692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/>
          <p:cNvSpPr/>
          <p:nvPr/>
        </p:nvSpPr>
        <p:spPr>
          <a:xfrm>
            <a:off x="3008160" y="5460840"/>
            <a:ext cx="244800" cy="253080"/>
          </a:xfrm>
          <a:custGeom>
            <a:avLst/>
            <a:gdLst/>
            <a:ahLst/>
            <a:rect l="0" t="0" r="r" b="b"/>
            <a:pathLst>
              <a:path fill="none" w="680" h="703">
                <a:moveTo>
                  <a:pt x="0" y="0"/>
                </a:moveTo>
                <a:lnTo>
                  <a:pt x="0" y="0"/>
                </a:lnTo>
                <a:cubicBezTo>
                  <a:pt x="0" y="2"/>
                  <a:pt x="0" y="4"/>
                  <a:pt x="0" y="6"/>
                </a:cubicBezTo>
                <a:cubicBezTo>
                  <a:pt x="0" y="128"/>
                  <a:pt x="31" y="249"/>
                  <a:pt x="91" y="355"/>
                </a:cubicBezTo>
                <a:cubicBezTo>
                  <a:pt x="151" y="460"/>
                  <a:pt x="237" y="548"/>
                  <a:pt x="340" y="610"/>
                </a:cubicBezTo>
                <a:cubicBezTo>
                  <a:pt x="443" y="671"/>
                  <a:pt x="561" y="703"/>
                  <a:pt x="680" y="703"/>
                </a:cubicBezTo>
                <a:lnTo>
                  <a:pt x="680" y="70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/>
          <p:cNvSpPr/>
          <p:nvPr/>
        </p:nvSpPr>
        <p:spPr>
          <a:xfrm>
            <a:off x="3251160" y="52117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/>
          <p:cNvSpPr/>
          <p:nvPr/>
        </p:nvSpPr>
        <p:spPr>
          <a:xfrm>
            <a:off x="3038400" y="5343480"/>
            <a:ext cx="1994400" cy="90720"/>
          </a:xfrm>
          <a:custGeom>
            <a:avLst/>
            <a:gdLst/>
            <a:ahLst/>
            <a:rect l="0" t="0" r="r" b="b"/>
            <a:pathLst>
              <a:path fill="none" w="5540" h="252">
                <a:moveTo>
                  <a:pt x="0" y="104"/>
                </a:moveTo>
                <a:lnTo>
                  <a:pt x="251" y="73"/>
                </a:lnTo>
                <a:lnTo>
                  <a:pt x="464" y="36"/>
                </a:lnTo>
                <a:lnTo>
                  <a:pt x="760" y="0"/>
                </a:lnTo>
                <a:lnTo>
                  <a:pt x="1012" y="73"/>
                </a:lnTo>
                <a:lnTo>
                  <a:pt x="1308" y="104"/>
                </a:lnTo>
                <a:lnTo>
                  <a:pt x="1522" y="179"/>
                </a:lnTo>
                <a:lnTo>
                  <a:pt x="1774" y="104"/>
                </a:lnTo>
                <a:lnTo>
                  <a:pt x="2032" y="104"/>
                </a:lnTo>
                <a:lnTo>
                  <a:pt x="2283" y="73"/>
                </a:lnTo>
                <a:lnTo>
                  <a:pt x="2580" y="73"/>
                </a:lnTo>
                <a:lnTo>
                  <a:pt x="2915" y="104"/>
                </a:lnTo>
                <a:lnTo>
                  <a:pt x="3173" y="104"/>
                </a:lnTo>
                <a:lnTo>
                  <a:pt x="3257" y="215"/>
                </a:lnTo>
                <a:lnTo>
                  <a:pt x="3508" y="252"/>
                </a:lnTo>
                <a:lnTo>
                  <a:pt x="3721" y="215"/>
                </a:lnTo>
                <a:lnTo>
                  <a:pt x="4017" y="179"/>
                </a:lnTo>
                <a:lnTo>
                  <a:pt x="4231" y="104"/>
                </a:lnTo>
                <a:lnTo>
                  <a:pt x="4567" y="104"/>
                </a:lnTo>
                <a:lnTo>
                  <a:pt x="4734" y="73"/>
                </a:lnTo>
                <a:lnTo>
                  <a:pt x="5076" y="73"/>
                </a:lnTo>
                <a:lnTo>
                  <a:pt x="5411" y="104"/>
                </a:lnTo>
                <a:lnTo>
                  <a:pt x="5456" y="215"/>
                </a:lnTo>
                <a:lnTo>
                  <a:pt x="5540" y="25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>
            <a:off x="4165560" y="566244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4240080" y="566244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>
            <a:off x="4316400" y="571356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"/>
          <p:cNvSpPr/>
          <p:nvPr/>
        </p:nvSpPr>
        <p:spPr>
          <a:xfrm flipH="1">
            <a:off x="4378320" y="5713560"/>
            <a:ext cx="15840" cy="39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>
            <a:off x="4224240" y="5689440"/>
            <a:ext cx="77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 flipH="1">
            <a:off x="4303800" y="5689440"/>
            <a:ext cx="12600" cy="38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/>
          <p:nvPr/>
        </p:nvSpPr>
        <p:spPr>
          <a:xfrm>
            <a:off x="4378320" y="5753160"/>
            <a:ext cx="106200" cy="38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>
            <a:off x="3983040" y="5575320"/>
            <a:ext cx="74880" cy="47880"/>
          </a:xfrm>
          <a:custGeom>
            <a:avLst/>
            <a:gdLst/>
            <a:ahLst/>
            <a:rect l="0" t="0" r="r" b="b"/>
            <a:pathLst>
              <a:path w="208" h="133">
                <a:moveTo>
                  <a:pt x="0" y="0"/>
                </a:moveTo>
                <a:lnTo>
                  <a:pt x="208" y="67"/>
                </a:lnTo>
                <a:lnTo>
                  <a:pt x="169" y="100"/>
                </a:lnTo>
                <a:lnTo>
                  <a:pt x="124" y="13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>
            <a:off x="4043520" y="5613480"/>
            <a:ext cx="90360" cy="4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3832200" y="4924080"/>
            <a:ext cx="273240" cy="211680"/>
          </a:xfrm>
          <a:custGeom>
            <a:avLst/>
            <a:gdLst/>
            <a:ahLst/>
            <a:rect l="0" t="0" r="r" b="b"/>
            <a:pathLst>
              <a:path fill="none" w="759" h="588">
                <a:moveTo>
                  <a:pt x="0" y="0"/>
                </a:moveTo>
                <a:lnTo>
                  <a:pt x="0" y="0"/>
                </a:lnTo>
                <a:cubicBezTo>
                  <a:pt x="0" y="2"/>
                  <a:pt x="0" y="3"/>
                  <a:pt x="0" y="5"/>
                </a:cubicBezTo>
                <a:cubicBezTo>
                  <a:pt x="0" y="107"/>
                  <a:pt x="35" y="208"/>
                  <a:pt x="102" y="297"/>
                </a:cubicBezTo>
                <a:cubicBezTo>
                  <a:pt x="168" y="385"/>
                  <a:pt x="264" y="459"/>
                  <a:pt x="379" y="510"/>
                </a:cubicBezTo>
                <a:cubicBezTo>
                  <a:pt x="495" y="561"/>
                  <a:pt x="626" y="588"/>
                  <a:pt x="759" y="588"/>
                </a:cubicBezTo>
                <a:lnTo>
                  <a:pt x="759" y="58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4105440" y="4924080"/>
            <a:ext cx="273240" cy="211680"/>
          </a:xfrm>
          <a:custGeom>
            <a:avLst/>
            <a:gdLst/>
            <a:ahLst/>
            <a:rect l="0" t="0" r="r" b="b"/>
            <a:pathLst>
              <a:path fill="none" w="759" h="588">
                <a:moveTo>
                  <a:pt x="0" y="588"/>
                </a:moveTo>
                <a:lnTo>
                  <a:pt x="0" y="588"/>
                </a:lnTo>
                <a:lnTo>
                  <a:pt x="0" y="588"/>
                </a:lnTo>
                <a:cubicBezTo>
                  <a:pt x="133" y="588"/>
                  <a:pt x="264" y="561"/>
                  <a:pt x="380" y="510"/>
                </a:cubicBezTo>
                <a:cubicBezTo>
                  <a:pt x="495" y="459"/>
                  <a:pt x="591" y="385"/>
                  <a:pt x="657" y="297"/>
                </a:cubicBezTo>
                <a:cubicBezTo>
                  <a:pt x="724" y="208"/>
                  <a:pt x="759" y="107"/>
                  <a:pt x="759" y="5"/>
                </a:cubicBezTo>
                <a:cubicBezTo>
                  <a:pt x="759" y="3"/>
                  <a:pt x="759" y="2"/>
                  <a:pt x="759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3846600" y="490860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 flipH="1">
            <a:off x="4106880" y="5124600"/>
            <a:ext cx="14400" cy="8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5229360" y="5535720"/>
            <a:ext cx="182880" cy="78120"/>
          </a:xfrm>
          <a:custGeom>
            <a:avLst/>
            <a:gdLst/>
            <a:ahLst/>
            <a:rect l="0" t="0" r="r" b="b"/>
            <a:pathLst>
              <a:path w="508" h="217">
                <a:moveTo>
                  <a:pt x="508" y="108"/>
                </a:moveTo>
                <a:lnTo>
                  <a:pt x="0" y="217"/>
                </a:lnTo>
                <a:lnTo>
                  <a:pt x="0" y="108"/>
                </a:lnTo>
                <a:lnTo>
                  <a:pt x="0" y="0"/>
                </a:lnTo>
                <a:lnTo>
                  <a:pt x="508" y="108"/>
                </a:lnTo>
                <a:close/>
              </a:path>
            </a:pathLst>
          </a:custGeom>
          <a:solidFill>
            <a:srgbClr val="0000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4713120" y="5575320"/>
            <a:ext cx="51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7042320" y="2057400"/>
            <a:ext cx="90720" cy="155880"/>
          </a:xfrm>
          <a:custGeom>
            <a:avLst/>
            <a:gdLst/>
            <a:ahLst/>
            <a:rect l="0" t="0" r="r" b="b"/>
            <a:pathLst>
              <a:path w="252" h="433">
                <a:moveTo>
                  <a:pt x="129" y="0"/>
                </a:moveTo>
                <a:lnTo>
                  <a:pt x="252" y="433"/>
                </a:lnTo>
                <a:lnTo>
                  <a:pt x="129" y="433"/>
                </a:lnTo>
                <a:lnTo>
                  <a:pt x="0" y="433"/>
                </a:lnTo>
                <a:lnTo>
                  <a:pt x="129" y="0"/>
                </a:lnTo>
                <a:close/>
              </a:path>
            </a:pathLst>
          </a:custGeom>
          <a:solidFill>
            <a:srgbClr val="0000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7102440" y="221292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 txBox="1"/>
          <p:nvPr/>
        </p:nvSpPr>
        <p:spPr>
          <a:xfrm>
            <a:off x="2270160" y="426960"/>
            <a:ext cx="40464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dustrial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 txBox="1"/>
          <p:nvPr/>
        </p:nvSpPr>
        <p:spPr>
          <a:xfrm>
            <a:off x="533520" y="4100400"/>
            <a:ext cx="20271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  3.0  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   1.1   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  1.0    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 txBox="1"/>
          <p:nvPr/>
        </p:nvSpPr>
        <p:spPr>
          <a:xfrm>
            <a:off x="5927760" y="272736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 txBox="1"/>
          <p:nvPr/>
        </p:nvSpPr>
        <p:spPr>
          <a:xfrm>
            <a:off x="6765840" y="274320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 txBox="1"/>
          <p:nvPr/>
        </p:nvSpPr>
        <p:spPr>
          <a:xfrm>
            <a:off x="6103800" y="974880"/>
            <a:ext cx="26906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- n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 - 0.83 mole fr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- 0.17 mole fr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 txBox="1"/>
          <p:nvPr/>
        </p:nvSpPr>
        <p:spPr>
          <a:xfrm>
            <a:off x="5510160" y="4979880"/>
            <a:ext cx="26906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- n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 - 0.08 mole fr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- 0.92 mole fr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 txBox="1"/>
          <p:nvPr/>
        </p:nvSpPr>
        <p:spPr>
          <a:xfrm>
            <a:off x="5303880" y="3776760"/>
            <a:ext cx="111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>
            <a:off x="6132600" y="3662280"/>
            <a:ext cx="90720" cy="155880"/>
          </a:xfrm>
          <a:custGeom>
            <a:avLst/>
            <a:gdLst/>
            <a:ahLst/>
            <a:rect l="0" t="0" r="r" b="b"/>
            <a:pathLst>
              <a:path w="252" h="433">
                <a:moveTo>
                  <a:pt x="128" y="433"/>
                </a:moveTo>
                <a:lnTo>
                  <a:pt x="252" y="0"/>
                </a:lnTo>
                <a:lnTo>
                  <a:pt x="128" y="0"/>
                </a:lnTo>
                <a:lnTo>
                  <a:pt x="0" y="0"/>
                </a:lnTo>
                <a:lnTo>
                  <a:pt x="128" y="433"/>
                </a:lnTo>
                <a:close/>
              </a:path>
            </a:pathLst>
          </a:custGeom>
          <a:solidFill>
            <a:srgbClr val="0000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1" name=""/>
          <p:cNvSpPr/>
          <p:nvPr/>
        </p:nvSpPr>
        <p:spPr>
          <a:xfrm flipV="1">
            <a:off x="6192720" y="356220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 txBox="1"/>
          <p:nvPr/>
        </p:nvSpPr>
        <p:spPr>
          <a:xfrm>
            <a:off x="2395440" y="6248520"/>
            <a:ext cx="4186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mber of Theoretical Plates &gt;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3" name=""/>
          <p:cNvGrpSpPr/>
          <p:nvPr/>
        </p:nvGrpSpPr>
        <p:grpSpPr>
          <a:xfrm>
            <a:off x="1490760" y="1973160"/>
            <a:ext cx="687960" cy="2878560"/>
            <a:chOff x="1490760" y="1973160"/>
            <a:chExt cx="687960" cy="2878560"/>
          </a:xfrm>
        </p:grpSpPr>
        <p:sp>
          <p:nvSpPr>
            <p:cNvPr id="3904" name=""/>
            <p:cNvSpPr/>
            <p:nvPr/>
          </p:nvSpPr>
          <p:spPr>
            <a:xfrm>
              <a:off x="1492200" y="2249640"/>
              <a:ext cx="685800" cy="232884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5" name=""/>
            <p:cNvGrpSpPr/>
            <p:nvPr/>
          </p:nvGrpSpPr>
          <p:grpSpPr>
            <a:xfrm>
              <a:off x="1492200" y="1973160"/>
              <a:ext cx="686160" cy="274320"/>
              <a:chOff x="1492200" y="1973160"/>
              <a:chExt cx="686160" cy="274320"/>
            </a:xfrm>
          </p:grpSpPr>
          <p:sp>
            <p:nvSpPr>
              <p:cNvPr id="3906" name=""/>
              <p:cNvSpPr/>
              <p:nvPr/>
            </p:nvSpPr>
            <p:spPr>
              <a:xfrm>
                <a:off x="1492200" y="1973160"/>
                <a:ext cx="345600" cy="274320"/>
              </a:xfrm>
              <a:custGeom>
                <a:avLst/>
                <a:gdLst/>
                <a:ahLst/>
                <a:rect l="0" t="0" r="r" b="b"/>
                <a:pathLst>
                  <a:path fill="none" w="960" h="762">
                    <a:moveTo>
                      <a:pt x="960" y="0"/>
                    </a:moveTo>
                    <a:lnTo>
                      <a:pt x="960" y="0"/>
                    </a:lnTo>
                    <a:cubicBezTo>
                      <a:pt x="791" y="0"/>
                      <a:pt x="626" y="35"/>
                      <a:pt x="480" y="102"/>
                    </a:cubicBezTo>
                    <a:cubicBezTo>
                      <a:pt x="334" y="169"/>
                      <a:pt x="213" y="265"/>
                      <a:pt x="129" y="381"/>
                    </a:cubicBezTo>
                    <a:cubicBezTo>
                      <a:pt x="44" y="497"/>
                      <a:pt x="0" y="628"/>
                      <a:pt x="0" y="762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1837440" y="1973160"/>
                <a:ext cx="340920" cy="274320"/>
              </a:xfrm>
              <a:custGeom>
                <a:avLst/>
                <a:gdLst/>
                <a:ahLst/>
                <a:rect l="0" t="0" r="r" b="b"/>
                <a:pathLst>
                  <a:path fill="none" w="947" h="762">
                    <a:moveTo>
                      <a:pt x="947" y="762"/>
                    </a:moveTo>
                    <a:lnTo>
                      <a:pt x="947" y="762"/>
                    </a:lnTo>
                    <a:lnTo>
                      <a:pt x="947" y="762"/>
                    </a:lnTo>
                    <a:cubicBezTo>
                      <a:pt x="947" y="628"/>
                      <a:pt x="903" y="497"/>
                      <a:pt x="820" y="381"/>
                    </a:cubicBezTo>
                    <a:cubicBezTo>
                      <a:pt x="737" y="265"/>
                      <a:pt x="617" y="169"/>
                      <a:pt x="473" y="102"/>
                    </a:cubicBezTo>
                    <a:cubicBezTo>
                      <a:pt x="330" y="35"/>
                      <a:pt x="166" y="0"/>
                      <a:pt x="0" y="0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8" name=""/>
            <p:cNvGrpSpPr/>
            <p:nvPr/>
          </p:nvGrpSpPr>
          <p:grpSpPr>
            <a:xfrm>
              <a:off x="1490760" y="4577400"/>
              <a:ext cx="687960" cy="274320"/>
              <a:chOff x="1490760" y="4577400"/>
              <a:chExt cx="687960" cy="274320"/>
            </a:xfrm>
          </p:grpSpPr>
          <p:sp>
            <p:nvSpPr>
              <p:cNvPr id="3909" name=""/>
              <p:cNvSpPr/>
              <p:nvPr/>
            </p:nvSpPr>
            <p:spPr>
              <a:xfrm>
                <a:off x="1490760" y="4577400"/>
                <a:ext cx="345600" cy="274320"/>
              </a:xfrm>
              <a:custGeom>
                <a:avLst/>
                <a:gdLst/>
                <a:ahLst/>
                <a:rect l="0" t="0" r="r" b="b"/>
                <a:pathLst>
                  <a:path fill="none" w="960" h="762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34"/>
                      <a:pt x="44" y="265"/>
                      <a:pt x="129" y="381"/>
                    </a:cubicBezTo>
                    <a:cubicBezTo>
                      <a:pt x="213" y="497"/>
                      <a:pt x="334" y="593"/>
                      <a:pt x="480" y="660"/>
                    </a:cubicBezTo>
                    <a:cubicBezTo>
                      <a:pt x="626" y="727"/>
                      <a:pt x="791" y="762"/>
                      <a:pt x="960" y="762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1835280" y="4577400"/>
                <a:ext cx="343440" cy="274320"/>
              </a:xfrm>
              <a:custGeom>
                <a:avLst/>
                <a:gdLst/>
                <a:ahLst/>
                <a:rect l="0" t="0" r="r" b="b"/>
                <a:pathLst>
                  <a:path fill="none" w="954" h="762">
                    <a:moveTo>
                      <a:pt x="0" y="762"/>
                    </a:moveTo>
                    <a:lnTo>
                      <a:pt x="0" y="762"/>
                    </a:lnTo>
                    <a:cubicBezTo>
                      <a:pt x="167" y="762"/>
                      <a:pt x="332" y="727"/>
                      <a:pt x="477" y="660"/>
                    </a:cubicBezTo>
                    <a:cubicBezTo>
                      <a:pt x="622" y="593"/>
                      <a:pt x="742" y="497"/>
                      <a:pt x="826" y="381"/>
                    </a:cubicBezTo>
                    <a:cubicBezTo>
                      <a:pt x="910" y="265"/>
                      <a:pt x="954" y="134"/>
                      <a:pt x="954" y="0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1" name=""/>
          <p:cNvSpPr/>
          <p:nvPr/>
        </p:nvSpPr>
        <p:spPr>
          <a:xfrm>
            <a:off x="2363760" y="5130720"/>
            <a:ext cx="93348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>
            <a:off x="2363760" y="5678640"/>
            <a:ext cx="93348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3" name=""/>
          <p:cNvGrpSpPr/>
          <p:nvPr/>
        </p:nvGrpSpPr>
        <p:grpSpPr>
          <a:xfrm>
            <a:off x="3295800" y="5126040"/>
            <a:ext cx="187560" cy="549720"/>
            <a:chOff x="3295800" y="5126040"/>
            <a:chExt cx="187560" cy="549720"/>
          </a:xfrm>
        </p:grpSpPr>
        <p:sp>
          <p:nvSpPr>
            <p:cNvPr id="3914" name=""/>
            <p:cNvSpPr/>
            <p:nvPr/>
          </p:nvSpPr>
          <p:spPr>
            <a:xfrm>
              <a:off x="3297240" y="512604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517" y="762"/>
                  </a:moveTo>
                  <a:lnTo>
                    <a:pt x="517" y="762"/>
                  </a:lnTo>
                  <a:lnTo>
                    <a:pt x="517" y="762"/>
                  </a:lnTo>
                  <a:cubicBezTo>
                    <a:pt x="517" y="628"/>
                    <a:pt x="493" y="497"/>
                    <a:pt x="448" y="381"/>
                  </a:cubicBezTo>
                  <a:cubicBezTo>
                    <a:pt x="402" y="265"/>
                    <a:pt x="337" y="169"/>
                    <a:pt x="258" y="102"/>
                  </a:cubicBezTo>
                  <a:cubicBezTo>
                    <a:pt x="180" y="35"/>
                    <a:pt x="91" y="0"/>
                    <a:pt x="0" y="0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3295800" y="540144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0" y="762"/>
                  </a:moveTo>
                  <a:lnTo>
                    <a:pt x="0" y="762"/>
                  </a:lnTo>
                  <a:cubicBezTo>
                    <a:pt x="91" y="762"/>
                    <a:pt x="180" y="727"/>
                    <a:pt x="259" y="660"/>
                  </a:cubicBezTo>
                  <a:cubicBezTo>
                    <a:pt x="337" y="593"/>
                    <a:pt x="402" y="497"/>
                    <a:pt x="448" y="381"/>
                  </a:cubicBezTo>
                  <a:cubicBezTo>
                    <a:pt x="493" y="265"/>
                    <a:pt x="517" y="134"/>
                    <a:pt x="517" y="0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6" name=""/>
          <p:cNvGrpSpPr/>
          <p:nvPr/>
        </p:nvGrpSpPr>
        <p:grpSpPr>
          <a:xfrm>
            <a:off x="2176560" y="5126040"/>
            <a:ext cx="189720" cy="549720"/>
            <a:chOff x="2176560" y="5126040"/>
            <a:chExt cx="189720" cy="549720"/>
          </a:xfrm>
        </p:grpSpPr>
        <p:sp>
          <p:nvSpPr>
            <p:cNvPr id="3917" name=""/>
            <p:cNvSpPr/>
            <p:nvPr/>
          </p:nvSpPr>
          <p:spPr>
            <a:xfrm>
              <a:off x="2176560" y="5401440"/>
              <a:ext cx="186120" cy="274320"/>
            </a:xfrm>
            <a:custGeom>
              <a:avLst/>
              <a:gdLst/>
              <a:ahLst/>
              <a:rect l="0" t="0" r="r" b="b"/>
              <a:pathLst>
                <a:path fill="none" w="517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24" y="265"/>
                    <a:pt x="69" y="381"/>
                  </a:cubicBezTo>
                  <a:cubicBezTo>
                    <a:pt x="115" y="497"/>
                    <a:pt x="180" y="593"/>
                    <a:pt x="259" y="660"/>
                  </a:cubicBezTo>
                  <a:cubicBezTo>
                    <a:pt x="337" y="727"/>
                    <a:pt x="426" y="762"/>
                    <a:pt x="517" y="762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2178000" y="5126040"/>
              <a:ext cx="188280" cy="274320"/>
            </a:xfrm>
            <a:custGeom>
              <a:avLst/>
              <a:gdLst/>
              <a:ahLst/>
              <a:rect l="0" t="0" r="r" b="b"/>
              <a:pathLst>
                <a:path fill="none" w="523" h="762">
                  <a:moveTo>
                    <a:pt x="523" y="0"/>
                  </a:moveTo>
                  <a:lnTo>
                    <a:pt x="523" y="0"/>
                  </a:lnTo>
                  <a:cubicBezTo>
                    <a:pt x="431" y="0"/>
                    <a:pt x="341" y="35"/>
                    <a:pt x="261" y="102"/>
                  </a:cubicBezTo>
                  <a:cubicBezTo>
                    <a:pt x="182" y="169"/>
                    <a:pt x="116" y="265"/>
                    <a:pt x="70" y="381"/>
                  </a:cubicBezTo>
                  <a:cubicBezTo>
                    <a:pt x="24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9" name=""/>
          <p:cNvSpPr/>
          <p:nvPr/>
        </p:nvSpPr>
        <p:spPr>
          <a:xfrm>
            <a:off x="1835280" y="4854600"/>
            <a:ext cx="343440" cy="547920"/>
          </a:xfrm>
          <a:custGeom>
            <a:avLst/>
            <a:gdLst/>
            <a:ahLst/>
            <a:rect l="0" t="0" r="r" b="b"/>
            <a:pathLst>
              <a:path fill="none" w="954" h="1522">
                <a:moveTo>
                  <a:pt x="954" y="1522"/>
                </a:moveTo>
                <a:lnTo>
                  <a:pt x="0" y="1522"/>
                </a:lnTo>
                <a:lnTo>
                  <a:pt x="0" y="0"/>
                </a:lnTo>
              </a:path>
            </a:pathLst>
          </a:custGeom>
          <a:ln w="12600">
            <a:solidFill>
              <a:srgbClr val="ffff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1149480" y="949320"/>
            <a:ext cx="137160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1149480" y="1501920"/>
            <a:ext cx="137160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2" name=""/>
          <p:cNvGrpSpPr/>
          <p:nvPr/>
        </p:nvGrpSpPr>
        <p:grpSpPr>
          <a:xfrm>
            <a:off x="2521080" y="944640"/>
            <a:ext cx="276480" cy="549720"/>
            <a:chOff x="2521080" y="944640"/>
            <a:chExt cx="276480" cy="549720"/>
          </a:xfrm>
        </p:grpSpPr>
        <p:sp>
          <p:nvSpPr>
            <p:cNvPr id="3923" name=""/>
            <p:cNvSpPr/>
            <p:nvPr/>
          </p:nvSpPr>
          <p:spPr>
            <a:xfrm>
              <a:off x="2523240" y="9446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762"/>
                  </a:moveTo>
                  <a:lnTo>
                    <a:pt x="762" y="762"/>
                  </a:lnTo>
                  <a:lnTo>
                    <a:pt x="762" y="762"/>
                  </a:lnTo>
                  <a:cubicBezTo>
                    <a:pt x="762" y="628"/>
                    <a:pt x="727" y="497"/>
                    <a:pt x="660" y="381"/>
                  </a:cubicBezTo>
                  <a:cubicBezTo>
                    <a:pt x="593" y="265"/>
                    <a:pt x="497" y="169"/>
                    <a:pt x="381" y="102"/>
                  </a:cubicBezTo>
                  <a:cubicBezTo>
                    <a:pt x="265" y="35"/>
                    <a:pt x="134" y="0"/>
                    <a:pt x="0" y="0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521080" y="1220040"/>
              <a:ext cx="276480" cy="274320"/>
            </a:xfrm>
            <a:custGeom>
              <a:avLst/>
              <a:gdLst/>
              <a:ahLst/>
              <a:rect l="0" t="0" r="r" b="b"/>
              <a:pathLst>
                <a:path fill="none" w="768" h="762">
                  <a:moveTo>
                    <a:pt x="0" y="762"/>
                  </a:moveTo>
                  <a:lnTo>
                    <a:pt x="0" y="762"/>
                  </a:lnTo>
                  <a:cubicBezTo>
                    <a:pt x="135" y="762"/>
                    <a:pt x="267" y="727"/>
                    <a:pt x="384" y="660"/>
                  </a:cubicBezTo>
                  <a:cubicBezTo>
                    <a:pt x="501" y="593"/>
                    <a:pt x="598" y="497"/>
                    <a:pt x="665" y="381"/>
                  </a:cubicBezTo>
                  <a:cubicBezTo>
                    <a:pt x="733" y="265"/>
                    <a:pt x="768" y="134"/>
                    <a:pt x="768" y="0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5" name=""/>
          <p:cNvGrpSpPr/>
          <p:nvPr/>
        </p:nvGrpSpPr>
        <p:grpSpPr>
          <a:xfrm>
            <a:off x="873000" y="944640"/>
            <a:ext cx="279360" cy="549720"/>
            <a:chOff x="873000" y="944640"/>
            <a:chExt cx="279360" cy="549720"/>
          </a:xfrm>
        </p:grpSpPr>
        <p:sp>
          <p:nvSpPr>
            <p:cNvPr id="3926" name=""/>
            <p:cNvSpPr/>
            <p:nvPr/>
          </p:nvSpPr>
          <p:spPr>
            <a:xfrm>
              <a:off x="873000" y="12200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0" y="0"/>
                  </a:moveTo>
                  <a:lnTo>
                    <a:pt x="0" y="0"/>
                  </a:lnTo>
                  <a:cubicBezTo>
                    <a:pt x="0" y="134"/>
                    <a:pt x="35" y="265"/>
                    <a:pt x="102" y="381"/>
                  </a:cubicBezTo>
                  <a:cubicBezTo>
                    <a:pt x="169" y="497"/>
                    <a:pt x="265" y="593"/>
                    <a:pt x="381" y="660"/>
                  </a:cubicBezTo>
                  <a:cubicBezTo>
                    <a:pt x="497" y="727"/>
                    <a:pt x="628" y="762"/>
                    <a:pt x="762" y="762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878040" y="944640"/>
              <a:ext cx="274320" cy="274320"/>
            </a:xfrm>
            <a:custGeom>
              <a:avLst/>
              <a:gdLst/>
              <a:ahLst/>
              <a:rect l="0" t="0" r="r" b="b"/>
              <a:pathLst>
                <a:path fill="none" w="762" h="762">
                  <a:moveTo>
                    <a:pt x="762" y="0"/>
                  </a:moveTo>
                  <a:lnTo>
                    <a:pt x="762" y="0"/>
                  </a:lnTo>
                  <a:cubicBezTo>
                    <a:pt x="628" y="0"/>
                    <a:pt x="497" y="35"/>
                    <a:pt x="381" y="102"/>
                  </a:cubicBezTo>
                  <a:cubicBezTo>
                    <a:pt x="265" y="169"/>
                    <a:pt x="169" y="265"/>
                    <a:pt x="102" y="381"/>
                  </a:cubicBezTo>
                  <a:cubicBezTo>
                    <a:pt x="35" y="497"/>
                    <a:pt x="0" y="628"/>
                    <a:pt x="0" y="762"/>
                  </a:cubicBez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8" name=""/>
          <p:cNvSpPr/>
          <p:nvPr/>
        </p:nvSpPr>
        <p:spPr>
          <a:xfrm>
            <a:off x="2178000" y="4511520"/>
            <a:ext cx="686160" cy="614880"/>
          </a:xfrm>
          <a:custGeom>
            <a:avLst/>
            <a:gdLst/>
            <a:ahLst/>
            <a:rect l="0" t="0" r="r" b="b"/>
            <a:pathLst>
              <a:path fill="none" w="1906" h="1708">
                <a:moveTo>
                  <a:pt x="1906" y="1708"/>
                </a:moveTo>
                <a:lnTo>
                  <a:pt x="190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1835280" y="1492200"/>
            <a:ext cx="0" cy="480960"/>
          </a:xfrm>
          <a:prstGeom prst="line">
            <a:avLst/>
          </a:prstGeom>
          <a:ln w="12600">
            <a:solidFill>
              <a:srgbClr val="ff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3483000" y="5402160"/>
            <a:ext cx="685800" cy="0"/>
          </a:xfrm>
          <a:prstGeom prst="line">
            <a:avLst/>
          </a:prstGeom>
          <a:ln w="126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 txBox="1"/>
          <p:nvPr/>
        </p:nvSpPr>
        <p:spPr>
          <a:xfrm>
            <a:off x="1432080" y="1020600"/>
            <a:ext cx="776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F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 txBox="1"/>
          <p:nvPr/>
        </p:nvSpPr>
        <p:spPr>
          <a:xfrm>
            <a:off x="2346480" y="5211720"/>
            <a:ext cx="1015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Bot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 txBox="1"/>
          <p:nvPr/>
        </p:nvSpPr>
        <p:spPr>
          <a:xfrm>
            <a:off x="3278160" y="4354560"/>
            <a:ext cx="9748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Product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Product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 txBox="1"/>
          <p:nvPr/>
        </p:nvSpPr>
        <p:spPr>
          <a:xfrm>
            <a:off x="2878200" y="1068480"/>
            <a:ext cx="1517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Waste Produc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"/>
          <p:cNvSpPr txBox="1"/>
          <p:nvPr/>
        </p:nvSpPr>
        <p:spPr>
          <a:xfrm>
            <a:off x="3830760" y="1486080"/>
            <a:ext cx="4044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Number of Theoretical Plates &lt;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"/>
          <p:cNvSpPr txBox="1"/>
          <p:nvPr/>
        </p:nvSpPr>
        <p:spPr>
          <a:xfrm>
            <a:off x="3073320" y="2606760"/>
            <a:ext cx="528948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Heuristic Rule: “ To obtain a given purity in a minim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amount of time, the inverted column is better th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regular column for separations where light component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present in a small amount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- Sorensen &amp; Skogestad (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"/>
          <p:cNvSpPr txBox="1"/>
          <p:nvPr/>
        </p:nvSpPr>
        <p:spPr>
          <a:xfrm>
            <a:off x="434880" y="6072120"/>
            <a:ext cx="7888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If the relative volatilities of the components are changed then the above  heuristic f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"/>
          <p:cNvSpPr txBox="1"/>
          <p:nvPr/>
        </p:nvSpPr>
        <p:spPr>
          <a:xfrm>
            <a:off x="1650960" y="663480"/>
            <a:ext cx="59529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n alternative approach is to use a quantitative meas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based on shortcut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- Malone et al., 19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9" name=""/>
          <p:cNvGrpSpPr/>
          <p:nvPr/>
        </p:nvGrpSpPr>
        <p:grpSpPr>
          <a:xfrm>
            <a:off x="6435720" y="1930320"/>
            <a:ext cx="2319480" cy="4181400"/>
            <a:chOff x="6435720" y="1930320"/>
            <a:chExt cx="2319480" cy="4181400"/>
          </a:xfrm>
        </p:grpSpPr>
        <p:sp>
          <p:nvSpPr>
            <p:cNvPr id="3940" name=""/>
            <p:cNvSpPr/>
            <p:nvPr/>
          </p:nvSpPr>
          <p:spPr>
            <a:xfrm>
              <a:off x="7157880" y="3443400"/>
              <a:ext cx="128520" cy="26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1" name=""/>
            <p:cNvGrpSpPr/>
            <p:nvPr/>
          </p:nvGrpSpPr>
          <p:grpSpPr>
            <a:xfrm>
              <a:off x="6870600" y="2838600"/>
              <a:ext cx="484920" cy="2543760"/>
              <a:chOff x="6870600" y="2838600"/>
              <a:chExt cx="484920" cy="2543760"/>
            </a:xfrm>
          </p:grpSpPr>
          <p:sp>
            <p:nvSpPr>
              <p:cNvPr id="3942" name=""/>
              <p:cNvSpPr/>
              <p:nvPr/>
            </p:nvSpPr>
            <p:spPr>
              <a:xfrm>
                <a:off x="6870600" y="3084480"/>
                <a:ext cx="484200" cy="2057400"/>
              </a:xfrm>
              <a:prstGeom prst="rect">
                <a:avLst/>
              </a:prstGeom>
              <a:noFill/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3" name=""/>
              <p:cNvGrpSpPr/>
              <p:nvPr/>
            </p:nvGrpSpPr>
            <p:grpSpPr>
              <a:xfrm>
                <a:off x="6870600" y="2838600"/>
                <a:ext cx="484560" cy="242640"/>
                <a:chOff x="6870600" y="2838600"/>
                <a:chExt cx="484560" cy="242640"/>
              </a:xfrm>
            </p:grpSpPr>
            <p:sp>
              <p:nvSpPr>
                <p:cNvPr id="3944" name=""/>
                <p:cNvSpPr/>
                <p:nvPr/>
              </p:nvSpPr>
              <p:spPr>
                <a:xfrm>
                  <a:off x="6870600" y="2838600"/>
                  <a:ext cx="244080" cy="242640"/>
                </a:xfrm>
                <a:custGeom>
                  <a:avLst/>
                  <a:gdLst/>
                  <a:ahLst/>
                  <a:rect l="0" t="0" r="r" b="b"/>
                  <a:pathLst>
                    <a:path fill="none" w="678" h="674">
                      <a:moveTo>
                        <a:pt x="678" y="0"/>
                      </a:moveTo>
                      <a:lnTo>
                        <a:pt x="678" y="0"/>
                      </a:lnTo>
                      <a:cubicBezTo>
                        <a:pt x="559" y="0"/>
                        <a:pt x="442" y="31"/>
                        <a:pt x="339" y="90"/>
                      </a:cubicBezTo>
                      <a:cubicBezTo>
                        <a:pt x="236" y="149"/>
                        <a:pt x="150" y="235"/>
                        <a:pt x="91" y="337"/>
                      </a:cubicBezTo>
                      <a:cubicBezTo>
                        <a:pt x="31" y="439"/>
                        <a:pt x="0" y="556"/>
                        <a:pt x="0" y="674"/>
                      </a:cubicBezTo>
                    </a:path>
                  </a:pathLst>
                </a:custGeom>
                <a:ln w="12600">
                  <a:solidFill>
                    <a:srgbClr val="ffff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>
                  <a:off x="7114320" y="2838600"/>
                  <a:ext cx="240840" cy="242640"/>
                </a:xfrm>
                <a:custGeom>
                  <a:avLst/>
                  <a:gdLst/>
                  <a:ahLst/>
                  <a:rect l="0" t="0" r="r" b="b"/>
                  <a:pathLst>
                    <a:path fill="none" w="669" h="674">
                      <a:moveTo>
                        <a:pt x="669" y="674"/>
                      </a:moveTo>
                      <a:lnTo>
                        <a:pt x="669" y="674"/>
                      </a:lnTo>
                      <a:lnTo>
                        <a:pt x="669" y="674"/>
                      </a:lnTo>
                      <a:cubicBezTo>
                        <a:pt x="669" y="556"/>
                        <a:pt x="638" y="439"/>
                        <a:pt x="579" y="337"/>
                      </a:cubicBezTo>
                      <a:cubicBezTo>
                        <a:pt x="521" y="235"/>
                        <a:pt x="436" y="149"/>
                        <a:pt x="334" y="90"/>
                      </a:cubicBezTo>
                      <a:cubicBezTo>
                        <a:pt x="233" y="31"/>
                        <a:pt x="117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ffff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6" name=""/>
              <p:cNvGrpSpPr/>
              <p:nvPr/>
            </p:nvGrpSpPr>
            <p:grpSpPr>
              <a:xfrm>
                <a:off x="6870600" y="5139720"/>
                <a:ext cx="484920" cy="242640"/>
                <a:chOff x="6870600" y="5139720"/>
                <a:chExt cx="484920" cy="242640"/>
              </a:xfrm>
            </p:grpSpPr>
            <p:sp>
              <p:nvSpPr>
                <p:cNvPr id="3947" name=""/>
                <p:cNvSpPr/>
                <p:nvPr/>
              </p:nvSpPr>
              <p:spPr>
                <a:xfrm>
                  <a:off x="6870600" y="5139720"/>
                  <a:ext cx="243360" cy="242640"/>
                </a:xfrm>
                <a:custGeom>
                  <a:avLst/>
                  <a:gdLst/>
                  <a:ahLst/>
                  <a:rect l="0" t="0" r="r" b="b"/>
                  <a:pathLst>
                    <a:path fill="none" w="676" h="674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0" y="118"/>
                        <a:pt x="31" y="235"/>
                        <a:pt x="91" y="337"/>
                      </a:cubicBezTo>
                      <a:cubicBezTo>
                        <a:pt x="150" y="439"/>
                        <a:pt x="235" y="525"/>
                        <a:pt x="338" y="584"/>
                      </a:cubicBezTo>
                      <a:cubicBezTo>
                        <a:pt x="441" y="643"/>
                        <a:pt x="557" y="674"/>
                        <a:pt x="676" y="674"/>
                      </a:cubicBezTo>
                    </a:path>
                  </a:pathLst>
                </a:custGeom>
                <a:ln w="12600">
                  <a:solidFill>
                    <a:srgbClr val="ffff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8" name=""/>
                <p:cNvSpPr/>
                <p:nvPr/>
              </p:nvSpPr>
              <p:spPr>
                <a:xfrm>
                  <a:off x="7112880" y="5139720"/>
                  <a:ext cx="242640" cy="242640"/>
                </a:xfrm>
                <a:custGeom>
                  <a:avLst/>
                  <a:gdLst/>
                  <a:ahLst/>
                  <a:rect l="0" t="0" r="r" b="b"/>
                  <a:pathLst>
                    <a:path fill="none" w="674" h="674">
                      <a:moveTo>
                        <a:pt x="0" y="674"/>
                      </a:moveTo>
                      <a:lnTo>
                        <a:pt x="0" y="674"/>
                      </a:lnTo>
                      <a:cubicBezTo>
                        <a:pt x="118" y="674"/>
                        <a:pt x="235" y="643"/>
                        <a:pt x="337" y="584"/>
                      </a:cubicBezTo>
                      <a:cubicBezTo>
                        <a:pt x="439" y="525"/>
                        <a:pt x="525" y="439"/>
                        <a:pt x="584" y="337"/>
                      </a:cubicBezTo>
                      <a:cubicBezTo>
                        <a:pt x="643" y="235"/>
                        <a:pt x="674" y="118"/>
                        <a:pt x="674" y="0"/>
                      </a:cubicBezTo>
                    </a:path>
                  </a:pathLst>
                </a:custGeom>
                <a:ln w="12600">
                  <a:solidFill>
                    <a:srgbClr val="ffff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49" name=""/>
            <p:cNvSpPr/>
            <p:nvPr/>
          </p:nvSpPr>
          <p:spPr>
            <a:xfrm>
              <a:off x="7485120" y="5629320"/>
              <a:ext cx="65700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7485120" y="6111720"/>
              <a:ext cx="65700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1" name=""/>
            <p:cNvGrpSpPr/>
            <p:nvPr/>
          </p:nvGrpSpPr>
          <p:grpSpPr>
            <a:xfrm>
              <a:off x="8139960" y="5626080"/>
              <a:ext cx="132840" cy="484560"/>
              <a:chOff x="8139960" y="5626080"/>
              <a:chExt cx="132840" cy="484560"/>
            </a:xfrm>
          </p:grpSpPr>
          <p:sp>
            <p:nvSpPr>
              <p:cNvPr id="3952" name=""/>
              <p:cNvSpPr/>
              <p:nvPr/>
            </p:nvSpPr>
            <p:spPr>
              <a:xfrm>
                <a:off x="8141400" y="5626080"/>
                <a:ext cx="131400" cy="241560"/>
              </a:xfrm>
              <a:custGeom>
                <a:avLst/>
                <a:gdLst/>
                <a:ahLst/>
                <a:rect l="0" t="0" r="r" b="b"/>
                <a:pathLst>
                  <a:path fill="none" w="365" h="671">
                    <a:moveTo>
                      <a:pt x="365" y="671"/>
                    </a:moveTo>
                    <a:lnTo>
                      <a:pt x="365" y="671"/>
                    </a:lnTo>
                    <a:lnTo>
                      <a:pt x="365" y="671"/>
                    </a:lnTo>
                    <a:cubicBezTo>
                      <a:pt x="365" y="553"/>
                      <a:pt x="348" y="438"/>
                      <a:pt x="316" y="335"/>
                    </a:cubicBezTo>
                    <a:cubicBezTo>
                      <a:pt x="284" y="233"/>
                      <a:pt x="238" y="149"/>
                      <a:pt x="182" y="90"/>
                    </a:cubicBezTo>
                    <a:cubicBezTo>
                      <a:pt x="127" y="31"/>
                      <a:pt x="64" y="0"/>
                      <a:pt x="0" y="0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8139960" y="5869080"/>
                <a:ext cx="131400" cy="241560"/>
              </a:xfrm>
              <a:custGeom>
                <a:avLst/>
                <a:gdLst/>
                <a:ahLst/>
                <a:rect l="0" t="0" r="r" b="b"/>
                <a:pathLst>
                  <a:path fill="none" w="365" h="671">
                    <a:moveTo>
                      <a:pt x="0" y="671"/>
                    </a:moveTo>
                    <a:lnTo>
                      <a:pt x="0" y="671"/>
                    </a:lnTo>
                    <a:cubicBezTo>
                      <a:pt x="64" y="671"/>
                      <a:pt x="127" y="640"/>
                      <a:pt x="183" y="581"/>
                    </a:cubicBezTo>
                    <a:cubicBezTo>
                      <a:pt x="238" y="522"/>
                      <a:pt x="284" y="438"/>
                      <a:pt x="316" y="335"/>
                    </a:cubicBezTo>
                    <a:cubicBezTo>
                      <a:pt x="348" y="233"/>
                      <a:pt x="365" y="118"/>
                      <a:pt x="365" y="0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4" name=""/>
            <p:cNvGrpSpPr/>
            <p:nvPr/>
          </p:nvGrpSpPr>
          <p:grpSpPr>
            <a:xfrm>
              <a:off x="7353360" y="5626080"/>
              <a:ext cx="133560" cy="484560"/>
              <a:chOff x="7353360" y="5626080"/>
              <a:chExt cx="133560" cy="484560"/>
            </a:xfrm>
          </p:grpSpPr>
          <p:sp>
            <p:nvSpPr>
              <p:cNvPr id="3955" name=""/>
              <p:cNvSpPr/>
              <p:nvPr/>
            </p:nvSpPr>
            <p:spPr>
              <a:xfrm>
                <a:off x="7353360" y="5869080"/>
                <a:ext cx="131400" cy="241560"/>
              </a:xfrm>
              <a:custGeom>
                <a:avLst/>
                <a:gdLst/>
                <a:ahLst/>
                <a:rect l="0" t="0" r="r" b="b"/>
                <a:pathLst>
                  <a:path fill="none" w="365" h="671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18"/>
                      <a:pt x="17" y="233"/>
                      <a:pt x="49" y="336"/>
                    </a:cubicBezTo>
                    <a:cubicBezTo>
                      <a:pt x="81" y="438"/>
                      <a:pt x="127" y="522"/>
                      <a:pt x="183" y="581"/>
                    </a:cubicBezTo>
                    <a:cubicBezTo>
                      <a:pt x="238" y="640"/>
                      <a:pt x="301" y="671"/>
                      <a:pt x="365" y="671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7354800" y="5626080"/>
                <a:ext cx="132120" cy="241560"/>
              </a:xfrm>
              <a:custGeom>
                <a:avLst/>
                <a:gdLst/>
                <a:ahLst/>
                <a:rect l="0" t="0" r="r" b="b"/>
                <a:pathLst>
                  <a:path fill="none" w="367" h="671">
                    <a:moveTo>
                      <a:pt x="367" y="0"/>
                    </a:moveTo>
                    <a:lnTo>
                      <a:pt x="367" y="0"/>
                    </a:lnTo>
                    <a:cubicBezTo>
                      <a:pt x="303" y="0"/>
                      <a:pt x="239" y="31"/>
                      <a:pt x="183" y="90"/>
                    </a:cubicBezTo>
                    <a:cubicBezTo>
                      <a:pt x="128" y="149"/>
                      <a:pt x="81" y="233"/>
                      <a:pt x="49" y="336"/>
                    </a:cubicBezTo>
                    <a:cubicBezTo>
                      <a:pt x="17" y="438"/>
                      <a:pt x="0" y="553"/>
                      <a:pt x="0" y="671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7" name=""/>
            <p:cNvSpPr/>
            <p:nvPr/>
          </p:nvSpPr>
          <p:spPr>
            <a:xfrm>
              <a:off x="7113600" y="5384880"/>
              <a:ext cx="241560" cy="484560"/>
            </a:xfrm>
            <a:custGeom>
              <a:avLst/>
              <a:gdLst/>
              <a:ahLst/>
              <a:rect l="0" t="0" r="r" b="b"/>
              <a:pathLst>
                <a:path fill="none" w="671" h="1346">
                  <a:moveTo>
                    <a:pt x="671" y="1346"/>
                  </a:moveTo>
                  <a:lnTo>
                    <a:pt x="0" y="134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fff00"/>
              </a:solidFill>
              <a:round/>
              <a:head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6629400" y="1935000"/>
              <a:ext cx="96696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6629400" y="2422440"/>
              <a:ext cx="96696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0" name=""/>
            <p:cNvGrpSpPr/>
            <p:nvPr/>
          </p:nvGrpSpPr>
          <p:grpSpPr>
            <a:xfrm>
              <a:off x="7596360" y="1930320"/>
              <a:ext cx="194040" cy="486360"/>
              <a:chOff x="7596360" y="1930320"/>
              <a:chExt cx="194040" cy="486360"/>
            </a:xfrm>
          </p:grpSpPr>
          <p:sp>
            <p:nvSpPr>
              <p:cNvPr id="3961" name=""/>
              <p:cNvSpPr/>
              <p:nvPr/>
            </p:nvSpPr>
            <p:spPr>
              <a:xfrm>
                <a:off x="7597800" y="1930320"/>
                <a:ext cx="192600" cy="242640"/>
              </a:xfrm>
              <a:custGeom>
                <a:avLst/>
                <a:gdLst/>
                <a:ahLst/>
                <a:rect l="0" t="0" r="r" b="b"/>
                <a:pathLst>
                  <a:path fill="none" w="535" h="674">
                    <a:moveTo>
                      <a:pt x="535" y="674"/>
                    </a:moveTo>
                    <a:lnTo>
                      <a:pt x="535" y="674"/>
                    </a:lnTo>
                    <a:lnTo>
                      <a:pt x="535" y="674"/>
                    </a:lnTo>
                    <a:cubicBezTo>
                      <a:pt x="535" y="556"/>
                      <a:pt x="510" y="439"/>
                      <a:pt x="463" y="337"/>
                    </a:cubicBezTo>
                    <a:cubicBezTo>
                      <a:pt x="416" y="235"/>
                      <a:pt x="349" y="149"/>
                      <a:pt x="267" y="90"/>
                    </a:cubicBezTo>
                    <a:cubicBezTo>
                      <a:pt x="186" y="31"/>
                      <a:pt x="94" y="0"/>
                      <a:pt x="0" y="0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7596360" y="2174040"/>
                <a:ext cx="194040" cy="242640"/>
              </a:xfrm>
              <a:custGeom>
                <a:avLst/>
                <a:gdLst/>
                <a:ahLst/>
                <a:rect l="0" t="0" r="r" b="b"/>
                <a:pathLst>
                  <a:path fill="none" w="539" h="674">
                    <a:moveTo>
                      <a:pt x="0" y="674"/>
                    </a:moveTo>
                    <a:lnTo>
                      <a:pt x="0" y="674"/>
                    </a:lnTo>
                    <a:cubicBezTo>
                      <a:pt x="95" y="674"/>
                      <a:pt x="188" y="643"/>
                      <a:pt x="270" y="584"/>
                    </a:cubicBezTo>
                    <a:cubicBezTo>
                      <a:pt x="351" y="525"/>
                      <a:pt x="419" y="439"/>
                      <a:pt x="467" y="337"/>
                    </a:cubicBezTo>
                    <a:cubicBezTo>
                      <a:pt x="514" y="235"/>
                      <a:pt x="539" y="118"/>
                      <a:pt x="539" y="0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3" name=""/>
            <p:cNvGrpSpPr/>
            <p:nvPr/>
          </p:nvGrpSpPr>
          <p:grpSpPr>
            <a:xfrm>
              <a:off x="6435720" y="1930320"/>
              <a:ext cx="195840" cy="486360"/>
              <a:chOff x="6435720" y="1930320"/>
              <a:chExt cx="195840" cy="486360"/>
            </a:xfrm>
          </p:grpSpPr>
          <p:sp>
            <p:nvSpPr>
              <p:cNvPr id="3964" name=""/>
              <p:cNvSpPr/>
              <p:nvPr/>
            </p:nvSpPr>
            <p:spPr>
              <a:xfrm>
                <a:off x="6435720" y="2174040"/>
                <a:ext cx="193320" cy="242640"/>
              </a:xfrm>
              <a:custGeom>
                <a:avLst/>
                <a:gdLst/>
                <a:ahLst/>
                <a:rect l="0" t="0" r="r" b="b"/>
                <a:pathLst>
                  <a:path fill="none" w="537" h="674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18"/>
                      <a:pt x="25" y="235"/>
                      <a:pt x="72" y="337"/>
                    </a:cubicBezTo>
                    <a:cubicBezTo>
                      <a:pt x="119" y="439"/>
                      <a:pt x="187" y="525"/>
                      <a:pt x="269" y="584"/>
                    </a:cubicBezTo>
                    <a:cubicBezTo>
                      <a:pt x="350" y="643"/>
                      <a:pt x="443" y="674"/>
                      <a:pt x="537" y="674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6438960" y="1930320"/>
                <a:ext cx="192600" cy="242640"/>
              </a:xfrm>
              <a:custGeom>
                <a:avLst/>
                <a:gdLst/>
                <a:ahLst/>
                <a:rect l="0" t="0" r="r" b="b"/>
                <a:pathLst>
                  <a:path fill="none" w="535" h="674">
                    <a:moveTo>
                      <a:pt x="535" y="0"/>
                    </a:moveTo>
                    <a:lnTo>
                      <a:pt x="535" y="0"/>
                    </a:lnTo>
                    <a:cubicBezTo>
                      <a:pt x="441" y="0"/>
                      <a:pt x="349" y="31"/>
                      <a:pt x="267" y="90"/>
                    </a:cubicBezTo>
                    <a:cubicBezTo>
                      <a:pt x="186" y="149"/>
                      <a:pt x="119" y="235"/>
                      <a:pt x="72" y="337"/>
                    </a:cubicBezTo>
                    <a:cubicBezTo>
                      <a:pt x="25" y="439"/>
                      <a:pt x="0" y="556"/>
                      <a:pt x="0" y="674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6" name=""/>
            <p:cNvSpPr/>
            <p:nvPr/>
          </p:nvSpPr>
          <p:spPr>
            <a:xfrm>
              <a:off x="7354800" y="5081760"/>
              <a:ext cx="481320" cy="545040"/>
            </a:xfrm>
            <a:custGeom>
              <a:avLst/>
              <a:gdLst/>
              <a:ahLst/>
              <a:rect l="0" t="0" r="r" b="b"/>
              <a:pathLst>
                <a:path fill="none" w="1337" h="1514">
                  <a:moveTo>
                    <a:pt x="1337" y="1514"/>
                  </a:moveTo>
                  <a:lnTo>
                    <a:pt x="1337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fff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7113600" y="2414520"/>
              <a:ext cx="0" cy="42408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8272440" y="5869080"/>
              <a:ext cx="48276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"/>
            <p:cNvSpPr txBox="1"/>
            <p:nvPr/>
          </p:nvSpPr>
          <p:spPr>
            <a:xfrm>
              <a:off x="6883560" y="3508200"/>
              <a:ext cx="590400" cy="11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Eq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 txBox="1"/>
            <p:nvPr/>
          </p:nvSpPr>
          <p:spPr>
            <a:xfrm>
              <a:off x="7472520" y="5716440"/>
              <a:ext cx="692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DM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 txBox="1"/>
            <p:nvPr/>
          </p:nvSpPr>
          <p:spPr>
            <a:xfrm>
              <a:off x="6883560" y="2025720"/>
              <a:ext cx="527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H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2" name=""/>
          <p:cNvGrpSpPr/>
          <p:nvPr/>
        </p:nvGrpSpPr>
        <p:grpSpPr>
          <a:xfrm>
            <a:off x="749160" y="1550880"/>
            <a:ext cx="2513160" cy="4664880"/>
            <a:chOff x="749160" y="1550880"/>
            <a:chExt cx="2513160" cy="4664880"/>
          </a:xfrm>
        </p:grpSpPr>
        <p:sp>
          <p:nvSpPr>
            <p:cNvPr id="3973" name=""/>
            <p:cNvSpPr/>
            <p:nvPr/>
          </p:nvSpPr>
          <p:spPr>
            <a:xfrm>
              <a:off x="1665360" y="4191120"/>
              <a:ext cx="128520" cy="26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4" name=""/>
            <p:cNvGrpSpPr/>
            <p:nvPr/>
          </p:nvGrpSpPr>
          <p:grpSpPr>
            <a:xfrm>
              <a:off x="1135080" y="2281320"/>
              <a:ext cx="968760" cy="3026160"/>
              <a:chOff x="1135080" y="2281320"/>
              <a:chExt cx="968760" cy="3026160"/>
            </a:xfrm>
          </p:grpSpPr>
          <p:sp>
            <p:nvSpPr>
              <p:cNvPr id="3975" name=""/>
              <p:cNvSpPr/>
              <p:nvPr/>
            </p:nvSpPr>
            <p:spPr>
              <a:xfrm>
                <a:off x="1378080" y="2760840"/>
                <a:ext cx="484200" cy="2057400"/>
              </a:xfrm>
              <a:prstGeom prst="rect">
                <a:avLst/>
              </a:prstGeom>
              <a:noFill/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6" name=""/>
              <p:cNvGrpSpPr/>
              <p:nvPr/>
            </p:nvGrpSpPr>
            <p:grpSpPr>
              <a:xfrm>
                <a:off x="1135080" y="5064840"/>
                <a:ext cx="966960" cy="242640"/>
                <a:chOff x="1135080" y="5064840"/>
                <a:chExt cx="966960" cy="242640"/>
              </a:xfrm>
            </p:grpSpPr>
            <p:sp>
              <p:nvSpPr>
                <p:cNvPr id="3977" name=""/>
                <p:cNvSpPr/>
                <p:nvPr/>
              </p:nvSpPr>
              <p:spPr>
                <a:xfrm>
                  <a:off x="1135080" y="5064840"/>
                  <a:ext cx="244080" cy="242640"/>
                </a:xfrm>
                <a:custGeom>
                  <a:avLst/>
                  <a:gdLst/>
                  <a:ahLst/>
                  <a:rect l="0" t="0" r="r" b="b"/>
                  <a:pathLst>
                    <a:path fill="none" w="678" h="674">
                      <a:moveTo>
                        <a:pt x="67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118"/>
                        <a:pt x="31" y="235"/>
                        <a:pt x="91" y="337"/>
                      </a:cubicBezTo>
                      <a:cubicBezTo>
                        <a:pt x="150" y="439"/>
                        <a:pt x="236" y="525"/>
                        <a:pt x="339" y="584"/>
                      </a:cubicBezTo>
                      <a:cubicBezTo>
                        <a:pt x="442" y="643"/>
                        <a:pt x="559" y="674"/>
                        <a:pt x="678" y="674"/>
                      </a:cubicBezTo>
                    </a:path>
                  </a:pathLst>
                </a:custGeom>
                <a:ln w="12600">
                  <a:solidFill>
                    <a:srgbClr val="ffff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>
                  <a:off x="1861200" y="5064840"/>
                  <a:ext cx="240840" cy="242640"/>
                </a:xfrm>
                <a:custGeom>
                  <a:avLst/>
                  <a:gdLst/>
                  <a:ahLst/>
                  <a:rect l="0" t="0" r="r" b="b"/>
                  <a:pathLst>
                    <a:path fill="none" w="669" h="674">
                      <a:moveTo>
                        <a:pt x="0" y="0"/>
                      </a:moveTo>
                      <a:lnTo>
                        <a:pt x="0" y="674"/>
                      </a:lnTo>
                      <a:lnTo>
                        <a:pt x="0" y="674"/>
                      </a:lnTo>
                      <a:cubicBezTo>
                        <a:pt x="117" y="674"/>
                        <a:pt x="233" y="643"/>
                        <a:pt x="335" y="584"/>
                      </a:cubicBezTo>
                      <a:cubicBezTo>
                        <a:pt x="436" y="525"/>
                        <a:pt x="521" y="439"/>
                        <a:pt x="579" y="337"/>
                      </a:cubicBezTo>
                      <a:cubicBezTo>
                        <a:pt x="638" y="235"/>
                        <a:pt x="669" y="118"/>
                        <a:pt x="669" y="0"/>
                      </a:cubicBezTo>
                    </a:path>
                  </a:pathLst>
                </a:custGeom>
                <a:ln w="12600">
                  <a:solidFill>
                    <a:srgbClr val="ffff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9" name=""/>
              <p:cNvGrpSpPr/>
              <p:nvPr/>
            </p:nvGrpSpPr>
            <p:grpSpPr>
              <a:xfrm>
                <a:off x="1135080" y="2281320"/>
                <a:ext cx="968760" cy="242640"/>
                <a:chOff x="1135080" y="2281320"/>
                <a:chExt cx="968760" cy="242640"/>
              </a:xfrm>
            </p:grpSpPr>
            <p:sp>
              <p:nvSpPr>
                <p:cNvPr id="3980" name=""/>
                <p:cNvSpPr/>
                <p:nvPr/>
              </p:nvSpPr>
              <p:spPr>
                <a:xfrm>
                  <a:off x="1135080" y="2281320"/>
                  <a:ext cx="243360" cy="242640"/>
                </a:xfrm>
                <a:custGeom>
                  <a:avLst/>
                  <a:gdLst/>
                  <a:ahLst/>
                  <a:rect l="0" t="0" r="r" b="b"/>
                  <a:pathLst>
                    <a:path fill="none" w="676" h="674">
                      <a:moveTo>
                        <a:pt x="676" y="674"/>
                      </a:moveTo>
                      <a:lnTo>
                        <a:pt x="676" y="0"/>
                      </a:lnTo>
                      <a:lnTo>
                        <a:pt x="676" y="0"/>
                      </a:lnTo>
                      <a:cubicBezTo>
                        <a:pt x="557" y="0"/>
                        <a:pt x="441" y="31"/>
                        <a:pt x="338" y="90"/>
                      </a:cubicBezTo>
                      <a:cubicBezTo>
                        <a:pt x="235" y="149"/>
                        <a:pt x="150" y="235"/>
                        <a:pt x="91" y="337"/>
                      </a:cubicBezTo>
                      <a:cubicBezTo>
                        <a:pt x="31" y="439"/>
                        <a:pt x="0" y="556"/>
                        <a:pt x="0" y="674"/>
                      </a:cubicBezTo>
                    </a:path>
                  </a:pathLst>
                </a:custGeom>
                <a:ln w="12600">
                  <a:solidFill>
                    <a:srgbClr val="ffff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>
                  <a:off x="1861200" y="2281320"/>
                  <a:ext cx="242640" cy="242640"/>
                </a:xfrm>
                <a:custGeom>
                  <a:avLst/>
                  <a:gdLst/>
                  <a:ahLst/>
                  <a:rect l="0" t="0" r="r" b="b"/>
                  <a:pathLst>
                    <a:path fill="none" w="674" h="674">
                      <a:moveTo>
                        <a:pt x="0" y="674"/>
                      </a:moveTo>
                      <a:lnTo>
                        <a:pt x="674" y="674"/>
                      </a:lnTo>
                      <a:lnTo>
                        <a:pt x="674" y="674"/>
                      </a:lnTo>
                      <a:cubicBezTo>
                        <a:pt x="674" y="556"/>
                        <a:pt x="643" y="439"/>
                        <a:pt x="584" y="337"/>
                      </a:cubicBezTo>
                      <a:cubicBezTo>
                        <a:pt x="525" y="235"/>
                        <a:pt x="439" y="149"/>
                        <a:pt x="337" y="90"/>
                      </a:cubicBezTo>
                      <a:cubicBezTo>
                        <a:pt x="235" y="31"/>
                        <a:pt x="118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ffff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82" name=""/>
            <p:cNvSpPr/>
            <p:nvPr/>
          </p:nvSpPr>
          <p:spPr>
            <a:xfrm>
              <a:off x="1992240" y="2273400"/>
              <a:ext cx="65736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992240" y="1790640"/>
              <a:ext cx="65736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4" name=""/>
            <p:cNvGrpSpPr/>
            <p:nvPr/>
          </p:nvGrpSpPr>
          <p:grpSpPr>
            <a:xfrm>
              <a:off x="2777400" y="1550880"/>
              <a:ext cx="132840" cy="967320"/>
              <a:chOff x="2777400" y="1550880"/>
              <a:chExt cx="132840" cy="967320"/>
            </a:xfrm>
          </p:grpSpPr>
          <p:sp>
            <p:nvSpPr>
              <p:cNvPr id="3985" name=""/>
              <p:cNvSpPr/>
              <p:nvPr/>
            </p:nvSpPr>
            <p:spPr>
              <a:xfrm>
                <a:off x="2778840" y="2276640"/>
                <a:ext cx="131400" cy="241560"/>
              </a:xfrm>
              <a:custGeom>
                <a:avLst/>
                <a:gdLst/>
                <a:ahLst/>
                <a:rect l="0" t="0" r="r" b="b"/>
                <a:pathLst>
                  <a:path fill="none" w="365" h="671">
                    <a:moveTo>
                      <a:pt x="0" y="0"/>
                    </a:moveTo>
                    <a:lnTo>
                      <a:pt x="0" y="671"/>
                    </a:lnTo>
                    <a:lnTo>
                      <a:pt x="0" y="671"/>
                    </a:lnTo>
                    <a:cubicBezTo>
                      <a:pt x="64" y="671"/>
                      <a:pt x="127" y="640"/>
                      <a:pt x="183" y="581"/>
                    </a:cubicBezTo>
                    <a:cubicBezTo>
                      <a:pt x="238" y="522"/>
                      <a:pt x="284" y="438"/>
                      <a:pt x="316" y="335"/>
                    </a:cubicBezTo>
                    <a:cubicBezTo>
                      <a:pt x="348" y="233"/>
                      <a:pt x="365" y="118"/>
                      <a:pt x="365" y="0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2777400" y="1550880"/>
                <a:ext cx="131400" cy="241560"/>
              </a:xfrm>
              <a:custGeom>
                <a:avLst/>
                <a:gdLst/>
                <a:ahLst/>
                <a:rect l="0" t="0" r="r" b="b"/>
                <a:pathLst>
                  <a:path fill="none" w="365" h="671">
                    <a:moveTo>
                      <a:pt x="0" y="671"/>
                    </a:moveTo>
                    <a:lnTo>
                      <a:pt x="365" y="671"/>
                    </a:lnTo>
                    <a:lnTo>
                      <a:pt x="365" y="671"/>
                    </a:lnTo>
                    <a:cubicBezTo>
                      <a:pt x="365" y="553"/>
                      <a:pt x="348" y="438"/>
                      <a:pt x="316" y="335"/>
                    </a:cubicBezTo>
                    <a:cubicBezTo>
                      <a:pt x="284" y="233"/>
                      <a:pt x="238" y="149"/>
                      <a:pt x="182" y="90"/>
                    </a:cubicBezTo>
                    <a:cubicBezTo>
                      <a:pt x="127" y="31"/>
                      <a:pt x="64" y="0"/>
                      <a:pt x="0" y="0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7" name=""/>
            <p:cNvGrpSpPr/>
            <p:nvPr/>
          </p:nvGrpSpPr>
          <p:grpSpPr>
            <a:xfrm>
              <a:off x="1730520" y="1550880"/>
              <a:ext cx="132120" cy="967320"/>
              <a:chOff x="1730520" y="1550880"/>
              <a:chExt cx="132120" cy="967320"/>
            </a:xfrm>
          </p:grpSpPr>
          <p:sp>
            <p:nvSpPr>
              <p:cNvPr id="3988" name=""/>
              <p:cNvSpPr/>
              <p:nvPr/>
            </p:nvSpPr>
            <p:spPr>
              <a:xfrm>
                <a:off x="1730520" y="1550880"/>
                <a:ext cx="131400" cy="241560"/>
              </a:xfrm>
              <a:custGeom>
                <a:avLst/>
                <a:gdLst/>
                <a:ahLst/>
                <a:rect l="0" t="0" r="r" b="b"/>
                <a:pathLst>
                  <a:path fill="none" w="365" h="671">
                    <a:moveTo>
                      <a:pt x="365" y="671"/>
                    </a:moveTo>
                    <a:lnTo>
                      <a:pt x="365" y="0"/>
                    </a:lnTo>
                    <a:lnTo>
                      <a:pt x="365" y="0"/>
                    </a:lnTo>
                    <a:cubicBezTo>
                      <a:pt x="301" y="0"/>
                      <a:pt x="238" y="31"/>
                      <a:pt x="182" y="90"/>
                    </a:cubicBezTo>
                    <a:cubicBezTo>
                      <a:pt x="127" y="149"/>
                      <a:pt x="81" y="233"/>
                      <a:pt x="49" y="336"/>
                    </a:cubicBezTo>
                    <a:cubicBezTo>
                      <a:pt x="17" y="438"/>
                      <a:pt x="0" y="553"/>
                      <a:pt x="0" y="671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1730520" y="2276640"/>
                <a:ext cx="132120" cy="241560"/>
              </a:xfrm>
              <a:custGeom>
                <a:avLst/>
                <a:gdLst/>
                <a:ahLst/>
                <a:rect l="0" t="0" r="r" b="b"/>
                <a:pathLst>
                  <a:path fill="none" w="367" h="671">
                    <a:moveTo>
                      <a:pt x="36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ubicBezTo>
                      <a:pt x="0" y="118"/>
                      <a:pt x="17" y="233"/>
                      <a:pt x="49" y="336"/>
                    </a:cubicBezTo>
                    <a:cubicBezTo>
                      <a:pt x="81" y="438"/>
                      <a:pt x="128" y="522"/>
                      <a:pt x="184" y="581"/>
                    </a:cubicBezTo>
                    <a:cubicBezTo>
                      <a:pt x="239" y="640"/>
                      <a:pt x="303" y="671"/>
                      <a:pt x="367" y="671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0" name=""/>
            <p:cNvSpPr/>
            <p:nvPr/>
          </p:nvSpPr>
          <p:spPr>
            <a:xfrm>
              <a:off x="1620720" y="2033640"/>
              <a:ext cx="241560" cy="484560"/>
            </a:xfrm>
            <a:custGeom>
              <a:avLst/>
              <a:gdLst/>
              <a:ahLst/>
              <a:rect l="0" t="0" r="r" b="b"/>
              <a:pathLst>
                <a:path fill="none" w="671" h="1346">
                  <a:moveTo>
                    <a:pt x="671" y="0"/>
                  </a:moveTo>
                  <a:lnTo>
                    <a:pt x="0" y="0"/>
                  </a:lnTo>
                  <a:lnTo>
                    <a:pt x="0" y="1346"/>
                  </a:lnTo>
                </a:path>
              </a:pathLst>
            </a:custGeom>
            <a:ln w="12600">
              <a:solidFill>
                <a:srgbClr val="ffff00"/>
              </a:solidFill>
              <a:round/>
              <a:head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1136520" y="5967360"/>
              <a:ext cx="96696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136520" y="5479920"/>
              <a:ext cx="96696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3" name=""/>
            <p:cNvGrpSpPr/>
            <p:nvPr/>
          </p:nvGrpSpPr>
          <p:grpSpPr>
            <a:xfrm>
              <a:off x="2297160" y="5246640"/>
              <a:ext cx="194040" cy="969120"/>
              <a:chOff x="2297160" y="5246640"/>
              <a:chExt cx="194040" cy="969120"/>
            </a:xfrm>
          </p:grpSpPr>
          <p:sp>
            <p:nvSpPr>
              <p:cNvPr id="3994" name=""/>
              <p:cNvSpPr/>
              <p:nvPr/>
            </p:nvSpPr>
            <p:spPr>
              <a:xfrm>
                <a:off x="2297160" y="5973120"/>
                <a:ext cx="192600" cy="242640"/>
              </a:xfrm>
              <a:custGeom>
                <a:avLst/>
                <a:gdLst/>
                <a:ahLst/>
                <a:rect l="0" t="0" r="r" b="b"/>
                <a:pathLst>
                  <a:path fill="none" w="535" h="674">
                    <a:moveTo>
                      <a:pt x="0" y="0"/>
                    </a:moveTo>
                    <a:lnTo>
                      <a:pt x="0" y="674"/>
                    </a:lnTo>
                    <a:lnTo>
                      <a:pt x="0" y="674"/>
                    </a:lnTo>
                    <a:cubicBezTo>
                      <a:pt x="94" y="674"/>
                      <a:pt x="186" y="643"/>
                      <a:pt x="268" y="584"/>
                    </a:cubicBezTo>
                    <a:cubicBezTo>
                      <a:pt x="349" y="525"/>
                      <a:pt x="416" y="439"/>
                      <a:pt x="463" y="337"/>
                    </a:cubicBezTo>
                    <a:cubicBezTo>
                      <a:pt x="510" y="235"/>
                      <a:pt x="535" y="118"/>
                      <a:pt x="535" y="0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2297160" y="5246640"/>
                <a:ext cx="194040" cy="242640"/>
              </a:xfrm>
              <a:custGeom>
                <a:avLst/>
                <a:gdLst/>
                <a:ahLst/>
                <a:rect l="0" t="0" r="r" b="b"/>
                <a:pathLst>
                  <a:path fill="none" w="539" h="674">
                    <a:moveTo>
                      <a:pt x="0" y="674"/>
                    </a:moveTo>
                    <a:lnTo>
                      <a:pt x="539" y="674"/>
                    </a:lnTo>
                    <a:lnTo>
                      <a:pt x="539" y="674"/>
                    </a:lnTo>
                    <a:cubicBezTo>
                      <a:pt x="539" y="556"/>
                      <a:pt x="514" y="439"/>
                      <a:pt x="467" y="337"/>
                    </a:cubicBezTo>
                    <a:cubicBezTo>
                      <a:pt x="419" y="235"/>
                      <a:pt x="351" y="149"/>
                      <a:pt x="269" y="90"/>
                    </a:cubicBezTo>
                    <a:cubicBezTo>
                      <a:pt x="188" y="31"/>
                      <a:pt x="95" y="0"/>
                      <a:pt x="0" y="0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6" name=""/>
            <p:cNvGrpSpPr/>
            <p:nvPr/>
          </p:nvGrpSpPr>
          <p:grpSpPr>
            <a:xfrm>
              <a:off x="749160" y="5246640"/>
              <a:ext cx="197640" cy="969120"/>
              <a:chOff x="749160" y="5246640"/>
              <a:chExt cx="197640" cy="969120"/>
            </a:xfrm>
          </p:grpSpPr>
          <p:sp>
            <p:nvSpPr>
              <p:cNvPr id="3997" name=""/>
              <p:cNvSpPr/>
              <p:nvPr/>
            </p:nvSpPr>
            <p:spPr>
              <a:xfrm>
                <a:off x="749160" y="5246640"/>
                <a:ext cx="193320" cy="242640"/>
              </a:xfrm>
              <a:custGeom>
                <a:avLst/>
                <a:gdLst/>
                <a:ahLst/>
                <a:rect l="0" t="0" r="r" b="b"/>
                <a:pathLst>
                  <a:path fill="none" w="537" h="674">
                    <a:moveTo>
                      <a:pt x="537" y="674"/>
                    </a:moveTo>
                    <a:lnTo>
                      <a:pt x="537" y="0"/>
                    </a:lnTo>
                    <a:lnTo>
                      <a:pt x="537" y="0"/>
                    </a:lnTo>
                    <a:cubicBezTo>
                      <a:pt x="443" y="0"/>
                      <a:pt x="350" y="31"/>
                      <a:pt x="268" y="90"/>
                    </a:cubicBezTo>
                    <a:cubicBezTo>
                      <a:pt x="187" y="149"/>
                      <a:pt x="119" y="235"/>
                      <a:pt x="72" y="337"/>
                    </a:cubicBezTo>
                    <a:cubicBezTo>
                      <a:pt x="25" y="439"/>
                      <a:pt x="0" y="556"/>
                      <a:pt x="0" y="674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754200" y="5973120"/>
                <a:ext cx="192600" cy="242640"/>
              </a:xfrm>
              <a:custGeom>
                <a:avLst/>
                <a:gdLst/>
                <a:ahLst/>
                <a:rect l="0" t="0" r="r" b="b"/>
                <a:pathLst>
                  <a:path fill="none" w="535" h="674">
                    <a:moveTo>
                      <a:pt x="53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ubicBezTo>
                      <a:pt x="0" y="118"/>
                      <a:pt x="25" y="235"/>
                      <a:pt x="72" y="337"/>
                    </a:cubicBezTo>
                    <a:cubicBezTo>
                      <a:pt x="119" y="439"/>
                      <a:pt x="186" y="525"/>
                      <a:pt x="268" y="584"/>
                    </a:cubicBezTo>
                    <a:cubicBezTo>
                      <a:pt x="349" y="643"/>
                      <a:pt x="441" y="674"/>
                      <a:pt x="535" y="674"/>
                    </a:cubicBezTo>
                  </a:path>
                </a:pathLst>
              </a:custGeom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9" name=""/>
            <p:cNvSpPr/>
            <p:nvPr/>
          </p:nvSpPr>
          <p:spPr>
            <a:xfrm>
              <a:off x="1860480" y="2276640"/>
              <a:ext cx="481320" cy="545040"/>
            </a:xfrm>
            <a:custGeom>
              <a:avLst/>
              <a:gdLst/>
              <a:ahLst/>
              <a:rect l="0" t="0" r="r" b="b"/>
              <a:pathLst>
                <a:path fill="none" w="1337" h="1514">
                  <a:moveTo>
                    <a:pt x="1337" y="0"/>
                  </a:moveTo>
                  <a:lnTo>
                    <a:pt x="1337" y="1514"/>
                  </a:lnTo>
                  <a:lnTo>
                    <a:pt x="0" y="1514"/>
                  </a:lnTo>
                </a:path>
              </a:pathLst>
            </a:custGeom>
            <a:ln w="12600">
              <a:solidFill>
                <a:srgbClr val="ffff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 flipV="1">
              <a:off x="1620720" y="5064120"/>
              <a:ext cx="0" cy="42372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779560" y="2033640"/>
              <a:ext cx="48276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 txBox="1"/>
            <p:nvPr/>
          </p:nvSpPr>
          <p:spPr>
            <a:xfrm>
              <a:off x="1378080" y="3206880"/>
              <a:ext cx="590400" cy="11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Eq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 txBox="1"/>
            <p:nvPr/>
          </p:nvSpPr>
          <p:spPr>
            <a:xfrm>
              <a:off x="1978200" y="1860480"/>
              <a:ext cx="692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DM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 txBox="1"/>
            <p:nvPr/>
          </p:nvSpPr>
          <p:spPr>
            <a:xfrm>
              <a:off x="1336680" y="5537160"/>
              <a:ext cx="527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H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5" name=""/>
          <p:cNvSpPr txBox="1"/>
          <p:nvPr/>
        </p:nvSpPr>
        <p:spPr>
          <a:xfrm>
            <a:off x="380880" y="6340320"/>
            <a:ext cx="3460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Shortcut Method for Rectifi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-(Diwekar &amp; Madhavan, 199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"/>
          <p:cNvSpPr txBox="1"/>
          <p:nvPr/>
        </p:nvSpPr>
        <p:spPr>
          <a:xfrm>
            <a:off x="5602320" y="6278400"/>
            <a:ext cx="3084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Shortcut Method for Stripp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-(Lotter &amp; Diwkear, 199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"/>
          <p:cNvSpPr txBox="1"/>
          <p:nvPr/>
        </p:nvSpPr>
        <p:spPr>
          <a:xfrm>
            <a:off x="2063880" y="3149640"/>
            <a:ext cx="4687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Minimum Number of Plates for Rectifier =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Minimum Number of Plates for Stripper =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"/>
          <p:cNvSpPr txBox="1"/>
          <p:nvPr/>
        </p:nvSpPr>
        <p:spPr>
          <a:xfrm>
            <a:off x="158760" y="225360"/>
            <a:ext cx="857556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atch Distillation Column Softwar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"/>
          <p:cNvSpPr txBox="1"/>
          <p:nvPr/>
        </p:nvSpPr>
        <p:spPr>
          <a:xfrm>
            <a:off x="719280" y="760320"/>
            <a:ext cx="3478320" cy="57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indow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ata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eration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stant Re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ariable Re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ixed Eqn. Opt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al Re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hort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mirigor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duced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igor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ign Fea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active Disti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 phase Disti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Uncertainty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figu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mi-b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ycle waste 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trip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ddle Ves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 txBox="1"/>
          <p:nvPr/>
        </p:nvSpPr>
        <p:spPr>
          <a:xfrm>
            <a:off x="3771720" y="760320"/>
            <a:ext cx="510696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User friendly state of the art input/output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bility to generate data from structural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Yield improvement due to operational flexibility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ystematic optimization/optimal control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Hierarchy of models for numerical stability, design feasibility, and advanced system desig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dvanced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merging designs provide promising directions for cost effective designs to obtain purer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"/>
          <p:cNvSpPr/>
          <p:nvPr/>
        </p:nvSpPr>
        <p:spPr>
          <a:xfrm>
            <a:off x="482616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"/>
          <p:cNvSpPr/>
          <p:nvPr/>
        </p:nvSpPr>
        <p:spPr>
          <a:xfrm>
            <a:off x="482616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"/>
          <p:cNvSpPr/>
          <p:nvPr/>
        </p:nvSpPr>
        <p:spPr>
          <a:xfrm>
            <a:off x="645624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"/>
          <p:cNvSpPr/>
          <p:nvPr/>
        </p:nvSpPr>
        <p:spPr>
          <a:xfrm>
            <a:off x="645624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>
            <a:off x="645624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>
            <a:off x="717876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>
            <a:off x="4826160" y="129060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>
            <a:off x="6456240" y="128736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7470720" y="128736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3201840" y="1622520"/>
            <a:ext cx="2109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3201840" y="1792440"/>
            <a:ext cx="2109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>
            <a:off x="482616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"/>
          <p:cNvSpPr/>
          <p:nvPr/>
        </p:nvSpPr>
        <p:spPr>
          <a:xfrm>
            <a:off x="482616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"/>
          <p:cNvSpPr/>
          <p:nvPr/>
        </p:nvSpPr>
        <p:spPr>
          <a:xfrm>
            <a:off x="645624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"/>
          <p:cNvSpPr/>
          <p:nvPr/>
        </p:nvSpPr>
        <p:spPr>
          <a:xfrm>
            <a:off x="645624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"/>
          <p:cNvSpPr/>
          <p:nvPr/>
        </p:nvSpPr>
        <p:spPr>
          <a:xfrm>
            <a:off x="645624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"/>
          <p:cNvSpPr/>
          <p:nvPr/>
        </p:nvSpPr>
        <p:spPr>
          <a:xfrm>
            <a:off x="717876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8" name=""/>
          <p:cNvSpPr txBox="1"/>
          <p:nvPr/>
        </p:nvSpPr>
        <p:spPr>
          <a:xfrm>
            <a:off x="158760" y="225360"/>
            <a:ext cx="857556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atch Distillation Column Software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 txBox="1"/>
          <p:nvPr/>
        </p:nvSpPr>
        <p:spPr>
          <a:xfrm>
            <a:off x="719280" y="760320"/>
            <a:ext cx="3478320" cy="57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indow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ata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eration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stant Re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ariable Re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ixed Eqn. Opt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al Re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hort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mirigor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duced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igor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ign Fea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active Disti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 phase Disti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Uncertainty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figu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mi-b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ycle waste 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trip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ddle Ves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>
            <a:off x="482616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>
            <a:off x="482616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"/>
          <p:cNvSpPr/>
          <p:nvPr/>
        </p:nvSpPr>
        <p:spPr>
          <a:xfrm>
            <a:off x="645624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"/>
          <p:cNvSpPr/>
          <p:nvPr/>
        </p:nvSpPr>
        <p:spPr>
          <a:xfrm>
            <a:off x="645624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"/>
          <p:cNvSpPr/>
          <p:nvPr/>
        </p:nvSpPr>
        <p:spPr>
          <a:xfrm>
            <a:off x="645624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"/>
          <p:cNvSpPr/>
          <p:nvPr/>
        </p:nvSpPr>
        <p:spPr>
          <a:xfrm>
            <a:off x="717876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"/>
          <p:cNvSpPr/>
          <p:nvPr/>
        </p:nvSpPr>
        <p:spPr>
          <a:xfrm>
            <a:off x="4826160" y="129060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"/>
          <p:cNvSpPr/>
          <p:nvPr/>
        </p:nvSpPr>
        <p:spPr>
          <a:xfrm>
            <a:off x="6456240" y="128736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"/>
          <p:cNvSpPr/>
          <p:nvPr/>
        </p:nvSpPr>
        <p:spPr>
          <a:xfrm>
            <a:off x="7470720" y="128736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"/>
          <p:cNvSpPr/>
          <p:nvPr/>
        </p:nvSpPr>
        <p:spPr>
          <a:xfrm>
            <a:off x="3201840" y="1622520"/>
            <a:ext cx="2109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"/>
          <p:cNvSpPr/>
          <p:nvPr/>
        </p:nvSpPr>
        <p:spPr>
          <a:xfrm>
            <a:off x="3201840" y="1792440"/>
            <a:ext cx="2109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"/>
          <p:cNvSpPr/>
          <p:nvPr/>
        </p:nvSpPr>
        <p:spPr>
          <a:xfrm>
            <a:off x="482616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"/>
          <p:cNvSpPr/>
          <p:nvPr/>
        </p:nvSpPr>
        <p:spPr>
          <a:xfrm>
            <a:off x="482616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"/>
          <p:cNvSpPr/>
          <p:nvPr/>
        </p:nvSpPr>
        <p:spPr>
          <a:xfrm>
            <a:off x="6456240" y="162252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"/>
          <p:cNvSpPr/>
          <p:nvPr/>
        </p:nvSpPr>
        <p:spPr>
          <a:xfrm>
            <a:off x="6456240" y="1792440"/>
            <a:ext cx="212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"/>
          <p:cNvSpPr/>
          <p:nvPr/>
        </p:nvSpPr>
        <p:spPr>
          <a:xfrm>
            <a:off x="645624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>
            <a:off x="7178760" y="1962000"/>
            <a:ext cx="2127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"/>
          <p:cNvSpPr txBox="1"/>
          <p:nvPr/>
        </p:nvSpPr>
        <p:spPr>
          <a:xfrm>
            <a:off x="3646440" y="760320"/>
            <a:ext cx="1312920" cy="57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ATCHS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IMS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 (limi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"/>
          <p:cNvSpPr txBox="1"/>
          <p:nvPr/>
        </p:nvSpPr>
        <p:spPr>
          <a:xfrm>
            <a:off x="7134120" y="760320"/>
            <a:ext cx="1635120" cy="57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ultiBatch</a:t>
            </a: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ranium/ Multiple data 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 (limi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"/>
          <p:cNvSpPr txBox="1"/>
          <p:nvPr/>
        </p:nvSpPr>
        <p:spPr>
          <a:xfrm>
            <a:off x="5400720" y="760320"/>
            <a:ext cx="1312920" cy="57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ATCHFR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SPEN P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"/>
              </a:spcAf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 (limi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 (limi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9900"/>
                </a:solidFill>
                <a:latin typeface="Arial"/>
                <a:ea typeface="Arial"/>
              </a:rPr>
              <a:t>MultiBatch</a:t>
            </a:r>
            <a:r>
              <a:rPr b="0" i="1" lang="en-US" sz="44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DS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Arial"/>
              </a:rPr>
              <a:t>- Add-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"/>
          <p:cNvSpPr txBox="1"/>
          <p:nvPr/>
        </p:nvSpPr>
        <p:spPr>
          <a:xfrm>
            <a:off x="996840" y="2546280"/>
            <a:ext cx="70689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ultiBatch</a:t>
            </a:r>
            <a:r>
              <a:rPr b="0" i="1" lang="en-US" sz="24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DS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ata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ultiBatchD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can be easily linked to commercially available databanks and thermodynamic models from other software companies like ASPEN or SIMSCI, or to your in-house datab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9900"/>
                </a:solidFill>
                <a:latin typeface="Arial"/>
                <a:ea typeface="Arial"/>
              </a:rPr>
              <a:t>MultiBatch</a:t>
            </a:r>
            <a:r>
              <a:rPr b="0" i="1" lang="en-US" sz="44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DS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Arial"/>
              </a:rPr>
              <a:t>- Add-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 txBox="1"/>
          <p:nvPr/>
        </p:nvSpPr>
        <p:spPr>
          <a:xfrm>
            <a:off x="996840" y="2546280"/>
            <a:ext cx="7068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MultiBatch</a:t>
            </a:r>
            <a:r>
              <a:rPr b="0" i="1" lang="en-US" sz="24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DS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Contin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 Batch column or a continuous colum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ultiBatchD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provides an add-on for simulating a continuous column on the same platform to resolve this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9900"/>
                </a:solidFill>
                <a:latin typeface="Arial"/>
                <a:ea typeface="Arial"/>
              </a:rPr>
              <a:t>MultiBatch</a:t>
            </a:r>
            <a:r>
              <a:rPr b="0" i="1" lang="en-US" sz="44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DS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Arial"/>
              </a:rPr>
              <a:t>- Add-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"/>
          <p:cNvSpPr txBox="1"/>
          <p:nvPr/>
        </p:nvSpPr>
        <p:spPr>
          <a:xfrm>
            <a:off x="996840" y="2546280"/>
            <a:ext cx="70689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ultiBatch</a:t>
            </a:r>
            <a:r>
              <a:rPr b="0" i="1" lang="en-US" sz="24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DS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robabil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 fully integrated add-on for uncertainty analysis based on probabilistic techniques and Monte Carlo simulations contains a library of distribution functions and various sampling technique including a new sampling technique which can be 100 times faster than any existing techn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9900"/>
                </a:solidFill>
                <a:latin typeface="Arial"/>
                <a:ea typeface="Arial"/>
              </a:rPr>
              <a:t>MultiBatch</a:t>
            </a:r>
            <a:r>
              <a:rPr b="0" i="1" lang="en-US" sz="44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DS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Arial"/>
              </a:rPr>
              <a:t>- Add-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"/>
          <p:cNvSpPr txBox="1"/>
          <p:nvPr/>
        </p:nvSpPr>
        <p:spPr>
          <a:xfrm>
            <a:off x="996840" y="2546280"/>
            <a:ext cx="70689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MultiBatch</a:t>
            </a:r>
            <a:r>
              <a:rPr b="0" i="1" lang="en-US" sz="24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DS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acked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The collocation based reduced-order model can be easily adapted for packed columns or for non-equilibrium distillation columns with this add-on.  Mass transfer relations for specific packings can be readily input using this add-on for packed column sim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9900"/>
                </a:solidFill>
                <a:latin typeface="Arial"/>
                <a:ea typeface="Arial"/>
              </a:rPr>
              <a:t>MultiBatch</a:t>
            </a:r>
            <a:r>
              <a:rPr b="0" i="1" lang="en-US" sz="44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DS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Arial"/>
              </a:rPr>
              <a:t>- Add-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"/>
          <p:cNvSpPr txBox="1"/>
          <p:nvPr/>
        </p:nvSpPr>
        <p:spPr>
          <a:xfrm>
            <a:off x="996840" y="2546280"/>
            <a:ext cx="70689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MultiBatch</a:t>
            </a:r>
            <a:r>
              <a:rPr b="0" i="1" lang="en-US" sz="24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DS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 customized data-acquisition and control add-on that provides a real-time interface to in-house control systems. You can modify thermodynamic parameters using the simulation and plant data with built-in optimization based parameter estimation techn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05040" y="18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Flex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17360" y="1743120"/>
            <a:ext cx="5451480" cy="4917960"/>
            <a:chOff x="117360" y="1743120"/>
            <a:chExt cx="5451480" cy="4917960"/>
          </a:xfrm>
        </p:grpSpPr>
        <p:grpSp>
          <p:nvGrpSpPr>
            <p:cNvPr id="133" name=""/>
            <p:cNvGrpSpPr/>
            <p:nvPr/>
          </p:nvGrpSpPr>
          <p:grpSpPr>
            <a:xfrm>
              <a:off x="117360" y="2448000"/>
              <a:ext cx="2270520" cy="3344760"/>
              <a:chOff x="117360" y="2448000"/>
              <a:chExt cx="2270520" cy="3344760"/>
            </a:xfrm>
          </p:grpSpPr>
          <p:sp>
            <p:nvSpPr>
              <p:cNvPr id="134" name=""/>
              <p:cNvSpPr/>
              <p:nvPr/>
            </p:nvSpPr>
            <p:spPr>
              <a:xfrm>
                <a:off x="1001880" y="3416400"/>
                <a:ext cx="357120" cy="15825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1001880" y="3228840"/>
                <a:ext cx="357480" cy="186840"/>
                <a:chOff x="1001880" y="3228840"/>
                <a:chExt cx="357480" cy="1868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001880" y="3228840"/>
                  <a:ext cx="178920" cy="186840"/>
                </a:xfrm>
                <a:custGeom>
                  <a:avLst/>
                  <a:gdLst/>
                  <a:ahLst/>
                  <a:rect l="0" t="0" r="r" b="b"/>
                  <a:pathLst>
                    <a:path fill="none" w="497" h="519">
                      <a:moveTo>
                        <a:pt x="497" y="0"/>
                      </a:moveTo>
                      <a:lnTo>
                        <a:pt x="497" y="0"/>
                      </a:lnTo>
                      <a:cubicBezTo>
                        <a:pt x="410" y="0"/>
                        <a:pt x="324" y="24"/>
                        <a:pt x="248" y="70"/>
                      </a:cubicBezTo>
                      <a:cubicBezTo>
                        <a:pt x="173" y="115"/>
                        <a:pt x="110" y="181"/>
                        <a:pt x="67" y="260"/>
                      </a:cubicBezTo>
                      <a:cubicBezTo>
                        <a:pt x="23" y="338"/>
                        <a:pt x="0" y="428"/>
                        <a:pt x="0" y="519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180440" y="3228840"/>
                  <a:ext cx="178920" cy="186840"/>
                </a:xfrm>
                <a:custGeom>
                  <a:avLst/>
                  <a:gdLst/>
                  <a:ahLst/>
                  <a:rect l="0" t="0" r="r" b="b"/>
                  <a:pathLst>
                    <a:path fill="none" w="497" h="519">
                      <a:moveTo>
                        <a:pt x="497" y="519"/>
                      </a:moveTo>
                      <a:lnTo>
                        <a:pt x="497" y="519"/>
                      </a:lnTo>
                      <a:lnTo>
                        <a:pt x="497" y="519"/>
                      </a:lnTo>
                      <a:cubicBezTo>
                        <a:pt x="497" y="428"/>
                        <a:pt x="474" y="338"/>
                        <a:pt x="430" y="259"/>
                      </a:cubicBezTo>
                      <a:cubicBezTo>
                        <a:pt x="387" y="181"/>
                        <a:pt x="324" y="115"/>
                        <a:pt x="248" y="70"/>
                      </a:cubicBezTo>
                      <a:cubicBezTo>
                        <a:pt x="173" y="24"/>
                        <a:pt x="87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001880" y="5006160"/>
                <a:ext cx="357480" cy="186840"/>
                <a:chOff x="1001880" y="5006160"/>
                <a:chExt cx="357480" cy="186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001880" y="5006160"/>
                  <a:ext cx="179640" cy="186840"/>
                </a:xfrm>
                <a:custGeom>
                  <a:avLst/>
                  <a:gdLst/>
                  <a:ahLst/>
                  <a:rect l="0" t="0" r="r" b="b"/>
                  <a:pathLst>
                    <a:path fill="none" w="499" h="519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0" y="91"/>
                        <a:pt x="23" y="181"/>
                        <a:pt x="67" y="260"/>
                      </a:cubicBezTo>
                      <a:cubicBezTo>
                        <a:pt x="111" y="338"/>
                        <a:pt x="174" y="404"/>
                        <a:pt x="250" y="449"/>
                      </a:cubicBezTo>
                      <a:cubicBezTo>
                        <a:pt x="325" y="495"/>
                        <a:pt x="411" y="519"/>
                        <a:pt x="499" y="519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0440" y="5006160"/>
                  <a:ext cx="178920" cy="186840"/>
                </a:xfrm>
                <a:custGeom>
                  <a:avLst/>
                  <a:gdLst/>
                  <a:ahLst/>
                  <a:rect l="0" t="0" r="r" b="b"/>
                  <a:pathLst>
                    <a:path fill="none" w="497" h="519">
                      <a:moveTo>
                        <a:pt x="0" y="519"/>
                      </a:moveTo>
                      <a:lnTo>
                        <a:pt x="0" y="519"/>
                      </a:lnTo>
                      <a:cubicBezTo>
                        <a:pt x="87" y="519"/>
                        <a:pt x="173" y="495"/>
                        <a:pt x="249" y="449"/>
                      </a:cubicBezTo>
                      <a:cubicBezTo>
                        <a:pt x="324" y="404"/>
                        <a:pt x="387" y="338"/>
                        <a:pt x="430" y="259"/>
                      </a:cubicBezTo>
                      <a:cubicBezTo>
                        <a:pt x="474" y="181"/>
                        <a:pt x="497" y="91"/>
                        <a:pt x="497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1706400" y="2671920"/>
                <a:ext cx="490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03520" y="3046320"/>
                <a:ext cx="492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2189880" y="2666880"/>
                <a:ext cx="96480" cy="376560"/>
                <a:chOff x="2189880" y="2666880"/>
                <a:chExt cx="96480" cy="3765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2189880" y="2666880"/>
                  <a:ext cx="96480" cy="188280"/>
                </a:xfrm>
                <a:custGeom>
                  <a:avLst/>
                  <a:gdLst/>
                  <a:ahLst/>
                  <a:rect l="0" t="0" r="r" b="b"/>
                  <a:pathLst>
                    <a:path fill="none" w="268" h="523">
                      <a:moveTo>
                        <a:pt x="268" y="523"/>
                      </a:moveTo>
                      <a:lnTo>
                        <a:pt x="268" y="523"/>
                      </a:lnTo>
                      <a:lnTo>
                        <a:pt x="268" y="523"/>
                      </a:lnTo>
                      <a:cubicBezTo>
                        <a:pt x="268" y="431"/>
                        <a:pt x="256" y="341"/>
                        <a:pt x="232" y="261"/>
                      </a:cubicBezTo>
                      <a:cubicBezTo>
                        <a:pt x="209" y="182"/>
                        <a:pt x="175" y="116"/>
                        <a:pt x="134" y="70"/>
                      </a:cubicBezTo>
                      <a:cubicBezTo>
                        <a:pt x="93" y="24"/>
                        <a:pt x="47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89880" y="2855160"/>
                  <a:ext cx="96480" cy="188280"/>
                </a:xfrm>
                <a:custGeom>
                  <a:avLst/>
                  <a:gdLst/>
                  <a:ahLst/>
                  <a:rect l="0" t="0" r="r" b="b"/>
                  <a:pathLst>
                    <a:path fill="none" w="268" h="523">
                      <a:moveTo>
                        <a:pt x="0" y="523"/>
                      </a:moveTo>
                      <a:lnTo>
                        <a:pt x="0" y="523"/>
                      </a:lnTo>
                      <a:cubicBezTo>
                        <a:pt x="47" y="523"/>
                        <a:pt x="93" y="499"/>
                        <a:pt x="134" y="453"/>
                      </a:cubicBezTo>
                      <a:cubicBezTo>
                        <a:pt x="175" y="407"/>
                        <a:pt x="209" y="341"/>
                        <a:pt x="232" y="261"/>
                      </a:cubicBezTo>
                      <a:cubicBezTo>
                        <a:pt x="256" y="182"/>
                        <a:pt x="268" y="92"/>
                        <a:pt x="268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609560" y="2666880"/>
                <a:ext cx="96480" cy="376560"/>
                <a:chOff x="1609560" y="2666880"/>
                <a:chExt cx="96480" cy="3765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609560" y="2855160"/>
                  <a:ext cx="96480" cy="188280"/>
                </a:xfrm>
                <a:custGeom>
                  <a:avLst/>
                  <a:gdLst/>
                  <a:ahLst/>
                  <a:rect l="0" t="0" r="r" b="b"/>
                  <a:pathLst>
                    <a:path fill="none" w="268" h="523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0" y="92"/>
                        <a:pt x="12" y="182"/>
                        <a:pt x="36" y="262"/>
                      </a:cubicBezTo>
                      <a:cubicBezTo>
                        <a:pt x="59" y="341"/>
                        <a:pt x="93" y="407"/>
                        <a:pt x="134" y="453"/>
                      </a:cubicBezTo>
                      <a:cubicBezTo>
                        <a:pt x="175" y="499"/>
                        <a:pt x="221" y="523"/>
                        <a:pt x="268" y="523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609560" y="2666880"/>
                  <a:ext cx="96480" cy="188280"/>
                </a:xfrm>
                <a:custGeom>
                  <a:avLst/>
                  <a:gdLst/>
                  <a:ahLst/>
                  <a:rect l="0" t="0" r="r" b="b"/>
                  <a:pathLst>
                    <a:path fill="none" w="268" h="523">
                      <a:moveTo>
                        <a:pt x="268" y="0"/>
                      </a:moveTo>
                      <a:lnTo>
                        <a:pt x="268" y="0"/>
                      </a:lnTo>
                      <a:cubicBezTo>
                        <a:pt x="221" y="0"/>
                        <a:pt x="175" y="24"/>
                        <a:pt x="134" y="70"/>
                      </a:cubicBezTo>
                      <a:cubicBezTo>
                        <a:pt x="93" y="116"/>
                        <a:pt x="59" y="182"/>
                        <a:pt x="36" y="262"/>
                      </a:cubicBezTo>
                      <a:cubicBezTo>
                        <a:pt x="12" y="341"/>
                        <a:pt x="0" y="431"/>
                        <a:pt x="0" y="523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1179360" y="2855880"/>
                <a:ext cx="346320" cy="373320"/>
              </a:xfrm>
              <a:custGeom>
                <a:avLst/>
                <a:gdLst/>
                <a:ahLst/>
                <a:rect l="0" t="0" r="r" b="b"/>
                <a:pathLst>
                  <a:path fill="none" w="962" h="1037">
                    <a:moveTo>
                      <a:pt x="0" y="1037"/>
                    </a:moveTo>
                    <a:lnTo>
                      <a:pt x="0" y="0"/>
                    </a:lnTo>
                    <a:lnTo>
                      <a:pt x="962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21000" y="2819520"/>
                <a:ext cx="81360" cy="60840"/>
              </a:xfrm>
              <a:custGeom>
                <a:avLst/>
                <a:gdLst/>
                <a:ahLst/>
                <a:rect l="0" t="0" r="r" b="b"/>
                <a:pathLst>
                  <a:path w="226" h="169">
                    <a:moveTo>
                      <a:pt x="226" y="86"/>
                    </a:moveTo>
                    <a:lnTo>
                      <a:pt x="0" y="0"/>
                    </a:lnTo>
                    <a:lnTo>
                      <a:pt x="0" y="169"/>
                    </a:lnTo>
                    <a:lnTo>
                      <a:pt x="226" y="8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441440" y="3043080"/>
                <a:ext cx="524160" cy="417960"/>
              </a:xfrm>
              <a:custGeom>
                <a:avLst/>
                <a:gdLst/>
                <a:ahLst/>
                <a:rect l="0" t="0" r="r" b="b"/>
                <a:pathLst>
                  <a:path fill="none" w="1456" h="1161">
                    <a:moveTo>
                      <a:pt x="0" y="1161"/>
                    </a:moveTo>
                    <a:lnTo>
                      <a:pt x="1456" y="1161"/>
                    </a:lnTo>
                    <a:lnTo>
                      <a:pt x="1456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359000" y="3425760"/>
                <a:ext cx="82800" cy="62280"/>
              </a:xfrm>
              <a:custGeom>
                <a:avLst/>
                <a:gdLst/>
                <a:ahLst/>
                <a:rect l="0" t="0" r="r" b="b"/>
                <a:pathLst>
                  <a:path w="230" h="173">
                    <a:moveTo>
                      <a:pt x="0" y="88"/>
                    </a:moveTo>
                    <a:lnTo>
                      <a:pt x="230" y="173"/>
                    </a:lnTo>
                    <a:lnTo>
                      <a:pt x="23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65240" y="2484360"/>
                <a:ext cx="344880" cy="182880"/>
              </a:xfrm>
              <a:custGeom>
                <a:avLst/>
                <a:gdLst/>
                <a:ahLst/>
                <a:rect l="0" t="0" r="r" b="b"/>
                <a:pathLst>
                  <a:path fill="none" w="958" h="508">
                    <a:moveTo>
                      <a:pt x="0" y="508"/>
                    </a:moveTo>
                    <a:lnTo>
                      <a:pt x="0" y="0"/>
                    </a:lnTo>
                    <a:lnTo>
                      <a:pt x="95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06520" y="2448000"/>
                <a:ext cx="81360" cy="62280"/>
              </a:xfrm>
              <a:custGeom>
                <a:avLst/>
                <a:gdLst/>
                <a:ahLst/>
                <a:rect l="0" t="0" r="r" b="b"/>
                <a:pathLst>
                  <a:path w="226" h="173">
                    <a:moveTo>
                      <a:pt x="226" y="88"/>
                    </a:moveTo>
                    <a:lnTo>
                      <a:pt x="0" y="0"/>
                    </a:lnTo>
                    <a:lnTo>
                      <a:pt x="0" y="173"/>
                    </a:lnTo>
                    <a:lnTo>
                      <a:pt x="226" y="8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1200" y="5416560"/>
                <a:ext cx="490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07960" y="5792760"/>
                <a:ext cx="492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993600" y="5413320"/>
                <a:ext cx="97200" cy="374760"/>
                <a:chOff x="993600" y="5413320"/>
                <a:chExt cx="97200" cy="3747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993600" y="5413320"/>
                  <a:ext cx="97200" cy="187560"/>
                </a:xfrm>
                <a:custGeom>
                  <a:avLst/>
                  <a:gdLst/>
                  <a:ahLst/>
                  <a:rect l="0" t="0" r="r" b="b"/>
                  <a:pathLst>
                    <a:path fill="none" w="270" h="521">
                      <a:moveTo>
                        <a:pt x="270" y="521"/>
                      </a:moveTo>
                      <a:lnTo>
                        <a:pt x="270" y="521"/>
                      </a:lnTo>
                      <a:lnTo>
                        <a:pt x="270" y="521"/>
                      </a:lnTo>
                      <a:cubicBezTo>
                        <a:pt x="270" y="430"/>
                        <a:pt x="258" y="340"/>
                        <a:pt x="234" y="260"/>
                      </a:cubicBezTo>
                      <a:cubicBezTo>
                        <a:pt x="210" y="181"/>
                        <a:pt x="176" y="116"/>
                        <a:pt x="135" y="70"/>
                      </a:cubicBezTo>
                      <a:cubicBezTo>
                        <a:pt x="94" y="24"/>
                        <a:pt x="47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993600" y="5600520"/>
                  <a:ext cx="97200" cy="187560"/>
                </a:xfrm>
                <a:custGeom>
                  <a:avLst/>
                  <a:gdLst/>
                  <a:ahLst/>
                  <a:rect l="0" t="0" r="r" b="b"/>
                  <a:pathLst>
                    <a:path fill="none" w="270" h="521">
                      <a:moveTo>
                        <a:pt x="0" y="521"/>
                      </a:moveTo>
                      <a:lnTo>
                        <a:pt x="0" y="521"/>
                      </a:lnTo>
                      <a:cubicBezTo>
                        <a:pt x="47" y="521"/>
                        <a:pt x="94" y="497"/>
                        <a:pt x="135" y="451"/>
                      </a:cubicBezTo>
                      <a:cubicBezTo>
                        <a:pt x="176" y="405"/>
                        <a:pt x="210" y="340"/>
                        <a:pt x="234" y="260"/>
                      </a:cubicBezTo>
                      <a:cubicBezTo>
                        <a:pt x="258" y="181"/>
                        <a:pt x="270" y="91"/>
                        <a:pt x="270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414360" y="5413320"/>
                <a:ext cx="96480" cy="374760"/>
                <a:chOff x="414360" y="5413320"/>
                <a:chExt cx="96480" cy="3747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14360" y="5600520"/>
                  <a:ext cx="96480" cy="187560"/>
                </a:xfrm>
                <a:custGeom>
                  <a:avLst/>
                  <a:gdLst/>
                  <a:ahLst/>
                  <a:rect l="0" t="0" r="r" b="b"/>
                  <a:pathLst>
                    <a:path fill="none" w="268" h="521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0" y="91"/>
                        <a:pt x="12" y="181"/>
                        <a:pt x="36" y="261"/>
                      </a:cubicBezTo>
                      <a:cubicBezTo>
                        <a:pt x="59" y="340"/>
                        <a:pt x="93" y="405"/>
                        <a:pt x="134" y="451"/>
                      </a:cubicBezTo>
                      <a:cubicBezTo>
                        <a:pt x="175" y="497"/>
                        <a:pt x="221" y="521"/>
                        <a:pt x="268" y="521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14360" y="5413320"/>
                  <a:ext cx="96480" cy="187560"/>
                </a:xfrm>
                <a:custGeom>
                  <a:avLst/>
                  <a:gdLst/>
                  <a:ahLst/>
                  <a:rect l="0" t="0" r="r" b="b"/>
                  <a:pathLst>
                    <a:path fill="none" w="268" h="521">
                      <a:moveTo>
                        <a:pt x="268" y="0"/>
                      </a:moveTo>
                      <a:lnTo>
                        <a:pt x="268" y="0"/>
                      </a:lnTo>
                      <a:cubicBezTo>
                        <a:pt x="221" y="0"/>
                        <a:pt x="175" y="24"/>
                        <a:pt x="134" y="70"/>
                      </a:cubicBezTo>
                      <a:cubicBezTo>
                        <a:pt x="93" y="116"/>
                        <a:pt x="59" y="181"/>
                        <a:pt x="36" y="261"/>
                      </a:cubicBezTo>
                      <a:cubicBezTo>
                        <a:pt x="12" y="340"/>
                        <a:pt x="0" y="430"/>
                        <a:pt x="0" y="521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117360" y="5614920"/>
                <a:ext cx="81360" cy="62280"/>
              </a:xfrm>
              <a:custGeom>
                <a:avLst/>
                <a:gdLst/>
                <a:ahLst/>
                <a:rect l="0" t="0" r="r" b="b"/>
                <a:pathLst>
                  <a:path w="226" h="173">
                    <a:moveTo>
                      <a:pt x="0" y="88"/>
                    </a:moveTo>
                    <a:lnTo>
                      <a:pt x="226" y="0"/>
                    </a:lnTo>
                    <a:lnTo>
                      <a:pt x="226" y="173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92240" y="5581800"/>
                <a:ext cx="82800" cy="62280"/>
              </a:xfrm>
              <a:custGeom>
                <a:avLst/>
                <a:gdLst/>
                <a:ahLst/>
                <a:rect l="0" t="0" r="r" b="b"/>
                <a:pathLst>
                  <a:path w="230" h="173">
                    <a:moveTo>
                      <a:pt x="0" y="85"/>
                    </a:moveTo>
                    <a:lnTo>
                      <a:pt x="230" y="0"/>
                    </a:lnTo>
                    <a:lnTo>
                      <a:pt x="230" y="173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49320" y="4973760"/>
                <a:ext cx="82800" cy="60840"/>
              </a:xfrm>
              <a:custGeom>
                <a:avLst/>
                <a:gdLst/>
                <a:ahLst/>
                <a:rect l="0" t="0" r="r" b="b"/>
                <a:pathLst>
                  <a:path w="230" h="169">
                    <a:moveTo>
                      <a:pt x="230" y="86"/>
                    </a:moveTo>
                    <a:lnTo>
                      <a:pt x="0" y="0"/>
                    </a:lnTo>
                    <a:lnTo>
                      <a:pt x="0" y="169"/>
                    </a:lnTo>
                    <a:lnTo>
                      <a:pt x="23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17480" y="5000760"/>
                <a:ext cx="319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9560" y="50007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89080" y="5210280"/>
                <a:ext cx="0" cy="401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96920" y="560088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8360" y="5640480"/>
                <a:ext cx="206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04920" y="4154400"/>
                <a:ext cx="657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2720" y="4113360"/>
                <a:ext cx="82800" cy="62280"/>
              </a:xfrm>
              <a:custGeom>
                <a:avLst/>
                <a:gdLst/>
                <a:ahLst/>
                <a:rect l="0" t="0" r="r" b="b"/>
                <a:pathLst>
                  <a:path w="230" h="173">
                    <a:moveTo>
                      <a:pt x="230" y="88"/>
                    </a:moveTo>
                    <a:lnTo>
                      <a:pt x="0" y="0"/>
                    </a:lnTo>
                    <a:lnTo>
                      <a:pt x="0" y="173"/>
                    </a:lnTo>
                    <a:lnTo>
                      <a:pt x="230" y="8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2840040" y="3540240"/>
              <a:ext cx="357120" cy="1582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840040" y="3352680"/>
              <a:ext cx="357480" cy="186840"/>
              <a:chOff x="2840040" y="3352680"/>
              <a:chExt cx="357480" cy="186840"/>
            </a:xfrm>
          </p:grpSpPr>
          <p:sp>
            <p:nvSpPr>
              <p:cNvPr id="175" name=""/>
              <p:cNvSpPr/>
              <p:nvPr/>
            </p:nvSpPr>
            <p:spPr>
              <a:xfrm>
                <a:off x="2840040" y="3352680"/>
                <a:ext cx="178920" cy="186840"/>
              </a:xfrm>
              <a:custGeom>
                <a:avLst/>
                <a:gdLst/>
                <a:ahLst/>
                <a:rect l="0" t="0" r="r" b="b"/>
                <a:pathLst>
                  <a:path fill="none" w="497" h="519">
                    <a:moveTo>
                      <a:pt x="497" y="0"/>
                    </a:moveTo>
                    <a:lnTo>
                      <a:pt x="497" y="0"/>
                    </a:lnTo>
                    <a:cubicBezTo>
                      <a:pt x="410" y="0"/>
                      <a:pt x="324" y="24"/>
                      <a:pt x="248" y="70"/>
                    </a:cubicBezTo>
                    <a:cubicBezTo>
                      <a:pt x="173" y="115"/>
                      <a:pt x="110" y="181"/>
                      <a:pt x="67" y="260"/>
                    </a:cubicBezTo>
                    <a:cubicBezTo>
                      <a:pt x="23" y="338"/>
                      <a:pt x="0" y="428"/>
                      <a:pt x="0" y="519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18600" y="3352680"/>
                <a:ext cx="178920" cy="186840"/>
              </a:xfrm>
              <a:custGeom>
                <a:avLst/>
                <a:gdLst/>
                <a:ahLst/>
                <a:rect l="0" t="0" r="r" b="b"/>
                <a:pathLst>
                  <a:path fill="none" w="497" h="519">
                    <a:moveTo>
                      <a:pt x="497" y="519"/>
                    </a:moveTo>
                    <a:lnTo>
                      <a:pt x="497" y="519"/>
                    </a:lnTo>
                    <a:lnTo>
                      <a:pt x="497" y="519"/>
                    </a:lnTo>
                    <a:cubicBezTo>
                      <a:pt x="497" y="428"/>
                      <a:pt x="474" y="338"/>
                      <a:pt x="430" y="259"/>
                    </a:cubicBezTo>
                    <a:cubicBezTo>
                      <a:pt x="387" y="181"/>
                      <a:pt x="324" y="115"/>
                      <a:pt x="248" y="70"/>
                    </a:cubicBezTo>
                    <a:cubicBezTo>
                      <a:pt x="173" y="24"/>
                      <a:pt x="87" y="0"/>
                      <a:pt x="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840040" y="5130000"/>
              <a:ext cx="357480" cy="186840"/>
              <a:chOff x="2840040" y="5130000"/>
              <a:chExt cx="357480" cy="186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840040" y="5130000"/>
                <a:ext cx="179640" cy="186840"/>
              </a:xfrm>
              <a:custGeom>
                <a:avLst/>
                <a:gdLst/>
                <a:ahLst/>
                <a:rect l="0" t="0" r="r" b="b"/>
                <a:pathLst>
                  <a:path fill="none" w="499" h="519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91"/>
                      <a:pt x="23" y="181"/>
                      <a:pt x="67" y="260"/>
                    </a:cubicBezTo>
                    <a:cubicBezTo>
                      <a:pt x="111" y="338"/>
                      <a:pt x="174" y="404"/>
                      <a:pt x="250" y="449"/>
                    </a:cubicBezTo>
                    <a:cubicBezTo>
                      <a:pt x="325" y="495"/>
                      <a:pt x="411" y="519"/>
                      <a:pt x="499" y="519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018600" y="5130000"/>
                <a:ext cx="178920" cy="186840"/>
              </a:xfrm>
              <a:custGeom>
                <a:avLst/>
                <a:gdLst/>
                <a:ahLst/>
                <a:rect l="0" t="0" r="r" b="b"/>
                <a:pathLst>
                  <a:path fill="none" w="497" h="519">
                    <a:moveTo>
                      <a:pt x="0" y="519"/>
                    </a:moveTo>
                    <a:lnTo>
                      <a:pt x="0" y="519"/>
                    </a:lnTo>
                    <a:cubicBezTo>
                      <a:pt x="87" y="519"/>
                      <a:pt x="173" y="495"/>
                      <a:pt x="249" y="449"/>
                    </a:cubicBezTo>
                    <a:cubicBezTo>
                      <a:pt x="324" y="404"/>
                      <a:pt x="387" y="338"/>
                      <a:pt x="430" y="259"/>
                    </a:cubicBezTo>
                    <a:cubicBezTo>
                      <a:pt x="474" y="181"/>
                      <a:pt x="497" y="91"/>
                      <a:pt x="497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3544920" y="2795760"/>
              <a:ext cx="490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41680" y="3170160"/>
              <a:ext cx="492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4028400" y="2790720"/>
              <a:ext cx="96480" cy="376560"/>
              <a:chOff x="4028400" y="2790720"/>
              <a:chExt cx="96480" cy="376560"/>
            </a:xfrm>
          </p:grpSpPr>
          <p:sp>
            <p:nvSpPr>
              <p:cNvPr id="183" name=""/>
              <p:cNvSpPr/>
              <p:nvPr/>
            </p:nvSpPr>
            <p:spPr>
              <a:xfrm>
                <a:off x="4028400" y="2790720"/>
                <a:ext cx="96480" cy="188280"/>
              </a:xfrm>
              <a:custGeom>
                <a:avLst/>
                <a:gdLst/>
                <a:ahLst/>
                <a:rect l="0" t="0" r="r" b="b"/>
                <a:pathLst>
                  <a:path fill="none" w="268" h="523">
                    <a:moveTo>
                      <a:pt x="268" y="523"/>
                    </a:moveTo>
                    <a:lnTo>
                      <a:pt x="268" y="523"/>
                    </a:lnTo>
                    <a:lnTo>
                      <a:pt x="268" y="523"/>
                    </a:lnTo>
                    <a:cubicBezTo>
                      <a:pt x="268" y="431"/>
                      <a:pt x="256" y="341"/>
                      <a:pt x="232" y="261"/>
                    </a:cubicBezTo>
                    <a:cubicBezTo>
                      <a:pt x="209" y="182"/>
                      <a:pt x="175" y="116"/>
                      <a:pt x="134" y="70"/>
                    </a:cubicBezTo>
                    <a:cubicBezTo>
                      <a:pt x="93" y="24"/>
                      <a:pt x="47" y="0"/>
                      <a:pt x="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028400" y="2979000"/>
                <a:ext cx="96480" cy="188280"/>
              </a:xfrm>
              <a:custGeom>
                <a:avLst/>
                <a:gdLst/>
                <a:ahLst/>
                <a:rect l="0" t="0" r="r" b="b"/>
                <a:pathLst>
                  <a:path fill="none" w="268" h="523">
                    <a:moveTo>
                      <a:pt x="0" y="523"/>
                    </a:moveTo>
                    <a:lnTo>
                      <a:pt x="0" y="523"/>
                    </a:lnTo>
                    <a:cubicBezTo>
                      <a:pt x="47" y="523"/>
                      <a:pt x="93" y="499"/>
                      <a:pt x="134" y="453"/>
                    </a:cubicBezTo>
                    <a:cubicBezTo>
                      <a:pt x="175" y="407"/>
                      <a:pt x="209" y="341"/>
                      <a:pt x="232" y="261"/>
                    </a:cubicBezTo>
                    <a:cubicBezTo>
                      <a:pt x="256" y="182"/>
                      <a:pt x="268" y="92"/>
                      <a:pt x="268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448080" y="2790720"/>
              <a:ext cx="96480" cy="376560"/>
              <a:chOff x="3448080" y="2790720"/>
              <a:chExt cx="96480" cy="376560"/>
            </a:xfrm>
          </p:grpSpPr>
          <p:sp>
            <p:nvSpPr>
              <p:cNvPr id="186" name=""/>
              <p:cNvSpPr/>
              <p:nvPr/>
            </p:nvSpPr>
            <p:spPr>
              <a:xfrm>
                <a:off x="3448080" y="2979000"/>
                <a:ext cx="96480" cy="188280"/>
              </a:xfrm>
              <a:custGeom>
                <a:avLst/>
                <a:gdLst/>
                <a:ahLst/>
                <a:rect l="0" t="0" r="r" b="b"/>
                <a:pathLst>
                  <a:path fill="none" w="268" h="523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92"/>
                      <a:pt x="12" y="182"/>
                      <a:pt x="36" y="262"/>
                    </a:cubicBezTo>
                    <a:cubicBezTo>
                      <a:pt x="59" y="341"/>
                      <a:pt x="93" y="407"/>
                      <a:pt x="134" y="453"/>
                    </a:cubicBezTo>
                    <a:cubicBezTo>
                      <a:pt x="175" y="499"/>
                      <a:pt x="221" y="523"/>
                      <a:pt x="268" y="523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48080" y="2790720"/>
                <a:ext cx="96480" cy="188280"/>
              </a:xfrm>
              <a:custGeom>
                <a:avLst/>
                <a:gdLst/>
                <a:ahLst/>
                <a:rect l="0" t="0" r="r" b="b"/>
                <a:pathLst>
                  <a:path fill="none" w="268" h="523">
                    <a:moveTo>
                      <a:pt x="268" y="0"/>
                    </a:moveTo>
                    <a:lnTo>
                      <a:pt x="268" y="0"/>
                    </a:lnTo>
                    <a:cubicBezTo>
                      <a:pt x="221" y="0"/>
                      <a:pt x="175" y="24"/>
                      <a:pt x="134" y="70"/>
                    </a:cubicBezTo>
                    <a:cubicBezTo>
                      <a:pt x="93" y="116"/>
                      <a:pt x="59" y="182"/>
                      <a:pt x="36" y="262"/>
                    </a:cubicBezTo>
                    <a:cubicBezTo>
                      <a:pt x="12" y="341"/>
                      <a:pt x="0" y="431"/>
                      <a:pt x="0" y="523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3017880" y="2979720"/>
              <a:ext cx="346320" cy="373320"/>
            </a:xfrm>
            <a:custGeom>
              <a:avLst/>
              <a:gdLst/>
              <a:ahLst/>
              <a:rect l="0" t="0" r="r" b="b"/>
              <a:pathLst>
                <a:path fill="none" w="962" h="1037">
                  <a:moveTo>
                    <a:pt x="0" y="1037"/>
                  </a:moveTo>
                  <a:lnTo>
                    <a:pt x="0" y="0"/>
                  </a:lnTo>
                  <a:lnTo>
                    <a:pt x="962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59160" y="2943360"/>
              <a:ext cx="81360" cy="60840"/>
            </a:xfrm>
            <a:custGeom>
              <a:avLst/>
              <a:gdLst/>
              <a:ahLst/>
              <a:rect l="0" t="0" r="r" b="b"/>
              <a:pathLst>
                <a:path w="226" h="169">
                  <a:moveTo>
                    <a:pt x="226" y="86"/>
                  </a:moveTo>
                  <a:lnTo>
                    <a:pt x="0" y="0"/>
                  </a:lnTo>
                  <a:lnTo>
                    <a:pt x="0" y="169"/>
                  </a:lnTo>
                  <a:lnTo>
                    <a:pt x="226" y="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79600" y="3166920"/>
              <a:ext cx="524160" cy="417960"/>
            </a:xfrm>
            <a:custGeom>
              <a:avLst/>
              <a:gdLst/>
              <a:ahLst/>
              <a:rect l="0" t="0" r="r" b="b"/>
              <a:pathLst>
                <a:path fill="none" w="1456" h="1161">
                  <a:moveTo>
                    <a:pt x="0" y="1161"/>
                  </a:moveTo>
                  <a:lnTo>
                    <a:pt x="1456" y="1161"/>
                  </a:lnTo>
                  <a:lnTo>
                    <a:pt x="1456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97160" y="3549600"/>
              <a:ext cx="82800" cy="62280"/>
            </a:xfrm>
            <a:custGeom>
              <a:avLst/>
              <a:gdLst/>
              <a:ahLst/>
              <a:rect l="0" t="0" r="r" b="b"/>
              <a:pathLst>
                <a:path w="230" h="173">
                  <a:moveTo>
                    <a:pt x="0" y="88"/>
                  </a:moveTo>
                  <a:lnTo>
                    <a:pt x="230" y="173"/>
                  </a:lnTo>
                  <a:lnTo>
                    <a:pt x="230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3760" y="2608200"/>
              <a:ext cx="344880" cy="182880"/>
            </a:xfrm>
            <a:custGeom>
              <a:avLst/>
              <a:gdLst/>
              <a:ahLst/>
              <a:rect l="0" t="0" r="r" b="b"/>
              <a:pathLst>
                <a:path fill="none" w="958" h="508">
                  <a:moveTo>
                    <a:pt x="0" y="508"/>
                  </a:moveTo>
                  <a:lnTo>
                    <a:pt x="0" y="0"/>
                  </a:lnTo>
                  <a:lnTo>
                    <a:pt x="958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45040" y="2571840"/>
              <a:ext cx="81360" cy="62280"/>
            </a:xfrm>
            <a:custGeom>
              <a:avLst/>
              <a:gdLst/>
              <a:ahLst/>
              <a:rect l="0" t="0" r="r" b="b"/>
              <a:pathLst>
                <a:path w="226" h="173">
                  <a:moveTo>
                    <a:pt x="226" y="88"/>
                  </a:moveTo>
                  <a:lnTo>
                    <a:pt x="0" y="0"/>
                  </a:lnTo>
                  <a:lnTo>
                    <a:pt x="0" y="173"/>
                  </a:lnTo>
                  <a:lnTo>
                    <a:pt x="226" y="8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49360" y="5540400"/>
              <a:ext cx="490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46480" y="5916600"/>
              <a:ext cx="492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2832120" y="5537160"/>
              <a:ext cx="97200" cy="374760"/>
              <a:chOff x="2832120" y="5537160"/>
              <a:chExt cx="97200" cy="374760"/>
            </a:xfrm>
          </p:grpSpPr>
          <p:sp>
            <p:nvSpPr>
              <p:cNvPr id="197" name=""/>
              <p:cNvSpPr/>
              <p:nvPr/>
            </p:nvSpPr>
            <p:spPr>
              <a:xfrm>
                <a:off x="2832120" y="5537160"/>
                <a:ext cx="97200" cy="187560"/>
              </a:xfrm>
              <a:custGeom>
                <a:avLst/>
                <a:gdLst/>
                <a:ahLst/>
                <a:rect l="0" t="0" r="r" b="b"/>
                <a:pathLst>
                  <a:path fill="none" w="270" h="521">
                    <a:moveTo>
                      <a:pt x="270" y="521"/>
                    </a:moveTo>
                    <a:lnTo>
                      <a:pt x="270" y="521"/>
                    </a:lnTo>
                    <a:lnTo>
                      <a:pt x="270" y="521"/>
                    </a:lnTo>
                    <a:cubicBezTo>
                      <a:pt x="270" y="430"/>
                      <a:pt x="258" y="340"/>
                      <a:pt x="234" y="260"/>
                    </a:cubicBezTo>
                    <a:cubicBezTo>
                      <a:pt x="210" y="181"/>
                      <a:pt x="176" y="116"/>
                      <a:pt x="135" y="70"/>
                    </a:cubicBezTo>
                    <a:cubicBezTo>
                      <a:pt x="94" y="24"/>
                      <a:pt x="47" y="0"/>
                      <a:pt x="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32120" y="5724360"/>
                <a:ext cx="97200" cy="187560"/>
              </a:xfrm>
              <a:custGeom>
                <a:avLst/>
                <a:gdLst/>
                <a:ahLst/>
                <a:rect l="0" t="0" r="r" b="b"/>
                <a:pathLst>
                  <a:path fill="none" w="270" h="521">
                    <a:moveTo>
                      <a:pt x="0" y="521"/>
                    </a:moveTo>
                    <a:lnTo>
                      <a:pt x="0" y="521"/>
                    </a:lnTo>
                    <a:cubicBezTo>
                      <a:pt x="47" y="521"/>
                      <a:pt x="94" y="497"/>
                      <a:pt x="135" y="451"/>
                    </a:cubicBezTo>
                    <a:cubicBezTo>
                      <a:pt x="176" y="405"/>
                      <a:pt x="210" y="340"/>
                      <a:pt x="234" y="260"/>
                    </a:cubicBezTo>
                    <a:cubicBezTo>
                      <a:pt x="258" y="181"/>
                      <a:pt x="270" y="91"/>
                      <a:pt x="27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52520" y="5537160"/>
              <a:ext cx="96480" cy="374760"/>
              <a:chOff x="2252520" y="5537160"/>
              <a:chExt cx="96480" cy="374760"/>
            </a:xfrm>
          </p:grpSpPr>
          <p:sp>
            <p:nvSpPr>
              <p:cNvPr id="200" name=""/>
              <p:cNvSpPr/>
              <p:nvPr/>
            </p:nvSpPr>
            <p:spPr>
              <a:xfrm>
                <a:off x="2252520" y="5724360"/>
                <a:ext cx="96480" cy="187560"/>
              </a:xfrm>
              <a:custGeom>
                <a:avLst/>
                <a:gdLst/>
                <a:ahLst/>
                <a:rect l="0" t="0" r="r" b="b"/>
                <a:pathLst>
                  <a:path fill="none" w="268" h="521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91"/>
                      <a:pt x="12" y="181"/>
                      <a:pt x="36" y="261"/>
                    </a:cubicBezTo>
                    <a:cubicBezTo>
                      <a:pt x="59" y="340"/>
                      <a:pt x="93" y="405"/>
                      <a:pt x="134" y="451"/>
                    </a:cubicBezTo>
                    <a:cubicBezTo>
                      <a:pt x="175" y="497"/>
                      <a:pt x="221" y="521"/>
                      <a:pt x="268" y="521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252520" y="5537160"/>
                <a:ext cx="96480" cy="187560"/>
              </a:xfrm>
              <a:custGeom>
                <a:avLst/>
                <a:gdLst/>
                <a:ahLst/>
                <a:rect l="0" t="0" r="r" b="b"/>
                <a:pathLst>
                  <a:path fill="none" w="268" h="521">
                    <a:moveTo>
                      <a:pt x="268" y="0"/>
                    </a:moveTo>
                    <a:lnTo>
                      <a:pt x="268" y="0"/>
                    </a:lnTo>
                    <a:cubicBezTo>
                      <a:pt x="221" y="0"/>
                      <a:pt x="175" y="24"/>
                      <a:pt x="134" y="70"/>
                    </a:cubicBezTo>
                    <a:cubicBezTo>
                      <a:pt x="93" y="116"/>
                      <a:pt x="59" y="181"/>
                      <a:pt x="36" y="261"/>
                    </a:cubicBezTo>
                    <a:cubicBezTo>
                      <a:pt x="12" y="340"/>
                      <a:pt x="0" y="430"/>
                      <a:pt x="0" y="521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1955880" y="5738760"/>
              <a:ext cx="81360" cy="62280"/>
            </a:xfrm>
            <a:custGeom>
              <a:avLst/>
              <a:gdLst/>
              <a:ahLst/>
              <a:rect l="0" t="0" r="r" b="b"/>
              <a:pathLst>
                <a:path w="226" h="173">
                  <a:moveTo>
                    <a:pt x="0" y="88"/>
                  </a:moveTo>
                  <a:lnTo>
                    <a:pt x="226" y="0"/>
                  </a:lnTo>
                  <a:lnTo>
                    <a:pt x="226" y="173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30400" y="5705640"/>
              <a:ext cx="82800" cy="62280"/>
            </a:xfrm>
            <a:custGeom>
              <a:avLst/>
              <a:gdLst/>
              <a:ahLst/>
              <a:rect l="0" t="0" r="r" b="b"/>
              <a:pathLst>
                <a:path w="230" h="173">
                  <a:moveTo>
                    <a:pt x="0" y="85"/>
                  </a:moveTo>
                  <a:lnTo>
                    <a:pt x="230" y="0"/>
                  </a:lnTo>
                  <a:lnTo>
                    <a:pt x="230" y="173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87480" y="5097600"/>
              <a:ext cx="82800" cy="60840"/>
            </a:xfrm>
            <a:custGeom>
              <a:avLst/>
              <a:gdLst/>
              <a:ahLst/>
              <a:rect l="0" t="0" r="r" b="b"/>
              <a:pathLst>
                <a:path w="230" h="169">
                  <a:moveTo>
                    <a:pt x="230" y="86"/>
                  </a:moveTo>
                  <a:lnTo>
                    <a:pt x="0" y="0"/>
                  </a:lnTo>
                  <a:lnTo>
                    <a:pt x="0" y="169"/>
                  </a:lnTo>
                  <a:lnTo>
                    <a:pt x="230" y="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56000" y="5124600"/>
              <a:ext cx="318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48080" y="51246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27240" y="5334120"/>
              <a:ext cx="0" cy="401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35440" y="5724360"/>
              <a:ext cx="8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36880" y="5764320"/>
              <a:ext cx="206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566720" y="4276800"/>
              <a:ext cx="1203480" cy="1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20880" y="4251240"/>
              <a:ext cx="82800" cy="62280"/>
            </a:xfrm>
            <a:custGeom>
              <a:avLst/>
              <a:gdLst/>
              <a:ahLst/>
              <a:rect l="0" t="0" r="r" b="b"/>
              <a:pathLst>
                <a:path w="230" h="173">
                  <a:moveTo>
                    <a:pt x="230" y="88"/>
                  </a:moveTo>
                  <a:lnTo>
                    <a:pt x="0" y="0"/>
                  </a:lnTo>
                  <a:lnTo>
                    <a:pt x="0" y="173"/>
                  </a:lnTo>
                  <a:lnTo>
                    <a:pt x="230" y="8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1760" y="5627520"/>
              <a:ext cx="0" cy="571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66720" y="4295880"/>
              <a:ext cx="0" cy="1888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1760" y="6184800"/>
              <a:ext cx="1406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130640" y="175896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Benzene -  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Toluene -   9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Xylene  -     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1800360" y="1743120"/>
              <a:ext cx="144936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Benzene -  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Toluene -    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1743120" y="6080040"/>
              <a:ext cx="149400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Toluene -    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Xylene  -     6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 txBox="1"/>
          <p:nvPr/>
        </p:nvSpPr>
        <p:spPr>
          <a:xfrm>
            <a:off x="3635280" y="3951360"/>
            <a:ext cx="1550880" cy="10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F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Benzene -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Toluene - 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Xylene  -      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924440" y="1482840"/>
            <a:ext cx="3921120" cy="5052960"/>
            <a:chOff x="4924440" y="1482840"/>
            <a:chExt cx="3921120" cy="5052960"/>
          </a:xfrm>
        </p:grpSpPr>
        <p:grpSp>
          <p:nvGrpSpPr>
            <p:cNvPr id="220" name=""/>
            <p:cNvGrpSpPr/>
            <p:nvPr/>
          </p:nvGrpSpPr>
          <p:grpSpPr>
            <a:xfrm>
              <a:off x="4924440" y="2365200"/>
              <a:ext cx="3549960" cy="4170600"/>
              <a:chOff x="4924440" y="2365200"/>
              <a:chExt cx="3549960" cy="4170600"/>
            </a:xfrm>
          </p:grpSpPr>
          <p:sp>
            <p:nvSpPr>
              <p:cNvPr id="221" name=""/>
              <p:cNvSpPr/>
              <p:nvPr/>
            </p:nvSpPr>
            <p:spPr>
              <a:xfrm>
                <a:off x="8244000" y="2365200"/>
                <a:ext cx="90720" cy="155880"/>
              </a:xfrm>
              <a:custGeom>
                <a:avLst/>
                <a:gdLst/>
                <a:ahLst/>
                <a:rect l="0" t="0" r="r" b="b"/>
                <a:pathLst>
                  <a:path w="252" h="433">
                    <a:moveTo>
                      <a:pt x="129" y="0"/>
                    </a:moveTo>
                    <a:lnTo>
                      <a:pt x="252" y="433"/>
                    </a:lnTo>
                    <a:lnTo>
                      <a:pt x="129" y="433"/>
                    </a:lnTo>
                    <a:lnTo>
                      <a:pt x="0" y="433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4440" y="5892840"/>
                <a:ext cx="201960" cy="276840"/>
              </a:xfrm>
              <a:custGeom>
                <a:avLst/>
                <a:gdLst/>
                <a:ahLst/>
                <a:rect l="0" t="0" r="r" b="b"/>
                <a:pathLst>
                  <a:path fill="none" w="561" h="769">
                    <a:moveTo>
                      <a:pt x="561" y="0"/>
                    </a:moveTo>
                    <a:lnTo>
                      <a:pt x="561" y="0"/>
                    </a:lnTo>
                    <a:lnTo>
                      <a:pt x="561" y="0"/>
                    </a:lnTo>
                    <a:cubicBezTo>
                      <a:pt x="463" y="0"/>
                      <a:pt x="366" y="36"/>
                      <a:pt x="280" y="104"/>
                    </a:cubicBezTo>
                    <a:cubicBezTo>
                      <a:pt x="195" y="172"/>
                      <a:pt x="124" y="270"/>
                      <a:pt x="75" y="388"/>
                    </a:cubicBezTo>
                    <a:cubicBezTo>
                      <a:pt x="27" y="504"/>
                      <a:pt x="1" y="635"/>
                      <a:pt x="0" y="769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24440" y="6169320"/>
                <a:ext cx="201960" cy="281160"/>
              </a:xfrm>
              <a:custGeom>
                <a:avLst/>
                <a:gdLst/>
                <a:ahLst/>
                <a:rect l="0" t="0" r="r" b="b"/>
                <a:pathLst>
                  <a:path fill="none" w="561" h="781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2"/>
                      <a:pt x="0" y="4"/>
                      <a:pt x="0" y="6"/>
                    </a:cubicBezTo>
                    <a:cubicBezTo>
                      <a:pt x="0" y="142"/>
                      <a:pt x="26" y="276"/>
                      <a:pt x="75" y="394"/>
                    </a:cubicBezTo>
                    <a:cubicBezTo>
                      <a:pt x="124" y="511"/>
                      <a:pt x="195" y="609"/>
                      <a:pt x="280" y="677"/>
                    </a:cubicBezTo>
                    <a:cubicBezTo>
                      <a:pt x="366" y="745"/>
                      <a:pt x="463" y="781"/>
                      <a:pt x="561" y="781"/>
                    </a:cubicBezTo>
                    <a:lnTo>
                      <a:pt x="561" y="781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603760" y="3887640"/>
                <a:ext cx="0" cy="1710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039000" y="3887640"/>
                <a:ext cx="0" cy="1710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03760" y="3659040"/>
                <a:ext cx="225000" cy="232560"/>
              </a:xfrm>
              <a:custGeom>
                <a:avLst/>
                <a:gdLst/>
                <a:ahLst/>
                <a:rect l="0" t="0" r="r" b="b"/>
                <a:pathLst>
                  <a:path fill="none" w="625" h="646">
                    <a:moveTo>
                      <a:pt x="625" y="0"/>
                    </a:moveTo>
                    <a:lnTo>
                      <a:pt x="625" y="0"/>
                    </a:lnTo>
                    <a:lnTo>
                      <a:pt x="625" y="0"/>
                    </a:lnTo>
                    <a:cubicBezTo>
                      <a:pt x="515" y="0"/>
                      <a:pt x="407" y="30"/>
                      <a:pt x="312" y="87"/>
                    </a:cubicBezTo>
                    <a:cubicBezTo>
                      <a:pt x="217" y="145"/>
                      <a:pt x="139" y="227"/>
                      <a:pt x="84" y="326"/>
                    </a:cubicBezTo>
                    <a:cubicBezTo>
                      <a:pt x="30" y="423"/>
                      <a:pt x="1" y="534"/>
                      <a:pt x="0" y="646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28400" y="3659040"/>
                <a:ext cx="225000" cy="232560"/>
              </a:xfrm>
              <a:custGeom>
                <a:avLst/>
                <a:gdLst/>
                <a:ahLst/>
                <a:rect l="0" t="0" r="r" b="b"/>
                <a:pathLst>
                  <a:path fill="none" w="625" h="646">
                    <a:moveTo>
                      <a:pt x="625" y="646"/>
                    </a:moveTo>
                    <a:lnTo>
                      <a:pt x="625" y="646"/>
                    </a:lnTo>
                    <a:cubicBezTo>
                      <a:pt x="624" y="534"/>
                      <a:pt x="595" y="423"/>
                      <a:pt x="541" y="326"/>
                    </a:cubicBezTo>
                    <a:cubicBezTo>
                      <a:pt x="486" y="227"/>
                      <a:pt x="408" y="145"/>
                      <a:pt x="313" y="87"/>
                    </a:cubicBezTo>
                    <a:cubicBezTo>
                      <a:pt x="218" y="30"/>
                      <a:pt x="110" y="0"/>
                      <a:pt x="0" y="0"/>
                    </a:cubicBez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359480" y="2933640"/>
                <a:ext cx="0" cy="99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772400" y="2933640"/>
                <a:ext cx="0" cy="99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359480" y="2787480"/>
                <a:ext cx="213120" cy="144720"/>
              </a:xfrm>
              <a:custGeom>
                <a:avLst/>
                <a:gdLst/>
                <a:ahLst/>
                <a:rect l="0" t="0" r="r" b="b"/>
                <a:pathLst>
                  <a:path fill="none" w="592" h="402">
                    <a:moveTo>
                      <a:pt x="592" y="0"/>
                    </a:moveTo>
                    <a:lnTo>
                      <a:pt x="592" y="0"/>
                    </a:lnTo>
                    <a:cubicBezTo>
                      <a:pt x="488" y="0"/>
                      <a:pt x="386" y="19"/>
                      <a:pt x="296" y="54"/>
                    </a:cubicBezTo>
                    <a:cubicBezTo>
                      <a:pt x="206" y="89"/>
                      <a:pt x="131" y="140"/>
                      <a:pt x="79" y="201"/>
                    </a:cubicBezTo>
                    <a:cubicBezTo>
                      <a:pt x="27" y="262"/>
                      <a:pt x="0" y="331"/>
                      <a:pt x="0" y="402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572240" y="2787480"/>
                <a:ext cx="213120" cy="144720"/>
              </a:xfrm>
              <a:custGeom>
                <a:avLst/>
                <a:gdLst/>
                <a:ahLst/>
                <a:rect l="0" t="0" r="r" b="b"/>
                <a:pathLst>
                  <a:path fill="none" w="592" h="402">
                    <a:moveTo>
                      <a:pt x="592" y="402"/>
                    </a:moveTo>
                    <a:lnTo>
                      <a:pt x="592" y="402"/>
                    </a:lnTo>
                    <a:lnTo>
                      <a:pt x="592" y="402"/>
                    </a:lnTo>
                    <a:cubicBezTo>
                      <a:pt x="592" y="331"/>
                      <a:pt x="565" y="262"/>
                      <a:pt x="513" y="201"/>
                    </a:cubicBezTo>
                    <a:cubicBezTo>
                      <a:pt x="461" y="140"/>
                      <a:pt x="386" y="89"/>
                      <a:pt x="296" y="54"/>
                    </a:cubicBezTo>
                    <a:cubicBezTo>
                      <a:pt x="206" y="19"/>
                      <a:pt x="104" y="0"/>
                      <a:pt x="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359480" y="3905280"/>
                <a:ext cx="213120" cy="138600"/>
              </a:xfrm>
              <a:custGeom>
                <a:avLst/>
                <a:gdLst/>
                <a:ahLst/>
                <a:rect l="0" t="0" r="r" b="b"/>
                <a:pathLst>
                  <a:path fill="none" w="592" h="385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2"/>
                      <a:pt x="0" y="5"/>
                      <a:pt x="0" y="7"/>
                    </a:cubicBezTo>
                    <a:cubicBezTo>
                      <a:pt x="0" y="73"/>
                      <a:pt x="27" y="139"/>
                      <a:pt x="79" y="196"/>
                    </a:cubicBezTo>
                    <a:cubicBezTo>
                      <a:pt x="131" y="253"/>
                      <a:pt x="206" y="301"/>
                      <a:pt x="296" y="334"/>
                    </a:cubicBezTo>
                    <a:cubicBezTo>
                      <a:pt x="386" y="368"/>
                      <a:pt x="488" y="385"/>
                      <a:pt x="592" y="385"/>
                    </a:cubicBezTo>
                    <a:lnTo>
                      <a:pt x="592" y="38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72240" y="3905280"/>
                <a:ext cx="213120" cy="138600"/>
              </a:xfrm>
              <a:custGeom>
                <a:avLst/>
                <a:gdLst/>
                <a:ahLst/>
                <a:rect l="0" t="0" r="r" b="b"/>
                <a:pathLst>
                  <a:path fill="none" w="592" h="385">
                    <a:moveTo>
                      <a:pt x="0" y="385"/>
                    </a:moveTo>
                    <a:lnTo>
                      <a:pt x="0" y="385"/>
                    </a:lnTo>
                    <a:lnTo>
                      <a:pt x="0" y="385"/>
                    </a:lnTo>
                    <a:cubicBezTo>
                      <a:pt x="104" y="385"/>
                      <a:pt x="206" y="368"/>
                      <a:pt x="296" y="334"/>
                    </a:cubicBezTo>
                    <a:cubicBezTo>
                      <a:pt x="386" y="301"/>
                      <a:pt x="461" y="253"/>
                      <a:pt x="513" y="196"/>
                    </a:cubicBezTo>
                    <a:cubicBezTo>
                      <a:pt x="565" y="139"/>
                      <a:pt x="592" y="73"/>
                      <a:pt x="592" y="7"/>
                    </a:cubicBezTo>
                    <a:cubicBezTo>
                      <a:pt x="592" y="5"/>
                      <a:pt x="592" y="2"/>
                      <a:pt x="592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359480" y="3830760"/>
                <a:ext cx="213120" cy="142560"/>
              </a:xfrm>
              <a:custGeom>
                <a:avLst/>
                <a:gdLst/>
                <a:ahLst/>
                <a:rect l="0" t="0" r="r" b="b"/>
                <a:pathLst>
                  <a:path fill="none" w="592" h="396">
                    <a:moveTo>
                      <a:pt x="592" y="0"/>
                    </a:moveTo>
                    <a:lnTo>
                      <a:pt x="592" y="0"/>
                    </a:lnTo>
                    <a:cubicBezTo>
                      <a:pt x="488" y="0"/>
                      <a:pt x="386" y="18"/>
                      <a:pt x="296" y="53"/>
                    </a:cubicBezTo>
                    <a:cubicBezTo>
                      <a:pt x="206" y="88"/>
                      <a:pt x="131" y="138"/>
                      <a:pt x="79" y="198"/>
                    </a:cubicBezTo>
                    <a:cubicBezTo>
                      <a:pt x="27" y="258"/>
                      <a:pt x="0" y="326"/>
                      <a:pt x="0" y="396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572240" y="3830760"/>
                <a:ext cx="213120" cy="142560"/>
              </a:xfrm>
              <a:custGeom>
                <a:avLst/>
                <a:gdLst/>
                <a:ahLst/>
                <a:rect l="0" t="0" r="r" b="b"/>
                <a:pathLst>
                  <a:path fill="none" w="592" h="396">
                    <a:moveTo>
                      <a:pt x="592" y="396"/>
                    </a:moveTo>
                    <a:lnTo>
                      <a:pt x="592" y="396"/>
                    </a:lnTo>
                    <a:lnTo>
                      <a:pt x="592" y="396"/>
                    </a:lnTo>
                    <a:cubicBezTo>
                      <a:pt x="592" y="326"/>
                      <a:pt x="565" y="258"/>
                      <a:pt x="513" y="198"/>
                    </a:cubicBezTo>
                    <a:cubicBezTo>
                      <a:pt x="461" y="138"/>
                      <a:pt x="386" y="88"/>
                      <a:pt x="296" y="53"/>
                    </a:cubicBezTo>
                    <a:cubicBezTo>
                      <a:pt x="206" y="18"/>
                      <a:pt x="104" y="0"/>
                      <a:pt x="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59480" y="2875680"/>
                <a:ext cx="213120" cy="140760"/>
              </a:xfrm>
              <a:custGeom>
                <a:avLst/>
                <a:gdLst/>
                <a:ahLst/>
                <a:rect l="0" t="0" r="r" b="b"/>
                <a:pathLst>
                  <a:path fill="none" w="592" h="391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69"/>
                      <a:pt x="27" y="136"/>
                      <a:pt x="79" y="196"/>
                    </a:cubicBezTo>
                    <a:cubicBezTo>
                      <a:pt x="131" y="255"/>
                      <a:pt x="206" y="304"/>
                      <a:pt x="296" y="339"/>
                    </a:cubicBezTo>
                    <a:cubicBezTo>
                      <a:pt x="386" y="373"/>
                      <a:pt x="488" y="391"/>
                      <a:pt x="592" y="391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572240" y="2875680"/>
                <a:ext cx="213120" cy="140760"/>
              </a:xfrm>
              <a:custGeom>
                <a:avLst/>
                <a:gdLst/>
                <a:ahLst/>
                <a:rect l="0" t="0" r="r" b="b"/>
                <a:pathLst>
                  <a:path fill="none" w="592" h="391">
                    <a:moveTo>
                      <a:pt x="0" y="391"/>
                    </a:moveTo>
                    <a:lnTo>
                      <a:pt x="0" y="391"/>
                    </a:lnTo>
                    <a:cubicBezTo>
                      <a:pt x="104" y="391"/>
                      <a:pt x="206" y="373"/>
                      <a:pt x="296" y="339"/>
                    </a:cubicBezTo>
                    <a:cubicBezTo>
                      <a:pt x="386" y="304"/>
                      <a:pt x="461" y="255"/>
                      <a:pt x="513" y="195"/>
                    </a:cubicBezTo>
                    <a:cubicBezTo>
                      <a:pt x="565" y="136"/>
                      <a:pt x="592" y="69"/>
                      <a:pt x="592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047080" y="2949480"/>
                <a:ext cx="0" cy="100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462880" y="2949480"/>
                <a:ext cx="0" cy="100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047080" y="2819520"/>
                <a:ext cx="213840" cy="132120"/>
              </a:xfrm>
              <a:custGeom>
                <a:avLst/>
                <a:gdLst/>
                <a:ahLst/>
                <a:rect l="0" t="0" r="r" b="b"/>
                <a:pathLst>
                  <a:path fill="none" w="594" h="367">
                    <a:moveTo>
                      <a:pt x="594" y="0"/>
                    </a:moveTo>
                    <a:lnTo>
                      <a:pt x="594" y="0"/>
                    </a:lnTo>
                    <a:lnTo>
                      <a:pt x="594" y="0"/>
                    </a:lnTo>
                    <a:cubicBezTo>
                      <a:pt x="490" y="0"/>
                      <a:pt x="387" y="17"/>
                      <a:pt x="297" y="50"/>
                    </a:cubicBezTo>
                    <a:cubicBezTo>
                      <a:pt x="207" y="83"/>
                      <a:pt x="132" y="130"/>
                      <a:pt x="79" y="187"/>
                    </a:cubicBezTo>
                    <a:cubicBezTo>
                      <a:pt x="29" y="242"/>
                      <a:pt x="2" y="304"/>
                      <a:pt x="0" y="367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260560" y="2819520"/>
                <a:ext cx="213840" cy="132120"/>
              </a:xfrm>
              <a:custGeom>
                <a:avLst/>
                <a:gdLst/>
                <a:ahLst/>
                <a:rect l="0" t="0" r="r" b="b"/>
                <a:pathLst>
                  <a:path fill="none" w="594" h="367">
                    <a:moveTo>
                      <a:pt x="594" y="367"/>
                    </a:moveTo>
                    <a:lnTo>
                      <a:pt x="594" y="367"/>
                    </a:lnTo>
                    <a:cubicBezTo>
                      <a:pt x="592" y="304"/>
                      <a:pt x="565" y="242"/>
                      <a:pt x="515" y="187"/>
                    </a:cubicBezTo>
                    <a:cubicBezTo>
                      <a:pt x="462" y="130"/>
                      <a:pt x="387" y="83"/>
                      <a:pt x="297" y="50"/>
                    </a:cubicBezTo>
                    <a:cubicBezTo>
                      <a:pt x="207" y="17"/>
                      <a:pt x="104" y="0"/>
                      <a:pt x="0" y="0"/>
                    </a:cubicBez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047080" y="3928320"/>
                <a:ext cx="213840" cy="128160"/>
              </a:xfrm>
              <a:custGeom>
                <a:avLst/>
                <a:gdLst/>
                <a:ahLst/>
                <a:rect l="0" t="0" r="r" b="b"/>
                <a:pathLst>
                  <a:path fill="none" w="594" h="356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62"/>
                      <a:pt x="27" y="124"/>
                      <a:pt x="80" y="178"/>
                    </a:cubicBezTo>
                    <a:cubicBezTo>
                      <a:pt x="132" y="232"/>
                      <a:pt x="207" y="277"/>
                      <a:pt x="297" y="308"/>
                    </a:cubicBezTo>
                    <a:cubicBezTo>
                      <a:pt x="387" y="340"/>
                      <a:pt x="490" y="356"/>
                      <a:pt x="594" y="356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260560" y="3928320"/>
                <a:ext cx="213840" cy="128160"/>
              </a:xfrm>
              <a:custGeom>
                <a:avLst/>
                <a:gdLst/>
                <a:ahLst/>
                <a:rect l="0" t="0" r="r" b="b"/>
                <a:pathLst>
                  <a:path fill="none" w="594" h="356">
                    <a:moveTo>
                      <a:pt x="0" y="356"/>
                    </a:moveTo>
                    <a:lnTo>
                      <a:pt x="0" y="356"/>
                    </a:lnTo>
                    <a:cubicBezTo>
                      <a:pt x="104" y="356"/>
                      <a:pt x="207" y="340"/>
                      <a:pt x="297" y="308"/>
                    </a:cubicBezTo>
                    <a:cubicBezTo>
                      <a:pt x="387" y="277"/>
                      <a:pt x="462" y="232"/>
                      <a:pt x="514" y="178"/>
                    </a:cubicBezTo>
                    <a:cubicBezTo>
                      <a:pt x="567" y="124"/>
                      <a:pt x="594" y="62"/>
                      <a:pt x="594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047080" y="3859200"/>
                <a:ext cx="213840" cy="142560"/>
              </a:xfrm>
              <a:custGeom>
                <a:avLst/>
                <a:gdLst/>
                <a:ahLst/>
                <a:rect l="0" t="0" r="r" b="b"/>
                <a:pathLst>
                  <a:path fill="none" w="594" h="396">
                    <a:moveTo>
                      <a:pt x="594" y="0"/>
                    </a:moveTo>
                    <a:lnTo>
                      <a:pt x="594" y="0"/>
                    </a:lnTo>
                    <a:cubicBezTo>
                      <a:pt x="490" y="0"/>
                      <a:pt x="387" y="18"/>
                      <a:pt x="297" y="53"/>
                    </a:cubicBezTo>
                    <a:cubicBezTo>
                      <a:pt x="207" y="88"/>
                      <a:pt x="132" y="138"/>
                      <a:pt x="80" y="198"/>
                    </a:cubicBezTo>
                    <a:cubicBezTo>
                      <a:pt x="27" y="258"/>
                      <a:pt x="0" y="326"/>
                      <a:pt x="0" y="396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260560" y="3859200"/>
                <a:ext cx="213840" cy="142560"/>
              </a:xfrm>
              <a:custGeom>
                <a:avLst/>
                <a:gdLst/>
                <a:ahLst/>
                <a:rect l="0" t="0" r="r" b="b"/>
                <a:pathLst>
                  <a:path fill="none" w="594" h="396">
                    <a:moveTo>
                      <a:pt x="594" y="396"/>
                    </a:moveTo>
                    <a:lnTo>
                      <a:pt x="594" y="396"/>
                    </a:lnTo>
                    <a:lnTo>
                      <a:pt x="594" y="396"/>
                    </a:lnTo>
                    <a:cubicBezTo>
                      <a:pt x="594" y="326"/>
                      <a:pt x="567" y="258"/>
                      <a:pt x="514" y="198"/>
                    </a:cubicBezTo>
                    <a:cubicBezTo>
                      <a:pt x="462" y="138"/>
                      <a:pt x="387" y="88"/>
                      <a:pt x="297" y="53"/>
                    </a:cubicBezTo>
                    <a:cubicBezTo>
                      <a:pt x="207" y="18"/>
                      <a:pt x="104" y="0"/>
                      <a:pt x="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47080" y="2889360"/>
                <a:ext cx="213840" cy="144720"/>
              </a:xfrm>
              <a:custGeom>
                <a:avLst/>
                <a:gdLst/>
                <a:ahLst/>
                <a:rect l="0" t="0" r="r" b="b"/>
                <a:pathLst>
                  <a:path fill="none" w="594" h="402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71"/>
                      <a:pt x="27" y="140"/>
                      <a:pt x="80" y="201"/>
                    </a:cubicBezTo>
                    <a:cubicBezTo>
                      <a:pt x="132" y="262"/>
                      <a:pt x="207" y="313"/>
                      <a:pt x="297" y="348"/>
                    </a:cubicBezTo>
                    <a:cubicBezTo>
                      <a:pt x="387" y="383"/>
                      <a:pt x="490" y="402"/>
                      <a:pt x="594" y="402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260560" y="2889360"/>
                <a:ext cx="213840" cy="144720"/>
              </a:xfrm>
              <a:custGeom>
                <a:avLst/>
                <a:gdLst/>
                <a:ahLst/>
                <a:rect l="0" t="0" r="r" b="b"/>
                <a:pathLst>
                  <a:path fill="none" w="594" h="402">
                    <a:moveTo>
                      <a:pt x="0" y="402"/>
                    </a:moveTo>
                    <a:lnTo>
                      <a:pt x="0" y="402"/>
                    </a:lnTo>
                    <a:cubicBezTo>
                      <a:pt x="104" y="402"/>
                      <a:pt x="207" y="383"/>
                      <a:pt x="297" y="348"/>
                    </a:cubicBezTo>
                    <a:cubicBezTo>
                      <a:pt x="387" y="313"/>
                      <a:pt x="462" y="262"/>
                      <a:pt x="514" y="201"/>
                    </a:cubicBezTo>
                    <a:cubicBezTo>
                      <a:pt x="567" y="140"/>
                      <a:pt x="594" y="71"/>
                      <a:pt x="594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603760" y="3929040"/>
                <a:ext cx="435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29480" y="340344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29520" y="3370320"/>
                <a:ext cx="76680" cy="44640"/>
              </a:xfrm>
              <a:custGeom>
                <a:avLst/>
                <a:gdLst/>
                <a:ahLst/>
                <a:rect l="0" t="0" r="r" b="b"/>
                <a:pathLst>
                  <a:path w="213" h="124">
                    <a:moveTo>
                      <a:pt x="213" y="41"/>
                    </a:moveTo>
                    <a:lnTo>
                      <a:pt x="0" y="124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213" y="4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29480" y="3386160"/>
                <a:ext cx="500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69080" y="2933640"/>
                <a:ext cx="0" cy="99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392880" y="3259080"/>
                <a:ext cx="750960" cy="314280"/>
              </a:xfrm>
              <a:prstGeom prst="roundRect">
                <a:avLst/>
              </a:prstGeom>
              <a:solidFill>
                <a:srgbClr val="000066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83520" y="2916360"/>
                <a:ext cx="62280" cy="44640"/>
              </a:xfrm>
              <a:custGeom>
                <a:avLst/>
                <a:gdLst/>
                <a:ahLst/>
                <a:rect l="0" t="0" r="r" b="b"/>
                <a:pathLst>
                  <a:path w="173" h="124">
                    <a:moveTo>
                      <a:pt x="173" y="41"/>
                    </a:moveTo>
                    <a:lnTo>
                      <a:pt x="0" y="124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73" y="4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69080" y="2933640"/>
                <a:ext cx="51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053040" y="3917880"/>
                <a:ext cx="62280" cy="30600"/>
              </a:xfrm>
              <a:custGeom>
                <a:avLst/>
                <a:gdLst/>
                <a:ahLst/>
                <a:rect l="0" t="0" r="r" b="b"/>
                <a:pathLst>
                  <a:path w="173" h="85">
                    <a:moveTo>
                      <a:pt x="0" y="42"/>
                    </a:moveTo>
                    <a:lnTo>
                      <a:pt x="173" y="0"/>
                    </a:lnTo>
                    <a:lnTo>
                      <a:pt x="173" y="42"/>
                    </a:lnTo>
                    <a:lnTo>
                      <a:pt x="173" y="8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114960" y="3929040"/>
                <a:ext cx="665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7359480" y="3917880"/>
                <a:ext cx="9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283520" y="3917880"/>
                <a:ext cx="76680" cy="30600"/>
              </a:xfrm>
              <a:custGeom>
                <a:avLst/>
                <a:gdLst/>
                <a:ahLst/>
                <a:rect l="0" t="0" r="r" b="b"/>
                <a:pathLst>
                  <a:path w="213" h="85">
                    <a:moveTo>
                      <a:pt x="213" y="42"/>
                    </a:moveTo>
                    <a:lnTo>
                      <a:pt x="0" y="85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21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769080" y="3929040"/>
                <a:ext cx="51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367320" y="3103560"/>
                <a:ext cx="63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431040" y="3119400"/>
                <a:ext cx="0" cy="41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480000" y="3173400"/>
                <a:ext cx="63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6543720" y="3174840"/>
                <a:ext cx="11160" cy="39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18440" y="3146400"/>
                <a:ext cx="61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480000" y="3146400"/>
                <a:ext cx="0" cy="2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543720" y="3218040"/>
                <a:ext cx="87120" cy="2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38800" y="3016080"/>
                <a:ext cx="66960" cy="60840"/>
              </a:xfrm>
              <a:custGeom>
                <a:avLst/>
                <a:gdLst/>
                <a:ahLst/>
                <a:rect l="0" t="0" r="r" b="b"/>
                <a:pathLst>
                  <a:path w="186" h="169">
                    <a:moveTo>
                      <a:pt x="0" y="0"/>
                    </a:moveTo>
                    <a:lnTo>
                      <a:pt x="186" y="84"/>
                    </a:lnTo>
                    <a:lnTo>
                      <a:pt x="152" y="126"/>
                    </a:lnTo>
                    <a:lnTo>
                      <a:pt x="113" y="1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1360" y="3062160"/>
                <a:ext cx="75960" cy="5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5075280" y="6434280"/>
                <a:ext cx="143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10600" y="5892840"/>
                <a:ext cx="195480" cy="276840"/>
              </a:xfrm>
              <a:custGeom>
                <a:avLst/>
                <a:gdLst/>
                <a:ahLst/>
                <a:rect l="0" t="0" r="r" b="b"/>
                <a:pathLst>
                  <a:path fill="none" w="543" h="769">
                    <a:moveTo>
                      <a:pt x="543" y="769"/>
                    </a:moveTo>
                    <a:lnTo>
                      <a:pt x="543" y="769"/>
                    </a:lnTo>
                    <a:cubicBezTo>
                      <a:pt x="542" y="635"/>
                      <a:pt x="517" y="504"/>
                      <a:pt x="471" y="387"/>
                    </a:cubicBezTo>
                    <a:cubicBezTo>
                      <a:pt x="424" y="270"/>
                      <a:pt x="356" y="172"/>
                      <a:pt x="274" y="104"/>
                    </a:cubicBezTo>
                    <a:cubicBezTo>
                      <a:pt x="192" y="36"/>
                      <a:pt x="99" y="0"/>
                      <a:pt x="5" y="0"/>
                    </a:cubicBezTo>
                    <a:cubicBezTo>
                      <a:pt x="3" y="0"/>
                      <a:pt x="2" y="0"/>
                      <a:pt x="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10600" y="6169320"/>
                <a:ext cx="195480" cy="281160"/>
              </a:xfrm>
              <a:custGeom>
                <a:avLst/>
                <a:gdLst/>
                <a:ahLst/>
                <a:rect l="0" t="0" r="r" b="b"/>
                <a:pathLst>
                  <a:path fill="none" w="543" h="781">
                    <a:moveTo>
                      <a:pt x="0" y="781"/>
                    </a:moveTo>
                    <a:lnTo>
                      <a:pt x="0" y="781"/>
                    </a:lnTo>
                    <a:cubicBezTo>
                      <a:pt x="2" y="781"/>
                      <a:pt x="3" y="781"/>
                      <a:pt x="5" y="781"/>
                    </a:cubicBezTo>
                    <a:cubicBezTo>
                      <a:pt x="99" y="781"/>
                      <a:pt x="192" y="745"/>
                      <a:pt x="274" y="677"/>
                    </a:cubicBezTo>
                    <a:cubicBezTo>
                      <a:pt x="356" y="609"/>
                      <a:pt x="424" y="511"/>
                      <a:pt x="471" y="394"/>
                    </a:cubicBezTo>
                    <a:cubicBezTo>
                      <a:pt x="518" y="276"/>
                      <a:pt x="543" y="142"/>
                      <a:pt x="543" y="6"/>
                    </a:cubicBezTo>
                    <a:cubicBezTo>
                      <a:pt x="543" y="4"/>
                      <a:pt x="543" y="2"/>
                      <a:pt x="543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124600" y="5892840"/>
                <a:ext cx="1380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878440" y="6392880"/>
                <a:ext cx="61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940360" y="6392880"/>
                <a:ext cx="0" cy="41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002280" y="6450120"/>
                <a:ext cx="50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6053040" y="6450120"/>
                <a:ext cx="14400" cy="42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25960" y="6423120"/>
                <a:ext cx="65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5992920" y="6423120"/>
                <a:ext cx="9360" cy="42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053040" y="6492960"/>
                <a:ext cx="87480" cy="42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7600" y="6296040"/>
                <a:ext cx="62280" cy="52920"/>
              </a:xfrm>
              <a:custGeom>
                <a:avLst/>
                <a:gdLst/>
                <a:ahLst/>
                <a:rect l="0" t="0" r="r" b="b"/>
                <a:pathLst>
                  <a:path w="173" h="147">
                    <a:moveTo>
                      <a:pt x="0" y="0"/>
                    </a:moveTo>
                    <a:lnTo>
                      <a:pt x="173" y="73"/>
                    </a:lnTo>
                    <a:lnTo>
                      <a:pt x="141" y="111"/>
                    </a:lnTo>
                    <a:lnTo>
                      <a:pt x="103" y="1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776920" y="6338880"/>
                <a:ext cx="7452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603760" y="5574240"/>
                <a:ext cx="225000" cy="235080"/>
              </a:xfrm>
              <a:custGeom>
                <a:avLst/>
                <a:gdLst/>
                <a:ahLst/>
                <a:rect l="0" t="0" r="r" b="b"/>
                <a:pathLst>
                  <a:path fill="none" w="625" h="653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2"/>
                      <a:pt x="0" y="3"/>
                      <a:pt x="0" y="5"/>
                    </a:cubicBezTo>
                    <a:cubicBezTo>
                      <a:pt x="0" y="119"/>
                      <a:pt x="29" y="231"/>
                      <a:pt x="84" y="329"/>
                    </a:cubicBezTo>
                    <a:cubicBezTo>
                      <a:pt x="139" y="428"/>
                      <a:pt x="217" y="509"/>
                      <a:pt x="312" y="566"/>
                    </a:cubicBezTo>
                    <a:cubicBezTo>
                      <a:pt x="407" y="623"/>
                      <a:pt x="515" y="653"/>
                      <a:pt x="625" y="653"/>
                    </a:cubicBezTo>
                    <a:lnTo>
                      <a:pt x="625" y="65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28400" y="5574240"/>
                <a:ext cx="225000" cy="235080"/>
              </a:xfrm>
              <a:custGeom>
                <a:avLst/>
                <a:gdLst/>
                <a:ahLst/>
                <a:rect l="0" t="0" r="r" b="b"/>
                <a:pathLst>
                  <a:path fill="none" w="625" h="653">
                    <a:moveTo>
                      <a:pt x="0" y="653"/>
                    </a:moveTo>
                    <a:lnTo>
                      <a:pt x="0" y="653"/>
                    </a:lnTo>
                    <a:lnTo>
                      <a:pt x="0" y="653"/>
                    </a:lnTo>
                    <a:cubicBezTo>
                      <a:pt x="110" y="653"/>
                      <a:pt x="218" y="623"/>
                      <a:pt x="313" y="566"/>
                    </a:cubicBezTo>
                    <a:cubicBezTo>
                      <a:pt x="408" y="509"/>
                      <a:pt x="486" y="428"/>
                      <a:pt x="541" y="329"/>
                    </a:cubicBezTo>
                    <a:cubicBezTo>
                      <a:pt x="596" y="231"/>
                      <a:pt x="625" y="119"/>
                      <a:pt x="625" y="5"/>
                    </a:cubicBezTo>
                    <a:cubicBezTo>
                      <a:pt x="625" y="3"/>
                      <a:pt x="625" y="2"/>
                      <a:pt x="625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614920" y="5556240"/>
                <a:ext cx="4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5829480" y="5796000"/>
                <a:ext cx="12600" cy="9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164360" y="6119640"/>
                <a:ext cx="151200" cy="87840"/>
              </a:xfrm>
              <a:custGeom>
                <a:avLst/>
                <a:gdLst/>
                <a:ahLst/>
                <a:rect l="0" t="0" r="r" b="b"/>
                <a:pathLst>
                  <a:path w="420" h="244">
                    <a:moveTo>
                      <a:pt x="420" y="122"/>
                    </a:moveTo>
                    <a:lnTo>
                      <a:pt x="0" y="244"/>
                    </a:lnTo>
                    <a:lnTo>
                      <a:pt x="0" y="122"/>
                    </a:lnTo>
                    <a:lnTo>
                      <a:pt x="0" y="0"/>
                    </a:lnTo>
                    <a:lnTo>
                      <a:pt x="420" y="12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783480" y="6149880"/>
                <a:ext cx="425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286840" y="2563920"/>
                <a:ext cx="0" cy="11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>
                <a:off x="7331040" y="3135240"/>
                <a:ext cx="4381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8021520" y="3152880"/>
                <a:ext cx="4381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 txBox="1"/>
            <p:nvPr/>
          </p:nvSpPr>
          <p:spPr>
            <a:xfrm>
              <a:off x="6424560" y="4151160"/>
              <a:ext cx="144936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Benzene -  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Toluene -    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7407360" y="148284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Benzene -  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Toluene -   9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Xylene  -     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7157880" y="5454720"/>
              <a:ext cx="149400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Toluene -    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Xylene  -     6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Future 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"/>
          <p:cNvSpPr txBox="1"/>
          <p:nvPr/>
        </p:nvSpPr>
        <p:spPr>
          <a:xfrm>
            <a:off x="1606680" y="2125800"/>
            <a:ext cx="562464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Colum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ctive Batch Disti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tch Distillation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tch Distilla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ertainty &amp; Flexibility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ugitive Emission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 Re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 Disti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 Crystal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ying &amp; Fil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omatographic S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dimentation &amp; Thicke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eric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ation &amp; Optim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&amp;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ility &amp; Uncertaint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Mode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43080" y="2282760"/>
            <a:ext cx="8182080" cy="3656160"/>
            <a:chOff x="343080" y="2282760"/>
            <a:chExt cx="8182080" cy="3656160"/>
          </a:xfrm>
        </p:grpSpPr>
        <p:grpSp>
          <p:nvGrpSpPr>
            <p:cNvPr id="298" name=""/>
            <p:cNvGrpSpPr/>
            <p:nvPr/>
          </p:nvGrpSpPr>
          <p:grpSpPr>
            <a:xfrm>
              <a:off x="790560" y="5168880"/>
              <a:ext cx="3794400" cy="290880"/>
              <a:chOff x="790560" y="5168880"/>
              <a:chExt cx="3794400" cy="290880"/>
            </a:xfrm>
          </p:grpSpPr>
          <p:sp>
            <p:nvSpPr>
              <p:cNvPr id="299" name=""/>
              <p:cNvSpPr/>
              <p:nvPr/>
            </p:nvSpPr>
            <p:spPr>
              <a:xfrm>
                <a:off x="4319640" y="5283360"/>
                <a:ext cx="265320" cy="176400"/>
              </a:xfrm>
              <a:custGeom>
                <a:avLst/>
                <a:gdLst/>
                <a:ahLst/>
                <a:rect l="0" t="0" r="r" b="b"/>
                <a:pathLst>
                  <a:path w="737" h="490">
                    <a:moveTo>
                      <a:pt x="0" y="0"/>
                    </a:moveTo>
                    <a:lnTo>
                      <a:pt x="737" y="0"/>
                    </a:lnTo>
                    <a:lnTo>
                      <a:pt x="737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4213080" y="5168880"/>
                <a:ext cx="32688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.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755880" y="5283360"/>
                <a:ext cx="267120" cy="176400"/>
              </a:xfrm>
              <a:custGeom>
                <a:avLst/>
                <a:gdLst/>
                <a:ahLst/>
                <a:rect l="0" t="0" r="r" b="b"/>
                <a:pathLst>
                  <a:path w="742" h="490">
                    <a:moveTo>
                      <a:pt x="0" y="0"/>
                    </a:moveTo>
                    <a:lnTo>
                      <a:pt x="742" y="0"/>
                    </a:lnTo>
                    <a:lnTo>
                      <a:pt x="742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3651120" y="5168880"/>
                <a:ext cx="32688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176640" y="5283360"/>
                <a:ext cx="268560" cy="176400"/>
              </a:xfrm>
              <a:custGeom>
                <a:avLst/>
                <a:gdLst/>
                <a:ahLst/>
                <a:rect l="0" t="0" r="r" b="b"/>
                <a:pathLst>
                  <a:path w="746" h="490">
                    <a:moveTo>
                      <a:pt x="0" y="0"/>
                    </a:moveTo>
                    <a:lnTo>
                      <a:pt x="746" y="0"/>
                    </a:lnTo>
                    <a:lnTo>
                      <a:pt x="746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 txBox="1"/>
              <p:nvPr/>
            </p:nvSpPr>
            <p:spPr>
              <a:xfrm>
                <a:off x="3071880" y="5168880"/>
                <a:ext cx="32688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616120" y="5283360"/>
                <a:ext cx="263880" cy="176400"/>
              </a:xfrm>
              <a:custGeom>
                <a:avLst/>
                <a:gdLst/>
                <a:ahLst/>
                <a:rect l="0" t="0" r="r" b="b"/>
                <a:pathLst>
                  <a:path w="733" h="490">
                    <a:moveTo>
                      <a:pt x="0" y="0"/>
                    </a:moveTo>
                    <a:lnTo>
                      <a:pt x="733" y="0"/>
                    </a:lnTo>
                    <a:lnTo>
                      <a:pt x="733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2509920" y="5168880"/>
                <a:ext cx="32688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036880" y="5283360"/>
                <a:ext cx="265320" cy="176400"/>
              </a:xfrm>
              <a:custGeom>
                <a:avLst/>
                <a:gdLst/>
                <a:ahLst/>
                <a:rect l="0" t="0" r="r" b="b"/>
                <a:pathLst>
                  <a:path w="737" h="490">
                    <a:moveTo>
                      <a:pt x="0" y="0"/>
                    </a:moveTo>
                    <a:lnTo>
                      <a:pt x="737" y="0"/>
                    </a:lnTo>
                    <a:lnTo>
                      <a:pt x="737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>
                <a:off x="1930320" y="5168880"/>
                <a:ext cx="32688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73120" y="5283360"/>
                <a:ext cx="267120" cy="176400"/>
              </a:xfrm>
              <a:custGeom>
                <a:avLst/>
                <a:gdLst/>
                <a:ahLst/>
                <a:rect l="0" t="0" r="r" b="b"/>
                <a:pathLst>
                  <a:path w="742" h="490">
                    <a:moveTo>
                      <a:pt x="0" y="0"/>
                    </a:moveTo>
                    <a:lnTo>
                      <a:pt x="742" y="0"/>
                    </a:lnTo>
                    <a:lnTo>
                      <a:pt x="742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 txBox="1"/>
              <p:nvPr/>
            </p:nvSpPr>
            <p:spPr>
              <a:xfrm>
                <a:off x="1368360" y="5168880"/>
                <a:ext cx="32688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95320" y="5283360"/>
                <a:ext cx="263880" cy="176400"/>
              </a:xfrm>
              <a:custGeom>
                <a:avLst/>
                <a:gdLst/>
                <a:ahLst/>
                <a:rect l="0" t="0" r="r" b="b"/>
                <a:pathLst>
                  <a:path w="733" h="490">
                    <a:moveTo>
                      <a:pt x="0" y="0"/>
                    </a:moveTo>
                    <a:lnTo>
                      <a:pt x="733" y="0"/>
                    </a:lnTo>
                    <a:lnTo>
                      <a:pt x="733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 txBox="1"/>
              <p:nvPr/>
            </p:nvSpPr>
            <p:spPr>
              <a:xfrm>
                <a:off x="790560" y="5168880"/>
                <a:ext cx="32688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1019160" y="5126040"/>
              <a:ext cx="3424320" cy="69840"/>
              <a:chOff x="1019160" y="5126040"/>
              <a:chExt cx="3424320" cy="69840"/>
            </a:xfrm>
          </p:grpSpPr>
          <p:sp>
            <p:nvSpPr>
              <p:cNvPr id="314" name=""/>
              <p:cNvSpPr/>
              <p:nvPr/>
            </p:nvSpPr>
            <p:spPr>
              <a:xfrm flipV="1">
                <a:off x="1019160" y="512604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1598760" y="512604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2162160" y="512604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2739960" y="512604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3303720" y="512604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3881520" y="512604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4443480" y="512604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019160" y="5126040"/>
                <a:ext cx="3424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12800" y="2282760"/>
              <a:ext cx="241200" cy="2965680"/>
              <a:chOff x="712800" y="2282760"/>
              <a:chExt cx="241200" cy="2965680"/>
            </a:xfrm>
          </p:grpSpPr>
          <p:sp>
            <p:nvSpPr>
              <p:cNvPr id="323" name=""/>
              <p:cNvSpPr/>
              <p:nvPr/>
            </p:nvSpPr>
            <p:spPr>
              <a:xfrm>
                <a:off x="801720" y="5072040"/>
                <a:ext cx="140040" cy="176400"/>
              </a:xfrm>
              <a:custGeom>
                <a:avLst/>
                <a:gdLst/>
                <a:ahLst/>
                <a:rect l="0" t="0" r="r" b="b"/>
                <a:pathLst>
                  <a:path w="389" h="490">
                    <a:moveTo>
                      <a:pt x="0" y="0"/>
                    </a:moveTo>
                    <a:lnTo>
                      <a:pt x="389" y="0"/>
                    </a:lnTo>
                    <a:lnTo>
                      <a:pt x="389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712800" y="4960800"/>
                <a:ext cx="2412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01720" y="4618080"/>
                <a:ext cx="140040" cy="176400"/>
              </a:xfrm>
              <a:custGeom>
                <a:avLst/>
                <a:gdLst/>
                <a:ahLst/>
                <a:rect l="0" t="0" r="r" b="b"/>
                <a:pathLst>
                  <a:path w="389" h="490">
                    <a:moveTo>
                      <a:pt x="0" y="0"/>
                    </a:moveTo>
                    <a:lnTo>
                      <a:pt x="389" y="0"/>
                    </a:lnTo>
                    <a:lnTo>
                      <a:pt x="389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 txBox="1"/>
              <p:nvPr/>
            </p:nvSpPr>
            <p:spPr>
              <a:xfrm>
                <a:off x="712800" y="4503600"/>
                <a:ext cx="2412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01720" y="4181400"/>
                <a:ext cx="140040" cy="174960"/>
              </a:xfrm>
              <a:custGeom>
                <a:avLst/>
                <a:gdLst/>
                <a:ahLst/>
                <a:rect l="0" t="0" r="r" b="b"/>
                <a:pathLst>
                  <a:path w="389" h="486">
                    <a:moveTo>
                      <a:pt x="0" y="0"/>
                    </a:moveTo>
                    <a:lnTo>
                      <a:pt x="389" y="0"/>
                    </a:lnTo>
                    <a:lnTo>
                      <a:pt x="389" y="486"/>
                    </a:lnTo>
                    <a:lnTo>
                      <a:pt x="0" y="4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 txBox="1"/>
              <p:nvPr/>
            </p:nvSpPr>
            <p:spPr>
              <a:xfrm>
                <a:off x="712800" y="4068720"/>
                <a:ext cx="2412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01720" y="3745080"/>
                <a:ext cx="140040" cy="173520"/>
              </a:xfrm>
              <a:custGeom>
                <a:avLst/>
                <a:gdLst/>
                <a:ahLst/>
                <a:rect l="0" t="0" r="r" b="b"/>
                <a:pathLst>
                  <a:path w="389" h="482">
                    <a:moveTo>
                      <a:pt x="0" y="0"/>
                    </a:moveTo>
                    <a:lnTo>
                      <a:pt x="389" y="0"/>
                    </a:lnTo>
                    <a:lnTo>
                      <a:pt x="389" y="482"/>
                    </a:lnTo>
                    <a:lnTo>
                      <a:pt x="0" y="4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>
                <a:off x="712800" y="3632040"/>
                <a:ext cx="2412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01720" y="3289320"/>
                <a:ext cx="140040" cy="174960"/>
              </a:xfrm>
              <a:custGeom>
                <a:avLst/>
                <a:gdLst/>
                <a:ahLst/>
                <a:rect l="0" t="0" r="r" b="b"/>
                <a:pathLst>
                  <a:path w="389" h="486">
                    <a:moveTo>
                      <a:pt x="0" y="0"/>
                    </a:moveTo>
                    <a:lnTo>
                      <a:pt x="389" y="0"/>
                    </a:lnTo>
                    <a:lnTo>
                      <a:pt x="389" y="486"/>
                    </a:lnTo>
                    <a:lnTo>
                      <a:pt x="0" y="4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 txBox="1"/>
              <p:nvPr/>
            </p:nvSpPr>
            <p:spPr>
              <a:xfrm>
                <a:off x="712800" y="3176640"/>
                <a:ext cx="2412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01720" y="2835360"/>
                <a:ext cx="140040" cy="173520"/>
              </a:xfrm>
              <a:custGeom>
                <a:avLst/>
                <a:gdLst/>
                <a:ahLst/>
                <a:rect l="0" t="0" r="r" b="b"/>
                <a:pathLst>
                  <a:path w="389" h="482">
                    <a:moveTo>
                      <a:pt x="0" y="0"/>
                    </a:moveTo>
                    <a:lnTo>
                      <a:pt x="389" y="0"/>
                    </a:lnTo>
                    <a:lnTo>
                      <a:pt x="389" y="482"/>
                    </a:lnTo>
                    <a:lnTo>
                      <a:pt x="0" y="4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>
                <a:off x="712800" y="2720880"/>
                <a:ext cx="2412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01720" y="2395440"/>
                <a:ext cx="140040" cy="176400"/>
              </a:xfrm>
              <a:custGeom>
                <a:avLst/>
                <a:gdLst/>
                <a:ahLst/>
                <a:rect l="0" t="0" r="r" b="b"/>
                <a:pathLst>
                  <a:path w="389" h="490">
                    <a:moveTo>
                      <a:pt x="0" y="0"/>
                    </a:moveTo>
                    <a:lnTo>
                      <a:pt x="389" y="0"/>
                    </a:lnTo>
                    <a:lnTo>
                      <a:pt x="389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>
                <a:off x="712800" y="2282760"/>
                <a:ext cx="2412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958680" y="2449440"/>
              <a:ext cx="60480" cy="2676600"/>
              <a:chOff x="958680" y="2449440"/>
              <a:chExt cx="60480" cy="2676600"/>
            </a:xfrm>
          </p:grpSpPr>
          <p:sp>
            <p:nvSpPr>
              <p:cNvPr id="338" name=""/>
              <p:cNvSpPr/>
              <p:nvPr/>
            </p:nvSpPr>
            <p:spPr>
              <a:xfrm flipH="1">
                <a:off x="958680" y="5126040"/>
                <a:ext cx="6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958680" y="4670280"/>
                <a:ext cx="6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958680" y="4235400"/>
                <a:ext cx="6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958680" y="3795840"/>
                <a:ext cx="6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958680" y="3340080"/>
                <a:ext cx="6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958680" y="2884320"/>
                <a:ext cx="6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958680" y="2449440"/>
                <a:ext cx="6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1019160" y="2449440"/>
                <a:ext cx="0" cy="267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1019160" y="2449440"/>
              <a:ext cx="3440160" cy="269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019160" y="4425840"/>
              <a:ext cx="56520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19160" y="446076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584360" y="4338720"/>
              <a:ext cx="577800" cy="8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84360" y="44258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2162160" y="4268880"/>
              <a:ext cx="56196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62160" y="433872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724120" y="4181400"/>
              <a:ext cx="579600" cy="87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24120" y="426888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303720" y="4094280"/>
              <a:ext cx="577800" cy="8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03720" y="418140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81520" y="409428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019160" y="4670280"/>
              <a:ext cx="579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19160" y="489888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598760" y="4425840"/>
              <a:ext cx="563400" cy="244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98760" y="467028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162160" y="4005360"/>
              <a:ext cx="577800" cy="42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62160" y="44258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739960" y="3481560"/>
              <a:ext cx="563760" cy="523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39960" y="400536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303720" y="2763720"/>
              <a:ext cx="577800" cy="717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03720" y="348156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881520" y="276372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19160" y="4303800"/>
              <a:ext cx="57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19160" y="43038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98760" y="4303800"/>
              <a:ext cx="563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98760" y="430380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62160" y="4303800"/>
              <a:ext cx="577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62160" y="43038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39960" y="4303800"/>
              <a:ext cx="56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739960" y="43038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03720" y="4303800"/>
              <a:ext cx="577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03720" y="430380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81520" y="430380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98720" y="4373640"/>
              <a:ext cx="60840" cy="71640"/>
            </a:xfrm>
            <a:custGeom>
              <a:avLst/>
              <a:gdLst/>
              <a:ahLst/>
              <a:rect l="0" t="0" r="r" b="b"/>
              <a:pathLst>
                <a:path w="169" h="199">
                  <a:moveTo>
                    <a:pt x="84" y="0"/>
                  </a:moveTo>
                  <a:lnTo>
                    <a:pt x="169" y="103"/>
                  </a:lnTo>
                  <a:lnTo>
                    <a:pt x="84" y="199"/>
                  </a:lnTo>
                  <a:lnTo>
                    <a:pt x="0" y="103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24000" y="4373640"/>
              <a:ext cx="63720" cy="71640"/>
            </a:xfrm>
            <a:custGeom>
              <a:avLst/>
              <a:gdLst/>
              <a:ahLst/>
              <a:rect l="0" t="0" r="r" b="b"/>
              <a:pathLst>
                <a:path w="177" h="199">
                  <a:moveTo>
                    <a:pt x="89" y="0"/>
                  </a:moveTo>
                  <a:lnTo>
                    <a:pt x="177" y="103"/>
                  </a:lnTo>
                  <a:lnTo>
                    <a:pt x="89" y="199"/>
                  </a:lnTo>
                  <a:lnTo>
                    <a:pt x="0" y="103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33440" y="435600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86" y="0"/>
                  </a:moveTo>
                  <a:lnTo>
                    <a:pt x="173" y="98"/>
                  </a:lnTo>
                  <a:lnTo>
                    <a:pt x="86" y="195"/>
                  </a:lnTo>
                  <a:lnTo>
                    <a:pt x="0" y="9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44680" y="4338720"/>
              <a:ext cx="60840" cy="71640"/>
            </a:xfrm>
            <a:custGeom>
              <a:avLst/>
              <a:gdLst/>
              <a:ahLst/>
              <a:rect l="0" t="0" r="r" b="b"/>
              <a:pathLst>
                <a:path w="169" h="199">
                  <a:moveTo>
                    <a:pt x="84" y="0"/>
                  </a:moveTo>
                  <a:lnTo>
                    <a:pt x="169" y="96"/>
                  </a:lnTo>
                  <a:lnTo>
                    <a:pt x="84" y="199"/>
                  </a:lnTo>
                  <a:lnTo>
                    <a:pt x="0" y="9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52680" y="4322880"/>
              <a:ext cx="63720" cy="70200"/>
            </a:xfrm>
            <a:custGeom>
              <a:avLst/>
              <a:gdLst/>
              <a:ahLst/>
              <a:rect l="0" t="0" r="r" b="b"/>
              <a:pathLst>
                <a:path w="177" h="195">
                  <a:moveTo>
                    <a:pt x="89" y="0"/>
                  </a:moveTo>
                  <a:lnTo>
                    <a:pt x="177" y="98"/>
                  </a:lnTo>
                  <a:lnTo>
                    <a:pt x="89" y="195"/>
                  </a:lnTo>
                  <a:lnTo>
                    <a:pt x="0" y="98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76520" y="4322880"/>
              <a:ext cx="63720" cy="70200"/>
            </a:xfrm>
            <a:custGeom>
              <a:avLst/>
              <a:gdLst/>
              <a:ahLst/>
              <a:rect l="0" t="0" r="r" b="b"/>
              <a:pathLst>
                <a:path w="177" h="195">
                  <a:moveTo>
                    <a:pt x="89" y="0"/>
                  </a:moveTo>
                  <a:lnTo>
                    <a:pt x="177" y="98"/>
                  </a:lnTo>
                  <a:lnTo>
                    <a:pt x="89" y="195"/>
                  </a:lnTo>
                  <a:lnTo>
                    <a:pt x="0" y="98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85960" y="430380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86" y="0"/>
                  </a:moveTo>
                  <a:lnTo>
                    <a:pt x="173" y="98"/>
                  </a:lnTo>
                  <a:lnTo>
                    <a:pt x="86" y="195"/>
                  </a:lnTo>
                  <a:lnTo>
                    <a:pt x="0" y="9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95400" y="428616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86" y="0"/>
                  </a:moveTo>
                  <a:lnTo>
                    <a:pt x="173" y="101"/>
                  </a:lnTo>
                  <a:lnTo>
                    <a:pt x="86" y="195"/>
                  </a:lnTo>
                  <a:lnTo>
                    <a:pt x="0" y="10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21040" y="426888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86" y="0"/>
                  </a:moveTo>
                  <a:lnTo>
                    <a:pt x="173" y="98"/>
                  </a:lnTo>
                  <a:lnTo>
                    <a:pt x="86" y="195"/>
                  </a:lnTo>
                  <a:lnTo>
                    <a:pt x="0" y="9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30480" y="4251240"/>
              <a:ext cx="63720" cy="71640"/>
            </a:xfrm>
            <a:custGeom>
              <a:avLst/>
              <a:gdLst/>
              <a:ahLst/>
              <a:rect l="0" t="0" r="r" b="b"/>
              <a:pathLst>
                <a:path w="177" h="199">
                  <a:moveTo>
                    <a:pt x="89" y="0"/>
                  </a:moveTo>
                  <a:lnTo>
                    <a:pt x="177" y="96"/>
                  </a:lnTo>
                  <a:lnTo>
                    <a:pt x="89" y="199"/>
                  </a:lnTo>
                  <a:lnTo>
                    <a:pt x="0" y="96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41720" y="4251240"/>
              <a:ext cx="60840" cy="71640"/>
            </a:xfrm>
            <a:custGeom>
              <a:avLst/>
              <a:gdLst/>
              <a:ahLst/>
              <a:rect l="0" t="0" r="r" b="b"/>
              <a:pathLst>
                <a:path w="169" h="199">
                  <a:moveTo>
                    <a:pt x="84" y="0"/>
                  </a:moveTo>
                  <a:lnTo>
                    <a:pt x="169" y="96"/>
                  </a:lnTo>
                  <a:lnTo>
                    <a:pt x="84" y="199"/>
                  </a:lnTo>
                  <a:lnTo>
                    <a:pt x="0" y="9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65200" y="4235400"/>
              <a:ext cx="62280" cy="68760"/>
            </a:xfrm>
            <a:custGeom>
              <a:avLst/>
              <a:gdLst/>
              <a:ahLst/>
              <a:rect l="0" t="0" r="r" b="b"/>
              <a:pathLst>
                <a:path w="173" h="191">
                  <a:moveTo>
                    <a:pt x="84" y="0"/>
                  </a:moveTo>
                  <a:lnTo>
                    <a:pt x="173" y="95"/>
                  </a:lnTo>
                  <a:lnTo>
                    <a:pt x="84" y="191"/>
                  </a:lnTo>
                  <a:lnTo>
                    <a:pt x="0" y="95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473200" y="4216320"/>
              <a:ext cx="65520" cy="70200"/>
            </a:xfrm>
            <a:custGeom>
              <a:avLst/>
              <a:gdLst/>
              <a:ahLst/>
              <a:rect l="0" t="0" r="r" b="b"/>
              <a:pathLst>
                <a:path w="182" h="195">
                  <a:moveTo>
                    <a:pt x="94" y="0"/>
                  </a:moveTo>
                  <a:lnTo>
                    <a:pt x="182" y="98"/>
                  </a:lnTo>
                  <a:lnTo>
                    <a:pt x="94" y="195"/>
                  </a:lnTo>
                  <a:lnTo>
                    <a:pt x="0" y="98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83000" y="4200480"/>
              <a:ext cx="63720" cy="68760"/>
            </a:xfrm>
            <a:custGeom>
              <a:avLst/>
              <a:gdLst/>
              <a:ahLst/>
              <a:rect l="0" t="0" r="r" b="b"/>
              <a:pathLst>
                <a:path w="177" h="191">
                  <a:moveTo>
                    <a:pt x="92" y="0"/>
                  </a:moveTo>
                  <a:lnTo>
                    <a:pt x="177" y="95"/>
                  </a:lnTo>
                  <a:lnTo>
                    <a:pt x="92" y="191"/>
                  </a:lnTo>
                  <a:lnTo>
                    <a:pt x="0" y="95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93880" y="418140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89" y="0"/>
                  </a:moveTo>
                  <a:lnTo>
                    <a:pt x="173" y="98"/>
                  </a:lnTo>
                  <a:lnTo>
                    <a:pt x="89" y="195"/>
                  </a:lnTo>
                  <a:lnTo>
                    <a:pt x="0" y="98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19520" y="4162320"/>
              <a:ext cx="60840" cy="73440"/>
            </a:xfrm>
            <a:custGeom>
              <a:avLst/>
              <a:gdLst/>
              <a:ahLst/>
              <a:rect l="0" t="0" r="r" b="b"/>
              <a:pathLst>
                <a:path w="169" h="204">
                  <a:moveTo>
                    <a:pt x="84" y="0"/>
                  </a:moveTo>
                  <a:lnTo>
                    <a:pt x="169" y="105"/>
                  </a:lnTo>
                  <a:lnTo>
                    <a:pt x="84" y="204"/>
                  </a:lnTo>
                  <a:lnTo>
                    <a:pt x="0" y="105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27520" y="4146480"/>
              <a:ext cx="63720" cy="70200"/>
            </a:xfrm>
            <a:custGeom>
              <a:avLst/>
              <a:gdLst/>
              <a:ahLst/>
              <a:rect l="0" t="0" r="r" b="b"/>
              <a:pathLst>
                <a:path w="177" h="195">
                  <a:moveTo>
                    <a:pt x="89" y="0"/>
                  </a:moveTo>
                  <a:lnTo>
                    <a:pt x="177" y="98"/>
                  </a:lnTo>
                  <a:lnTo>
                    <a:pt x="89" y="195"/>
                  </a:lnTo>
                  <a:lnTo>
                    <a:pt x="0" y="98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36960" y="4129200"/>
              <a:ext cx="62280" cy="71640"/>
            </a:xfrm>
            <a:custGeom>
              <a:avLst/>
              <a:gdLst/>
              <a:ahLst/>
              <a:rect l="0" t="0" r="r" b="b"/>
              <a:pathLst>
                <a:path w="173" h="199">
                  <a:moveTo>
                    <a:pt x="86" y="0"/>
                  </a:moveTo>
                  <a:lnTo>
                    <a:pt x="173" y="96"/>
                  </a:lnTo>
                  <a:lnTo>
                    <a:pt x="86" y="199"/>
                  </a:lnTo>
                  <a:lnTo>
                    <a:pt x="0" y="96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64040" y="4111560"/>
              <a:ext cx="60840" cy="70200"/>
            </a:xfrm>
            <a:custGeom>
              <a:avLst/>
              <a:gdLst/>
              <a:ahLst/>
              <a:rect l="0" t="0" r="r" b="b"/>
              <a:pathLst>
                <a:path w="169" h="195">
                  <a:moveTo>
                    <a:pt x="84" y="0"/>
                  </a:moveTo>
                  <a:lnTo>
                    <a:pt x="169" y="98"/>
                  </a:lnTo>
                  <a:lnTo>
                    <a:pt x="84" y="195"/>
                  </a:lnTo>
                  <a:lnTo>
                    <a:pt x="0" y="9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73480" y="4094280"/>
              <a:ext cx="60840" cy="68760"/>
            </a:xfrm>
            <a:custGeom>
              <a:avLst/>
              <a:gdLst/>
              <a:ahLst/>
              <a:rect l="0" t="0" r="r" b="b"/>
              <a:pathLst>
                <a:path w="169" h="191">
                  <a:moveTo>
                    <a:pt x="84" y="0"/>
                  </a:moveTo>
                  <a:lnTo>
                    <a:pt x="169" y="95"/>
                  </a:lnTo>
                  <a:lnTo>
                    <a:pt x="84" y="191"/>
                  </a:lnTo>
                  <a:lnTo>
                    <a:pt x="0" y="95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81480" y="4078440"/>
              <a:ext cx="63720" cy="68760"/>
            </a:xfrm>
            <a:custGeom>
              <a:avLst/>
              <a:gdLst/>
              <a:ahLst/>
              <a:rect l="0" t="0" r="r" b="b"/>
              <a:pathLst>
                <a:path w="177" h="191">
                  <a:moveTo>
                    <a:pt x="89" y="0"/>
                  </a:moveTo>
                  <a:lnTo>
                    <a:pt x="177" y="95"/>
                  </a:lnTo>
                  <a:lnTo>
                    <a:pt x="89" y="191"/>
                  </a:lnTo>
                  <a:lnTo>
                    <a:pt x="0" y="95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05320" y="4059360"/>
              <a:ext cx="63720" cy="70200"/>
            </a:xfrm>
            <a:custGeom>
              <a:avLst/>
              <a:gdLst/>
              <a:ahLst/>
              <a:rect l="0" t="0" r="r" b="b"/>
              <a:pathLst>
                <a:path w="177" h="195">
                  <a:moveTo>
                    <a:pt x="89" y="0"/>
                  </a:moveTo>
                  <a:lnTo>
                    <a:pt x="177" y="98"/>
                  </a:lnTo>
                  <a:lnTo>
                    <a:pt x="89" y="195"/>
                  </a:lnTo>
                  <a:lnTo>
                    <a:pt x="0" y="98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16200" y="4041720"/>
              <a:ext cx="60840" cy="70200"/>
            </a:xfrm>
            <a:custGeom>
              <a:avLst/>
              <a:gdLst/>
              <a:ahLst/>
              <a:rect l="0" t="0" r="r" b="b"/>
              <a:pathLst>
                <a:path w="169" h="195">
                  <a:moveTo>
                    <a:pt x="84" y="0"/>
                  </a:moveTo>
                  <a:lnTo>
                    <a:pt x="169" y="101"/>
                  </a:lnTo>
                  <a:lnTo>
                    <a:pt x="84" y="195"/>
                  </a:lnTo>
                  <a:lnTo>
                    <a:pt x="0" y="10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24200" y="402444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86" y="0"/>
                  </a:moveTo>
                  <a:lnTo>
                    <a:pt x="173" y="98"/>
                  </a:lnTo>
                  <a:lnTo>
                    <a:pt x="86" y="195"/>
                  </a:lnTo>
                  <a:lnTo>
                    <a:pt x="0" y="9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49840" y="4005360"/>
              <a:ext cx="63720" cy="73440"/>
            </a:xfrm>
            <a:custGeom>
              <a:avLst/>
              <a:gdLst/>
              <a:ahLst/>
              <a:rect l="0" t="0" r="r" b="b"/>
              <a:pathLst>
                <a:path w="177" h="204">
                  <a:moveTo>
                    <a:pt x="89" y="0"/>
                  </a:moveTo>
                  <a:lnTo>
                    <a:pt x="177" y="99"/>
                  </a:lnTo>
                  <a:lnTo>
                    <a:pt x="89" y="204"/>
                  </a:lnTo>
                  <a:lnTo>
                    <a:pt x="0" y="99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66760" y="5546880"/>
              <a:ext cx="1281600" cy="174960"/>
            </a:xfrm>
            <a:custGeom>
              <a:avLst/>
              <a:gdLst/>
              <a:ahLst/>
              <a:rect l="0" t="0" r="r" b="b"/>
              <a:pathLst>
                <a:path w="3560" h="486">
                  <a:moveTo>
                    <a:pt x="0" y="0"/>
                  </a:moveTo>
                  <a:lnTo>
                    <a:pt x="3560" y="0"/>
                  </a:lnTo>
                  <a:lnTo>
                    <a:pt x="356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66760" y="5546880"/>
              <a:ext cx="1298880" cy="190800"/>
            </a:xfrm>
            <a:custGeom>
              <a:avLst/>
              <a:gdLst/>
              <a:ahLst/>
              <a:rect l="0" t="0" r="r" b="b"/>
              <a:pathLst>
                <a:path w="3608" h="530">
                  <a:moveTo>
                    <a:pt x="0" y="0"/>
                  </a:moveTo>
                  <a:lnTo>
                    <a:pt x="3608" y="0"/>
                  </a:lnTo>
                  <a:lnTo>
                    <a:pt x="3608" y="530"/>
                  </a:lnTo>
                  <a:lnTo>
                    <a:pt x="0" y="5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4730760" y="5168880"/>
              <a:ext cx="3794400" cy="290880"/>
              <a:chOff x="4730760" y="5168880"/>
              <a:chExt cx="3794400" cy="290880"/>
            </a:xfrm>
          </p:grpSpPr>
          <p:sp>
            <p:nvSpPr>
              <p:cNvPr id="408" name=""/>
              <p:cNvSpPr/>
              <p:nvPr/>
            </p:nvSpPr>
            <p:spPr>
              <a:xfrm>
                <a:off x="8259840" y="5283360"/>
                <a:ext cx="265320" cy="176400"/>
              </a:xfrm>
              <a:custGeom>
                <a:avLst/>
                <a:gdLst/>
                <a:ahLst/>
                <a:rect l="0" t="0" r="r" b="b"/>
                <a:pathLst>
                  <a:path w="737" h="490">
                    <a:moveTo>
                      <a:pt x="0" y="0"/>
                    </a:moveTo>
                    <a:lnTo>
                      <a:pt x="737" y="0"/>
                    </a:lnTo>
                    <a:lnTo>
                      <a:pt x="737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>
                <a:off x="8155080" y="5168880"/>
                <a:ext cx="32688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70800" y="5283360"/>
                <a:ext cx="267120" cy="176400"/>
              </a:xfrm>
              <a:custGeom>
                <a:avLst/>
                <a:gdLst/>
                <a:ahLst/>
                <a:rect l="0" t="0" r="r" b="b"/>
                <a:pathLst>
                  <a:path w="742" h="490">
                    <a:moveTo>
                      <a:pt x="0" y="0"/>
                    </a:moveTo>
                    <a:lnTo>
                      <a:pt x="742" y="0"/>
                    </a:lnTo>
                    <a:lnTo>
                      <a:pt x="742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 txBox="1"/>
              <p:nvPr/>
            </p:nvSpPr>
            <p:spPr>
              <a:xfrm>
                <a:off x="7466040" y="5168880"/>
                <a:ext cx="32688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885000" y="5283360"/>
                <a:ext cx="263880" cy="176400"/>
              </a:xfrm>
              <a:custGeom>
                <a:avLst/>
                <a:gdLst/>
                <a:ahLst/>
                <a:rect l="0" t="0" r="r" b="b"/>
                <a:pathLst>
                  <a:path w="733" h="490">
                    <a:moveTo>
                      <a:pt x="0" y="0"/>
                    </a:moveTo>
                    <a:lnTo>
                      <a:pt x="733" y="0"/>
                    </a:lnTo>
                    <a:lnTo>
                      <a:pt x="733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 txBox="1"/>
              <p:nvPr/>
            </p:nvSpPr>
            <p:spPr>
              <a:xfrm>
                <a:off x="6778800" y="5168880"/>
                <a:ext cx="32688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210360" y="5283360"/>
                <a:ext cx="267120" cy="176400"/>
              </a:xfrm>
              <a:custGeom>
                <a:avLst/>
                <a:gdLst/>
                <a:ahLst/>
                <a:rect l="0" t="0" r="r" b="b"/>
                <a:pathLst>
                  <a:path w="742" h="490">
                    <a:moveTo>
                      <a:pt x="0" y="0"/>
                    </a:moveTo>
                    <a:lnTo>
                      <a:pt x="742" y="0"/>
                    </a:lnTo>
                    <a:lnTo>
                      <a:pt x="742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 txBox="1"/>
              <p:nvPr/>
            </p:nvSpPr>
            <p:spPr>
              <a:xfrm>
                <a:off x="6105600" y="5168880"/>
                <a:ext cx="32688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522760" y="5283360"/>
                <a:ext cx="267120" cy="176400"/>
              </a:xfrm>
              <a:custGeom>
                <a:avLst/>
                <a:gdLst/>
                <a:ahLst/>
                <a:rect l="0" t="0" r="r" b="b"/>
                <a:pathLst>
                  <a:path w="742" h="490">
                    <a:moveTo>
                      <a:pt x="0" y="0"/>
                    </a:moveTo>
                    <a:lnTo>
                      <a:pt x="742" y="0"/>
                    </a:lnTo>
                    <a:lnTo>
                      <a:pt x="742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 txBox="1"/>
              <p:nvPr/>
            </p:nvSpPr>
            <p:spPr>
              <a:xfrm>
                <a:off x="5416560" y="5168880"/>
                <a:ext cx="32688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835520" y="5283360"/>
                <a:ext cx="265320" cy="176400"/>
              </a:xfrm>
              <a:custGeom>
                <a:avLst/>
                <a:gdLst/>
                <a:ahLst/>
                <a:rect l="0" t="0" r="r" b="b"/>
                <a:pathLst>
                  <a:path w="737" h="490">
                    <a:moveTo>
                      <a:pt x="0" y="0"/>
                    </a:moveTo>
                    <a:lnTo>
                      <a:pt x="737" y="0"/>
                    </a:lnTo>
                    <a:lnTo>
                      <a:pt x="737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 txBox="1"/>
              <p:nvPr/>
            </p:nvSpPr>
            <p:spPr>
              <a:xfrm>
                <a:off x="4730760" y="5168880"/>
                <a:ext cx="32688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959360" y="5126040"/>
              <a:ext cx="3425760" cy="69840"/>
              <a:chOff x="4959360" y="5126040"/>
              <a:chExt cx="3425760" cy="69840"/>
            </a:xfrm>
          </p:grpSpPr>
          <p:sp>
            <p:nvSpPr>
              <p:cNvPr id="421" name=""/>
              <p:cNvSpPr/>
              <p:nvPr/>
            </p:nvSpPr>
            <p:spPr>
              <a:xfrm flipV="1">
                <a:off x="4959360" y="512604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5646600" y="512604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6335640" y="512604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7008840" y="512604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7694640" y="512604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8385120" y="512604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959360" y="5126040"/>
                <a:ext cx="3425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4573440" y="2282760"/>
              <a:ext cx="318960" cy="2965680"/>
              <a:chOff x="4573440" y="2282760"/>
              <a:chExt cx="318960" cy="2965680"/>
            </a:xfrm>
          </p:grpSpPr>
          <p:sp>
            <p:nvSpPr>
              <p:cNvPr id="429" name=""/>
              <p:cNvSpPr/>
              <p:nvPr/>
            </p:nvSpPr>
            <p:spPr>
              <a:xfrm>
                <a:off x="4740120" y="5072040"/>
                <a:ext cx="140040" cy="176400"/>
              </a:xfrm>
              <a:custGeom>
                <a:avLst/>
                <a:gdLst/>
                <a:ahLst/>
                <a:rect l="0" t="0" r="r" b="b"/>
                <a:pathLst>
                  <a:path w="389" h="490">
                    <a:moveTo>
                      <a:pt x="0" y="0"/>
                    </a:moveTo>
                    <a:lnTo>
                      <a:pt x="389" y="0"/>
                    </a:lnTo>
                    <a:lnTo>
                      <a:pt x="389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 txBox="1"/>
              <p:nvPr/>
            </p:nvSpPr>
            <p:spPr>
              <a:xfrm>
                <a:off x="4651200" y="4960800"/>
                <a:ext cx="2412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648320" y="4533840"/>
                <a:ext cx="219600" cy="173520"/>
              </a:xfrm>
              <a:custGeom>
                <a:avLst/>
                <a:gdLst/>
                <a:ahLst/>
                <a:rect l="0" t="0" r="r" b="b"/>
                <a:pathLst>
                  <a:path w="610" h="482">
                    <a:moveTo>
                      <a:pt x="0" y="0"/>
                    </a:moveTo>
                    <a:lnTo>
                      <a:pt x="610" y="0"/>
                    </a:lnTo>
                    <a:lnTo>
                      <a:pt x="610" y="482"/>
                    </a:lnTo>
                    <a:lnTo>
                      <a:pt x="0" y="4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 txBox="1"/>
              <p:nvPr/>
            </p:nvSpPr>
            <p:spPr>
              <a:xfrm>
                <a:off x="4573440" y="4419720"/>
                <a:ext cx="29844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48320" y="4005360"/>
                <a:ext cx="219600" cy="176400"/>
              </a:xfrm>
              <a:custGeom>
                <a:avLst/>
                <a:gdLst/>
                <a:ahLst/>
                <a:rect l="0" t="0" r="r" b="b"/>
                <a:pathLst>
                  <a:path w="610" h="490">
                    <a:moveTo>
                      <a:pt x="0" y="0"/>
                    </a:moveTo>
                    <a:lnTo>
                      <a:pt x="610" y="0"/>
                    </a:lnTo>
                    <a:lnTo>
                      <a:pt x="610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 txBox="1"/>
              <p:nvPr/>
            </p:nvSpPr>
            <p:spPr>
              <a:xfrm>
                <a:off x="4573440" y="3892680"/>
                <a:ext cx="29844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48320" y="3463920"/>
                <a:ext cx="219600" cy="174960"/>
              </a:xfrm>
              <a:custGeom>
                <a:avLst/>
                <a:gdLst/>
                <a:ahLst/>
                <a:rect l="0" t="0" r="r" b="b"/>
                <a:pathLst>
                  <a:path w="610" h="486">
                    <a:moveTo>
                      <a:pt x="0" y="0"/>
                    </a:moveTo>
                    <a:lnTo>
                      <a:pt x="610" y="0"/>
                    </a:lnTo>
                    <a:lnTo>
                      <a:pt x="610" y="486"/>
                    </a:lnTo>
                    <a:lnTo>
                      <a:pt x="0" y="4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 txBox="1"/>
              <p:nvPr/>
            </p:nvSpPr>
            <p:spPr>
              <a:xfrm>
                <a:off x="4573440" y="3349800"/>
                <a:ext cx="29844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48320" y="2938320"/>
                <a:ext cx="219600" cy="176400"/>
              </a:xfrm>
              <a:custGeom>
                <a:avLst/>
                <a:gdLst/>
                <a:ahLst/>
                <a:rect l="0" t="0" r="r" b="b"/>
                <a:pathLst>
                  <a:path w="610" h="490">
                    <a:moveTo>
                      <a:pt x="0" y="0"/>
                    </a:moveTo>
                    <a:lnTo>
                      <a:pt x="610" y="0"/>
                    </a:lnTo>
                    <a:lnTo>
                      <a:pt x="610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>
                <a:off x="4573440" y="2825640"/>
                <a:ext cx="29844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48320" y="2395440"/>
                <a:ext cx="219600" cy="176400"/>
              </a:xfrm>
              <a:custGeom>
                <a:avLst/>
                <a:gdLst/>
                <a:ahLst/>
                <a:rect l="0" t="0" r="r" b="b"/>
                <a:pathLst>
                  <a:path w="610" h="490">
                    <a:moveTo>
                      <a:pt x="0" y="0"/>
                    </a:moveTo>
                    <a:lnTo>
                      <a:pt x="610" y="0"/>
                    </a:lnTo>
                    <a:lnTo>
                      <a:pt x="610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>
                <a:off x="4573440" y="2282760"/>
                <a:ext cx="29844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4897440" y="2449440"/>
              <a:ext cx="61920" cy="2676600"/>
              <a:chOff x="4897440" y="2449440"/>
              <a:chExt cx="61920" cy="2676600"/>
            </a:xfrm>
          </p:grpSpPr>
          <p:sp>
            <p:nvSpPr>
              <p:cNvPr id="442" name=""/>
              <p:cNvSpPr/>
              <p:nvPr/>
            </p:nvSpPr>
            <p:spPr>
              <a:xfrm flipH="1">
                <a:off x="4897440" y="5126040"/>
                <a:ext cx="6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4897440" y="4583160"/>
                <a:ext cx="6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897440" y="4059360"/>
                <a:ext cx="6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4897440" y="3516480"/>
                <a:ext cx="6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4897440" y="2992320"/>
                <a:ext cx="6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4897440" y="2449440"/>
                <a:ext cx="6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4959360" y="2449440"/>
                <a:ext cx="0" cy="267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4959360" y="2449440"/>
              <a:ext cx="3440160" cy="269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46600" y="4583160"/>
              <a:ext cx="173160" cy="108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46600" y="458316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19760" y="4691160"/>
              <a:ext cx="171360" cy="48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19760" y="469116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91120" y="4740120"/>
              <a:ext cx="344520" cy="87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91120" y="474012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35640" y="4827600"/>
              <a:ext cx="344520" cy="54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35640" y="48276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80160" y="4881600"/>
              <a:ext cx="32868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80160" y="48816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08840" y="4898880"/>
              <a:ext cx="344520" cy="36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08840" y="489888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53360" y="4935600"/>
              <a:ext cx="34128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53360" y="493560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94640" y="50036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46600" y="2571840"/>
              <a:ext cx="173160" cy="145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46600" y="25718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19760" y="4024440"/>
              <a:ext cx="171360" cy="401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19760" y="40244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91120" y="4425840"/>
              <a:ext cx="344520" cy="314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91120" y="44258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35640" y="4740120"/>
              <a:ext cx="344520" cy="141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35640" y="474012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80160" y="4881600"/>
              <a:ext cx="32868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80160" y="48816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08840" y="4951440"/>
              <a:ext cx="34452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08840" y="49514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53360" y="4987800"/>
              <a:ext cx="34128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353360" y="498780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94640" y="502272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46600" y="4827600"/>
              <a:ext cx="173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646600" y="48276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19760" y="48276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19760" y="48276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91120" y="4827600"/>
              <a:ext cx="344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91120" y="48276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35640" y="4827600"/>
              <a:ext cx="344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35640" y="48276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80160" y="4827600"/>
              <a:ext cx="328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680160" y="48276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08840" y="4827600"/>
              <a:ext cx="344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08840" y="48276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53360" y="4827600"/>
              <a:ext cx="341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53360" y="482760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94640" y="48276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26160" y="4549680"/>
              <a:ext cx="63720" cy="68760"/>
            </a:xfrm>
            <a:custGeom>
              <a:avLst/>
              <a:gdLst/>
              <a:ahLst/>
              <a:rect l="0" t="0" r="r" b="b"/>
              <a:pathLst>
                <a:path w="177" h="191">
                  <a:moveTo>
                    <a:pt x="85" y="0"/>
                  </a:moveTo>
                  <a:lnTo>
                    <a:pt x="177" y="95"/>
                  </a:lnTo>
                  <a:lnTo>
                    <a:pt x="85" y="191"/>
                  </a:lnTo>
                  <a:lnTo>
                    <a:pt x="0" y="95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865840" y="4618080"/>
              <a:ext cx="65520" cy="73440"/>
            </a:xfrm>
            <a:custGeom>
              <a:avLst/>
              <a:gdLst/>
              <a:ahLst/>
              <a:rect l="0" t="0" r="r" b="b"/>
              <a:pathLst>
                <a:path w="182" h="204">
                  <a:moveTo>
                    <a:pt x="94" y="0"/>
                  </a:moveTo>
                  <a:lnTo>
                    <a:pt x="182" y="105"/>
                  </a:lnTo>
                  <a:lnTo>
                    <a:pt x="94" y="204"/>
                  </a:lnTo>
                  <a:lnTo>
                    <a:pt x="0" y="105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22800" y="467028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86" y="0"/>
                  </a:moveTo>
                  <a:lnTo>
                    <a:pt x="173" y="98"/>
                  </a:lnTo>
                  <a:lnTo>
                    <a:pt x="86" y="195"/>
                  </a:lnTo>
                  <a:lnTo>
                    <a:pt x="0" y="9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4520" y="4724280"/>
              <a:ext cx="65520" cy="70200"/>
            </a:xfrm>
            <a:custGeom>
              <a:avLst/>
              <a:gdLst/>
              <a:ahLst/>
              <a:rect l="0" t="0" r="r" b="b"/>
              <a:pathLst>
                <a:path w="182" h="195">
                  <a:moveTo>
                    <a:pt x="94" y="0"/>
                  </a:moveTo>
                  <a:lnTo>
                    <a:pt x="182" y="98"/>
                  </a:lnTo>
                  <a:lnTo>
                    <a:pt x="94" y="195"/>
                  </a:lnTo>
                  <a:lnTo>
                    <a:pt x="0" y="98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51480" y="475776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86" y="0"/>
                  </a:moveTo>
                  <a:lnTo>
                    <a:pt x="173" y="98"/>
                  </a:lnTo>
                  <a:lnTo>
                    <a:pt x="86" y="195"/>
                  </a:lnTo>
                  <a:lnTo>
                    <a:pt x="0" y="9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523200" y="4794120"/>
              <a:ext cx="65520" cy="71640"/>
            </a:xfrm>
            <a:custGeom>
              <a:avLst/>
              <a:gdLst/>
              <a:ahLst/>
              <a:rect l="0" t="0" r="r" b="b"/>
              <a:pathLst>
                <a:path w="182" h="199">
                  <a:moveTo>
                    <a:pt x="94" y="0"/>
                  </a:moveTo>
                  <a:lnTo>
                    <a:pt x="182" y="96"/>
                  </a:lnTo>
                  <a:lnTo>
                    <a:pt x="94" y="199"/>
                  </a:lnTo>
                  <a:lnTo>
                    <a:pt x="0" y="9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80160" y="4811760"/>
              <a:ext cx="63720" cy="70200"/>
            </a:xfrm>
            <a:custGeom>
              <a:avLst/>
              <a:gdLst/>
              <a:ahLst/>
              <a:rect l="0" t="0" r="r" b="b"/>
              <a:pathLst>
                <a:path w="177" h="195">
                  <a:moveTo>
                    <a:pt x="85" y="0"/>
                  </a:moveTo>
                  <a:lnTo>
                    <a:pt x="177" y="98"/>
                  </a:lnTo>
                  <a:lnTo>
                    <a:pt x="85" y="195"/>
                  </a:lnTo>
                  <a:lnTo>
                    <a:pt x="0" y="98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53320" y="4848120"/>
              <a:ext cx="60840" cy="66960"/>
            </a:xfrm>
            <a:custGeom>
              <a:avLst/>
              <a:gdLst/>
              <a:ahLst/>
              <a:rect l="0" t="0" r="r" b="b"/>
              <a:pathLst>
                <a:path w="169" h="186">
                  <a:moveTo>
                    <a:pt x="84" y="0"/>
                  </a:moveTo>
                  <a:lnTo>
                    <a:pt x="169" y="92"/>
                  </a:lnTo>
                  <a:lnTo>
                    <a:pt x="84" y="186"/>
                  </a:lnTo>
                  <a:lnTo>
                    <a:pt x="0" y="9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024680" y="4865760"/>
              <a:ext cx="60840" cy="70200"/>
            </a:xfrm>
            <a:custGeom>
              <a:avLst/>
              <a:gdLst/>
              <a:ahLst/>
              <a:rect l="0" t="0" r="r" b="b"/>
              <a:pathLst>
                <a:path w="169" h="195">
                  <a:moveTo>
                    <a:pt x="84" y="0"/>
                  </a:moveTo>
                  <a:lnTo>
                    <a:pt x="169" y="98"/>
                  </a:lnTo>
                  <a:lnTo>
                    <a:pt x="84" y="195"/>
                  </a:lnTo>
                  <a:lnTo>
                    <a:pt x="0" y="9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82000" y="4881600"/>
              <a:ext cx="60840" cy="70200"/>
            </a:xfrm>
            <a:custGeom>
              <a:avLst/>
              <a:gdLst/>
              <a:ahLst/>
              <a:rect l="0" t="0" r="r" b="b"/>
              <a:pathLst>
                <a:path w="169" h="195">
                  <a:moveTo>
                    <a:pt x="84" y="0"/>
                  </a:moveTo>
                  <a:lnTo>
                    <a:pt x="169" y="98"/>
                  </a:lnTo>
                  <a:lnTo>
                    <a:pt x="84" y="195"/>
                  </a:lnTo>
                  <a:lnTo>
                    <a:pt x="0" y="9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53360" y="4898880"/>
              <a:ext cx="60840" cy="70200"/>
            </a:xfrm>
            <a:custGeom>
              <a:avLst/>
              <a:gdLst/>
              <a:ahLst/>
              <a:rect l="0" t="0" r="r" b="b"/>
              <a:pathLst>
                <a:path w="169" h="195">
                  <a:moveTo>
                    <a:pt x="84" y="0"/>
                  </a:moveTo>
                  <a:lnTo>
                    <a:pt x="169" y="98"/>
                  </a:lnTo>
                  <a:lnTo>
                    <a:pt x="84" y="195"/>
                  </a:lnTo>
                  <a:lnTo>
                    <a:pt x="0" y="9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10320" y="4915080"/>
              <a:ext cx="60840" cy="73440"/>
            </a:xfrm>
            <a:custGeom>
              <a:avLst/>
              <a:gdLst/>
              <a:ahLst/>
              <a:rect l="0" t="0" r="r" b="b"/>
              <a:pathLst>
                <a:path w="169" h="204">
                  <a:moveTo>
                    <a:pt x="84" y="0"/>
                  </a:moveTo>
                  <a:lnTo>
                    <a:pt x="169" y="99"/>
                  </a:lnTo>
                  <a:lnTo>
                    <a:pt x="84" y="204"/>
                  </a:lnTo>
                  <a:lnTo>
                    <a:pt x="0" y="99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56360" y="5546880"/>
              <a:ext cx="2783160" cy="174960"/>
            </a:xfrm>
            <a:custGeom>
              <a:avLst/>
              <a:gdLst/>
              <a:ahLst/>
              <a:rect l="0" t="0" r="r" b="b"/>
              <a:pathLst>
                <a:path w="7731" h="486">
                  <a:moveTo>
                    <a:pt x="0" y="0"/>
                  </a:moveTo>
                  <a:lnTo>
                    <a:pt x="7731" y="0"/>
                  </a:lnTo>
                  <a:lnTo>
                    <a:pt x="7731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256360" y="5546880"/>
              <a:ext cx="2800800" cy="190800"/>
            </a:xfrm>
            <a:custGeom>
              <a:avLst/>
              <a:gdLst/>
              <a:ahLst/>
              <a:rect l="0" t="0" r="r" b="b"/>
              <a:pathLst>
                <a:path w="7780" h="530">
                  <a:moveTo>
                    <a:pt x="0" y="0"/>
                  </a:moveTo>
                  <a:lnTo>
                    <a:pt x="7780" y="0"/>
                  </a:lnTo>
                  <a:lnTo>
                    <a:pt x="7780" y="530"/>
                  </a:lnTo>
                  <a:lnTo>
                    <a:pt x="0" y="5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37120" y="4286160"/>
              <a:ext cx="1125720" cy="209880"/>
            </a:xfrm>
            <a:custGeom>
              <a:avLst/>
              <a:gdLst/>
              <a:ahLst/>
              <a:rect l="0" t="0" r="r" b="b"/>
              <a:pathLst>
                <a:path w="3127" h="583">
                  <a:moveTo>
                    <a:pt x="0" y="0"/>
                  </a:moveTo>
                  <a:lnTo>
                    <a:pt x="3127" y="0"/>
                  </a:lnTo>
                  <a:lnTo>
                    <a:pt x="3127" y="583"/>
                  </a:lnTo>
                  <a:lnTo>
                    <a:pt x="0" y="5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>
              <a:off x="4902120" y="4192560"/>
              <a:ext cx="1020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timal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3211560" y="3578400"/>
              <a:ext cx="1020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timal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 txBox="1"/>
            <p:nvPr/>
          </p:nvSpPr>
          <p:spPr>
            <a:xfrm>
              <a:off x="1274760" y="3578400"/>
              <a:ext cx="9986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Reflu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2212920" y="4541760"/>
              <a:ext cx="1012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ant Reflu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2039760" y="3867120"/>
              <a:ext cx="499320" cy="227520"/>
              <a:chOff x="2039760" y="3867120"/>
              <a:chExt cx="499320" cy="227520"/>
            </a:xfrm>
          </p:grpSpPr>
          <p:sp>
            <p:nvSpPr>
              <p:cNvPr id="515" name=""/>
              <p:cNvSpPr/>
              <p:nvPr/>
            </p:nvSpPr>
            <p:spPr>
              <a:xfrm>
                <a:off x="2319480" y="3956040"/>
                <a:ext cx="219600" cy="138600"/>
              </a:xfrm>
              <a:custGeom>
                <a:avLst/>
                <a:gdLst/>
                <a:ahLst/>
                <a:rect l="0" t="0" r="r" b="b"/>
                <a:pathLst>
                  <a:path w="610" h="385">
                    <a:moveTo>
                      <a:pt x="610" y="385"/>
                    </a:moveTo>
                    <a:lnTo>
                      <a:pt x="0" y="288"/>
                    </a:lnTo>
                    <a:lnTo>
                      <a:pt x="40" y="141"/>
                    </a:lnTo>
                    <a:lnTo>
                      <a:pt x="86" y="0"/>
                    </a:lnTo>
                    <a:lnTo>
                      <a:pt x="610" y="3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039760" y="3867120"/>
                <a:ext cx="29376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3490920" y="3867120"/>
              <a:ext cx="295560" cy="157680"/>
              <a:chOff x="3490920" y="3867120"/>
              <a:chExt cx="295560" cy="157680"/>
            </a:xfrm>
          </p:grpSpPr>
          <p:sp>
            <p:nvSpPr>
              <p:cNvPr id="518" name=""/>
              <p:cNvSpPr/>
              <p:nvPr/>
            </p:nvSpPr>
            <p:spPr>
              <a:xfrm>
                <a:off x="3568680" y="3867120"/>
                <a:ext cx="217800" cy="157680"/>
              </a:xfrm>
              <a:custGeom>
                <a:avLst/>
                <a:gdLst/>
                <a:ahLst/>
                <a:rect l="0" t="0" r="r" b="b"/>
                <a:pathLst>
                  <a:path w="605" h="438">
                    <a:moveTo>
                      <a:pt x="605" y="438"/>
                    </a:moveTo>
                    <a:lnTo>
                      <a:pt x="0" y="289"/>
                    </a:lnTo>
                    <a:lnTo>
                      <a:pt x="45" y="142"/>
                    </a:lnTo>
                    <a:lnTo>
                      <a:pt x="131" y="0"/>
                    </a:lnTo>
                    <a:lnTo>
                      <a:pt x="605" y="4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490920" y="3867120"/>
                <a:ext cx="9360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2819520" y="4425840"/>
              <a:ext cx="500400" cy="228600"/>
              <a:chOff x="2819520" y="4425840"/>
              <a:chExt cx="500400" cy="228600"/>
            </a:xfrm>
          </p:grpSpPr>
          <p:sp>
            <p:nvSpPr>
              <p:cNvPr id="521" name=""/>
              <p:cNvSpPr/>
              <p:nvPr/>
            </p:nvSpPr>
            <p:spPr>
              <a:xfrm>
                <a:off x="3098880" y="4425840"/>
                <a:ext cx="221040" cy="157680"/>
              </a:xfrm>
              <a:custGeom>
                <a:avLst/>
                <a:gdLst/>
                <a:ahLst/>
                <a:rect l="0" t="0" r="r" b="b"/>
                <a:pathLst>
                  <a:path w="614" h="438">
                    <a:moveTo>
                      <a:pt x="614" y="0"/>
                    </a:moveTo>
                    <a:lnTo>
                      <a:pt x="86" y="438"/>
                    </a:lnTo>
                    <a:lnTo>
                      <a:pt x="46" y="296"/>
                    </a:lnTo>
                    <a:lnTo>
                      <a:pt x="0" y="96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2819520" y="4533840"/>
                <a:ext cx="29664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"/>
            <p:cNvSpPr txBox="1"/>
            <p:nvPr/>
          </p:nvSpPr>
          <p:spPr>
            <a:xfrm>
              <a:off x="6043680" y="3387600"/>
              <a:ext cx="9986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Reflu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>
              <a:off x="4979880" y="4772160"/>
              <a:ext cx="1012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ant Reflu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5819760" y="3500280"/>
              <a:ext cx="282600" cy="120960"/>
              <a:chOff x="5819760" y="3500280"/>
              <a:chExt cx="282600" cy="120960"/>
            </a:xfrm>
          </p:grpSpPr>
          <p:sp>
            <p:nvSpPr>
              <p:cNvPr id="526" name=""/>
              <p:cNvSpPr/>
              <p:nvPr/>
            </p:nvSpPr>
            <p:spPr>
              <a:xfrm>
                <a:off x="5819760" y="3500280"/>
                <a:ext cx="219600" cy="120960"/>
              </a:xfrm>
              <a:custGeom>
                <a:avLst/>
                <a:gdLst/>
                <a:ahLst/>
                <a:rect l="0" t="0" r="r" b="b"/>
                <a:pathLst>
                  <a:path w="610" h="336">
                    <a:moveTo>
                      <a:pt x="0" y="139"/>
                    </a:moveTo>
                    <a:lnTo>
                      <a:pt x="610" y="0"/>
                    </a:lnTo>
                    <a:lnTo>
                      <a:pt x="610" y="139"/>
                    </a:lnTo>
                    <a:lnTo>
                      <a:pt x="610" y="336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039000" y="3551400"/>
                <a:ext cx="6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427720" y="4444920"/>
              <a:ext cx="235440" cy="122760"/>
              <a:chOff x="5427720" y="4444920"/>
              <a:chExt cx="235440" cy="122760"/>
            </a:xfrm>
          </p:grpSpPr>
          <p:sp>
            <p:nvSpPr>
              <p:cNvPr id="529" name=""/>
              <p:cNvSpPr/>
              <p:nvPr/>
            </p:nvSpPr>
            <p:spPr>
              <a:xfrm>
                <a:off x="5427720" y="4444920"/>
                <a:ext cx="235440" cy="122760"/>
              </a:xfrm>
              <a:custGeom>
                <a:avLst/>
                <a:gdLst/>
                <a:ahLst/>
                <a:rect l="0" t="0" r="r" b="b"/>
                <a:pathLst>
                  <a:path w="654" h="341">
                    <a:moveTo>
                      <a:pt x="654" y="341"/>
                    </a:moveTo>
                    <a:lnTo>
                      <a:pt x="0" y="290"/>
                    </a:lnTo>
                    <a:lnTo>
                      <a:pt x="91" y="141"/>
                    </a:lnTo>
                    <a:lnTo>
                      <a:pt x="131" y="0"/>
                    </a:lnTo>
                    <a:lnTo>
                      <a:pt x="654" y="3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60840" y="449568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311800" y="4811760"/>
              <a:ext cx="290880" cy="124200"/>
              <a:chOff x="5311800" y="4811760"/>
              <a:chExt cx="290880" cy="124200"/>
            </a:xfrm>
          </p:grpSpPr>
          <p:sp>
            <p:nvSpPr>
              <p:cNvPr id="532" name=""/>
              <p:cNvSpPr/>
              <p:nvPr/>
            </p:nvSpPr>
            <p:spPr>
              <a:xfrm>
                <a:off x="5365800" y="4811760"/>
                <a:ext cx="236880" cy="124200"/>
              </a:xfrm>
              <a:custGeom>
                <a:avLst/>
                <a:gdLst/>
                <a:ahLst/>
                <a:rect l="0" t="0" r="r" b="b"/>
                <a:pathLst>
                  <a:path w="658" h="345">
                    <a:moveTo>
                      <a:pt x="658" y="0"/>
                    </a:moveTo>
                    <a:lnTo>
                      <a:pt x="86" y="345"/>
                    </a:lnTo>
                    <a:lnTo>
                      <a:pt x="46" y="150"/>
                    </a:lnTo>
                    <a:lnTo>
                      <a:pt x="0" y="0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5311800" y="4867200"/>
                <a:ext cx="6984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 txBox="1"/>
            <p:nvPr/>
          </p:nvSpPr>
          <p:spPr>
            <a:xfrm>
              <a:off x="6230880" y="5508720"/>
              <a:ext cx="2570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6294600" y="5678640"/>
              <a:ext cx="2700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6310440" y="5380200"/>
              <a:ext cx="3477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 txBox="1"/>
            <p:nvPr/>
          </p:nvSpPr>
          <p:spPr>
            <a:xfrm>
              <a:off x="2133720" y="5472000"/>
              <a:ext cx="5047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, h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>
              <a:off x="343080" y="3836880"/>
              <a:ext cx="28584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36600" y="2541600"/>
            <a:ext cx="128160" cy="181440"/>
          </a:xfrm>
          <a:custGeom>
            <a:avLst/>
            <a:gdLst/>
            <a:ahLst/>
            <a:rect l="0" t="0" r="r" b="b"/>
            <a:pathLst>
              <a:path fill="none" w="356" h="504">
                <a:moveTo>
                  <a:pt x="356" y="0"/>
                </a:moveTo>
                <a:lnTo>
                  <a:pt x="356" y="0"/>
                </a:lnTo>
                <a:cubicBezTo>
                  <a:pt x="294" y="0"/>
                  <a:pt x="232" y="23"/>
                  <a:pt x="178" y="68"/>
                </a:cubicBezTo>
                <a:cubicBezTo>
                  <a:pt x="124" y="112"/>
                  <a:pt x="79" y="175"/>
                  <a:pt x="48" y="252"/>
                </a:cubicBezTo>
                <a:cubicBezTo>
                  <a:pt x="16" y="329"/>
                  <a:pt x="0" y="416"/>
                  <a:pt x="0" y="50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36600" y="2722680"/>
            <a:ext cx="128160" cy="181440"/>
          </a:xfrm>
          <a:custGeom>
            <a:avLst/>
            <a:gdLst/>
            <a:ahLst/>
            <a:rect l="0" t="0" r="r" b="b"/>
            <a:pathLst>
              <a:path fill="none" w="356" h="504">
                <a:moveTo>
                  <a:pt x="0" y="0"/>
                </a:moveTo>
                <a:lnTo>
                  <a:pt x="0" y="0"/>
                </a:lnTo>
                <a:cubicBezTo>
                  <a:pt x="0" y="88"/>
                  <a:pt x="16" y="175"/>
                  <a:pt x="48" y="252"/>
                </a:cubicBezTo>
                <a:cubicBezTo>
                  <a:pt x="79" y="329"/>
                  <a:pt x="124" y="392"/>
                  <a:pt x="178" y="436"/>
                </a:cubicBezTo>
                <a:cubicBezTo>
                  <a:pt x="232" y="481"/>
                  <a:pt x="294" y="504"/>
                  <a:pt x="356" y="50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5000" y="1262160"/>
            <a:ext cx="0" cy="108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047600" y="1262160"/>
            <a:ext cx="0" cy="108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65000" y="1111320"/>
            <a:ext cx="147960" cy="151200"/>
          </a:xfrm>
          <a:custGeom>
            <a:avLst/>
            <a:gdLst/>
            <a:ahLst/>
            <a:rect l="0" t="0" r="r" b="b"/>
            <a:pathLst>
              <a:path fill="none" w="411" h="420">
                <a:moveTo>
                  <a:pt x="411" y="0"/>
                </a:moveTo>
                <a:lnTo>
                  <a:pt x="411" y="0"/>
                </a:lnTo>
                <a:cubicBezTo>
                  <a:pt x="339" y="0"/>
                  <a:pt x="268" y="19"/>
                  <a:pt x="205" y="56"/>
                </a:cubicBezTo>
                <a:cubicBezTo>
                  <a:pt x="143" y="93"/>
                  <a:pt x="91" y="146"/>
                  <a:pt x="55" y="210"/>
                </a:cubicBezTo>
                <a:cubicBezTo>
                  <a:pt x="19" y="274"/>
                  <a:pt x="0" y="346"/>
                  <a:pt x="0" y="42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912960" y="1111320"/>
            <a:ext cx="147960" cy="151200"/>
          </a:xfrm>
          <a:custGeom>
            <a:avLst/>
            <a:gdLst/>
            <a:ahLst/>
            <a:rect l="0" t="0" r="r" b="b"/>
            <a:pathLst>
              <a:path fill="none" w="411" h="420">
                <a:moveTo>
                  <a:pt x="411" y="420"/>
                </a:moveTo>
                <a:lnTo>
                  <a:pt x="411" y="420"/>
                </a:lnTo>
                <a:lnTo>
                  <a:pt x="411" y="420"/>
                </a:lnTo>
                <a:cubicBezTo>
                  <a:pt x="411" y="346"/>
                  <a:pt x="392" y="274"/>
                  <a:pt x="356" y="210"/>
                </a:cubicBezTo>
                <a:cubicBezTo>
                  <a:pt x="320" y="146"/>
                  <a:pt x="268" y="93"/>
                  <a:pt x="205" y="56"/>
                </a:cubicBezTo>
                <a:cubicBezTo>
                  <a:pt x="143" y="19"/>
                  <a:pt x="72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65000" y="126216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77960" y="1471680"/>
            <a:ext cx="269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77960" y="1681200"/>
            <a:ext cx="269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23760" y="947880"/>
            <a:ext cx="0" cy="163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923760" y="912960"/>
            <a:ext cx="357840" cy="71640"/>
            <a:chOff x="923760" y="912960"/>
            <a:chExt cx="357840" cy="71640"/>
          </a:xfrm>
        </p:grpSpPr>
        <p:sp>
          <p:nvSpPr>
            <p:cNvPr id="550" name=""/>
            <p:cNvSpPr/>
            <p:nvPr/>
          </p:nvSpPr>
          <p:spPr>
            <a:xfrm>
              <a:off x="1133640" y="912960"/>
              <a:ext cx="147960" cy="71640"/>
            </a:xfrm>
            <a:custGeom>
              <a:avLst/>
              <a:gdLst/>
              <a:ahLst/>
              <a:rect l="0" t="0" r="r" b="b"/>
              <a:pathLst>
                <a:path w="411" h="199">
                  <a:moveTo>
                    <a:pt x="411" y="99"/>
                  </a:moveTo>
                  <a:lnTo>
                    <a:pt x="0" y="1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411" y="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23760" y="947880"/>
              <a:ext cx="209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1512720" y="657360"/>
            <a:ext cx="0" cy="641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281240" y="855720"/>
            <a:ext cx="479520" cy="2095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6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1525680" y="633240"/>
            <a:ext cx="331920" cy="70200"/>
            <a:chOff x="1525680" y="633240"/>
            <a:chExt cx="331920" cy="70200"/>
          </a:xfrm>
        </p:grpSpPr>
        <p:sp>
          <p:nvSpPr>
            <p:cNvPr id="555" name=""/>
            <p:cNvSpPr/>
            <p:nvPr/>
          </p:nvSpPr>
          <p:spPr>
            <a:xfrm>
              <a:off x="1709640" y="633240"/>
              <a:ext cx="147960" cy="70200"/>
            </a:xfrm>
            <a:custGeom>
              <a:avLst/>
              <a:gdLst/>
              <a:ahLst/>
              <a:rect l="0" t="0" r="r" b="b"/>
              <a:pathLst>
                <a:path w="411" h="195">
                  <a:moveTo>
                    <a:pt x="411" y="100"/>
                  </a:moveTo>
                  <a:lnTo>
                    <a:pt x="0" y="195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411" y="1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25680" y="669960"/>
              <a:ext cx="183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1060560" y="1249200"/>
            <a:ext cx="452160" cy="71640"/>
            <a:chOff x="1060560" y="1249200"/>
            <a:chExt cx="452160" cy="71640"/>
          </a:xfrm>
        </p:grpSpPr>
        <p:sp>
          <p:nvSpPr>
            <p:cNvPr id="558" name=""/>
            <p:cNvSpPr/>
            <p:nvPr/>
          </p:nvSpPr>
          <p:spPr>
            <a:xfrm>
              <a:off x="1060560" y="1249200"/>
              <a:ext cx="135360" cy="71640"/>
            </a:xfrm>
            <a:custGeom>
              <a:avLst/>
              <a:gdLst/>
              <a:ahLst/>
              <a:rect l="0" t="0" r="r" b="b"/>
              <a:pathLst>
                <a:path w="376" h="199">
                  <a:moveTo>
                    <a:pt x="0" y="99"/>
                  </a:moveTo>
                  <a:lnTo>
                    <a:pt x="376" y="0"/>
                  </a:lnTo>
                  <a:lnTo>
                    <a:pt x="376" y="99"/>
                  </a:lnTo>
                  <a:lnTo>
                    <a:pt x="376" y="1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95560" y="1285920"/>
              <a:ext cx="317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1257480" y="762120"/>
            <a:ext cx="34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292400" y="762120"/>
            <a:ext cx="0" cy="2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330200" y="808200"/>
            <a:ext cx="3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1366920" y="808200"/>
            <a:ext cx="11160" cy="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292400" y="784080"/>
            <a:ext cx="3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330200" y="784080"/>
            <a:ext cx="0" cy="2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370160" y="820800"/>
            <a:ext cx="56880" cy="3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1171440" y="703440"/>
            <a:ext cx="133560" cy="117720"/>
            <a:chOff x="1171440" y="703440"/>
            <a:chExt cx="133560" cy="117720"/>
          </a:xfrm>
        </p:grpSpPr>
        <p:sp>
          <p:nvSpPr>
            <p:cNvPr id="568" name=""/>
            <p:cNvSpPr/>
            <p:nvPr/>
          </p:nvSpPr>
          <p:spPr>
            <a:xfrm>
              <a:off x="1171440" y="703440"/>
              <a:ext cx="133560" cy="117720"/>
            </a:xfrm>
            <a:custGeom>
              <a:avLst/>
              <a:gdLst/>
              <a:ahLst/>
              <a:rect l="0" t="0" r="r" b="b"/>
              <a:pathLst>
                <a:path w="371" h="327">
                  <a:moveTo>
                    <a:pt x="0" y="0"/>
                  </a:moveTo>
                  <a:lnTo>
                    <a:pt x="371" y="164"/>
                  </a:lnTo>
                  <a:lnTo>
                    <a:pt x="334" y="228"/>
                  </a:lnTo>
                  <a:lnTo>
                    <a:pt x="268" y="3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1257480" y="76356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 flipH="1">
            <a:off x="433440" y="2913120"/>
            <a:ext cx="909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348560" y="2541600"/>
            <a:ext cx="129600" cy="181440"/>
          </a:xfrm>
          <a:custGeom>
            <a:avLst/>
            <a:gdLst/>
            <a:ahLst/>
            <a:rect l="0" t="0" r="r" b="b"/>
            <a:pathLst>
              <a:path fill="none" w="360" h="504">
                <a:moveTo>
                  <a:pt x="360" y="504"/>
                </a:moveTo>
                <a:lnTo>
                  <a:pt x="360" y="504"/>
                </a:lnTo>
                <a:lnTo>
                  <a:pt x="360" y="504"/>
                </a:lnTo>
                <a:cubicBezTo>
                  <a:pt x="360" y="416"/>
                  <a:pt x="343" y="329"/>
                  <a:pt x="312" y="252"/>
                </a:cubicBezTo>
                <a:cubicBezTo>
                  <a:pt x="280" y="175"/>
                  <a:pt x="235" y="112"/>
                  <a:pt x="180" y="68"/>
                </a:cubicBezTo>
                <a:cubicBezTo>
                  <a:pt x="125" y="23"/>
                  <a:pt x="63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348560" y="2722680"/>
            <a:ext cx="129600" cy="181440"/>
          </a:xfrm>
          <a:custGeom>
            <a:avLst/>
            <a:gdLst/>
            <a:ahLst/>
            <a:rect l="0" t="0" r="r" b="b"/>
            <a:pathLst>
              <a:path fill="none" w="360" h="504">
                <a:moveTo>
                  <a:pt x="0" y="504"/>
                </a:moveTo>
                <a:lnTo>
                  <a:pt x="0" y="504"/>
                </a:lnTo>
                <a:cubicBezTo>
                  <a:pt x="63" y="504"/>
                  <a:pt x="125" y="481"/>
                  <a:pt x="180" y="436"/>
                </a:cubicBezTo>
                <a:cubicBezTo>
                  <a:pt x="235" y="392"/>
                  <a:pt x="280" y="329"/>
                  <a:pt x="312" y="252"/>
                </a:cubicBezTo>
                <a:cubicBezTo>
                  <a:pt x="343" y="175"/>
                  <a:pt x="360" y="88"/>
                  <a:pt x="36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57200" y="2541600"/>
            <a:ext cx="885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47760" y="2624040"/>
            <a:ext cx="1054440" cy="70200"/>
          </a:xfrm>
          <a:custGeom>
            <a:avLst/>
            <a:gdLst/>
            <a:ahLst/>
            <a:rect l="0" t="0" r="r" b="b"/>
            <a:pathLst>
              <a:path fill="none" w="2929" h="195">
                <a:moveTo>
                  <a:pt x="0" y="98"/>
                </a:moveTo>
                <a:lnTo>
                  <a:pt x="134" y="62"/>
                </a:lnTo>
                <a:lnTo>
                  <a:pt x="275" y="34"/>
                </a:lnTo>
                <a:lnTo>
                  <a:pt x="410" y="0"/>
                </a:lnTo>
                <a:lnTo>
                  <a:pt x="545" y="62"/>
                </a:lnTo>
                <a:lnTo>
                  <a:pt x="716" y="98"/>
                </a:lnTo>
                <a:lnTo>
                  <a:pt x="820" y="126"/>
                </a:lnTo>
                <a:lnTo>
                  <a:pt x="955" y="98"/>
                </a:lnTo>
                <a:lnTo>
                  <a:pt x="1090" y="98"/>
                </a:lnTo>
                <a:lnTo>
                  <a:pt x="1225" y="62"/>
                </a:lnTo>
                <a:lnTo>
                  <a:pt x="1366" y="62"/>
                </a:lnTo>
                <a:lnTo>
                  <a:pt x="1532" y="98"/>
                </a:lnTo>
                <a:lnTo>
                  <a:pt x="1673" y="98"/>
                </a:lnTo>
                <a:lnTo>
                  <a:pt x="1703" y="160"/>
                </a:lnTo>
                <a:lnTo>
                  <a:pt x="1838" y="195"/>
                </a:lnTo>
                <a:lnTo>
                  <a:pt x="1942" y="160"/>
                </a:lnTo>
                <a:lnTo>
                  <a:pt x="2114" y="126"/>
                </a:lnTo>
                <a:lnTo>
                  <a:pt x="2218" y="98"/>
                </a:lnTo>
                <a:lnTo>
                  <a:pt x="2420" y="98"/>
                </a:lnTo>
                <a:lnTo>
                  <a:pt x="2488" y="62"/>
                </a:lnTo>
                <a:lnTo>
                  <a:pt x="2690" y="62"/>
                </a:lnTo>
                <a:lnTo>
                  <a:pt x="2861" y="98"/>
                </a:lnTo>
                <a:lnTo>
                  <a:pt x="2898" y="160"/>
                </a:lnTo>
                <a:lnTo>
                  <a:pt x="2929" y="19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949320" y="2855880"/>
            <a:ext cx="36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85680" y="2855880"/>
            <a:ext cx="0" cy="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022400" y="289080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060560" y="2890800"/>
            <a:ext cx="0" cy="2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985680" y="2878200"/>
            <a:ext cx="3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022400" y="2878200"/>
            <a:ext cx="0" cy="1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060560" y="2914560"/>
            <a:ext cx="60120" cy="2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863640" y="2798640"/>
            <a:ext cx="135360" cy="105120"/>
            <a:chOff x="863640" y="2798640"/>
            <a:chExt cx="135360" cy="105120"/>
          </a:xfrm>
        </p:grpSpPr>
        <p:sp>
          <p:nvSpPr>
            <p:cNvPr id="583" name=""/>
            <p:cNvSpPr/>
            <p:nvPr/>
          </p:nvSpPr>
          <p:spPr>
            <a:xfrm>
              <a:off x="863640" y="2798640"/>
              <a:ext cx="135360" cy="105120"/>
            </a:xfrm>
            <a:custGeom>
              <a:avLst/>
              <a:gdLst/>
              <a:ahLst/>
              <a:rect l="0" t="0" r="r" b="b"/>
              <a:pathLst>
                <a:path w="376" h="292">
                  <a:moveTo>
                    <a:pt x="0" y="0"/>
                  </a:moveTo>
                  <a:lnTo>
                    <a:pt x="376" y="158"/>
                  </a:lnTo>
                  <a:lnTo>
                    <a:pt x="309" y="222"/>
                  </a:lnTo>
                  <a:lnTo>
                    <a:pt x="240" y="2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949320" y="2857680"/>
              <a:ext cx="223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777960" y="2320920"/>
            <a:ext cx="147240" cy="152640"/>
          </a:xfrm>
          <a:custGeom>
            <a:avLst/>
            <a:gdLst/>
            <a:ahLst/>
            <a:rect l="0" t="0" r="r" b="b"/>
            <a:pathLst>
              <a:path fill="none" w="409" h="424">
                <a:moveTo>
                  <a:pt x="0" y="0"/>
                </a:moveTo>
                <a:lnTo>
                  <a:pt x="0" y="0"/>
                </a:lnTo>
                <a:cubicBezTo>
                  <a:pt x="0" y="74"/>
                  <a:pt x="19" y="148"/>
                  <a:pt x="55" y="212"/>
                </a:cubicBezTo>
                <a:cubicBezTo>
                  <a:pt x="91" y="276"/>
                  <a:pt x="142" y="330"/>
                  <a:pt x="205" y="367"/>
                </a:cubicBezTo>
                <a:cubicBezTo>
                  <a:pt x="267" y="404"/>
                  <a:pt x="337" y="424"/>
                  <a:pt x="409" y="42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24840" y="2320920"/>
            <a:ext cx="147240" cy="152640"/>
          </a:xfrm>
          <a:custGeom>
            <a:avLst/>
            <a:gdLst/>
            <a:ahLst/>
            <a:rect l="0" t="0" r="r" b="b"/>
            <a:pathLst>
              <a:path fill="none" w="409" h="424">
                <a:moveTo>
                  <a:pt x="0" y="424"/>
                </a:moveTo>
                <a:lnTo>
                  <a:pt x="0" y="424"/>
                </a:lnTo>
                <a:cubicBezTo>
                  <a:pt x="72" y="424"/>
                  <a:pt x="142" y="404"/>
                  <a:pt x="205" y="367"/>
                </a:cubicBezTo>
                <a:cubicBezTo>
                  <a:pt x="267" y="330"/>
                  <a:pt x="318" y="276"/>
                  <a:pt x="354" y="212"/>
                </a:cubicBezTo>
                <a:cubicBezTo>
                  <a:pt x="390" y="148"/>
                  <a:pt x="409" y="74"/>
                  <a:pt x="4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77960" y="2309760"/>
            <a:ext cx="269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12960" y="2460600"/>
            <a:ext cx="0" cy="81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77960" y="189072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998800" y="1308240"/>
            <a:ext cx="0" cy="108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328920" y="1308240"/>
            <a:ext cx="0" cy="108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998800" y="1170000"/>
            <a:ext cx="172800" cy="151200"/>
          </a:xfrm>
          <a:custGeom>
            <a:avLst/>
            <a:gdLst/>
            <a:ahLst/>
            <a:rect l="0" t="0" r="r" b="b"/>
            <a:pathLst>
              <a:path fill="none" w="480" h="420">
                <a:moveTo>
                  <a:pt x="480" y="0"/>
                </a:moveTo>
                <a:lnTo>
                  <a:pt x="480" y="0"/>
                </a:lnTo>
                <a:cubicBezTo>
                  <a:pt x="396" y="0"/>
                  <a:pt x="313" y="19"/>
                  <a:pt x="240" y="56"/>
                </a:cubicBezTo>
                <a:cubicBezTo>
                  <a:pt x="167" y="93"/>
                  <a:pt x="106" y="146"/>
                  <a:pt x="64" y="210"/>
                </a:cubicBezTo>
                <a:cubicBezTo>
                  <a:pt x="22" y="274"/>
                  <a:pt x="0" y="346"/>
                  <a:pt x="0" y="42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170880" y="1170000"/>
            <a:ext cx="172800" cy="151200"/>
          </a:xfrm>
          <a:custGeom>
            <a:avLst/>
            <a:gdLst/>
            <a:ahLst/>
            <a:rect l="0" t="0" r="r" b="b"/>
            <a:pathLst>
              <a:path fill="none" w="480" h="420">
                <a:moveTo>
                  <a:pt x="480" y="420"/>
                </a:moveTo>
                <a:lnTo>
                  <a:pt x="480" y="420"/>
                </a:lnTo>
                <a:lnTo>
                  <a:pt x="480" y="420"/>
                </a:lnTo>
                <a:cubicBezTo>
                  <a:pt x="480" y="346"/>
                  <a:pt x="458" y="274"/>
                  <a:pt x="416" y="210"/>
                </a:cubicBezTo>
                <a:cubicBezTo>
                  <a:pt x="374" y="146"/>
                  <a:pt x="313" y="93"/>
                  <a:pt x="240" y="56"/>
                </a:cubicBezTo>
                <a:cubicBezTo>
                  <a:pt x="167" y="19"/>
                  <a:pt x="8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15000" y="703440"/>
            <a:ext cx="0" cy="641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121360" y="703440"/>
            <a:ext cx="0" cy="641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815000" y="622440"/>
            <a:ext cx="159840" cy="93240"/>
          </a:xfrm>
          <a:custGeom>
            <a:avLst/>
            <a:gdLst/>
            <a:ahLst/>
            <a:rect l="0" t="0" r="r" b="b"/>
            <a:pathLst>
              <a:path fill="none" w="444" h="259">
                <a:moveTo>
                  <a:pt x="444" y="0"/>
                </a:moveTo>
                <a:lnTo>
                  <a:pt x="444" y="0"/>
                </a:lnTo>
                <a:cubicBezTo>
                  <a:pt x="366" y="0"/>
                  <a:pt x="289" y="12"/>
                  <a:pt x="222" y="35"/>
                </a:cubicBezTo>
                <a:cubicBezTo>
                  <a:pt x="155" y="57"/>
                  <a:pt x="98" y="90"/>
                  <a:pt x="59" y="130"/>
                </a:cubicBezTo>
                <a:cubicBezTo>
                  <a:pt x="21" y="169"/>
                  <a:pt x="0" y="214"/>
                  <a:pt x="0" y="2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974480" y="622440"/>
            <a:ext cx="159840" cy="93240"/>
          </a:xfrm>
          <a:custGeom>
            <a:avLst/>
            <a:gdLst/>
            <a:ahLst/>
            <a:rect l="0" t="0" r="r" b="b"/>
            <a:pathLst>
              <a:path fill="none" w="444" h="259">
                <a:moveTo>
                  <a:pt x="444" y="259"/>
                </a:moveTo>
                <a:lnTo>
                  <a:pt x="444" y="259"/>
                </a:lnTo>
                <a:lnTo>
                  <a:pt x="444" y="259"/>
                </a:lnTo>
                <a:cubicBezTo>
                  <a:pt x="444" y="214"/>
                  <a:pt x="423" y="169"/>
                  <a:pt x="385" y="129"/>
                </a:cubicBezTo>
                <a:cubicBezTo>
                  <a:pt x="346" y="90"/>
                  <a:pt x="289" y="57"/>
                  <a:pt x="222" y="35"/>
                </a:cubicBezTo>
                <a:cubicBezTo>
                  <a:pt x="155" y="12"/>
                  <a:pt x="78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815000" y="1337400"/>
            <a:ext cx="159840" cy="88560"/>
          </a:xfrm>
          <a:custGeom>
            <a:avLst/>
            <a:gdLst/>
            <a:ahLst/>
            <a:rect l="0" t="0" r="r" b="b"/>
            <a:pathLst>
              <a:path fill="none" w="444" h="246">
                <a:moveTo>
                  <a:pt x="0" y="0"/>
                </a:moveTo>
                <a:lnTo>
                  <a:pt x="0" y="0"/>
                </a:lnTo>
                <a:cubicBezTo>
                  <a:pt x="0" y="43"/>
                  <a:pt x="21" y="86"/>
                  <a:pt x="59" y="123"/>
                </a:cubicBezTo>
                <a:cubicBezTo>
                  <a:pt x="98" y="160"/>
                  <a:pt x="155" y="191"/>
                  <a:pt x="222" y="213"/>
                </a:cubicBezTo>
                <a:cubicBezTo>
                  <a:pt x="289" y="235"/>
                  <a:pt x="366" y="246"/>
                  <a:pt x="444" y="2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974480" y="1337400"/>
            <a:ext cx="159840" cy="88560"/>
          </a:xfrm>
          <a:custGeom>
            <a:avLst/>
            <a:gdLst/>
            <a:ahLst/>
            <a:rect l="0" t="0" r="r" b="b"/>
            <a:pathLst>
              <a:path fill="none" w="444" h="246">
                <a:moveTo>
                  <a:pt x="0" y="246"/>
                </a:moveTo>
                <a:lnTo>
                  <a:pt x="0" y="246"/>
                </a:lnTo>
                <a:cubicBezTo>
                  <a:pt x="78" y="246"/>
                  <a:pt x="155" y="235"/>
                  <a:pt x="222" y="213"/>
                </a:cubicBezTo>
                <a:cubicBezTo>
                  <a:pt x="289" y="191"/>
                  <a:pt x="346" y="160"/>
                  <a:pt x="385" y="123"/>
                </a:cubicBezTo>
                <a:cubicBezTo>
                  <a:pt x="423" y="86"/>
                  <a:pt x="444" y="43"/>
                  <a:pt x="444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815000" y="681120"/>
            <a:ext cx="159840" cy="93960"/>
          </a:xfrm>
          <a:custGeom>
            <a:avLst/>
            <a:gdLst/>
            <a:ahLst/>
            <a:rect l="0" t="0" r="r" b="b"/>
            <a:pathLst>
              <a:path fill="none" w="444" h="261">
                <a:moveTo>
                  <a:pt x="0" y="0"/>
                </a:moveTo>
                <a:lnTo>
                  <a:pt x="0" y="0"/>
                </a:lnTo>
                <a:cubicBezTo>
                  <a:pt x="0" y="46"/>
                  <a:pt x="21" y="91"/>
                  <a:pt x="59" y="131"/>
                </a:cubicBezTo>
                <a:cubicBezTo>
                  <a:pt x="98" y="170"/>
                  <a:pt x="155" y="203"/>
                  <a:pt x="222" y="226"/>
                </a:cubicBezTo>
                <a:cubicBezTo>
                  <a:pt x="289" y="249"/>
                  <a:pt x="366" y="261"/>
                  <a:pt x="444" y="26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974480" y="681120"/>
            <a:ext cx="159840" cy="93960"/>
          </a:xfrm>
          <a:custGeom>
            <a:avLst/>
            <a:gdLst/>
            <a:ahLst/>
            <a:rect l="0" t="0" r="r" b="b"/>
            <a:pathLst>
              <a:path fill="none" w="444" h="261">
                <a:moveTo>
                  <a:pt x="0" y="261"/>
                </a:moveTo>
                <a:lnTo>
                  <a:pt x="0" y="261"/>
                </a:lnTo>
                <a:cubicBezTo>
                  <a:pt x="78" y="261"/>
                  <a:pt x="155" y="249"/>
                  <a:pt x="222" y="226"/>
                </a:cubicBezTo>
                <a:cubicBezTo>
                  <a:pt x="289" y="203"/>
                  <a:pt x="346" y="170"/>
                  <a:pt x="385" y="130"/>
                </a:cubicBezTo>
                <a:cubicBezTo>
                  <a:pt x="423" y="91"/>
                  <a:pt x="444" y="46"/>
                  <a:pt x="444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998800" y="1332000"/>
            <a:ext cx="31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998800" y="1530360"/>
            <a:ext cx="31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998800" y="1774800"/>
            <a:ext cx="31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170160" y="1006560"/>
            <a:ext cx="0" cy="163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3170160" y="971640"/>
            <a:ext cx="430560" cy="68760"/>
            <a:chOff x="3170160" y="971640"/>
            <a:chExt cx="430560" cy="68760"/>
          </a:xfrm>
        </p:grpSpPr>
        <p:sp>
          <p:nvSpPr>
            <p:cNvPr id="607" name=""/>
            <p:cNvSpPr/>
            <p:nvPr/>
          </p:nvSpPr>
          <p:spPr>
            <a:xfrm>
              <a:off x="3452760" y="971640"/>
              <a:ext cx="147960" cy="68760"/>
            </a:xfrm>
            <a:custGeom>
              <a:avLst/>
              <a:gdLst/>
              <a:ahLst/>
              <a:rect l="0" t="0" r="r" b="b"/>
              <a:pathLst>
                <a:path w="411" h="191">
                  <a:moveTo>
                    <a:pt x="411" y="98"/>
                  </a:moveTo>
                  <a:lnTo>
                    <a:pt x="0" y="191"/>
                  </a:lnTo>
                  <a:lnTo>
                    <a:pt x="0" y="98"/>
                  </a:lnTo>
                  <a:lnTo>
                    <a:pt x="0" y="0"/>
                  </a:lnTo>
                  <a:lnTo>
                    <a:pt x="411" y="9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170160" y="1006560"/>
              <a:ext cx="282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870360" y="70344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587760" y="901800"/>
            <a:ext cx="565200" cy="2095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6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82960" y="669960"/>
            <a:ext cx="417960" cy="68760"/>
            <a:chOff x="3882960" y="669960"/>
            <a:chExt cx="417960" cy="68760"/>
          </a:xfrm>
        </p:grpSpPr>
        <p:sp>
          <p:nvSpPr>
            <p:cNvPr id="612" name=""/>
            <p:cNvSpPr/>
            <p:nvPr/>
          </p:nvSpPr>
          <p:spPr>
            <a:xfrm>
              <a:off x="4152960" y="669960"/>
              <a:ext cx="147960" cy="68760"/>
            </a:xfrm>
            <a:custGeom>
              <a:avLst/>
              <a:gdLst/>
              <a:ahLst/>
              <a:rect l="0" t="0" r="r" b="b"/>
              <a:pathLst>
                <a:path w="411" h="191">
                  <a:moveTo>
                    <a:pt x="411" y="92"/>
                  </a:moveTo>
                  <a:lnTo>
                    <a:pt x="0" y="191"/>
                  </a:lnTo>
                  <a:lnTo>
                    <a:pt x="0" y="92"/>
                  </a:lnTo>
                  <a:lnTo>
                    <a:pt x="0" y="0"/>
                  </a:lnTo>
                  <a:lnTo>
                    <a:pt x="411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82960" y="703440"/>
              <a:ext cx="270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3343320" y="1298520"/>
            <a:ext cx="527040" cy="68760"/>
            <a:chOff x="3343320" y="1298520"/>
            <a:chExt cx="527040" cy="68760"/>
          </a:xfrm>
        </p:grpSpPr>
        <p:sp>
          <p:nvSpPr>
            <p:cNvPr id="615" name=""/>
            <p:cNvSpPr/>
            <p:nvPr/>
          </p:nvSpPr>
          <p:spPr>
            <a:xfrm>
              <a:off x="3343320" y="1298520"/>
              <a:ext cx="147960" cy="68760"/>
            </a:xfrm>
            <a:custGeom>
              <a:avLst/>
              <a:gdLst/>
              <a:ahLst/>
              <a:rect l="0" t="0" r="r" b="b"/>
              <a:pathLst>
                <a:path w="411" h="191">
                  <a:moveTo>
                    <a:pt x="0" y="92"/>
                  </a:moveTo>
                  <a:lnTo>
                    <a:pt x="411" y="0"/>
                  </a:lnTo>
                  <a:lnTo>
                    <a:pt x="411" y="92"/>
                  </a:lnTo>
                  <a:lnTo>
                    <a:pt x="411" y="191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90920" y="1332000"/>
              <a:ext cx="379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4287960" y="69228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06920" y="69228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287960" y="611280"/>
            <a:ext cx="159840" cy="93240"/>
          </a:xfrm>
          <a:custGeom>
            <a:avLst/>
            <a:gdLst/>
            <a:ahLst/>
            <a:rect l="0" t="0" r="r" b="b"/>
            <a:pathLst>
              <a:path fill="none" w="444" h="259">
                <a:moveTo>
                  <a:pt x="444" y="0"/>
                </a:moveTo>
                <a:lnTo>
                  <a:pt x="444" y="0"/>
                </a:lnTo>
                <a:cubicBezTo>
                  <a:pt x="366" y="0"/>
                  <a:pt x="289" y="12"/>
                  <a:pt x="222" y="35"/>
                </a:cubicBezTo>
                <a:cubicBezTo>
                  <a:pt x="155" y="57"/>
                  <a:pt x="98" y="90"/>
                  <a:pt x="59" y="130"/>
                </a:cubicBezTo>
                <a:cubicBezTo>
                  <a:pt x="21" y="169"/>
                  <a:pt x="0" y="214"/>
                  <a:pt x="0" y="2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447440" y="611280"/>
            <a:ext cx="159840" cy="93240"/>
          </a:xfrm>
          <a:custGeom>
            <a:avLst/>
            <a:gdLst/>
            <a:ahLst/>
            <a:rect l="0" t="0" r="r" b="b"/>
            <a:pathLst>
              <a:path fill="none" w="444" h="259">
                <a:moveTo>
                  <a:pt x="444" y="259"/>
                </a:moveTo>
                <a:lnTo>
                  <a:pt x="444" y="259"/>
                </a:lnTo>
                <a:lnTo>
                  <a:pt x="444" y="259"/>
                </a:lnTo>
                <a:cubicBezTo>
                  <a:pt x="444" y="214"/>
                  <a:pt x="423" y="169"/>
                  <a:pt x="385" y="129"/>
                </a:cubicBezTo>
                <a:cubicBezTo>
                  <a:pt x="346" y="90"/>
                  <a:pt x="289" y="57"/>
                  <a:pt x="222" y="35"/>
                </a:cubicBezTo>
                <a:cubicBezTo>
                  <a:pt x="155" y="12"/>
                  <a:pt x="78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87960" y="1326240"/>
            <a:ext cx="159840" cy="86760"/>
          </a:xfrm>
          <a:custGeom>
            <a:avLst/>
            <a:gdLst/>
            <a:ahLst/>
            <a:rect l="0" t="0" r="r" b="b"/>
            <a:pathLst>
              <a:path fill="none" w="444" h="241">
                <a:moveTo>
                  <a:pt x="0" y="0"/>
                </a:moveTo>
                <a:lnTo>
                  <a:pt x="0" y="0"/>
                </a:lnTo>
                <a:cubicBezTo>
                  <a:pt x="0" y="42"/>
                  <a:pt x="21" y="84"/>
                  <a:pt x="59" y="121"/>
                </a:cubicBezTo>
                <a:cubicBezTo>
                  <a:pt x="98" y="157"/>
                  <a:pt x="155" y="188"/>
                  <a:pt x="222" y="209"/>
                </a:cubicBezTo>
                <a:cubicBezTo>
                  <a:pt x="289" y="230"/>
                  <a:pt x="366" y="241"/>
                  <a:pt x="444" y="24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47440" y="1326240"/>
            <a:ext cx="159840" cy="86760"/>
          </a:xfrm>
          <a:custGeom>
            <a:avLst/>
            <a:gdLst/>
            <a:ahLst/>
            <a:rect l="0" t="0" r="r" b="b"/>
            <a:pathLst>
              <a:path fill="none" w="444" h="241">
                <a:moveTo>
                  <a:pt x="0" y="241"/>
                </a:moveTo>
                <a:lnTo>
                  <a:pt x="0" y="241"/>
                </a:lnTo>
                <a:cubicBezTo>
                  <a:pt x="78" y="241"/>
                  <a:pt x="155" y="230"/>
                  <a:pt x="222" y="209"/>
                </a:cubicBezTo>
                <a:cubicBezTo>
                  <a:pt x="289" y="188"/>
                  <a:pt x="346" y="157"/>
                  <a:pt x="385" y="120"/>
                </a:cubicBezTo>
                <a:cubicBezTo>
                  <a:pt x="423" y="84"/>
                  <a:pt x="444" y="42"/>
                  <a:pt x="444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287960" y="669240"/>
            <a:ext cx="159840" cy="93240"/>
          </a:xfrm>
          <a:custGeom>
            <a:avLst/>
            <a:gdLst/>
            <a:ahLst/>
            <a:rect l="0" t="0" r="r" b="b"/>
            <a:pathLst>
              <a:path fill="none" w="444" h="259">
                <a:moveTo>
                  <a:pt x="0" y="0"/>
                </a:moveTo>
                <a:lnTo>
                  <a:pt x="0" y="0"/>
                </a:lnTo>
                <a:cubicBezTo>
                  <a:pt x="0" y="45"/>
                  <a:pt x="21" y="90"/>
                  <a:pt x="59" y="130"/>
                </a:cubicBezTo>
                <a:cubicBezTo>
                  <a:pt x="98" y="169"/>
                  <a:pt x="155" y="202"/>
                  <a:pt x="222" y="224"/>
                </a:cubicBezTo>
                <a:cubicBezTo>
                  <a:pt x="289" y="247"/>
                  <a:pt x="366" y="259"/>
                  <a:pt x="444" y="2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47440" y="669240"/>
            <a:ext cx="159840" cy="93240"/>
          </a:xfrm>
          <a:custGeom>
            <a:avLst/>
            <a:gdLst/>
            <a:ahLst/>
            <a:rect l="0" t="0" r="r" b="b"/>
            <a:pathLst>
              <a:path fill="none" w="444" h="259">
                <a:moveTo>
                  <a:pt x="0" y="259"/>
                </a:moveTo>
                <a:lnTo>
                  <a:pt x="0" y="259"/>
                </a:lnTo>
                <a:cubicBezTo>
                  <a:pt x="78" y="259"/>
                  <a:pt x="155" y="247"/>
                  <a:pt x="222" y="224"/>
                </a:cubicBezTo>
                <a:cubicBezTo>
                  <a:pt x="289" y="202"/>
                  <a:pt x="346" y="169"/>
                  <a:pt x="385" y="129"/>
                </a:cubicBezTo>
                <a:cubicBezTo>
                  <a:pt x="423" y="90"/>
                  <a:pt x="444" y="45"/>
                  <a:pt x="444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4300560" y="1320840"/>
            <a:ext cx="11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282920" y="887400"/>
            <a:ext cx="247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797360" y="887400"/>
            <a:ext cx="247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82960" y="1298520"/>
            <a:ext cx="417960" cy="68760"/>
            <a:chOff x="3882960" y="1298520"/>
            <a:chExt cx="417960" cy="68760"/>
          </a:xfrm>
        </p:grpSpPr>
        <p:sp>
          <p:nvSpPr>
            <p:cNvPr id="629" name=""/>
            <p:cNvSpPr/>
            <p:nvPr/>
          </p:nvSpPr>
          <p:spPr>
            <a:xfrm>
              <a:off x="4152960" y="1298520"/>
              <a:ext cx="147960" cy="68760"/>
            </a:xfrm>
            <a:custGeom>
              <a:avLst/>
              <a:gdLst/>
              <a:ahLst/>
              <a:rect l="0" t="0" r="r" b="b"/>
              <a:pathLst>
                <a:path w="411" h="191">
                  <a:moveTo>
                    <a:pt x="411" y="92"/>
                  </a:moveTo>
                  <a:lnTo>
                    <a:pt x="0" y="191"/>
                  </a:lnTo>
                  <a:lnTo>
                    <a:pt x="0" y="92"/>
                  </a:lnTo>
                  <a:lnTo>
                    <a:pt x="0" y="0"/>
                  </a:lnTo>
                  <a:lnTo>
                    <a:pt x="411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82960" y="1332000"/>
              <a:ext cx="270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3564000" y="808200"/>
            <a:ext cx="4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611520" y="820800"/>
            <a:ext cx="0" cy="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662280" y="855720"/>
            <a:ext cx="34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697200" y="855720"/>
            <a:ext cx="0" cy="2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611520" y="83016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3649680" y="830160"/>
            <a:ext cx="12600" cy="25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697200" y="879480"/>
            <a:ext cx="61920" cy="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465360" y="749160"/>
            <a:ext cx="146520" cy="106560"/>
            <a:chOff x="3465360" y="749160"/>
            <a:chExt cx="146520" cy="106560"/>
          </a:xfrm>
        </p:grpSpPr>
        <p:sp>
          <p:nvSpPr>
            <p:cNvPr id="639" name=""/>
            <p:cNvSpPr/>
            <p:nvPr/>
          </p:nvSpPr>
          <p:spPr>
            <a:xfrm>
              <a:off x="3465360" y="749160"/>
              <a:ext cx="146520" cy="106560"/>
            </a:xfrm>
            <a:custGeom>
              <a:avLst/>
              <a:gdLst/>
              <a:ahLst/>
              <a:rect l="0" t="0" r="r" b="b"/>
              <a:pathLst>
                <a:path w="407" h="296">
                  <a:moveTo>
                    <a:pt x="0" y="0"/>
                  </a:moveTo>
                  <a:lnTo>
                    <a:pt x="407" y="163"/>
                  </a:lnTo>
                  <a:lnTo>
                    <a:pt x="340" y="226"/>
                  </a:lnTo>
                  <a:lnTo>
                    <a:pt x="309" y="2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564000" y="820800"/>
              <a:ext cx="20520" cy="9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flipH="1">
            <a:off x="2624040" y="2962440"/>
            <a:ext cx="1057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73440" y="2589120"/>
            <a:ext cx="147960" cy="180360"/>
          </a:xfrm>
          <a:custGeom>
            <a:avLst/>
            <a:gdLst/>
            <a:ahLst/>
            <a:rect l="0" t="0" r="r" b="b"/>
            <a:pathLst>
              <a:path fill="none" w="411" h="501">
                <a:moveTo>
                  <a:pt x="411" y="501"/>
                </a:moveTo>
                <a:lnTo>
                  <a:pt x="411" y="501"/>
                </a:lnTo>
                <a:lnTo>
                  <a:pt x="411" y="501"/>
                </a:lnTo>
                <a:cubicBezTo>
                  <a:pt x="411" y="413"/>
                  <a:pt x="392" y="327"/>
                  <a:pt x="356" y="250"/>
                </a:cubicBezTo>
                <a:cubicBezTo>
                  <a:pt x="320" y="174"/>
                  <a:pt x="268" y="111"/>
                  <a:pt x="205" y="67"/>
                </a:cubicBezTo>
                <a:cubicBezTo>
                  <a:pt x="143" y="23"/>
                  <a:pt x="72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673440" y="2769480"/>
            <a:ext cx="147960" cy="180360"/>
          </a:xfrm>
          <a:custGeom>
            <a:avLst/>
            <a:gdLst/>
            <a:ahLst/>
            <a:rect l="0" t="0" r="r" b="b"/>
            <a:pathLst>
              <a:path fill="none" w="411" h="501">
                <a:moveTo>
                  <a:pt x="0" y="501"/>
                </a:moveTo>
                <a:lnTo>
                  <a:pt x="0" y="501"/>
                </a:lnTo>
                <a:cubicBezTo>
                  <a:pt x="72" y="501"/>
                  <a:pt x="143" y="478"/>
                  <a:pt x="206" y="434"/>
                </a:cubicBezTo>
                <a:cubicBezTo>
                  <a:pt x="268" y="390"/>
                  <a:pt x="320" y="327"/>
                  <a:pt x="356" y="250"/>
                </a:cubicBezTo>
                <a:cubicBezTo>
                  <a:pt x="392" y="174"/>
                  <a:pt x="411" y="88"/>
                  <a:pt x="411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495520" y="2589120"/>
            <a:ext cx="147960" cy="180360"/>
          </a:xfrm>
          <a:custGeom>
            <a:avLst/>
            <a:gdLst/>
            <a:ahLst/>
            <a:rect l="0" t="0" r="r" b="b"/>
            <a:pathLst>
              <a:path fill="none" w="411" h="501">
                <a:moveTo>
                  <a:pt x="411" y="0"/>
                </a:moveTo>
                <a:lnTo>
                  <a:pt x="411" y="0"/>
                </a:lnTo>
                <a:cubicBezTo>
                  <a:pt x="339" y="0"/>
                  <a:pt x="268" y="23"/>
                  <a:pt x="205" y="67"/>
                </a:cubicBezTo>
                <a:cubicBezTo>
                  <a:pt x="143" y="111"/>
                  <a:pt x="91" y="174"/>
                  <a:pt x="55" y="251"/>
                </a:cubicBezTo>
                <a:cubicBezTo>
                  <a:pt x="19" y="327"/>
                  <a:pt x="0" y="413"/>
                  <a:pt x="0" y="50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495520" y="2769480"/>
            <a:ext cx="147960" cy="180360"/>
          </a:xfrm>
          <a:custGeom>
            <a:avLst/>
            <a:gdLst/>
            <a:ahLst/>
            <a:rect l="0" t="0" r="r" b="b"/>
            <a:pathLst>
              <a:path fill="none" w="411" h="501">
                <a:moveTo>
                  <a:pt x="0" y="0"/>
                </a:moveTo>
                <a:lnTo>
                  <a:pt x="0" y="0"/>
                </a:lnTo>
                <a:cubicBezTo>
                  <a:pt x="0" y="88"/>
                  <a:pt x="19" y="174"/>
                  <a:pt x="55" y="251"/>
                </a:cubicBezTo>
                <a:cubicBezTo>
                  <a:pt x="91" y="327"/>
                  <a:pt x="143" y="390"/>
                  <a:pt x="206" y="434"/>
                </a:cubicBezTo>
                <a:cubicBezTo>
                  <a:pt x="268" y="478"/>
                  <a:pt x="339" y="501"/>
                  <a:pt x="411" y="50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619360" y="2589120"/>
            <a:ext cx="1042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508120" y="2670120"/>
            <a:ext cx="1227600" cy="70200"/>
          </a:xfrm>
          <a:custGeom>
            <a:avLst/>
            <a:gdLst/>
            <a:ahLst/>
            <a:rect l="0" t="0" r="r" b="b"/>
            <a:pathLst>
              <a:path fill="none" w="3410" h="195">
                <a:moveTo>
                  <a:pt x="0" y="98"/>
                </a:moveTo>
                <a:lnTo>
                  <a:pt x="171" y="68"/>
                </a:lnTo>
                <a:lnTo>
                  <a:pt x="306" y="34"/>
                </a:lnTo>
                <a:lnTo>
                  <a:pt x="478" y="0"/>
                </a:lnTo>
                <a:lnTo>
                  <a:pt x="649" y="68"/>
                </a:lnTo>
                <a:lnTo>
                  <a:pt x="815" y="98"/>
                </a:lnTo>
                <a:lnTo>
                  <a:pt x="957" y="132"/>
                </a:lnTo>
                <a:lnTo>
                  <a:pt x="1092" y="98"/>
                </a:lnTo>
                <a:lnTo>
                  <a:pt x="1263" y="98"/>
                </a:lnTo>
                <a:lnTo>
                  <a:pt x="1429" y="68"/>
                </a:lnTo>
                <a:lnTo>
                  <a:pt x="1601" y="68"/>
                </a:lnTo>
                <a:lnTo>
                  <a:pt x="1809" y="98"/>
                </a:lnTo>
                <a:lnTo>
                  <a:pt x="1944" y="98"/>
                </a:lnTo>
                <a:lnTo>
                  <a:pt x="2011" y="160"/>
                </a:lnTo>
                <a:lnTo>
                  <a:pt x="2146" y="195"/>
                </a:lnTo>
                <a:lnTo>
                  <a:pt x="2281" y="160"/>
                </a:lnTo>
                <a:lnTo>
                  <a:pt x="2453" y="132"/>
                </a:lnTo>
                <a:lnTo>
                  <a:pt x="2595" y="98"/>
                </a:lnTo>
                <a:lnTo>
                  <a:pt x="2797" y="98"/>
                </a:lnTo>
                <a:lnTo>
                  <a:pt x="2932" y="68"/>
                </a:lnTo>
                <a:lnTo>
                  <a:pt x="3134" y="68"/>
                </a:lnTo>
                <a:lnTo>
                  <a:pt x="3343" y="98"/>
                </a:lnTo>
                <a:lnTo>
                  <a:pt x="3373" y="160"/>
                </a:lnTo>
                <a:lnTo>
                  <a:pt x="3410" y="19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208320" y="2903400"/>
            <a:ext cx="4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255840" y="2903400"/>
            <a:ext cx="0" cy="2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94000" y="2936880"/>
            <a:ext cx="49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343320" y="2936880"/>
            <a:ext cx="0" cy="2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244680" y="2927520"/>
            <a:ext cx="49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294000" y="2927520"/>
            <a:ext cx="0" cy="9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343320" y="2960640"/>
            <a:ext cx="60120" cy="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108240" y="2844720"/>
            <a:ext cx="147960" cy="105120"/>
            <a:chOff x="3108240" y="2844720"/>
            <a:chExt cx="147960" cy="105120"/>
          </a:xfrm>
        </p:grpSpPr>
        <p:sp>
          <p:nvSpPr>
            <p:cNvPr id="656" name=""/>
            <p:cNvSpPr/>
            <p:nvPr/>
          </p:nvSpPr>
          <p:spPr>
            <a:xfrm>
              <a:off x="3108240" y="2844720"/>
              <a:ext cx="147960" cy="105120"/>
            </a:xfrm>
            <a:custGeom>
              <a:avLst/>
              <a:gdLst/>
              <a:ahLst/>
              <a:rect l="0" t="0" r="r" b="b"/>
              <a:pathLst>
                <a:path w="411" h="292">
                  <a:moveTo>
                    <a:pt x="0" y="0"/>
                  </a:moveTo>
                  <a:lnTo>
                    <a:pt x="411" y="128"/>
                  </a:lnTo>
                  <a:lnTo>
                    <a:pt x="343" y="193"/>
                  </a:lnTo>
                  <a:lnTo>
                    <a:pt x="276" y="2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flipV="1">
              <a:off x="3208320" y="2903400"/>
              <a:ext cx="2232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998800" y="2378880"/>
            <a:ext cx="172800" cy="151920"/>
          </a:xfrm>
          <a:custGeom>
            <a:avLst/>
            <a:gdLst/>
            <a:ahLst/>
            <a:rect l="0" t="0" r="r" b="b"/>
            <a:pathLst>
              <a:path fill="none" w="480" h="422">
                <a:moveTo>
                  <a:pt x="0" y="0"/>
                </a:moveTo>
                <a:lnTo>
                  <a:pt x="0" y="0"/>
                </a:lnTo>
                <a:cubicBezTo>
                  <a:pt x="0" y="74"/>
                  <a:pt x="22" y="147"/>
                  <a:pt x="64" y="211"/>
                </a:cubicBezTo>
                <a:cubicBezTo>
                  <a:pt x="106" y="275"/>
                  <a:pt x="167" y="328"/>
                  <a:pt x="240" y="365"/>
                </a:cubicBezTo>
                <a:cubicBezTo>
                  <a:pt x="313" y="403"/>
                  <a:pt x="396" y="422"/>
                  <a:pt x="480" y="42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170880" y="2378880"/>
            <a:ext cx="172800" cy="151920"/>
          </a:xfrm>
          <a:custGeom>
            <a:avLst/>
            <a:gdLst/>
            <a:ahLst/>
            <a:rect l="0" t="0" r="r" b="b"/>
            <a:pathLst>
              <a:path fill="none" w="480" h="422">
                <a:moveTo>
                  <a:pt x="0" y="422"/>
                </a:moveTo>
                <a:lnTo>
                  <a:pt x="0" y="422"/>
                </a:lnTo>
                <a:cubicBezTo>
                  <a:pt x="84" y="422"/>
                  <a:pt x="167" y="403"/>
                  <a:pt x="240" y="365"/>
                </a:cubicBezTo>
                <a:cubicBezTo>
                  <a:pt x="313" y="328"/>
                  <a:pt x="374" y="275"/>
                  <a:pt x="416" y="211"/>
                </a:cubicBezTo>
                <a:cubicBezTo>
                  <a:pt x="458" y="147"/>
                  <a:pt x="480" y="74"/>
                  <a:pt x="48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011400" y="235584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159000" y="2519280"/>
            <a:ext cx="0" cy="5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3524400" y="2844720"/>
            <a:ext cx="432000" cy="105120"/>
            <a:chOff x="3524400" y="2844720"/>
            <a:chExt cx="432000" cy="105120"/>
          </a:xfrm>
        </p:grpSpPr>
        <p:sp>
          <p:nvSpPr>
            <p:cNvPr id="663" name=""/>
            <p:cNvSpPr/>
            <p:nvPr/>
          </p:nvSpPr>
          <p:spPr>
            <a:xfrm>
              <a:off x="3808440" y="2878200"/>
              <a:ext cx="147960" cy="71640"/>
            </a:xfrm>
            <a:custGeom>
              <a:avLst/>
              <a:gdLst/>
              <a:ahLst/>
              <a:rect l="0" t="0" r="r" b="b"/>
              <a:pathLst>
                <a:path w="411" h="199">
                  <a:moveTo>
                    <a:pt x="411" y="199"/>
                  </a:moveTo>
                  <a:lnTo>
                    <a:pt x="0" y="199"/>
                  </a:lnTo>
                  <a:lnTo>
                    <a:pt x="36" y="99"/>
                  </a:lnTo>
                  <a:lnTo>
                    <a:pt x="36" y="0"/>
                  </a:lnTo>
                  <a:lnTo>
                    <a:pt x="411" y="1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24400" y="2844720"/>
              <a:ext cx="296640" cy="6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3906720" y="1913040"/>
            <a:ext cx="0" cy="641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233960" y="1913040"/>
            <a:ext cx="0" cy="641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906720" y="1832040"/>
            <a:ext cx="319320" cy="93240"/>
            <a:chOff x="3906720" y="1832040"/>
            <a:chExt cx="319320" cy="93240"/>
          </a:xfrm>
        </p:grpSpPr>
        <p:sp>
          <p:nvSpPr>
            <p:cNvPr id="668" name=""/>
            <p:cNvSpPr/>
            <p:nvPr/>
          </p:nvSpPr>
          <p:spPr>
            <a:xfrm>
              <a:off x="3906720" y="1832040"/>
              <a:ext cx="159840" cy="93240"/>
            </a:xfrm>
            <a:custGeom>
              <a:avLst/>
              <a:gdLst/>
              <a:ahLst/>
              <a:rect l="0" t="0" r="r" b="b"/>
              <a:pathLst>
                <a:path fill="none" w="444" h="259">
                  <a:moveTo>
                    <a:pt x="444" y="0"/>
                  </a:moveTo>
                  <a:lnTo>
                    <a:pt x="444" y="0"/>
                  </a:lnTo>
                  <a:cubicBezTo>
                    <a:pt x="366" y="0"/>
                    <a:pt x="289" y="12"/>
                    <a:pt x="222" y="35"/>
                  </a:cubicBezTo>
                  <a:cubicBezTo>
                    <a:pt x="155" y="57"/>
                    <a:pt x="98" y="90"/>
                    <a:pt x="59" y="130"/>
                  </a:cubicBezTo>
                  <a:cubicBezTo>
                    <a:pt x="21" y="169"/>
                    <a:pt x="0" y="214"/>
                    <a:pt x="0" y="25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066200" y="1832040"/>
              <a:ext cx="159840" cy="93240"/>
            </a:xfrm>
            <a:custGeom>
              <a:avLst/>
              <a:gdLst/>
              <a:ahLst/>
              <a:rect l="0" t="0" r="r" b="b"/>
              <a:pathLst>
                <a:path fill="none" w="444" h="259">
                  <a:moveTo>
                    <a:pt x="444" y="259"/>
                  </a:moveTo>
                  <a:lnTo>
                    <a:pt x="444" y="259"/>
                  </a:lnTo>
                  <a:lnTo>
                    <a:pt x="444" y="259"/>
                  </a:lnTo>
                  <a:cubicBezTo>
                    <a:pt x="444" y="214"/>
                    <a:pt x="423" y="169"/>
                    <a:pt x="385" y="129"/>
                  </a:cubicBezTo>
                  <a:cubicBezTo>
                    <a:pt x="346" y="90"/>
                    <a:pt x="289" y="57"/>
                    <a:pt x="222" y="35"/>
                  </a:cubicBezTo>
                  <a:cubicBezTo>
                    <a:pt x="155" y="12"/>
                    <a:pt x="78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3906720" y="2548080"/>
            <a:ext cx="159840" cy="87840"/>
          </a:xfrm>
          <a:custGeom>
            <a:avLst/>
            <a:gdLst/>
            <a:ahLst/>
            <a:rect l="0" t="0" r="r" b="b"/>
            <a:pathLst>
              <a:path fill="none" w="444" h="244">
                <a:moveTo>
                  <a:pt x="0" y="0"/>
                </a:moveTo>
                <a:lnTo>
                  <a:pt x="0" y="0"/>
                </a:lnTo>
                <a:cubicBezTo>
                  <a:pt x="0" y="43"/>
                  <a:pt x="21" y="85"/>
                  <a:pt x="59" y="122"/>
                </a:cubicBezTo>
                <a:cubicBezTo>
                  <a:pt x="98" y="159"/>
                  <a:pt x="155" y="190"/>
                  <a:pt x="222" y="211"/>
                </a:cubicBezTo>
                <a:cubicBezTo>
                  <a:pt x="289" y="233"/>
                  <a:pt x="366" y="244"/>
                  <a:pt x="444" y="24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066200" y="2548080"/>
            <a:ext cx="159840" cy="87840"/>
          </a:xfrm>
          <a:custGeom>
            <a:avLst/>
            <a:gdLst/>
            <a:ahLst/>
            <a:rect l="0" t="0" r="r" b="b"/>
            <a:pathLst>
              <a:path fill="none" w="444" h="244">
                <a:moveTo>
                  <a:pt x="0" y="244"/>
                </a:moveTo>
                <a:lnTo>
                  <a:pt x="0" y="244"/>
                </a:lnTo>
                <a:cubicBezTo>
                  <a:pt x="78" y="244"/>
                  <a:pt x="155" y="233"/>
                  <a:pt x="222" y="211"/>
                </a:cubicBezTo>
                <a:cubicBezTo>
                  <a:pt x="289" y="190"/>
                  <a:pt x="346" y="159"/>
                  <a:pt x="385" y="122"/>
                </a:cubicBezTo>
                <a:cubicBezTo>
                  <a:pt x="423" y="85"/>
                  <a:pt x="444" y="43"/>
                  <a:pt x="444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3906720" y="1891440"/>
            <a:ext cx="319320" cy="93240"/>
            <a:chOff x="3906720" y="1891440"/>
            <a:chExt cx="319320" cy="93240"/>
          </a:xfrm>
        </p:grpSpPr>
        <p:sp>
          <p:nvSpPr>
            <p:cNvPr id="673" name=""/>
            <p:cNvSpPr/>
            <p:nvPr/>
          </p:nvSpPr>
          <p:spPr>
            <a:xfrm>
              <a:off x="3906720" y="1891440"/>
              <a:ext cx="159840" cy="93240"/>
            </a:xfrm>
            <a:custGeom>
              <a:avLst/>
              <a:gdLst/>
              <a:ahLst/>
              <a:rect l="0" t="0" r="r" b="b"/>
              <a:pathLst>
                <a:path fill="none" w="444" h="259">
                  <a:moveTo>
                    <a:pt x="0" y="0"/>
                  </a:moveTo>
                  <a:lnTo>
                    <a:pt x="0" y="0"/>
                  </a:lnTo>
                  <a:cubicBezTo>
                    <a:pt x="0" y="45"/>
                    <a:pt x="21" y="90"/>
                    <a:pt x="59" y="130"/>
                  </a:cubicBezTo>
                  <a:cubicBezTo>
                    <a:pt x="98" y="169"/>
                    <a:pt x="155" y="202"/>
                    <a:pt x="222" y="224"/>
                  </a:cubicBezTo>
                  <a:cubicBezTo>
                    <a:pt x="289" y="247"/>
                    <a:pt x="366" y="259"/>
                    <a:pt x="444" y="25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066200" y="1891440"/>
              <a:ext cx="159840" cy="93240"/>
            </a:xfrm>
            <a:custGeom>
              <a:avLst/>
              <a:gdLst/>
              <a:ahLst/>
              <a:rect l="0" t="0" r="r" b="b"/>
              <a:pathLst>
                <a:path fill="none" w="444" h="259">
                  <a:moveTo>
                    <a:pt x="0" y="259"/>
                  </a:moveTo>
                  <a:lnTo>
                    <a:pt x="0" y="259"/>
                  </a:lnTo>
                  <a:cubicBezTo>
                    <a:pt x="78" y="259"/>
                    <a:pt x="155" y="247"/>
                    <a:pt x="222" y="224"/>
                  </a:cubicBezTo>
                  <a:cubicBezTo>
                    <a:pt x="289" y="202"/>
                    <a:pt x="346" y="169"/>
                    <a:pt x="385" y="129"/>
                  </a:cubicBezTo>
                  <a:cubicBezTo>
                    <a:pt x="423" y="90"/>
                    <a:pt x="444" y="45"/>
                    <a:pt x="44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 txBox="1"/>
          <p:nvPr/>
        </p:nvSpPr>
        <p:spPr>
          <a:xfrm>
            <a:off x="3900600" y="2097000"/>
            <a:ext cx="247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636560" y="5904000"/>
            <a:ext cx="3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673280" y="5904000"/>
            <a:ext cx="0" cy="2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709640" y="5940360"/>
            <a:ext cx="3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1749600" y="5940360"/>
            <a:ext cx="10800" cy="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673280" y="5927760"/>
            <a:ext cx="36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709640" y="5927760"/>
            <a:ext cx="0" cy="1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746360" y="5962680"/>
            <a:ext cx="61920" cy="2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463760" y="4311720"/>
            <a:ext cx="0" cy="108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746360" y="4311720"/>
            <a:ext cx="0" cy="108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463760" y="4160880"/>
            <a:ext cx="148680" cy="151200"/>
          </a:xfrm>
          <a:custGeom>
            <a:avLst/>
            <a:gdLst/>
            <a:ahLst/>
            <a:rect l="0" t="0" r="r" b="b"/>
            <a:pathLst>
              <a:path fill="none" w="413" h="420">
                <a:moveTo>
                  <a:pt x="413" y="0"/>
                </a:moveTo>
                <a:lnTo>
                  <a:pt x="413" y="0"/>
                </a:lnTo>
                <a:cubicBezTo>
                  <a:pt x="341" y="0"/>
                  <a:pt x="269" y="19"/>
                  <a:pt x="206" y="56"/>
                </a:cubicBezTo>
                <a:cubicBezTo>
                  <a:pt x="144" y="93"/>
                  <a:pt x="92" y="146"/>
                  <a:pt x="55" y="210"/>
                </a:cubicBezTo>
                <a:cubicBezTo>
                  <a:pt x="19" y="274"/>
                  <a:pt x="0" y="346"/>
                  <a:pt x="0" y="42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612080" y="4160880"/>
            <a:ext cx="148680" cy="151200"/>
          </a:xfrm>
          <a:custGeom>
            <a:avLst/>
            <a:gdLst/>
            <a:ahLst/>
            <a:rect l="0" t="0" r="r" b="b"/>
            <a:pathLst>
              <a:path fill="none" w="413" h="420">
                <a:moveTo>
                  <a:pt x="413" y="420"/>
                </a:moveTo>
                <a:lnTo>
                  <a:pt x="413" y="420"/>
                </a:lnTo>
                <a:lnTo>
                  <a:pt x="413" y="420"/>
                </a:lnTo>
                <a:cubicBezTo>
                  <a:pt x="413" y="346"/>
                  <a:pt x="394" y="274"/>
                  <a:pt x="358" y="210"/>
                </a:cubicBezTo>
                <a:cubicBezTo>
                  <a:pt x="321" y="146"/>
                  <a:pt x="269" y="93"/>
                  <a:pt x="206" y="56"/>
                </a:cubicBezTo>
                <a:cubicBezTo>
                  <a:pt x="144" y="19"/>
                  <a:pt x="72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463760" y="431172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63760" y="452124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63760" y="472932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1120680" y="5945040"/>
            <a:ext cx="908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034360" y="5591160"/>
            <a:ext cx="129600" cy="362520"/>
            <a:chOff x="2034360" y="5591160"/>
            <a:chExt cx="129600" cy="362520"/>
          </a:xfrm>
        </p:grpSpPr>
        <p:sp>
          <p:nvSpPr>
            <p:cNvPr id="692" name=""/>
            <p:cNvSpPr/>
            <p:nvPr/>
          </p:nvSpPr>
          <p:spPr>
            <a:xfrm>
              <a:off x="2034360" y="5591160"/>
              <a:ext cx="129600" cy="181440"/>
            </a:xfrm>
            <a:custGeom>
              <a:avLst/>
              <a:gdLst/>
              <a:ahLst/>
              <a:rect l="0" t="0" r="r" b="b"/>
              <a:pathLst>
                <a:path fill="none" w="360" h="504">
                  <a:moveTo>
                    <a:pt x="360" y="504"/>
                  </a:moveTo>
                  <a:lnTo>
                    <a:pt x="360" y="504"/>
                  </a:lnTo>
                  <a:lnTo>
                    <a:pt x="360" y="504"/>
                  </a:lnTo>
                  <a:cubicBezTo>
                    <a:pt x="360" y="416"/>
                    <a:pt x="343" y="329"/>
                    <a:pt x="312" y="252"/>
                  </a:cubicBezTo>
                  <a:cubicBezTo>
                    <a:pt x="280" y="175"/>
                    <a:pt x="235" y="112"/>
                    <a:pt x="180" y="68"/>
                  </a:cubicBezTo>
                  <a:cubicBezTo>
                    <a:pt x="125" y="23"/>
                    <a:pt x="63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034360" y="5772240"/>
              <a:ext cx="129600" cy="181440"/>
            </a:xfrm>
            <a:custGeom>
              <a:avLst/>
              <a:gdLst/>
              <a:ahLst/>
              <a:rect l="0" t="0" r="r" b="b"/>
              <a:pathLst>
                <a:path fill="none" w="360" h="504">
                  <a:moveTo>
                    <a:pt x="0" y="504"/>
                  </a:moveTo>
                  <a:lnTo>
                    <a:pt x="0" y="504"/>
                  </a:lnTo>
                  <a:cubicBezTo>
                    <a:pt x="63" y="504"/>
                    <a:pt x="125" y="481"/>
                    <a:pt x="180" y="436"/>
                  </a:cubicBezTo>
                  <a:cubicBezTo>
                    <a:pt x="235" y="392"/>
                    <a:pt x="280" y="329"/>
                    <a:pt x="312" y="252"/>
                  </a:cubicBezTo>
                  <a:cubicBezTo>
                    <a:pt x="343" y="175"/>
                    <a:pt x="360" y="88"/>
                    <a:pt x="36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036800" y="5591160"/>
            <a:ext cx="128160" cy="362520"/>
            <a:chOff x="1036800" y="5591160"/>
            <a:chExt cx="128160" cy="362520"/>
          </a:xfrm>
        </p:grpSpPr>
        <p:sp>
          <p:nvSpPr>
            <p:cNvPr id="695" name=""/>
            <p:cNvSpPr/>
            <p:nvPr/>
          </p:nvSpPr>
          <p:spPr>
            <a:xfrm>
              <a:off x="1036800" y="5591160"/>
              <a:ext cx="128160" cy="181440"/>
            </a:xfrm>
            <a:custGeom>
              <a:avLst/>
              <a:gdLst/>
              <a:ahLst/>
              <a:rect l="0" t="0" r="r" b="b"/>
              <a:pathLst>
                <a:path fill="none" w="356" h="504">
                  <a:moveTo>
                    <a:pt x="356" y="0"/>
                  </a:moveTo>
                  <a:lnTo>
                    <a:pt x="356" y="0"/>
                  </a:lnTo>
                  <a:cubicBezTo>
                    <a:pt x="294" y="0"/>
                    <a:pt x="232" y="23"/>
                    <a:pt x="178" y="68"/>
                  </a:cubicBezTo>
                  <a:cubicBezTo>
                    <a:pt x="124" y="112"/>
                    <a:pt x="79" y="175"/>
                    <a:pt x="48" y="252"/>
                  </a:cubicBezTo>
                  <a:cubicBezTo>
                    <a:pt x="16" y="329"/>
                    <a:pt x="0" y="416"/>
                    <a:pt x="0" y="504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36800" y="5772240"/>
              <a:ext cx="128160" cy="181440"/>
            </a:xfrm>
            <a:custGeom>
              <a:avLst/>
              <a:gdLst/>
              <a:ahLst/>
              <a:rect l="0" t="0" r="r" b="b"/>
              <a:pathLst>
                <a:path fill="none" w="356" h="504">
                  <a:moveTo>
                    <a:pt x="0" y="0"/>
                  </a:moveTo>
                  <a:lnTo>
                    <a:pt x="0" y="0"/>
                  </a:lnTo>
                  <a:cubicBezTo>
                    <a:pt x="0" y="88"/>
                    <a:pt x="16" y="175"/>
                    <a:pt x="48" y="252"/>
                  </a:cubicBezTo>
                  <a:cubicBezTo>
                    <a:pt x="79" y="329"/>
                    <a:pt x="124" y="392"/>
                    <a:pt x="178" y="436"/>
                  </a:cubicBezTo>
                  <a:cubicBezTo>
                    <a:pt x="232" y="481"/>
                    <a:pt x="294" y="504"/>
                    <a:pt x="356" y="504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1146240" y="5591160"/>
            <a:ext cx="882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47600" y="5672160"/>
            <a:ext cx="1043280" cy="71640"/>
          </a:xfrm>
          <a:custGeom>
            <a:avLst/>
            <a:gdLst/>
            <a:ahLst/>
            <a:rect l="0" t="0" r="r" b="b"/>
            <a:pathLst>
              <a:path fill="none" w="2898" h="199">
                <a:moveTo>
                  <a:pt x="0" y="99"/>
                </a:moveTo>
                <a:lnTo>
                  <a:pt x="104" y="64"/>
                </a:lnTo>
                <a:lnTo>
                  <a:pt x="238" y="35"/>
                </a:lnTo>
                <a:lnTo>
                  <a:pt x="373" y="0"/>
                </a:lnTo>
                <a:lnTo>
                  <a:pt x="545" y="64"/>
                </a:lnTo>
                <a:lnTo>
                  <a:pt x="679" y="99"/>
                </a:lnTo>
                <a:lnTo>
                  <a:pt x="784" y="129"/>
                </a:lnTo>
                <a:lnTo>
                  <a:pt x="918" y="99"/>
                </a:lnTo>
                <a:lnTo>
                  <a:pt x="1053" y="99"/>
                </a:lnTo>
                <a:lnTo>
                  <a:pt x="1194" y="64"/>
                </a:lnTo>
                <a:lnTo>
                  <a:pt x="1329" y="64"/>
                </a:lnTo>
                <a:lnTo>
                  <a:pt x="1532" y="99"/>
                </a:lnTo>
                <a:lnTo>
                  <a:pt x="1636" y="99"/>
                </a:lnTo>
                <a:lnTo>
                  <a:pt x="1703" y="164"/>
                </a:lnTo>
                <a:lnTo>
                  <a:pt x="1807" y="199"/>
                </a:lnTo>
                <a:lnTo>
                  <a:pt x="1942" y="164"/>
                </a:lnTo>
                <a:lnTo>
                  <a:pt x="2077" y="129"/>
                </a:lnTo>
                <a:lnTo>
                  <a:pt x="2218" y="99"/>
                </a:lnTo>
                <a:lnTo>
                  <a:pt x="2383" y="99"/>
                </a:lnTo>
                <a:lnTo>
                  <a:pt x="2487" y="64"/>
                </a:lnTo>
                <a:lnTo>
                  <a:pt x="2659" y="64"/>
                </a:lnTo>
                <a:lnTo>
                  <a:pt x="2830" y="99"/>
                </a:lnTo>
                <a:lnTo>
                  <a:pt x="2861" y="164"/>
                </a:lnTo>
                <a:lnTo>
                  <a:pt x="2898" y="19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550880" y="5848200"/>
            <a:ext cx="133560" cy="105120"/>
            <a:chOff x="1550880" y="5848200"/>
            <a:chExt cx="133560" cy="105120"/>
          </a:xfrm>
        </p:grpSpPr>
        <p:sp>
          <p:nvSpPr>
            <p:cNvPr id="700" name=""/>
            <p:cNvSpPr/>
            <p:nvPr/>
          </p:nvSpPr>
          <p:spPr>
            <a:xfrm>
              <a:off x="1550880" y="5848200"/>
              <a:ext cx="133560" cy="105120"/>
            </a:xfrm>
            <a:custGeom>
              <a:avLst/>
              <a:gdLst/>
              <a:ahLst/>
              <a:rect l="0" t="0" r="r" b="b"/>
              <a:pathLst>
                <a:path w="371" h="292">
                  <a:moveTo>
                    <a:pt x="0" y="0"/>
                  </a:moveTo>
                  <a:lnTo>
                    <a:pt x="371" y="158"/>
                  </a:lnTo>
                  <a:lnTo>
                    <a:pt x="341" y="222"/>
                  </a:lnTo>
                  <a:lnTo>
                    <a:pt x="274" y="2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1636560" y="5907240"/>
              <a:ext cx="3348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1452600" y="5369760"/>
            <a:ext cx="147240" cy="151920"/>
          </a:xfrm>
          <a:custGeom>
            <a:avLst/>
            <a:gdLst/>
            <a:ahLst/>
            <a:rect l="0" t="0" r="r" b="b"/>
            <a:pathLst>
              <a:path fill="none" w="409" h="422">
                <a:moveTo>
                  <a:pt x="0" y="0"/>
                </a:moveTo>
                <a:lnTo>
                  <a:pt x="0" y="0"/>
                </a:lnTo>
                <a:cubicBezTo>
                  <a:pt x="0" y="74"/>
                  <a:pt x="19" y="147"/>
                  <a:pt x="55" y="211"/>
                </a:cubicBezTo>
                <a:cubicBezTo>
                  <a:pt x="91" y="275"/>
                  <a:pt x="142" y="328"/>
                  <a:pt x="205" y="365"/>
                </a:cubicBezTo>
                <a:cubicBezTo>
                  <a:pt x="267" y="403"/>
                  <a:pt x="337" y="422"/>
                  <a:pt x="409" y="42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599480" y="5369760"/>
            <a:ext cx="147240" cy="151920"/>
          </a:xfrm>
          <a:custGeom>
            <a:avLst/>
            <a:gdLst/>
            <a:ahLst/>
            <a:rect l="0" t="0" r="r" b="b"/>
            <a:pathLst>
              <a:path fill="none" w="409" h="422">
                <a:moveTo>
                  <a:pt x="0" y="422"/>
                </a:moveTo>
                <a:lnTo>
                  <a:pt x="0" y="422"/>
                </a:lnTo>
                <a:cubicBezTo>
                  <a:pt x="72" y="422"/>
                  <a:pt x="142" y="403"/>
                  <a:pt x="205" y="365"/>
                </a:cubicBezTo>
                <a:cubicBezTo>
                  <a:pt x="267" y="328"/>
                  <a:pt x="318" y="275"/>
                  <a:pt x="354" y="211"/>
                </a:cubicBezTo>
                <a:cubicBezTo>
                  <a:pt x="390" y="147"/>
                  <a:pt x="409" y="74"/>
                  <a:pt x="4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463760" y="535788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612800" y="5508720"/>
            <a:ext cx="0" cy="82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477800" y="4938840"/>
            <a:ext cx="268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574640" y="3973680"/>
            <a:ext cx="62280" cy="196560"/>
            <a:chOff x="1574640" y="3973680"/>
            <a:chExt cx="62280" cy="196560"/>
          </a:xfrm>
        </p:grpSpPr>
        <p:sp>
          <p:nvSpPr>
            <p:cNvPr id="708" name=""/>
            <p:cNvSpPr/>
            <p:nvPr/>
          </p:nvSpPr>
          <p:spPr>
            <a:xfrm>
              <a:off x="1574640" y="3973680"/>
              <a:ext cx="62280" cy="128880"/>
            </a:xfrm>
            <a:custGeom>
              <a:avLst/>
              <a:gdLst/>
              <a:ahLst/>
              <a:rect l="0" t="0" r="r" b="b"/>
              <a:pathLst>
                <a:path w="173" h="358">
                  <a:moveTo>
                    <a:pt x="105" y="0"/>
                  </a:moveTo>
                  <a:lnTo>
                    <a:pt x="173" y="358"/>
                  </a:lnTo>
                  <a:lnTo>
                    <a:pt x="105" y="358"/>
                  </a:lnTo>
                  <a:lnTo>
                    <a:pt x="0" y="358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612800" y="4102200"/>
              <a:ext cx="0" cy="68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2028960" y="3973680"/>
            <a:ext cx="0" cy="245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709640" y="4183200"/>
            <a:ext cx="319320" cy="70200"/>
            <a:chOff x="1709640" y="4183200"/>
            <a:chExt cx="319320" cy="70200"/>
          </a:xfrm>
        </p:grpSpPr>
        <p:sp>
          <p:nvSpPr>
            <p:cNvPr id="712" name=""/>
            <p:cNvSpPr/>
            <p:nvPr/>
          </p:nvSpPr>
          <p:spPr>
            <a:xfrm>
              <a:off x="1709640" y="4183200"/>
              <a:ext cx="136800" cy="70200"/>
            </a:xfrm>
            <a:custGeom>
              <a:avLst/>
              <a:gdLst/>
              <a:ahLst/>
              <a:rect l="0" t="0" r="r" b="b"/>
              <a:pathLst>
                <a:path w="380" h="195">
                  <a:moveTo>
                    <a:pt x="0" y="100"/>
                  </a:moveTo>
                  <a:lnTo>
                    <a:pt x="380" y="0"/>
                  </a:lnTo>
                  <a:lnTo>
                    <a:pt x="380" y="100"/>
                  </a:lnTo>
                  <a:lnTo>
                    <a:pt x="380" y="195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846440" y="4219560"/>
              <a:ext cx="182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"/>
          <p:cNvSpPr/>
          <p:nvPr/>
        </p:nvSpPr>
        <p:spPr>
          <a:xfrm flipH="1">
            <a:off x="1550880" y="3973680"/>
            <a:ext cx="908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2465280" y="3624120"/>
            <a:ext cx="128880" cy="360720"/>
            <a:chOff x="2465280" y="3624120"/>
            <a:chExt cx="128880" cy="360720"/>
          </a:xfrm>
        </p:grpSpPr>
        <p:sp>
          <p:nvSpPr>
            <p:cNvPr id="716" name=""/>
            <p:cNvSpPr/>
            <p:nvPr/>
          </p:nvSpPr>
          <p:spPr>
            <a:xfrm>
              <a:off x="2465280" y="3624120"/>
              <a:ext cx="128880" cy="180360"/>
            </a:xfrm>
            <a:custGeom>
              <a:avLst/>
              <a:gdLst/>
              <a:ahLst/>
              <a:rect l="0" t="0" r="r" b="b"/>
              <a:pathLst>
                <a:path fill="none" w="358" h="501">
                  <a:moveTo>
                    <a:pt x="358" y="501"/>
                  </a:moveTo>
                  <a:lnTo>
                    <a:pt x="358" y="501"/>
                  </a:lnTo>
                  <a:lnTo>
                    <a:pt x="358" y="501"/>
                  </a:lnTo>
                  <a:cubicBezTo>
                    <a:pt x="358" y="413"/>
                    <a:pt x="341" y="327"/>
                    <a:pt x="310" y="250"/>
                  </a:cubicBezTo>
                  <a:cubicBezTo>
                    <a:pt x="279" y="174"/>
                    <a:pt x="233" y="111"/>
                    <a:pt x="179" y="67"/>
                  </a:cubicBezTo>
                  <a:cubicBezTo>
                    <a:pt x="125" y="23"/>
                    <a:pt x="63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65280" y="3804480"/>
              <a:ext cx="128880" cy="180360"/>
            </a:xfrm>
            <a:custGeom>
              <a:avLst/>
              <a:gdLst/>
              <a:ahLst/>
              <a:rect l="0" t="0" r="r" b="b"/>
              <a:pathLst>
                <a:path fill="none" w="358" h="501">
                  <a:moveTo>
                    <a:pt x="0" y="501"/>
                  </a:moveTo>
                  <a:lnTo>
                    <a:pt x="0" y="501"/>
                  </a:lnTo>
                  <a:cubicBezTo>
                    <a:pt x="63" y="501"/>
                    <a:pt x="125" y="478"/>
                    <a:pt x="179" y="434"/>
                  </a:cubicBezTo>
                  <a:cubicBezTo>
                    <a:pt x="233" y="390"/>
                    <a:pt x="279" y="327"/>
                    <a:pt x="310" y="250"/>
                  </a:cubicBezTo>
                  <a:cubicBezTo>
                    <a:pt x="341" y="174"/>
                    <a:pt x="358" y="88"/>
                    <a:pt x="358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452600" y="3624120"/>
            <a:ext cx="128880" cy="360720"/>
            <a:chOff x="1452600" y="3624120"/>
            <a:chExt cx="128880" cy="360720"/>
          </a:xfrm>
        </p:grpSpPr>
        <p:sp>
          <p:nvSpPr>
            <p:cNvPr id="719" name=""/>
            <p:cNvSpPr/>
            <p:nvPr/>
          </p:nvSpPr>
          <p:spPr>
            <a:xfrm>
              <a:off x="1452600" y="3624120"/>
              <a:ext cx="128880" cy="180360"/>
            </a:xfrm>
            <a:custGeom>
              <a:avLst/>
              <a:gdLst/>
              <a:ahLst/>
              <a:rect l="0" t="0" r="r" b="b"/>
              <a:pathLst>
                <a:path fill="none" w="358" h="501">
                  <a:moveTo>
                    <a:pt x="358" y="0"/>
                  </a:moveTo>
                  <a:lnTo>
                    <a:pt x="358" y="0"/>
                  </a:lnTo>
                  <a:cubicBezTo>
                    <a:pt x="295" y="0"/>
                    <a:pt x="233" y="23"/>
                    <a:pt x="179" y="67"/>
                  </a:cubicBezTo>
                  <a:cubicBezTo>
                    <a:pt x="125" y="111"/>
                    <a:pt x="79" y="174"/>
                    <a:pt x="48" y="251"/>
                  </a:cubicBezTo>
                  <a:cubicBezTo>
                    <a:pt x="17" y="327"/>
                    <a:pt x="0" y="413"/>
                    <a:pt x="0" y="501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452600" y="3804480"/>
              <a:ext cx="128880" cy="180360"/>
            </a:xfrm>
            <a:custGeom>
              <a:avLst/>
              <a:gdLst/>
              <a:ahLst/>
              <a:rect l="0" t="0" r="r" b="b"/>
              <a:pathLst>
                <a:path fill="none" w="358" h="501">
                  <a:moveTo>
                    <a:pt x="0" y="0"/>
                  </a:moveTo>
                  <a:lnTo>
                    <a:pt x="0" y="0"/>
                  </a:lnTo>
                  <a:cubicBezTo>
                    <a:pt x="0" y="88"/>
                    <a:pt x="17" y="174"/>
                    <a:pt x="48" y="251"/>
                  </a:cubicBezTo>
                  <a:cubicBezTo>
                    <a:pt x="79" y="327"/>
                    <a:pt x="125" y="390"/>
                    <a:pt x="179" y="434"/>
                  </a:cubicBezTo>
                  <a:cubicBezTo>
                    <a:pt x="233" y="478"/>
                    <a:pt x="295" y="501"/>
                    <a:pt x="358" y="501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1574640" y="3624120"/>
            <a:ext cx="884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463760" y="3718080"/>
            <a:ext cx="1055880" cy="57600"/>
          </a:xfrm>
          <a:custGeom>
            <a:avLst/>
            <a:gdLst/>
            <a:ahLst/>
            <a:rect l="0" t="0" r="r" b="b"/>
            <a:pathLst>
              <a:path fill="none" w="2933" h="160">
                <a:moveTo>
                  <a:pt x="0" y="65"/>
                </a:moveTo>
                <a:lnTo>
                  <a:pt x="134" y="29"/>
                </a:lnTo>
                <a:lnTo>
                  <a:pt x="276" y="29"/>
                </a:lnTo>
                <a:lnTo>
                  <a:pt x="411" y="0"/>
                </a:lnTo>
                <a:lnTo>
                  <a:pt x="546" y="29"/>
                </a:lnTo>
                <a:lnTo>
                  <a:pt x="717" y="65"/>
                </a:lnTo>
                <a:lnTo>
                  <a:pt x="822" y="131"/>
                </a:lnTo>
                <a:lnTo>
                  <a:pt x="920" y="65"/>
                </a:lnTo>
                <a:lnTo>
                  <a:pt x="1092" y="65"/>
                </a:lnTo>
                <a:lnTo>
                  <a:pt x="1226" y="65"/>
                </a:lnTo>
                <a:lnTo>
                  <a:pt x="1368" y="29"/>
                </a:lnTo>
                <a:lnTo>
                  <a:pt x="1534" y="65"/>
                </a:lnTo>
                <a:lnTo>
                  <a:pt x="1675" y="65"/>
                </a:lnTo>
                <a:lnTo>
                  <a:pt x="1706" y="160"/>
                </a:lnTo>
                <a:lnTo>
                  <a:pt x="1841" y="160"/>
                </a:lnTo>
                <a:lnTo>
                  <a:pt x="1945" y="160"/>
                </a:lnTo>
                <a:lnTo>
                  <a:pt x="2117" y="131"/>
                </a:lnTo>
                <a:lnTo>
                  <a:pt x="2221" y="65"/>
                </a:lnTo>
                <a:lnTo>
                  <a:pt x="2387" y="65"/>
                </a:lnTo>
                <a:lnTo>
                  <a:pt x="2491" y="65"/>
                </a:lnTo>
                <a:lnTo>
                  <a:pt x="2663" y="65"/>
                </a:lnTo>
                <a:lnTo>
                  <a:pt x="2865" y="65"/>
                </a:lnTo>
                <a:lnTo>
                  <a:pt x="2865" y="160"/>
                </a:lnTo>
                <a:lnTo>
                  <a:pt x="2933" y="160"/>
                </a:lnTo>
                <a:lnTo>
                  <a:pt x="2902" y="16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20040" y="1157400"/>
            <a:ext cx="0" cy="108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951600" y="1157400"/>
            <a:ext cx="0" cy="108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620040" y="1006560"/>
            <a:ext cx="172800" cy="151200"/>
          </a:xfrm>
          <a:custGeom>
            <a:avLst/>
            <a:gdLst/>
            <a:ahLst/>
            <a:rect l="0" t="0" r="r" b="b"/>
            <a:pathLst>
              <a:path fill="none" w="480" h="420">
                <a:moveTo>
                  <a:pt x="480" y="0"/>
                </a:moveTo>
                <a:lnTo>
                  <a:pt x="480" y="0"/>
                </a:lnTo>
                <a:cubicBezTo>
                  <a:pt x="396" y="0"/>
                  <a:pt x="313" y="19"/>
                  <a:pt x="240" y="56"/>
                </a:cubicBezTo>
                <a:cubicBezTo>
                  <a:pt x="167" y="93"/>
                  <a:pt x="106" y="146"/>
                  <a:pt x="64" y="210"/>
                </a:cubicBezTo>
                <a:cubicBezTo>
                  <a:pt x="22" y="274"/>
                  <a:pt x="0" y="346"/>
                  <a:pt x="0" y="42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792120" y="1006560"/>
            <a:ext cx="172800" cy="151200"/>
          </a:xfrm>
          <a:custGeom>
            <a:avLst/>
            <a:gdLst/>
            <a:ahLst/>
            <a:rect l="0" t="0" r="r" b="b"/>
            <a:pathLst>
              <a:path fill="none" w="480" h="420">
                <a:moveTo>
                  <a:pt x="480" y="420"/>
                </a:moveTo>
                <a:lnTo>
                  <a:pt x="480" y="420"/>
                </a:lnTo>
                <a:lnTo>
                  <a:pt x="480" y="420"/>
                </a:lnTo>
                <a:cubicBezTo>
                  <a:pt x="480" y="346"/>
                  <a:pt x="458" y="274"/>
                  <a:pt x="416" y="210"/>
                </a:cubicBezTo>
                <a:cubicBezTo>
                  <a:pt x="374" y="146"/>
                  <a:pt x="313" y="93"/>
                  <a:pt x="240" y="56"/>
                </a:cubicBezTo>
                <a:cubicBezTo>
                  <a:pt x="167" y="19"/>
                  <a:pt x="8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8435880" y="552600"/>
            <a:ext cx="0" cy="641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742240" y="552600"/>
            <a:ext cx="0" cy="641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8435880" y="471600"/>
            <a:ext cx="159120" cy="93240"/>
          </a:xfrm>
          <a:custGeom>
            <a:avLst/>
            <a:gdLst/>
            <a:ahLst/>
            <a:rect l="0" t="0" r="r" b="b"/>
            <a:pathLst>
              <a:path fill="none" w="442" h="259">
                <a:moveTo>
                  <a:pt x="442" y="0"/>
                </a:moveTo>
                <a:lnTo>
                  <a:pt x="442" y="0"/>
                </a:lnTo>
                <a:cubicBezTo>
                  <a:pt x="364" y="0"/>
                  <a:pt x="288" y="12"/>
                  <a:pt x="221" y="35"/>
                </a:cubicBezTo>
                <a:cubicBezTo>
                  <a:pt x="154" y="57"/>
                  <a:pt x="98" y="90"/>
                  <a:pt x="59" y="130"/>
                </a:cubicBezTo>
                <a:cubicBezTo>
                  <a:pt x="20" y="169"/>
                  <a:pt x="0" y="214"/>
                  <a:pt x="0" y="2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8594640" y="471600"/>
            <a:ext cx="159120" cy="93240"/>
          </a:xfrm>
          <a:custGeom>
            <a:avLst/>
            <a:gdLst/>
            <a:ahLst/>
            <a:rect l="0" t="0" r="r" b="b"/>
            <a:pathLst>
              <a:path fill="none" w="442" h="259">
                <a:moveTo>
                  <a:pt x="442" y="259"/>
                </a:moveTo>
                <a:lnTo>
                  <a:pt x="442" y="259"/>
                </a:lnTo>
                <a:lnTo>
                  <a:pt x="442" y="259"/>
                </a:lnTo>
                <a:cubicBezTo>
                  <a:pt x="442" y="214"/>
                  <a:pt x="422" y="169"/>
                  <a:pt x="383" y="129"/>
                </a:cubicBezTo>
                <a:cubicBezTo>
                  <a:pt x="344" y="90"/>
                  <a:pt x="288" y="57"/>
                  <a:pt x="221" y="35"/>
                </a:cubicBezTo>
                <a:cubicBezTo>
                  <a:pt x="154" y="12"/>
                  <a:pt x="78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8435880" y="1186560"/>
            <a:ext cx="159120" cy="88560"/>
          </a:xfrm>
          <a:custGeom>
            <a:avLst/>
            <a:gdLst/>
            <a:ahLst/>
            <a:rect l="0" t="0" r="r" b="b"/>
            <a:pathLst>
              <a:path fill="none" w="442" h="246">
                <a:moveTo>
                  <a:pt x="0" y="0"/>
                </a:moveTo>
                <a:lnTo>
                  <a:pt x="0" y="0"/>
                </a:lnTo>
                <a:cubicBezTo>
                  <a:pt x="0" y="43"/>
                  <a:pt x="20" y="86"/>
                  <a:pt x="59" y="123"/>
                </a:cubicBezTo>
                <a:cubicBezTo>
                  <a:pt x="98" y="160"/>
                  <a:pt x="154" y="191"/>
                  <a:pt x="221" y="213"/>
                </a:cubicBezTo>
                <a:cubicBezTo>
                  <a:pt x="288" y="235"/>
                  <a:pt x="364" y="246"/>
                  <a:pt x="442" y="2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594640" y="1186560"/>
            <a:ext cx="159120" cy="88560"/>
          </a:xfrm>
          <a:custGeom>
            <a:avLst/>
            <a:gdLst/>
            <a:ahLst/>
            <a:rect l="0" t="0" r="r" b="b"/>
            <a:pathLst>
              <a:path fill="none" w="442" h="246">
                <a:moveTo>
                  <a:pt x="0" y="246"/>
                </a:moveTo>
                <a:lnTo>
                  <a:pt x="0" y="246"/>
                </a:lnTo>
                <a:cubicBezTo>
                  <a:pt x="78" y="246"/>
                  <a:pt x="154" y="235"/>
                  <a:pt x="221" y="213"/>
                </a:cubicBezTo>
                <a:cubicBezTo>
                  <a:pt x="288" y="191"/>
                  <a:pt x="344" y="160"/>
                  <a:pt x="383" y="123"/>
                </a:cubicBezTo>
                <a:cubicBezTo>
                  <a:pt x="422" y="86"/>
                  <a:pt x="442" y="43"/>
                  <a:pt x="44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435880" y="528480"/>
            <a:ext cx="159120" cy="93960"/>
          </a:xfrm>
          <a:custGeom>
            <a:avLst/>
            <a:gdLst/>
            <a:ahLst/>
            <a:rect l="0" t="0" r="r" b="b"/>
            <a:pathLst>
              <a:path fill="none" w="442" h="261">
                <a:moveTo>
                  <a:pt x="0" y="0"/>
                </a:moveTo>
                <a:lnTo>
                  <a:pt x="0" y="0"/>
                </a:lnTo>
                <a:cubicBezTo>
                  <a:pt x="0" y="46"/>
                  <a:pt x="20" y="91"/>
                  <a:pt x="59" y="131"/>
                </a:cubicBezTo>
                <a:cubicBezTo>
                  <a:pt x="98" y="170"/>
                  <a:pt x="154" y="203"/>
                  <a:pt x="221" y="226"/>
                </a:cubicBezTo>
                <a:cubicBezTo>
                  <a:pt x="288" y="249"/>
                  <a:pt x="364" y="261"/>
                  <a:pt x="442" y="26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8594640" y="528480"/>
            <a:ext cx="159120" cy="93960"/>
          </a:xfrm>
          <a:custGeom>
            <a:avLst/>
            <a:gdLst/>
            <a:ahLst/>
            <a:rect l="0" t="0" r="r" b="b"/>
            <a:pathLst>
              <a:path fill="none" w="442" h="261">
                <a:moveTo>
                  <a:pt x="0" y="261"/>
                </a:moveTo>
                <a:lnTo>
                  <a:pt x="0" y="261"/>
                </a:lnTo>
                <a:cubicBezTo>
                  <a:pt x="78" y="261"/>
                  <a:pt x="154" y="249"/>
                  <a:pt x="221" y="226"/>
                </a:cubicBezTo>
                <a:cubicBezTo>
                  <a:pt x="288" y="203"/>
                  <a:pt x="344" y="170"/>
                  <a:pt x="383" y="130"/>
                </a:cubicBezTo>
                <a:cubicBezTo>
                  <a:pt x="422" y="91"/>
                  <a:pt x="442" y="46"/>
                  <a:pt x="44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620040" y="1181160"/>
            <a:ext cx="331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620040" y="1379520"/>
            <a:ext cx="331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630840" y="1622520"/>
            <a:ext cx="320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792840" y="843120"/>
            <a:ext cx="0" cy="163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6792840" y="808200"/>
            <a:ext cx="416160" cy="71640"/>
            <a:chOff x="6792840" y="808200"/>
            <a:chExt cx="416160" cy="71640"/>
          </a:xfrm>
        </p:grpSpPr>
        <p:sp>
          <p:nvSpPr>
            <p:cNvPr id="740" name=""/>
            <p:cNvSpPr/>
            <p:nvPr/>
          </p:nvSpPr>
          <p:spPr>
            <a:xfrm>
              <a:off x="7061040" y="808200"/>
              <a:ext cx="147960" cy="71640"/>
            </a:xfrm>
            <a:custGeom>
              <a:avLst/>
              <a:gdLst/>
              <a:ahLst/>
              <a:rect l="0" t="0" r="r" b="b"/>
              <a:pathLst>
                <a:path w="411" h="199">
                  <a:moveTo>
                    <a:pt x="411" y="99"/>
                  </a:moveTo>
                  <a:lnTo>
                    <a:pt x="0" y="1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411" y="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792840" y="843120"/>
              <a:ext cx="268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7491240" y="539640"/>
            <a:ext cx="0" cy="64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209000" y="749160"/>
            <a:ext cx="565200" cy="21096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6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7502400" y="517680"/>
            <a:ext cx="406800" cy="70200"/>
            <a:chOff x="7502400" y="517680"/>
            <a:chExt cx="406800" cy="70200"/>
          </a:xfrm>
        </p:grpSpPr>
        <p:sp>
          <p:nvSpPr>
            <p:cNvPr id="745" name=""/>
            <p:cNvSpPr/>
            <p:nvPr/>
          </p:nvSpPr>
          <p:spPr>
            <a:xfrm>
              <a:off x="7761240" y="517680"/>
              <a:ext cx="147960" cy="70200"/>
            </a:xfrm>
            <a:custGeom>
              <a:avLst/>
              <a:gdLst/>
              <a:ahLst/>
              <a:rect l="0" t="0" r="r" b="b"/>
              <a:pathLst>
                <a:path w="411" h="195">
                  <a:moveTo>
                    <a:pt x="411" y="98"/>
                  </a:moveTo>
                  <a:lnTo>
                    <a:pt x="0" y="195"/>
                  </a:lnTo>
                  <a:lnTo>
                    <a:pt x="0" y="98"/>
                  </a:lnTo>
                  <a:lnTo>
                    <a:pt x="0" y="0"/>
                  </a:lnTo>
                  <a:lnTo>
                    <a:pt x="411" y="9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502400" y="552600"/>
              <a:ext cx="258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6937200" y="1144440"/>
            <a:ext cx="554040" cy="71640"/>
            <a:chOff x="6937200" y="1144440"/>
            <a:chExt cx="554040" cy="71640"/>
          </a:xfrm>
        </p:grpSpPr>
        <p:sp>
          <p:nvSpPr>
            <p:cNvPr id="748" name=""/>
            <p:cNvSpPr/>
            <p:nvPr/>
          </p:nvSpPr>
          <p:spPr>
            <a:xfrm>
              <a:off x="6937200" y="1144440"/>
              <a:ext cx="147960" cy="71640"/>
            </a:xfrm>
            <a:custGeom>
              <a:avLst/>
              <a:gdLst/>
              <a:ahLst/>
              <a:rect l="0" t="0" r="r" b="b"/>
              <a:pathLst>
                <a:path w="411" h="199">
                  <a:moveTo>
                    <a:pt x="0" y="99"/>
                  </a:moveTo>
                  <a:lnTo>
                    <a:pt x="411" y="0"/>
                  </a:lnTo>
                  <a:lnTo>
                    <a:pt x="411" y="99"/>
                  </a:lnTo>
                  <a:lnTo>
                    <a:pt x="411" y="1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085160" y="1181160"/>
              <a:ext cx="406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7920000" y="539640"/>
            <a:ext cx="0" cy="64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8226360" y="539640"/>
            <a:ext cx="0" cy="64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920000" y="460440"/>
            <a:ext cx="160560" cy="92520"/>
          </a:xfrm>
          <a:custGeom>
            <a:avLst/>
            <a:gdLst/>
            <a:ahLst/>
            <a:rect l="0" t="0" r="r" b="b"/>
            <a:pathLst>
              <a:path fill="none" w="446" h="257">
                <a:moveTo>
                  <a:pt x="446" y="0"/>
                </a:moveTo>
                <a:lnTo>
                  <a:pt x="446" y="0"/>
                </a:lnTo>
                <a:cubicBezTo>
                  <a:pt x="368" y="0"/>
                  <a:pt x="291" y="12"/>
                  <a:pt x="223" y="34"/>
                </a:cubicBezTo>
                <a:cubicBezTo>
                  <a:pt x="155" y="57"/>
                  <a:pt x="99" y="89"/>
                  <a:pt x="60" y="129"/>
                </a:cubicBezTo>
                <a:cubicBezTo>
                  <a:pt x="21" y="168"/>
                  <a:pt x="0" y="212"/>
                  <a:pt x="0" y="25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080200" y="460440"/>
            <a:ext cx="160560" cy="92520"/>
          </a:xfrm>
          <a:custGeom>
            <a:avLst/>
            <a:gdLst/>
            <a:ahLst/>
            <a:rect l="0" t="0" r="r" b="b"/>
            <a:pathLst>
              <a:path fill="none" w="446" h="257">
                <a:moveTo>
                  <a:pt x="446" y="257"/>
                </a:moveTo>
                <a:lnTo>
                  <a:pt x="446" y="257"/>
                </a:lnTo>
                <a:lnTo>
                  <a:pt x="446" y="257"/>
                </a:lnTo>
                <a:cubicBezTo>
                  <a:pt x="446" y="212"/>
                  <a:pt x="425" y="168"/>
                  <a:pt x="386" y="128"/>
                </a:cubicBezTo>
                <a:cubicBezTo>
                  <a:pt x="347" y="89"/>
                  <a:pt x="291" y="57"/>
                  <a:pt x="223" y="34"/>
                </a:cubicBezTo>
                <a:cubicBezTo>
                  <a:pt x="155" y="12"/>
                  <a:pt x="78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920000" y="1175400"/>
            <a:ext cx="160560" cy="86760"/>
          </a:xfrm>
          <a:custGeom>
            <a:avLst/>
            <a:gdLst/>
            <a:ahLst/>
            <a:rect l="0" t="0" r="r" b="b"/>
            <a:pathLst>
              <a:path fill="none" w="446" h="241">
                <a:moveTo>
                  <a:pt x="0" y="0"/>
                </a:moveTo>
                <a:lnTo>
                  <a:pt x="0" y="0"/>
                </a:lnTo>
                <a:cubicBezTo>
                  <a:pt x="0" y="42"/>
                  <a:pt x="21" y="84"/>
                  <a:pt x="60" y="121"/>
                </a:cubicBezTo>
                <a:cubicBezTo>
                  <a:pt x="99" y="157"/>
                  <a:pt x="155" y="188"/>
                  <a:pt x="223" y="209"/>
                </a:cubicBezTo>
                <a:cubicBezTo>
                  <a:pt x="291" y="230"/>
                  <a:pt x="368" y="241"/>
                  <a:pt x="446" y="24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080200" y="1175400"/>
            <a:ext cx="160560" cy="86760"/>
          </a:xfrm>
          <a:custGeom>
            <a:avLst/>
            <a:gdLst/>
            <a:ahLst/>
            <a:rect l="0" t="0" r="r" b="b"/>
            <a:pathLst>
              <a:path fill="none" w="446" h="241">
                <a:moveTo>
                  <a:pt x="0" y="241"/>
                </a:moveTo>
                <a:lnTo>
                  <a:pt x="0" y="241"/>
                </a:lnTo>
                <a:cubicBezTo>
                  <a:pt x="78" y="241"/>
                  <a:pt x="155" y="230"/>
                  <a:pt x="223" y="209"/>
                </a:cubicBezTo>
                <a:cubicBezTo>
                  <a:pt x="291" y="188"/>
                  <a:pt x="347" y="157"/>
                  <a:pt x="386" y="120"/>
                </a:cubicBezTo>
                <a:cubicBezTo>
                  <a:pt x="425" y="84"/>
                  <a:pt x="446" y="42"/>
                  <a:pt x="446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920000" y="518400"/>
            <a:ext cx="160560" cy="93240"/>
          </a:xfrm>
          <a:custGeom>
            <a:avLst/>
            <a:gdLst/>
            <a:ahLst/>
            <a:rect l="0" t="0" r="r" b="b"/>
            <a:pathLst>
              <a:path fill="none" w="446" h="259">
                <a:moveTo>
                  <a:pt x="0" y="0"/>
                </a:moveTo>
                <a:lnTo>
                  <a:pt x="0" y="0"/>
                </a:lnTo>
                <a:cubicBezTo>
                  <a:pt x="0" y="45"/>
                  <a:pt x="21" y="90"/>
                  <a:pt x="60" y="130"/>
                </a:cubicBezTo>
                <a:cubicBezTo>
                  <a:pt x="99" y="169"/>
                  <a:pt x="155" y="202"/>
                  <a:pt x="223" y="224"/>
                </a:cubicBezTo>
                <a:cubicBezTo>
                  <a:pt x="291" y="247"/>
                  <a:pt x="368" y="259"/>
                  <a:pt x="446" y="2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8080200" y="518400"/>
            <a:ext cx="160560" cy="93240"/>
          </a:xfrm>
          <a:custGeom>
            <a:avLst/>
            <a:gdLst/>
            <a:ahLst/>
            <a:rect l="0" t="0" r="r" b="b"/>
            <a:pathLst>
              <a:path fill="none" w="446" h="259">
                <a:moveTo>
                  <a:pt x="0" y="259"/>
                </a:moveTo>
                <a:lnTo>
                  <a:pt x="0" y="259"/>
                </a:lnTo>
                <a:cubicBezTo>
                  <a:pt x="78" y="259"/>
                  <a:pt x="155" y="247"/>
                  <a:pt x="223" y="224"/>
                </a:cubicBezTo>
                <a:cubicBezTo>
                  <a:pt x="291" y="202"/>
                  <a:pt x="347" y="169"/>
                  <a:pt x="386" y="129"/>
                </a:cubicBezTo>
                <a:cubicBezTo>
                  <a:pt x="425" y="90"/>
                  <a:pt x="446" y="45"/>
                  <a:pt x="446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7920000" y="1170000"/>
            <a:ext cx="1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7915320" y="736560"/>
            <a:ext cx="247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8418600" y="736560"/>
            <a:ext cx="247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7491240" y="1144440"/>
            <a:ext cx="417960" cy="71640"/>
            <a:chOff x="7491240" y="1144440"/>
            <a:chExt cx="417960" cy="71640"/>
          </a:xfrm>
        </p:grpSpPr>
        <p:sp>
          <p:nvSpPr>
            <p:cNvPr id="762" name=""/>
            <p:cNvSpPr/>
            <p:nvPr/>
          </p:nvSpPr>
          <p:spPr>
            <a:xfrm>
              <a:off x="7761240" y="1144440"/>
              <a:ext cx="147960" cy="71640"/>
            </a:xfrm>
            <a:custGeom>
              <a:avLst/>
              <a:gdLst/>
              <a:ahLst/>
              <a:rect l="0" t="0" r="r" b="b"/>
              <a:pathLst>
                <a:path w="411" h="199">
                  <a:moveTo>
                    <a:pt x="411" y="99"/>
                  </a:moveTo>
                  <a:lnTo>
                    <a:pt x="0" y="1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411" y="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91240" y="1181160"/>
              <a:ext cx="270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7196040" y="65736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7234200" y="669960"/>
            <a:ext cx="11160" cy="20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81720" y="70344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7319880" y="703440"/>
            <a:ext cx="11160" cy="1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234200" y="679320"/>
            <a:ext cx="3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7270920" y="679320"/>
            <a:ext cx="10800" cy="19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319880" y="727200"/>
            <a:ext cx="73080" cy="2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7099200" y="598320"/>
            <a:ext cx="135360" cy="105120"/>
            <a:chOff x="7099200" y="598320"/>
            <a:chExt cx="135360" cy="105120"/>
          </a:xfrm>
        </p:grpSpPr>
        <p:sp>
          <p:nvSpPr>
            <p:cNvPr id="772" name=""/>
            <p:cNvSpPr/>
            <p:nvPr/>
          </p:nvSpPr>
          <p:spPr>
            <a:xfrm>
              <a:off x="7099200" y="598320"/>
              <a:ext cx="135360" cy="105120"/>
            </a:xfrm>
            <a:custGeom>
              <a:avLst/>
              <a:gdLst/>
              <a:ahLst/>
              <a:rect l="0" t="0" r="r" b="b"/>
              <a:pathLst>
                <a:path w="376" h="292">
                  <a:moveTo>
                    <a:pt x="0" y="0"/>
                  </a:moveTo>
                  <a:lnTo>
                    <a:pt x="376" y="163"/>
                  </a:lnTo>
                  <a:lnTo>
                    <a:pt x="339" y="228"/>
                  </a:lnTo>
                  <a:lnTo>
                    <a:pt x="271" y="2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 flipV="1">
              <a:off x="7184880" y="671400"/>
              <a:ext cx="302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"/>
          <p:cNvSpPr/>
          <p:nvPr/>
        </p:nvSpPr>
        <p:spPr>
          <a:xfrm flipH="1">
            <a:off x="6238800" y="27925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293960" y="2436840"/>
            <a:ext cx="147240" cy="181440"/>
          </a:xfrm>
          <a:custGeom>
            <a:avLst/>
            <a:gdLst/>
            <a:ahLst/>
            <a:rect l="0" t="0" r="r" b="b"/>
            <a:pathLst>
              <a:path fill="none" w="409" h="504">
                <a:moveTo>
                  <a:pt x="409" y="504"/>
                </a:moveTo>
                <a:lnTo>
                  <a:pt x="409" y="504"/>
                </a:lnTo>
                <a:lnTo>
                  <a:pt x="409" y="504"/>
                </a:lnTo>
                <a:cubicBezTo>
                  <a:pt x="409" y="416"/>
                  <a:pt x="390" y="329"/>
                  <a:pt x="354" y="252"/>
                </a:cubicBezTo>
                <a:cubicBezTo>
                  <a:pt x="318" y="175"/>
                  <a:pt x="267" y="112"/>
                  <a:pt x="204" y="68"/>
                </a:cubicBezTo>
                <a:cubicBezTo>
                  <a:pt x="142" y="23"/>
                  <a:pt x="72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293960" y="2617920"/>
            <a:ext cx="147240" cy="181440"/>
          </a:xfrm>
          <a:custGeom>
            <a:avLst/>
            <a:gdLst/>
            <a:ahLst/>
            <a:rect l="0" t="0" r="r" b="b"/>
            <a:pathLst>
              <a:path fill="none" w="409" h="504">
                <a:moveTo>
                  <a:pt x="0" y="504"/>
                </a:moveTo>
                <a:lnTo>
                  <a:pt x="0" y="504"/>
                </a:lnTo>
                <a:cubicBezTo>
                  <a:pt x="72" y="504"/>
                  <a:pt x="142" y="481"/>
                  <a:pt x="205" y="436"/>
                </a:cubicBezTo>
                <a:cubicBezTo>
                  <a:pt x="267" y="392"/>
                  <a:pt x="318" y="329"/>
                  <a:pt x="354" y="252"/>
                </a:cubicBezTo>
                <a:cubicBezTo>
                  <a:pt x="390" y="175"/>
                  <a:pt x="409" y="88"/>
                  <a:pt x="4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127920" y="2436840"/>
            <a:ext cx="147960" cy="181440"/>
          </a:xfrm>
          <a:custGeom>
            <a:avLst/>
            <a:gdLst/>
            <a:ahLst/>
            <a:rect l="0" t="0" r="r" b="b"/>
            <a:pathLst>
              <a:path fill="none" w="411" h="504">
                <a:moveTo>
                  <a:pt x="411" y="0"/>
                </a:moveTo>
                <a:lnTo>
                  <a:pt x="411" y="0"/>
                </a:lnTo>
                <a:cubicBezTo>
                  <a:pt x="339" y="0"/>
                  <a:pt x="268" y="23"/>
                  <a:pt x="205" y="68"/>
                </a:cubicBezTo>
                <a:cubicBezTo>
                  <a:pt x="143" y="112"/>
                  <a:pt x="91" y="175"/>
                  <a:pt x="55" y="252"/>
                </a:cubicBezTo>
                <a:cubicBezTo>
                  <a:pt x="19" y="329"/>
                  <a:pt x="0" y="416"/>
                  <a:pt x="0" y="50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127920" y="2617920"/>
            <a:ext cx="147960" cy="181440"/>
          </a:xfrm>
          <a:custGeom>
            <a:avLst/>
            <a:gdLst/>
            <a:ahLst/>
            <a:rect l="0" t="0" r="r" b="b"/>
            <a:pathLst>
              <a:path fill="none" w="411" h="504">
                <a:moveTo>
                  <a:pt x="0" y="0"/>
                </a:moveTo>
                <a:lnTo>
                  <a:pt x="0" y="0"/>
                </a:lnTo>
                <a:cubicBezTo>
                  <a:pt x="0" y="88"/>
                  <a:pt x="19" y="175"/>
                  <a:pt x="55" y="252"/>
                </a:cubicBezTo>
                <a:cubicBezTo>
                  <a:pt x="91" y="329"/>
                  <a:pt x="143" y="392"/>
                  <a:pt x="206" y="436"/>
                </a:cubicBezTo>
                <a:cubicBezTo>
                  <a:pt x="268" y="481"/>
                  <a:pt x="339" y="504"/>
                  <a:pt x="411" y="50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275520" y="2436840"/>
            <a:ext cx="1019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40520" y="2519280"/>
            <a:ext cx="1227600" cy="70200"/>
          </a:xfrm>
          <a:custGeom>
            <a:avLst/>
            <a:gdLst/>
            <a:ahLst/>
            <a:rect l="0" t="0" r="r" b="b"/>
            <a:pathLst>
              <a:path fill="none" w="3410" h="195">
                <a:moveTo>
                  <a:pt x="0" y="98"/>
                </a:moveTo>
                <a:lnTo>
                  <a:pt x="134" y="62"/>
                </a:lnTo>
                <a:lnTo>
                  <a:pt x="269" y="34"/>
                </a:lnTo>
                <a:lnTo>
                  <a:pt x="441" y="0"/>
                </a:lnTo>
                <a:lnTo>
                  <a:pt x="613" y="62"/>
                </a:lnTo>
                <a:lnTo>
                  <a:pt x="815" y="98"/>
                </a:lnTo>
                <a:lnTo>
                  <a:pt x="920" y="126"/>
                </a:lnTo>
                <a:lnTo>
                  <a:pt x="1055" y="98"/>
                </a:lnTo>
                <a:lnTo>
                  <a:pt x="1227" y="98"/>
                </a:lnTo>
                <a:lnTo>
                  <a:pt x="1398" y="62"/>
                </a:lnTo>
                <a:lnTo>
                  <a:pt x="1570" y="62"/>
                </a:lnTo>
                <a:lnTo>
                  <a:pt x="1772" y="98"/>
                </a:lnTo>
                <a:lnTo>
                  <a:pt x="1907" y="98"/>
                </a:lnTo>
                <a:lnTo>
                  <a:pt x="1975" y="160"/>
                </a:lnTo>
                <a:lnTo>
                  <a:pt x="2116" y="195"/>
                </a:lnTo>
                <a:lnTo>
                  <a:pt x="2250" y="160"/>
                </a:lnTo>
                <a:lnTo>
                  <a:pt x="2453" y="126"/>
                </a:lnTo>
                <a:lnTo>
                  <a:pt x="2595" y="98"/>
                </a:lnTo>
                <a:lnTo>
                  <a:pt x="2797" y="98"/>
                </a:lnTo>
                <a:lnTo>
                  <a:pt x="2901" y="62"/>
                </a:lnTo>
                <a:lnTo>
                  <a:pt x="3104" y="62"/>
                </a:lnTo>
                <a:lnTo>
                  <a:pt x="3306" y="98"/>
                </a:lnTo>
                <a:lnTo>
                  <a:pt x="3343" y="160"/>
                </a:lnTo>
                <a:lnTo>
                  <a:pt x="3410" y="195"/>
                </a:lnTo>
                <a:lnTo>
                  <a:pt x="3373" y="19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827760" y="2751120"/>
            <a:ext cx="50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878520" y="2751120"/>
            <a:ext cx="0" cy="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913440" y="2786040"/>
            <a:ext cx="50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964200" y="2786040"/>
            <a:ext cx="0" cy="2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864480" y="2773440"/>
            <a:ext cx="4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913440" y="2773440"/>
            <a:ext cx="0" cy="1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964200" y="2809800"/>
            <a:ext cx="59040" cy="2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730920" y="2693880"/>
            <a:ext cx="147960" cy="105120"/>
            <a:chOff x="6730920" y="2693880"/>
            <a:chExt cx="147960" cy="105120"/>
          </a:xfrm>
        </p:grpSpPr>
        <p:sp>
          <p:nvSpPr>
            <p:cNvPr id="789" name=""/>
            <p:cNvSpPr/>
            <p:nvPr/>
          </p:nvSpPr>
          <p:spPr>
            <a:xfrm>
              <a:off x="6730920" y="2693880"/>
              <a:ext cx="147960" cy="105120"/>
            </a:xfrm>
            <a:custGeom>
              <a:avLst/>
              <a:gdLst/>
              <a:ahLst/>
              <a:rect l="0" t="0" r="r" b="b"/>
              <a:pathLst>
                <a:path w="411" h="292">
                  <a:moveTo>
                    <a:pt x="0" y="0"/>
                  </a:moveTo>
                  <a:lnTo>
                    <a:pt x="411" y="128"/>
                  </a:lnTo>
                  <a:lnTo>
                    <a:pt x="337" y="193"/>
                  </a:lnTo>
                  <a:lnTo>
                    <a:pt x="270" y="2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 flipV="1">
              <a:off x="6827760" y="2752560"/>
              <a:ext cx="23760" cy="11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620040" y="2216160"/>
            <a:ext cx="172800" cy="152640"/>
          </a:xfrm>
          <a:custGeom>
            <a:avLst/>
            <a:gdLst/>
            <a:ahLst/>
            <a:rect l="0" t="0" r="r" b="b"/>
            <a:pathLst>
              <a:path fill="none" w="480" h="424">
                <a:moveTo>
                  <a:pt x="0" y="0"/>
                </a:moveTo>
                <a:lnTo>
                  <a:pt x="0" y="0"/>
                </a:lnTo>
                <a:cubicBezTo>
                  <a:pt x="0" y="74"/>
                  <a:pt x="22" y="148"/>
                  <a:pt x="64" y="212"/>
                </a:cubicBezTo>
                <a:cubicBezTo>
                  <a:pt x="106" y="276"/>
                  <a:pt x="167" y="330"/>
                  <a:pt x="240" y="367"/>
                </a:cubicBezTo>
                <a:cubicBezTo>
                  <a:pt x="313" y="404"/>
                  <a:pt x="396" y="424"/>
                  <a:pt x="480" y="42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792120" y="2216160"/>
            <a:ext cx="172800" cy="152640"/>
          </a:xfrm>
          <a:custGeom>
            <a:avLst/>
            <a:gdLst/>
            <a:ahLst/>
            <a:rect l="0" t="0" r="r" b="b"/>
            <a:pathLst>
              <a:path fill="none" w="480" h="424">
                <a:moveTo>
                  <a:pt x="0" y="424"/>
                </a:moveTo>
                <a:lnTo>
                  <a:pt x="0" y="424"/>
                </a:lnTo>
                <a:cubicBezTo>
                  <a:pt x="84" y="424"/>
                  <a:pt x="167" y="404"/>
                  <a:pt x="240" y="367"/>
                </a:cubicBezTo>
                <a:cubicBezTo>
                  <a:pt x="313" y="330"/>
                  <a:pt x="374" y="276"/>
                  <a:pt x="416" y="212"/>
                </a:cubicBezTo>
                <a:cubicBezTo>
                  <a:pt x="458" y="148"/>
                  <a:pt x="480" y="74"/>
                  <a:pt x="48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630840" y="2205000"/>
            <a:ext cx="320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78800" y="235584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7143840" y="2693880"/>
            <a:ext cx="433800" cy="105120"/>
            <a:chOff x="7143840" y="2693880"/>
            <a:chExt cx="433800" cy="105120"/>
          </a:xfrm>
        </p:grpSpPr>
        <p:sp>
          <p:nvSpPr>
            <p:cNvPr id="796" name=""/>
            <p:cNvSpPr/>
            <p:nvPr/>
          </p:nvSpPr>
          <p:spPr>
            <a:xfrm>
              <a:off x="7429680" y="2727360"/>
              <a:ext cx="147960" cy="71640"/>
            </a:xfrm>
            <a:custGeom>
              <a:avLst/>
              <a:gdLst/>
              <a:ahLst/>
              <a:rect l="0" t="0" r="r" b="b"/>
              <a:pathLst>
                <a:path w="411" h="199">
                  <a:moveTo>
                    <a:pt x="411" y="199"/>
                  </a:moveTo>
                  <a:lnTo>
                    <a:pt x="0" y="199"/>
                  </a:lnTo>
                  <a:lnTo>
                    <a:pt x="30" y="99"/>
                  </a:lnTo>
                  <a:lnTo>
                    <a:pt x="30" y="0"/>
                  </a:lnTo>
                  <a:lnTo>
                    <a:pt x="411" y="1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43840" y="2693880"/>
              <a:ext cx="296640" cy="6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7526160" y="1762200"/>
            <a:ext cx="0" cy="641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850160" y="1762200"/>
            <a:ext cx="0" cy="641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7526160" y="1681200"/>
            <a:ext cx="321120" cy="93240"/>
            <a:chOff x="7526160" y="1681200"/>
            <a:chExt cx="321120" cy="93240"/>
          </a:xfrm>
        </p:grpSpPr>
        <p:sp>
          <p:nvSpPr>
            <p:cNvPr id="801" name=""/>
            <p:cNvSpPr/>
            <p:nvPr/>
          </p:nvSpPr>
          <p:spPr>
            <a:xfrm>
              <a:off x="7526160" y="1681200"/>
              <a:ext cx="160560" cy="93240"/>
            </a:xfrm>
            <a:custGeom>
              <a:avLst/>
              <a:gdLst/>
              <a:ahLst/>
              <a:rect l="0" t="0" r="r" b="b"/>
              <a:pathLst>
                <a:path fill="none" w="446" h="259">
                  <a:moveTo>
                    <a:pt x="446" y="0"/>
                  </a:moveTo>
                  <a:lnTo>
                    <a:pt x="446" y="0"/>
                  </a:lnTo>
                  <a:cubicBezTo>
                    <a:pt x="368" y="0"/>
                    <a:pt x="291" y="12"/>
                    <a:pt x="223" y="35"/>
                  </a:cubicBezTo>
                  <a:cubicBezTo>
                    <a:pt x="155" y="57"/>
                    <a:pt x="99" y="90"/>
                    <a:pt x="60" y="130"/>
                  </a:cubicBezTo>
                  <a:cubicBezTo>
                    <a:pt x="21" y="169"/>
                    <a:pt x="0" y="214"/>
                    <a:pt x="0" y="25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686720" y="1681200"/>
              <a:ext cx="160560" cy="93240"/>
            </a:xfrm>
            <a:custGeom>
              <a:avLst/>
              <a:gdLst/>
              <a:ahLst/>
              <a:rect l="0" t="0" r="r" b="b"/>
              <a:pathLst>
                <a:path fill="none" w="446" h="259">
                  <a:moveTo>
                    <a:pt x="446" y="259"/>
                  </a:moveTo>
                  <a:lnTo>
                    <a:pt x="446" y="259"/>
                  </a:lnTo>
                  <a:lnTo>
                    <a:pt x="446" y="259"/>
                  </a:lnTo>
                  <a:cubicBezTo>
                    <a:pt x="446" y="214"/>
                    <a:pt x="425" y="169"/>
                    <a:pt x="386" y="129"/>
                  </a:cubicBezTo>
                  <a:cubicBezTo>
                    <a:pt x="347" y="90"/>
                    <a:pt x="291" y="57"/>
                    <a:pt x="223" y="35"/>
                  </a:cubicBezTo>
                  <a:cubicBezTo>
                    <a:pt x="155" y="12"/>
                    <a:pt x="78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7526160" y="2397240"/>
            <a:ext cx="160560" cy="87840"/>
          </a:xfrm>
          <a:custGeom>
            <a:avLst/>
            <a:gdLst/>
            <a:ahLst/>
            <a:rect l="0" t="0" r="r" b="b"/>
            <a:pathLst>
              <a:path fill="none" w="446" h="244">
                <a:moveTo>
                  <a:pt x="0" y="0"/>
                </a:moveTo>
                <a:lnTo>
                  <a:pt x="0" y="0"/>
                </a:lnTo>
                <a:cubicBezTo>
                  <a:pt x="0" y="43"/>
                  <a:pt x="21" y="85"/>
                  <a:pt x="60" y="122"/>
                </a:cubicBezTo>
                <a:cubicBezTo>
                  <a:pt x="99" y="159"/>
                  <a:pt x="155" y="190"/>
                  <a:pt x="223" y="211"/>
                </a:cubicBezTo>
                <a:cubicBezTo>
                  <a:pt x="291" y="233"/>
                  <a:pt x="368" y="244"/>
                  <a:pt x="446" y="24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86720" y="2397240"/>
            <a:ext cx="160560" cy="87840"/>
          </a:xfrm>
          <a:custGeom>
            <a:avLst/>
            <a:gdLst/>
            <a:ahLst/>
            <a:rect l="0" t="0" r="r" b="b"/>
            <a:pathLst>
              <a:path fill="none" w="446" h="244">
                <a:moveTo>
                  <a:pt x="0" y="244"/>
                </a:moveTo>
                <a:lnTo>
                  <a:pt x="0" y="244"/>
                </a:lnTo>
                <a:cubicBezTo>
                  <a:pt x="78" y="244"/>
                  <a:pt x="155" y="233"/>
                  <a:pt x="223" y="211"/>
                </a:cubicBezTo>
                <a:cubicBezTo>
                  <a:pt x="291" y="190"/>
                  <a:pt x="347" y="159"/>
                  <a:pt x="386" y="122"/>
                </a:cubicBezTo>
                <a:cubicBezTo>
                  <a:pt x="425" y="85"/>
                  <a:pt x="446" y="43"/>
                  <a:pt x="446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526160" y="1739160"/>
            <a:ext cx="321120" cy="93240"/>
            <a:chOff x="7526160" y="1739160"/>
            <a:chExt cx="321120" cy="93240"/>
          </a:xfrm>
        </p:grpSpPr>
        <p:sp>
          <p:nvSpPr>
            <p:cNvPr id="806" name=""/>
            <p:cNvSpPr/>
            <p:nvPr/>
          </p:nvSpPr>
          <p:spPr>
            <a:xfrm>
              <a:off x="7526160" y="1739160"/>
              <a:ext cx="160560" cy="93240"/>
            </a:xfrm>
            <a:custGeom>
              <a:avLst/>
              <a:gdLst/>
              <a:ahLst/>
              <a:rect l="0" t="0" r="r" b="b"/>
              <a:pathLst>
                <a:path fill="none" w="446" h="259">
                  <a:moveTo>
                    <a:pt x="0" y="0"/>
                  </a:moveTo>
                  <a:lnTo>
                    <a:pt x="0" y="0"/>
                  </a:lnTo>
                  <a:cubicBezTo>
                    <a:pt x="0" y="45"/>
                    <a:pt x="21" y="90"/>
                    <a:pt x="60" y="130"/>
                  </a:cubicBezTo>
                  <a:cubicBezTo>
                    <a:pt x="99" y="169"/>
                    <a:pt x="155" y="202"/>
                    <a:pt x="223" y="224"/>
                  </a:cubicBezTo>
                  <a:cubicBezTo>
                    <a:pt x="291" y="247"/>
                    <a:pt x="368" y="259"/>
                    <a:pt x="446" y="25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86720" y="1739160"/>
              <a:ext cx="160560" cy="93240"/>
            </a:xfrm>
            <a:custGeom>
              <a:avLst/>
              <a:gdLst/>
              <a:ahLst/>
              <a:rect l="0" t="0" r="r" b="b"/>
              <a:pathLst>
                <a:path fill="none" w="446" h="259">
                  <a:moveTo>
                    <a:pt x="0" y="259"/>
                  </a:moveTo>
                  <a:lnTo>
                    <a:pt x="0" y="259"/>
                  </a:lnTo>
                  <a:cubicBezTo>
                    <a:pt x="78" y="259"/>
                    <a:pt x="155" y="247"/>
                    <a:pt x="223" y="224"/>
                  </a:cubicBezTo>
                  <a:cubicBezTo>
                    <a:pt x="291" y="202"/>
                    <a:pt x="347" y="169"/>
                    <a:pt x="386" y="129"/>
                  </a:cubicBezTo>
                  <a:cubicBezTo>
                    <a:pt x="425" y="90"/>
                    <a:pt x="446" y="45"/>
                    <a:pt x="446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7540560" y="2390760"/>
            <a:ext cx="11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7523280" y="1946160"/>
            <a:ext cx="247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8091360" y="1249200"/>
            <a:ext cx="0" cy="1374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7429680" y="2589120"/>
            <a:ext cx="650520" cy="70200"/>
            <a:chOff x="7429680" y="2589120"/>
            <a:chExt cx="650520" cy="70200"/>
          </a:xfrm>
        </p:grpSpPr>
        <p:sp>
          <p:nvSpPr>
            <p:cNvPr id="812" name=""/>
            <p:cNvSpPr/>
            <p:nvPr/>
          </p:nvSpPr>
          <p:spPr>
            <a:xfrm>
              <a:off x="7429680" y="2589120"/>
              <a:ext cx="135360" cy="70200"/>
            </a:xfrm>
            <a:custGeom>
              <a:avLst/>
              <a:gdLst/>
              <a:ahLst/>
              <a:rect l="0" t="0" r="r" b="b"/>
              <a:pathLst>
                <a:path w="376" h="195">
                  <a:moveTo>
                    <a:pt x="0" y="94"/>
                  </a:moveTo>
                  <a:lnTo>
                    <a:pt x="376" y="0"/>
                  </a:lnTo>
                  <a:lnTo>
                    <a:pt x="376" y="94"/>
                  </a:lnTo>
                  <a:lnTo>
                    <a:pt x="376" y="195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64320" y="2624040"/>
              <a:ext cx="515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"/>
          <p:cNvSpPr txBox="1"/>
          <p:nvPr/>
        </p:nvSpPr>
        <p:spPr>
          <a:xfrm>
            <a:off x="587520" y="2954160"/>
            <a:ext cx="297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2882880" y="2987640"/>
            <a:ext cx="303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6750000" y="2871720"/>
            <a:ext cx="297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319640" y="6118200"/>
            <a:ext cx="297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1434960" y="6002280"/>
            <a:ext cx="303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913280" y="4462560"/>
            <a:ext cx="0" cy="25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348080" y="4775040"/>
            <a:ext cx="0" cy="8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630680" y="4775040"/>
            <a:ext cx="0" cy="8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348080" y="4660920"/>
            <a:ext cx="147240" cy="116280"/>
          </a:xfrm>
          <a:custGeom>
            <a:avLst/>
            <a:gdLst/>
            <a:ahLst/>
            <a:rect l="0" t="0" r="r" b="b"/>
            <a:pathLst>
              <a:path fill="none" w="409" h="323">
                <a:moveTo>
                  <a:pt x="409" y="0"/>
                </a:moveTo>
                <a:lnTo>
                  <a:pt x="409" y="0"/>
                </a:lnTo>
                <a:cubicBezTo>
                  <a:pt x="337" y="0"/>
                  <a:pt x="267" y="15"/>
                  <a:pt x="204" y="43"/>
                </a:cubicBezTo>
                <a:cubicBezTo>
                  <a:pt x="142" y="72"/>
                  <a:pt x="91" y="112"/>
                  <a:pt x="55" y="162"/>
                </a:cubicBezTo>
                <a:cubicBezTo>
                  <a:pt x="19" y="211"/>
                  <a:pt x="0" y="266"/>
                  <a:pt x="0" y="323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494960" y="4660920"/>
            <a:ext cx="147240" cy="116280"/>
          </a:xfrm>
          <a:custGeom>
            <a:avLst/>
            <a:gdLst/>
            <a:ahLst/>
            <a:rect l="0" t="0" r="r" b="b"/>
            <a:pathLst>
              <a:path fill="none" w="409" h="323">
                <a:moveTo>
                  <a:pt x="409" y="323"/>
                </a:moveTo>
                <a:lnTo>
                  <a:pt x="409" y="323"/>
                </a:lnTo>
                <a:lnTo>
                  <a:pt x="409" y="323"/>
                </a:lnTo>
                <a:cubicBezTo>
                  <a:pt x="409" y="266"/>
                  <a:pt x="390" y="211"/>
                  <a:pt x="354" y="161"/>
                </a:cubicBezTo>
                <a:cubicBezTo>
                  <a:pt x="318" y="112"/>
                  <a:pt x="267" y="72"/>
                  <a:pt x="204" y="43"/>
                </a:cubicBezTo>
                <a:cubicBezTo>
                  <a:pt x="142" y="15"/>
                  <a:pt x="72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348080" y="4775040"/>
            <a:ext cx="270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362480" y="4938840"/>
            <a:ext cx="268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348080" y="510228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348080" y="5591160"/>
            <a:ext cx="147240" cy="116280"/>
          </a:xfrm>
          <a:custGeom>
            <a:avLst/>
            <a:gdLst/>
            <a:ahLst/>
            <a:rect l="0" t="0" r="r" b="b"/>
            <a:pathLst>
              <a:path fill="none" w="409" h="323">
                <a:moveTo>
                  <a:pt x="0" y="0"/>
                </a:moveTo>
                <a:lnTo>
                  <a:pt x="0" y="0"/>
                </a:lnTo>
                <a:cubicBezTo>
                  <a:pt x="0" y="57"/>
                  <a:pt x="19" y="112"/>
                  <a:pt x="55" y="162"/>
                </a:cubicBezTo>
                <a:cubicBezTo>
                  <a:pt x="91" y="211"/>
                  <a:pt x="142" y="251"/>
                  <a:pt x="205" y="280"/>
                </a:cubicBezTo>
                <a:cubicBezTo>
                  <a:pt x="267" y="308"/>
                  <a:pt x="337" y="323"/>
                  <a:pt x="409" y="323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494960" y="5591160"/>
            <a:ext cx="147240" cy="116280"/>
          </a:xfrm>
          <a:custGeom>
            <a:avLst/>
            <a:gdLst/>
            <a:ahLst/>
            <a:rect l="0" t="0" r="r" b="b"/>
            <a:pathLst>
              <a:path fill="none" w="409" h="323">
                <a:moveTo>
                  <a:pt x="0" y="323"/>
                </a:moveTo>
                <a:lnTo>
                  <a:pt x="0" y="323"/>
                </a:lnTo>
                <a:cubicBezTo>
                  <a:pt x="72" y="323"/>
                  <a:pt x="142" y="308"/>
                  <a:pt x="205" y="280"/>
                </a:cubicBezTo>
                <a:cubicBezTo>
                  <a:pt x="267" y="251"/>
                  <a:pt x="318" y="211"/>
                  <a:pt x="354" y="161"/>
                </a:cubicBezTo>
                <a:cubicBezTo>
                  <a:pt x="390" y="112"/>
                  <a:pt x="409" y="57"/>
                  <a:pt x="4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362480" y="5567400"/>
            <a:ext cx="268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362480" y="5265720"/>
            <a:ext cx="268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4459320" y="4451400"/>
            <a:ext cx="62280" cy="220680"/>
            <a:chOff x="4459320" y="4451400"/>
            <a:chExt cx="62280" cy="220680"/>
          </a:xfrm>
        </p:grpSpPr>
        <p:sp>
          <p:nvSpPr>
            <p:cNvPr id="832" name=""/>
            <p:cNvSpPr/>
            <p:nvPr/>
          </p:nvSpPr>
          <p:spPr>
            <a:xfrm>
              <a:off x="4459320" y="4451400"/>
              <a:ext cx="62280" cy="127440"/>
            </a:xfrm>
            <a:custGeom>
              <a:avLst/>
              <a:gdLst/>
              <a:ahLst/>
              <a:rect l="0" t="0" r="r" b="b"/>
              <a:pathLst>
                <a:path w="173" h="354">
                  <a:moveTo>
                    <a:pt x="105" y="0"/>
                  </a:moveTo>
                  <a:lnTo>
                    <a:pt x="173" y="354"/>
                  </a:lnTo>
                  <a:lnTo>
                    <a:pt x="68" y="354"/>
                  </a:lnTo>
                  <a:lnTo>
                    <a:pt x="0" y="354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483080" y="4578480"/>
              <a:ext cx="0" cy="93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606920" y="4683240"/>
            <a:ext cx="306360" cy="70200"/>
            <a:chOff x="4606920" y="4683240"/>
            <a:chExt cx="306360" cy="70200"/>
          </a:xfrm>
        </p:grpSpPr>
        <p:sp>
          <p:nvSpPr>
            <p:cNvPr id="835" name=""/>
            <p:cNvSpPr/>
            <p:nvPr/>
          </p:nvSpPr>
          <p:spPr>
            <a:xfrm>
              <a:off x="4606920" y="4683240"/>
              <a:ext cx="147960" cy="70200"/>
            </a:xfrm>
            <a:custGeom>
              <a:avLst/>
              <a:gdLst/>
              <a:ahLst/>
              <a:rect l="0" t="0" r="r" b="b"/>
              <a:pathLst>
                <a:path w="411" h="195">
                  <a:moveTo>
                    <a:pt x="0" y="100"/>
                  </a:moveTo>
                  <a:lnTo>
                    <a:pt x="411" y="0"/>
                  </a:lnTo>
                  <a:lnTo>
                    <a:pt x="411" y="100"/>
                  </a:lnTo>
                  <a:lnTo>
                    <a:pt x="411" y="195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754520" y="4719600"/>
              <a:ext cx="158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4754520" y="3967200"/>
            <a:ext cx="135360" cy="111600"/>
          </a:xfrm>
          <a:custGeom>
            <a:avLst/>
            <a:gdLst/>
            <a:ahLst/>
            <a:rect l="0" t="0" r="r" b="b"/>
            <a:pathLst>
              <a:path fill="none" w="376" h="310">
                <a:moveTo>
                  <a:pt x="0" y="0"/>
                </a:moveTo>
                <a:lnTo>
                  <a:pt x="0" y="0"/>
                </a:lnTo>
                <a:cubicBezTo>
                  <a:pt x="0" y="54"/>
                  <a:pt x="17" y="108"/>
                  <a:pt x="50" y="155"/>
                </a:cubicBezTo>
                <a:cubicBezTo>
                  <a:pt x="83" y="202"/>
                  <a:pt x="131" y="241"/>
                  <a:pt x="188" y="268"/>
                </a:cubicBezTo>
                <a:cubicBezTo>
                  <a:pt x="245" y="296"/>
                  <a:pt x="310" y="310"/>
                  <a:pt x="376" y="31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889520" y="3967200"/>
            <a:ext cx="135360" cy="111600"/>
          </a:xfrm>
          <a:custGeom>
            <a:avLst/>
            <a:gdLst/>
            <a:ahLst/>
            <a:rect l="0" t="0" r="r" b="b"/>
            <a:pathLst>
              <a:path fill="none" w="376" h="310">
                <a:moveTo>
                  <a:pt x="0" y="310"/>
                </a:moveTo>
                <a:lnTo>
                  <a:pt x="0" y="310"/>
                </a:lnTo>
                <a:cubicBezTo>
                  <a:pt x="66" y="310"/>
                  <a:pt x="131" y="296"/>
                  <a:pt x="188" y="268"/>
                </a:cubicBezTo>
                <a:cubicBezTo>
                  <a:pt x="245" y="241"/>
                  <a:pt x="293" y="202"/>
                  <a:pt x="326" y="155"/>
                </a:cubicBezTo>
                <a:cubicBezTo>
                  <a:pt x="359" y="108"/>
                  <a:pt x="376" y="54"/>
                  <a:pt x="376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754520" y="3951360"/>
            <a:ext cx="24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876920" y="2878200"/>
            <a:ext cx="0" cy="18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876920" y="2844720"/>
            <a:ext cx="344880" cy="70200"/>
            <a:chOff x="4876920" y="2844720"/>
            <a:chExt cx="344880" cy="70200"/>
          </a:xfrm>
        </p:grpSpPr>
        <p:sp>
          <p:nvSpPr>
            <p:cNvPr id="842" name=""/>
            <p:cNvSpPr/>
            <p:nvPr/>
          </p:nvSpPr>
          <p:spPr>
            <a:xfrm>
              <a:off x="5072040" y="2844720"/>
              <a:ext cx="149760" cy="70200"/>
            </a:xfrm>
            <a:custGeom>
              <a:avLst/>
              <a:gdLst/>
              <a:ahLst/>
              <a:rect l="0" t="0" r="r" b="b"/>
              <a:pathLst>
                <a:path w="416" h="195">
                  <a:moveTo>
                    <a:pt x="416" y="94"/>
                  </a:moveTo>
                  <a:lnTo>
                    <a:pt x="0" y="195"/>
                  </a:lnTo>
                  <a:lnTo>
                    <a:pt x="0" y="94"/>
                  </a:lnTo>
                  <a:lnTo>
                    <a:pt x="0" y="0"/>
                  </a:lnTo>
                  <a:lnTo>
                    <a:pt x="416" y="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76920" y="2878200"/>
              <a:ext cx="195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5465880" y="2600280"/>
            <a:ext cx="0" cy="64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221440" y="2798640"/>
            <a:ext cx="477720" cy="2095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6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5465880" y="2565360"/>
            <a:ext cx="330480" cy="70200"/>
            <a:chOff x="5465880" y="2565360"/>
            <a:chExt cx="330480" cy="70200"/>
          </a:xfrm>
        </p:grpSpPr>
        <p:sp>
          <p:nvSpPr>
            <p:cNvPr id="847" name=""/>
            <p:cNvSpPr/>
            <p:nvPr/>
          </p:nvSpPr>
          <p:spPr>
            <a:xfrm>
              <a:off x="5648400" y="2565360"/>
              <a:ext cx="147960" cy="70200"/>
            </a:xfrm>
            <a:custGeom>
              <a:avLst/>
              <a:gdLst/>
              <a:ahLst/>
              <a:rect l="0" t="0" r="r" b="b"/>
              <a:pathLst>
                <a:path w="411" h="195">
                  <a:moveTo>
                    <a:pt x="411" y="98"/>
                  </a:moveTo>
                  <a:lnTo>
                    <a:pt x="0" y="195"/>
                  </a:lnTo>
                  <a:lnTo>
                    <a:pt x="0" y="98"/>
                  </a:lnTo>
                  <a:lnTo>
                    <a:pt x="0" y="0"/>
                  </a:lnTo>
                  <a:lnTo>
                    <a:pt x="411" y="9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65880" y="2600280"/>
              <a:ext cx="182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5011560" y="3205080"/>
            <a:ext cx="454320" cy="70200"/>
            <a:chOff x="5011560" y="3205080"/>
            <a:chExt cx="454320" cy="70200"/>
          </a:xfrm>
        </p:grpSpPr>
        <p:sp>
          <p:nvSpPr>
            <p:cNvPr id="850" name=""/>
            <p:cNvSpPr/>
            <p:nvPr/>
          </p:nvSpPr>
          <p:spPr>
            <a:xfrm>
              <a:off x="5011560" y="3205080"/>
              <a:ext cx="147960" cy="70200"/>
            </a:xfrm>
            <a:custGeom>
              <a:avLst/>
              <a:gdLst/>
              <a:ahLst/>
              <a:rect l="0" t="0" r="r" b="b"/>
              <a:pathLst>
                <a:path w="411" h="195">
                  <a:moveTo>
                    <a:pt x="0" y="100"/>
                  </a:moveTo>
                  <a:lnTo>
                    <a:pt x="411" y="0"/>
                  </a:lnTo>
                  <a:lnTo>
                    <a:pt x="411" y="100"/>
                  </a:lnTo>
                  <a:lnTo>
                    <a:pt x="411" y="195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59520" y="3241800"/>
              <a:ext cx="306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5207040" y="269388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245200" y="2705040"/>
            <a:ext cx="0" cy="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5283360" y="2739960"/>
            <a:ext cx="34920" cy="23760"/>
            <a:chOff x="5283360" y="2739960"/>
            <a:chExt cx="34920" cy="23760"/>
          </a:xfrm>
        </p:grpSpPr>
        <p:sp>
          <p:nvSpPr>
            <p:cNvPr id="855" name=""/>
            <p:cNvSpPr/>
            <p:nvPr/>
          </p:nvSpPr>
          <p:spPr>
            <a:xfrm>
              <a:off x="5283360" y="2739960"/>
              <a:ext cx="34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18280" y="2739960"/>
              <a:ext cx="0" cy="23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5232240" y="2727360"/>
            <a:ext cx="51120" cy="12600"/>
            <a:chOff x="5232240" y="2727360"/>
            <a:chExt cx="51120" cy="12600"/>
          </a:xfrm>
        </p:grpSpPr>
        <p:sp>
          <p:nvSpPr>
            <p:cNvPr id="858" name=""/>
            <p:cNvSpPr/>
            <p:nvPr/>
          </p:nvSpPr>
          <p:spPr>
            <a:xfrm>
              <a:off x="5232240" y="2727360"/>
              <a:ext cx="5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283360" y="2727360"/>
              <a:ext cx="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5322960" y="2763720"/>
            <a:ext cx="57240" cy="2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5121360" y="2635200"/>
            <a:ext cx="136800" cy="116280"/>
            <a:chOff x="5121360" y="2635200"/>
            <a:chExt cx="136800" cy="116280"/>
          </a:xfrm>
        </p:grpSpPr>
        <p:sp>
          <p:nvSpPr>
            <p:cNvPr id="862" name=""/>
            <p:cNvSpPr/>
            <p:nvPr/>
          </p:nvSpPr>
          <p:spPr>
            <a:xfrm>
              <a:off x="5121360" y="2635200"/>
              <a:ext cx="136800" cy="116280"/>
            </a:xfrm>
            <a:custGeom>
              <a:avLst/>
              <a:gdLst/>
              <a:ahLst/>
              <a:rect l="0" t="0" r="r" b="b"/>
              <a:pathLst>
                <a:path w="380" h="323">
                  <a:moveTo>
                    <a:pt x="0" y="0"/>
                  </a:moveTo>
                  <a:lnTo>
                    <a:pt x="380" y="194"/>
                  </a:lnTo>
                  <a:lnTo>
                    <a:pt x="306" y="259"/>
                  </a:lnTo>
                  <a:lnTo>
                    <a:pt x="239" y="3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5195880" y="270684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4754520" y="317016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011560" y="317016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754520" y="3065400"/>
            <a:ext cx="135360" cy="111600"/>
          </a:xfrm>
          <a:custGeom>
            <a:avLst/>
            <a:gdLst/>
            <a:ahLst/>
            <a:rect l="0" t="0" r="r" b="b"/>
            <a:pathLst>
              <a:path fill="none" w="376" h="310">
                <a:moveTo>
                  <a:pt x="376" y="0"/>
                </a:moveTo>
                <a:lnTo>
                  <a:pt x="376" y="0"/>
                </a:lnTo>
                <a:cubicBezTo>
                  <a:pt x="310" y="0"/>
                  <a:pt x="245" y="14"/>
                  <a:pt x="188" y="42"/>
                </a:cubicBezTo>
                <a:cubicBezTo>
                  <a:pt x="131" y="69"/>
                  <a:pt x="83" y="108"/>
                  <a:pt x="50" y="155"/>
                </a:cubicBezTo>
                <a:cubicBezTo>
                  <a:pt x="17" y="202"/>
                  <a:pt x="0" y="256"/>
                  <a:pt x="0" y="31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889520" y="3065400"/>
            <a:ext cx="135360" cy="111600"/>
          </a:xfrm>
          <a:custGeom>
            <a:avLst/>
            <a:gdLst/>
            <a:ahLst/>
            <a:rect l="0" t="0" r="r" b="b"/>
            <a:pathLst>
              <a:path fill="none" w="376" h="310">
                <a:moveTo>
                  <a:pt x="376" y="310"/>
                </a:moveTo>
                <a:lnTo>
                  <a:pt x="376" y="310"/>
                </a:lnTo>
                <a:lnTo>
                  <a:pt x="376" y="310"/>
                </a:lnTo>
                <a:cubicBezTo>
                  <a:pt x="376" y="256"/>
                  <a:pt x="359" y="202"/>
                  <a:pt x="326" y="155"/>
                </a:cubicBezTo>
                <a:cubicBezTo>
                  <a:pt x="293" y="108"/>
                  <a:pt x="245" y="69"/>
                  <a:pt x="188" y="42"/>
                </a:cubicBezTo>
                <a:cubicBezTo>
                  <a:pt x="131" y="14"/>
                  <a:pt x="6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754520" y="3182760"/>
            <a:ext cx="257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765680" y="3333600"/>
            <a:ext cx="245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754520" y="3484440"/>
            <a:ext cx="257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4438800" y="4468680"/>
            <a:ext cx="909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336280" y="4102200"/>
            <a:ext cx="129600" cy="180360"/>
          </a:xfrm>
          <a:custGeom>
            <a:avLst/>
            <a:gdLst/>
            <a:ahLst/>
            <a:rect l="0" t="0" r="r" b="b"/>
            <a:pathLst>
              <a:path fill="none" w="360" h="501">
                <a:moveTo>
                  <a:pt x="360" y="501"/>
                </a:moveTo>
                <a:lnTo>
                  <a:pt x="360" y="501"/>
                </a:lnTo>
                <a:lnTo>
                  <a:pt x="360" y="501"/>
                </a:lnTo>
                <a:cubicBezTo>
                  <a:pt x="360" y="413"/>
                  <a:pt x="343" y="327"/>
                  <a:pt x="312" y="250"/>
                </a:cubicBezTo>
                <a:cubicBezTo>
                  <a:pt x="280" y="174"/>
                  <a:pt x="235" y="111"/>
                  <a:pt x="180" y="67"/>
                </a:cubicBezTo>
                <a:cubicBezTo>
                  <a:pt x="125" y="23"/>
                  <a:pt x="63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36280" y="4282200"/>
            <a:ext cx="129600" cy="180360"/>
          </a:xfrm>
          <a:custGeom>
            <a:avLst/>
            <a:gdLst/>
            <a:ahLst/>
            <a:rect l="0" t="0" r="r" b="b"/>
            <a:pathLst>
              <a:path fill="none" w="360" h="501">
                <a:moveTo>
                  <a:pt x="0" y="501"/>
                </a:moveTo>
                <a:lnTo>
                  <a:pt x="0" y="501"/>
                </a:lnTo>
                <a:cubicBezTo>
                  <a:pt x="63" y="501"/>
                  <a:pt x="125" y="478"/>
                  <a:pt x="180" y="434"/>
                </a:cubicBezTo>
                <a:cubicBezTo>
                  <a:pt x="235" y="390"/>
                  <a:pt x="280" y="327"/>
                  <a:pt x="312" y="250"/>
                </a:cubicBezTo>
                <a:cubicBezTo>
                  <a:pt x="343" y="174"/>
                  <a:pt x="360" y="88"/>
                  <a:pt x="36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324320" y="4102200"/>
            <a:ext cx="129600" cy="180360"/>
          </a:xfrm>
          <a:custGeom>
            <a:avLst/>
            <a:gdLst/>
            <a:ahLst/>
            <a:rect l="0" t="0" r="r" b="b"/>
            <a:pathLst>
              <a:path fill="none" w="360" h="501">
                <a:moveTo>
                  <a:pt x="360" y="0"/>
                </a:moveTo>
                <a:lnTo>
                  <a:pt x="360" y="0"/>
                </a:lnTo>
                <a:cubicBezTo>
                  <a:pt x="297" y="0"/>
                  <a:pt x="235" y="23"/>
                  <a:pt x="180" y="67"/>
                </a:cubicBezTo>
                <a:cubicBezTo>
                  <a:pt x="125" y="111"/>
                  <a:pt x="80" y="174"/>
                  <a:pt x="48" y="251"/>
                </a:cubicBezTo>
                <a:cubicBezTo>
                  <a:pt x="17" y="327"/>
                  <a:pt x="0" y="413"/>
                  <a:pt x="0" y="50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324320" y="4282200"/>
            <a:ext cx="129600" cy="180360"/>
          </a:xfrm>
          <a:custGeom>
            <a:avLst/>
            <a:gdLst/>
            <a:ahLst/>
            <a:rect l="0" t="0" r="r" b="b"/>
            <a:pathLst>
              <a:path fill="none" w="360" h="501">
                <a:moveTo>
                  <a:pt x="0" y="0"/>
                </a:moveTo>
                <a:lnTo>
                  <a:pt x="0" y="0"/>
                </a:lnTo>
                <a:cubicBezTo>
                  <a:pt x="0" y="88"/>
                  <a:pt x="17" y="174"/>
                  <a:pt x="48" y="251"/>
                </a:cubicBezTo>
                <a:cubicBezTo>
                  <a:pt x="80" y="327"/>
                  <a:pt x="125" y="390"/>
                  <a:pt x="180" y="434"/>
                </a:cubicBezTo>
                <a:cubicBezTo>
                  <a:pt x="235" y="478"/>
                  <a:pt x="297" y="501"/>
                  <a:pt x="360" y="50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448160" y="4102200"/>
            <a:ext cx="882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335480" y="4194000"/>
            <a:ext cx="1057680" cy="59040"/>
          </a:xfrm>
          <a:custGeom>
            <a:avLst/>
            <a:gdLst/>
            <a:ahLst/>
            <a:rect l="0" t="0" r="r" b="b"/>
            <a:pathLst>
              <a:path fill="none" w="2938" h="164">
                <a:moveTo>
                  <a:pt x="0" y="69"/>
                </a:moveTo>
                <a:lnTo>
                  <a:pt x="141" y="34"/>
                </a:lnTo>
                <a:lnTo>
                  <a:pt x="275" y="34"/>
                </a:lnTo>
                <a:lnTo>
                  <a:pt x="410" y="0"/>
                </a:lnTo>
                <a:lnTo>
                  <a:pt x="545" y="34"/>
                </a:lnTo>
                <a:lnTo>
                  <a:pt x="717" y="69"/>
                </a:lnTo>
                <a:lnTo>
                  <a:pt x="822" y="135"/>
                </a:lnTo>
                <a:lnTo>
                  <a:pt x="926" y="69"/>
                </a:lnTo>
                <a:lnTo>
                  <a:pt x="1092" y="69"/>
                </a:lnTo>
                <a:lnTo>
                  <a:pt x="1233" y="69"/>
                </a:lnTo>
                <a:lnTo>
                  <a:pt x="1368" y="34"/>
                </a:lnTo>
                <a:lnTo>
                  <a:pt x="1539" y="69"/>
                </a:lnTo>
                <a:lnTo>
                  <a:pt x="1674" y="69"/>
                </a:lnTo>
                <a:lnTo>
                  <a:pt x="1711" y="164"/>
                </a:lnTo>
                <a:lnTo>
                  <a:pt x="1846" y="164"/>
                </a:lnTo>
                <a:lnTo>
                  <a:pt x="1944" y="164"/>
                </a:lnTo>
                <a:lnTo>
                  <a:pt x="2116" y="135"/>
                </a:lnTo>
                <a:lnTo>
                  <a:pt x="2221" y="69"/>
                </a:lnTo>
                <a:lnTo>
                  <a:pt x="2393" y="69"/>
                </a:lnTo>
                <a:lnTo>
                  <a:pt x="2491" y="69"/>
                </a:lnTo>
                <a:lnTo>
                  <a:pt x="2662" y="69"/>
                </a:lnTo>
                <a:lnTo>
                  <a:pt x="2834" y="69"/>
                </a:lnTo>
                <a:lnTo>
                  <a:pt x="2871" y="164"/>
                </a:lnTo>
                <a:lnTo>
                  <a:pt x="2938" y="164"/>
                </a:lnTo>
                <a:lnTo>
                  <a:pt x="2902" y="16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938840" y="4416480"/>
            <a:ext cx="36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975200" y="4429080"/>
            <a:ext cx="0" cy="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011560" y="4462560"/>
            <a:ext cx="3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48280" y="4462560"/>
            <a:ext cx="0" cy="2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962600" y="443880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5000760" y="4438800"/>
            <a:ext cx="10800" cy="19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048280" y="4484520"/>
            <a:ext cx="49320" cy="2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4851360" y="4357800"/>
            <a:ext cx="135360" cy="117720"/>
            <a:chOff x="4851360" y="4357800"/>
            <a:chExt cx="135360" cy="117720"/>
          </a:xfrm>
        </p:grpSpPr>
        <p:sp>
          <p:nvSpPr>
            <p:cNvPr id="886" name=""/>
            <p:cNvSpPr/>
            <p:nvPr/>
          </p:nvSpPr>
          <p:spPr>
            <a:xfrm>
              <a:off x="4851360" y="4357800"/>
              <a:ext cx="135360" cy="117720"/>
            </a:xfrm>
            <a:custGeom>
              <a:avLst/>
              <a:gdLst/>
              <a:ahLst/>
              <a:rect l="0" t="0" r="r" b="b"/>
              <a:pathLst>
                <a:path w="376" h="327">
                  <a:moveTo>
                    <a:pt x="0" y="0"/>
                  </a:moveTo>
                  <a:lnTo>
                    <a:pt x="376" y="164"/>
                  </a:lnTo>
                  <a:lnTo>
                    <a:pt x="309" y="263"/>
                  </a:lnTo>
                  <a:lnTo>
                    <a:pt x="240" y="3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4927680" y="4416480"/>
              <a:ext cx="34920" cy="33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4876920" y="4065480"/>
            <a:ext cx="0" cy="3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754520" y="3648240"/>
            <a:ext cx="24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4029120" y="6108840"/>
            <a:ext cx="895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933080" y="5743440"/>
            <a:ext cx="129600" cy="180360"/>
          </a:xfrm>
          <a:custGeom>
            <a:avLst/>
            <a:gdLst/>
            <a:ahLst/>
            <a:rect l="0" t="0" r="r" b="b"/>
            <a:pathLst>
              <a:path fill="none" w="360" h="501">
                <a:moveTo>
                  <a:pt x="360" y="501"/>
                </a:moveTo>
                <a:lnTo>
                  <a:pt x="360" y="501"/>
                </a:lnTo>
                <a:lnTo>
                  <a:pt x="360" y="501"/>
                </a:lnTo>
                <a:cubicBezTo>
                  <a:pt x="360" y="413"/>
                  <a:pt x="343" y="327"/>
                  <a:pt x="312" y="250"/>
                </a:cubicBezTo>
                <a:cubicBezTo>
                  <a:pt x="280" y="174"/>
                  <a:pt x="235" y="111"/>
                  <a:pt x="180" y="67"/>
                </a:cubicBezTo>
                <a:cubicBezTo>
                  <a:pt x="125" y="23"/>
                  <a:pt x="63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933080" y="5923800"/>
            <a:ext cx="129600" cy="180360"/>
          </a:xfrm>
          <a:custGeom>
            <a:avLst/>
            <a:gdLst/>
            <a:ahLst/>
            <a:rect l="0" t="0" r="r" b="b"/>
            <a:pathLst>
              <a:path fill="none" w="360" h="501">
                <a:moveTo>
                  <a:pt x="0" y="501"/>
                </a:moveTo>
                <a:lnTo>
                  <a:pt x="0" y="501"/>
                </a:lnTo>
                <a:cubicBezTo>
                  <a:pt x="63" y="501"/>
                  <a:pt x="125" y="478"/>
                  <a:pt x="180" y="434"/>
                </a:cubicBezTo>
                <a:cubicBezTo>
                  <a:pt x="235" y="390"/>
                  <a:pt x="280" y="327"/>
                  <a:pt x="312" y="250"/>
                </a:cubicBezTo>
                <a:cubicBezTo>
                  <a:pt x="343" y="174"/>
                  <a:pt x="360" y="88"/>
                  <a:pt x="36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932280" y="5743440"/>
            <a:ext cx="128880" cy="180360"/>
          </a:xfrm>
          <a:custGeom>
            <a:avLst/>
            <a:gdLst/>
            <a:ahLst/>
            <a:rect l="0" t="0" r="r" b="b"/>
            <a:pathLst>
              <a:path fill="none" w="358" h="501">
                <a:moveTo>
                  <a:pt x="358" y="0"/>
                </a:moveTo>
                <a:lnTo>
                  <a:pt x="358" y="0"/>
                </a:lnTo>
                <a:cubicBezTo>
                  <a:pt x="295" y="0"/>
                  <a:pt x="233" y="23"/>
                  <a:pt x="179" y="67"/>
                </a:cubicBezTo>
                <a:cubicBezTo>
                  <a:pt x="125" y="111"/>
                  <a:pt x="79" y="174"/>
                  <a:pt x="48" y="251"/>
                </a:cubicBezTo>
                <a:cubicBezTo>
                  <a:pt x="17" y="327"/>
                  <a:pt x="0" y="413"/>
                  <a:pt x="0" y="50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932280" y="5923800"/>
            <a:ext cx="128880" cy="180360"/>
          </a:xfrm>
          <a:custGeom>
            <a:avLst/>
            <a:gdLst/>
            <a:ahLst/>
            <a:rect l="0" t="0" r="r" b="b"/>
            <a:pathLst>
              <a:path fill="none" w="358" h="501">
                <a:moveTo>
                  <a:pt x="0" y="0"/>
                </a:moveTo>
                <a:lnTo>
                  <a:pt x="0" y="0"/>
                </a:lnTo>
                <a:cubicBezTo>
                  <a:pt x="0" y="88"/>
                  <a:pt x="17" y="174"/>
                  <a:pt x="48" y="251"/>
                </a:cubicBezTo>
                <a:cubicBezTo>
                  <a:pt x="79" y="327"/>
                  <a:pt x="125" y="390"/>
                  <a:pt x="179" y="434"/>
                </a:cubicBezTo>
                <a:cubicBezTo>
                  <a:pt x="233" y="478"/>
                  <a:pt x="295" y="501"/>
                  <a:pt x="358" y="50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041720" y="5743440"/>
            <a:ext cx="909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944880" y="5835600"/>
            <a:ext cx="1041840" cy="59040"/>
          </a:xfrm>
          <a:custGeom>
            <a:avLst/>
            <a:gdLst/>
            <a:ahLst/>
            <a:rect l="0" t="0" r="r" b="b"/>
            <a:pathLst>
              <a:path fill="none" w="2894" h="164">
                <a:moveTo>
                  <a:pt x="0" y="64"/>
                </a:moveTo>
                <a:lnTo>
                  <a:pt x="134" y="34"/>
                </a:lnTo>
                <a:lnTo>
                  <a:pt x="232" y="34"/>
                </a:lnTo>
                <a:lnTo>
                  <a:pt x="373" y="0"/>
                </a:lnTo>
                <a:lnTo>
                  <a:pt x="539" y="34"/>
                </a:lnTo>
                <a:lnTo>
                  <a:pt x="680" y="64"/>
                </a:lnTo>
                <a:lnTo>
                  <a:pt x="779" y="129"/>
                </a:lnTo>
                <a:lnTo>
                  <a:pt x="920" y="64"/>
                </a:lnTo>
                <a:lnTo>
                  <a:pt x="1055" y="64"/>
                </a:lnTo>
                <a:lnTo>
                  <a:pt x="1189" y="64"/>
                </a:lnTo>
                <a:lnTo>
                  <a:pt x="1361" y="34"/>
                </a:lnTo>
                <a:lnTo>
                  <a:pt x="1533" y="64"/>
                </a:lnTo>
                <a:lnTo>
                  <a:pt x="1631" y="64"/>
                </a:lnTo>
                <a:lnTo>
                  <a:pt x="1704" y="164"/>
                </a:lnTo>
                <a:lnTo>
                  <a:pt x="1839" y="164"/>
                </a:lnTo>
                <a:lnTo>
                  <a:pt x="1937" y="164"/>
                </a:lnTo>
                <a:lnTo>
                  <a:pt x="2109" y="129"/>
                </a:lnTo>
                <a:lnTo>
                  <a:pt x="2214" y="64"/>
                </a:lnTo>
                <a:lnTo>
                  <a:pt x="2386" y="64"/>
                </a:lnTo>
                <a:lnTo>
                  <a:pt x="2484" y="64"/>
                </a:lnTo>
                <a:lnTo>
                  <a:pt x="2655" y="64"/>
                </a:lnTo>
                <a:lnTo>
                  <a:pt x="2827" y="64"/>
                </a:lnTo>
                <a:lnTo>
                  <a:pt x="2864" y="164"/>
                </a:lnTo>
                <a:lnTo>
                  <a:pt x="2894" y="16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532400" y="605808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4572000" y="6067440"/>
            <a:ext cx="11160" cy="2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606920" y="6103800"/>
            <a:ext cx="34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4641840" y="6103800"/>
            <a:ext cx="14400" cy="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70560" y="6080040"/>
            <a:ext cx="36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606920" y="6080040"/>
            <a:ext cx="0" cy="2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646520" y="6126120"/>
            <a:ext cx="57240" cy="20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448160" y="5999040"/>
            <a:ext cx="146520" cy="114840"/>
            <a:chOff x="4448160" y="5999040"/>
            <a:chExt cx="146520" cy="114840"/>
          </a:xfrm>
        </p:grpSpPr>
        <p:sp>
          <p:nvSpPr>
            <p:cNvPr id="905" name=""/>
            <p:cNvSpPr/>
            <p:nvPr/>
          </p:nvSpPr>
          <p:spPr>
            <a:xfrm>
              <a:off x="4448160" y="5999040"/>
              <a:ext cx="146520" cy="114840"/>
            </a:xfrm>
            <a:custGeom>
              <a:avLst/>
              <a:gdLst/>
              <a:ahLst/>
              <a:rect l="0" t="0" r="r" b="b"/>
              <a:pathLst>
                <a:path w="407" h="319">
                  <a:moveTo>
                    <a:pt x="0" y="0"/>
                  </a:moveTo>
                  <a:lnTo>
                    <a:pt x="407" y="162"/>
                  </a:lnTo>
                  <a:lnTo>
                    <a:pt x="340" y="226"/>
                  </a:lnTo>
                  <a:lnTo>
                    <a:pt x="271" y="3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>
              <a:off x="4532400" y="6058080"/>
              <a:ext cx="3816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4497480" y="5684760"/>
            <a:ext cx="0" cy="5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5857920" y="3668760"/>
            <a:ext cx="3036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ifferent column configurations including emerging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1155600" y="1611360"/>
            <a:ext cx="1844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Conventional 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a rec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479840" y="1492200"/>
            <a:ext cx="11430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Multif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7161120" y="114480"/>
            <a:ext cx="161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Recycle waste 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25560" y="3897360"/>
            <a:ext cx="1449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Inverted 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a strip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955960" y="4979880"/>
            <a:ext cx="14097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Column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a middle ves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rmila Diwekar</dc:creator>
  <dc:description/>
  <dc:language>en-US</dc:language>
  <cp:lastModifiedBy>Urmila Diwekar</cp:lastModifiedBy>
  <cp:revision>0</cp:revision>
  <dc:subject/>
  <dc:title>Batch Process Design</dc:title>
</cp:coreProperties>
</file>