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po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rpo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rpo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rpo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rpo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rpo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4120" y="6308280"/>
            <a:ext cx="48736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CorpoS"/>
              </a:rPr>
              <a:t>© </a:t>
            </a:r>
            <a:r>
              <a:rPr b="0" lang="de-DE" sz="900" spc="-1" strike="noStrike">
                <a:solidFill>
                  <a:srgbClr val="ff0000"/>
                </a:solidFill>
                <a:latin typeface="CorpoS"/>
              </a:rPr>
              <a:t>Bergmann/Daub</a:t>
            </a:r>
            <a:r>
              <a:rPr b="0" lang="de-DE" sz="900" spc="-1" strike="noStrike">
                <a:solidFill>
                  <a:srgbClr val="000000"/>
                </a:solidFill>
                <a:latin typeface="CorpoS"/>
              </a:rPr>
              <a:t>  | </a:t>
            </a:r>
            <a:r>
              <a:rPr b="0" lang="de-DE" sz="900" spc="-1" strike="noStrike">
                <a:solidFill>
                  <a:srgbClr val="ff0000"/>
                </a:solidFill>
                <a:latin typeface="CorpoS"/>
              </a:rPr>
              <a:t>Systemisches Innovations- und Kompetenzmanagement</a:t>
            </a:r>
            <a:r>
              <a:rPr b="0" lang="de-DE" sz="900" spc="-1" strike="noStrike">
                <a:solidFill>
                  <a:srgbClr val="000000"/>
                </a:solidFill>
                <a:latin typeface="Corpo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CorpoS"/>
              </a:rPr>
              <a:t>GablerPLUS Zusatzinformationen zu Medien des Gabler Verlags</a:t>
            </a:r>
            <a:r>
              <a:rPr b="0" lang="de-DE" sz="9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CorpoS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234120" y="6308640"/>
            <a:ext cx="1662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Gabler Verlag | Wiesbaden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www.gabler.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426960" y="2349360"/>
            <a:ext cx="8717040" cy="3555360"/>
            <a:chOff x="426960" y="2349360"/>
            <a:chExt cx="8717040" cy="3555360"/>
          </a:xfrm>
        </p:grpSpPr>
        <p:sp>
          <p:nvSpPr>
            <p:cNvPr id="42" name=""/>
            <p:cNvSpPr/>
            <p:nvPr/>
          </p:nvSpPr>
          <p:spPr>
            <a:xfrm>
              <a:off x="431640" y="3068640"/>
              <a:ext cx="871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rpoS"/>
                </a:rPr>
                <a:t>Systemisches Innovations- und Kompetenzmanageme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26960" y="2349360"/>
              <a:ext cx="6318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rpoS"/>
                </a:rPr>
                <a:t>Gustav Bergmann/Jürgen Dau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6800" y="4357800"/>
              <a:ext cx="75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rpoS"/>
                </a:rPr>
                <a:t>Grundlagen -  Prozesse - Perspektiv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03280" y="5013360"/>
              <a:ext cx="41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rpoS"/>
                </a:rPr>
                <a:t>Erscheinungsjahr 2008 / 2. Aufl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3280" y="5445000"/>
              <a:ext cx="86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rpoS"/>
                </a:rPr>
                <a:t>Lerneinheit der folgenden Folien:</a:t>
              </a:r>
              <a:r>
                <a:rPr b="0" lang="en-US" sz="1800" spc="-1" strike="noStrike">
                  <a:solidFill>
                    <a:srgbClr val="000000"/>
                  </a:solidFill>
                  <a:latin typeface="CorpoS"/>
                </a:rPr>
                <a:t> Kontext und Intervention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262080" y="447840"/>
            <a:ext cx="8534160" cy="5878080"/>
            <a:chOff x="262080" y="447840"/>
            <a:chExt cx="8534160" cy="5878080"/>
          </a:xfrm>
        </p:grpSpPr>
        <p:sp>
          <p:nvSpPr>
            <p:cNvPr id="236" name=""/>
            <p:cNvSpPr/>
            <p:nvPr/>
          </p:nvSpPr>
          <p:spPr>
            <a:xfrm>
              <a:off x="262080" y="11998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93840" y="5957640"/>
              <a:ext cx="556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bb.: Timing als Interven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46200" y="2619360"/>
              <a:ext cx="1841400" cy="939240"/>
            </a:xfrm>
            <a:prstGeom prst="ellipse">
              <a:avLst/>
            </a:prstGeom>
            <a:noFill/>
            <a:ln w="9360">
              <a:solidFill>
                <a:srgbClr val="000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67360" y="2684160"/>
              <a:ext cx="1098000" cy="106200"/>
            </a:xfrm>
            <a:custGeom>
              <a:avLst/>
              <a:gdLst/>
              <a:ahLst/>
              <a:rect l="l" t="t" r="r" b="b"/>
              <a:pathLst>
                <a:path w="1327" h="122">
                  <a:moveTo>
                    <a:pt x="15" y="111"/>
                  </a:moveTo>
                  <a:cubicBezTo>
                    <a:pt x="71" y="92"/>
                    <a:pt x="0" y="118"/>
                    <a:pt x="87" y="71"/>
                  </a:cubicBezTo>
                  <a:cubicBezTo>
                    <a:pt x="138" y="43"/>
                    <a:pt x="198" y="39"/>
                    <a:pt x="247" y="7"/>
                  </a:cubicBezTo>
                  <a:cubicBezTo>
                    <a:pt x="292" y="10"/>
                    <a:pt x="343" y="0"/>
                    <a:pt x="383" y="23"/>
                  </a:cubicBezTo>
                  <a:cubicBezTo>
                    <a:pt x="426" y="47"/>
                    <a:pt x="396" y="82"/>
                    <a:pt x="471" y="95"/>
                  </a:cubicBezTo>
                  <a:cubicBezTo>
                    <a:pt x="522" y="103"/>
                    <a:pt x="570" y="113"/>
                    <a:pt x="623" y="119"/>
                  </a:cubicBezTo>
                  <a:cubicBezTo>
                    <a:pt x="764" y="114"/>
                    <a:pt x="937" y="122"/>
                    <a:pt x="1079" y="87"/>
                  </a:cubicBezTo>
                  <a:cubicBezTo>
                    <a:pt x="1158" y="67"/>
                    <a:pt x="1244" y="39"/>
                    <a:pt x="1327" y="39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87680" y="1996920"/>
              <a:ext cx="2590560" cy="622080"/>
            </a:xfrm>
            <a:custGeom>
              <a:avLst/>
              <a:gdLst/>
              <a:ahLst/>
              <a:rect l="l" t="t" r="r" b="b"/>
              <a:pathLst>
                <a:path w="1632" h="392">
                  <a:moveTo>
                    <a:pt x="0" y="392"/>
                  </a:moveTo>
                  <a:cubicBezTo>
                    <a:pt x="48" y="359"/>
                    <a:pt x="87" y="312"/>
                    <a:pt x="128" y="272"/>
                  </a:cubicBezTo>
                  <a:cubicBezTo>
                    <a:pt x="163" y="236"/>
                    <a:pt x="204" y="203"/>
                    <a:pt x="240" y="168"/>
                  </a:cubicBezTo>
                  <a:cubicBezTo>
                    <a:pt x="282" y="125"/>
                    <a:pt x="316" y="75"/>
                    <a:pt x="376" y="56"/>
                  </a:cubicBezTo>
                  <a:cubicBezTo>
                    <a:pt x="446" y="3"/>
                    <a:pt x="505" y="6"/>
                    <a:pt x="592" y="0"/>
                  </a:cubicBezTo>
                  <a:cubicBezTo>
                    <a:pt x="709" y="8"/>
                    <a:pt x="827" y="10"/>
                    <a:pt x="944" y="24"/>
                  </a:cubicBezTo>
                  <a:cubicBezTo>
                    <a:pt x="1034" y="34"/>
                    <a:pt x="1119" y="70"/>
                    <a:pt x="1208" y="88"/>
                  </a:cubicBezTo>
                  <a:cubicBezTo>
                    <a:pt x="1347" y="115"/>
                    <a:pt x="1491" y="112"/>
                    <a:pt x="1632" y="112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63600" y="2466720"/>
              <a:ext cx="2133360" cy="456840"/>
            </a:xfrm>
            <a:custGeom>
              <a:avLst/>
              <a:gdLst/>
              <a:ahLst/>
              <a:rect l="l" t="t" r="r" b="b"/>
              <a:pathLst>
                <a:path w="1344" h="288">
                  <a:moveTo>
                    <a:pt x="1344" y="288"/>
                  </a:moveTo>
                  <a:cubicBezTo>
                    <a:pt x="1312" y="193"/>
                    <a:pt x="1182" y="103"/>
                    <a:pt x="1088" y="80"/>
                  </a:cubicBezTo>
                  <a:cubicBezTo>
                    <a:pt x="1049" y="54"/>
                    <a:pt x="998" y="41"/>
                    <a:pt x="952" y="32"/>
                  </a:cubicBezTo>
                  <a:cubicBezTo>
                    <a:pt x="925" y="26"/>
                    <a:pt x="898" y="21"/>
                    <a:pt x="872" y="16"/>
                  </a:cubicBezTo>
                  <a:cubicBezTo>
                    <a:pt x="858" y="13"/>
                    <a:pt x="832" y="8"/>
                    <a:pt x="832" y="8"/>
                  </a:cubicBezTo>
                  <a:cubicBezTo>
                    <a:pt x="555" y="27"/>
                    <a:pt x="277" y="0"/>
                    <a:pt x="0" y="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60480" y="1196640"/>
              <a:ext cx="2107800" cy="1434960"/>
            </a:xfrm>
            <a:custGeom>
              <a:avLst/>
              <a:gdLst/>
              <a:ahLst/>
              <a:rect l="l" t="t" r="r" b="b"/>
              <a:pathLst>
                <a:path w="1328" h="904">
                  <a:moveTo>
                    <a:pt x="1328" y="904"/>
                  </a:moveTo>
                  <a:cubicBezTo>
                    <a:pt x="1322" y="831"/>
                    <a:pt x="1320" y="768"/>
                    <a:pt x="1288" y="704"/>
                  </a:cubicBezTo>
                  <a:cubicBezTo>
                    <a:pt x="1275" y="639"/>
                    <a:pt x="1248" y="566"/>
                    <a:pt x="1224" y="504"/>
                  </a:cubicBezTo>
                  <a:cubicBezTo>
                    <a:pt x="1208" y="413"/>
                    <a:pt x="1177" y="314"/>
                    <a:pt x="1136" y="232"/>
                  </a:cubicBezTo>
                  <a:cubicBezTo>
                    <a:pt x="1129" y="219"/>
                    <a:pt x="1128" y="203"/>
                    <a:pt x="1120" y="192"/>
                  </a:cubicBezTo>
                  <a:cubicBezTo>
                    <a:pt x="1078" y="136"/>
                    <a:pt x="1015" y="89"/>
                    <a:pt x="952" y="64"/>
                  </a:cubicBezTo>
                  <a:cubicBezTo>
                    <a:pt x="888" y="38"/>
                    <a:pt x="819" y="23"/>
                    <a:pt x="752" y="16"/>
                  </a:cubicBezTo>
                  <a:cubicBezTo>
                    <a:pt x="701" y="10"/>
                    <a:pt x="600" y="0"/>
                    <a:pt x="600" y="0"/>
                  </a:cubicBezTo>
                  <a:cubicBezTo>
                    <a:pt x="399" y="6"/>
                    <a:pt x="201" y="24"/>
                    <a:pt x="0" y="2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2800" y="3571560"/>
              <a:ext cx="2565000" cy="1117440"/>
            </a:xfrm>
            <a:custGeom>
              <a:avLst/>
              <a:gdLst/>
              <a:ahLst/>
              <a:rect l="l" t="t" r="r" b="b"/>
              <a:pathLst>
                <a:path w="1616" h="704">
                  <a:moveTo>
                    <a:pt x="0" y="0"/>
                  </a:moveTo>
                  <a:cubicBezTo>
                    <a:pt x="1" y="34"/>
                    <a:pt x="12" y="267"/>
                    <a:pt x="16" y="312"/>
                  </a:cubicBezTo>
                  <a:cubicBezTo>
                    <a:pt x="19" y="348"/>
                    <a:pt x="27" y="416"/>
                    <a:pt x="48" y="448"/>
                  </a:cubicBezTo>
                  <a:cubicBezTo>
                    <a:pt x="79" y="495"/>
                    <a:pt x="116" y="512"/>
                    <a:pt x="168" y="536"/>
                  </a:cubicBezTo>
                  <a:cubicBezTo>
                    <a:pt x="345" y="616"/>
                    <a:pt x="514" y="617"/>
                    <a:pt x="712" y="624"/>
                  </a:cubicBezTo>
                  <a:cubicBezTo>
                    <a:pt x="868" y="655"/>
                    <a:pt x="1033" y="657"/>
                    <a:pt x="1192" y="664"/>
                  </a:cubicBezTo>
                  <a:cubicBezTo>
                    <a:pt x="1331" y="681"/>
                    <a:pt x="1475" y="704"/>
                    <a:pt x="1616" y="70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77720" y="3520800"/>
              <a:ext cx="2552400" cy="203040"/>
            </a:xfrm>
            <a:custGeom>
              <a:avLst/>
              <a:gdLst/>
              <a:ahLst/>
              <a:rect l="l" t="t" r="r" b="b"/>
              <a:pathLst>
                <a:path w="1608" h="128">
                  <a:moveTo>
                    <a:pt x="1608" y="0"/>
                  </a:moveTo>
                  <a:cubicBezTo>
                    <a:pt x="1500" y="107"/>
                    <a:pt x="1416" y="103"/>
                    <a:pt x="1272" y="128"/>
                  </a:cubicBezTo>
                  <a:cubicBezTo>
                    <a:pt x="1072" y="125"/>
                    <a:pt x="871" y="124"/>
                    <a:pt x="672" y="120"/>
                  </a:cubicBezTo>
                  <a:cubicBezTo>
                    <a:pt x="447" y="114"/>
                    <a:pt x="226" y="64"/>
                    <a:pt x="0" y="6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5400" y="1514160"/>
              <a:ext cx="1688760" cy="1091880"/>
            </a:xfrm>
            <a:custGeom>
              <a:avLst/>
              <a:gdLst/>
              <a:ahLst/>
              <a:rect l="l" t="t" r="r" b="b"/>
              <a:pathLst>
                <a:path w="496" h="544">
                  <a:moveTo>
                    <a:pt x="0" y="544"/>
                  </a:moveTo>
                  <a:cubicBezTo>
                    <a:pt x="58" y="504"/>
                    <a:pt x="79" y="443"/>
                    <a:pt x="112" y="384"/>
                  </a:cubicBezTo>
                  <a:cubicBezTo>
                    <a:pt x="158" y="298"/>
                    <a:pt x="218" y="205"/>
                    <a:pt x="288" y="136"/>
                  </a:cubicBezTo>
                  <a:cubicBezTo>
                    <a:pt x="332" y="91"/>
                    <a:pt x="392" y="59"/>
                    <a:pt x="448" y="32"/>
                  </a:cubicBezTo>
                  <a:cubicBezTo>
                    <a:pt x="458" y="26"/>
                    <a:pt x="496" y="10"/>
                    <a:pt x="496" y="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57480" y="3457440"/>
              <a:ext cx="2400120" cy="514080"/>
            </a:xfrm>
            <a:custGeom>
              <a:avLst/>
              <a:gdLst/>
              <a:ahLst/>
              <a:rect l="l" t="t" r="r" b="b"/>
              <a:pathLst>
                <a:path w="1512" h="324">
                  <a:moveTo>
                    <a:pt x="0" y="0"/>
                  </a:moveTo>
                  <a:cubicBezTo>
                    <a:pt x="37" y="56"/>
                    <a:pt x="127" y="133"/>
                    <a:pt x="192" y="160"/>
                  </a:cubicBezTo>
                  <a:cubicBezTo>
                    <a:pt x="235" y="178"/>
                    <a:pt x="285" y="178"/>
                    <a:pt x="328" y="200"/>
                  </a:cubicBezTo>
                  <a:cubicBezTo>
                    <a:pt x="577" y="324"/>
                    <a:pt x="1002" y="301"/>
                    <a:pt x="1248" y="304"/>
                  </a:cubicBezTo>
                  <a:cubicBezTo>
                    <a:pt x="1335" y="304"/>
                    <a:pt x="1424" y="304"/>
                    <a:pt x="1512" y="30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59080" y="1184040"/>
              <a:ext cx="2641320" cy="1422000"/>
            </a:xfrm>
            <a:custGeom>
              <a:avLst/>
              <a:gdLst/>
              <a:ahLst/>
              <a:rect l="l" t="t" r="r" b="b"/>
              <a:pathLst>
                <a:path w="1664" h="896">
                  <a:moveTo>
                    <a:pt x="0" y="896"/>
                  </a:moveTo>
                  <a:cubicBezTo>
                    <a:pt x="17" y="824"/>
                    <a:pt x="66" y="774"/>
                    <a:pt x="104" y="712"/>
                  </a:cubicBezTo>
                  <a:cubicBezTo>
                    <a:pt x="127" y="673"/>
                    <a:pt x="157" y="633"/>
                    <a:pt x="176" y="592"/>
                  </a:cubicBezTo>
                  <a:cubicBezTo>
                    <a:pt x="214" y="506"/>
                    <a:pt x="171" y="574"/>
                    <a:pt x="208" y="520"/>
                  </a:cubicBezTo>
                  <a:cubicBezTo>
                    <a:pt x="227" y="440"/>
                    <a:pt x="270" y="385"/>
                    <a:pt x="328" y="328"/>
                  </a:cubicBezTo>
                  <a:cubicBezTo>
                    <a:pt x="354" y="301"/>
                    <a:pt x="372" y="275"/>
                    <a:pt x="408" y="264"/>
                  </a:cubicBezTo>
                  <a:cubicBezTo>
                    <a:pt x="537" y="134"/>
                    <a:pt x="675" y="84"/>
                    <a:pt x="856" y="64"/>
                  </a:cubicBezTo>
                  <a:cubicBezTo>
                    <a:pt x="941" y="42"/>
                    <a:pt x="845" y="64"/>
                    <a:pt x="1032" y="48"/>
                  </a:cubicBezTo>
                  <a:cubicBezTo>
                    <a:pt x="1104" y="41"/>
                    <a:pt x="1175" y="30"/>
                    <a:pt x="1248" y="24"/>
                  </a:cubicBezTo>
                  <a:cubicBezTo>
                    <a:pt x="1290" y="15"/>
                    <a:pt x="1333" y="8"/>
                    <a:pt x="1376" y="0"/>
                  </a:cubicBezTo>
                  <a:cubicBezTo>
                    <a:pt x="1450" y="6"/>
                    <a:pt x="1468" y="6"/>
                    <a:pt x="1536" y="16"/>
                  </a:cubicBezTo>
                  <a:cubicBezTo>
                    <a:pt x="1577" y="21"/>
                    <a:pt x="1622" y="40"/>
                    <a:pt x="1664" y="4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11320" y="1717560"/>
              <a:ext cx="2617200" cy="995040"/>
            </a:xfrm>
            <a:custGeom>
              <a:avLst/>
              <a:gdLst/>
              <a:ahLst/>
              <a:rect l="l" t="t" r="r" b="b"/>
              <a:pathLst>
                <a:path w="1649" h="627">
                  <a:moveTo>
                    <a:pt x="1640" y="624"/>
                  </a:moveTo>
                  <a:cubicBezTo>
                    <a:pt x="1600" y="465"/>
                    <a:pt x="1649" y="627"/>
                    <a:pt x="1600" y="528"/>
                  </a:cubicBezTo>
                  <a:cubicBezTo>
                    <a:pt x="1595" y="518"/>
                    <a:pt x="1596" y="505"/>
                    <a:pt x="1592" y="496"/>
                  </a:cubicBezTo>
                  <a:cubicBezTo>
                    <a:pt x="1583" y="478"/>
                    <a:pt x="1560" y="448"/>
                    <a:pt x="1560" y="448"/>
                  </a:cubicBezTo>
                  <a:cubicBezTo>
                    <a:pt x="1536" y="353"/>
                    <a:pt x="1446" y="268"/>
                    <a:pt x="1392" y="192"/>
                  </a:cubicBezTo>
                  <a:cubicBezTo>
                    <a:pt x="1360" y="147"/>
                    <a:pt x="1393" y="161"/>
                    <a:pt x="1344" y="112"/>
                  </a:cubicBezTo>
                  <a:cubicBezTo>
                    <a:pt x="1307" y="75"/>
                    <a:pt x="1268" y="17"/>
                    <a:pt x="1216" y="0"/>
                  </a:cubicBezTo>
                  <a:cubicBezTo>
                    <a:pt x="1129" y="9"/>
                    <a:pt x="1046" y="35"/>
                    <a:pt x="960" y="48"/>
                  </a:cubicBezTo>
                  <a:cubicBezTo>
                    <a:pt x="880" y="79"/>
                    <a:pt x="793" y="86"/>
                    <a:pt x="712" y="112"/>
                  </a:cubicBezTo>
                  <a:cubicBezTo>
                    <a:pt x="655" y="129"/>
                    <a:pt x="600" y="151"/>
                    <a:pt x="544" y="168"/>
                  </a:cubicBezTo>
                  <a:cubicBezTo>
                    <a:pt x="510" y="177"/>
                    <a:pt x="474" y="186"/>
                    <a:pt x="440" y="192"/>
                  </a:cubicBezTo>
                  <a:cubicBezTo>
                    <a:pt x="402" y="198"/>
                    <a:pt x="328" y="208"/>
                    <a:pt x="328" y="208"/>
                  </a:cubicBezTo>
                  <a:cubicBezTo>
                    <a:pt x="264" y="205"/>
                    <a:pt x="199" y="203"/>
                    <a:pt x="136" y="200"/>
                  </a:cubicBezTo>
                  <a:cubicBezTo>
                    <a:pt x="89" y="197"/>
                    <a:pt x="45" y="184"/>
                    <a:pt x="0" y="18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87280" y="3190680"/>
              <a:ext cx="1409400" cy="520200"/>
            </a:xfrm>
            <a:custGeom>
              <a:avLst/>
              <a:gdLst/>
              <a:ahLst/>
              <a:rect l="l" t="t" r="r" b="b"/>
              <a:pathLst>
                <a:path w="888" h="328">
                  <a:moveTo>
                    <a:pt x="888" y="328"/>
                  </a:moveTo>
                  <a:cubicBezTo>
                    <a:pt x="884" y="306"/>
                    <a:pt x="878" y="245"/>
                    <a:pt x="864" y="224"/>
                  </a:cubicBezTo>
                  <a:cubicBezTo>
                    <a:pt x="852" y="206"/>
                    <a:pt x="803" y="197"/>
                    <a:pt x="792" y="192"/>
                  </a:cubicBezTo>
                  <a:cubicBezTo>
                    <a:pt x="696" y="144"/>
                    <a:pt x="601" y="137"/>
                    <a:pt x="496" y="128"/>
                  </a:cubicBezTo>
                  <a:cubicBezTo>
                    <a:pt x="429" y="114"/>
                    <a:pt x="363" y="109"/>
                    <a:pt x="296" y="104"/>
                  </a:cubicBezTo>
                  <a:cubicBezTo>
                    <a:pt x="269" y="95"/>
                    <a:pt x="250" y="69"/>
                    <a:pt x="224" y="64"/>
                  </a:cubicBezTo>
                  <a:cubicBezTo>
                    <a:pt x="174" y="54"/>
                    <a:pt x="127" y="39"/>
                    <a:pt x="80" y="24"/>
                  </a:cubicBezTo>
                  <a:cubicBezTo>
                    <a:pt x="64" y="18"/>
                    <a:pt x="48" y="12"/>
                    <a:pt x="32" y="8"/>
                  </a:cubicBezTo>
                  <a:cubicBezTo>
                    <a:pt x="21" y="5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65160" y="2604960"/>
              <a:ext cx="1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3200" y="3355920"/>
              <a:ext cx="127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hythm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03760" y="2089080"/>
              <a:ext cx="8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Uh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92800" y="1377720"/>
              <a:ext cx="20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Zeit-Manag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14800" y="968040"/>
              <a:ext cx="761400" cy="1638000"/>
            </a:xfrm>
            <a:custGeom>
              <a:avLst/>
              <a:gdLst/>
              <a:ahLst/>
              <a:rect l="l" t="t" r="r" b="b"/>
              <a:pathLst>
                <a:path w="480" h="1032">
                  <a:moveTo>
                    <a:pt x="0" y="1032"/>
                  </a:moveTo>
                  <a:cubicBezTo>
                    <a:pt x="25" y="1006"/>
                    <a:pt x="31" y="989"/>
                    <a:pt x="48" y="960"/>
                  </a:cubicBezTo>
                  <a:cubicBezTo>
                    <a:pt x="57" y="943"/>
                    <a:pt x="73" y="930"/>
                    <a:pt x="80" y="912"/>
                  </a:cubicBezTo>
                  <a:cubicBezTo>
                    <a:pt x="85" y="896"/>
                    <a:pt x="96" y="864"/>
                    <a:pt x="96" y="864"/>
                  </a:cubicBezTo>
                  <a:cubicBezTo>
                    <a:pt x="92" y="807"/>
                    <a:pt x="80" y="752"/>
                    <a:pt x="80" y="696"/>
                  </a:cubicBezTo>
                  <a:cubicBezTo>
                    <a:pt x="80" y="602"/>
                    <a:pt x="128" y="460"/>
                    <a:pt x="152" y="368"/>
                  </a:cubicBezTo>
                  <a:cubicBezTo>
                    <a:pt x="155" y="293"/>
                    <a:pt x="144" y="215"/>
                    <a:pt x="168" y="144"/>
                  </a:cubicBezTo>
                  <a:cubicBezTo>
                    <a:pt x="185" y="91"/>
                    <a:pt x="253" y="16"/>
                    <a:pt x="304" y="0"/>
                  </a:cubicBezTo>
                  <a:cubicBezTo>
                    <a:pt x="367" y="21"/>
                    <a:pt x="413" y="40"/>
                    <a:pt x="480" y="4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32080" y="3571560"/>
              <a:ext cx="1320480" cy="1638000"/>
            </a:xfrm>
            <a:custGeom>
              <a:avLst/>
              <a:gdLst/>
              <a:ahLst/>
              <a:rect l="l" t="t" r="r" b="b"/>
              <a:pathLst>
                <a:path w="832" h="1032">
                  <a:moveTo>
                    <a:pt x="592" y="0"/>
                  </a:moveTo>
                  <a:cubicBezTo>
                    <a:pt x="571" y="61"/>
                    <a:pt x="548" y="118"/>
                    <a:pt x="520" y="176"/>
                  </a:cubicBezTo>
                  <a:cubicBezTo>
                    <a:pt x="495" y="224"/>
                    <a:pt x="488" y="271"/>
                    <a:pt x="440" y="304"/>
                  </a:cubicBezTo>
                  <a:cubicBezTo>
                    <a:pt x="417" y="337"/>
                    <a:pt x="412" y="352"/>
                    <a:pt x="384" y="376"/>
                  </a:cubicBezTo>
                  <a:cubicBezTo>
                    <a:pt x="376" y="382"/>
                    <a:pt x="366" y="385"/>
                    <a:pt x="360" y="392"/>
                  </a:cubicBezTo>
                  <a:cubicBezTo>
                    <a:pt x="300" y="451"/>
                    <a:pt x="368" y="402"/>
                    <a:pt x="312" y="440"/>
                  </a:cubicBezTo>
                  <a:cubicBezTo>
                    <a:pt x="283" y="483"/>
                    <a:pt x="250" y="521"/>
                    <a:pt x="216" y="560"/>
                  </a:cubicBezTo>
                  <a:cubicBezTo>
                    <a:pt x="187" y="592"/>
                    <a:pt x="146" y="621"/>
                    <a:pt x="120" y="656"/>
                  </a:cubicBezTo>
                  <a:cubicBezTo>
                    <a:pt x="92" y="692"/>
                    <a:pt x="67" y="731"/>
                    <a:pt x="40" y="768"/>
                  </a:cubicBezTo>
                  <a:cubicBezTo>
                    <a:pt x="32" y="792"/>
                    <a:pt x="24" y="816"/>
                    <a:pt x="16" y="840"/>
                  </a:cubicBezTo>
                  <a:cubicBezTo>
                    <a:pt x="10" y="856"/>
                    <a:pt x="0" y="888"/>
                    <a:pt x="0" y="888"/>
                  </a:cubicBezTo>
                  <a:cubicBezTo>
                    <a:pt x="5" y="896"/>
                    <a:pt x="8" y="906"/>
                    <a:pt x="16" y="912"/>
                  </a:cubicBezTo>
                  <a:cubicBezTo>
                    <a:pt x="37" y="926"/>
                    <a:pt x="137" y="945"/>
                    <a:pt x="168" y="952"/>
                  </a:cubicBezTo>
                  <a:cubicBezTo>
                    <a:pt x="289" y="938"/>
                    <a:pt x="382" y="977"/>
                    <a:pt x="496" y="1000"/>
                  </a:cubicBezTo>
                  <a:cubicBezTo>
                    <a:pt x="608" y="1022"/>
                    <a:pt x="714" y="1032"/>
                    <a:pt x="832" y="1032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07560" y="447840"/>
              <a:ext cx="227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Öffnungszeiten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adenschlusszei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06360" y="4805280"/>
              <a:ext cx="2088720" cy="450360"/>
            </a:xfrm>
            <a:custGeom>
              <a:avLst/>
              <a:gdLst/>
              <a:ahLst/>
              <a:rect l="l" t="t" r="r" b="b"/>
              <a:pathLst>
                <a:path w="1316" h="284">
                  <a:moveTo>
                    <a:pt x="1316" y="0"/>
                  </a:moveTo>
                  <a:cubicBezTo>
                    <a:pt x="1243" y="47"/>
                    <a:pt x="1273" y="42"/>
                    <a:pt x="1218" y="98"/>
                  </a:cubicBezTo>
                  <a:cubicBezTo>
                    <a:pt x="1205" y="134"/>
                    <a:pt x="1189" y="149"/>
                    <a:pt x="1165" y="178"/>
                  </a:cubicBezTo>
                  <a:cubicBezTo>
                    <a:pt x="1111" y="240"/>
                    <a:pt x="1077" y="263"/>
                    <a:pt x="996" y="284"/>
                  </a:cubicBezTo>
                  <a:cubicBezTo>
                    <a:pt x="929" y="277"/>
                    <a:pt x="865" y="268"/>
                    <a:pt x="800" y="258"/>
                  </a:cubicBezTo>
                  <a:cubicBezTo>
                    <a:pt x="695" y="204"/>
                    <a:pt x="549" y="202"/>
                    <a:pt x="436" y="195"/>
                  </a:cubicBezTo>
                  <a:cubicBezTo>
                    <a:pt x="363" y="196"/>
                    <a:pt x="121" y="213"/>
                    <a:pt x="0" y="213"/>
                  </a:cubicBezTo>
                </a:path>
              </a:pathLst>
            </a:custGeom>
            <a:noFill/>
            <a:ln w="9360">
              <a:solidFill>
                <a:srgbClr val="0000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36800" y="2855880"/>
              <a:ext cx="155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ramaturg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56400" y="730080"/>
              <a:ext cx="167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terpunk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20120" y="4511520"/>
              <a:ext cx="115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Chrono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Kai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77760" y="283500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im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30160" y="3211200"/>
              <a:ext cx="235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auer von Meet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79000" y="357480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aus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20880" y="5045040"/>
              <a:ext cx="257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ünktlichkeit, Sirenen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oppuhr, Akko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07960" y="4120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ntschleunig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eschleunig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94360" y="1288800"/>
              <a:ext cx="22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Zeit-Wahrnehm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ereinbar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64160" y="2431800"/>
              <a:ext cx="17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Zeit ist Illu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45840" y="47304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edehnte Ze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88840" y="3993840"/>
              <a:ext cx="179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Bio-Rhythm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Stress (eu-dis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1136880" y="930240"/>
            <a:ext cx="6249240" cy="5642640"/>
            <a:chOff x="1136880" y="930240"/>
            <a:chExt cx="6249240" cy="5642640"/>
          </a:xfrm>
        </p:grpSpPr>
        <p:sp>
          <p:nvSpPr>
            <p:cNvPr id="271" name=""/>
            <p:cNvSpPr/>
            <p:nvPr/>
          </p:nvSpPr>
          <p:spPr>
            <a:xfrm>
              <a:off x="1136880" y="1600200"/>
              <a:ext cx="6249240" cy="49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e wird Ihr Verhalten durch kulturelle Must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einfluss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s hindert uns, Veränderungen einzuleiten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rum machen wir nicht, wozu wir Lust haben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skutieren Sie die These: „Selbstbestimmte Egois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ndieren weniger zu aggressivem Verhalten.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85280" y="930240"/>
              <a:ext cx="293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ontext und Verhalt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56480" y="1177920"/>
            <a:ext cx="7989120" cy="4382280"/>
            <a:chOff x="456480" y="1177920"/>
            <a:chExt cx="7989120" cy="4382280"/>
          </a:xfrm>
        </p:grpSpPr>
        <p:sp>
          <p:nvSpPr>
            <p:cNvPr id="48" name=""/>
            <p:cNvSpPr/>
            <p:nvPr/>
          </p:nvSpPr>
          <p:spPr>
            <a:xfrm>
              <a:off x="2886120" y="3235320"/>
              <a:ext cx="236196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5095800" y="2625840"/>
              <a:ext cx="12952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91080" y="26258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828360" y="3692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352600" y="293040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828360" y="2930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95800" y="399744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857920" y="4606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3190680" y="1940040"/>
              <a:ext cx="9907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514520" y="194004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809440" y="4149720"/>
              <a:ext cx="6094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828360" y="498780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714920" y="2091960"/>
              <a:ext cx="11430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48080" y="369252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81400" y="4226040"/>
              <a:ext cx="5335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14920" y="55213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5857920" y="1558800"/>
              <a:ext cx="6094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67400" y="15588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276280" y="498780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981000" y="54450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97800" y="3564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nterventionsar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6480" y="4648320"/>
              <a:ext cx="2388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rchitektur und Desi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tmosphä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02040" y="1558800"/>
              <a:ext cx="199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prache und Bil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85920" y="5222880"/>
              <a:ext cx="241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Timing: Chronos/Kai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59720" y="1177920"/>
              <a:ext cx="217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truktur und Proz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2360" y="3411360"/>
              <a:ext cx="173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ysteme Spiel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34440" y="2451240"/>
              <a:ext cx="189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etaphern, Kun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78440" y="2336760"/>
              <a:ext cx="204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vokativ/Provokati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90320" y="4025880"/>
              <a:ext cx="255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rrit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Paradoxe Interven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369280" cy="6055560"/>
            <a:chOff x="0" y="0"/>
            <a:chExt cx="8369280" cy="6055560"/>
          </a:xfrm>
        </p:grpSpPr>
        <p:sp>
          <p:nvSpPr>
            <p:cNvPr id="78" name=""/>
            <p:cNvSpPr/>
            <p:nvPr/>
          </p:nvSpPr>
          <p:spPr>
            <a:xfrm>
              <a:off x="414360" y="189540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0"/>
              <a:ext cx="209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Die Gestaltung des K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8840" y="3289320"/>
              <a:ext cx="1841400" cy="939960"/>
            </a:xfrm>
            <a:prstGeom prst="ellipse">
              <a:avLst/>
            </a:prstGeom>
            <a:noFill/>
            <a:ln w="9360">
              <a:solidFill>
                <a:srgbClr val="000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19640" y="3354480"/>
              <a:ext cx="1098720" cy="106200"/>
            </a:xfrm>
            <a:custGeom>
              <a:avLst/>
              <a:gdLst/>
              <a:ahLst/>
              <a:rect l="l" t="t" r="r" b="b"/>
              <a:pathLst>
                <a:path w="1327" h="122">
                  <a:moveTo>
                    <a:pt x="15" y="111"/>
                  </a:moveTo>
                  <a:cubicBezTo>
                    <a:pt x="71" y="92"/>
                    <a:pt x="0" y="118"/>
                    <a:pt x="87" y="71"/>
                  </a:cubicBezTo>
                  <a:cubicBezTo>
                    <a:pt x="138" y="43"/>
                    <a:pt x="198" y="39"/>
                    <a:pt x="247" y="7"/>
                  </a:cubicBezTo>
                  <a:cubicBezTo>
                    <a:pt x="292" y="10"/>
                    <a:pt x="343" y="0"/>
                    <a:pt x="383" y="23"/>
                  </a:cubicBezTo>
                  <a:cubicBezTo>
                    <a:pt x="426" y="47"/>
                    <a:pt x="396" y="82"/>
                    <a:pt x="471" y="95"/>
                  </a:cubicBezTo>
                  <a:cubicBezTo>
                    <a:pt x="522" y="103"/>
                    <a:pt x="570" y="113"/>
                    <a:pt x="623" y="119"/>
                  </a:cubicBezTo>
                  <a:cubicBezTo>
                    <a:pt x="764" y="114"/>
                    <a:pt x="937" y="122"/>
                    <a:pt x="1079" y="87"/>
                  </a:cubicBezTo>
                  <a:cubicBezTo>
                    <a:pt x="1158" y="67"/>
                    <a:pt x="1244" y="39"/>
                    <a:pt x="1327" y="39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40320" y="2666880"/>
              <a:ext cx="2590560" cy="622440"/>
            </a:xfrm>
            <a:custGeom>
              <a:avLst/>
              <a:gdLst/>
              <a:ahLst/>
              <a:rect l="l" t="t" r="r" b="b"/>
              <a:pathLst>
                <a:path w="1632" h="392">
                  <a:moveTo>
                    <a:pt x="0" y="392"/>
                  </a:moveTo>
                  <a:cubicBezTo>
                    <a:pt x="48" y="359"/>
                    <a:pt x="87" y="312"/>
                    <a:pt x="128" y="272"/>
                  </a:cubicBezTo>
                  <a:cubicBezTo>
                    <a:pt x="163" y="236"/>
                    <a:pt x="204" y="203"/>
                    <a:pt x="240" y="168"/>
                  </a:cubicBezTo>
                  <a:cubicBezTo>
                    <a:pt x="282" y="125"/>
                    <a:pt x="316" y="75"/>
                    <a:pt x="376" y="56"/>
                  </a:cubicBezTo>
                  <a:cubicBezTo>
                    <a:pt x="446" y="3"/>
                    <a:pt x="505" y="6"/>
                    <a:pt x="592" y="0"/>
                  </a:cubicBezTo>
                  <a:cubicBezTo>
                    <a:pt x="709" y="8"/>
                    <a:pt x="827" y="10"/>
                    <a:pt x="944" y="24"/>
                  </a:cubicBezTo>
                  <a:cubicBezTo>
                    <a:pt x="1034" y="34"/>
                    <a:pt x="1119" y="70"/>
                    <a:pt x="1208" y="88"/>
                  </a:cubicBezTo>
                  <a:cubicBezTo>
                    <a:pt x="1347" y="115"/>
                    <a:pt x="1491" y="112"/>
                    <a:pt x="1632" y="112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15880" y="3137040"/>
              <a:ext cx="2133720" cy="457200"/>
            </a:xfrm>
            <a:custGeom>
              <a:avLst/>
              <a:gdLst/>
              <a:ahLst/>
              <a:rect l="l" t="t" r="r" b="b"/>
              <a:pathLst>
                <a:path w="1344" h="288">
                  <a:moveTo>
                    <a:pt x="1344" y="288"/>
                  </a:moveTo>
                  <a:cubicBezTo>
                    <a:pt x="1312" y="193"/>
                    <a:pt x="1182" y="103"/>
                    <a:pt x="1088" y="80"/>
                  </a:cubicBezTo>
                  <a:cubicBezTo>
                    <a:pt x="1049" y="54"/>
                    <a:pt x="998" y="41"/>
                    <a:pt x="952" y="32"/>
                  </a:cubicBezTo>
                  <a:cubicBezTo>
                    <a:pt x="925" y="26"/>
                    <a:pt x="898" y="21"/>
                    <a:pt x="872" y="16"/>
                  </a:cubicBezTo>
                  <a:cubicBezTo>
                    <a:pt x="858" y="13"/>
                    <a:pt x="832" y="8"/>
                    <a:pt x="832" y="8"/>
                  </a:cubicBezTo>
                  <a:cubicBezTo>
                    <a:pt x="555" y="27"/>
                    <a:pt x="277" y="0"/>
                    <a:pt x="0" y="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13120" y="1866960"/>
              <a:ext cx="2108160" cy="1434960"/>
            </a:xfrm>
            <a:custGeom>
              <a:avLst/>
              <a:gdLst/>
              <a:ahLst/>
              <a:rect l="l" t="t" r="r" b="b"/>
              <a:pathLst>
                <a:path w="1328" h="904">
                  <a:moveTo>
                    <a:pt x="1328" y="904"/>
                  </a:moveTo>
                  <a:cubicBezTo>
                    <a:pt x="1322" y="831"/>
                    <a:pt x="1320" y="768"/>
                    <a:pt x="1288" y="704"/>
                  </a:cubicBezTo>
                  <a:cubicBezTo>
                    <a:pt x="1275" y="639"/>
                    <a:pt x="1248" y="566"/>
                    <a:pt x="1224" y="504"/>
                  </a:cubicBezTo>
                  <a:cubicBezTo>
                    <a:pt x="1208" y="413"/>
                    <a:pt x="1177" y="314"/>
                    <a:pt x="1136" y="232"/>
                  </a:cubicBezTo>
                  <a:cubicBezTo>
                    <a:pt x="1129" y="219"/>
                    <a:pt x="1128" y="203"/>
                    <a:pt x="1120" y="192"/>
                  </a:cubicBezTo>
                  <a:cubicBezTo>
                    <a:pt x="1078" y="136"/>
                    <a:pt x="1015" y="89"/>
                    <a:pt x="952" y="64"/>
                  </a:cubicBezTo>
                  <a:cubicBezTo>
                    <a:pt x="888" y="38"/>
                    <a:pt x="819" y="23"/>
                    <a:pt x="752" y="16"/>
                  </a:cubicBezTo>
                  <a:cubicBezTo>
                    <a:pt x="701" y="10"/>
                    <a:pt x="600" y="0"/>
                    <a:pt x="600" y="0"/>
                  </a:cubicBezTo>
                  <a:cubicBezTo>
                    <a:pt x="399" y="6"/>
                    <a:pt x="201" y="24"/>
                    <a:pt x="0" y="2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75080" y="4241880"/>
              <a:ext cx="2565360" cy="1117440"/>
            </a:xfrm>
            <a:custGeom>
              <a:avLst/>
              <a:gdLst/>
              <a:ahLst/>
              <a:rect l="l" t="t" r="r" b="b"/>
              <a:pathLst>
                <a:path w="1616" h="704">
                  <a:moveTo>
                    <a:pt x="0" y="0"/>
                  </a:moveTo>
                  <a:cubicBezTo>
                    <a:pt x="1" y="34"/>
                    <a:pt x="12" y="267"/>
                    <a:pt x="16" y="312"/>
                  </a:cubicBezTo>
                  <a:cubicBezTo>
                    <a:pt x="19" y="348"/>
                    <a:pt x="27" y="416"/>
                    <a:pt x="48" y="448"/>
                  </a:cubicBezTo>
                  <a:cubicBezTo>
                    <a:pt x="79" y="495"/>
                    <a:pt x="116" y="512"/>
                    <a:pt x="168" y="536"/>
                  </a:cubicBezTo>
                  <a:cubicBezTo>
                    <a:pt x="345" y="616"/>
                    <a:pt x="514" y="617"/>
                    <a:pt x="712" y="624"/>
                  </a:cubicBezTo>
                  <a:cubicBezTo>
                    <a:pt x="868" y="655"/>
                    <a:pt x="1033" y="657"/>
                    <a:pt x="1192" y="664"/>
                  </a:cubicBezTo>
                  <a:cubicBezTo>
                    <a:pt x="1331" y="681"/>
                    <a:pt x="1475" y="704"/>
                    <a:pt x="1616" y="70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30360" y="4191120"/>
              <a:ext cx="2552760" cy="203040"/>
            </a:xfrm>
            <a:custGeom>
              <a:avLst/>
              <a:gdLst/>
              <a:ahLst/>
              <a:rect l="l" t="t" r="r" b="b"/>
              <a:pathLst>
                <a:path w="1608" h="128">
                  <a:moveTo>
                    <a:pt x="1608" y="0"/>
                  </a:moveTo>
                  <a:cubicBezTo>
                    <a:pt x="1500" y="107"/>
                    <a:pt x="1416" y="103"/>
                    <a:pt x="1272" y="128"/>
                  </a:cubicBezTo>
                  <a:cubicBezTo>
                    <a:pt x="1072" y="125"/>
                    <a:pt x="871" y="124"/>
                    <a:pt x="672" y="120"/>
                  </a:cubicBezTo>
                  <a:cubicBezTo>
                    <a:pt x="447" y="114"/>
                    <a:pt x="226" y="64"/>
                    <a:pt x="0" y="6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87680" y="2184480"/>
              <a:ext cx="1689120" cy="1092240"/>
            </a:xfrm>
            <a:custGeom>
              <a:avLst/>
              <a:gdLst/>
              <a:ahLst/>
              <a:rect l="l" t="t" r="r" b="b"/>
              <a:pathLst>
                <a:path w="496" h="544">
                  <a:moveTo>
                    <a:pt x="0" y="544"/>
                  </a:moveTo>
                  <a:cubicBezTo>
                    <a:pt x="58" y="504"/>
                    <a:pt x="79" y="443"/>
                    <a:pt x="112" y="384"/>
                  </a:cubicBezTo>
                  <a:cubicBezTo>
                    <a:pt x="158" y="298"/>
                    <a:pt x="218" y="205"/>
                    <a:pt x="288" y="136"/>
                  </a:cubicBezTo>
                  <a:cubicBezTo>
                    <a:pt x="332" y="91"/>
                    <a:pt x="392" y="59"/>
                    <a:pt x="448" y="32"/>
                  </a:cubicBezTo>
                  <a:cubicBezTo>
                    <a:pt x="458" y="26"/>
                    <a:pt x="496" y="10"/>
                    <a:pt x="496" y="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10120" y="4127400"/>
              <a:ext cx="2400480" cy="514440"/>
            </a:xfrm>
            <a:custGeom>
              <a:avLst/>
              <a:gdLst/>
              <a:ahLst/>
              <a:rect l="l" t="t" r="r" b="b"/>
              <a:pathLst>
                <a:path w="1512" h="324">
                  <a:moveTo>
                    <a:pt x="0" y="0"/>
                  </a:moveTo>
                  <a:cubicBezTo>
                    <a:pt x="37" y="56"/>
                    <a:pt x="127" y="133"/>
                    <a:pt x="192" y="160"/>
                  </a:cubicBezTo>
                  <a:cubicBezTo>
                    <a:pt x="235" y="178"/>
                    <a:pt x="285" y="178"/>
                    <a:pt x="328" y="200"/>
                  </a:cubicBezTo>
                  <a:cubicBezTo>
                    <a:pt x="577" y="324"/>
                    <a:pt x="1002" y="301"/>
                    <a:pt x="1248" y="304"/>
                  </a:cubicBezTo>
                  <a:cubicBezTo>
                    <a:pt x="1335" y="304"/>
                    <a:pt x="1424" y="304"/>
                    <a:pt x="1512" y="30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11720" y="1854360"/>
              <a:ext cx="2641680" cy="1422360"/>
            </a:xfrm>
            <a:custGeom>
              <a:avLst/>
              <a:gdLst/>
              <a:ahLst/>
              <a:rect l="l" t="t" r="r" b="b"/>
              <a:pathLst>
                <a:path w="1664" h="896">
                  <a:moveTo>
                    <a:pt x="0" y="896"/>
                  </a:moveTo>
                  <a:cubicBezTo>
                    <a:pt x="17" y="824"/>
                    <a:pt x="66" y="774"/>
                    <a:pt x="104" y="712"/>
                  </a:cubicBezTo>
                  <a:cubicBezTo>
                    <a:pt x="127" y="673"/>
                    <a:pt x="157" y="633"/>
                    <a:pt x="176" y="592"/>
                  </a:cubicBezTo>
                  <a:cubicBezTo>
                    <a:pt x="214" y="506"/>
                    <a:pt x="171" y="574"/>
                    <a:pt x="208" y="520"/>
                  </a:cubicBezTo>
                  <a:cubicBezTo>
                    <a:pt x="227" y="440"/>
                    <a:pt x="270" y="385"/>
                    <a:pt x="328" y="328"/>
                  </a:cubicBezTo>
                  <a:cubicBezTo>
                    <a:pt x="354" y="301"/>
                    <a:pt x="372" y="275"/>
                    <a:pt x="408" y="264"/>
                  </a:cubicBezTo>
                  <a:cubicBezTo>
                    <a:pt x="537" y="134"/>
                    <a:pt x="675" y="84"/>
                    <a:pt x="856" y="64"/>
                  </a:cubicBezTo>
                  <a:cubicBezTo>
                    <a:pt x="941" y="42"/>
                    <a:pt x="845" y="64"/>
                    <a:pt x="1032" y="48"/>
                  </a:cubicBezTo>
                  <a:cubicBezTo>
                    <a:pt x="1104" y="41"/>
                    <a:pt x="1175" y="30"/>
                    <a:pt x="1248" y="24"/>
                  </a:cubicBezTo>
                  <a:cubicBezTo>
                    <a:pt x="1290" y="15"/>
                    <a:pt x="1333" y="8"/>
                    <a:pt x="1376" y="0"/>
                  </a:cubicBezTo>
                  <a:cubicBezTo>
                    <a:pt x="1450" y="6"/>
                    <a:pt x="1468" y="6"/>
                    <a:pt x="1536" y="16"/>
                  </a:cubicBezTo>
                  <a:cubicBezTo>
                    <a:pt x="1577" y="21"/>
                    <a:pt x="1622" y="40"/>
                    <a:pt x="1664" y="4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63600" y="2387520"/>
              <a:ext cx="2617920" cy="995400"/>
            </a:xfrm>
            <a:custGeom>
              <a:avLst/>
              <a:gdLst/>
              <a:ahLst/>
              <a:rect l="l" t="t" r="r" b="b"/>
              <a:pathLst>
                <a:path w="1649" h="627">
                  <a:moveTo>
                    <a:pt x="1640" y="624"/>
                  </a:moveTo>
                  <a:cubicBezTo>
                    <a:pt x="1600" y="465"/>
                    <a:pt x="1649" y="627"/>
                    <a:pt x="1600" y="528"/>
                  </a:cubicBezTo>
                  <a:cubicBezTo>
                    <a:pt x="1595" y="518"/>
                    <a:pt x="1596" y="505"/>
                    <a:pt x="1592" y="496"/>
                  </a:cubicBezTo>
                  <a:cubicBezTo>
                    <a:pt x="1583" y="478"/>
                    <a:pt x="1560" y="448"/>
                    <a:pt x="1560" y="448"/>
                  </a:cubicBezTo>
                  <a:cubicBezTo>
                    <a:pt x="1536" y="353"/>
                    <a:pt x="1446" y="268"/>
                    <a:pt x="1392" y="192"/>
                  </a:cubicBezTo>
                  <a:cubicBezTo>
                    <a:pt x="1360" y="147"/>
                    <a:pt x="1393" y="161"/>
                    <a:pt x="1344" y="112"/>
                  </a:cubicBezTo>
                  <a:cubicBezTo>
                    <a:pt x="1307" y="75"/>
                    <a:pt x="1268" y="17"/>
                    <a:pt x="1216" y="0"/>
                  </a:cubicBezTo>
                  <a:cubicBezTo>
                    <a:pt x="1129" y="9"/>
                    <a:pt x="1046" y="35"/>
                    <a:pt x="960" y="48"/>
                  </a:cubicBezTo>
                  <a:cubicBezTo>
                    <a:pt x="880" y="79"/>
                    <a:pt x="793" y="86"/>
                    <a:pt x="712" y="112"/>
                  </a:cubicBezTo>
                  <a:cubicBezTo>
                    <a:pt x="655" y="129"/>
                    <a:pt x="600" y="151"/>
                    <a:pt x="544" y="168"/>
                  </a:cubicBezTo>
                  <a:cubicBezTo>
                    <a:pt x="510" y="177"/>
                    <a:pt x="474" y="186"/>
                    <a:pt x="440" y="192"/>
                  </a:cubicBezTo>
                  <a:cubicBezTo>
                    <a:pt x="402" y="198"/>
                    <a:pt x="328" y="208"/>
                    <a:pt x="328" y="208"/>
                  </a:cubicBezTo>
                  <a:cubicBezTo>
                    <a:pt x="264" y="205"/>
                    <a:pt x="199" y="203"/>
                    <a:pt x="136" y="200"/>
                  </a:cubicBezTo>
                  <a:cubicBezTo>
                    <a:pt x="89" y="197"/>
                    <a:pt x="45" y="184"/>
                    <a:pt x="0" y="18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39920" y="3860640"/>
              <a:ext cx="1409760" cy="520920"/>
            </a:xfrm>
            <a:custGeom>
              <a:avLst/>
              <a:gdLst/>
              <a:ahLst/>
              <a:rect l="l" t="t" r="r" b="b"/>
              <a:pathLst>
                <a:path w="888" h="328">
                  <a:moveTo>
                    <a:pt x="888" y="328"/>
                  </a:moveTo>
                  <a:cubicBezTo>
                    <a:pt x="884" y="306"/>
                    <a:pt x="878" y="245"/>
                    <a:pt x="864" y="224"/>
                  </a:cubicBezTo>
                  <a:cubicBezTo>
                    <a:pt x="852" y="206"/>
                    <a:pt x="803" y="197"/>
                    <a:pt x="792" y="192"/>
                  </a:cubicBezTo>
                  <a:cubicBezTo>
                    <a:pt x="696" y="144"/>
                    <a:pt x="601" y="137"/>
                    <a:pt x="496" y="128"/>
                  </a:cubicBezTo>
                  <a:cubicBezTo>
                    <a:pt x="429" y="114"/>
                    <a:pt x="363" y="109"/>
                    <a:pt x="296" y="104"/>
                  </a:cubicBezTo>
                  <a:cubicBezTo>
                    <a:pt x="269" y="95"/>
                    <a:pt x="250" y="69"/>
                    <a:pt x="224" y="64"/>
                  </a:cubicBezTo>
                  <a:cubicBezTo>
                    <a:pt x="174" y="54"/>
                    <a:pt x="127" y="39"/>
                    <a:pt x="80" y="24"/>
                  </a:cubicBezTo>
                  <a:cubicBezTo>
                    <a:pt x="64" y="18"/>
                    <a:pt x="48" y="12"/>
                    <a:pt x="32" y="8"/>
                  </a:cubicBezTo>
                  <a:cubicBezTo>
                    <a:pt x="21" y="5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90880" y="3300480"/>
              <a:ext cx="1127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Interven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52760" y="1471680"/>
              <a:ext cx="229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Räume und Design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Interfa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34000" y="2505240"/>
              <a:ext cx="104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Sprache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Tona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20360" y="2009880"/>
              <a:ext cx="2219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Architektur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nvironment desi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78480" y="3068640"/>
              <a:ext cx="1306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Bil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etapher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lla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Vis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86400" y="5359320"/>
              <a:ext cx="288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Komplexe Kommunik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4560" y="4051440"/>
              <a:ext cx="1146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Flow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Empath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7440" y="2784600"/>
              <a:ext cx="91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Inhal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10720" y="4521240"/>
              <a:ext cx="1718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Prozessdesig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ierarch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Teams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45080" y="2073240"/>
              <a:ext cx="1166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Lösun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Theori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67080" y="1638360"/>
              <a:ext cx="762120" cy="1638360"/>
            </a:xfrm>
            <a:custGeom>
              <a:avLst/>
              <a:gdLst/>
              <a:ahLst/>
              <a:rect l="l" t="t" r="r" b="b"/>
              <a:pathLst>
                <a:path w="480" h="1032">
                  <a:moveTo>
                    <a:pt x="0" y="1032"/>
                  </a:moveTo>
                  <a:cubicBezTo>
                    <a:pt x="25" y="1006"/>
                    <a:pt x="31" y="989"/>
                    <a:pt x="48" y="960"/>
                  </a:cubicBezTo>
                  <a:cubicBezTo>
                    <a:pt x="57" y="943"/>
                    <a:pt x="73" y="930"/>
                    <a:pt x="80" y="912"/>
                  </a:cubicBezTo>
                  <a:cubicBezTo>
                    <a:pt x="85" y="896"/>
                    <a:pt x="96" y="864"/>
                    <a:pt x="96" y="864"/>
                  </a:cubicBezTo>
                  <a:cubicBezTo>
                    <a:pt x="92" y="807"/>
                    <a:pt x="80" y="752"/>
                    <a:pt x="80" y="696"/>
                  </a:cubicBezTo>
                  <a:cubicBezTo>
                    <a:pt x="80" y="602"/>
                    <a:pt x="128" y="460"/>
                    <a:pt x="152" y="368"/>
                  </a:cubicBezTo>
                  <a:cubicBezTo>
                    <a:pt x="155" y="293"/>
                    <a:pt x="144" y="215"/>
                    <a:pt x="168" y="144"/>
                  </a:cubicBezTo>
                  <a:cubicBezTo>
                    <a:pt x="185" y="91"/>
                    <a:pt x="253" y="16"/>
                    <a:pt x="304" y="0"/>
                  </a:cubicBezTo>
                  <a:cubicBezTo>
                    <a:pt x="367" y="21"/>
                    <a:pt x="413" y="40"/>
                    <a:pt x="480" y="4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84720" y="4241880"/>
              <a:ext cx="1320480" cy="1638360"/>
            </a:xfrm>
            <a:custGeom>
              <a:avLst/>
              <a:gdLst/>
              <a:ahLst/>
              <a:rect l="l" t="t" r="r" b="b"/>
              <a:pathLst>
                <a:path w="832" h="1032">
                  <a:moveTo>
                    <a:pt x="592" y="0"/>
                  </a:moveTo>
                  <a:cubicBezTo>
                    <a:pt x="571" y="61"/>
                    <a:pt x="548" y="118"/>
                    <a:pt x="520" y="176"/>
                  </a:cubicBezTo>
                  <a:cubicBezTo>
                    <a:pt x="495" y="224"/>
                    <a:pt x="488" y="271"/>
                    <a:pt x="440" y="304"/>
                  </a:cubicBezTo>
                  <a:cubicBezTo>
                    <a:pt x="417" y="337"/>
                    <a:pt x="412" y="352"/>
                    <a:pt x="384" y="376"/>
                  </a:cubicBezTo>
                  <a:cubicBezTo>
                    <a:pt x="376" y="382"/>
                    <a:pt x="366" y="385"/>
                    <a:pt x="360" y="392"/>
                  </a:cubicBezTo>
                  <a:cubicBezTo>
                    <a:pt x="300" y="451"/>
                    <a:pt x="368" y="402"/>
                    <a:pt x="312" y="440"/>
                  </a:cubicBezTo>
                  <a:cubicBezTo>
                    <a:pt x="283" y="483"/>
                    <a:pt x="250" y="521"/>
                    <a:pt x="216" y="560"/>
                  </a:cubicBezTo>
                  <a:cubicBezTo>
                    <a:pt x="187" y="592"/>
                    <a:pt x="146" y="621"/>
                    <a:pt x="120" y="656"/>
                  </a:cubicBezTo>
                  <a:cubicBezTo>
                    <a:pt x="92" y="692"/>
                    <a:pt x="67" y="731"/>
                    <a:pt x="40" y="768"/>
                  </a:cubicBezTo>
                  <a:cubicBezTo>
                    <a:pt x="32" y="792"/>
                    <a:pt x="24" y="816"/>
                    <a:pt x="16" y="840"/>
                  </a:cubicBezTo>
                  <a:cubicBezTo>
                    <a:pt x="10" y="856"/>
                    <a:pt x="0" y="888"/>
                    <a:pt x="0" y="888"/>
                  </a:cubicBezTo>
                  <a:cubicBezTo>
                    <a:pt x="5" y="896"/>
                    <a:pt x="8" y="906"/>
                    <a:pt x="16" y="912"/>
                  </a:cubicBezTo>
                  <a:cubicBezTo>
                    <a:pt x="37" y="926"/>
                    <a:pt x="137" y="945"/>
                    <a:pt x="168" y="952"/>
                  </a:cubicBezTo>
                  <a:cubicBezTo>
                    <a:pt x="289" y="938"/>
                    <a:pt x="382" y="977"/>
                    <a:pt x="496" y="1000"/>
                  </a:cubicBezTo>
                  <a:cubicBezTo>
                    <a:pt x="608" y="1022"/>
                    <a:pt x="714" y="1032"/>
                    <a:pt x="832" y="1032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46320" y="5718240"/>
              <a:ext cx="317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ultimedia, Multisensuelle 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70640" y="1143000"/>
              <a:ext cx="142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tmosphä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59000" y="5475240"/>
              <a:ext cx="2089080" cy="450720"/>
            </a:xfrm>
            <a:custGeom>
              <a:avLst/>
              <a:gdLst/>
              <a:ahLst/>
              <a:rect l="l" t="t" r="r" b="b"/>
              <a:pathLst>
                <a:path w="1316" h="284">
                  <a:moveTo>
                    <a:pt x="1316" y="0"/>
                  </a:moveTo>
                  <a:cubicBezTo>
                    <a:pt x="1243" y="47"/>
                    <a:pt x="1273" y="42"/>
                    <a:pt x="1218" y="98"/>
                  </a:cubicBezTo>
                  <a:cubicBezTo>
                    <a:pt x="1205" y="134"/>
                    <a:pt x="1189" y="149"/>
                    <a:pt x="1165" y="178"/>
                  </a:cubicBezTo>
                  <a:cubicBezTo>
                    <a:pt x="1111" y="240"/>
                    <a:pt x="1077" y="263"/>
                    <a:pt x="996" y="284"/>
                  </a:cubicBezTo>
                  <a:cubicBezTo>
                    <a:pt x="929" y="277"/>
                    <a:pt x="865" y="268"/>
                    <a:pt x="800" y="258"/>
                  </a:cubicBezTo>
                  <a:cubicBezTo>
                    <a:pt x="695" y="204"/>
                    <a:pt x="549" y="202"/>
                    <a:pt x="436" y="195"/>
                  </a:cubicBezTo>
                  <a:cubicBezTo>
                    <a:pt x="363" y="196"/>
                    <a:pt x="121" y="213"/>
                    <a:pt x="0" y="213"/>
                  </a:cubicBezTo>
                </a:path>
              </a:pathLst>
            </a:custGeom>
            <a:noFill/>
            <a:ln w="9360">
              <a:solidFill>
                <a:srgbClr val="0000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2760" y="3551400"/>
              <a:ext cx="85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Ev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29200" y="1425600"/>
              <a:ext cx="99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Spra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04440" y="5207040"/>
              <a:ext cx="1075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Tim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Chrono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Kai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4560" y="4216320"/>
              <a:ext cx="15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Organis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447840" y="1219320"/>
            <a:ext cx="8467200" cy="4560480"/>
            <a:chOff x="447840" y="1219320"/>
            <a:chExt cx="8467200" cy="4560480"/>
          </a:xfrm>
        </p:grpSpPr>
        <p:sp>
          <p:nvSpPr>
            <p:cNvPr id="112" name=""/>
            <p:cNvSpPr/>
            <p:nvPr/>
          </p:nvSpPr>
          <p:spPr>
            <a:xfrm>
              <a:off x="447840" y="164304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32320" y="3062160"/>
              <a:ext cx="1841400" cy="939600"/>
            </a:xfrm>
            <a:prstGeom prst="ellipse">
              <a:avLst/>
            </a:prstGeom>
            <a:noFill/>
            <a:ln w="9360">
              <a:solidFill>
                <a:srgbClr val="000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3120" y="3127320"/>
              <a:ext cx="1098720" cy="105840"/>
            </a:xfrm>
            <a:custGeom>
              <a:avLst/>
              <a:gdLst/>
              <a:ahLst/>
              <a:rect l="l" t="t" r="r" b="b"/>
              <a:pathLst>
                <a:path w="1327" h="122">
                  <a:moveTo>
                    <a:pt x="15" y="111"/>
                  </a:moveTo>
                  <a:cubicBezTo>
                    <a:pt x="71" y="92"/>
                    <a:pt x="0" y="118"/>
                    <a:pt x="87" y="71"/>
                  </a:cubicBezTo>
                  <a:cubicBezTo>
                    <a:pt x="138" y="43"/>
                    <a:pt x="198" y="39"/>
                    <a:pt x="247" y="7"/>
                  </a:cubicBezTo>
                  <a:cubicBezTo>
                    <a:pt x="292" y="10"/>
                    <a:pt x="343" y="0"/>
                    <a:pt x="383" y="23"/>
                  </a:cubicBezTo>
                  <a:cubicBezTo>
                    <a:pt x="426" y="47"/>
                    <a:pt x="396" y="82"/>
                    <a:pt x="471" y="95"/>
                  </a:cubicBezTo>
                  <a:cubicBezTo>
                    <a:pt x="522" y="103"/>
                    <a:pt x="570" y="113"/>
                    <a:pt x="623" y="119"/>
                  </a:cubicBezTo>
                  <a:cubicBezTo>
                    <a:pt x="764" y="114"/>
                    <a:pt x="937" y="122"/>
                    <a:pt x="1079" y="87"/>
                  </a:cubicBezTo>
                  <a:cubicBezTo>
                    <a:pt x="1158" y="67"/>
                    <a:pt x="1244" y="39"/>
                    <a:pt x="1327" y="39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3800" y="2439720"/>
              <a:ext cx="2590560" cy="622080"/>
            </a:xfrm>
            <a:custGeom>
              <a:avLst/>
              <a:gdLst/>
              <a:ahLst/>
              <a:rect l="l" t="t" r="r" b="b"/>
              <a:pathLst>
                <a:path w="1632" h="392">
                  <a:moveTo>
                    <a:pt x="0" y="392"/>
                  </a:moveTo>
                  <a:cubicBezTo>
                    <a:pt x="48" y="359"/>
                    <a:pt x="87" y="312"/>
                    <a:pt x="128" y="272"/>
                  </a:cubicBezTo>
                  <a:cubicBezTo>
                    <a:pt x="163" y="236"/>
                    <a:pt x="204" y="203"/>
                    <a:pt x="240" y="168"/>
                  </a:cubicBezTo>
                  <a:cubicBezTo>
                    <a:pt x="282" y="125"/>
                    <a:pt x="316" y="75"/>
                    <a:pt x="376" y="56"/>
                  </a:cubicBezTo>
                  <a:cubicBezTo>
                    <a:pt x="446" y="3"/>
                    <a:pt x="505" y="6"/>
                    <a:pt x="592" y="0"/>
                  </a:cubicBezTo>
                  <a:cubicBezTo>
                    <a:pt x="709" y="8"/>
                    <a:pt x="827" y="10"/>
                    <a:pt x="944" y="24"/>
                  </a:cubicBezTo>
                  <a:cubicBezTo>
                    <a:pt x="1034" y="34"/>
                    <a:pt x="1119" y="70"/>
                    <a:pt x="1208" y="88"/>
                  </a:cubicBezTo>
                  <a:cubicBezTo>
                    <a:pt x="1347" y="115"/>
                    <a:pt x="1491" y="112"/>
                    <a:pt x="1632" y="112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49360" y="2909880"/>
              <a:ext cx="2133720" cy="456840"/>
            </a:xfrm>
            <a:custGeom>
              <a:avLst/>
              <a:gdLst/>
              <a:ahLst/>
              <a:rect l="l" t="t" r="r" b="b"/>
              <a:pathLst>
                <a:path w="1344" h="288">
                  <a:moveTo>
                    <a:pt x="1344" y="288"/>
                  </a:moveTo>
                  <a:cubicBezTo>
                    <a:pt x="1312" y="193"/>
                    <a:pt x="1182" y="103"/>
                    <a:pt x="1088" y="80"/>
                  </a:cubicBezTo>
                  <a:cubicBezTo>
                    <a:pt x="1049" y="54"/>
                    <a:pt x="998" y="41"/>
                    <a:pt x="952" y="32"/>
                  </a:cubicBezTo>
                  <a:cubicBezTo>
                    <a:pt x="925" y="26"/>
                    <a:pt x="898" y="21"/>
                    <a:pt x="872" y="16"/>
                  </a:cubicBezTo>
                  <a:cubicBezTo>
                    <a:pt x="858" y="13"/>
                    <a:pt x="832" y="8"/>
                    <a:pt x="832" y="8"/>
                  </a:cubicBezTo>
                  <a:cubicBezTo>
                    <a:pt x="555" y="27"/>
                    <a:pt x="277" y="0"/>
                    <a:pt x="0" y="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46600" y="1639800"/>
              <a:ext cx="2108160" cy="1434600"/>
            </a:xfrm>
            <a:custGeom>
              <a:avLst/>
              <a:gdLst/>
              <a:ahLst/>
              <a:rect l="l" t="t" r="r" b="b"/>
              <a:pathLst>
                <a:path w="1328" h="904">
                  <a:moveTo>
                    <a:pt x="1328" y="904"/>
                  </a:moveTo>
                  <a:cubicBezTo>
                    <a:pt x="1322" y="831"/>
                    <a:pt x="1320" y="768"/>
                    <a:pt x="1288" y="704"/>
                  </a:cubicBezTo>
                  <a:cubicBezTo>
                    <a:pt x="1275" y="639"/>
                    <a:pt x="1248" y="566"/>
                    <a:pt x="1224" y="504"/>
                  </a:cubicBezTo>
                  <a:cubicBezTo>
                    <a:pt x="1208" y="413"/>
                    <a:pt x="1177" y="314"/>
                    <a:pt x="1136" y="232"/>
                  </a:cubicBezTo>
                  <a:cubicBezTo>
                    <a:pt x="1129" y="219"/>
                    <a:pt x="1128" y="203"/>
                    <a:pt x="1120" y="192"/>
                  </a:cubicBezTo>
                  <a:cubicBezTo>
                    <a:pt x="1078" y="136"/>
                    <a:pt x="1015" y="89"/>
                    <a:pt x="952" y="64"/>
                  </a:cubicBezTo>
                  <a:cubicBezTo>
                    <a:pt x="888" y="38"/>
                    <a:pt x="819" y="23"/>
                    <a:pt x="752" y="16"/>
                  </a:cubicBezTo>
                  <a:cubicBezTo>
                    <a:pt x="701" y="10"/>
                    <a:pt x="600" y="0"/>
                    <a:pt x="600" y="0"/>
                  </a:cubicBezTo>
                  <a:cubicBezTo>
                    <a:pt x="399" y="6"/>
                    <a:pt x="201" y="24"/>
                    <a:pt x="0" y="2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08560" y="4014720"/>
              <a:ext cx="2565360" cy="1117080"/>
            </a:xfrm>
            <a:custGeom>
              <a:avLst/>
              <a:gdLst/>
              <a:ahLst/>
              <a:rect l="l" t="t" r="r" b="b"/>
              <a:pathLst>
                <a:path w="1616" h="704">
                  <a:moveTo>
                    <a:pt x="0" y="0"/>
                  </a:moveTo>
                  <a:cubicBezTo>
                    <a:pt x="1" y="34"/>
                    <a:pt x="12" y="267"/>
                    <a:pt x="16" y="312"/>
                  </a:cubicBezTo>
                  <a:cubicBezTo>
                    <a:pt x="19" y="348"/>
                    <a:pt x="27" y="416"/>
                    <a:pt x="48" y="448"/>
                  </a:cubicBezTo>
                  <a:cubicBezTo>
                    <a:pt x="79" y="495"/>
                    <a:pt x="116" y="512"/>
                    <a:pt x="168" y="536"/>
                  </a:cubicBezTo>
                  <a:cubicBezTo>
                    <a:pt x="345" y="616"/>
                    <a:pt x="514" y="617"/>
                    <a:pt x="712" y="624"/>
                  </a:cubicBezTo>
                  <a:cubicBezTo>
                    <a:pt x="868" y="655"/>
                    <a:pt x="1033" y="657"/>
                    <a:pt x="1192" y="664"/>
                  </a:cubicBezTo>
                  <a:cubicBezTo>
                    <a:pt x="1331" y="681"/>
                    <a:pt x="1475" y="704"/>
                    <a:pt x="1616" y="70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63840" y="3963960"/>
              <a:ext cx="2552760" cy="202680"/>
            </a:xfrm>
            <a:custGeom>
              <a:avLst/>
              <a:gdLst/>
              <a:ahLst/>
              <a:rect l="l" t="t" r="r" b="b"/>
              <a:pathLst>
                <a:path w="1608" h="128">
                  <a:moveTo>
                    <a:pt x="1608" y="0"/>
                  </a:moveTo>
                  <a:cubicBezTo>
                    <a:pt x="1500" y="107"/>
                    <a:pt x="1416" y="103"/>
                    <a:pt x="1272" y="128"/>
                  </a:cubicBezTo>
                  <a:cubicBezTo>
                    <a:pt x="1072" y="125"/>
                    <a:pt x="871" y="124"/>
                    <a:pt x="672" y="120"/>
                  </a:cubicBezTo>
                  <a:cubicBezTo>
                    <a:pt x="447" y="114"/>
                    <a:pt x="226" y="64"/>
                    <a:pt x="0" y="6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21160" y="1957320"/>
              <a:ext cx="1689120" cy="1091880"/>
            </a:xfrm>
            <a:custGeom>
              <a:avLst/>
              <a:gdLst/>
              <a:ahLst/>
              <a:rect l="l" t="t" r="r" b="b"/>
              <a:pathLst>
                <a:path w="496" h="544">
                  <a:moveTo>
                    <a:pt x="0" y="544"/>
                  </a:moveTo>
                  <a:cubicBezTo>
                    <a:pt x="58" y="504"/>
                    <a:pt x="79" y="443"/>
                    <a:pt x="112" y="384"/>
                  </a:cubicBezTo>
                  <a:cubicBezTo>
                    <a:pt x="158" y="298"/>
                    <a:pt x="218" y="205"/>
                    <a:pt x="288" y="136"/>
                  </a:cubicBezTo>
                  <a:cubicBezTo>
                    <a:pt x="332" y="91"/>
                    <a:pt x="392" y="59"/>
                    <a:pt x="448" y="32"/>
                  </a:cubicBezTo>
                  <a:cubicBezTo>
                    <a:pt x="458" y="26"/>
                    <a:pt x="496" y="10"/>
                    <a:pt x="496" y="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43600" y="3900240"/>
              <a:ext cx="2400480" cy="514080"/>
            </a:xfrm>
            <a:custGeom>
              <a:avLst/>
              <a:gdLst/>
              <a:ahLst/>
              <a:rect l="l" t="t" r="r" b="b"/>
              <a:pathLst>
                <a:path w="1512" h="324">
                  <a:moveTo>
                    <a:pt x="0" y="0"/>
                  </a:moveTo>
                  <a:cubicBezTo>
                    <a:pt x="37" y="56"/>
                    <a:pt x="127" y="133"/>
                    <a:pt x="192" y="160"/>
                  </a:cubicBezTo>
                  <a:cubicBezTo>
                    <a:pt x="235" y="178"/>
                    <a:pt x="285" y="178"/>
                    <a:pt x="328" y="200"/>
                  </a:cubicBezTo>
                  <a:cubicBezTo>
                    <a:pt x="577" y="324"/>
                    <a:pt x="1002" y="301"/>
                    <a:pt x="1248" y="304"/>
                  </a:cubicBezTo>
                  <a:cubicBezTo>
                    <a:pt x="1335" y="304"/>
                    <a:pt x="1424" y="304"/>
                    <a:pt x="1512" y="30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45200" y="1627200"/>
              <a:ext cx="2641680" cy="1422000"/>
            </a:xfrm>
            <a:custGeom>
              <a:avLst/>
              <a:gdLst/>
              <a:ahLst/>
              <a:rect l="l" t="t" r="r" b="b"/>
              <a:pathLst>
                <a:path w="1664" h="896">
                  <a:moveTo>
                    <a:pt x="0" y="896"/>
                  </a:moveTo>
                  <a:cubicBezTo>
                    <a:pt x="17" y="824"/>
                    <a:pt x="66" y="774"/>
                    <a:pt x="104" y="712"/>
                  </a:cubicBezTo>
                  <a:cubicBezTo>
                    <a:pt x="127" y="673"/>
                    <a:pt x="157" y="633"/>
                    <a:pt x="176" y="592"/>
                  </a:cubicBezTo>
                  <a:cubicBezTo>
                    <a:pt x="214" y="506"/>
                    <a:pt x="171" y="574"/>
                    <a:pt x="208" y="520"/>
                  </a:cubicBezTo>
                  <a:cubicBezTo>
                    <a:pt x="227" y="440"/>
                    <a:pt x="270" y="385"/>
                    <a:pt x="328" y="328"/>
                  </a:cubicBezTo>
                  <a:cubicBezTo>
                    <a:pt x="354" y="301"/>
                    <a:pt x="372" y="275"/>
                    <a:pt x="408" y="264"/>
                  </a:cubicBezTo>
                  <a:cubicBezTo>
                    <a:pt x="537" y="134"/>
                    <a:pt x="675" y="84"/>
                    <a:pt x="856" y="64"/>
                  </a:cubicBezTo>
                  <a:cubicBezTo>
                    <a:pt x="941" y="42"/>
                    <a:pt x="845" y="64"/>
                    <a:pt x="1032" y="48"/>
                  </a:cubicBezTo>
                  <a:cubicBezTo>
                    <a:pt x="1104" y="41"/>
                    <a:pt x="1175" y="30"/>
                    <a:pt x="1248" y="24"/>
                  </a:cubicBezTo>
                  <a:cubicBezTo>
                    <a:pt x="1290" y="15"/>
                    <a:pt x="1333" y="8"/>
                    <a:pt x="1376" y="0"/>
                  </a:cubicBezTo>
                  <a:cubicBezTo>
                    <a:pt x="1450" y="6"/>
                    <a:pt x="1468" y="6"/>
                    <a:pt x="1536" y="16"/>
                  </a:cubicBezTo>
                  <a:cubicBezTo>
                    <a:pt x="1577" y="21"/>
                    <a:pt x="1622" y="40"/>
                    <a:pt x="1664" y="4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97080" y="2160360"/>
              <a:ext cx="2617920" cy="995040"/>
            </a:xfrm>
            <a:custGeom>
              <a:avLst/>
              <a:gdLst/>
              <a:ahLst/>
              <a:rect l="l" t="t" r="r" b="b"/>
              <a:pathLst>
                <a:path w="1649" h="627">
                  <a:moveTo>
                    <a:pt x="1640" y="624"/>
                  </a:moveTo>
                  <a:cubicBezTo>
                    <a:pt x="1600" y="465"/>
                    <a:pt x="1649" y="627"/>
                    <a:pt x="1600" y="528"/>
                  </a:cubicBezTo>
                  <a:cubicBezTo>
                    <a:pt x="1595" y="518"/>
                    <a:pt x="1596" y="505"/>
                    <a:pt x="1592" y="496"/>
                  </a:cubicBezTo>
                  <a:cubicBezTo>
                    <a:pt x="1583" y="478"/>
                    <a:pt x="1560" y="448"/>
                    <a:pt x="1560" y="448"/>
                  </a:cubicBezTo>
                  <a:cubicBezTo>
                    <a:pt x="1536" y="353"/>
                    <a:pt x="1446" y="268"/>
                    <a:pt x="1392" y="192"/>
                  </a:cubicBezTo>
                  <a:cubicBezTo>
                    <a:pt x="1360" y="147"/>
                    <a:pt x="1393" y="161"/>
                    <a:pt x="1344" y="112"/>
                  </a:cubicBezTo>
                  <a:cubicBezTo>
                    <a:pt x="1307" y="75"/>
                    <a:pt x="1268" y="17"/>
                    <a:pt x="1216" y="0"/>
                  </a:cubicBezTo>
                  <a:cubicBezTo>
                    <a:pt x="1129" y="9"/>
                    <a:pt x="1046" y="35"/>
                    <a:pt x="960" y="48"/>
                  </a:cubicBezTo>
                  <a:cubicBezTo>
                    <a:pt x="880" y="79"/>
                    <a:pt x="793" y="86"/>
                    <a:pt x="712" y="112"/>
                  </a:cubicBezTo>
                  <a:cubicBezTo>
                    <a:pt x="655" y="129"/>
                    <a:pt x="600" y="151"/>
                    <a:pt x="544" y="168"/>
                  </a:cubicBezTo>
                  <a:cubicBezTo>
                    <a:pt x="510" y="177"/>
                    <a:pt x="474" y="186"/>
                    <a:pt x="440" y="192"/>
                  </a:cubicBezTo>
                  <a:cubicBezTo>
                    <a:pt x="402" y="198"/>
                    <a:pt x="328" y="208"/>
                    <a:pt x="328" y="208"/>
                  </a:cubicBezTo>
                  <a:cubicBezTo>
                    <a:pt x="264" y="205"/>
                    <a:pt x="199" y="203"/>
                    <a:pt x="136" y="200"/>
                  </a:cubicBezTo>
                  <a:cubicBezTo>
                    <a:pt x="89" y="197"/>
                    <a:pt x="45" y="184"/>
                    <a:pt x="0" y="18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73400" y="3633480"/>
              <a:ext cx="1409760" cy="520560"/>
            </a:xfrm>
            <a:custGeom>
              <a:avLst/>
              <a:gdLst/>
              <a:ahLst/>
              <a:rect l="l" t="t" r="r" b="b"/>
              <a:pathLst>
                <a:path w="888" h="328">
                  <a:moveTo>
                    <a:pt x="888" y="328"/>
                  </a:moveTo>
                  <a:cubicBezTo>
                    <a:pt x="884" y="306"/>
                    <a:pt x="878" y="245"/>
                    <a:pt x="864" y="224"/>
                  </a:cubicBezTo>
                  <a:cubicBezTo>
                    <a:pt x="852" y="206"/>
                    <a:pt x="803" y="197"/>
                    <a:pt x="792" y="192"/>
                  </a:cubicBezTo>
                  <a:cubicBezTo>
                    <a:pt x="696" y="144"/>
                    <a:pt x="601" y="137"/>
                    <a:pt x="496" y="128"/>
                  </a:cubicBezTo>
                  <a:cubicBezTo>
                    <a:pt x="429" y="114"/>
                    <a:pt x="363" y="109"/>
                    <a:pt x="296" y="104"/>
                  </a:cubicBezTo>
                  <a:cubicBezTo>
                    <a:pt x="269" y="95"/>
                    <a:pt x="250" y="69"/>
                    <a:pt x="224" y="64"/>
                  </a:cubicBezTo>
                  <a:cubicBezTo>
                    <a:pt x="174" y="54"/>
                    <a:pt x="127" y="39"/>
                    <a:pt x="80" y="24"/>
                  </a:cubicBezTo>
                  <a:cubicBezTo>
                    <a:pt x="64" y="18"/>
                    <a:pt x="48" y="12"/>
                    <a:pt x="32" y="8"/>
                  </a:cubicBezTo>
                  <a:cubicBezTo>
                    <a:pt x="21" y="5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43200" y="3316320"/>
              <a:ext cx="158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Organis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5440" y="121932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ezentralitä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87920" y="5411520"/>
              <a:ext cx="30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omplexe Kommunik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06040" y="4268520"/>
              <a:ext cx="2709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ierarchie/ Heterarch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eams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00560" y="1411200"/>
              <a:ext cx="762120" cy="1638000"/>
            </a:xfrm>
            <a:custGeom>
              <a:avLst/>
              <a:gdLst/>
              <a:ahLst/>
              <a:rect l="l" t="t" r="r" b="b"/>
              <a:pathLst>
                <a:path w="480" h="1032">
                  <a:moveTo>
                    <a:pt x="0" y="1032"/>
                  </a:moveTo>
                  <a:cubicBezTo>
                    <a:pt x="25" y="1006"/>
                    <a:pt x="31" y="989"/>
                    <a:pt x="48" y="960"/>
                  </a:cubicBezTo>
                  <a:cubicBezTo>
                    <a:pt x="57" y="943"/>
                    <a:pt x="73" y="930"/>
                    <a:pt x="80" y="912"/>
                  </a:cubicBezTo>
                  <a:cubicBezTo>
                    <a:pt x="85" y="896"/>
                    <a:pt x="96" y="864"/>
                    <a:pt x="96" y="864"/>
                  </a:cubicBezTo>
                  <a:cubicBezTo>
                    <a:pt x="92" y="807"/>
                    <a:pt x="80" y="752"/>
                    <a:pt x="80" y="696"/>
                  </a:cubicBezTo>
                  <a:cubicBezTo>
                    <a:pt x="80" y="602"/>
                    <a:pt x="128" y="460"/>
                    <a:pt x="152" y="368"/>
                  </a:cubicBezTo>
                  <a:cubicBezTo>
                    <a:pt x="155" y="293"/>
                    <a:pt x="144" y="215"/>
                    <a:pt x="168" y="144"/>
                  </a:cubicBezTo>
                  <a:cubicBezTo>
                    <a:pt x="185" y="91"/>
                    <a:pt x="253" y="16"/>
                    <a:pt x="304" y="0"/>
                  </a:cubicBezTo>
                  <a:cubicBezTo>
                    <a:pt x="367" y="21"/>
                    <a:pt x="413" y="40"/>
                    <a:pt x="480" y="4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18200" y="4014720"/>
              <a:ext cx="1320480" cy="1638000"/>
            </a:xfrm>
            <a:custGeom>
              <a:avLst/>
              <a:gdLst/>
              <a:ahLst/>
              <a:rect l="l" t="t" r="r" b="b"/>
              <a:pathLst>
                <a:path w="832" h="1032">
                  <a:moveTo>
                    <a:pt x="592" y="0"/>
                  </a:moveTo>
                  <a:cubicBezTo>
                    <a:pt x="571" y="61"/>
                    <a:pt x="548" y="118"/>
                    <a:pt x="520" y="176"/>
                  </a:cubicBezTo>
                  <a:cubicBezTo>
                    <a:pt x="495" y="224"/>
                    <a:pt x="488" y="271"/>
                    <a:pt x="440" y="304"/>
                  </a:cubicBezTo>
                  <a:cubicBezTo>
                    <a:pt x="417" y="337"/>
                    <a:pt x="412" y="352"/>
                    <a:pt x="384" y="376"/>
                  </a:cubicBezTo>
                  <a:cubicBezTo>
                    <a:pt x="376" y="382"/>
                    <a:pt x="366" y="385"/>
                    <a:pt x="360" y="392"/>
                  </a:cubicBezTo>
                  <a:cubicBezTo>
                    <a:pt x="300" y="451"/>
                    <a:pt x="368" y="402"/>
                    <a:pt x="312" y="440"/>
                  </a:cubicBezTo>
                  <a:cubicBezTo>
                    <a:pt x="283" y="483"/>
                    <a:pt x="250" y="521"/>
                    <a:pt x="216" y="560"/>
                  </a:cubicBezTo>
                  <a:cubicBezTo>
                    <a:pt x="187" y="592"/>
                    <a:pt x="146" y="621"/>
                    <a:pt x="120" y="656"/>
                  </a:cubicBezTo>
                  <a:cubicBezTo>
                    <a:pt x="92" y="692"/>
                    <a:pt x="67" y="731"/>
                    <a:pt x="40" y="768"/>
                  </a:cubicBezTo>
                  <a:cubicBezTo>
                    <a:pt x="32" y="792"/>
                    <a:pt x="24" y="816"/>
                    <a:pt x="16" y="840"/>
                  </a:cubicBezTo>
                  <a:cubicBezTo>
                    <a:pt x="10" y="856"/>
                    <a:pt x="0" y="888"/>
                    <a:pt x="0" y="888"/>
                  </a:cubicBezTo>
                  <a:cubicBezTo>
                    <a:pt x="5" y="896"/>
                    <a:pt x="8" y="906"/>
                    <a:pt x="16" y="912"/>
                  </a:cubicBezTo>
                  <a:cubicBezTo>
                    <a:pt x="37" y="926"/>
                    <a:pt x="137" y="945"/>
                    <a:pt x="168" y="952"/>
                  </a:cubicBezTo>
                  <a:cubicBezTo>
                    <a:pt x="289" y="938"/>
                    <a:pt x="382" y="977"/>
                    <a:pt x="496" y="1000"/>
                  </a:cubicBezTo>
                  <a:cubicBezTo>
                    <a:pt x="608" y="1022"/>
                    <a:pt x="714" y="1032"/>
                    <a:pt x="832" y="1032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92480" y="5248080"/>
              <a:ext cx="2089080" cy="450360"/>
            </a:xfrm>
            <a:custGeom>
              <a:avLst/>
              <a:gdLst/>
              <a:ahLst/>
              <a:rect l="l" t="t" r="r" b="b"/>
              <a:pathLst>
                <a:path w="1316" h="284">
                  <a:moveTo>
                    <a:pt x="1316" y="0"/>
                  </a:moveTo>
                  <a:cubicBezTo>
                    <a:pt x="1243" y="47"/>
                    <a:pt x="1273" y="42"/>
                    <a:pt x="1218" y="98"/>
                  </a:cubicBezTo>
                  <a:cubicBezTo>
                    <a:pt x="1205" y="134"/>
                    <a:pt x="1189" y="149"/>
                    <a:pt x="1165" y="178"/>
                  </a:cubicBezTo>
                  <a:cubicBezTo>
                    <a:pt x="1111" y="240"/>
                    <a:pt x="1077" y="263"/>
                    <a:pt x="996" y="284"/>
                  </a:cubicBezTo>
                  <a:cubicBezTo>
                    <a:pt x="929" y="277"/>
                    <a:pt x="865" y="268"/>
                    <a:pt x="800" y="258"/>
                  </a:cubicBezTo>
                  <a:cubicBezTo>
                    <a:pt x="695" y="204"/>
                    <a:pt x="549" y="202"/>
                    <a:pt x="436" y="195"/>
                  </a:cubicBezTo>
                  <a:cubicBezTo>
                    <a:pt x="363" y="196"/>
                    <a:pt x="121" y="213"/>
                    <a:pt x="0" y="213"/>
                  </a:cubicBezTo>
                </a:path>
              </a:pathLst>
            </a:custGeom>
            <a:noFill/>
            <a:ln w="9360">
              <a:solidFill>
                <a:srgbClr val="0000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82520" y="1296720"/>
              <a:ext cx="218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lbstorganis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90640" y="226512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röß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74880" y="3278160"/>
              <a:ext cx="151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Koop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3680" y="412740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et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43800" y="4878360"/>
              <a:ext cx="185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irtuelle, sol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Organis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6000" y="358272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zessdesig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46800" y="3963960"/>
              <a:ext cx="168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olution Cy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39000" y="3201840"/>
              <a:ext cx="24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jekt-Manag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69560" y="166824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ea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9400" y="1830240"/>
              <a:ext cx="187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Unternehmens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ntwickl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8772120" cy="6098400"/>
            <a:chOff x="0" y="0"/>
            <a:chExt cx="8772120" cy="6098400"/>
          </a:xfrm>
        </p:grpSpPr>
        <p:sp>
          <p:nvSpPr>
            <p:cNvPr id="143" name=""/>
            <p:cNvSpPr/>
            <p:nvPr/>
          </p:nvSpPr>
          <p:spPr>
            <a:xfrm>
              <a:off x="0" y="0"/>
              <a:ext cx="209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ie Gestaltung des Kon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98840" y="3289320"/>
              <a:ext cx="1841400" cy="939960"/>
            </a:xfrm>
            <a:prstGeom prst="ellipse">
              <a:avLst/>
            </a:prstGeom>
            <a:noFill/>
            <a:ln w="9360">
              <a:solidFill>
                <a:srgbClr val="000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19640" y="3354480"/>
              <a:ext cx="1098720" cy="106200"/>
            </a:xfrm>
            <a:custGeom>
              <a:avLst/>
              <a:gdLst/>
              <a:ahLst/>
              <a:rect l="l" t="t" r="r" b="b"/>
              <a:pathLst>
                <a:path w="1327" h="122">
                  <a:moveTo>
                    <a:pt x="15" y="111"/>
                  </a:moveTo>
                  <a:cubicBezTo>
                    <a:pt x="71" y="92"/>
                    <a:pt x="0" y="118"/>
                    <a:pt x="87" y="71"/>
                  </a:cubicBezTo>
                  <a:cubicBezTo>
                    <a:pt x="138" y="43"/>
                    <a:pt x="198" y="39"/>
                    <a:pt x="247" y="7"/>
                  </a:cubicBezTo>
                  <a:cubicBezTo>
                    <a:pt x="292" y="10"/>
                    <a:pt x="343" y="0"/>
                    <a:pt x="383" y="23"/>
                  </a:cubicBezTo>
                  <a:cubicBezTo>
                    <a:pt x="426" y="47"/>
                    <a:pt x="396" y="82"/>
                    <a:pt x="471" y="95"/>
                  </a:cubicBezTo>
                  <a:cubicBezTo>
                    <a:pt x="522" y="103"/>
                    <a:pt x="570" y="113"/>
                    <a:pt x="623" y="119"/>
                  </a:cubicBezTo>
                  <a:cubicBezTo>
                    <a:pt x="764" y="114"/>
                    <a:pt x="937" y="122"/>
                    <a:pt x="1079" y="87"/>
                  </a:cubicBezTo>
                  <a:cubicBezTo>
                    <a:pt x="1158" y="67"/>
                    <a:pt x="1244" y="39"/>
                    <a:pt x="1327" y="39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40320" y="2666880"/>
              <a:ext cx="2590560" cy="622440"/>
            </a:xfrm>
            <a:custGeom>
              <a:avLst/>
              <a:gdLst/>
              <a:ahLst/>
              <a:rect l="l" t="t" r="r" b="b"/>
              <a:pathLst>
                <a:path w="1632" h="392">
                  <a:moveTo>
                    <a:pt x="0" y="392"/>
                  </a:moveTo>
                  <a:cubicBezTo>
                    <a:pt x="48" y="359"/>
                    <a:pt x="87" y="312"/>
                    <a:pt x="128" y="272"/>
                  </a:cubicBezTo>
                  <a:cubicBezTo>
                    <a:pt x="163" y="236"/>
                    <a:pt x="204" y="203"/>
                    <a:pt x="240" y="168"/>
                  </a:cubicBezTo>
                  <a:cubicBezTo>
                    <a:pt x="282" y="125"/>
                    <a:pt x="316" y="75"/>
                    <a:pt x="376" y="56"/>
                  </a:cubicBezTo>
                  <a:cubicBezTo>
                    <a:pt x="446" y="3"/>
                    <a:pt x="505" y="6"/>
                    <a:pt x="592" y="0"/>
                  </a:cubicBezTo>
                  <a:cubicBezTo>
                    <a:pt x="709" y="8"/>
                    <a:pt x="827" y="10"/>
                    <a:pt x="944" y="24"/>
                  </a:cubicBezTo>
                  <a:cubicBezTo>
                    <a:pt x="1034" y="34"/>
                    <a:pt x="1119" y="70"/>
                    <a:pt x="1208" y="88"/>
                  </a:cubicBezTo>
                  <a:cubicBezTo>
                    <a:pt x="1347" y="115"/>
                    <a:pt x="1491" y="112"/>
                    <a:pt x="1632" y="112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15880" y="3137040"/>
              <a:ext cx="2133720" cy="457200"/>
            </a:xfrm>
            <a:custGeom>
              <a:avLst/>
              <a:gdLst/>
              <a:ahLst/>
              <a:rect l="l" t="t" r="r" b="b"/>
              <a:pathLst>
                <a:path w="1344" h="288">
                  <a:moveTo>
                    <a:pt x="1344" y="288"/>
                  </a:moveTo>
                  <a:cubicBezTo>
                    <a:pt x="1312" y="193"/>
                    <a:pt x="1182" y="103"/>
                    <a:pt x="1088" y="80"/>
                  </a:cubicBezTo>
                  <a:cubicBezTo>
                    <a:pt x="1049" y="54"/>
                    <a:pt x="998" y="41"/>
                    <a:pt x="952" y="32"/>
                  </a:cubicBezTo>
                  <a:cubicBezTo>
                    <a:pt x="925" y="26"/>
                    <a:pt x="898" y="21"/>
                    <a:pt x="872" y="16"/>
                  </a:cubicBezTo>
                  <a:cubicBezTo>
                    <a:pt x="858" y="13"/>
                    <a:pt x="832" y="8"/>
                    <a:pt x="832" y="8"/>
                  </a:cubicBezTo>
                  <a:cubicBezTo>
                    <a:pt x="555" y="27"/>
                    <a:pt x="277" y="0"/>
                    <a:pt x="0" y="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13120" y="1866960"/>
              <a:ext cx="2108160" cy="1434960"/>
            </a:xfrm>
            <a:custGeom>
              <a:avLst/>
              <a:gdLst/>
              <a:ahLst/>
              <a:rect l="l" t="t" r="r" b="b"/>
              <a:pathLst>
                <a:path w="1328" h="904">
                  <a:moveTo>
                    <a:pt x="1328" y="904"/>
                  </a:moveTo>
                  <a:cubicBezTo>
                    <a:pt x="1322" y="831"/>
                    <a:pt x="1320" y="768"/>
                    <a:pt x="1288" y="704"/>
                  </a:cubicBezTo>
                  <a:cubicBezTo>
                    <a:pt x="1275" y="639"/>
                    <a:pt x="1248" y="566"/>
                    <a:pt x="1224" y="504"/>
                  </a:cubicBezTo>
                  <a:cubicBezTo>
                    <a:pt x="1208" y="413"/>
                    <a:pt x="1177" y="314"/>
                    <a:pt x="1136" y="232"/>
                  </a:cubicBezTo>
                  <a:cubicBezTo>
                    <a:pt x="1129" y="219"/>
                    <a:pt x="1128" y="203"/>
                    <a:pt x="1120" y="192"/>
                  </a:cubicBezTo>
                  <a:cubicBezTo>
                    <a:pt x="1078" y="136"/>
                    <a:pt x="1015" y="89"/>
                    <a:pt x="952" y="64"/>
                  </a:cubicBezTo>
                  <a:cubicBezTo>
                    <a:pt x="888" y="38"/>
                    <a:pt x="819" y="23"/>
                    <a:pt x="752" y="16"/>
                  </a:cubicBezTo>
                  <a:cubicBezTo>
                    <a:pt x="701" y="10"/>
                    <a:pt x="600" y="0"/>
                    <a:pt x="600" y="0"/>
                  </a:cubicBezTo>
                  <a:cubicBezTo>
                    <a:pt x="399" y="6"/>
                    <a:pt x="201" y="24"/>
                    <a:pt x="0" y="2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75080" y="4241880"/>
              <a:ext cx="2565360" cy="1117440"/>
            </a:xfrm>
            <a:custGeom>
              <a:avLst/>
              <a:gdLst/>
              <a:ahLst/>
              <a:rect l="l" t="t" r="r" b="b"/>
              <a:pathLst>
                <a:path w="1616" h="704">
                  <a:moveTo>
                    <a:pt x="0" y="0"/>
                  </a:moveTo>
                  <a:cubicBezTo>
                    <a:pt x="1" y="34"/>
                    <a:pt x="12" y="267"/>
                    <a:pt x="16" y="312"/>
                  </a:cubicBezTo>
                  <a:cubicBezTo>
                    <a:pt x="19" y="348"/>
                    <a:pt x="27" y="416"/>
                    <a:pt x="48" y="448"/>
                  </a:cubicBezTo>
                  <a:cubicBezTo>
                    <a:pt x="79" y="495"/>
                    <a:pt x="116" y="512"/>
                    <a:pt x="168" y="536"/>
                  </a:cubicBezTo>
                  <a:cubicBezTo>
                    <a:pt x="345" y="616"/>
                    <a:pt x="514" y="617"/>
                    <a:pt x="712" y="624"/>
                  </a:cubicBezTo>
                  <a:cubicBezTo>
                    <a:pt x="868" y="655"/>
                    <a:pt x="1033" y="657"/>
                    <a:pt x="1192" y="664"/>
                  </a:cubicBezTo>
                  <a:cubicBezTo>
                    <a:pt x="1331" y="681"/>
                    <a:pt x="1475" y="704"/>
                    <a:pt x="1616" y="70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30360" y="4191120"/>
              <a:ext cx="2552760" cy="203040"/>
            </a:xfrm>
            <a:custGeom>
              <a:avLst/>
              <a:gdLst/>
              <a:ahLst/>
              <a:rect l="l" t="t" r="r" b="b"/>
              <a:pathLst>
                <a:path w="1608" h="128">
                  <a:moveTo>
                    <a:pt x="1608" y="0"/>
                  </a:moveTo>
                  <a:cubicBezTo>
                    <a:pt x="1500" y="107"/>
                    <a:pt x="1416" y="103"/>
                    <a:pt x="1272" y="128"/>
                  </a:cubicBezTo>
                  <a:cubicBezTo>
                    <a:pt x="1072" y="125"/>
                    <a:pt x="871" y="124"/>
                    <a:pt x="672" y="120"/>
                  </a:cubicBezTo>
                  <a:cubicBezTo>
                    <a:pt x="447" y="114"/>
                    <a:pt x="226" y="64"/>
                    <a:pt x="0" y="6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87680" y="2184480"/>
              <a:ext cx="1689120" cy="1092240"/>
            </a:xfrm>
            <a:custGeom>
              <a:avLst/>
              <a:gdLst/>
              <a:ahLst/>
              <a:rect l="l" t="t" r="r" b="b"/>
              <a:pathLst>
                <a:path w="496" h="544">
                  <a:moveTo>
                    <a:pt x="0" y="544"/>
                  </a:moveTo>
                  <a:cubicBezTo>
                    <a:pt x="58" y="504"/>
                    <a:pt x="79" y="443"/>
                    <a:pt x="112" y="384"/>
                  </a:cubicBezTo>
                  <a:cubicBezTo>
                    <a:pt x="158" y="298"/>
                    <a:pt x="218" y="205"/>
                    <a:pt x="288" y="136"/>
                  </a:cubicBezTo>
                  <a:cubicBezTo>
                    <a:pt x="332" y="91"/>
                    <a:pt x="392" y="59"/>
                    <a:pt x="448" y="32"/>
                  </a:cubicBezTo>
                  <a:cubicBezTo>
                    <a:pt x="458" y="26"/>
                    <a:pt x="496" y="10"/>
                    <a:pt x="496" y="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10120" y="4127400"/>
              <a:ext cx="2400480" cy="514440"/>
            </a:xfrm>
            <a:custGeom>
              <a:avLst/>
              <a:gdLst/>
              <a:ahLst/>
              <a:rect l="l" t="t" r="r" b="b"/>
              <a:pathLst>
                <a:path w="1512" h="324">
                  <a:moveTo>
                    <a:pt x="0" y="0"/>
                  </a:moveTo>
                  <a:cubicBezTo>
                    <a:pt x="37" y="56"/>
                    <a:pt x="127" y="133"/>
                    <a:pt x="192" y="160"/>
                  </a:cubicBezTo>
                  <a:cubicBezTo>
                    <a:pt x="235" y="178"/>
                    <a:pt x="285" y="178"/>
                    <a:pt x="328" y="200"/>
                  </a:cubicBezTo>
                  <a:cubicBezTo>
                    <a:pt x="577" y="324"/>
                    <a:pt x="1002" y="301"/>
                    <a:pt x="1248" y="304"/>
                  </a:cubicBezTo>
                  <a:cubicBezTo>
                    <a:pt x="1335" y="304"/>
                    <a:pt x="1424" y="304"/>
                    <a:pt x="1512" y="30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11720" y="1854360"/>
              <a:ext cx="2641680" cy="1422360"/>
            </a:xfrm>
            <a:custGeom>
              <a:avLst/>
              <a:gdLst/>
              <a:ahLst/>
              <a:rect l="l" t="t" r="r" b="b"/>
              <a:pathLst>
                <a:path w="1664" h="896">
                  <a:moveTo>
                    <a:pt x="0" y="896"/>
                  </a:moveTo>
                  <a:cubicBezTo>
                    <a:pt x="17" y="824"/>
                    <a:pt x="66" y="774"/>
                    <a:pt x="104" y="712"/>
                  </a:cubicBezTo>
                  <a:cubicBezTo>
                    <a:pt x="127" y="673"/>
                    <a:pt x="157" y="633"/>
                    <a:pt x="176" y="592"/>
                  </a:cubicBezTo>
                  <a:cubicBezTo>
                    <a:pt x="214" y="506"/>
                    <a:pt x="171" y="574"/>
                    <a:pt x="208" y="520"/>
                  </a:cubicBezTo>
                  <a:cubicBezTo>
                    <a:pt x="227" y="440"/>
                    <a:pt x="270" y="385"/>
                    <a:pt x="328" y="328"/>
                  </a:cubicBezTo>
                  <a:cubicBezTo>
                    <a:pt x="354" y="301"/>
                    <a:pt x="372" y="275"/>
                    <a:pt x="408" y="264"/>
                  </a:cubicBezTo>
                  <a:cubicBezTo>
                    <a:pt x="537" y="134"/>
                    <a:pt x="675" y="84"/>
                    <a:pt x="856" y="64"/>
                  </a:cubicBezTo>
                  <a:cubicBezTo>
                    <a:pt x="941" y="42"/>
                    <a:pt x="845" y="64"/>
                    <a:pt x="1032" y="48"/>
                  </a:cubicBezTo>
                  <a:cubicBezTo>
                    <a:pt x="1104" y="41"/>
                    <a:pt x="1175" y="30"/>
                    <a:pt x="1248" y="24"/>
                  </a:cubicBezTo>
                  <a:cubicBezTo>
                    <a:pt x="1290" y="15"/>
                    <a:pt x="1333" y="8"/>
                    <a:pt x="1376" y="0"/>
                  </a:cubicBezTo>
                  <a:cubicBezTo>
                    <a:pt x="1450" y="6"/>
                    <a:pt x="1468" y="6"/>
                    <a:pt x="1536" y="16"/>
                  </a:cubicBezTo>
                  <a:cubicBezTo>
                    <a:pt x="1577" y="21"/>
                    <a:pt x="1622" y="40"/>
                    <a:pt x="1664" y="4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63600" y="2387520"/>
              <a:ext cx="2617920" cy="995400"/>
            </a:xfrm>
            <a:custGeom>
              <a:avLst/>
              <a:gdLst/>
              <a:ahLst/>
              <a:rect l="l" t="t" r="r" b="b"/>
              <a:pathLst>
                <a:path w="1649" h="627">
                  <a:moveTo>
                    <a:pt x="1640" y="624"/>
                  </a:moveTo>
                  <a:cubicBezTo>
                    <a:pt x="1600" y="465"/>
                    <a:pt x="1649" y="627"/>
                    <a:pt x="1600" y="528"/>
                  </a:cubicBezTo>
                  <a:cubicBezTo>
                    <a:pt x="1595" y="518"/>
                    <a:pt x="1596" y="505"/>
                    <a:pt x="1592" y="496"/>
                  </a:cubicBezTo>
                  <a:cubicBezTo>
                    <a:pt x="1583" y="478"/>
                    <a:pt x="1560" y="448"/>
                    <a:pt x="1560" y="448"/>
                  </a:cubicBezTo>
                  <a:cubicBezTo>
                    <a:pt x="1536" y="353"/>
                    <a:pt x="1446" y="268"/>
                    <a:pt x="1392" y="192"/>
                  </a:cubicBezTo>
                  <a:cubicBezTo>
                    <a:pt x="1360" y="147"/>
                    <a:pt x="1393" y="161"/>
                    <a:pt x="1344" y="112"/>
                  </a:cubicBezTo>
                  <a:cubicBezTo>
                    <a:pt x="1307" y="75"/>
                    <a:pt x="1268" y="17"/>
                    <a:pt x="1216" y="0"/>
                  </a:cubicBezTo>
                  <a:cubicBezTo>
                    <a:pt x="1129" y="9"/>
                    <a:pt x="1046" y="35"/>
                    <a:pt x="960" y="48"/>
                  </a:cubicBezTo>
                  <a:cubicBezTo>
                    <a:pt x="880" y="79"/>
                    <a:pt x="793" y="86"/>
                    <a:pt x="712" y="112"/>
                  </a:cubicBezTo>
                  <a:cubicBezTo>
                    <a:pt x="655" y="129"/>
                    <a:pt x="600" y="151"/>
                    <a:pt x="544" y="168"/>
                  </a:cubicBezTo>
                  <a:cubicBezTo>
                    <a:pt x="510" y="177"/>
                    <a:pt x="474" y="186"/>
                    <a:pt x="440" y="192"/>
                  </a:cubicBezTo>
                  <a:cubicBezTo>
                    <a:pt x="402" y="198"/>
                    <a:pt x="328" y="208"/>
                    <a:pt x="328" y="208"/>
                  </a:cubicBezTo>
                  <a:cubicBezTo>
                    <a:pt x="264" y="205"/>
                    <a:pt x="199" y="203"/>
                    <a:pt x="136" y="200"/>
                  </a:cubicBezTo>
                  <a:cubicBezTo>
                    <a:pt x="89" y="197"/>
                    <a:pt x="45" y="184"/>
                    <a:pt x="0" y="18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9920" y="3860640"/>
              <a:ext cx="1409760" cy="520920"/>
            </a:xfrm>
            <a:custGeom>
              <a:avLst/>
              <a:gdLst/>
              <a:ahLst/>
              <a:rect l="l" t="t" r="r" b="b"/>
              <a:pathLst>
                <a:path w="888" h="328">
                  <a:moveTo>
                    <a:pt x="888" y="328"/>
                  </a:moveTo>
                  <a:cubicBezTo>
                    <a:pt x="884" y="306"/>
                    <a:pt x="878" y="245"/>
                    <a:pt x="864" y="224"/>
                  </a:cubicBezTo>
                  <a:cubicBezTo>
                    <a:pt x="852" y="206"/>
                    <a:pt x="803" y="197"/>
                    <a:pt x="792" y="192"/>
                  </a:cubicBezTo>
                  <a:cubicBezTo>
                    <a:pt x="696" y="144"/>
                    <a:pt x="601" y="137"/>
                    <a:pt x="496" y="128"/>
                  </a:cubicBezTo>
                  <a:cubicBezTo>
                    <a:pt x="429" y="114"/>
                    <a:pt x="363" y="109"/>
                    <a:pt x="296" y="104"/>
                  </a:cubicBezTo>
                  <a:cubicBezTo>
                    <a:pt x="269" y="95"/>
                    <a:pt x="250" y="69"/>
                    <a:pt x="224" y="64"/>
                  </a:cubicBezTo>
                  <a:cubicBezTo>
                    <a:pt x="174" y="54"/>
                    <a:pt x="127" y="39"/>
                    <a:pt x="80" y="24"/>
                  </a:cubicBezTo>
                  <a:cubicBezTo>
                    <a:pt x="64" y="18"/>
                    <a:pt x="48" y="12"/>
                    <a:pt x="32" y="8"/>
                  </a:cubicBezTo>
                  <a:cubicBezTo>
                    <a:pt x="21" y="5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67120" y="3390840"/>
              <a:ext cx="116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Interve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tion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34040" y="1446120"/>
              <a:ext cx="35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äume und Designs, Interfa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52720" y="2525760"/>
              <a:ext cx="202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Sprache, Ton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60960" y="1984320"/>
              <a:ext cx="234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Architektur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Environment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43200" y="3043080"/>
              <a:ext cx="1375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il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etaphe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lla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ision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28440" y="4973760"/>
              <a:ext cx="30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omplexe Kommunik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440" y="4025880"/>
              <a:ext cx="120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low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mpath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74760" y="275904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hal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42680" y="4295880"/>
              <a:ext cx="184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zessdesig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-Sitzordnun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04040" y="2048040"/>
              <a:ext cx="124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ösun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heori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67080" y="1638360"/>
              <a:ext cx="762120" cy="1638360"/>
            </a:xfrm>
            <a:custGeom>
              <a:avLst/>
              <a:gdLst/>
              <a:ahLst/>
              <a:rect l="l" t="t" r="r" b="b"/>
              <a:pathLst>
                <a:path w="480" h="1032">
                  <a:moveTo>
                    <a:pt x="0" y="1032"/>
                  </a:moveTo>
                  <a:cubicBezTo>
                    <a:pt x="25" y="1006"/>
                    <a:pt x="31" y="989"/>
                    <a:pt x="48" y="960"/>
                  </a:cubicBezTo>
                  <a:cubicBezTo>
                    <a:pt x="57" y="943"/>
                    <a:pt x="73" y="930"/>
                    <a:pt x="80" y="912"/>
                  </a:cubicBezTo>
                  <a:cubicBezTo>
                    <a:pt x="85" y="896"/>
                    <a:pt x="96" y="864"/>
                    <a:pt x="96" y="864"/>
                  </a:cubicBezTo>
                  <a:cubicBezTo>
                    <a:pt x="92" y="807"/>
                    <a:pt x="80" y="752"/>
                    <a:pt x="80" y="696"/>
                  </a:cubicBezTo>
                  <a:cubicBezTo>
                    <a:pt x="80" y="602"/>
                    <a:pt x="128" y="460"/>
                    <a:pt x="152" y="368"/>
                  </a:cubicBezTo>
                  <a:cubicBezTo>
                    <a:pt x="155" y="293"/>
                    <a:pt x="144" y="215"/>
                    <a:pt x="168" y="144"/>
                  </a:cubicBezTo>
                  <a:cubicBezTo>
                    <a:pt x="185" y="91"/>
                    <a:pt x="253" y="16"/>
                    <a:pt x="304" y="0"/>
                  </a:cubicBezTo>
                  <a:cubicBezTo>
                    <a:pt x="367" y="21"/>
                    <a:pt x="413" y="40"/>
                    <a:pt x="480" y="4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84720" y="4241880"/>
              <a:ext cx="1320480" cy="1638360"/>
            </a:xfrm>
            <a:custGeom>
              <a:avLst/>
              <a:gdLst/>
              <a:ahLst/>
              <a:rect l="l" t="t" r="r" b="b"/>
              <a:pathLst>
                <a:path w="832" h="1032">
                  <a:moveTo>
                    <a:pt x="592" y="0"/>
                  </a:moveTo>
                  <a:cubicBezTo>
                    <a:pt x="571" y="61"/>
                    <a:pt x="548" y="118"/>
                    <a:pt x="520" y="176"/>
                  </a:cubicBezTo>
                  <a:cubicBezTo>
                    <a:pt x="495" y="224"/>
                    <a:pt x="488" y="271"/>
                    <a:pt x="440" y="304"/>
                  </a:cubicBezTo>
                  <a:cubicBezTo>
                    <a:pt x="417" y="337"/>
                    <a:pt x="412" y="352"/>
                    <a:pt x="384" y="376"/>
                  </a:cubicBezTo>
                  <a:cubicBezTo>
                    <a:pt x="376" y="382"/>
                    <a:pt x="366" y="385"/>
                    <a:pt x="360" y="392"/>
                  </a:cubicBezTo>
                  <a:cubicBezTo>
                    <a:pt x="300" y="451"/>
                    <a:pt x="368" y="402"/>
                    <a:pt x="312" y="440"/>
                  </a:cubicBezTo>
                  <a:cubicBezTo>
                    <a:pt x="283" y="483"/>
                    <a:pt x="250" y="521"/>
                    <a:pt x="216" y="560"/>
                  </a:cubicBezTo>
                  <a:cubicBezTo>
                    <a:pt x="187" y="592"/>
                    <a:pt x="146" y="621"/>
                    <a:pt x="120" y="656"/>
                  </a:cubicBezTo>
                  <a:cubicBezTo>
                    <a:pt x="92" y="692"/>
                    <a:pt x="67" y="731"/>
                    <a:pt x="40" y="768"/>
                  </a:cubicBezTo>
                  <a:cubicBezTo>
                    <a:pt x="32" y="792"/>
                    <a:pt x="24" y="816"/>
                    <a:pt x="16" y="840"/>
                  </a:cubicBezTo>
                  <a:cubicBezTo>
                    <a:pt x="10" y="856"/>
                    <a:pt x="0" y="888"/>
                    <a:pt x="0" y="888"/>
                  </a:cubicBezTo>
                  <a:cubicBezTo>
                    <a:pt x="5" y="896"/>
                    <a:pt x="8" y="906"/>
                    <a:pt x="16" y="912"/>
                  </a:cubicBezTo>
                  <a:cubicBezTo>
                    <a:pt x="37" y="926"/>
                    <a:pt x="137" y="945"/>
                    <a:pt x="168" y="952"/>
                  </a:cubicBezTo>
                  <a:cubicBezTo>
                    <a:pt x="289" y="938"/>
                    <a:pt x="382" y="977"/>
                    <a:pt x="496" y="1000"/>
                  </a:cubicBezTo>
                  <a:cubicBezTo>
                    <a:pt x="608" y="1022"/>
                    <a:pt x="714" y="1032"/>
                    <a:pt x="832" y="1032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80440" y="5692680"/>
              <a:ext cx="39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ultimedia, Multisensuelle Techn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32480" y="1117440"/>
              <a:ext cx="150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tmosphä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59000" y="5475240"/>
              <a:ext cx="2089080" cy="450720"/>
            </a:xfrm>
            <a:custGeom>
              <a:avLst/>
              <a:gdLst/>
              <a:ahLst/>
              <a:rect l="l" t="t" r="r" b="b"/>
              <a:pathLst>
                <a:path w="1316" h="284">
                  <a:moveTo>
                    <a:pt x="1316" y="0"/>
                  </a:moveTo>
                  <a:cubicBezTo>
                    <a:pt x="1243" y="47"/>
                    <a:pt x="1273" y="42"/>
                    <a:pt x="1218" y="98"/>
                  </a:cubicBezTo>
                  <a:cubicBezTo>
                    <a:pt x="1205" y="134"/>
                    <a:pt x="1189" y="149"/>
                    <a:pt x="1165" y="178"/>
                  </a:cubicBezTo>
                  <a:cubicBezTo>
                    <a:pt x="1111" y="240"/>
                    <a:pt x="1077" y="263"/>
                    <a:pt x="996" y="284"/>
                  </a:cubicBezTo>
                  <a:cubicBezTo>
                    <a:pt x="929" y="277"/>
                    <a:pt x="865" y="268"/>
                    <a:pt x="800" y="258"/>
                  </a:cubicBezTo>
                  <a:cubicBezTo>
                    <a:pt x="695" y="204"/>
                    <a:pt x="549" y="202"/>
                    <a:pt x="436" y="195"/>
                  </a:cubicBezTo>
                  <a:cubicBezTo>
                    <a:pt x="363" y="196"/>
                    <a:pt x="121" y="213"/>
                    <a:pt x="0" y="213"/>
                  </a:cubicBezTo>
                </a:path>
              </a:pathLst>
            </a:custGeom>
            <a:noFill/>
            <a:ln w="9360">
              <a:solidFill>
                <a:srgbClr val="0000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89440" y="3525840"/>
              <a:ext cx="88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v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04000" y="1400040"/>
              <a:ext cx="104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pra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73480" y="5181480"/>
              <a:ext cx="115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Tim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Chrono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Kai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414360" y="1219320"/>
            <a:ext cx="8040240" cy="4841640"/>
            <a:chOff x="414360" y="1219320"/>
            <a:chExt cx="8040240" cy="4841640"/>
          </a:xfrm>
        </p:grpSpPr>
        <p:sp>
          <p:nvSpPr>
            <p:cNvPr id="175" name=""/>
            <p:cNvSpPr/>
            <p:nvPr/>
          </p:nvSpPr>
          <p:spPr>
            <a:xfrm>
              <a:off x="414360" y="187020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98840" y="3289320"/>
              <a:ext cx="1841400" cy="939960"/>
            </a:xfrm>
            <a:prstGeom prst="ellipse">
              <a:avLst/>
            </a:prstGeom>
            <a:noFill/>
            <a:ln w="9360">
              <a:solidFill>
                <a:srgbClr val="000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19640" y="3354480"/>
              <a:ext cx="1098720" cy="106200"/>
            </a:xfrm>
            <a:custGeom>
              <a:avLst/>
              <a:gdLst/>
              <a:ahLst/>
              <a:rect l="l" t="t" r="r" b="b"/>
              <a:pathLst>
                <a:path w="1327" h="122">
                  <a:moveTo>
                    <a:pt x="15" y="111"/>
                  </a:moveTo>
                  <a:cubicBezTo>
                    <a:pt x="71" y="92"/>
                    <a:pt x="0" y="118"/>
                    <a:pt x="87" y="71"/>
                  </a:cubicBezTo>
                  <a:cubicBezTo>
                    <a:pt x="138" y="43"/>
                    <a:pt x="198" y="39"/>
                    <a:pt x="247" y="7"/>
                  </a:cubicBezTo>
                  <a:cubicBezTo>
                    <a:pt x="292" y="10"/>
                    <a:pt x="343" y="0"/>
                    <a:pt x="383" y="23"/>
                  </a:cubicBezTo>
                  <a:cubicBezTo>
                    <a:pt x="426" y="47"/>
                    <a:pt x="396" y="82"/>
                    <a:pt x="471" y="95"/>
                  </a:cubicBezTo>
                  <a:cubicBezTo>
                    <a:pt x="522" y="103"/>
                    <a:pt x="570" y="113"/>
                    <a:pt x="623" y="119"/>
                  </a:cubicBezTo>
                  <a:cubicBezTo>
                    <a:pt x="764" y="114"/>
                    <a:pt x="937" y="122"/>
                    <a:pt x="1079" y="87"/>
                  </a:cubicBezTo>
                  <a:cubicBezTo>
                    <a:pt x="1158" y="67"/>
                    <a:pt x="1244" y="39"/>
                    <a:pt x="1327" y="39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40320" y="2666880"/>
              <a:ext cx="2590560" cy="622440"/>
            </a:xfrm>
            <a:custGeom>
              <a:avLst/>
              <a:gdLst/>
              <a:ahLst/>
              <a:rect l="l" t="t" r="r" b="b"/>
              <a:pathLst>
                <a:path w="1632" h="392">
                  <a:moveTo>
                    <a:pt x="0" y="392"/>
                  </a:moveTo>
                  <a:cubicBezTo>
                    <a:pt x="48" y="359"/>
                    <a:pt x="87" y="312"/>
                    <a:pt x="128" y="272"/>
                  </a:cubicBezTo>
                  <a:cubicBezTo>
                    <a:pt x="163" y="236"/>
                    <a:pt x="204" y="203"/>
                    <a:pt x="240" y="168"/>
                  </a:cubicBezTo>
                  <a:cubicBezTo>
                    <a:pt x="282" y="125"/>
                    <a:pt x="316" y="75"/>
                    <a:pt x="376" y="56"/>
                  </a:cubicBezTo>
                  <a:cubicBezTo>
                    <a:pt x="446" y="3"/>
                    <a:pt x="505" y="6"/>
                    <a:pt x="592" y="0"/>
                  </a:cubicBezTo>
                  <a:cubicBezTo>
                    <a:pt x="709" y="8"/>
                    <a:pt x="827" y="10"/>
                    <a:pt x="944" y="24"/>
                  </a:cubicBezTo>
                  <a:cubicBezTo>
                    <a:pt x="1034" y="34"/>
                    <a:pt x="1119" y="70"/>
                    <a:pt x="1208" y="88"/>
                  </a:cubicBezTo>
                  <a:cubicBezTo>
                    <a:pt x="1347" y="115"/>
                    <a:pt x="1491" y="112"/>
                    <a:pt x="1632" y="112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15880" y="3137040"/>
              <a:ext cx="2133720" cy="457200"/>
            </a:xfrm>
            <a:custGeom>
              <a:avLst/>
              <a:gdLst/>
              <a:ahLst/>
              <a:rect l="l" t="t" r="r" b="b"/>
              <a:pathLst>
                <a:path w="1344" h="288">
                  <a:moveTo>
                    <a:pt x="1344" y="288"/>
                  </a:moveTo>
                  <a:cubicBezTo>
                    <a:pt x="1312" y="193"/>
                    <a:pt x="1182" y="103"/>
                    <a:pt x="1088" y="80"/>
                  </a:cubicBezTo>
                  <a:cubicBezTo>
                    <a:pt x="1049" y="54"/>
                    <a:pt x="998" y="41"/>
                    <a:pt x="952" y="32"/>
                  </a:cubicBezTo>
                  <a:cubicBezTo>
                    <a:pt x="925" y="26"/>
                    <a:pt x="898" y="21"/>
                    <a:pt x="872" y="16"/>
                  </a:cubicBezTo>
                  <a:cubicBezTo>
                    <a:pt x="858" y="13"/>
                    <a:pt x="832" y="8"/>
                    <a:pt x="832" y="8"/>
                  </a:cubicBezTo>
                  <a:cubicBezTo>
                    <a:pt x="555" y="27"/>
                    <a:pt x="277" y="0"/>
                    <a:pt x="0" y="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13120" y="1866960"/>
              <a:ext cx="2108160" cy="1434960"/>
            </a:xfrm>
            <a:custGeom>
              <a:avLst/>
              <a:gdLst/>
              <a:ahLst/>
              <a:rect l="l" t="t" r="r" b="b"/>
              <a:pathLst>
                <a:path w="1328" h="904">
                  <a:moveTo>
                    <a:pt x="1328" y="904"/>
                  </a:moveTo>
                  <a:cubicBezTo>
                    <a:pt x="1322" y="831"/>
                    <a:pt x="1320" y="768"/>
                    <a:pt x="1288" y="704"/>
                  </a:cubicBezTo>
                  <a:cubicBezTo>
                    <a:pt x="1275" y="639"/>
                    <a:pt x="1248" y="566"/>
                    <a:pt x="1224" y="504"/>
                  </a:cubicBezTo>
                  <a:cubicBezTo>
                    <a:pt x="1208" y="413"/>
                    <a:pt x="1177" y="314"/>
                    <a:pt x="1136" y="232"/>
                  </a:cubicBezTo>
                  <a:cubicBezTo>
                    <a:pt x="1129" y="219"/>
                    <a:pt x="1128" y="203"/>
                    <a:pt x="1120" y="192"/>
                  </a:cubicBezTo>
                  <a:cubicBezTo>
                    <a:pt x="1078" y="136"/>
                    <a:pt x="1015" y="89"/>
                    <a:pt x="952" y="64"/>
                  </a:cubicBezTo>
                  <a:cubicBezTo>
                    <a:pt x="888" y="38"/>
                    <a:pt x="819" y="23"/>
                    <a:pt x="752" y="16"/>
                  </a:cubicBezTo>
                  <a:cubicBezTo>
                    <a:pt x="701" y="10"/>
                    <a:pt x="600" y="0"/>
                    <a:pt x="600" y="0"/>
                  </a:cubicBezTo>
                  <a:cubicBezTo>
                    <a:pt x="399" y="6"/>
                    <a:pt x="201" y="24"/>
                    <a:pt x="0" y="2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75080" y="4241880"/>
              <a:ext cx="2565360" cy="1117440"/>
            </a:xfrm>
            <a:custGeom>
              <a:avLst/>
              <a:gdLst/>
              <a:ahLst/>
              <a:rect l="l" t="t" r="r" b="b"/>
              <a:pathLst>
                <a:path w="1616" h="704">
                  <a:moveTo>
                    <a:pt x="0" y="0"/>
                  </a:moveTo>
                  <a:cubicBezTo>
                    <a:pt x="1" y="34"/>
                    <a:pt x="12" y="267"/>
                    <a:pt x="16" y="312"/>
                  </a:cubicBezTo>
                  <a:cubicBezTo>
                    <a:pt x="19" y="348"/>
                    <a:pt x="27" y="416"/>
                    <a:pt x="48" y="448"/>
                  </a:cubicBezTo>
                  <a:cubicBezTo>
                    <a:pt x="79" y="495"/>
                    <a:pt x="116" y="512"/>
                    <a:pt x="168" y="536"/>
                  </a:cubicBezTo>
                  <a:cubicBezTo>
                    <a:pt x="345" y="616"/>
                    <a:pt x="514" y="617"/>
                    <a:pt x="712" y="624"/>
                  </a:cubicBezTo>
                  <a:cubicBezTo>
                    <a:pt x="868" y="655"/>
                    <a:pt x="1033" y="657"/>
                    <a:pt x="1192" y="664"/>
                  </a:cubicBezTo>
                  <a:cubicBezTo>
                    <a:pt x="1331" y="681"/>
                    <a:pt x="1475" y="704"/>
                    <a:pt x="1616" y="70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30360" y="4191120"/>
              <a:ext cx="2552760" cy="203040"/>
            </a:xfrm>
            <a:custGeom>
              <a:avLst/>
              <a:gdLst/>
              <a:ahLst/>
              <a:rect l="l" t="t" r="r" b="b"/>
              <a:pathLst>
                <a:path w="1608" h="128">
                  <a:moveTo>
                    <a:pt x="1608" y="0"/>
                  </a:moveTo>
                  <a:cubicBezTo>
                    <a:pt x="1500" y="107"/>
                    <a:pt x="1416" y="103"/>
                    <a:pt x="1272" y="128"/>
                  </a:cubicBezTo>
                  <a:cubicBezTo>
                    <a:pt x="1072" y="125"/>
                    <a:pt x="871" y="124"/>
                    <a:pt x="672" y="120"/>
                  </a:cubicBezTo>
                  <a:cubicBezTo>
                    <a:pt x="447" y="114"/>
                    <a:pt x="226" y="64"/>
                    <a:pt x="0" y="6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87680" y="2184480"/>
              <a:ext cx="1689120" cy="1092240"/>
            </a:xfrm>
            <a:custGeom>
              <a:avLst/>
              <a:gdLst/>
              <a:ahLst/>
              <a:rect l="l" t="t" r="r" b="b"/>
              <a:pathLst>
                <a:path w="496" h="544">
                  <a:moveTo>
                    <a:pt x="0" y="544"/>
                  </a:moveTo>
                  <a:cubicBezTo>
                    <a:pt x="58" y="504"/>
                    <a:pt x="79" y="443"/>
                    <a:pt x="112" y="384"/>
                  </a:cubicBezTo>
                  <a:cubicBezTo>
                    <a:pt x="158" y="298"/>
                    <a:pt x="218" y="205"/>
                    <a:pt x="288" y="136"/>
                  </a:cubicBezTo>
                  <a:cubicBezTo>
                    <a:pt x="332" y="91"/>
                    <a:pt x="392" y="59"/>
                    <a:pt x="448" y="32"/>
                  </a:cubicBezTo>
                  <a:cubicBezTo>
                    <a:pt x="458" y="26"/>
                    <a:pt x="496" y="10"/>
                    <a:pt x="496" y="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10120" y="4127400"/>
              <a:ext cx="2400480" cy="514440"/>
            </a:xfrm>
            <a:custGeom>
              <a:avLst/>
              <a:gdLst/>
              <a:ahLst/>
              <a:rect l="l" t="t" r="r" b="b"/>
              <a:pathLst>
                <a:path w="1512" h="324">
                  <a:moveTo>
                    <a:pt x="0" y="0"/>
                  </a:moveTo>
                  <a:cubicBezTo>
                    <a:pt x="37" y="56"/>
                    <a:pt x="127" y="133"/>
                    <a:pt x="192" y="160"/>
                  </a:cubicBezTo>
                  <a:cubicBezTo>
                    <a:pt x="235" y="178"/>
                    <a:pt x="285" y="178"/>
                    <a:pt x="328" y="200"/>
                  </a:cubicBezTo>
                  <a:cubicBezTo>
                    <a:pt x="577" y="324"/>
                    <a:pt x="1002" y="301"/>
                    <a:pt x="1248" y="304"/>
                  </a:cubicBezTo>
                  <a:cubicBezTo>
                    <a:pt x="1335" y="304"/>
                    <a:pt x="1424" y="304"/>
                    <a:pt x="1512" y="30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11720" y="1854360"/>
              <a:ext cx="2641680" cy="1422360"/>
            </a:xfrm>
            <a:custGeom>
              <a:avLst/>
              <a:gdLst/>
              <a:ahLst/>
              <a:rect l="l" t="t" r="r" b="b"/>
              <a:pathLst>
                <a:path w="1664" h="896">
                  <a:moveTo>
                    <a:pt x="0" y="896"/>
                  </a:moveTo>
                  <a:cubicBezTo>
                    <a:pt x="17" y="824"/>
                    <a:pt x="66" y="774"/>
                    <a:pt x="104" y="712"/>
                  </a:cubicBezTo>
                  <a:cubicBezTo>
                    <a:pt x="127" y="673"/>
                    <a:pt x="157" y="633"/>
                    <a:pt x="176" y="592"/>
                  </a:cubicBezTo>
                  <a:cubicBezTo>
                    <a:pt x="214" y="506"/>
                    <a:pt x="171" y="574"/>
                    <a:pt x="208" y="520"/>
                  </a:cubicBezTo>
                  <a:cubicBezTo>
                    <a:pt x="227" y="440"/>
                    <a:pt x="270" y="385"/>
                    <a:pt x="328" y="328"/>
                  </a:cubicBezTo>
                  <a:cubicBezTo>
                    <a:pt x="354" y="301"/>
                    <a:pt x="372" y="275"/>
                    <a:pt x="408" y="264"/>
                  </a:cubicBezTo>
                  <a:cubicBezTo>
                    <a:pt x="537" y="134"/>
                    <a:pt x="675" y="84"/>
                    <a:pt x="856" y="64"/>
                  </a:cubicBezTo>
                  <a:cubicBezTo>
                    <a:pt x="941" y="42"/>
                    <a:pt x="845" y="64"/>
                    <a:pt x="1032" y="48"/>
                  </a:cubicBezTo>
                  <a:cubicBezTo>
                    <a:pt x="1104" y="41"/>
                    <a:pt x="1175" y="30"/>
                    <a:pt x="1248" y="24"/>
                  </a:cubicBezTo>
                  <a:cubicBezTo>
                    <a:pt x="1290" y="15"/>
                    <a:pt x="1333" y="8"/>
                    <a:pt x="1376" y="0"/>
                  </a:cubicBezTo>
                  <a:cubicBezTo>
                    <a:pt x="1450" y="6"/>
                    <a:pt x="1468" y="6"/>
                    <a:pt x="1536" y="16"/>
                  </a:cubicBezTo>
                  <a:cubicBezTo>
                    <a:pt x="1577" y="21"/>
                    <a:pt x="1622" y="40"/>
                    <a:pt x="1664" y="4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63600" y="2387520"/>
              <a:ext cx="2617920" cy="995400"/>
            </a:xfrm>
            <a:custGeom>
              <a:avLst/>
              <a:gdLst/>
              <a:ahLst/>
              <a:rect l="l" t="t" r="r" b="b"/>
              <a:pathLst>
                <a:path w="1649" h="627">
                  <a:moveTo>
                    <a:pt x="1640" y="624"/>
                  </a:moveTo>
                  <a:cubicBezTo>
                    <a:pt x="1600" y="465"/>
                    <a:pt x="1649" y="627"/>
                    <a:pt x="1600" y="528"/>
                  </a:cubicBezTo>
                  <a:cubicBezTo>
                    <a:pt x="1595" y="518"/>
                    <a:pt x="1596" y="505"/>
                    <a:pt x="1592" y="496"/>
                  </a:cubicBezTo>
                  <a:cubicBezTo>
                    <a:pt x="1583" y="478"/>
                    <a:pt x="1560" y="448"/>
                    <a:pt x="1560" y="448"/>
                  </a:cubicBezTo>
                  <a:cubicBezTo>
                    <a:pt x="1536" y="353"/>
                    <a:pt x="1446" y="268"/>
                    <a:pt x="1392" y="192"/>
                  </a:cubicBezTo>
                  <a:cubicBezTo>
                    <a:pt x="1360" y="147"/>
                    <a:pt x="1393" y="161"/>
                    <a:pt x="1344" y="112"/>
                  </a:cubicBezTo>
                  <a:cubicBezTo>
                    <a:pt x="1307" y="75"/>
                    <a:pt x="1268" y="17"/>
                    <a:pt x="1216" y="0"/>
                  </a:cubicBezTo>
                  <a:cubicBezTo>
                    <a:pt x="1129" y="9"/>
                    <a:pt x="1046" y="35"/>
                    <a:pt x="960" y="48"/>
                  </a:cubicBezTo>
                  <a:cubicBezTo>
                    <a:pt x="880" y="79"/>
                    <a:pt x="793" y="86"/>
                    <a:pt x="712" y="112"/>
                  </a:cubicBezTo>
                  <a:cubicBezTo>
                    <a:pt x="655" y="129"/>
                    <a:pt x="600" y="151"/>
                    <a:pt x="544" y="168"/>
                  </a:cubicBezTo>
                  <a:cubicBezTo>
                    <a:pt x="510" y="177"/>
                    <a:pt x="474" y="186"/>
                    <a:pt x="440" y="192"/>
                  </a:cubicBezTo>
                  <a:cubicBezTo>
                    <a:pt x="402" y="198"/>
                    <a:pt x="328" y="208"/>
                    <a:pt x="328" y="208"/>
                  </a:cubicBezTo>
                  <a:cubicBezTo>
                    <a:pt x="264" y="205"/>
                    <a:pt x="199" y="203"/>
                    <a:pt x="136" y="200"/>
                  </a:cubicBezTo>
                  <a:cubicBezTo>
                    <a:pt x="89" y="197"/>
                    <a:pt x="45" y="184"/>
                    <a:pt x="0" y="184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39920" y="3860640"/>
              <a:ext cx="1409760" cy="520920"/>
            </a:xfrm>
            <a:custGeom>
              <a:avLst/>
              <a:gdLst/>
              <a:ahLst/>
              <a:rect l="l" t="t" r="r" b="b"/>
              <a:pathLst>
                <a:path w="888" h="328">
                  <a:moveTo>
                    <a:pt x="888" y="328"/>
                  </a:moveTo>
                  <a:cubicBezTo>
                    <a:pt x="884" y="306"/>
                    <a:pt x="878" y="245"/>
                    <a:pt x="864" y="224"/>
                  </a:cubicBezTo>
                  <a:cubicBezTo>
                    <a:pt x="852" y="206"/>
                    <a:pt x="803" y="197"/>
                    <a:pt x="792" y="192"/>
                  </a:cubicBezTo>
                  <a:cubicBezTo>
                    <a:pt x="696" y="144"/>
                    <a:pt x="601" y="137"/>
                    <a:pt x="496" y="128"/>
                  </a:cubicBezTo>
                  <a:cubicBezTo>
                    <a:pt x="429" y="114"/>
                    <a:pt x="363" y="109"/>
                    <a:pt x="296" y="104"/>
                  </a:cubicBezTo>
                  <a:cubicBezTo>
                    <a:pt x="269" y="95"/>
                    <a:pt x="250" y="69"/>
                    <a:pt x="224" y="64"/>
                  </a:cubicBezTo>
                  <a:cubicBezTo>
                    <a:pt x="174" y="54"/>
                    <a:pt x="127" y="39"/>
                    <a:pt x="80" y="24"/>
                  </a:cubicBezTo>
                  <a:cubicBezTo>
                    <a:pt x="64" y="18"/>
                    <a:pt x="48" y="12"/>
                    <a:pt x="32" y="8"/>
                  </a:cubicBezTo>
                  <a:cubicBezTo>
                    <a:pt x="21" y="5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05480" y="3429000"/>
              <a:ext cx="144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rchitektur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63840" y="1984320"/>
              <a:ext cx="237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Architektur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Environment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42200" y="3276720"/>
              <a:ext cx="2012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il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un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mensprac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0440" y="4025880"/>
              <a:ext cx="120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low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mpath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07520" y="2759040"/>
              <a:ext cx="202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dustrial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28280" y="4295880"/>
              <a:ext cx="176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itzordnun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67080" y="1638360"/>
              <a:ext cx="762120" cy="1638360"/>
            </a:xfrm>
            <a:custGeom>
              <a:avLst/>
              <a:gdLst/>
              <a:ahLst/>
              <a:rect l="l" t="t" r="r" b="b"/>
              <a:pathLst>
                <a:path w="480" h="1032">
                  <a:moveTo>
                    <a:pt x="0" y="1032"/>
                  </a:moveTo>
                  <a:cubicBezTo>
                    <a:pt x="25" y="1006"/>
                    <a:pt x="31" y="989"/>
                    <a:pt x="48" y="960"/>
                  </a:cubicBezTo>
                  <a:cubicBezTo>
                    <a:pt x="57" y="943"/>
                    <a:pt x="73" y="930"/>
                    <a:pt x="80" y="912"/>
                  </a:cubicBezTo>
                  <a:cubicBezTo>
                    <a:pt x="85" y="896"/>
                    <a:pt x="96" y="864"/>
                    <a:pt x="96" y="864"/>
                  </a:cubicBezTo>
                  <a:cubicBezTo>
                    <a:pt x="92" y="807"/>
                    <a:pt x="80" y="752"/>
                    <a:pt x="80" y="696"/>
                  </a:cubicBezTo>
                  <a:cubicBezTo>
                    <a:pt x="80" y="602"/>
                    <a:pt x="128" y="460"/>
                    <a:pt x="152" y="368"/>
                  </a:cubicBezTo>
                  <a:cubicBezTo>
                    <a:pt x="155" y="293"/>
                    <a:pt x="144" y="215"/>
                    <a:pt x="168" y="144"/>
                  </a:cubicBezTo>
                  <a:cubicBezTo>
                    <a:pt x="185" y="91"/>
                    <a:pt x="253" y="16"/>
                    <a:pt x="304" y="0"/>
                  </a:cubicBezTo>
                  <a:cubicBezTo>
                    <a:pt x="367" y="21"/>
                    <a:pt x="413" y="40"/>
                    <a:pt x="480" y="40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84720" y="4241880"/>
              <a:ext cx="1320480" cy="1638360"/>
            </a:xfrm>
            <a:custGeom>
              <a:avLst/>
              <a:gdLst/>
              <a:ahLst/>
              <a:rect l="l" t="t" r="r" b="b"/>
              <a:pathLst>
                <a:path w="832" h="1032">
                  <a:moveTo>
                    <a:pt x="592" y="0"/>
                  </a:moveTo>
                  <a:cubicBezTo>
                    <a:pt x="571" y="61"/>
                    <a:pt x="548" y="118"/>
                    <a:pt x="520" y="176"/>
                  </a:cubicBezTo>
                  <a:cubicBezTo>
                    <a:pt x="495" y="224"/>
                    <a:pt x="488" y="271"/>
                    <a:pt x="440" y="304"/>
                  </a:cubicBezTo>
                  <a:cubicBezTo>
                    <a:pt x="417" y="337"/>
                    <a:pt x="412" y="352"/>
                    <a:pt x="384" y="376"/>
                  </a:cubicBezTo>
                  <a:cubicBezTo>
                    <a:pt x="376" y="382"/>
                    <a:pt x="366" y="385"/>
                    <a:pt x="360" y="392"/>
                  </a:cubicBezTo>
                  <a:cubicBezTo>
                    <a:pt x="300" y="451"/>
                    <a:pt x="368" y="402"/>
                    <a:pt x="312" y="440"/>
                  </a:cubicBezTo>
                  <a:cubicBezTo>
                    <a:pt x="283" y="483"/>
                    <a:pt x="250" y="521"/>
                    <a:pt x="216" y="560"/>
                  </a:cubicBezTo>
                  <a:cubicBezTo>
                    <a:pt x="187" y="592"/>
                    <a:pt x="146" y="621"/>
                    <a:pt x="120" y="656"/>
                  </a:cubicBezTo>
                  <a:cubicBezTo>
                    <a:pt x="92" y="692"/>
                    <a:pt x="67" y="731"/>
                    <a:pt x="40" y="768"/>
                  </a:cubicBezTo>
                  <a:cubicBezTo>
                    <a:pt x="32" y="792"/>
                    <a:pt x="24" y="816"/>
                    <a:pt x="16" y="840"/>
                  </a:cubicBezTo>
                  <a:cubicBezTo>
                    <a:pt x="10" y="856"/>
                    <a:pt x="0" y="888"/>
                    <a:pt x="0" y="888"/>
                  </a:cubicBezTo>
                  <a:cubicBezTo>
                    <a:pt x="5" y="896"/>
                    <a:pt x="8" y="906"/>
                    <a:pt x="16" y="912"/>
                  </a:cubicBezTo>
                  <a:cubicBezTo>
                    <a:pt x="37" y="926"/>
                    <a:pt x="137" y="945"/>
                    <a:pt x="168" y="952"/>
                  </a:cubicBezTo>
                  <a:cubicBezTo>
                    <a:pt x="289" y="938"/>
                    <a:pt x="382" y="977"/>
                    <a:pt x="496" y="1000"/>
                  </a:cubicBezTo>
                  <a:cubicBezTo>
                    <a:pt x="608" y="1022"/>
                    <a:pt x="714" y="1032"/>
                    <a:pt x="832" y="1032"/>
                  </a:cubicBezTo>
                </a:path>
              </a:pathLst>
            </a:custGeom>
            <a:noFill/>
            <a:ln w="9360">
              <a:solidFill>
                <a:srgbClr val="000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37960" y="5692680"/>
              <a:ext cx="24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ultimedia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69760" y="5410080"/>
              <a:ext cx="150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tmosphä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59000" y="5475240"/>
              <a:ext cx="2089080" cy="450720"/>
            </a:xfrm>
            <a:custGeom>
              <a:avLst/>
              <a:gdLst/>
              <a:ahLst/>
              <a:rect l="l" t="t" r="r" b="b"/>
              <a:pathLst>
                <a:path w="1316" h="284">
                  <a:moveTo>
                    <a:pt x="1316" y="0"/>
                  </a:moveTo>
                  <a:cubicBezTo>
                    <a:pt x="1243" y="47"/>
                    <a:pt x="1273" y="42"/>
                    <a:pt x="1218" y="98"/>
                  </a:cubicBezTo>
                  <a:cubicBezTo>
                    <a:pt x="1205" y="134"/>
                    <a:pt x="1189" y="149"/>
                    <a:pt x="1165" y="178"/>
                  </a:cubicBezTo>
                  <a:cubicBezTo>
                    <a:pt x="1111" y="240"/>
                    <a:pt x="1077" y="263"/>
                    <a:pt x="996" y="284"/>
                  </a:cubicBezTo>
                  <a:cubicBezTo>
                    <a:pt x="929" y="277"/>
                    <a:pt x="865" y="268"/>
                    <a:pt x="800" y="258"/>
                  </a:cubicBezTo>
                  <a:cubicBezTo>
                    <a:pt x="695" y="204"/>
                    <a:pt x="549" y="202"/>
                    <a:pt x="436" y="195"/>
                  </a:cubicBezTo>
                  <a:cubicBezTo>
                    <a:pt x="363" y="196"/>
                    <a:pt x="121" y="213"/>
                    <a:pt x="0" y="213"/>
                  </a:cubicBezTo>
                </a:path>
              </a:pathLst>
            </a:custGeom>
            <a:noFill/>
            <a:ln w="9360">
              <a:solidFill>
                <a:srgbClr val="0000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89440" y="3525840"/>
              <a:ext cx="88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v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67680" y="1219320"/>
              <a:ext cx="189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57800" y="1523880"/>
              <a:ext cx="182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OS, Interfa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996480" y="1600200"/>
            <a:ext cx="6783480" cy="4212000"/>
            <a:chOff x="996480" y="1600200"/>
            <a:chExt cx="6783480" cy="4212000"/>
          </a:xfrm>
        </p:grpSpPr>
        <p:sp>
          <p:nvSpPr>
            <p:cNvPr id="203" name=""/>
            <p:cNvSpPr/>
            <p:nvPr/>
          </p:nvSpPr>
          <p:spPr>
            <a:xfrm>
              <a:off x="3622680" y="2544840"/>
              <a:ext cx="1047960" cy="1055520"/>
            </a:xfrm>
            <a:prstGeom prst="smileyFace">
              <a:avLst>
                <a:gd name="adj" fmla="val 9282"/>
              </a:avLst>
            </a:prstGeom>
            <a:solidFill>
              <a:srgbClr val="526a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7183400">
              <a:off x="2720160" y="205596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950200">
              <a:off x="5231520" y="286920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4993400">
              <a:off x="2719800" y="311184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4228800">
              <a:off x="4998240" y="1940760"/>
              <a:ext cx="486000" cy="976320"/>
            </a:xfrm>
            <a:prstGeom prst="upArrow">
              <a:avLst>
                <a:gd name="adj1" fmla="val 50000"/>
                <a:gd name="adj2" fmla="val 50222"/>
              </a:avLst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26480" y="390996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Geschich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02480" y="1866960"/>
              <a:ext cx="197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Metaphern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Bilder, Colla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08160" y="1600200"/>
              <a:ext cx="2644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Rollenspie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Unternehmensthea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81400" y="4011480"/>
              <a:ext cx="2544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Sozi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Skulptu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Systemaufstellun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96480" y="5413320"/>
              <a:ext cx="301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aloge Intervention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762120" y="380880"/>
            <a:ext cx="7561800" cy="5931360"/>
            <a:chOff x="762120" y="380880"/>
            <a:chExt cx="7561800" cy="5931360"/>
          </a:xfrm>
        </p:grpSpPr>
        <p:sp>
          <p:nvSpPr>
            <p:cNvPr id="214" name=""/>
            <p:cNvSpPr/>
            <p:nvPr/>
          </p:nvSpPr>
          <p:spPr>
            <a:xfrm>
              <a:off x="762120" y="5121000"/>
              <a:ext cx="457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50"/>
                  </a:solidFill>
                  <a:latin typeface="Arial"/>
                </a:rPr>
                <a:t>Interventionen durch Systemische Fra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40040" y="2185920"/>
              <a:ext cx="1047960" cy="1055520"/>
            </a:xfrm>
            <a:prstGeom prst="smileyFace">
              <a:avLst>
                <a:gd name="adj" fmla="val 9282"/>
              </a:avLst>
            </a:prstGeom>
            <a:solidFill>
              <a:srgbClr val="526a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7183400">
              <a:off x="2923200" y="1697760"/>
              <a:ext cx="486000" cy="976320"/>
            </a:xfrm>
            <a:prstGeom prst="upArrow">
              <a:avLst>
                <a:gd name="adj1" fmla="val 50000"/>
                <a:gd name="adj2" fmla="val 50222"/>
              </a:avLst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5950200">
              <a:off x="4991760" y="281988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4993400">
              <a:off x="2922840" y="275292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4228800">
              <a:off x="5201280" y="1581840"/>
              <a:ext cx="486000" cy="976320"/>
            </a:xfrm>
            <a:prstGeom prst="upArrow">
              <a:avLst>
                <a:gd name="adj1" fmla="val 50000"/>
                <a:gd name="adj2" fmla="val 50222"/>
              </a:avLst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29520" y="3551040"/>
              <a:ext cx="18525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Multi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Wahrnehm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Sichtweis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03360" y="1508040"/>
              <a:ext cx="23205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Unterscheidung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Prozentangab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Differenz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Vorher/Nach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Immer so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84440" y="380880"/>
              <a:ext cx="2163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Paradox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Wunderfr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Verschlimm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Verschreib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85160" y="3652560"/>
              <a:ext cx="18082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Möglichkeit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Perspektiv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Vision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Umdeut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990720" y="152280"/>
            <a:ext cx="7746120" cy="6372720"/>
            <a:chOff x="990720" y="152280"/>
            <a:chExt cx="7746120" cy="6372720"/>
          </a:xfrm>
        </p:grpSpPr>
        <p:sp>
          <p:nvSpPr>
            <p:cNvPr id="225" name=""/>
            <p:cNvSpPr/>
            <p:nvPr/>
          </p:nvSpPr>
          <p:spPr>
            <a:xfrm>
              <a:off x="990720" y="5333760"/>
              <a:ext cx="7086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50"/>
                  </a:solidFill>
                  <a:latin typeface="Arial"/>
                </a:rPr>
                <a:t>Interventionen durc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50"/>
                  </a:solidFill>
                  <a:latin typeface="Arial"/>
                </a:rPr>
                <a:t>Soziale und physische Desig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68640" y="1957320"/>
              <a:ext cx="1047960" cy="1055520"/>
            </a:xfrm>
            <a:prstGeom prst="smileyFace">
              <a:avLst>
                <a:gd name="adj" fmla="val 9282"/>
              </a:avLst>
            </a:prstGeom>
            <a:solidFill>
              <a:srgbClr val="526a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7183400">
              <a:off x="3151800" y="146844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5950200">
              <a:off x="5220360" y="259128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4095800">
              <a:off x="3237120" y="2834280"/>
              <a:ext cx="486000" cy="976320"/>
            </a:xfrm>
            <a:prstGeom prst="upArrow">
              <a:avLst>
                <a:gd name="adj1" fmla="val 50000"/>
                <a:gd name="adj2" fmla="val 50222"/>
              </a:avLst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4228800">
              <a:off x="5429880" y="135288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59920" y="3322440"/>
              <a:ext cx="19486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36"/>
                  </a:solidFill>
                  <a:latin typeface="Arial"/>
                </a:rPr>
                <a:t>Timing, Paus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36"/>
                  </a:solidFill>
                  <a:latin typeface="Arial"/>
                </a:rPr>
                <a:t>Coach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36"/>
                  </a:solidFill>
                  <a:latin typeface="Arial"/>
                </a:rPr>
                <a:t>Feed b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36"/>
                  </a:solidFill>
                  <a:latin typeface="Arial"/>
                </a:rPr>
                <a:t>Supervision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31960" y="1279440"/>
              <a:ext cx="25048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36"/>
                  </a:solidFill>
                  <a:latin typeface="Arial"/>
                </a:rPr>
                <a:t>Projektgrupp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36"/>
                  </a:solidFill>
                  <a:latin typeface="Arial"/>
                </a:rPr>
                <a:t>Large Grou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36"/>
                  </a:solidFill>
                  <a:latin typeface="Arial"/>
                </a:rPr>
                <a:t>Dialog- Lerngrupp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36"/>
                  </a:solidFill>
                  <a:latin typeface="Arial"/>
                </a:rPr>
                <a:t>Reflecting 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36"/>
                  </a:solidFill>
                  <a:latin typeface="Arial"/>
                </a:rPr>
                <a:t>Metalo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13400" y="152280"/>
              <a:ext cx="18374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36"/>
                  </a:solidFill>
                  <a:latin typeface="Arial"/>
                </a:rPr>
                <a:t>Rä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36"/>
                  </a:solidFill>
                  <a:latin typeface="Arial"/>
                </a:rPr>
                <a:t>Interior 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36"/>
                  </a:solidFill>
                  <a:latin typeface="Arial"/>
                </a:rPr>
                <a:t>Sitzordnun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36"/>
                  </a:solidFill>
                  <a:latin typeface="Arial"/>
                </a:rPr>
                <a:t>Atmosphä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14480" y="3660480"/>
              <a:ext cx="1511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Budge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Funktione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36"/>
                  </a:solidFill>
                  <a:latin typeface="Arial"/>
                </a:rPr>
                <a:t>Roll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19:04:28Z</dcterms:created>
  <dc:creator> </dc:creator>
  <dc:description/>
  <dc:language>en-US</dc:language>
  <cp:lastModifiedBy> </cp:lastModifiedBy>
  <dcterms:modified xsi:type="dcterms:W3CDTF">2008-08-11T11:02:42Z</dcterms:modified>
  <cp:revision>5</cp:revision>
  <dc:subject/>
  <dc:title>PowerPoint-Präsentation</dc:title>
</cp:coreProperties>
</file>