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po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rpo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3760" y="6308280"/>
            <a:ext cx="4645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© </a:t>
            </a:r>
            <a:r>
              <a:rPr b="0" lang="en-US" sz="900" spc="-1" strike="noStrike">
                <a:solidFill>
                  <a:srgbClr val="ff0000"/>
                </a:solidFill>
                <a:latin typeface="CorpoS"/>
              </a:rPr>
              <a:t>Bergmann/Daub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| </a:t>
            </a:r>
            <a:r>
              <a:rPr b="0" lang="en-US" sz="900" spc="-1" strike="noStrike">
                <a:solidFill>
                  <a:srgbClr val="ff0000"/>
                </a:solidFill>
                <a:latin typeface="CorpoS"/>
              </a:rPr>
              <a:t>Systemisches Innovations- und Kompetenzmanagement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                                                                                              GablerPLUS Zusatzinformationen zu Medien des Gabler Verlags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34120" y="6308640"/>
            <a:ext cx="16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Gabler Verlag | Wiesbaden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www.gabler.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426960" y="2349360"/>
            <a:ext cx="8717040" cy="3555360"/>
            <a:chOff x="426960" y="2349360"/>
            <a:chExt cx="8717040" cy="3555360"/>
          </a:xfrm>
        </p:grpSpPr>
        <p:sp>
          <p:nvSpPr>
            <p:cNvPr id="42" name=""/>
            <p:cNvSpPr/>
            <p:nvPr/>
          </p:nvSpPr>
          <p:spPr>
            <a:xfrm>
              <a:off x="431640" y="3068640"/>
              <a:ext cx="871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rpoS"/>
                </a:rPr>
                <a:t>Systemisches Innovations- und Kompetenzmanage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26960" y="2349360"/>
              <a:ext cx="631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rpoS"/>
                </a:rPr>
                <a:t>Gustav Bergmann/Jürgen Dau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6800" y="4357800"/>
              <a:ext cx="75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rpoS"/>
                </a:rPr>
                <a:t>Grundlagen -  Prozesse - Perspektiv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3280" y="5013360"/>
              <a:ext cx="41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rpoS"/>
                </a:rPr>
                <a:t>Erscheinungsjahr 2008 / 2. Aufl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3280" y="5445000"/>
              <a:ext cx="86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rpoS"/>
                </a:rPr>
                <a:t>Lerneinheit der folgenden Folien:</a:t>
              </a:r>
              <a:r>
                <a:rPr b="0" lang="en-US" sz="1800" spc="-1" strike="noStrike">
                  <a:solidFill>
                    <a:srgbClr val="000000"/>
                  </a:solidFill>
                  <a:latin typeface="CorpoS"/>
                </a:rPr>
                <a:t> Management und Füh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865440" y="552600"/>
            <a:ext cx="7668720" cy="5924160"/>
            <a:chOff x="865440" y="552600"/>
            <a:chExt cx="7668720" cy="5924160"/>
          </a:xfrm>
        </p:grpSpPr>
        <p:sp>
          <p:nvSpPr>
            <p:cNvPr id="48" name=""/>
            <p:cNvSpPr/>
            <p:nvPr/>
          </p:nvSpPr>
          <p:spPr>
            <a:xfrm>
              <a:off x="1236600" y="15883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7280" y="3659400"/>
              <a:ext cx="3613320" cy="2817360"/>
            </a:xfrm>
            <a:custGeom>
              <a:avLst/>
              <a:gdLst/>
              <a:ahLst/>
              <a:rect l="l" t="t" r="r" b="b"/>
              <a:pathLst>
                <a:path w="2276" h="2026">
                  <a:moveTo>
                    <a:pt x="2276" y="0"/>
                  </a:moveTo>
                  <a:cubicBezTo>
                    <a:pt x="1803" y="506"/>
                    <a:pt x="1330" y="1012"/>
                    <a:pt x="951" y="1235"/>
                  </a:cubicBezTo>
                  <a:cubicBezTo>
                    <a:pt x="571" y="1457"/>
                    <a:pt x="253" y="2026"/>
                    <a:pt x="0" y="133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99840" y="228816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1280" y="375660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29880" y="162072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rmat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37440" y="268848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novat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rategis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5440" y="455796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perat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12160" y="482508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ash 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15120" y="4023720"/>
              <a:ext cx="29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rträge und Aufw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B, KER, Lob- Beschwer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48560" y="482508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quiditä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96440" y="4023720"/>
              <a:ext cx="17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Zufriedenhe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ntabilitä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55400" y="2379600"/>
              <a:ext cx="129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eu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rfolgs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otenz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ktue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04000" y="1425600"/>
              <a:ext cx="193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italitä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etakompeten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69960" y="75276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dikato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25200" y="552600"/>
              <a:ext cx="162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benen d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5080" y="1492560"/>
              <a:ext cx="244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rfolgsmu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dentität, Kompeten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79120" y="2421720"/>
              <a:ext cx="286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lphi, Szenarios/Tre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lieukontak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1280" y="3156120"/>
              <a:ext cx="262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WOT, Portfolios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rkt-Position, Im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46760" y="75276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Zie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99840" y="128664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600560" y="1574640"/>
            <a:ext cx="7023960" cy="3520800"/>
            <a:chOff x="1600560" y="1574640"/>
            <a:chExt cx="7023960" cy="3520800"/>
          </a:xfrm>
        </p:grpSpPr>
        <p:sp>
          <p:nvSpPr>
            <p:cNvPr id="69" name=""/>
            <p:cNvSpPr/>
            <p:nvPr/>
          </p:nvSpPr>
          <p:spPr>
            <a:xfrm>
              <a:off x="1600560" y="1574640"/>
              <a:ext cx="4889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lingende Steuerung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novationen, Führung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ommunikation sind unwahrscheinlich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4160" y="2867040"/>
              <a:ext cx="69303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eil die Welt dynamisch komplex i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ie Menschen keine trivia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aschinen si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remdbestimmung anmaßend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motivierend wirk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Vieles unbewusst abläuf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radoxien und Überraschungen unser Leben prägen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631880" y="990720"/>
            <a:ext cx="7054920" cy="5403960"/>
            <a:chOff x="1631880" y="990720"/>
            <a:chExt cx="7054920" cy="5403960"/>
          </a:xfrm>
        </p:grpSpPr>
        <p:sp>
          <p:nvSpPr>
            <p:cNvPr id="72" name=""/>
            <p:cNvSpPr/>
            <p:nvPr/>
          </p:nvSpPr>
          <p:spPr>
            <a:xfrm>
              <a:off x="1660680" y="990720"/>
              <a:ext cx="567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Führung in komplexen System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6934320" y="1676520"/>
              <a:ext cx="17524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631880" y="2031840"/>
              <a:ext cx="383688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Vitalitätsmod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Biokybernetische Grundreg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Negative Rückkopp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Wachstumsunabhängi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Funktionsorienti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Jiu-jits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Mehrfachnutz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ymbio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Biologisches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Feed -Back Pla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618200" y="990720"/>
            <a:ext cx="6077880" cy="5403960"/>
            <a:chOff x="1618200" y="990720"/>
            <a:chExt cx="6077880" cy="5403960"/>
          </a:xfrm>
        </p:grpSpPr>
        <p:sp>
          <p:nvSpPr>
            <p:cNvPr id="76" name=""/>
            <p:cNvSpPr/>
            <p:nvPr/>
          </p:nvSpPr>
          <p:spPr>
            <a:xfrm>
              <a:off x="1663920" y="990720"/>
              <a:ext cx="567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Führung in komplexen System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5943600" y="1676520"/>
              <a:ext cx="17524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618200" y="2031840"/>
              <a:ext cx="34783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ybernetisches Mod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Ganzheitliche Erfass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eine Datenfl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Fuzzy 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ialog und Interak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Argumentationshil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Neuartige Lös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Mehr Handlungsspielra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eine Nonsens-Progno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Vernetztes Den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197360" y="990720"/>
            <a:ext cx="6641280" cy="5404320"/>
            <a:chOff x="1197360" y="990720"/>
            <a:chExt cx="6641280" cy="5404320"/>
          </a:xfrm>
        </p:grpSpPr>
        <p:sp>
          <p:nvSpPr>
            <p:cNvPr id="80" name=""/>
            <p:cNvSpPr/>
            <p:nvPr/>
          </p:nvSpPr>
          <p:spPr>
            <a:xfrm>
              <a:off x="1197360" y="990720"/>
              <a:ext cx="567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Führung in komplexen System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2800" y="1727280"/>
              <a:ext cx="658584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Hinweise von Karl E. Wei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Lernen Sie Unordnung und Paradoxien lieb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Sie können nichts vollständig erledi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Chaotisches Handeln ist geordnetem Nicht-Hand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vorzuzieh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ie wichtigsten Entscheidungen sind oft die a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wenigsten sichtba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Es gibt keine (optimale)Lös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Die Karte ist nicht das Gelä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Kommunigramme statt Organi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Organisationen sind evolutionäre komplexe Syst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Verkomplizieren Sie sich! Simplify your life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28680" y="2065320"/>
            <a:ext cx="7564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31560" y="1457280"/>
            <a:ext cx="51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ist Kontext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Umstände prägen das Verhal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8680" y="2287440"/>
            <a:ext cx="6561360" cy="345312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38720" y="3268800"/>
            <a:ext cx="183960" cy="26640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86320" y="3063960"/>
            <a:ext cx="11736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3321000"/>
            <a:ext cx="15264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7480" y="311616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75200" y="304956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016080"/>
            <a:ext cx="748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473280"/>
            <a:ext cx="15228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0120" y="326880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27480" y="320184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168720"/>
            <a:ext cx="745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1000" y="2963880"/>
            <a:ext cx="745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81560" y="3246480"/>
            <a:ext cx="18432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9520" y="3041640"/>
            <a:ext cx="11736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53080" y="3298680"/>
            <a:ext cx="15228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309420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18040" y="3027240"/>
            <a:ext cx="17964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81680" y="2994120"/>
            <a:ext cx="745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05360" y="3451320"/>
            <a:ext cx="15264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2960" y="324648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70680" y="317988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33960" y="3146400"/>
            <a:ext cx="748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34200" y="2941560"/>
            <a:ext cx="7452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1000" y="3421080"/>
            <a:ext cx="18432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38600" y="3216240"/>
            <a:ext cx="11772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473280"/>
            <a:ext cx="15228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0120" y="326880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27480" y="320184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68720"/>
            <a:ext cx="745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3625920"/>
            <a:ext cx="15228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2400" y="342108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79760" y="3354480"/>
            <a:ext cx="17964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321000"/>
            <a:ext cx="745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3116160"/>
            <a:ext cx="748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34200" y="3398760"/>
            <a:ext cx="18396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81800" y="3193920"/>
            <a:ext cx="11736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5360" y="3451320"/>
            <a:ext cx="15264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52960" y="324648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70680" y="317988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3960" y="3146400"/>
            <a:ext cx="748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8000" y="3603600"/>
            <a:ext cx="15228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05600" y="339876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2960" y="333216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86600" y="3298680"/>
            <a:ext cx="7452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6480" y="3094200"/>
            <a:ext cx="745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75040" y="4950000"/>
            <a:ext cx="184320" cy="26640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23000" y="4745160"/>
            <a:ext cx="11736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46560" y="5002200"/>
            <a:ext cx="15228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94160" y="479736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11520" y="4730760"/>
            <a:ext cx="17964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4697280"/>
            <a:ext cx="7452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98840" y="5154480"/>
            <a:ext cx="15264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46440" y="4950000"/>
            <a:ext cx="96840" cy="48384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64160" y="488304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27440" y="4849920"/>
            <a:ext cx="748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27680" y="4645080"/>
            <a:ext cx="745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2040" y="4270320"/>
            <a:ext cx="18432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065480"/>
            <a:ext cx="11736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3560" y="4322880"/>
            <a:ext cx="15228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51160" y="411804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68520" y="4051440"/>
            <a:ext cx="17964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32160" y="4017960"/>
            <a:ext cx="745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55840" y="4475160"/>
            <a:ext cx="15264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03440" y="427032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21160" y="420372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84440" y="4170240"/>
            <a:ext cx="748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4680" y="3965400"/>
            <a:ext cx="7452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54600" y="3400560"/>
            <a:ext cx="7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51200" y="4710240"/>
            <a:ext cx="3970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238720" y="4035600"/>
            <a:ext cx="48888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37080" y="3956040"/>
            <a:ext cx="7812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49680" y="4183200"/>
            <a:ext cx="184320" cy="26640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8800" y="403056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3480" y="4387680"/>
            <a:ext cx="15228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21080" y="418320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8800" y="411624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02080" y="4083120"/>
            <a:ext cx="745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02320" y="4335480"/>
            <a:ext cx="18396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21080" y="418320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5760" y="4540320"/>
            <a:ext cx="152640" cy="266760"/>
          </a:xfrm>
          <a:custGeom>
            <a:avLst/>
            <a:gdLst/>
            <a:ahLst/>
            <a:rect l="l" t="t" r="r" b="b"/>
            <a:pathLst>
              <a:path w="116" h="168">
                <a:moveTo>
                  <a:pt x="116" y="0"/>
                </a:moveTo>
                <a:cubicBezTo>
                  <a:pt x="84" y="47"/>
                  <a:pt x="45" y="144"/>
                  <a:pt x="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73720" y="4335480"/>
            <a:ext cx="96840" cy="484200"/>
          </a:xfrm>
          <a:custGeom>
            <a:avLst/>
            <a:gdLst/>
            <a:ahLst/>
            <a:rect l="l" t="t" r="r" b="b"/>
            <a:pathLst>
              <a:path w="74" h="305">
                <a:moveTo>
                  <a:pt x="0" y="0"/>
                </a:moveTo>
                <a:cubicBezTo>
                  <a:pt x="40" y="61"/>
                  <a:pt x="59" y="109"/>
                  <a:pt x="74" y="179"/>
                </a:cubicBezTo>
                <a:cubicBezTo>
                  <a:pt x="61" y="276"/>
                  <a:pt x="63" y="234"/>
                  <a:pt x="63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91080" y="4268880"/>
            <a:ext cx="179280" cy="166680"/>
          </a:xfrm>
          <a:custGeom>
            <a:avLst/>
            <a:gdLst/>
            <a:ahLst/>
            <a:rect l="l" t="t" r="r" b="b"/>
            <a:pathLst>
              <a:path w="137" h="105">
                <a:moveTo>
                  <a:pt x="0" y="105"/>
                </a:moveTo>
                <a:cubicBezTo>
                  <a:pt x="35" y="80"/>
                  <a:pt x="63" y="54"/>
                  <a:pt x="105" y="42"/>
                </a:cubicBezTo>
                <a:cubicBezTo>
                  <a:pt x="128" y="5"/>
                  <a:pt x="116" y="18"/>
                  <a:pt x="13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54360" y="4235400"/>
            <a:ext cx="748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12520" y="228600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3160" y="2286000"/>
            <a:ext cx="165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chite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mosphä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75280" y="53341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8520" y="533412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ache und Bi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53560" y="609480"/>
            <a:ext cx="70099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ystemisches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ositive </a:t>
            </a:r>
            <a:r>
              <a:rPr b="0" lang="de-DE" sz="1600" spc="-1" strike="noStrike">
                <a:solidFill>
                  <a:srgbClr val="000000"/>
                </a:solidFill>
                <a:latin typeface="BlairMdITC TT-Medium"/>
              </a:rPr>
              <a:t>Abweichler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zula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xperimente sind der Planung vorzuzi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ielfalt geht vor Sympathie/je größer der Mempool, desto bes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utationen sind Fehler und sie erzeugen E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deenselektion mit a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pielräume schaffen für Nutzloses und Zweckfre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(20 % individuell interessierende Projek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eitvereinbarungen als einziges überwa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lle unterstützen und kontrollieren 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nn, dann nur Führung auf Zeit- und gesplit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ig Apples schaffen, Piaz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innhafte und wichtige Dinge t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serven schaf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ork-Life Balance ermögli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novative Reservate schaf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gesetzte und Hierarchien abschaffen, Orden und Abzeichen sowi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Offenheit, Transparenz..open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leine Strukturen, Dör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airness first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tausch und Dialoge för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-1478160" y="345528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rnen von Randerschein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18:44:24Z</dcterms:created>
  <dc:creator> </dc:creator>
  <dc:description/>
  <dc:language>en-US</dc:language>
  <cp:lastModifiedBy> </cp:lastModifiedBy>
  <dcterms:modified xsi:type="dcterms:W3CDTF">2008-08-11T11:03:34Z</dcterms:modified>
  <cp:revision>4</cp:revision>
  <dc:subject/>
  <dc:title>PowerPoint-Präsentation</dc:title>
</cp:coreProperties>
</file>