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5800" y="6308280"/>
            <a:ext cx="388944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©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Bergmann/Daub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|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Systemisches Innovations- und Kompetenzmanagement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                                                                                   GablerPLUS Zusatzinformationen zu Medien des Gabler Verlags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53240" y="6308640"/>
            <a:ext cx="18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 Verlag | Wiesbaden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www.gabler.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844560" y="2349360"/>
            <a:ext cx="8717040" cy="3555360"/>
            <a:chOff x="844560" y="2349360"/>
            <a:chExt cx="8717040" cy="3555360"/>
          </a:xfrm>
        </p:grpSpPr>
        <p:sp>
          <p:nvSpPr>
            <p:cNvPr id="44" name=""/>
            <p:cNvSpPr/>
            <p:nvPr/>
          </p:nvSpPr>
          <p:spPr>
            <a:xfrm>
              <a:off x="849240" y="3068640"/>
              <a:ext cx="871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rpoS"/>
                </a:rPr>
                <a:t>Systemisches Innovations- und Kompetenzmanagemen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4560" y="2349360"/>
              <a:ext cx="631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poS"/>
                </a:rPr>
                <a:t>Gustav Bergmann/Jürgen Da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4357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poS"/>
                </a:rPr>
                <a:t>Grundlagen -  Prozesse - Perspektiv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0880" y="5013360"/>
              <a:ext cx="41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rpoS"/>
                </a:rPr>
                <a:t>Erscheinungsjahr 2008 / 2. Aufl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20880" y="5445000"/>
              <a:ext cx="86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rpoS"/>
                </a:rPr>
                <a:t>Lerneinheit der folgenden Folien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rundlagen Systemtheo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380880"/>
            <a:ext cx="8763120" cy="5867640"/>
            <a:chOff x="380880" y="380880"/>
            <a:chExt cx="8763120" cy="5867640"/>
          </a:xfrm>
        </p:grpSpPr>
        <p:sp>
          <p:nvSpPr>
            <p:cNvPr id="52" name=""/>
            <p:cNvSpPr/>
            <p:nvPr/>
          </p:nvSpPr>
          <p:spPr>
            <a:xfrm>
              <a:off x="2133720" y="380880"/>
              <a:ext cx="65530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2124b"/>
                  </a:solidFill>
                  <a:latin typeface="Edgar "/>
                </a:rPr>
                <a:t>Theoretische Ba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2600" y="2133720"/>
              <a:ext cx="1626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12124b"/>
                  </a:solidFill>
                  <a:latin typeface="Verdana"/>
                </a:rPr>
                <a:t>Kybernet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2124b"/>
                  </a:solidFill>
                  <a:latin typeface="Verdana"/>
                </a:rPr>
                <a:t>Heinz v. Foerster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2124b"/>
                  </a:solidFill>
                  <a:latin typeface="Verdana"/>
                </a:rPr>
                <a:t>Nobert Wi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84400" y="3429000"/>
              <a:ext cx="317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12124b"/>
                  </a:solidFill>
                  <a:latin typeface="Edgar "/>
                </a:rPr>
                <a:t>Sustain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12124b"/>
                  </a:solidFill>
                  <a:latin typeface="Edgar 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93680" y="2438280"/>
              <a:ext cx="176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12124b"/>
                  </a:solidFill>
                  <a:latin typeface="Verdana"/>
                </a:rPr>
                <a:t>Evolutionstheor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2124b"/>
                  </a:solidFill>
                  <a:latin typeface="Verdana"/>
                </a:rPr>
                <a:t>Dawkins, Darw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49400" y="3962520"/>
              <a:ext cx="1477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Systemtheor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Luhman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Prigog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Matu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23240" y="2919240"/>
              <a:ext cx="213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Konstruktivism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Glasersfeld, Watzlawi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3120" y="3886200"/>
              <a:ext cx="251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Chaos-, Komplexitäts- 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Turbulenztheor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5200" y="1295280"/>
              <a:ext cx="1828800" cy="1447920"/>
            </a:xfrm>
            <a:prstGeom prst="cloudCallout">
              <a:avLst>
                <a:gd name="adj1" fmla="val -48958"/>
                <a:gd name="adj2" fmla="val 57675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45160" y="1676520"/>
              <a:ext cx="120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2124b"/>
                  </a:solidFill>
                  <a:latin typeface="Verdana"/>
                </a:rPr>
                <a:t>Erlebniswi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12124b"/>
                  </a:solidFill>
                  <a:latin typeface="Verdana"/>
                </a:rPr>
                <a:t>lichke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990720"/>
              <a:ext cx="1981440" cy="838080"/>
            </a:xfrm>
            <a:prstGeom prst="cloudCallout">
              <a:avLst>
                <a:gd name="adj1" fmla="val 7930"/>
                <a:gd name="adj2" fmla="val 86930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5105520"/>
              <a:ext cx="1600200" cy="838080"/>
            </a:xfrm>
            <a:prstGeom prst="cloudCallout">
              <a:avLst>
                <a:gd name="adj1" fmla="val -7342"/>
                <a:gd name="adj2" fmla="val -105300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6600" y="4419720"/>
              <a:ext cx="1828800" cy="838080"/>
            </a:xfrm>
            <a:prstGeom prst="cloudCallout">
              <a:avLst>
                <a:gd name="adj1" fmla="val -64671"/>
                <a:gd name="adj2" fmla="val -44319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990720"/>
              <a:ext cx="1676520" cy="990360"/>
            </a:xfrm>
            <a:prstGeom prst="cloudCallout">
              <a:avLst>
                <a:gd name="adj1" fmla="val 17138"/>
                <a:gd name="adj2" fmla="val 77083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62360" y="1143000"/>
              <a:ext cx="128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Gegenseiti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Anpass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800" y="1219320"/>
              <a:ext cx="113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Steueru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2. Ordn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0600" y="5257800"/>
              <a:ext cx="108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Selbs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gestal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70080" y="46483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Emergen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88720" y="914400"/>
              <a:ext cx="2300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Kognitionswissenscha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G. Roth, D. Lin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562720"/>
              <a:ext cx="1828800" cy="685800"/>
            </a:xfrm>
            <a:prstGeom prst="cloudCallout">
              <a:avLst>
                <a:gd name="adj1" fmla="val -3212"/>
                <a:gd name="adj2" fmla="val -76851"/>
              </a:avLst>
            </a:prstGeom>
            <a:solidFill>
              <a:srgbClr val="ffffff"/>
            </a:solidFill>
            <a:ln w="9360">
              <a:solidFill>
                <a:srgbClr val="6a7f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86440" y="4800600"/>
              <a:ext cx="140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Sustain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2124b"/>
                  </a:solidFill>
                  <a:latin typeface="Verdana"/>
                </a:rPr>
                <a:t>Ök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81320" y="571500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124b"/>
                  </a:solidFill>
                  <a:latin typeface="Verdana"/>
                </a:rPr>
                <a:t>Syntrop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480" y="2971800"/>
              <a:ext cx="533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200400" y="4114800"/>
              <a:ext cx="6094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572000" y="42670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320" y="3200400"/>
              <a:ext cx="3812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5638680" y="3733560"/>
              <a:ext cx="4572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486040" y="1523880"/>
              <a:ext cx="76212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30481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24b"/>
                </a:solidFill>
                <a:latin typeface="Verdana"/>
              </a:rPr>
              <a:t>Systemik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4b"/>
                </a:solidFill>
                <a:latin typeface="Verdana"/>
              </a:rPr>
              <a:t>Systemisch bedeutet ... einem System dienlich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4b"/>
                </a:solidFill>
                <a:latin typeface="Verdana"/>
              </a:rPr>
              <a:t>Unternehmen und Märkte werden als soziale Systeme verstanden. Es handelt sich dabei um non-triviale bzw. hoch komplexe Systeme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4b"/>
                </a:solidFill>
                <a:latin typeface="Verdana"/>
              </a:rPr>
              <a:t>Die Komponenten (Personen, Abteilungen) sozialer Systeme stehen in Kommunikationsbeziehungen zueinander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4b"/>
                </a:solidFill>
                <a:latin typeface="Verdana"/>
              </a:rPr>
              <a:t>Kommunikation beschreibt dabei den Prozess gemeinsamer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124b"/>
                </a:solidFill>
                <a:latin typeface="Verdana"/>
              </a:rPr>
              <a:t>Wirklichkeitserzeugung („Mitteilung“)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rnkompetenzen des Systemischen Ansatzes: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chtweisen von Wirklichkeit , Visualisier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text- und Auftragsklär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okus auf Kommunikation in sozialen System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hrpersonensettings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agnose von System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htung vor Menschen, Respektlos vor Theorien und Modell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ntchronifizierung, Entkatastrophierung, Selbstwirksamkei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ösungsorientierung, neue Möglichkeit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rflüssigung von Theorien und Glaubenssätz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textuelle Intervention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operative Lösung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rnen von Mustern 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ertschätzung, Würdig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ltungen des systemischen Ansatzes: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ugier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ertschätz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ystemische Beobacht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ystemische Frag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operatio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Kultur im systemischen Ansatz: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ltur als relational erzeugte Wirklichkei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ltur als gelerntes Deutungs- und Wertungssystem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kulturation und Akkulturation kanalisiert Verhalten 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Entscheidung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Glaubensätzen, Einstellungen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ronifizierung, Katastrophierung, Gewöhnung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ltureller Kontext wirkt auf Unbewusstes, 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s unsere Handlungen bestimmt.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ultur im systemischen Ansatz: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ltur als relational erzeugte Wirklichkei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ltur als gelerntes Deutungs- und Wertungssystem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kultura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rozeß d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ernschritte in einer Kultur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n Geburt a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Akkultura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andel der Kultur eines Einzelnen/Grupp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urch Übernahme von Elementen aus einer anderen Kultu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alisiert Verhalten und Entscheidungen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von Glaubensätzen, Einstellungen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ronifizierung, Katastrophierung, Gewöhnung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ltureller Kontext wirkt auf Unbewusstes,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s unsere Handlungen bestimmt.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41800" y="838080"/>
            <a:ext cx="6249240" cy="5734800"/>
            <a:chOff x="1441800" y="838080"/>
            <a:chExt cx="6249240" cy="5734800"/>
          </a:xfrm>
        </p:grpSpPr>
        <p:sp>
          <p:nvSpPr>
            <p:cNvPr id="93" name=""/>
            <p:cNvSpPr/>
            <p:nvPr/>
          </p:nvSpPr>
          <p:spPr>
            <a:xfrm>
              <a:off x="1441800" y="1600200"/>
              <a:ext cx="6249240" cy="49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e wird Ihr Verhalten durch kulturelle Must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einflusst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s hindert uns, Veränderungen einzuleite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rum machen wir nicht, wozu wir Lust habe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utieren Sie die These: „Selbstbestimmte Egois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dieren weniger zu aggressivem Verhalten.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51520" y="838080"/>
              <a:ext cx="500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Haltungen im systemischen Ansatz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738360"/>
            <a:ext cx="8281440" cy="5694120"/>
            <a:chOff x="457200" y="738360"/>
            <a:chExt cx="8281440" cy="5694120"/>
          </a:xfrm>
        </p:grpSpPr>
        <p:sp>
          <p:nvSpPr>
            <p:cNvPr id="98" name="">
              <a:hlinkClick r:id="rId1" action="ppaction://hlinksldjump"/>
            </p:cNvPr>
            <p:cNvSpPr/>
            <p:nvPr/>
          </p:nvSpPr>
          <p:spPr>
            <a:xfrm>
              <a:off x="457200" y="6095880"/>
              <a:ext cx="1447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3480" y="1555920"/>
              <a:ext cx="3429000" cy="33573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60840" y="4114800"/>
              <a:ext cx="14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sochis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ervilitä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2080" y="4108320"/>
              <a:ext cx="165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holerik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ktionis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68800" y="1752480"/>
              <a:ext cx="147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ral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topis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49760" y="1479600"/>
              <a:ext cx="1669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igid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ngel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lexibilitä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nge Regel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52520" y="3233880"/>
              <a:ext cx="5453280" cy="0"/>
            </a:xfrm>
            <a:prstGeom prst="line">
              <a:avLst/>
            </a:prstGeom>
            <a:ln cap="rnd" w="936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9000" y="2997360"/>
              <a:ext cx="16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edan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etaillis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5440" y="738360"/>
              <a:ext cx="0" cy="4786200"/>
            </a:xfrm>
            <a:prstGeom prst="line">
              <a:avLst/>
            </a:prstGeom>
            <a:ln cap="rnd" w="324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49080" y="2865600"/>
              <a:ext cx="2012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chizo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ntscheidungs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emm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1920" y="2975040"/>
              <a:ext cx="228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Hysterik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atastrophier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58520" y="5694480"/>
              <a:ext cx="541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bb: Brain Map und typische Systemdefiz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2:09:53Z</dcterms:created>
  <dc:creator>ohl01</dc:creator>
  <dc:description/>
  <dc:language>en-US</dc:language>
  <cp:lastModifiedBy> </cp:lastModifiedBy>
  <dcterms:modified xsi:type="dcterms:W3CDTF">2008-08-11T10:59:08Z</dcterms:modified>
  <cp:revision>7</cp:revision>
  <dc:subject/>
  <dc:title>Folie 1</dc:title>
</cp:coreProperties>
</file>