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po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rp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rp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rpo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rpo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rpo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4120" y="6308280"/>
            <a:ext cx="449280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© </a:t>
            </a:r>
            <a:r>
              <a:rPr b="0" lang="en-US" sz="900" spc="-1" strike="noStrike">
                <a:solidFill>
                  <a:srgbClr val="ff0000"/>
                </a:solidFill>
                <a:latin typeface="CorpoS"/>
              </a:rPr>
              <a:t>Bergmann/Daub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  | </a:t>
            </a:r>
            <a:r>
              <a:rPr b="0" lang="en-US" sz="900" spc="-1" strike="noStrike">
                <a:solidFill>
                  <a:srgbClr val="ff0000"/>
                </a:solidFill>
                <a:latin typeface="CorpoS"/>
              </a:rPr>
              <a:t>Systemisches Innovations- und Kompetenzmanagement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                                                                                                GablerPLUS Zusatzinformationen zu Medien des Gabler Verlags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34120" y="6308640"/>
            <a:ext cx="166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Gabler Verlag | Wiesbaden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www.gabler.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426960" y="2349360"/>
            <a:ext cx="8717040" cy="3555360"/>
            <a:chOff x="426960" y="2349360"/>
            <a:chExt cx="8717040" cy="3555360"/>
          </a:xfrm>
        </p:grpSpPr>
        <p:sp>
          <p:nvSpPr>
            <p:cNvPr id="42" name=""/>
            <p:cNvSpPr/>
            <p:nvPr/>
          </p:nvSpPr>
          <p:spPr>
            <a:xfrm>
              <a:off x="431640" y="3068640"/>
              <a:ext cx="871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rpoS"/>
                </a:rPr>
                <a:t>Systemisches Innovations- und Kompetenzmanagem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26960" y="2349360"/>
              <a:ext cx="631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rpoS"/>
                </a:rPr>
                <a:t>Gustav Bergmann/Jürgen Dau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6800" y="4357800"/>
              <a:ext cx="75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rpoS"/>
                </a:rPr>
                <a:t>Grundlagen -  Prozesse - Perspektiv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3280" y="5013360"/>
              <a:ext cx="41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rpoS"/>
                </a:rPr>
                <a:t>Erscheinungsjahr 2008 / 2. Aufl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3280" y="5445000"/>
              <a:ext cx="86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rpoS"/>
                </a:rPr>
                <a:t>Lerneinheit der folgenden Folien:</a:t>
              </a:r>
              <a:r>
                <a:rPr b="0" lang="en-US" sz="1800" spc="-1" strike="noStrike">
                  <a:solidFill>
                    <a:srgbClr val="000000"/>
                  </a:solidFill>
                  <a:latin typeface="CorpoS"/>
                </a:rPr>
                <a:t> Solution Cy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511280" y="533520"/>
            <a:ext cx="6019920" cy="5564880"/>
            <a:chOff x="1511280" y="533520"/>
            <a:chExt cx="6019920" cy="556488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1511280" y="533520"/>
              <a:ext cx="6019920" cy="48225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53" name=""/>
            <p:cNvSpPr/>
            <p:nvPr/>
          </p:nvSpPr>
          <p:spPr>
            <a:xfrm>
              <a:off x="1703520" y="5638680"/>
              <a:ext cx="57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1c1b57"/>
                  </a:solidFill>
                  <a:latin typeface="Verdana"/>
                </a:rPr>
                <a:t>Abb.: Solution cycle und Failure Fact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38040" y="1479600"/>
              <a:ext cx="26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utopisch oder verzettel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14040" y="2757600"/>
              <a:ext cx="171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einfält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mehr desselb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54680" y="2944800"/>
              <a:ext cx="1438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beliebig o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hysteri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97880" y="4357800"/>
              <a:ext cx="123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rigide o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schizo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74760" y="4773600"/>
              <a:ext cx="1867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aktionistisch o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choleri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66600" y="1649520"/>
              <a:ext cx="252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grübel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oder  stur weitermac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51320" y="4087800"/>
              <a:ext cx="202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miesmachend o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masochisti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48120" y="735120"/>
              <a:ext cx="179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d0e2f"/>
                  </a:solidFill>
                  <a:latin typeface="Verdana"/>
                </a:rPr>
                <a:t>Kein Ende find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d0e2f"/>
                  </a:solidFill>
                  <a:latin typeface="Verdana"/>
                </a:rPr>
                <a:t>„</a:t>
              </a:r>
              <a:r>
                <a:rPr b="0" lang="de-DE" sz="1600" spc="-1" strike="noStrike">
                  <a:solidFill>
                    <a:srgbClr val="0d0e2f"/>
                  </a:solidFill>
                  <a:latin typeface="Verdana"/>
                </a:rPr>
                <a:t>Projektitis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26840" y="3340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Fl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187800" y="3639600"/>
              <a:ext cx="91260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05120" y="2792520"/>
              <a:ext cx="1468440" cy="763560"/>
            </a:xfrm>
            <a:custGeom>
              <a:avLst/>
              <a:gdLst/>
              <a:ahLst/>
              <a:rect l="l" t="t" r="r" b="b"/>
              <a:pathLst>
                <a:path w="925" h="481">
                  <a:moveTo>
                    <a:pt x="0" y="0"/>
                  </a:moveTo>
                  <a:cubicBezTo>
                    <a:pt x="198" y="168"/>
                    <a:pt x="396" y="337"/>
                    <a:pt x="550" y="409"/>
                  </a:cubicBezTo>
                  <a:cubicBezTo>
                    <a:pt x="704" y="481"/>
                    <a:pt x="863" y="430"/>
                    <a:pt x="925" y="4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06960" y="2489040"/>
              <a:ext cx="423720" cy="992520"/>
            </a:xfrm>
            <a:custGeom>
              <a:avLst/>
              <a:gdLst/>
              <a:ahLst/>
              <a:rect l="l" t="t" r="r" b="b"/>
              <a:pathLst>
                <a:path w="267" h="625">
                  <a:moveTo>
                    <a:pt x="100" y="0"/>
                  </a:moveTo>
                  <a:cubicBezTo>
                    <a:pt x="183" y="156"/>
                    <a:pt x="267" y="312"/>
                    <a:pt x="250" y="416"/>
                  </a:cubicBezTo>
                  <a:cubicBezTo>
                    <a:pt x="233" y="520"/>
                    <a:pt x="42" y="590"/>
                    <a:pt x="0" y="6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46560" y="3494160"/>
              <a:ext cx="714600" cy="154080"/>
            </a:xfrm>
            <a:custGeom>
              <a:avLst/>
              <a:gdLst/>
              <a:ahLst/>
              <a:rect l="l" t="t" r="r" b="b"/>
              <a:pathLst>
                <a:path w="450" h="97">
                  <a:moveTo>
                    <a:pt x="450" y="0"/>
                  </a:moveTo>
                  <a:cubicBezTo>
                    <a:pt x="358" y="34"/>
                    <a:pt x="266" y="69"/>
                    <a:pt x="191" y="83"/>
                  </a:cubicBezTo>
                  <a:cubicBezTo>
                    <a:pt x="116" y="97"/>
                    <a:pt x="35" y="84"/>
                    <a:pt x="0" y="8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5251320" y="3838320"/>
              <a:ext cx="63504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643280" y="3917880"/>
              <a:ext cx="2700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00400" y="1628640"/>
              <a:ext cx="662040" cy="1336680"/>
            </a:xfrm>
            <a:custGeom>
              <a:avLst/>
              <a:gdLst/>
              <a:ahLst/>
              <a:rect l="l" t="t" r="r" b="b"/>
              <a:pathLst>
                <a:path w="417" h="842">
                  <a:moveTo>
                    <a:pt x="0" y="0"/>
                  </a:moveTo>
                  <a:cubicBezTo>
                    <a:pt x="141" y="226"/>
                    <a:pt x="283" y="452"/>
                    <a:pt x="350" y="592"/>
                  </a:cubicBezTo>
                  <a:cubicBezTo>
                    <a:pt x="417" y="732"/>
                    <a:pt x="392" y="800"/>
                    <a:pt x="400" y="8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990720" y="461880"/>
            <a:ext cx="6741720" cy="5709960"/>
            <a:chOff x="990720" y="461880"/>
            <a:chExt cx="6741720" cy="5709960"/>
          </a:xfrm>
        </p:grpSpPr>
        <p:sp>
          <p:nvSpPr>
            <p:cNvPr id="171" name=""/>
            <p:cNvSpPr/>
            <p:nvPr/>
          </p:nvSpPr>
          <p:spPr>
            <a:xfrm>
              <a:off x="1176840" y="3395520"/>
              <a:ext cx="51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Wer Probleme erklärt, hat noch keine Lösung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13560" y="4157640"/>
              <a:ext cx="58806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Die Welt ist voller Lösungen, die ein Problem suche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Erkenntnis kommt nicht von Erklären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ansonsten müsste 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Erklärnis heiße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Die Lösung ist ein Prozes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17880" y="2100240"/>
              <a:ext cx="6514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ösungsorientierung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Warum nicht Lösungen finden, statt Probleme zu erkläre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990720" y="461880"/>
              <a:ext cx="167616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066680" y="681120"/>
            <a:ext cx="7203600" cy="5060880"/>
            <a:chOff x="1066680" y="681120"/>
            <a:chExt cx="7203600" cy="5060880"/>
          </a:xfrm>
        </p:grpSpPr>
        <p:sp>
          <p:nvSpPr>
            <p:cNvPr id="176" name=""/>
            <p:cNvSpPr/>
            <p:nvPr/>
          </p:nvSpPr>
          <p:spPr>
            <a:xfrm>
              <a:off x="1127880" y="2293920"/>
              <a:ext cx="714240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ie Lösung ist ein Prozes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.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rkennen der Situation aus multiplen Perspektiv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2.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blem ganzheitlich gemeinsam beschreib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.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usnahmen bzw. Problemfreie Zonen such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terschiede zur Problemsituation entdeck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.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terventionen planen u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.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alisie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.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Veränderung wahrneh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7.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terschiede multiplizier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8.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Änderungen festi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1066680" y="681120"/>
              <a:ext cx="167652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69160" y="685800"/>
            <a:ext cx="61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mplexitäts-Pep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der wie scheitern kluge Leu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zelproblemlö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vernetzte Diag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beachtete Neben- und Folgewirk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rreversible Schwerpunktbi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Übersteuerung oder Untersteu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toritäres Ver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ehr dessel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zulässige Vereinfa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u schnell in Aktion, Aktionis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00200" y="762120"/>
            <a:ext cx="6502680" cy="4656600"/>
            <a:chOff x="1600200" y="762120"/>
            <a:chExt cx="6502680" cy="46566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600200" y="1752480"/>
              <a:ext cx="1711440" cy="22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295080" y="3429000"/>
              <a:ext cx="102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er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90000" y="762120"/>
              <a:ext cx="6212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er Lösungszyklus (Solution Cycle) ist ein Seg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iner Spirale des Lerne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809880" y="2590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4495680" y="3238560"/>
              <a:ext cx="83844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927080" y="4410000"/>
              <a:ext cx="4816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ernen 0 : Wissen, Erken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ernen 1: Adaption, Anpassungsler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ernen 2: Lernen lernen, Refl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413360" y="457200"/>
            <a:ext cx="7201080" cy="5276160"/>
            <a:chOff x="1413360" y="457200"/>
            <a:chExt cx="7201080" cy="5276160"/>
          </a:xfrm>
        </p:grpSpPr>
        <p:sp>
          <p:nvSpPr>
            <p:cNvPr id="55" name=""/>
            <p:cNvSpPr/>
            <p:nvPr/>
          </p:nvSpPr>
          <p:spPr>
            <a:xfrm>
              <a:off x="1413360" y="457200"/>
              <a:ext cx="568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zessphasen und Potentialtypen (Taoismu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39360" y="2022480"/>
              <a:ext cx="1791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ardial (Her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reati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sychotis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42840" y="1981080"/>
              <a:ext cx="2271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Hepatisch (Leb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Pragmatis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Kämpferis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aggressi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8920" y="4572000"/>
              <a:ext cx="2280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Pulmonal (Lung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Rezepti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masochistis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84680" y="4114800"/>
              <a:ext cx="17168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Renal (Nier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Analytis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perf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rig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psychotis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4120" y="2971800"/>
              <a:ext cx="180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Gast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(Milz /Mage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Loy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Sammel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0400" y="2133720"/>
              <a:ext cx="2590920" cy="2590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3680" y="124776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Ya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79320" y="53341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Y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38960" y="3774960"/>
              <a:ext cx="105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Was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0520" y="156528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ol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51160" y="1654200"/>
              <a:ext cx="86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eu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81040" y="4118040"/>
              <a:ext cx="91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et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31720" y="3200400"/>
              <a:ext cx="72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r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266120" y="1066680"/>
            <a:ext cx="7086960" cy="4419720"/>
            <a:chOff x="1266120" y="1066680"/>
            <a:chExt cx="7086960" cy="4419720"/>
          </a:xfrm>
        </p:grpSpPr>
        <p:sp>
          <p:nvSpPr>
            <p:cNvPr id="70" name=""/>
            <p:cNvSpPr/>
            <p:nvPr/>
          </p:nvSpPr>
          <p:spPr>
            <a:xfrm>
              <a:off x="1676520" y="54864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66120" y="1066680"/>
              <a:ext cx="334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zessphasen (Taoismu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43200" y="2438280"/>
              <a:ext cx="1676520" cy="1600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d03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2742840" y="2514240"/>
              <a:ext cx="1676520" cy="1600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05320" y="3124080"/>
              <a:ext cx="228600" cy="22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49280" y="4114800"/>
              <a:ext cx="91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et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81280" y="3962520"/>
              <a:ext cx="105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Was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92960" y="236232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ol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10200" y="2286000"/>
              <a:ext cx="86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eu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74640" y="2289240"/>
              <a:ext cx="1518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Kreativitä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Kommunik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Lös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22720" y="4282920"/>
              <a:ext cx="1654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azugehör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ufnehm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ensitivse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egeln etablier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83400" y="3276720"/>
              <a:ext cx="1669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trukturp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eil einer eigen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trukt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37520" y="1066680"/>
            <a:ext cx="7086960" cy="4419720"/>
            <a:chOff x="1037520" y="1066680"/>
            <a:chExt cx="7086960" cy="4419720"/>
          </a:xfrm>
        </p:grpSpPr>
        <p:sp>
          <p:nvSpPr>
            <p:cNvPr id="83" name=""/>
            <p:cNvSpPr/>
            <p:nvPr/>
          </p:nvSpPr>
          <p:spPr>
            <a:xfrm>
              <a:off x="1447920" y="54864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37520" y="1066680"/>
              <a:ext cx="334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zessphasen (Taoismu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14600" y="2438280"/>
              <a:ext cx="1676520" cy="1600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d03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3809520" y="2514240"/>
              <a:ext cx="1676520" cy="1600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95680" y="3124080"/>
              <a:ext cx="228600" cy="22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76720" y="3124080"/>
              <a:ext cx="228600" cy="22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20680" y="4114800"/>
              <a:ext cx="91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et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38880" y="3581280"/>
              <a:ext cx="105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Was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88400" y="281952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ol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81600" y="2286000"/>
              <a:ext cx="86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eu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90040" y="3276720"/>
              <a:ext cx="1712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ichtung angeb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Ziele bestimm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Potenti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46040" y="2289240"/>
              <a:ext cx="1518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Kreativitä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Kommunik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Lös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94120" y="4282920"/>
              <a:ext cx="1654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azugehör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ufnehm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ensitivse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egeln etablier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54800" y="3276720"/>
              <a:ext cx="1669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trukturp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eil einer eigen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trukt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342080" y="1066680"/>
            <a:ext cx="6740280" cy="4419720"/>
            <a:chOff x="1342080" y="1066680"/>
            <a:chExt cx="6740280" cy="4419720"/>
          </a:xfrm>
        </p:grpSpPr>
        <p:sp>
          <p:nvSpPr>
            <p:cNvPr id="98" name=""/>
            <p:cNvSpPr/>
            <p:nvPr/>
          </p:nvSpPr>
          <p:spPr>
            <a:xfrm>
              <a:off x="1752480" y="5486400"/>
              <a:ext cx="55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42080" y="1066680"/>
              <a:ext cx="334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zessphasen (Taoismu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19160" y="2438280"/>
              <a:ext cx="1676160" cy="1600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d03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0800000">
              <a:off x="4114440" y="2514240"/>
              <a:ext cx="1676160" cy="1600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00240" y="3124080"/>
              <a:ext cx="228240" cy="22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3124080"/>
              <a:ext cx="228240" cy="22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24880" y="4114800"/>
              <a:ext cx="91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et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3080" y="3581280"/>
              <a:ext cx="105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Was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92600" y="281952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ol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85800" y="2286000"/>
              <a:ext cx="86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eu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73720" y="3276720"/>
              <a:ext cx="1250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ngagier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kt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44840" y="22892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nnovat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83560" y="4282920"/>
              <a:ext cx="136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unterstütz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ufnehm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29840" y="3276720"/>
              <a:ext cx="1352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re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organisier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879480" y="663480"/>
            <a:ext cx="6895800" cy="4983840"/>
            <a:chOff x="879480" y="663480"/>
            <a:chExt cx="6895800" cy="4983840"/>
          </a:xfrm>
        </p:grpSpPr>
        <p:sp>
          <p:nvSpPr>
            <p:cNvPr id="113" name=""/>
            <p:cNvSpPr/>
            <p:nvPr/>
          </p:nvSpPr>
          <p:spPr>
            <a:xfrm>
              <a:off x="2047680" y="13716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47680" y="5029200"/>
              <a:ext cx="556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99960" y="2438280"/>
              <a:ext cx="5257800" cy="2590920"/>
            </a:xfrm>
            <a:custGeom>
              <a:avLst/>
              <a:gdLst/>
              <a:ahLst/>
              <a:rect l="l" t="t" r="r" b="b"/>
              <a:pathLst>
                <a:path w="3312" h="1632">
                  <a:moveTo>
                    <a:pt x="0" y="1632"/>
                  </a:moveTo>
                  <a:cubicBezTo>
                    <a:pt x="288" y="1276"/>
                    <a:pt x="576" y="920"/>
                    <a:pt x="816" y="672"/>
                  </a:cubicBezTo>
                  <a:cubicBezTo>
                    <a:pt x="1056" y="424"/>
                    <a:pt x="1216" y="240"/>
                    <a:pt x="1440" y="144"/>
                  </a:cubicBezTo>
                  <a:cubicBezTo>
                    <a:pt x="1664" y="48"/>
                    <a:pt x="1944" y="0"/>
                    <a:pt x="2160" y="96"/>
                  </a:cubicBezTo>
                  <a:cubicBezTo>
                    <a:pt x="2376" y="192"/>
                    <a:pt x="2608" y="576"/>
                    <a:pt x="2736" y="720"/>
                  </a:cubicBezTo>
                  <a:cubicBezTo>
                    <a:pt x="2864" y="864"/>
                    <a:pt x="2832" y="832"/>
                    <a:pt x="2928" y="960"/>
                  </a:cubicBezTo>
                  <a:cubicBezTo>
                    <a:pt x="3024" y="1088"/>
                    <a:pt x="3248" y="1400"/>
                    <a:pt x="3312" y="14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4440" y="663480"/>
              <a:ext cx="197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ösungszyklu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23640" y="3225960"/>
              <a:ext cx="4800600" cy="1803240"/>
            </a:xfrm>
            <a:custGeom>
              <a:avLst/>
              <a:gdLst/>
              <a:ahLst/>
              <a:rect l="l" t="t" r="r" b="b"/>
              <a:pathLst>
                <a:path w="3024" h="1136">
                  <a:moveTo>
                    <a:pt x="0" y="1136"/>
                  </a:moveTo>
                  <a:cubicBezTo>
                    <a:pt x="160" y="868"/>
                    <a:pt x="320" y="600"/>
                    <a:pt x="480" y="464"/>
                  </a:cubicBezTo>
                  <a:cubicBezTo>
                    <a:pt x="640" y="328"/>
                    <a:pt x="808" y="384"/>
                    <a:pt x="960" y="320"/>
                  </a:cubicBezTo>
                  <a:cubicBezTo>
                    <a:pt x="1112" y="256"/>
                    <a:pt x="1224" y="120"/>
                    <a:pt x="1392" y="80"/>
                  </a:cubicBezTo>
                  <a:cubicBezTo>
                    <a:pt x="1560" y="40"/>
                    <a:pt x="1784" y="0"/>
                    <a:pt x="1968" y="80"/>
                  </a:cubicBezTo>
                  <a:cubicBezTo>
                    <a:pt x="2152" y="160"/>
                    <a:pt x="2336" y="424"/>
                    <a:pt x="2496" y="560"/>
                  </a:cubicBezTo>
                  <a:cubicBezTo>
                    <a:pt x="2656" y="696"/>
                    <a:pt x="2840" y="800"/>
                    <a:pt x="2928" y="896"/>
                  </a:cubicBezTo>
                  <a:cubicBezTo>
                    <a:pt x="3016" y="992"/>
                    <a:pt x="3008" y="1096"/>
                    <a:pt x="3024" y="11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62080" y="3187800"/>
              <a:ext cx="4813200" cy="1841400"/>
            </a:xfrm>
            <a:custGeom>
              <a:avLst/>
              <a:gdLst/>
              <a:ahLst/>
              <a:rect l="l" t="t" r="r" b="b"/>
              <a:pathLst>
                <a:path w="3032" h="1160">
                  <a:moveTo>
                    <a:pt x="0" y="1160"/>
                  </a:moveTo>
                  <a:cubicBezTo>
                    <a:pt x="216" y="884"/>
                    <a:pt x="432" y="608"/>
                    <a:pt x="576" y="488"/>
                  </a:cubicBezTo>
                  <a:cubicBezTo>
                    <a:pt x="720" y="368"/>
                    <a:pt x="688" y="512"/>
                    <a:pt x="864" y="440"/>
                  </a:cubicBezTo>
                  <a:cubicBezTo>
                    <a:pt x="1040" y="368"/>
                    <a:pt x="1384" y="112"/>
                    <a:pt x="1632" y="56"/>
                  </a:cubicBezTo>
                  <a:cubicBezTo>
                    <a:pt x="1880" y="0"/>
                    <a:pt x="2136" y="16"/>
                    <a:pt x="2352" y="104"/>
                  </a:cubicBezTo>
                  <a:cubicBezTo>
                    <a:pt x="2568" y="192"/>
                    <a:pt x="2824" y="496"/>
                    <a:pt x="2928" y="584"/>
                  </a:cubicBezTo>
                  <a:cubicBezTo>
                    <a:pt x="3032" y="672"/>
                    <a:pt x="2968" y="624"/>
                    <a:pt x="2976" y="6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79480" y="1387440"/>
              <a:ext cx="1175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Energie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lev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61440" y="5248440"/>
              <a:ext cx="197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zessphas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869440" y="2400480"/>
              <a:ext cx="398520" cy="26640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116" y="0"/>
                  </a:moveTo>
                  <a:cubicBezTo>
                    <a:pt x="84" y="47"/>
                    <a:pt x="45" y="144"/>
                    <a:pt x="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835240" y="2289240"/>
              <a:ext cx="90720" cy="347760"/>
            </a:xfrm>
            <a:custGeom>
              <a:avLst/>
              <a:gdLst/>
              <a:ahLst/>
              <a:rect l="l" t="t" r="r" b="b"/>
              <a:pathLst>
                <a:path w="74" h="305">
                  <a:moveTo>
                    <a:pt x="0" y="0"/>
                  </a:moveTo>
                  <a:cubicBezTo>
                    <a:pt x="40" y="61"/>
                    <a:pt x="59" y="109"/>
                    <a:pt x="74" y="179"/>
                  </a:cubicBezTo>
                  <a:cubicBezTo>
                    <a:pt x="61" y="276"/>
                    <a:pt x="63" y="234"/>
                    <a:pt x="63" y="3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5717880" y="2235240"/>
              <a:ext cx="334800" cy="7452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0" y="105"/>
                  </a:moveTo>
                  <a:cubicBezTo>
                    <a:pt x="35" y="80"/>
                    <a:pt x="63" y="54"/>
                    <a:pt x="105" y="42"/>
                  </a:cubicBezTo>
                  <a:cubicBezTo>
                    <a:pt x="128" y="5"/>
                    <a:pt x="116" y="18"/>
                    <a:pt x="1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931360" y="2095560"/>
              <a:ext cx="81000" cy="109440"/>
            </a:xfrm>
            <a:prstGeom prst="ellipse">
              <a:avLst/>
            </a:prstGeom>
            <a:solidFill>
              <a:srgbClr val="f760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1880" y="3144960"/>
              <a:ext cx="199800" cy="26640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116" y="0"/>
                  </a:moveTo>
                  <a:cubicBezTo>
                    <a:pt x="84" y="47"/>
                    <a:pt x="45" y="144"/>
                    <a:pt x="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32080" y="2940120"/>
              <a:ext cx="127080" cy="484200"/>
            </a:xfrm>
            <a:custGeom>
              <a:avLst/>
              <a:gdLst/>
              <a:ahLst/>
              <a:rect l="l" t="t" r="r" b="b"/>
              <a:pathLst>
                <a:path w="74" h="305">
                  <a:moveTo>
                    <a:pt x="0" y="0"/>
                  </a:moveTo>
                  <a:cubicBezTo>
                    <a:pt x="40" y="61"/>
                    <a:pt x="59" y="109"/>
                    <a:pt x="74" y="179"/>
                  </a:cubicBezTo>
                  <a:cubicBezTo>
                    <a:pt x="61" y="276"/>
                    <a:pt x="63" y="234"/>
                    <a:pt x="63" y="3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4480" y="3481560"/>
              <a:ext cx="164880" cy="266400"/>
            </a:xfrm>
            <a:custGeom>
              <a:avLst/>
              <a:gdLst/>
              <a:ahLst/>
              <a:rect l="l" t="t" r="r" b="b"/>
              <a:pathLst>
                <a:path w="116" h="168">
                  <a:moveTo>
                    <a:pt x="116" y="0"/>
                  </a:moveTo>
                  <a:cubicBezTo>
                    <a:pt x="84" y="47"/>
                    <a:pt x="45" y="144"/>
                    <a:pt x="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4680" y="3276720"/>
              <a:ext cx="104760" cy="484200"/>
            </a:xfrm>
            <a:custGeom>
              <a:avLst/>
              <a:gdLst/>
              <a:ahLst/>
              <a:rect l="l" t="t" r="r" b="b"/>
              <a:pathLst>
                <a:path w="74" h="305">
                  <a:moveTo>
                    <a:pt x="0" y="0"/>
                  </a:moveTo>
                  <a:cubicBezTo>
                    <a:pt x="40" y="61"/>
                    <a:pt x="59" y="109"/>
                    <a:pt x="74" y="179"/>
                  </a:cubicBezTo>
                  <a:cubicBezTo>
                    <a:pt x="61" y="276"/>
                    <a:pt x="63" y="234"/>
                    <a:pt x="63" y="3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01760" y="3209760"/>
              <a:ext cx="195120" cy="16668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0" y="105"/>
                  </a:moveTo>
                  <a:cubicBezTo>
                    <a:pt x="35" y="80"/>
                    <a:pt x="63" y="54"/>
                    <a:pt x="105" y="42"/>
                  </a:cubicBezTo>
                  <a:cubicBezTo>
                    <a:pt x="128" y="5"/>
                    <a:pt x="116" y="18"/>
                    <a:pt x="1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62160" y="3176640"/>
              <a:ext cx="8064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33520" y="2819520"/>
              <a:ext cx="8100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955040" y="3048120"/>
              <a:ext cx="335160" cy="7452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0" y="105"/>
                  </a:moveTo>
                  <a:cubicBezTo>
                    <a:pt x="35" y="80"/>
                    <a:pt x="63" y="54"/>
                    <a:pt x="105" y="42"/>
                  </a:cubicBezTo>
                  <a:cubicBezTo>
                    <a:pt x="128" y="5"/>
                    <a:pt x="116" y="18"/>
                    <a:pt x="1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76320"/>
            <a:ext cx="7772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ution Cycle: Phasen und Aktivitä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533520"/>
          <a:ext cx="7840440" cy="59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784044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495360" y="645624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. Bergmann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481400" y="762120"/>
            <a:ext cx="6048000" cy="5316480"/>
            <a:chOff x="1481400" y="762120"/>
            <a:chExt cx="6048000" cy="531648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1509840" y="762120"/>
              <a:ext cx="6019560" cy="48225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39" name=""/>
            <p:cNvSpPr/>
            <p:nvPr/>
          </p:nvSpPr>
          <p:spPr>
            <a:xfrm>
              <a:off x="1553400" y="571032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b57"/>
                  </a:solidFill>
                  <a:latin typeface="Verdana"/>
                </a:rPr>
                <a:t>Abb.:Solution Cy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82800" y="1447920"/>
              <a:ext cx="130860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d0e2f"/>
                  </a:solidFill>
                  <a:latin typeface="Verdana"/>
                </a:rPr>
                <a:t>Diagno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d0e2f"/>
                  </a:solidFill>
                  <a:latin typeface="Verdana"/>
                </a:rPr>
                <a:t>perzepti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5320" y="3886200"/>
              <a:ext cx="123696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d0e2f"/>
                  </a:solidFill>
                  <a:latin typeface="Verdana"/>
                </a:rPr>
                <a:t>Therap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kreati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81400" y="1905120"/>
              <a:ext cx="12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d0e2f"/>
                  </a:solidFill>
                  <a:latin typeface="Verdana"/>
                </a:rPr>
                <a:t>Refl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6320" y="441972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e2f"/>
                  </a:solidFill>
                  <a:latin typeface="Verdana"/>
                </a:rPr>
                <a:t>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44000" y="28954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rken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11640" y="251460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klär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48160" y="3147840"/>
              <a:ext cx="6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ö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47080" y="4595760"/>
              <a:ext cx="126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uswähle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la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54680" y="5052960"/>
              <a:ext cx="118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ealisier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10760" y="3048120"/>
              <a:ext cx="79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er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2840" y="1776240"/>
              <a:ext cx="132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bschließ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18:54:19Z</dcterms:created>
  <dc:creator> </dc:creator>
  <dc:description/>
  <dc:language>en-US</dc:language>
  <cp:lastModifiedBy> </cp:lastModifiedBy>
  <dcterms:modified xsi:type="dcterms:W3CDTF">2008-08-11T11:04:01Z</dcterms:modified>
  <cp:revision>8</cp:revision>
  <dc:subject/>
  <dc:title>PowerPoint-Präsentation</dc:title>
</cp:coreProperties>
</file>