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4120" y="6308280"/>
            <a:ext cx="44164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©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Bergmann/Daub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|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Systemisches Innovations- und Kompetenz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GablerPLUS Zusatzinformationen zu Medien des Gabler Verlags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34120" y="6308640"/>
            <a:ext cx="16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Gabler Verlag | Wiesbaden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www.gabler.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426960" y="2349360"/>
            <a:ext cx="8717040" cy="3555360"/>
            <a:chOff x="426960" y="2349360"/>
            <a:chExt cx="8717040" cy="3555360"/>
          </a:xfrm>
        </p:grpSpPr>
        <p:sp>
          <p:nvSpPr>
            <p:cNvPr id="42" name=""/>
            <p:cNvSpPr/>
            <p:nvPr/>
          </p:nvSpPr>
          <p:spPr>
            <a:xfrm>
              <a:off x="431640" y="3068640"/>
              <a:ext cx="871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rpoS"/>
                </a:rPr>
                <a:t>Systemisches Innovations- und Kompetenz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26960" y="2349360"/>
              <a:ext cx="631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poS"/>
                </a:rPr>
                <a:t>Gustav Bergmann/Jürgen Dau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6800" y="4357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poS"/>
                </a:rPr>
                <a:t>Grundlagen -  Prozesse - Perspektiv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3280" y="5013360"/>
              <a:ext cx="41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rpoS"/>
                </a:rPr>
                <a:t>Erscheinungsjahr 2008 / 2. Aufl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3280" y="5445000"/>
              <a:ext cx="86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rpoS"/>
                </a:rPr>
                <a:t>Lerneinheit der folgenden Folien:</a:t>
              </a:r>
              <a:r>
                <a:rPr b="0" lang="en-US" sz="1800" spc="-1" strike="noStrike">
                  <a:solidFill>
                    <a:srgbClr val="000000"/>
                  </a:solidFill>
                  <a:latin typeface="CorpoS"/>
                </a:rPr>
                <a:t> Kompetenz und Lern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591920" y="993600"/>
            <a:ext cx="5410080" cy="4721400"/>
            <a:chOff x="1591920" y="993600"/>
            <a:chExt cx="5410080" cy="4721400"/>
          </a:xfrm>
        </p:grpSpPr>
        <p:sp>
          <p:nvSpPr>
            <p:cNvPr id="174" name=""/>
            <p:cNvSpPr/>
            <p:nvPr/>
          </p:nvSpPr>
          <p:spPr>
            <a:xfrm>
              <a:off x="1716480" y="2441520"/>
              <a:ext cx="36936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Inno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ompetenzen des Innov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undenbedürfnis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591920" y="3124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478120" y="32004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89840" y="993600"/>
              <a:ext cx="529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novationen entstehen relational: Dialo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84760" y="5078520"/>
              <a:ext cx="18396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360" y="4873680"/>
              <a:ext cx="11736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5920" y="5130720"/>
              <a:ext cx="15228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03520" y="492588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1240" y="4859280"/>
              <a:ext cx="17928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4520" y="4826160"/>
              <a:ext cx="745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08200" y="5283360"/>
              <a:ext cx="152640" cy="26640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6160" y="507852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3520" y="5011560"/>
              <a:ext cx="179280" cy="16704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36800" y="4978440"/>
              <a:ext cx="748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37040" y="4773600"/>
              <a:ext cx="745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37040" y="5230800"/>
              <a:ext cx="18396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84640" y="5025960"/>
              <a:ext cx="11736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8200" y="5283360"/>
              <a:ext cx="152640" cy="26640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56160" y="507852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3520" y="5011560"/>
              <a:ext cx="179280" cy="16704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36800" y="4978440"/>
              <a:ext cx="748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60840" y="5435640"/>
              <a:ext cx="15228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8440" y="523080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25800" y="5164200"/>
              <a:ext cx="17964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89440" y="5130720"/>
              <a:ext cx="745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89320" y="4925880"/>
              <a:ext cx="748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84480" y="4064040"/>
              <a:ext cx="15228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080" y="385920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49800" y="3792600"/>
              <a:ext cx="17928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3080" y="3759120"/>
              <a:ext cx="745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36760" y="4216320"/>
              <a:ext cx="15264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4720" y="401148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2080" y="3944880"/>
              <a:ext cx="17928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5360" y="3911760"/>
              <a:ext cx="748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36760" y="4216320"/>
              <a:ext cx="15264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84720" y="4011480"/>
              <a:ext cx="9684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02080" y="3944880"/>
              <a:ext cx="17928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65360" y="3911760"/>
              <a:ext cx="748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18000" y="4064040"/>
              <a:ext cx="745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685800" y="523800"/>
            <a:ext cx="8153280" cy="5572080"/>
            <a:chOff x="685800" y="523800"/>
            <a:chExt cx="8153280" cy="5572080"/>
          </a:xfrm>
        </p:grpSpPr>
        <p:sp>
          <p:nvSpPr>
            <p:cNvPr id="214" name=""/>
            <p:cNvSpPr/>
            <p:nvPr/>
          </p:nvSpPr>
          <p:spPr>
            <a:xfrm>
              <a:off x="685800" y="2133360"/>
              <a:ext cx="1218960" cy="6098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9680" y="2133360"/>
              <a:ext cx="1219320" cy="6098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9880" y="2133360"/>
              <a:ext cx="1219320" cy="6098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3760" y="2133360"/>
              <a:ext cx="1219320" cy="6098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0" y="2133360"/>
              <a:ext cx="1218960" cy="6098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5280" y="2743200"/>
              <a:ext cx="76212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580920" y="2743200"/>
              <a:ext cx="68580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560" y="2743200"/>
              <a:ext cx="76212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19360" y="2743200"/>
              <a:ext cx="76212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9160" y="2743200"/>
              <a:ext cx="76212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057040" y="2743200"/>
              <a:ext cx="53316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181480" y="2743200"/>
              <a:ext cx="53352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43800" y="2743200"/>
              <a:ext cx="761760" cy="18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81680" y="2743200"/>
              <a:ext cx="457200" cy="1828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4572000"/>
              <a:ext cx="8001000" cy="6858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85600" y="47750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Verdana"/>
                </a:rPr>
                <a:t>Prax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8760" y="232416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Verdana"/>
                </a:rPr>
                <a:t>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56800" y="5549760"/>
              <a:ext cx="540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rprobung, Anpassung, Experiment, Performan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11120" y="1523880"/>
              <a:ext cx="532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flexion, Experiment, Irritation, Musterbild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4680" y="523800"/>
              <a:ext cx="62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ompetenzentwicklung als Prozess der Selbsterpro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3000" y="6095880"/>
              <a:ext cx="7010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81080" y="1523880"/>
            <a:ext cx="51516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e lernen wir am Bes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en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ör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hen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hen und Hör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leben, ausprobier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729360" y="533520"/>
            <a:ext cx="8181360" cy="5943600"/>
            <a:chOff x="729360" y="533520"/>
            <a:chExt cx="8181360" cy="5943600"/>
          </a:xfrm>
        </p:grpSpPr>
        <p:sp>
          <p:nvSpPr>
            <p:cNvPr id="237" name=""/>
            <p:cNvSpPr/>
            <p:nvPr/>
          </p:nvSpPr>
          <p:spPr>
            <a:xfrm>
              <a:off x="769680" y="1193760"/>
              <a:ext cx="378972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Machtdistan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Unsicherheitsvermeid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Maskulinität </a:t>
              </a:r>
              <a:r>
                <a:rPr b="0" lang="de-DE" sz="1600" spc="-1" strike="noStrike">
                  <a:solidFill>
                    <a:srgbClr val="333399"/>
                  </a:solidFill>
                  <a:latin typeface="Verdana"/>
                </a:rPr>
                <a:t>(vs. Femininitä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Kollektivität </a:t>
              </a:r>
              <a:r>
                <a:rPr b="0" lang="de-DE" sz="1600" spc="-1" strike="noStrike">
                  <a:solidFill>
                    <a:srgbClr val="333399"/>
                  </a:solidFill>
                  <a:latin typeface="Verdana"/>
                </a:rPr>
                <a:t>(vs. Individualitä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Einheitlichkeit </a:t>
              </a:r>
              <a:r>
                <a:rPr b="0" lang="de-DE" sz="1600" spc="-1" strike="noStrike">
                  <a:solidFill>
                    <a:srgbClr val="333399"/>
                  </a:solidFill>
                  <a:latin typeface="Verdana"/>
                </a:rPr>
                <a:t>(vs. Diversitä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Inhaltsorientierung </a:t>
              </a:r>
              <a:r>
                <a:rPr b="0" lang="de-DE" sz="1600" spc="-1" strike="noStrike">
                  <a:solidFill>
                    <a:srgbClr val="333399"/>
                  </a:solidFill>
                  <a:latin typeface="Verdana"/>
                </a:rPr>
                <a:t>(vs. Prozess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Medieneinsat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99"/>
                  </a:solidFill>
                  <a:latin typeface="Verdana"/>
                </a:rPr>
                <a:t>Struktur/Z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7280" y="1143000"/>
              <a:ext cx="2895840" cy="4648320"/>
            </a:xfrm>
            <a:prstGeom prst="rect">
              <a:avLst/>
            </a:prstGeom>
            <a:solidFill>
              <a:srgbClr val="6a7fd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1520" y="114300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9360" y="660600"/>
              <a:ext cx="359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Kategorien für Lernkultur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38920" y="533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26ad0"/>
                  </a:solidFill>
                  <a:latin typeface="Verdana"/>
                </a:rPr>
                <a:t>--   -   -+  +  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10480" y="1295640"/>
              <a:ext cx="0" cy="457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1371600"/>
              <a:ext cx="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0280" y="2210040"/>
              <a:ext cx="38124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324480" y="2819520"/>
              <a:ext cx="106704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4480" y="327672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171840" y="4343400"/>
              <a:ext cx="6094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2200" y="5029200"/>
              <a:ext cx="121932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71920" y="5867640"/>
              <a:ext cx="37011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333399"/>
                  </a:solidFill>
                  <a:latin typeface="Verdana"/>
                </a:rPr>
                <a:t>Standard,         moderne Lernfor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64771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6477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6477120"/>
              <a:ext cx="304920" cy="0"/>
            </a:xfrm>
            <a:prstGeom prst="line">
              <a:avLst/>
            </a:prstGeom>
            <a:ln cap="rnd" w="540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1295640"/>
              <a:ext cx="0" cy="8380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133720"/>
              <a:ext cx="12956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171840" y="2819520"/>
              <a:ext cx="121932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3276720"/>
              <a:ext cx="0" cy="1371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72200" y="4648320"/>
              <a:ext cx="99072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62920" y="5257800"/>
              <a:ext cx="1371600" cy="6098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41400"/>
            <a:ext cx="9137520" cy="6225120"/>
            <a:chOff x="0" y="41400"/>
            <a:chExt cx="9137520" cy="6225120"/>
          </a:xfrm>
        </p:grpSpPr>
        <p:sp>
          <p:nvSpPr>
            <p:cNvPr id="260" name=""/>
            <p:cNvSpPr/>
            <p:nvPr/>
          </p:nvSpPr>
          <p:spPr>
            <a:xfrm>
              <a:off x="0" y="76320"/>
              <a:ext cx="2409840" cy="119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333399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Solution 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Meta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kompeten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2449440" y="41400"/>
              <a:ext cx="668808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303160" y="445464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82456"/>
                  </a:solidFill>
                  <a:latin typeface="Verdana"/>
                </a:rPr>
                <a:t>Lerne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87120" y="596880"/>
              <a:ext cx="15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82456"/>
                  </a:solidFill>
                  <a:latin typeface="Verdana"/>
                </a:rPr>
                <a:t>Wis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82456"/>
                  </a:solidFill>
                  <a:latin typeface="Verdana"/>
                </a:rPr>
                <a:t>(Lernen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3480" y="1101600"/>
              <a:ext cx="211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182456"/>
                  </a:solidFill>
                  <a:latin typeface="Verdana"/>
                </a:rPr>
                <a:t>Lernenler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182456"/>
                  </a:solidFill>
                  <a:latin typeface="Verdana"/>
                </a:rPr>
                <a:t>Lerne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2840" y="2832120"/>
              <a:ext cx="179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99"/>
                  </a:solidFill>
                  <a:latin typeface="Verdana"/>
                </a:rPr>
                <a:t>Entwicklung v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99"/>
                  </a:solidFill>
                  <a:latin typeface="Verdana"/>
                </a:rPr>
                <a:t>Must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120" y="384480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4149720"/>
              <a:ext cx="15228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47920" y="4149720"/>
              <a:ext cx="15228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17440" y="4492800"/>
              <a:ext cx="381240" cy="10152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0"/>
                  </a:moveTo>
                  <a:cubicBezTo>
                    <a:pt x="22" y="33"/>
                    <a:pt x="50" y="51"/>
                    <a:pt x="88" y="64"/>
                  </a:cubicBezTo>
                  <a:cubicBezTo>
                    <a:pt x="127" y="60"/>
                    <a:pt x="217" y="61"/>
                    <a:pt x="240" y="16"/>
                  </a:cubicBezTo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81080" y="3768840"/>
              <a:ext cx="838440" cy="3808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28600" y="2590560"/>
              <a:ext cx="205740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53280" y="471816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Lerne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680" y="5257800"/>
              <a:ext cx="8504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takompetenz ist die Kompetenz der Kompetenz oder die Fähigkei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ompetenz in der Kompetenzentwicklung zu entwickeln o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ine universelle Problemlösefähig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069200" y="1068480"/>
            <a:ext cx="6901200" cy="4113000"/>
            <a:chOff x="1069200" y="1068480"/>
            <a:chExt cx="6901200" cy="4113000"/>
          </a:xfrm>
        </p:grpSpPr>
        <p:sp>
          <p:nvSpPr>
            <p:cNvPr id="275" name=""/>
            <p:cNvSpPr/>
            <p:nvPr/>
          </p:nvSpPr>
          <p:spPr>
            <a:xfrm>
              <a:off x="1069200" y="1068480"/>
              <a:ext cx="40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Relationale Kompeten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76200" y="2363400"/>
              <a:ext cx="6694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ompetenz wird interaktiv konstruiert (zugeschriebe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d entwickel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 verschiedenen Kontexten wirkt jeder Akteur ande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36680" y="4647960"/>
              <a:ext cx="698400" cy="53316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81400" y="4647960"/>
              <a:ext cx="698760" cy="533160"/>
            </a:xfrm>
            <a:prstGeom prst="smileyFace">
              <a:avLst>
                <a:gd name="adj" fmla="val 9282"/>
              </a:avLst>
            </a:prstGeom>
            <a:solidFill>
              <a:srgbClr val="49d1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35080" y="5181480"/>
              <a:ext cx="193068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341520" y="4914720"/>
              <a:ext cx="152424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81400" y="4647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14560" y="4000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2480" y="4190760"/>
              <a:ext cx="609480" cy="3805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17960" y="4190760"/>
              <a:ext cx="838440" cy="3805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dd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70080" y="410976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26ad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34680" y="41097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26ad0"/>
                  </a:solidFill>
                  <a:latin typeface="Verdan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838080" y="955800"/>
            <a:ext cx="7543800" cy="4586040"/>
            <a:chOff x="838080" y="955800"/>
            <a:chExt cx="7543800" cy="4586040"/>
          </a:xfrm>
        </p:grpSpPr>
        <p:sp>
          <p:nvSpPr>
            <p:cNvPr id="288" name=""/>
            <p:cNvSpPr/>
            <p:nvPr/>
          </p:nvSpPr>
          <p:spPr>
            <a:xfrm>
              <a:off x="838080" y="955800"/>
              <a:ext cx="443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8080" y="1488960"/>
              <a:ext cx="754380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Gibt es so etwas wie eine Kompetenz der Kompetenze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eine Meta-Kompetenz?</a:t>
              </a: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ier Zugänge zum Thema Metakompetenz soll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ersucht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1. Metasystemische Fähigk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Metakompetenz muss eine Fähigkeit sein, die über d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konkreten Kompete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hinausgeht, also Situations- und Personen unabhängig funktionier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Metakompetente Akteure sind sich ihrer Eigenarten bewusst 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können sich von sich selbst distanzier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Metakompetenzen sind dann metasystemische Eigenschaften, die v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m Beziehungskontext unabhängig si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228600" y="1166760"/>
            <a:ext cx="8737560" cy="3609720"/>
            <a:chOff x="228600" y="1166760"/>
            <a:chExt cx="8737560" cy="3609720"/>
          </a:xfrm>
        </p:grpSpPr>
        <p:sp>
          <p:nvSpPr>
            <p:cNvPr id="291" name=""/>
            <p:cNvSpPr/>
            <p:nvPr/>
          </p:nvSpPr>
          <p:spPr>
            <a:xfrm>
              <a:off x="228600" y="242352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200" y="1848240"/>
              <a:ext cx="184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70080" y="1166760"/>
              <a:ext cx="452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70080" y="1700640"/>
              <a:ext cx="7696080" cy="30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1.b Metasystemische Fähigk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Metakompetenz setzt eine weit gehende Selbsterkenntnis 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rprobung voraus. Metakompetente sind in der Lage, d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zumeist unbewussten Antriebe und Emotionen bewusst zu mache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Sie erlangen damit eine Selbstbestimmungsfähigkeit mit größ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ntscheidungs- und Handlungsrationalität. Insbesondere könn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auch die in der Relation zu anderen auftretenden Konflikte bes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geortet undgehandhabt werden. Die unbewussten Konfliktlinien werden beobachtb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228600" y="1063800"/>
            <a:ext cx="8420400" cy="4489920"/>
            <a:chOff x="228600" y="1063800"/>
            <a:chExt cx="8420400" cy="4489920"/>
          </a:xfrm>
        </p:grpSpPr>
        <p:sp>
          <p:nvSpPr>
            <p:cNvPr id="296" name=""/>
            <p:cNvSpPr/>
            <p:nvPr/>
          </p:nvSpPr>
          <p:spPr>
            <a:xfrm>
              <a:off x="228600" y="2281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000" y="170676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25440" y="1063800"/>
              <a:ext cx="51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94000" y="1495800"/>
              <a:ext cx="5482800" cy="15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2. Metakompetenz als Weish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inen ähnlichen Zugang ermöglicht die Forschung zu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hänomen Weishe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7000" y="3026160"/>
              <a:ext cx="70920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Unsere Vorstellungen harmonieren mit den Erkenntnissen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isheitsforsch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Baltes Smith 1990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Auch hier werden ähnliche Eigenschaften weiser Personen beschriebe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isheit wird als überragendes Expertenwissen gesehen, das sich du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reichhaltiges Wissen wie Strategiewissen, Faktenwisse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Lifespan Kontextualisierung, Relativis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und die Fähigkeit mit Ungewissheit umzugehen auszeichne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66680" y="736560"/>
            <a:ext cx="8516520" cy="4704120"/>
            <a:chOff x="166680" y="736560"/>
            <a:chExt cx="8516520" cy="4704120"/>
          </a:xfrm>
        </p:grpSpPr>
        <p:sp>
          <p:nvSpPr>
            <p:cNvPr id="302" name=""/>
            <p:cNvSpPr/>
            <p:nvPr/>
          </p:nvSpPr>
          <p:spPr>
            <a:xfrm>
              <a:off x="166680" y="21477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8080" y="157284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4680" y="736560"/>
              <a:ext cx="515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06880" y="1574640"/>
              <a:ext cx="727632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3. Entwicklungs-Kompetenz der Kompetenzentwick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Meta-Kompetenz beschreibt die Beobachtung der Kompetenzentwicklu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s ist eine Kompetenz, die Kompetenzentwicklungskompetenz z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ntwickel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orläufig kann diese Haltung an der Rolle des Mento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xemplifiziert werde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r dem Coach bei seiner Kompetenzentwicklungsarbe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beobachtet und unterstütz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r Mentor ist eine Person oder Funktion, die mit Selbstdistan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agiert und förderliche Bedingungen schafft.</a:t>
              </a: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993960" y="1752480"/>
            <a:ext cx="7160760" cy="3198240"/>
            <a:chOff x="993960" y="1752480"/>
            <a:chExt cx="7160760" cy="3198240"/>
          </a:xfrm>
        </p:grpSpPr>
        <p:sp>
          <p:nvSpPr>
            <p:cNvPr id="48" name=""/>
            <p:cNvSpPr/>
            <p:nvPr/>
          </p:nvSpPr>
          <p:spPr>
            <a:xfrm>
              <a:off x="1091520" y="1752480"/>
              <a:ext cx="706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Verdana"/>
                </a:rPr>
                <a:t>Wissensmangemen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 organisieren, dass gefunden wird, was gesucht wurd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93960" y="3637080"/>
              <a:ext cx="4621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Verdana"/>
                </a:rPr>
                <a:t>Kreativitätsmanagement:</a:t>
              </a: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 organisieren, dass gefunden wir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was nicht gesucht wurd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80880" y="752400"/>
            <a:ext cx="7682760" cy="5382360"/>
            <a:chOff x="380880" y="752400"/>
            <a:chExt cx="7682760" cy="5382360"/>
          </a:xfrm>
        </p:grpSpPr>
        <p:sp>
          <p:nvSpPr>
            <p:cNvPr id="307" name=""/>
            <p:cNvSpPr/>
            <p:nvPr/>
          </p:nvSpPr>
          <p:spPr>
            <a:xfrm>
              <a:off x="380880" y="2011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2280" y="143640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11200" y="752400"/>
              <a:ext cx="515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1438200"/>
              <a:ext cx="6444360" cy="46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4. Universelle Problemlösungsfähig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Metakompetenz weisen auch diejenigen Akteure auf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nen man jedwede Aufgabe übertragen kan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Sie weisen die Fähigkeit auf, Fähigkeiten zu entwickel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ie in der spezifischen Situation gebraucht wer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„Die oder der werden das Schiff schon schaukeln“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Metakompetenz wirkt relational absolu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 gemeint ist die Metakompetenz e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Universalkompetenz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zum Lösen von komplexen und diversen Problem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803160"/>
            <a:ext cx="9144000" cy="5140440"/>
            <a:chOff x="0" y="803160"/>
            <a:chExt cx="9144000" cy="5140440"/>
          </a:xfrm>
        </p:grpSpPr>
        <p:sp>
          <p:nvSpPr>
            <p:cNvPr id="312" name=""/>
            <p:cNvSpPr/>
            <p:nvPr/>
          </p:nvSpPr>
          <p:spPr>
            <a:xfrm>
              <a:off x="0" y="838080"/>
              <a:ext cx="2409840" cy="100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333399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Solution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Kyberneti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3.Ord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2455920" y="803160"/>
              <a:ext cx="6688080" cy="51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206680" y="442908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2456"/>
                  </a:solidFill>
                  <a:latin typeface="Verdana"/>
                </a:rPr>
                <a:t>Lerne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61760" y="1600200"/>
              <a:ext cx="131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2456"/>
                  </a:solidFill>
                  <a:latin typeface="Verdana"/>
                </a:rPr>
                <a:t>Wis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2456"/>
                  </a:solidFill>
                  <a:latin typeface="Verdana"/>
                </a:rPr>
                <a:t>(Lernen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48800" y="1828800"/>
              <a:ext cx="179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182456"/>
                  </a:solidFill>
                  <a:latin typeface="Verdana"/>
                </a:rPr>
                <a:t>Lernenler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182456"/>
                  </a:solidFill>
                  <a:latin typeface="Verdana"/>
                </a:rPr>
                <a:t>Lernen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400" y="3022560"/>
              <a:ext cx="157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Außen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perspek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2120" y="384480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0720" y="4149720"/>
              <a:ext cx="15228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7920" y="4149720"/>
              <a:ext cx="15228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17440" y="4492800"/>
              <a:ext cx="381240" cy="10152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0"/>
                  </a:moveTo>
                  <a:cubicBezTo>
                    <a:pt x="22" y="33"/>
                    <a:pt x="50" y="51"/>
                    <a:pt x="88" y="64"/>
                  </a:cubicBezTo>
                  <a:cubicBezTo>
                    <a:pt x="127" y="60"/>
                    <a:pt x="217" y="61"/>
                    <a:pt x="240" y="16"/>
                  </a:cubicBezTo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981080" y="3768840"/>
              <a:ext cx="838440" cy="3808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8600" y="2742840"/>
              <a:ext cx="205740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680" y="1803240"/>
              <a:ext cx="212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Metakompeten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Lernen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" y="2438280"/>
              <a:ext cx="152280" cy="381240"/>
            </a:xfrm>
            <a:prstGeom prst="line">
              <a:avLst/>
            </a:prstGeom>
            <a:ln w="4752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45720" y="469260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Lernen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76320" y="1217520"/>
            <a:ext cx="8861040" cy="4491720"/>
            <a:chOff x="76320" y="1217520"/>
            <a:chExt cx="8861040" cy="4491720"/>
          </a:xfrm>
        </p:grpSpPr>
        <p:sp>
          <p:nvSpPr>
            <p:cNvPr id="328" name=""/>
            <p:cNvSpPr/>
            <p:nvPr/>
          </p:nvSpPr>
          <p:spPr>
            <a:xfrm>
              <a:off x="76320" y="1792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7720" y="121752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69920" y="1235160"/>
              <a:ext cx="51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59320" y="1843200"/>
              <a:ext cx="807804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etakompetente Akteure verfügen im Idealfall üb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folgende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. Selbstentdeckung und Selbstpräsenz, Achtsam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Fähigkeit zur Selbstbeschreibung und Entdeckung d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orwiegend unbewussten Antriebe des Handel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76320" y="914400"/>
            <a:ext cx="9015480" cy="5631120"/>
            <a:chOff x="76320" y="914400"/>
            <a:chExt cx="9015480" cy="5631120"/>
          </a:xfrm>
        </p:grpSpPr>
        <p:sp>
          <p:nvSpPr>
            <p:cNvPr id="333" name=""/>
            <p:cNvSpPr/>
            <p:nvPr/>
          </p:nvSpPr>
          <p:spPr>
            <a:xfrm>
              <a:off x="76320" y="1489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7720" y="91440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57320" y="966960"/>
              <a:ext cx="51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23760" y="1575000"/>
              <a:ext cx="8168040" cy="49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. </a:t>
              </a: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elbstdistanz (Vermeidung von Selfhugging)</a:t>
              </a: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eople who self-hug think that what is b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for themselves i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best for everyone else as well“ (Steven Reiss 2000 S. 101)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Es fehlt Selfhuggern die Selbstdistanz und ein Konzep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er Individualität. In der Kommunikation lass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ie emotionale Kompetenz vermissen und reagier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utobiografisch auf Reiz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wie selfhugging zu misslingender Kommunikation führt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 führt Selbstdistanz zu besserer Verständigung.</a:t>
              </a: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417600" y="1160640"/>
            <a:ext cx="8604720" cy="4735080"/>
            <a:chOff x="417600" y="1160640"/>
            <a:chExt cx="8604720" cy="4735080"/>
          </a:xfrm>
        </p:grpSpPr>
        <p:sp>
          <p:nvSpPr>
            <p:cNvPr id="338" name=""/>
            <p:cNvSpPr/>
            <p:nvPr/>
          </p:nvSpPr>
          <p:spPr>
            <a:xfrm>
              <a:off x="417600" y="1792440"/>
              <a:ext cx="1839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9000" y="121752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28840" y="1160640"/>
              <a:ext cx="515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17160" y="1870200"/>
              <a:ext cx="7805160" cy="40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. </a:t>
              </a: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Empathie und Xenophil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Fähigkeit die Persönlichkeit und die Mo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es anderen schnell und präzise einschätzen zu könn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Beweggründe anderer zu achten und in e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ooperative Lösung mit ein zu beziehen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wie die Fähigkeit, Mitgefühl zu zeig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152280" y="914400"/>
            <a:ext cx="9051840" cy="5259240"/>
            <a:chOff x="152280" y="914400"/>
            <a:chExt cx="9051840" cy="5259240"/>
          </a:xfrm>
        </p:grpSpPr>
        <p:sp>
          <p:nvSpPr>
            <p:cNvPr id="343" name=""/>
            <p:cNvSpPr/>
            <p:nvPr/>
          </p:nvSpPr>
          <p:spPr>
            <a:xfrm>
              <a:off x="152280" y="16160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3680" y="1041120"/>
              <a:ext cx="180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3920" y="914400"/>
              <a:ext cx="515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etakompetenz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3600" y="1598400"/>
              <a:ext cx="8300520" cy="45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. </a:t>
              </a: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hasen- und Situationsidentifik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ituationen und und Prozessphasen der Interaktion werd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assend eingeschätzt. Lifespan-Kontextualism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und Relativ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. </a:t>
              </a: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Interventionsfähigkeit und Handlungsfreu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Prozesse und Interaktionen werden passe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ontextuell beeinflusst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ystemische Interventionen werden in all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mensionen beherrscht. Unternehmerische Initiat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618920" y="1752480"/>
            <a:ext cx="6629400" cy="2893320"/>
            <a:chOff x="1618920" y="1752480"/>
            <a:chExt cx="6629400" cy="2893320"/>
          </a:xfrm>
        </p:grpSpPr>
        <p:sp>
          <p:nvSpPr>
            <p:cNvPr id="51" name=""/>
            <p:cNvSpPr/>
            <p:nvPr/>
          </p:nvSpPr>
          <p:spPr>
            <a:xfrm>
              <a:off x="1672920" y="1752480"/>
              <a:ext cx="6575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ompeten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us Erfahrung geformte Fähigkeiten im sozialen Fel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on Anderen atrribuierte Problemlösefähigke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18920" y="3637080"/>
              <a:ext cx="579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nov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e Erneuerung und schöpferische Zerstöru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e Verwirklichung einer Ide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371600" y="1069920"/>
            <a:ext cx="6597720" cy="4568760"/>
            <a:chOff x="1371600" y="1069920"/>
            <a:chExt cx="6597720" cy="4568760"/>
          </a:xfrm>
        </p:grpSpPr>
        <p:sp>
          <p:nvSpPr>
            <p:cNvPr id="54" name=""/>
            <p:cNvSpPr/>
            <p:nvPr/>
          </p:nvSpPr>
          <p:spPr>
            <a:xfrm>
              <a:off x="2133720" y="5029200"/>
              <a:ext cx="2133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56386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815560" y="5180040"/>
              <a:ext cx="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5183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501360" y="4724280"/>
              <a:ext cx="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726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187160" y="4267080"/>
              <a:ext cx="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4268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872960" y="3809880"/>
              <a:ext cx="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811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58760" y="3352680"/>
              <a:ext cx="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6416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46360" y="2894040"/>
              <a:ext cx="4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21640" y="5257800"/>
              <a:ext cx="129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nterschie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5520" y="4800600"/>
              <a:ext cx="132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ize, Sign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7760" y="43387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formatio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96960" y="3429000"/>
              <a:ext cx="115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Fähigke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05640" y="388620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is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640" y="297180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ompeten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4320" y="2514600"/>
              <a:ext cx="175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etakompeten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2895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011360" y="1374840"/>
              <a:ext cx="39852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976440" y="1263600"/>
              <a:ext cx="90360" cy="34776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858720" y="1209600"/>
              <a:ext cx="335160" cy="7452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73280" y="1069920"/>
              <a:ext cx="81000" cy="109440"/>
            </a:xfrm>
            <a:prstGeom prst="ellipse">
              <a:avLst/>
            </a:prstGeom>
            <a:solidFill>
              <a:srgbClr val="f760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60760" y="5251320"/>
              <a:ext cx="1809720" cy="100080"/>
            </a:xfrm>
            <a:custGeom>
              <a:avLst/>
              <a:gdLst/>
              <a:ahLst/>
              <a:rect l="l" t="t" r="r" b="b"/>
              <a:pathLst>
                <a:path w="1052" h="63">
                  <a:moveTo>
                    <a:pt x="0" y="63"/>
                  </a:moveTo>
                  <a:cubicBezTo>
                    <a:pt x="59" y="43"/>
                    <a:pt x="116" y="30"/>
                    <a:pt x="179" y="21"/>
                  </a:cubicBezTo>
                  <a:cubicBezTo>
                    <a:pt x="230" y="4"/>
                    <a:pt x="599" y="13"/>
                    <a:pt x="652" y="11"/>
                  </a:cubicBezTo>
                  <a:cubicBezTo>
                    <a:pt x="728" y="28"/>
                    <a:pt x="808" y="18"/>
                    <a:pt x="884" y="42"/>
                  </a:cubicBezTo>
                  <a:cubicBezTo>
                    <a:pt x="923" y="37"/>
                    <a:pt x="1017" y="37"/>
                    <a:pt x="10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7600" y="5005440"/>
              <a:ext cx="19980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4800600"/>
              <a:ext cx="12708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4480" y="5057640"/>
              <a:ext cx="164880" cy="26676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84680" y="4853160"/>
              <a:ext cx="104760" cy="48384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11760" y="4786200"/>
              <a:ext cx="19512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2160" y="4753080"/>
              <a:ext cx="8100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59240" y="4680000"/>
              <a:ext cx="8100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180760" y="4908600"/>
              <a:ext cx="335160" cy="7452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46800" y="3962520"/>
              <a:ext cx="174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Menschen ordn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individu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Bedeutung zu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4360" y="155736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issenstrep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419720" y="4495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555200" y="1295280"/>
            <a:ext cx="6750720" cy="3200400"/>
            <a:chOff x="1555200" y="1295280"/>
            <a:chExt cx="6750720" cy="3200400"/>
          </a:xfrm>
        </p:grpSpPr>
        <p:sp>
          <p:nvSpPr>
            <p:cNvPr id="92" name=""/>
            <p:cNvSpPr/>
            <p:nvPr/>
          </p:nvSpPr>
          <p:spPr>
            <a:xfrm>
              <a:off x="1710720" y="1600200"/>
              <a:ext cx="307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unktionale Kompetenz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ähigkeiten, Erfah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00200" y="1295280"/>
              <a:ext cx="3352680" cy="1524240"/>
            </a:xfrm>
            <a:prstGeom prst="rect">
              <a:avLst/>
            </a:prstGeom>
            <a:noFill/>
            <a:ln w="28440">
              <a:solidFill>
                <a:srgbClr val="8d5f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4280" y="1600200"/>
              <a:ext cx="250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oziale Kompetenz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ultur, Identitä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9960" y="3327480"/>
              <a:ext cx="289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pressive Reputa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rke, Kult,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2880" y="1295280"/>
              <a:ext cx="3353040" cy="1524240"/>
            </a:xfrm>
            <a:prstGeom prst="rect">
              <a:avLst/>
            </a:prstGeom>
            <a:noFill/>
            <a:ln w="28440">
              <a:solidFill>
                <a:srgbClr val="8d5f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6720" y="2971800"/>
              <a:ext cx="3429000" cy="1523880"/>
            </a:xfrm>
            <a:prstGeom prst="rect">
              <a:avLst/>
            </a:prstGeom>
            <a:noFill/>
            <a:ln w="28440">
              <a:solidFill>
                <a:srgbClr val="8d5f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2520" y="2514600"/>
              <a:ext cx="380880" cy="60948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019920" y="2514600"/>
              <a:ext cx="380880" cy="60948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55200" y="3200400"/>
              <a:ext cx="164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e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echn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43000" y="1143000"/>
            <a:ext cx="6934320" cy="4593240"/>
            <a:chOff x="1143000" y="1143000"/>
            <a:chExt cx="6934320" cy="4593240"/>
          </a:xfrm>
        </p:grpSpPr>
        <p:sp>
          <p:nvSpPr>
            <p:cNvPr id="102" name=""/>
            <p:cNvSpPr/>
            <p:nvPr/>
          </p:nvSpPr>
          <p:spPr>
            <a:xfrm>
              <a:off x="1252800" y="1447920"/>
              <a:ext cx="307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unktionale Kompetenz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ähigkeiten, Erfah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2320" y="1489320"/>
              <a:ext cx="2504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oziale Kompetenz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ultur, Identitä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0560" y="3714840"/>
              <a:ext cx="149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u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2514600"/>
              <a:ext cx="533520" cy="53352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09720" y="2438640"/>
              <a:ext cx="381240" cy="609480"/>
            </a:xfrm>
            <a:prstGeom prst="line">
              <a:avLst/>
            </a:prstGeom>
            <a:ln w="7632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27160" y="27432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and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1143000"/>
              <a:ext cx="3352680" cy="1524240"/>
            </a:xfrm>
            <a:prstGeom prst="rect">
              <a:avLst/>
            </a:prstGeom>
            <a:noFill/>
            <a:ln w="28440">
              <a:solidFill>
                <a:srgbClr val="8d5f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3200400"/>
              <a:ext cx="3353040" cy="1524240"/>
            </a:xfrm>
            <a:prstGeom prst="rect">
              <a:avLst/>
            </a:prstGeom>
            <a:noFill/>
            <a:ln w="28440">
              <a:solidFill>
                <a:srgbClr val="8d5f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1143000"/>
              <a:ext cx="3353040" cy="1524240"/>
            </a:xfrm>
            <a:prstGeom prst="rect">
              <a:avLst/>
            </a:prstGeom>
            <a:noFill/>
            <a:ln w="28440">
              <a:solidFill>
                <a:srgbClr val="8d5f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01040" y="533736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utation und Kompeten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04920" y="690480"/>
            <a:ext cx="7509600" cy="6319800"/>
            <a:chOff x="304920" y="690480"/>
            <a:chExt cx="7509600" cy="6319800"/>
          </a:xfrm>
        </p:grpSpPr>
        <p:sp>
          <p:nvSpPr>
            <p:cNvPr id="113" name="">
              <a:hlinkClick r:id="rId1" action="ppaction://hlinksldjump"/>
            </p:cNvPr>
            <p:cNvSpPr/>
            <p:nvPr/>
          </p:nvSpPr>
          <p:spPr>
            <a:xfrm>
              <a:off x="304920" y="6673680"/>
              <a:ext cx="1447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1200" y="1508040"/>
              <a:ext cx="3429000" cy="3357360"/>
            </a:xfrm>
            <a:prstGeom prst="ellipse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05320" y="406692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ümme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7480" y="4060440"/>
              <a:ext cx="10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04960" y="185724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Visionä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2400" y="1780920"/>
              <a:ext cx="15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eobach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0240" y="3186000"/>
              <a:ext cx="5453280" cy="0"/>
            </a:xfrm>
            <a:prstGeom prst="line">
              <a:avLst/>
            </a:prstGeom>
            <a:ln cap="rnd" w="936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6840" y="292392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rganisato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53160" y="690480"/>
              <a:ext cx="0" cy="4786200"/>
            </a:xfrm>
            <a:prstGeom prst="line">
              <a:avLst/>
            </a:prstGeom>
            <a:ln cap="rnd" w="324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334040" y="200952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81400" y="2466720"/>
              <a:ext cx="15228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14800" y="3152520"/>
              <a:ext cx="66960" cy="762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3914640"/>
              <a:ext cx="75276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867560" y="4066560"/>
              <a:ext cx="84744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715000" y="3152520"/>
              <a:ext cx="60012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019920" y="2238120"/>
              <a:ext cx="29520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867200" y="2009160"/>
              <a:ext cx="115236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53160" y="1857240"/>
              <a:ext cx="923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43320" y="2314440"/>
              <a:ext cx="609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3320" y="3152520"/>
              <a:ext cx="533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76840" y="406692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791240" y="38379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477040" y="3228480"/>
              <a:ext cx="237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5705640" y="2314440"/>
              <a:ext cx="9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867560" y="18572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3720" y="3000240"/>
              <a:ext cx="9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y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55320" y="292716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re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27480" y="488448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agmati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3480" y="1018800"/>
              <a:ext cx="164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Innovate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0200" y="442080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Herkun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1360" y="1555560"/>
              <a:ext cx="83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Zukun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1560" y="30492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mo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66840" y="300024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og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76800" y="5646600"/>
              <a:ext cx="43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bb. Kompetenzen in der Brain Map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78720" y="52783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805320" y="304920"/>
            <a:ext cx="7652880" cy="5943600"/>
            <a:chOff x="805320" y="304920"/>
            <a:chExt cx="7652880" cy="5943600"/>
          </a:xfrm>
        </p:grpSpPr>
        <p:sp>
          <p:nvSpPr>
            <p:cNvPr id="149" name=""/>
            <p:cNvSpPr/>
            <p:nvPr/>
          </p:nvSpPr>
          <p:spPr>
            <a:xfrm>
              <a:off x="933120" y="965160"/>
              <a:ext cx="378972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achtdistan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Unsicherheitsvermeid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askulinität 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vs. Femininitä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ollektivität 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vs. Individualitä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Einheitlichkeit 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vs. Diversitä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Inhaltsorientierung 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vs. Prozess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edieneinsat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truktur/Z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14760" y="914400"/>
              <a:ext cx="2895840" cy="510552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9000" y="914400"/>
              <a:ext cx="0" cy="510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9320" y="431640"/>
              <a:ext cx="359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ategorien für Lernkultur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3049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-   -   -+  +  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7960" y="1066680"/>
              <a:ext cx="0" cy="457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0680" y="5823000"/>
              <a:ext cx="2276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Lernkultur        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5560" y="6248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7520" y="6248520"/>
              <a:ext cx="304920" cy="0"/>
            </a:xfrm>
            <a:prstGeom prst="line">
              <a:avLst/>
            </a:prstGeom>
            <a:ln cap="rnd" w="540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360" y="1066680"/>
              <a:ext cx="30492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8280" y="1828800"/>
              <a:ext cx="99072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948280" y="2590920"/>
              <a:ext cx="99072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795640" y="3048120"/>
              <a:ext cx="152280" cy="1371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6000" y="4419720"/>
              <a:ext cx="91440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10400" y="5029200"/>
              <a:ext cx="137160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5320" y="583236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achtstrukt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582200" y="685800"/>
            <a:ext cx="6571080" cy="5392800"/>
            <a:chOff x="1582200" y="685800"/>
            <a:chExt cx="6571080" cy="53928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133720" y="685800"/>
              <a:ext cx="6019560" cy="4822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>
              <a:off x="1582200" y="5710320"/>
              <a:ext cx="39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b57"/>
                  </a:solidFill>
                  <a:latin typeface="Verdana"/>
                </a:rPr>
                <a:t>Abb.: Kompetenz-Typen im Proz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26640" y="1631880"/>
              <a:ext cx="14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Erkenntnisty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„</a:t>
              </a: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Beobachte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7920" y="3097080"/>
              <a:ext cx="158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Beziehungsty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„</a:t>
              </a: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Kreative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5080" y="4773600"/>
              <a:ext cx="152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Handlungsty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„</a:t>
              </a: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Mache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3400" y="180180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Reflexionsty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„</a:t>
              </a: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Visionä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5480" y="4240080"/>
              <a:ext cx="158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Beziehungsty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„</a:t>
              </a: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Kümmerer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9:18:16Z</dcterms:created>
  <dc:creator> </dc:creator>
  <dc:description/>
  <dc:language>en-US</dc:language>
  <cp:lastModifiedBy> </cp:lastModifiedBy>
  <dcterms:modified xsi:type="dcterms:W3CDTF">2008-08-11T11:01:44Z</dcterms:modified>
  <cp:revision>10</cp:revision>
  <dc:subject/>
  <dc:title>PowerPoint-Präsentation</dc:title>
</cp:coreProperties>
</file>