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16865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9B0-A317-4639-A13B-4F6751FA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28512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8760" y="528840"/>
            <a:ext cx="28512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978-5C54-439F-9F58-A5F3F16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19640" y="21276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8760" y="52884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19640" y="52884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ACC-BFCF-4943-9DA2-C66E014F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9180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23200" y="212760"/>
            <a:ext cx="9180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87280" y="212760"/>
            <a:ext cx="9180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8760" y="528840"/>
            <a:ext cx="9180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23200" y="528840"/>
            <a:ext cx="9180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87280" y="528840"/>
            <a:ext cx="9180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501-92F2-4832-9FD2-D457ECB1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8760" y="212760"/>
            <a:ext cx="28512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574-BEE0-4B72-ADB8-CB92E1AF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2851200" cy="604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655-D8ED-42B1-809F-ACEEF1D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1391040" cy="604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19640" y="212760"/>
            <a:ext cx="1391040" cy="604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6EB-1E83-46FC-99D0-CAA2E06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E71-41EF-4FC4-BB64-42D77CB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8760" y="36360"/>
            <a:ext cx="28512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EB1-F997-4910-A98D-F73160C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19640" y="212760"/>
            <a:ext cx="1391040" cy="604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8760" y="52884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0CB-6EDE-4C9E-87E1-C5F4A323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1391040" cy="604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19640" y="21276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19640" y="52884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370-29C0-467A-923C-5F48DE4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8760" y="17280"/>
            <a:ext cx="2851200" cy="190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8760" y="21276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19640" y="212760"/>
            <a:ext cx="139104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8760" y="528840"/>
            <a:ext cx="2851200" cy="288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2CF-11C9-4B06-AF16-D9EE67B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60" y="36360"/>
            <a:ext cx="2851200" cy="15264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ctr">
            <a:noAutofit/>
          </a:bodyPr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8760" y="212760"/>
            <a:ext cx="2851200" cy="60480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rmAutofit fontScale="57000"/>
          </a:bodyPr>
          <a:p>
            <a:pPr marL="49680" indent="-49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640" indent="-414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66320" indent="-3312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232200" indent="-3312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99520" indent="-33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299520" indent="-33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299520" indent="-33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8400" y="833400"/>
            <a:ext cx="739800" cy="63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Autofit/>
          </a:bodyPr>
          <a:lstStyle>
            <a:lvl1pPr indent="0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2160" y="833400"/>
            <a:ext cx="1003320" cy="63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Autofit/>
          </a:bodyPr>
          <a:lstStyle>
            <a:lvl1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69800" y="833400"/>
            <a:ext cx="739800" cy="63360"/>
          </a:xfrm>
          <a:prstGeom prst="rect">
            <a:avLst/>
          </a:prstGeom>
          <a:noFill/>
          <a:ln w="0">
            <a:noFill/>
          </a:ln>
        </p:spPr>
        <p:txBody>
          <a:bodyPr lIns="23400" rIns="23400" tIns="11520" bIns="11520" anchor="t">
            <a:noAutofit/>
          </a:bodyPr>
          <a:lstStyle>
            <a:lvl1pPr indent="0" algn="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fld id="{07B7E55A-4522-4170-8BDE-061742B3EC9F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4520" y="241200"/>
            <a:ext cx="3210120" cy="617400"/>
            <a:chOff x="-74520" y="241200"/>
            <a:chExt cx="3210120" cy="617400"/>
          </a:xfrm>
        </p:grpSpPr>
        <p:sp>
          <p:nvSpPr>
            <p:cNvPr id="42" name=""/>
            <p:cNvSpPr/>
            <p:nvPr/>
          </p:nvSpPr>
          <p:spPr>
            <a:xfrm>
              <a:off x="-74520" y="242640"/>
              <a:ext cx="10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Sen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29200" y="241200"/>
              <a:ext cx="133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Empfaen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46080" y="455400"/>
              <a:ext cx="1301040" cy="401760"/>
              <a:chOff x="46080" y="455400"/>
              <a:chExt cx="1301040" cy="401760"/>
            </a:xfrm>
          </p:grpSpPr>
          <p:sp>
            <p:nvSpPr>
              <p:cNvPr id="45" name=""/>
              <p:cNvSpPr/>
              <p:nvPr/>
            </p:nvSpPr>
            <p:spPr>
              <a:xfrm>
                <a:off x="46080" y="455400"/>
                <a:ext cx="14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72320" y="595080"/>
                <a:ext cx="8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560" y="663480"/>
                <a:ext cx="16812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2560" y="663480"/>
                <a:ext cx="16812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000" y="693720"/>
                <a:ext cx="112680" cy="1141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74840" y="711000"/>
                <a:ext cx="872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nden:=senden+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73040" y="480960"/>
                <a:ext cx="587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senden&lt;m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8080" y="534960"/>
                <a:ext cx="209520" cy="322200"/>
              </a:xfrm>
              <a:custGeom>
                <a:avLst/>
                <a:gdLst/>
                <a:ahLst/>
                <a:rect l="l" t="t" r="r" b="b"/>
                <a:pathLst>
                  <a:path w="597" h="894">
                    <a:moveTo>
                      <a:pt x="0" y="436"/>
                    </a:moveTo>
                    <a:lnTo>
                      <a:pt x="440" y="83"/>
                    </a:lnTo>
                    <a:cubicBezTo>
                      <a:pt x="544" y="0"/>
                      <a:pt x="597" y="25"/>
                      <a:pt x="597" y="158"/>
                    </a:cubicBezTo>
                    <a:lnTo>
                      <a:pt x="597" y="718"/>
                    </a:lnTo>
                    <a:cubicBezTo>
                      <a:pt x="597" y="852"/>
                      <a:pt x="535" y="894"/>
                      <a:pt x="411" y="844"/>
                    </a:cubicBezTo>
                    <a:lnTo>
                      <a:pt x="38" y="69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2120" y="785880"/>
                <a:ext cx="68400" cy="42840"/>
              </a:xfrm>
              <a:custGeom>
                <a:avLst/>
                <a:gdLst/>
                <a:ahLst/>
                <a:rect l="l" t="t" r="r" b="b"/>
                <a:pathLst>
                  <a:path w="198" h="120">
                    <a:moveTo>
                      <a:pt x="198" y="24"/>
                    </a:moveTo>
                    <a:lnTo>
                      <a:pt x="0" y="0"/>
                    </a:lnTo>
                    <a:lnTo>
                      <a:pt x="160" y="12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1557360" y="514440"/>
              <a:ext cx="1578240" cy="344160"/>
              <a:chOff x="1557360" y="514440"/>
              <a:chExt cx="1578240" cy="344160"/>
            </a:xfrm>
          </p:grpSpPr>
          <p:sp>
            <p:nvSpPr>
              <p:cNvPr id="55" name=""/>
              <p:cNvSpPr/>
              <p:nvPr/>
            </p:nvSpPr>
            <p:spPr>
              <a:xfrm>
                <a:off x="1557360" y="51444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83960" y="595080"/>
                <a:ext cx="109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63840" y="664920"/>
                <a:ext cx="16812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63840" y="664920"/>
                <a:ext cx="16812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92280" y="693720"/>
                <a:ext cx="112680" cy="11592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82880" y="711000"/>
                <a:ext cx="1152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summe:=summe+sende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9360" y="536400"/>
                <a:ext cx="209520" cy="322200"/>
              </a:xfrm>
              <a:custGeom>
                <a:avLst/>
                <a:gdLst/>
                <a:ahLst/>
                <a:rect l="l" t="t" r="r" b="b"/>
                <a:pathLst>
                  <a:path w="596" h="894">
                    <a:moveTo>
                      <a:pt x="0" y="436"/>
                    </a:moveTo>
                    <a:lnTo>
                      <a:pt x="440" y="83"/>
                    </a:lnTo>
                    <a:cubicBezTo>
                      <a:pt x="544" y="0"/>
                      <a:pt x="596" y="25"/>
                      <a:pt x="596" y="158"/>
                    </a:cubicBezTo>
                    <a:lnTo>
                      <a:pt x="596" y="718"/>
                    </a:lnTo>
                    <a:cubicBezTo>
                      <a:pt x="596" y="852"/>
                      <a:pt x="535" y="894"/>
                      <a:pt x="411" y="844"/>
                    </a:cubicBezTo>
                    <a:lnTo>
                      <a:pt x="38" y="695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33760" y="787320"/>
                <a:ext cx="68040" cy="42840"/>
              </a:xfrm>
              <a:custGeom>
                <a:avLst/>
                <a:gdLst/>
                <a:ahLst/>
                <a:rect l="l" t="t" r="r" b="b"/>
                <a:pathLst>
                  <a:path w="198" h="120">
                    <a:moveTo>
                      <a:pt x="198" y="24"/>
                    </a:moveTo>
                    <a:lnTo>
                      <a:pt x="0" y="0"/>
                    </a:lnTo>
                    <a:lnTo>
                      <a:pt x="160" y="12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5:29:07Z</dcterms:created>
  <dc:creator>x</dc:creator>
  <dc:description/>
  <dc:language>en-US</dc:language>
  <cp:lastModifiedBy>x</cp:lastModifiedBy>
  <dcterms:modified xsi:type="dcterms:W3CDTF">2009-06-27T15:41:15Z</dcterms:modified>
  <cp:revision>2</cp:revision>
  <dc:subject/>
  <dc:title>Folie 1</dc:title>
</cp:coreProperties>
</file>