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75350" cy="4716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042-3D0F-44B4-BFBA-FBF1E007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538020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080" y="2725920"/>
            <a:ext cx="538020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3AD-5864-4CDC-8EA6-A72AA57C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8080" y="272592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55320" y="272592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8B6-6A0B-47BC-B0D5-76FAF9DE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7520" y="109980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36600" y="109980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8080" y="272592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7520" y="272592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936600" y="272592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ECB-258E-4C8E-A6A9-A6FA31F3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8080" y="1099800"/>
            <a:ext cx="5380200" cy="31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210-696A-4B15-BB7C-D83A2136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538020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0A5-2D21-4D55-A70B-E026C1E6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F29-4E8B-414E-A738-973D1925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B76-D8F6-4DDA-9845-E974868A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080" y="188640"/>
            <a:ext cx="53802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457-8F6B-4F52-A161-5D3D06C2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8080" y="272592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F25-A199-43B0-BAB5-1B39778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55320" y="272592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046-9240-43D6-9291-4915B38C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080" y="2725920"/>
            <a:ext cx="538020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A70-BEBE-48F0-AFDF-322237F5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8080" y="1099800"/>
            <a:ext cx="538020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96800" indent="-1918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63560" indent="-152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74840" indent="-152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74840" indent="-152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74840" indent="-152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8440" y="4295880"/>
            <a:ext cx="1395360" cy="326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41200" y="4295880"/>
            <a:ext cx="1893960" cy="326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2560" y="4295880"/>
            <a:ext cx="1395720" cy="326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fld id="{424C6615-01C7-4A61-B8CD-4C2E84DAE7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439560"/>
            <a:ext cx="5904000" cy="374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3421080" y="439200"/>
            <a:ext cx="251928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87720" y="1808280"/>
            <a:ext cx="72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95720" y="1087560"/>
            <a:ext cx="728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2484720" y="5842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lau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4320" y="58428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o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6720" y="238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3240" y="20955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2720" y="79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tand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080" y="1639800"/>
            <a:ext cx="1739880" cy="2265480"/>
          </a:xfrm>
          <a:custGeom>
            <a:avLst/>
            <a:gdLst/>
            <a:ahLst/>
            <a:rect l="l" t="t" r="r" b="b"/>
            <a:pathLst>
              <a:path w="1096" h="1427">
                <a:moveTo>
                  <a:pt x="1096" y="544"/>
                </a:moveTo>
                <a:cubicBezTo>
                  <a:pt x="1049" y="551"/>
                  <a:pt x="1012" y="570"/>
                  <a:pt x="966" y="578"/>
                </a:cubicBezTo>
                <a:cubicBezTo>
                  <a:pt x="952" y="587"/>
                  <a:pt x="939" y="597"/>
                  <a:pt x="925" y="606"/>
                </a:cubicBezTo>
                <a:cubicBezTo>
                  <a:pt x="918" y="611"/>
                  <a:pt x="904" y="620"/>
                  <a:pt x="904" y="620"/>
                </a:cubicBezTo>
                <a:cubicBezTo>
                  <a:pt x="861" y="681"/>
                  <a:pt x="821" y="682"/>
                  <a:pt x="746" y="688"/>
                </a:cubicBezTo>
                <a:cubicBezTo>
                  <a:pt x="666" y="730"/>
                  <a:pt x="786" y="669"/>
                  <a:pt x="678" y="716"/>
                </a:cubicBezTo>
                <a:cubicBezTo>
                  <a:pt x="646" y="730"/>
                  <a:pt x="625" y="758"/>
                  <a:pt x="596" y="777"/>
                </a:cubicBezTo>
                <a:cubicBezTo>
                  <a:pt x="598" y="802"/>
                  <a:pt x="594" y="829"/>
                  <a:pt x="602" y="853"/>
                </a:cubicBezTo>
                <a:cubicBezTo>
                  <a:pt x="604" y="860"/>
                  <a:pt x="622" y="853"/>
                  <a:pt x="623" y="860"/>
                </a:cubicBezTo>
                <a:cubicBezTo>
                  <a:pt x="644" y="961"/>
                  <a:pt x="601" y="1006"/>
                  <a:pt x="698" y="1031"/>
                </a:cubicBezTo>
                <a:cubicBezTo>
                  <a:pt x="742" y="1026"/>
                  <a:pt x="786" y="1027"/>
                  <a:pt x="829" y="1017"/>
                </a:cubicBezTo>
                <a:cubicBezTo>
                  <a:pt x="845" y="1013"/>
                  <a:pt x="870" y="990"/>
                  <a:pt x="870" y="990"/>
                </a:cubicBezTo>
                <a:cubicBezTo>
                  <a:pt x="999" y="997"/>
                  <a:pt x="987" y="965"/>
                  <a:pt x="1007" y="1045"/>
                </a:cubicBezTo>
                <a:cubicBezTo>
                  <a:pt x="999" y="1188"/>
                  <a:pt x="1033" y="1190"/>
                  <a:pt x="911" y="1202"/>
                </a:cubicBezTo>
                <a:cubicBezTo>
                  <a:pt x="891" y="1209"/>
                  <a:pt x="868" y="1206"/>
                  <a:pt x="849" y="1216"/>
                </a:cubicBezTo>
                <a:cubicBezTo>
                  <a:pt x="834" y="1224"/>
                  <a:pt x="834" y="1246"/>
                  <a:pt x="822" y="1257"/>
                </a:cubicBezTo>
                <a:cubicBezTo>
                  <a:pt x="799" y="1279"/>
                  <a:pt x="762" y="1282"/>
                  <a:pt x="733" y="1292"/>
                </a:cubicBezTo>
                <a:cubicBezTo>
                  <a:pt x="704" y="1282"/>
                  <a:pt x="675" y="1267"/>
                  <a:pt x="650" y="1250"/>
                </a:cubicBezTo>
                <a:cubicBezTo>
                  <a:pt x="584" y="1255"/>
                  <a:pt x="530" y="1265"/>
                  <a:pt x="465" y="1271"/>
                </a:cubicBezTo>
                <a:cubicBezTo>
                  <a:pt x="430" y="1283"/>
                  <a:pt x="392" y="1292"/>
                  <a:pt x="356" y="1298"/>
                </a:cubicBezTo>
                <a:cubicBezTo>
                  <a:pt x="279" y="1349"/>
                  <a:pt x="210" y="1401"/>
                  <a:pt x="116" y="1415"/>
                </a:cubicBezTo>
                <a:cubicBezTo>
                  <a:pt x="109" y="1417"/>
                  <a:pt x="100" y="1427"/>
                  <a:pt x="95" y="1422"/>
                </a:cubicBezTo>
                <a:cubicBezTo>
                  <a:pt x="81" y="1409"/>
                  <a:pt x="89" y="1384"/>
                  <a:pt x="81" y="1367"/>
                </a:cubicBezTo>
                <a:cubicBezTo>
                  <a:pt x="68" y="1340"/>
                  <a:pt x="43" y="1323"/>
                  <a:pt x="26" y="1298"/>
                </a:cubicBezTo>
                <a:cubicBezTo>
                  <a:pt x="6" y="1207"/>
                  <a:pt x="0" y="1132"/>
                  <a:pt x="20" y="1031"/>
                </a:cubicBezTo>
                <a:cubicBezTo>
                  <a:pt x="24" y="1012"/>
                  <a:pt x="47" y="1004"/>
                  <a:pt x="61" y="990"/>
                </a:cubicBezTo>
                <a:cubicBezTo>
                  <a:pt x="90" y="961"/>
                  <a:pt x="125" y="927"/>
                  <a:pt x="164" y="914"/>
                </a:cubicBezTo>
                <a:cubicBezTo>
                  <a:pt x="188" y="890"/>
                  <a:pt x="210" y="878"/>
                  <a:pt x="225" y="846"/>
                </a:cubicBezTo>
                <a:cubicBezTo>
                  <a:pt x="242" y="452"/>
                  <a:pt x="220" y="986"/>
                  <a:pt x="239" y="236"/>
                </a:cubicBezTo>
                <a:cubicBezTo>
                  <a:pt x="242" y="108"/>
                  <a:pt x="228" y="123"/>
                  <a:pt x="258" y="67"/>
                </a:cubicBezTo>
                <a:cubicBezTo>
                  <a:pt x="305" y="0"/>
                  <a:pt x="315" y="24"/>
                  <a:pt x="393" y="15"/>
                </a:cubicBezTo>
                <a:cubicBezTo>
                  <a:pt x="436" y="0"/>
                  <a:pt x="465" y="16"/>
                  <a:pt x="486" y="16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20720" y="2527200"/>
            <a:ext cx="2094120" cy="1403280"/>
          </a:xfrm>
          <a:custGeom>
            <a:avLst/>
            <a:gdLst/>
            <a:ahLst/>
            <a:rect l="l" t="t" r="r" b="b"/>
            <a:pathLst>
              <a:path w="1319" h="884">
                <a:moveTo>
                  <a:pt x="199" y="0"/>
                </a:moveTo>
                <a:cubicBezTo>
                  <a:pt x="210" y="64"/>
                  <a:pt x="222" y="86"/>
                  <a:pt x="171" y="137"/>
                </a:cubicBezTo>
                <a:cubicBezTo>
                  <a:pt x="155" y="182"/>
                  <a:pt x="166" y="229"/>
                  <a:pt x="192" y="267"/>
                </a:cubicBezTo>
                <a:cubicBezTo>
                  <a:pt x="205" y="327"/>
                  <a:pt x="199" y="474"/>
                  <a:pt x="226" y="493"/>
                </a:cubicBezTo>
                <a:cubicBezTo>
                  <a:pt x="235" y="499"/>
                  <a:pt x="268" y="510"/>
                  <a:pt x="281" y="514"/>
                </a:cubicBezTo>
                <a:cubicBezTo>
                  <a:pt x="343" y="503"/>
                  <a:pt x="404" y="491"/>
                  <a:pt x="466" y="480"/>
                </a:cubicBezTo>
                <a:cubicBezTo>
                  <a:pt x="471" y="473"/>
                  <a:pt x="474" y="464"/>
                  <a:pt x="480" y="459"/>
                </a:cubicBezTo>
                <a:cubicBezTo>
                  <a:pt x="485" y="455"/>
                  <a:pt x="495" y="457"/>
                  <a:pt x="500" y="452"/>
                </a:cubicBezTo>
                <a:cubicBezTo>
                  <a:pt x="536" y="416"/>
                  <a:pt x="473" y="443"/>
                  <a:pt x="528" y="425"/>
                </a:cubicBezTo>
                <a:cubicBezTo>
                  <a:pt x="564" y="432"/>
                  <a:pt x="602" y="429"/>
                  <a:pt x="637" y="439"/>
                </a:cubicBezTo>
                <a:cubicBezTo>
                  <a:pt x="660" y="445"/>
                  <a:pt x="680" y="489"/>
                  <a:pt x="692" y="507"/>
                </a:cubicBezTo>
                <a:cubicBezTo>
                  <a:pt x="699" y="693"/>
                  <a:pt x="657" y="678"/>
                  <a:pt x="761" y="747"/>
                </a:cubicBezTo>
                <a:cubicBezTo>
                  <a:pt x="909" y="739"/>
                  <a:pt x="895" y="766"/>
                  <a:pt x="884" y="637"/>
                </a:cubicBezTo>
                <a:cubicBezTo>
                  <a:pt x="888" y="589"/>
                  <a:pt x="878" y="517"/>
                  <a:pt x="932" y="487"/>
                </a:cubicBezTo>
                <a:cubicBezTo>
                  <a:pt x="949" y="478"/>
                  <a:pt x="969" y="479"/>
                  <a:pt x="987" y="473"/>
                </a:cubicBezTo>
                <a:cubicBezTo>
                  <a:pt x="1012" y="478"/>
                  <a:pt x="1048" y="466"/>
                  <a:pt x="1063" y="487"/>
                </a:cubicBezTo>
                <a:cubicBezTo>
                  <a:pt x="1075" y="503"/>
                  <a:pt x="1056" y="568"/>
                  <a:pt x="1049" y="596"/>
                </a:cubicBezTo>
                <a:cubicBezTo>
                  <a:pt x="1059" y="681"/>
                  <a:pt x="1074" y="728"/>
                  <a:pt x="1165" y="747"/>
                </a:cubicBezTo>
                <a:cubicBezTo>
                  <a:pt x="1229" y="743"/>
                  <a:pt x="1282" y="760"/>
                  <a:pt x="1316" y="706"/>
                </a:cubicBezTo>
                <a:cubicBezTo>
                  <a:pt x="1314" y="685"/>
                  <a:pt x="1319" y="662"/>
                  <a:pt x="1309" y="644"/>
                </a:cubicBezTo>
                <a:cubicBezTo>
                  <a:pt x="1292" y="615"/>
                  <a:pt x="1262" y="610"/>
                  <a:pt x="1234" y="603"/>
                </a:cubicBezTo>
                <a:cubicBezTo>
                  <a:pt x="1204" y="605"/>
                  <a:pt x="1174" y="602"/>
                  <a:pt x="1145" y="610"/>
                </a:cubicBezTo>
                <a:cubicBezTo>
                  <a:pt x="1134" y="613"/>
                  <a:pt x="1117" y="663"/>
                  <a:pt x="1111" y="672"/>
                </a:cubicBezTo>
                <a:cubicBezTo>
                  <a:pt x="1106" y="698"/>
                  <a:pt x="1093" y="791"/>
                  <a:pt x="1090" y="802"/>
                </a:cubicBezTo>
                <a:cubicBezTo>
                  <a:pt x="1082" y="827"/>
                  <a:pt x="1017" y="841"/>
                  <a:pt x="1001" y="843"/>
                </a:cubicBezTo>
                <a:cubicBezTo>
                  <a:pt x="973" y="864"/>
                  <a:pt x="958" y="876"/>
                  <a:pt x="925" y="884"/>
                </a:cubicBezTo>
                <a:cubicBezTo>
                  <a:pt x="831" y="851"/>
                  <a:pt x="737" y="854"/>
                  <a:pt x="637" y="850"/>
                </a:cubicBezTo>
                <a:cubicBezTo>
                  <a:pt x="596" y="845"/>
                  <a:pt x="549" y="858"/>
                  <a:pt x="514" y="836"/>
                </a:cubicBezTo>
                <a:cubicBezTo>
                  <a:pt x="491" y="821"/>
                  <a:pt x="452" y="781"/>
                  <a:pt x="452" y="781"/>
                </a:cubicBezTo>
                <a:cubicBezTo>
                  <a:pt x="391" y="785"/>
                  <a:pt x="340" y="797"/>
                  <a:pt x="281" y="802"/>
                </a:cubicBezTo>
                <a:cubicBezTo>
                  <a:pt x="217" y="808"/>
                  <a:pt x="89" y="816"/>
                  <a:pt x="89" y="816"/>
                </a:cubicBezTo>
                <a:cubicBezTo>
                  <a:pt x="55" y="825"/>
                  <a:pt x="36" y="829"/>
                  <a:pt x="0" y="829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920" y="4255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laubte Abläu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5280" y="425592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otener Abl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04840" y="1725480"/>
            <a:ext cx="3867480" cy="1138320"/>
          </a:xfrm>
          <a:custGeom>
            <a:avLst/>
            <a:gdLst/>
            <a:ahLst/>
            <a:rect l="l" t="t" r="r" b="b"/>
            <a:pathLst>
              <a:path w="2436" h="717">
                <a:moveTo>
                  <a:pt x="0" y="501"/>
                </a:moveTo>
                <a:cubicBezTo>
                  <a:pt x="114" y="492"/>
                  <a:pt x="60" y="499"/>
                  <a:pt x="164" y="481"/>
                </a:cubicBezTo>
                <a:cubicBezTo>
                  <a:pt x="194" y="476"/>
                  <a:pt x="254" y="460"/>
                  <a:pt x="254" y="460"/>
                </a:cubicBezTo>
                <a:cubicBezTo>
                  <a:pt x="282" y="430"/>
                  <a:pt x="305" y="437"/>
                  <a:pt x="343" y="426"/>
                </a:cubicBezTo>
                <a:cubicBezTo>
                  <a:pt x="405" y="409"/>
                  <a:pt x="460" y="380"/>
                  <a:pt x="521" y="364"/>
                </a:cubicBezTo>
                <a:cubicBezTo>
                  <a:pt x="656" y="371"/>
                  <a:pt x="621" y="360"/>
                  <a:pt x="699" y="398"/>
                </a:cubicBezTo>
                <a:cubicBezTo>
                  <a:pt x="714" y="413"/>
                  <a:pt x="724" y="433"/>
                  <a:pt x="740" y="446"/>
                </a:cubicBezTo>
                <a:cubicBezTo>
                  <a:pt x="749" y="453"/>
                  <a:pt x="816" y="483"/>
                  <a:pt x="830" y="487"/>
                </a:cubicBezTo>
                <a:cubicBezTo>
                  <a:pt x="841" y="496"/>
                  <a:pt x="851" y="508"/>
                  <a:pt x="864" y="515"/>
                </a:cubicBezTo>
                <a:cubicBezTo>
                  <a:pt x="872" y="520"/>
                  <a:pt x="883" y="517"/>
                  <a:pt x="891" y="522"/>
                </a:cubicBezTo>
                <a:cubicBezTo>
                  <a:pt x="899" y="527"/>
                  <a:pt x="904" y="536"/>
                  <a:pt x="912" y="542"/>
                </a:cubicBezTo>
                <a:cubicBezTo>
                  <a:pt x="934" y="557"/>
                  <a:pt x="958" y="568"/>
                  <a:pt x="980" y="583"/>
                </a:cubicBezTo>
                <a:cubicBezTo>
                  <a:pt x="993" y="592"/>
                  <a:pt x="1046" y="600"/>
                  <a:pt x="1063" y="604"/>
                </a:cubicBezTo>
                <a:cubicBezTo>
                  <a:pt x="1139" y="643"/>
                  <a:pt x="1157" y="627"/>
                  <a:pt x="1275" y="631"/>
                </a:cubicBezTo>
                <a:cubicBezTo>
                  <a:pt x="1323" y="661"/>
                  <a:pt x="1330" y="665"/>
                  <a:pt x="1378" y="679"/>
                </a:cubicBezTo>
                <a:cubicBezTo>
                  <a:pt x="1436" y="717"/>
                  <a:pt x="1477" y="709"/>
                  <a:pt x="1550" y="714"/>
                </a:cubicBezTo>
                <a:cubicBezTo>
                  <a:pt x="1869" y="695"/>
                  <a:pt x="1699" y="712"/>
                  <a:pt x="1831" y="679"/>
                </a:cubicBezTo>
                <a:cubicBezTo>
                  <a:pt x="1842" y="672"/>
                  <a:pt x="1855" y="667"/>
                  <a:pt x="1865" y="659"/>
                </a:cubicBezTo>
                <a:cubicBezTo>
                  <a:pt x="1880" y="647"/>
                  <a:pt x="1906" y="618"/>
                  <a:pt x="1906" y="618"/>
                </a:cubicBezTo>
                <a:cubicBezTo>
                  <a:pt x="1932" y="541"/>
                  <a:pt x="1893" y="662"/>
                  <a:pt x="1920" y="446"/>
                </a:cubicBezTo>
                <a:cubicBezTo>
                  <a:pt x="1923" y="425"/>
                  <a:pt x="1975" y="412"/>
                  <a:pt x="1975" y="412"/>
                </a:cubicBezTo>
                <a:cubicBezTo>
                  <a:pt x="2036" y="369"/>
                  <a:pt x="2300" y="385"/>
                  <a:pt x="2318" y="385"/>
                </a:cubicBezTo>
                <a:cubicBezTo>
                  <a:pt x="2332" y="383"/>
                  <a:pt x="2346" y="383"/>
                  <a:pt x="2359" y="378"/>
                </a:cubicBezTo>
                <a:cubicBezTo>
                  <a:pt x="2382" y="370"/>
                  <a:pt x="2393" y="343"/>
                  <a:pt x="2414" y="330"/>
                </a:cubicBezTo>
                <a:cubicBezTo>
                  <a:pt x="2431" y="269"/>
                  <a:pt x="2436" y="203"/>
                  <a:pt x="2379" y="165"/>
                </a:cubicBezTo>
                <a:cubicBezTo>
                  <a:pt x="2350" y="121"/>
                  <a:pt x="2384" y="164"/>
                  <a:pt x="2345" y="138"/>
                </a:cubicBezTo>
                <a:cubicBezTo>
                  <a:pt x="2330" y="128"/>
                  <a:pt x="2319" y="113"/>
                  <a:pt x="2304" y="103"/>
                </a:cubicBezTo>
                <a:cubicBezTo>
                  <a:pt x="2300" y="92"/>
                  <a:pt x="2287" y="32"/>
                  <a:pt x="2270" y="21"/>
                </a:cubicBezTo>
                <a:cubicBezTo>
                  <a:pt x="2258" y="13"/>
                  <a:pt x="2228" y="7"/>
                  <a:pt x="2228" y="7"/>
                </a:cubicBezTo>
                <a:cubicBezTo>
                  <a:pt x="2176" y="12"/>
                  <a:pt x="2145" y="0"/>
                  <a:pt x="2119" y="42"/>
                </a:cubicBezTo>
                <a:cubicBezTo>
                  <a:pt x="2100" y="64"/>
                  <a:pt x="2121" y="113"/>
                  <a:pt x="2115" y="139"/>
                </a:cubicBezTo>
                <a:cubicBezTo>
                  <a:pt x="2102" y="150"/>
                  <a:pt x="2101" y="194"/>
                  <a:pt x="2085" y="199"/>
                </a:cubicBezTo>
                <a:cubicBezTo>
                  <a:pt x="2071" y="204"/>
                  <a:pt x="2041" y="199"/>
                  <a:pt x="2041" y="199"/>
                </a:cubicBezTo>
                <a:cubicBezTo>
                  <a:pt x="2022" y="228"/>
                  <a:pt x="1952" y="213"/>
                  <a:pt x="1920" y="213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044360" y="3608280"/>
            <a:ext cx="360360" cy="719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20720" y="3824280"/>
            <a:ext cx="216000" cy="503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00720" y="2816280"/>
            <a:ext cx="0" cy="1511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4:39:31Z</dcterms:created>
  <dc:creator>x</dc:creator>
  <dc:description/>
  <dc:language>en-US</dc:language>
  <cp:lastModifiedBy>x</cp:lastModifiedBy>
  <dcterms:modified xsi:type="dcterms:W3CDTF">2009-03-01T10:02:31Z</dcterms:modified>
  <cp:revision>2</cp:revision>
  <dc:subject/>
  <dc:title>Folie 1</dc:title>
</cp:coreProperties>
</file>