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232025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D8F-70EA-49EC-A5EC-0426A631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20095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240" y="528840"/>
            <a:ext cx="20095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C5D-6A18-414C-A3F5-7F04397E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1200" y="21276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240" y="52884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41200" y="52884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BC8-ADB9-4580-AE0F-47770227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6469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0920" y="212760"/>
            <a:ext cx="6469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0600" y="212760"/>
            <a:ext cx="6469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240" y="528840"/>
            <a:ext cx="6469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0920" y="528840"/>
            <a:ext cx="6469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70600" y="528840"/>
            <a:ext cx="6469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780-2749-4987-9D3E-FE9419D1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240" y="212760"/>
            <a:ext cx="20095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E3C-FA5C-4102-BC91-4FA6539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2009520" cy="60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4CF-AAAC-408D-9865-40C7F356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980640" cy="60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41200" y="212760"/>
            <a:ext cx="980640" cy="60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D21-4FEB-4CF3-BC08-E22263E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264-58B4-48C5-AE5E-60F878E6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240" y="36360"/>
            <a:ext cx="200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151-7533-4989-B2A7-203F64D5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41200" y="212760"/>
            <a:ext cx="980640" cy="60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240" y="52884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B1A-C213-4933-9C91-E105C79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980640" cy="60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41200" y="21276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200" y="52884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CFA-A3E0-4FAF-AB8F-76BC46DE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240" y="34920"/>
            <a:ext cx="2009520" cy="15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" y="21276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41200" y="212760"/>
            <a:ext cx="98064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" y="528840"/>
            <a:ext cx="2009520" cy="28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359-79E9-4ABB-9B68-F33478E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240" y="36360"/>
            <a:ext cx="2009520" cy="152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40" y="212760"/>
            <a:ext cx="2009520" cy="60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rmAutofit fontScale="77000"/>
          </a:bodyPr>
          <a:p>
            <a:pPr marL="51120" indent="-511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2320" indent="-42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73520" indent="-352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241920" indent="-33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4" marL="311400" indent="-349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5" marL="311400" indent="-349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6" marL="311400" indent="-349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240" y="833400"/>
            <a:ext cx="520560" cy="63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Autofit/>
          </a:bodyPr>
          <a:lstStyle>
            <a:lvl1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833400"/>
            <a:ext cx="707760" cy="63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Autofit/>
          </a:bodyPr>
          <a:lstStyle>
            <a:lvl1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00200" y="833400"/>
            <a:ext cx="520560" cy="63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9000" bIns="9000" anchor="t">
            <a:noAutofit/>
          </a:bodyPr>
          <a:lstStyle>
            <a:lvl1pPr indent="0" algn="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fld id="{88F868CB-38AC-4266-BD89-1F7973EAE12F}" type="slidenum">
              <a:rPr b="0" lang="en-US" sz="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7600"/>
            <a:ext cx="2185920" cy="727200"/>
            <a:chOff x="0" y="147600"/>
            <a:chExt cx="2185920" cy="727200"/>
          </a:xfrm>
        </p:grpSpPr>
        <p:sp>
          <p:nvSpPr>
            <p:cNvPr id="42" name=""/>
            <p:cNvSpPr/>
            <p:nvPr/>
          </p:nvSpPr>
          <p:spPr>
            <a:xfrm>
              <a:off x="0" y="14760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80" y="471600"/>
              <a:ext cx="16812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480" y="471600"/>
              <a:ext cx="16812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920" y="500040"/>
              <a:ext cx="11268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0680" y="2300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35720" y="747720"/>
              <a:ext cx="22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14480" y="471600"/>
              <a:ext cx="16668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14480" y="471600"/>
              <a:ext cx="16668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58760" y="517320"/>
              <a:ext cx="61920" cy="7956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174" y="34"/>
                  </a:moveTo>
                  <a:cubicBezTo>
                    <a:pt x="133" y="0"/>
                    <a:pt x="73" y="3"/>
                    <a:pt x="37" y="42"/>
                  </a:cubicBezTo>
                  <a:cubicBezTo>
                    <a:pt x="0" y="80"/>
                    <a:pt x="0" y="141"/>
                    <a:pt x="37" y="179"/>
                  </a:cubicBezTo>
                  <a:cubicBezTo>
                    <a:pt x="73" y="218"/>
                    <a:pt x="133" y="221"/>
                    <a:pt x="174" y="187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3960" y="183960"/>
              <a:ext cx="168480" cy="17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3960" y="183960"/>
              <a:ext cx="168480" cy="1717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960" y="701640"/>
              <a:ext cx="1684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960" y="701640"/>
              <a:ext cx="16848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28640" y="471600"/>
              <a:ext cx="16848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28640" y="471600"/>
              <a:ext cx="16848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40" y="28728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480" y="74772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36440" y="633240"/>
              <a:ext cx="19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&gt;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36440" y="173160"/>
              <a:ext cx="19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&lt;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35360" y="28728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6120" y="69048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09240" y="4032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k:=tr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1360" y="600120"/>
              <a:ext cx="285840" cy="1458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800" y="698400"/>
              <a:ext cx="68400" cy="47520"/>
            </a:xfrm>
            <a:custGeom>
              <a:avLst/>
              <a:gdLst/>
              <a:ahLst/>
              <a:rect l="l" t="t" r="r" b="b"/>
              <a:pathLst>
                <a:path w="196" h="132">
                  <a:moveTo>
                    <a:pt x="0" y="92"/>
                  </a:moveTo>
                  <a:lnTo>
                    <a:pt x="196" y="132"/>
                  </a:lnTo>
                  <a:lnTo>
                    <a:pt x="4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68120" y="318600"/>
              <a:ext cx="292320" cy="1890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840" y="318960"/>
              <a:ext cx="66600" cy="525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55" y="147"/>
                  </a:moveTo>
                  <a:lnTo>
                    <a:pt x="191" y="0"/>
                  </a:lnTo>
                  <a:lnTo>
                    <a:pt x="0" y="59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22440" y="592200"/>
              <a:ext cx="390240" cy="1620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4640" y="592200"/>
              <a:ext cx="68040" cy="42840"/>
            </a:xfrm>
            <a:custGeom>
              <a:avLst/>
              <a:gdLst/>
              <a:ahLst/>
              <a:rect l="l" t="t" r="r" b="b"/>
              <a:pathLst>
                <a:path w="198" h="120">
                  <a:moveTo>
                    <a:pt x="38" y="120"/>
                  </a:moveTo>
                  <a:lnTo>
                    <a:pt x="198" y="0"/>
                  </a:lnTo>
                  <a:lnTo>
                    <a:pt x="0" y="24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89080" y="557280"/>
              <a:ext cx="43344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54120" y="539640"/>
              <a:ext cx="68400" cy="3672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9200" y="311040"/>
              <a:ext cx="396720" cy="20484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7880" y="468360"/>
              <a:ext cx="68040" cy="47520"/>
            </a:xfrm>
            <a:custGeom>
              <a:avLst/>
              <a:gdLst/>
              <a:ahLst/>
              <a:rect l="l" t="t" r="r" b="b"/>
              <a:pathLst>
                <a:path w="196" h="132">
                  <a:moveTo>
                    <a:pt x="0" y="92"/>
                  </a:moveTo>
                  <a:lnTo>
                    <a:pt x="196" y="132"/>
                  </a:lnTo>
                  <a:lnTo>
                    <a:pt x="4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0520" y="270000"/>
              <a:ext cx="150840" cy="236520"/>
            </a:xfrm>
            <a:custGeom>
              <a:avLst/>
              <a:gdLst/>
              <a:ahLst/>
              <a:rect l="l" t="t" r="r" b="b"/>
              <a:pathLst>
                <a:path w="430" h="655">
                  <a:moveTo>
                    <a:pt x="0" y="545"/>
                  </a:moveTo>
                  <a:lnTo>
                    <a:pt x="70" y="196"/>
                  </a:lnTo>
                  <a:cubicBezTo>
                    <a:pt x="96" y="65"/>
                    <a:pt x="163" y="0"/>
                    <a:pt x="270" y="0"/>
                  </a:cubicBezTo>
                  <a:cubicBezTo>
                    <a:pt x="376" y="0"/>
                    <a:pt x="430" y="66"/>
                    <a:pt x="430" y="200"/>
                  </a:cubicBezTo>
                  <a:lnTo>
                    <a:pt x="430" y="280"/>
                  </a:lnTo>
                  <a:cubicBezTo>
                    <a:pt x="430" y="413"/>
                    <a:pt x="386" y="509"/>
                    <a:pt x="298" y="567"/>
                  </a:cubicBezTo>
                  <a:lnTo>
                    <a:pt x="166" y="655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89200" y="452520"/>
              <a:ext cx="65160" cy="54000"/>
            </a:xfrm>
            <a:custGeom>
              <a:avLst/>
              <a:gdLst/>
              <a:ahLst/>
              <a:rect l="l" t="t" r="r" b="b"/>
              <a:pathLst>
                <a:path w="189" h="150">
                  <a:moveTo>
                    <a:pt x="132" y="0"/>
                  </a:moveTo>
                  <a:lnTo>
                    <a:pt x="0" y="150"/>
                  </a:lnTo>
                  <a:lnTo>
                    <a:pt x="189" y="8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2880" y="609480"/>
              <a:ext cx="168480" cy="236520"/>
            </a:xfrm>
            <a:custGeom>
              <a:avLst/>
              <a:gdLst/>
              <a:ahLst/>
              <a:rect l="l" t="t" r="r" b="b"/>
              <a:pathLst>
                <a:path w="480" h="656">
                  <a:moveTo>
                    <a:pt x="216" y="0"/>
                  </a:moveTo>
                  <a:lnTo>
                    <a:pt x="313" y="65"/>
                  </a:lnTo>
                  <a:cubicBezTo>
                    <a:pt x="424" y="139"/>
                    <a:pt x="480" y="242"/>
                    <a:pt x="480" y="376"/>
                  </a:cubicBezTo>
                  <a:lnTo>
                    <a:pt x="480" y="456"/>
                  </a:lnTo>
                  <a:cubicBezTo>
                    <a:pt x="480" y="589"/>
                    <a:pt x="413" y="656"/>
                    <a:pt x="280" y="656"/>
                  </a:cubicBezTo>
                  <a:lnTo>
                    <a:pt x="200" y="656"/>
                  </a:lnTo>
                  <a:cubicBezTo>
                    <a:pt x="66" y="656"/>
                    <a:pt x="0" y="589"/>
                    <a:pt x="0" y="456"/>
                  </a:cubicBezTo>
                  <a:lnTo>
                    <a:pt x="0" y="11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5600" y="650880"/>
              <a:ext cx="3492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03" y="193"/>
                  </a:moveTo>
                  <a:lnTo>
                    <a:pt x="52" y="0"/>
                  </a:lnTo>
                  <a:lnTo>
                    <a:pt x="0" y="19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32:51Z</dcterms:created>
  <dc:creator>x</dc:creator>
  <dc:description/>
  <dc:language>en-US</dc:language>
  <cp:lastModifiedBy>x</cp:lastModifiedBy>
  <dcterms:modified xsi:type="dcterms:W3CDTF">2009-06-27T16:33:39Z</dcterms:modified>
  <cp:revision>1</cp:revision>
  <dc:subject/>
  <dc:title>Folie 1</dc:title>
</cp:coreProperties>
</file>