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60588" cy="1260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3FD-0CE2-4072-B49C-7F8E0959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000" y="50760"/>
            <a:ext cx="1944720" cy="2095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293760"/>
            <a:ext cx="194472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000" y="728280"/>
            <a:ext cx="194472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C6E-A57E-4699-A4DF-CE5FFF2D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50760"/>
            <a:ext cx="1944720" cy="2095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000" y="293760"/>
            <a:ext cx="94896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04840" y="293760"/>
            <a:ext cx="94896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000" y="728280"/>
            <a:ext cx="94896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04840" y="728280"/>
            <a:ext cx="94896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79F-DF5F-49D9-B65F-0D8F6632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000" y="50760"/>
            <a:ext cx="1944720" cy="2095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000" y="293760"/>
            <a:ext cx="62604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5720" y="293760"/>
            <a:ext cx="62604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3440" y="293760"/>
            <a:ext cx="62604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000" y="728280"/>
            <a:ext cx="62604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65720" y="728280"/>
            <a:ext cx="62604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3440" y="728280"/>
            <a:ext cx="62604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55D-28B5-4775-BA80-146F96A8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000" y="50760"/>
            <a:ext cx="1944720" cy="2095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000" y="293760"/>
            <a:ext cx="194472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3D9-DDE3-4DDD-92E8-261B8A69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50760"/>
            <a:ext cx="1944720" cy="2095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000" y="293760"/>
            <a:ext cx="1944720" cy="8316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94B-B8FB-4903-9E81-DAB0EF78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50760"/>
            <a:ext cx="1944720" cy="2095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000" y="293760"/>
            <a:ext cx="948960" cy="8316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04840" y="293760"/>
            <a:ext cx="948960" cy="8316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503-BEA2-4970-943E-852E460D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50760"/>
            <a:ext cx="1944720" cy="2095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FE2-C623-4E74-9E05-18DF4B3B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000" y="50760"/>
            <a:ext cx="194472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CB1-8BA6-48C9-AB05-CC0680D4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50760"/>
            <a:ext cx="1944720" cy="2095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00" y="293760"/>
            <a:ext cx="94896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04840" y="293760"/>
            <a:ext cx="948960" cy="8316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000" y="728280"/>
            <a:ext cx="94896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50C-93AD-420B-98C7-294488F5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50760"/>
            <a:ext cx="1944720" cy="2095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" y="293760"/>
            <a:ext cx="948960" cy="8316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04840" y="293760"/>
            <a:ext cx="94896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04840" y="728280"/>
            <a:ext cx="94896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9DD-3CC6-4746-8E71-A7EEFEC0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000" y="50760"/>
            <a:ext cx="1944720" cy="2095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" y="293760"/>
            <a:ext cx="94896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04840" y="293760"/>
            <a:ext cx="94896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000" y="728280"/>
            <a:ext cx="1944720" cy="396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BD6-E385-476E-B95C-1456ECE2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50760"/>
            <a:ext cx="1944720" cy="2095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293760"/>
            <a:ext cx="1944720" cy="8316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rmAutofit fontScale="93000"/>
          </a:bodyPr>
          <a:p>
            <a:pPr marL="67680" indent="-676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47600" indent="-5616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-4572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3" marL="317160" indent="-4392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4" marL="408600" indent="-45360"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5" marL="408600" indent="-45360"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6" marL="408600" indent="-45360"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8000" y="1147320"/>
            <a:ext cx="504720" cy="874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Autofit/>
          </a:bodyPr>
          <a:lstStyle>
            <a:lvl1pPr indent="0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8360" y="1147320"/>
            <a:ext cx="684000" cy="874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Autofit/>
          </a:bodyPr>
          <a:lstStyle>
            <a:lvl1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47280" y="1147320"/>
            <a:ext cx="505080" cy="874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9720" bIns="9720" anchor="t">
            <a:noAutofit/>
          </a:bodyPr>
          <a:lstStyle>
            <a:lvl1pPr indent="0" algn="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fld id="{BB9AD80D-00F4-42D5-A8E2-D16F2A3FAFB0}" type="slidenum">
              <a:rPr b="0" lang="en-US" sz="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2130120" cy="1196640"/>
            <a:chOff x="0" y="0"/>
            <a:chExt cx="2130120" cy="119664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320" y="598320"/>
              <a:ext cx="1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90480" y="541440"/>
              <a:ext cx="61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wei:=zwei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82840" y="484200"/>
              <a:ext cx="54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rei:=drei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4000" y="150840"/>
              <a:ext cx="1713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4000" y="150840"/>
              <a:ext cx="1713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3880" y="179280"/>
              <a:ext cx="111240" cy="11592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900000"/>
              <a:ext cx="1713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4000" y="900000"/>
              <a:ext cx="1713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7080" y="107460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i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5200" y="23760"/>
              <a:ext cx="22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81760" y="311040"/>
              <a:ext cx="64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gt;3 &amp;&amp; drei&lt;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2880" y="426960"/>
              <a:ext cx="68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gt;2 &amp;&amp; zwei&lt;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9240" y="8100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=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1880" y="314280"/>
              <a:ext cx="216000" cy="600120"/>
            </a:xfrm>
            <a:custGeom>
              <a:avLst/>
              <a:gdLst/>
              <a:ahLst/>
              <a:rect l="l" t="t" r="r" b="b"/>
              <a:pathLst>
                <a:path w="610" h="1669">
                  <a:moveTo>
                    <a:pt x="0" y="0"/>
                  </a:moveTo>
                  <a:lnTo>
                    <a:pt x="532" y="746"/>
                  </a:lnTo>
                  <a:cubicBezTo>
                    <a:pt x="610" y="854"/>
                    <a:pt x="606" y="960"/>
                    <a:pt x="520" y="1062"/>
                  </a:cubicBezTo>
                  <a:lnTo>
                    <a:pt x="15" y="1669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8360" y="849240"/>
              <a:ext cx="57240" cy="65160"/>
            </a:xfrm>
            <a:custGeom>
              <a:avLst/>
              <a:gdLst/>
              <a:ahLst/>
              <a:rect l="l" t="t" r="r" b="b"/>
              <a:pathLst>
                <a:path w="163" h="182">
                  <a:moveTo>
                    <a:pt x="84" y="0"/>
                  </a:moveTo>
                  <a:lnTo>
                    <a:pt x="0" y="182"/>
                  </a:lnTo>
                  <a:lnTo>
                    <a:pt x="163" y="6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9120" y="320760"/>
              <a:ext cx="123840" cy="579240"/>
            </a:xfrm>
            <a:custGeom>
              <a:avLst/>
              <a:gdLst/>
              <a:ahLst/>
              <a:rect l="l" t="t" r="r" b="b"/>
              <a:pathLst>
                <a:path w="351" h="1609">
                  <a:moveTo>
                    <a:pt x="351" y="1609"/>
                  </a:moveTo>
                  <a:lnTo>
                    <a:pt x="52" y="911"/>
                  </a:lnTo>
                  <a:cubicBezTo>
                    <a:pt x="0" y="789"/>
                    <a:pt x="3" y="668"/>
                    <a:pt x="63" y="549"/>
                  </a:cubicBezTo>
                  <a:lnTo>
                    <a:pt x="337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2200" y="320760"/>
              <a:ext cx="46080" cy="71280"/>
            </a:xfrm>
            <a:custGeom>
              <a:avLst/>
              <a:gdLst/>
              <a:ahLst/>
              <a:rect l="l" t="t" r="r" b="b"/>
              <a:pathLst>
                <a:path w="132" h="196">
                  <a:moveTo>
                    <a:pt x="92" y="196"/>
                  </a:moveTo>
                  <a:lnTo>
                    <a:pt x="132" y="0"/>
                  </a:lnTo>
                  <a:lnTo>
                    <a:pt x="0" y="15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1480" y="237960"/>
              <a:ext cx="924120" cy="747720"/>
            </a:xfrm>
            <a:custGeom>
              <a:avLst/>
              <a:gdLst/>
              <a:ahLst/>
              <a:rect l="l" t="t" r="r" b="b"/>
              <a:pathLst>
                <a:path w="2620" h="2080">
                  <a:moveTo>
                    <a:pt x="0" y="0"/>
                  </a:moveTo>
                  <a:lnTo>
                    <a:pt x="2420" y="0"/>
                  </a:lnTo>
                  <a:cubicBezTo>
                    <a:pt x="2553" y="0"/>
                    <a:pt x="2620" y="66"/>
                    <a:pt x="2620" y="200"/>
                  </a:cubicBezTo>
                  <a:lnTo>
                    <a:pt x="2620" y="1880"/>
                  </a:lnTo>
                  <a:cubicBezTo>
                    <a:pt x="2620" y="2013"/>
                    <a:pt x="2553" y="2080"/>
                    <a:pt x="2420" y="2080"/>
                  </a:cubicBezTo>
                  <a:lnTo>
                    <a:pt x="0" y="208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1480" y="968400"/>
              <a:ext cx="66960" cy="3636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193" y="0"/>
                  </a:moveTo>
                  <a:lnTo>
                    <a:pt x="0" y="52"/>
                  </a:lnTo>
                  <a:lnTo>
                    <a:pt x="193" y="10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5:52:31Z</dcterms:created>
  <dc:creator>x</dc:creator>
  <dc:description/>
  <dc:language>en-US</dc:language>
  <cp:lastModifiedBy>x</cp:lastModifiedBy>
  <dcterms:modified xsi:type="dcterms:W3CDTF">2009-06-27T15:53:00Z</dcterms:modified>
  <cp:revision>1</cp:revision>
  <dc:subject/>
  <dc:title>Folie 1</dc:title>
</cp:coreProperties>
</file>