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728788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FC4-FB6E-4DA9-AF30-8EEC2BDC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680" y="212760"/>
            <a:ext cx="15573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680" y="528840"/>
            <a:ext cx="15573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5D4-3EFF-4815-92C0-1ED18706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680" y="212760"/>
            <a:ext cx="7599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4160" y="212760"/>
            <a:ext cx="7599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80" y="528840"/>
            <a:ext cx="7599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4160" y="528840"/>
            <a:ext cx="7599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F40-B4F1-4A4D-8EC3-27D32CC9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680" y="212760"/>
            <a:ext cx="50112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360" y="212760"/>
            <a:ext cx="50112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680" y="212760"/>
            <a:ext cx="50112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680" y="528840"/>
            <a:ext cx="50112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360" y="528840"/>
            <a:ext cx="50112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680" y="528840"/>
            <a:ext cx="50112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C04-7A53-41B6-89CE-7D26A743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680" y="212760"/>
            <a:ext cx="15573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B7F-C2AF-4324-9435-A7785063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680" y="212760"/>
            <a:ext cx="1557360" cy="604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56C-95CD-45BD-9751-9BE721D6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680" y="212760"/>
            <a:ext cx="759960" cy="604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4160" y="212760"/>
            <a:ext cx="759960" cy="604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217-313E-4654-B115-779C9DA9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B60-0383-44D8-A5BF-2B1F2712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680" y="36360"/>
            <a:ext cx="155736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84C-6154-4BA3-8C4A-959A5B94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680" y="212760"/>
            <a:ext cx="7599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4160" y="212760"/>
            <a:ext cx="759960" cy="604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680" y="528840"/>
            <a:ext cx="7599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CF2-1CEB-443B-B602-708D59B6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680" y="212760"/>
            <a:ext cx="759960" cy="604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4160" y="212760"/>
            <a:ext cx="7599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4160" y="528840"/>
            <a:ext cx="7599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445-2A63-40C0-BC3E-0CB99D16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680" y="212760"/>
            <a:ext cx="7599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4160" y="212760"/>
            <a:ext cx="7599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680" y="528840"/>
            <a:ext cx="1557360" cy="288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8F6-BDF4-48DA-B82E-9C8BBD7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680" y="36360"/>
            <a:ext cx="1557360" cy="1526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680" y="212760"/>
            <a:ext cx="1557360" cy="604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 fontScale="93000"/>
          </a:bodyPr>
          <a:p>
            <a:pPr marL="52920" indent="-5292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113760" indent="-42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75680" indent="-352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3" marL="244800" indent="-3348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4" marL="315720" indent="-3528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5" marL="315720" indent="-3528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6" marL="315720" indent="-3528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20" y="833400"/>
            <a:ext cx="405000" cy="63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Autofit/>
          </a:bodyPr>
          <a:lstStyle>
            <a:lvl1pPr indent="0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" y="833400"/>
            <a:ext cx="547920" cy="63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Autofit/>
          </a:bodyPr>
          <a:lstStyle>
            <a:lvl1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400" y="833400"/>
            <a:ext cx="404640" cy="633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Autofit/>
          </a:bodyPr>
          <a:lstStyle>
            <a:lvl1pPr indent="0" algn="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50840"/>
                <a:tab algn="l" pos="301680"/>
                <a:tab algn="l" pos="452520"/>
                <a:tab algn="l" pos="603360"/>
                <a:tab algn="l" pos="754200"/>
                <a:tab algn="l" pos="905040"/>
                <a:tab algn="l" pos="1055520"/>
                <a:tab algn="l" pos="1206360"/>
                <a:tab algn="l" pos="1357200"/>
                <a:tab algn="l" pos="1508040"/>
                <a:tab algn="l" pos="1658880"/>
                <a:tab algn="l" pos="1809720"/>
                <a:tab algn="l" pos="1960560"/>
                <a:tab algn="l" pos="2111400"/>
                <a:tab algn="l" pos="2262240"/>
                <a:tab algn="l" pos="2413080"/>
                <a:tab algn="l" pos="2563920"/>
                <a:tab algn="l" pos="2714760"/>
                <a:tab algn="l" pos="2865600"/>
                <a:tab algn="l" pos="3016080"/>
              </a:tabLst>
            </a:pPr>
            <a:fld id="{0438AF6B-7E50-4AA4-B81C-9149658E4ADA}" type="slidenum">
              <a:rPr b="0" lang="en-US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06440"/>
            <a:ext cx="1661400" cy="491760"/>
            <a:chOff x="0" y="406440"/>
            <a:chExt cx="1661400" cy="491760"/>
          </a:xfrm>
        </p:grpSpPr>
        <p:sp>
          <p:nvSpPr>
            <p:cNvPr id="42" name=""/>
            <p:cNvSpPr/>
            <p:nvPr/>
          </p:nvSpPr>
          <p:spPr>
            <a:xfrm>
              <a:off x="0" y="40644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8280" y="48888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=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93480" y="557280"/>
              <a:ext cx="16920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3480" y="557280"/>
              <a:ext cx="169200" cy="173160"/>
            </a:xfrm>
            <a:prstGeom prst="ellipse">
              <a:avLst/>
            </a:pr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8640" y="557280"/>
              <a:ext cx="17100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8640" y="557280"/>
              <a:ext cx="171000" cy="173160"/>
            </a:xfrm>
            <a:prstGeom prst="ellipse">
              <a:avLst/>
            </a:pr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7080" y="585720"/>
              <a:ext cx="113760" cy="115920"/>
            </a:xfrm>
            <a:prstGeom prst="ellipse">
              <a:avLst/>
            </a:pr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93680" y="430200"/>
              <a:ext cx="56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gemeld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840" y="77616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=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600" y="43020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rt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6480" y="642960"/>
              <a:ext cx="1008360" cy="1440"/>
            </a:xfrm>
            <a:prstGeom prst="line">
              <a:avLst/>
            </a:prstGeom>
            <a:ln cap="rnd"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16080" y="625680"/>
              <a:ext cx="68760" cy="3636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103"/>
                  </a:moveTo>
                  <a:lnTo>
                    <a:pt x="193" y="51"/>
                  </a:lnTo>
                  <a:lnTo>
                    <a:pt x="0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11:46Z</dcterms:created>
  <dc:creator>x</dc:creator>
  <dc:description/>
  <dc:language>en-US</dc:language>
  <cp:lastModifiedBy>x</cp:lastModifiedBy>
  <dcterms:modified xsi:type="dcterms:W3CDTF">2009-06-27T16:12:27Z</dcterms:modified>
  <cp:revision>1</cp:revision>
  <dc:subject/>
  <dc:title>Folie 1</dc:title>
</cp:coreProperties>
</file>