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011863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796-8194-4F2C-97FD-12EC4D5D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194760"/>
            <a:ext cx="5408640" cy="8096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133640"/>
            <a:ext cx="540864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2809800"/>
            <a:ext cx="540864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9F9-B459-4CD5-8A15-B7F04105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194760"/>
            <a:ext cx="5408640" cy="8096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133640"/>
            <a:ext cx="263916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73320" y="1133640"/>
            <a:ext cx="263916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2809800"/>
            <a:ext cx="263916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73320" y="2809800"/>
            <a:ext cx="263916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156-A776-4C27-AAFA-1F17C7A0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194760"/>
            <a:ext cx="5408640" cy="8096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133640"/>
            <a:ext cx="174132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30480" y="1133640"/>
            <a:ext cx="174132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9280" y="1133640"/>
            <a:ext cx="174132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2809800"/>
            <a:ext cx="174132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30480" y="2809800"/>
            <a:ext cx="174132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959280" y="2809800"/>
            <a:ext cx="174132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CFC-C986-47B0-988F-E07D09E5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194760"/>
            <a:ext cx="5408640" cy="8096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133640"/>
            <a:ext cx="5408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A80-EF5E-476F-BD83-FD0DF302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194760"/>
            <a:ext cx="5408640" cy="8096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133640"/>
            <a:ext cx="5408640" cy="32083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F8A-93EE-4966-9369-157A8C68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194760"/>
            <a:ext cx="5408640" cy="8096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133640"/>
            <a:ext cx="2639160" cy="32083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073320" y="1133640"/>
            <a:ext cx="2639160" cy="32083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0DD-66E6-4232-B38D-9CA6C535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194760"/>
            <a:ext cx="5408640" cy="8096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11E-6D72-4109-8FAE-8840729D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194760"/>
            <a:ext cx="5408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AF9-11C8-4C6B-9CEA-987F8FC0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194760"/>
            <a:ext cx="5408640" cy="8096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133640"/>
            <a:ext cx="263916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073320" y="1133640"/>
            <a:ext cx="2639160" cy="32083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2809800"/>
            <a:ext cx="263916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936-5FF1-4717-9A28-589B5EA3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194760"/>
            <a:ext cx="5408640" cy="8096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133640"/>
            <a:ext cx="2639160" cy="32083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073320" y="1133640"/>
            <a:ext cx="263916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73320" y="2809800"/>
            <a:ext cx="263916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444-3C21-4B14-AAC0-04FBA24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194760"/>
            <a:ext cx="5408640" cy="8096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133640"/>
            <a:ext cx="263916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73320" y="1133640"/>
            <a:ext cx="263916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2809800"/>
            <a:ext cx="5408640" cy="15303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A92-792C-42B4-9DE8-8A515311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94760"/>
            <a:ext cx="5408640" cy="8096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133640"/>
            <a:ext cx="5408640" cy="320832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rmAutofit/>
          </a:bodyPr>
          <a:p>
            <a:pPr marL="225360" indent="-225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875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50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50840" indent="-1490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51080" indent="-1494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51080" indent="-1494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51080" indent="-1494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680" y="4425840"/>
            <a:ext cx="1401840" cy="3384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Autofit/>
          </a:bodyPr>
          <a:lstStyle>
            <a:lvl1pPr indent="0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3800" y="4425840"/>
            <a:ext cx="1903320" cy="3384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Autofit/>
          </a:bodyPr>
          <a:lstStyle>
            <a:lvl1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8480" y="4425840"/>
            <a:ext cx="1401840" cy="3384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9880" bIns="29880" anchor="t">
            <a:noAutofit/>
          </a:bodyPr>
          <a:lstStyle>
            <a:lvl1pPr indent="0" algn="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fld id="{04FD297F-6153-455F-B779-09A5F9AD7C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011280" cy="4822920"/>
            <a:chOff x="0" y="0"/>
            <a:chExt cx="6011280" cy="4822920"/>
          </a:xfrm>
        </p:grpSpPr>
        <p:grpSp>
          <p:nvGrpSpPr>
            <p:cNvPr id="42" name=""/>
            <p:cNvGrpSpPr/>
            <p:nvPr/>
          </p:nvGrpSpPr>
          <p:grpSpPr>
            <a:xfrm>
              <a:off x="4315680" y="2087640"/>
              <a:ext cx="1695600" cy="2735280"/>
              <a:chOff x="4315680" y="2087640"/>
              <a:chExt cx="1695600" cy="2735280"/>
            </a:xfrm>
          </p:grpSpPr>
          <p:sp>
            <p:nvSpPr>
              <p:cNvPr id="43" name=""/>
              <p:cNvSpPr/>
              <p:nvPr/>
            </p:nvSpPr>
            <p:spPr>
              <a:xfrm>
                <a:off x="4315680" y="2087640"/>
                <a:ext cx="1695600" cy="339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Anforderungsanaly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315680" y="2735280"/>
                <a:ext cx="1695600" cy="339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Desig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315680" y="3332160"/>
                <a:ext cx="1695600" cy="339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Implementieru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315680" y="3907080"/>
                <a:ext cx="1695600" cy="339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Te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315680" y="4483440"/>
                <a:ext cx="1695600" cy="339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Abnah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143320" y="2446560"/>
                <a:ext cx="1440" cy="25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43320" y="3095640"/>
                <a:ext cx="1440" cy="25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143320" y="4246560"/>
                <a:ext cx="1440" cy="25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143320" y="3672000"/>
                <a:ext cx="1440" cy="25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77760" y="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kremen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91400" y="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kremen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48520" y="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krement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157840" y="1295640"/>
              <a:ext cx="1695960" cy="2735280"/>
              <a:chOff x="2157840" y="1295640"/>
              <a:chExt cx="1695960" cy="2735280"/>
            </a:xfrm>
          </p:grpSpPr>
          <p:sp>
            <p:nvSpPr>
              <p:cNvPr id="56" name=""/>
              <p:cNvSpPr/>
              <p:nvPr/>
            </p:nvSpPr>
            <p:spPr>
              <a:xfrm>
                <a:off x="2157840" y="1295640"/>
                <a:ext cx="1695960" cy="339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Anforderungsanaly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57840" y="1943280"/>
                <a:ext cx="1695960" cy="339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Desig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57840" y="2540160"/>
                <a:ext cx="1695960" cy="339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Implementieru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57840" y="3114720"/>
                <a:ext cx="1695960" cy="339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Te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157840" y="3691080"/>
                <a:ext cx="1695960" cy="339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Teilabnah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985840" y="1654200"/>
                <a:ext cx="720" cy="25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85840" y="2303640"/>
                <a:ext cx="720" cy="25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985840" y="3454560"/>
                <a:ext cx="720" cy="25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985840" y="2880000"/>
                <a:ext cx="720" cy="25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0" y="503280"/>
              <a:ext cx="1695960" cy="2735280"/>
              <a:chOff x="0" y="503280"/>
              <a:chExt cx="1695960" cy="2735280"/>
            </a:xfrm>
          </p:grpSpPr>
          <p:sp>
            <p:nvSpPr>
              <p:cNvPr id="66" name=""/>
              <p:cNvSpPr/>
              <p:nvPr/>
            </p:nvSpPr>
            <p:spPr>
              <a:xfrm>
                <a:off x="0" y="503280"/>
                <a:ext cx="1695960" cy="339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Anforderungsanaly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1150920"/>
                <a:ext cx="1695960" cy="339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Desig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1747800"/>
                <a:ext cx="1695960" cy="339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Implementieru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322360"/>
                <a:ext cx="1695960" cy="339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Te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898720"/>
                <a:ext cx="1695960" cy="339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Teilabnah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8000" y="861840"/>
                <a:ext cx="720" cy="25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8000" y="1511280"/>
                <a:ext cx="720" cy="25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8000" y="2662200"/>
                <a:ext cx="720" cy="25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8000" y="2087640"/>
                <a:ext cx="720" cy="25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005640" y="1800000"/>
              <a:ext cx="2157840" cy="2467440"/>
              <a:chOff x="3005640" y="1800000"/>
              <a:chExt cx="2157840" cy="2467440"/>
            </a:xfrm>
          </p:grpSpPr>
          <p:cxnSp>
            <p:nvCxnSpPr>
              <p:cNvPr id="76" name=""/>
              <p:cNvCxnSpPr>
                <a:stCxn id="60" idx="2"/>
              </p:cNvCxnSpPr>
              <p:nvPr/>
            </p:nvCxnSpPr>
            <p:spPr>
              <a:xfrm flipH="1" flipV="1" rot="5400000">
                <a:off x="2429640" y="2375640"/>
                <a:ext cx="2231280" cy="1079640"/>
              </a:xfrm>
              <a:prstGeom prst="bentConnector4">
                <a:avLst>
                  <a:gd name="adj1" fmla="val -10601"/>
                  <a:gd name="adj2" fmla="val 100500"/>
                </a:avLst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77" name=""/>
              <p:cNvCxnSpPr>
                <a:stCxn id="43" idx="0"/>
              </p:cNvCxnSpPr>
              <p:nvPr/>
            </p:nvCxnSpPr>
            <p:spPr>
              <a:xfrm flipV="1" rot="16200000">
                <a:off x="4480200" y="1404360"/>
                <a:ext cx="287640" cy="1079640"/>
              </a:xfrm>
              <a:prstGeom prst="bentConnector3">
                <a:avLst>
                  <a:gd name="adj1" fmla="val 91102"/>
                </a:avLst>
              </a:prstGeom>
              <a:ln w="19080">
                <a:solidFill>
                  <a:srgbClr val="000000"/>
                </a:solidFill>
                <a:miter/>
                <a:headEnd len="lg" type="arrow" w="lg"/>
              </a:ln>
            </p:spPr>
          </p:cxnSp>
        </p:grpSp>
        <p:grpSp>
          <p:nvGrpSpPr>
            <p:cNvPr id="78" name=""/>
            <p:cNvGrpSpPr/>
            <p:nvPr/>
          </p:nvGrpSpPr>
          <p:grpSpPr>
            <a:xfrm>
              <a:off x="846360" y="1008000"/>
              <a:ext cx="2158560" cy="2459160"/>
              <a:chOff x="846360" y="1008000"/>
              <a:chExt cx="2158560" cy="2459160"/>
            </a:xfrm>
          </p:grpSpPr>
          <p:cxnSp>
            <p:nvCxnSpPr>
              <p:cNvPr id="79" name=""/>
              <p:cNvCxnSpPr/>
              <p:nvPr/>
            </p:nvCxnSpPr>
            <p:spPr>
              <a:xfrm flipH="1" flipV="1" rot="5400000">
                <a:off x="265680" y="1588320"/>
                <a:ext cx="2240640" cy="1079640"/>
              </a:xfrm>
              <a:prstGeom prst="bentConnector3">
                <a:avLst>
                  <a:gd name="adj1" fmla="val -9770"/>
                </a:avLst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80" name=""/>
              <p:cNvCxnSpPr/>
              <p:nvPr/>
            </p:nvCxnSpPr>
            <p:spPr>
              <a:xfrm flipV="1" rot="16200000">
                <a:off x="2326320" y="607680"/>
                <a:ext cx="278280" cy="107964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headEnd len="lg" type="arrow" w="lg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3:58:03Z</dcterms:created>
  <dc:creator>x</dc:creator>
  <dc:description/>
  <dc:language>en-US</dc:language>
  <cp:lastModifiedBy>x</cp:lastModifiedBy>
  <dcterms:modified xsi:type="dcterms:W3CDTF">2009-02-17T15:59:38Z</dcterms:modified>
  <cp:revision>2</cp:revision>
  <dc:subject/>
  <dc:title>Folie 1</dc:title>
</cp:coreProperties>
</file>