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0833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0CA-D4A0-4E0C-BCC9-C22580F5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547524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1435680"/>
            <a:ext cx="547524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E83-8D1C-4289-A2FF-03CE3FE7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1004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143568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10040" y="143568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6D9-F0CE-4F30-9161-6DAA6421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56040" y="57924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07520" y="57924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143568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56040" y="143568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07520" y="1435680"/>
            <a:ext cx="176292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D70-2F69-4F7D-B31C-303AFB38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579240"/>
            <a:ext cx="547524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B95-FCD0-44FA-9A28-C5D3281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547524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96C-F66F-499F-96D7-29F84A4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267156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10040" y="579240"/>
            <a:ext cx="267156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975-2821-429A-B4E9-70EC3D5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9CC-3433-4156-B19A-EE2BB82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720"/>
            <a:ext cx="547524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3A5-DD2B-4F1A-BCF8-488DD75F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0040" y="579240"/>
            <a:ext cx="267156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143568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626-F4D1-41FB-91B5-77DA4D0F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267156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004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10040" y="143568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B73-4ADC-4A06-B62C-14BD59E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360"/>
            <a:ext cx="5475240" cy="41508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10040" y="579240"/>
            <a:ext cx="267156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1435680"/>
            <a:ext cx="5475240" cy="7819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8B7-BB64-4EAC-BF5F-0E9583B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5475240" cy="4143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579240"/>
            <a:ext cx="5475240" cy="163980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 fontScale="74000"/>
          </a:bodyPr>
          <a:p>
            <a:pPr marL="136080" indent="-136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137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453240" indent="-914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633960" indent="-900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815040" indent="-900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815040" indent="-900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815040" indent="-900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2261880"/>
            <a:ext cx="1419120" cy="1731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79360" y="2261880"/>
            <a:ext cx="1925640" cy="1731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61040" y="2261880"/>
            <a:ext cx="1419120" cy="1731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fld id="{00F158BF-70E6-4EF8-97EA-504257CDD00E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6027480" cy="2424600"/>
            <a:chOff x="34920" y="17640"/>
            <a:chExt cx="6027480" cy="2424600"/>
          </a:xfrm>
        </p:grpSpPr>
        <p:sp>
          <p:nvSpPr>
            <p:cNvPr id="42" name=""/>
            <p:cNvSpPr/>
            <p:nvPr/>
          </p:nvSpPr>
          <p:spPr>
            <a:xfrm>
              <a:off x="34920" y="85752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04720" y="317520"/>
              <a:ext cx="50508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720" y="460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6"/>
              <a:endCxn id="43" idx="1"/>
            </p:cNvCxnSpPr>
            <p:nvPr/>
          </p:nvCxnSpPr>
          <p:spPr>
            <a:xfrm flipV="1">
              <a:off x="539640" y="569880"/>
              <a:ext cx="865440" cy="540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6" name=""/>
            <p:cNvSpPr/>
            <p:nvPr/>
          </p:nvSpPr>
          <p:spPr>
            <a:xfrm>
              <a:off x="2555640" y="89244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3" idx="3"/>
              <a:endCxn id="46" idx="1"/>
            </p:cNvCxnSpPr>
            <p:nvPr/>
          </p:nvCxnSpPr>
          <p:spPr>
            <a:xfrm>
              <a:off x="1909800" y="569880"/>
              <a:ext cx="720000" cy="396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8" name=""/>
            <p:cNvSpPr/>
            <p:nvPr/>
          </p:nvSpPr>
          <p:spPr>
            <a:xfrm>
              <a:off x="36360" y="182880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800" y="146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4720" y="1541520"/>
              <a:ext cx="50508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6" idx="3"/>
              <a:endCxn id="50" idx="3"/>
            </p:cNvCxnSpPr>
            <p:nvPr/>
          </p:nvCxnSpPr>
          <p:spPr>
            <a:xfrm flipH="1">
              <a:off x="1909800" y="1323360"/>
              <a:ext cx="720000" cy="47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50" idx="1"/>
              <a:endCxn id="48" idx="6"/>
            </p:cNvCxnSpPr>
            <p:nvPr/>
          </p:nvCxnSpPr>
          <p:spPr>
            <a:xfrm flipH="1">
              <a:off x="541080" y="1793880"/>
              <a:ext cx="864000" cy="288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177840" y="107316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05800" y="38916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78160" y="1613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0" idx="1"/>
              <a:endCxn id="42" idx="5"/>
            </p:cNvCxnSpPr>
            <p:nvPr/>
          </p:nvCxnSpPr>
          <p:spPr>
            <a:xfrm flipH="1" flipV="1">
              <a:off x="465840" y="1288440"/>
              <a:ext cx="939240" cy="505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2595240" y="460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87520" y="70344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85720" y="1764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39280" y="139248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,0,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9280" y="204336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0,1,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60" idx="2"/>
              <a:endCxn id="61" idx="0"/>
            </p:cNvCxnSpPr>
            <p:nvPr/>
          </p:nvCxnSpPr>
          <p:spPr>
            <a:xfrm>
              <a:off x="4649400" y="1791360"/>
              <a:ext cx="360" cy="252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3" name=""/>
            <p:cNvCxnSpPr>
              <a:stCxn id="58" idx="2"/>
              <a:endCxn id="60" idx="0"/>
            </p:cNvCxnSpPr>
            <p:nvPr/>
          </p:nvCxnSpPr>
          <p:spPr>
            <a:xfrm>
              <a:off x="4645800" y="1102320"/>
              <a:ext cx="3960" cy="290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4" name=""/>
            <p:cNvCxnSpPr>
              <a:stCxn id="59" idx="2"/>
              <a:endCxn id="58" idx="0"/>
            </p:cNvCxnSpPr>
            <p:nvPr/>
          </p:nvCxnSpPr>
          <p:spPr>
            <a:xfrm>
              <a:off x="4644000" y="416520"/>
              <a:ext cx="2160" cy="28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5" name=""/>
            <p:cNvSpPr/>
            <p:nvPr/>
          </p:nvSpPr>
          <p:spPr>
            <a:xfrm>
              <a:off x="5111640" y="1605240"/>
              <a:ext cx="601560" cy="637920"/>
            </a:xfrm>
            <a:custGeom>
              <a:avLst/>
              <a:gdLst/>
              <a:ahLst/>
              <a:rect l="l" t="t" r="r" b="b"/>
              <a:pathLst>
                <a:path w="379" h="402">
                  <a:moveTo>
                    <a:pt x="0" y="402"/>
                  </a:moveTo>
                  <a:cubicBezTo>
                    <a:pt x="63" y="360"/>
                    <a:pt x="379" y="216"/>
                    <a:pt x="379" y="149"/>
                  </a:cubicBezTo>
                  <a:cubicBezTo>
                    <a:pt x="379" y="82"/>
                    <a:pt x="79" y="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4160" y="164952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4160" y="31752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6160" y="16862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07040" y="10382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6:10Z</dcterms:created>
  <dc:creator>kleuker</dc:creator>
  <dc:description/>
  <dc:language>en-US</dc:language>
  <cp:lastModifiedBy>kleuker</cp:lastModifiedBy>
  <dcterms:modified xsi:type="dcterms:W3CDTF">2007-01-11T12:46:46Z</dcterms:modified>
  <cp:revision>1</cp:revision>
  <dc:subject/>
  <dc:title>Folie 1</dc:title>
</cp:coreProperties>
</file>