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91250" cy="3851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B12-FBFB-4C63-9B6E-E401E66B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9600" y="898560"/>
            <a:ext cx="557352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9600" y="2226960"/>
            <a:ext cx="557352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44B-50AA-40DB-918F-49D3A15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600" y="8985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65840" y="8985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9600" y="22269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65840" y="22269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9DC-F687-4108-A408-0215DB84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9600" y="898560"/>
            <a:ext cx="17946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94200" y="898560"/>
            <a:ext cx="17946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79160" y="898560"/>
            <a:ext cx="17946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9600" y="2226960"/>
            <a:ext cx="17946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94200" y="2226960"/>
            <a:ext cx="17946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79160" y="2226960"/>
            <a:ext cx="17946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255-D432-411C-84E6-E3EBB20C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9600" y="898560"/>
            <a:ext cx="5573520" cy="25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9DA-6430-4FF0-9438-FF288F62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600" y="898560"/>
            <a:ext cx="5573520" cy="25430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875-6844-426E-BDBA-422E9656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9600" y="898560"/>
            <a:ext cx="2719800" cy="25430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65840" y="898560"/>
            <a:ext cx="2719800" cy="25430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18F-2C5F-4BE0-A6BA-9C4AB22F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2D1-E1D9-4519-B8A7-56AAF61B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9600" y="153720"/>
            <a:ext cx="557352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FA4-71B6-4891-A010-8736045D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9600" y="8985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65840" y="898560"/>
            <a:ext cx="2719800" cy="25430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9600" y="22269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CE0-6C74-4AB8-A264-DBD3D590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9600" y="898560"/>
            <a:ext cx="2719800" cy="25430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65840" y="8985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65840" y="22269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137-B3AC-4646-B74D-F6977F45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9600" y="8985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65840" y="898560"/>
            <a:ext cx="271980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9600" y="2226960"/>
            <a:ext cx="5573520" cy="12128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A4D-BE41-4ABC-B46C-C0763905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600" y="153720"/>
            <a:ext cx="5573520" cy="6411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600" y="898560"/>
            <a:ext cx="5573520" cy="254304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rmAutofit fontScale="98000"/>
          </a:bodyPr>
          <a:p>
            <a:pPr marL="211680" indent="-21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3080" indent="-14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4600" indent="-140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4680" indent="-14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4680" indent="-14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4680" indent="-14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9240" y="3507840"/>
            <a:ext cx="1444680" cy="2667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Autofit/>
          </a:bodyPr>
          <a:lstStyle>
            <a:lvl1pPr indent="0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16080" y="3507840"/>
            <a:ext cx="1960560" cy="2667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Autofit/>
          </a:bodyPr>
          <a:lstStyle>
            <a:lvl1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38800" y="3507840"/>
            <a:ext cx="1444320" cy="266760"/>
          </a:xfrm>
          <a:prstGeom prst="rect">
            <a:avLst/>
          </a:prstGeom>
          <a:noFill/>
          <a:ln w="0">
            <a:noFill/>
          </a:ln>
        </p:spPr>
        <p:txBody>
          <a:bodyPr lIns="57240" rIns="57240" tIns="28800" bIns="28800" anchor="t">
            <a:noAutofit/>
          </a:bodyPr>
          <a:lstStyle>
            <a:lvl1pPr indent="0" algn="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fld id="{BFC7EC2F-C14F-4D38-8FC1-A1C3D3516E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1400" y="15840"/>
            <a:ext cx="6118920" cy="3780000"/>
            <a:chOff x="41400" y="15840"/>
            <a:chExt cx="6118920" cy="3780000"/>
          </a:xfrm>
        </p:grpSpPr>
        <p:sp>
          <p:nvSpPr>
            <p:cNvPr id="42" name=""/>
            <p:cNvSpPr/>
            <p:nvPr/>
          </p:nvSpPr>
          <p:spPr>
            <a:xfrm>
              <a:off x="1481040" y="15840"/>
              <a:ext cx="256644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16000" indent="-216000">
                <a:spcBef>
                  <a:spcPts val="400"/>
                </a:spcBef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em(PM,M)={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l-G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,{a,b})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spcBef>
                  <a:spcPts val="400"/>
                </a:spcBef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l-G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,{a})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spcBef>
                  <a:spcPts val="400"/>
                </a:spcBef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l-G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,{b})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spcBef>
                  <a:spcPts val="400"/>
                </a:spcBef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a, </a:t>
              </a:r>
              <a:r>
                <a:rPr b="1" lang="el-G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spcBef>
                  <a:spcPts val="400"/>
                </a:spcBef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b, </a:t>
              </a:r>
              <a:r>
                <a:rPr b="1" lang="el-G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41400" y="15840"/>
              <a:ext cx="1297800" cy="3598560"/>
              <a:chOff x="41400" y="15840"/>
              <a:chExt cx="1297800" cy="3598560"/>
            </a:xfrm>
          </p:grpSpPr>
          <p:sp>
            <p:nvSpPr>
              <p:cNvPr id="44" name=""/>
              <p:cNvSpPr/>
              <p:nvPr/>
            </p:nvSpPr>
            <p:spPr>
              <a:xfrm>
                <a:off x="474120" y="1584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41400" y="704520"/>
                <a:ext cx="504360" cy="534960"/>
                <a:chOff x="41400" y="704520"/>
                <a:chExt cx="504360" cy="53496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41400" y="734760"/>
                  <a:ext cx="504360" cy="504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36080" y="704520"/>
                  <a:ext cx="336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834480" y="734760"/>
                <a:ext cx="50472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15480" y="704520"/>
                <a:ext cx="33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480" y="1525320"/>
                <a:ext cx="504360" cy="505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17040" y="23472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48" idx="0"/>
                <a:endCxn id="44" idx="5"/>
              </p:cNvCxnSpPr>
              <p:nvPr/>
            </p:nvCxnSpPr>
            <p:spPr>
              <a:xfrm flipH="1" flipV="1">
                <a:off x="905040" y="446760"/>
                <a:ext cx="182160" cy="288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headEnd len="lg" type="arrow" w="lg"/>
              </a:ln>
            </p:spPr>
          </p:cxnSp>
          <p:cxnSp>
            <p:nvCxnSpPr>
              <p:cNvPr id="53" name=""/>
              <p:cNvCxnSpPr>
                <a:stCxn id="50" idx="4"/>
                <a:endCxn id="54" idx="0"/>
              </p:cNvCxnSpPr>
              <p:nvPr/>
            </p:nvCxnSpPr>
            <p:spPr>
              <a:xfrm flipH="1">
                <a:off x="294480" y="2030400"/>
                <a:ext cx="720" cy="287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55" name=""/>
              <p:cNvCxnSpPr>
                <a:stCxn id="46" idx="2"/>
                <a:endCxn id="50" idx="0"/>
              </p:cNvCxnSpPr>
              <p:nvPr/>
            </p:nvCxnSpPr>
            <p:spPr>
              <a:xfrm>
                <a:off x="293400" y="1239480"/>
                <a:ext cx="1800" cy="286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56" name=""/>
              <p:cNvCxnSpPr>
                <a:stCxn id="44" idx="3"/>
                <a:endCxn id="46" idx="0"/>
              </p:cNvCxnSpPr>
              <p:nvPr/>
            </p:nvCxnSpPr>
            <p:spPr>
              <a:xfrm flipH="1">
                <a:off x="293400" y="446760"/>
                <a:ext cx="254880" cy="288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grpSp>
            <p:nvGrpSpPr>
              <p:cNvPr id="57" name=""/>
              <p:cNvGrpSpPr/>
              <p:nvPr/>
            </p:nvGrpSpPr>
            <p:grpSpPr>
              <a:xfrm>
                <a:off x="42480" y="2317680"/>
                <a:ext cx="504360" cy="504720"/>
                <a:chOff x="42480" y="2317680"/>
                <a:chExt cx="504360" cy="5047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42480" y="2317680"/>
                  <a:ext cx="504360" cy="504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90000" y="2415960"/>
                  <a:ext cx="38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!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42480" y="31096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"/>
              <p:cNvCxnSpPr>
                <a:stCxn id="54" idx="2"/>
                <a:endCxn id="59" idx="0"/>
              </p:cNvCxnSpPr>
              <p:nvPr/>
            </p:nvCxnSpPr>
            <p:spPr>
              <a:xfrm>
                <a:off x="294480" y="2822400"/>
                <a:ext cx="720" cy="287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sp>
            <p:nvSpPr>
              <p:cNvPr id="61" name=""/>
              <p:cNvSpPr/>
              <p:nvPr/>
            </p:nvSpPr>
            <p:spPr>
              <a:xfrm>
                <a:off x="834480" y="1525320"/>
                <a:ext cx="504720" cy="505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"/>
              <p:cNvCxnSpPr>
                <a:stCxn id="61" idx="4"/>
                <a:endCxn id="63" idx="0"/>
              </p:cNvCxnSpPr>
              <p:nvPr/>
            </p:nvCxnSpPr>
            <p:spPr>
              <a:xfrm>
                <a:off x="1086840" y="2030400"/>
                <a:ext cx="360" cy="287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64" name=""/>
              <p:cNvCxnSpPr>
                <a:stCxn id="48" idx="2"/>
                <a:endCxn id="61" idx="0"/>
              </p:cNvCxnSpPr>
              <p:nvPr/>
            </p:nvCxnSpPr>
            <p:spPr>
              <a:xfrm>
                <a:off x="1086840" y="1239480"/>
                <a:ext cx="360" cy="286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grpSp>
            <p:nvGrpSpPr>
              <p:cNvPr id="65" name=""/>
              <p:cNvGrpSpPr/>
              <p:nvPr/>
            </p:nvGrpSpPr>
            <p:grpSpPr>
              <a:xfrm>
                <a:off x="834480" y="2317680"/>
                <a:ext cx="504720" cy="504720"/>
                <a:chOff x="834480" y="2317680"/>
                <a:chExt cx="504720" cy="504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834480" y="2317680"/>
                  <a:ext cx="504720" cy="504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869040" y="2415960"/>
                  <a:ext cx="39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!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834480" y="3109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" name=""/>
              <p:cNvCxnSpPr>
                <a:stCxn id="63" idx="2"/>
                <a:endCxn id="67" idx="0"/>
              </p:cNvCxnSpPr>
              <p:nvPr/>
            </p:nvCxnSpPr>
            <p:spPr>
              <a:xfrm>
                <a:off x="1086840" y="2822400"/>
                <a:ext cx="360" cy="287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862520" y="1781280"/>
              <a:ext cx="1297800" cy="2014560"/>
              <a:chOff x="4862520" y="1781280"/>
              <a:chExt cx="1297800" cy="2014560"/>
            </a:xfrm>
          </p:grpSpPr>
          <p:sp>
            <p:nvSpPr>
              <p:cNvPr id="70" name=""/>
              <p:cNvSpPr/>
              <p:nvPr/>
            </p:nvSpPr>
            <p:spPr>
              <a:xfrm>
                <a:off x="5295240" y="1781280"/>
                <a:ext cx="504720" cy="505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4862520" y="2500560"/>
                <a:ext cx="504360" cy="504720"/>
                <a:chOff x="4862520" y="2500560"/>
                <a:chExt cx="504360" cy="504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4862520" y="2500560"/>
                  <a:ext cx="504360" cy="504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910040" y="2598840"/>
                  <a:ext cx="38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!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5655600" y="2500560"/>
                <a:ext cx="504720" cy="504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76120" y="259884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63600" y="32911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438160" y="200052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" name=""/>
              <p:cNvCxnSpPr>
                <a:stCxn id="74" idx="0"/>
                <a:endCxn id="70" idx="5"/>
              </p:cNvCxnSpPr>
              <p:nvPr/>
            </p:nvCxnSpPr>
            <p:spPr>
              <a:xfrm flipH="1" flipV="1">
                <a:off x="5726160" y="2212560"/>
                <a:ext cx="182160" cy="288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headEnd len="lg" type="arrow" w="lg"/>
              </a:ln>
            </p:spPr>
          </p:cxnSp>
          <p:cxnSp>
            <p:nvCxnSpPr>
              <p:cNvPr id="79" name=""/>
              <p:cNvCxnSpPr>
                <a:stCxn id="72" idx="2"/>
                <a:endCxn id="76" idx="0"/>
              </p:cNvCxnSpPr>
              <p:nvPr/>
            </p:nvCxnSpPr>
            <p:spPr>
              <a:xfrm>
                <a:off x="5114520" y="3005280"/>
                <a:ext cx="1800" cy="286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80" name=""/>
              <p:cNvCxnSpPr>
                <a:stCxn id="70" idx="3"/>
                <a:endCxn id="72" idx="0"/>
              </p:cNvCxnSpPr>
              <p:nvPr/>
            </p:nvCxnSpPr>
            <p:spPr>
              <a:xfrm flipH="1">
                <a:off x="5114520" y="2212560"/>
                <a:ext cx="254880" cy="288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sp>
            <p:nvSpPr>
              <p:cNvPr id="81" name=""/>
              <p:cNvSpPr/>
              <p:nvPr/>
            </p:nvSpPr>
            <p:spPr>
              <a:xfrm>
                <a:off x="5655600" y="329112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" name=""/>
              <p:cNvCxnSpPr>
                <a:stCxn id="74" idx="2"/>
                <a:endCxn id="81" idx="0"/>
              </p:cNvCxnSpPr>
              <p:nvPr/>
            </p:nvCxnSpPr>
            <p:spPr>
              <a:xfrm>
                <a:off x="5907960" y="3005280"/>
                <a:ext cx="360" cy="286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</p:grpSp>
        <p:sp>
          <p:nvSpPr>
            <p:cNvPr id="83" name=""/>
            <p:cNvSpPr/>
            <p:nvPr/>
          </p:nvSpPr>
          <p:spPr>
            <a:xfrm>
              <a:off x="2298600" y="2644920"/>
              <a:ext cx="256644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16000" indent="-216000">
                <a:spcBef>
                  <a:spcPts val="400"/>
                </a:spcBef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em(PM,M)={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l-G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,{a,b})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spcBef>
                  <a:spcPts val="400"/>
                </a:spcBef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a, </a:t>
              </a:r>
              <a:r>
                <a:rPr b="1" lang="el-G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spcBef>
                  <a:spcPts val="400"/>
                </a:spcBef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b, </a:t>
              </a:r>
              <a:r>
                <a:rPr b="1" lang="el-G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0:35:02Z</dcterms:created>
  <dc:creator>x</dc:creator>
  <dc:description/>
  <dc:language>en-US</dc:language>
  <cp:lastModifiedBy>x</cp:lastModifiedBy>
  <dcterms:modified xsi:type="dcterms:W3CDTF">2009-05-01T10:51:48Z</dcterms:modified>
  <cp:revision>5</cp:revision>
  <dc:subject/>
  <dc:title>Folie 1</dc:title>
</cp:coreProperties>
</file>