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391525" cy="39957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DA2-3420-470B-B5A2-A86328FF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160200"/>
            <a:ext cx="7551720" cy="6667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933120"/>
            <a:ext cx="755172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8680" y="2311200"/>
            <a:ext cx="755172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640-A754-425B-A822-6D04DF6F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8680" y="160200"/>
            <a:ext cx="7551720" cy="6667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8680" y="933120"/>
            <a:ext cx="368496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8320" y="933120"/>
            <a:ext cx="368496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8680" y="2311200"/>
            <a:ext cx="368496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8320" y="2311200"/>
            <a:ext cx="368496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CBD-653E-4957-81CC-BBA14916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8680" y="160200"/>
            <a:ext cx="7551720" cy="6667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8680" y="933120"/>
            <a:ext cx="243144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72160" y="933120"/>
            <a:ext cx="243144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25640" y="933120"/>
            <a:ext cx="243144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8680" y="2311200"/>
            <a:ext cx="243144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72160" y="2311200"/>
            <a:ext cx="243144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25640" y="2311200"/>
            <a:ext cx="243144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ADF-3CBD-428E-9413-23297D88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160200"/>
            <a:ext cx="7551720" cy="6667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8680" y="933120"/>
            <a:ext cx="7551720" cy="26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903-B049-437F-A015-A903C46D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160200"/>
            <a:ext cx="7551720" cy="6667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8680" y="933120"/>
            <a:ext cx="7551720" cy="263844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2E1-AFF8-4696-843B-23D8FFC5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160200"/>
            <a:ext cx="7551720" cy="6667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933120"/>
            <a:ext cx="3684960" cy="263844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8320" y="933120"/>
            <a:ext cx="3684960" cy="263844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4B6-75C9-47C2-8E1B-8244B76D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160200"/>
            <a:ext cx="7551720" cy="6667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B790-51B1-47CF-8F43-F0DBE982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8680" y="160200"/>
            <a:ext cx="755172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CF6-AEA7-49E9-9213-30E1223F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160200"/>
            <a:ext cx="7551720" cy="6667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8680" y="933120"/>
            <a:ext cx="368496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8320" y="933120"/>
            <a:ext cx="3684960" cy="263844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8680" y="2311200"/>
            <a:ext cx="368496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47B-47C8-44FC-A075-041DFF25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160200"/>
            <a:ext cx="7551720" cy="6667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933120"/>
            <a:ext cx="3684960" cy="263844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8320" y="933120"/>
            <a:ext cx="368496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8320" y="2311200"/>
            <a:ext cx="368496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2C0-C19B-4180-80D0-C8776FCE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160200"/>
            <a:ext cx="7551720" cy="6667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933120"/>
            <a:ext cx="368496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8320" y="933120"/>
            <a:ext cx="368496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8680" y="2311200"/>
            <a:ext cx="7551720" cy="125820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407-B52C-46EB-853D-1F3D487B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160200"/>
            <a:ext cx="7551720" cy="6667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933120"/>
            <a:ext cx="7551720" cy="263844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 fontScale="81000"/>
          </a:bodyPr>
          <a:p>
            <a:pPr marL="214560" indent="-2145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78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717480" indent="-1440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004040" indent="-1440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290600" indent="-144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290600" indent="-144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290600" indent="-144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9040" y="3639960"/>
            <a:ext cx="1959120" cy="2779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Autofit/>
          </a:bodyPr>
          <a:lstStyle>
            <a:lvl1pPr indent="0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66680" y="3639960"/>
            <a:ext cx="2655720" cy="2779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Autofit/>
          </a:bodyPr>
          <a:lstStyle>
            <a:lvl1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11640" y="3639960"/>
            <a:ext cx="1958760" cy="2779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Autofit/>
          </a:bodyPr>
          <a:lstStyle>
            <a:lvl1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fld id="{58B88525-6283-4483-B348-89891B347B5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080" y="20520"/>
            <a:ext cx="8351640" cy="3961080"/>
            <a:chOff x="19080" y="20520"/>
            <a:chExt cx="8351640" cy="3961080"/>
          </a:xfrm>
        </p:grpSpPr>
        <p:sp>
          <p:nvSpPr>
            <p:cNvPr id="42" name=""/>
            <p:cNvSpPr/>
            <p:nvPr/>
          </p:nvSpPr>
          <p:spPr>
            <a:xfrm>
              <a:off x="891360" y="1389240"/>
              <a:ext cx="2649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dcl i Integer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signal a,b,c,d,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signallist s1: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signallist s2: b,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360" y="9777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lock 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7080" y="957240"/>
              <a:ext cx="7667640" cy="2879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75080" y="1395360"/>
              <a:ext cx="215640" cy="216000"/>
            </a:xfrm>
            <a:prstGeom prst="rtTriangl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882360" y="1395360"/>
              <a:ext cx="259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882360" y="1395360"/>
              <a:ext cx="0" cy="115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82000" y="2548080"/>
              <a:ext cx="280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690720" y="1611360"/>
              <a:ext cx="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530360" y="2828880"/>
            <a:ext cx="1871640" cy="897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0360" y="2828880"/>
                      <a:ext cx="1871640" cy="89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1890000" y="31161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rozes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" name=""/>
            <p:cNvGraphicFramePr/>
            <p:nvPr/>
          </p:nvGraphicFramePr>
          <p:xfrm>
            <a:off x="5707080" y="2828880"/>
            <a:ext cx="1871640" cy="897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07080" y="2828880"/>
                      <a:ext cx="1871640" cy="89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"/>
            <p:cNvSpPr/>
            <p:nvPr/>
          </p:nvSpPr>
          <p:spPr>
            <a:xfrm>
              <a:off x="6066720" y="31161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rozes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368160" y="3260880"/>
              <a:ext cx="237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43680" y="3333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[s1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77000" y="3333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[s2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6360" y="414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lock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080" y="20520"/>
              <a:ext cx="8351640" cy="3961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5080" y="957240"/>
              <a:ext cx="0" cy="190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15080" y="2052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11720" y="163440"/>
              <a:ext cx="27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signal t1,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signallist t: t1,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5800" y="169920"/>
              <a:ext cx="215640" cy="216000"/>
            </a:xfrm>
            <a:prstGeom prst="rtTriangl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603080" y="169920"/>
              <a:ext cx="259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1603080" y="16992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602720" y="812880"/>
              <a:ext cx="280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411440" y="385920"/>
              <a:ext cx="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44160" y="102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[t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44160" y="93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[t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0:01:43Z</dcterms:created>
  <dc:creator>x</dc:creator>
  <dc:description/>
  <dc:language>en-US</dc:language>
  <cp:lastModifiedBy>x</cp:lastModifiedBy>
  <dcterms:modified xsi:type="dcterms:W3CDTF">2007-03-10T10:11:26Z</dcterms:modified>
  <cp:revision>2</cp:revision>
  <dc:subject/>
  <dc:title>Folie 1</dc:title>
</cp:coreProperties>
</file>