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40650" cy="2735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A13-3259-404F-9B07-913AC509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6968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920" y="1582560"/>
            <a:ext cx="6968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189-CEC5-41EA-A75D-C42E59E4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676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920" y="158256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56760" y="158256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6A6-98F9-470E-A05B-C963ECCD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2480" y="63972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8680" y="63972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920" y="158256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2480" y="158256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98680" y="1582560"/>
            <a:ext cx="2243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BE-8423-48C4-B1BB-ACA751E7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920" y="639720"/>
            <a:ext cx="696888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69E-058B-4F7D-BDF2-0A4D0A38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696888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FD1-F3F9-4AF1-936A-7F93ACA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340056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56760" y="639720"/>
            <a:ext cx="340056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C87-FAA5-4E31-BC41-8975782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A0D-6130-42E0-A34E-B7F6343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920" y="109440"/>
            <a:ext cx="6968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F0B-FC6B-45C0-B759-80BC697E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56760" y="639720"/>
            <a:ext cx="340056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920" y="158256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0EE-B0B2-48DA-8D52-0DEB2EA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340056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5676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6760" y="158256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49B-0233-495E-B561-6E5EC4C4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920" y="86400"/>
            <a:ext cx="6968880" cy="50328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92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56760" y="639720"/>
            <a:ext cx="340056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920" y="1582560"/>
            <a:ext cx="6968880" cy="8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B45-A5ED-4F41-A3C6-534DF6E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09440"/>
            <a:ext cx="6968880" cy="45720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639720"/>
            <a:ext cx="6968880" cy="18050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rmAutofit fontScale="63000"/>
          </a:bodyPr>
          <a:p>
            <a:pPr marL="144000" indent="-144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2840" indent="-1198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81680" indent="-96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73920" indent="-95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66880" indent="-96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66880" indent="-96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66880" indent="-96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5920" y="2491920"/>
            <a:ext cx="1807920" cy="1904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6360" y="2491920"/>
            <a:ext cx="2448000" cy="1904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46880" y="2491920"/>
            <a:ext cx="1807920" cy="19044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fld id="{97E4530D-EFF7-4F46-AC06-B3D5F675C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000" y="44280"/>
            <a:ext cx="7667640" cy="2664000"/>
            <a:chOff x="54000" y="44280"/>
            <a:chExt cx="7667640" cy="2664000"/>
          </a:xfrm>
        </p:grpSpPr>
        <p:sp>
          <p:nvSpPr>
            <p:cNvPr id="42" name=""/>
            <p:cNvSpPr/>
            <p:nvPr/>
          </p:nvSpPr>
          <p:spPr>
            <a:xfrm>
              <a:off x="456120" y="476280"/>
              <a:ext cx="36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 i1,i2,term,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list toE: i1,i2,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ignallist toS: 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0920" y="648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block B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000" y="44280"/>
              <a:ext cx="7667640" cy="266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34000" y="482400"/>
              <a:ext cx="216000" cy="2160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49280" y="474480"/>
              <a:ext cx="3384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49280" y="482400"/>
              <a:ext cx="0" cy="9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9280" y="1411200"/>
              <a:ext cx="36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050000" y="698400"/>
              <a:ext cx="0" cy="71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97280" y="1627200"/>
            <a:ext cx="1871640" cy="89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7280" y="1627200"/>
                      <a:ext cx="1871640" cy="89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606680" y="1914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e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5274000" y="1627200"/>
            <a:ext cx="1871640" cy="896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74000" y="1627200"/>
                      <a:ext cx="1871640" cy="89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5488200" y="19144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Empfaen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935080" y="2058840"/>
              <a:ext cx="23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10240" y="2131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[to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43560" y="2131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[toE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1840" y="1699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S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01:43Z</dcterms:created>
  <dc:creator>x</dc:creator>
  <dc:description/>
  <dc:language>en-US</dc:language>
  <cp:lastModifiedBy>x</cp:lastModifiedBy>
  <dcterms:modified xsi:type="dcterms:W3CDTF">2007-03-10T11:15:50Z</dcterms:modified>
  <cp:revision>6</cp:revision>
  <dc:subject/>
  <dc:title>Folie 1</dc:title>
</cp:coreProperties>
</file>