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064500" cy="24844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C966-9BC2-4B6D-B3FD-2C5ADF8EA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2840" y="55800"/>
            <a:ext cx="7257960" cy="5025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2840" y="579240"/>
            <a:ext cx="725796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2840" y="1435680"/>
            <a:ext cx="725796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2DB7-24E5-4085-9B6F-6A044084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2840" y="55800"/>
            <a:ext cx="7257960" cy="5025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2840" y="579240"/>
            <a:ext cx="354168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22000" y="579240"/>
            <a:ext cx="354168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2840" y="1435680"/>
            <a:ext cx="354168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22000" y="1435680"/>
            <a:ext cx="354168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B769-8A79-4E16-8E5F-8A6E9A258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2840" y="55800"/>
            <a:ext cx="7257960" cy="5025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2840" y="579240"/>
            <a:ext cx="233676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56960" y="579240"/>
            <a:ext cx="233676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10720" y="579240"/>
            <a:ext cx="233676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2840" y="1435680"/>
            <a:ext cx="233676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56960" y="1435680"/>
            <a:ext cx="233676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10720" y="1435680"/>
            <a:ext cx="233676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0702-664B-4347-B15F-3FD644C6B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2840" y="55800"/>
            <a:ext cx="7257960" cy="5025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2840" y="579240"/>
            <a:ext cx="7257960" cy="16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FC7B-76E9-4D7F-BBF2-7FCAA67E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2840" y="55800"/>
            <a:ext cx="7257960" cy="5025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2840" y="579240"/>
            <a:ext cx="7257960" cy="163980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2FEF-495A-4AE2-9480-DDC24C69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2840" y="55800"/>
            <a:ext cx="7257960" cy="5025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2840" y="579240"/>
            <a:ext cx="3541680" cy="163980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22000" y="579240"/>
            <a:ext cx="3541680" cy="163980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6FFF-7EB5-41E0-8821-36D82FF6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2840" y="55800"/>
            <a:ext cx="7257960" cy="5025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5340-3660-4285-91B8-E2BAC42C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2840" y="99720"/>
            <a:ext cx="72579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0FB0-BAE0-4B7C-9B18-A4065B8C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2840" y="55800"/>
            <a:ext cx="7257960" cy="5025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2840" y="579240"/>
            <a:ext cx="354168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22000" y="579240"/>
            <a:ext cx="3541680" cy="163980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2840" y="1435680"/>
            <a:ext cx="354168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5F50-71C3-4A40-9916-69E7DDFA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2840" y="55800"/>
            <a:ext cx="7257960" cy="5025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2840" y="579240"/>
            <a:ext cx="3541680" cy="163980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22000" y="579240"/>
            <a:ext cx="354168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22000" y="1435680"/>
            <a:ext cx="354168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2B6F-552F-4CCF-8188-06A22D3C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2840" y="55800"/>
            <a:ext cx="7257960" cy="5025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2840" y="579240"/>
            <a:ext cx="354168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22000" y="579240"/>
            <a:ext cx="354168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2840" y="1435680"/>
            <a:ext cx="725796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A24F-429D-4F27-9644-E1244614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2840" y="99720"/>
            <a:ext cx="7257960" cy="4143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2840" y="579240"/>
            <a:ext cx="7257960" cy="163980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 fontScale="59000"/>
          </a:bodyPr>
          <a:p>
            <a:pPr marL="132840" indent="-1328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289440" indent="-1112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444960" indent="-889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621720" indent="-87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799560" indent="-889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799560" indent="-889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799560" indent="-889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03200" y="2261880"/>
            <a:ext cx="1881360" cy="1731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Autofit/>
          </a:bodyPr>
          <a:lstStyle>
            <a:lvl1pPr indent="0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55440" y="2261880"/>
            <a:ext cx="2552760" cy="1731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Autofit/>
          </a:bodyPr>
          <a:lstStyle>
            <a:lvl1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79800" y="2261880"/>
            <a:ext cx="1881000" cy="1731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Autofit/>
          </a:bodyPr>
          <a:lstStyle>
            <a:lvl1pPr indent="0" algn="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fld id="{EA16371C-50DE-4FF2-BF29-8CA9AFFB8BC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43080" y="17640"/>
            <a:ext cx="4752720" cy="2017440"/>
            <a:chOff x="343080" y="17640"/>
            <a:chExt cx="4752720" cy="2017440"/>
          </a:xfrm>
        </p:grpSpPr>
        <p:sp>
          <p:nvSpPr>
            <p:cNvPr id="42" name=""/>
            <p:cNvSpPr/>
            <p:nvPr/>
          </p:nvSpPr>
          <p:spPr>
            <a:xfrm>
              <a:off x="2575080" y="17640"/>
              <a:ext cx="36036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799080" y="522360"/>
              <a:ext cx="36036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351080" y="522360"/>
              <a:ext cx="36036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" name=""/>
            <p:cNvCxnSpPr>
              <a:stCxn id="42" idx="3"/>
              <a:endCxn id="44" idx="7"/>
            </p:cNvCxnSpPr>
            <p:nvPr/>
          </p:nvCxnSpPr>
          <p:spPr>
            <a:xfrm flipH="1">
              <a:off x="1658880" y="325440"/>
              <a:ext cx="969120" cy="24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46" name=""/>
            <p:cNvCxnSpPr>
              <a:stCxn id="42" idx="5"/>
              <a:endCxn id="43" idx="1"/>
            </p:cNvCxnSpPr>
            <p:nvPr/>
          </p:nvCxnSpPr>
          <p:spPr>
            <a:xfrm>
              <a:off x="2882880" y="325440"/>
              <a:ext cx="969120" cy="24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47" name=""/>
            <p:cNvSpPr/>
            <p:nvPr/>
          </p:nvSpPr>
          <p:spPr>
            <a:xfrm>
              <a:off x="701640" y="1170000"/>
              <a:ext cx="36036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062000" y="16747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3080" y="16747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7" idx="3"/>
              <a:endCxn id="49" idx="7"/>
            </p:cNvCxnSpPr>
            <p:nvPr/>
          </p:nvCxnSpPr>
          <p:spPr>
            <a:xfrm flipH="1">
              <a:off x="650880" y="1477800"/>
              <a:ext cx="103680" cy="24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51" name=""/>
            <p:cNvCxnSpPr>
              <a:stCxn id="47" idx="5"/>
              <a:endCxn id="48" idx="1"/>
            </p:cNvCxnSpPr>
            <p:nvPr/>
          </p:nvCxnSpPr>
          <p:spPr>
            <a:xfrm>
              <a:off x="1009440" y="1477800"/>
              <a:ext cx="105480" cy="24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52" name=""/>
            <p:cNvSpPr/>
            <p:nvPr/>
          </p:nvSpPr>
          <p:spPr>
            <a:xfrm>
              <a:off x="1927440" y="1170000"/>
              <a:ext cx="360360" cy="3603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7800" y="16747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68520" y="16747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" name=""/>
            <p:cNvCxnSpPr>
              <a:stCxn id="52" idx="3"/>
              <a:endCxn id="54" idx="7"/>
            </p:cNvCxnSpPr>
            <p:nvPr/>
          </p:nvCxnSpPr>
          <p:spPr>
            <a:xfrm flipH="1">
              <a:off x="1876320" y="1477800"/>
              <a:ext cx="104040" cy="24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56" name=""/>
            <p:cNvCxnSpPr>
              <a:stCxn id="52" idx="5"/>
              <a:endCxn id="53" idx="1"/>
            </p:cNvCxnSpPr>
            <p:nvPr/>
          </p:nvCxnSpPr>
          <p:spPr>
            <a:xfrm>
              <a:off x="2235240" y="1477800"/>
              <a:ext cx="105480" cy="24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57" name=""/>
            <p:cNvSpPr/>
            <p:nvPr/>
          </p:nvSpPr>
          <p:spPr>
            <a:xfrm>
              <a:off x="3151440" y="1170000"/>
              <a:ext cx="36036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11800" y="16747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792520" y="16747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" name=""/>
            <p:cNvCxnSpPr>
              <a:stCxn id="57" idx="3"/>
              <a:endCxn id="59" idx="7"/>
            </p:cNvCxnSpPr>
            <p:nvPr/>
          </p:nvCxnSpPr>
          <p:spPr>
            <a:xfrm flipH="1">
              <a:off x="3100320" y="1477800"/>
              <a:ext cx="104040" cy="24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61" name=""/>
            <p:cNvCxnSpPr>
              <a:stCxn id="57" idx="5"/>
              <a:endCxn id="58" idx="1"/>
            </p:cNvCxnSpPr>
            <p:nvPr/>
          </p:nvCxnSpPr>
          <p:spPr>
            <a:xfrm>
              <a:off x="3459240" y="1477800"/>
              <a:ext cx="105480" cy="24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62" name=""/>
            <p:cNvSpPr/>
            <p:nvPr/>
          </p:nvSpPr>
          <p:spPr>
            <a:xfrm>
              <a:off x="4375080" y="1170000"/>
              <a:ext cx="36036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35440" y="16747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16520" y="16747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" name=""/>
            <p:cNvCxnSpPr>
              <a:stCxn id="62" idx="3"/>
              <a:endCxn id="64" idx="7"/>
            </p:cNvCxnSpPr>
            <p:nvPr/>
          </p:nvCxnSpPr>
          <p:spPr>
            <a:xfrm flipH="1">
              <a:off x="4324320" y="1477800"/>
              <a:ext cx="103680" cy="24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66" name=""/>
            <p:cNvCxnSpPr>
              <a:stCxn id="62" idx="5"/>
              <a:endCxn id="63" idx="1"/>
            </p:cNvCxnSpPr>
            <p:nvPr/>
          </p:nvCxnSpPr>
          <p:spPr>
            <a:xfrm>
              <a:off x="4682880" y="1477800"/>
              <a:ext cx="105480" cy="24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67" name=""/>
            <p:cNvCxnSpPr>
              <a:stCxn id="44" idx="3"/>
              <a:endCxn id="47" idx="7"/>
            </p:cNvCxnSpPr>
            <p:nvPr/>
          </p:nvCxnSpPr>
          <p:spPr>
            <a:xfrm flipH="1">
              <a:off x="1009440" y="830160"/>
              <a:ext cx="394560" cy="392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68" name=""/>
            <p:cNvCxnSpPr>
              <a:stCxn id="44" idx="5"/>
              <a:endCxn id="52" idx="1"/>
            </p:cNvCxnSpPr>
            <p:nvPr/>
          </p:nvCxnSpPr>
          <p:spPr>
            <a:xfrm>
              <a:off x="1658880" y="830160"/>
              <a:ext cx="321480" cy="392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69" name=""/>
            <p:cNvCxnSpPr>
              <a:stCxn id="43" idx="5"/>
              <a:endCxn id="62" idx="1"/>
            </p:cNvCxnSpPr>
            <p:nvPr/>
          </p:nvCxnSpPr>
          <p:spPr>
            <a:xfrm>
              <a:off x="4106880" y="830160"/>
              <a:ext cx="321120" cy="392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70" name=""/>
            <p:cNvCxnSpPr>
              <a:stCxn id="43" idx="3"/>
              <a:endCxn id="57" idx="7"/>
            </p:cNvCxnSpPr>
            <p:nvPr/>
          </p:nvCxnSpPr>
          <p:spPr>
            <a:xfrm flipH="1">
              <a:off x="3459240" y="830160"/>
              <a:ext cx="392760" cy="392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</p:grpSp>
      <p:sp>
        <p:nvSpPr>
          <p:cNvPr id="71" name=""/>
          <p:cNvSpPr/>
          <p:nvPr/>
        </p:nvSpPr>
        <p:spPr>
          <a:xfrm>
            <a:off x="6519960" y="523800"/>
            <a:ext cx="112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&lt;&gt;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4880" y="2046240"/>
            <a:ext cx="3070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13120" y="2046240"/>
            <a:ext cx="3070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7840" y="2046240"/>
            <a:ext cx="3070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37120" y="2046240"/>
            <a:ext cx="3070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41840" y="2046240"/>
            <a:ext cx="3070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61120" y="2046240"/>
            <a:ext cx="3070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65840" y="2046240"/>
            <a:ext cx="3070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86560" y="2046240"/>
            <a:ext cx="3070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11:47:12Z</dcterms:created>
  <dc:creator>x</dc:creator>
  <dc:description/>
  <dc:language>en-US</dc:language>
  <cp:lastModifiedBy>x</cp:lastModifiedBy>
  <dcterms:modified xsi:type="dcterms:W3CDTF">2007-01-07T11:53:33Z</dcterms:modified>
  <cp:revision>4</cp:revision>
  <dc:subject/>
  <dc:title>Folie 1</dc:title>
</cp:coreProperties>
</file>