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76600" cy="161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F97-F325-4AEE-8BCB-759CD835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080" y="65160"/>
            <a:ext cx="2949480" cy="27144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2949480" cy="5101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3080" y="937080"/>
            <a:ext cx="2949480" cy="5101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B8B-3884-4242-8FE9-55FA9246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3080" y="65160"/>
            <a:ext cx="2949480" cy="27144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1439280" cy="5101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4720" y="378000"/>
            <a:ext cx="1439280" cy="5101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3080" y="937080"/>
            <a:ext cx="1439280" cy="5101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74720" y="937080"/>
            <a:ext cx="1439280" cy="5101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990-14C5-4E8B-A2C1-5789C8ED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3080" y="65160"/>
            <a:ext cx="2949480" cy="27144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949320" cy="5101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0280" y="378000"/>
            <a:ext cx="949320" cy="5101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57480" y="378000"/>
            <a:ext cx="949320" cy="5101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3080" y="937080"/>
            <a:ext cx="949320" cy="5101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0280" y="937080"/>
            <a:ext cx="949320" cy="5101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57480" y="937080"/>
            <a:ext cx="949320" cy="5101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D72-858C-4AD8-81F7-3B514B17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3080" y="65160"/>
            <a:ext cx="2949480" cy="27144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3080" y="378000"/>
            <a:ext cx="2949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F39-2E2A-4DD6-9CFC-57987B75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3080" y="65160"/>
            <a:ext cx="2949480" cy="27144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2949480" cy="10699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57B-0BD7-479A-917C-F4D4A41B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080" y="65160"/>
            <a:ext cx="2949480" cy="27144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1439280" cy="10699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74720" y="378000"/>
            <a:ext cx="1439280" cy="10699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61A-905D-4B92-ABC1-30DEEBA1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3080" y="65160"/>
            <a:ext cx="2949480" cy="27144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320-894E-48B5-9888-4206D777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3080" y="65160"/>
            <a:ext cx="2949480" cy="12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BBD-25C9-4F2E-BF96-CE25A117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3080" y="65160"/>
            <a:ext cx="2949480" cy="27144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1439280" cy="5101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74720" y="378000"/>
            <a:ext cx="1439280" cy="10699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3080" y="937080"/>
            <a:ext cx="1439280" cy="5101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67C-40E1-41A2-9DE5-7994DAE5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080" y="65160"/>
            <a:ext cx="2949480" cy="27144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1439280" cy="10699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74720" y="378000"/>
            <a:ext cx="1439280" cy="5101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4720" y="937080"/>
            <a:ext cx="1439280" cy="5101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721-3FC4-4596-B7AA-37684E60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080" y="65160"/>
            <a:ext cx="2949480" cy="27144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1439280" cy="5101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74720" y="378000"/>
            <a:ext cx="1439280" cy="5101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3080" y="937080"/>
            <a:ext cx="2949480" cy="5101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AF8-2346-45A8-983F-E1ED93C6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3080" y="65160"/>
            <a:ext cx="2949480" cy="27144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ctr">
            <a:noAutofit/>
          </a:bodyPr>
          <a:p>
            <a:pPr indent="0" algn="ctr">
              <a:buNone/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3080" y="378000"/>
            <a:ext cx="2949480" cy="106992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rmAutofit fontScale="83000"/>
          </a:bodyPr>
          <a:p>
            <a:pPr marL="86760" indent="-867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88280" indent="-712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289800" indent="-56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07160" indent="-565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523080" indent="-5796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523080" indent="-5796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523080" indent="-5796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3080" y="1476000"/>
            <a:ext cx="763560" cy="11268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Autofit/>
          </a:bodyPr>
          <a:lstStyle>
            <a:lvl1pPr indent="0">
              <a:buNone/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320" y="1476000"/>
            <a:ext cx="1035000" cy="11268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Autofit/>
          </a:bodyPr>
          <a:lstStyle>
            <a:lvl1pPr indent="0" algn="ctr">
              <a:buNone/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49000" y="1476000"/>
            <a:ext cx="763560" cy="112680"/>
          </a:xfrm>
          <a:prstGeom prst="rect">
            <a:avLst/>
          </a:prstGeom>
          <a:noFill/>
          <a:ln w="0">
            <a:noFill/>
          </a:ln>
        </p:spPr>
        <p:txBody>
          <a:bodyPr lIns="28080" rIns="28080" tIns="14040" bIns="14040" anchor="t">
            <a:noAutofit/>
          </a:bodyPr>
          <a:lstStyle>
            <a:lvl1pPr indent="0" algn="r">
              <a:buNone/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81160"/>
                <a:tab algn="l" pos="561960"/>
                <a:tab algn="l" pos="843120"/>
                <a:tab algn="l" pos="1123920"/>
                <a:tab algn="l" pos="1405080"/>
                <a:tab algn="l" pos="1685880"/>
                <a:tab algn="l" pos="1967040"/>
                <a:tab algn="l" pos="2247840"/>
                <a:tab algn="l" pos="2529000"/>
                <a:tab algn="l" pos="2809800"/>
                <a:tab algn="l" pos="3090960"/>
                <a:tab algn="l" pos="3371760"/>
                <a:tab algn="l" pos="3652920"/>
                <a:tab algn="l" pos="3933720"/>
                <a:tab algn="l" pos="4214880"/>
                <a:tab algn="l" pos="4495680"/>
                <a:tab algn="l" pos="4776840"/>
                <a:tab algn="l" pos="5057640"/>
                <a:tab algn="l" pos="5338800"/>
                <a:tab algn="l" pos="5619600"/>
              </a:tabLst>
            </a:pPr>
            <a:fld id="{D6DEAFF4-1DD0-40BD-96E0-99C2AB8623C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17640"/>
            <a:ext cx="3295440" cy="1585800"/>
            <a:chOff x="0" y="-17640"/>
            <a:chExt cx="3295440" cy="1585800"/>
          </a:xfrm>
        </p:grpSpPr>
        <p:grpSp>
          <p:nvGrpSpPr>
            <p:cNvPr id="42" name=""/>
            <p:cNvGrpSpPr/>
            <p:nvPr/>
          </p:nvGrpSpPr>
          <p:grpSpPr>
            <a:xfrm>
              <a:off x="0" y="-17640"/>
              <a:ext cx="2312640" cy="1585800"/>
              <a:chOff x="0" y="-17640"/>
              <a:chExt cx="2312640" cy="15858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-17640"/>
                <a:ext cx="108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963080" y="351000"/>
                <a:ext cx="16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j:=i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963800" y="458640"/>
                <a:ext cx="224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:=i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903320" y="985680"/>
                <a:ext cx="250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j:=j+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70200" y="812880"/>
                <a:ext cx="197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j:=1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970200" y="920880"/>
                <a:ext cx="197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:=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6560" y="409680"/>
                <a:ext cx="279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:=i+2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37280" y="517680"/>
                <a:ext cx="197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:=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1680" y="409680"/>
                <a:ext cx="168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:=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79880" y="1330200"/>
                <a:ext cx="168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&lt;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350720" y="709560"/>
                <a:ext cx="17460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50720" y="709560"/>
                <a:ext cx="174600" cy="173160"/>
              </a:xfrm>
              <a:prstGeom prst="ellipse">
                <a:avLst/>
              </a:prstGeom>
              <a:noFill/>
              <a:ln cap="sq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935360" y="133200"/>
                <a:ext cx="17460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35360" y="133200"/>
                <a:ext cx="174600" cy="173160"/>
              </a:xfrm>
              <a:prstGeom prst="ellipse">
                <a:avLst/>
              </a:prstGeom>
              <a:noFill/>
              <a:ln cap="sq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69280" y="1042920"/>
                <a:ext cx="168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:=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200" y="709560"/>
                <a:ext cx="17460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200" y="709560"/>
                <a:ext cx="174600" cy="173160"/>
              </a:xfrm>
              <a:prstGeom prst="ellipse">
                <a:avLst/>
              </a:prstGeom>
              <a:noFill/>
              <a:ln cap="sq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5640" y="738360"/>
                <a:ext cx="117720" cy="115560"/>
              </a:xfrm>
              <a:prstGeom prst="ellipse">
                <a:avLst/>
              </a:prstGeom>
              <a:noFill/>
              <a:ln cap="sq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6440" y="1228680"/>
                <a:ext cx="17460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440" y="1228680"/>
                <a:ext cx="174600" cy="173160"/>
              </a:xfrm>
              <a:prstGeom prst="ellipse">
                <a:avLst/>
              </a:prstGeom>
              <a:noFill/>
              <a:ln cap="sq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08120" y="133200"/>
                <a:ext cx="17460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08120" y="133200"/>
                <a:ext cx="174600" cy="173160"/>
              </a:xfrm>
              <a:prstGeom prst="ellipse">
                <a:avLst/>
              </a:prstGeom>
              <a:noFill/>
              <a:ln cap="sq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935360" y="1228680"/>
                <a:ext cx="174600" cy="17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935360" y="1228680"/>
                <a:ext cx="174600" cy="173160"/>
              </a:xfrm>
              <a:prstGeom prst="ellipse">
                <a:avLst/>
              </a:prstGeom>
              <a:noFill/>
              <a:ln cap="sq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81320" y="5824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64880" y="64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98880" y="12733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2320" y="5968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97040" y="11001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61600" y="633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321200" y="63360"/>
                <a:ext cx="168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&gt;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555560" y="754200"/>
                <a:ext cx="17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&lt;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38360" y="144612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&lt;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38360" y="648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&lt;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139840" y="120600"/>
                <a:ext cx="17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&lt;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788120" y="582480"/>
                <a:ext cx="168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&gt;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2320" y="920880"/>
                <a:ext cx="17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&lt;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66520" y="282600"/>
                <a:ext cx="501840" cy="45072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02840" y="673200"/>
                <a:ext cx="65520" cy="60120"/>
              </a:xfrm>
              <a:custGeom>
                <a:avLst/>
                <a:gdLst/>
                <a:ahLst/>
                <a:rect l="l" t="t" r="r" b="b"/>
                <a:pathLst>
                  <a:path w="178" h="169">
                    <a:moveTo>
                      <a:pt x="0" y="77"/>
                    </a:moveTo>
                    <a:lnTo>
                      <a:pt x="178" y="169"/>
                    </a:lnTo>
                    <a:lnTo>
                      <a:pt x="70" y="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1504800" y="285840"/>
                <a:ext cx="450720" cy="4442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91800" y="28584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174" h="174">
                    <a:moveTo>
                      <a:pt x="74" y="174"/>
                    </a:moveTo>
                    <a:lnTo>
                      <a:pt x="174" y="0"/>
                    </a:lnTo>
                    <a:lnTo>
                      <a:pt x="0" y="10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167400" y="279360"/>
                <a:ext cx="555480" cy="4572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55920" y="279360"/>
                <a:ext cx="66960" cy="58680"/>
              </a:xfrm>
              <a:custGeom>
                <a:avLst/>
                <a:gdLst/>
                <a:ahLst/>
                <a:rect l="l" t="t" r="r" b="b"/>
                <a:pathLst>
                  <a:path w="182" h="163">
                    <a:moveTo>
                      <a:pt x="66" y="163"/>
                    </a:moveTo>
                    <a:lnTo>
                      <a:pt x="182" y="0"/>
                    </a:lnTo>
                    <a:lnTo>
                      <a:pt x="0" y="8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948240" y="1314360"/>
                <a:ext cx="978840" cy="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948600" y="1295280"/>
                <a:ext cx="69840" cy="38160"/>
              </a:xfrm>
              <a:custGeom>
                <a:avLst/>
                <a:gdLst/>
                <a:ahLst/>
                <a:rect l="l" t="t" r="r" b="b"/>
                <a:pathLst>
                  <a:path w="193" h="103">
                    <a:moveTo>
                      <a:pt x="193" y="0"/>
                    </a:moveTo>
                    <a:lnTo>
                      <a:pt x="0" y="52"/>
                    </a:lnTo>
                    <a:lnTo>
                      <a:pt x="193" y="103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924840" y="858600"/>
                <a:ext cx="442080" cy="3934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302840" y="858960"/>
                <a:ext cx="64080" cy="60120"/>
              </a:xfrm>
              <a:custGeom>
                <a:avLst/>
                <a:gdLst/>
                <a:ahLst/>
                <a:rect l="l" t="t" r="r" b="b"/>
                <a:pathLst>
                  <a:path w="178" h="168">
                    <a:moveTo>
                      <a:pt x="69" y="168"/>
                    </a:moveTo>
                    <a:lnTo>
                      <a:pt x="178" y="0"/>
                    </a:lnTo>
                    <a:lnTo>
                      <a:pt x="0" y="91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89920" y="220680"/>
                <a:ext cx="1037160" cy="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0280" y="201600"/>
                <a:ext cx="69840" cy="36360"/>
              </a:xfrm>
              <a:custGeom>
                <a:avLst/>
                <a:gdLst/>
                <a:ahLst/>
                <a:rect l="l" t="t" r="r" b="b"/>
                <a:pathLst>
                  <a:path w="193" h="103">
                    <a:moveTo>
                      <a:pt x="193" y="0"/>
                    </a:moveTo>
                    <a:lnTo>
                      <a:pt x="0" y="52"/>
                    </a:lnTo>
                    <a:lnTo>
                      <a:pt x="193" y="103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3160" y="849240"/>
                <a:ext cx="601920" cy="41292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6680" y="1206360"/>
                <a:ext cx="68760" cy="55800"/>
              </a:xfrm>
              <a:custGeom>
                <a:avLst/>
                <a:gdLst/>
                <a:ahLst/>
                <a:rect l="l" t="t" r="r" b="b"/>
                <a:pathLst>
                  <a:path w="189" h="153">
                    <a:moveTo>
                      <a:pt x="0" y="85"/>
                    </a:moveTo>
                    <a:lnTo>
                      <a:pt x="189" y="153"/>
                    </a:lnTo>
                    <a:lnTo>
                      <a:pt x="59" y="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509120" y="858960"/>
                <a:ext cx="442080" cy="3934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887120" y="1192320"/>
                <a:ext cx="64080" cy="60120"/>
              </a:xfrm>
              <a:custGeom>
                <a:avLst/>
                <a:gdLst/>
                <a:ahLst/>
                <a:rect l="l" t="t" r="r" b="b"/>
                <a:pathLst>
                  <a:path w="178" h="168">
                    <a:moveTo>
                      <a:pt x="0" y="77"/>
                    </a:moveTo>
                    <a:lnTo>
                      <a:pt x="178" y="168"/>
                    </a:lnTo>
                    <a:lnTo>
                      <a:pt x="69" y="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2566080" y="0"/>
              <a:ext cx="7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316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Letter Gothic"/>
                </a:rPr>
                <a:t>int i:=0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316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Letter Gothic"/>
                </a:rPr>
                <a:t>int j:=0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316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Letter Gothic"/>
                </a:rPr>
                <a:t>clock 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6:54:48Z</dcterms:created>
  <dc:creator>x</dc:creator>
  <dc:description/>
  <dc:language>en-US</dc:language>
  <cp:lastModifiedBy>x</cp:lastModifiedBy>
  <dcterms:modified xsi:type="dcterms:W3CDTF">2009-06-27T17:00:49Z</dcterms:modified>
  <cp:revision>3</cp:revision>
  <dc:subject/>
  <dc:title>Folie 1</dc:title>
</cp:coreProperties>
</file>