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68425" cy="971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FF8-8A52-40BD-AF2A-D8B68F5D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" y="39600"/>
            <a:ext cx="1231920" cy="16200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ctr">
            <a:noAutofit/>
          </a:bodyPr>
          <a:p>
            <a:pPr indent="0" algn="ctr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" y="226800"/>
            <a:ext cx="123192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" y="561960"/>
            <a:ext cx="123192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15B-E4ED-407E-AC3F-8E5D3654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" y="39600"/>
            <a:ext cx="1231920" cy="16200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ctr">
            <a:noAutofit/>
          </a:bodyPr>
          <a:p>
            <a:pPr indent="0" algn="ctr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" y="226800"/>
            <a:ext cx="60084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840" y="226800"/>
            <a:ext cx="60084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" y="561960"/>
            <a:ext cx="60084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840" y="561960"/>
            <a:ext cx="60084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27A-ED1F-4C43-B233-68C00CCE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" y="39600"/>
            <a:ext cx="1231920" cy="16200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ctr">
            <a:noAutofit/>
          </a:bodyPr>
          <a:p>
            <a:pPr indent="0" algn="ctr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" y="226800"/>
            <a:ext cx="39636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920" y="226800"/>
            <a:ext cx="39636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1440" y="226800"/>
            <a:ext cx="39636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" y="561960"/>
            <a:ext cx="39636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920" y="561960"/>
            <a:ext cx="39636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1440" y="561960"/>
            <a:ext cx="39636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3018-A954-44D0-A82C-D004F810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" y="39600"/>
            <a:ext cx="1231920" cy="16200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ctr">
            <a:noAutofit/>
          </a:bodyPr>
          <a:p>
            <a:pPr indent="0" algn="ctr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" y="226800"/>
            <a:ext cx="123192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36E-B797-48BD-A728-E934C11E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" y="39600"/>
            <a:ext cx="1231920" cy="16200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ctr">
            <a:noAutofit/>
          </a:bodyPr>
          <a:p>
            <a:pPr indent="0" algn="ctr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" y="226800"/>
            <a:ext cx="1231920" cy="64116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81E-8C3A-4227-8C29-8E8D3DFD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" y="39600"/>
            <a:ext cx="1231920" cy="16200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ctr">
            <a:noAutofit/>
          </a:bodyPr>
          <a:p>
            <a:pPr indent="0" algn="ctr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" y="226800"/>
            <a:ext cx="600840" cy="64116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840" y="226800"/>
            <a:ext cx="600840" cy="64116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537-D64E-4C6B-B7A1-6F2FC65C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" y="39600"/>
            <a:ext cx="1231920" cy="16200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ctr">
            <a:noAutofit/>
          </a:bodyPr>
          <a:p>
            <a:pPr indent="0" algn="ctr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00B-AA15-4EB5-9A99-EA00DF4B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" y="39600"/>
            <a:ext cx="12319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C32-3C66-45C5-AE0C-92BA78BD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" y="39600"/>
            <a:ext cx="1231920" cy="16200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ctr">
            <a:noAutofit/>
          </a:bodyPr>
          <a:p>
            <a:pPr indent="0" algn="ctr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" y="226800"/>
            <a:ext cx="60084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840" y="226800"/>
            <a:ext cx="600840" cy="64116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" y="561960"/>
            <a:ext cx="60084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9B8-2173-4B73-8E49-255EA753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" y="39600"/>
            <a:ext cx="1231920" cy="16200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ctr">
            <a:noAutofit/>
          </a:bodyPr>
          <a:p>
            <a:pPr indent="0" algn="ctr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" y="226800"/>
            <a:ext cx="600840" cy="64116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840" y="226800"/>
            <a:ext cx="60084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840" y="561960"/>
            <a:ext cx="60084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B2A-17B8-49B1-BFBE-044B913D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" y="39600"/>
            <a:ext cx="1231920" cy="16200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ctr">
            <a:noAutofit/>
          </a:bodyPr>
          <a:p>
            <a:pPr indent="0" algn="ctr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" y="226800"/>
            <a:ext cx="60084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840" y="226800"/>
            <a:ext cx="60084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" y="561960"/>
            <a:ext cx="1231920" cy="30564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F59D-E3A5-4B61-9DA7-BFE6D93F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" y="39600"/>
            <a:ext cx="1231920" cy="16200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ctr">
            <a:noAutofit/>
          </a:bodyPr>
          <a:p>
            <a:pPr indent="0" algn="ctr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" y="226800"/>
            <a:ext cx="1231920" cy="64116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rmAutofit fontScale="99000"/>
          </a:bodyPr>
          <a:p>
            <a:pPr marL="50040" indent="-500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106920" indent="-4068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64880" indent="-3312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3" marL="230760" indent="-3276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4" marL="296640" indent="-3276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5" marL="296640" indent="-3276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6" marL="296640" indent="-3276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00" y="884160"/>
            <a:ext cx="318960" cy="6840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Autofit/>
          </a:bodyPr>
          <a:lstStyle>
            <a:lvl1pPr indent="0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  <a:defRPr b="0" lang="en-US" sz="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884160"/>
            <a:ext cx="431640" cy="6840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Autofit/>
          </a:bodyPr>
          <a:lstStyle>
            <a:lvl1pPr indent="0" algn="ctr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  <a:defRPr b="0" lang="en-US" sz="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640" y="884160"/>
            <a:ext cx="319320" cy="6840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6840" bIns="6840" anchor="t">
            <a:noAutofit/>
          </a:bodyPr>
          <a:lstStyle>
            <a:lvl1pPr indent="0" algn="r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  <a:defRPr b="0" lang="en-US" sz="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3200"/>
                <a:tab algn="l" pos="266760"/>
                <a:tab algn="l" pos="399960"/>
                <a:tab algn="l" pos="533520"/>
                <a:tab algn="l" pos="666720"/>
                <a:tab algn="l" pos="800280"/>
                <a:tab algn="l" pos="933480"/>
                <a:tab algn="l" pos="1066680"/>
                <a:tab algn="l" pos="1200240"/>
                <a:tab algn="l" pos="1333440"/>
                <a:tab algn="l" pos="1467000"/>
                <a:tab algn="l" pos="1600200"/>
                <a:tab algn="l" pos="1733400"/>
                <a:tab algn="l" pos="1866960"/>
                <a:tab algn="l" pos="2000160"/>
                <a:tab algn="l" pos="2133720"/>
                <a:tab algn="l" pos="2266920"/>
                <a:tab algn="l" pos="2400480"/>
                <a:tab algn="l" pos="2533680"/>
                <a:tab algn="l" pos="2666880"/>
              </a:tabLst>
            </a:pPr>
            <a:fld id="{1FB4E4C6-CB8D-49D9-87F6-5F7F5EFAB8D3}" type="slidenum">
              <a:rPr b="0" lang="en-US" sz="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54000"/>
            <a:ext cx="1311120" cy="890280"/>
            <a:chOff x="0" y="54000"/>
            <a:chExt cx="1311120" cy="890280"/>
          </a:xfrm>
        </p:grpSpPr>
        <p:sp>
          <p:nvSpPr>
            <p:cNvPr id="42" name=""/>
            <p:cNvSpPr/>
            <p:nvPr/>
          </p:nvSpPr>
          <p:spPr>
            <a:xfrm>
              <a:off x="0" y="5400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76040" y="407880"/>
              <a:ext cx="30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:=x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8480" y="407880"/>
              <a:ext cx="30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:=x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1480" y="652320"/>
              <a:ext cx="16992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1480" y="652320"/>
              <a:ext cx="16992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18960" y="652320"/>
              <a:ext cx="16992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652320"/>
              <a:ext cx="16992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4680" y="190440"/>
              <a:ext cx="17136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4680" y="190440"/>
              <a:ext cx="17136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4560" y="219240"/>
              <a:ext cx="111240" cy="11592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9240" y="538200"/>
              <a:ext cx="109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z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63280" y="536760"/>
              <a:ext cx="109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z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000" y="82224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%2==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9800" y="77760"/>
              <a:ext cx="109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z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1120" y="81756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%2=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2160" y="277920"/>
              <a:ext cx="588960" cy="460440"/>
            </a:xfrm>
            <a:custGeom>
              <a:avLst/>
              <a:gdLst/>
              <a:ahLst/>
              <a:rect l="l" t="t" r="r" b="b"/>
              <a:pathLst>
                <a:path w="1660" h="1280">
                  <a:moveTo>
                    <a:pt x="640" y="1280"/>
                  </a:moveTo>
                  <a:lnTo>
                    <a:pt x="1460" y="1280"/>
                  </a:lnTo>
                  <a:cubicBezTo>
                    <a:pt x="1594" y="1280"/>
                    <a:pt x="1660" y="1214"/>
                    <a:pt x="1660" y="1080"/>
                  </a:cubicBezTo>
                  <a:lnTo>
                    <a:pt x="1660" y="200"/>
                  </a:lnTo>
                  <a:cubicBezTo>
                    <a:pt x="1660" y="67"/>
                    <a:pt x="1594" y="0"/>
                    <a:pt x="1460" y="0"/>
                  </a:cubicBez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2160" y="258840"/>
              <a:ext cx="69840" cy="36360"/>
            </a:xfrm>
            <a:custGeom>
              <a:avLst/>
              <a:gdLst/>
              <a:ahLst/>
              <a:rect l="l" t="t" r="r" b="b"/>
              <a:pathLst>
                <a:path w="194" h="103">
                  <a:moveTo>
                    <a:pt x="194" y="0"/>
                  </a:moveTo>
                  <a:lnTo>
                    <a:pt x="0" y="51"/>
                  </a:lnTo>
                  <a:lnTo>
                    <a:pt x="194" y="10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80" y="277920"/>
              <a:ext cx="531720" cy="460440"/>
            </a:xfrm>
            <a:custGeom>
              <a:avLst/>
              <a:gdLst/>
              <a:ahLst/>
              <a:rect l="l" t="t" r="r" b="b"/>
              <a:pathLst>
                <a:path w="1500" h="1280">
                  <a:moveTo>
                    <a:pt x="860" y="1280"/>
                  </a:moveTo>
                  <a:lnTo>
                    <a:pt x="200" y="1280"/>
                  </a:lnTo>
                  <a:cubicBezTo>
                    <a:pt x="67" y="1280"/>
                    <a:pt x="0" y="1214"/>
                    <a:pt x="0" y="1080"/>
                  </a:cubicBezTo>
                  <a:lnTo>
                    <a:pt x="0" y="200"/>
                  </a:lnTo>
                  <a:cubicBezTo>
                    <a:pt x="0" y="67"/>
                    <a:pt x="67" y="0"/>
                    <a:pt x="200" y="0"/>
                  </a:cubicBezTo>
                  <a:lnTo>
                    <a:pt x="150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1600" y="258840"/>
              <a:ext cx="66600" cy="36360"/>
            </a:xfrm>
            <a:custGeom>
              <a:avLst/>
              <a:gdLst/>
              <a:ahLst/>
              <a:rect l="l" t="t" r="r" b="b"/>
              <a:pathLst>
                <a:path w="193" h="103">
                  <a:moveTo>
                    <a:pt x="0" y="103"/>
                  </a:moveTo>
                  <a:lnTo>
                    <a:pt x="193" y="51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45680" y="361800"/>
              <a:ext cx="142920" cy="29232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6040" y="584280"/>
              <a:ext cx="46080" cy="69840"/>
            </a:xfrm>
            <a:custGeom>
              <a:avLst/>
              <a:gdLst/>
              <a:ahLst/>
              <a:rect l="l" t="t" r="r" b="b"/>
              <a:pathLst>
                <a:path w="132" h="196">
                  <a:moveTo>
                    <a:pt x="40" y="0"/>
                  </a:moveTo>
                  <a:lnTo>
                    <a:pt x="0" y="196"/>
                  </a:lnTo>
                  <a:lnTo>
                    <a:pt x="132" y="4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1400" y="361800"/>
              <a:ext cx="144720" cy="29232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8240" y="584280"/>
              <a:ext cx="47880" cy="69840"/>
            </a:xfrm>
            <a:custGeom>
              <a:avLst/>
              <a:gdLst/>
              <a:ahLst/>
              <a:rect l="l" t="t" r="r" b="b"/>
              <a:pathLst>
                <a:path w="132" h="196">
                  <a:moveTo>
                    <a:pt x="0" y="46"/>
                  </a:moveTo>
                  <a:lnTo>
                    <a:pt x="132" y="196"/>
                  </a:lnTo>
                  <a:lnTo>
                    <a:pt x="92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5:45:53Z</dcterms:created>
  <dc:creator>x</dc:creator>
  <dc:description/>
  <dc:language>en-US</dc:language>
  <cp:lastModifiedBy>x</cp:lastModifiedBy>
  <dcterms:modified xsi:type="dcterms:W3CDTF">2009-06-27T15:46:35Z</dcterms:modified>
  <cp:revision>1</cp:revision>
  <dc:subject/>
  <dc:title>Folie 1</dc:title>
</cp:coreProperties>
</file>