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663825" cy="41036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D13-00CB-437B-B392-7917FAA7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2840" y="165240"/>
            <a:ext cx="2397240" cy="6825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2840" y="956880"/>
            <a:ext cx="23972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2840" y="2371680"/>
            <a:ext cx="23972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FC7-E2DA-4764-A3AC-2DC4E1F6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2840" y="165240"/>
            <a:ext cx="2397240" cy="6825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2840" y="956880"/>
            <a:ext cx="11696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20" y="956880"/>
            <a:ext cx="11696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2840" y="2371680"/>
            <a:ext cx="11696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20" y="2371680"/>
            <a:ext cx="11696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71C-08E7-4064-88DA-734A4374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2840" y="165240"/>
            <a:ext cx="2397240" cy="6825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2840" y="956880"/>
            <a:ext cx="7718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43560" y="956880"/>
            <a:ext cx="7718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54640" y="956880"/>
            <a:ext cx="7718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2840" y="2371680"/>
            <a:ext cx="7718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43560" y="2371680"/>
            <a:ext cx="7718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54640" y="2371680"/>
            <a:ext cx="7718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6EC-E0B6-4805-9E44-C397D64C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2840" y="165240"/>
            <a:ext cx="2397240" cy="6825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2840" y="956880"/>
            <a:ext cx="239724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E0D-82A1-4539-8E60-EA44A02D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840" y="165240"/>
            <a:ext cx="2397240" cy="6825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2840" y="956880"/>
            <a:ext cx="2397240" cy="27082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080-A1BE-48A2-8A18-CADD9B35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840" y="165240"/>
            <a:ext cx="2397240" cy="6825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840" y="956880"/>
            <a:ext cx="1169640" cy="27082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20" y="956880"/>
            <a:ext cx="1169640" cy="27082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E81-9ED3-4FCC-BD94-67F94630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2840" y="165240"/>
            <a:ext cx="2397240" cy="6825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B20-424C-4B1D-9145-B2664FAC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2840" y="165240"/>
            <a:ext cx="23972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76A-5187-46BA-B353-571E6FD8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840" y="165240"/>
            <a:ext cx="2397240" cy="6825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2840" y="956880"/>
            <a:ext cx="11696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20" y="956880"/>
            <a:ext cx="1169640" cy="27082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2840" y="2371680"/>
            <a:ext cx="11696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420-657E-4114-AA18-E2ACBD15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2840" y="165240"/>
            <a:ext cx="2397240" cy="6825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2840" y="956880"/>
            <a:ext cx="1169640" cy="27082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20" y="956880"/>
            <a:ext cx="11696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20" y="2371680"/>
            <a:ext cx="11696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D33-C243-463E-8C4E-B73CEF91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2840" y="165240"/>
            <a:ext cx="2397240" cy="6825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2840" y="956880"/>
            <a:ext cx="11696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20" y="956880"/>
            <a:ext cx="11696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2840" y="2371680"/>
            <a:ext cx="2397240" cy="12916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9D5-BF91-4667-8DCD-69C2A933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840" y="165240"/>
            <a:ext cx="2397240" cy="6825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840" y="956880"/>
            <a:ext cx="2397240" cy="27082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rmAutofit/>
          </a:bodyPr>
          <a:p>
            <a:pPr marL="144360" indent="-144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20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82760" indent="-95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76440" indent="-96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70120" indent="-968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70120" indent="-968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70120" indent="-968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2840" y="3736800"/>
            <a:ext cx="621000" cy="28584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Autofit/>
          </a:bodyPr>
          <a:lstStyle>
            <a:lvl1pPr indent="0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09720" y="3736800"/>
            <a:ext cx="844560" cy="28584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Autofit/>
          </a:bodyPr>
          <a:lstStyle>
            <a:lvl1pPr indent="0" algn="ct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09800" y="3736800"/>
            <a:ext cx="620640" cy="28584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440" bIns="19440" anchor="t">
            <a:noAutofit/>
          </a:bodyPr>
          <a:lstStyle>
            <a:lvl1pPr indent="0" algn="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fld id="{D6B04DAE-7F1F-4875-884F-1F489723A32B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-27000"/>
            <a:ext cx="2592360" cy="4033440"/>
            <a:chOff x="34920" y="-27000"/>
            <a:chExt cx="2592360" cy="4033440"/>
          </a:xfrm>
        </p:grpSpPr>
        <p:sp>
          <p:nvSpPr>
            <p:cNvPr id="42" name=""/>
            <p:cNvSpPr/>
            <p:nvPr/>
          </p:nvSpPr>
          <p:spPr>
            <a:xfrm>
              <a:off x="34920" y="76356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14200" y="368280"/>
              <a:ext cx="50508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8000" y="-270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000" y="366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" name=""/>
            <p:cNvCxnSpPr>
              <a:stCxn id="42" idx="6"/>
              <a:endCxn id="43" idx="1"/>
            </p:cNvCxnSpPr>
            <p:nvPr/>
          </p:nvCxnSpPr>
          <p:spPr>
            <a:xfrm flipV="1">
              <a:off x="539640" y="620280"/>
              <a:ext cx="574920" cy="396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7" name=""/>
            <p:cNvSpPr/>
            <p:nvPr/>
          </p:nvSpPr>
          <p:spPr>
            <a:xfrm>
              <a:off x="179280" y="909360"/>
              <a:ext cx="144360" cy="14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22560" y="76356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" name=""/>
            <p:cNvCxnSpPr>
              <a:stCxn id="43" idx="3"/>
              <a:endCxn id="48" idx="2"/>
            </p:cNvCxnSpPr>
            <p:nvPr/>
          </p:nvCxnSpPr>
          <p:spPr>
            <a:xfrm>
              <a:off x="1619280" y="620280"/>
              <a:ext cx="503640" cy="396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0" name=""/>
            <p:cNvSpPr/>
            <p:nvPr/>
          </p:nvSpPr>
          <p:spPr>
            <a:xfrm>
              <a:off x="2161800" y="439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14200" y="1339560"/>
              <a:ext cx="50508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88000" y="9442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"/>
            <p:cNvCxnSpPr>
              <a:stCxn id="42" idx="6"/>
              <a:endCxn id="51" idx="1"/>
            </p:cNvCxnSpPr>
            <p:nvPr/>
          </p:nvCxnSpPr>
          <p:spPr>
            <a:xfrm>
              <a:off x="539640" y="1015920"/>
              <a:ext cx="574920" cy="57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4" name=""/>
            <p:cNvCxnSpPr>
              <a:stCxn id="51" idx="3"/>
              <a:endCxn id="48" idx="2"/>
            </p:cNvCxnSpPr>
            <p:nvPr/>
          </p:nvCxnSpPr>
          <p:spPr>
            <a:xfrm flipV="1">
              <a:off x="1619280" y="1015920"/>
              <a:ext cx="503640" cy="57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5" name=""/>
            <p:cNvSpPr/>
            <p:nvPr/>
          </p:nvSpPr>
          <p:spPr>
            <a:xfrm>
              <a:off x="609480" y="2311200"/>
              <a:ext cx="50472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280" y="19159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6560" y="23126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"/>
            <p:cNvCxnSpPr>
              <a:stCxn id="55" idx="3"/>
              <a:endCxn id="57" idx="2"/>
            </p:cNvCxnSpPr>
            <p:nvPr/>
          </p:nvCxnSpPr>
          <p:spPr>
            <a:xfrm>
              <a:off x="1114200" y="2563200"/>
              <a:ext cx="79272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9" name=""/>
            <p:cNvSpPr/>
            <p:nvPr/>
          </p:nvSpPr>
          <p:spPr>
            <a:xfrm>
              <a:off x="1945800" y="198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350028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06560" y="350172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0360" y="3141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1080" y="3103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"/>
            <p:cNvCxnSpPr>
              <a:stCxn id="60" idx="6"/>
              <a:endCxn id="61" idx="1"/>
            </p:cNvCxnSpPr>
            <p:nvPr/>
          </p:nvCxnSpPr>
          <p:spPr>
            <a:xfrm>
              <a:off x="1044360" y="3752640"/>
              <a:ext cx="86256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5" name=""/>
            <p:cNvSpPr/>
            <p:nvPr/>
          </p:nvSpPr>
          <p:spPr>
            <a:xfrm>
              <a:off x="684000" y="3646440"/>
              <a:ext cx="144720" cy="14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2:42:40Z</dcterms:created>
  <dc:creator>kleuker</dc:creator>
  <dc:description/>
  <dc:language>en-US</dc:language>
  <cp:lastModifiedBy>x</cp:lastModifiedBy>
  <dcterms:modified xsi:type="dcterms:W3CDTF">2009-05-01T10:13:04Z</dcterms:modified>
  <cp:revision>2</cp:revision>
  <dc:subject/>
  <dc:title>Folie 1</dc:title>
</cp:coreProperties>
</file>