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76375" cy="1116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3FFC-61E1-435D-A27C-018F29B3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" y="44280"/>
            <a:ext cx="1330200" cy="185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ctr">
            <a:noAutofit/>
          </a:bodyPr>
          <a:p>
            <a:pPr indent="0" algn="ct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" y="260280"/>
            <a:ext cx="133020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" y="645120"/>
            <a:ext cx="133020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AA2-13A6-4A9D-916F-E2423FF3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" y="44280"/>
            <a:ext cx="1330200" cy="185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ctr">
            <a:noAutofit/>
          </a:bodyPr>
          <a:p>
            <a:pPr indent="0" algn="ct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" y="260280"/>
            <a:ext cx="64908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4560" y="260280"/>
            <a:ext cx="64908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" y="645120"/>
            <a:ext cx="64908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4560" y="645120"/>
            <a:ext cx="64908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F5A-F2FB-47E1-B871-0A8F6B98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" y="44280"/>
            <a:ext cx="1330200" cy="185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ctr">
            <a:noAutofit/>
          </a:bodyPr>
          <a:p>
            <a:pPr indent="0" algn="ct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" y="260280"/>
            <a:ext cx="42804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2720" y="260280"/>
            <a:ext cx="42804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72360" y="260280"/>
            <a:ext cx="42804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" y="645120"/>
            <a:ext cx="42804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2720" y="645120"/>
            <a:ext cx="42804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72360" y="645120"/>
            <a:ext cx="42804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CB3-2456-45EE-9121-E546C0DA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" y="44280"/>
            <a:ext cx="1330200" cy="185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ctr">
            <a:noAutofit/>
          </a:bodyPr>
          <a:p>
            <a:pPr indent="0" algn="ct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" y="260280"/>
            <a:ext cx="1330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AB1-147E-47BD-B13E-6ACE4824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" y="44280"/>
            <a:ext cx="1330200" cy="185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ctr">
            <a:noAutofit/>
          </a:bodyPr>
          <a:p>
            <a:pPr indent="0" algn="ct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" y="260280"/>
            <a:ext cx="1330200" cy="7365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E0E-E3EC-4C6D-A94C-3A8501FB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" y="44280"/>
            <a:ext cx="1330200" cy="185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ctr">
            <a:noAutofit/>
          </a:bodyPr>
          <a:p>
            <a:pPr indent="0" algn="ct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" y="260280"/>
            <a:ext cx="649080" cy="7365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54560" y="260280"/>
            <a:ext cx="649080" cy="7365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261-6CAF-41ED-8573-F7CC11B0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" y="44280"/>
            <a:ext cx="1330200" cy="185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ctr">
            <a:noAutofit/>
          </a:bodyPr>
          <a:p>
            <a:pPr indent="0" algn="ct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8F0-F573-4872-8F65-5D9108F8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" y="44280"/>
            <a:ext cx="1330200" cy="8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9CE-D617-4EF7-81F4-EDFFAD70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" y="44280"/>
            <a:ext cx="1330200" cy="185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ctr">
            <a:noAutofit/>
          </a:bodyPr>
          <a:p>
            <a:pPr indent="0" algn="ct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" y="260280"/>
            <a:ext cx="64908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54560" y="260280"/>
            <a:ext cx="649080" cy="7365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" y="645120"/>
            <a:ext cx="64908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7B2-636B-480C-8DF6-6ED572FC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" y="44280"/>
            <a:ext cx="1330200" cy="185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ctr">
            <a:noAutofit/>
          </a:bodyPr>
          <a:p>
            <a:pPr indent="0" algn="ct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" y="260280"/>
            <a:ext cx="649080" cy="7365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54560" y="260280"/>
            <a:ext cx="64908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4560" y="645120"/>
            <a:ext cx="64908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C7B-5872-4AF7-8F08-C8B29C7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" y="44280"/>
            <a:ext cx="1330200" cy="185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ctr">
            <a:noAutofit/>
          </a:bodyPr>
          <a:p>
            <a:pPr indent="0" algn="ct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" y="260280"/>
            <a:ext cx="64908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54560" y="260280"/>
            <a:ext cx="64908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" y="645120"/>
            <a:ext cx="1330200" cy="35100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D82-4D63-47CD-86A3-26C1920D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" y="44280"/>
            <a:ext cx="1330200" cy="185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ctr">
            <a:noAutofit/>
          </a:bodyPr>
          <a:p>
            <a:pPr indent="0" algn="ct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" y="260280"/>
            <a:ext cx="1330200" cy="7365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rmAutofit/>
          </a:bodyPr>
          <a:p>
            <a:pPr marL="55440" indent="-554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120600" indent="-4608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3816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3" marL="258840" indent="-3672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4" marL="333360" indent="-363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5" marL="333360" indent="-363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6" marL="333360" indent="-363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720" y="1015920"/>
            <a:ext cx="344520" cy="77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Autofit/>
          </a:bodyPr>
          <a:lstStyle>
            <a:lvl1pPr indent="0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  <a:defRPr b="0" lang="en-US" sz="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" y="1015920"/>
            <a:ext cx="469800" cy="77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Autofit/>
          </a:bodyPr>
          <a:lstStyle>
            <a:lvl1pPr indent="0" algn="ct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  <a:defRPr b="0" lang="en-US" sz="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58400" y="1015920"/>
            <a:ext cx="344520" cy="77760"/>
          </a:xfrm>
          <a:prstGeom prst="rect">
            <a:avLst/>
          </a:prstGeom>
          <a:noFill/>
          <a:ln w="0">
            <a:noFill/>
          </a:ln>
        </p:spPr>
        <p:txBody>
          <a:bodyPr lIns="14760" rIns="14760" tIns="7560" bIns="7560" anchor="t">
            <a:noAutofit/>
          </a:bodyPr>
          <a:lstStyle>
            <a:lvl1pPr indent="0" algn="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  <a:defRPr b="0" lang="en-US" sz="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600"/>
                <a:tab algn="l" pos="295200"/>
                <a:tab algn="l" pos="442800"/>
                <a:tab algn="l" pos="590400"/>
                <a:tab algn="l" pos="738360"/>
                <a:tab algn="l" pos="885960"/>
                <a:tab algn="l" pos="1033560"/>
                <a:tab algn="l" pos="1181160"/>
                <a:tab algn="l" pos="1328760"/>
                <a:tab algn="l" pos="1476360"/>
                <a:tab algn="l" pos="1623960"/>
                <a:tab algn="l" pos="1771560"/>
                <a:tab algn="l" pos="1919160"/>
                <a:tab algn="l" pos="2066760"/>
                <a:tab algn="l" pos="2214720"/>
                <a:tab algn="l" pos="2362320"/>
                <a:tab algn="l" pos="2509920"/>
                <a:tab algn="l" pos="2657520"/>
                <a:tab algn="l" pos="2805120"/>
                <a:tab algn="l" pos="2952720"/>
              </a:tabLst>
            </a:pPr>
            <a:fld id="{9A8BCA5D-F10C-4299-84F3-8C601B3ED8E4}" type="slidenum">
              <a:rPr b="0" lang="en-US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53000" y="19080"/>
            <a:ext cx="1603080" cy="1060200"/>
            <a:chOff x="-153000" y="19080"/>
            <a:chExt cx="1603080" cy="1060200"/>
          </a:xfrm>
        </p:grpSpPr>
        <p:grpSp>
          <p:nvGrpSpPr>
            <p:cNvPr id="42" name=""/>
            <p:cNvGrpSpPr/>
            <p:nvPr/>
          </p:nvGrpSpPr>
          <p:grpSpPr>
            <a:xfrm>
              <a:off x="261720" y="323640"/>
              <a:ext cx="1188360" cy="755640"/>
              <a:chOff x="261720" y="323640"/>
              <a:chExt cx="1188360" cy="75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61720" y="323640"/>
                <a:ext cx="14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68600" y="906480"/>
                <a:ext cx="173520" cy="17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68600" y="906480"/>
                <a:ext cx="173520" cy="17280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8600" y="331560"/>
                <a:ext cx="173520" cy="171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600" y="331560"/>
                <a:ext cx="173520" cy="17172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97040" y="360360"/>
                <a:ext cx="114840" cy="11412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75760" y="608040"/>
                <a:ext cx="398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d[name]!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28880" y="549360"/>
                <a:ext cx="421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c[name]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7480" y="501480"/>
                <a:ext cx="121680" cy="416160"/>
              </a:xfrm>
              <a:custGeom>
                <a:avLst/>
                <a:gdLst/>
                <a:ahLst/>
                <a:rect l="l" t="t" r="r" b="b"/>
                <a:pathLst>
                  <a:path w="334" h="1159">
                    <a:moveTo>
                      <a:pt x="0" y="0"/>
                    </a:moveTo>
                    <a:lnTo>
                      <a:pt x="274" y="549"/>
                    </a:lnTo>
                    <a:cubicBezTo>
                      <a:pt x="334" y="668"/>
                      <a:pt x="323" y="781"/>
                      <a:pt x="243" y="887"/>
                    </a:cubicBezTo>
                    <a:lnTo>
                      <a:pt x="40" y="1159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12240" y="850680"/>
                <a:ext cx="56520" cy="66960"/>
              </a:xfrm>
              <a:custGeom>
                <a:avLst/>
                <a:gdLst/>
                <a:ahLst/>
                <a:rect l="l" t="t" r="r" b="b"/>
                <a:pathLst>
                  <a:path w="157" h="185">
                    <a:moveTo>
                      <a:pt x="74" y="0"/>
                    </a:moveTo>
                    <a:lnTo>
                      <a:pt x="0" y="185"/>
                    </a:lnTo>
                    <a:lnTo>
                      <a:pt x="157" y="62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91920" y="501480"/>
                <a:ext cx="121680" cy="416160"/>
              </a:xfrm>
              <a:custGeom>
                <a:avLst/>
                <a:gdLst/>
                <a:ahLst/>
                <a:rect l="l" t="t" r="r" b="b"/>
                <a:pathLst>
                  <a:path w="334" h="1159">
                    <a:moveTo>
                      <a:pt x="294" y="1159"/>
                    </a:moveTo>
                    <a:lnTo>
                      <a:pt x="90" y="887"/>
                    </a:lnTo>
                    <a:cubicBezTo>
                      <a:pt x="10" y="781"/>
                      <a:pt x="0" y="668"/>
                      <a:pt x="60" y="549"/>
                    </a:cubicBezTo>
                    <a:lnTo>
                      <a:pt x="334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5360" y="501480"/>
                <a:ext cx="48240" cy="69840"/>
              </a:xfrm>
              <a:custGeom>
                <a:avLst/>
                <a:gdLst/>
                <a:ahLst/>
                <a:rect l="l" t="t" r="r" b="b"/>
                <a:pathLst>
                  <a:path w="132" h="196">
                    <a:moveTo>
                      <a:pt x="92" y="196"/>
                    </a:moveTo>
                    <a:lnTo>
                      <a:pt x="132" y="0"/>
                    </a:lnTo>
                    <a:lnTo>
                      <a:pt x="0" y="15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-153000" y="1908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Letter Gothic"/>
                </a:rPr>
                <a:t>Template Em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Letter Gothic"/>
                </a:rPr>
                <a:t>Parameter: int nam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3:33:03Z</dcterms:created>
  <dc:creator>x</dc:creator>
  <dc:description/>
  <dc:language>en-US</dc:language>
  <cp:lastModifiedBy>x</cp:lastModifiedBy>
  <dcterms:modified xsi:type="dcterms:W3CDTF">2009-06-27T15:13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