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2436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EBA-79D8-40BD-A9A9-677D74D0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25909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468440"/>
            <a:ext cx="25909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28E-2339-4690-AE83-FA0423E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46844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46844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8FA-9CBE-4B09-8E5B-2E1EFB10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70452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70452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46844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46844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468440"/>
            <a:ext cx="8341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232-BE11-4482-8AF3-610A238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704520"/>
            <a:ext cx="259092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688-29C9-4C41-AA2A-13532A91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25909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668-A2AA-4238-B48B-4022C47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12643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704520"/>
            <a:ext cx="12643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960-2C33-4BE7-B33F-D6B380A4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BB0-738B-4A00-A6FA-3037D63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17080"/>
            <a:ext cx="259092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A62-AFEB-419C-BC2C-44F9F57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704520"/>
            <a:ext cx="12643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46844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1D0-DB3C-4D85-B1A4-40FF6EC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12643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46844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5A7-897E-4C27-85D2-455137F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704520"/>
            <a:ext cx="12643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468440"/>
            <a:ext cx="2590920" cy="69732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BAE-359D-470E-8E1C-5BE1ED7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17080"/>
            <a:ext cx="2590920" cy="406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704520"/>
            <a:ext cx="2590920" cy="14619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rmAutofit/>
          </a:bodyPr>
          <a:p>
            <a:pPr marL="117360" indent="-11736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160" indent="-96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392040" indent="-792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3" marL="549360" indent="-7956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4" marL="704880" indent="-7776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5" marL="704880" indent="-7776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6" marL="704880" indent="-7776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220840"/>
            <a:ext cx="635040" cy="163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Autofit/>
          </a:bodyPr>
          <a:lstStyle>
            <a:lvl1pPr indent="0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220840"/>
            <a:ext cx="965160" cy="163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Autofit/>
          </a:bodyPr>
          <a:lstStyle>
            <a:lvl1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220840"/>
            <a:ext cx="635040" cy="1634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840" bIns="15840" anchor="t">
            <a:noAutofit/>
          </a:bodyPr>
          <a:lstStyle>
            <a:lvl1pPr indent="0" algn="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fld id="{F5FB1F58-26FB-4ECF-BE8B-C2FAAABCD6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0"/>
            <a:ext cx="2808360" cy="2232000"/>
            <a:chOff x="152280" y="0"/>
            <a:chExt cx="2808360" cy="2232000"/>
          </a:xfrm>
        </p:grpSpPr>
        <p:sp>
          <p:nvSpPr>
            <p:cNvPr id="42" name=""/>
            <p:cNvSpPr/>
            <p:nvPr/>
          </p:nvSpPr>
          <p:spPr>
            <a:xfrm>
              <a:off x="152280" y="287280"/>
              <a:ext cx="627120" cy="55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280" y="1008360"/>
              <a:ext cx="627120" cy="55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280" y="1656000"/>
              <a:ext cx="627120" cy="55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33520" y="287280"/>
              <a:ext cx="627120" cy="194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0280" y="36036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33000" y="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00280" y="71928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3000" y="39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0280" y="107964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33000" y="719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33000" y="1114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280" y="180036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33000" y="14400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800280" y="208764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33000" y="1764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00280" y="144000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27:05Z</dcterms:created>
  <dc:creator>skleu001</dc:creator>
  <dc:description/>
  <dc:language>en-US</dc:language>
  <cp:lastModifiedBy>skleu001</cp:lastModifiedBy>
  <dcterms:modified xsi:type="dcterms:W3CDTF">2008-04-28T14:28:13Z</dcterms:modified>
  <cp:revision>1</cp:revision>
  <dc:subject/>
  <dc:title>PowerPoint-Präsentation</dc:title>
</cp:coreProperties>
</file>