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88013" cy="5688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77A-AD01-4B71-847C-FBA38CE9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5121360" cy="94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4040" y="1326960"/>
            <a:ext cx="512136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4040" y="3288960"/>
            <a:ext cx="512136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240-942A-4F17-BB7C-E5A92353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5121360" cy="94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4040" y="1326960"/>
            <a:ext cx="249912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08440" y="1326960"/>
            <a:ext cx="249912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4040" y="3288960"/>
            <a:ext cx="249912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08440" y="3288960"/>
            <a:ext cx="249912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517-45D5-4CB3-9A4D-342F4F7E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5121360" cy="94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4040" y="1326960"/>
            <a:ext cx="164880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15640" y="1326960"/>
            <a:ext cx="164880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47240" y="1326960"/>
            <a:ext cx="164880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4040" y="3288960"/>
            <a:ext cx="164880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15640" y="3288960"/>
            <a:ext cx="164880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47240" y="3288960"/>
            <a:ext cx="164880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070-9E86-40C7-88C4-8AB485EA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5121360" cy="94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4040" y="1326960"/>
            <a:ext cx="5121360" cy="37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BEC-942D-4056-A821-67058754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5121360" cy="94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4040" y="1326960"/>
            <a:ext cx="5121360" cy="3755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5C6-C21C-4C34-B416-6A366DEE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5121360" cy="94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4040" y="1326960"/>
            <a:ext cx="2499120" cy="3755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08440" y="1326960"/>
            <a:ext cx="2499120" cy="3755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C35-AAA0-41EC-9029-6693535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5121360" cy="94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9A9-3B0B-4C40-B62E-667E66A3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040" y="228240"/>
            <a:ext cx="5121360" cy="43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5A2-9944-433C-99DC-00F48F0D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5121360" cy="94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4040" y="1326960"/>
            <a:ext cx="249912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08440" y="1326960"/>
            <a:ext cx="2499120" cy="3755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4040" y="3288960"/>
            <a:ext cx="249912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394-864D-4D9A-83D7-40A29207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5121360" cy="94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4040" y="1326960"/>
            <a:ext cx="2499120" cy="3755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08440" y="1326960"/>
            <a:ext cx="249912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08440" y="3288960"/>
            <a:ext cx="249912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4A8-F3BB-463B-95E6-24DCBB94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5121360" cy="94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4040" y="1326960"/>
            <a:ext cx="249912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08440" y="1326960"/>
            <a:ext cx="249912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4040" y="3288960"/>
            <a:ext cx="5121360" cy="179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213-A7F4-470C-8A07-F9D9511C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5121360" cy="94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4040" y="1326960"/>
            <a:ext cx="5121360" cy="3755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rmAutofit/>
          </a:bodyPr>
          <a:p>
            <a:pPr marL="244440" indent="-244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0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1634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463760" indent="-1634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463760" indent="-1634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463760" indent="-1634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3680" y="5181480"/>
            <a:ext cx="1327320" cy="395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Autofit/>
          </a:bodyPr>
          <a:lstStyle>
            <a:lvl1pPr indent="0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44360" y="5181480"/>
            <a:ext cx="1800360" cy="395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Autofit/>
          </a:bodyPr>
          <a:lstStyle>
            <a:lvl1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78440" y="5181480"/>
            <a:ext cx="1326960" cy="395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400" bIns="32400" anchor="t">
            <a:noAutofit/>
          </a:bodyPr>
          <a:lstStyle>
            <a:lvl1pPr indent="0" algn="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fld id="{AB1EB718-2502-4778-B654-6689061ECD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360" y="2349360"/>
            <a:ext cx="2305080" cy="1008000"/>
            <a:chOff x="36360" y="2349360"/>
            <a:chExt cx="2305080" cy="1008000"/>
          </a:xfrm>
        </p:grpSpPr>
        <p:sp>
          <p:nvSpPr>
            <p:cNvPr id="42" name=""/>
            <p:cNvSpPr/>
            <p:nvPr/>
          </p:nvSpPr>
          <p:spPr>
            <a:xfrm>
              <a:off x="36360" y="2349360"/>
              <a:ext cx="230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6360" y="2852640"/>
              <a:ext cx="2305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360" y="3357360"/>
              <a:ext cx="230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349800" y="2349360"/>
            <a:ext cx="2304720" cy="1008000"/>
            <a:chOff x="3349800" y="2349360"/>
            <a:chExt cx="2304720" cy="1008000"/>
          </a:xfrm>
        </p:grpSpPr>
        <p:sp>
          <p:nvSpPr>
            <p:cNvPr id="46" name=""/>
            <p:cNvSpPr/>
            <p:nvPr/>
          </p:nvSpPr>
          <p:spPr>
            <a:xfrm>
              <a:off x="3349800" y="2349360"/>
              <a:ext cx="23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49800" y="2852640"/>
              <a:ext cx="230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49800" y="3357360"/>
              <a:ext cx="23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341440" y="3357720"/>
            <a:ext cx="1008000" cy="2304720"/>
            <a:chOff x="2341440" y="3357720"/>
            <a:chExt cx="1008000" cy="2304720"/>
          </a:xfrm>
        </p:grpSpPr>
        <p:sp>
          <p:nvSpPr>
            <p:cNvPr id="50" name=""/>
            <p:cNvSpPr/>
            <p:nvPr/>
          </p:nvSpPr>
          <p:spPr>
            <a:xfrm flipV="1">
              <a:off x="2341440" y="3357720"/>
              <a:ext cx="0" cy="23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844720" y="3357720"/>
              <a:ext cx="0" cy="230472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349440" y="3357720"/>
              <a:ext cx="0" cy="23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341440" y="43920"/>
            <a:ext cx="1008000" cy="2305080"/>
            <a:chOff x="2341440" y="43920"/>
            <a:chExt cx="1008000" cy="2305080"/>
          </a:xfrm>
        </p:grpSpPr>
        <p:sp>
          <p:nvSpPr>
            <p:cNvPr id="54" name=""/>
            <p:cNvSpPr/>
            <p:nvPr/>
          </p:nvSpPr>
          <p:spPr>
            <a:xfrm flipV="1">
              <a:off x="2341440" y="43920"/>
              <a:ext cx="0" cy="230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2844720" y="43920"/>
              <a:ext cx="0" cy="23050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349440" y="43920"/>
              <a:ext cx="0" cy="230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8264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82640" y="3224160"/>
            <a:ext cx="144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63640" y="736560"/>
            <a:ext cx="433080" cy="1395360"/>
            <a:chOff x="1763640" y="736560"/>
            <a:chExt cx="433080" cy="1395360"/>
          </a:xfrm>
        </p:grpSpPr>
        <p:sp>
          <p:nvSpPr>
            <p:cNvPr id="61" name=""/>
            <p:cNvSpPr/>
            <p:nvPr/>
          </p:nvSpPr>
          <p:spPr>
            <a:xfrm>
              <a:off x="1763640" y="736560"/>
              <a:ext cx="433080" cy="9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36360" y="880920"/>
              <a:ext cx="287640" cy="287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36360" y="1241280"/>
              <a:ext cx="287640" cy="287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6840" y="167328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3520" y="167328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08000" y="1700280"/>
              <a:ext cx="144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778200" y="1701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30480" y="1701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78200" y="1712880"/>
            <a:ext cx="144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492360" y="2465280"/>
            <a:ext cx="433080" cy="1395360"/>
            <a:chOff x="3492360" y="2465280"/>
            <a:chExt cx="433080" cy="1395360"/>
          </a:xfrm>
        </p:grpSpPr>
        <p:sp>
          <p:nvSpPr>
            <p:cNvPr id="71" name=""/>
            <p:cNvSpPr/>
            <p:nvPr/>
          </p:nvSpPr>
          <p:spPr>
            <a:xfrm>
              <a:off x="3492360" y="2465280"/>
              <a:ext cx="433080" cy="9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65080" y="2609640"/>
              <a:ext cx="287640" cy="287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65080" y="2970000"/>
              <a:ext cx="287640" cy="287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25560" y="3402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92240" y="3402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36720" y="3429000"/>
              <a:ext cx="144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333440" y="2924280"/>
            <a:ext cx="7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41800" y="2421000"/>
            <a:ext cx="712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3062160" y="3715920"/>
            <a:ext cx="7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2557440" y="1773000"/>
            <a:ext cx="712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5960" y="3565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l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600" y="973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5120" y="10191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l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3600" y="38527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500280" y="773280"/>
            <a:ext cx="574560" cy="1223640"/>
            <a:chOff x="3500280" y="773280"/>
            <a:chExt cx="574560" cy="1223640"/>
          </a:xfrm>
        </p:grpSpPr>
        <p:sp>
          <p:nvSpPr>
            <p:cNvPr id="86" name=""/>
            <p:cNvSpPr/>
            <p:nvPr/>
          </p:nvSpPr>
          <p:spPr>
            <a:xfrm>
              <a:off x="3500280" y="773280"/>
              <a:ext cx="574560" cy="1223640"/>
            </a:xfrm>
            <a:prstGeom prst="cube">
              <a:avLst>
                <a:gd name="adj" fmla="val 6270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8283200">
              <a:off x="3753360" y="1097640"/>
              <a:ext cx="287280" cy="21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8283200">
              <a:off x="3753360" y="1458000"/>
              <a:ext cx="287280" cy="215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 flipH="1">
            <a:off x="1549440" y="2252520"/>
            <a:ext cx="574560" cy="1224000"/>
          </a:xfrm>
          <a:prstGeom prst="cube">
            <a:avLst>
              <a:gd name="adj" fmla="val 6270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rot="3316800">
            <a:off x="1585800" y="2577600"/>
            <a:ext cx="287280" cy="21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rot="3316800">
            <a:off x="1585800" y="2937960"/>
            <a:ext cx="287280" cy="215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1:38:40Z</dcterms:created>
  <dc:creator>x</dc:creator>
  <dc:description/>
  <dc:language>en-US</dc:language>
  <cp:lastModifiedBy>x</cp:lastModifiedBy>
  <dcterms:modified xsi:type="dcterms:W3CDTF">2009-03-01T11:12:47Z</dcterms:modified>
  <cp:revision>5</cp:revision>
  <dc:subject/>
  <dc:title>Folie 1</dc:title>
</cp:coreProperties>
</file>