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816350" cy="352742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98F90-6676-4B4F-A3DA-42B0348B2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0080" y="141120"/>
            <a:ext cx="3435480" cy="588960"/>
          </a:xfrm>
          <a:prstGeom prst="rect">
            <a:avLst/>
          </a:prstGeom>
          <a:noFill/>
          <a:ln w="0">
            <a:noFill/>
          </a:ln>
        </p:spPr>
        <p:txBody>
          <a:bodyPr lIns="42120" rIns="42120" tIns="20880" bIns="20880" anchor="ctr">
            <a:noAutofit/>
          </a:bodyPr>
          <a:p>
            <a:pPr indent="0" algn="ctr">
              <a:buNone/>
              <a:tabLst>
                <a:tab algn="l" pos="0"/>
                <a:tab algn="l" pos="419040"/>
                <a:tab algn="l" pos="838080"/>
                <a:tab algn="l" pos="1257480"/>
                <a:tab algn="l" pos="1676520"/>
                <a:tab algn="l" pos="2095560"/>
                <a:tab algn="l" pos="2514600"/>
                <a:tab algn="l" pos="2933640"/>
                <a:tab algn="l" pos="3352680"/>
                <a:tab algn="l" pos="3772080"/>
                <a:tab algn="l" pos="4191120"/>
                <a:tab algn="l" pos="4610160"/>
                <a:tab algn="l" pos="5029200"/>
                <a:tab algn="l" pos="5448240"/>
                <a:tab algn="l" pos="5867280"/>
                <a:tab algn="l" pos="6286680"/>
                <a:tab algn="l" pos="6705720"/>
                <a:tab algn="l" pos="7124760"/>
                <a:tab algn="l" pos="7543800"/>
                <a:tab algn="l" pos="7962840"/>
                <a:tab algn="l" pos="8381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90080" y="824040"/>
            <a:ext cx="3435480" cy="1109880"/>
          </a:xfrm>
          <a:prstGeom prst="rect">
            <a:avLst/>
          </a:prstGeom>
          <a:noFill/>
          <a:ln w="0">
            <a:noFill/>
          </a:ln>
        </p:spPr>
        <p:txBody>
          <a:bodyPr lIns="42120" rIns="42120" tIns="20880" bIns="2088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9040"/>
                <a:tab algn="l" pos="838080"/>
                <a:tab algn="l" pos="1257480"/>
                <a:tab algn="l" pos="1676520"/>
                <a:tab algn="l" pos="2095560"/>
                <a:tab algn="l" pos="2514600"/>
                <a:tab algn="l" pos="2933640"/>
                <a:tab algn="l" pos="3352680"/>
                <a:tab algn="l" pos="3772080"/>
                <a:tab algn="l" pos="4191120"/>
                <a:tab algn="l" pos="4610160"/>
                <a:tab algn="l" pos="5029200"/>
                <a:tab algn="l" pos="5448240"/>
                <a:tab algn="l" pos="5867280"/>
                <a:tab algn="l" pos="6286680"/>
                <a:tab algn="l" pos="6705720"/>
                <a:tab algn="l" pos="7124760"/>
                <a:tab algn="l" pos="7543800"/>
                <a:tab algn="l" pos="7962840"/>
                <a:tab algn="l" pos="838188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90080" y="2039760"/>
            <a:ext cx="3435480" cy="1109880"/>
          </a:xfrm>
          <a:prstGeom prst="rect">
            <a:avLst/>
          </a:prstGeom>
          <a:noFill/>
          <a:ln w="0">
            <a:noFill/>
          </a:ln>
        </p:spPr>
        <p:txBody>
          <a:bodyPr lIns="42120" rIns="42120" tIns="20880" bIns="2088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9040"/>
                <a:tab algn="l" pos="838080"/>
                <a:tab algn="l" pos="1257480"/>
                <a:tab algn="l" pos="1676520"/>
                <a:tab algn="l" pos="2095560"/>
                <a:tab algn="l" pos="2514600"/>
                <a:tab algn="l" pos="2933640"/>
                <a:tab algn="l" pos="3352680"/>
                <a:tab algn="l" pos="3772080"/>
                <a:tab algn="l" pos="4191120"/>
                <a:tab algn="l" pos="4610160"/>
                <a:tab algn="l" pos="5029200"/>
                <a:tab algn="l" pos="5448240"/>
                <a:tab algn="l" pos="5867280"/>
                <a:tab algn="l" pos="6286680"/>
                <a:tab algn="l" pos="6705720"/>
                <a:tab algn="l" pos="7124760"/>
                <a:tab algn="l" pos="7543800"/>
                <a:tab algn="l" pos="7962840"/>
                <a:tab algn="l" pos="838188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539E2-BF30-4496-A7B2-A7E429443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0080" y="141120"/>
            <a:ext cx="3435480" cy="588960"/>
          </a:xfrm>
          <a:prstGeom prst="rect">
            <a:avLst/>
          </a:prstGeom>
          <a:noFill/>
          <a:ln w="0">
            <a:noFill/>
          </a:ln>
        </p:spPr>
        <p:txBody>
          <a:bodyPr lIns="42120" rIns="42120" tIns="20880" bIns="20880" anchor="ctr">
            <a:noAutofit/>
          </a:bodyPr>
          <a:p>
            <a:pPr indent="0" algn="ctr">
              <a:buNone/>
              <a:tabLst>
                <a:tab algn="l" pos="0"/>
                <a:tab algn="l" pos="419040"/>
                <a:tab algn="l" pos="838080"/>
                <a:tab algn="l" pos="1257480"/>
                <a:tab algn="l" pos="1676520"/>
                <a:tab algn="l" pos="2095560"/>
                <a:tab algn="l" pos="2514600"/>
                <a:tab algn="l" pos="2933640"/>
                <a:tab algn="l" pos="3352680"/>
                <a:tab algn="l" pos="3772080"/>
                <a:tab algn="l" pos="4191120"/>
                <a:tab algn="l" pos="4610160"/>
                <a:tab algn="l" pos="5029200"/>
                <a:tab algn="l" pos="5448240"/>
                <a:tab algn="l" pos="5867280"/>
                <a:tab algn="l" pos="6286680"/>
                <a:tab algn="l" pos="6705720"/>
                <a:tab algn="l" pos="7124760"/>
                <a:tab algn="l" pos="7543800"/>
                <a:tab algn="l" pos="7962840"/>
                <a:tab algn="l" pos="8381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90080" y="824040"/>
            <a:ext cx="1676160" cy="1109880"/>
          </a:xfrm>
          <a:prstGeom prst="rect">
            <a:avLst/>
          </a:prstGeom>
          <a:noFill/>
          <a:ln w="0">
            <a:noFill/>
          </a:ln>
        </p:spPr>
        <p:txBody>
          <a:bodyPr lIns="42120" rIns="42120" tIns="20880" bIns="2088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9040"/>
                <a:tab algn="l" pos="838080"/>
                <a:tab algn="l" pos="1257480"/>
                <a:tab algn="l" pos="1676520"/>
                <a:tab algn="l" pos="2095560"/>
                <a:tab algn="l" pos="2514600"/>
                <a:tab algn="l" pos="2933640"/>
                <a:tab algn="l" pos="3352680"/>
                <a:tab algn="l" pos="3772080"/>
                <a:tab algn="l" pos="4191120"/>
                <a:tab algn="l" pos="4610160"/>
                <a:tab algn="l" pos="5029200"/>
                <a:tab algn="l" pos="5448240"/>
                <a:tab algn="l" pos="5867280"/>
                <a:tab algn="l" pos="6286680"/>
                <a:tab algn="l" pos="6705720"/>
                <a:tab algn="l" pos="7124760"/>
                <a:tab algn="l" pos="7543800"/>
                <a:tab algn="l" pos="7962840"/>
                <a:tab algn="l" pos="838188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950480" y="824040"/>
            <a:ext cx="1676160" cy="1109880"/>
          </a:xfrm>
          <a:prstGeom prst="rect">
            <a:avLst/>
          </a:prstGeom>
          <a:noFill/>
          <a:ln w="0">
            <a:noFill/>
          </a:ln>
        </p:spPr>
        <p:txBody>
          <a:bodyPr lIns="42120" rIns="42120" tIns="20880" bIns="2088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9040"/>
                <a:tab algn="l" pos="838080"/>
                <a:tab algn="l" pos="1257480"/>
                <a:tab algn="l" pos="1676520"/>
                <a:tab algn="l" pos="2095560"/>
                <a:tab algn="l" pos="2514600"/>
                <a:tab algn="l" pos="2933640"/>
                <a:tab algn="l" pos="3352680"/>
                <a:tab algn="l" pos="3772080"/>
                <a:tab algn="l" pos="4191120"/>
                <a:tab algn="l" pos="4610160"/>
                <a:tab algn="l" pos="5029200"/>
                <a:tab algn="l" pos="5448240"/>
                <a:tab algn="l" pos="5867280"/>
                <a:tab algn="l" pos="6286680"/>
                <a:tab algn="l" pos="6705720"/>
                <a:tab algn="l" pos="7124760"/>
                <a:tab algn="l" pos="7543800"/>
                <a:tab algn="l" pos="7962840"/>
                <a:tab algn="l" pos="838188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90080" y="2039760"/>
            <a:ext cx="1676160" cy="1109880"/>
          </a:xfrm>
          <a:prstGeom prst="rect">
            <a:avLst/>
          </a:prstGeom>
          <a:noFill/>
          <a:ln w="0">
            <a:noFill/>
          </a:ln>
        </p:spPr>
        <p:txBody>
          <a:bodyPr lIns="42120" rIns="42120" tIns="20880" bIns="2088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9040"/>
                <a:tab algn="l" pos="838080"/>
                <a:tab algn="l" pos="1257480"/>
                <a:tab algn="l" pos="1676520"/>
                <a:tab algn="l" pos="2095560"/>
                <a:tab algn="l" pos="2514600"/>
                <a:tab algn="l" pos="2933640"/>
                <a:tab algn="l" pos="3352680"/>
                <a:tab algn="l" pos="3772080"/>
                <a:tab algn="l" pos="4191120"/>
                <a:tab algn="l" pos="4610160"/>
                <a:tab algn="l" pos="5029200"/>
                <a:tab algn="l" pos="5448240"/>
                <a:tab algn="l" pos="5867280"/>
                <a:tab algn="l" pos="6286680"/>
                <a:tab algn="l" pos="6705720"/>
                <a:tab algn="l" pos="7124760"/>
                <a:tab algn="l" pos="7543800"/>
                <a:tab algn="l" pos="7962840"/>
                <a:tab algn="l" pos="838188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950480" y="2039760"/>
            <a:ext cx="1676160" cy="1109880"/>
          </a:xfrm>
          <a:prstGeom prst="rect">
            <a:avLst/>
          </a:prstGeom>
          <a:noFill/>
          <a:ln w="0">
            <a:noFill/>
          </a:ln>
        </p:spPr>
        <p:txBody>
          <a:bodyPr lIns="42120" rIns="42120" tIns="20880" bIns="2088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9040"/>
                <a:tab algn="l" pos="838080"/>
                <a:tab algn="l" pos="1257480"/>
                <a:tab algn="l" pos="1676520"/>
                <a:tab algn="l" pos="2095560"/>
                <a:tab algn="l" pos="2514600"/>
                <a:tab algn="l" pos="2933640"/>
                <a:tab algn="l" pos="3352680"/>
                <a:tab algn="l" pos="3772080"/>
                <a:tab algn="l" pos="4191120"/>
                <a:tab algn="l" pos="4610160"/>
                <a:tab algn="l" pos="5029200"/>
                <a:tab algn="l" pos="5448240"/>
                <a:tab algn="l" pos="5867280"/>
                <a:tab algn="l" pos="6286680"/>
                <a:tab algn="l" pos="6705720"/>
                <a:tab algn="l" pos="7124760"/>
                <a:tab algn="l" pos="7543800"/>
                <a:tab algn="l" pos="7962840"/>
                <a:tab algn="l" pos="838188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FF4D7-C06C-4DCA-94D7-3DD8E5C79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0080" y="141120"/>
            <a:ext cx="3435480" cy="588960"/>
          </a:xfrm>
          <a:prstGeom prst="rect">
            <a:avLst/>
          </a:prstGeom>
          <a:noFill/>
          <a:ln w="0">
            <a:noFill/>
          </a:ln>
        </p:spPr>
        <p:txBody>
          <a:bodyPr lIns="42120" rIns="42120" tIns="20880" bIns="20880" anchor="ctr">
            <a:noAutofit/>
          </a:bodyPr>
          <a:p>
            <a:pPr indent="0" algn="ctr">
              <a:buNone/>
              <a:tabLst>
                <a:tab algn="l" pos="0"/>
                <a:tab algn="l" pos="419040"/>
                <a:tab algn="l" pos="838080"/>
                <a:tab algn="l" pos="1257480"/>
                <a:tab algn="l" pos="1676520"/>
                <a:tab algn="l" pos="2095560"/>
                <a:tab algn="l" pos="2514600"/>
                <a:tab algn="l" pos="2933640"/>
                <a:tab algn="l" pos="3352680"/>
                <a:tab algn="l" pos="3772080"/>
                <a:tab algn="l" pos="4191120"/>
                <a:tab algn="l" pos="4610160"/>
                <a:tab algn="l" pos="5029200"/>
                <a:tab algn="l" pos="5448240"/>
                <a:tab algn="l" pos="5867280"/>
                <a:tab algn="l" pos="6286680"/>
                <a:tab algn="l" pos="6705720"/>
                <a:tab algn="l" pos="7124760"/>
                <a:tab algn="l" pos="7543800"/>
                <a:tab algn="l" pos="7962840"/>
                <a:tab algn="l" pos="8381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90080" y="824040"/>
            <a:ext cx="1105920" cy="1109880"/>
          </a:xfrm>
          <a:prstGeom prst="rect">
            <a:avLst/>
          </a:prstGeom>
          <a:noFill/>
          <a:ln w="0">
            <a:noFill/>
          </a:ln>
        </p:spPr>
        <p:txBody>
          <a:bodyPr lIns="42120" rIns="42120" tIns="20880" bIns="2088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9040"/>
                <a:tab algn="l" pos="838080"/>
                <a:tab algn="l" pos="1257480"/>
                <a:tab algn="l" pos="1676520"/>
                <a:tab algn="l" pos="2095560"/>
                <a:tab algn="l" pos="2514600"/>
                <a:tab algn="l" pos="2933640"/>
                <a:tab algn="l" pos="3352680"/>
                <a:tab algn="l" pos="3772080"/>
                <a:tab algn="l" pos="4191120"/>
                <a:tab algn="l" pos="4610160"/>
                <a:tab algn="l" pos="5029200"/>
                <a:tab algn="l" pos="5448240"/>
                <a:tab algn="l" pos="5867280"/>
                <a:tab algn="l" pos="6286680"/>
                <a:tab algn="l" pos="6705720"/>
                <a:tab algn="l" pos="7124760"/>
                <a:tab algn="l" pos="7543800"/>
                <a:tab algn="l" pos="7962840"/>
                <a:tab algn="l" pos="838188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351800" y="824040"/>
            <a:ext cx="1105920" cy="1109880"/>
          </a:xfrm>
          <a:prstGeom prst="rect">
            <a:avLst/>
          </a:prstGeom>
          <a:noFill/>
          <a:ln w="0">
            <a:noFill/>
          </a:ln>
        </p:spPr>
        <p:txBody>
          <a:bodyPr lIns="42120" rIns="42120" tIns="20880" bIns="2088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9040"/>
                <a:tab algn="l" pos="838080"/>
                <a:tab algn="l" pos="1257480"/>
                <a:tab algn="l" pos="1676520"/>
                <a:tab algn="l" pos="2095560"/>
                <a:tab algn="l" pos="2514600"/>
                <a:tab algn="l" pos="2933640"/>
                <a:tab algn="l" pos="3352680"/>
                <a:tab algn="l" pos="3772080"/>
                <a:tab algn="l" pos="4191120"/>
                <a:tab algn="l" pos="4610160"/>
                <a:tab algn="l" pos="5029200"/>
                <a:tab algn="l" pos="5448240"/>
                <a:tab algn="l" pos="5867280"/>
                <a:tab algn="l" pos="6286680"/>
                <a:tab algn="l" pos="6705720"/>
                <a:tab algn="l" pos="7124760"/>
                <a:tab algn="l" pos="7543800"/>
                <a:tab algn="l" pos="7962840"/>
                <a:tab algn="l" pos="838188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513160" y="824040"/>
            <a:ext cx="1105920" cy="1109880"/>
          </a:xfrm>
          <a:prstGeom prst="rect">
            <a:avLst/>
          </a:prstGeom>
          <a:noFill/>
          <a:ln w="0">
            <a:noFill/>
          </a:ln>
        </p:spPr>
        <p:txBody>
          <a:bodyPr lIns="42120" rIns="42120" tIns="20880" bIns="2088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9040"/>
                <a:tab algn="l" pos="838080"/>
                <a:tab algn="l" pos="1257480"/>
                <a:tab algn="l" pos="1676520"/>
                <a:tab algn="l" pos="2095560"/>
                <a:tab algn="l" pos="2514600"/>
                <a:tab algn="l" pos="2933640"/>
                <a:tab algn="l" pos="3352680"/>
                <a:tab algn="l" pos="3772080"/>
                <a:tab algn="l" pos="4191120"/>
                <a:tab algn="l" pos="4610160"/>
                <a:tab algn="l" pos="5029200"/>
                <a:tab algn="l" pos="5448240"/>
                <a:tab algn="l" pos="5867280"/>
                <a:tab algn="l" pos="6286680"/>
                <a:tab algn="l" pos="6705720"/>
                <a:tab algn="l" pos="7124760"/>
                <a:tab algn="l" pos="7543800"/>
                <a:tab algn="l" pos="7962840"/>
                <a:tab algn="l" pos="838188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90080" y="2039760"/>
            <a:ext cx="1105920" cy="1109880"/>
          </a:xfrm>
          <a:prstGeom prst="rect">
            <a:avLst/>
          </a:prstGeom>
          <a:noFill/>
          <a:ln w="0">
            <a:noFill/>
          </a:ln>
        </p:spPr>
        <p:txBody>
          <a:bodyPr lIns="42120" rIns="42120" tIns="20880" bIns="2088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9040"/>
                <a:tab algn="l" pos="838080"/>
                <a:tab algn="l" pos="1257480"/>
                <a:tab algn="l" pos="1676520"/>
                <a:tab algn="l" pos="2095560"/>
                <a:tab algn="l" pos="2514600"/>
                <a:tab algn="l" pos="2933640"/>
                <a:tab algn="l" pos="3352680"/>
                <a:tab algn="l" pos="3772080"/>
                <a:tab algn="l" pos="4191120"/>
                <a:tab algn="l" pos="4610160"/>
                <a:tab algn="l" pos="5029200"/>
                <a:tab algn="l" pos="5448240"/>
                <a:tab algn="l" pos="5867280"/>
                <a:tab algn="l" pos="6286680"/>
                <a:tab algn="l" pos="6705720"/>
                <a:tab algn="l" pos="7124760"/>
                <a:tab algn="l" pos="7543800"/>
                <a:tab algn="l" pos="7962840"/>
                <a:tab algn="l" pos="838188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351800" y="2039760"/>
            <a:ext cx="1105920" cy="1109880"/>
          </a:xfrm>
          <a:prstGeom prst="rect">
            <a:avLst/>
          </a:prstGeom>
          <a:noFill/>
          <a:ln w="0">
            <a:noFill/>
          </a:ln>
        </p:spPr>
        <p:txBody>
          <a:bodyPr lIns="42120" rIns="42120" tIns="20880" bIns="2088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9040"/>
                <a:tab algn="l" pos="838080"/>
                <a:tab algn="l" pos="1257480"/>
                <a:tab algn="l" pos="1676520"/>
                <a:tab algn="l" pos="2095560"/>
                <a:tab algn="l" pos="2514600"/>
                <a:tab algn="l" pos="2933640"/>
                <a:tab algn="l" pos="3352680"/>
                <a:tab algn="l" pos="3772080"/>
                <a:tab algn="l" pos="4191120"/>
                <a:tab algn="l" pos="4610160"/>
                <a:tab algn="l" pos="5029200"/>
                <a:tab algn="l" pos="5448240"/>
                <a:tab algn="l" pos="5867280"/>
                <a:tab algn="l" pos="6286680"/>
                <a:tab algn="l" pos="6705720"/>
                <a:tab algn="l" pos="7124760"/>
                <a:tab algn="l" pos="7543800"/>
                <a:tab algn="l" pos="7962840"/>
                <a:tab algn="l" pos="838188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513160" y="2039760"/>
            <a:ext cx="1105920" cy="1109880"/>
          </a:xfrm>
          <a:prstGeom prst="rect">
            <a:avLst/>
          </a:prstGeom>
          <a:noFill/>
          <a:ln w="0">
            <a:noFill/>
          </a:ln>
        </p:spPr>
        <p:txBody>
          <a:bodyPr lIns="42120" rIns="42120" tIns="20880" bIns="2088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9040"/>
                <a:tab algn="l" pos="838080"/>
                <a:tab algn="l" pos="1257480"/>
                <a:tab algn="l" pos="1676520"/>
                <a:tab algn="l" pos="2095560"/>
                <a:tab algn="l" pos="2514600"/>
                <a:tab algn="l" pos="2933640"/>
                <a:tab algn="l" pos="3352680"/>
                <a:tab algn="l" pos="3772080"/>
                <a:tab algn="l" pos="4191120"/>
                <a:tab algn="l" pos="4610160"/>
                <a:tab algn="l" pos="5029200"/>
                <a:tab algn="l" pos="5448240"/>
                <a:tab algn="l" pos="5867280"/>
                <a:tab algn="l" pos="6286680"/>
                <a:tab algn="l" pos="6705720"/>
                <a:tab algn="l" pos="7124760"/>
                <a:tab algn="l" pos="7543800"/>
                <a:tab algn="l" pos="7962840"/>
                <a:tab algn="l" pos="838188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04D21-1755-4B84-84B2-73A188D15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0080" y="141120"/>
            <a:ext cx="3435480" cy="588960"/>
          </a:xfrm>
          <a:prstGeom prst="rect">
            <a:avLst/>
          </a:prstGeom>
          <a:noFill/>
          <a:ln w="0">
            <a:noFill/>
          </a:ln>
        </p:spPr>
        <p:txBody>
          <a:bodyPr lIns="42120" rIns="42120" tIns="20880" bIns="20880" anchor="ctr">
            <a:noAutofit/>
          </a:bodyPr>
          <a:p>
            <a:pPr indent="0" algn="ctr">
              <a:buNone/>
              <a:tabLst>
                <a:tab algn="l" pos="0"/>
                <a:tab algn="l" pos="419040"/>
                <a:tab algn="l" pos="838080"/>
                <a:tab algn="l" pos="1257480"/>
                <a:tab algn="l" pos="1676520"/>
                <a:tab algn="l" pos="2095560"/>
                <a:tab algn="l" pos="2514600"/>
                <a:tab algn="l" pos="2933640"/>
                <a:tab algn="l" pos="3352680"/>
                <a:tab algn="l" pos="3772080"/>
                <a:tab algn="l" pos="4191120"/>
                <a:tab algn="l" pos="4610160"/>
                <a:tab algn="l" pos="5029200"/>
                <a:tab algn="l" pos="5448240"/>
                <a:tab algn="l" pos="5867280"/>
                <a:tab algn="l" pos="6286680"/>
                <a:tab algn="l" pos="6705720"/>
                <a:tab algn="l" pos="7124760"/>
                <a:tab algn="l" pos="7543800"/>
                <a:tab algn="l" pos="7962840"/>
                <a:tab algn="l" pos="8381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90080" y="824040"/>
            <a:ext cx="3435480" cy="23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74"/>
              </a:spcBef>
              <a:buNone/>
              <a:tabLst>
                <a:tab algn="l" pos="0"/>
                <a:tab algn="l" pos="419040"/>
                <a:tab algn="l" pos="838080"/>
                <a:tab algn="l" pos="1257480"/>
                <a:tab algn="l" pos="1676520"/>
                <a:tab algn="l" pos="2095560"/>
                <a:tab algn="l" pos="2514600"/>
                <a:tab algn="l" pos="2933640"/>
                <a:tab algn="l" pos="3352680"/>
                <a:tab algn="l" pos="3772080"/>
                <a:tab algn="l" pos="4191120"/>
                <a:tab algn="l" pos="4610160"/>
                <a:tab algn="l" pos="5029200"/>
                <a:tab algn="l" pos="5448240"/>
                <a:tab algn="l" pos="5867280"/>
                <a:tab algn="l" pos="6286680"/>
                <a:tab algn="l" pos="6705720"/>
                <a:tab algn="l" pos="7124760"/>
                <a:tab algn="l" pos="7543800"/>
                <a:tab algn="l" pos="7962840"/>
                <a:tab algn="l" pos="838188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29361-C5F8-4F8A-8307-2E05176F1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0080" y="141120"/>
            <a:ext cx="3435480" cy="588960"/>
          </a:xfrm>
          <a:prstGeom prst="rect">
            <a:avLst/>
          </a:prstGeom>
          <a:noFill/>
          <a:ln w="0">
            <a:noFill/>
          </a:ln>
        </p:spPr>
        <p:txBody>
          <a:bodyPr lIns="42120" rIns="42120" tIns="20880" bIns="20880" anchor="ctr">
            <a:noAutofit/>
          </a:bodyPr>
          <a:p>
            <a:pPr indent="0" algn="ctr">
              <a:buNone/>
              <a:tabLst>
                <a:tab algn="l" pos="0"/>
                <a:tab algn="l" pos="419040"/>
                <a:tab algn="l" pos="838080"/>
                <a:tab algn="l" pos="1257480"/>
                <a:tab algn="l" pos="1676520"/>
                <a:tab algn="l" pos="2095560"/>
                <a:tab algn="l" pos="2514600"/>
                <a:tab algn="l" pos="2933640"/>
                <a:tab algn="l" pos="3352680"/>
                <a:tab algn="l" pos="3772080"/>
                <a:tab algn="l" pos="4191120"/>
                <a:tab algn="l" pos="4610160"/>
                <a:tab algn="l" pos="5029200"/>
                <a:tab algn="l" pos="5448240"/>
                <a:tab algn="l" pos="5867280"/>
                <a:tab algn="l" pos="6286680"/>
                <a:tab algn="l" pos="6705720"/>
                <a:tab algn="l" pos="7124760"/>
                <a:tab algn="l" pos="7543800"/>
                <a:tab algn="l" pos="7962840"/>
                <a:tab algn="l" pos="8381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90080" y="824040"/>
            <a:ext cx="3435480" cy="2327040"/>
          </a:xfrm>
          <a:prstGeom prst="rect">
            <a:avLst/>
          </a:prstGeom>
          <a:noFill/>
          <a:ln w="0">
            <a:noFill/>
          </a:ln>
        </p:spPr>
        <p:txBody>
          <a:bodyPr lIns="42120" rIns="42120" tIns="20880" bIns="2088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9040"/>
                <a:tab algn="l" pos="838080"/>
                <a:tab algn="l" pos="1257480"/>
                <a:tab algn="l" pos="1676520"/>
                <a:tab algn="l" pos="2095560"/>
                <a:tab algn="l" pos="2514600"/>
                <a:tab algn="l" pos="2933640"/>
                <a:tab algn="l" pos="3352680"/>
                <a:tab algn="l" pos="3772080"/>
                <a:tab algn="l" pos="4191120"/>
                <a:tab algn="l" pos="4610160"/>
                <a:tab algn="l" pos="5029200"/>
                <a:tab algn="l" pos="5448240"/>
                <a:tab algn="l" pos="5867280"/>
                <a:tab algn="l" pos="6286680"/>
                <a:tab algn="l" pos="6705720"/>
                <a:tab algn="l" pos="7124760"/>
                <a:tab algn="l" pos="7543800"/>
                <a:tab algn="l" pos="7962840"/>
                <a:tab algn="l" pos="838188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97DB6-7ACC-4D6F-805F-B31DB8E39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0080" y="141120"/>
            <a:ext cx="3435480" cy="588960"/>
          </a:xfrm>
          <a:prstGeom prst="rect">
            <a:avLst/>
          </a:prstGeom>
          <a:noFill/>
          <a:ln w="0">
            <a:noFill/>
          </a:ln>
        </p:spPr>
        <p:txBody>
          <a:bodyPr lIns="42120" rIns="42120" tIns="20880" bIns="20880" anchor="ctr">
            <a:noAutofit/>
          </a:bodyPr>
          <a:p>
            <a:pPr indent="0" algn="ctr">
              <a:buNone/>
              <a:tabLst>
                <a:tab algn="l" pos="0"/>
                <a:tab algn="l" pos="419040"/>
                <a:tab algn="l" pos="838080"/>
                <a:tab algn="l" pos="1257480"/>
                <a:tab algn="l" pos="1676520"/>
                <a:tab algn="l" pos="2095560"/>
                <a:tab algn="l" pos="2514600"/>
                <a:tab algn="l" pos="2933640"/>
                <a:tab algn="l" pos="3352680"/>
                <a:tab algn="l" pos="3772080"/>
                <a:tab algn="l" pos="4191120"/>
                <a:tab algn="l" pos="4610160"/>
                <a:tab algn="l" pos="5029200"/>
                <a:tab algn="l" pos="5448240"/>
                <a:tab algn="l" pos="5867280"/>
                <a:tab algn="l" pos="6286680"/>
                <a:tab algn="l" pos="6705720"/>
                <a:tab algn="l" pos="7124760"/>
                <a:tab algn="l" pos="7543800"/>
                <a:tab algn="l" pos="7962840"/>
                <a:tab algn="l" pos="8381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0080" y="824040"/>
            <a:ext cx="1676160" cy="2327040"/>
          </a:xfrm>
          <a:prstGeom prst="rect">
            <a:avLst/>
          </a:prstGeom>
          <a:noFill/>
          <a:ln w="0">
            <a:noFill/>
          </a:ln>
        </p:spPr>
        <p:txBody>
          <a:bodyPr lIns="42120" rIns="42120" tIns="20880" bIns="2088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9040"/>
                <a:tab algn="l" pos="838080"/>
                <a:tab algn="l" pos="1257480"/>
                <a:tab algn="l" pos="1676520"/>
                <a:tab algn="l" pos="2095560"/>
                <a:tab algn="l" pos="2514600"/>
                <a:tab algn="l" pos="2933640"/>
                <a:tab algn="l" pos="3352680"/>
                <a:tab algn="l" pos="3772080"/>
                <a:tab algn="l" pos="4191120"/>
                <a:tab algn="l" pos="4610160"/>
                <a:tab algn="l" pos="5029200"/>
                <a:tab algn="l" pos="5448240"/>
                <a:tab algn="l" pos="5867280"/>
                <a:tab algn="l" pos="6286680"/>
                <a:tab algn="l" pos="6705720"/>
                <a:tab algn="l" pos="7124760"/>
                <a:tab algn="l" pos="7543800"/>
                <a:tab algn="l" pos="7962840"/>
                <a:tab algn="l" pos="838188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950480" y="824040"/>
            <a:ext cx="1676160" cy="2327040"/>
          </a:xfrm>
          <a:prstGeom prst="rect">
            <a:avLst/>
          </a:prstGeom>
          <a:noFill/>
          <a:ln w="0">
            <a:noFill/>
          </a:ln>
        </p:spPr>
        <p:txBody>
          <a:bodyPr lIns="42120" rIns="42120" tIns="20880" bIns="2088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9040"/>
                <a:tab algn="l" pos="838080"/>
                <a:tab algn="l" pos="1257480"/>
                <a:tab algn="l" pos="1676520"/>
                <a:tab algn="l" pos="2095560"/>
                <a:tab algn="l" pos="2514600"/>
                <a:tab algn="l" pos="2933640"/>
                <a:tab algn="l" pos="3352680"/>
                <a:tab algn="l" pos="3772080"/>
                <a:tab algn="l" pos="4191120"/>
                <a:tab algn="l" pos="4610160"/>
                <a:tab algn="l" pos="5029200"/>
                <a:tab algn="l" pos="5448240"/>
                <a:tab algn="l" pos="5867280"/>
                <a:tab algn="l" pos="6286680"/>
                <a:tab algn="l" pos="6705720"/>
                <a:tab algn="l" pos="7124760"/>
                <a:tab algn="l" pos="7543800"/>
                <a:tab algn="l" pos="7962840"/>
                <a:tab algn="l" pos="838188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957E7-D62B-4C73-890D-1BCD454E0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0080" y="141120"/>
            <a:ext cx="3435480" cy="588960"/>
          </a:xfrm>
          <a:prstGeom prst="rect">
            <a:avLst/>
          </a:prstGeom>
          <a:noFill/>
          <a:ln w="0">
            <a:noFill/>
          </a:ln>
        </p:spPr>
        <p:txBody>
          <a:bodyPr lIns="42120" rIns="42120" tIns="20880" bIns="20880" anchor="ctr">
            <a:noAutofit/>
          </a:bodyPr>
          <a:p>
            <a:pPr indent="0" algn="ctr">
              <a:buNone/>
              <a:tabLst>
                <a:tab algn="l" pos="0"/>
                <a:tab algn="l" pos="419040"/>
                <a:tab algn="l" pos="838080"/>
                <a:tab algn="l" pos="1257480"/>
                <a:tab algn="l" pos="1676520"/>
                <a:tab algn="l" pos="2095560"/>
                <a:tab algn="l" pos="2514600"/>
                <a:tab algn="l" pos="2933640"/>
                <a:tab algn="l" pos="3352680"/>
                <a:tab algn="l" pos="3772080"/>
                <a:tab algn="l" pos="4191120"/>
                <a:tab algn="l" pos="4610160"/>
                <a:tab algn="l" pos="5029200"/>
                <a:tab algn="l" pos="5448240"/>
                <a:tab algn="l" pos="5867280"/>
                <a:tab algn="l" pos="6286680"/>
                <a:tab algn="l" pos="6705720"/>
                <a:tab algn="l" pos="7124760"/>
                <a:tab algn="l" pos="7543800"/>
                <a:tab algn="l" pos="7962840"/>
                <a:tab algn="l" pos="8381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F75A9-9070-45C4-B891-D89C7BC08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0080" y="141120"/>
            <a:ext cx="3435480" cy="273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74"/>
              </a:spcBef>
              <a:tabLst>
                <a:tab algn="l" pos="0"/>
                <a:tab algn="l" pos="419040"/>
                <a:tab algn="l" pos="838080"/>
                <a:tab algn="l" pos="1257480"/>
                <a:tab algn="l" pos="1676520"/>
                <a:tab algn="l" pos="2095560"/>
                <a:tab algn="l" pos="2514600"/>
                <a:tab algn="l" pos="2933640"/>
                <a:tab algn="l" pos="3352680"/>
                <a:tab algn="l" pos="3772080"/>
                <a:tab algn="l" pos="4191120"/>
                <a:tab algn="l" pos="4610160"/>
                <a:tab algn="l" pos="5029200"/>
                <a:tab algn="l" pos="5448240"/>
                <a:tab algn="l" pos="5867280"/>
                <a:tab algn="l" pos="6286680"/>
                <a:tab algn="l" pos="6705720"/>
                <a:tab algn="l" pos="7124760"/>
                <a:tab algn="l" pos="7543800"/>
                <a:tab algn="l" pos="7962840"/>
                <a:tab algn="l" pos="838188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6327D-4DFA-4458-98AA-154DCE581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0080" y="141120"/>
            <a:ext cx="3435480" cy="588960"/>
          </a:xfrm>
          <a:prstGeom prst="rect">
            <a:avLst/>
          </a:prstGeom>
          <a:noFill/>
          <a:ln w="0">
            <a:noFill/>
          </a:ln>
        </p:spPr>
        <p:txBody>
          <a:bodyPr lIns="42120" rIns="42120" tIns="20880" bIns="20880" anchor="ctr">
            <a:noAutofit/>
          </a:bodyPr>
          <a:p>
            <a:pPr indent="0" algn="ctr">
              <a:buNone/>
              <a:tabLst>
                <a:tab algn="l" pos="0"/>
                <a:tab algn="l" pos="419040"/>
                <a:tab algn="l" pos="838080"/>
                <a:tab algn="l" pos="1257480"/>
                <a:tab algn="l" pos="1676520"/>
                <a:tab algn="l" pos="2095560"/>
                <a:tab algn="l" pos="2514600"/>
                <a:tab algn="l" pos="2933640"/>
                <a:tab algn="l" pos="3352680"/>
                <a:tab algn="l" pos="3772080"/>
                <a:tab algn="l" pos="4191120"/>
                <a:tab algn="l" pos="4610160"/>
                <a:tab algn="l" pos="5029200"/>
                <a:tab algn="l" pos="5448240"/>
                <a:tab algn="l" pos="5867280"/>
                <a:tab algn="l" pos="6286680"/>
                <a:tab algn="l" pos="6705720"/>
                <a:tab algn="l" pos="7124760"/>
                <a:tab algn="l" pos="7543800"/>
                <a:tab algn="l" pos="7962840"/>
                <a:tab algn="l" pos="8381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90080" y="824040"/>
            <a:ext cx="1676160" cy="1109880"/>
          </a:xfrm>
          <a:prstGeom prst="rect">
            <a:avLst/>
          </a:prstGeom>
          <a:noFill/>
          <a:ln w="0">
            <a:noFill/>
          </a:ln>
        </p:spPr>
        <p:txBody>
          <a:bodyPr lIns="42120" rIns="42120" tIns="20880" bIns="2088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9040"/>
                <a:tab algn="l" pos="838080"/>
                <a:tab algn="l" pos="1257480"/>
                <a:tab algn="l" pos="1676520"/>
                <a:tab algn="l" pos="2095560"/>
                <a:tab algn="l" pos="2514600"/>
                <a:tab algn="l" pos="2933640"/>
                <a:tab algn="l" pos="3352680"/>
                <a:tab algn="l" pos="3772080"/>
                <a:tab algn="l" pos="4191120"/>
                <a:tab algn="l" pos="4610160"/>
                <a:tab algn="l" pos="5029200"/>
                <a:tab algn="l" pos="5448240"/>
                <a:tab algn="l" pos="5867280"/>
                <a:tab algn="l" pos="6286680"/>
                <a:tab algn="l" pos="6705720"/>
                <a:tab algn="l" pos="7124760"/>
                <a:tab algn="l" pos="7543800"/>
                <a:tab algn="l" pos="7962840"/>
                <a:tab algn="l" pos="838188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950480" y="824040"/>
            <a:ext cx="1676160" cy="2327040"/>
          </a:xfrm>
          <a:prstGeom prst="rect">
            <a:avLst/>
          </a:prstGeom>
          <a:noFill/>
          <a:ln w="0">
            <a:noFill/>
          </a:ln>
        </p:spPr>
        <p:txBody>
          <a:bodyPr lIns="42120" rIns="42120" tIns="20880" bIns="2088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9040"/>
                <a:tab algn="l" pos="838080"/>
                <a:tab algn="l" pos="1257480"/>
                <a:tab algn="l" pos="1676520"/>
                <a:tab algn="l" pos="2095560"/>
                <a:tab algn="l" pos="2514600"/>
                <a:tab algn="l" pos="2933640"/>
                <a:tab algn="l" pos="3352680"/>
                <a:tab algn="l" pos="3772080"/>
                <a:tab algn="l" pos="4191120"/>
                <a:tab algn="l" pos="4610160"/>
                <a:tab algn="l" pos="5029200"/>
                <a:tab algn="l" pos="5448240"/>
                <a:tab algn="l" pos="5867280"/>
                <a:tab algn="l" pos="6286680"/>
                <a:tab algn="l" pos="6705720"/>
                <a:tab algn="l" pos="7124760"/>
                <a:tab algn="l" pos="7543800"/>
                <a:tab algn="l" pos="7962840"/>
                <a:tab algn="l" pos="838188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90080" y="2039760"/>
            <a:ext cx="1676160" cy="1109880"/>
          </a:xfrm>
          <a:prstGeom prst="rect">
            <a:avLst/>
          </a:prstGeom>
          <a:noFill/>
          <a:ln w="0">
            <a:noFill/>
          </a:ln>
        </p:spPr>
        <p:txBody>
          <a:bodyPr lIns="42120" rIns="42120" tIns="20880" bIns="2088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9040"/>
                <a:tab algn="l" pos="838080"/>
                <a:tab algn="l" pos="1257480"/>
                <a:tab algn="l" pos="1676520"/>
                <a:tab algn="l" pos="2095560"/>
                <a:tab algn="l" pos="2514600"/>
                <a:tab algn="l" pos="2933640"/>
                <a:tab algn="l" pos="3352680"/>
                <a:tab algn="l" pos="3772080"/>
                <a:tab algn="l" pos="4191120"/>
                <a:tab algn="l" pos="4610160"/>
                <a:tab algn="l" pos="5029200"/>
                <a:tab algn="l" pos="5448240"/>
                <a:tab algn="l" pos="5867280"/>
                <a:tab algn="l" pos="6286680"/>
                <a:tab algn="l" pos="6705720"/>
                <a:tab algn="l" pos="7124760"/>
                <a:tab algn="l" pos="7543800"/>
                <a:tab algn="l" pos="7962840"/>
                <a:tab algn="l" pos="838188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E60D2-3C96-47A8-A565-04624F374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0080" y="141120"/>
            <a:ext cx="3435480" cy="588960"/>
          </a:xfrm>
          <a:prstGeom prst="rect">
            <a:avLst/>
          </a:prstGeom>
          <a:noFill/>
          <a:ln w="0">
            <a:noFill/>
          </a:ln>
        </p:spPr>
        <p:txBody>
          <a:bodyPr lIns="42120" rIns="42120" tIns="20880" bIns="20880" anchor="ctr">
            <a:noAutofit/>
          </a:bodyPr>
          <a:p>
            <a:pPr indent="0" algn="ctr">
              <a:buNone/>
              <a:tabLst>
                <a:tab algn="l" pos="0"/>
                <a:tab algn="l" pos="419040"/>
                <a:tab algn="l" pos="838080"/>
                <a:tab algn="l" pos="1257480"/>
                <a:tab algn="l" pos="1676520"/>
                <a:tab algn="l" pos="2095560"/>
                <a:tab algn="l" pos="2514600"/>
                <a:tab algn="l" pos="2933640"/>
                <a:tab algn="l" pos="3352680"/>
                <a:tab algn="l" pos="3772080"/>
                <a:tab algn="l" pos="4191120"/>
                <a:tab algn="l" pos="4610160"/>
                <a:tab algn="l" pos="5029200"/>
                <a:tab algn="l" pos="5448240"/>
                <a:tab algn="l" pos="5867280"/>
                <a:tab algn="l" pos="6286680"/>
                <a:tab algn="l" pos="6705720"/>
                <a:tab algn="l" pos="7124760"/>
                <a:tab algn="l" pos="7543800"/>
                <a:tab algn="l" pos="7962840"/>
                <a:tab algn="l" pos="8381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90080" y="824040"/>
            <a:ext cx="1676160" cy="2327040"/>
          </a:xfrm>
          <a:prstGeom prst="rect">
            <a:avLst/>
          </a:prstGeom>
          <a:noFill/>
          <a:ln w="0">
            <a:noFill/>
          </a:ln>
        </p:spPr>
        <p:txBody>
          <a:bodyPr lIns="42120" rIns="42120" tIns="20880" bIns="2088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9040"/>
                <a:tab algn="l" pos="838080"/>
                <a:tab algn="l" pos="1257480"/>
                <a:tab algn="l" pos="1676520"/>
                <a:tab algn="l" pos="2095560"/>
                <a:tab algn="l" pos="2514600"/>
                <a:tab algn="l" pos="2933640"/>
                <a:tab algn="l" pos="3352680"/>
                <a:tab algn="l" pos="3772080"/>
                <a:tab algn="l" pos="4191120"/>
                <a:tab algn="l" pos="4610160"/>
                <a:tab algn="l" pos="5029200"/>
                <a:tab algn="l" pos="5448240"/>
                <a:tab algn="l" pos="5867280"/>
                <a:tab algn="l" pos="6286680"/>
                <a:tab algn="l" pos="6705720"/>
                <a:tab algn="l" pos="7124760"/>
                <a:tab algn="l" pos="7543800"/>
                <a:tab algn="l" pos="7962840"/>
                <a:tab algn="l" pos="838188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950480" y="824040"/>
            <a:ext cx="1676160" cy="1109880"/>
          </a:xfrm>
          <a:prstGeom prst="rect">
            <a:avLst/>
          </a:prstGeom>
          <a:noFill/>
          <a:ln w="0">
            <a:noFill/>
          </a:ln>
        </p:spPr>
        <p:txBody>
          <a:bodyPr lIns="42120" rIns="42120" tIns="20880" bIns="2088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9040"/>
                <a:tab algn="l" pos="838080"/>
                <a:tab algn="l" pos="1257480"/>
                <a:tab algn="l" pos="1676520"/>
                <a:tab algn="l" pos="2095560"/>
                <a:tab algn="l" pos="2514600"/>
                <a:tab algn="l" pos="2933640"/>
                <a:tab algn="l" pos="3352680"/>
                <a:tab algn="l" pos="3772080"/>
                <a:tab algn="l" pos="4191120"/>
                <a:tab algn="l" pos="4610160"/>
                <a:tab algn="l" pos="5029200"/>
                <a:tab algn="l" pos="5448240"/>
                <a:tab algn="l" pos="5867280"/>
                <a:tab algn="l" pos="6286680"/>
                <a:tab algn="l" pos="6705720"/>
                <a:tab algn="l" pos="7124760"/>
                <a:tab algn="l" pos="7543800"/>
                <a:tab algn="l" pos="7962840"/>
                <a:tab algn="l" pos="838188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950480" y="2039760"/>
            <a:ext cx="1676160" cy="1109880"/>
          </a:xfrm>
          <a:prstGeom prst="rect">
            <a:avLst/>
          </a:prstGeom>
          <a:noFill/>
          <a:ln w="0">
            <a:noFill/>
          </a:ln>
        </p:spPr>
        <p:txBody>
          <a:bodyPr lIns="42120" rIns="42120" tIns="20880" bIns="2088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9040"/>
                <a:tab algn="l" pos="838080"/>
                <a:tab algn="l" pos="1257480"/>
                <a:tab algn="l" pos="1676520"/>
                <a:tab algn="l" pos="2095560"/>
                <a:tab algn="l" pos="2514600"/>
                <a:tab algn="l" pos="2933640"/>
                <a:tab algn="l" pos="3352680"/>
                <a:tab algn="l" pos="3772080"/>
                <a:tab algn="l" pos="4191120"/>
                <a:tab algn="l" pos="4610160"/>
                <a:tab algn="l" pos="5029200"/>
                <a:tab algn="l" pos="5448240"/>
                <a:tab algn="l" pos="5867280"/>
                <a:tab algn="l" pos="6286680"/>
                <a:tab algn="l" pos="6705720"/>
                <a:tab algn="l" pos="7124760"/>
                <a:tab algn="l" pos="7543800"/>
                <a:tab algn="l" pos="7962840"/>
                <a:tab algn="l" pos="838188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EEB71-A828-4802-A97D-9311C1472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0080" y="141120"/>
            <a:ext cx="3435480" cy="588960"/>
          </a:xfrm>
          <a:prstGeom prst="rect">
            <a:avLst/>
          </a:prstGeom>
          <a:noFill/>
          <a:ln w="0">
            <a:noFill/>
          </a:ln>
        </p:spPr>
        <p:txBody>
          <a:bodyPr lIns="42120" rIns="42120" tIns="20880" bIns="20880" anchor="ctr">
            <a:noAutofit/>
          </a:bodyPr>
          <a:p>
            <a:pPr indent="0" algn="ctr">
              <a:buNone/>
              <a:tabLst>
                <a:tab algn="l" pos="0"/>
                <a:tab algn="l" pos="419040"/>
                <a:tab algn="l" pos="838080"/>
                <a:tab algn="l" pos="1257480"/>
                <a:tab algn="l" pos="1676520"/>
                <a:tab algn="l" pos="2095560"/>
                <a:tab algn="l" pos="2514600"/>
                <a:tab algn="l" pos="2933640"/>
                <a:tab algn="l" pos="3352680"/>
                <a:tab algn="l" pos="3772080"/>
                <a:tab algn="l" pos="4191120"/>
                <a:tab algn="l" pos="4610160"/>
                <a:tab algn="l" pos="5029200"/>
                <a:tab algn="l" pos="5448240"/>
                <a:tab algn="l" pos="5867280"/>
                <a:tab algn="l" pos="6286680"/>
                <a:tab algn="l" pos="6705720"/>
                <a:tab algn="l" pos="7124760"/>
                <a:tab algn="l" pos="7543800"/>
                <a:tab algn="l" pos="7962840"/>
                <a:tab algn="l" pos="8381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90080" y="824040"/>
            <a:ext cx="1676160" cy="1109880"/>
          </a:xfrm>
          <a:prstGeom prst="rect">
            <a:avLst/>
          </a:prstGeom>
          <a:noFill/>
          <a:ln w="0">
            <a:noFill/>
          </a:ln>
        </p:spPr>
        <p:txBody>
          <a:bodyPr lIns="42120" rIns="42120" tIns="20880" bIns="2088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9040"/>
                <a:tab algn="l" pos="838080"/>
                <a:tab algn="l" pos="1257480"/>
                <a:tab algn="l" pos="1676520"/>
                <a:tab algn="l" pos="2095560"/>
                <a:tab algn="l" pos="2514600"/>
                <a:tab algn="l" pos="2933640"/>
                <a:tab algn="l" pos="3352680"/>
                <a:tab algn="l" pos="3772080"/>
                <a:tab algn="l" pos="4191120"/>
                <a:tab algn="l" pos="4610160"/>
                <a:tab algn="l" pos="5029200"/>
                <a:tab algn="l" pos="5448240"/>
                <a:tab algn="l" pos="5867280"/>
                <a:tab algn="l" pos="6286680"/>
                <a:tab algn="l" pos="6705720"/>
                <a:tab algn="l" pos="7124760"/>
                <a:tab algn="l" pos="7543800"/>
                <a:tab algn="l" pos="7962840"/>
                <a:tab algn="l" pos="838188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950480" y="824040"/>
            <a:ext cx="1676160" cy="1109880"/>
          </a:xfrm>
          <a:prstGeom prst="rect">
            <a:avLst/>
          </a:prstGeom>
          <a:noFill/>
          <a:ln w="0">
            <a:noFill/>
          </a:ln>
        </p:spPr>
        <p:txBody>
          <a:bodyPr lIns="42120" rIns="42120" tIns="20880" bIns="2088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9040"/>
                <a:tab algn="l" pos="838080"/>
                <a:tab algn="l" pos="1257480"/>
                <a:tab algn="l" pos="1676520"/>
                <a:tab algn="l" pos="2095560"/>
                <a:tab algn="l" pos="2514600"/>
                <a:tab algn="l" pos="2933640"/>
                <a:tab algn="l" pos="3352680"/>
                <a:tab algn="l" pos="3772080"/>
                <a:tab algn="l" pos="4191120"/>
                <a:tab algn="l" pos="4610160"/>
                <a:tab algn="l" pos="5029200"/>
                <a:tab algn="l" pos="5448240"/>
                <a:tab algn="l" pos="5867280"/>
                <a:tab algn="l" pos="6286680"/>
                <a:tab algn="l" pos="6705720"/>
                <a:tab algn="l" pos="7124760"/>
                <a:tab algn="l" pos="7543800"/>
                <a:tab algn="l" pos="7962840"/>
                <a:tab algn="l" pos="838188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90080" y="2039760"/>
            <a:ext cx="3435480" cy="1109880"/>
          </a:xfrm>
          <a:prstGeom prst="rect">
            <a:avLst/>
          </a:prstGeom>
          <a:noFill/>
          <a:ln w="0">
            <a:noFill/>
          </a:ln>
        </p:spPr>
        <p:txBody>
          <a:bodyPr lIns="42120" rIns="42120" tIns="20880" bIns="2088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9040"/>
                <a:tab algn="l" pos="838080"/>
                <a:tab algn="l" pos="1257480"/>
                <a:tab algn="l" pos="1676520"/>
                <a:tab algn="l" pos="2095560"/>
                <a:tab algn="l" pos="2514600"/>
                <a:tab algn="l" pos="2933640"/>
                <a:tab algn="l" pos="3352680"/>
                <a:tab algn="l" pos="3772080"/>
                <a:tab algn="l" pos="4191120"/>
                <a:tab algn="l" pos="4610160"/>
                <a:tab algn="l" pos="5029200"/>
                <a:tab algn="l" pos="5448240"/>
                <a:tab algn="l" pos="5867280"/>
                <a:tab algn="l" pos="6286680"/>
                <a:tab algn="l" pos="6705720"/>
                <a:tab algn="l" pos="7124760"/>
                <a:tab algn="l" pos="7543800"/>
                <a:tab algn="l" pos="7962840"/>
                <a:tab algn="l" pos="838188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D0C7B-536B-44D9-9E7E-D4A35F568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0080" y="141120"/>
            <a:ext cx="3435480" cy="588960"/>
          </a:xfrm>
          <a:prstGeom prst="rect">
            <a:avLst/>
          </a:prstGeom>
          <a:noFill/>
          <a:ln w="0">
            <a:noFill/>
          </a:ln>
        </p:spPr>
        <p:txBody>
          <a:bodyPr lIns="42120" rIns="42120" tIns="20880" bIns="20880" anchor="ctr">
            <a:noAutofit/>
          </a:bodyPr>
          <a:p>
            <a:pPr indent="0" algn="ctr">
              <a:buNone/>
              <a:tabLst>
                <a:tab algn="l" pos="0"/>
                <a:tab algn="l" pos="419040"/>
                <a:tab algn="l" pos="838080"/>
                <a:tab algn="l" pos="1257480"/>
                <a:tab algn="l" pos="1676520"/>
                <a:tab algn="l" pos="2095560"/>
                <a:tab algn="l" pos="2514600"/>
                <a:tab algn="l" pos="2933640"/>
                <a:tab algn="l" pos="3352680"/>
                <a:tab algn="l" pos="3772080"/>
                <a:tab algn="l" pos="4191120"/>
                <a:tab algn="l" pos="4610160"/>
                <a:tab algn="l" pos="5029200"/>
                <a:tab algn="l" pos="5448240"/>
                <a:tab algn="l" pos="5867280"/>
                <a:tab algn="l" pos="6286680"/>
                <a:tab algn="l" pos="6705720"/>
                <a:tab algn="l" pos="7124760"/>
                <a:tab algn="l" pos="7543800"/>
                <a:tab algn="l" pos="7962840"/>
                <a:tab algn="l" pos="8381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90080" y="824040"/>
            <a:ext cx="3435480" cy="2327040"/>
          </a:xfrm>
          <a:prstGeom prst="rect">
            <a:avLst/>
          </a:prstGeom>
          <a:noFill/>
          <a:ln w="0">
            <a:noFill/>
          </a:ln>
        </p:spPr>
        <p:txBody>
          <a:bodyPr lIns="42120" rIns="42120" tIns="20880" bIns="20880" anchor="t">
            <a:normAutofit/>
          </a:bodyPr>
          <a:p>
            <a:pPr marL="157320" indent="-15732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419040"/>
                <a:tab algn="l" pos="838080"/>
                <a:tab algn="l" pos="1257480"/>
                <a:tab algn="l" pos="1676520"/>
                <a:tab algn="l" pos="2095560"/>
                <a:tab algn="l" pos="2514600"/>
                <a:tab algn="l" pos="2933640"/>
                <a:tab algn="l" pos="3352680"/>
                <a:tab algn="l" pos="3772080"/>
                <a:tab algn="l" pos="4191120"/>
                <a:tab algn="l" pos="4610160"/>
                <a:tab algn="l" pos="5029200"/>
                <a:tab algn="l" pos="5448240"/>
                <a:tab algn="l" pos="5867280"/>
                <a:tab algn="l" pos="6286680"/>
                <a:tab algn="l" pos="6705720"/>
                <a:tab algn="l" pos="7124760"/>
                <a:tab algn="l" pos="7543800"/>
                <a:tab algn="l" pos="7962840"/>
                <a:tab algn="l" pos="83818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31760"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419040"/>
                <a:tab algn="l" pos="838080"/>
                <a:tab algn="l" pos="1257480"/>
                <a:tab algn="l" pos="1676520"/>
                <a:tab algn="l" pos="2095560"/>
                <a:tab algn="l" pos="2514600"/>
                <a:tab algn="l" pos="2933640"/>
                <a:tab algn="l" pos="3352680"/>
                <a:tab algn="l" pos="3772080"/>
                <a:tab algn="l" pos="4191120"/>
                <a:tab algn="l" pos="4610160"/>
                <a:tab algn="l" pos="5029200"/>
                <a:tab algn="l" pos="5448240"/>
                <a:tab algn="l" pos="5867280"/>
                <a:tab algn="l" pos="6286680"/>
                <a:tab algn="l" pos="6705720"/>
                <a:tab algn="l" pos="7124760"/>
                <a:tab algn="l" pos="7543800"/>
                <a:tab algn="l" pos="7962840"/>
                <a:tab algn="l" pos="83818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523800" indent="-10476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419040"/>
                <a:tab algn="l" pos="838080"/>
                <a:tab algn="l" pos="1257480"/>
                <a:tab algn="l" pos="1676520"/>
                <a:tab algn="l" pos="2095560"/>
                <a:tab algn="l" pos="2514600"/>
                <a:tab algn="l" pos="2933640"/>
                <a:tab algn="l" pos="3352680"/>
                <a:tab algn="l" pos="3772080"/>
                <a:tab algn="l" pos="4191120"/>
                <a:tab algn="l" pos="4610160"/>
                <a:tab algn="l" pos="5029200"/>
                <a:tab algn="l" pos="5448240"/>
                <a:tab algn="l" pos="5867280"/>
                <a:tab algn="l" pos="6286680"/>
                <a:tab algn="l" pos="6705720"/>
                <a:tab algn="l" pos="7124760"/>
                <a:tab algn="l" pos="7543800"/>
                <a:tab algn="l" pos="7962840"/>
                <a:tab algn="l" pos="83818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3" marL="735120" indent="-104760"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419040"/>
                <a:tab algn="l" pos="838080"/>
                <a:tab algn="l" pos="1257480"/>
                <a:tab algn="l" pos="1676520"/>
                <a:tab algn="l" pos="2095560"/>
                <a:tab algn="l" pos="2514600"/>
                <a:tab algn="l" pos="2933640"/>
                <a:tab algn="l" pos="3352680"/>
                <a:tab algn="l" pos="3772080"/>
                <a:tab algn="l" pos="4191120"/>
                <a:tab algn="l" pos="4610160"/>
                <a:tab algn="l" pos="5029200"/>
                <a:tab algn="l" pos="5448240"/>
                <a:tab algn="l" pos="5867280"/>
                <a:tab algn="l" pos="6286680"/>
                <a:tab algn="l" pos="6705720"/>
                <a:tab algn="l" pos="7124760"/>
                <a:tab algn="l" pos="7543800"/>
                <a:tab algn="l" pos="7962840"/>
                <a:tab algn="l" pos="83818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944640" indent="-104760">
              <a:spcBef>
                <a:spcPts val="374"/>
              </a:spcBef>
              <a:buClr>
                <a:srgbClr val="000000"/>
              </a:buClr>
              <a:buFont typeface="Arial"/>
              <a:buChar char="»"/>
              <a:tabLst>
                <a:tab algn="l" pos="419040"/>
                <a:tab algn="l" pos="838080"/>
                <a:tab algn="l" pos="1257480"/>
                <a:tab algn="l" pos="1676520"/>
                <a:tab algn="l" pos="2095560"/>
                <a:tab algn="l" pos="2514600"/>
                <a:tab algn="l" pos="2933640"/>
                <a:tab algn="l" pos="3352680"/>
                <a:tab algn="l" pos="3772080"/>
                <a:tab algn="l" pos="4191120"/>
                <a:tab algn="l" pos="4610160"/>
                <a:tab algn="l" pos="5029200"/>
                <a:tab algn="l" pos="5448240"/>
                <a:tab algn="l" pos="5867280"/>
                <a:tab algn="l" pos="6286680"/>
                <a:tab algn="l" pos="6705720"/>
                <a:tab algn="l" pos="7124760"/>
                <a:tab algn="l" pos="7543800"/>
                <a:tab algn="l" pos="7962840"/>
                <a:tab algn="l" pos="83818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5" marL="944640" indent="-104760">
              <a:spcBef>
                <a:spcPts val="374"/>
              </a:spcBef>
              <a:buClr>
                <a:srgbClr val="000000"/>
              </a:buClr>
              <a:buFont typeface="Arial"/>
              <a:buChar char="»"/>
              <a:tabLst>
                <a:tab algn="l" pos="419040"/>
                <a:tab algn="l" pos="838080"/>
                <a:tab algn="l" pos="1257480"/>
                <a:tab algn="l" pos="1676520"/>
                <a:tab algn="l" pos="2095560"/>
                <a:tab algn="l" pos="2514600"/>
                <a:tab algn="l" pos="2933640"/>
                <a:tab algn="l" pos="3352680"/>
                <a:tab algn="l" pos="3772080"/>
                <a:tab algn="l" pos="4191120"/>
                <a:tab algn="l" pos="4610160"/>
                <a:tab algn="l" pos="5029200"/>
                <a:tab algn="l" pos="5448240"/>
                <a:tab algn="l" pos="5867280"/>
                <a:tab algn="l" pos="6286680"/>
                <a:tab algn="l" pos="6705720"/>
                <a:tab algn="l" pos="7124760"/>
                <a:tab algn="l" pos="7543800"/>
                <a:tab algn="l" pos="7962840"/>
                <a:tab algn="l" pos="83818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6" marL="944640" indent="-104760">
              <a:spcBef>
                <a:spcPts val="374"/>
              </a:spcBef>
              <a:buClr>
                <a:srgbClr val="000000"/>
              </a:buClr>
              <a:buFont typeface="Arial"/>
              <a:buChar char="»"/>
              <a:tabLst>
                <a:tab algn="l" pos="419040"/>
                <a:tab algn="l" pos="838080"/>
                <a:tab algn="l" pos="1257480"/>
                <a:tab algn="l" pos="1676520"/>
                <a:tab algn="l" pos="2095560"/>
                <a:tab algn="l" pos="2514600"/>
                <a:tab algn="l" pos="2933640"/>
                <a:tab algn="l" pos="3352680"/>
                <a:tab algn="l" pos="3772080"/>
                <a:tab algn="l" pos="4191120"/>
                <a:tab algn="l" pos="4610160"/>
                <a:tab algn="l" pos="5029200"/>
                <a:tab algn="l" pos="5448240"/>
                <a:tab algn="l" pos="5867280"/>
                <a:tab algn="l" pos="6286680"/>
                <a:tab algn="l" pos="6705720"/>
                <a:tab algn="l" pos="7124760"/>
                <a:tab algn="l" pos="7543800"/>
                <a:tab algn="l" pos="7962840"/>
                <a:tab algn="l" pos="83818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90440" y="3213000"/>
            <a:ext cx="890640" cy="246240"/>
          </a:xfrm>
          <a:prstGeom prst="rect">
            <a:avLst/>
          </a:prstGeom>
          <a:noFill/>
          <a:ln w="0">
            <a:noFill/>
          </a:ln>
        </p:spPr>
        <p:txBody>
          <a:bodyPr lIns="42120" rIns="42120" tIns="20880" bIns="20880" anchor="t">
            <a:noAutofit/>
          </a:bodyPr>
          <a:lstStyle>
            <a:lvl1pPr indent="0">
              <a:buNone/>
              <a:tabLst>
                <a:tab algn="l" pos="0"/>
                <a:tab algn="l" pos="419040"/>
                <a:tab algn="l" pos="838080"/>
                <a:tab algn="l" pos="1257480"/>
                <a:tab algn="l" pos="1676520"/>
                <a:tab algn="l" pos="2095560"/>
                <a:tab algn="l" pos="2514600"/>
                <a:tab algn="l" pos="2933640"/>
                <a:tab algn="l" pos="3352680"/>
                <a:tab algn="l" pos="3772080"/>
                <a:tab algn="l" pos="4191120"/>
                <a:tab algn="l" pos="4610160"/>
                <a:tab algn="l" pos="5029200"/>
                <a:tab algn="l" pos="5448240"/>
                <a:tab algn="l" pos="5867280"/>
                <a:tab algn="l" pos="6286680"/>
                <a:tab algn="l" pos="6705720"/>
                <a:tab algn="l" pos="7124760"/>
                <a:tab algn="l" pos="7543800"/>
                <a:tab algn="l" pos="7962840"/>
                <a:tab algn="l" pos="8381880"/>
              </a:tabLst>
              <a:defRPr b="0" lang="en-US" sz="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19040"/>
                <a:tab algn="l" pos="838080"/>
                <a:tab algn="l" pos="1257480"/>
                <a:tab algn="l" pos="1676520"/>
                <a:tab algn="l" pos="2095560"/>
                <a:tab algn="l" pos="2514600"/>
                <a:tab algn="l" pos="2933640"/>
                <a:tab algn="l" pos="3352680"/>
                <a:tab algn="l" pos="3772080"/>
                <a:tab algn="l" pos="4191120"/>
                <a:tab algn="l" pos="4610160"/>
                <a:tab algn="l" pos="5029200"/>
                <a:tab algn="l" pos="5448240"/>
                <a:tab algn="l" pos="5867280"/>
                <a:tab algn="l" pos="6286680"/>
                <a:tab algn="l" pos="6705720"/>
                <a:tab algn="l" pos="7124760"/>
                <a:tab algn="l" pos="7543800"/>
                <a:tab algn="l" pos="7962840"/>
                <a:tab algn="l" pos="838188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304640" y="3213000"/>
            <a:ext cx="1206360" cy="246240"/>
          </a:xfrm>
          <a:prstGeom prst="rect">
            <a:avLst/>
          </a:prstGeom>
          <a:noFill/>
          <a:ln w="0">
            <a:noFill/>
          </a:ln>
        </p:spPr>
        <p:txBody>
          <a:bodyPr lIns="42120" rIns="42120" tIns="20880" bIns="20880" anchor="t">
            <a:noAutofit/>
          </a:bodyPr>
          <a:lstStyle>
            <a:lvl1pPr indent="0" algn="ctr">
              <a:buNone/>
              <a:tabLst>
                <a:tab algn="l" pos="0"/>
                <a:tab algn="l" pos="419040"/>
                <a:tab algn="l" pos="838080"/>
                <a:tab algn="l" pos="1257480"/>
                <a:tab algn="l" pos="1676520"/>
                <a:tab algn="l" pos="2095560"/>
                <a:tab algn="l" pos="2514600"/>
                <a:tab algn="l" pos="2933640"/>
                <a:tab algn="l" pos="3352680"/>
                <a:tab algn="l" pos="3772080"/>
                <a:tab algn="l" pos="4191120"/>
                <a:tab algn="l" pos="4610160"/>
                <a:tab algn="l" pos="5029200"/>
                <a:tab algn="l" pos="5448240"/>
                <a:tab algn="l" pos="5867280"/>
                <a:tab algn="l" pos="6286680"/>
                <a:tab algn="l" pos="6705720"/>
                <a:tab algn="l" pos="7124760"/>
                <a:tab algn="l" pos="7543800"/>
                <a:tab algn="l" pos="7962840"/>
                <a:tab algn="l" pos="8381880"/>
              </a:tabLst>
              <a:defRPr b="0" lang="en-US" sz="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19040"/>
                <a:tab algn="l" pos="838080"/>
                <a:tab algn="l" pos="1257480"/>
                <a:tab algn="l" pos="1676520"/>
                <a:tab algn="l" pos="2095560"/>
                <a:tab algn="l" pos="2514600"/>
                <a:tab algn="l" pos="2933640"/>
                <a:tab algn="l" pos="3352680"/>
                <a:tab algn="l" pos="3772080"/>
                <a:tab algn="l" pos="4191120"/>
                <a:tab algn="l" pos="4610160"/>
                <a:tab algn="l" pos="5029200"/>
                <a:tab algn="l" pos="5448240"/>
                <a:tab algn="l" pos="5867280"/>
                <a:tab algn="l" pos="6286680"/>
                <a:tab algn="l" pos="6705720"/>
                <a:tab algn="l" pos="7124760"/>
                <a:tab algn="l" pos="7543800"/>
                <a:tab algn="l" pos="7962840"/>
                <a:tab algn="l" pos="838188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735280" y="3213000"/>
            <a:ext cx="890640" cy="246240"/>
          </a:xfrm>
          <a:prstGeom prst="rect">
            <a:avLst/>
          </a:prstGeom>
          <a:noFill/>
          <a:ln w="0">
            <a:noFill/>
          </a:ln>
        </p:spPr>
        <p:txBody>
          <a:bodyPr lIns="42120" rIns="42120" tIns="20880" bIns="20880" anchor="t">
            <a:noAutofit/>
          </a:bodyPr>
          <a:lstStyle>
            <a:lvl1pPr indent="0" algn="r">
              <a:buNone/>
              <a:tabLst>
                <a:tab algn="l" pos="0"/>
                <a:tab algn="l" pos="419040"/>
                <a:tab algn="l" pos="838080"/>
                <a:tab algn="l" pos="1257480"/>
                <a:tab algn="l" pos="1676520"/>
                <a:tab algn="l" pos="2095560"/>
                <a:tab algn="l" pos="2514600"/>
                <a:tab algn="l" pos="2933640"/>
                <a:tab algn="l" pos="3352680"/>
                <a:tab algn="l" pos="3772080"/>
                <a:tab algn="l" pos="4191120"/>
                <a:tab algn="l" pos="4610160"/>
                <a:tab algn="l" pos="5029200"/>
                <a:tab algn="l" pos="5448240"/>
                <a:tab algn="l" pos="5867280"/>
                <a:tab algn="l" pos="6286680"/>
                <a:tab algn="l" pos="6705720"/>
                <a:tab algn="l" pos="7124760"/>
                <a:tab algn="l" pos="7543800"/>
                <a:tab algn="l" pos="7962840"/>
                <a:tab algn="l" pos="8381880"/>
              </a:tabLst>
              <a:defRPr b="0" lang="en-US" sz="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19040"/>
                <a:tab algn="l" pos="838080"/>
                <a:tab algn="l" pos="1257480"/>
                <a:tab algn="l" pos="1676520"/>
                <a:tab algn="l" pos="2095560"/>
                <a:tab algn="l" pos="2514600"/>
                <a:tab algn="l" pos="2933640"/>
                <a:tab algn="l" pos="3352680"/>
                <a:tab algn="l" pos="3772080"/>
                <a:tab algn="l" pos="4191120"/>
                <a:tab algn="l" pos="4610160"/>
                <a:tab algn="l" pos="5029200"/>
                <a:tab algn="l" pos="5448240"/>
                <a:tab algn="l" pos="5867280"/>
                <a:tab algn="l" pos="6286680"/>
                <a:tab algn="l" pos="6705720"/>
                <a:tab algn="l" pos="7124760"/>
                <a:tab algn="l" pos="7543800"/>
                <a:tab algn="l" pos="7962840"/>
                <a:tab algn="l" pos="8381880"/>
              </a:tabLst>
            </a:pPr>
            <a:fld id="{26F697D8-0900-4795-84E0-F5031B189641}" type="slidenum">
              <a:rPr b="0" lang="en-US" sz="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31680" y="36360"/>
            <a:ext cx="3747960" cy="3456000"/>
            <a:chOff x="31680" y="36360"/>
            <a:chExt cx="3747960" cy="3456000"/>
          </a:xfrm>
        </p:grpSpPr>
        <p:sp>
          <p:nvSpPr>
            <p:cNvPr id="42" name=""/>
            <p:cNvSpPr/>
            <p:nvPr/>
          </p:nvSpPr>
          <p:spPr>
            <a:xfrm>
              <a:off x="33120" y="36360"/>
              <a:ext cx="792360" cy="7192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2985840" y="36360"/>
              <a:ext cx="792360" cy="7192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4" name=""/>
            <p:cNvCxnSpPr>
              <a:stCxn id="42" idx="3"/>
              <a:endCxn id="43" idx="1"/>
            </p:cNvCxnSpPr>
            <p:nvPr/>
          </p:nvCxnSpPr>
          <p:spPr>
            <a:xfrm>
              <a:off x="825480" y="396000"/>
              <a:ext cx="2160720" cy="3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lg" type="arrow" w="lg"/>
            </a:ln>
          </p:spPr>
        </p:cxnSp>
        <p:sp>
          <p:nvSpPr>
            <p:cNvPr id="45" name=""/>
            <p:cNvSpPr/>
            <p:nvPr/>
          </p:nvSpPr>
          <p:spPr>
            <a:xfrm>
              <a:off x="1690560" y="3636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3120" y="1117440"/>
              <a:ext cx="505080" cy="5032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985840" y="1260360"/>
              <a:ext cx="792360" cy="7192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8" name=""/>
            <p:cNvCxnSpPr>
              <a:stCxn id="49" idx="3"/>
              <a:endCxn id="47" idx="1"/>
            </p:cNvCxnSpPr>
            <p:nvPr/>
          </p:nvCxnSpPr>
          <p:spPr>
            <a:xfrm>
              <a:off x="2554200" y="1620000"/>
              <a:ext cx="432000" cy="3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lg" type="arrow" w="lg"/>
            </a:ln>
          </p:spPr>
        </p:cxnSp>
        <p:sp>
          <p:nvSpPr>
            <p:cNvPr id="50" name=""/>
            <p:cNvSpPr/>
            <p:nvPr/>
          </p:nvSpPr>
          <p:spPr>
            <a:xfrm>
              <a:off x="31680" y="1693800"/>
              <a:ext cx="504720" cy="5032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977840" y="1476360"/>
              <a:ext cx="576360" cy="2872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1" name=""/>
            <p:cNvCxnSpPr>
              <a:stCxn id="46" idx="3"/>
              <a:endCxn id="49" idx="1"/>
            </p:cNvCxnSpPr>
            <p:nvPr/>
          </p:nvCxnSpPr>
          <p:spPr>
            <a:xfrm>
              <a:off x="538200" y="1369080"/>
              <a:ext cx="1440000" cy="2512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lg" type="arrow" w="lg"/>
            </a:ln>
          </p:spPr>
        </p:cxnSp>
        <p:cxnSp>
          <p:nvCxnSpPr>
            <p:cNvPr id="52" name=""/>
            <p:cNvCxnSpPr>
              <a:stCxn id="50" idx="3"/>
              <a:endCxn id="49" idx="1"/>
            </p:cNvCxnSpPr>
            <p:nvPr/>
          </p:nvCxnSpPr>
          <p:spPr>
            <a:xfrm flipV="1">
              <a:off x="536400" y="1620000"/>
              <a:ext cx="1441800" cy="3258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lg" type="arrow" w="lg"/>
            </a:ln>
          </p:spPr>
        </p:cxnSp>
        <p:sp>
          <p:nvSpPr>
            <p:cNvPr id="53" name=""/>
            <p:cNvSpPr/>
            <p:nvPr/>
          </p:nvSpPr>
          <p:spPr>
            <a:xfrm>
              <a:off x="34920" y="2413080"/>
              <a:ext cx="504720" cy="5032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4" name=""/>
            <p:cNvCxnSpPr>
              <a:stCxn id="55" idx="3"/>
              <a:endCxn id="56" idx="1"/>
            </p:cNvCxnSpPr>
            <p:nvPr/>
          </p:nvCxnSpPr>
          <p:spPr>
            <a:xfrm flipV="1">
              <a:off x="2263680" y="2664720"/>
              <a:ext cx="1011600" cy="2516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lg" type="arrow" w="lg"/>
            </a:ln>
          </p:spPr>
        </p:cxnSp>
        <p:sp>
          <p:nvSpPr>
            <p:cNvPr id="57" name=""/>
            <p:cNvSpPr/>
            <p:nvPr/>
          </p:nvSpPr>
          <p:spPr>
            <a:xfrm>
              <a:off x="33120" y="2989080"/>
              <a:ext cx="505080" cy="5032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544400" y="2700360"/>
              <a:ext cx="719280" cy="4316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8" name=""/>
            <p:cNvCxnSpPr>
              <a:stCxn id="53" idx="3"/>
              <a:endCxn id="55" idx="1"/>
            </p:cNvCxnSpPr>
            <p:nvPr/>
          </p:nvCxnSpPr>
          <p:spPr>
            <a:xfrm>
              <a:off x="539640" y="2664720"/>
              <a:ext cx="1005120" cy="2516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lg" type="arrow" w="lg"/>
            </a:ln>
          </p:spPr>
        </p:cxnSp>
        <p:cxnSp>
          <p:nvCxnSpPr>
            <p:cNvPr id="59" name=""/>
            <p:cNvCxnSpPr>
              <a:stCxn id="57" idx="3"/>
              <a:endCxn id="55" idx="1"/>
            </p:cNvCxnSpPr>
            <p:nvPr/>
          </p:nvCxnSpPr>
          <p:spPr>
            <a:xfrm flipV="1">
              <a:off x="538200" y="2916000"/>
              <a:ext cx="1006560" cy="3250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lg" type="arrow" w="lg"/>
            </a:ln>
          </p:spPr>
        </p:cxnSp>
        <p:sp>
          <p:nvSpPr>
            <p:cNvPr id="56" name=""/>
            <p:cNvSpPr/>
            <p:nvPr/>
          </p:nvSpPr>
          <p:spPr>
            <a:xfrm>
              <a:off x="3274920" y="2413080"/>
              <a:ext cx="504720" cy="5032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E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273480" y="2989080"/>
              <a:ext cx="504720" cy="5032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E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1" name=""/>
            <p:cNvCxnSpPr>
              <a:stCxn id="55" idx="3"/>
              <a:endCxn id="60" idx="1"/>
            </p:cNvCxnSpPr>
            <p:nvPr/>
          </p:nvCxnSpPr>
          <p:spPr>
            <a:xfrm>
              <a:off x="2263680" y="2916000"/>
              <a:ext cx="1010160" cy="3250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lg" type="arrow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7T15:44:17Z</dcterms:created>
  <dc:creator>x</dc:creator>
  <dc:description/>
  <dc:language>en-US</dc:language>
  <cp:lastModifiedBy>x</cp:lastModifiedBy>
  <dcterms:modified xsi:type="dcterms:W3CDTF">2009-02-17T15:47:21Z</dcterms:modified>
  <cp:revision>2</cp:revision>
  <dc:subject/>
  <dc:title>Folie 1</dc:title>
</cp:coreProperties>
</file>