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491413" cy="63722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1968-1998-4A4F-9870-EED33BBA9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4400" y="255600"/>
            <a:ext cx="6740280" cy="10634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4400" y="1487520"/>
            <a:ext cx="6740280" cy="20066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4400" y="3685320"/>
            <a:ext cx="6740280" cy="20066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3F4E-6DBD-405C-BBCF-0FE76F61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4400" y="255600"/>
            <a:ext cx="6740280" cy="10634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4400" y="1487520"/>
            <a:ext cx="3288960" cy="20066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28240" y="1487520"/>
            <a:ext cx="3288960" cy="20066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4400" y="3685320"/>
            <a:ext cx="3288960" cy="20066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28240" y="3685320"/>
            <a:ext cx="3288960" cy="20066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87E1-3936-4D79-BCF3-CC96F4801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4400" y="255600"/>
            <a:ext cx="6740280" cy="10634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4400" y="1487520"/>
            <a:ext cx="2170080" cy="20066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53200" y="1487520"/>
            <a:ext cx="2170080" cy="20066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32360" y="1487520"/>
            <a:ext cx="2170080" cy="20066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4400" y="3685320"/>
            <a:ext cx="2170080" cy="20066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53200" y="3685320"/>
            <a:ext cx="2170080" cy="20066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32360" y="3685320"/>
            <a:ext cx="2170080" cy="20066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7C84-2E16-4562-A192-A39F0D201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4400" y="255600"/>
            <a:ext cx="6740280" cy="10634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4400" y="1487520"/>
            <a:ext cx="674028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4FF9-0833-4348-8846-BF1882ED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4400" y="255600"/>
            <a:ext cx="6740280" cy="10634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4400" y="1487520"/>
            <a:ext cx="6740280" cy="4206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7BC4-7C5B-4E92-ABD7-12EB1452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4400" y="255600"/>
            <a:ext cx="6740280" cy="10634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4400" y="1487520"/>
            <a:ext cx="3288960" cy="4206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28240" y="1487520"/>
            <a:ext cx="3288960" cy="4206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7DF5-C0F1-4AFB-A4F9-0A64FA14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4400" y="255600"/>
            <a:ext cx="6740280" cy="10634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03FE-A627-43C7-A8F0-1AA62592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4400" y="255600"/>
            <a:ext cx="6740280" cy="49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7F7B-E64B-4099-98B9-595C5104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4400" y="255600"/>
            <a:ext cx="6740280" cy="10634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4400" y="1487520"/>
            <a:ext cx="3288960" cy="20066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28240" y="1487520"/>
            <a:ext cx="3288960" cy="4206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4400" y="3685320"/>
            <a:ext cx="3288960" cy="20066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B0A8-5034-4CD7-8668-FA020178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4400" y="255600"/>
            <a:ext cx="6740280" cy="10634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4400" y="1487520"/>
            <a:ext cx="3288960" cy="4206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28240" y="1487520"/>
            <a:ext cx="3288960" cy="20066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28240" y="3685320"/>
            <a:ext cx="3288960" cy="20066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D5FC-8C7F-4386-ACF1-BEED9F40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4400" y="255600"/>
            <a:ext cx="6740280" cy="10634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4400" y="1487520"/>
            <a:ext cx="3288960" cy="20066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28240" y="1487520"/>
            <a:ext cx="3288960" cy="20066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4400" y="3685320"/>
            <a:ext cx="6740280" cy="20066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4B69-CCAC-40B0-BE4A-DC8C371A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4400" y="255600"/>
            <a:ext cx="6740280" cy="10634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4400" y="1487520"/>
            <a:ext cx="6740280" cy="4206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marL="176040" indent="-176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45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85720" indent="-117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820800" indent="-1173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055520" indent="-1173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055520" indent="-1173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055520" indent="-1173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4400" y="5802480"/>
            <a:ext cx="1747800" cy="444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lstStyle>
            <a:lvl1pPr indent="0"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58520" y="5802480"/>
            <a:ext cx="2372040" cy="444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lstStyle>
            <a:lvl1pPr indent="0" algn="ctr"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366880" y="5802480"/>
            <a:ext cx="1747800" cy="444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lstStyle>
            <a:lvl1pPr indent="0" algn="r"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fld id="{0CDF4CA2-430A-4C4B-A6D4-AF650605B267}" type="slidenum">
              <a:rPr b="0" lang="en-US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4120" y="17640"/>
            <a:ext cx="7442280" cy="6252480"/>
            <a:chOff x="24120" y="17640"/>
            <a:chExt cx="7442280" cy="6252480"/>
          </a:xfrm>
        </p:grpSpPr>
        <p:sp>
          <p:nvSpPr>
            <p:cNvPr id="42" name=""/>
            <p:cNvSpPr/>
            <p:nvPr/>
          </p:nvSpPr>
          <p:spPr>
            <a:xfrm>
              <a:off x="1611000" y="17640"/>
              <a:ext cx="108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zess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00440" y="17640"/>
              <a:ext cx="108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zess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896640" y="644400"/>
              <a:ext cx="668520" cy="47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etter Gothic"/>
                </a:rPr>
                <a:t>x=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etter Gothic"/>
                </a:rPr>
                <a:t>x=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etter Gothic"/>
                </a:rPr>
                <a:t>x=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etter Gothic"/>
                </a:rPr>
                <a:t>x=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etter Gothic"/>
                </a:rPr>
                <a:t>x=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etter Gothic"/>
                </a:rPr>
                <a:t>x=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etter Gothic"/>
                </a:rPr>
                <a:t>x=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etter Gothic"/>
                </a:rPr>
                <a:t>x=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61920" y="822240"/>
              <a:ext cx="2801880" cy="54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ächste Anweisung: </a:t>
              </a:r>
              <a:r>
                <a:rPr b="0" lang="en-US" sz="1600" spc="-1" strike="noStrike">
                  <a:solidFill>
                    <a:srgbClr val="000000"/>
                  </a:solidFill>
                  <a:latin typeface="Letter Gothic"/>
                </a:rPr>
                <a:t>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uswahl: </a:t>
              </a:r>
              <a:r>
                <a:rPr b="0" lang="en-US" sz="1600" spc="-1" strike="noStrike">
                  <a:solidFill>
                    <a:srgbClr val="000000"/>
                  </a:solidFill>
                  <a:latin typeface="Letter Gothic"/>
                </a:rPr>
                <a:t>(x&gt;0 &amp;&amp; x&lt;1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ächste Anweisung: </a:t>
              </a:r>
              <a:r>
                <a:rPr b="0" lang="en-US" sz="1600" spc="-1" strike="noStrike">
                  <a:solidFill>
                    <a:srgbClr val="000000"/>
                  </a:solidFill>
                  <a:latin typeface="Letter Gothic"/>
                </a:rPr>
                <a:t>x=x-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etter Gothic"/>
                </a:rPr>
                <a:t>x=x-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ächste Anweisung: </a:t>
              </a:r>
              <a:r>
                <a:rPr b="0" lang="en-US" sz="1600" spc="-1" strike="noStrike">
                  <a:solidFill>
                    <a:srgbClr val="000000"/>
                  </a:solidFill>
                  <a:latin typeface="Letter Gothic"/>
                </a:rPr>
                <a:t>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uswahl: </a:t>
              </a:r>
              <a:r>
                <a:rPr b="0" lang="en-US" sz="1600" spc="-1" strike="noStrike">
                  <a:solidFill>
                    <a:srgbClr val="000000"/>
                  </a:solidFill>
                  <a:latin typeface="Letter Gothic"/>
                </a:rPr>
                <a:t>(x&gt;0 &amp;&amp; x&lt;1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etter Gothic"/>
                </a:rPr>
                <a:t>x=x-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ächste Anweisung: </a:t>
              </a:r>
              <a:r>
                <a:rPr b="0" lang="en-US" sz="1600" spc="-1" strike="noStrike">
                  <a:solidFill>
                    <a:srgbClr val="000000"/>
                  </a:solidFill>
                  <a:latin typeface="Letter Gothic"/>
                </a:rPr>
                <a:t>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zess bleibt in der Schleif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nd kann </a:t>
              </a:r>
              <a:r>
                <a:rPr b="0" lang="en-US" sz="1600" spc="-1" strike="noStrike">
                  <a:solidFill>
                    <a:srgbClr val="000000"/>
                  </a:solidFill>
                  <a:latin typeface="Letter Gothic"/>
                  <a:ea typeface="Arial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weiter veränder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801680" y="822240"/>
              <a:ext cx="2664720" cy="52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nächste Anweisung: </a:t>
              </a:r>
              <a:r>
                <a:rPr b="0" lang="de-DE" sz="1600" spc="-1" strike="noStrike">
                  <a:solidFill>
                    <a:srgbClr val="000000"/>
                  </a:solidFill>
                  <a:latin typeface="Letter Gothic"/>
                </a:rPr>
                <a:t>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uswahl: </a:t>
              </a:r>
              <a:r>
                <a:rPr b="0" lang="de-DE" sz="1600" spc="-1" strike="noStrike">
                  <a:solidFill>
                    <a:srgbClr val="000000"/>
                  </a:solidFill>
                  <a:latin typeface="Letter Gothic"/>
                </a:rPr>
                <a:t>x&lt;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Letter Gothic"/>
                </a:rPr>
                <a:t>x=x+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ächste Anweisung: </a:t>
              </a:r>
              <a:r>
                <a:rPr b="0" lang="de-DE" sz="1600" spc="-1" strike="noStrike">
                  <a:solidFill>
                    <a:srgbClr val="000000"/>
                  </a:solidFill>
                  <a:latin typeface="Letter Gothic"/>
                  <a:ea typeface="Arial"/>
                </a:rPr>
                <a:t>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ur </a:t>
              </a:r>
              <a:r>
                <a:rPr b="0" lang="de-DE" sz="1600" spc="-1" strike="noStrike">
                  <a:solidFill>
                    <a:srgbClr val="000000"/>
                  </a:solidFill>
                  <a:latin typeface="Letter Gothic"/>
                  <a:ea typeface="Arial"/>
                </a:rPr>
                <a:t>else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wählb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Letter Gothic"/>
                  <a:ea typeface="Arial"/>
                </a:rPr>
                <a:t>el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ächste Anweisung: </a:t>
              </a:r>
              <a:r>
                <a:rPr b="0" lang="de-DE" sz="1600" spc="-1" strike="noStrike">
                  <a:solidFill>
                    <a:srgbClr val="000000"/>
                  </a:solidFill>
                  <a:latin typeface="Letter Gothic"/>
                  <a:ea typeface="Arial"/>
                </a:rPr>
                <a:t>x=x+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Letter Gothic"/>
                  <a:ea typeface="Arial"/>
                </a:rPr>
                <a:t>x=x+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Letter Gothic"/>
                  <a:ea typeface="Arial"/>
                </a:rPr>
                <a:t>brea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hleife terminie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049840" y="306360"/>
              <a:ext cx="238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937840" y="306360"/>
              <a:ext cx="238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46280" y="3292560"/>
              <a:ext cx="287280" cy="71892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18720 h 718920"/>
                <a:gd name="textAreaBottom" fmla="*/ 700200 h 7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120" y="3473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96880"/>
                  <a:tab algn="l" pos="1193760"/>
                  <a:tab algn="l" pos="1790640"/>
                  <a:tab algn="l" pos="2387520"/>
                  <a:tab algn="l" pos="2984400"/>
                  <a:tab algn="l" pos="3581280"/>
                  <a:tab algn="l" pos="4178160"/>
                  <a:tab algn="l" pos="4775040"/>
                  <a:tab algn="l" pos="5372280"/>
                  <a:tab algn="l" pos="5969160"/>
                  <a:tab algn="l" pos="6566040"/>
                  <a:tab algn="l" pos="7162920"/>
                  <a:tab algn="l" pos="7759800"/>
                  <a:tab algn="l" pos="8356680"/>
                  <a:tab algn="l" pos="8953560"/>
                  <a:tab algn="l" pos="9550440"/>
                  <a:tab algn="l" pos="10147320"/>
                  <a:tab algn="l" pos="107442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-m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10:01:43Z</dcterms:created>
  <dc:creator>x</dc:creator>
  <dc:description/>
  <dc:language>en-US</dc:language>
  <cp:lastModifiedBy>x</cp:lastModifiedBy>
  <dcterms:modified xsi:type="dcterms:W3CDTF">2009-04-08T10:27:48Z</dcterms:modified>
  <cp:revision>2</cp:revision>
  <dc:subject/>
  <dc:title>Folie 1</dc:title>
</cp:coreProperties>
</file>