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75350" cy="4716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6AD2-2EBF-4FB7-82B0-BD46A6D1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8080" y="188640"/>
            <a:ext cx="5380200" cy="785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8080" y="1099800"/>
            <a:ext cx="538020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8080" y="2725920"/>
            <a:ext cx="538020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153-CB95-44C9-AE36-88C65633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8080" y="188640"/>
            <a:ext cx="5380200" cy="785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8080" y="1099800"/>
            <a:ext cx="262548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55320" y="1099800"/>
            <a:ext cx="262548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8080" y="2725920"/>
            <a:ext cx="262548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055320" y="2725920"/>
            <a:ext cx="262548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8D9-2252-4AE0-8017-9D5C56F7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8080" y="188640"/>
            <a:ext cx="5380200" cy="785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8080" y="1099800"/>
            <a:ext cx="173232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7520" y="1099800"/>
            <a:ext cx="173232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936600" y="1099800"/>
            <a:ext cx="173232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8080" y="2725920"/>
            <a:ext cx="173232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7520" y="2725920"/>
            <a:ext cx="173232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936600" y="2725920"/>
            <a:ext cx="173232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94F-DFB0-4722-A46C-96622FB4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8080" y="188640"/>
            <a:ext cx="5380200" cy="785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8080" y="1099800"/>
            <a:ext cx="5380200" cy="31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E14-5EBC-4784-BFF2-B4199A11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8080" y="188640"/>
            <a:ext cx="5380200" cy="785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8080" y="1099800"/>
            <a:ext cx="5380200" cy="311292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A74-237B-49FB-B618-F9F71833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8080" y="188640"/>
            <a:ext cx="5380200" cy="785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8080" y="1099800"/>
            <a:ext cx="2625480" cy="311292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055320" y="1099800"/>
            <a:ext cx="2625480" cy="311292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805-3F65-4C39-A314-1B39750F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8080" y="188640"/>
            <a:ext cx="5380200" cy="785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6D1B-AAA6-4428-A58A-80E7DF5B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8080" y="188640"/>
            <a:ext cx="53802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0355-30B1-47F3-BFF7-C39C1222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8080" y="188640"/>
            <a:ext cx="5380200" cy="785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8080" y="1099800"/>
            <a:ext cx="262548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055320" y="1099800"/>
            <a:ext cx="2625480" cy="311292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8080" y="2725920"/>
            <a:ext cx="262548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85F-F000-4D0D-A7D2-C4D1F461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080" y="188640"/>
            <a:ext cx="5380200" cy="785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8080" y="1099800"/>
            <a:ext cx="2625480" cy="311292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055320" y="1099800"/>
            <a:ext cx="262548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55320" y="2725920"/>
            <a:ext cx="262548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5C4-24AD-499D-AAC5-C4D24B5F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8080" y="188640"/>
            <a:ext cx="5380200" cy="785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8080" y="1099800"/>
            <a:ext cx="262548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055320" y="1099800"/>
            <a:ext cx="262548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8080" y="2725920"/>
            <a:ext cx="5380200" cy="1484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781E-F499-49EB-B39D-97A5C24F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8080" y="188640"/>
            <a:ext cx="5380200" cy="785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8080" y="1099800"/>
            <a:ext cx="5380200" cy="311292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96800" indent="-1918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63560" indent="-152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69920" indent="-154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374840" indent="-152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374840" indent="-152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374840" indent="-152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98440" y="4295880"/>
            <a:ext cx="1395360" cy="326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Autofit/>
          </a:bodyPr>
          <a:lstStyle>
            <a:lvl1pPr indent="0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41200" y="4295880"/>
            <a:ext cx="1893960" cy="326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Autofit/>
          </a:bodyPr>
          <a:lstStyle>
            <a:lvl1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2560" y="4295880"/>
            <a:ext cx="1395720" cy="3268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Autofit/>
          </a:bodyPr>
          <a:lstStyle>
            <a:lvl1pPr indent="0" algn="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fld id="{471E3E41-C0CF-4144-9089-22CBFF854C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60" y="431640"/>
            <a:ext cx="5904000" cy="374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36720" y="2376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23240" y="208764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2720" y="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standsr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1080" y="1647720"/>
            <a:ext cx="1739880" cy="2249640"/>
          </a:xfrm>
          <a:custGeom>
            <a:avLst/>
            <a:gdLst/>
            <a:ahLst/>
            <a:rect l="l" t="t" r="r" b="b"/>
            <a:pathLst>
              <a:path w="1096" h="1417">
                <a:moveTo>
                  <a:pt x="1096" y="534"/>
                </a:moveTo>
                <a:cubicBezTo>
                  <a:pt x="1049" y="541"/>
                  <a:pt x="1012" y="560"/>
                  <a:pt x="966" y="568"/>
                </a:cubicBezTo>
                <a:cubicBezTo>
                  <a:pt x="952" y="577"/>
                  <a:pt x="939" y="587"/>
                  <a:pt x="925" y="596"/>
                </a:cubicBezTo>
                <a:cubicBezTo>
                  <a:pt x="918" y="601"/>
                  <a:pt x="904" y="610"/>
                  <a:pt x="904" y="610"/>
                </a:cubicBezTo>
                <a:cubicBezTo>
                  <a:pt x="861" y="671"/>
                  <a:pt x="821" y="672"/>
                  <a:pt x="746" y="678"/>
                </a:cubicBezTo>
                <a:cubicBezTo>
                  <a:pt x="666" y="720"/>
                  <a:pt x="786" y="659"/>
                  <a:pt x="678" y="706"/>
                </a:cubicBezTo>
                <a:cubicBezTo>
                  <a:pt x="646" y="720"/>
                  <a:pt x="625" y="748"/>
                  <a:pt x="596" y="767"/>
                </a:cubicBezTo>
                <a:cubicBezTo>
                  <a:pt x="598" y="792"/>
                  <a:pt x="594" y="819"/>
                  <a:pt x="602" y="843"/>
                </a:cubicBezTo>
                <a:cubicBezTo>
                  <a:pt x="604" y="850"/>
                  <a:pt x="622" y="843"/>
                  <a:pt x="623" y="850"/>
                </a:cubicBezTo>
                <a:cubicBezTo>
                  <a:pt x="644" y="951"/>
                  <a:pt x="601" y="996"/>
                  <a:pt x="698" y="1021"/>
                </a:cubicBezTo>
                <a:cubicBezTo>
                  <a:pt x="742" y="1016"/>
                  <a:pt x="786" y="1017"/>
                  <a:pt x="829" y="1007"/>
                </a:cubicBezTo>
                <a:cubicBezTo>
                  <a:pt x="845" y="1003"/>
                  <a:pt x="870" y="980"/>
                  <a:pt x="870" y="980"/>
                </a:cubicBezTo>
                <a:cubicBezTo>
                  <a:pt x="999" y="987"/>
                  <a:pt x="987" y="955"/>
                  <a:pt x="1007" y="1035"/>
                </a:cubicBezTo>
                <a:cubicBezTo>
                  <a:pt x="999" y="1178"/>
                  <a:pt x="1033" y="1180"/>
                  <a:pt x="911" y="1192"/>
                </a:cubicBezTo>
                <a:cubicBezTo>
                  <a:pt x="891" y="1199"/>
                  <a:pt x="868" y="1196"/>
                  <a:pt x="849" y="1206"/>
                </a:cubicBezTo>
                <a:cubicBezTo>
                  <a:pt x="834" y="1214"/>
                  <a:pt x="834" y="1236"/>
                  <a:pt x="822" y="1247"/>
                </a:cubicBezTo>
                <a:cubicBezTo>
                  <a:pt x="799" y="1269"/>
                  <a:pt x="762" y="1272"/>
                  <a:pt x="733" y="1282"/>
                </a:cubicBezTo>
                <a:cubicBezTo>
                  <a:pt x="704" y="1272"/>
                  <a:pt x="675" y="1257"/>
                  <a:pt x="650" y="1240"/>
                </a:cubicBezTo>
                <a:cubicBezTo>
                  <a:pt x="584" y="1245"/>
                  <a:pt x="530" y="1255"/>
                  <a:pt x="465" y="1261"/>
                </a:cubicBezTo>
                <a:cubicBezTo>
                  <a:pt x="430" y="1273"/>
                  <a:pt x="392" y="1282"/>
                  <a:pt x="356" y="1288"/>
                </a:cubicBezTo>
                <a:cubicBezTo>
                  <a:pt x="279" y="1339"/>
                  <a:pt x="210" y="1391"/>
                  <a:pt x="116" y="1405"/>
                </a:cubicBezTo>
                <a:cubicBezTo>
                  <a:pt x="109" y="1407"/>
                  <a:pt x="100" y="1417"/>
                  <a:pt x="95" y="1412"/>
                </a:cubicBezTo>
                <a:cubicBezTo>
                  <a:pt x="81" y="1399"/>
                  <a:pt x="89" y="1374"/>
                  <a:pt x="81" y="1357"/>
                </a:cubicBezTo>
                <a:cubicBezTo>
                  <a:pt x="68" y="1330"/>
                  <a:pt x="43" y="1313"/>
                  <a:pt x="26" y="1288"/>
                </a:cubicBezTo>
                <a:cubicBezTo>
                  <a:pt x="6" y="1197"/>
                  <a:pt x="0" y="1122"/>
                  <a:pt x="20" y="1021"/>
                </a:cubicBezTo>
                <a:cubicBezTo>
                  <a:pt x="24" y="1002"/>
                  <a:pt x="47" y="994"/>
                  <a:pt x="61" y="980"/>
                </a:cubicBezTo>
                <a:cubicBezTo>
                  <a:pt x="90" y="951"/>
                  <a:pt x="125" y="917"/>
                  <a:pt x="164" y="904"/>
                </a:cubicBezTo>
                <a:cubicBezTo>
                  <a:pt x="188" y="880"/>
                  <a:pt x="210" y="868"/>
                  <a:pt x="225" y="836"/>
                </a:cubicBezTo>
                <a:cubicBezTo>
                  <a:pt x="242" y="442"/>
                  <a:pt x="220" y="976"/>
                  <a:pt x="239" y="226"/>
                </a:cubicBezTo>
                <a:cubicBezTo>
                  <a:pt x="242" y="98"/>
                  <a:pt x="226" y="133"/>
                  <a:pt x="294" y="88"/>
                </a:cubicBezTo>
                <a:cubicBezTo>
                  <a:pt x="341" y="21"/>
                  <a:pt x="293" y="38"/>
                  <a:pt x="364" y="14"/>
                </a:cubicBezTo>
                <a:cubicBezTo>
                  <a:pt x="395" y="0"/>
                  <a:pt x="671" y="357"/>
                  <a:pt x="723" y="472"/>
                </a:cubicBezTo>
                <a:cubicBezTo>
                  <a:pt x="779" y="566"/>
                  <a:pt x="711" y="538"/>
                  <a:pt x="703" y="577"/>
                </a:cubicBezTo>
                <a:cubicBezTo>
                  <a:pt x="695" y="616"/>
                  <a:pt x="683" y="679"/>
                  <a:pt x="678" y="706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66960" y="2519280"/>
            <a:ext cx="1847880" cy="1403280"/>
          </a:xfrm>
          <a:custGeom>
            <a:avLst/>
            <a:gdLst/>
            <a:ahLst/>
            <a:rect l="l" t="t" r="r" b="b"/>
            <a:pathLst>
              <a:path w="1164" h="884">
                <a:moveTo>
                  <a:pt x="44" y="0"/>
                </a:moveTo>
                <a:cubicBezTo>
                  <a:pt x="55" y="64"/>
                  <a:pt x="67" y="86"/>
                  <a:pt x="16" y="137"/>
                </a:cubicBezTo>
                <a:cubicBezTo>
                  <a:pt x="0" y="182"/>
                  <a:pt x="11" y="229"/>
                  <a:pt x="37" y="267"/>
                </a:cubicBezTo>
                <a:cubicBezTo>
                  <a:pt x="50" y="327"/>
                  <a:pt x="44" y="474"/>
                  <a:pt x="71" y="493"/>
                </a:cubicBezTo>
                <a:cubicBezTo>
                  <a:pt x="80" y="499"/>
                  <a:pt x="113" y="510"/>
                  <a:pt x="126" y="514"/>
                </a:cubicBezTo>
                <a:cubicBezTo>
                  <a:pt x="188" y="503"/>
                  <a:pt x="249" y="491"/>
                  <a:pt x="311" y="480"/>
                </a:cubicBezTo>
                <a:cubicBezTo>
                  <a:pt x="316" y="473"/>
                  <a:pt x="319" y="464"/>
                  <a:pt x="325" y="459"/>
                </a:cubicBezTo>
                <a:cubicBezTo>
                  <a:pt x="330" y="455"/>
                  <a:pt x="340" y="457"/>
                  <a:pt x="345" y="452"/>
                </a:cubicBezTo>
                <a:cubicBezTo>
                  <a:pt x="381" y="416"/>
                  <a:pt x="318" y="443"/>
                  <a:pt x="373" y="425"/>
                </a:cubicBezTo>
                <a:cubicBezTo>
                  <a:pt x="409" y="432"/>
                  <a:pt x="447" y="429"/>
                  <a:pt x="482" y="439"/>
                </a:cubicBezTo>
                <a:cubicBezTo>
                  <a:pt x="505" y="445"/>
                  <a:pt x="525" y="489"/>
                  <a:pt x="537" y="507"/>
                </a:cubicBezTo>
                <a:cubicBezTo>
                  <a:pt x="544" y="693"/>
                  <a:pt x="502" y="678"/>
                  <a:pt x="606" y="747"/>
                </a:cubicBezTo>
                <a:cubicBezTo>
                  <a:pt x="754" y="739"/>
                  <a:pt x="740" y="766"/>
                  <a:pt x="729" y="637"/>
                </a:cubicBezTo>
                <a:cubicBezTo>
                  <a:pt x="733" y="589"/>
                  <a:pt x="723" y="517"/>
                  <a:pt x="777" y="487"/>
                </a:cubicBezTo>
                <a:cubicBezTo>
                  <a:pt x="794" y="478"/>
                  <a:pt x="814" y="479"/>
                  <a:pt x="832" y="473"/>
                </a:cubicBezTo>
                <a:cubicBezTo>
                  <a:pt x="857" y="478"/>
                  <a:pt x="893" y="466"/>
                  <a:pt x="908" y="487"/>
                </a:cubicBezTo>
                <a:cubicBezTo>
                  <a:pt x="920" y="503"/>
                  <a:pt x="901" y="568"/>
                  <a:pt x="894" y="596"/>
                </a:cubicBezTo>
                <a:cubicBezTo>
                  <a:pt x="904" y="681"/>
                  <a:pt x="919" y="728"/>
                  <a:pt x="1010" y="747"/>
                </a:cubicBezTo>
                <a:cubicBezTo>
                  <a:pt x="1074" y="743"/>
                  <a:pt x="1127" y="760"/>
                  <a:pt x="1161" y="706"/>
                </a:cubicBezTo>
                <a:cubicBezTo>
                  <a:pt x="1159" y="685"/>
                  <a:pt x="1164" y="662"/>
                  <a:pt x="1154" y="644"/>
                </a:cubicBezTo>
                <a:cubicBezTo>
                  <a:pt x="1137" y="615"/>
                  <a:pt x="1107" y="610"/>
                  <a:pt x="1079" y="603"/>
                </a:cubicBezTo>
                <a:cubicBezTo>
                  <a:pt x="1049" y="605"/>
                  <a:pt x="1019" y="602"/>
                  <a:pt x="990" y="610"/>
                </a:cubicBezTo>
                <a:cubicBezTo>
                  <a:pt x="979" y="613"/>
                  <a:pt x="962" y="663"/>
                  <a:pt x="956" y="672"/>
                </a:cubicBezTo>
                <a:cubicBezTo>
                  <a:pt x="951" y="698"/>
                  <a:pt x="938" y="791"/>
                  <a:pt x="935" y="802"/>
                </a:cubicBezTo>
                <a:cubicBezTo>
                  <a:pt x="927" y="827"/>
                  <a:pt x="862" y="841"/>
                  <a:pt x="846" y="843"/>
                </a:cubicBezTo>
                <a:cubicBezTo>
                  <a:pt x="818" y="864"/>
                  <a:pt x="803" y="876"/>
                  <a:pt x="770" y="884"/>
                </a:cubicBezTo>
                <a:cubicBezTo>
                  <a:pt x="676" y="851"/>
                  <a:pt x="582" y="854"/>
                  <a:pt x="482" y="850"/>
                </a:cubicBezTo>
                <a:cubicBezTo>
                  <a:pt x="441" y="845"/>
                  <a:pt x="394" y="858"/>
                  <a:pt x="359" y="836"/>
                </a:cubicBezTo>
                <a:cubicBezTo>
                  <a:pt x="336" y="821"/>
                  <a:pt x="297" y="781"/>
                  <a:pt x="297" y="781"/>
                </a:cubicBezTo>
                <a:cubicBezTo>
                  <a:pt x="236" y="785"/>
                  <a:pt x="185" y="797"/>
                  <a:pt x="126" y="802"/>
                </a:cubicBezTo>
                <a:cubicBezTo>
                  <a:pt x="62" y="808"/>
                  <a:pt x="148" y="693"/>
                  <a:pt x="148" y="693"/>
                </a:cubicBezTo>
                <a:cubicBezTo>
                  <a:pt x="154" y="664"/>
                  <a:pt x="233" y="675"/>
                  <a:pt x="241" y="644"/>
                </a:cubicBezTo>
                <a:cubicBezTo>
                  <a:pt x="249" y="613"/>
                  <a:pt x="205" y="533"/>
                  <a:pt x="196" y="504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2920" y="424800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laubte Abläu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5280" y="424800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otener Abl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1044360" y="3600360"/>
            <a:ext cx="360360" cy="71928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620720" y="3816360"/>
            <a:ext cx="216000" cy="50328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500720" y="2808360"/>
            <a:ext cx="0" cy="151128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3440" y="720720"/>
            <a:ext cx="360360" cy="358920"/>
          </a:xfrm>
          <a:prstGeom prst="hexagon">
            <a:avLst>
              <a:gd name="adj" fmla="val 25100"/>
              <a:gd name="vf" fmla="val 11547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720" y="1800360"/>
            <a:ext cx="360360" cy="358560"/>
          </a:xfrm>
          <a:prstGeom prst="hexagon">
            <a:avLst>
              <a:gd name="adj" fmla="val 25126"/>
              <a:gd name="vf" fmla="val 11547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720" y="3600360"/>
            <a:ext cx="360360" cy="358920"/>
          </a:xfrm>
          <a:prstGeom prst="hexagon">
            <a:avLst>
              <a:gd name="adj" fmla="val 25100"/>
              <a:gd name="vf" fmla="val 11547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3080" y="3024360"/>
            <a:ext cx="360360" cy="358560"/>
          </a:xfrm>
          <a:prstGeom prst="hexagon">
            <a:avLst>
              <a:gd name="adj" fmla="val 25126"/>
              <a:gd name="vf" fmla="val 11547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9800" y="3097080"/>
            <a:ext cx="360360" cy="358920"/>
          </a:xfrm>
          <a:prstGeom prst="hexagon">
            <a:avLst>
              <a:gd name="adj" fmla="val 25100"/>
              <a:gd name="vf" fmla="val 11547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7440" y="1655640"/>
            <a:ext cx="360360" cy="358920"/>
          </a:xfrm>
          <a:prstGeom prst="hexagon">
            <a:avLst>
              <a:gd name="adj" fmla="val 25100"/>
              <a:gd name="vf" fmla="val 11547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9080" y="1655640"/>
            <a:ext cx="360360" cy="358920"/>
          </a:xfrm>
          <a:prstGeom prst="hexagon">
            <a:avLst>
              <a:gd name="adj" fmla="val 25100"/>
              <a:gd name="vf" fmla="val 11547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60360" y="1512720"/>
            <a:ext cx="360360" cy="358920"/>
          </a:xfrm>
          <a:prstGeom prst="hexagon">
            <a:avLst>
              <a:gd name="adj" fmla="val 25100"/>
              <a:gd name="vf" fmla="val 11547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4360" y="576360"/>
            <a:ext cx="2665800" cy="6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standsmenge m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wünschtem Ver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96920" y="2216160"/>
            <a:ext cx="3353040" cy="747720"/>
          </a:xfrm>
          <a:custGeom>
            <a:avLst/>
            <a:gdLst/>
            <a:ahLst/>
            <a:rect l="l" t="t" r="r" b="b"/>
            <a:pathLst>
              <a:path w="2112" h="471">
                <a:moveTo>
                  <a:pt x="0" y="176"/>
                </a:moveTo>
                <a:cubicBezTo>
                  <a:pt x="42" y="180"/>
                  <a:pt x="69" y="170"/>
                  <a:pt x="96" y="197"/>
                </a:cubicBezTo>
                <a:cubicBezTo>
                  <a:pt x="104" y="205"/>
                  <a:pt x="108" y="216"/>
                  <a:pt x="117" y="224"/>
                </a:cubicBezTo>
                <a:cubicBezTo>
                  <a:pt x="129" y="235"/>
                  <a:pt x="158" y="252"/>
                  <a:pt x="158" y="252"/>
                </a:cubicBezTo>
                <a:cubicBezTo>
                  <a:pt x="237" y="246"/>
                  <a:pt x="268" y="237"/>
                  <a:pt x="343" y="245"/>
                </a:cubicBezTo>
                <a:cubicBezTo>
                  <a:pt x="360" y="346"/>
                  <a:pt x="341" y="313"/>
                  <a:pt x="549" y="279"/>
                </a:cubicBezTo>
                <a:cubicBezTo>
                  <a:pt x="558" y="277"/>
                  <a:pt x="550" y="259"/>
                  <a:pt x="556" y="252"/>
                </a:cubicBezTo>
                <a:cubicBezTo>
                  <a:pt x="562" y="244"/>
                  <a:pt x="574" y="243"/>
                  <a:pt x="583" y="238"/>
                </a:cubicBezTo>
                <a:cubicBezTo>
                  <a:pt x="647" y="240"/>
                  <a:pt x="712" y="237"/>
                  <a:pt x="775" y="245"/>
                </a:cubicBezTo>
                <a:cubicBezTo>
                  <a:pt x="785" y="246"/>
                  <a:pt x="788" y="260"/>
                  <a:pt x="796" y="266"/>
                </a:cubicBezTo>
                <a:cubicBezTo>
                  <a:pt x="815" y="282"/>
                  <a:pt x="819" y="280"/>
                  <a:pt x="844" y="286"/>
                </a:cubicBezTo>
                <a:cubicBezTo>
                  <a:pt x="877" y="309"/>
                  <a:pt x="902" y="320"/>
                  <a:pt x="933" y="341"/>
                </a:cubicBezTo>
                <a:cubicBezTo>
                  <a:pt x="974" y="402"/>
                  <a:pt x="1060" y="424"/>
                  <a:pt x="1125" y="451"/>
                </a:cubicBezTo>
                <a:cubicBezTo>
                  <a:pt x="1174" y="471"/>
                  <a:pt x="1230" y="456"/>
                  <a:pt x="1283" y="458"/>
                </a:cubicBezTo>
                <a:cubicBezTo>
                  <a:pt x="1391" y="471"/>
                  <a:pt x="1367" y="470"/>
                  <a:pt x="1529" y="464"/>
                </a:cubicBezTo>
                <a:cubicBezTo>
                  <a:pt x="1627" y="371"/>
                  <a:pt x="1766" y="381"/>
                  <a:pt x="1893" y="368"/>
                </a:cubicBezTo>
                <a:cubicBezTo>
                  <a:pt x="1916" y="361"/>
                  <a:pt x="1938" y="354"/>
                  <a:pt x="1961" y="348"/>
                </a:cubicBezTo>
                <a:cubicBezTo>
                  <a:pt x="1979" y="343"/>
                  <a:pt x="2016" y="334"/>
                  <a:pt x="2016" y="334"/>
                </a:cubicBezTo>
                <a:cubicBezTo>
                  <a:pt x="2032" y="311"/>
                  <a:pt x="2045" y="302"/>
                  <a:pt x="2071" y="293"/>
                </a:cubicBezTo>
                <a:cubicBezTo>
                  <a:pt x="2100" y="265"/>
                  <a:pt x="2100" y="259"/>
                  <a:pt x="2112" y="224"/>
                </a:cubicBezTo>
                <a:cubicBezTo>
                  <a:pt x="2110" y="204"/>
                  <a:pt x="2111" y="122"/>
                  <a:pt x="2092" y="94"/>
                </a:cubicBezTo>
                <a:cubicBezTo>
                  <a:pt x="2075" y="69"/>
                  <a:pt x="2070" y="75"/>
                  <a:pt x="2044" y="67"/>
                </a:cubicBezTo>
                <a:cubicBezTo>
                  <a:pt x="1986" y="49"/>
                  <a:pt x="1932" y="36"/>
                  <a:pt x="1872" y="26"/>
                </a:cubicBezTo>
                <a:cubicBezTo>
                  <a:pt x="1826" y="28"/>
                  <a:pt x="1780" y="26"/>
                  <a:pt x="1735" y="32"/>
                </a:cubicBezTo>
                <a:cubicBezTo>
                  <a:pt x="1712" y="35"/>
                  <a:pt x="1715" y="56"/>
                  <a:pt x="1701" y="67"/>
                </a:cubicBezTo>
                <a:cubicBezTo>
                  <a:pt x="1693" y="73"/>
                  <a:pt x="1650" y="79"/>
                  <a:pt x="1646" y="80"/>
                </a:cubicBezTo>
                <a:cubicBezTo>
                  <a:pt x="1520" y="76"/>
                  <a:pt x="1501" y="74"/>
                  <a:pt x="1406" y="60"/>
                </a:cubicBezTo>
                <a:cubicBezTo>
                  <a:pt x="1367" y="47"/>
                  <a:pt x="1328" y="32"/>
                  <a:pt x="1289" y="19"/>
                </a:cubicBezTo>
                <a:cubicBezTo>
                  <a:pt x="926" y="29"/>
                  <a:pt x="1120" y="0"/>
                  <a:pt x="988" y="46"/>
                </a:cubicBezTo>
                <a:cubicBezTo>
                  <a:pt x="957" y="92"/>
                  <a:pt x="993" y="48"/>
                  <a:pt x="953" y="74"/>
                </a:cubicBezTo>
                <a:cubicBezTo>
                  <a:pt x="930" y="89"/>
                  <a:pt x="922" y="113"/>
                  <a:pt x="899" y="128"/>
                </a:cubicBezTo>
                <a:cubicBezTo>
                  <a:pt x="878" y="192"/>
                  <a:pt x="812" y="283"/>
                  <a:pt x="887" y="302"/>
                </a:cubicBezTo>
                <a:cubicBezTo>
                  <a:pt x="936" y="332"/>
                  <a:pt x="920" y="296"/>
                  <a:pt x="953" y="355"/>
                </a:cubicBezTo>
                <a:cubicBezTo>
                  <a:pt x="978" y="399"/>
                  <a:pt x="974" y="343"/>
                  <a:pt x="974" y="382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4:44:25Z</dcterms:created>
  <dc:creator>x</dc:creator>
  <dc:description/>
  <dc:language>en-US</dc:language>
  <cp:lastModifiedBy>x</cp:lastModifiedBy>
  <dcterms:modified xsi:type="dcterms:W3CDTF">2009-04-08T12:49:49Z</dcterms:modified>
  <cp:revision>3</cp:revision>
  <dc:subject/>
  <dc:title>Folie 1</dc:title>
</cp:coreProperties>
</file>