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168650" cy="1368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2A8A-044E-4EAD-AC54-3C8AE24D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8760" y="55080"/>
            <a:ext cx="2851200" cy="2271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ctr">
            <a:noAutofit/>
          </a:bodyPr>
          <a:p>
            <a:pPr indent="0" algn="ctr">
              <a:buNone/>
              <a:tabLst>
                <a:tab algn="l" pos="0"/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8760" y="318600"/>
            <a:ext cx="2851200" cy="4305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8760" y="790560"/>
            <a:ext cx="2851200" cy="4305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40F9-1415-424A-AC61-7E437269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8760" y="55080"/>
            <a:ext cx="2851200" cy="2271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ctr">
            <a:noAutofit/>
          </a:bodyPr>
          <a:p>
            <a:pPr indent="0" algn="ctr">
              <a:buNone/>
              <a:tabLst>
                <a:tab algn="l" pos="0"/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8760" y="318600"/>
            <a:ext cx="1391040" cy="4305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19640" y="318600"/>
            <a:ext cx="1391040" cy="4305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8760" y="790560"/>
            <a:ext cx="1391040" cy="4305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19640" y="790560"/>
            <a:ext cx="1391040" cy="4305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ACF-7BDE-43E1-9484-D0A257BD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8760" y="55080"/>
            <a:ext cx="2851200" cy="2271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ctr">
            <a:noAutofit/>
          </a:bodyPr>
          <a:p>
            <a:pPr indent="0" algn="ctr">
              <a:buNone/>
              <a:tabLst>
                <a:tab algn="l" pos="0"/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" y="318600"/>
            <a:ext cx="918000" cy="4305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23200" y="318600"/>
            <a:ext cx="918000" cy="4305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87280" y="318600"/>
            <a:ext cx="918000" cy="4305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8760" y="790560"/>
            <a:ext cx="918000" cy="4305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23200" y="790560"/>
            <a:ext cx="918000" cy="4305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87280" y="790560"/>
            <a:ext cx="918000" cy="4305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617-13C3-4E47-8350-8303D709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8760" y="55080"/>
            <a:ext cx="2851200" cy="2271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ctr">
            <a:noAutofit/>
          </a:bodyPr>
          <a:p>
            <a:pPr indent="0" algn="ctr">
              <a:buNone/>
              <a:tabLst>
                <a:tab algn="l" pos="0"/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8760" y="318600"/>
            <a:ext cx="28512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875A-67A8-49D7-9B74-9901E240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760" y="55080"/>
            <a:ext cx="2851200" cy="2271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ctr">
            <a:noAutofit/>
          </a:bodyPr>
          <a:p>
            <a:pPr indent="0" algn="ctr">
              <a:buNone/>
              <a:tabLst>
                <a:tab algn="l" pos="0"/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8760" y="318600"/>
            <a:ext cx="2851200" cy="90324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65C-2443-4916-9F4C-2A62998D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760" y="55080"/>
            <a:ext cx="2851200" cy="2271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ctr">
            <a:noAutofit/>
          </a:bodyPr>
          <a:p>
            <a:pPr indent="0" algn="ctr">
              <a:buNone/>
              <a:tabLst>
                <a:tab algn="l" pos="0"/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8760" y="318600"/>
            <a:ext cx="1391040" cy="90324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19640" y="318600"/>
            <a:ext cx="1391040" cy="90324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AF57-108C-418A-9DDB-8DF4DE41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8760" y="55080"/>
            <a:ext cx="2851200" cy="2271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ctr">
            <a:noAutofit/>
          </a:bodyPr>
          <a:p>
            <a:pPr indent="0" algn="ctr">
              <a:buNone/>
              <a:tabLst>
                <a:tab algn="l" pos="0"/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B461-ECA1-4F2C-9870-7927526E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8760" y="55080"/>
            <a:ext cx="2851200" cy="10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6F81-5013-422C-B1B2-D76DC546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760" y="55080"/>
            <a:ext cx="2851200" cy="2271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ctr">
            <a:noAutofit/>
          </a:bodyPr>
          <a:p>
            <a:pPr indent="0" algn="ctr">
              <a:buNone/>
              <a:tabLst>
                <a:tab algn="l" pos="0"/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" y="318600"/>
            <a:ext cx="1391040" cy="4305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19640" y="318600"/>
            <a:ext cx="1391040" cy="90324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8760" y="790560"/>
            <a:ext cx="1391040" cy="4305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06C-6A03-4481-BBF7-92490EDE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8760" y="55080"/>
            <a:ext cx="2851200" cy="2271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ctr">
            <a:noAutofit/>
          </a:bodyPr>
          <a:p>
            <a:pPr indent="0" algn="ctr">
              <a:buNone/>
              <a:tabLst>
                <a:tab algn="l" pos="0"/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8760" y="318600"/>
            <a:ext cx="1391040" cy="90324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19640" y="318600"/>
            <a:ext cx="1391040" cy="4305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19640" y="790560"/>
            <a:ext cx="1391040" cy="4305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438-12CE-47A1-AC32-654F4AA6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8760" y="55080"/>
            <a:ext cx="2851200" cy="2271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ctr">
            <a:noAutofit/>
          </a:bodyPr>
          <a:p>
            <a:pPr indent="0" algn="ctr">
              <a:buNone/>
              <a:tabLst>
                <a:tab algn="l" pos="0"/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8760" y="318600"/>
            <a:ext cx="1391040" cy="4305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19640" y="318600"/>
            <a:ext cx="1391040" cy="4305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8760" y="790560"/>
            <a:ext cx="2851200" cy="4305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6122-8A66-4F11-93A2-BFB8D9F8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760" y="55080"/>
            <a:ext cx="2851200" cy="22716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ctr">
            <a:noAutofit/>
          </a:bodyPr>
          <a:p>
            <a:pPr indent="0" algn="ctr">
              <a:buNone/>
              <a:tabLst>
                <a:tab algn="l" pos="0"/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8760" y="318600"/>
            <a:ext cx="2851200" cy="90324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rmAutofit fontScale="77000"/>
          </a:bodyPr>
          <a:p>
            <a:pPr marL="74520" indent="-745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-6192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249480" indent="-500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349200" indent="-500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4" marL="448200" indent="-48600"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5" marL="448200" indent="-48600"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6" marL="448200" indent="-48600"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8400" y="1246320"/>
            <a:ext cx="739800" cy="9504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Autofit/>
          </a:bodyPr>
          <a:lstStyle>
            <a:lvl1pPr indent="0">
              <a:buNone/>
              <a:tabLst>
                <a:tab algn="l" pos="0"/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82160" y="1246320"/>
            <a:ext cx="1003320" cy="9504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Autofit/>
          </a:bodyPr>
          <a:lstStyle>
            <a:lvl1pPr indent="0" algn="ctr">
              <a:buNone/>
              <a:tabLst>
                <a:tab algn="l" pos="0"/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69800" y="1246320"/>
            <a:ext cx="739800" cy="95040"/>
          </a:xfrm>
          <a:prstGeom prst="rect">
            <a:avLst/>
          </a:prstGeom>
          <a:noFill/>
          <a:ln w="0">
            <a:noFill/>
          </a:ln>
        </p:spPr>
        <p:txBody>
          <a:bodyPr lIns="25920" rIns="25920" tIns="12960" bIns="12960" anchor="t">
            <a:noAutofit/>
          </a:bodyPr>
          <a:lstStyle>
            <a:lvl1pPr indent="0" algn="r">
              <a:buNone/>
              <a:tabLst>
                <a:tab algn="l" pos="0"/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  <a:defRPr b="0" lang="en-US" sz="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58840"/>
                <a:tab algn="l" pos="517680"/>
                <a:tab algn="l" pos="776160"/>
                <a:tab algn="l" pos="1035000"/>
                <a:tab algn="l" pos="1293840"/>
                <a:tab algn="l" pos="1552680"/>
                <a:tab algn="l" pos="1811160"/>
                <a:tab algn="l" pos="2070000"/>
                <a:tab algn="l" pos="2328840"/>
                <a:tab algn="l" pos="2587680"/>
                <a:tab algn="l" pos="2846520"/>
                <a:tab algn="l" pos="3105000"/>
                <a:tab algn="l" pos="3363840"/>
                <a:tab algn="l" pos="3622680"/>
                <a:tab algn="l" pos="3881520"/>
                <a:tab algn="l" pos="4140360"/>
                <a:tab algn="l" pos="4398840"/>
                <a:tab algn="l" pos="4657680"/>
                <a:tab algn="l" pos="4916520"/>
                <a:tab algn="l" pos="5175360"/>
              </a:tabLst>
            </a:pPr>
            <a:fld id="{84C12BCD-8EE1-44A9-AB10-96D73454BBB4}" type="slidenum">
              <a:rPr b="0" lang="en-US" sz="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9320" y="31680"/>
            <a:ext cx="3097080" cy="1298520"/>
            <a:chOff x="49320" y="31680"/>
            <a:chExt cx="3097080" cy="1298520"/>
          </a:xfrm>
        </p:grpSpPr>
        <p:sp>
          <p:nvSpPr>
            <p:cNvPr id="42" name=""/>
            <p:cNvSpPr/>
            <p:nvPr/>
          </p:nvSpPr>
          <p:spPr>
            <a:xfrm>
              <a:off x="49320" y="392040"/>
              <a:ext cx="720720" cy="719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25680" y="392040"/>
              <a:ext cx="720720" cy="719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320" y="31680"/>
              <a:ext cx="28872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769680" y="968400"/>
              <a:ext cx="172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0040" y="608040"/>
              <a:ext cx="165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76880" y="24120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2?send1(_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88920" y="961920"/>
              <a:ext cx="143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1?ack1(_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17:50:49Z</dcterms:created>
  <dc:creator>x</dc:creator>
  <dc:description/>
  <dc:language>en-US</dc:language>
  <cp:lastModifiedBy>x</cp:lastModifiedBy>
  <dcterms:modified xsi:type="dcterms:W3CDTF">2006-03-07T17:51:42Z</dcterms:modified>
  <cp:revision>1</cp:revision>
  <dc:subject/>
  <dc:title>Folie 1</dc:title>
</cp:coreProperties>
</file>