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384550" cy="2232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F26-5B28-40BC-AA79-9FD04B7E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30448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920" y="1290240"/>
            <a:ext cx="30448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8CD-FB9D-4393-A632-4F0542A1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3016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920" y="129024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30160" y="129024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27D-AABD-4B17-831B-DCB53CBF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9520" y="52020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9120" y="52020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920" y="129024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9520" y="129024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9120" y="1290240"/>
            <a:ext cx="9802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6E1-C6DE-41C8-9C3D-02BEDD9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920" y="520200"/>
            <a:ext cx="304488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5F2-54EC-4DDD-B65A-922A5B9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304488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3DF-DE31-4BD0-91EA-FFDAB21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148572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30160" y="520200"/>
            <a:ext cx="148572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36B-6652-4096-A4D9-5F6F302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4C7-4F06-45D4-87D0-EBF72CAF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920" y="88920"/>
            <a:ext cx="3044880" cy="17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592-73A3-48B7-8C1C-B6B2308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30160" y="520200"/>
            <a:ext cx="148572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920" y="129024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733-C535-48CA-96DB-80E7587E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148572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3016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30160" y="129024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9ED-B0F9-4B15-8015-0829C7E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92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30160" y="520200"/>
            <a:ext cx="148572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920" y="1290240"/>
            <a:ext cx="3044880" cy="702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9E5-36F4-44B0-919D-7D7BC0E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88920"/>
            <a:ext cx="3044880" cy="3729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920" y="520200"/>
            <a:ext cx="3044880" cy="14734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rmAutofit/>
          </a:bodyPr>
          <a:p>
            <a:pPr marL="120600" indent="-120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-100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810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1960" indent="-810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80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80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8064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560" y="2031480"/>
            <a:ext cx="788760" cy="1558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55240" y="2031480"/>
            <a:ext cx="1073160" cy="1558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25680" y="2031480"/>
            <a:ext cx="789120" cy="1558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16200" bIns="16200" anchor="t">
            <a:noAutofit/>
          </a:bodyPr>
          <a:lstStyle>
            <a:lvl1pPr indent="0" algn="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fld id="{FE567E9D-C94F-4CF9-9A08-4B1A9EDAC5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3357000" cy="2190600"/>
            <a:chOff x="0" y="0"/>
            <a:chExt cx="3357000" cy="21906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7040" y="172260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alled[calling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920" y="1031760"/>
              <a:ext cx="54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usy[caller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85000" y="2068560"/>
              <a:ext cx="68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nect[caller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87200" y="339840"/>
              <a:ext cx="29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al[i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98040" y="1722600"/>
              <a:ext cx="89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sconnect[calling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37840" y="166680"/>
              <a:ext cx="86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sconnected[tmp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46080" y="7920"/>
              <a:ext cx="16992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46080" y="7920"/>
              <a:ext cx="16992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3080" y="36360"/>
              <a:ext cx="11448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46080" y="1044720"/>
              <a:ext cx="16992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6080" y="1044720"/>
              <a:ext cx="16992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6080" y="1389240"/>
              <a:ext cx="16992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46080" y="1389240"/>
              <a:ext cx="16992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2160" y="1459080"/>
              <a:ext cx="77760" cy="5544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08280" y="196524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08280" y="196524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97080" y="1044720"/>
              <a:ext cx="16992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97080" y="1044720"/>
              <a:ext cx="16992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46080" y="1965240"/>
              <a:ext cx="1699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6080" y="1965240"/>
              <a:ext cx="1699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2160" y="2033640"/>
              <a:ext cx="77760" cy="5724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86480" y="12621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=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800" y="1608120"/>
              <a:ext cx="73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calling]=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200" y="114624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calling]!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86840" y="166680"/>
              <a:ext cx="46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int[1,N-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1680" y="10890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08840" y="685800"/>
              <a:ext cx="84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isconnect[caller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5760" y="512640"/>
              <a:ext cx="38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aller:=i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7200" y="620640"/>
              <a:ext cx="83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alling:=anrufen[i]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5400" y="728640"/>
              <a:ext cx="835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ktiv[i]:=anrufen[i]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86480" y="83664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10360" y="1492200"/>
              <a:ext cx="73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calling]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1080" y="1600200"/>
              <a:ext cx="50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:=cal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36040" y="282600"/>
              <a:ext cx="58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tmp]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7360" y="1838160"/>
              <a:ext cx="89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ktiv[calling]:=cal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840" y="915840"/>
              <a:ext cx="65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caller]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7400" y="800280"/>
              <a:ext cx="68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ktiv[caller]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8480" y="909720"/>
              <a:ext cx="54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:=cal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74920" y="1130400"/>
              <a:ext cx="419040" cy="828720"/>
            </a:xfrm>
            <a:custGeom>
              <a:avLst/>
              <a:gdLst/>
              <a:ahLst/>
              <a:rect l="l" t="t" r="r" b="b"/>
              <a:pathLst>
                <a:path w="1180" h="2300">
                  <a:moveTo>
                    <a:pt x="1180" y="2300"/>
                  </a:moveTo>
                  <a:lnTo>
                    <a:pt x="1180" y="200"/>
                  </a:lnTo>
                  <a:cubicBezTo>
                    <a:pt x="1180" y="67"/>
                    <a:pt x="1113" y="0"/>
                    <a:pt x="980" y="0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74920" y="1112760"/>
              <a:ext cx="68400" cy="3672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193" y="0"/>
                  </a:moveTo>
                  <a:lnTo>
                    <a:pt x="0" y="51"/>
                  </a:lnTo>
                  <a:lnTo>
                    <a:pt x="193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22480" y="93600"/>
              <a:ext cx="1158840" cy="943200"/>
            </a:xfrm>
            <a:custGeom>
              <a:avLst/>
              <a:gdLst/>
              <a:ahLst/>
              <a:rect l="l" t="t" r="r" b="b"/>
              <a:pathLst>
                <a:path w="3260" h="2620">
                  <a:moveTo>
                    <a:pt x="3260" y="2620"/>
                  </a:moveTo>
                  <a:lnTo>
                    <a:pt x="3260" y="200"/>
                  </a:lnTo>
                  <a:cubicBezTo>
                    <a:pt x="3260" y="67"/>
                    <a:pt x="3193" y="0"/>
                    <a:pt x="3060" y="0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22480" y="74520"/>
              <a:ext cx="698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194" y="0"/>
                  </a:moveTo>
                  <a:lnTo>
                    <a:pt x="0" y="51"/>
                  </a:lnTo>
                  <a:lnTo>
                    <a:pt x="194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30320" y="1224000"/>
              <a:ext cx="0" cy="15876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2680" y="1312920"/>
              <a:ext cx="3672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0320" y="1569960"/>
              <a:ext cx="0" cy="38916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2680" y="1889280"/>
              <a:ext cx="3672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80" y="149400"/>
              <a:ext cx="949320" cy="1326960"/>
            </a:xfrm>
            <a:custGeom>
              <a:avLst/>
              <a:gdLst/>
              <a:ahLst/>
              <a:rect l="l" t="t" r="r" b="b"/>
              <a:pathLst>
                <a:path w="2670" h="3687">
                  <a:moveTo>
                    <a:pt x="2620" y="3687"/>
                  </a:moveTo>
                  <a:lnTo>
                    <a:pt x="200" y="3687"/>
                  </a:lnTo>
                  <a:cubicBezTo>
                    <a:pt x="67" y="3687"/>
                    <a:pt x="0" y="3621"/>
                    <a:pt x="0" y="3487"/>
                  </a:cubicBezTo>
                  <a:lnTo>
                    <a:pt x="0" y="2127"/>
                  </a:lnTo>
                  <a:cubicBezTo>
                    <a:pt x="0" y="1994"/>
                    <a:pt x="55" y="1888"/>
                    <a:pt x="163" y="1810"/>
                  </a:cubicBezTo>
                  <a:lnTo>
                    <a:pt x="267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840" y="149400"/>
              <a:ext cx="66960" cy="5544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60" y="155"/>
                  </a:moveTo>
                  <a:lnTo>
                    <a:pt x="187" y="0"/>
                  </a:lnTo>
                  <a:lnTo>
                    <a:pt x="0" y="7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327400" y="1212840"/>
              <a:ext cx="420480" cy="75888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400" y="1212840"/>
              <a:ext cx="48960" cy="69840"/>
            </a:xfrm>
            <a:custGeom>
              <a:avLst/>
              <a:gdLst/>
              <a:ahLst/>
              <a:rect l="l" t="t" r="r" b="b"/>
              <a:pathLst>
                <a:path w="140" h="194">
                  <a:moveTo>
                    <a:pt x="140" y="143"/>
                  </a:moveTo>
                  <a:lnTo>
                    <a:pt x="0" y="0"/>
                  </a:lnTo>
                  <a:lnTo>
                    <a:pt x="50" y="19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2052720"/>
              <a:ext cx="157932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1960" y="2033640"/>
              <a:ext cx="698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30320" y="187200"/>
              <a:ext cx="0" cy="8496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2680" y="966960"/>
              <a:ext cx="3672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49:42Z</dcterms:created>
  <dc:creator>x</dc:creator>
  <dc:description/>
  <dc:language>en-US</dc:language>
  <cp:lastModifiedBy>x</cp:lastModifiedBy>
  <dcterms:modified xsi:type="dcterms:W3CDTF">2009-06-28T08:06:29Z</dcterms:modified>
  <cp:revision>2</cp:revision>
  <dc:subject/>
  <dc:title>Folie 1</dc:title>
</cp:coreProperties>
</file>