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759450" cy="3168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4DA-DB8C-4770-B375-BB3C8412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739800"/>
            <a:ext cx="518652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1832040"/>
            <a:ext cx="518652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F67-F5E0-48E2-B72D-E2ED2718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73980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73980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183204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183204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AD7-E242-4C32-8E69-271C963C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739800"/>
            <a:ext cx="166968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739800"/>
            <a:ext cx="166968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739800"/>
            <a:ext cx="166968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1832040"/>
            <a:ext cx="166968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1832040"/>
            <a:ext cx="166968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1832040"/>
            <a:ext cx="166968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6B8-3B78-4CB1-9734-92E25AF1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739800"/>
            <a:ext cx="51865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B4E-FD73-4FA8-A859-31DC1839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739800"/>
            <a:ext cx="5186520" cy="2090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15A-2067-486D-83C3-27BB1B15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739800"/>
            <a:ext cx="2530800" cy="2090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739800"/>
            <a:ext cx="2530800" cy="2090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8FF-E496-4CF5-B9E7-0E6884B1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CC4-C5E5-41F2-BBCE-D707FDC8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27080"/>
            <a:ext cx="51865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11C3-B135-4F3C-92F4-FFC26B42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73980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739800"/>
            <a:ext cx="2530800" cy="2090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183204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DE7-F3E8-488F-9701-C5D161C8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739800"/>
            <a:ext cx="2530800" cy="2090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73980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183204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3EA-A7F1-427C-8079-DAFDA65A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73980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739800"/>
            <a:ext cx="253080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1832040"/>
            <a:ext cx="5186520" cy="997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1D7-D1B9-41A6-A284-93A53F5F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27080"/>
            <a:ext cx="5186520" cy="528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739800"/>
            <a:ext cx="5186520" cy="2090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 fontScale="90000"/>
          </a:bodyPr>
          <a:p>
            <a:pPr marL="172800" indent="-172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2600" indent="-142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200" indent="-115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02800" indent="-114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32840" indent="-1141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032840" indent="-1141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032840" indent="-1141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2886120"/>
            <a:ext cx="1344600" cy="21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2886120"/>
            <a:ext cx="1824120" cy="21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2886120"/>
            <a:ext cx="1344600" cy="21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indent="0" algn="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4B406C29-93D7-4DCA-9EEF-C47BDC05619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560" y="1440"/>
            <a:ext cx="5688000" cy="3095640"/>
            <a:chOff x="25560" y="1440"/>
            <a:chExt cx="5688000" cy="3095640"/>
          </a:xfrm>
        </p:grpSpPr>
        <p:cxnSp>
          <p:nvCxnSpPr>
            <p:cNvPr id="42" name=""/>
            <p:cNvCxnSpPr>
              <a:stCxn id="43" idx="7"/>
              <a:endCxn id="44" idx="1"/>
            </p:cNvCxnSpPr>
            <p:nvPr/>
          </p:nvCxnSpPr>
          <p:spPr>
            <a:xfrm flipV="1">
              <a:off x="1031400" y="325080"/>
              <a:ext cx="650160" cy="54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5" name=""/>
            <p:cNvSpPr/>
            <p:nvPr/>
          </p:nvSpPr>
          <p:spPr>
            <a:xfrm>
              <a:off x="25560" y="1152360"/>
              <a:ext cx="576360" cy="792000"/>
            </a:xfrm>
            <a:custGeom>
              <a:avLst/>
              <a:gdLst/>
              <a:ahLst/>
              <a:rect l="l" t="t" r="r" b="b"/>
              <a:pathLst>
                <a:path w="342" h="1620">
                  <a:moveTo>
                    <a:pt x="323" y="1620"/>
                  </a:moveTo>
                  <a:cubicBezTo>
                    <a:pt x="270" y="1516"/>
                    <a:pt x="0" y="1265"/>
                    <a:pt x="3" y="995"/>
                  </a:cubicBezTo>
                  <a:cubicBezTo>
                    <a:pt x="6" y="725"/>
                    <a:pt x="271" y="207"/>
                    <a:pt x="34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81200" y="72720"/>
              <a:ext cx="50508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" name=""/>
            <p:cNvCxnSpPr>
              <a:stCxn id="47" idx="6"/>
              <a:endCxn id="48" idx="1"/>
            </p:cNvCxnSpPr>
            <p:nvPr/>
          </p:nvCxnSpPr>
          <p:spPr>
            <a:xfrm flipV="1">
              <a:off x="1105200" y="1980720"/>
              <a:ext cx="1800360" cy="864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3" name=""/>
            <p:cNvSpPr/>
            <p:nvPr/>
          </p:nvSpPr>
          <p:spPr>
            <a:xfrm>
              <a:off x="600120" y="79200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0120" y="1728360"/>
              <a:ext cx="505080" cy="50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8280" y="865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43" idx="4"/>
              <a:endCxn id="49" idx="0"/>
            </p:cNvCxnSpPr>
            <p:nvPr/>
          </p:nvCxnSpPr>
          <p:spPr>
            <a:xfrm flipH="1">
              <a:off x="852480" y="1296720"/>
              <a:ext cx="720" cy="432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2" name=""/>
            <p:cNvCxnSpPr>
              <a:stCxn id="49" idx="2"/>
              <a:endCxn id="47" idx="0"/>
            </p:cNvCxnSpPr>
            <p:nvPr/>
          </p:nvCxnSpPr>
          <p:spPr>
            <a:xfrm>
              <a:off x="852480" y="2233440"/>
              <a:ext cx="72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3" name=""/>
            <p:cNvSpPr/>
            <p:nvPr/>
          </p:nvSpPr>
          <p:spPr>
            <a:xfrm>
              <a:off x="601200" y="1801440"/>
              <a:ext cx="3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0120" y="2592000"/>
              <a:ext cx="50508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4640" y="2665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4840" y="936360"/>
              <a:ext cx="14436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30640" y="1152360"/>
              <a:ext cx="576360" cy="792000"/>
            </a:xfrm>
            <a:custGeom>
              <a:avLst/>
              <a:gdLst/>
              <a:ahLst/>
              <a:rect l="l" t="t" r="r" b="b"/>
              <a:pathLst>
                <a:path w="342" h="1620">
                  <a:moveTo>
                    <a:pt x="323" y="1620"/>
                  </a:moveTo>
                  <a:cubicBezTo>
                    <a:pt x="270" y="1516"/>
                    <a:pt x="0" y="1265"/>
                    <a:pt x="3" y="995"/>
                  </a:cubicBezTo>
                  <a:cubicBezTo>
                    <a:pt x="6" y="725"/>
                    <a:pt x="271" y="207"/>
                    <a:pt x="34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79200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05200" y="1728360"/>
              <a:ext cx="505080" cy="50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03360" y="865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" name=""/>
            <p:cNvCxnSpPr>
              <a:stCxn id="57" idx="4"/>
              <a:endCxn id="48" idx="0"/>
            </p:cNvCxnSpPr>
            <p:nvPr/>
          </p:nvCxnSpPr>
          <p:spPr>
            <a:xfrm flipH="1">
              <a:off x="3157560" y="1296720"/>
              <a:ext cx="720" cy="432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0" name=""/>
            <p:cNvCxnSpPr>
              <a:stCxn id="48" idx="2"/>
              <a:endCxn id="61" idx="0"/>
            </p:cNvCxnSpPr>
            <p:nvPr/>
          </p:nvCxnSpPr>
          <p:spPr>
            <a:xfrm>
              <a:off x="3157560" y="2233440"/>
              <a:ext cx="72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2" name=""/>
            <p:cNvSpPr/>
            <p:nvPr/>
          </p:nvSpPr>
          <p:spPr>
            <a:xfrm>
              <a:off x="2906640" y="180144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05200" y="2592000"/>
              <a:ext cx="50508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39720" y="2665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33920" y="1152360"/>
              <a:ext cx="576360" cy="792000"/>
            </a:xfrm>
            <a:custGeom>
              <a:avLst/>
              <a:gdLst/>
              <a:ahLst/>
              <a:rect l="l" t="t" r="r" b="b"/>
              <a:pathLst>
                <a:path w="342" h="1620">
                  <a:moveTo>
                    <a:pt x="323" y="1620"/>
                  </a:moveTo>
                  <a:cubicBezTo>
                    <a:pt x="270" y="1516"/>
                    <a:pt x="0" y="1265"/>
                    <a:pt x="3" y="995"/>
                  </a:cubicBezTo>
                  <a:cubicBezTo>
                    <a:pt x="6" y="725"/>
                    <a:pt x="271" y="207"/>
                    <a:pt x="34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08840" y="79200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08840" y="1728360"/>
              <a:ext cx="504720" cy="50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06640" y="865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"/>
            <p:cNvCxnSpPr>
              <a:stCxn id="65" idx="4"/>
              <a:endCxn id="66" idx="0"/>
            </p:cNvCxnSpPr>
            <p:nvPr/>
          </p:nvCxnSpPr>
          <p:spPr>
            <a:xfrm>
              <a:off x="5461200" y="1296720"/>
              <a:ext cx="360" cy="432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9" name=""/>
            <p:cNvCxnSpPr>
              <a:stCxn id="66" idx="2"/>
              <a:endCxn id="70" idx="0"/>
            </p:cNvCxnSpPr>
            <p:nvPr/>
          </p:nvCxnSpPr>
          <p:spPr>
            <a:xfrm>
              <a:off x="5461200" y="2233440"/>
              <a:ext cx="36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71" name=""/>
            <p:cNvSpPr/>
            <p:nvPr/>
          </p:nvSpPr>
          <p:spPr>
            <a:xfrm>
              <a:off x="5209920" y="1801440"/>
              <a:ext cx="3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08840" y="259200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43360" y="2665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61" idx="6"/>
              <a:endCxn id="66" idx="1"/>
            </p:cNvCxnSpPr>
            <p:nvPr/>
          </p:nvCxnSpPr>
          <p:spPr>
            <a:xfrm flipV="1">
              <a:off x="3410280" y="1980720"/>
              <a:ext cx="1798920" cy="864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4" name=""/>
            <p:cNvCxnSpPr>
              <a:stCxn id="44" idx="3"/>
              <a:endCxn id="57" idx="1"/>
            </p:cNvCxnSpPr>
            <p:nvPr/>
          </p:nvCxnSpPr>
          <p:spPr>
            <a:xfrm>
              <a:off x="2186280" y="325080"/>
              <a:ext cx="793080" cy="54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5" name=""/>
            <p:cNvCxnSpPr>
              <a:stCxn id="57" idx="7"/>
              <a:endCxn id="76" idx="1"/>
            </p:cNvCxnSpPr>
            <p:nvPr/>
          </p:nvCxnSpPr>
          <p:spPr>
            <a:xfrm flipV="1">
              <a:off x="3336480" y="325080"/>
              <a:ext cx="651960" cy="54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76" name=""/>
            <p:cNvSpPr/>
            <p:nvPr/>
          </p:nvSpPr>
          <p:spPr>
            <a:xfrm>
              <a:off x="3988080" y="7272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"/>
            <p:cNvCxnSpPr>
              <a:stCxn id="76" idx="3"/>
              <a:endCxn id="65" idx="1"/>
            </p:cNvCxnSpPr>
            <p:nvPr/>
          </p:nvCxnSpPr>
          <p:spPr>
            <a:xfrm>
              <a:off x="4492800" y="325080"/>
              <a:ext cx="790200" cy="54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78" name=""/>
            <p:cNvSpPr/>
            <p:nvPr/>
          </p:nvSpPr>
          <p:spPr>
            <a:xfrm>
              <a:off x="1756080" y="144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Times New Roman"/>
                </a:rPr>
                <a:t>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72320" y="144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Times New Roman"/>
                </a:rPr>
                <a:t>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13:11:50Z</dcterms:created>
  <dc:creator>x</dc:creator>
  <dc:description/>
  <dc:language>en-US</dc:language>
  <cp:lastModifiedBy>x</cp:lastModifiedBy>
  <dcterms:modified xsi:type="dcterms:W3CDTF">2007-01-06T13:12:31Z</dcterms:modified>
  <cp:revision>1</cp:revision>
  <dc:subject/>
  <dc:title>Folie 1</dc:title>
</cp:coreProperties>
</file>