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531225" cy="5472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0B9-74C5-4E62-82F5-3F90C8D8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6960" y="218880"/>
            <a:ext cx="7678800" cy="91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6960" y="1275840"/>
            <a:ext cx="7678800" cy="172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6960" y="3162600"/>
            <a:ext cx="7678800" cy="172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25D-E22E-41D9-AB0D-2BE2AE6B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6960" y="218880"/>
            <a:ext cx="7678800" cy="91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6960" y="1275840"/>
            <a:ext cx="3747240" cy="172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62120" y="1275840"/>
            <a:ext cx="3747240" cy="172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6960" y="3162600"/>
            <a:ext cx="3747240" cy="172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62120" y="3162600"/>
            <a:ext cx="3747240" cy="172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D41-6E34-4BC5-B1F1-1E487011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6960" y="218880"/>
            <a:ext cx="7678800" cy="91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6960" y="1275840"/>
            <a:ext cx="2472480" cy="172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23280" y="1275840"/>
            <a:ext cx="2472480" cy="172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19960" y="1275840"/>
            <a:ext cx="2472480" cy="172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6960" y="3162600"/>
            <a:ext cx="2472480" cy="172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23280" y="3162600"/>
            <a:ext cx="2472480" cy="172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19960" y="3162600"/>
            <a:ext cx="2472480" cy="172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56B-6C76-40C5-A11E-D0CA0A12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6960" y="218880"/>
            <a:ext cx="7678800" cy="91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6960" y="1275840"/>
            <a:ext cx="7678800" cy="36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223-33FC-4E99-B2E1-1F33E2AA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6960" y="218880"/>
            <a:ext cx="7678800" cy="91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6960" y="1275840"/>
            <a:ext cx="7678800" cy="361188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9D2A-808C-4230-88D3-EFF58F40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6960" y="218880"/>
            <a:ext cx="7678800" cy="91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6960" y="1275840"/>
            <a:ext cx="3747240" cy="361188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62120" y="1275840"/>
            <a:ext cx="3747240" cy="361188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ED5-F558-4FA9-905F-B5741369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6960" y="218880"/>
            <a:ext cx="7678800" cy="91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0FC-B6BB-45DB-914C-FA65C0F9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6960" y="218880"/>
            <a:ext cx="76788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7C0-9A74-4E0F-8795-00B3F108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6960" y="218880"/>
            <a:ext cx="7678800" cy="91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6960" y="1275840"/>
            <a:ext cx="3747240" cy="172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2120" y="1275840"/>
            <a:ext cx="3747240" cy="361188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6960" y="3162600"/>
            <a:ext cx="3747240" cy="172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6DF6-27A0-4784-931A-1A8F7E81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6960" y="218880"/>
            <a:ext cx="7678800" cy="91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6960" y="1275840"/>
            <a:ext cx="3747240" cy="361188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2120" y="1275840"/>
            <a:ext cx="3747240" cy="172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62120" y="3162600"/>
            <a:ext cx="3747240" cy="172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6EE-C9D1-4CC6-A55F-E667DEB1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6960" y="218880"/>
            <a:ext cx="7678800" cy="91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6960" y="1275840"/>
            <a:ext cx="3747240" cy="172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2120" y="1275840"/>
            <a:ext cx="3747240" cy="172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6960" y="3162600"/>
            <a:ext cx="7678800" cy="172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CD8-F14E-4758-9FC9-C4D6AC05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6960" y="218880"/>
            <a:ext cx="7678800" cy="912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6960" y="1275840"/>
            <a:ext cx="7678800" cy="361188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-250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0080" indent="-19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0040" indent="-199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0360" indent="-200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0360" indent="-200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0360" indent="-200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6960" y="4983120"/>
            <a:ext cx="1990800" cy="379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14560" y="4983120"/>
            <a:ext cx="2703600" cy="379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 algn="ctr"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14960" y="4983120"/>
            <a:ext cx="1990800" cy="379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 algn="r"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fld id="{E95EBF81-27E2-454F-85F2-0311F11A0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29040" y="0"/>
            <a:ext cx="8812800" cy="5400360"/>
            <a:chOff x="-329040" y="0"/>
            <a:chExt cx="8812800" cy="5400360"/>
          </a:xfrm>
        </p:grpSpPr>
        <p:sp>
          <p:nvSpPr>
            <p:cNvPr id="42" name=""/>
            <p:cNvSpPr/>
            <p:nvPr/>
          </p:nvSpPr>
          <p:spPr>
            <a:xfrm>
              <a:off x="233280" y="142920"/>
              <a:ext cx="216000" cy="1655640"/>
            </a:xfrm>
            <a:custGeom>
              <a:avLst/>
              <a:gdLst>
                <a:gd name="textAreaLeft" fmla="*/ 63360 w 216000"/>
                <a:gd name="textAreaRight" fmla="*/ 216360 w 216000"/>
                <a:gd name="textAreaTop" fmla="*/ 68760 h 1655640"/>
                <a:gd name="textAreaBottom" fmla="*/ 158688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63800" y="136548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63800" y="97020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63800" y="57492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63800" y="142920"/>
              <a:ext cx="574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38360" y="136548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89240" y="136548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14320" y="136548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39760" y="136548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38360" y="97020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89240" y="97020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14320" y="97020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9760" y="97020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38360" y="57492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89240" y="57492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14320" y="57492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9760" y="57492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38360" y="142920"/>
              <a:ext cx="574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89240" y="142920"/>
              <a:ext cx="574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14320" y="142920"/>
              <a:ext cx="574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9760" y="142920"/>
              <a:ext cx="574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9760" y="142920"/>
              <a:ext cx="57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9760" y="142920"/>
              <a:ext cx="0" cy="43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13280" y="142920"/>
              <a:ext cx="0" cy="43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4320" y="1760760"/>
              <a:ext cx="57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9760" y="1760760"/>
              <a:ext cx="57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89240" y="1760760"/>
              <a:ext cx="57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63800" y="1760760"/>
              <a:ext cx="1149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89240" y="142920"/>
              <a:ext cx="57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4320" y="142920"/>
              <a:ext cx="57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9760" y="5749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63800" y="142920"/>
              <a:ext cx="1149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13280" y="5749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9760" y="9702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13280" y="9702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9760" y="136548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13280" y="136548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897280" y="142920"/>
              <a:ext cx="216000" cy="1655640"/>
            </a:xfrm>
            <a:custGeom>
              <a:avLst/>
              <a:gdLst>
                <a:gd name="textAreaLeft" fmla="*/ 63720 w 216000"/>
                <a:gd name="textAreaRight" fmla="*/ 216720 w 216000"/>
                <a:gd name="textAreaTop" fmla="*/ 68760 h 1655640"/>
                <a:gd name="textAreaBottom" fmla="*/ 158688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30720" y="485784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30720" y="446256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30720" y="406728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30720" y="367200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30720" y="3240000"/>
              <a:ext cx="574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30720" y="3240000"/>
              <a:ext cx="57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30720" y="3240000"/>
              <a:ext cx="0" cy="43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05640" y="3240000"/>
              <a:ext cx="0" cy="43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30720" y="5253120"/>
              <a:ext cx="57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30720" y="36720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05640" y="36720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30720" y="406728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05640" y="406728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30720" y="4462560"/>
              <a:ext cx="0" cy="790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05640" y="4462560"/>
              <a:ext cx="0" cy="790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489640" y="3311640"/>
              <a:ext cx="216000" cy="1942920"/>
            </a:xfrm>
            <a:custGeom>
              <a:avLst/>
              <a:gdLst>
                <a:gd name="textAreaLeft" fmla="*/ 63720 w 216000"/>
                <a:gd name="textAreaRight" fmla="*/ 216720 w 216000"/>
                <a:gd name="textAreaTop" fmla="*/ 80640 h 1942920"/>
                <a:gd name="textAreaBottom" fmla="*/ 186228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29280" y="3313080"/>
              <a:ext cx="216000" cy="1943280"/>
            </a:xfrm>
            <a:custGeom>
              <a:avLst/>
              <a:gdLst>
                <a:gd name="textAreaLeft" fmla="*/ 63360 w 216000"/>
                <a:gd name="textAreaRight" fmla="*/ 216360 w 216000"/>
                <a:gd name="textAreaTop" fmla="*/ 80640 h 1943280"/>
                <a:gd name="textAreaBottom" fmla="*/ 1862640 h 194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03440" y="84456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39640" y="7066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07080" y="136548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07080" y="97020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07080" y="57492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07080" y="142920"/>
              <a:ext cx="574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07080" y="142920"/>
              <a:ext cx="57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07080" y="142920"/>
              <a:ext cx="0" cy="43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81640" y="142920"/>
              <a:ext cx="0" cy="43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07080" y="1760760"/>
              <a:ext cx="57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07080" y="5749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1640" y="5749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07080" y="9702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81640" y="9702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07080" y="136548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81640" y="136548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065280" y="214560"/>
              <a:ext cx="215640" cy="1511280"/>
            </a:xfrm>
            <a:custGeom>
              <a:avLst/>
              <a:gdLst>
                <a:gd name="textAreaLeft" fmla="*/ 63000 w 215640"/>
                <a:gd name="textAreaRight" fmla="*/ 215640 w 215640"/>
                <a:gd name="textAreaTop" fmla="*/ 62640 h 1511280"/>
                <a:gd name="textAreaBottom" fmla="*/ 144864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05640" y="216000"/>
              <a:ext cx="215640" cy="1511280"/>
            </a:xfrm>
            <a:custGeom>
              <a:avLst/>
              <a:gdLst>
                <a:gd name="textAreaLeft" fmla="*/ 63360 w 215640"/>
                <a:gd name="textAreaRight" fmla="*/ 216000 w 215640"/>
                <a:gd name="textAreaTop" fmla="*/ 62640 h 1511280"/>
                <a:gd name="textAreaBottom" fmla="*/ 144864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3280" y="3567240"/>
              <a:ext cx="216000" cy="1655640"/>
            </a:xfrm>
            <a:custGeom>
              <a:avLst/>
              <a:gdLst>
                <a:gd name="textAreaLeft" fmla="*/ 63360 w 216000"/>
                <a:gd name="textAreaRight" fmla="*/ 216360 w 216000"/>
                <a:gd name="textAreaTop" fmla="*/ 68760 h 1655640"/>
                <a:gd name="textAreaBottom" fmla="*/ 158688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63800" y="486108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63800" y="446580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63800" y="407052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63800" y="3638520"/>
              <a:ext cx="574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38360" y="486108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89240" y="486108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4320" y="486108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9760" y="486108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38360" y="446580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89240" y="446580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4320" y="446580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9760" y="446580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38360" y="407052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89240" y="407052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4320" y="407052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9760" y="407052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38360" y="3638520"/>
              <a:ext cx="574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89240" y="3638520"/>
              <a:ext cx="574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4320" y="3638520"/>
              <a:ext cx="574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9760" y="3638520"/>
              <a:ext cx="574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9760" y="3638520"/>
              <a:ext cx="57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9760" y="3638520"/>
              <a:ext cx="0" cy="43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13280" y="3638520"/>
              <a:ext cx="0" cy="43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14320" y="5256360"/>
              <a:ext cx="57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9760" y="5256360"/>
              <a:ext cx="57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89240" y="5256360"/>
              <a:ext cx="57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63800" y="5256360"/>
              <a:ext cx="1149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89240" y="3638520"/>
              <a:ext cx="57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4320" y="3638520"/>
              <a:ext cx="57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9760" y="40705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3800" y="3638520"/>
              <a:ext cx="1149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13280" y="40705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760" y="44658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13280" y="44658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9760" y="486108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13280" y="486108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2897280" y="3567240"/>
              <a:ext cx="216000" cy="1655640"/>
            </a:xfrm>
            <a:custGeom>
              <a:avLst/>
              <a:gdLst>
                <a:gd name="textAreaLeft" fmla="*/ 63720 w 216000"/>
                <a:gd name="textAreaRight" fmla="*/ 216720 w 216000"/>
                <a:gd name="textAreaTop" fmla="*/ 68760 h 1655640"/>
                <a:gd name="textAreaBottom" fmla="*/ 158688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-329040" y="2160720"/>
              <a:ext cx="3818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. und 3. Zeile tausch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2. und 4. Zeile tausch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3. Zeile= 3.Zeile +1. Ze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4. Zeile= 4.Zeile +2. Ze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97280" y="2087640"/>
              <a:ext cx="3786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3=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, x4=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, x5=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2+x3-x5=0   d.h. x2= -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+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1+x3-x4=0   d.h. x1=-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+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79800" y="161784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x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79800" y="122256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x4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79800" y="82728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79800" y="432000"/>
              <a:ext cx="57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79800" y="0"/>
              <a:ext cx="574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79800" y="0"/>
              <a:ext cx="57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79800" y="0"/>
              <a:ext cx="0" cy="43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54720" y="0"/>
              <a:ext cx="0" cy="43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79800" y="2013120"/>
              <a:ext cx="57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79800" y="4320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54720" y="4320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79800" y="82728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54720" y="82728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79800" y="1222560"/>
              <a:ext cx="0" cy="790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54720" y="1222560"/>
              <a:ext cx="0" cy="790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338720" y="71640"/>
              <a:ext cx="216000" cy="1942920"/>
            </a:xfrm>
            <a:custGeom>
              <a:avLst/>
              <a:gdLst>
                <a:gd name="textAreaLeft" fmla="*/ 63720 w 216000"/>
                <a:gd name="textAreaRight" fmla="*/ 216720 w 216000"/>
                <a:gd name="textAreaTop" fmla="*/ 80640 h 1942920"/>
                <a:gd name="textAreaBottom" fmla="*/ 186228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78360" y="73080"/>
              <a:ext cx="216000" cy="1943280"/>
            </a:xfrm>
            <a:custGeom>
              <a:avLst/>
              <a:gdLst>
                <a:gd name="textAreaLeft" fmla="*/ 63360 w 216000"/>
                <a:gd name="textAreaRight" fmla="*/ 216360 w 216000"/>
                <a:gd name="textAreaTop" fmla="*/ 80640 h 1943280"/>
                <a:gd name="textAreaBottom" fmla="*/ 1862640 h 194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98360" y="40672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69000" y="4103640"/>
              <a:ext cx="56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j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45640" y="4103640"/>
              <a:ext cx="64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k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26360" y="485784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26360" y="446256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26360" y="406728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26360" y="367200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26360" y="3240000"/>
              <a:ext cx="574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26360" y="3240000"/>
              <a:ext cx="57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26360" y="3240000"/>
              <a:ext cx="0" cy="43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00920" y="3240000"/>
              <a:ext cx="0" cy="43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26360" y="5253120"/>
              <a:ext cx="57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26360" y="36720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920" y="36720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26360" y="406728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00920" y="406728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26360" y="4462560"/>
              <a:ext cx="0" cy="790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00920" y="4462560"/>
              <a:ext cx="0" cy="790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784920" y="3311640"/>
              <a:ext cx="216000" cy="1942920"/>
            </a:xfrm>
            <a:custGeom>
              <a:avLst/>
              <a:gdLst>
                <a:gd name="textAreaLeft" fmla="*/ 63720 w 216000"/>
                <a:gd name="textAreaRight" fmla="*/ 216720 w 216000"/>
                <a:gd name="textAreaTop" fmla="*/ 80640 h 1942920"/>
                <a:gd name="textAreaBottom" fmla="*/ 186228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24560" y="3313080"/>
              <a:ext cx="216000" cy="1943280"/>
            </a:xfrm>
            <a:custGeom>
              <a:avLst/>
              <a:gdLst>
                <a:gd name="textAreaLeft" fmla="*/ 63360 w 216000"/>
                <a:gd name="textAreaRight" fmla="*/ 216360 w 216000"/>
                <a:gd name="textAreaTop" fmla="*/ 80640 h 1943280"/>
                <a:gd name="textAreaBottom" fmla="*/ 1862640 h 194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94720" y="485784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94720" y="446256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94720" y="406728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94720" y="3672000"/>
              <a:ext cx="57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94720" y="3240000"/>
              <a:ext cx="574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94720" y="3240000"/>
              <a:ext cx="57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94720" y="3240000"/>
              <a:ext cx="0" cy="43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69280" y="3240000"/>
              <a:ext cx="0" cy="43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94720" y="5253120"/>
              <a:ext cx="57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94720" y="36720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69280" y="367200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94720" y="406728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69280" y="406728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94720" y="4462560"/>
              <a:ext cx="0" cy="790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69280" y="4462560"/>
              <a:ext cx="0" cy="790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8153280" y="3311640"/>
              <a:ext cx="216000" cy="1942920"/>
            </a:xfrm>
            <a:custGeom>
              <a:avLst/>
              <a:gdLst>
                <a:gd name="textAreaLeft" fmla="*/ 63720 w 216000"/>
                <a:gd name="textAreaRight" fmla="*/ 216720 w 216000"/>
                <a:gd name="textAreaTop" fmla="*/ 80640 h 1942920"/>
                <a:gd name="textAreaBottom" fmla="*/ 186228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92920" y="3313080"/>
              <a:ext cx="216000" cy="1943280"/>
            </a:xfrm>
            <a:custGeom>
              <a:avLst/>
              <a:gdLst>
                <a:gd name="textAreaLeft" fmla="*/ 63360 w 216000"/>
                <a:gd name="textAreaRight" fmla="*/ 216360 w 216000"/>
                <a:gd name="textAreaTop" fmla="*/ 80640 h 1943280"/>
                <a:gd name="textAreaBottom" fmla="*/ 1862640 h 194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01440" y="3186360"/>
              <a:ext cx="132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Lösungs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ra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473640" y="208728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33280" y="2087640"/>
              <a:ext cx="806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0:16:58Z</dcterms:created>
  <dc:creator>x</dc:creator>
  <dc:description/>
  <dc:language>en-US</dc:language>
  <cp:lastModifiedBy>x</cp:lastModifiedBy>
  <dcterms:modified xsi:type="dcterms:W3CDTF">2009-03-08T18:49:07Z</dcterms:modified>
  <cp:revision>3</cp:revision>
  <dc:subject/>
  <dc:title>Folie 1</dc:title>
</cp:coreProperties>
</file>