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2987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22C-B3BE-429E-B428-8522C920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120600"/>
            <a:ext cx="6154560" cy="4968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696600"/>
            <a:ext cx="615456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1727280"/>
            <a:ext cx="615456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AEA-E5B6-4D1E-80A0-9C95BA49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120600"/>
            <a:ext cx="6154560" cy="4968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696600"/>
            <a:ext cx="300312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6680" y="696600"/>
            <a:ext cx="300312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1727280"/>
            <a:ext cx="300312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96680" y="1727280"/>
            <a:ext cx="300312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924-B4A3-415A-BB1D-F811D746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120600"/>
            <a:ext cx="6154560" cy="4968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696600"/>
            <a:ext cx="198144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3880" y="696600"/>
            <a:ext cx="198144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05040" y="696600"/>
            <a:ext cx="198144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1727280"/>
            <a:ext cx="198144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3880" y="1727280"/>
            <a:ext cx="198144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05040" y="1727280"/>
            <a:ext cx="198144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E62-7EF5-4959-BE08-DF72DCF8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120600"/>
            <a:ext cx="6154560" cy="4968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696600"/>
            <a:ext cx="61545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072-D230-44DA-A396-B89D82F2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120600"/>
            <a:ext cx="6154560" cy="4968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696600"/>
            <a:ext cx="6154560" cy="19731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90A-74CD-435E-BE0B-309B2A33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120600"/>
            <a:ext cx="6154560" cy="4968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696600"/>
            <a:ext cx="3003120" cy="19731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680" y="696600"/>
            <a:ext cx="3003120" cy="19731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64A-7B15-4597-A23B-41CC4121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120600"/>
            <a:ext cx="6154560" cy="4968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1478-92FB-4BD3-BCE0-89AA5F76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120600"/>
            <a:ext cx="615456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46D-A7F7-43A3-911C-9E3B3438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120600"/>
            <a:ext cx="6154560" cy="4968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696600"/>
            <a:ext cx="300312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96680" y="696600"/>
            <a:ext cx="3003120" cy="19731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1727280"/>
            <a:ext cx="300312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1AF-0E78-4476-BCDB-36370B78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120600"/>
            <a:ext cx="6154560" cy="4968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696600"/>
            <a:ext cx="3003120" cy="19731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96680" y="696600"/>
            <a:ext cx="300312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96680" y="1727280"/>
            <a:ext cx="300312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2CC-052D-43BF-8833-71C7CF35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120600"/>
            <a:ext cx="6154560" cy="4968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696600"/>
            <a:ext cx="300312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96680" y="696600"/>
            <a:ext cx="300312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1727280"/>
            <a:ext cx="6154560" cy="9410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611-F4EF-499F-B947-A44592BD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120600"/>
            <a:ext cx="6154560" cy="4968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696600"/>
            <a:ext cx="6154560" cy="19731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 fontScale="85000"/>
          </a:bodyPr>
          <a:p>
            <a:pPr marL="163080" indent="-16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4960" indent="-136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5040" indent="-10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3560" indent="-109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82080" indent="-109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82080" indent="-109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82080" indent="-109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22320"/>
            <a:ext cx="1595160" cy="2077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Autofit/>
          </a:bodyPr>
          <a:lstStyle>
            <a:lvl1pPr indent="0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38560" y="2722320"/>
            <a:ext cx="2163600" cy="2077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Autofit/>
          </a:bodyPr>
          <a:lstStyle>
            <a:lvl1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02120" y="2722320"/>
            <a:ext cx="1595520" cy="2077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Autofit/>
          </a:bodyPr>
          <a:lstStyle>
            <a:lvl1pPr indent="0" algn="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fld id="{7BCC6E79-DA3C-4B22-8B01-D54056CF677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400" y="47520"/>
            <a:ext cx="6779520" cy="2921040"/>
            <a:chOff x="68400" y="47520"/>
            <a:chExt cx="6779520" cy="2921040"/>
          </a:xfrm>
        </p:grpSpPr>
        <p:sp>
          <p:nvSpPr>
            <p:cNvPr id="42" name=""/>
            <p:cNvSpPr/>
            <p:nvPr/>
          </p:nvSpPr>
          <p:spPr>
            <a:xfrm>
              <a:off x="756000" y="1509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_,3,0,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56000" y="225756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5,0,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56000" y="18907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3,1,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21600" y="42876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7,0,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51280" y="18907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3,0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6000" y="25765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5,1,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51280" y="225756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3,2,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6000" y="7477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7,1,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02280" y="225756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3,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02280" y="7477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7,0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21600" y="225756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3,0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6000" y="1128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7,2,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51280" y="25765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3,2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16880" y="25765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5,0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02280" y="42876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5,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1280" y="1128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7,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21600" y="25765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3,1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16880" y="42876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5,0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51280" y="1509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7,2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1280" y="7477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5,1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6000" y="42876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3,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02280" y="25765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9,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56240" y="42876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10,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600" y="1724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400" y="2603520"/>
              <a:ext cx="68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400" y="2238480"/>
              <a:ext cx="68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400" y="1873080"/>
              <a:ext cx="684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400" y="1508040"/>
              <a:ext cx="68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00" y="1143000"/>
              <a:ext cx="68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400" y="777960"/>
              <a:ext cx="68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400" y="412920"/>
              <a:ext cx="68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400" y="47520"/>
              <a:ext cx="684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400" y="47520"/>
              <a:ext cx="684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00" y="412920"/>
              <a:ext cx="68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00" y="777960"/>
              <a:ext cx="68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400" y="1143000"/>
              <a:ext cx="68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00" y="1508040"/>
              <a:ext cx="68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00" y="1873080"/>
              <a:ext cx="68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400" y="2238480"/>
              <a:ext cx="68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400" y="2603520"/>
              <a:ext cx="68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400" y="2968560"/>
              <a:ext cx="684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400" y="47520"/>
              <a:ext cx="0" cy="2921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2400" y="47520"/>
              <a:ext cx="0" cy="2921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5600" y="961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5600" y="13431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5600" y="2428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600" y="2790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600" y="20667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5600" y="58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44560" y="17240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44560" y="961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44560" y="13431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44560" y="2428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44560" y="2790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44560" y="2066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44560" y="5810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0200" y="961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0200" y="2428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0200" y="2790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0200" y="58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59160" y="2428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59160" y="2790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59160" y="5810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54800" y="2790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54800" y="58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06-03-07T07:3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