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51613" cy="3168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E94-AECB-4AFA-A6BE-CF6560D2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6520" y="739800"/>
            <a:ext cx="589932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6520" y="1832040"/>
            <a:ext cx="589932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382-D289-4249-B790-AE3337C5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6520" y="73980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49440" y="73980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6520" y="183204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49440" y="183204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0AD-2DA9-4FBD-8DC7-44FF0FD7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6520" y="739800"/>
            <a:ext cx="18993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21280" y="739800"/>
            <a:ext cx="18993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6040" y="739800"/>
            <a:ext cx="18993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6520" y="1832040"/>
            <a:ext cx="18993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21280" y="1832040"/>
            <a:ext cx="18993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16040" y="1832040"/>
            <a:ext cx="18993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4E2-0612-45BE-B05D-61DE1D83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6520" y="739800"/>
            <a:ext cx="589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362-7F97-4931-9F31-632B43F8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6520" y="739800"/>
            <a:ext cx="5899320" cy="2090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3B3-C10B-4340-A1CC-2DDFC930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6520" y="739800"/>
            <a:ext cx="2878560" cy="2090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49440" y="739800"/>
            <a:ext cx="2878560" cy="2090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24A-0B66-47A2-A9CF-3D663AF2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C17-5EFF-4E4F-98AB-1039C83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520" y="127080"/>
            <a:ext cx="58993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6C3-C203-454A-B3D6-308B3219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6520" y="73980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49440" y="739800"/>
            <a:ext cx="2878560" cy="2090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6520" y="183204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D90-9735-47BF-A575-9757A63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6520" y="739800"/>
            <a:ext cx="2878560" cy="2090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49440" y="73980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49440" y="183204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E11-F681-4F3F-AC89-8D4AFEFB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6520" y="73980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49440" y="739800"/>
            <a:ext cx="287856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6520" y="1832040"/>
            <a:ext cx="5899320" cy="9972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871-5604-4814-99DF-22CBA4B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6520" y="127080"/>
            <a:ext cx="5899320" cy="528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6520" y="739800"/>
            <a:ext cx="5899320" cy="2090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 fontScale="85000"/>
          </a:bodyPr>
          <a:p>
            <a:pPr marL="176760" indent="-1767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83040" indent="-1468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89320" indent="-117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825840" indent="-1173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061640" indent="-117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061640" indent="-117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061640" indent="-117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520" y="2886120"/>
            <a:ext cx="1530360" cy="218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lstStyle>
            <a:lvl1pPr indent="0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38480" y="2886120"/>
            <a:ext cx="2076480" cy="218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lstStyle>
            <a:lvl1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95480" y="2886120"/>
            <a:ext cx="1530360" cy="218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lstStyle>
            <a:lvl1pPr indent="0" algn="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fld id="{7DA67179-3D9F-4986-A56A-46A7D8AEE9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47520"/>
            <a:ext cx="50472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47520"/>
            <a:ext cx="50472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6"/>
            <a:endCxn id="42" idx="1"/>
          </p:cNvCxnSpPr>
          <p:nvPr/>
        </p:nvCxnSpPr>
        <p:spPr>
          <a:xfrm flipV="1">
            <a:off x="539640" y="299880"/>
            <a:ext cx="503640" cy="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4" name=""/>
          <p:cNvSpPr/>
          <p:nvPr/>
        </p:nvSpPr>
        <p:spPr>
          <a:xfrm>
            <a:off x="179280" y="1573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4932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5" idx="2"/>
          </p:cNvCxnSpPr>
          <p:nvPr/>
        </p:nvCxnSpPr>
        <p:spPr>
          <a:xfrm>
            <a:off x="1547640" y="299880"/>
            <a:ext cx="4323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7" name=""/>
          <p:cNvSpPr/>
          <p:nvPr/>
        </p:nvSpPr>
        <p:spPr>
          <a:xfrm>
            <a:off x="4065480" y="44280"/>
            <a:ext cx="50508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3480" y="44280"/>
            <a:ext cx="50508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6"/>
            <a:endCxn id="48" idx="1"/>
          </p:cNvCxnSpPr>
          <p:nvPr/>
        </p:nvCxnSpPr>
        <p:spPr>
          <a:xfrm flipV="1">
            <a:off x="4570560" y="296640"/>
            <a:ext cx="503280" cy="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0" name=""/>
          <p:cNvSpPr/>
          <p:nvPr/>
        </p:nvSpPr>
        <p:spPr>
          <a:xfrm>
            <a:off x="6156360" y="15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0200" y="4608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8" idx="3"/>
            <a:endCxn id="51" idx="2"/>
          </p:cNvCxnSpPr>
          <p:nvPr/>
        </p:nvCxnSpPr>
        <p:spPr>
          <a:xfrm>
            <a:off x="5578560" y="296640"/>
            <a:ext cx="432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3" name=""/>
          <p:cNvSpPr/>
          <p:nvPr/>
        </p:nvSpPr>
        <p:spPr>
          <a:xfrm>
            <a:off x="34920" y="79848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1480" y="1155600"/>
            <a:ext cx="50472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6"/>
            <a:endCxn id="54" idx="1"/>
          </p:cNvCxnSpPr>
          <p:nvPr/>
        </p:nvCxnSpPr>
        <p:spPr>
          <a:xfrm>
            <a:off x="539640" y="1050840"/>
            <a:ext cx="502200" cy="35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6" name=""/>
          <p:cNvSpPr/>
          <p:nvPr/>
        </p:nvSpPr>
        <p:spPr>
          <a:xfrm>
            <a:off x="250920" y="10144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15740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4" idx="3"/>
            <a:endCxn id="57" idx="2"/>
          </p:cNvCxnSpPr>
          <p:nvPr/>
        </p:nvCxnSpPr>
        <p:spPr>
          <a:xfrm>
            <a:off x="1546200" y="1407960"/>
            <a:ext cx="4323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9" name=""/>
          <p:cNvSpPr/>
          <p:nvPr/>
        </p:nvSpPr>
        <p:spPr>
          <a:xfrm>
            <a:off x="34920" y="155592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6"/>
            <a:endCxn id="54" idx="1"/>
          </p:cNvCxnSpPr>
          <p:nvPr/>
        </p:nvCxnSpPr>
        <p:spPr>
          <a:xfrm flipV="1">
            <a:off x="539640" y="1407960"/>
            <a:ext cx="50220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1" name=""/>
          <p:cNvSpPr/>
          <p:nvPr/>
        </p:nvSpPr>
        <p:spPr>
          <a:xfrm>
            <a:off x="250920" y="1771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79848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3480" y="1155600"/>
            <a:ext cx="50508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2" idx="6"/>
            <a:endCxn id="63" idx="1"/>
          </p:cNvCxnSpPr>
          <p:nvPr/>
        </p:nvCxnSpPr>
        <p:spPr>
          <a:xfrm>
            <a:off x="4572000" y="1050840"/>
            <a:ext cx="501840" cy="35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5" name=""/>
          <p:cNvSpPr/>
          <p:nvPr/>
        </p:nvSpPr>
        <p:spPr>
          <a:xfrm>
            <a:off x="6154560" y="13032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0200" y="115740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3" idx="3"/>
            <a:endCxn id="66" idx="2"/>
          </p:cNvCxnSpPr>
          <p:nvPr/>
        </p:nvCxnSpPr>
        <p:spPr>
          <a:xfrm>
            <a:off x="5578560" y="1407960"/>
            <a:ext cx="432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8" name=""/>
          <p:cNvSpPr/>
          <p:nvPr/>
        </p:nvSpPr>
        <p:spPr>
          <a:xfrm>
            <a:off x="4067280" y="155592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6"/>
            <a:endCxn id="63" idx="1"/>
          </p:cNvCxnSpPr>
          <p:nvPr/>
        </p:nvCxnSpPr>
        <p:spPr>
          <a:xfrm flipV="1">
            <a:off x="4572000" y="1407960"/>
            <a:ext cx="50184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0" name=""/>
          <p:cNvSpPr/>
          <p:nvPr/>
        </p:nvSpPr>
        <p:spPr>
          <a:xfrm>
            <a:off x="34920" y="237816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378160"/>
            <a:ext cx="50472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70" idx="6"/>
            <a:endCxn id="71" idx="1"/>
          </p:cNvCxnSpPr>
          <p:nvPr/>
        </p:nvCxnSpPr>
        <p:spPr>
          <a:xfrm>
            <a:off x="539640" y="2630520"/>
            <a:ext cx="50364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3" name=""/>
          <p:cNvSpPr/>
          <p:nvPr/>
        </p:nvSpPr>
        <p:spPr>
          <a:xfrm>
            <a:off x="179280" y="24876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02104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1" idx="3"/>
            <a:endCxn id="74" idx="2"/>
          </p:cNvCxnSpPr>
          <p:nvPr/>
        </p:nvCxnSpPr>
        <p:spPr>
          <a:xfrm flipV="1">
            <a:off x="1547640" y="2273400"/>
            <a:ext cx="432360" cy="35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6" name=""/>
          <p:cNvSpPr/>
          <p:nvPr/>
        </p:nvSpPr>
        <p:spPr>
          <a:xfrm>
            <a:off x="1969920" y="263520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1" idx="3"/>
            <a:endCxn id="76" idx="2"/>
          </p:cNvCxnSpPr>
          <p:nvPr/>
        </p:nvCxnSpPr>
        <p:spPr>
          <a:xfrm>
            <a:off x="1547640" y="2630520"/>
            <a:ext cx="422640" cy="25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8" name=""/>
          <p:cNvSpPr/>
          <p:nvPr/>
        </p:nvSpPr>
        <p:spPr>
          <a:xfrm>
            <a:off x="4065480" y="237816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3480" y="237816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8" idx="6"/>
            <a:endCxn id="79" idx="1"/>
          </p:cNvCxnSpPr>
          <p:nvPr/>
        </p:nvCxnSpPr>
        <p:spPr>
          <a:xfrm>
            <a:off x="4570560" y="2630520"/>
            <a:ext cx="503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1" name=""/>
          <p:cNvSpPr/>
          <p:nvPr/>
        </p:nvSpPr>
        <p:spPr>
          <a:xfrm>
            <a:off x="6154560" y="22035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0200" y="20210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79" idx="3"/>
            <a:endCxn id="82" idx="2"/>
          </p:cNvCxnSpPr>
          <p:nvPr/>
        </p:nvCxnSpPr>
        <p:spPr>
          <a:xfrm flipV="1">
            <a:off x="5578560" y="2273400"/>
            <a:ext cx="432000" cy="35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4" name=""/>
          <p:cNvSpPr/>
          <p:nvPr/>
        </p:nvSpPr>
        <p:spPr>
          <a:xfrm>
            <a:off x="6000840" y="263520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9" idx="3"/>
            <a:endCxn id="84" idx="2"/>
          </p:cNvCxnSpPr>
          <p:nvPr/>
        </p:nvCxnSpPr>
        <p:spPr>
          <a:xfrm>
            <a:off x="5578560" y="2630520"/>
            <a:ext cx="422640" cy="25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6" name=""/>
          <p:cNvSpPr/>
          <p:nvPr/>
        </p:nvSpPr>
        <p:spPr>
          <a:xfrm>
            <a:off x="6156360" y="277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115920"/>
            <a:ext cx="431640" cy="360360"/>
          </a:xfrm>
          <a:prstGeom prst="rightArrow">
            <a:avLst>
              <a:gd name="adj1" fmla="val 49778"/>
              <a:gd name="adj2" fmla="val 47119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1195560"/>
            <a:ext cx="431640" cy="360360"/>
          </a:xfrm>
          <a:prstGeom prst="rightArrow">
            <a:avLst>
              <a:gd name="adj1" fmla="val 49778"/>
              <a:gd name="adj2" fmla="val 47119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2419200"/>
            <a:ext cx="431640" cy="360360"/>
          </a:xfrm>
          <a:prstGeom prst="rightArrow">
            <a:avLst>
              <a:gd name="adj1" fmla="val 49778"/>
              <a:gd name="adj2" fmla="val 47119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1:59:01Z</dcterms:created>
  <dc:creator>kleuker</dc:creator>
  <dc:description/>
  <dc:language>en-US</dc:language>
  <cp:lastModifiedBy>kleuker</cp:lastModifiedBy>
  <dcterms:modified xsi:type="dcterms:W3CDTF">2007-01-11T12:00:22Z</dcterms:modified>
  <cp:revision>1</cp:revision>
  <dc:subject/>
  <dc:title>Folie 1</dc:title>
</cp:coreProperties>
</file>