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72338" cy="30241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6916-7825-4035-B889-C156BBC7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240" y="120600"/>
            <a:ext cx="6545160" cy="5047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3240" y="705960"/>
            <a:ext cx="6545160" cy="951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3240" y="1748160"/>
            <a:ext cx="6545160" cy="951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FD5-E143-4F54-828F-547F31CC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240" y="120600"/>
            <a:ext cx="6545160" cy="5047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3240" y="705960"/>
            <a:ext cx="3193920" cy="951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17360" y="705960"/>
            <a:ext cx="3193920" cy="951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3240" y="1748160"/>
            <a:ext cx="3193920" cy="951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17360" y="1748160"/>
            <a:ext cx="3193920" cy="951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D5B-6930-445D-B5C2-3D7D9A80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240" y="120600"/>
            <a:ext cx="6545160" cy="5047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3240" y="705960"/>
            <a:ext cx="2107440" cy="951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76520" y="705960"/>
            <a:ext cx="2107440" cy="951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89800" y="705960"/>
            <a:ext cx="2107440" cy="951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3240" y="1748160"/>
            <a:ext cx="2107440" cy="951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76520" y="1748160"/>
            <a:ext cx="2107440" cy="951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89800" y="1748160"/>
            <a:ext cx="2107440" cy="951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FD51-4F19-4294-BA63-1E94CFB3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240" y="120600"/>
            <a:ext cx="6545160" cy="5047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3240" y="705960"/>
            <a:ext cx="654516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6C4E-FF7F-40DB-AC84-47C95560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240" y="120600"/>
            <a:ext cx="6545160" cy="5047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3240" y="705960"/>
            <a:ext cx="6545160" cy="1995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27EA-11B3-4BE2-B1CC-AA808848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240" y="120600"/>
            <a:ext cx="6545160" cy="5047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3240" y="705960"/>
            <a:ext cx="3193920" cy="1995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17360" y="705960"/>
            <a:ext cx="3193920" cy="1995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F55-9231-47DF-B087-036CD6CE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240" y="120600"/>
            <a:ext cx="6545160" cy="5047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F92A-B456-4038-A5F3-AA12FA3B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240" y="120600"/>
            <a:ext cx="654516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95A1-3EA1-4F17-B9E5-6298DE1F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240" y="120600"/>
            <a:ext cx="6545160" cy="5047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3240" y="705960"/>
            <a:ext cx="3193920" cy="951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17360" y="705960"/>
            <a:ext cx="3193920" cy="1995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3240" y="1748160"/>
            <a:ext cx="3193920" cy="951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4A2-0FB2-4CBC-BF83-F27EAFEB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240" y="120600"/>
            <a:ext cx="6545160" cy="5047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3240" y="705960"/>
            <a:ext cx="3193920" cy="1995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17360" y="705960"/>
            <a:ext cx="3193920" cy="951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17360" y="1748160"/>
            <a:ext cx="3193920" cy="951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9457-0C6C-4937-B78B-696DA967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240" y="120600"/>
            <a:ext cx="6545160" cy="5047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3240" y="705960"/>
            <a:ext cx="3193920" cy="951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17360" y="705960"/>
            <a:ext cx="3193920" cy="951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3240" y="1748160"/>
            <a:ext cx="6545160" cy="951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AFD-145C-4B80-ABA9-5E46CAB6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3240" y="120600"/>
            <a:ext cx="6545160" cy="5047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3240" y="705960"/>
            <a:ext cx="6545160" cy="1995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 fontScale="73000"/>
          </a:bodyPr>
          <a:p>
            <a:pPr marL="160920" indent="-1609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134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536400" indent="-1065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752040" indent="-1076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966240" indent="-107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966240" indent="-107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966240" indent="-107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3600" y="2754360"/>
            <a:ext cx="1697040" cy="2095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Autofit/>
          </a:bodyPr>
          <a:lstStyle>
            <a:lvl1pPr indent="0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84000" y="2754360"/>
            <a:ext cx="2303640" cy="2095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Autofit/>
          </a:bodyPr>
          <a:lstStyle>
            <a:lvl1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11720" y="2754360"/>
            <a:ext cx="1697040" cy="2095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Autofit/>
          </a:bodyPr>
          <a:lstStyle>
            <a:lvl1pPr indent="0" algn="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fld id="{A22F2C5C-FB99-4728-93C0-BB4FAED6CC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60" y="1127160"/>
            <a:ext cx="50508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911160"/>
            <a:ext cx="505080" cy="50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2120" y="9842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800" y="7682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6"/>
            <a:endCxn id="42" idx="1"/>
          </p:cNvCxnSpPr>
          <p:nvPr/>
        </p:nvCxnSpPr>
        <p:spPr>
          <a:xfrm flipV="1">
            <a:off x="541440" y="1163520"/>
            <a:ext cx="646200" cy="216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46" name=""/>
          <p:cNvSpPr/>
          <p:nvPr/>
        </p:nvSpPr>
        <p:spPr>
          <a:xfrm>
            <a:off x="181080" y="12366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1127160"/>
            <a:ext cx="50508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2" idx="3"/>
            <a:endCxn id="47" idx="2"/>
          </p:cNvCxnSpPr>
          <p:nvPr/>
        </p:nvCxnSpPr>
        <p:spPr>
          <a:xfrm>
            <a:off x="1692360" y="1163520"/>
            <a:ext cx="576360" cy="216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49" name=""/>
          <p:cNvSpPr/>
          <p:nvPr/>
        </p:nvSpPr>
        <p:spPr>
          <a:xfrm>
            <a:off x="2269800" y="7682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77920" y="1558800"/>
            <a:ext cx="504720" cy="50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02400" y="16318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7" idx="3"/>
            <a:endCxn id="50" idx="3"/>
          </p:cNvCxnSpPr>
          <p:nvPr/>
        </p:nvCxnSpPr>
        <p:spPr>
          <a:xfrm flipH="1">
            <a:off x="1682640" y="1558080"/>
            <a:ext cx="659880" cy="25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53" name=""/>
          <p:cNvCxnSpPr>
            <a:stCxn id="50" idx="1"/>
            <a:endCxn id="41" idx="5"/>
          </p:cNvCxnSpPr>
          <p:nvPr/>
        </p:nvCxnSpPr>
        <p:spPr>
          <a:xfrm flipH="1" flipV="1">
            <a:off x="467640" y="1558080"/>
            <a:ext cx="710640" cy="25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54" name=""/>
          <p:cNvSpPr/>
          <p:nvPr/>
        </p:nvSpPr>
        <p:spPr>
          <a:xfrm>
            <a:off x="3419640" y="911160"/>
            <a:ext cx="504720" cy="50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44120" y="9842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7" idx="6"/>
            <a:endCxn id="54" idx="1"/>
          </p:cNvCxnSpPr>
          <p:nvPr/>
        </p:nvCxnSpPr>
        <p:spPr>
          <a:xfrm flipV="1">
            <a:off x="2773440" y="1163520"/>
            <a:ext cx="646560" cy="216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57" name=""/>
          <p:cNvSpPr/>
          <p:nvPr/>
        </p:nvSpPr>
        <p:spPr>
          <a:xfrm>
            <a:off x="4500720" y="1127160"/>
            <a:ext cx="50472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4" idx="3"/>
            <a:endCxn id="57" idx="2"/>
          </p:cNvCxnSpPr>
          <p:nvPr/>
        </p:nvCxnSpPr>
        <p:spPr>
          <a:xfrm>
            <a:off x="3924360" y="1163520"/>
            <a:ext cx="576720" cy="216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59" name=""/>
          <p:cNvSpPr/>
          <p:nvPr/>
        </p:nvSpPr>
        <p:spPr>
          <a:xfrm>
            <a:off x="4501800" y="7682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09920" y="1558800"/>
            <a:ext cx="504720" cy="50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34400" y="16318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7" idx="3"/>
            <a:endCxn id="60" idx="3"/>
          </p:cNvCxnSpPr>
          <p:nvPr/>
        </p:nvCxnSpPr>
        <p:spPr>
          <a:xfrm flipH="1">
            <a:off x="3914640" y="1558080"/>
            <a:ext cx="660240" cy="25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63" name=""/>
          <p:cNvCxnSpPr>
            <a:stCxn id="60" idx="1"/>
            <a:endCxn id="47" idx="5"/>
          </p:cNvCxnSpPr>
          <p:nvPr/>
        </p:nvCxnSpPr>
        <p:spPr>
          <a:xfrm flipH="1" flipV="1">
            <a:off x="2699640" y="1558080"/>
            <a:ext cx="710640" cy="25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64" name=""/>
          <p:cNvSpPr/>
          <p:nvPr/>
        </p:nvSpPr>
        <p:spPr>
          <a:xfrm>
            <a:off x="5651640" y="911160"/>
            <a:ext cx="504720" cy="50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76120" y="9842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57" idx="6"/>
            <a:endCxn id="64" idx="1"/>
          </p:cNvCxnSpPr>
          <p:nvPr/>
        </p:nvCxnSpPr>
        <p:spPr>
          <a:xfrm flipV="1">
            <a:off x="5005440" y="1163520"/>
            <a:ext cx="646560" cy="216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67" name=""/>
          <p:cNvSpPr/>
          <p:nvPr/>
        </p:nvSpPr>
        <p:spPr>
          <a:xfrm>
            <a:off x="6732720" y="1127160"/>
            <a:ext cx="50472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4" idx="3"/>
            <a:endCxn id="67" idx="2"/>
          </p:cNvCxnSpPr>
          <p:nvPr/>
        </p:nvCxnSpPr>
        <p:spPr>
          <a:xfrm>
            <a:off x="6156360" y="1163520"/>
            <a:ext cx="576720" cy="216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69" name=""/>
          <p:cNvSpPr/>
          <p:nvPr/>
        </p:nvSpPr>
        <p:spPr>
          <a:xfrm>
            <a:off x="6733800" y="7682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41920" y="1558800"/>
            <a:ext cx="504720" cy="50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66400" y="16318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7" idx="3"/>
            <a:endCxn id="70" idx="3"/>
          </p:cNvCxnSpPr>
          <p:nvPr/>
        </p:nvCxnSpPr>
        <p:spPr>
          <a:xfrm flipH="1">
            <a:off x="6146640" y="1558080"/>
            <a:ext cx="660240" cy="25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3" name=""/>
          <p:cNvCxnSpPr>
            <a:stCxn id="70" idx="1"/>
            <a:endCxn id="57" idx="5"/>
          </p:cNvCxnSpPr>
          <p:nvPr/>
        </p:nvCxnSpPr>
        <p:spPr>
          <a:xfrm flipH="1" flipV="1">
            <a:off x="4931640" y="1558080"/>
            <a:ext cx="710640" cy="25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4" name=""/>
          <p:cNvSpPr/>
          <p:nvPr/>
        </p:nvSpPr>
        <p:spPr>
          <a:xfrm>
            <a:off x="3411360" y="47520"/>
            <a:ext cx="505080" cy="505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42" idx="3"/>
            <a:endCxn id="74" idx="2"/>
          </p:cNvCxnSpPr>
          <p:nvPr/>
        </p:nvCxnSpPr>
        <p:spPr>
          <a:xfrm flipV="1">
            <a:off x="1692360" y="300240"/>
            <a:ext cx="1719360" cy="863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6" name=""/>
          <p:cNvCxnSpPr>
            <a:stCxn id="74" idx="6"/>
            <a:endCxn id="64" idx="1"/>
          </p:cNvCxnSpPr>
          <p:nvPr/>
        </p:nvCxnSpPr>
        <p:spPr>
          <a:xfrm>
            <a:off x="3916440" y="300240"/>
            <a:ext cx="1735560" cy="863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7" name=""/>
          <p:cNvSpPr/>
          <p:nvPr/>
        </p:nvSpPr>
        <p:spPr>
          <a:xfrm>
            <a:off x="3411360" y="2495520"/>
            <a:ext cx="50508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0" idx="1"/>
            <a:endCxn id="77" idx="6"/>
          </p:cNvCxnSpPr>
          <p:nvPr/>
        </p:nvCxnSpPr>
        <p:spPr>
          <a:xfrm flipH="1">
            <a:off x="3916440" y="1811160"/>
            <a:ext cx="1725840" cy="937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9" name=""/>
          <p:cNvSpPr/>
          <p:nvPr/>
        </p:nvSpPr>
        <p:spPr>
          <a:xfrm>
            <a:off x="3412800" y="2136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7" idx="2"/>
            <a:endCxn id="50" idx="3"/>
          </p:cNvCxnSpPr>
          <p:nvPr/>
        </p:nvCxnSpPr>
        <p:spPr>
          <a:xfrm flipH="1" flipV="1">
            <a:off x="1682640" y="1811160"/>
            <a:ext cx="1729080" cy="937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1" name=""/>
          <p:cNvSpPr/>
          <p:nvPr/>
        </p:nvSpPr>
        <p:spPr>
          <a:xfrm>
            <a:off x="3925440" y="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0:13:02Z</dcterms:created>
  <dc:creator>x</dc:creator>
  <dc:description/>
  <dc:language>en-US</dc:language>
  <cp:lastModifiedBy>x</cp:lastModifiedBy>
  <dcterms:modified xsi:type="dcterms:W3CDTF">2007-05-17T07:49:58Z</dcterms:modified>
  <cp:revision>2</cp:revision>
  <dc:subject/>
  <dc:title>Folie 1</dc:title>
</cp:coreProperties>
</file>