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11975" cy="698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E91-654F-4828-9F4A-0C9015D4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5960" y="280800"/>
            <a:ext cx="622008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960" y="1628280"/>
            <a:ext cx="6220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960" y="4037400"/>
            <a:ext cx="6220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3D2-E20E-4CF7-9A6D-0A435F51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5960" y="280800"/>
            <a:ext cx="622008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960" y="1628280"/>
            <a:ext cx="303516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33400" y="1628280"/>
            <a:ext cx="303516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960" y="4037400"/>
            <a:ext cx="303516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33400" y="4037400"/>
            <a:ext cx="303516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802-0B68-4DB8-8A1F-5E012579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5960" y="280800"/>
            <a:ext cx="622008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960" y="1628280"/>
            <a:ext cx="20026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9080" y="1628280"/>
            <a:ext cx="20026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52200" y="1628280"/>
            <a:ext cx="20026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960" y="4037400"/>
            <a:ext cx="20026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9080" y="4037400"/>
            <a:ext cx="20026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52200" y="4037400"/>
            <a:ext cx="20026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990-C0E7-4CAD-B0D5-3F1A13A5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960" y="280800"/>
            <a:ext cx="622008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960" y="1628280"/>
            <a:ext cx="622008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90C-9E15-48F1-8C67-B7996752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960" y="280800"/>
            <a:ext cx="622008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960" y="1628280"/>
            <a:ext cx="622008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255-615D-4993-9D55-C1787695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5960" y="280800"/>
            <a:ext cx="622008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960" y="1628280"/>
            <a:ext cx="303516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33400" y="1628280"/>
            <a:ext cx="303516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9B4-5BDF-4080-AC61-0063DABE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960" y="280800"/>
            <a:ext cx="622008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161-C1B1-474F-9EB6-43A20117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5960" y="280800"/>
            <a:ext cx="622008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A8B-0AED-489B-B1A4-24F0CDB9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5960" y="280800"/>
            <a:ext cx="622008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960" y="1628280"/>
            <a:ext cx="303516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33400" y="1628280"/>
            <a:ext cx="303516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960" y="4037400"/>
            <a:ext cx="303516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F90-74F6-4202-B3D9-5CB28CFC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5960" y="280800"/>
            <a:ext cx="622008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960" y="1628280"/>
            <a:ext cx="303516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33400" y="1628280"/>
            <a:ext cx="303516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33400" y="4037400"/>
            <a:ext cx="303516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62B-A280-45FB-824B-55498318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5960" y="280800"/>
            <a:ext cx="622008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960" y="1628280"/>
            <a:ext cx="303516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33400" y="1628280"/>
            <a:ext cx="303516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960" y="4037400"/>
            <a:ext cx="6220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E4AE-7A8F-42B4-BE39-EC2DDF7C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960" y="280800"/>
            <a:ext cx="622008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960" y="1628280"/>
            <a:ext cx="622008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5600" y="6360840"/>
            <a:ext cx="16131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360840"/>
            <a:ext cx="2187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520" y="6360840"/>
            <a:ext cx="16131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3D28-C9C0-4532-AFA1-3A4AE9923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00600" y="-74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_,3,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19520" y="6872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5,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19520" y="12970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3,1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29400" y="6872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7,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2940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3,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00" y="1982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5,1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800" y="2606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3,2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65600" y="1982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7,1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32280" y="2606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3,1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51800" y="1982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7,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51800" y="2606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3,0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0" y="32925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7,2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19520" y="40402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3,2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70720" y="1982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5,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41920" y="32925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5,1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1320" y="32925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7,1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05720" y="40402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3,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51800" y="32925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5,0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19520" y="4649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7,2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05720" y="4649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5,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56320" y="53499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3,2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24280" y="59594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9,2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81800" y="663084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10,2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50880" y="306360"/>
            <a:ext cx="190512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1120" y="106848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50880" y="106848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60160" y="1601640"/>
            <a:ext cx="9903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0520" y="23637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51480" y="23637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0520" y="29732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51480" y="29732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44211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50880" y="44211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56000" y="57164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56000" y="632628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56000" y="306360"/>
            <a:ext cx="190512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50880" y="1601640"/>
            <a:ext cx="9907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370400" y="1601640"/>
            <a:ext cx="9907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61120" y="1601640"/>
            <a:ext cx="9903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5280" y="2287440"/>
            <a:ext cx="9907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456000" y="2287440"/>
            <a:ext cx="9907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41600" y="2897280"/>
            <a:ext cx="9907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32320" y="2897280"/>
            <a:ext cx="9903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0520" y="3659040"/>
            <a:ext cx="9903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550880" y="3659040"/>
            <a:ext cx="9907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46720" y="3659040"/>
            <a:ext cx="9903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437080" y="3659040"/>
            <a:ext cx="9907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31960" y="5030640"/>
            <a:ext cx="1904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50880" y="5030640"/>
            <a:ext cx="190512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10240" y="216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&lt;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45240" y="15559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&lt;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1640" y="9777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=x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8120" y="3765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=y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6360" y="15559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&lt;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43760" y="28065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&lt;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920" y="15559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&lt;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02840" y="28828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&lt;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39240" y="42991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&lt;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83520" y="216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&lt;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53040" y="42991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&lt;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2680" y="28828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&lt;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5120" y="15559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&lt;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10600" y="3765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=x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3040" y="22734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=x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87160" y="4832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=x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87360" y="3765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=x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9600" y="9777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=y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63240" y="23493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=y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2040" y="4832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=y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77320" y="5594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4840" y="62355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87160" y="3765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=y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92240" y="22734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=y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74040" y="28065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&lt;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8560" y="23493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=x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07-03-14T07:28:4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