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16350" cy="1331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26E-71AF-41EE-A886-CE0A30C2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80208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EAD-F39C-4B52-B8F9-0BEE829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832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D9C-5C95-4575-AFF2-6BFC35E8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276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0040" y="38376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276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0040" y="802080"/>
            <a:ext cx="104472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D6B-37F4-4D49-AB4F-EB4E1118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C86-C0CF-44A1-A165-8F2988B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05E-E74E-4648-BBC1-8F8734A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DF4-540D-4D0A-9A60-930AF24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0AE-77EF-4CBD-974E-780CBEC1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480" y="118800"/>
            <a:ext cx="32446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167-BB82-46A2-A6D5-F1C0D1F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F91-C141-4EE9-9DD7-41FD0A6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8320" y="80208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AA4-A429-468F-A347-6481E6C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480" y="107640"/>
            <a:ext cx="3244680" cy="2430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8320" y="383760"/>
            <a:ext cx="15832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802080"/>
            <a:ext cx="3244680" cy="38160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79E-CE57-4D89-A8B1-B987E95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118800"/>
            <a:ext cx="3244680" cy="2206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ctr">
            <a:noAutofit/>
          </a:bodyPr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83760"/>
            <a:ext cx="3244680" cy="80028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rmAutofit fontScale="61000"/>
          </a:bodyPr>
          <a:p>
            <a:pPr marL="66600" indent="-666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5616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4640" indent="-453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31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403560" indent="-442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480" y="1212480"/>
            <a:ext cx="79524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2840" y="1212480"/>
            <a:ext cx="120996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4920" y="1212480"/>
            <a:ext cx="795240" cy="88920"/>
          </a:xfrm>
          <a:prstGeom prst="rect">
            <a:avLst/>
          </a:prstGeom>
          <a:noFill/>
          <a:ln w="0">
            <a:noFill/>
          </a:ln>
        </p:spPr>
        <p:txBody>
          <a:bodyPr lIns="29520" rIns="29520" tIns="14760" bIns="14760" anchor="t">
            <a:noAutofit/>
          </a:bodyPr>
          <a:lstStyle>
            <a:lvl1pPr indent="0" algn="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fld id="{9F267B25-95DE-4E11-B2BB-E02C194037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17640"/>
            <a:ext cx="10810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01800" y="17640"/>
            <a:ext cx="10810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7440" y="5205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117080" y="10969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1240" y="58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2160" y="-7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954000"/>
            <a:ext cx="144360" cy="28728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954000"/>
            <a:ext cx="144360" cy="28728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0720" y="954000"/>
            <a:ext cx="14472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954000"/>
            <a:ext cx="14436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79440"/>
            <a:ext cx="144360" cy="28728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2720" y="379440"/>
            <a:ext cx="14436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379440"/>
            <a:ext cx="14472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79440"/>
            <a:ext cx="14436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6-03-04T16:28:25Z</dcterms:modified>
  <cp:revision>3</cp:revision>
  <dc:subject/>
  <dc:title>PowerPoint Presentation</dc:title>
</cp:coreProperties>
</file>