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99475" cy="5472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5AE-9156-4CAD-B60A-F10B4B0A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765036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360" y="3165120"/>
            <a:ext cx="765036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087-9BB6-4354-8A14-ED8A98A7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37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360" y="316512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3760" y="316512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2C9-DA25-4F02-BE62-62B6CC8D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9960" y="127944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560" y="127944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360" y="316512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9960" y="316512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560" y="3165120"/>
            <a:ext cx="246312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C72-111D-430E-A555-801B2649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360" y="1279440"/>
            <a:ext cx="765036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0F7-4FDD-43A0-9FCC-A945DFE3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765036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08E-98D9-490F-B134-09D3831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373320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3760" y="1279440"/>
            <a:ext cx="373320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90A-4A0F-44C9-A08A-4C60BD43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E3D-46D1-4B5C-AF1B-7C7EFDEE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3360" y="218880"/>
            <a:ext cx="765036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085-EA80-4FA6-813D-10DF507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3760" y="1279440"/>
            <a:ext cx="373320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360" y="316512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C10-708A-4275-A107-FC8CF74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373320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37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3760" y="316512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A21-EF8E-4AF5-B30C-4AB0A0C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3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3760" y="1279440"/>
            <a:ext cx="373320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360" y="3165120"/>
            <a:ext cx="7650360" cy="1721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A63-9FC8-4D77-91B1-3C434B0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3360" y="218880"/>
            <a:ext cx="7650360" cy="912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360" y="1279440"/>
            <a:ext cx="7650360" cy="3610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6000"/>
          </a:bodyPr>
          <a:p>
            <a:pPr marL="292680" indent="-292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5400" indent="-2437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78120" indent="-1965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1965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761840" indent="-1965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761840" indent="-1965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761840" indent="-1965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3360" y="4983120"/>
            <a:ext cx="1984680" cy="380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04840" y="4983120"/>
            <a:ext cx="2687400" cy="380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89760" y="4983120"/>
            <a:ext cx="1984320" cy="380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1066AF4-F800-4F7C-B9C8-5C78D9DF1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00" y="-360"/>
            <a:ext cx="8420040" cy="5400720"/>
            <a:chOff x="1800" y="-360"/>
            <a:chExt cx="8420040" cy="5400720"/>
          </a:xfrm>
        </p:grpSpPr>
        <p:sp>
          <p:nvSpPr>
            <p:cNvPr id="42" name=""/>
            <p:cNvSpPr/>
            <p:nvPr/>
          </p:nvSpPr>
          <p:spPr>
            <a:xfrm>
              <a:off x="6120000" y="198144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704000" y="198144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14920" y="2160720"/>
              <a:ext cx="1152720" cy="5032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28000" y="2160720"/>
              <a:ext cx="1152360" cy="46512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120000" y="19684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85080" y="144360"/>
              <a:ext cx="0" cy="183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1640" y="4097520"/>
              <a:ext cx="1152720" cy="71892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8000" y="481644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4360" y="44578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00" y="4889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w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15240" y="4097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25800" y="4091040"/>
              <a:ext cx="1152360" cy="71928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02160" y="481032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5440" y="4961160"/>
              <a:ext cx="187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96320" y="49611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wor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12600" y="49611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31240" y="49611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wor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5440" y="496116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7080" y="496116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8000" y="373716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02160" y="373716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5720" y="10508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r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72000" y="941400"/>
              <a:ext cx="216000" cy="2160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680000" y="93528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691160" y="941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680000" y="1582920"/>
              <a:ext cx="10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88000" y="11574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20000" y="360360"/>
              <a:ext cx="1584000" cy="57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(now+3,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5640" y="129564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rt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3080" y="287280"/>
              <a:ext cx="3816360" cy="1729080"/>
              <a:chOff x="73080" y="287280"/>
              <a:chExt cx="3816360" cy="1729080"/>
            </a:xfrm>
          </p:grpSpPr>
          <p:sp>
            <p:nvSpPr>
              <p:cNvPr id="72" name=""/>
              <p:cNvSpPr/>
              <p:nvPr/>
            </p:nvSpPr>
            <p:spPr>
              <a:xfrm>
                <a:off x="1440000" y="1511280"/>
                <a:ext cx="1152720" cy="46512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8160" y="1332000"/>
                <a:ext cx="0" cy="46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62520" y="1332000"/>
                <a:ext cx="0" cy="46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080" y="1511280"/>
                <a:ext cx="1152720" cy="50328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86160" y="1511280"/>
                <a:ext cx="1152360" cy="465120"/>
              </a:xfrm>
              <a:custGeom>
                <a:avLst/>
                <a:gdLst>
                  <a:gd name="textAreaLeft" fmla="*/ 0 w 1152360"/>
                  <a:gd name="textAreaRight" fmla="*/ 1152360 w 115236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76360" y="1328760"/>
                <a:ext cx="288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14560" y="287280"/>
                <a:ext cx="3240" cy="10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68720" y="646200"/>
                <a:ext cx="122400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art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952720" y="1440000"/>
                <a:ext cx="14436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53080" y="1727280"/>
                <a:ext cx="14436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45080" y="1440000"/>
                <a:ext cx="14436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3744720" y="1727280"/>
                <a:ext cx="14436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49640" y="153216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57800" y="129564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306440" y="2448000"/>
              <a:ext cx="154296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49400" y="2448000"/>
              <a:ext cx="0" cy="50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306440" y="1943280"/>
              <a:ext cx="49392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520" y="25131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1000" y="252108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he Prioritä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56320" y="2232000"/>
              <a:ext cx="126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ding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nter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iedrigs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oritä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6320" y="2879640"/>
              <a:ext cx="172584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82160" y="2879640"/>
              <a:ext cx="0" cy="50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556320" y="2663640"/>
              <a:ext cx="789120" cy="215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6480" y="2195640"/>
              <a:ext cx="1271520" cy="12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1280" y="2195640"/>
              <a:ext cx="0" cy="12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976480" y="2016360"/>
              <a:ext cx="263520" cy="179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400" y="2448000"/>
              <a:ext cx="97596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52360" y="2448000"/>
              <a:ext cx="0" cy="50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6400" y="1943280"/>
              <a:ext cx="25524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4160" y="295272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feuerter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20" y="14436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ä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2520" y="14436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2000" y="367200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ternativ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360" y="3600360"/>
              <a:ext cx="806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537080" y="-360"/>
              <a:ext cx="0" cy="360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20000" y="4645080"/>
              <a:ext cx="0" cy="46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4000" y="4645080"/>
              <a:ext cx="0" cy="46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14920" y="4824360"/>
              <a:ext cx="1152720" cy="5032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00" y="4824360"/>
              <a:ext cx="1152360" cy="46512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20000" y="46324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73800" y="3672000"/>
              <a:ext cx="0" cy="9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4720" y="3959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113440" y="3600000"/>
              <a:ext cx="0" cy="180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12360" y="3600360"/>
              <a:ext cx="152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chtdeter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inis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0:57:22Z</dcterms:modified>
  <cp:revision>5</cp:revision>
  <dc:subject/>
  <dc:title>Folie 1</dc:title>
</cp:coreProperties>
</file>