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64500" cy="2484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8F2-EFEB-48E4-88A9-2BDAD989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2840" y="143568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D41-6A27-481C-A69F-474BD502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200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A1A-874D-4686-8AF5-72168423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96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10720" y="57924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284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96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10720" y="1435680"/>
            <a:ext cx="23367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D9C-32F5-4422-A5DB-152479F8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4E7-3190-423A-88D1-0DBC6439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A39-0D1D-41CE-A0B4-29CAE79D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9C7-A8BB-4BED-98AF-3AAD7189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58F-EC19-4413-A115-666B563E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2840" y="99720"/>
            <a:ext cx="72579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51B-B1EA-4228-B741-ED26569E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CD9-6F1B-4F9D-B85A-053BF2C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2000" y="143568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FD7-308B-4F25-A249-CB2304F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2840" y="55800"/>
            <a:ext cx="7257960" cy="5025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284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2000" y="579240"/>
            <a:ext cx="354168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2840" y="1435680"/>
            <a:ext cx="7257960" cy="7819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5E9-80F0-4226-B585-567AB97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2840" y="99720"/>
            <a:ext cx="7257960" cy="414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2840" y="579240"/>
            <a:ext cx="7257960" cy="16398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rmAutofit fontScale="59000"/>
          </a:bodyPr>
          <a:p>
            <a:pPr marL="132840" indent="-132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444960" indent="-889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621720" indent="-87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99560" indent="-88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200" y="2261880"/>
            <a:ext cx="188136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55440" y="2261880"/>
            <a:ext cx="255276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79800" y="2261880"/>
            <a:ext cx="1881000" cy="173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30240" bIns="30240" anchor="t">
            <a:noAutofit/>
          </a:bodyPr>
          <a:lstStyle>
            <a:lvl1pPr indent="0" algn="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03360"/>
                <a:tab algn="l" pos="1206360"/>
                <a:tab algn="l" pos="1809720"/>
                <a:tab algn="l" pos="2413080"/>
                <a:tab algn="l" pos="3016080"/>
                <a:tab algn="l" pos="3619440"/>
                <a:tab algn="l" pos="4222800"/>
                <a:tab algn="l" pos="4826160"/>
                <a:tab algn="l" pos="5429160"/>
                <a:tab algn="l" pos="6032520"/>
                <a:tab algn="l" pos="6635880"/>
                <a:tab algn="l" pos="7238880"/>
                <a:tab algn="l" pos="7842240"/>
                <a:tab algn="l" pos="8445600"/>
                <a:tab algn="l" pos="9048600"/>
                <a:tab algn="l" pos="9651960"/>
                <a:tab algn="l" pos="10255320"/>
                <a:tab algn="l" pos="10858680"/>
              </a:tabLst>
            </a:pPr>
            <a:fld id="{E7F44573-C9A1-4455-9197-FD1C4F42D3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31640" y="17640"/>
            <a:ext cx="4752720" cy="2017440"/>
            <a:chOff x="431640" y="17640"/>
            <a:chExt cx="4752720" cy="2017440"/>
          </a:xfrm>
        </p:grpSpPr>
        <p:sp>
          <p:nvSpPr>
            <p:cNvPr id="42" name=""/>
            <p:cNvSpPr/>
            <p:nvPr/>
          </p:nvSpPr>
          <p:spPr>
            <a:xfrm>
              <a:off x="2663640" y="17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87640" y="522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39640" y="522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3"/>
              <a:endCxn id="44" idx="7"/>
            </p:cNvCxnSpPr>
            <p:nvPr/>
          </p:nvCxnSpPr>
          <p:spPr>
            <a:xfrm flipH="1">
              <a:off x="1747440" y="325440"/>
              <a:ext cx="96912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46" name=""/>
            <p:cNvCxnSpPr>
              <a:stCxn id="42" idx="5"/>
              <a:endCxn id="43" idx="1"/>
            </p:cNvCxnSpPr>
            <p:nvPr/>
          </p:nvCxnSpPr>
          <p:spPr>
            <a:xfrm>
              <a:off x="2971440" y="325440"/>
              <a:ext cx="96912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7" name=""/>
            <p:cNvSpPr/>
            <p:nvPr/>
          </p:nvSpPr>
          <p:spPr>
            <a:xfrm>
              <a:off x="79020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5056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164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7" idx="3"/>
              <a:endCxn id="49" idx="7"/>
            </p:cNvCxnSpPr>
            <p:nvPr/>
          </p:nvCxnSpPr>
          <p:spPr>
            <a:xfrm flipH="1">
              <a:off x="739440" y="1477800"/>
              <a:ext cx="1036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1" name=""/>
            <p:cNvCxnSpPr>
              <a:stCxn id="47" idx="5"/>
              <a:endCxn id="48" idx="1"/>
            </p:cNvCxnSpPr>
            <p:nvPr/>
          </p:nvCxnSpPr>
          <p:spPr>
            <a:xfrm>
              <a:off x="109800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2" name=""/>
            <p:cNvSpPr/>
            <p:nvPr/>
          </p:nvSpPr>
          <p:spPr>
            <a:xfrm>
              <a:off x="2016000" y="1170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76360" y="167472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5708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2" idx="3"/>
              <a:endCxn id="54" idx="7"/>
            </p:cNvCxnSpPr>
            <p:nvPr/>
          </p:nvCxnSpPr>
          <p:spPr>
            <a:xfrm flipH="1">
              <a:off x="1964880" y="1477800"/>
              <a:ext cx="10404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6" name=""/>
            <p:cNvCxnSpPr>
              <a:stCxn id="52" idx="5"/>
              <a:endCxn id="53" idx="1"/>
            </p:cNvCxnSpPr>
            <p:nvPr/>
          </p:nvCxnSpPr>
          <p:spPr>
            <a:xfrm>
              <a:off x="232380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7" name=""/>
            <p:cNvSpPr/>
            <p:nvPr/>
          </p:nvSpPr>
          <p:spPr>
            <a:xfrm>
              <a:off x="324000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0036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8108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stCxn id="57" idx="3"/>
              <a:endCxn id="59" idx="7"/>
            </p:cNvCxnSpPr>
            <p:nvPr/>
          </p:nvCxnSpPr>
          <p:spPr>
            <a:xfrm flipH="1">
              <a:off x="3188880" y="1477800"/>
              <a:ext cx="10404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1" name=""/>
            <p:cNvCxnSpPr>
              <a:stCxn id="57" idx="5"/>
              <a:endCxn id="58" idx="1"/>
            </p:cNvCxnSpPr>
            <p:nvPr/>
          </p:nvCxnSpPr>
          <p:spPr>
            <a:xfrm>
              <a:off x="354780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2" name=""/>
            <p:cNvSpPr/>
            <p:nvPr/>
          </p:nvSpPr>
          <p:spPr>
            <a:xfrm>
              <a:off x="4463640" y="1170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2400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05080" y="16747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"/>
            <p:cNvCxnSpPr>
              <a:stCxn id="62" idx="3"/>
              <a:endCxn id="64" idx="7"/>
            </p:cNvCxnSpPr>
            <p:nvPr/>
          </p:nvCxnSpPr>
          <p:spPr>
            <a:xfrm flipH="1">
              <a:off x="4412880" y="1477800"/>
              <a:ext cx="1036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6" name=""/>
            <p:cNvCxnSpPr>
              <a:stCxn id="62" idx="5"/>
              <a:endCxn id="63" idx="1"/>
            </p:cNvCxnSpPr>
            <p:nvPr/>
          </p:nvCxnSpPr>
          <p:spPr>
            <a:xfrm>
              <a:off x="4771440" y="1477800"/>
              <a:ext cx="1054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7" name=""/>
            <p:cNvCxnSpPr>
              <a:stCxn id="44" idx="3"/>
              <a:endCxn id="47" idx="7"/>
            </p:cNvCxnSpPr>
            <p:nvPr/>
          </p:nvCxnSpPr>
          <p:spPr>
            <a:xfrm flipH="1">
              <a:off x="1098000" y="830160"/>
              <a:ext cx="39456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8" name=""/>
            <p:cNvCxnSpPr>
              <a:stCxn id="44" idx="5"/>
              <a:endCxn id="52" idx="1"/>
            </p:cNvCxnSpPr>
            <p:nvPr/>
          </p:nvCxnSpPr>
          <p:spPr>
            <a:xfrm>
              <a:off x="1747440" y="830160"/>
              <a:ext cx="32148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69" name=""/>
            <p:cNvCxnSpPr>
              <a:stCxn id="43" idx="5"/>
              <a:endCxn id="62" idx="1"/>
            </p:cNvCxnSpPr>
            <p:nvPr/>
          </p:nvCxnSpPr>
          <p:spPr>
            <a:xfrm>
              <a:off x="4195440" y="830160"/>
              <a:ext cx="32112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70" name=""/>
            <p:cNvCxnSpPr>
              <a:stCxn id="43" idx="3"/>
              <a:endCxn id="57" idx="7"/>
            </p:cNvCxnSpPr>
            <p:nvPr/>
          </p:nvCxnSpPr>
          <p:spPr>
            <a:xfrm flipH="1">
              <a:off x="3547800" y="830160"/>
              <a:ext cx="392760" cy="39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sp>
        <p:nvSpPr>
          <p:cNvPr id="71" name=""/>
          <p:cNvSpPr/>
          <p:nvPr/>
        </p:nvSpPr>
        <p:spPr>
          <a:xfrm>
            <a:off x="6532920" y="523800"/>
            <a:ext cx="110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[]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380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204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0676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2604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3076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004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5476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5480" y="2046240"/>
            <a:ext cx="30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1:47:12Z</dcterms:created>
  <dc:creator>x</dc:creator>
  <dc:description/>
  <dc:language>en-US</dc:language>
  <cp:lastModifiedBy>x</cp:lastModifiedBy>
  <dcterms:modified xsi:type="dcterms:W3CDTF">2007-01-07T11:49:59Z</dcterms:modified>
  <cp:revision>2</cp:revision>
  <dc:subject/>
  <dc:title>Folie 1</dc:title>
</cp:coreProperties>
</file>