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559675" cy="21240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33B7-E6DD-4953-826A-452D0AA63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8000" y="28800"/>
            <a:ext cx="6805440" cy="4672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8000" y="495360"/>
            <a:ext cx="6805440" cy="66852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8000" y="1227960"/>
            <a:ext cx="6805440" cy="66852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9570-F2D2-4F4A-8CCF-2C76F5EF8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8000" y="28800"/>
            <a:ext cx="6805440" cy="4672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8000" y="495360"/>
            <a:ext cx="3321000" cy="66852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5320" y="495360"/>
            <a:ext cx="3321000" cy="66852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8000" y="1227960"/>
            <a:ext cx="3321000" cy="66852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5320" y="1227960"/>
            <a:ext cx="3321000" cy="66852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F942-F929-4D15-9D53-A0D4666EE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8000" y="28800"/>
            <a:ext cx="6805440" cy="4672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8000" y="495360"/>
            <a:ext cx="2190960" cy="66852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78760" y="495360"/>
            <a:ext cx="2190960" cy="66852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79880" y="495360"/>
            <a:ext cx="2190960" cy="66852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8000" y="1227960"/>
            <a:ext cx="2190960" cy="66852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78760" y="1227960"/>
            <a:ext cx="2190960" cy="66852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79880" y="1227960"/>
            <a:ext cx="2190960" cy="66852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B60F-C895-4A25-8699-347076A42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8000" y="28800"/>
            <a:ext cx="6805440" cy="4672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8000" y="495360"/>
            <a:ext cx="680544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726C-1FE3-4582-9B03-78AA78A9E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8000" y="28800"/>
            <a:ext cx="6805440" cy="4672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8000" y="495360"/>
            <a:ext cx="6805440" cy="14018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A944-0F5F-45AF-B3D3-6429E07D9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8000" y="28800"/>
            <a:ext cx="6805440" cy="4672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8000" y="495360"/>
            <a:ext cx="3321000" cy="14018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5320" y="495360"/>
            <a:ext cx="3321000" cy="14018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4532-4DFE-4160-88BE-4EAD66276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8000" y="28800"/>
            <a:ext cx="6805440" cy="4672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E5C3-596F-47F1-84FB-06110BA35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8000" y="85320"/>
            <a:ext cx="6805440" cy="16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7391-FE1B-4DFB-8927-CFD48E570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8000" y="28800"/>
            <a:ext cx="6805440" cy="4672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8000" y="495360"/>
            <a:ext cx="3321000" cy="66852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5320" y="495360"/>
            <a:ext cx="3321000" cy="14018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8000" y="1227960"/>
            <a:ext cx="3321000" cy="66852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AC7E-A2A5-4D53-B763-86F723914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8000" y="28800"/>
            <a:ext cx="6805440" cy="4672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8000" y="495360"/>
            <a:ext cx="3321000" cy="14018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5320" y="495360"/>
            <a:ext cx="3321000" cy="66852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5320" y="1227960"/>
            <a:ext cx="3321000" cy="66852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4359-C35B-4233-8FE9-179C537B1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8000" y="28800"/>
            <a:ext cx="6805440" cy="4672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8000" y="495360"/>
            <a:ext cx="3321000" cy="66852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5320" y="495360"/>
            <a:ext cx="3321000" cy="66852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8000" y="1227960"/>
            <a:ext cx="6805440" cy="66852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11A8-EBCB-4E5A-B4CB-98DE649BF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8000" y="85320"/>
            <a:ext cx="6805440" cy="3538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000" y="495360"/>
            <a:ext cx="6805440" cy="14018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 fontScale="56000"/>
          </a:bodyPr>
          <a:p>
            <a:pPr marL="116280" indent="-1162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251280" indent="-96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387360" indent="-7740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542160" indent="-7740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696600" indent="-7704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5" marL="696600" indent="-7704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6" marL="696600" indent="-7704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7640" y="1933560"/>
            <a:ext cx="1765080" cy="14760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Autofit/>
          </a:bodyPr>
          <a:lstStyle>
            <a:lvl1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83000" y="1933560"/>
            <a:ext cx="2395440" cy="14760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Autofit/>
          </a:bodyPr>
          <a:lstStyle>
            <a:lvl1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18000" y="1933560"/>
            <a:ext cx="1765440" cy="14760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Autofit/>
          </a:bodyPr>
          <a:lstStyle>
            <a:lvl1pPr indent="0" algn="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fld id="{477CA7D5-51F0-49B2-8B83-918F0282E61F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1800" y="0"/>
            <a:ext cx="7489800" cy="2071800"/>
            <a:chOff x="-1800" y="0"/>
            <a:chExt cx="7489800" cy="2071800"/>
          </a:xfrm>
        </p:grpSpPr>
        <p:grpSp>
          <p:nvGrpSpPr>
            <p:cNvPr id="42" name=""/>
            <p:cNvGrpSpPr/>
            <p:nvPr/>
          </p:nvGrpSpPr>
          <p:grpSpPr>
            <a:xfrm>
              <a:off x="2735280" y="36360"/>
              <a:ext cx="4752720" cy="2016720"/>
              <a:chOff x="2735280" y="36360"/>
              <a:chExt cx="4752720" cy="2016720"/>
            </a:xfrm>
          </p:grpSpPr>
          <p:sp>
            <p:nvSpPr>
              <p:cNvPr id="43" name=""/>
              <p:cNvSpPr/>
              <p:nvPr/>
            </p:nvSpPr>
            <p:spPr>
              <a:xfrm>
                <a:off x="4967280" y="36360"/>
                <a:ext cx="360360" cy="3600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6191280" y="540720"/>
                <a:ext cx="360360" cy="3600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3743280" y="540720"/>
                <a:ext cx="360360" cy="3600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6" name=""/>
              <p:cNvCxnSpPr>
                <a:stCxn id="43" idx="3"/>
                <a:endCxn id="45" idx="7"/>
              </p:cNvCxnSpPr>
              <p:nvPr/>
            </p:nvCxnSpPr>
            <p:spPr>
              <a:xfrm flipH="1">
                <a:off x="4051080" y="343800"/>
                <a:ext cx="969120" cy="2498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lg" type="arrow" w="lg"/>
              </a:ln>
            </p:spPr>
          </p:cxnSp>
          <p:cxnSp>
            <p:nvCxnSpPr>
              <p:cNvPr id="47" name=""/>
              <p:cNvCxnSpPr>
                <a:stCxn id="43" idx="5"/>
                <a:endCxn id="44" idx="1"/>
              </p:cNvCxnSpPr>
              <p:nvPr/>
            </p:nvCxnSpPr>
            <p:spPr>
              <a:xfrm>
                <a:off x="5275080" y="343800"/>
                <a:ext cx="969120" cy="2498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lg" type="arrow" w="lg"/>
              </a:ln>
            </p:spPr>
          </p:cxnSp>
          <p:sp>
            <p:nvSpPr>
              <p:cNvPr id="48" name=""/>
              <p:cNvSpPr/>
              <p:nvPr/>
            </p:nvSpPr>
            <p:spPr>
              <a:xfrm>
                <a:off x="3093840" y="1188360"/>
                <a:ext cx="360360" cy="3600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3454200" y="1693080"/>
                <a:ext cx="360360" cy="3600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2735280" y="1693080"/>
                <a:ext cx="360360" cy="3600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1" name=""/>
              <p:cNvCxnSpPr>
                <a:stCxn id="48" idx="3"/>
                <a:endCxn id="50" idx="7"/>
              </p:cNvCxnSpPr>
              <p:nvPr/>
            </p:nvCxnSpPr>
            <p:spPr>
              <a:xfrm flipH="1">
                <a:off x="3043080" y="1495800"/>
                <a:ext cx="103680" cy="25020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lg" type="arrow" w="lg"/>
              </a:ln>
            </p:spPr>
          </p:cxnSp>
          <p:cxnSp>
            <p:nvCxnSpPr>
              <p:cNvPr id="52" name=""/>
              <p:cNvCxnSpPr>
                <a:stCxn id="48" idx="5"/>
                <a:endCxn id="49" idx="1"/>
              </p:cNvCxnSpPr>
              <p:nvPr/>
            </p:nvCxnSpPr>
            <p:spPr>
              <a:xfrm>
                <a:off x="3401640" y="1495800"/>
                <a:ext cx="105480" cy="25020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lg" type="arrow" w="lg"/>
              </a:ln>
            </p:spPr>
          </p:cxnSp>
          <p:sp>
            <p:nvSpPr>
              <p:cNvPr id="53" name=""/>
              <p:cNvSpPr/>
              <p:nvPr/>
            </p:nvSpPr>
            <p:spPr>
              <a:xfrm>
                <a:off x="4319640" y="1188360"/>
                <a:ext cx="360360" cy="3600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80000" y="1693080"/>
                <a:ext cx="360360" cy="3600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960720" y="1693080"/>
                <a:ext cx="360360" cy="3600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6" name=""/>
              <p:cNvCxnSpPr>
                <a:stCxn id="53" idx="3"/>
                <a:endCxn id="55" idx="7"/>
              </p:cNvCxnSpPr>
              <p:nvPr/>
            </p:nvCxnSpPr>
            <p:spPr>
              <a:xfrm flipH="1">
                <a:off x="4268520" y="1495800"/>
                <a:ext cx="104040" cy="25020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lg" type="arrow" w="lg"/>
              </a:ln>
            </p:spPr>
          </p:cxnSp>
          <p:cxnSp>
            <p:nvCxnSpPr>
              <p:cNvPr id="57" name=""/>
              <p:cNvCxnSpPr>
                <a:stCxn id="53" idx="5"/>
                <a:endCxn id="54" idx="1"/>
              </p:cNvCxnSpPr>
              <p:nvPr/>
            </p:nvCxnSpPr>
            <p:spPr>
              <a:xfrm>
                <a:off x="4627440" y="1495800"/>
                <a:ext cx="105480" cy="25020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lg" type="arrow" w="lg"/>
              </a:ln>
            </p:spPr>
          </p:cxnSp>
          <p:sp>
            <p:nvSpPr>
              <p:cNvPr id="58" name=""/>
              <p:cNvSpPr/>
              <p:nvPr/>
            </p:nvSpPr>
            <p:spPr>
              <a:xfrm>
                <a:off x="5543640" y="1188360"/>
                <a:ext cx="360360" cy="3600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5904000" y="1693080"/>
                <a:ext cx="360360" cy="3600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184720" y="1693080"/>
                <a:ext cx="360360" cy="3600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1" name=""/>
              <p:cNvCxnSpPr>
                <a:stCxn id="58" idx="3"/>
                <a:endCxn id="60" idx="7"/>
              </p:cNvCxnSpPr>
              <p:nvPr/>
            </p:nvCxnSpPr>
            <p:spPr>
              <a:xfrm flipH="1">
                <a:off x="5492520" y="1495800"/>
                <a:ext cx="104040" cy="25020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lg" type="arrow" w="lg"/>
              </a:ln>
            </p:spPr>
          </p:cxnSp>
          <p:cxnSp>
            <p:nvCxnSpPr>
              <p:cNvPr id="62" name=""/>
              <p:cNvCxnSpPr>
                <a:stCxn id="58" idx="5"/>
                <a:endCxn id="59" idx="1"/>
              </p:cNvCxnSpPr>
              <p:nvPr/>
            </p:nvCxnSpPr>
            <p:spPr>
              <a:xfrm>
                <a:off x="5851440" y="1495800"/>
                <a:ext cx="105480" cy="25020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lg" type="arrow" w="lg"/>
              </a:ln>
            </p:spPr>
          </p:cxnSp>
          <p:sp>
            <p:nvSpPr>
              <p:cNvPr id="63" name=""/>
              <p:cNvSpPr/>
              <p:nvPr/>
            </p:nvSpPr>
            <p:spPr>
              <a:xfrm>
                <a:off x="6767280" y="1188360"/>
                <a:ext cx="360360" cy="3600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7640" y="1693080"/>
                <a:ext cx="360360" cy="3600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408720" y="1693080"/>
                <a:ext cx="360360" cy="3600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6" name=""/>
              <p:cNvCxnSpPr>
                <a:stCxn id="63" idx="3"/>
                <a:endCxn id="65" idx="7"/>
              </p:cNvCxnSpPr>
              <p:nvPr/>
            </p:nvCxnSpPr>
            <p:spPr>
              <a:xfrm flipH="1">
                <a:off x="6716520" y="1495800"/>
                <a:ext cx="103680" cy="25020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lg" type="arrow" w="lg"/>
              </a:ln>
            </p:spPr>
          </p:cxnSp>
          <p:cxnSp>
            <p:nvCxnSpPr>
              <p:cNvPr id="67" name=""/>
              <p:cNvCxnSpPr>
                <a:stCxn id="63" idx="5"/>
                <a:endCxn id="64" idx="1"/>
              </p:cNvCxnSpPr>
              <p:nvPr/>
            </p:nvCxnSpPr>
            <p:spPr>
              <a:xfrm>
                <a:off x="7075080" y="1495800"/>
                <a:ext cx="105480" cy="25020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lg" type="arrow" w="lg"/>
              </a:ln>
            </p:spPr>
          </p:cxnSp>
          <p:cxnSp>
            <p:nvCxnSpPr>
              <p:cNvPr id="68" name=""/>
              <p:cNvCxnSpPr>
                <a:stCxn id="45" idx="3"/>
                <a:endCxn id="48" idx="7"/>
              </p:cNvCxnSpPr>
              <p:nvPr/>
            </p:nvCxnSpPr>
            <p:spPr>
              <a:xfrm flipH="1">
                <a:off x="3401640" y="848160"/>
                <a:ext cx="394560" cy="39312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lg" type="arrow" w="lg"/>
              </a:ln>
            </p:spPr>
          </p:cxnSp>
          <p:cxnSp>
            <p:nvCxnSpPr>
              <p:cNvPr id="69" name=""/>
              <p:cNvCxnSpPr>
                <a:stCxn id="45" idx="5"/>
                <a:endCxn id="53" idx="1"/>
              </p:cNvCxnSpPr>
              <p:nvPr/>
            </p:nvCxnSpPr>
            <p:spPr>
              <a:xfrm>
                <a:off x="4051080" y="848160"/>
                <a:ext cx="321480" cy="39312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lg" type="arrow" w="lg"/>
              </a:ln>
            </p:spPr>
          </p:cxnSp>
          <p:cxnSp>
            <p:nvCxnSpPr>
              <p:cNvPr id="70" name=""/>
              <p:cNvCxnSpPr>
                <a:stCxn id="44" idx="5"/>
                <a:endCxn id="63" idx="1"/>
              </p:cNvCxnSpPr>
              <p:nvPr/>
            </p:nvCxnSpPr>
            <p:spPr>
              <a:xfrm>
                <a:off x="6499080" y="848160"/>
                <a:ext cx="321120" cy="39312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lg" type="arrow" w="lg"/>
              </a:ln>
            </p:spPr>
          </p:cxnSp>
          <p:cxnSp>
            <p:nvCxnSpPr>
              <p:cNvPr id="71" name=""/>
              <p:cNvCxnSpPr>
                <a:stCxn id="44" idx="3"/>
                <a:endCxn id="58" idx="7"/>
              </p:cNvCxnSpPr>
              <p:nvPr/>
            </p:nvCxnSpPr>
            <p:spPr>
              <a:xfrm flipH="1">
                <a:off x="5851440" y="848160"/>
                <a:ext cx="392760" cy="39312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lg" type="arrow" w="lg"/>
              </a:ln>
            </p:spPr>
          </p:cxnSp>
        </p:grpSp>
        <p:sp>
          <p:nvSpPr>
            <p:cNvPr id="72" name=""/>
            <p:cNvSpPr/>
            <p:nvPr/>
          </p:nvSpPr>
          <p:spPr>
            <a:xfrm>
              <a:off x="26640" y="0"/>
              <a:ext cx="220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usgangszusta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-1800" y="431640"/>
              <a:ext cx="355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lle möglichen Folgezustän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-1080" y="1368000"/>
              <a:ext cx="2245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ieder unendlich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bläufe betracht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7T11:41:37Z</dcterms:created>
  <dc:creator>x</dc:creator>
  <dc:description/>
  <dc:language>en-US</dc:language>
  <cp:lastModifiedBy>x</cp:lastModifiedBy>
  <dcterms:modified xsi:type="dcterms:W3CDTF">2007-01-07T11:42:31Z</dcterms:modified>
  <cp:revision>1</cp:revision>
  <dc:subject/>
  <dc:title>Folie 1</dc:title>
</cp:coreProperties>
</file>