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43775" cy="2952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4CF-0347-4E1B-84B1-B23E1958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62438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0800" y="1777680"/>
            <a:ext cx="62438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819-971E-4845-A425-C173F59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5012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0800" y="177768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50120" y="177768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57A-EE33-4296-9020-76820E86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1840" y="85212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3240" y="85212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0800" y="177768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1840" y="177768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73240" y="1777680"/>
            <a:ext cx="20102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DCE-90C9-45D2-9EC5-CAF7C653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0800" y="852120"/>
            <a:ext cx="624384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C7A-8162-48D0-81BE-532D7CB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624384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A30-EFC7-48DC-969B-E823412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304668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50120" y="852120"/>
            <a:ext cx="304668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16-6112-4CCC-90B9-2917056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3EC-D4F4-4ECA-97CE-EE78402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0800" y="261720"/>
            <a:ext cx="62438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AF4-A88D-4828-9E5C-9D727D9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50120" y="852120"/>
            <a:ext cx="304668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0800" y="177768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8E2-5FD7-42C0-8EF5-4EDC1A8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304668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5012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50120" y="177768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1B3-D8CF-4647-9329-0F91336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080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50120" y="852120"/>
            <a:ext cx="304668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0800" y="1777680"/>
            <a:ext cx="6243840" cy="844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B28-8F2D-4A6A-A7EF-22746B8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61720"/>
            <a:ext cx="6243840" cy="4921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0800" y="852120"/>
            <a:ext cx="6243840" cy="177156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rmAutofit fontScale="64000"/>
          </a:bodyPr>
          <a:p>
            <a:pPr marL="141120" indent="-14112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05640" indent="-1177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470160" indent="-932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659160" indent="-9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847080" indent="-9432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847080" indent="-9432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847080" indent="-9432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0440" y="2690280"/>
            <a:ext cx="1530360" cy="196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9920" y="2690280"/>
            <a:ext cx="2325600" cy="196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3920" y="2690280"/>
            <a:ext cx="1530360" cy="19692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9520" bIns="29520" anchor="t">
            <a:noAutofit/>
          </a:bodyPr>
          <a:lstStyle>
            <a:lvl1pPr indent="0" algn="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fld id="{31E06B71-C656-43A9-96EC-D32622C07F9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9040" y="36360"/>
            <a:ext cx="7259760" cy="2881080"/>
            <a:chOff x="-59040" y="36360"/>
            <a:chExt cx="7259760" cy="2881080"/>
          </a:xfrm>
        </p:grpSpPr>
        <p:sp>
          <p:nvSpPr>
            <p:cNvPr id="42" name=""/>
            <p:cNvSpPr/>
            <p:nvPr/>
          </p:nvSpPr>
          <p:spPr>
            <a:xfrm>
              <a:off x="144000" y="36360"/>
              <a:ext cx="1944720" cy="69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ilnehm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76360" y="36360"/>
              <a:ext cx="1944360" cy="69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ilnehm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256000" y="36360"/>
              <a:ext cx="1944720" cy="69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ilnehmer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000" y="2219040"/>
              <a:ext cx="7056720" cy="69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76000" y="757080"/>
              <a:ext cx="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728360" y="75672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08000" y="757080"/>
              <a:ext cx="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960360" y="75672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89440" y="757080"/>
              <a:ext cx="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840360" y="756720"/>
              <a:ext cx="144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39240" y="3636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5640" y="1477800"/>
              <a:ext cx="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6000" y="1476000"/>
              <a:ext cx="511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9400" y="1620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2720" y="15951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P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89880" y="16203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P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5800" y="15951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oP[n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-59040" y="972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06440" y="972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87520" y="972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6-03-05T09:40:21Z</dcterms:modified>
  <cp:revision>2</cp:revision>
  <dc:subject/>
  <dc:title>PowerPoint Presentation</dc:title>
</cp:coreProperties>
</file>