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03688" cy="1476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832-DB10-40DF-8CF9-612D116A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369396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4480" y="853560"/>
            <a:ext cx="369396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175-691A-4EF3-9E8F-932F43E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97360" y="3441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8535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97360" y="8535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8E9-ED64-471A-8809-6224BBB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118908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53320" y="344160"/>
            <a:ext cx="118908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02160" y="344160"/>
            <a:ext cx="118908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4480" y="853560"/>
            <a:ext cx="118908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53320" y="853560"/>
            <a:ext cx="118908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02160" y="853560"/>
            <a:ext cx="118908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46F-BE84-4636-ADB3-937131C3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4480" y="344160"/>
            <a:ext cx="369396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41F-41D1-4052-9025-AE66F3F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3693960" cy="974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6A0-C511-44FB-8943-1B69FA98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1802520" cy="974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97360" y="344160"/>
            <a:ext cx="1802520" cy="974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8DD-8B0B-489C-A825-4E1BFB0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E88-7DEF-41E0-B99E-0DA99D7D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4480" y="58680"/>
            <a:ext cx="369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437-653B-45F7-8023-16D5429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97360" y="344160"/>
            <a:ext cx="1802520" cy="974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4480" y="8535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020-60BC-4A85-8D46-CF5B6172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1802520" cy="974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97360" y="3441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97360" y="8535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E6E-137B-4A72-B4BE-2D7A63AA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4480" y="51840"/>
            <a:ext cx="3693960" cy="260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3441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97360" y="344160"/>
            <a:ext cx="180252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853560"/>
            <a:ext cx="3693960" cy="464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5BF-191E-49C2-A2B0-8866A93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4480" y="58680"/>
            <a:ext cx="3693960" cy="2462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4480" y="344160"/>
            <a:ext cx="3693960" cy="974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rmAutofit fontScale="68000"/>
          </a:bodyPr>
          <a:p>
            <a:pPr marL="81000" indent="-810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75680" indent="-680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270720" indent="-540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78720" indent="-540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487800" indent="-5364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487800" indent="-5364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487800" indent="-5364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4480" y="1344600"/>
            <a:ext cx="957240" cy="101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Autofit/>
          </a:bodyPr>
          <a:lstStyle>
            <a:lvl1pPr indent="0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01480" y="1344600"/>
            <a:ext cx="1299960" cy="101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Autofit/>
          </a:bodyPr>
          <a:lstStyle>
            <a:lvl1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941200" y="1344600"/>
            <a:ext cx="957240" cy="101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5840" bIns="15840" anchor="t">
            <a:noAutofit/>
          </a:bodyPr>
          <a:lstStyle>
            <a:lvl1pPr indent="0" algn="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8960"/>
                <a:tab algn="l" pos="638280"/>
                <a:tab algn="l" pos="957240"/>
                <a:tab algn="l" pos="1276200"/>
                <a:tab algn="l" pos="1595520"/>
                <a:tab algn="l" pos="1914480"/>
                <a:tab algn="l" pos="2233440"/>
                <a:tab algn="l" pos="2552760"/>
                <a:tab algn="l" pos="2871720"/>
                <a:tab algn="l" pos="3191040"/>
                <a:tab algn="l" pos="3510000"/>
                <a:tab algn="l" pos="3828960"/>
                <a:tab algn="l" pos="4148280"/>
                <a:tab algn="l" pos="4467240"/>
                <a:tab algn="l" pos="4786200"/>
                <a:tab algn="l" pos="5105520"/>
                <a:tab algn="l" pos="5424480"/>
                <a:tab algn="l" pos="5743440"/>
                <a:tab algn="l" pos="6062760"/>
                <a:tab algn="l" pos="6381720"/>
              </a:tabLst>
            </a:pPr>
            <a:fld id="{8A29441B-9B94-4D45-BFF0-45DE2CEB2B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60" y="0"/>
            <a:ext cx="4044600" cy="1419120"/>
            <a:chOff x="12960" y="0"/>
            <a:chExt cx="4044600" cy="1419120"/>
          </a:xfrm>
        </p:grpSpPr>
        <p:sp>
          <p:nvSpPr>
            <p:cNvPr id="42" name=""/>
            <p:cNvSpPr/>
            <p:nvPr/>
          </p:nvSpPr>
          <p:spPr>
            <a:xfrm>
              <a:off x="183528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40560" y="8366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bort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23400" y="83016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bort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87440" y="23760"/>
              <a:ext cx="25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set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8560" y="54144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81360" y="439560"/>
              <a:ext cx="1764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81360" y="439560"/>
              <a:ext cx="1764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9040" y="83016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bort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25720" y="439560"/>
              <a:ext cx="1746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25720" y="439560"/>
              <a:ext cx="1746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4160" y="439560"/>
              <a:ext cx="1731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54160" y="439560"/>
              <a:ext cx="1731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82960" y="468360"/>
              <a:ext cx="11556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25720" y="1246320"/>
              <a:ext cx="17460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25720" y="1246320"/>
              <a:ext cx="17460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85120" y="549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9480" y="1290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40400" y="311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67120" y="3254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5400" y="54144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4760" y="36828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13200" y="31104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77240" y="13824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48420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08240" y="525600"/>
              <a:ext cx="56700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05040" y="506520"/>
              <a:ext cx="7020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35240" y="525600"/>
              <a:ext cx="68256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7960" y="506520"/>
              <a:ext cx="698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08240" y="588960"/>
              <a:ext cx="735120" cy="67932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9640" y="1208160"/>
              <a:ext cx="63720" cy="60120"/>
            </a:xfrm>
            <a:custGeom>
              <a:avLst/>
              <a:gdLst/>
              <a:ahLst/>
              <a:rect l="l" t="t" r="r" b="b"/>
              <a:pathLst>
                <a:path w="176" h="170">
                  <a:moveTo>
                    <a:pt x="0" y="76"/>
                  </a:moveTo>
                  <a:lnTo>
                    <a:pt x="176" y="170"/>
                  </a:lnTo>
                  <a:lnTo>
                    <a:pt x="71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13200" y="619200"/>
              <a:ext cx="0" cy="6192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94120" y="1168560"/>
              <a:ext cx="36360" cy="6984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0" y="0"/>
                  </a:moveTo>
                  <a:lnTo>
                    <a:pt x="52" y="194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22640" y="73080"/>
              <a:ext cx="1600200" cy="406440"/>
            </a:xfrm>
            <a:custGeom>
              <a:avLst/>
              <a:gdLst/>
              <a:ahLst/>
              <a:rect l="l" t="t" r="r" b="b"/>
              <a:pathLst>
                <a:path w="4400" h="1127">
                  <a:moveTo>
                    <a:pt x="4371" y="1023"/>
                  </a:moveTo>
                  <a:cubicBezTo>
                    <a:pt x="4400" y="965"/>
                    <a:pt x="4353" y="911"/>
                    <a:pt x="4229" y="861"/>
                  </a:cubicBezTo>
                  <a:lnTo>
                    <a:pt x="2200" y="50"/>
                  </a:lnTo>
                  <a:cubicBezTo>
                    <a:pt x="2076" y="0"/>
                    <a:pt x="1957" y="9"/>
                    <a:pt x="1841" y="75"/>
                  </a:cubicBezTo>
                  <a:lnTo>
                    <a:pt x="0" y="112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22640" y="428760"/>
              <a:ext cx="69840" cy="50760"/>
            </a:xfrm>
            <a:custGeom>
              <a:avLst/>
              <a:gdLst/>
              <a:ahLst/>
              <a:rect l="l" t="t" r="r" b="b"/>
              <a:pathLst>
                <a:path w="194" h="141">
                  <a:moveTo>
                    <a:pt x="142" y="0"/>
                  </a:moveTo>
                  <a:lnTo>
                    <a:pt x="0" y="141"/>
                  </a:lnTo>
                  <a:lnTo>
                    <a:pt x="194" y="9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076560" y="593640"/>
              <a:ext cx="628560" cy="66996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76560" y="1200240"/>
              <a:ext cx="63360" cy="63360"/>
            </a:xfrm>
            <a:custGeom>
              <a:avLst/>
              <a:gdLst/>
              <a:ahLst/>
              <a:rect l="l" t="t" r="r" b="b"/>
              <a:pathLst>
                <a:path w="170" h="177">
                  <a:moveTo>
                    <a:pt x="94" y="0"/>
                  </a:moveTo>
                  <a:lnTo>
                    <a:pt x="0" y="177"/>
                  </a:lnTo>
                  <a:lnTo>
                    <a:pt x="170" y="7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760" y="189000"/>
              <a:ext cx="18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0800" y="78912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bort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53000" y="4428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mer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54080" y="27000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set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9040" y="347760"/>
              <a:ext cx="17604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9040" y="347760"/>
              <a:ext cx="17604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280" y="376200"/>
              <a:ext cx="11736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440" y="1031760"/>
              <a:ext cx="1728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6440" y="1031760"/>
              <a:ext cx="1728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6200" y="21276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9720" y="673200"/>
              <a:ext cx="65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imer==gren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60" y="385920"/>
              <a:ext cx="63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timer&lt;gren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9040" y="107640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abbru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1320" y="214200"/>
              <a:ext cx="154080" cy="317520"/>
            </a:xfrm>
            <a:custGeom>
              <a:avLst/>
              <a:gdLst/>
              <a:ahLst/>
              <a:rect l="l" t="t" r="r" b="b"/>
              <a:pathLst>
                <a:path w="426" h="881">
                  <a:moveTo>
                    <a:pt x="0" y="418"/>
                  </a:moveTo>
                  <a:lnTo>
                    <a:pt x="291" y="98"/>
                  </a:lnTo>
                  <a:cubicBezTo>
                    <a:pt x="381" y="0"/>
                    <a:pt x="426" y="17"/>
                    <a:pt x="426" y="151"/>
                  </a:cubicBezTo>
                  <a:lnTo>
                    <a:pt x="426" y="711"/>
                  </a:lnTo>
                  <a:cubicBezTo>
                    <a:pt x="426" y="844"/>
                    <a:pt x="366" y="881"/>
                    <a:pt x="247" y="821"/>
                  </a:cubicBezTo>
                  <a:lnTo>
                    <a:pt x="58" y="72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1840" y="476280"/>
              <a:ext cx="71640" cy="47520"/>
            </a:xfrm>
            <a:custGeom>
              <a:avLst/>
              <a:gdLst/>
              <a:ahLst/>
              <a:rect l="l" t="t" r="r" b="b"/>
              <a:pathLst>
                <a:path w="196" h="132">
                  <a:moveTo>
                    <a:pt x="196" y="40"/>
                  </a:moveTo>
                  <a:lnTo>
                    <a:pt x="0" y="0"/>
                  </a:lnTo>
                  <a:lnTo>
                    <a:pt x="150" y="132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64640" y="527040"/>
              <a:ext cx="9720" cy="4968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7720" y="954000"/>
              <a:ext cx="36360" cy="69840"/>
            </a:xfrm>
            <a:custGeom>
              <a:avLst/>
              <a:gdLst/>
              <a:ahLst/>
              <a:rect l="l" t="t" r="r" b="b"/>
              <a:pathLst>
                <a:path w="104" h="195">
                  <a:moveTo>
                    <a:pt x="0" y="0"/>
                  </a:moveTo>
                  <a:lnTo>
                    <a:pt x="48" y="195"/>
                  </a:lnTo>
                  <a:lnTo>
                    <a:pt x="104" y="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30:04Z</dcterms:created>
  <dc:creator>x</dc:creator>
  <dc:description/>
  <dc:language>en-US</dc:language>
  <cp:lastModifiedBy>x</cp:lastModifiedBy>
  <dcterms:modified xsi:type="dcterms:W3CDTF">2009-06-27T16:30:40Z</dcterms:modified>
  <cp:revision>1</cp:revision>
  <dc:subject/>
  <dc:title>Folie 1</dc:title>
</cp:coreProperties>
</file>