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995738" cy="43926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A7CA-4C90-4937-8F96-4E9DB5A3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175680"/>
            <a:ext cx="3597120" cy="73188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0160" y="1025640"/>
            <a:ext cx="3597120" cy="13824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0160" y="2539800"/>
            <a:ext cx="3597120" cy="13824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3D05-6E2B-434B-8E8F-EC92BAC9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0160" y="175680"/>
            <a:ext cx="3597120" cy="73188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0160" y="1025640"/>
            <a:ext cx="1755360" cy="13824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43720" y="1025640"/>
            <a:ext cx="1755360" cy="13824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0160" y="2539800"/>
            <a:ext cx="1755360" cy="13824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043720" y="2539800"/>
            <a:ext cx="1755360" cy="13824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05BC-4F8F-4A2A-AB70-DE897BBE8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0160" y="175680"/>
            <a:ext cx="3597120" cy="73188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0160" y="1025640"/>
            <a:ext cx="1158120" cy="13824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16600" y="1025640"/>
            <a:ext cx="1158120" cy="13824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633040" y="1025640"/>
            <a:ext cx="1158120" cy="13824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0160" y="2539800"/>
            <a:ext cx="1158120" cy="13824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416600" y="2539800"/>
            <a:ext cx="1158120" cy="13824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633040" y="2539800"/>
            <a:ext cx="1158120" cy="13824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4DA0-6990-414B-A0EA-BBB27605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0160" y="175680"/>
            <a:ext cx="3597120" cy="73188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0160" y="1025640"/>
            <a:ext cx="359712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8825-C9D1-4271-97DD-84BF3259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0160" y="175680"/>
            <a:ext cx="3597120" cy="73188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0160" y="1025640"/>
            <a:ext cx="3597120" cy="28987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A0A9-17A3-4446-B5FF-16D7513C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175680"/>
            <a:ext cx="3597120" cy="73188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0160" y="1025640"/>
            <a:ext cx="1755360" cy="28987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043720" y="1025640"/>
            <a:ext cx="1755360" cy="28987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5597-D464-400F-AFEA-4E45F257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0160" y="175680"/>
            <a:ext cx="3597120" cy="73188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330D-C484-4268-8940-9CE202C9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0160" y="175680"/>
            <a:ext cx="359712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9E70-F7F2-4E05-9D5D-35DF02FD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0160" y="175680"/>
            <a:ext cx="3597120" cy="73188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0160" y="1025640"/>
            <a:ext cx="1755360" cy="13824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043720" y="1025640"/>
            <a:ext cx="1755360" cy="28987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0160" y="2539800"/>
            <a:ext cx="1755360" cy="13824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86D9-E8A6-402A-8B42-4E2CB54E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175680"/>
            <a:ext cx="3597120" cy="73188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0160" y="1025640"/>
            <a:ext cx="1755360" cy="28987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043720" y="1025640"/>
            <a:ext cx="1755360" cy="13824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43720" y="2539800"/>
            <a:ext cx="1755360" cy="13824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3E9A-E99B-4EA9-9931-884489D9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175680"/>
            <a:ext cx="3597120" cy="73188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0160" y="1025640"/>
            <a:ext cx="1755360" cy="13824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043720" y="1025640"/>
            <a:ext cx="1755360" cy="13824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0160" y="2539800"/>
            <a:ext cx="3597120" cy="13824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F7E9-CEE7-47B1-B3B9-B5F06C12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175680"/>
            <a:ext cx="3597120" cy="73188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0160" y="1025640"/>
            <a:ext cx="3597120" cy="28987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marL="179280" indent="-1792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88800" indent="-1490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98320" indent="-1188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838080" indent="-1188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077840" indent="-1191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077840" indent="-1191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077840" indent="-1191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0160" y="4000680"/>
            <a:ext cx="931680" cy="30456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lstStyle>
            <a:lvl1pPr indent="0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64760" y="4000680"/>
            <a:ext cx="1266840" cy="30456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lstStyle>
            <a:lvl1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65600" y="4000680"/>
            <a:ext cx="931680" cy="30456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lstStyle>
            <a:lvl1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fld id="{3CD54B10-C690-486D-8CB4-5E26E2F51C29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4000" y="46080"/>
            <a:ext cx="3924360" cy="4319640"/>
            <a:chOff x="54000" y="46080"/>
            <a:chExt cx="3924360" cy="4319640"/>
          </a:xfrm>
        </p:grpSpPr>
        <p:sp>
          <p:nvSpPr>
            <p:cNvPr id="42" name=""/>
            <p:cNvSpPr/>
            <p:nvPr/>
          </p:nvSpPr>
          <p:spPr>
            <a:xfrm>
              <a:off x="701640" y="46080"/>
              <a:ext cx="50508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349640" y="981360"/>
              <a:ext cx="50472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423080" y="10162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" name=""/>
            <p:cNvCxnSpPr>
              <a:stCxn id="42" idx="5"/>
              <a:endCxn id="43" idx="0"/>
            </p:cNvCxnSpPr>
            <p:nvPr/>
          </p:nvCxnSpPr>
          <p:spPr>
            <a:xfrm>
              <a:off x="1132920" y="477360"/>
              <a:ext cx="469440" cy="504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46" name=""/>
            <p:cNvSpPr/>
            <p:nvPr/>
          </p:nvSpPr>
          <p:spPr>
            <a:xfrm>
              <a:off x="846360" y="262080"/>
              <a:ext cx="14436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46360" y="981360"/>
              <a:ext cx="50508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" name=""/>
            <p:cNvCxnSpPr>
              <a:stCxn id="43" idx="3"/>
              <a:endCxn id="47" idx="2"/>
            </p:cNvCxnSpPr>
            <p:nvPr/>
          </p:nvCxnSpPr>
          <p:spPr>
            <a:xfrm>
              <a:off x="1854360" y="1233720"/>
              <a:ext cx="792360" cy="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49" name=""/>
            <p:cNvSpPr/>
            <p:nvPr/>
          </p:nvSpPr>
          <p:spPr>
            <a:xfrm>
              <a:off x="77040" y="10540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21880" y="1177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54360" y="5580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3"/>
              <a:endCxn id="43" idx="0"/>
            </p:cNvCxnSpPr>
            <p:nvPr/>
          </p:nvCxnSpPr>
          <p:spPr>
            <a:xfrm flipH="1">
              <a:off x="1602000" y="486720"/>
              <a:ext cx="326520" cy="495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3" name=""/>
            <p:cNvSpPr/>
            <p:nvPr/>
          </p:nvSpPr>
          <p:spPr>
            <a:xfrm>
              <a:off x="2068560" y="262080"/>
              <a:ext cx="1447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73640" y="46080"/>
              <a:ext cx="504720" cy="50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000" y="981360"/>
              <a:ext cx="50508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" name=""/>
            <p:cNvCxnSpPr>
              <a:stCxn id="47" idx="7"/>
              <a:endCxn id="54" idx="2"/>
            </p:cNvCxnSpPr>
            <p:nvPr/>
          </p:nvCxnSpPr>
          <p:spPr>
            <a:xfrm flipV="1">
              <a:off x="3077640" y="551160"/>
              <a:ext cx="648720" cy="504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57" name=""/>
            <p:cNvCxnSpPr>
              <a:stCxn id="54" idx="1"/>
              <a:endCxn id="51" idx="6"/>
            </p:cNvCxnSpPr>
            <p:nvPr/>
          </p:nvCxnSpPr>
          <p:spPr>
            <a:xfrm flipH="1">
              <a:off x="2359080" y="298440"/>
              <a:ext cx="1114920" cy="10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58" name=""/>
            <p:cNvCxnSpPr>
              <a:stCxn id="42" idx="3"/>
              <a:endCxn id="55" idx="0"/>
            </p:cNvCxnSpPr>
            <p:nvPr/>
          </p:nvCxnSpPr>
          <p:spPr>
            <a:xfrm flipH="1">
              <a:off x="306360" y="477360"/>
              <a:ext cx="469440" cy="504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59" name=""/>
            <p:cNvCxnSpPr>
              <a:stCxn id="43" idx="1"/>
              <a:endCxn id="42" idx="4"/>
            </p:cNvCxnSpPr>
            <p:nvPr/>
          </p:nvCxnSpPr>
          <p:spPr>
            <a:xfrm flipH="1" flipV="1">
              <a:off x="954360" y="551160"/>
              <a:ext cx="395640" cy="682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60" name=""/>
            <p:cNvSpPr/>
            <p:nvPr/>
          </p:nvSpPr>
          <p:spPr>
            <a:xfrm>
              <a:off x="701640" y="2925720"/>
              <a:ext cx="50508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49640" y="3861000"/>
              <a:ext cx="50472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23080" y="38959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" name=""/>
            <p:cNvCxnSpPr>
              <a:stCxn id="60" idx="5"/>
              <a:endCxn id="61" idx="0"/>
            </p:cNvCxnSpPr>
            <p:nvPr/>
          </p:nvCxnSpPr>
          <p:spPr>
            <a:xfrm>
              <a:off x="1132920" y="3357000"/>
              <a:ext cx="469440" cy="504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64" name=""/>
            <p:cNvSpPr/>
            <p:nvPr/>
          </p:nvSpPr>
          <p:spPr>
            <a:xfrm>
              <a:off x="846360" y="3141720"/>
              <a:ext cx="14436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46360" y="3861000"/>
              <a:ext cx="50508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" name=""/>
            <p:cNvCxnSpPr>
              <a:stCxn id="61" idx="3"/>
              <a:endCxn id="65" idx="2"/>
            </p:cNvCxnSpPr>
            <p:nvPr/>
          </p:nvCxnSpPr>
          <p:spPr>
            <a:xfrm>
              <a:off x="1854360" y="4113360"/>
              <a:ext cx="792360" cy="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67" name=""/>
            <p:cNvSpPr/>
            <p:nvPr/>
          </p:nvSpPr>
          <p:spPr>
            <a:xfrm>
              <a:off x="77040" y="39340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22000" y="23497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54360" y="293544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"/>
            <p:cNvCxnSpPr>
              <a:stCxn id="69" idx="3"/>
              <a:endCxn id="61" idx="0"/>
            </p:cNvCxnSpPr>
            <p:nvPr/>
          </p:nvCxnSpPr>
          <p:spPr>
            <a:xfrm flipH="1">
              <a:off x="1602000" y="3366360"/>
              <a:ext cx="326520" cy="495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71" name=""/>
            <p:cNvSpPr/>
            <p:nvPr/>
          </p:nvSpPr>
          <p:spPr>
            <a:xfrm>
              <a:off x="2068560" y="3141720"/>
              <a:ext cx="1447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21280" y="2313000"/>
              <a:ext cx="504720" cy="50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000" y="3861000"/>
              <a:ext cx="50508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" name=""/>
            <p:cNvCxnSpPr>
              <a:stCxn id="65" idx="7"/>
              <a:endCxn id="72" idx="2"/>
            </p:cNvCxnSpPr>
            <p:nvPr/>
          </p:nvCxnSpPr>
          <p:spPr>
            <a:xfrm flipV="1">
              <a:off x="3077640" y="2818080"/>
              <a:ext cx="396360" cy="1117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75" name=""/>
            <p:cNvCxnSpPr>
              <a:stCxn id="72" idx="1"/>
              <a:endCxn id="69" idx="6"/>
            </p:cNvCxnSpPr>
            <p:nvPr/>
          </p:nvCxnSpPr>
          <p:spPr>
            <a:xfrm flipH="1">
              <a:off x="2359080" y="2565360"/>
              <a:ext cx="862560" cy="622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76" name=""/>
            <p:cNvCxnSpPr>
              <a:stCxn id="60" idx="3"/>
              <a:endCxn id="73" idx="0"/>
            </p:cNvCxnSpPr>
            <p:nvPr/>
          </p:nvCxnSpPr>
          <p:spPr>
            <a:xfrm flipH="1">
              <a:off x="306360" y="3357000"/>
              <a:ext cx="469440" cy="504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77" name=""/>
            <p:cNvCxnSpPr>
              <a:stCxn id="72" idx="1"/>
              <a:endCxn id="60" idx="7"/>
            </p:cNvCxnSpPr>
            <p:nvPr/>
          </p:nvCxnSpPr>
          <p:spPr>
            <a:xfrm flipH="1">
              <a:off x="1132920" y="2565360"/>
              <a:ext cx="2088720" cy="434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2:37:57Z</dcterms:created>
  <dc:creator>kleuker</dc:creator>
  <dc:description/>
  <dc:language>en-US</dc:language>
  <cp:lastModifiedBy>kleuker</cp:lastModifiedBy>
  <dcterms:modified xsi:type="dcterms:W3CDTF">2007-01-11T12:38:28Z</dcterms:modified>
  <cp:revision>1</cp:revision>
  <dc:subject/>
  <dc:title>Folie 1</dc:title>
</cp:coreProperties>
</file>