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311525" cy="24479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2A01-885E-4114-A59F-026B7823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880" y="77040"/>
            <a:ext cx="2981160" cy="4510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880" y="571680"/>
            <a:ext cx="298116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880" y="1414800"/>
            <a:ext cx="298116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E66-7525-4567-918E-74C33CAC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880" y="77040"/>
            <a:ext cx="2981160" cy="4510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880" y="571680"/>
            <a:ext cx="145476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92720" y="571680"/>
            <a:ext cx="145476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880" y="1414800"/>
            <a:ext cx="145476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92720" y="1414800"/>
            <a:ext cx="145476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8FAE-A40F-4B30-B4EC-415F7E2F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880" y="77040"/>
            <a:ext cx="2981160" cy="4510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880" y="571680"/>
            <a:ext cx="95976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 fontScale="81000"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2880" y="571680"/>
            <a:ext cx="95976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 fontScale="81000"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81240" y="571680"/>
            <a:ext cx="95976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 fontScale="81000"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880" y="1414800"/>
            <a:ext cx="95976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 fontScale="81000"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2880" y="1414800"/>
            <a:ext cx="95976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 fontScale="81000"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81240" y="1414800"/>
            <a:ext cx="95976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 fontScale="81000"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F72D-23CA-4443-9235-A418051B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880" y="77040"/>
            <a:ext cx="2981160" cy="4510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880" y="571680"/>
            <a:ext cx="2981160" cy="16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5D45-76A6-4138-9A5E-CC1B57BD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880" y="77040"/>
            <a:ext cx="2981160" cy="4510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880" y="571680"/>
            <a:ext cx="2981160" cy="161424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FB13-44CB-44A4-A2B9-7C30EEEA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880" y="77040"/>
            <a:ext cx="2981160" cy="4510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880" y="571680"/>
            <a:ext cx="1454760" cy="161424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92720" y="571680"/>
            <a:ext cx="1454760" cy="161424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16D0-69C2-47E0-9F3F-8F1A1EA2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880" y="77040"/>
            <a:ext cx="2981160" cy="4510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6077-47F4-43CF-A2F1-2959DC08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880" y="98280"/>
            <a:ext cx="29811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69AD-43E4-4807-A3EB-F5EF3043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880" y="77040"/>
            <a:ext cx="2981160" cy="4510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880" y="571680"/>
            <a:ext cx="145476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92720" y="571680"/>
            <a:ext cx="1454760" cy="161424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880" y="1414800"/>
            <a:ext cx="145476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F159-5141-40FA-ABBC-48CBF452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880" y="77040"/>
            <a:ext cx="2981160" cy="4510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880" y="571680"/>
            <a:ext cx="1454760" cy="161424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92720" y="571680"/>
            <a:ext cx="145476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92720" y="1414800"/>
            <a:ext cx="145476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D7AE-B8D8-497F-9613-3E6C113E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880" y="77040"/>
            <a:ext cx="2981160" cy="4510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880" y="571680"/>
            <a:ext cx="145476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92720" y="571680"/>
            <a:ext cx="145476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880" y="1414800"/>
            <a:ext cx="2981160" cy="76968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623-D213-4EAF-8A4B-A3EA48B3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880" y="98280"/>
            <a:ext cx="2981160" cy="40824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880" y="571680"/>
            <a:ext cx="2981160" cy="161424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rmAutofit fontScale="64000"/>
          </a:bodyPr>
          <a:p>
            <a:pPr marL="131760" indent="-1317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4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438840" indent="-871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614520" indent="-8712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790200" indent="-871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790200" indent="-871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790200" indent="-871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880" y="2228760"/>
            <a:ext cx="772920" cy="16992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Autofit/>
          </a:bodyPr>
          <a:lstStyle>
            <a:lvl1pPr indent="0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31480" y="2228760"/>
            <a:ext cx="1047960" cy="16992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Autofit/>
          </a:bodyPr>
          <a:lstStyle>
            <a:lvl1pPr indent="0" algn="ct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73120" y="2228760"/>
            <a:ext cx="772920" cy="169920"/>
          </a:xfrm>
          <a:prstGeom prst="rect">
            <a:avLst/>
          </a:prstGeom>
          <a:noFill/>
          <a:ln w="0">
            <a:noFill/>
          </a:ln>
        </p:spPr>
        <p:txBody>
          <a:bodyPr lIns="55080" rIns="55080" tIns="27360" bIns="27360" anchor="t">
            <a:noAutofit/>
          </a:bodyPr>
          <a:lstStyle>
            <a:lvl1pPr indent="0" algn="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fld id="{D776B781-AEC4-4E98-9899-E346BAEDD1E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4000" y="36360"/>
            <a:ext cx="3241800" cy="2378160"/>
            <a:chOff x="54000" y="36360"/>
            <a:chExt cx="3241800" cy="2378160"/>
          </a:xfrm>
        </p:grpSpPr>
        <p:sp>
          <p:nvSpPr>
            <p:cNvPr id="42" name=""/>
            <p:cNvSpPr/>
            <p:nvPr/>
          </p:nvSpPr>
          <p:spPr>
            <a:xfrm>
              <a:off x="2646360" y="201600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98720" y="201600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51080" y="201600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3440" y="201600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000" y="2016000"/>
              <a:ext cx="649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46360" y="162072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98720" y="162072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51080" y="162072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03440" y="162072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000" y="1620720"/>
              <a:ext cx="649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46360" y="122544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98720" y="122544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51080" y="122544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03440" y="122544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000" y="1225440"/>
              <a:ext cx="649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46360" y="83016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98720" y="83016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51080" y="83016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03440" y="83016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00" y="830160"/>
              <a:ext cx="649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46360" y="43488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8720" y="43488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51080" y="43488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03440" y="43488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000" y="434880"/>
              <a:ext cx="649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46360" y="3960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98720" y="3960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51080" y="3960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3440" y="39600"/>
              <a:ext cx="647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000" y="39600"/>
              <a:ext cx="649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000" y="39600"/>
              <a:ext cx="3240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000" y="434880"/>
              <a:ext cx="324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000" y="830160"/>
              <a:ext cx="6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000" y="1225440"/>
              <a:ext cx="6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000" y="1620720"/>
              <a:ext cx="6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000" y="2016000"/>
              <a:ext cx="6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000" y="24112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000" y="39600"/>
              <a:ext cx="0" cy="2371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3440" y="39600"/>
              <a:ext cx="0" cy="23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51080" y="396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98720" y="396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46360" y="396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51080" y="2411280"/>
              <a:ext cx="647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3440" y="2411280"/>
              <a:ext cx="647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98720" y="2411280"/>
              <a:ext cx="647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5200" y="471600"/>
              <a:ext cx="216000" cy="1942920"/>
            </a:xfrm>
            <a:custGeom>
              <a:avLst/>
              <a:gdLst>
                <a:gd name="textAreaLeft" fmla="*/ 63360 w 216000"/>
                <a:gd name="textAreaRight" fmla="*/ 216360 w 216000"/>
                <a:gd name="textAreaTop" fmla="*/ 80640 h 1942920"/>
                <a:gd name="textAreaBottom" fmla="*/ 186228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005280" y="471600"/>
              <a:ext cx="216000" cy="1942920"/>
            </a:xfrm>
            <a:custGeom>
              <a:avLst/>
              <a:gdLst>
                <a:gd name="textAreaLeft" fmla="*/ 63720 w 216000"/>
                <a:gd name="textAreaRight" fmla="*/ 216720 w 216000"/>
                <a:gd name="textAreaTop" fmla="*/ 80640 h 1942920"/>
                <a:gd name="textAreaBottom" fmla="*/ 186228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95800" y="3636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10:12:18Z</dcterms:created>
  <dc:creator>x</dc:creator>
  <dc:description/>
  <dc:language>en-US</dc:language>
  <cp:lastModifiedBy>x</cp:lastModifiedBy>
  <dcterms:modified xsi:type="dcterms:W3CDTF">2009-02-10T16:50:38Z</dcterms:modified>
  <cp:revision>2</cp:revision>
  <dc:subject/>
  <dc:title>Folie 1</dc:title>
</cp:coreProperties>
</file>