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712200" cy="52927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19B-B8A9-4C7B-880A-4E87FDAF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3760" y="469800"/>
            <a:ext cx="7404120" cy="8827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3760" y="1528560"/>
            <a:ext cx="7404120" cy="1514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3760" y="3187800"/>
            <a:ext cx="7404120" cy="1514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AF3C-12B4-44A8-956A-09841AAC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3760" y="469800"/>
            <a:ext cx="7404120" cy="8827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3760" y="1528560"/>
            <a:ext cx="3612960" cy="1514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47800" y="1528560"/>
            <a:ext cx="3612960" cy="1514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3760" y="3187800"/>
            <a:ext cx="3612960" cy="1514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47800" y="3187800"/>
            <a:ext cx="3612960" cy="1514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9AE-8879-4A10-8B5E-F50DBC2B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3760" y="469800"/>
            <a:ext cx="7404120" cy="8827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3760" y="1528560"/>
            <a:ext cx="2383920" cy="1514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7200" y="1528560"/>
            <a:ext cx="2383920" cy="1514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0640" y="1528560"/>
            <a:ext cx="2383920" cy="1514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3760" y="3187800"/>
            <a:ext cx="2383920" cy="1514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7200" y="3187800"/>
            <a:ext cx="2383920" cy="1514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60640" y="3187800"/>
            <a:ext cx="2383920" cy="1514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BC3-064A-497F-A7BF-CD1A70B6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3760" y="469800"/>
            <a:ext cx="7404120" cy="8827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3760" y="1528560"/>
            <a:ext cx="7404120" cy="31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013-5C08-485E-883C-A2C82252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3760" y="469800"/>
            <a:ext cx="7404120" cy="8827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3760" y="1528560"/>
            <a:ext cx="7404120" cy="3176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A77-D88C-4345-9496-97EC51AE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3760" y="469800"/>
            <a:ext cx="7404120" cy="8827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3760" y="1528560"/>
            <a:ext cx="3612960" cy="3176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47800" y="1528560"/>
            <a:ext cx="3612960" cy="3176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6A66-DECD-479A-8A61-F63E8FDD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3760" y="469800"/>
            <a:ext cx="7404120" cy="8827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B81-DA05-44A5-8228-FAD4D9D8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3760" y="469800"/>
            <a:ext cx="740412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4AF-37F8-4B58-92BD-DFCFBF11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3760" y="469800"/>
            <a:ext cx="7404120" cy="8827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3760" y="1528560"/>
            <a:ext cx="3612960" cy="1514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47800" y="1528560"/>
            <a:ext cx="3612960" cy="3176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3760" y="3187800"/>
            <a:ext cx="3612960" cy="1514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E75-89E7-45CE-B085-5622055A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3760" y="469800"/>
            <a:ext cx="7404120" cy="8827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3760" y="1528560"/>
            <a:ext cx="3612960" cy="3176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47800" y="1528560"/>
            <a:ext cx="3612960" cy="1514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47800" y="3187800"/>
            <a:ext cx="3612960" cy="1514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922-9CA3-4260-9546-57530D25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3760" y="469800"/>
            <a:ext cx="7404120" cy="8827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3760" y="1528560"/>
            <a:ext cx="3612960" cy="1514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47800" y="1528560"/>
            <a:ext cx="3612960" cy="1514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3760" y="3187800"/>
            <a:ext cx="7404120" cy="1514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18B-8C45-4E9E-BB5C-E234A81B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3760" y="469800"/>
            <a:ext cx="7404120" cy="8827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3760" y="1528560"/>
            <a:ext cx="7404120" cy="3176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rmAutofit fontScale="94000"/>
          </a:bodyPr>
          <a:p>
            <a:pPr marL="259200" indent="-259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760" indent="-2163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320" indent="-1742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4640" indent="-173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62040" indent="-174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62040" indent="-174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62040" indent="-174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4120" y="4822560"/>
            <a:ext cx="1814400" cy="3524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Autofit/>
          </a:bodyPr>
          <a:lstStyle>
            <a:lvl1pPr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6480" y="4822560"/>
            <a:ext cx="2759040" cy="3524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43120" y="4822560"/>
            <a:ext cx="1814760" cy="3524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AA97D862-24FE-4D15-B240-12D3F3A9674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16680" y="2943360"/>
            <a:ext cx="25369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Palatino Linotype"/>
              </a:rPr>
              <a:t>&lt;Par(</a:t>
            </a:r>
            <a:r>
              <a:rPr b="0" lang="pl-PL" sz="2400" spc="-1" strike="noStrike">
                <a:solidFill>
                  <a:srgbClr val="000000"/>
                </a:solidFill>
                <a:latin typeface="Letter Gothic"/>
              </a:rPr>
              <a:t>Prog2</a:t>
            </a:r>
            <a:r>
              <a:rPr b="0" lang="pl-PL" sz="2400" spc="-1" strike="noStrike">
                <a:solidFill>
                  <a:srgbClr val="000000"/>
                </a:solidFill>
                <a:latin typeface="Palatino Linotype"/>
              </a:rPr>
              <a:t>), z&gt;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89160" y="35280"/>
            <a:ext cx="30992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Palatino Linotype"/>
              </a:rPr>
              <a:t>&lt;</a:t>
            </a:r>
            <a:r>
              <a:rPr b="0" lang="pl-PL" sz="2400" spc="-1" strike="noStrike">
                <a:solidFill>
                  <a:srgbClr val="000000"/>
                </a:solidFill>
                <a:latin typeface="Letter Gothic"/>
              </a:rPr>
              <a:t>Prog</a:t>
            </a:r>
            <a:r>
              <a:rPr b="0" lang="pl-PL" sz="2400" spc="-1" strike="noStrike">
                <a:solidFill>
                  <a:srgbClr val="000000"/>
                </a:solidFill>
                <a:latin typeface="Palatino Linotype"/>
              </a:rPr>
              <a:t>,z&gt;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 mit z(x)=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3640" y="991080"/>
            <a:ext cx="51490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Palatino Linotype"/>
              </a:rPr>
              <a:t>&lt;Par(</a:t>
            </a:r>
            <a:r>
              <a:rPr b="0" lang="pl-PL" sz="2400" spc="-1" strike="noStrike">
                <a:solidFill>
                  <a:srgbClr val="000000"/>
                </a:solidFill>
                <a:latin typeface="Letter Gothic"/>
              </a:rPr>
              <a:t>start(Prog2);</a:t>
            </a:r>
            <a:r>
              <a:rPr b="0" lang="pl-PL" sz="2400" spc="-1" strike="noStrike">
                <a:solidFill>
                  <a:srgbClr val="000000"/>
                </a:solidFill>
                <a:latin typeface="Palatino Linotype"/>
              </a:rPr>
              <a:t> , </a:t>
            </a:r>
            <a:r>
              <a:rPr b="0" lang="pl-PL" sz="2400" spc="-1" strike="noStrike">
                <a:solidFill>
                  <a:srgbClr val="000000"/>
                </a:solidFill>
                <a:latin typeface="Letter Gothic"/>
              </a:rPr>
              <a:t>Prog1</a:t>
            </a:r>
            <a:r>
              <a:rPr b="0" lang="pl-PL" sz="2400" spc="-1" strike="noStrike">
                <a:solidFill>
                  <a:srgbClr val="000000"/>
                </a:solidFill>
                <a:latin typeface="Palatino Linotype"/>
              </a:rPr>
              <a:t>), z&gt;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8920" y="1933920"/>
            <a:ext cx="352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&lt;Par(</a:t>
            </a:r>
            <a:r>
              <a:rPr b="0" lang="en-US" sz="2400" spc="-1" strike="noStrike">
                <a:solidFill>
                  <a:srgbClr val="000000"/>
                </a:solidFill>
                <a:latin typeface="Letter Gothic"/>
              </a:rPr>
              <a:t>Prog2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Letter Gothic"/>
              </a:rPr>
              <a:t>Prog1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, z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600" y="2934000"/>
            <a:ext cx="47541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&lt;Par(</a:t>
            </a:r>
            <a:r>
              <a:rPr b="0" lang="en-US" sz="2400" spc="-1" strike="noStrike">
                <a:solidFill>
                  <a:srgbClr val="000000"/>
                </a:solidFill>
                <a:latin typeface="Letter Gothic"/>
              </a:rPr>
              <a:t>Prog1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, z11&gt; mit z11(x)=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77680" y="4816800"/>
            <a:ext cx="32407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Palatino Linotype"/>
              </a:rPr>
              <a:t>&lt;E,z12&gt; mit z12(x)=3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52480" y="3880080"/>
            <a:ext cx="33202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Palatino Linotype"/>
              </a:rPr>
              <a:t>&lt;E, z21&gt; mit z21(x)=2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6160" y="1935360"/>
            <a:ext cx="40791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Palatino Linotype"/>
              </a:rPr>
              <a:t>&lt;Par(</a:t>
            </a:r>
            <a:r>
              <a:rPr b="0" lang="pl-PL" sz="2400" spc="-1" strike="noStrike">
                <a:solidFill>
                  <a:srgbClr val="000000"/>
                </a:solidFill>
                <a:latin typeface="Letter Gothic"/>
              </a:rPr>
              <a:t>start(Prog2);</a:t>
            </a:r>
            <a:r>
              <a:rPr b="0" lang="pl-PL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), z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08640" y="6048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63920" y="348444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5440" y="247644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571560" y="1539720"/>
            <a:ext cx="43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97360" y="1539720"/>
            <a:ext cx="43200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563560" y="2475000"/>
            <a:ext cx="43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45000" y="2475000"/>
            <a:ext cx="1655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49200" y="3409920"/>
            <a:ext cx="12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3),(8),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38440" y="243684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93560" y="2401920"/>
            <a:ext cx="12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1),(8),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0000" y="4346640"/>
            <a:ext cx="8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1),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0920" y="530280"/>
            <a:ext cx="8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(7),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30200" y="146700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35400" y="1467000"/>
            <a:ext cx="12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4),(8),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54160" y="3880080"/>
            <a:ext cx="2616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&lt;Par(</a:t>
            </a:r>
            <a:r>
              <a:rPr b="0" lang="en-US" sz="2400" spc="-1" strike="noStrike">
                <a:solidFill>
                  <a:srgbClr val="000000"/>
                </a:solidFill>
                <a:latin typeface="Letter Gothic"/>
              </a:rPr>
              <a:t>x=3;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,z11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63920" y="44211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03760" y="2401920"/>
            <a:ext cx="12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4),(8),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15040" y="3411360"/>
            <a:ext cx="12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1),(8),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64280" y="348624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</cp:lastModifiedBy>
  <dcterms:modified xsi:type="dcterms:W3CDTF">2009-04-05T07:39:02Z</dcterms:modified>
  <cp:revision>6</cp:revision>
  <dc:subject/>
  <dc:title>PowerPoint Presentation</dc:title>
</cp:coreProperties>
</file>