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370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476-7851-4908-B1C5-DD2B8CB0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2640" y="866520"/>
            <a:ext cx="437508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2640" y="2144520"/>
            <a:ext cx="437508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F48-9D10-4322-BDD3-9F8C2ECA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2640" y="866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84720" y="866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2640" y="2144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484720" y="2144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DEB-79EE-4CD9-A73D-06E9996D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2640" y="866520"/>
            <a:ext cx="140868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22240" y="866520"/>
            <a:ext cx="140868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01480" y="866520"/>
            <a:ext cx="140868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2640" y="2144520"/>
            <a:ext cx="140868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722240" y="2144520"/>
            <a:ext cx="140868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201480" y="2144520"/>
            <a:ext cx="140868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E7D-F73A-408B-9915-3F1933E7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2640" y="866520"/>
            <a:ext cx="4375080" cy="24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5B0-8414-484B-900C-6E3BE7CE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2640" y="866520"/>
            <a:ext cx="4375080" cy="2446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E13-8FB3-48CF-9E16-DEECC781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2640" y="866520"/>
            <a:ext cx="2134800" cy="2446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484720" y="866520"/>
            <a:ext cx="2134800" cy="2446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DDC-340A-4C49-9733-9EA23EB7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FDC-0596-4D4A-A7C2-3FAB174F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2640" y="147600"/>
            <a:ext cx="4375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906-6FA9-4B4B-BB3C-7E13EB64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2640" y="866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484720" y="866520"/>
            <a:ext cx="2134800" cy="2446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2640" y="2144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07D-E0D7-4601-AB9F-B075EDC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2640" y="866520"/>
            <a:ext cx="2134800" cy="2446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84720" y="866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484720" y="2144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0C0-809E-4EE1-9DB4-89E42CA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2640" y="866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84720" y="866520"/>
            <a:ext cx="213480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2640" y="2144520"/>
            <a:ext cx="4375080" cy="1166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3B3-E66B-487A-A447-DF0714FB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2640" y="147600"/>
            <a:ext cx="4375080" cy="6206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2640" y="866520"/>
            <a:ext cx="4375080" cy="2446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 fontScale="86000"/>
          </a:bodyPr>
          <a:p>
            <a:pPr marL="196560" indent="-196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163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57720" indent="-13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9800" indent="-130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3320" indent="-132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183320" indent="-132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183320" indent="-132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2640" y="3376080"/>
            <a:ext cx="1135080" cy="2588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61760" y="3376080"/>
            <a:ext cx="1536840" cy="2588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82640" y="3376080"/>
            <a:ext cx="1135080" cy="2588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fld id="{E77BE9A2-18AD-41E5-A512-6B146CB353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320" y="14400"/>
            <a:ext cx="4824360" cy="3671640"/>
            <a:chOff x="22320" y="14400"/>
            <a:chExt cx="4824360" cy="3671640"/>
          </a:xfrm>
        </p:grpSpPr>
        <p:sp>
          <p:nvSpPr>
            <p:cNvPr id="42" name=""/>
            <p:cNvSpPr/>
            <p:nvPr/>
          </p:nvSpPr>
          <p:spPr>
            <a:xfrm flipH="1">
              <a:off x="3970080" y="1095120"/>
              <a:ext cx="12600" cy="18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873000" y="1095120"/>
              <a:ext cx="1404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47880" y="4456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n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1040" y="1276200"/>
              <a:ext cx="1152720" cy="5029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06680" y="1238040"/>
              <a:ext cx="1152720" cy="5029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1040" y="2101680"/>
              <a:ext cx="1152720" cy="433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67040" y="2893680"/>
              <a:ext cx="360360" cy="3600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7400" y="109512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71760" y="950760"/>
              <a:ext cx="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8440" y="2893680"/>
              <a:ext cx="1224000" cy="50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457360" y="1095120"/>
              <a:ext cx="1440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95400" y="1276200"/>
              <a:ext cx="1152720" cy="5029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95400" y="2101680"/>
              <a:ext cx="1152720" cy="433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82800" y="2893680"/>
              <a:ext cx="1224000" cy="50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94080" y="2101680"/>
              <a:ext cx="1152720" cy="433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5520" y="15480"/>
              <a:ext cx="189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cess Se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320" y="14400"/>
              <a:ext cx="4824360" cy="367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01:43Z</dcterms:created>
  <dc:creator>x</dc:creator>
  <dc:description/>
  <dc:language>en-US</dc:language>
  <cp:lastModifiedBy>x</cp:lastModifiedBy>
  <dcterms:modified xsi:type="dcterms:W3CDTF">2007-03-10T11:20:55Z</dcterms:modified>
  <cp:revision>7</cp:revision>
  <dc:subject/>
  <dc:title>Folie 1</dc:title>
</cp:coreProperties>
</file>