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8280400" cy="53276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A608-C97F-4056-A2D2-DFD5223E5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4000" y="212400"/>
            <a:ext cx="7451640" cy="88884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ctr">
            <a:noAutofit/>
          </a:bodyPr>
          <a:p>
            <a:pPr indent="0" algn="ctr">
              <a:buNone/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4000" y="1243080"/>
            <a:ext cx="7451640" cy="167796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4000" y="3080880"/>
            <a:ext cx="7451640" cy="167796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9305-E9EB-4A53-9843-8D61A22A0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4000" y="212400"/>
            <a:ext cx="7451640" cy="88884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ctr">
            <a:noAutofit/>
          </a:bodyPr>
          <a:p>
            <a:pPr indent="0" algn="ctr">
              <a:buNone/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14000" y="1243080"/>
            <a:ext cx="3636360" cy="167796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32520" y="1243080"/>
            <a:ext cx="3636360" cy="167796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14000" y="3080880"/>
            <a:ext cx="3636360" cy="167796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32520" y="3080880"/>
            <a:ext cx="3636360" cy="167796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9A26-4380-4367-B363-0D0B60D3F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4000" y="212400"/>
            <a:ext cx="7451640" cy="88884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ctr">
            <a:noAutofit/>
          </a:bodyPr>
          <a:p>
            <a:pPr indent="0" algn="ctr">
              <a:buNone/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4000" y="1243080"/>
            <a:ext cx="2399040" cy="167796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33280" y="1243080"/>
            <a:ext cx="2399040" cy="167796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452920" y="1243080"/>
            <a:ext cx="2399040" cy="167796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14000" y="3080880"/>
            <a:ext cx="2399040" cy="167796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33280" y="3080880"/>
            <a:ext cx="2399040" cy="167796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452920" y="3080880"/>
            <a:ext cx="2399040" cy="167796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D202-F9BD-42B0-9BAE-DEE572067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14000" y="212400"/>
            <a:ext cx="7451640" cy="88884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ctr">
            <a:noAutofit/>
          </a:bodyPr>
          <a:p>
            <a:pPr indent="0" algn="ctr">
              <a:buNone/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14000" y="1243080"/>
            <a:ext cx="7451640" cy="35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1A86-9DE1-40B9-93AF-DC288BC2B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4000" y="212400"/>
            <a:ext cx="7451640" cy="88884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ctr">
            <a:noAutofit/>
          </a:bodyPr>
          <a:p>
            <a:pPr indent="0" algn="ctr">
              <a:buNone/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14000" y="1243080"/>
            <a:ext cx="7451640" cy="351792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4CCB-509D-4C40-B458-AB9C76A69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4000" y="212400"/>
            <a:ext cx="7451640" cy="88884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ctr">
            <a:noAutofit/>
          </a:bodyPr>
          <a:p>
            <a:pPr indent="0" algn="ctr">
              <a:buNone/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4000" y="1243080"/>
            <a:ext cx="3636360" cy="351792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32520" y="1243080"/>
            <a:ext cx="3636360" cy="351792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6AAF-852B-44F4-B2FF-39B5A24E1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4000" y="212400"/>
            <a:ext cx="7451640" cy="88884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ctr">
            <a:noAutofit/>
          </a:bodyPr>
          <a:p>
            <a:pPr indent="0" algn="ctr">
              <a:buNone/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2E1D-99EE-495D-B6C7-95EA22754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14000" y="212400"/>
            <a:ext cx="745164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F831-C71B-4EE0-A586-66D03C502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4000" y="212400"/>
            <a:ext cx="7451640" cy="88884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ctr">
            <a:noAutofit/>
          </a:bodyPr>
          <a:p>
            <a:pPr indent="0" algn="ctr">
              <a:buNone/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4000" y="1243080"/>
            <a:ext cx="3636360" cy="167796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32520" y="1243080"/>
            <a:ext cx="3636360" cy="351792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14000" y="3080880"/>
            <a:ext cx="3636360" cy="167796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ACB8-B184-4737-B1F1-23977B8B0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4000" y="212400"/>
            <a:ext cx="7451640" cy="88884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ctr">
            <a:noAutofit/>
          </a:bodyPr>
          <a:p>
            <a:pPr indent="0" algn="ctr">
              <a:buNone/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4000" y="1243080"/>
            <a:ext cx="3636360" cy="351792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32520" y="1243080"/>
            <a:ext cx="3636360" cy="167796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32520" y="3080880"/>
            <a:ext cx="3636360" cy="167796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F251-F74B-41EF-83ED-8856DB49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4000" y="212400"/>
            <a:ext cx="7451640" cy="88884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ctr">
            <a:noAutofit/>
          </a:bodyPr>
          <a:p>
            <a:pPr indent="0" algn="ctr">
              <a:buNone/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4000" y="1243080"/>
            <a:ext cx="3636360" cy="167796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32520" y="1243080"/>
            <a:ext cx="3636360" cy="167796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4000" y="3080880"/>
            <a:ext cx="7451640" cy="167796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39B5-3349-4132-AB26-84C4EB0D9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4000" y="212400"/>
            <a:ext cx="7451640" cy="88884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ctr">
            <a:noAutofit/>
          </a:bodyPr>
          <a:p>
            <a:pPr indent="0" algn="ctr">
              <a:buNone/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14000" y="1243080"/>
            <a:ext cx="7451640" cy="351792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marL="291960" indent="-2919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4300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1936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360440" indent="-19368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749600" indent="-193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749600" indent="-193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749600" indent="-193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14000" y="4852800"/>
            <a:ext cx="1932120" cy="36972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Autofit/>
          </a:bodyPr>
          <a:lstStyle>
            <a:lvl1pPr indent="0">
              <a:buNone/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28520" y="4852800"/>
            <a:ext cx="2622600" cy="36972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Autofit/>
          </a:bodyPr>
          <a:lstStyle>
            <a:lvl1pPr indent="0" algn="ctr">
              <a:buNone/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934240" y="4852800"/>
            <a:ext cx="1931760" cy="36972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Autofit/>
          </a:bodyPr>
          <a:lstStyle>
            <a:lvl1pPr indent="0" algn="r">
              <a:buNone/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fld id="{C7D8B0DB-3DDF-49A3-B444-82A7640CE7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5840" y="1512720"/>
            <a:ext cx="11437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t1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halt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98920" y="21621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859280" y="302580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98920" y="158580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441440" y="73080"/>
            <a:ext cx="6440400" cy="1297080"/>
            <a:chOff x="1441440" y="73080"/>
            <a:chExt cx="6440400" cy="1297080"/>
          </a:xfrm>
        </p:grpSpPr>
        <p:sp>
          <p:nvSpPr>
            <p:cNvPr id="46" name=""/>
            <p:cNvSpPr/>
            <p:nvPr/>
          </p:nvSpPr>
          <p:spPr>
            <a:xfrm>
              <a:off x="2520720" y="144360"/>
              <a:ext cx="504720" cy="5043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7" name=""/>
            <p:cNvCxnSpPr>
              <a:stCxn id="48" idx="3"/>
              <a:endCxn id="46" idx="2"/>
            </p:cNvCxnSpPr>
            <p:nvPr/>
          </p:nvCxnSpPr>
          <p:spPr>
            <a:xfrm flipV="1">
              <a:off x="1946160" y="396720"/>
              <a:ext cx="57492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cxnSp>
          <p:nvCxnSpPr>
            <p:cNvPr id="49" name=""/>
            <p:cNvCxnSpPr>
              <a:stCxn id="50" idx="6"/>
              <a:endCxn id="51" idx="1"/>
            </p:cNvCxnSpPr>
            <p:nvPr/>
          </p:nvCxnSpPr>
          <p:spPr>
            <a:xfrm>
              <a:off x="5184720" y="396720"/>
              <a:ext cx="64800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cxnSp>
          <p:nvCxnSpPr>
            <p:cNvPr id="52" name=""/>
            <p:cNvCxnSpPr>
              <a:stCxn id="53" idx="3"/>
              <a:endCxn id="50" idx="2"/>
            </p:cNvCxnSpPr>
            <p:nvPr/>
          </p:nvCxnSpPr>
          <p:spPr>
            <a:xfrm>
              <a:off x="4105080" y="396360"/>
              <a:ext cx="574920" cy="7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sp>
          <p:nvSpPr>
            <p:cNvPr id="54" name=""/>
            <p:cNvSpPr/>
            <p:nvPr/>
          </p:nvSpPr>
          <p:spPr>
            <a:xfrm>
              <a:off x="5150880" y="730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5" name=""/>
            <p:cNvCxnSpPr>
              <a:stCxn id="51" idx="3"/>
              <a:endCxn id="56" idx="2"/>
            </p:cNvCxnSpPr>
            <p:nvPr/>
          </p:nvCxnSpPr>
          <p:spPr>
            <a:xfrm>
              <a:off x="6337080" y="755280"/>
              <a:ext cx="503640" cy="3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cxnSp>
          <p:nvCxnSpPr>
            <p:cNvPr id="57" name=""/>
            <p:cNvCxnSpPr>
              <a:stCxn id="46" idx="6"/>
              <a:endCxn id="53" idx="1"/>
            </p:cNvCxnSpPr>
            <p:nvPr/>
          </p:nvCxnSpPr>
          <p:spPr>
            <a:xfrm flipV="1">
              <a:off x="3025440" y="396360"/>
              <a:ext cx="575280" cy="7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sp>
          <p:nvSpPr>
            <p:cNvPr id="58" name=""/>
            <p:cNvSpPr/>
            <p:nvPr/>
          </p:nvSpPr>
          <p:spPr>
            <a:xfrm>
              <a:off x="5149800" y="936360"/>
              <a:ext cx="46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417800" y="4330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441440" y="502920"/>
              <a:ext cx="504720" cy="504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55240" y="730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055240" y="9712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479960" y="53964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520720" y="792000"/>
              <a:ext cx="504720" cy="5043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4" name=""/>
            <p:cNvCxnSpPr>
              <a:stCxn id="48" idx="3"/>
              <a:endCxn id="63" idx="2"/>
            </p:cNvCxnSpPr>
            <p:nvPr/>
          </p:nvCxnSpPr>
          <p:spPr>
            <a:xfrm>
              <a:off x="1946160" y="755280"/>
              <a:ext cx="574920" cy="2894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sp>
          <p:nvSpPr>
            <p:cNvPr id="53" name=""/>
            <p:cNvSpPr/>
            <p:nvPr/>
          </p:nvSpPr>
          <p:spPr>
            <a:xfrm>
              <a:off x="3600360" y="144360"/>
              <a:ext cx="504720" cy="5043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639240" y="18072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679640" y="144360"/>
              <a:ext cx="505080" cy="5043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832360" y="502920"/>
              <a:ext cx="504720" cy="504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871240" y="53964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40360" y="502920"/>
              <a:ext cx="50472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7" name=""/>
            <p:cNvCxnSpPr>
              <a:stCxn id="68" idx="6"/>
              <a:endCxn id="51" idx="1"/>
            </p:cNvCxnSpPr>
            <p:nvPr/>
          </p:nvCxnSpPr>
          <p:spPr>
            <a:xfrm flipV="1">
              <a:off x="5175000" y="755280"/>
              <a:ext cx="657720" cy="2894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cxnSp>
          <p:nvCxnSpPr>
            <p:cNvPr id="69" name=""/>
            <p:cNvCxnSpPr>
              <a:stCxn id="70" idx="3"/>
              <a:endCxn id="68" idx="2"/>
            </p:cNvCxnSpPr>
            <p:nvPr/>
          </p:nvCxnSpPr>
          <p:spPr>
            <a:xfrm>
              <a:off x="4095720" y="1044000"/>
              <a:ext cx="574920" cy="7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cxnSp>
          <p:nvCxnSpPr>
            <p:cNvPr id="71" name=""/>
            <p:cNvCxnSpPr>
              <a:stCxn id="63" idx="6"/>
              <a:endCxn id="70" idx="1"/>
            </p:cNvCxnSpPr>
            <p:nvPr/>
          </p:nvCxnSpPr>
          <p:spPr>
            <a:xfrm flipV="1">
              <a:off x="3025440" y="1044000"/>
              <a:ext cx="565560" cy="7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sp>
          <p:nvSpPr>
            <p:cNvPr id="70" name=""/>
            <p:cNvSpPr/>
            <p:nvPr/>
          </p:nvSpPr>
          <p:spPr>
            <a:xfrm>
              <a:off x="3590640" y="792000"/>
              <a:ext cx="505080" cy="5043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629520" y="82836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670280" y="792000"/>
              <a:ext cx="504720" cy="5043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1441440" y="1370160"/>
            <a:ext cx="6440400" cy="1297080"/>
            <a:chOff x="1441440" y="1370160"/>
            <a:chExt cx="6440400" cy="1297080"/>
          </a:xfrm>
        </p:grpSpPr>
        <p:sp>
          <p:nvSpPr>
            <p:cNvPr id="74" name=""/>
            <p:cNvSpPr/>
            <p:nvPr/>
          </p:nvSpPr>
          <p:spPr>
            <a:xfrm>
              <a:off x="2520720" y="1441440"/>
              <a:ext cx="504720" cy="5043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5" name=""/>
            <p:cNvCxnSpPr>
              <a:stCxn id="76" idx="3"/>
              <a:endCxn id="74" idx="2"/>
            </p:cNvCxnSpPr>
            <p:nvPr/>
          </p:nvCxnSpPr>
          <p:spPr>
            <a:xfrm flipV="1">
              <a:off x="1946160" y="1693800"/>
              <a:ext cx="57492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cxnSp>
          <p:nvCxnSpPr>
            <p:cNvPr id="77" name=""/>
            <p:cNvCxnSpPr>
              <a:stCxn id="78" idx="6"/>
              <a:endCxn id="79" idx="1"/>
            </p:cNvCxnSpPr>
            <p:nvPr/>
          </p:nvCxnSpPr>
          <p:spPr>
            <a:xfrm>
              <a:off x="5184720" y="1693800"/>
              <a:ext cx="64800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cxnSp>
          <p:nvCxnSpPr>
            <p:cNvPr id="80" name=""/>
            <p:cNvCxnSpPr>
              <a:stCxn id="81" idx="3"/>
              <a:endCxn id="78" idx="2"/>
            </p:cNvCxnSpPr>
            <p:nvPr/>
          </p:nvCxnSpPr>
          <p:spPr>
            <a:xfrm>
              <a:off x="4105080" y="1693440"/>
              <a:ext cx="574920" cy="7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sp>
          <p:nvSpPr>
            <p:cNvPr id="82" name=""/>
            <p:cNvSpPr/>
            <p:nvPr/>
          </p:nvSpPr>
          <p:spPr>
            <a:xfrm>
              <a:off x="5150880" y="13701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3" name=""/>
            <p:cNvCxnSpPr>
              <a:stCxn id="79" idx="3"/>
              <a:endCxn id="84" idx="2"/>
            </p:cNvCxnSpPr>
            <p:nvPr/>
          </p:nvCxnSpPr>
          <p:spPr>
            <a:xfrm>
              <a:off x="6337080" y="2052360"/>
              <a:ext cx="503640" cy="3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cxnSp>
          <p:nvCxnSpPr>
            <p:cNvPr id="85" name=""/>
            <p:cNvCxnSpPr>
              <a:stCxn id="74" idx="6"/>
              <a:endCxn id="81" idx="1"/>
            </p:cNvCxnSpPr>
            <p:nvPr/>
          </p:nvCxnSpPr>
          <p:spPr>
            <a:xfrm flipV="1">
              <a:off x="3025440" y="1693440"/>
              <a:ext cx="575280" cy="7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sp>
          <p:nvSpPr>
            <p:cNvPr id="86" name=""/>
            <p:cNvSpPr/>
            <p:nvPr/>
          </p:nvSpPr>
          <p:spPr>
            <a:xfrm>
              <a:off x="5149800" y="2233440"/>
              <a:ext cx="46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17800" y="17301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441440" y="1800000"/>
              <a:ext cx="504720" cy="504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055240" y="13701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055240" y="22683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479960" y="183672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520720" y="2089080"/>
              <a:ext cx="504720" cy="5043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76" idx="3"/>
              <a:endCxn id="91" idx="2"/>
            </p:cNvCxnSpPr>
            <p:nvPr/>
          </p:nvCxnSpPr>
          <p:spPr>
            <a:xfrm>
              <a:off x="1946160" y="2052360"/>
              <a:ext cx="574920" cy="2894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sp>
          <p:nvSpPr>
            <p:cNvPr id="81" name=""/>
            <p:cNvSpPr/>
            <p:nvPr/>
          </p:nvSpPr>
          <p:spPr>
            <a:xfrm>
              <a:off x="3600360" y="1441440"/>
              <a:ext cx="504720" cy="5043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639240" y="147780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679640" y="1441440"/>
              <a:ext cx="505080" cy="5043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2360" y="1800000"/>
              <a:ext cx="504720" cy="504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71240" y="183672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40360" y="1800000"/>
              <a:ext cx="50472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5" name=""/>
            <p:cNvCxnSpPr>
              <a:stCxn id="96" idx="6"/>
              <a:endCxn id="79" idx="1"/>
            </p:cNvCxnSpPr>
            <p:nvPr/>
          </p:nvCxnSpPr>
          <p:spPr>
            <a:xfrm flipV="1">
              <a:off x="5175000" y="2052360"/>
              <a:ext cx="657720" cy="2894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cxnSp>
          <p:nvCxnSpPr>
            <p:cNvPr id="97" name=""/>
            <p:cNvCxnSpPr>
              <a:stCxn id="98" idx="3"/>
              <a:endCxn id="96" idx="2"/>
            </p:cNvCxnSpPr>
            <p:nvPr/>
          </p:nvCxnSpPr>
          <p:spPr>
            <a:xfrm>
              <a:off x="4095720" y="2341080"/>
              <a:ext cx="574920" cy="7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cxnSp>
          <p:nvCxnSpPr>
            <p:cNvPr id="99" name=""/>
            <p:cNvCxnSpPr>
              <a:stCxn id="91" idx="6"/>
              <a:endCxn id="98" idx="1"/>
            </p:cNvCxnSpPr>
            <p:nvPr/>
          </p:nvCxnSpPr>
          <p:spPr>
            <a:xfrm flipV="1">
              <a:off x="3025440" y="2341080"/>
              <a:ext cx="565560" cy="7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sp>
          <p:nvSpPr>
            <p:cNvPr id="98" name=""/>
            <p:cNvSpPr/>
            <p:nvPr/>
          </p:nvSpPr>
          <p:spPr>
            <a:xfrm>
              <a:off x="3590640" y="2089080"/>
              <a:ext cx="505080" cy="5043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629520" y="212544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70280" y="2089080"/>
              <a:ext cx="504720" cy="5043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34920" y="1370160"/>
            <a:ext cx="820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698920" y="4826160"/>
            <a:ext cx="14436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59280" y="36021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441440" y="2736720"/>
            <a:ext cx="6440400" cy="1297440"/>
            <a:chOff x="1441440" y="2736720"/>
            <a:chExt cx="6440400" cy="1297440"/>
          </a:xfrm>
        </p:grpSpPr>
        <p:sp>
          <p:nvSpPr>
            <p:cNvPr id="105" name=""/>
            <p:cNvSpPr/>
            <p:nvPr/>
          </p:nvSpPr>
          <p:spPr>
            <a:xfrm>
              <a:off x="2520720" y="2808360"/>
              <a:ext cx="50472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6" name=""/>
            <p:cNvCxnSpPr>
              <a:stCxn id="107" idx="3"/>
              <a:endCxn id="105" idx="2"/>
            </p:cNvCxnSpPr>
            <p:nvPr/>
          </p:nvCxnSpPr>
          <p:spPr>
            <a:xfrm flipV="1">
              <a:off x="1946160" y="3060720"/>
              <a:ext cx="57492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cxnSp>
          <p:nvCxnSpPr>
            <p:cNvPr id="108" name=""/>
            <p:cNvCxnSpPr>
              <a:stCxn id="109" idx="6"/>
              <a:endCxn id="110" idx="1"/>
            </p:cNvCxnSpPr>
            <p:nvPr/>
          </p:nvCxnSpPr>
          <p:spPr>
            <a:xfrm>
              <a:off x="5184720" y="3060720"/>
              <a:ext cx="64800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cxnSp>
          <p:nvCxnSpPr>
            <p:cNvPr id="111" name=""/>
            <p:cNvCxnSpPr>
              <a:stCxn id="112" idx="3"/>
              <a:endCxn id="109" idx="2"/>
            </p:cNvCxnSpPr>
            <p:nvPr/>
          </p:nvCxnSpPr>
          <p:spPr>
            <a:xfrm>
              <a:off x="4105080" y="3060720"/>
              <a:ext cx="574920" cy="3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sp>
          <p:nvSpPr>
            <p:cNvPr id="113" name=""/>
            <p:cNvSpPr/>
            <p:nvPr/>
          </p:nvSpPr>
          <p:spPr>
            <a:xfrm>
              <a:off x="5150880" y="273672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4" name=""/>
            <p:cNvCxnSpPr>
              <a:stCxn id="110" idx="3"/>
              <a:endCxn id="115" idx="2"/>
            </p:cNvCxnSpPr>
            <p:nvPr/>
          </p:nvCxnSpPr>
          <p:spPr>
            <a:xfrm>
              <a:off x="6337080" y="3419280"/>
              <a:ext cx="503640" cy="7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cxnSp>
          <p:nvCxnSpPr>
            <p:cNvPr id="116" name=""/>
            <p:cNvCxnSpPr>
              <a:stCxn id="105" idx="6"/>
              <a:endCxn id="112" idx="1"/>
            </p:cNvCxnSpPr>
            <p:nvPr/>
          </p:nvCxnSpPr>
          <p:spPr>
            <a:xfrm>
              <a:off x="3025440" y="3060720"/>
              <a:ext cx="575280" cy="3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sp>
          <p:nvSpPr>
            <p:cNvPr id="117" name=""/>
            <p:cNvSpPr/>
            <p:nvPr/>
          </p:nvSpPr>
          <p:spPr>
            <a:xfrm>
              <a:off x="5149800" y="3600360"/>
              <a:ext cx="46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417800" y="30970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441440" y="3166920"/>
              <a:ext cx="504720" cy="505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055240" y="273672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055240" y="36352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479960" y="320364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520720" y="3456000"/>
              <a:ext cx="50472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3" name=""/>
            <p:cNvCxnSpPr>
              <a:stCxn id="107" idx="3"/>
              <a:endCxn id="122" idx="2"/>
            </p:cNvCxnSpPr>
            <p:nvPr/>
          </p:nvCxnSpPr>
          <p:spPr>
            <a:xfrm>
              <a:off x="1946160" y="3419280"/>
              <a:ext cx="574920" cy="2894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sp>
          <p:nvSpPr>
            <p:cNvPr id="112" name=""/>
            <p:cNvSpPr/>
            <p:nvPr/>
          </p:nvSpPr>
          <p:spPr>
            <a:xfrm>
              <a:off x="3600360" y="2808360"/>
              <a:ext cx="504720" cy="504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639240" y="284472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679640" y="2808360"/>
              <a:ext cx="50508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832360" y="3166920"/>
              <a:ext cx="504720" cy="505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871240" y="320364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40360" y="3166920"/>
              <a:ext cx="504720" cy="505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6" name=""/>
            <p:cNvCxnSpPr>
              <a:stCxn id="127" idx="6"/>
              <a:endCxn id="110" idx="1"/>
            </p:cNvCxnSpPr>
            <p:nvPr/>
          </p:nvCxnSpPr>
          <p:spPr>
            <a:xfrm flipV="1">
              <a:off x="5175000" y="3419280"/>
              <a:ext cx="657720" cy="2894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cxnSp>
          <p:nvCxnSpPr>
            <p:cNvPr id="128" name=""/>
            <p:cNvCxnSpPr>
              <a:stCxn id="129" idx="3"/>
              <a:endCxn id="127" idx="2"/>
            </p:cNvCxnSpPr>
            <p:nvPr/>
          </p:nvCxnSpPr>
          <p:spPr>
            <a:xfrm>
              <a:off x="4095720" y="3708360"/>
              <a:ext cx="574920" cy="3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cxnSp>
          <p:nvCxnSpPr>
            <p:cNvPr id="130" name=""/>
            <p:cNvCxnSpPr>
              <a:stCxn id="122" idx="6"/>
              <a:endCxn id="129" idx="1"/>
            </p:cNvCxnSpPr>
            <p:nvPr/>
          </p:nvCxnSpPr>
          <p:spPr>
            <a:xfrm>
              <a:off x="3025440" y="3708360"/>
              <a:ext cx="565560" cy="3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sp>
          <p:nvSpPr>
            <p:cNvPr id="129" name=""/>
            <p:cNvSpPr/>
            <p:nvPr/>
          </p:nvSpPr>
          <p:spPr>
            <a:xfrm>
              <a:off x="3590640" y="3456000"/>
              <a:ext cx="505080" cy="504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629520" y="349236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670280" y="3456000"/>
              <a:ext cx="50472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1441440" y="4033800"/>
            <a:ext cx="6440400" cy="1297080"/>
            <a:chOff x="1441440" y="4033800"/>
            <a:chExt cx="6440400" cy="1297080"/>
          </a:xfrm>
        </p:grpSpPr>
        <p:sp>
          <p:nvSpPr>
            <p:cNvPr id="133" name=""/>
            <p:cNvSpPr/>
            <p:nvPr/>
          </p:nvSpPr>
          <p:spPr>
            <a:xfrm>
              <a:off x="2520720" y="4105080"/>
              <a:ext cx="504720" cy="5043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4" name=""/>
            <p:cNvCxnSpPr>
              <a:stCxn id="135" idx="3"/>
              <a:endCxn id="133" idx="2"/>
            </p:cNvCxnSpPr>
            <p:nvPr/>
          </p:nvCxnSpPr>
          <p:spPr>
            <a:xfrm flipV="1">
              <a:off x="1946160" y="4357440"/>
              <a:ext cx="57492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cxnSp>
          <p:nvCxnSpPr>
            <p:cNvPr id="136" name=""/>
            <p:cNvCxnSpPr>
              <a:stCxn id="137" idx="6"/>
              <a:endCxn id="138" idx="1"/>
            </p:cNvCxnSpPr>
            <p:nvPr/>
          </p:nvCxnSpPr>
          <p:spPr>
            <a:xfrm>
              <a:off x="5184720" y="4357440"/>
              <a:ext cx="648000" cy="358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cxnSp>
          <p:nvCxnSpPr>
            <p:cNvPr id="139" name=""/>
            <p:cNvCxnSpPr>
              <a:stCxn id="140" idx="3"/>
              <a:endCxn id="137" idx="2"/>
            </p:cNvCxnSpPr>
            <p:nvPr/>
          </p:nvCxnSpPr>
          <p:spPr>
            <a:xfrm>
              <a:off x="4105080" y="4357080"/>
              <a:ext cx="574920" cy="7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sp>
          <p:nvSpPr>
            <p:cNvPr id="141" name=""/>
            <p:cNvSpPr/>
            <p:nvPr/>
          </p:nvSpPr>
          <p:spPr>
            <a:xfrm>
              <a:off x="5150880" y="40338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2" name=""/>
            <p:cNvCxnSpPr>
              <a:stCxn id="138" idx="3"/>
              <a:endCxn id="143" idx="2"/>
            </p:cNvCxnSpPr>
            <p:nvPr/>
          </p:nvCxnSpPr>
          <p:spPr>
            <a:xfrm>
              <a:off x="6337080" y="4716000"/>
              <a:ext cx="503640" cy="3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cxnSp>
          <p:nvCxnSpPr>
            <p:cNvPr id="144" name=""/>
            <p:cNvCxnSpPr>
              <a:stCxn id="133" idx="6"/>
              <a:endCxn id="140" idx="1"/>
            </p:cNvCxnSpPr>
            <p:nvPr/>
          </p:nvCxnSpPr>
          <p:spPr>
            <a:xfrm flipV="1">
              <a:off x="3025440" y="4357080"/>
              <a:ext cx="575280" cy="7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sp>
          <p:nvSpPr>
            <p:cNvPr id="145" name=""/>
            <p:cNvSpPr/>
            <p:nvPr/>
          </p:nvSpPr>
          <p:spPr>
            <a:xfrm>
              <a:off x="5149800" y="4897080"/>
              <a:ext cx="46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417800" y="43938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441440" y="4463640"/>
              <a:ext cx="504720" cy="504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055240" y="40338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055240" y="49320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479960" y="450036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520720" y="4752720"/>
              <a:ext cx="504720" cy="5043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1" name=""/>
            <p:cNvCxnSpPr>
              <a:stCxn id="135" idx="3"/>
              <a:endCxn id="150" idx="2"/>
            </p:cNvCxnSpPr>
            <p:nvPr/>
          </p:nvCxnSpPr>
          <p:spPr>
            <a:xfrm>
              <a:off x="1946160" y="4716000"/>
              <a:ext cx="574920" cy="2894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sp>
          <p:nvSpPr>
            <p:cNvPr id="140" name=""/>
            <p:cNvSpPr/>
            <p:nvPr/>
          </p:nvSpPr>
          <p:spPr>
            <a:xfrm>
              <a:off x="3600360" y="4105080"/>
              <a:ext cx="504720" cy="5043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639240" y="414144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679640" y="4105080"/>
              <a:ext cx="505080" cy="5043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832360" y="4463640"/>
              <a:ext cx="504720" cy="504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71240" y="450036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840360" y="4463640"/>
              <a:ext cx="50472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4" name=""/>
            <p:cNvCxnSpPr>
              <a:stCxn id="155" idx="6"/>
              <a:endCxn id="138" idx="1"/>
            </p:cNvCxnSpPr>
            <p:nvPr/>
          </p:nvCxnSpPr>
          <p:spPr>
            <a:xfrm flipV="1">
              <a:off x="5175000" y="4716000"/>
              <a:ext cx="657720" cy="2894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cxnSp>
          <p:nvCxnSpPr>
            <p:cNvPr id="156" name=""/>
            <p:cNvCxnSpPr>
              <a:stCxn id="157" idx="3"/>
              <a:endCxn id="155" idx="2"/>
            </p:cNvCxnSpPr>
            <p:nvPr/>
          </p:nvCxnSpPr>
          <p:spPr>
            <a:xfrm>
              <a:off x="4095720" y="5004720"/>
              <a:ext cx="574920" cy="7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cxnSp>
          <p:nvCxnSpPr>
            <p:cNvPr id="158" name=""/>
            <p:cNvCxnSpPr>
              <a:stCxn id="150" idx="6"/>
              <a:endCxn id="157" idx="1"/>
            </p:cNvCxnSpPr>
            <p:nvPr/>
          </p:nvCxnSpPr>
          <p:spPr>
            <a:xfrm flipV="1">
              <a:off x="3025440" y="5004720"/>
              <a:ext cx="565560" cy="7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sp>
          <p:nvSpPr>
            <p:cNvPr id="157" name=""/>
            <p:cNvSpPr/>
            <p:nvPr/>
          </p:nvSpPr>
          <p:spPr>
            <a:xfrm>
              <a:off x="3590640" y="4752720"/>
              <a:ext cx="505080" cy="5043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629520" y="47890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670280" y="4752720"/>
              <a:ext cx="504720" cy="5043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34920" y="4022640"/>
            <a:ext cx="820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920" y="2698920"/>
            <a:ext cx="820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698920" y="42512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020000" y="46101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79280" y="1878120"/>
            <a:ext cx="1079640" cy="360360"/>
          </a:xfrm>
          <a:prstGeom prst="rightArrow">
            <a:avLst>
              <a:gd name="adj1" fmla="val 50000"/>
              <a:gd name="adj2" fmla="val 74900"/>
            </a:avLst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05840" y="2895480"/>
            <a:ext cx="11437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t2,t3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halt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79280" y="3260880"/>
            <a:ext cx="1079640" cy="360360"/>
          </a:xfrm>
          <a:prstGeom prst="rightArrow">
            <a:avLst>
              <a:gd name="adj1" fmla="val 50000"/>
              <a:gd name="adj2" fmla="val 74900"/>
            </a:avLst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05840" y="4178160"/>
            <a:ext cx="11437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t1,t4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halt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9280" y="4543560"/>
            <a:ext cx="1079640" cy="360360"/>
          </a:xfrm>
          <a:prstGeom prst="rightArrow">
            <a:avLst>
              <a:gd name="adj1" fmla="val 50000"/>
              <a:gd name="adj2" fmla="val 74900"/>
            </a:avLst>
          </a:pr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9T09:42:31Z</dcterms:created>
  <dc:creator>x</dc:creator>
  <dc:description/>
  <dc:language>en-US</dc:language>
  <cp:lastModifiedBy>x</cp:lastModifiedBy>
  <dcterms:modified xsi:type="dcterms:W3CDTF">2007-05-17T07:33:48Z</dcterms:modified>
  <cp:revision>2</cp:revision>
  <dc:subject/>
  <dc:title>Folie 1</dc:title>
</cp:coreProperties>
</file>