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392-76C0-49ED-BF67-AF1B0F79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680544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3122280"/>
            <a:ext cx="680544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CB8-0A33-4192-A551-FCF38EC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312228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312228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5B7-FB45-472A-8391-0DD2FE4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126036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126036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312228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312228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3122280"/>
            <a:ext cx="219096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30D-1B30-4098-9AAE-E258B29E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1260360"/>
            <a:ext cx="680544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B2A-66EC-4F68-820D-C796EF43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680544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870-8445-4F4D-B776-56FF18B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332100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1260360"/>
            <a:ext cx="332100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C5C-3DB2-48DF-9181-A3F56FF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075-766E-491E-887A-18E705E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216000"/>
            <a:ext cx="6805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615-6A91-45EB-B000-67326447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1260360"/>
            <a:ext cx="332100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312228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130-7C02-4F7F-863F-270762F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332100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312228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E13-8CFC-402A-8E60-CD70BA6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1260360"/>
            <a:ext cx="332100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3122280"/>
            <a:ext cx="6805440" cy="169992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C0B-3786-4749-A7BB-D190874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216000"/>
            <a:ext cx="6805440" cy="900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260360"/>
            <a:ext cx="6805440" cy="356400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43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3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66800" indent="-185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66800" indent="-185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66800" indent="-185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4917600"/>
            <a:ext cx="1765080" cy="374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4917600"/>
            <a:ext cx="2395440" cy="374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4917600"/>
            <a:ext cx="1765440" cy="374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98C184-54CA-4B0F-A8A8-7751B1D22C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6200" y="16178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122220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6200" y="8269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6200" y="4316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6200" y="363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1617840"/>
            <a:ext cx="10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122220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826920"/>
            <a:ext cx="10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31640"/>
            <a:ext cx="10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36360"/>
            <a:ext cx="10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9120" y="1617840"/>
            <a:ext cx="866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29120" y="1222200"/>
            <a:ext cx="866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29120" y="826920"/>
            <a:ext cx="866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29120" y="431640"/>
            <a:ext cx="866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9120" y="36360"/>
            <a:ext cx="866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3840" y="1617840"/>
            <a:ext cx="12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8560" y="16178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0560" y="161784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16178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6178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1222200"/>
            <a:ext cx="1295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38560" y="122220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0560" y="1222200"/>
            <a:ext cx="6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122220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22220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826920"/>
            <a:ext cx="12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38560" y="8269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0560" y="82692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8269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8269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3840" y="431640"/>
            <a:ext cx="12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8560" y="4316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0560" y="43164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16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316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6360"/>
            <a:ext cx="12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38560" y="363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0560" y="3636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363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63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6360"/>
            <a:ext cx="648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6360"/>
            <a:ext cx="0" cy="1976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363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01312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01312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0560" y="2013120"/>
            <a:ext cx="6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38560" y="201312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3840" y="201312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4316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82692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1222200"/>
            <a:ext cx="0" cy="3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16178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2013120"/>
            <a:ext cx="86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013120"/>
            <a:ext cx="10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04760"/>
            <a:ext cx="216000" cy="1943280"/>
          </a:xfrm>
          <a:custGeom>
            <a:avLst/>
            <a:gdLst>
              <a:gd name="textAreaLeft" fmla="*/ 63360 w 216000"/>
              <a:gd name="textAreaRight" fmla="*/ 216360 w 21600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2440" y="104760"/>
            <a:ext cx="216000" cy="1943280"/>
          </a:xfrm>
          <a:custGeom>
            <a:avLst/>
            <a:gdLst>
              <a:gd name="textAreaLeft" fmla="*/ 63360 w 216000"/>
              <a:gd name="textAreaRight" fmla="*/ 216360 w 21600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06800" y="104760"/>
            <a:ext cx="216000" cy="1513080"/>
          </a:xfrm>
          <a:custGeom>
            <a:avLst/>
            <a:gdLst>
              <a:gd name="textAreaLeft" fmla="*/ 63360 w 216000"/>
              <a:gd name="textAreaRight" fmla="*/ 216360 w 21600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09720" y="104760"/>
            <a:ext cx="216000" cy="1943280"/>
          </a:xfrm>
          <a:custGeom>
            <a:avLst/>
            <a:gdLst>
              <a:gd name="textAreaLeft" fmla="*/ 63720 w 216000"/>
              <a:gd name="textAreaRight" fmla="*/ 216720 w 21600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94440" y="104760"/>
            <a:ext cx="216000" cy="1943280"/>
          </a:xfrm>
          <a:custGeom>
            <a:avLst/>
            <a:gdLst>
              <a:gd name="textAreaLeft" fmla="*/ 63720 w 216000"/>
              <a:gd name="textAreaRight" fmla="*/ 216720 w 21600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367160" y="104760"/>
            <a:ext cx="216000" cy="1513080"/>
          </a:xfrm>
          <a:custGeom>
            <a:avLst/>
            <a:gdLst>
              <a:gd name="textAreaLeft" fmla="*/ 63720 w 216000"/>
              <a:gd name="textAreaRight" fmla="*/ 216720 w 216000"/>
              <a:gd name="textAreaTop" fmla="*/ 63000 h 1513080"/>
              <a:gd name="textAreaBottom" fmla="*/ 145008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307800" y="2217600"/>
            <a:ext cx="42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und 4. Zeile tausch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e 1. Zeile zur 3. und 4. Z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720" y="478152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472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720" y="438624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472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720" y="399096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472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720" y="359568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472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720" y="320040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" y="3200400"/>
            <a:ext cx="259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3200400"/>
            <a:ext cx="0" cy="19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320040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472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" y="5176800"/>
            <a:ext cx="6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35956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39909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3862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478152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440" y="3268800"/>
            <a:ext cx="215640" cy="1942920"/>
          </a:xfrm>
          <a:custGeom>
            <a:avLst/>
            <a:gdLst>
              <a:gd name="textAreaLeft" fmla="*/ 63360 w 215640"/>
              <a:gd name="textAreaRight" fmla="*/ 216000 w 215640"/>
              <a:gd name="textAreaTop" fmla="*/ 80640 h 1942920"/>
              <a:gd name="textAreaBottom" fmla="*/ 1862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11520" y="3268800"/>
            <a:ext cx="216000" cy="1942920"/>
          </a:xfrm>
          <a:custGeom>
            <a:avLst/>
            <a:gdLst>
              <a:gd name="textAreaLeft" fmla="*/ 63720 w 216000"/>
              <a:gd name="textAreaRight" fmla="*/ 216720 w 216000"/>
              <a:gd name="textAreaTop" fmla="*/ 80640 h 1942920"/>
              <a:gd name="textAreaBottom" fmla="*/ 1862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997440" y="2192400"/>
            <a:ext cx="0" cy="316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0" y="2192400"/>
            <a:ext cx="75247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8200" y="2219400"/>
            <a:ext cx="37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. Zeile = 3. Zeile – 2. Z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5. Zeile = 5. Zeile + 2. Z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478152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708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9440" y="478152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72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38624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708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9440" y="438624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399096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708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9440" y="399096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359568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9440" y="359568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3200400"/>
            <a:ext cx="64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9440" y="3200400"/>
            <a:ext cx="64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9440" y="3200400"/>
            <a:ext cx="259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9440" y="3200400"/>
            <a:ext cx="0" cy="19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320040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708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944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5176800"/>
            <a:ext cx="6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517680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80360" y="35956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0360" y="39909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3862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478152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3800" y="3268800"/>
            <a:ext cx="216000" cy="1942920"/>
          </a:xfrm>
          <a:custGeom>
            <a:avLst/>
            <a:gdLst>
              <a:gd name="textAreaLeft" fmla="*/ 63360 w 216000"/>
              <a:gd name="textAreaRight" fmla="*/ 216360 w 216000"/>
              <a:gd name="textAreaTop" fmla="*/ 80640 h 1942920"/>
              <a:gd name="textAreaBottom" fmla="*/ 1862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103520" y="3268800"/>
            <a:ext cx="215640" cy="1942920"/>
          </a:xfrm>
          <a:custGeom>
            <a:avLst/>
            <a:gdLst>
              <a:gd name="textAreaLeft" fmla="*/ 63000 w 215640"/>
              <a:gd name="textAreaRight" fmla="*/ 215640 w 215640"/>
              <a:gd name="textAreaTop" fmla="*/ 80640 h 1942920"/>
              <a:gd name="textAreaBottom" fmla="*/ 1862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1:04:30Z</dcterms:created>
  <dc:creator>x</dc:creator>
  <dc:description/>
  <dc:language>en-US</dc:language>
  <cp:lastModifiedBy>x</cp:lastModifiedBy>
  <dcterms:modified xsi:type="dcterms:W3CDTF">2009-05-01T10:35:40Z</dcterms:modified>
  <cp:revision>5</cp:revision>
  <dc:subject/>
  <dc:title>Folie 1</dc:title>
</cp:coreProperties>
</file>