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36625" cy="12604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FD10-0A73-49B1-AFAB-BE4226862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7520" y="50760"/>
            <a:ext cx="843120" cy="2095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120" bIns="6120" anchor="ctr">
            <a:noAutofit/>
          </a:bodyPr>
          <a:p>
            <a:pPr indent="0" algn="ctr">
              <a:buNone/>
              <a:tabLst>
                <a:tab algn="l" pos="0"/>
                <a:tab algn="l" pos="125280"/>
                <a:tab algn="l" pos="250920"/>
                <a:tab algn="l" pos="376200"/>
                <a:tab algn="l" pos="501480"/>
                <a:tab algn="l" pos="627120"/>
                <a:tab algn="l" pos="752400"/>
                <a:tab algn="l" pos="878040"/>
                <a:tab algn="l" pos="1003320"/>
                <a:tab algn="l" pos="1128600"/>
                <a:tab algn="l" pos="1254240"/>
                <a:tab algn="l" pos="1379520"/>
                <a:tab algn="l" pos="1504800"/>
                <a:tab algn="l" pos="1630440"/>
                <a:tab algn="l" pos="1755720"/>
                <a:tab algn="l" pos="1881360"/>
                <a:tab algn="l" pos="2006640"/>
                <a:tab algn="l" pos="2131920"/>
                <a:tab algn="l" pos="2257560"/>
                <a:tab algn="l" pos="2382840"/>
                <a:tab algn="l" pos="250812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7520" y="293760"/>
            <a:ext cx="843120" cy="39636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120" bIns="612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125280"/>
                <a:tab algn="l" pos="250920"/>
                <a:tab algn="l" pos="376200"/>
                <a:tab algn="l" pos="501480"/>
                <a:tab algn="l" pos="627120"/>
                <a:tab algn="l" pos="752400"/>
                <a:tab algn="l" pos="878040"/>
                <a:tab algn="l" pos="1003320"/>
                <a:tab algn="l" pos="1128600"/>
                <a:tab algn="l" pos="1254240"/>
                <a:tab algn="l" pos="1379520"/>
                <a:tab algn="l" pos="1504800"/>
                <a:tab algn="l" pos="1630440"/>
                <a:tab algn="l" pos="1755720"/>
                <a:tab algn="l" pos="1881360"/>
                <a:tab algn="l" pos="2006640"/>
                <a:tab algn="l" pos="2131920"/>
                <a:tab algn="l" pos="2257560"/>
                <a:tab algn="l" pos="2382840"/>
                <a:tab algn="l" pos="250812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520" y="728280"/>
            <a:ext cx="843120" cy="39636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120" bIns="612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125280"/>
                <a:tab algn="l" pos="250920"/>
                <a:tab algn="l" pos="376200"/>
                <a:tab algn="l" pos="501480"/>
                <a:tab algn="l" pos="627120"/>
                <a:tab algn="l" pos="752400"/>
                <a:tab algn="l" pos="878040"/>
                <a:tab algn="l" pos="1003320"/>
                <a:tab algn="l" pos="1128600"/>
                <a:tab algn="l" pos="1254240"/>
                <a:tab algn="l" pos="1379520"/>
                <a:tab algn="l" pos="1504800"/>
                <a:tab algn="l" pos="1630440"/>
                <a:tab algn="l" pos="1755720"/>
                <a:tab algn="l" pos="1881360"/>
                <a:tab algn="l" pos="2006640"/>
                <a:tab algn="l" pos="2131920"/>
                <a:tab algn="l" pos="2257560"/>
                <a:tab algn="l" pos="2382840"/>
                <a:tab algn="l" pos="250812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E823-9C6B-472A-9B4E-0EC1F1EBD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7520" y="50760"/>
            <a:ext cx="843120" cy="2095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120" bIns="6120" anchor="ctr">
            <a:noAutofit/>
          </a:bodyPr>
          <a:p>
            <a:pPr indent="0" algn="ctr">
              <a:buNone/>
              <a:tabLst>
                <a:tab algn="l" pos="0"/>
                <a:tab algn="l" pos="125280"/>
                <a:tab algn="l" pos="250920"/>
                <a:tab algn="l" pos="376200"/>
                <a:tab algn="l" pos="501480"/>
                <a:tab algn="l" pos="627120"/>
                <a:tab algn="l" pos="752400"/>
                <a:tab algn="l" pos="878040"/>
                <a:tab algn="l" pos="1003320"/>
                <a:tab algn="l" pos="1128600"/>
                <a:tab algn="l" pos="1254240"/>
                <a:tab algn="l" pos="1379520"/>
                <a:tab algn="l" pos="1504800"/>
                <a:tab algn="l" pos="1630440"/>
                <a:tab algn="l" pos="1755720"/>
                <a:tab algn="l" pos="1881360"/>
                <a:tab algn="l" pos="2006640"/>
                <a:tab algn="l" pos="2131920"/>
                <a:tab algn="l" pos="2257560"/>
                <a:tab algn="l" pos="2382840"/>
                <a:tab algn="l" pos="250812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7520" y="293760"/>
            <a:ext cx="411120" cy="39636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120" bIns="612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125280"/>
                <a:tab algn="l" pos="250920"/>
                <a:tab algn="l" pos="376200"/>
                <a:tab algn="l" pos="501480"/>
                <a:tab algn="l" pos="627120"/>
                <a:tab algn="l" pos="752400"/>
                <a:tab algn="l" pos="878040"/>
                <a:tab algn="l" pos="1003320"/>
                <a:tab algn="l" pos="1128600"/>
                <a:tab algn="l" pos="1254240"/>
                <a:tab algn="l" pos="1379520"/>
                <a:tab algn="l" pos="1504800"/>
                <a:tab algn="l" pos="1630440"/>
                <a:tab algn="l" pos="1755720"/>
                <a:tab algn="l" pos="1881360"/>
                <a:tab algn="l" pos="2006640"/>
                <a:tab algn="l" pos="2131920"/>
                <a:tab algn="l" pos="2257560"/>
                <a:tab algn="l" pos="2382840"/>
                <a:tab algn="l" pos="250812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520" y="293760"/>
            <a:ext cx="411120" cy="39636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120" bIns="612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125280"/>
                <a:tab algn="l" pos="250920"/>
                <a:tab algn="l" pos="376200"/>
                <a:tab algn="l" pos="501480"/>
                <a:tab algn="l" pos="627120"/>
                <a:tab algn="l" pos="752400"/>
                <a:tab algn="l" pos="878040"/>
                <a:tab algn="l" pos="1003320"/>
                <a:tab algn="l" pos="1128600"/>
                <a:tab algn="l" pos="1254240"/>
                <a:tab algn="l" pos="1379520"/>
                <a:tab algn="l" pos="1504800"/>
                <a:tab algn="l" pos="1630440"/>
                <a:tab algn="l" pos="1755720"/>
                <a:tab algn="l" pos="1881360"/>
                <a:tab algn="l" pos="2006640"/>
                <a:tab algn="l" pos="2131920"/>
                <a:tab algn="l" pos="2257560"/>
                <a:tab algn="l" pos="2382840"/>
                <a:tab algn="l" pos="250812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520" y="728280"/>
            <a:ext cx="411120" cy="39636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120" bIns="612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125280"/>
                <a:tab algn="l" pos="250920"/>
                <a:tab algn="l" pos="376200"/>
                <a:tab algn="l" pos="501480"/>
                <a:tab algn="l" pos="627120"/>
                <a:tab algn="l" pos="752400"/>
                <a:tab algn="l" pos="878040"/>
                <a:tab algn="l" pos="1003320"/>
                <a:tab algn="l" pos="1128600"/>
                <a:tab algn="l" pos="1254240"/>
                <a:tab algn="l" pos="1379520"/>
                <a:tab algn="l" pos="1504800"/>
                <a:tab algn="l" pos="1630440"/>
                <a:tab algn="l" pos="1755720"/>
                <a:tab algn="l" pos="1881360"/>
                <a:tab algn="l" pos="2006640"/>
                <a:tab algn="l" pos="2131920"/>
                <a:tab algn="l" pos="2257560"/>
                <a:tab algn="l" pos="2382840"/>
                <a:tab algn="l" pos="250812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9520" y="728280"/>
            <a:ext cx="411120" cy="39636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120" bIns="612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125280"/>
                <a:tab algn="l" pos="250920"/>
                <a:tab algn="l" pos="376200"/>
                <a:tab algn="l" pos="501480"/>
                <a:tab algn="l" pos="627120"/>
                <a:tab algn="l" pos="752400"/>
                <a:tab algn="l" pos="878040"/>
                <a:tab algn="l" pos="1003320"/>
                <a:tab algn="l" pos="1128600"/>
                <a:tab algn="l" pos="1254240"/>
                <a:tab algn="l" pos="1379520"/>
                <a:tab algn="l" pos="1504800"/>
                <a:tab algn="l" pos="1630440"/>
                <a:tab algn="l" pos="1755720"/>
                <a:tab algn="l" pos="1881360"/>
                <a:tab algn="l" pos="2006640"/>
                <a:tab algn="l" pos="2131920"/>
                <a:tab algn="l" pos="2257560"/>
                <a:tab algn="l" pos="2382840"/>
                <a:tab algn="l" pos="250812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585F-F7D3-429A-9766-60A512F14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7520" y="50760"/>
            <a:ext cx="843120" cy="2095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120" bIns="6120" anchor="ctr">
            <a:noAutofit/>
          </a:bodyPr>
          <a:p>
            <a:pPr indent="0" algn="ctr">
              <a:buNone/>
              <a:tabLst>
                <a:tab algn="l" pos="0"/>
                <a:tab algn="l" pos="125280"/>
                <a:tab algn="l" pos="250920"/>
                <a:tab algn="l" pos="376200"/>
                <a:tab algn="l" pos="501480"/>
                <a:tab algn="l" pos="627120"/>
                <a:tab algn="l" pos="752400"/>
                <a:tab algn="l" pos="878040"/>
                <a:tab algn="l" pos="1003320"/>
                <a:tab algn="l" pos="1128600"/>
                <a:tab algn="l" pos="1254240"/>
                <a:tab algn="l" pos="1379520"/>
                <a:tab algn="l" pos="1504800"/>
                <a:tab algn="l" pos="1630440"/>
                <a:tab algn="l" pos="1755720"/>
                <a:tab algn="l" pos="1881360"/>
                <a:tab algn="l" pos="2006640"/>
                <a:tab algn="l" pos="2131920"/>
                <a:tab algn="l" pos="2257560"/>
                <a:tab algn="l" pos="2382840"/>
                <a:tab algn="l" pos="250812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7520" y="293760"/>
            <a:ext cx="271080" cy="39636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120" bIns="612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125280"/>
                <a:tab algn="l" pos="250920"/>
                <a:tab algn="l" pos="376200"/>
                <a:tab algn="l" pos="501480"/>
                <a:tab algn="l" pos="627120"/>
                <a:tab algn="l" pos="752400"/>
                <a:tab algn="l" pos="878040"/>
                <a:tab algn="l" pos="1003320"/>
                <a:tab algn="l" pos="1128600"/>
                <a:tab algn="l" pos="1254240"/>
                <a:tab algn="l" pos="1379520"/>
                <a:tab algn="l" pos="1504800"/>
                <a:tab algn="l" pos="1630440"/>
                <a:tab algn="l" pos="1755720"/>
                <a:tab algn="l" pos="1881360"/>
                <a:tab algn="l" pos="2006640"/>
                <a:tab algn="l" pos="2131920"/>
                <a:tab algn="l" pos="2257560"/>
                <a:tab algn="l" pos="2382840"/>
                <a:tab algn="l" pos="250812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2640" y="293760"/>
            <a:ext cx="271080" cy="39636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120" bIns="612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125280"/>
                <a:tab algn="l" pos="250920"/>
                <a:tab algn="l" pos="376200"/>
                <a:tab algn="l" pos="501480"/>
                <a:tab algn="l" pos="627120"/>
                <a:tab algn="l" pos="752400"/>
                <a:tab algn="l" pos="878040"/>
                <a:tab algn="l" pos="1003320"/>
                <a:tab algn="l" pos="1128600"/>
                <a:tab algn="l" pos="1254240"/>
                <a:tab algn="l" pos="1379520"/>
                <a:tab algn="l" pos="1504800"/>
                <a:tab algn="l" pos="1630440"/>
                <a:tab algn="l" pos="1755720"/>
                <a:tab algn="l" pos="1881360"/>
                <a:tab algn="l" pos="2006640"/>
                <a:tab algn="l" pos="2131920"/>
                <a:tab algn="l" pos="2257560"/>
                <a:tab algn="l" pos="2382840"/>
                <a:tab algn="l" pos="250812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7400" y="293760"/>
            <a:ext cx="271080" cy="39636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120" bIns="612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125280"/>
                <a:tab algn="l" pos="250920"/>
                <a:tab algn="l" pos="376200"/>
                <a:tab algn="l" pos="501480"/>
                <a:tab algn="l" pos="627120"/>
                <a:tab algn="l" pos="752400"/>
                <a:tab algn="l" pos="878040"/>
                <a:tab algn="l" pos="1003320"/>
                <a:tab algn="l" pos="1128600"/>
                <a:tab algn="l" pos="1254240"/>
                <a:tab algn="l" pos="1379520"/>
                <a:tab algn="l" pos="1504800"/>
                <a:tab algn="l" pos="1630440"/>
                <a:tab algn="l" pos="1755720"/>
                <a:tab algn="l" pos="1881360"/>
                <a:tab algn="l" pos="2006640"/>
                <a:tab algn="l" pos="2131920"/>
                <a:tab algn="l" pos="2257560"/>
                <a:tab algn="l" pos="2382840"/>
                <a:tab algn="l" pos="250812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520" y="728280"/>
            <a:ext cx="271080" cy="39636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120" bIns="612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125280"/>
                <a:tab algn="l" pos="250920"/>
                <a:tab algn="l" pos="376200"/>
                <a:tab algn="l" pos="501480"/>
                <a:tab algn="l" pos="627120"/>
                <a:tab algn="l" pos="752400"/>
                <a:tab algn="l" pos="878040"/>
                <a:tab algn="l" pos="1003320"/>
                <a:tab algn="l" pos="1128600"/>
                <a:tab algn="l" pos="1254240"/>
                <a:tab algn="l" pos="1379520"/>
                <a:tab algn="l" pos="1504800"/>
                <a:tab algn="l" pos="1630440"/>
                <a:tab algn="l" pos="1755720"/>
                <a:tab algn="l" pos="1881360"/>
                <a:tab algn="l" pos="2006640"/>
                <a:tab algn="l" pos="2131920"/>
                <a:tab algn="l" pos="2257560"/>
                <a:tab algn="l" pos="2382840"/>
                <a:tab algn="l" pos="250812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2640" y="728280"/>
            <a:ext cx="271080" cy="39636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120" bIns="612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125280"/>
                <a:tab algn="l" pos="250920"/>
                <a:tab algn="l" pos="376200"/>
                <a:tab algn="l" pos="501480"/>
                <a:tab algn="l" pos="627120"/>
                <a:tab algn="l" pos="752400"/>
                <a:tab algn="l" pos="878040"/>
                <a:tab algn="l" pos="1003320"/>
                <a:tab algn="l" pos="1128600"/>
                <a:tab algn="l" pos="1254240"/>
                <a:tab algn="l" pos="1379520"/>
                <a:tab algn="l" pos="1504800"/>
                <a:tab algn="l" pos="1630440"/>
                <a:tab algn="l" pos="1755720"/>
                <a:tab algn="l" pos="1881360"/>
                <a:tab algn="l" pos="2006640"/>
                <a:tab algn="l" pos="2131920"/>
                <a:tab algn="l" pos="2257560"/>
                <a:tab algn="l" pos="2382840"/>
                <a:tab algn="l" pos="250812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7400" y="728280"/>
            <a:ext cx="271080" cy="39636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120" bIns="612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125280"/>
                <a:tab algn="l" pos="250920"/>
                <a:tab algn="l" pos="376200"/>
                <a:tab algn="l" pos="501480"/>
                <a:tab algn="l" pos="627120"/>
                <a:tab algn="l" pos="752400"/>
                <a:tab algn="l" pos="878040"/>
                <a:tab algn="l" pos="1003320"/>
                <a:tab algn="l" pos="1128600"/>
                <a:tab algn="l" pos="1254240"/>
                <a:tab algn="l" pos="1379520"/>
                <a:tab algn="l" pos="1504800"/>
                <a:tab algn="l" pos="1630440"/>
                <a:tab algn="l" pos="1755720"/>
                <a:tab algn="l" pos="1881360"/>
                <a:tab algn="l" pos="2006640"/>
                <a:tab algn="l" pos="2131920"/>
                <a:tab algn="l" pos="2257560"/>
                <a:tab algn="l" pos="2382840"/>
                <a:tab algn="l" pos="250812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9869-5CC1-4368-B1D7-647A5B981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520" y="50760"/>
            <a:ext cx="843120" cy="2095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120" bIns="6120" anchor="ctr">
            <a:noAutofit/>
          </a:bodyPr>
          <a:p>
            <a:pPr indent="0" algn="ctr">
              <a:buNone/>
              <a:tabLst>
                <a:tab algn="l" pos="0"/>
                <a:tab algn="l" pos="125280"/>
                <a:tab algn="l" pos="250920"/>
                <a:tab algn="l" pos="376200"/>
                <a:tab algn="l" pos="501480"/>
                <a:tab algn="l" pos="627120"/>
                <a:tab algn="l" pos="752400"/>
                <a:tab algn="l" pos="878040"/>
                <a:tab algn="l" pos="1003320"/>
                <a:tab algn="l" pos="1128600"/>
                <a:tab algn="l" pos="1254240"/>
                <a:tab algn="l" pos="1379520"/>
                <a:tab algn="l" pos="1504800"/>
                <a:tab algn="l" pos="1630440"/>
                <a:tab algn="l" pos="1755720"/>
                <a:tab algn="l" pos="1881360"/>
                <a:tab algn="l" pos="2006640"/>
                <a:tab algn="l" pos="2131920"/>
                <a:tab algn="l" pos="2257560"/>
                <a:tab algn="l" pos="2382840"/>
                <a:tab algn="l" pos="250812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7520" y="293760"/>
            <a:ext cx="843120" cy="8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9"/>
              </a:spcBef>
              <a:buNone/>
              <a:tabLst>
                <a:tab algn="l" pos="0"/>
                <a:tab algn="l" pos="125280"/>
                <a:tab algn="l" pos="250920"/>
                <a:tab algn="l" pos="376200"/>
                <a:tab algn="l" pos="501480"/>
                <a:tab algn="l" pos="627120"/>
                <a:tab algn="l" pos="752400"/>
                <a:tab algn="l" pos="878040"/>
                <a:tab algn="l" pos="1003320"/>
                <a:tab algn="l" pos="1128600"/>
                <a:tab algn="l" pos="1254240"/>
                <a:tab algn="l" pos="1379520"/>
                <a:tab algn="l" pos="1504800"/>
                <a:tab algn="l" pos="1630440"/>
                <a:tab algn="l" pos="1755720"/>
                <a:tab algn="l" pos="1881360"/>
                <a:tab algn="l" pos="2006640"/>
                <a:tab algn="l" pos="2131920"/>
                <a:tab algn="l" pos="2257560"/>
                <a:tab algn="l" pos="2382840"/>
                <a:tab algn="l" pos="250812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1629-06AB-4C55-8BB3-ED5792586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520" y="50760"/>
            <a:ext cx="843120" cy="2095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120" bIns="6120" anchor="ctr">
            <a:noAutofit/>
          </a:bodyPr>
          <a:p>
            <a:pPr indent="0" algn="ctr">
              <a:buNone/>
              <a:tabLst>
                <a:tab algn="l" pos="0"/>
                <a:tab algn="l" pos="125280"/>
                <a:tab algn="l" pos="250920"/>
                <a:tab algn="l" pos="376200"/>
                <a:tab algn="l" pos="501480"/>
                <a:tab algn="l" pos="627120"/>
                <a:tab algn="l" pos="752400"/>
                <a:tab algn="l" pos="878040"/>
                <a:tab algn="l" pos="1003320"/>
                <a:tab algn="l" pos="1128600"/>
                <a:tab algn="l" pos="1254240"/>
                <a:tab algn="l" pos="1379520"/>
                <a:tab algn="l" pos="1504800"/>
                <a:tab algn="l" pos="1630440"/>
                <a:tab algn="l" pos="1755720"/>
                <a:tab algn="l" pos="1881360"/>
                <a:tab algn="l" pos="2006640"/>
                <a:tab algn="l" pos="2131920"/>
                <a:tab algn="l" pos="2257560"/>
                <a:tab algn="l" pos="2382840"/>
                <a:tab algn="l" pos="250812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520" y="293760"/>
            <a:ext cx="843120" cy="83160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120" bIns="612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125280"/>
                <a:tab algn="l" pos="250920"/>
                <a:tab algn="l" pos="376200"/>
                <a:tab algn="l" pos="501480"/>
                <a:tab algn="l" pos="627120"/>
                <a:tab algn="l" pos="752400"/>
                <a:tab algn="l" pos="878040"/>
                <a:tab algn="l" pos="1003320"/>
                <a:tab algn="l" pos="1128600"/>
                <a:tab algn="l" pos="1254240"/>
                <a:tab algn="l" pos="1379520"/>
                <a:tab algn="l" pos="1504800"/>
                <a:tab algn="l" pos="1630440"/>
                <a:tab algn="l" pos="1755720"/>
                <a:tab algn="l" pos="1881360"/>
                <a:tab algn="l" pos="2006640"/>
                <a:tab algn="l" pos="2131920"/>
                <a:tab algn="l" pos="2257560"/>
                <a:tab algn="l" pos="2382840"/>
                <a:tab algn="l" pos="250812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3F77-534F-4565-A4BC-2D2A25FD1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7520" y="50760"/>
            <a:ext cx="843120" cy="2095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120" bIns="6120" anchor="ctr">
            <a:noAutofit/>
          </a:bodyPr>
          <a:p>
            <a:pPr indent="0" algn="ctr">
              <a:buNone/>
              <a:tabLst>
                <a:tab algn="l" pos="0"/>
                <a:tab algn="l" pos="125280"/>
                <a:tab algn="l" pos="250920"/>
                <a:tab algn="l" pos="376200"/>
                <a:tab algn="l" pos="501480"/>
                <a:tab algn="l" pos="627120"/>
                <a:tab algn="l" pos="752400"/>
                <a:tab algn="l" pos="878040"/>
                <a:tab algn="l" pos="1003320"/>
                <a:tab algn="l" pos="1128600"/>
                <a:tab algn="l" pos="1254240"/>
                <a:tab algn="l" pos="1379520"/>
                <a:tab algn="l" pos="1504800"/>
                <a:tab algn="l" pos="1630440"/>
                <a:tab algn="l" pos="1755720"/>
                <a:tab algn="l" pos="1881360"/>
                <a:tab algn="l" pos="2006640"/>
                <a:tab algn="l" pos="2131920"/>
                <a:tab algn="l" pos="2257560"/>
                <a:tab algn="l" pos="2382840"/>
                <a:tab algn="l" pos="250812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7520" y="293760"/>
            <a:ext cx="411120" cy="83160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120" bIns="612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125280"/>
                <a:tab algn="l" pos="250920"/>
                <a:tab algn="l" pos="376200"/>
                <a:tab algn="l" pos="501480"/>
                <a:tab algn="l" pos="627120"/>
                <a:tab algn="l" pos="752400"/>
                <a:tab algn="l" pos="878040"/>
                <a:tab algn="l" pos="1003320"/>
                <a:tab algn="l" pos="1128600"/>
                <a:tab algn="l" pos="1254240"/>
                <a:tab algn="l" pos="1379520"/>
                <a:tab algn="l" pos="1504800"/>
                <a:tab algn="l" pos="1630440"/>
                <a:tab algn="l" pos="1755720"/>
                <a:tab algn="l" pos="1881360"/>
                <a:tab algn="l" pos="2006640"/>
                <a:tab algn="l" pos="2131920"/>
                <a:tab algn="l" pos="2257560"/>
                <a:tab algn="l" pos="2382840"/>
                <a:tab algn="l" pos="250812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9520" y="293760"/>
            <a:ext cx="411120" cy="83160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120" bIns="612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125280"/>
                <a:tab algn="l" pos="250920"/>
                <a:tab algn="l" pos="376200"/>
                <a:tab algn="l" pos="501480"/>
                <a:tab algn="l" pos="627120"/>
                <a:tab algn="l" pos="752400"/>
                <a:tab algn="l" pos="878040"/>
                <a:tab algn="l" pos="1003320"/>
                <a:tab algn="l" pos="1128600"/>
                <a:tab algn="l" pos="1254240"/>
                <a:tab algn="l" pos="1379520"/>
                <a:tab algn="l" pos="1504800"/>
                <a:tab algn="l" pos="1630440"/>
                <a:tab algn="l" pos="1755720"/>
                <a:tab algn="l" pos="1881360"/>
                <a:tab algn="l" pos="2006640"/>
                <a:tab algn="l" pos="2131920"/>
                <a:tab algn="l" pos="2257560"/>
                <a:tab algn="l" pos="2382840"/>
                <a:tab algn="l" pos="250812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B31D-0325-4B84-A5C3-08C561B14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520" y="50760"/>
            <a:ext cx="843120" cy="2095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120" bIns="6120" anchor="ctr">
            <a:noAutofit/>
          </a:bodyPr>
          <a:p>
            <a:pPr indent="0" algn="ctr">
              <a:buNone/>
              <a:tabLst>
                <a:tab algn="l" pos="0"/>
                <a:tab algn="l" pos="125280"/>
                <a:tab algn="l" pos="250920"/>
                <a:tab algn="l" pos="376200"/>
                <a:tab algn="l" pos="501480"/>
                <a:tab algn="l" pos="627120"/>
                <a:tab algn="l" pos="752400"/>
                <a:tab algn="l" pos="878040"/>
                <a:tab algn="l" pos="1003320"/>
                <a:tab algn="l" pos="1128600"/>
                <a:tab algn="l" pos="1254240"/>
                <a:tab algn="l" pos="1379520"/>
                <a:tab algn="l" pos="1504800"/>
                <a:tab algn="l" pos="1630440"/>
                <a:tab algn="l" pos="1755720"/>
                <a:tab algn="l" pos="1881360"/>
                <a:tab algn="l" pos="2006640"/>
                <a:tab algn="l" pos="2131920"/>
                <a:tab algn="l" pos="2257560"/>
                <a:tab algn="l" pos="2382840"/>
                <a:tab algn="l" pos="250812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F1D5-F197-48D2-A808-D29847668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7520" y="50760"/>
            <a:ext cx="843120" cy="97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9"/>
              </a:spcBef>
              <a:tabLst>
                <a:tab algn="l" pos="0"/>
                <a:tab algn="l" pos="125280"/>
                <a:tab algn="l" pos="250920"/>
                <a:tab algn="l" pos="376200"/>
                <a:tab algn="l" pos="501480"/>
                <a:tab algn="l" pos="627120"/>
                <a:tab algn="l" pos="752400"/>
                <a:tab algn="l" pos="878040"/>
                <a:tab algn="l" pos="1003320"/>
                <a:tab algn="l" pos="1128600"/>
                <a:tab algn="l" pos="1254240"/>
                <a:tab algn="l" pos="1379520"/>
                <a:tab algn="l" pos="1504800"/>
                <a:tab algn="l" pos="1630440"/>
                <a:tab algn="l" pos="1755720"/>
                <a:tab algn="l" pos="1881360"/>
                <a:tab algn="l" pos="2006640"/>
                <a:tab algn="l" pos="2131920"/>
                <a:tab algn="l" pos="2257560"/>
                <a:tab algn="l" pos="2382840"/>
                <a:tab algn="l" pos="250812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AE5C-753F-4A7A-AD1B-34C4F1196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7520" y="50760"/>
            <a:ext cx="843120" cy="2095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120" bIns="6120" anchor="ctr">
            <a:noAutofit/>
          </a:bodyPr>
          <a:p>
            <a:pPr indent="0" algn="ctr">
              <a:buNone/>
              <a:tabLst>
                <a:tab algn="l" pos="0"/>
                <a:tab algn="l" pos="125280"/>
                <a:tab algn="l" pos="250920"/>
                <a:tab algn="l" pos="376200"/>
                <a:tab algn="l" pos="501480"/>
                <a:tab algn="l" pos="627120"/>
                <a:tab algn="l" pos="752400"/>
                <a:tab algn="l" pos="878040"/>
                <a:tab algn="l" pos="1003320"/>
                <a:tab algn="l" pos="1128600"/>
                <a:tab algn="l" pos="1254240"/>
                <a:tab algn="l" pos="1379520"/>
                <a:tab algn="l" pos="1504800"/>
                <a:tab algn="l" pos="1630440"/>
                <a:tab algn="l" pos="1755720"/>
                <a:tab algn="l" pos="1881360"/>
                <a:tab algn="l" pos="2006640"/>
                <a:tab algn="l" pos="2131920"/>
                <a:tab algn="l" pos="2257560"/>
                <a:tab algn="l" pos="2382840"/>
                <a:tab algn="l" pos="250812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7520" y="293760"/>
            <a:ext cx="411120" cy="39636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120" bIns="612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125280"/>
                <a:tab algn="l" pos="250920"/>
                <a:tab algn="l" pos="376200"/>
                <a:tab algn="l" pos="501480"/>
                <a:tab algn="l" pos="627120"/>
                <a:tab algn="l" pos="752400"/>
                <a:tab algn="l" pos="878040"/>
                <a:tab algn="l" pos="1003320"/>
                <a:tab algn="l" pos="1128600"/>
                <a:tab algn="l" pos="1254240"/>
                <a:tab algn="l" pos="1379520"/>
                <a:tab algn="l" pos="1504800"/>
                <a:tab algn="l" pos="1630440"/>
                <a:tab algn="l" pos="1755720"/>
                <a:tab algn="l" pos="1881360"/>
                <a:tab algn="l" pos="2006640"/>
                <a:tab algn="l" pos="2131920"/>
                <a:tab algn="l" pos="2257560"/>
                <a:tab algn="l" pos="2382840"/>
                <a:tab algn="l" pos="250812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9520" y="293760"/>
            <a:ext cx="411120" cy="83160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120" bIns="612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125280"/>
                <a:tab algn="l" pos="250920"/>
                <a:tab algn="l" pos="376200"/>
                <a:tab algn="l" pos="501480"/>
                <a:tab algn="l" pos="627120"/>
                <a:tab algn="l" pos="752400"/>
                <a:tab algn="l" pos="878040"/>
                <a:tab algn="l" pos="1003320"/>
                <a:tab algn="l" pos="1128600"/>
                <a:tab algn="l" pos="1254240"/>
                <a:tab algn="l" pos="1379520"/>
                <a:tab algn="l" pos="1504800"/>
                <a:tab algn="l" pos="1630440"/>
                <a:tab algn="l" pos="1755720"/>
                <a:tab algn="l" pos="1881360"/>
                <a:tab algn="l" pos="2006640"/>
                <a:tab algn="l" pos="2131920"/>
                <a:tab algn="l" pos="2257560"/>
                <a:tab algn="l" pos="2382840"/>
                <a:tab algn="l" pos="250812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7520" y="728280"/>
            <a:ext cx="411120" cy="39636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120" bIns="612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125280"/>
                <a:tab algn="l" pos="250920"/>
                <a:tab algn="l" pos="376200"/>
                <a:tab algn="l" pos="501480"/>
                <a:tab algn="l" pos="627120"/>
                <a:tab algn="l" pos="752400"/>
                <a:tab algn="l" pos="878040"/>
                <a:tab algn="l" pos="1003320"/>
                <a:tab algn="l" pos="1128600"/>
                <a:tab algn="l" pos="1254240"/>
                <a:tab algn="l" pos="1379520"/>
                <a:tab algn="l" pos="1504800"/>
                <a:tab algn="l" pos="1630440"/>
                <a:tab algn="l" pos="1755720"/>
                <a:tab algn="l" pos="1881360"/>
                <a:tab algn="l" pos="2006640"/>
                <a:tab algn="l" pos="2131920"/>
                <a:tab algn="l" pos="2257560"/>
                <a:tab algn="l" pos="2382840"/>
                <a:tab algn="l" pos="250812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46E0-9493-4AF7-BF5E-69153FABB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7520" y="50760"/>
            <a:ext cx="843120" cy="2095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120" bIns="6120" anchor="ctr">
            <a:noAutofit/>
          </a:bodyPr>
          <a:p>
            <a:pPr indent="0" algn="ctr">
              <a:buNone/>
              <a:tabLst>
                <a:tab algn="l" pos="0"/>
                <a:tab algn="l" pos="125280"/>
                <a:tab algn="l" pos="250920"/>
                <a:tab algn="l" pos="376200"/>
                <a:tab algn="l" pos="501480"/>
                <a:tab algn="l" pos="627120"/>
                <a:tab algn="l" pos="752400"/>
                <a:tab algn="l" pos="878040"/>
                <a:tab algn="l" pos="1003320"/>
                <a:tab algn="l" pos="1128600"/>
                <a:tab algn="l" pos="1254240"/>
                <a:tab algn="l" pos="1379520"/>
                <a:tab algn="l" pos="1504800"/>
                <a:tab algn="l" pos="1630440"/>
                <a:tab algn="l" pos="1755720"/>
                <a:tab algn="l" pos="1881360"/>
                <a:tab algn="l" pos="2006640"/>
                <a:tab algn="l" pos="2131920"/>
                <a:tab algn="l" pos="2257560"/>
                <a:tab algn="l" pos="2382840"/>
                <a:tab algn="l" pos="250812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7520" y="293760"/>
            <a:ext cx="411120" cy="83160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120" bIns="612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125280"/>
                <a:tab algn="l" pos="250920"/>
                <a:tab algn="l" pos="376200"/>
                <a:tab algn="l" pos="501480"/>
                <a:tab algn="l" pos="627120"/>
                <a:tab algn="l" pos="752400"/>
                <a:tab algn="l" pos="878040"/>
                <a:tab algn="l" pos="1003320"/>
                <a:tab algn="l" pos="1128600"/>
                <a:tab algn="l" pos="1254240"/>
                <a:tab algn="l" pos="1379520"/>
                <a:tab algn="l" pos="1504800"/>
                <a:tab algn="l" pos="1630440"/>
                <a:tab algn="l" pos="1755720"/>
                <a:tab algn="l" pos="1881360"/>
                <a:tab algn="l" pos="2006640"/>
                <a:tab algn="l" pos="2131920"/>
                <a:tab algn="l" pos="2257560"/>
                <a:tab algn="l" pos="2382840"/>
                <a:tab algn="l" pos="250812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520" y="293760"/>
            <a:ext cx="411120" cy="39636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120" bIns="612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125280"/>
                <a:tab algn="l" pos="250920"/>
                <a:tab algn="l" pos="376200"/>
                <a:tab algn="l" pos="501480"/>
                <a:tab algn="l" pos="627120"/>
                <a:tab algn="l" pos="752400"/>
                <a:tab algn="l" pos="878040"/>
                <a:tab algn="l" pos="1003320"/>
                <a:tab algn="l" pos="1128600"/>
                <a:tab algn="l" pos="1254240"/>
                <a:tab algn="l" pos="1379520"/>
                <a:tab algn="l" pos="1504800"/>
                <a:tab algn="l" pos="1630440"/>
                <a:tab algn="l" pos="1755720"/>
                <a:tab algn="l" pos="1881360"/>
                <a:tab algn="l" pos="2006640"/>
                <a:tab algn="l" pos="2131920"/>
                <a:tab algn="l" pos="2257560"/>
                <a:tab algn="l" pos="2382840"/>
                <a:tab algn="l" pos="250812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9520" y="728280"/>
            <a:ext cx="411120" cy="39636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120" bIns="612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125280"/>
                <a:tab algn="l" pos="250920"/>
                <a:tab algn="l" pos="376200"/>
                <a:tab algn="l" pos="501480"/>
                <a:tab algn="l" pos="627120"/>
                <a:tab algn="l" pos="752400"/>
                <a:tab algn="l" pos="878040"/>
                <a:tab algn="l" pos="1003320"/>
                <a:tab algn="l" pos="1128600"/>
                <a:tab algn="l" pos="1254240"/>
                <a:tab algn="l" pos="1379520"/>
                <a:tab algn="l" pos="1504800"/>
                <a:tab algn="l" pos="1630440"/>
                <a:tab algn="l" pos="1755720"/>
                <a:tab algn="l" pos="1881360"/>
                <a:tab algn="l" pos="2006640"/>
                <a:tab algn="l" pos="2131920"/>
                <a:tab algn="l" pos="2257560"/>
                <a:tab algn="l" pos="2382840"/>
                <a:tab algn="l" pos="250812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DFDE-3774-42BA-9D2B-90D658D5A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7520" y="50760"/>
            <a:ext cx="843120" cy="2095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120" bIns="6120" anchor="ctr">
            <a:noAutofit/>
          </a:bodyPr>
          <a:p>
            <a:pPr indent="0" algn="ctr">
              <a:buNone/>
              <a:tabLst>
                <a:tab algn="l" pos="0"/>
                <a:tab algn="l" pos="125280"/>
                <a:tab algn="l" pos="250920"/>
                <a:tab algn="l" pos="376200"/>
                <a:tab algn="l" pos="501480"/>
                <a:tab algn="l" pos="627120"/>
                <a:tab algn="l" pos="752400"/>
                <a:tab algn="l" pos="878040"/>
                <a:tab algn="l" pos="1003320"/>
                <a:tab algn="l" pos="1128600"/>
                <a:tab algn="l" pos="1254240"/>
                <a:tab algn="l" pos="1379520"/>
                <a:tab algn="l" pos="1504800"/>
                <a:tab algn="l" pos="1630440"/>
                <a:tab algn="l" pos="1755720"/>
                <a:tab algn="l" pos="1881360"/>
                <a:tab algn="l" pos="2006640"/>
                <a:tab algn="l" pos="2131920"/>
                <a:tab algn="l" pos="2257560"/>
                <a:tab algn="l" pos="2382840"/>
                <a:tab algn="l" pos="250812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7520" y="293760"/>
            <a:ext cx="411120" cy="39636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120" bIns="612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125280"/>
                <a:tab algn="l" pos="250920"/>
                <a:tab algn="l" pos="376200"/>
                <a:tab algn="l" pos="501480"/>
                <a:tab algn="l" pos="627120"/>
                <a:tab algn="l" pos="752400"/>
                <a:tab algn="l" pos="878040"/>
                <a:tab algn="l" pos="1003320"/>
                <a:tab algn="l" pos="1128600"/>
                <a:tab algn="l" pos="1254240"/>
                <a:tab algn="l" pos="1379520"/>
                <a:tab algn="l" pos="1504800"/>
                <a:tab algn="l" pos="1630440"/>
                <a:tab algn="l" pos="1755720"/>
                <a:tab algn="l" pos="1881360"/>
                <a:tab algn="l" pos="2006640"/>
                <a:tab algn="l" pos="2131920"/>
                <a:tab algn="l" pos="2257560"/>
                <a:tab algn="l" pos="2382840"/>
                <a:tab algn="l" pos="250812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520" y="293760"/>
            <a:ext cx="411120" cy="39636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120" bIns="612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125280"/>
                <a:tab algn="l" pos="250920"/>
                <a:tab algn="l" pos="376200"/>
                <a:tab algn="l" pos="501480"/>
                <a:tab algn="l" pos="627120"/>
                <a:tab algn="l" pos="752400"/>
                <a:tab algn="l" pos="878040"/>
                <a:tab algn="l" pos="1003320"/>
                <a:tab algn="l" pos="1128600"/>
                <a:tab algn="l" pos="1254240"/>
                <a:tab algn="l" pos="1379520"/>
                <a:tab algn="l" pos="1504800"/>
                <a:tab algn="l" pos="1630440"/>
                <a:tab algn="l" pos="1755720"/>
                <a:tab algn="l" pos="1881360"/>
                <a:tab algn="l" pos="2006640"/>
                <a:tab algn="l" pos="2131920"/>
                <a:tab algn="l" pos="2257560"/>
                <a:tab algn="l" pos="2382840"/>
                <a:tab algn="l" pos="250812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520" y="728280"/>
            <a:ext cx="843120" cy="39636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120" bIns="612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125280"/>
                <a:tab algn="l" pos="250920"/>
                <a:tab algn="l" pos="376200"/>
                <a:tab algn="l" pos="501480"/>
                <a:tab algn="l" pos="627120"/>
                <a:tab algn="l" pos="752400"/>
                <a:tab algn="l" pos="878040"/>
                <a:tab algn="l" pos="1003320"/>
                <a:tab algn="l" pos="1128600"/>
                <a:tab algn="l" pos="1254240"/>
                <a:tab algn="l" pos="1379520"/>
                <a:tab algn="l" pos="1504800"/>
                <a:tab algn="l" pos="1630440"/>
                <a:tab algn="l" pos="1755720"/>
                <a:tab algn="l" pos="1881360"/>
                <a:tab algn="l" pos="2006640"/>
                <a:tab algn="l" pos="2131920"/>
                <a:tab algn="l" pos="2257560"/>
                <a:tab algn="l" pos="2382840"/>
                <a:tab algn="l" pos="250812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77A2-2F3A-4B08-86BF-6C342920B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7520" y="50760"/>
            <a:ext cx="843120" cy="2095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120" bIns="6120" anchor="ctr">
            <a:noAutofit/>
          </a:bodyPr>
          <a:p>
            <a:pPr indent="0" algn="ctr">
              <a:buNone/>
              <a:tabLst>
                <a:tab algn="l" pos="0"/>
                <a:tab algn="l" pos="125280"/>
                <a:tab algn="l" pos="250920"/>
                <a:tab algn="l" pos="376200"/>
                <a:tab algn="l" pos="501480"/>
                <a:tab algn="l" pos="627120"/>
                <a:tab algn="l" pos="752400"/>
                <a:tab algn="l" pos="878040"/>
                <a:tab algn="l" pos="1003320"/>
                <a:tab algn="l" pos="1128600"/>
                <a:tab algn="l" pos="1254240"/>
                <a:tab algn="l" pos="1379520"/>
                <a:tab algn="l" pos="1504800"/>
                <a:tab algn="l" pos="1630440"/>
                <a:tab algn="l" pos="1755720"/>
                <a:tab algn="l" pos="1881360"/>
                <a:tab algn="l" pos="2006640"/>
                <a:tab algn="l" pos="2131920"/>
                <a:tab algn="l" pos="2257560"/>
                <a:tab algn="l" pos="2382840"/>
                <a:tab algn="l" pos="250812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7520" y="293760"/>
            <a:ext cx="843120" cy="83160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120" bIns="6120" anchor="t">
            <a:normAutofit/>
          </a:bodyPr>
          <a:p>
            <a:pPr marL="47520" indent="-47520"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125280"/>
                <a:tab algn="l" pos="250920"/>
                <a:tab algn="l" pos="376200"/>
                <a:tab algn="l" pos="501480"/>
                <a:tab algn="l" pos="627120"/>
                <a:tab algn="l" pos="752400"/>
                <a:tab algn="l" pos="878040"/>
                <a:tab algn="l" pos="1003320"/>
                <a:tab algn="l" pos="1128600"/>
                <a:tab algn="l" pos="1254240"/>
                <a:tab algn="l" pos="1379520"/>
                <a:tab algn="l" pos="1504800"/>
                <a:tab algn="l" pos="1630440"/>
                <a:tab algn="l" pos="1755720"/>
                <a:tab algn="l" pos="1881360"/>
                <a:tab algn="l" pos="2006640"/>
                <a:tab algn="l" pos="2131920"/>
                <a:tab algn="l" pos="2257560"/>
                <a:tab algn="l" pos="2382840"/>
                <a:tab algn="l" pos="250812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lvl="1" marL="101520" indent="-38160">
              <a:spcBef>
                <a:spcPts val="99"/>
              </a:spcBef>
              <a:buClr>
                <a:srgbClr val="000000"/>
              </a:buClr>
              <a:buFont typeface="Arial"/>
              <a:buChar char="–"/>
              <a:tabLst>
                <a:tab algn="l" pos="125280"/>
                <a:tab algn="l" pos="250920"/>
                <a:tab algn="l" pos="376200"/>
                <a:tab algn="l" pos="501480"/>
                <a:tab algn="l" pos="627120"/>
                <a:tab algn="l" pos="752400"/>
                <a:tab algn="l" pos="878040"/>
                <a:tab algn="l" pos="1003320"/>
                <a:tab algn="l" pos="1128600"/>
                <a:tab algn="l" pos="1254240"/>
                <a:tab algn="l" pos="1379520"/>
                <a:tab algn="l" pos="1504800"/>
                <a:tab algn="l" pos="1630440"/>
                <a:tab algn="l" pos="1755720"/>
                <a:tab algn="l" pos="1881360"/>
                <a:tab algn="l" pos="2006640"/>
                <a:tab algn="l" pos="2131920"/>
                <a:tab algn="l" pos="2257560"/>
                <a:tab algn="l" pos="2382840"/>
                <a:tab algn="l" pos="250812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lvl="2" marL="157320" indent="-32040"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125280"/>
                <a:tab algn="l" pos="250920"/>
                <a:tab algn="l" pos="376200"/>
                <a:tab algn="l" pos="501480"/>
                <a:tab algn="l" pos="627120"/>
                <a:tab algn="l" pos="752400"/>
                <a:tab algn="l" pos="878040"/>
                <a:tab algn="l" pos="1003320"/>
                <a:tab algn="l" pos="1128600"/>
                <a:tab algn="l" pos="1254240"/>
                <a:tab algn="l" pos="1379520"/>
                <a:tab algn="l" pos="1504800"/>
                <a:tab algn="l" pos="1630440"/>
                <a:tab algn="l" pos="1755720"/>
                <a:tab algn="l" pos="1881360"/>
                <a:tab algn="l" pos="2006640"/>
                <a:tab algn="l" pos="2131920"/>
                <a:tab algn="l" pos="2257560"/>
                <a:tab algn="l" pos="2382840"/>
                <a:tab algn="l" pos="250812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lvl="3" marL="219240" indent="-30240">
              <a:spcBef>
                <a:spcPts val="99"/>
              </a:spcBef>
              <a:buClr>
                <a:srgbClr val="000000"/>
              </a:buClr>
              <a:buFont typeface="Arial"/>
              <a:buChar char="–"/>
              <a:tabLst>
                <a:tab algn="l" pos="125280"/>
                <a:tab algn="l" pos="250920"/>
                <a:tab algn="l" pos="376200"/>
                <a:tab algn="l" pos="501480"/>
                <a:tab algn="l" pos="627120"/>
                <a:tab algn="l" pos="752400"/>
                <a:tab algn="l" pos="878040"/>
                <a:tab algn="l" pos="1003320"/>
                <a:tab algn="l" pos="1128600"/>
                <a:tab algn="l" pos="1254240"/>
                <a:tab algn="l" pos="1379520"/>
                <a:tab algn="l" pos="1504800"/>
                <a:tab algn="l" pos="1630440"/>
                <a:tab algn="l" pos="1755720"/>
                <a:tab algn="l" pos="1881360"/>
                <a:tab algn="l" pos="2006640"/>
                <a:tab algn="l" pos="2131920"/>
                <a:tab algn="l" pos="2257560"/>
                <a:tab algn="l" pos="2382840"/>
                <a:tab algn="l" pos="250812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lvl="4" marL="282600" indent="-31680">
              <a:spcBef>
                <a:spcPts val="99"/>
              </a:spcBef>
              <a:buClr>
                <a:srgbClr val="000000"/>
              </a:buClr>
              <a:buFont typeface="Arial"/>
              <a:buChar char="»"/>
              <a:tabLst>
                <a:tab algn="l" pos="125280"/>
                <a:tab algn="l" pos="250920"/>
                <a:tab algn="l" pos="376200"/>
                <a:tab algn="l" pos="501480"/>
                <a:tab algn="l" pos="627120"/>
                <a:tab algn="l" pos="752400"/>
                <a:tab algn="l" pos="878040"/>
                <a:tab algn="l" pos="1003320"/>
                <a:tab algn="l" pos="1128600"/>
                <a:tab algn="l" pos="1254240"/>
                <a:tab algn="l" pos="1379520"/>
                <a:tab algn="l" pos="1504800"/>
                <a:tab algn="l" pos="1630440"/>
                <a:tab algn="l" pos="1755720"/>
                <a:tab algn="l" pos="1881360"/>
                <a:tab algn="l" pos="2006640"/>
                <a:tab algn="l" pos="2131920"/>
                <a:tab algn="l" pos="2257560"/>
                <a:tab algn="l" pos="2382840"/>
                <a:tab algn="l" pos="250812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lvl="5" marL="282600" indent="-31680">
              <a:spcBef>
                <a:spcPts val="99"/>
              </a:spcBef>
              <a:buClr>
                <a:srgbClr val="000000"/>
              </a:buClr>
              <a:buFont typeface="Arial"/>
              <a:buChar char="»"/>
              <a:tabLst>
                <a:tab algn="l" pos="125280"/>
                <a:tab algn="l" pos="250920"/>
                <a:tab algn="l" pos="376200"/>
                <a:tab algn="l" pos="501480"/>
                <a:tab algn="l" pos="627120"/>
                <a:tab algn="l" pos="752400"/>
                <a:tab algn="l" pos="878040"/>
                <a:tab algn="l" pos="1003320"/>
                <a:tab algn="l" pos="1128600"/>
                <a:tab algn="l" pos="1254240"/>
                <a:tab algn="l" pos="1379520"/>
                <a:tab algn="l" pos="1504800"/>
                <a:tab algn="l" pos="1630440"/>
                <a:tab algn="l" pos="1755720"/>
                <a:tab algn="l" pos="1881360"/>
                <a:tab algn="l" pos="2006640"/>
                <a:tab algn="l" pos="2131920"/>
                <a:tab algn="l" pos="2257560"/>
                <a:tab algn="l" pos="2382840"/>
                <a:tab algn="l" pos="250812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lvl="6" marL="282600" indent="-31680">
              <a:spcBef>
                <a:spcPts val="99"/>
              </a:spcBef>
              <a:buClr>
                <a:srgbClr val="000000"/>
              </a:buClr>
              <a:buFont typeface="Arial"/>
              <a:buChar char="»"/>
              <a:tabLst>
                <a:tab algn="l" pos="125280"/>
                <a:tab algn="l" pos="250920"/>
                <a:tab algn="l" pos="376200"/>
                <a:tab algn="l" pos="501480"/>
                <a:tab algn="l" pos="627120"/>
                <a:tab algn="l" pos="752400"/>
                <a:tab algn="l" pos="878040"/>
                <a:tab algn="l" pos="1003320"/>
                <a:tab algn="l" pos="1128600"/>
                <a:tab algn="l" pos="1254240"/>
                <a:tab algn="l" pos="1379520"/>
                <a:tab algn="l" pos="1504800"/>
                <a:tab algn="l" pos="1630440"/>
                <a:tab algn="l" pos="1755720"/>
                <a:tab algn="l" pos="1881360"/>
                <a:tab algn="l" pos="2006640"/>
                <a:tab algn="l" pos="2131920"/>
                <a:tab algn="l" pos="2257560"/>
                <a:tab algn="l" pos="2382840"/>
                <a:tab algn="l" pos="250812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7520" y="1147320"/>
            <a:ext cx="217440" cy="8748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120" bIns="6120" anchor="t">
            <a:noAutofit/>
          </a:bodyPr>
          <a:lstStyle>
            <a:lvl1pPr indent="0">
              <a:buNone/>
              <a:tabLst>
                <a:tab algn="l" pos="0"/>
                <a:tab algn="l" pos="125280"/>
                <a:tab algn="l" pos="250920"/>
                <a:tab algn="l" pos="376200"/>
                <a:tab algn="l" pos="501480"/>
                <a:tab algn="l" pos="627120"/>
                <a:tab algn="l" pos="752400"/>
                <a:tab algn="l" pos="878040"/>
                <a:tab algn="l" pos="1003320"/>
                <a:tab algn="l" pos="1128600"/>
                <a:tab algn="l" pos="1254240"/>
                <a:tab algn="l" pos="1379520"/>
                <a:tab algn="l" pos="1504800"/>
                <a:tab algn="l" pos="1630440"/>
                <a:tab algn="l" pos="1755720"/>
                <a:tab algn="l" pos="1881360"/>
                <a:tab algn="l" pos="2006640"/>
                <a:tab algn="l" pos="2131920"/>
                <a:tab algn="l" pos="2257560"/>
                <a:tab algn="l" pos="2382840"/>
                <a:tab algn="l" pos="2508120"/>
              </a:tabLst>
              <a:defRPr b="0" lang="en-US" sz="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25280"/>
                <a:tab algn="l" pos="250920"/>
                <a:tab algn="l" pos="376200"/>
                <a:tab algn="l" pos="501480"/>
                <a:tab algn="l" pos="627120"/>
                <a:tab algn="l" pos="752400"/>
                <a:tab algn="l" pos="878040"/>
                <a:tab algn="l" pos="1003320"/>
                <a:tab algn="l" pos="1128600"/>
                <a:tab algn="l" pos="1254240"/>
                <a:tab algn="l" pos="1379520"/>
                <a:tab algn="l" pos="1504800"/>
                <a:tab algn="l" pos="1630440"/>
                <a:tab algn="l" pos="1755720"/>
                <a:tab algn="l" pos="1881360"/>
                <a:tab algn="l" pos="2006640"/>
                <a:tab algn="l" pos="2131920"/>
                <a:tab algn="l" pos="2257560"/>
                <a:tab algn="l" pos="2382840"/>
                <a:tab algn="l" pos="250812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0760" y="1147320"/>
            <a:ext cx="295200" cy="8748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120" bIns="6120" anchor="t">
            <a:noAutofit/>
          </a:bodyPr>
          <a:lstStyle>
            <a:lvl1pPr indent="0" algn="ctr">
              <a:buNone/>
              <a:tabLst>
                <a:tab algn="l" pos="0"/>
                <a:tab algn="l" pos="125280"/>
                <a:tab algn="l" pos="250920"/>
                <a:tab algn="l" pos="376200"/>
                <a:tab algn="l" pos="501480"/>
                <a:tab algn="l" pos="627120"/>
                <a:tab algn="l" pos="752400"/>
                <a:tab algn="l" pos="878040"/>
                <a:tab algn="l" pos="1003320"/>
                <a:tab algn="l" pos="1128600"/>
                <a:tab algn="l" pos="1254240"/>
                <a:tab algn="l" pos="1379520"/>
                <a:tab algn="l" pos="1504800"/>
                <a:tab algn="l" pos="1630440"/>
                <a:tab algn="l" pos="1755720"/>
                <a:tab algn="l" pos="1881360"/>
                <a:tab algn="l" pos="2006640"/>
                <a:tab algn="l" pos="2131920"/>
                <a:tab algn="l" pos="2257560"/>
                <a:tab algn="l" pos="2382840"/>
                <a:tab algn="l" pos="2508120"/>
              </a:tabLst>
              <a:defRPr b="0" lang="en-US" sz="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125280"/>
                <a:tab algn="l" pos="250920"/>
                <a:tab algn="l" pos="376200"/>
                <a:tab algn="l" pos="501480"/>
                <a:tab algn="l" pos="627120"/>
                <a:tab algn="l" pos="752400"/>
                <a:tab algn="l" pos="878040"/>
                <a:tab algn="l" pos="1003320"/>
                <a:tab algn="l" pos="1128600"/>
                <a:tab algn="l" pos="1254240"/>
                <a:tab algn="l" pos="1379520"/>
                <a:tab algn="l" pos="1504800"/>
                <a:tab algn="l" pos="1630440"/>
                <a:tab algn="l" pos="1755720"/>
                <a:tab algn="l" pos="1881360"/>
                <a:tab algn="l" pos="2006640"/>
                <a:tab algn="l" pos="2131920"/>
                <a:tab algn="l" pos="2257560"/>
                <a:tab algn="l" pos="2382840"/>
                <a:tab algn="l" pos="250812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1040" y="1147320"/>
            <a:ext cx="219240" cy="8748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120" bIns="6120" anchor="t">
            <a:noAutofit/>
          </a:bodyPr>
          <a:lstStyle>
            <a:lvl1pPr indent="0" algn="r">
              <a:buNone/>
              <a:tabLst>
                <a:tab algn="l" pos="0"/>
                <a:tab algn="l" pos="125280"/>
                <a:tab algn="l" pos="250920"/>
                <a:tab algn="l" pos="376200"/>
                <a:tab algn="l" pos="501480"/>
                <a:tab algn="l" pos="627120"/>
                <a:tab algn="l" pos="752400"/>
                <a:tab algn="l" pos="878040"/>
                <a:tab algn="l" pos="1003320"/>
                <a:tab algn="l" pos="1128600"/>
                <a:tab algn="l" pos="1254240"/>
                <a:tab algn="l" pos="1379520"/>
                <a:tab algn="l" pos="1504800"/>
                <a:tab algn="l" pos="1630440"/>
                <a:tab algn="l" pos="1755720"/>
                <a:tab algn="l" pos="1881360"/>
                <a:tab algn="l" pos="2006640"/>
                <a:tab algn="l" pos="2131920"/>
                <a:tab algn="l" pos="2257560"/>
                <a:tab algn="l" pos="2382840"/>
                <a:tab algn="l" pos="2508120"/>
              </a:tabLst>
              <a:defRPr b="0" lang="en-US" sz="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25280"/>
                <a:tab algn="l" pos="250920"/>
                <a:tab algn="l" pos="376200"/>
                <a:tab algn="l" pos="501480"/>
                <a:tab algn="l" pos="627120"/>
                <a:tab algn="l" pos="752400"/>
                <a:tab algn="l" pos="878040"/>
                <a:tab algn="l" pos="1003320"/>
                <a:tab algn="l" pos="1128600"/>
                <a:tab algn="l" pos="1254240"/>
                <a:tab algn="l" pos="1379520"/>
                <a:tab algn="l" pos="1504800"/>
                <a:tab algn="l" pos="1630440"/>
                <a:tab algn="l" pos="1755720"/>
                <a:tab algn="l" pos="1881360"/>
                <a:tab algn="l" pos="2006640"/>
                <a:tab algn="l" pos="2131920"/>
                <a:tab algn="l" pos="2257560"/>
                <a:tab algn="l" pos="2382840"/>
                <a:tab algn="l" pos="2508120"/>
              </a:tabLst>
            </a:pPr>
            <a:fld id="{01EEC134-548C-40D0-B05A-840D324FA38D}" type="slidenum">
              <a:rPr b="0" lang="en-US" sz="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889920" cy="1239480"/>
            <a:chOff x="0" y="0"/>
            <a:chExt cx="889920" cy="1239480"/>
          </a:xfrm>
        </p:grpSpPr>
        <p:sp>
          <p:nvSpPr>
            <p:cNvPr id="42" name=""/>
            <p:cNvSpPr/>
            <p:nvPr/>
          </p:nvSpPr>
          <p:spPr>
            <a:xfrm>
              <a:off x="0" y="0"/>
              <a:ext cx="1440" cy="1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3680" y="411120"/>
              <a:ext cx="168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x&gt;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721440" y="484200"/>
              <a:ext cx="168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x&gt;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53880" y="150840"/>
              <a:ext cx="169920" cy="173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53880" y="150840"/>
              <a:ext cx="169920" cy="173160"/>
            </a:xfrm>
            <a:prstGeom prst="ellipse">
              <a:avLst/>
            </a:prstGeom>
            <a:noFill/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82680" y="179280"/>
              <a:ext cx="114120" cy="115920"/>
            </a:xfrm>
            <a:prstGeom prst="ellipse">
              <a:avLst/>
            </a:prstGeom>
            <a:noFill/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53880" y="900000"/>
              <a:ext cx="169920" cy="173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53880" y="900000"/>
              <a:ext cx="169920" cy="173160"/>
            </a:xfrm>
            <a:prstGeom prst="ellipse">
              <a:avLst/>
            </a:prstGeom>
            <a:noFill/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25440" y="23760"/>
              <a:ext cx="220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star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480" y="111744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&lt;=3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13824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&lt;=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55520" y="1117440"/>
              <a:ext cx="29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weit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14480" y="307800"/>
              <a:ext cx="264960" cy="613080"/>
            </a:xfrm>
            <a:custGeom>
              <a:avLst/>
              <a:gdLst/>
              <a:ahLst/>
              <a:rect l="l" t="t" r="r" b="b"/>
              <a:pathLst>
                <a:path w="747" h="1699">
                  <a:moveTo>
                    <a:pt x="733" y="1699"/>
                  </a:moveTo>
                  <a:lnTo>
                    <a:pt x="98" y="1064"/>
                  </a:lnTo>
                  <a:cubicBezTo>
                    <a:pt x="4" y="970"/>
                    <a:pt x="0" y="872"/>
                    <a:pt x="87" y="771"/>
                  </a:cubicBezTo>
                  <a:lnTo>
                    <a:pt x="747" y="0"/>
                  </a:lnTo>
                </a:path>
              </a:pathLst>
            </a:custGeom>
            <a:noFill/>
            <a:ln cap="rnd" w="64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20760" y="307800"/>
              <a:ext cx="58680" cy="65160"/>
            </a:xfrm>
            <a:custGeom>
              <a:avLst/>
              <a:gdLst/>
              <a:ahLst/>
              <a:rect l="l" t="t" r="r" b="b"/>
              <a:pathLst>
                <a:path w="165" h="180">
                  <a:moveTo>
                    <a:pt x="79" y="180"/>
                  </a:moveTo>
                  <a:lnTo>
                    <a:pt x="165" y="0"/>
                  </a:lnTo>
                  <a:lnTo>
                    <a:pt x="0" y="113"/>
                  </a:lnTo>
                </a:path>
              </a:pathLst>
            </a:custGeom>
            <a:noFill/>
            <a:ln cap="rnd" w="64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93560" y="314280"/>
              <a:ext cx="216000" cy="600120"/>
            </a:xfrm>
            <a:custGeom>
              <a:avLst/>
              <a:gdLst/>
              <a:ahLst/>
              <a:rect l="l" t="t" r="r" b="b"/>
              <a:pathLst>
                <a:path w="610" h="1669">
                  <a:moveTo>
                    <a:pt x="0" y="0"/>
                  </a:moveTo>
                  <a:lnTo>
                    <a:pt x="532" y="746"/>
                  </a:lnTo>
                  <a:cubicBezTo>
                    <a:pt x="610" y="854"/>
                    <a:pt x="606" y="960"/>
                    <a:pt x="520" y="1062"/>
                  </a:cubicBezTo>
                  <a:lnTo>
                    <a:pt x="15" y="1669"/>
                  </a:lnTo>
                </a:path>
              </a:pathLst>
            </a:custGeom>
            <a:noFill/>
            <a:ln cap="rnd" w="64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98600" y="849240"/>
              <a:ext cx="56880" cy="65160"/>
            </a:xfrm>
            <a:custGeom>
              <a:avLst/>
              <a:gdLst/>
              <a:ahLst/>
              <a:rect l="l" t="t" r="r" b="b"/>
              <a:pathLst>
                <a:path w="163" h="182">
                  <a:moveTo>
                    <a:pt x="84" y="0"/>
                  </a:moveTo>
                  <a:lnTo>
                    <a:pt x="0" y="182"/>
                  </a:lnTo>
                  <a:lnTo>
                    <a:pt x="163" y="66"/>
                  </a:lnTo>
                </a:path>
              </a:pathLst>
            </a:custGeom>
            <a:noFill/>
            <a:ln cap="rnd" w="64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7T15:49:03Z</dcterms:created>
  <dc:creator>x</dc:creator>
  <dc:description/>
  <dc:language>en-US</dc:language>
  <cp:lastModifiedBy>x</cp:lastModifiedBy>
  <dcterms:modified xsi:type="dcterms:W3CDTF">2009-06-27T15:49:31Z</dcterms:modified>
  <cp:revision>1</cp:revision>
  <dc:subject/>
  <dc:title>Folie 1</dc:title>
</cp:coreProperties>
</file>