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759450" cy="3168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1B7-F2C8-4E36-B57E-15B2CB18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518652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32040"/>
            <a:ext cx="518652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CC1-99B0-45F8-B315-455233B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A56-8835-4179-975C-EB36528B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3980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3980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3204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3204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3204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875-A857-485D-A5A5-7BB5C6C0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39800"/>
            <a:ext cx="51865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0B6-5715-4988-8156-DECA648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518652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940-DF8B-4F89-B3DB-22BF1890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707-1EA1-4503-BAE9-2BADFE8D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F02-4C34-4D65-ADC1-F2473483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7080"/>
            <a:ext cx="51865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D40-78F4-4BD3-9730-AE5EEE30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982-F16A-4D39-BB7A-05951F3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B0A-DCAA-475A-B20A-6464B23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32040"/>
            <a:ext cx="518652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8B3-BF82-4CF4-B1C6-EF18B36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39800"/>
            <a:ext cx="518652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 fontScale="90000"/>
          </a:bodyPr>
          <a:p>
            <a:pPr marL="17280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2600" indent="-142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200" indent="-11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2800" indent="-114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32840" indent="-1141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032840" indent="-1141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032840" indent="-1141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2886120"/>
            <a:ext cx="1344600" cy="21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2886120"/>
            <a:ext cx="1824120" cy="21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2886120"/>
            <a:ext cx="1344600" cy="21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0B4EE91-910E-48EE-BE28-6EA715F66B2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4680"/>
            <a:ext cx="5688000" cy="3099960"/>
            <a:chOff x="0" y="-4680"/>
            <a:chExt cx="5688000" cy="3099960"/>
          </a:xfrm>
        </p:grpSpPr>
        <p:cxnSp>
          <p:nvCxnSpPr>
            <p:cNvPr id="42" name=""/>
            <p:cNvCxnSpPr>
              <a:stCxn id="43" idx="7"/>
              <a:endCxn id="44" idx="1"/>
            </p:cNvCxnSpPr>
            <p:nvPr/>
          </p:nvCxnSpPr>
          <p:spPr>
            <a:xfrm flipV="1">
              <a:off x="1005840" y="323280"/>
              <a:ext cx="650160" cy="54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5" name=""/>
            <p:cNvSpPr/>
            <p:nvPr/>
          </p:nvSpPr>
          <p:spPr>
            <a:xfrm>
              <a:off x="0" y="1150920"/>
              <a:ext cx="576360" cy="79164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5640" y="71280"/>
              <a:ext cx="50508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" name=""/>
            <p:cNvCxnSpPr>
              <a:stCxn id="47" idx="6"/>
              <a:endCxn id="48" idx="1"/>
            </p:cNvCxnSpPr>
            <p:nvPr/>
          </p:nvCxnSpPr>
          <p:spPr>
            <a:xfrm flipV="1">
              <a:off x="1079640" y="1979280"/>
              <a:ext cx="1800360" cy="864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3" name=""/>
            <p:cNvSpPr/>
            <p:nvPr/>
          </p:nvSpPr>
          <p:spPr>
            <a:xfrm>
              <a:off x="574560" y="790560"/>
              <a:ext cx="50508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560" y="172692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2720" y="863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3" idx="4"/>
              <a:endCxn id="49" idx="0"/>
            </p:cNvCxnSpPr>
            <p:nvPr/>
          </p:nvCxnSpPr>
          <p:spPr>
            <a:xfrm flipH="1">
              <a:off x="826920" y="1294920"/>
              <a:ext cx="720" cy="432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2" name=""/>
            <p:cNvCxnSpPr>
              <a:stCxn id="49" idx="2"/>
              <a:endCxn id="47" idx="0"/>
            </p:cNvCxnSpPr>
            <p:nvPr/>
          </p:nvCxnSpPr>
          <p:spPr>
            <a:xfrm>
              <a:off x="826920" y="2231640"/>
              <a:ext cx="720" cy="359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3" name=""/>
            <p:cNvSpPr/>
            <p:nvPr/>
          </p:nvSpPr>
          <p:spPr>
            <a:xfrm>
              <a:off x="575640" y="180000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4560" y="259056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9080" y="2663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9280" y="934920"/>
              <a:ext cx="144360" cy="14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1150920"/>
              <a:ext cx="576360" cy="79164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79640" y="790560"/>
              <a:ext cx="50508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79640" y="172692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77800" y="863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"/>
            <p:cNvCxnSpPr>
              <a:stCxn id="57" idx="4"/>
              <a:endCxn id="48" idx="0"/>
            </p:cNvCxnSpPr>
            <p:nvPr/>
          </p:nvCxnSpPr>
          <p:spPr>
            <a:xfrm flipH="1">
              <a:off x="3132000" y="1294920"/>
              <a:ext cx="720" cy="432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0" name=""/>
            <p:cNvCxnSpPr>
              <a:stCxn id="48" idx="2"/>
              <a:endCxn id="61" idx="0"/>
            </p:cNvCxnSpPr>
            <p:nvPr/>
          </p:nvCxnSpPr>
          <p:spPr>
            <a:xfrm>
              <a:off x="3132000" y="2231640"/>
              <a:ext cx="720" cy="359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2" name=""/>
            <p:cNvSpPr/>
            <p:nvPr/>
          </p:nvSpPr>
          <p:spPr>
            <a:xfrm>
              <a:off x="2881080" y="18000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79640" y="259056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14160" y="2663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08360" y="1150920"/>
              <a:ext cx="576360" cy="79164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3280" y="79056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83280" y="172692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81080" y="863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"/>
            <p:cNvCxnSpPr>
              <a:stCxn id="65" idx="4"/>
              <a:endCxn id="66" idx="0"/>
            </p:cNvCxnSpPr>
            <p:nvPr/>
          </p:nvCxnSpPr>
          <p:spPr>
            <a:xfrm>
              <a:off x="5435640" y="1294920"/>
              <a:ext cx="360" cy="432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66" idx="2"/>
              <a:endCxn id="70" idx="0"/>
            </p:cNvCxnSpPr>
            <p:nvPr/>
          </p:nvCxnSpPr>
          <p:spPr>
            <a:xfrm>
              <a:off x="5435640" y="2231640"/>
              <a:ext cx="360" cy="359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1" name=""/>
            <p:cNvSpPr/>
            <p:nvPr/>
          </p:nvSpPr>
          <p:spPr>
            <a:xfrm>
              <a:off x="5184360" y="180000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83280" y="25905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7800" y="2663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61" idx="6"/>
              <a:endCxn id="66" idx="1"/>
            </p:cNvCxnSpPr>
            <p:nvPr/>
          </p:nvCxnSpPr>
          <p:spPr>
            <a:xfrm flipV="1">
              <a:off x="3384720" y="1979280"/>
              <a:ext cx="1798920" cy="864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4" name=""/>
            <p:cNvCxnSpPr>
              <a:stCxn id="44" idx="3"/>
              <a:endCxn id="57" idx="1"/>
            </p:cNvCxnSpPr>
            <p:nvPr/>
          </p:nvCxnSpPr>
          <p:spPr>
            <a:xfrm>
              <a:off x="2160720" y="323280"/>
              <a:ext cx="793080" cy="54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5" name=""/>
            <p:cNvCxnSpPr>
              <a:stCxn id="57" idx="7"/>
              <a:endCxn id="76" idx="1"/>
            </p:cNvCxnSpPr>
            <p:nvPr/>
          </p:nvCxnSpPr>
          <p:spPr>
            <a:xfrm flipV="1">
              <a:off x="3310920" y="323280"/>
              <a:ext cx="651960" cy="54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6" name=""/>
            <p:cNvSpPr/>
            <p:nvPr/>
          </p:nvSpPr>
          <p:spPr>
            <a:xfrm>
              <a:off x="3962520" y="71280"/>
              <a:ext cx="5047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6" idx="3"/>
              <a:endCxn id="65" idx="1"/>
            </p:cNvCxnSpPr>
            <p:nvPr/>
          </p:nvCxnSpPr>
          <p:spPr>
            <a:xfrm>
              <a:off x="4467240" y="323280"/>
              <a:ext cx="790200" cy="54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8" name=""/>
            <p:cNvSpPr/>
            <p:nvPr/>
          </p:nvSpPr>
          <p:spPr>
            <a:xfrm>
              <a:off x="1738440" y="-468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54680" y="-468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7:48:14Z</dcterms:created>
  <dc:creator>x</dc:creator>
  <dc:description/>
  <dc:language>en-US</dc:language>
  <cp:lastModifiedBy>x</cp:lastModifiedBy>
  <dcterms:modified xsi:type="dcterms:W3CDTF">2009-02-10T17:52:07Z</dcterms:modified>
  <cp:revision>2</cp:revision>
  <dc:subject/>
  <dc:title>Folie 1</dc:title>
</cp:coreProperties>
</file>