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16350" cy="1331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8B5-50D3-4BCD-97E4-3F83E6C1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32446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802080"/>
            <a:ext cx="32446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03B-6FCB-42D3-9E78-70A8C62A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832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BC4-4F37-459B-A117-53304874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2760" y="38376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0040" y="38376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80208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2760" y="80208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80040" y="80208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B66-5009-439D-B5C1-5CC7C37F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383760"/>
            <a:ext cx="324468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C4D-C94E-43E1-A2EE-779CB998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32446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60B-3B5C-4A6D-AF1E-5E1C2DA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960-8449-44AB-B5E0-C68F1FE6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DD7-6EDF-482F-A29E-7733BAE4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480" y="118800"/>
            <a:ext cx="324468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B2E-52F4-43CF-BCEB-FD99094A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428-AAE5-4BC8-B1D3-8B0C85C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832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EA8-167F-4160-ACE2-381DC4F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802080"/>
            <a:ext cx="32446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7E3-EBFC-4296-AF42-9BEFBEB6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480" y="118800"/>
            <a:ext cx="3244680" cy="2206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83760"/>
            <a:ext cx="32446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 fontScale="61000"/>
          </a:bodyPr>
          <a:p>
            <a:pPr marL="66600" indent="-666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5616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4640" indent="-453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31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40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40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40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480" y="1212480"/>
            <a:ext cx="795240" cy="8892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Autofit/>
          </a:bodyPr>
          <a:lstStyle>
            <a:lvl1pPr indent="0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2840" y="1212480"/>
            <a:ext cx="1209960" cy="8892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Autofit/>
          </a:bodyPr>
          <a:lstStyle>
            <a:lvl1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4920" y="1212480"/>
            <a:ext cx="795240" cy="8892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Autofit/>
          </a:bodyPr>
          <a:lstStyle>
            <a:lvl1pPr indent="0" algn="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fld id="{10999CE8-9B71-4A82-ACFE-900E67D211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17640"/>
            <a:ext cx="10810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01800" y="17640"/>
            <a:ext cx="10810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7440" y="522360"/>
            <a:ext cx="1584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117080" y="10969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1960" y="7128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2880" y="8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115640" y="1098720"/>
            <a:ext cx="1584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9-02-17T16:17:40Z</dcterms:modified>
  <cp:revision>3</cp:revision>
  <dc:subject/>
  <dc:title>PowerPoint Presentation</dc:title>
</cp:coreProperties>
</file>