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19588" cy="42481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D0E-160E-4195-80B4-6FE1A082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388944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2454840"/>
            <a:ext cx="388944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297-D17F-4210-BD22-B45E784D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9320" y="99036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245484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9320" y="245484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AC4-5833-497E-8770-17E2FA9D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125208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1080" y="990360"/>
            <a:ext cx="125208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6160" y="990360"/>
            <a:ext cx="125208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2454840"/>
            <a:ext cx="125208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1080" y="2454840"/>
            <a:ext cx="125208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6160" y="2454840"/>
            <a:ext cx="125208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491-0845-4676-8B1B-381CF51F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990360"/>
            <a:ext cx="3889440" cy="28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AEC-AADD-4B28-8C2C-6916123A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3889440" cy="28033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AA5-CDE7-42B5-BB14-4926F499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1897920" cy="28033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9320" y="990360"/>
            <a:ext cx="1897920" cy="28033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5F0-4A76-4B53-BD44-E6D1D32D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4D3-7159-418C-8242-D7911242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169560"/>
            <a:ext cx="3889440" cy="32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D95-21A0-4EE1-B641-CB17EA58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9320" y="990360"/>
            <a:ext cx="1897920" cy="28033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245484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429-C9AF-4780-8DC3-56980D4C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1897920" cy="28033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9320" y="99036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9320" y="245484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579-E034-46F9-A698-71B21EB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9320" y="99036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2454840"/>
            <a:ext cx="388944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CB6-D626-40D6-AE01-5687114D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990360"/>
            <a:ext cx="3889440" cy="28033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marL="184320" indent="-1843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540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123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57160" indent="-1220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01600" indent="-122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01600" indent="-122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01600" indent="-122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00" y="3868200"/>
            <a:ext cx="1008000" cy="29556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Autofit/>
          </a:bodyPr>
          <a:lstStyle>
            <a:lvl1pPr indent="0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00" y="3868200"/>
            <a:ext cx="1368360" cy="29556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Autofit/>
          </a:bodyPr>
          <a:lstStyle>
            <a:lvl1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720" y="3868200"/>
            <a:ext cx="1008360" cy="29556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Autofit/>
          </a:bodyPr>
          <a:lstStyle>
            <a:lvl1pPr indent="0" algn="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fld id="{47FC7F93-DCA2-476A-A99B-CE9BE94A459C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9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52800" y="1758960"/>
            <a:ext cx="25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:=j+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03760" y="952560"/>
            <a:ext cx="82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mp:=array[count]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03760" y="1060560"/>
            <a:ext cx="969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ray[count]:=array[j]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03040" y="1168560"/>
            <a:ext cx="60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ray[j]:=tmp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03760" y="1276200"/>
            <a:ext cx="25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:=j+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233532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:=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3120" y="14716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:=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55520" y="1471680"/>
            <a:ext cx="70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:=count+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2040" y="100980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:=count+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8680" y="3314880"/>
            <a:ext cx="817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2:=count2+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8120" y="2738520"/>
            <a:ext cx="94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zahl2:=anzahl2+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7760" y="2846520"/>
            <a:ext cx="817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2:=count2+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28680" y="2046240"/>
            <a:ext cx="70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:=count+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86280" y="2968560"/>
            <a:ext cx="531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zahl1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86280" y="3076560"/>
            <a:ext cx="531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zahl2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6280" y="3184560"/>
            <a:ext cx="45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2:=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44400" y="3718080"/>
            <a:ext cx="918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zahl1:=anzahl1+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2760" y="3890880"/>
            <a:ext cx="70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:=count+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28320" y="146160"/>
            <a:ext cx="38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unt&lt;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5240" y="2001960"/>
            <a:ext cx="173160" cy="172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5240" y="2001960"/>
            <a:ext cx="173160" cy="172800"/>
          </a:xfrm>
          <a:prstGeom prst="ellipse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1320" y="2070000"/>
            <a:ext cx="81000" cy="5724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24" y="0"/>
                </a:moveTo>
                <a:cubicBezTo>
                  <a:pt x="0" y="43"/>
                  <a:pt x="9" y="96"/>
                  <a:pt x="46" y="127"/>
                </a:cubicBezTo>
                <a:cubicBezTo>
                  <a:pt x="83" y="158"/>
                  <a:pt x="138" y="158"/>
                  <a:pt x="175" y="127"/>
                </a:cubicBezTo>
                <a:cubicBezTo>
                  <a:pt x="212" y="96"/>
                  <a:pt x="221" y="43"/>
                  <a:pt x="197" y="0"/>
                </a:cubicBezTo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240" y="2867040"/>
            <a:ext cx="173160" cy="171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5240" y="2867040"/>
            <a:ext cx="173160" cy="171360"/>
          </a:xfrm>
          <a:prstGeom prst="ellipse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41320" y="2935440"/>
            <a:ext cx="81000" cy="5544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24" y="0"/>
                </a:moveTo>
                <a:cubicBezTo>
                  <a:pt x="0" y="43"/>
                  <a:pt x="9" y="96"/>
                  <a:pt x="46" y="127"/>
                </a:cubicBezTo>
                <a:cubicBezTo>
                  <a:pt x="83" y="158"/>
                  <a:pt x="138" y="158"/>
                  <a:pt x="175" y="127"/>
                </a:cubicBezTo>
                <a:cubicBezTo>
                  <a:pt x="212" y="96"/>
                  <a:pt x="221" y="43"/>
                  <a:pt x="197" y="0"/>
                </a:cubicBezTo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22720" y="2290680"/>
            <a:ext cx="174600" cy="17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22720" y="2290680"/>
            <a:ext cx="174600" cy="173160"/>
          </a:xfrm>
          <a:prstGeom prst="ellipse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76400" y="388800"/>
            <a:ext cx="173160" cy="17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76400" y="388800"/>
            <a:ext cx="173160" cy="173160"/>
          </a:xfrm>
          <a:prstGeom prst="ellipse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22480" y="457200"/>
            <a:ext cx="81000" cy="5724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24" y="0"/>
                </a:moveTo>
                <a:cubicBezTo>
                  <a:pt x="0" y="43"/>
                  <a:pt x="9" y="96"/>
                  <a:pt x="46" y="127"/>
                </a:cubicBezTo>
                <a:cubicBezTo>
                  <a:pt x="83" y="158"/>
                  <a:pt x="138" y="158"/>
                  <a:pt x="175" y="127"/>
                </a:cubicBezTo>
                <a:cubicBezTo>
                  <a:pt x="212" y="96"/>
                  <a:pt x="221" y="43"/>
                  <a:pt x="197" y="0"/>
                </a:cubicBezTo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9920" y="1081080"/>
            <a:ext cx="173160" cy="17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39920" y="1081080"/>
            <a:ext cx="173160" cy="173160"/>
          </a:xfrm>
          <a:prstGeom prst="ellipse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7440" y="1149480"/>
            <a:ext cx="79560" cy="5688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24" y="0"/>
                </a:moveTo>
                <a:cubicBezTo>
                  <a:pt x="0" y="43"/>
                  <a:pt x="9" y="96"/>
                  <a:pt x="46" y="127"/>
                </a:cubicBezTo>
                <a:cubicBezTo>
                  <a:pt x="83" y="158"/>
                  <a:pt x="138" y="158"/>
                  <a:pt x="175" y="127"/>
                </a:cubicBezTo>
                <a:cubicBezTo>
                  <a:pt x="212" y="96"/>
                  <a:pt x="221" y="43"/>
                  <a:pt x="197" y="0"/>
                </a:cubicBezTo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240" y="1081080"/>
            <a:ext cx="173160" cy="17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5240" y="1081080"/>
            <a:ext cx="173160" cy="173160"/>
          </a:xfrm>
          <a:prstGeom prst="ellipse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1320" y="1149480"/>
            <a:ext cx="81000" cy="5688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24" y="0"/>
                </a:moveTo>
                <a:cubicBezTo>
                  <a:pt x="0" y="43"/>
                  <a:pt x="9" y="96"/>
                  <a:pt x="46" y="127"/>
                </a:cubicBezTo>
                <a:cubicBezTo>
                  <a:pt x="83" y="158"/>
                  <a:pt x="138" y="158"/>
                  <a:pt x="175" y="127"/>
                </a:cubicBezTo>
                <a:cubicBezTo>
                  <a:pt x="212" y="96"/>
                  <a:pt x="221" y="43"/>
                  <a:pt x="197" y="0"/>
                </a:cubicBezTo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1800" y="7794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:=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95200" y="31680"/>
            <a:ext cx="803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ray[count]:=rn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94840" y="139680"/>
            <a:ext cx="115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ave[count]:=array[count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74640" y="665280"/>
            <a:ext cx="70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:=count+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5240" y="3730680"/>
            <a:ext cx="173160" cy="17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5240" y="3730680"/>
            <a:ext cx="173160" cy="173160"/>
          </a:xfrm>
          <a:prstGeom prst="ellipse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82680" y="2867040"/>
            <a:ext cx="173160" cy="171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82680" y="2867040"/>
            <a:ext cx="173160" cy="171360"/>
          </a:xfrm>
          <a:prstGeom prst="ellipse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8760" y="2935440"/>
            <a:ext cx="81000" cy="5544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24" y="0"/>
                </a:moveTo>
                <a:cubicBezTo>
                  <a:pt x="0" y="43"/>
                  <a:pt x="9" y="96"/>
                  <a:pt x="46" y="127"/>
                </a:cubicBezTo>
                <a:cubicBezTo>
                  <a:pt x="83" y="158"/>
                  <a:pt x="138" y="158"/>
                  <a:pt x="175" y="127"/>
                </a:cubicBezTo>
                <a:cubicBezTo>
                  <a:pt x="212" y="96"/>
                  <a:pt x="221" y="43"/>
                  <a:pt x="197" y="0"/>
                </a:cubicBezTo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32360" y="3614760"/>
            <a:ext cx="172800" cy="17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2360" y="3614760"/>
            <a:ext cx="172800" cy="173160"/>
          </a:xfrm>
          <a:prstGeom prst="ellipse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3683160"/>
            <a:ext cx="79200" cy="5688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24" y="0"/>
                </a:moveTo>
                <a:cubicBezTo>
                  <a:pt x="0" y="43"/>
                  <a:pt x="9" y="96"/>
                  <a:pt x="46" y="127"/>
                </a:cubicBezTo>
                <a:cubicBezTo>
                  <a:pt x="83" y="158"/>
                  <a:pt x="138" y="158"/>
                  <a:pt x="175" y="127"/>
                </a:cubicBezTo>
                <a:cubicBezTo>
                  <a:pt x="212" y="96"/>
                  <a:pt x="221" y="43"/>
                  <a:pt x="197" y="0"/>
                </a:cubicBezTo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82680" y="3614760"/>
            <a:ext cx="173160" cy="17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82680" y="3614760"/>
            <a:ext cx="173160" cy="173160"/>
          </a:xfrm>
          <a:prstGeom prst="ellipse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28760" y="3683160"/>
            <a:ext cx="81000" cy="5688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24" y="0"/>
                </a:moveTo>
                <a:cubicBezTo>
                  <a:pt x="0" y="43"/>
                  <a:pt x="9" y="96"/>
                  <a:pt x="46" y="127"/>
                </a:cubicBezTo>
                <a:cubicBezTo>
                  <a:pt x="83" y="158"/>
                  <a:pt x="138" y="158"/>
                  <a:pt x="175" y="127"/>
                </a:cubicBezTo>
                <a:cubicBezTo>
                  <a:pt x="212" y="96"/>
                  <a:pt x="221" y="43"/>
                  <a:pt x="197" y="0"/>
                </a:cubicBezTo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5240" y="388800"/>
            <a:ext cx="173160" cy="17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240" y="388800"/>
            <a:ext cx="173160" cy="173160"/>
          </a:xfrm>
          <a:prstGeom prst="ellipse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4040" y="419040"/>
            <a:ext cx="115920" cy="114480"/>
          </a:xfrm>
          <a:prstGeom prst="ellipse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1320" y="457200"/>
            <a:ext cx="81000" cy="5724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24" y="0"/>
                </a:moveTo>
                <a:cubicBezTo>
                  <a:pt x="0" y="43"/>
                  <a:pt x="9" y="96"/>
                  <a:pt x="46" y="127"/>
                </a:cubicBezTo>
                <a:cubicBezTo>
                  <a:pt x="83" y="158"/>
                  <a:pt x="138" y="158"/>
                  <a:pt x="175" y="127"/>
                </a:cubicBezTo>
                <a:cubicBezTo>
                  <a:pt x="212" y="96"/>
                  <a:pt x="221" y="43"/>
                  <a:pt x="197" y="0"/>
                </a:cubicBezTo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27600" y="31680"/>
            <a:ext cx="649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d:int[0,MAX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2760" y="262080"/>
            <a:ext cx="59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itialisie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8000" y="376200"/>
            <a:ext cx="59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WertGesetz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7960" y="3198960"/>
            <a:ext cx="93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ray[count2]!=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06120" y="2449440"/>
            <a:ext cx="52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2&gt;=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07200" y="2557440"/>
            <a:ext cx="968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amp;&amp; anzahl1!=anzahl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7040" y="2622600"/>
            <a:ext cx="96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ray[count2]==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15760" y="3890880"/>
            <a:ext cx="919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ve[count2]!=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5400" y="2278080"/>
            <a:ext cx="18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n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0880" y="3659040"/>
            <a:ext cx="11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1440" y="1009800"/>
            <a:ext cx="44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rtie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952560"/>
            <a:ext cx="47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us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20" y="2770200"/>
            <a:ext cx="823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leicheElem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8680" y="193212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ue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1080" y="665280"/>
            <a:ext cx="44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unt&gt;=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27600" y="1932120"/>
            <a:ext cx="198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&lt;N-1 &amp;&amp; array[count]&lt;=array[count+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3120" y="2219400"/>
            <a:ext cx="532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&gt;=N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7960" y="2219400"/>
            <a:ext cx="192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&lt;N-1 &amp;&amp; array[count]&gt;array[count+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2040" y="3198960"/>
            <a:ext cx="532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unt&gt;M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84480" y="2795760"/>
            <a:ext cx="592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unt&lt;=M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27960" y="1355760"/>
            <a:ext cx="246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&gt;N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2760" y="895320"/>
            <a:ext cx="47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&lt;N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02680" y="779400"/>
            <a:ext cx="1411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&lt;=N-1 &amp;&amp; array[count]&gt;array[j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3120" y="1355760"/>
            <a:ext cx="532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&gt;=N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51360" y="1643040"/>
            <a:ext cx="1471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&lt;=N-1 &amp;&amp; array[count]&lt;=array[j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42960" y="3544920"/>
            <a:ext cx="950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ve[count2]==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55160" y="3602160"/>
            <a:ext cx="52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2&gt;=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56240" y="3710160"/>
            <a:ext cx="99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amp;&amp; anzahl1==anzahl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27400" y="3371760"/>
            <a:ext cx="439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2&lt;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046320"/>
            <a:ext cx="0" cy="561960"/>
          </a:xfrm>
          <a:prstGeom prst="line">
            <a:avLst/>
          </a:prstGeom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1080" y="3538440"/>
            <a:ext cx="36360" cy="69840"/>
          </a:xfrm>
          <a:custGeom>
            <a:avLst/>
            <a:gdLst/>
            <a:ahLst/>
            <a:rect l="l" t="t" r="r" b="b"/>
            <a:pathLst>
              <a:path w="103" h="193">
                <a:moveTo>
                  <a:pt x="0" y="0"/>
                </a:moveTo>
                <a:lnTo>
                  <a:pt x="51" y="193"/>
                </a:lnTo>
                <a:lnTo>
                  <a:pt x="103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3760" y="3701880"/>
            <a:ext cx="1662120" cy="0"/>
          </a:xfrm>
          <a:prstGeom prst="line">
            <a:avLst/>
          </a:prstGeom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6040" y="3683160"/>
            <a:ext cx="69840" cy="36360"/>
          </a:xfrm>
          <a:custGeom>
            <a:avLst/>
            <a:gdLst/>
            <a:ahLst/>
            <a:rect l="l" t="t" r="r" b="b"/>
            <a:pathLst>
              <a:path w="193" h="103">
                <a:moveTo>
                  <a:pt x="0" y="103"/>
                </a:moveTo>
                <a:lnTo>
                  <a:pt x="193" y="51"/>
                </a:ln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20880" y="3036960"/>
            <a:ext cx="1306440" cy="549360"/>
          </a:xfrm>
          <a:custGeom>
            <a:avLst/>
            <a:gdLst/>
            <a:ahLst/>
            <a:rect l="l" t="t" r="r" b="b"/>
            <a:pathLst>
              <a:path w="3616" h="1527">
                <a:moveTo>
                  <a:pt x="3616" y="0"/>
                </a:moveTo>
                <a:cubicBezTo>
                  <a:pt x="3587" y="58"/>
                  <a:pt x="3532" y="140"/>
                  <a:pt x="3450" y="245"/>
                </a:cubicBezTo>
                <a:lnTo>
                  <a:pt x="2575" y="1370"/>
                </a:lnTo>
                <a:cubicBezTo>
                  <a:pt x="2493" y="1475"/>
                  <a:pt x="2386" y="1527"/>
                  <a:pt x="2252" y="1527"/>
                </a:cubicBezTo>
                <a:lnTo>
                  <a:pt x="892" y="1527"/>
                </a:lnTo>
                <a:cubicBezTo>
                  <a:pt x="759" y="1527"/>
                  <a:pt x="665" y="1467"/>
                  <a:pt x="610" y="1345"/>
                </a:cubicBezTo>
                <a:lnTo>
                  <a:pt x="0" y="4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20880" y="3038400"/>
            <a:ext cx="46080" cy="69840"/>
          </a:xfrm>
          <a:custGeom>
            <a:avLst/>
            <a:gdLst/>
            <a:ahLst/>
            <a:rect l="l" t="t" r="r" b="b"/>
            <a:pathLst>
              <a:path w="127" h="197">
                <a:moveTo>
                  <a:pt x="127" y="155"/>
                </a:moveTo>
                <a:lnTo>
                  <a:pt x="0" y="0"/>
                </a:lnTo>
                <a:lnTo>
                  <a:pt x="33" y="197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6320" y="2952720"/>
            <a:ext cx="1198440" cy="0"/>
          </a:xfrm>
          <a:prstGeom prst="line">
            <a:avLst/>
          </a:prstGeom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04920" y="2933640"/>
            <a:ext cx="69840" cy="38160"/>
          </a:xfrm>
          <a:custGeom>
            <a:avLst/>
            <a:gdLst/>
            <a:ahLst/>
            <a:rect l="l" t="t" r="r" b="b"/>
            <a:pathLst>
              <a:path w="193" h="103">
                <a:moveTo>
                  <a:pt x="0" y="103"/>
                </a:moveTo>
                <a:lnTo>
                  <a:pt x="193" y="51"/>
                </a:ln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351160" y="2422080"/>
            <a:ext cx="876240" cy="484200"/>
          </a:xfrm>
          <a:prstGeom prst="line">
            <a:avLst/>
          </a:prstGeom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57560" y="2422440"/>
            <a:ext cx="69840" cy="49320"/>
          </a:xfrm>
          <a:custGeom>
            <a:avLst/>
            <a:gdLst/>
            <a:ahLst/>
            <a:rect l="l" t="t" r="r" b="b"/>
            <a:pathLst>
              <a:path w="194" h="139">
                <a:moveTo>
                  <a:pt x="50" y="139"/>
                </a:moveTo>
                <a:lnTo>
                  <a:pt x="194" y="0"/>
                </a:lnTo>
                <a:lnTo>
                  <a:pt x="0" y="48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1560" y="3757680"/>
            <a:ext cx="1733400" cy="288720"/>
          </a:xfrm>
          <a:custGeom>
            <a:avLst/>
            <a:gdLst/>
            <a:ahLst/>
            <a:rect l="l" t="t" r="r" b="b"/>
            <a:pathLst>
              <a:path w="4796" h="804">
                <a:moveTo>
                  <a:pt x="0" y="77"/>
                </a:moveTo>
                <a:lnTo>
                  <a:pt x="274" y="626"/>
                </a:lnTo>
                <a:cubicBezTo>
                  <a:pt x="334" y="745"/>
                  <a:pt x="430" y="804"/>
                  <a:pt x="563" y="804"/>
                </a:cubicBezTo>
                <a:lnTo>
                  <a:pt x="3523" y="804"/>
                </a:lnTo>
                <a:cubicBezTo>
                  <a:pt x="3657" y="804"/>
                  <a:pt x="3777" y="764"/>
                  <a:pt x="3883" y="684"/>
                </a:cubicBezTo>
                <a:lnTo>
                  <a:pt x="4796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76560" y="3757680"/>
            <a:ext cx="68400" cy="57240"/>
          </a:xfrm>
          <a:custGeom>
            <a:avLst/>
            <a:gdLst/>
            <a:ahLst/>
            <a:rect l="l" t="t" r="r" b="b"/>
            <a:pathLst>
              <a:path w="186" h="158">
                <a:moveTo>
                  <a:pt x="62" y="158"/>
                </a:moveTo>
                <a:lnTo>
                  <a:pt x="186" y="0"/>
                </a:lnTo>
                <a:lnTo>
                  <a:pt x="0" y="75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3760" y="2952720"/>
            <a:ext cx="1755720" cy="655560"/>
          </a:xfrm>
          <a:custGeom>
            <a:avLst/>
            <a:gdLst/>
            <a:ahLst/>
            <a:rect l="l" t="t" r="r" b="b"/>
            <a:pathLst>
              <a:path w="4860" h="1820">
                <a:moveTo>
                  <a:pt x="4860" y="1820"/>
                </a:moveTo>
                <a:lnTo>
                  <a:pt x="4860" y="360"/>
                </a:lnTo>
                <a:cubicBezTo>
                  <a:pt x="4860" y="227"/>
                  <a:pt x="4860" y="134"/>
                  <a:pt x="4860" y="80"/>
                </a:cubicBezTo>
                <a:cubicBezTo>
                  <a:pt x="4860" y="27"/>
                  <a:pt x="4794" y="0"/>
                  <a:pt x="4660" y="0"/>
                </a:cubicBez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3760" y="2933640"/>
            <a:ext cx="69840" cy="38160"/>
          </a:xfrm>
          <a:custGeom>
            <a:avLst/>
            <a:gdLst/>
            <a:ahLst/>
            <a:rect l="l" t="t" r="r" b="b"/>
            <a:pathLst>
              <a:path w="194" h="103">
                <a:moveTo>
                  <a:pt x="194" y="0"/>
                </a:moveTo>
                <a:lnTo>
                  <a:pt x="0" y="51"/>
                </a:lnTo>
                <a:lnTo>
                  <a:pt x="194" y="103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3240" y="3011400"/>
            <a:ext cx="1730160" cy="608040"/>
          </a:xfrm>
          <a:custGeom>
            <a:avLst/>
            <a:gdLst/>
            <a:ahLst/>
            <a:rect l="l" t="t" r="r" b="b"/>
            <a:pathLst>
              <a:path w="4790" h="1690">
                <a:moveTo>
                  <a:pt x="4790" y="1690"/>
                </a:moveTo>
                <a:lnTo>
                  <a:pt x="4214" y="652"/>
                </a:lnTo>
                <a:cubicBezTo>
                  <a:pt x="4149" y="536"/>
                  <a:pt x="4050" y="477"/>
                  <a:pt x="3916" y="477"/>
                </a:cubicBezTo>
                <a:lnTo>
                  <a:pt x="796" y="477"/>
                </a:lnTo>
                <a:cubicBezTo>
                  <a:pt x="663" y="477"/>
                  <a:pt x="544" y="436"/>
                  <a:pt x="440" y="353"/>
                </a:cubicBez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3240" y="3011400"/>
            <a:ext cx="65160" cy="57240"/>
          </a:xfrm>
          <a:custGeom>
            <a:avLst/>
            <a:gdLst/>
            <a:ahLst/>
            <a:rect l="l" t="t" r="r" b="b"/>
            <a:pathLst>
              <a:path w="183" h="161">
                <a:moveTo>
                  <a:pt x="183" y="80"/>
                </a:moveTo>
                <a:lnTo>
                  <a:pt x="0" y="0"/>
                </a:lnTo>
                <a:lnTo>
                  <a:pt x="118" y="161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80920" y="3046320"/>
            <a:ext cx="0" cy="676440"/>
          </a:xfrm>
          <a:prstGeom prst="line">
            <a:avLst/>
          </a:prstGeom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63640" y="3654360"/>
            <a:ext cx="36360" cy="68400"/>
          </a:xfrm>
          <a:custGeom>
            <a:avLst/>
            <a:gdLst/>
            <a:ahLst/>
            <a:rect l="l" t="t" r="r" b="b"/>
            <a:pathLst>
              <a:path w="103" h="193">
                <a:moveTo>
                  <a:pt x="0" y="0"/>
                </a:moveTo>
                <a:lnTo>
                  <a:pt x="51" y="193"/>
                </a:lnTo>
                <a:lnTo>
                  <a:pt x="103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0920" y="2182680"/>
            <a:ext cx="0" cy="676440"/>
          </a:xfrm>
          <a:prstGeom prst="line">
            <a:avLst/>
          </a:prstGeom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63640" y="2789280"/>
            <a:ext cx="36360" cy="69840"/>
          </a:xfrm>
          <a:custGeom>
            <a:avLst/>
            <a:gdLst/>
            <a:ahLst/>
            <a:rect l="l" t="t" r="r" b="b"/>
            <a:pathLst>
              <a:path w="103" h="193">
                <a:moveTo>
                  <a:pt x="0" y="0"/>
                </a:moveTo>
                <a:lnTo>
                  <a:pt x="51" y="193"/>
                </a:lnTo>
                <a:lnTo>
                  <a:pt x="103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05160" y="835200"/>
            <a:ext cx="442800" cy="496800"/>
          </a:xfrm>
          <a:custGeom>
            <a:avLst/>
            <a:gdLst/>
            <a:ahLst/>
            <a:rect l="l" t="t" r="r" b="b"/>
            <a:pathLst>
              <a:path w="1223" h="1382">
                <a:moveTo>
                  <a:pt x="0" y="779"/>
                </a:moveTo>
                <a:lnTo>
                  <a:pt x="1057" y="74"/>
                </a:lnTo>
                <a:cubicBezTo>
                  <a:pt x="1168" y="0"/>
                  <a:pt x="1223" y="30"/>
                  <a:pt x="1223" y="163"/>
                </a:cubicBezTo>
                <a:lnTo>
                  <a:pt x="1223" y="1203"/>
                </a:lnTo>
                <a:cubicBezTo>
                  <a:pt x="1223" y="1337"/>
                  <a:pt x="1160" y="1382"/>
                  <a:pt x="1034" y="1340"/>
                </a:cubicBezTo>
                <a:lnTo>
                  <a:pt x="30" y="1006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6320" y="1197000"/>
            <a:ext cx="72720" cy="39600"/>
          </a:xfrm>
          <a:custGeom>
            <a:avLst/>
            <a:gdLst/>
            <a:ahLst/>
            <a:rect l="l" t="t" r="r" b="b"/>
            <a:pathLst>
              <a:path w="200" h="110">
                <a:moveTo>
                  <a:pt x="200" y="12"/>
                </a:moveTo>
                <a:lnTo>
                  <a:pt x="0" y="0"/>
                </a:lnTo>
                <a:lnTo>
                  <a:pt x="167" y="11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06720" y="1251000"/>
            <a:ext cx="441360" cy="376200"/>
          </a:xfrm>
          <a:custGeom>
            <a:avLst/>
            <a:gdLst/>
            <a:ahLst/>
            <a:rect l="l" t="t" r="r" b="b"/>
            <a:pathLst>
              <a:path w="1221" h="1047">
                <a:moveTo>
                  <a:pt x="727" y="0"/>
                </a:moveTo>
                <a:lnTo>
                  <a:pt x="1161" y="869"/>
                </a:lnTo>
                <a:cubicBezTo>
                  <a:pt x="1221" y="988"/>
                  <a:pt x="1184" y="1047"/>
                  <a:pt x="1050" y="1047"/>
                </a:cubicBezTo>
                <a:lnTo>
                  <a:pt x="170" y="1047"/>
                </a:lnTo>
                <a:cubicBezTo>
                  <a:pt x="37" y="1047"/>
                  <a:pt x="0" y="988"/>
                  <a:pt x="60" y="869"/>
                </a:cubicBezTo>
                <a:lnTo>
                  <a:pt x="494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6680" y="1251000"/>
            <a:ext cx="47880" cy="69840"/>
          </a:xfrm>
          <a:custGeom>
            <a:avLst/>
            <a:gdLst/>
            <a:ahLst/>
            <a:rect l="l" t="t" r="r" b="b"/>
            <a:pathLst>
              <a:path w="132" h="196">
                <a:moveTo>
                  <a:pt x="92" y="196"/>
                </a:moveTo>
                <a:lnTo>
                  <a:pt x="132" y="0"/>
                </a:lnTo>
                <a:lnTo>
                  <a:pt x="0" y="15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47880" y="1817640"/>
            <a:ext cx="222120" cy="324000"/>
          </a:xfrm>
          <a:custGeom>
            <a:avLst/>
            <a:gdLst/>
            <a:ahLst/>
            <a:rect l="l" t="t" r="r" b="b"/>
            <a:pathLst>
              <a:path w="616" h="899">
                <a:moveTo>
                  <a:pt x="0" y="569"/>
                </a:moveTo>
                <a:lnTo>
                  <a:pt x="475" y="94"/>
                </a:lnTo>
                <a:cubicBezTo>
                  <a:pt x="569" y="0"/>
                  <a:pt x="616" y="19"/>
                  <a:pt x="616" y="152"/>
                </a:cubicBezTo>
                <a:lnTo>
                  <a:pt x="616" y="712"/>
                </a:lnTo>
                <a:cubicBezTo>
                  <a:pt x="616" y="846"/>
                  <a:pt x="551" y="899"/>
                  <a:pt x="420" y="873"/>
                </a:cubicBezTo>
                <a:lnTo>
                  <a:pt x="71" y="803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3080" y="2103480"/>
            <a:ext cx="73080" cy="34920"/>
          </a:xfrm>
          <a:custGeom>
            <a:avLst/>
            <a:gdLst/>
            <a:ahLst/>
            <a:rect l="l" t="t" r="r" b="b"/>
            <a:pathLst>
              <a:path w="200" h="101">
                <a:moveTo>
                  <a:pt x="200" y="0"/>
                </a:moveTo>
                <a:lnTo>
                  <a:pt x="0" y="12"/>
                </a:lnTo>
                <a:lnTo>
                  <a:pt x="180" y="101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47880" y="2154240"/>
            <a:ext cx="2268360" cy="222120"/>
          </a:xfrm>
          <a:custGeom>
            <a:avLst/>
            <a:gdLst/>
            <a:ahLst/>
            <a:rect l="l" t="t" r="r" b="b"/>
            <a:pathLst>
              <a:path w="6276" h="616">
                <a:moveTo>
                  <a:pt x="0" y="0"/>
                </a:moveTo>
                <a:lnTo>
                  <a:pt x="475" y="475"/>
                </a:lnTo>
                <a:cubicBezTo>
                  <a:pt x="569" y="569"/>
                  <a:pt x="683" y="616"/>
                  <a:pt x="816" y="616"/>
                </a:cubicBezTo>
                <a:lnTo>
                  <a:pt x="6276" y="616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46400" y="2359080"/>
            <a:ext cx="69840" cy="36360"/>
          </a:xfrm>
          <a:custGeom>
            <a:avLst/>
            <a:gdLst/>
            <a:ahLst/>
            <a:rect l="l" t="t" r="r" b="b"/>
            <a:pathLst>
              <a:path w="193" h="103">
                <a:moveTo>
                  <a:pt x="0" y="103"/>
                </a:moveTo>
                <a:lnTo>
                  <a:pt x="193" y="51"/>
                </a:ln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4880" y="306360"/>
            <a:ext cx="1895400" cy="155520"/>
          </a:xfrm>
          <a:custGeom>
            <a:avLst/>
            <a:gdLst/>
            <a:ahLst/>
            <a:rect l="l" t="t" r="r" b="b"/>
            <a:pathLst>
              <a:path w="5247" h="429">
                <a:moveTo>
                  <a:pt x="0" y="424"/>
                </a:moveTo>
                <a:lnTo>
                  <a:pt x="2267" y="24"/>
                </a:lnTo>
                <a:cubicBezTo>
                  <a:pt x="2398" y="1"/>
                  <a:pt x="2529" y="0"/>
                  <a:pt x="2661" y="21"/>
                </a:cubicBezTo>
                <a:lnTo>
                  <a:pt x="5247" y="429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98640" y="431640"/>
            <a:ext cx="71640" cy="36720"/>
          </a:xfrm>
          <a:custGeom>
            <a:avLst/>
            <a:gdLst/>
            <a:ahLst/>
            <a:rect l="l" t="t" r="r" b="b"/>
            <a:pathLst>
              <a:path w="199" h="102">
                <a:moveTo>
                  <a:pt x="0" y="102"/>
                </a:moveTo>
                <a:lnTo>
                  <a:pt x="199" y="81"/>
                </a:lnTo>
                <a:lnTo>
                  <a:pt x="16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80920" y="569880"/>
            <a:ext cx="0" cy="503280"/>
          </a:xfrm>
          <a:prstGeom prst="line">
            <a:avLst/>
          </a:prstGeom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3640" y="1003320"/>
            <a:ext cx="36360" cy="69840"/>
          </a:xfrm>
          <a:custGeom>
            <a:avLst/>
            <a:gdLst/>
            <a:ahLst/>
            <a:rect l="l" t="t" r="r" b="b"/>
            <a:pathLst>
              <a:path w="103" h="193">
                <a:moveTo>
                  <a:pt x="0" y="0"/>
                </a:moveTo>
                <a:lnTo>
                  <a:pt x="51" y="193"/>
                </a:lnTo>
                <a:lnTo>
                  <a:pt x="103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4880" y="492120"/>
            <a:ext cx="1895400" cy="152280"/>
          </a:xfrm>
          <a:custGeom>
            <a:avLst/>
            <a:gdLst/>
            <a:ahLst/>
            <a:rect l="l" t="t" r="r" b="b"/>
            <a:pathLst>
              <a:path w="5247" h="427">
                <a:moveTo>
                  <a:pt x="5247" y="0"/>
                </a:moveTo>
                <a:lnTo>
                  <a:pt x="2821" y="405"/>
                </a:lnTo>
                <a:cubicBezTo>
                  <a:pt x="2689" y="427"/>
                  <a:pt x="2558" y="427"/>
                  <a:pt x="2426" y="405"/>
                </a:cubicBez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4880" y="484200"/>
            <a:ext cx="71280" cy="36360"/>
          </a:xfrm>
          <a:custGeom>
            <a:avLst/>
            <a:gdLst/>
            <a:ahLst/>
            <a:rect l="l" t="t" r="r" b="b"/>
            <a:pathLst>
              <a:path w="199" h="102">
                <a:moveTo>
                  <a:pt x="199" y="0"/>
                </a:moveTo>
                <a:lnTo>
                  <a:pt x="0" y="19"/>
                </a:lnTo>
                <a:lnTo>
                  <a:pt x="182" y="102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80920" y="1260360"/>
            <a:ext cx="0" cy="735120"/>
          </a:xfrm>
          <a:prstGeom prst="line">
            <a:avLst/>
          </a:prstGeom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63640" y="1925640"/>
            <a:ext cx="36360" cy="69840"/>
          </a:xfrm>
          <a:custGeom>
            <a:avLst/>
            <a:gdLst/>
            <a:ahLst/>
            <a:rect l="l" t="t" r="r" b="b"/>
            <a:pathLst>
              <a:path w="103" h="193">
                <a:moveTo>
                  <a:pt x="0" y="0"/>
                </a:moveTo>
                <a:lnTo>
                  <a:pt x="51" y="193"/>
                </a:lnTo>
                <a:lnTo>
                  <a:pt x="103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6320" y="1166760"/>
            <a:ext cx="1257120" cy="0"/>
          </a:xfrm>
          <a:prstGeom prst="line">
            <a:avLst/>
          </a:prstGeom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3600" y="1149480"/>
            <a:ext cx="69840" cy="36360"/>
          </a:xfrm>
          <a:custGeom>
            <a:avLst/>
            <a:gdLst/>
            <a:ahLst/>
            <a:rect l="l" t="t" r="r" b="b"/>
            <a:pathLst>
              <a:path w="193" h="103">
                <a:moveTo>
                  <a:pt x="0" y="103"/>
                </a:moveTo>
                <a:lnTo>
                  <a:pt x="193" y="51"/>
                </a:ln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69840" y="1184400"/>
            <a:ext cx="1265400" cy="152280"/>
          </a:xfrm>
          <a:custGeom>
            <a:avLst/>
            <a:gdLst/>
            <a:ahLst/>
            <a:rect l="l" t="t" r="r" b="b"/>
            <a:pathLst>
              <a:path w="3500" h="423">
                <a:moveTo>
                  <a:pt x="3500" y="0"/>
                </a:moveTo>
                <a:lnTo>
                  <a:pt x="1233" y="400"/>
                </a:lnTo>
                <a:cubicBezTo>
                  <a:pt x="1102" y="423"/>
                  <a:pt x="974" y="411"/>
                  <a:pt x="849" y="364"/>
                </a:cubicBezTo>
                <a:lnTo>
                  <a:pt x="0" y="46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69840" y="1200240"/>
            <a:ext cx="71640" cy="41040"/>
          </a:xfrm>
          <a:custGeom>
            <a:avLst/>
            <a:gdLst/>
            <a:ahLst/>
            <a:rect l="l" t="t" r="r" b="b"/>
            <a:pathLst>
              <a:path w="199" h="116">
                <a:moveTo>
                  <a:pt x="199" y="19"/>
                </a:moveTo>
                <a:lnTo>
                  <a:pt x="0" y="0"/>
                </a:lnTo>
                <a:lnTo>
                  <a:pt x="163" y="116"/>
                </a:lnTo>
              </a:path>
            </a:pathLst>
          </a:custGeom>
          <a:noFill/>
          <a:ln cap="rnd"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6:38:03Z</dcterms:created>
  <dc:creator>x</dc:creator>
  <dc:description/>
  <dc:language>en-US</dc:language>
  <cp:lastModifiedBy>x</cp:lastModifiedBy>
  <dcterms:modified xsi:type="dcterms:W3CDTF">2009-06-27T16:43:02Z</dcterms:modified>
  <cp:revision>2</cp:revision>
  <dc:subject/>
  <dc:title>Folie 1</dc:title>
</cp:coreProperties>
</file>