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5488" cy="2627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B72-B407-4A7A-8F7B-0851DF6B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40827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6800" y="1519560"/>
            <a:ext cx="40827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39-9143-4294-A0DE-066812D0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1912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6800" y="151956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19120" y="151956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DBE-8A87-4476-A9ED-025277EC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07400" y="61272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87640" y="61272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6800" y="151956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07400" y="151956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87640" y="1519560"/>
            <a:ext cx="13143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E14-1501-415E-A54B-9A27D0A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6800" y="612720"/>
            <a:ext cx="408276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19F-C741-470B-BAB9-40DAB38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408276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C9F-7F9E-48CA-A2B5-2E5E4EAB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99224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19120" y="612720"/>
            <a:ext cx="199224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6D7-D4E3-4066-AFDB-7B241CBC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571-D9F8-4F69-8DD2-097C4772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6800" y="104400"/>
            <a:ext cx="408276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829-3554-4DCD-BD10-19BC613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19120" y="612720"/>
            <a:ext cx="199224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6800" y="151956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530-8A6B-46DE-91DB-A627DC2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99224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1912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19120" y="151956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2A3-2C38-4479-9D10-A8D146B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80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19120" y="612720"/>
            <a:ext cx="199224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6800" y="1519560"/>
            <a:ext cx="4082760" cy="8276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F1A-087E-4F20-9E2B-36A560F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104400"/>
            <a:ext cx="4082760" cy="4381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6800" y="612720"/>
            <a:ext cx="4082760" cy="1735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rmAutofit fontScale="96000"/>
          </a:bodyPr>
          <a:p>
            <a:pPr marL="147600" indent="-147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9680" indent="-1231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90680" indent="-9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7240" indent="-9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83800" indent="-975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83800" indent="-975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83800" indent="-975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6800" y="2393640"/>
            <a:ext cx="1058760" cy="182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lstStyle>
            <a:lvl1pPr indent="0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49080" y="2393640"/>
            <a:ext cx="1438200" cy="182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50800" y="2393640"/>
            <a:ext cx="1058760" cy="18252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fld id="{75E03037-52D3-4A71-8BB9-4675B4DA6DDF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000" y="0"/>
            <a:ext cx="4467960" cy="2571120"/>
            <a:chOff x="18000" y="0"/>
            <a:chExt cx="4467960" cy="2571120"/>
          </a:xfrm>
        </p:grpSpPr>
        <p:sp>
          <p:nvSpPr>
            <p:cNvPr id="42" name=""/>
            <p:cNvSpPr/>
            <p:nvPr/>
          </p:nvSpPr>
          <p:spPr>
            <a:xfrm>
              <a:off x="18000" y="0"/>
              <a:ext cx="24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(a) Deadlock mit Committed (und Urgen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440" y="752400"/>
              <a:ext cx="1837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(b) Urgent: c und d ausführb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080" y="1687680"/>
              <a:ext cx="193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(c) Committed: nur c ausführb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8360" y="320760"/>
              <a:ext cx="1049760" cy="266040"/>
              <a:chOff x="828360" y="320760"/>
              <a:chExt cx="1049760" cy="266040"/>
            </a:xfrm>
          </p:grpSpPr>
          <p:sp>
            <p:nvSpPr>
              <p:cNvPr id="46" name=""/>
              <p:cNvSpPr/>
              <p:nvPr/>
            </p:nvSpPr>
            <p:spPr>
              <a:xfrm>
                <a:off x="828360" y="320760"/>
                <a:ext cx="14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705320" y="414000"/>
                <a:ext cx="17280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705320" y="414000"/>
                <a:ext cx="17280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35200" y="414000"/>
                <a:ext cx="17424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35200" y="414000"/>
                <a:ext cx="17424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65080" y="442800"/>
                <a:ext cx="115560" cy="1152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83800" y="460080"/>
                <a:ext cx="61920" cy="80640"/>
              </a:xfrm>
              <a:custGeom>
                <a:avLst/>
                <a:gdLst/>
                <a:ahLst/>
                <a:rect l="l" t="t" r="r" b="b"/>
                <a:pathLst>
                  <a:path w="174" h="221">
                    <a:moveTo>
                      <a:pt x="174" y="34"/>
                    </a:moveTo>
                    <a:cubicBezTo>
                      <a:pt x="133" y="0"/>
                      <a:pt x="73" y="3"/>
                      <a:pt x="37" y="42"/>
                    </a:cubicBezTo>
                    <a:cubicBezTo>
                      <a:pt x="0" y="80"/>
                      <a:pt x="0" y="141"/>
                      <a:pt x="37" y="179"/>
                    </a:cubicBezTo>
                    <a:cubicBezTo>
                      <a:pt x="73" y="218"/>
                      <a:pt x="133" y="221"/>
                      <a:pt x="174" y="187"/>
                    </a:cubicBezTo>
                  </a:path>
                </a:pathLst>
              </a:cu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27680" y="344160"/>
                <a:ext cx="8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16280" y="499680"/>
                <a:ext cx="68184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27920" y="482400"/>
                <a:ext cx="70200" cy="3600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93600" y="987480"/>
              <a:ext cx="1050840" cy="266040"/>
              <a:chOff x="93600" y="987480"/>
              <a:chExt cx="1050840" cy="266040"/>
            </a:xfrm>
          </p:grpSpPr>
          <p:sp>
            <p:nvSpPr>
              <p:cNvPr id="57" name=""/>
              <p:cNvSpPr/>
              <p:nvPr/>
            </p:nvSpPr>
            <p:spPr>
              <a:xfrm>
                <a:off x="93600" y="98748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9840" y="1080720"/>
                <a:ext cx="17460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69840" y="1080720"/>
                <a:ext cx="174600" cy="17280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1520" y="1080720"/>
                <a:ext cx="17316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1520" y="1080720"/>
                <a:ext cx="173160" cy="17280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9960" y="1109520"/>
                <a:ext cx="115920" cy="1155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600" y="114912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221" h="158">
                    <a:moveTo>
                      <a:pt x="24" y="0"/>
                    </a:moveTo>
                    <a:cubicBezTo>
                      <a:pt x="0" y="43"/>
                      <a:pt x="9" y="96"/>
                      <a:pt x="46" y="127"/>
                    </a:cubicBezTo>
                    <a:cubicBezTo>
                      <a:pt x="83" y="158"/>
                      <a:pt x="138" y="158"/>
                      <a:pt x="175" y="127"/>
                    </a:cubicBezTo>
                    <a:cubicBezTo>
                      <a:pt x="212" y="96"/>
                      <a:pt x="221" y="43"/>
                      <a:pt x="197" y="0"/>
                    </a:cubicBezTo>
                  </a:path>
                </a:pathLst>
              </a:cu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2920" y="1010880"/>
                <a:ext cx="8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82600" y="1166400"/>
                <a:ext cx="681120" cy="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3880" y="1149120"/>
                <a:ext cx="69840" cy="3600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247920" y="981000"/>
              <a:ext cx="1223280" cy="266760"/>
              <a:chOff x="3247920" y="981000"/>
              <a:chExt cx="1223280" cy="266760"/>
            </a:xfrm>
          </p:grpSpPr>
          <p:sp>
            <p:nvSpPr>
              <p:cNvPr id="68" name=""/>
              <p:cNvSpPr/>
              <p:nvPr/>
            </p:nvSpPr>
            <p:spPr>
              <a:xfrm>
                <a:off x="3247920" y="98100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96960" y="1074600"/>
                <a:ext cx="17424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96960" y="1074600"/>
                <a:ext cx="17424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55480" y="107460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55480" y="1074600"/>
                <a:ext cx="17280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284280" y="1103040"/>
                <a:ext cx="115200" cy="1159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4480" y="1004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36560" y="1160280"/>
                <a:ext cx="853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20640" y="1143000"/>
                <a:ext cx="69480" cy="3636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396880" y="200160"/>
              <a:ext cx="1281240" cy="380880"/>
              <a:chOff x="2396880" y="200160"/>
              <a:chExt cx="1281240" cy="380880"/>
            </a:xfrm>
          </p:grpSpPr>
          <p:sp>
            <p:nvSpPr>
              <p:cNvPr id="78" name=""/>
              <p:cNvSpPr/>
              <p:nvPr/>
            </p:nvSpPr>
            <p:spPr>
              <a:xfrm>
                <a:off x="2396880" y="200160"/>
                <a:ext cx="1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04960" y="40788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4960" y="40788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04800" y="40788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04800" y="40788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3600" y="436680"/>
                <a:ext cx="115560" cy="1159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53080" y="223920"/>
                <a:ext cx="227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&gt;=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2480" y="33984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85880" y="495360"/>
                <a:ext cx="9111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27200" y="47628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94" h="103">
                    <a:moveTo>
                      <a:pt x="0" y="103"/>
                    </a:moveTo>
                    <a:lnTo>
                      <a:pt x="194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533240" y="907920"/>
              <a:ext cx="1281240" cy="727200"/>
              <a:chOff x="1533240" y="907920"/>
              <a:chExt cx="1281240" cy="727200"/>
            </a:xfrm>
          </p:grpSpPr>
          <p:sp>
            <p:nvSpPr>
              <p:cNvPr id="89" name=""/>
              <p:cNvSpPr/>
              <p:nvPr/>
            </p:nvSpPr>
            <p:spPr>
              <a:xfrm>
                <a:off x="1533240" y="907920"/>
                <a:ext cx="180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41320" y="146196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41320" y="146196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41320" y="100152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41320" y="100152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41160" y="100152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41160" y="100152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69960" y="1030320"/>
                <a:ext cx="115920" cy="1159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48840" y="93348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3640" y="1335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14320" y="1123920"/>
                <a:ext cx="927000" cy="38880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68240" y="146844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0" y="95"/>
                    </a:moveTo>
                    <a:lnTo>
                      <a:pt x="198" y="123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22240" y="1087560"/>
                <a:ext cx="9111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63560" y="106992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194" h="103">
                    <a:moveTo>
                      <a:pt x="0" y="103"/>
                    </a:moveTo>
                    <a:lnTo>
                      <a:pt x="194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93600" y="1916280"/>
              <a:ext cx="1049760" cy="266040"/>
              <a:chOff x="93600" y="1916280"/>
              <a:chExt cx="1049760" cy="266040"/>
            </a:xfrm>
          </p:grpSpPr>
          <p:sp>
            <p:nvSpPr>
              <p:cNvPr id="104" name=""/>
              <p:cNvSpPr/>
              <p:nvPr/>
            </p:nvSpPr>
            <p:spPr>
              <a:xfrm>
                <a:off x="93600" y="1916280"/>
                <a:ext cx="14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70560" y="2009520"/>
                <a:ext cx="17280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70560" y="2009520"/>
                <a:ext cx="17280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0440" y="2009520"/>
                <a:ext cx="17424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440" y="2009520"/>
                <a:ext cx="17424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0320" y="2038320"/>
                <a:ext cx="115560" cy="1152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040" y="2055600"/>
                <a:ext cx="61920" cy="80640"/>
              </a:xfrm>
              <a:custGeom>
                <a:avLst/>
                <a:gdLst/>
                <a:ahLst/>
                <a:rect l="l" t="t" r="r" b="b"/>
                <a:pathLst>
                  <a:path w="174" h="221">
                    <a:moveTo>
                      <a:pt x="174" y="34"/>
                    </a:moveTo>
                    <a:cubicBezTo>
                      <a:pt x="133" y="0"/>
                      <a:pt x="73" y="3"/>
                      <a:pt x="37" y="42"/>
                    </a:cubicBezTo>
                    <a:cubicBezTo>
                      <a:pt x="0" y="80"/>
                      <a:pt x="0" y="141"/>
                      <a:pt x="37" y="179"/>
                    </a:cubicBezTo>
                    <a:cubicBezTo>
                      <a:pt x="73" y="218"/>
                      <a:pt x="133" y="221"/>
                      <a:pt x="174" y="187"/>
                    </a:cubicBezTo>
                  </a:path>
                </a:pathLst>
              </a:cu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2920" y="1939680"/>
                <a:ext cx="8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1520" y="2095200"/>
                <a:ext cx="68184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3160" y="2077920"/>
                <a:ext cx="70200" cy="3600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261960" y="1916280"/>
              <a:ext cx="1224000" cy="266760"/>
              <a:chOff x="3261960" y="1916280"/>
              <a:chExt cx="1224000" cy="266760"/>
            </a:xfrm>
          </p:grpSpPr>
          <p:sp>
            <p:nvSpPr>
              <p:cNvPr id="115" name=""/>
              <p:cNvSpPr/>
              <p:nvPr/>
            </p:nvSpPr>
            <p:spPr>
              <a:xfrm>
                <a:off x="3261960" y="1916280"/>
                <a:ext cx="1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11360" y="200988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11360" y="2009880"/>
                <a:ext cx="17460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69880" y="2009880"/>
                <a:ext cx="1731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69880" y="2009880"/>
                <a:ext cx="1731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8680" y="2038320"/>
                <a:ext cx="115560" cy="1159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19240" y="19400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50960" y="2095560"/>
                <a:ext cx="853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35040" y="207828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533240" y="1844640"/>
              <a:ext cx="1281240" cy="726480"/>
              <a:chOff x="1533240" y="1844640"/>
              <a:chExt cx="1281240" cy="726480"/>
            </a:xfrm>
          </p:grpSpPr>
          <p:sp>
            <p:nvSpPr>
              <p:cNvPr id="125" name=""/>
              <p:cNvSpPr/>
              <p:nvPr/>
            </p:nvSpPr>
            <p:spPr>
              <a:xfrm>
                <a:off x="1533240" y="1844640"/>
                <a:ext cx="1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41320" y="2398320"/>
                <a:ext cx="17316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41320" y="2398320"/>
                <a:ext cx="17316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41320" y="1937880"/>
                <a:ext cx="17316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41320" y="1937880"/>
                <a:ext cx="17316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41160" y="1937880"/>
                <a:ext cx="17316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41160" y="1937880"/>
                <a:ext cx="17316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69960" y="1966680"/>
                <a:ext cx="115920" cy="1155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48840" y="186984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33640" y="227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14320" y="2060280"/>
                <a:ext cx="927000" cy="38844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68240" y="2404800"/>
                <a:ext cx="73080" cy="4392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0" y="95"/>
                    </a:moveTo>
                    <a:lnTo>
                      <a:pt x="198" y="123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22240" y="2023920"/>
                <a:ext cx="9111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63560" y="200628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94" h="103">
                    <a:moveTo>
                      <a:pt x="0" y="103"/>
                    </a:moveTo>
                    <a:lnTo>
                      <a:pt x="194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07:57Z</dcterms:created>
  <dc:creator>x</dc:creator>
  <dc:description/>
  <dc:language>en-US</dc:language>
  <cp:lastModifiedBy>x</cp:lastModifiedBy>
  <dcterms:modified xsi:type="dcterms:W3CDTF">2009-06-27T16:08:46Z</dcterms:modified>
  <cp:revision>1</cp:revision>
  <dc:subject/>
  <dc:title>Folie 1</dc:title>
</cp:coreProperties>
</file>