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491413" cy="3743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C2A-56BD-4B77-9AEE-ECDC1A77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4400" y="149040"/>
            <a:ext cx="6740280" cy="6253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4400" y="873000"/>
            <a:ext cx="6740280" cy="11790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4400" y="2164320"/>
            <a:ext cx="6740280" cy="11790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4C1-F89F-4AA3-81BA-E9B68DF2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4400" y="149040"/>
            <a:ext cx="6740280" cy="6253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4400" y="873000"/>
            <a:ext cx="3288960" cy="11790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28240" y="873000"/>
            <a:ext cx="3288960" cy="11790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4400" y="2164320"/>
            <a:ext cx="3288960" cy="11790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28240" y="2164320"/>
            <a:ext cx="3288960" cy="11790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215-FF40-4F96-AD0E-51A4956D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4400" y="149040"/>
            <a:ext cx="6740280" cy="6253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4400" y="873000"/>
            <a:ext cx="2170080" cy="11790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3200" y="873000"/>
            <a:ext cx="2170080" cy="11790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32360" y="873000"/>
            <a:ext cx="2170080" cy="11790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4400" y="2164320"/>
            <a:ext cx="2170080" cy="11790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3200" y="2164320"/>
            <a:ext cx="2170080" cy="11790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32360" y="2164320"/>
            <a:ext cx="2170080" cy="11790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6E2-9B85-4CDB-B752-549008EA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4400" y="149040"/>
            <a:ext cx="6740280" cy="6253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4400" y="873000"/>
            <a:ext cx="6740280" cy="24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311-6BAE-444B-BB99-95267D8A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4400" y="149040"/>
            <a:ext cx="6740280" cy="6253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4400" y="873000"/>
            <a:ext cx="6740280" cy="247176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3CC-0717-4EBB-AA6D-0B9E10D2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4400" y="149040"/>
            <a:ext cx="6740280" cy="6253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400" y="873000"/>
            <a:ext cx="3288960" cy="247176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28240" y="873000"/>
            <a:ext cx="3288960" cy="247176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7C4-CE32-4975-9330-628576F9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4400" y="149040"/>
            <a:ext cx="6740280" cy="6253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F62-BBAD-462D-B591-71D5406D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4400" y="149040"/>
            <a:ext cx="674028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076-5E83-4AA2-A027-D8F10DF0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4400" y="149040"/>
            <a:ext cx="6740280" cy="6253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4400" y="873000"/>
            <a:ext cx="3288960" cy="11790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28240" y="873000"/>
            <a:ext cx="3288960" cy="247176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4400" y="2164320"/>
            <a:ext cx="3288960" cy="11790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160-7A32-4562-91A7-3D64C851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4400" y="149040"/>
            <a:ext cx="6740280" cy="6253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4400" y="873000"/>
            <a:ext cx="3288960" cy="247176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28240" y="873000"/>
            <a:ext cx="3288960" cy="11790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28240" y="2164320"/>
            <a:ext cx="3288960" cy="11790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1EF-396E-4D55-8390-C29F360A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4400" y="149040"/>
            <a:ext cx="6740280" cy="6253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4400" y="873000"/>
            <a:ext cx="3288960" cy="11790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28240" y="873000"/>
            <a:ext cx="3288960" cy="11790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4400" y="2164320"/>
            <a:ext cx="6740280" cy="11790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65A-D4ED-46C0-B9B8-C018F109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4400" y="149040"/>
            <a:ext cx="6740280" cy="62532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400" y="873000"/>
            <a:ext cx="6740280" cy="247176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rmAutofit fontScale="87000"/>
          </a:bodyPr>
          <a:p>
            <a:pPr marL="209520" indent="-209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4320" indent="-175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97320" indent="-1393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77760" indent="-139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256760" indent="-1396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256760" indent="-1396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256760" indent="-1396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4400" y="3409560"/>
            <a:ext cx="1747800" cy="2602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Autofit/>
          </a:bodyPr>
          <a:lstStyle>
            <a:lvl1pPr indent="0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58520" y="3409560"/>
            <a:ext cx="2372040" cy="2602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Autofit/>
          </a:bodyPr>
          <a:lstStyle>
            <a:lvl1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366880" y="3409560"/>
            <a:ext cx="1747800" cy="26028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Autofit/>
          </a:bodyPr>
          <a:lstStyle>
            <a:lvl1pPr indent="0" algn="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fld id="{81E0DC9D-C3F1-4111-8C72-9DB29F2B86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2840" y="34920"/>
            <a:ext cx="7418160" cy="3672000"/>
            <a:chOff x="42840" y="34920"/>
            <a:chExt cx="7418160" cy="3672000"/>
          </a:xfrm>
        </p:grpSpPr>
        <p:sp>
          <p:nvSpPr>
            <p:cNvPr id="42" name=""/>
            <p:cNvSpPr/>
            <p:nvPr/>
          </p:nvSpPr>
          <p:spPr>
            <a:xfrm>
              <a:off x="475920" y="34920"/>
              <a:ext cx="50508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2840" y="75420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880" y="723960"/>
              <a:ext cx="33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6280" y="754200"/>
              <a:ext cx="50508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17640" y="723960"/>
              <a:ext cx="33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280" y="154476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18840" y="254160"/>
              <a:ext cx="1447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" name=""/>
            <p:cNvCxnSpPr>
              <a:stCxn id="45" idx="0"/>
              <a:endCxn id="42" idx="5"/>
            </p:cNvCxnSpPr>
            <p:nvPr/>
          </p:nvCxnSpPr>
          <p:spPr>
            <a:xfrm flipH="1" flipV="1">
              <a:off x="907200" y="466200"/>
              <a:ext cx="181800" cy="288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lg" type="arrow" w="lg"/>
            </a:ln>
          </p:spPr>
        </p:cxnSp>
        <p:cxnSp>
          <p:nvCxnSpPr>
            <p:cNvPr id="50" name=""/>
            <p:cNvCxnSpPr>
              <a:stCxn id="47" idx="4"/>
              <a:endCxn id="51" idx="0"/>
            </p:cNvCxnSpPr>
            <p:nvPr/>
          </p:nvCxnSpPr>
          <p:spPr>
            <a:xfrm>
              <a:off x="296640" y="2049480"/>
              <a:ext cx="360" cy="287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2" name=""/>
            <p:cNvCxnSpPr>
              <a:stCxn id="43" idx="2"/>
              <a:endCxn id="47" idx="0"/>
            </p:cNvCxnSpPr>
            <p:nvPr/>
          </p:nvCxnSpPr>
          <p:spPr>
            <a:xfrm>
              <a:off x="295200" y="1258920"/>
              <a:ext cx="180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3" name=""/>
            <p:cNvCxnSpPr>
              <a:stCxn id="42" idx="3"/>
              <a:endCxn id="43" idx="0"/>
            </p:cNvCxnSpPr>
            <p:nvPr/>
          </p:nvCxnSpPr>
          <p:spPr>
            <a:xfrm flipH="1">
              <a:off x="295200" y="466200"/>
              <a:ext cx="254880" cy="288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grpSp>
          <p:nvGrpSpPr>
            <p:cNvPr id="54" name=""/>
            <p:cNvGrpSpPr/>
            <p:nvPr/>
          </p:nvGrpSpPr>
          <p:grpSpPr>
            <a:xfrm>
              <a:off x="44280" y="2336760"/>
              <a:ext cx="504720" cy="504720"/>
              <a:chOff x="44280" y="2336760"/>
              <a:chExt cx="504720" cy="504720"/>
            </a:xfrm>
          </p:grpSpPr>
          <p:sp>
            <p:nvSpPr>
              <p:cNvPr id="51" name=""/>
              <p:cNvSpPr/>
              <p:nvPr/>
            </p:nvSpPr>
            <p:spPr>
              <a:xfrm>
                <a:off x="44280" y="2336760"/>
                <a:ext cx="504720" cy="504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8760" y="240984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44280" y="312912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" name=""/>
            <p:cNvCxnSpPr>
              <a:stCxn id="51" idx="2"/>
              <a:endCxn id="56" idx="0"/>
            </p:cNvCxnSpPr>
            <p:nvPr/>
          </p:nvCxnSpPr>
          <p:spPr>
            <a:xfrm>
              <a:off x="296640" y="2841480"/>
              <a:ext cx="360" cy="288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8" name=""/>
            <p:cNvSpPr/>
            <p:nvPr/>
          </p:nvSpPr>
          <p:spPr>
            <a:xfrm>
              <a:off x="836280" y="1544760"/>
              <a:ext cx="505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" name=""/>
            <p:cNvCxnSpPr>
              <a:stCxn id="58" idx="4"/>
              <a:endCxn id="60" idx="0"/>
            </p:cNvCxnSpPr>
            <p:nvPr/>
          </p:nvCxnSpPr>
          <p:spPr>
            <a:xfrm flipH="1">
              <a:off x="1088640" y="2049480"/>
              <a:ext cx="720" cy="287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1" name=""/>
            <p:cNvCxnSpPr>
              <a:stCxn id="45" idx="2"/>
              <a:endCxn id="58" idx="0"/>
            </p:cNvCxnSpPr>
            <p:nvPr/>
          </p:nvCxnSpPr>
          <p:spPr>
            <a:xfrm>
              <a:off x="1088640" y="1258920"/>
              <a:ext cx="72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grpSp>
          <p:nvGrpSpPr>
            <p:cNvPr id="62" name=""/>
            <p:cNvGrpSpPr/>
            <p:nvPr/>
          </p:nvGrpSpPr>
          <p:grpSpPr>
            <a:xfrm>
              <a:off x="836280" y="2336760"/>
              <a:ext cx="504720" cy="504720"/>
              <a:chOff x="836280" y="2336760"/>
              <a:chExt cx="504720" cy="504720"/>
            </a:xfrm>
          </p:grpSpPr>
          <p:sp>
            <p:nvSpPr>
              <p:cNvPr id="60" name=""/>
              <p:cNvSpPr/>
              <p:nvPr/>
            </p:nvSpPr>
            <p:spPr>
              <a:xfrm>
                <a:off x="836280" y="2336760"/>
                <a:ext cx="504720" cy="504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46720" y="2409840"/>
                <a:ext cx="42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836280" y="3129120"/>
              <a:ext cx="505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"/>
            <p:cNvCxnSpPr>
              <a:stCxn id="60" idx="2"/>
              <a:endCxn id="64" idx="0"/>
            </p:cNvCxnSpPr>
            <p:nvPr/>
          </p:nvCxnSpPr>
          <p:spPr>
            <a:xfrm>
              <a:off x="1088640" y="2841480"/>
              <a:ext cx="720" cy="288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66" name=""/>
            <p:cNvSpPr/>
            <p:nvPr/>
          </p:nvSpPr>
          <p:spPr>
            <a:xfrm>
              <a:off x="6595920" y="169236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6162480" y="2411640"/>
              <a:ext cx="504720" cy="504720"/>
              <a:chOff x="6162480" y="2411640"/>
              <a:chExt cx="504720" cy="504720"/>
            </a:xfrm>
          </p:grpSpPr>
          <p:sp>
            <p:nvSpPr>
              <p:cNvPr id="68" name=""/>
              <p:cNvSpPr/>
              <p:nvPr/>
            </p:nvSpPr>
            <p:spPr>
              <a:xfrm>
                <a:off x="6162480" y="2411640"/>
                <a:ext cx="504720" cy="504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186960" y="248472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956280" y="241164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52680" y="24843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64280" y="320220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38840" y="1911600"/>
              <a:ext cx="144360" cy="14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"/>
            <p:cNvCxnSpPr>
              <a:stCxn id="70" idx="0"/>
              <a:endCxn id="66" idx="5"/>
            </p:cNvCxnSpPr>
            <p:nvPr/>
          </p:nvCxnSpPr>
          <p:spPr>
            <a:xfrm flipH="1" flipV="1">
              <a:off x="7026840" y="2123280"/>
              <a:ext cx="182160" cy="288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lg" type="arrow" w="lg"/>
            </a:ln>
          </p:spPr>
        </p:cxnSp>
        <p:cxnSp>
          <p:nvCxnSpPr>
            <p:cNvPr id="75" name=""/>
            <p:cNvCxnSpPr>
              <a:stCxn id="68" idx="2"/>
              <a:endCxn id="72" idx="0"/>
            </p:cNvCxnSpPr>
            <p:nvPr/>
          </p:nvCxnSpPr>
          <p:spPr>
            <a:xfrm>
              <a:off x="6414840" y="2916360"/>
              <a:ext cx="216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6" name=""/>
            <p:cNvCxnSpPr>
              <a:stCxn id="66" idx="3"/>
              <a:endCxn id="68" idx="0"/>
            </p:cNvCxnSpPr>
            <p:nvPr/>
          </p:nvCxnSpPr>
          <p:spPr>
            <a:xfrm flipH="1">
              <a:off x="6414840" y="2123280"/>
              <a:ext cx="255240" cy="288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77" name=""/>
            <p:cNvSpPr/>
            <p:nvPr/>
          </p:nvSpPr>
          <p:spPr>
            <a:xfrm>
              <a:off x="6956280" y="320220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0" idx="2"/>
              <a:endCxn id="77" idx="0"/>
            </p:cNvCxnSpPr>
            <p:nvPr/>
          </p:nvCxnSpPr>
          <p:spPr>
            <a:xfrm>
              <a:off x="7208640" y="2916360"/>
              <a:ext cx="36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79" name=""/>
            <p:cNvSpPr/>
            <p:nvPr/>
          </p:nvSpPr>
          <p:spPr>
            <a:xfrm>
              <a:off x="2060280" y="100080"/>
              <a:ext cx="38163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&lt;- Interne Entscheidung über mögliche Folgekommunik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terne Entscheidung  -&gt; über mögliche Folgekommunik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0:28:49Z</dcterms:created>
  <dc:creator>x</dc:creator>
  <dc:description/>
  <dc:language>en-US</dc:language>
  <cp:lastModifiedBy>x</cp:lastModifiedBy>
  <dcterms:modified xsi:type="dcterms:W3CDTF">2009-02-10T18:02:59Z</dcterms:modified>
  <cp:revision>3</cp:revision>
  <dc:subject/>
  <dc:title>Folie 1</dc:title>
</cp:coreProperties>
</file>