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064500" cy="24844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34D4-56C0-41C9-8924-10F60BC36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2840" y="55800"/>
            <a:ext cx="7257960" cy="5025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2840" y="579240"/>
            <a:ext cx="725796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2840" y="1435680"/>
            <a:ext cx="725796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577A-B1BD-48B9-82DD-0B6859C2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2840" y="55800"/>
            <a:ext cx="7257960" cy="5025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2840" y="579240"/>
            <a:ext cx="354168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22000" y="579240"/>
            <a:ext cx="354168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2840" y="1435680"/>
            <a:ext cx="354168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22000" y="1435680"/>
            <a:ext cx="354168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A692-1C9D-42F8-BD8A-05F9F4448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2840" y="55800"/>
            <a:ext cx="7257960" cy="5025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2840" y="579240"/>
            <a:ext cx="233676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56960" y="579240"/>
            <a:ext cx="233676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10720" y="579240"/>
            <a:ext cx="233676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2840" y="1435680"/>
            <a:ext cx="233676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56960" y="1435680"/>
            <a:ext cx="233676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10720" y="1435680"/>
            <a:ext cx="233676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CDC7-41F8-46BC-94E8-C0FF42979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2840" y="55800"/>
            <a:ext cx="7257960" cy="5025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2840" y="579240"/>
            <a:ext cx="7257960" cy="16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9A21-8ABE-4E8C-BFA6-6AF92BC4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2840" y="55800"/>
            <a:ext cx="7257960" cy="5025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2840" y="579240"/>
            <a:ext cx="7257960" cy="163980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13CD-3C69-4423-B99C-E7A7300F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2840" y="55800"/>
            <a:ext cx="7257960" cy="5025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2840" y="579240"/>
            <a:ext cx="3541680" cy="163980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22000" y="579240"/>
            <a:ext cx="3541680" cy="163980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9333-054C-4B50-A814-E1118209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2840" y="55800"/>
            <a:ext cx="7257960" cy="5025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F48C-6BBE-41BE-9CC2-8209E510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2840" y="99720"/>
            <a:ext cx="72579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C28D-086E-4C96-834A-0E46F70A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2840" y="55800"/>
            <a:ext cx="7257960" cy="5025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2840" y="579240"/>
            <a:ext cx="354168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22000" y="579240"/>
            <a:ext cx="3541680" cy="163980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2840" y="1435680"/>
            <a:ext cx="354168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23D4-B8F3-40E8-B976-FD097277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2840" y="55800"/>
            <a:ext cx="7257960" cy="5025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2840" y="579240"/>
            <a:ext cx="3541680" cy="163980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22000" y="579240"/>
            <a:ext cx="354168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22000" y="1435680"/>
            <a:ext cx="354168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CA38-13E2-404D-9A1B-3959F815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2840" y="55800"/>
            <a:ext cx="7257960" cy="5025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2840" y="579240"/>
            <a:ext cx="354168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22000" y="579240"/>
            <a:ext cx="354168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2840" y="1435680"/>
            <a:ext cx="725796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6180-D4F0-4125-9CF5-6C76EB68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2840" y="99720"/>
            <a:ext cx="7257960" cy="4143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2840" y="579240"/>
            <a:ext cx="7257960" cy="163980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 fontScale="59000"/>
          </a:bodyPr>
          <a:p>
            <a:pPr marL="132840" indent="-1328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289440" indent="-1112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444960" indent="-889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621720" indent="-87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799560" indent="-88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799560" indent="-88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799560" indent="-88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03200" y="2261880"/>
            <a:ext cx="1881360" cy="1731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Autofit/>
          </a:bodyPr>
          <a:lstStyle>
            <a:lvl1pPr indent="0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55440" y="2261880"/>
            <a:ext cx="2552760" cy="1731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Autofit/>
          </a:bodyPr>
          <a:lstStyle>
            <a:lvl1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79800" y="2261880"/>
            <a:ext cx="1881000" cy="1731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Autofit/>
          </a:bodyPr>
          <a:lstStyle>
            <a:lvl1pPr indent="0" algn="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fld id="{1954C7CD-59F4-4217-B65F-4F57CE62FF0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4920" y="44280"/>
            <a:ext cx="7993080" cy="2438280"/>
            <a:chOff x="34920" y="44280"/>
            <a:chExt cx="7993080" cy="2438280"/>
          </a:xfrm>
        </p:grpSpPr>
        <p:sp>
          <p:nvSpPr>
            <p:cNvPr id="42" name=""/>
            <p:cNvSpPr/>
            <p:nvPr/>
          </p:nvSpPr>
          <p:spPr>
            <a:xfrm>
              <a:off x="2266920" y="44280"/>
              <a:ext cx="360360" cy="3603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490920" y="549000"/>
              <a:ext cx="360360" cy="3603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42920" y="549000"/>
              <a:ext cx="360360" cy="3603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" name=""/>
            <p:cNvCxnSpPr>
              <a:stCxn id="42" idx="3"/>
              <a:endCxn id="44" idx="7"/>
            </p:cNvCxnSpPr>
            <p:nvPr/>
          </p:nvCxnSpPr>
          <p:spPr>
            <a:xfrm flipH="1">
              <a:off x="1350720" y="352080"/>
              <a:ext cx="969120" cy="24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46" name=""/>
            <p:cNvCxnSpPr>
              <a:stCxn id="42" idx="5"/>
              <a:endCxn id="43" idx="1"/>
            </p:cNvCxnSpPr>
            <p:nvPr/>
          </p:nvCxnSpPr>
          <p:spPr>
            <a:xfrm>
              <a:off x="2574720" y="352080"/>
              <a:ext cx="969120" cy="24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47" name=""/>
            <p:cNvSpPr/>
            <p:nvPr/>
          </p:nvSpPr>
          <p:spPr>
            <a:xfrm>
              <a:off x="393840" y="1196640"/>
              <a:ext cx="360360" cy="3603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54200" y="1701360"/>
              <a:ext cx="360360" cy="3603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0" y="1701360"/>
              <a:ext cx="360360" cy="3603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7" idx="3"/>
              <a:endCxn id="49" idx="7"/>
            </p:cNvCxnSpPr>
            <p:nvPr/>
          </p:nvCxnSpPr>
          <p:spPr>
            <a:xfrm flipH="1">
              <a:off x="342720" y="1504440"/>
              <a:ext cx="104040" cy="24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51" name=""/>
            <p:cNvCxnSpPr>
              <a:stCxn id="47" idx="5"/>
              <a:endCxn id="48" idx="1"/>
            </p:cNvCxnSpPr>
            <p:nvPr/>
          </p:nvCxnSpPr>
          <p:spPr>
            <a:xfrm>
              <a:off x="701640" y="1504440"/>
              <a:ext cx="105480" cy="24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52" name=""/>
            <p:cNvSpPr/>
            <p:nvPr/>
          </p:nvSpPr>
          <p:spPr>
            <a:xfrm>
              <a:off x="1619280" y="1196640"/>
              <a:ext cx="360360" cy="3603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79640" y="1701360"/>
              <a:ext cx="360360" cy="3603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260720" y="1701360"/>
              <a:ext cx="360360" cy="3603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" name=""/>
            <p:cNvCxnSpPr>
              <a:stCxn id="52" idx="3"/>
              <a:endCxn id="54" idx="7"/>
            </p:cNvCxnSpPr>
            <p:nvPr/>
          </p:nvCxnSpPr>
          <p:spPr>
            <a:xfrm flipH="1">
              <a:off x="1568520" y="1504440"/>
              <a:ext cx="103680" cy="24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56" name=""/>
            <p:cNvCxnSpPr>
              <a:stCxn id="52" idx="5"/>
              <a:endCxn id="53" idx="1"/>
            </p:cNvCxnSpPr>
            <p:nvPr/>
          </p:nvCxnSpPr>
          <p:spPr>
            <a:xfrm>
              <a:off x="1927080" y="1504440"/>
              <a:ext cx="105480" cy="24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57" name=""/>
            <p:cNvSpPr/>
            <p:nvPr/>
          </p:nvSpPr>
          <p:spPr>
            <a:xfrm>
              <a:off x="2843280" y="1196640"/>
              <a:ext cx="360360" cy="3603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03640" y="1701360"/>
              <a:ext cx="360360" cy="3603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84720" y="1701360"/>
              <a:ext cx="360360" cy="3603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" name=""/>
            <p:cNvCxnSpPr>
              <a:stCxn id="57" idx="3"/>
              <a:endCxn id="59" idx="7"/>
            </p:cNvCxnSpPr>
            <p:nvPr/>
          </p:nvCxnSpPr>
          <p:spPr>
            <a:xfrm flipH="1">
              <a:off x="2792520" y="1504440"/>
              <a:ext cx="103680" cy="24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61" name=""/>
            <p:cNvCxnSpPr>
              <a:stCxn id="57" idx="5"/>
              <a:endCxn id="58" idx="1"/>
            </p:cNvCxnSpPr>
            <p:nvPr/>
          </p:nvCxnSpPr>
          <p:spPr>
            <a:xfrm>
              <a:off x="3151080" y="1504440"/>
              <a:ext cx="105480" cy="24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62" name=""/>
            <p:cNvSpPr/>
            <p:nvPr/>
          </p:nvSpPr>
          <p:spPr>
            <a:xfrm>
              <a:off x="4067280" y="1196640"/>
              <a:ext cx="360360" cy="3603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27640" y="1701360"/>
              <a:ext cx="360360" cy="3603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708360" y="1701360"/>
              <a:ext cx="360360" cy="3603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" name=""/>
            <p:cNvCxnSpPr>
              <a:stCxn id="62" idx="3"/>
              <a:endCxn id="64" idx="7"/>
            </p:cNvCxnSpPr>
            <p:nvPr/>
          </p:nvCxnSpPr>
          <p:spPr>
            <a:xfrm flipH="1">
              <a:off x="4016160" y="1504440"/>
              <a:ext cx="104040" cy="24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66" name=""/>
            <p:cNvCxnSpPr>
              <a:stCxn id="62" idx="5"/>
              <a:endCxn id="63" idx="1"/>
            </p:cNvCxnSpPr>
            <p:nvPr/>
          </p:nvCxnSpPr>
          <p:spPr>
            <a:xfrm>
              <a:off x="4375080" y="1504440"/>
              <a:ext cx="105480" cy="24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67" name=""/>
            <p:cNvCxnSpPr>
              <a:stCxn id="44" idx="3"/>
              <a:endCxn id="47" idx="7"/>
            </p:cNvCxnSpPr>
            <p:nvPr/>
          </p:nvCxnSpPr>
          <p:spPr>
            <a:xfrm flipH="1">
              <a:off x="701640" y="856800"/>
              <a:ext cx="394200" cy="392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68" name=""/>
            <p:cNvCxnSpPr>
              <a:stCxn id="44" idx="5"/>
              <a:endCxn id="52" idx="1"/>
            </p:cNvCxnSpPr>
            <p:nvPr/>
          </p:nvCxnSpPr>
          <p:spPr>
            <a:xfrm>
              <a:off x="1350720" y="856800"/>
              <a:ext cx="321480" cy="392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69" name=""/>
            <p:cNvCxnSpPr>
              <a:stCxn id="43" idx="5"/>
              <a:endCxn id="62" idx="1"/>
            </p:cNvCxnSpPr>
            <p:nvPr/>
          </p:nvCxnSpPr>
          <p:spPr>
            <a:xfrm>
              <a:off x="3798720" y="856800"/>
              <a:ext cx="321480" cy="392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70" name=""/>
            <p:cNvCxnSpPr>
              <a:stCxn id="43" idx="3"/>
              <a:endCxn id="57" idx="7"/>
            </p:cNvCxnSpPr>
            <p:nvPr/>
          </p:nvCxnSpPr>
          <p:spPr>
            <a:xfrm flipH="1">
              <a:off x="3151080" y="856800"/>
              <a:ext cx="392760" cy="392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71" name=""/>
            <p:cNvSpPr/>
            <p:nvPr/>
          </p:nvSpPr>
          <p:spPr>
            <a:xfrm>
              <a:off x="6061320" y="177480"/>
              <a:ext cx="19666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[] 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: genau hi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ilt 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080" y="2060280"/>
              <a:ext cx="3070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05320" y="2060280"/>
              <a:ext cx="3070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10040" y="2060280"/>
              <a:ext cx="3070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029320" y="2060280"/>
              <a:ext cx="3070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34040" y="2060280"/>
              <a:ext cx="3070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53320" y="2060280"/>
              <a:ext cx="3070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58040" y="2060280"/>
              <a:ext cx="3070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78760" y="2060280"/>
              <a:ext cx="3070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672160" y="1757160"/>
              <a:ext cx="360360" cy="3603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11:47:12Z</dcterms:created>
  <dc:creator>x</dc:creator>
  <dc:description/>
  <dc:language>en-US</dc:language>
  <cp:lastModifiedBy>x</cp:lastModifiedBy>
  <dcterms:modified xsi:type="dcterms:W3CDTF">2007-01-07T11:47:49Z</dcterms:modified>
  <cp:revision>1</cp:revision>
  <dc:subject/>
  <dc:title>Folie 1</dc:title>
</cp:coreProperties>
</file>