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300788" cy="1692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611-CA46-462A-8446-933AE91E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567216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978480"/>
            <a:ext cx="567216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664-9348-49BD-859B-7692A65A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20560" y="3952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9784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20560" y="9784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20C-8BC7-4BD6-8010-F37D9F36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18262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32360" y="395280"/>
            <a:ext cx="18262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50080" y="395280"/>
            <a:ext cx="18262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978480"/>
            <a:ext cx="18262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32360" y="978480"/>
            <a:ext cx="18262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50080" y="978480"/>
            <a:ext cx="18262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471-0075-4F04-9F39-673C62B3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395280"/>
            <a:ext cx="567216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631-4763-43E0-A3EE-12AA3B5B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5672160" cy="11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AF7-62C3-4C9C-868F-31EF2476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2767680" cy="11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20560" y="395280"/>
            <a:ext cx="2767680" cy="11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89F-D0EE-4999-966B-9E19719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B09-B0D3-4839-BA84-A2B6D7F2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68400"/>
            <a:ext cx="56721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A43-36FF-45FC-AF85-A0E9B591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20560" y="395280"/>
            <a:ext cx="2767680" cy="11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9784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D9F-D961-4EE3-AE4F-35A72C4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2767680" cy="11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20560" y="3952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20560" y="9784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C0E-0A00-42E0-AF21-6C286460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18360"/>
            <a:ext cx="567216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3952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20560" y="395280"/>
            <a:ext cx="276768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978480"/>
            <a:ext cx="567216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EBB-30BD-4EB6-A438-FA2E4E8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68400"/>
            <a:ext cx="5672160" cy="28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395280"/>
            <a:ext cx="5672160" cy="11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rmAutofit fontScale="53000"/>
          </a:bodyPr>
          <a:p>
            <a:pPr marL="90720" indent="-9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560" indent="-75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2760" indent="-60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23000" indent="-59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44320" indent="-60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44320" indent="-60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44320" indent="-60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4280" y="1541520"/>
            <a:ext cx="1471680" cy="11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52440" y="1541520"/>
            <a:ext cx="1995480" cy="11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14760" y="1541520"/>
            <a:ext cx="1471680" cy="11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2680" bIns="2268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70E36-C635-4411-ACB9-B54DB1886B56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1480" y="81000"/>
            <a:ext cx="6242040" cy="1628640"/>
            <a:chOff x="51480" y="81000"/>
            <a:chExt cx="6242040" cy="1628640"/>
          </a:xfrm>
        </p:grpSpPr>
        <p:sp>
          <p:nvSpPr>
            <p:cNvPr id="42" name=""/>
            <p:cNvSpPr/>
            <p:nvPr/>
          </p:nvSpPr>
          <p:spPr>
            <a:xfrm>
              <a:off x="51480" y="244080"/>
              <a:ext cx="2100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proctype P1()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4920" y="225000"/>
              <a:ext cx="2100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proctype P2()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b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75360" y="29664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48520" y="8013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745600" y="8013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1200" y="132516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79800" y="441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79800" y="1153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7040" y="1153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67040" y="441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83080" y="81000"/>
              <a:ext cx="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14360" y="29664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35560" y="29664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951080" y="657000"/>
              <a:ext cx="43164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383080" y="1160280"/>
              <a:ext cx="43200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51440" y="1160280"/>
              <a:ext cx="43164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83080" y="657000"/>
              <a:ext cx="43200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8:28:54Z</dcterms:created>
  <dc:creator>x</dc:creator>
  <dc:description/>
  <dc:language>en-US</dc:language>
  <cp:lastModifiedBy>x</cp:lastModifiedBy>
  <dcterms:modified xsi:type="dcterms:W3CDTF">2006-03-07T08:30:06Z</dcterms:modified>
  <cp:revision>2</cp:revision>
  <dc:subject/>
  <dc:title>Folie 1</dc:title>
</cp:coreProperties>
</file>