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555875" cy="1655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C57-C087-449B-B5E2-CD0E37C9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20" y="385920"/>
            <a:ext cx="230040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520" y="957600"/>
            <a:ext cx="230040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5E2-1CCA-4565-9F2E-D43B37AA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520" y="38592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07520" y="38592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520" y="95760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07520" y="95760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E9F-6D96-4113-950A-3FC2E4B6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520" y="385920"/>
            <a:ext cx="74052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6480" y="385920"/>
            <a:ext cx="74052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84440" y="385920"/>
            <a:ext cx="74052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520" y="957600"/>
            <a:ext cx="74052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06480" y="957600"/>
            <a:ext cx="74052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84440" y="957600"/>
            <a:ext cx="74052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327-3089-4C95-B380-1A0549EB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520" y="385920"/>
            <a:ext cx="2300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B24-33D1-4D26-80F5-AD611526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520" y="385920"/>
            <a:ext cx="2300400" cy="10936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6A7-AFFE-41EA-8A9F-3195189E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20" y="385920"/>
            <a:ext cx="1122480" cy="10936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07520" y="385920"/>
            <a:ext cx="1122480" cy="10936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3A0-5E92-4D68-B0B0-2E2D2889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A26-6408-4DE5-BC8F-3A16230F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520" y="66600"/>
            <a:ext cx="2300400" cy="12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86E-CF40-4896-A3FC-C5C37BDB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520" y="38592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07520" y="385920"/>
            <a:ext cx="1122480" cy="10936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520" y="95760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D85-CFA0-4440-89D7-F7BE3DBB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20" y="385920"/>
            <a:ext cx="1122480" cy="10936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07520" y="38592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07520" y="95760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06B-DD52-4127-B517-154EE958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20" y="38592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07520" y="385920"/>
            <a:ext cx="112248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520" y="957600"/>
            <a:ext cx="2300400" cy="521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B92-4B65-4F7F-A0B4-34D713B9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520" y="66600"/>
            <a:ext cx="2300400" cy="276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20" y="385920"/>
            <a:ext cx="2300400" cy="10936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marL="90360" indent="-90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95120" indent="-7452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299880" indent="-58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420840" indent="-604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541440" indent="-604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5" marL="541440" indent="-604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6" marL="541440" indent="-604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8520" y="1508040"/>
            <a:ext cx="595440" cy="114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Autofit/>
          </a:bodyPr>
          <a:lstStyle>
            <a:lvl1pPr indent="0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72640" y="1508040"/>
            <a:ext cx="809640" cy="114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Autofit/>
          </a:bodyPr>
          <a:lstStyle>
            <a:lvl1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32040" y="1508040"/>
            <a:ext cx="596880" cy="1144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Autofit/>
          </a:bodyPr>
          <a:lstStyle>
            <a:lvl1pPr indent="0" algn="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fld id="{7C77484C-FDF6-425F-9C99-93E0543FA9CB}" type="slidenum">
              <a:rPr b="0" lang="en-US" sz="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6560" y="1440"/>
            <a:ext cx="2520000" cy="1617840"/>
            <a:chOff x="-16560" y="1440"/>
            <a:chExt cx="2520000" cy="1617840"/>
          </a:xfrm>
        </p:grpSpPr>
        <p:sp>
          <p:nvSpPr>
            <p:cNvPr id="42" name=""/>
            <p:cNvSpPr/>
            <p:nvPr/>
          </p:nvSpPr>
          <p:spPr>
            <a:xfrm>
              <a:off x="560160" y="12240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60160" y="82872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60160" y="43344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0160" y="144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0160" y="144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0160" y="144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34720" y="144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0160" y="161928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0160" y="43344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34720" y="43344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0160" y="8287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34720" y="8287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160" y="1224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4720" y="1224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918360" y="73080"/>
              <a:ext cx="215640" cy="1512720"/>
            </a:xfrm>
            <a:custGeom>
              <a:avLst/>
              <a:gdLst>
                <a:gd name="textAreaLeft" fmla="*/ 63000 w 215640"/>
                <a:gd name="textAreaRight" fmla="*/ 215640 w 215640"/>
                <a:gd name="textAreaTop" fmla="*/ 63000 h 1512720"/>
                <a:gd name="textAreaBottom" fmla="*/ 1449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8720" y="74520"/>
              <a:ext cx="215640" cy="1513080"/>
            </a:xfrm>
            <a:custGeom>
              <a:avLst/>
              <a:gdLst>
                <a:gd name="textAreaLeft" fmla="*/ 63360 w 215640"/>
                <a:gd name="textAreaRight" fmla="*/ 216000 w 215640"/>
                <a:gd name="textAreaTop" fmla="*/ 63000 h 1513080"/>
                <a:gd name="textAreaBottom" fmla="*/ 145008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16560" y="61128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 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8440" y="64764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+ k 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28520" y="122400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8520" y="82872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28520" y="43344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28520" y="1440"/>
              <a:ext cx="57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28520" y="144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28520" y="144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3440" y="144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8520" y="161928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28520" y="43344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03440" y="43344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28520" y="8287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03440" y="8287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28520" y="1224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03440" y="1224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287440" y="73080"/>
              <a:ext cx="216000" cy="1512720"/>
            </a:xfrm>
            <a:custGeom>
              <a:avLst/>
              <a:gdLst>
                <a:gd name="textAreaLeft" fmla="*/ 63720 w 216000"/>
                <a:gd name="textAreaRight" fmla="*/ 216720 w 216000"/>
                <a:gd name="textAreaTop" fmla="*/ 63000 h 1512720"/>
                <a:gd name="textAreaBottom" fmla="*/ 1449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27080" y="74520"/>
              <a:ext cx="216000" cy="151308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63000 h 1513080"/>
                <a:gd name="textAreaBottom" fmla="*/ 145008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1:54:43Z</dcterms:created>
  <dc:creator>x</dc:creator>
  <dc:description/>
  <dc:language>en-US</dc:language>
  <cp:lastModifiedBy>x</cp:lastModifiedBy>
  <dcterms:modified xsi:type="dcterms:W3CDTF">2007-01-20T10:06:40Z</dcterms:modified>
  <cp:revision>2</cp:revision>
  <dc:subject/>
  <dc:title>Folie 1</dc:title>
</cp:coreProperties>
</file>