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640763" cy="4751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4B9-931F-47FF-B914-78A725BB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73454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2862360"/>
            <a:ext cx="73454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917-3C9E-4899-9FC3-BE433CEA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1800" y="137304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286236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11800" y="286236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3E3-7637-452C-81B8-6548A6F1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23648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1280" y="1373040"/>
            <a:ext cx="23648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14560" y="1373040"/>
            <a:ext cx="23648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2862360"/>
            <a:ext cx="23648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1280" y="2862360"/>
            <a:ext cx="23648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14560" y="2862360"/>
            <a:ext cx="23648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717-BC6A-48B5-8842-6681F7D3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373040"/>
            <a:ext cx="7345440" cy="28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6C0-E4EE-4099-A960-02020D7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7345440" cy="28512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D0E-0337-41C0-9031-658F4C13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3584520" cy="28512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11800" y="1373040"/>
            <a:ext cx="3584520" cy="28512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EC6-17B0-4D5A-83CD-4D598C83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F8D-A5BD-43A7-96BF-352E76C1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422280"/>
            <a:ext cx="734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968-19A4-4118-81A5-576D762D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11800" y="1373040"/>
            <a:ext cx="3584520" cy="28512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286236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E97-F627-4728-9BA5-1DE80E5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3584520" cy="28512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11800" y="137304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11800" y="286236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6E8-FF2B-4BE4-ACDF-142B0398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1800" y="1373040"/>
            <a:ext cx="358452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2862360"/>
            <a:ext cx="7345440" cy="1359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FE3-4156-449A-88E9-399F657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422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373040"/>
            <a:ext cx="7345440" cy="285120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rmAutofit fontScale="81000"/>
          </a:bodyPr>
          <a:p>
            <a:pPr marL="232560" indent="-2325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4000" indent="-194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775080" indent="-1555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040" indent="-155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95000" indent="-15552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95000" indent="-15552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95000" indent="-15552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280" y="4330440"/>
            <a:ext cx="1800360" cy="315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Autofit/>
          </a:bodyPr>
          <a:lstStyle>
            <a:lvl1pPr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52720" y="4330440"/>
            <a:ext cx="2735280" cy="315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Autofit/>
          </a:bodyPr>
          <a:lstStyle>
            <a:lvl1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92360" y="4330440"/>
            <a:ext cx="1800360" cy="315720"/>
          </a:xfrm>
          <a:prstGeom prst="rect">
            <a:avLst/>
          </a:prstGeom>
          <a:noFill/>
          <a:ln w="0">
            <a:noFill/>
          </a:ln>
        </p:spPr>
        <p:txBody>
          <a:bodyPr lIns="76680" rIns="76680" tIns="38160" bIns="38160" anchor="t">
            <a:noAutofit/>
          </a:bodyPr>
          <a:lstStyle>
            <a:lvl1pPr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3C96417A-FA89-42E6-8029-70E9D92B3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23920" y="88272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führb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zes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6720" y="25560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airer Pf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200" y="3240000"/>
            <a:ext cx="258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wach fair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ht stark fairer Pf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8680" y="424800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k fairer Pf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08360" y="93492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1800" y="36036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 hier: P2 immer ausfüh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31720" y="0"/>
            <a:ext cx="42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 hier: P3 immer wieder ausfüh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93492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0" y="1368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73440" y="93492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3440" y="1368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5440" y="93492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5640" y="93492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35640" y="1368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67280" y="93492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67280" y="1368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67280" y="180036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00720" y="93492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00720" y="1368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32360" y="93492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32360" y="1368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64360" y="93492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64360" y="1368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32360" y="180036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96000" y="93492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96000" y="1368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29440" y="93492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29440" y="1368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61440" y="93492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61440" y="1368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61440" y="180036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16360" y="2160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3080" y="576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53080" y="576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17800" y="21600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08360" y="2592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0" y="2592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73440" y="2592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05440" y="2592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35640" y="2592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592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0720" y="2592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32360" y="2592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4360" y="2592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96000" y="2592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29440" y="259236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61440" y="259236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08360" y="338472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0" y="338472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73440" y="338472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05440" y="338472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35640" y="338472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67280" y="338472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00720" y="338472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32360" y="338472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64360" y="338472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6000" y="338472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9440" y="338472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61440" y="338472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08360" y="424800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0" y="424800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73440" y="424800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24800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5640" y="424800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67280" y="424800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424800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32360" y="424800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64360" y="424800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96000" y="424800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29440" y="424800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61440" y="424800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91360" y="3240000"/>
            <a:ext cx="5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91360" y="4103640"/>
            <a:ext cx="5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91360" y="1152360"/>
            <a:ext cx="5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1360" y="2448000"/>
            <a:ext cx="5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9-05-01T15:26:23Z</dcterms:modified>
  <cp:revision>6</cp:revision>
  <dc:subject/>
  <dc:title>PowerPoint Presentation</dc:title>
</cp:coreProperties>
</file>