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99425" cy="3816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ED4-8BE5-47F6-98F8-C79D00A9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4640" y="151920"/>
            <a:ext cx="7291440" cy="636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4640" y="890640"/>
            <a:ext cx="729144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4640" y="2206080"/>
            <a:ext cx="729144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D84-2447-44D4-A721-E62B90B5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4640" y="151920"/>
            <a:ext cx="7291440" cy="636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4640" y="890640"/>
            <a:ext cx="355788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720" y="890640"/>
            <a:ext cx="355788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4640" y="2206080"/>
            <a:ext cx="355788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40720" y="2206080"/>
            <a:ext cx="355788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D61-8462-4875-9478-94A31365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4640" y="151920"/>
            <a:ext cx="7291440" cy="636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4640" y="890640"/>
            <a:ext cx="234756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69920" y="890640"/>
            <a:ext cx="234756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0" y="890640"/>
            <a:ext cx="234756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4640" y="2206080"/>
            <a:ext cx="234756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69920" y="2206080"/>
            <a:ext cx="234756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35200" y="2206080"/>
            <a:ext cx="234756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0E1-CCD4-477B-AC8E-6499F42D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4640" y="151920"/>
            <a:ext cx="7291440" cy="636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4640" y="890640"/>
            <a:ext cx="729144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6AF-1DF5-4100-A3FF-FB5DFBFD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4640" y="151920"/>
            <a:ext cx="7291440" cy="636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4640" y="890640"/>
            <a:ext cx="7291440" cy="2517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0A8-00CE-4EDC-B9A4-26E1F1FF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4640" y="151920"/>
            <a:ext cx="7291440" cy="636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4640" y="890640"/>
            <a:ext cx="3557880" cy="2517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40720" y="890640"/>
            <a:ext cx="3557880" cy="2517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B54-DAF3-4CA1-9A80-352631D6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4640" y="151920"/>
            <a:ext cx="7291440" cy="636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432-9182-4122-BF63-DBA9D1B1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4640" y="151920"/>
            <a:ext cx="729144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9E0B-3D2B-425D-BFA5-A6BC6AB7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4640" y="151920"/>
            <a:ext cx="7291440" cy="636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4640" y="890640"/>
            <a:ext cx="355788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40720" y="890640"/>
            <a:ext cx="3557880" cy="2517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4640" y="2206080"/>
            <a:ext cx="355788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8A8-D361-431D-9849-50782F61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4640" y="151920"/>
            <a:ext cx="7291440" cy="636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4640" y="890640"/>
            <a:ext cx="3557880" cy="2517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0720" y="890640"/>
            <a:ext cx="355788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720" y="2206080"/>
            <a:ext cx="355788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2C3-0450-4B80-A0AB-08654319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4640" y="151920"/>
            <a:ext cx="7291440" cy="636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4640" y="890640"/>
            <a:ext cx="355788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0720" y="890640"/>
            <a:ext cx="355788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4640" y="2206080"/>
            <a:ext cx="7291440" cy="1200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F20-8974-44C6-8D17-A208304A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4640" y="151920"/>
            <a:ext cx="7291440" cy="636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4640" y="890640"/>
            <a:ext cx="7291440" cy="251784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 fontScale="81000"/>
          </a:bodyPr>
          <a:p>
            <a:pPr marL="207000" indent="-207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8560" indent="-17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37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65520" indent="-138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40560" indent="-1371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40560" indent="-1371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40560" indent="-1371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4640" y="3475080"/>
            <a:ext cx="1890720" cy="264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Autofit/>
          </a:bodyPr>
          <a:lstStyle>
            <a:lvl1pPr indent="0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68400" y="3475080"/>
            <a:ext cx="2563560" cy="264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Autofit/>
          </a:bodyPr>
          <a:lstStyle>
            <a:lvl1pPr indent="0" algn="ctr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05360" y="3475080"/>
            <a:ext cx="1890720" cy="2649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Autofit/>
          </a:bodyPr>
          <a:lstStyle>
            <a:lvl1pPr indent="0" algn="r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fld id="{EB0A22E1-5F2B-4180-85E5-2E9D6E742C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360" y="31680"/>
            <a:ext cx="8031240" cy="3750120"/>
            <a:chOff x="90360" y="31680"/>
            <a:chExt cx="8031240" cy="3750120"/>
          </a:xfrm>
        </p:grpSpPr>
        <p:sp>
          <p:nvSpPr>
            <p:cNvPr id="42" name=""/>
            <p:cNvSpPr/>
            <p:nvPr/>
          </p:nvSpPr>
          <p:spPr>
            <a:xfrm>
              <a:off x="90360" y="49824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98360" y="498240"/>
              <a:ext cx="50508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1800" y="102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" name=""/>
            <p:cNvCxnSpPr>
              <a:stCxn id="42" idx="6"/>
              <a:endCxn id="43" idx="1"/>
            </p:cNvCxnSpPr>
            <p:nvPr/>
          </p:nvCxnSpPr>
          <p:spPr>
            <a:xfrm>
              <a:off x="595440" y="750600"/>
              <a:ext cx="503280" cy="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6" name=""/>
            <p:cNvSpPr/>
            <p:nvPr/>
          </p:nvSpPr>
          <p:spPr>
            <a:xfrm>
              <a:off x="235080" y="607680"/>
              <a:ext cx="14436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35080" y="50004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" name=""/>
            <p:cNvCxnSpPr>
              <a:stCxn id="43" idx="3"/>
              <a:endCxn id="47" idx="2"/>
            </p:cNvCxnSpPr>
            <p:nvPr/>
          </p:nvCxnSpPr>
          <p:spPr>
            <a:xfrm>
              <a:off x="1603440" y="750600"/>
              <a:ext cx="43200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9" name=""/>
            <p:cNvSpPr/>
            <p:nvPr/>
          </p:nvSpPr>
          <p:spPr>
            <a:xfrm>
              <a:off x="2074680" y="102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0360" y="1471320"/>
              <a:ext cx="50508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98360" y="1471320"/>
              <a:ext cx="505080" cy="50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1800" y="10760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" name=""/>
            <p:cNvCxnSpPr>
              <a:stCxn id="50" idx="6"/>
              <a:endCxn id="51" idx="1"/>
            </p:cNvCxnSpPr>
            <p:nvPr/>
          </p:nvCxnSpPr>
          <p:spPr>
            <a:xfrm flipV="1">
              <a:off x="595440" y="1723680"/>
              <a:ext cx="503280" cy="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4" name=""/>
            <p:cNvSpPr/>
            <p:nvPr/>
          </p:nvSpPr>
          <p:spPr>
            <a:xfrm>
              <a:off x="235080" y="1581120"/>
              <a:ext cx="144360" cy="14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35080" y="147312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" name=""/>
            <p:cNvCxnSpPr>
              <a:stCxn id="51" idx="3"/>
              <a:endCxn id="55" idx="2"/>
            </p:cNvCxnSpPr>
            <p:nvPr/>
          </p:nvCxnSpPr>
          <p:spPr>
            <a:xfrm>
              <a:off x="1603440" y="1723680"/>
              <a:ext cx="43200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7" name=""/>
            <p:cNvSpPr/>
            <p:nvPr/>
          </p:nvSpPr>
          <p:spPr>
            <a:xfrm>
              <a:off x="2074680" y="10760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03560" y="96660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" name=""/>
            <p:cNvCxnSpPr>
              <a:stCxn id="47" idx="6"/>
              <a:endCxn id="58" idx="1"/>
            </p:cNvCxnSpPr>
            <p:nvPr/>
          </p:nvCxnSpPr>
          <p:spPr>
            <a:xfrm>
              <a:off x="2540160" y="752400"/>
              <a:ext cx="563760" cy="466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0" name=""/>
            <p:cNvCxnSpPr>
              <a:stCxn id="61" idx="2"/>
              <a:endCxn id="62" idx="0"/>
            </p:cNvCxnSpPr>
            <p:nvPr/>
          </p:nvCxnSpPr>
          <p:spPr>
            <a:xfrm flipH="1">
              <a:off x="4998960" y="721080"/>
              <a:ext cx="1198800" cy="788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3" name=""/>
            <p:cNvCxnSpPr>
              <a:stCxn id="55" idx="6"/>
              <a:endCxn id="58" idx="1"/>
            </p:cNvCxnSpPr>
            <p:nvPr/>
          </p:nvCxnSpPr>
          <p:spPr>
            <a:xfrm flipV="1">
              <a:off x="2540160" y="1218960"/>
              <a:ext cx="563760" cy="506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4" name=""/>
            <p:cNvSpPr/>
            <p:nvPr/>
          </p:nvSpPr>
          <p:spPr>
            <a:xfrm>
              <a:off x="522360" y="31680"/>
              <a:ext cx="2879640" cy="901440"/>
            </a:xfrm>
            <a:custGeom>
              <a:avLst/>
              <a:gdLst/>
              <a:ahLst/>
              <a:rect l="l" t="t" r="r" b="b"/>
              <a:pathLst>
                <a:path w="1814" h="568">
                  <a:moveTo>
                    <a:pt x="1814" y="568"/>
                  </a:moveTo>
                  <a:cubicBezTo>
                    <a:pt x="1768" y="409"/>
                    <a:pt x="1723" y="250"/>
                    <a:pt x="1542" y="159"/>
                  </a:cubicBezTo>
                  <a:cubicBezTo>
                    <a:pt x="1361" y="68"/>
                    <a:pt x="983" y="0"/>
                    <a:pt x="726" y="23"/>
                  </a:cubicBezTo>
                  <a:cubicBezTo>
                    <a:pt x="469" y="46"/>
                    <a:pt x="234" y="171"/>
                    <a:pt x="0" y="29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22360" y="1508400"/>
              <a:ext cx="2879640" cy="901800"/>
            </a:xfrm>
            <a:custGeom>
              <a:avLst/>
              <a:gdLst/>
              <a:ahLst/>
              <a:rect l="l" t="t" r="r" b="b"/>
              <a:pathLst>
                <a:path w="1814" h="568">
                  <a:moveTo>
                    <a:pt x="1814" y="568"/>
                  </a:moveTo>
                  <a:cubicBezTo>
                    <a:pt x="1768" y="409"/>
                    <a:pt x="1723" y="250"/>
                    <a:pt x="1542" y="159"/>
                  </a:cubicBezTo>
                  <a:cubicBezTo>
                    <a:pt x="1361" y="68"/>
                    <a:pt x="983" y="0"/>
                    <a:pt x="726" y="23"/>
                  </a:cubicBezTo>
                  <a:cubicBezTo>
                    <a:pt x="469" y="46"/>
                    <a:pt x="234" y="171"/>
                    <a:pt x="0" y="29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7640" y="788760"/>
              <a:ext cx="1447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21400" y="5727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21400" y="150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15440" y="10396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33280" y="32220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,0,1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11200" y="150948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,0,0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34840" y="150948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,1,1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58840" y="244620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,1,0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85280" y="244620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0,2,1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09280" y="338292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0,2,0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"/>
            <p:cNvCxnSpPr>
              <a:stCxn id="61" idx="2"/>
              <a:endCxn id="70" idx="0"/>
            </p:cNvCxnSpPr>
            <p:nvPr/>
          </p:nvCxnSpPr>
          <p:spPr>
            <a:xfrm>
              <a:off x="6197400" y="721080"/>
              <a:ext cx="1178280" cy="788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5" name=""/>
            <p:cNvCxnSpPr>
              <a:stCxn id="62" idx="2"/>
              <a:endCxn id="72" idx="0"/>
            </p:cNvCxnSpPr>
            <p:nvPr/>
          </p:nvCxnSpPr>
          <p:spPr>
            <a:xfrm flipH="1">
              <a:off x="3749400" y="1908360"/>
              <a:ext cx="1249920" cy="538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6" name=""/>
            <p:cNvCxnSpPr>
              <a:stCxn id="62" idx="2"/>
              <a:endCxn id="71" idx="0"/>
            </p:cNvCxnSpPr>
            <p:nvPr/>
          </p:nvCxnSpPr>
          <p:spPr>
            <a:xfrm>
              <a:off x="4998960" y="1908360"/>
              <a:ext cx="1224360" cy="538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7" name=""/>
            <p:cNvCxnSpPr>
              <a:stCxn id="70" idx="2"/>
              <a:endCxn id="71" idx="0"/>
            </p:cNvCxnSpPr>
            <p:nvPr/>
          </p:nvCxnSpPr>
          <p:spPr>
            <a:xfrm flipH="1">
              <a:off x="6222960" y="1908360"/>
              <a:ext cx="1152720" cy="538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8" name=""/>
            <p:cNvCxnSpPr>
              <a:stCxn id="71" idx="2"/>
              <a:endCxn id="73" idx="0"/>
            </p:cNvCxnSpPr>
            <p:nvPr/>
          </p:nvCxnSpPr>
          <p:spPr>
            <a:xfrm flipH="1">
              <a:off x="4973400" y="2845080"/>
              <a:ext cx="1249920" cy="538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9" name=""/>
            <p:cNvCxnSpPr>
              <a:stCxn id="72" idx="2"/>
              <a:endCxn id="73" idx="0"/>
            </p:cNvCxnSpPr>
            <p:nvPr/>
          </p:nvCxnSpPr>
          <p:spPr>
            <a:xfrm>
              <a:off x="3749400" y="2845080"/>
              <a:ext cx="1224360" cy="538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80" name=""/>
            <p:cNvCxnSpPr>
              <a:stCxn id="61" idx="2"/>
              <a:endCxn id="71" idx="0"/>
            </p:cNvCxnSpPr>
            <p:nvPr/>
          </p:nvCxnSpPr>
          <p:spPr>
            <a:xfrm>
              <a:off x="6197400" y="721080"/>
              <a:ext cx="25920" cy="1725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81" name=""/>
            <p:cNvCxnSpPr>
              <a:stCxn id="62" idx="2"/>
              <a:endCxn id="73" idx="0"/>
            </p:cNvCxnSpPr>
            <p:nvPr/>
          </p:nvCxnSpPr>
          <p:spPr>
            <a:xfrm flipH="1">
              <a:off x="4973400" y="1908360"/>
              <a:ext cx="25920" cy="147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82" name=""/>
            <p:cNvSpPr/>
            <p:nvPr/>
          </p:nvSpPr>
          <p:spPr>
            <a:xfrm>
              <a:off x="4267800" y="21589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99800" y="18349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9760" y="717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58480" y="29876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82480" y="8269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14120" y="18349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07440" y="29876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38720" y="1187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1,t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29120" y="22669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1,t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20960" y="1725480"/>
              <a:ext cx="1662120" cy="1871640"/>
            </a:xfrm>
            <a:custGeom>
              <a:avLst/>
              <a:gdLst/>
              <a:ahLst/>
              <a:rect l="l" t="t" r="r" b="b"/>
              <a:pathLst>
                <a:path w="1047" h="1179">
                  <a:moveTo>
                    <a:pt x="1047" y="1179"/>
                  </a:moveTo>
                  <a:cubicBezTo>
                    <a:pt x="942" y="1151"/>
                    <a:pt x="576" y="1115"/>
                    <a:pt x="419" y="1010"/>
                  </a:cubicBezTo>
                  <a:cubicBezTo>
                    <a:pt x="262" y="905"/>
                    <a:pt x="0" y="720"/>
                    <a:pt x="104" y="552"/>
                  </a:cubicBezTo>
                  <a:cubicBezTo>
                    <a:pt x="208" y="384"/>
                    <a:pt x="848" y="115"/>
                    <a:pt x="104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99440" y="30938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10400" y="547560"/>
              <a:ext cx="1411200" cy="2079720"/>
            </a:xfrm>
            <a:custGeom>
              <a:avLst/>
              <a:gdLst/>
              <a:ahLst/>
              <a:rect l="l" t="t" r="r" b="b"/>
              <a:pathLst>
                <a:path w="889" h="1310">
                  <a:moveTo>
                    <a:pt x="0" y="1310"/>
                  </a:moveTo>
                  <a:cubicBezTo>
                    <a:pt x="105" y="1282"/>
                    <a:pt x="497" y="1273"/>
                    <a:pt x="628" y="1141"/>
                  </a:cubicBezTo>
                  <a:cubicBezTo>
                    <a:pt x="759" y="1009"/>
                    <a:pt x="889" y="711"/>
                    <a:pt x="786" y="521"/>
                  </a:cubicBezTo>
                  <a:cubicBezTo>
                    <a:pt x="683" y="331"/>
                    <a:pt x="174" y="109"/>
                    <a:pt x="1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57040" y="23745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2:40:09Z</dcterms:created>
  <dc:creator>kleuker</dc:creator>
  <dc:description/>
  <dc:language>en-US</dc:language>
  <cp:lastModifiedBy>kleuker</cp:lastModifiedBy>
  <dcterms:modified xsi:type="dcterms:W3CDTF">2007-01-11T12:40:47Z</dcterms:modified>
  <cp:revision>1</cp:revision>
  <dc:subject/>
  <dc:title>Folie 1</dc:title>
</cp:coreProperties>
</file>