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08738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A38-A0AB-4C8B-ABED-DC07B937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974520"/>
            <a:ext cx="576720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2414160"/>
            <a:ext cx="576720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BA6-1AD9-4DB0-835F-D58F1064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97452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76000" y="97452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241416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76000" y="241416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2F9-0AF6-4B41-90A8-4D6C8A80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974520"/>
            <a:ext cx="185688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70880" y="974520"/>
            <a:ext cx="185688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21000" y="974520"/>
            <a:ext cx="185688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2414160"/>
            <a:ext cx="185688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70880" y="2414160"/>
            <a:ext cx="185688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21000" y="2414160"/>
            <a:ext cx="185688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488-C55F-4722-9D8A-EB1B8B81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974520"/>
            <a:ext cx="5767200" cy="27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A13-42EC-429D-9306-4820B418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974520"/>
            <a:ext cx="5767200" cy="27558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9F3-F0B6-4921-A075-BB2433DA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974520"/>
            <a:ext cx="2814120" cy="27558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76000" y="974520"/>
            <a:ext cx="2814120" cy="27558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DBA-D94A-4ED8-8EBB-63559362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3B9-211D-4EFA-AA12-FCF91E63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0760" y="166680"/>
            <a:ext cx="576720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824-F5FF-4A77-A9AD-9EFB743B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97452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76000" y="974520"/>
            <a:ext cx="2814120" cy="27558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241416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990-8CD7-42F3-9828-2402090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974520"/>
            <a:ext cx="2814120" cy="27558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76000" y="97452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76000" y="241416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AA0-81AC-460C-8FD1-D8D9E75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97452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76000" y="974520"/>
            <a:ext cx="281412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2414160"/>
            <a:ext cx="5767200" cy="13143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9F0-FA5E-4C42-BC81-8644F2A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0760" y="166680"/>
            <a:ext cx="5767200" cy="696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0760" y="974520"/>
            <a:ext cx="5767200" cy="27558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rmAutofit/>
          </a:bodyPr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1890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-150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58760" indent="-150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60440" indent="-1508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60440" indent="-1508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60440" indent="-1508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0760" y="3803400"/>
            <a:ext cx="1495440" cy="2905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Autofit/>
          </a:bodyPr>
          <a:lstStyle>
            <a:lvl1pPr indent="0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89160" y="3803400"/>
            <a:ext cx="2030400" cy="2905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Autofit/>
          </a:bodyPr>
          <a:lstStyle>
            <a:lvl1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92520" y="3803400"/>
            <a:ext cx="1495440" cy="2905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30240" bIns="30240" anchor="t">
            <a:noAutofit/>
          </a:bodyPr>
          <a:lstStyle>
            <a:lvl1pPr indent="0" algn="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fld id="{B15DFA38-4DF1-4E72-96BC-F120375262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360" y="44280"/>
            <a:ext cx="6337440" cy="4104000"/>
            <a:chOff x="36360" y="44280"/>
            <a:chExt cx="6337440" cy="4104000"/>
          </a:xfrm>
        </p:grpSpPr>
        <p:sp>
          <p:nvSpPr>
            <p:cNvPr id="42" name=""/>
            <p:cNvSpPr/>
            <p:nvPr/>
          </p:nvSpPr>
          <p:spPr>
            <a:xfrm>
              <a:off x="1653120" y="266760"/>
              <a:ext cx="30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erme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r erreichbaren Zustä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38880" y="1190520"/>
              <a:ext cx="25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reichbare Zustä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1773360"/>
              <a:ext cx="30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me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r erreichbaren Zustä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89080" y="1630440"/>
              <a:ext cx="3960720" cy="1726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" y="981000"/>
              <a:ext cx="4967280" cy="295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5488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790880" y="16603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16520" y="27813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38880" y="1052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1760" y="2708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360" y="44280"/>
              <a:ext cx="6337440" cy="4104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07240" y="184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91240" y="292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62520" y="227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27400" y="2508120"/>
              <a:ext cx="2530440" cy="727200"/>
            </a:xfrm>
            <a:custGeom>
              <a:avLst/>
              <a:gdLst/>
              <a:ahLst/>
              <a:rect l="l" t="t" r="r" b="b"/>
              <a:pathLst>
                <a:path w="1594" h="458">
                  <a:moveTo>
                    <a:pt x="0" y="0"/>
                  </a:moveTo>
                  <a:cubicBezTo>
                    <a:pt x="227" y="9"/>
                    <a:pt x="452" y="23"/>
                    <a:pt x="679" y="35"/>
                  </a:cubicBezTo>
                  <a:cubicBezTo>
                    <a:pt x="687" y="36"/>
                    <a:pt x="745" y="44"/>
                    <a:pt x="755" y="48"/>
                  </a:cubicBezTo>
                  <a:cubicBezTo>
                    <a:pt x="767" y="53"/>
                    <a:pt x="776" y="67"/>
                    <a:pt x="789" y="69"/>
                  </a:cubicBezTo>
                  <a:cubicBezTo>
                    <a:pt x="841" y="77"/>
                    <a:pt x="894" y="74"/>
                    <a:pt x="947" y="76"/>
                  </a:cubicBezTo>
                  <a:cubicBezTo>
                    <a:pt x="1016" y="84"/>
                    <a:pt x="1079" y="105"/>
                    <a:pt x="1146" y="124"/>
                  </a:cubicBezTo>
                  <a:cubicBezTo>
                    <a:pt x="1196" y="139"/>
                    <a:pt x="1251" y="129"/>
                    <a:pt x="1303" y="131"/>
                  </a:cubicBezTo>
                  <a:cubicBezTo>
                    <a:pt x="1360" y="138"/>
                    <a:pt x="1419" y="139"/>
                    <a:pt x="1468" y="172"/>
                  </a:cubicBezTo>
                  <a:cubicBezTo>
                    <a:pt x="1498" y="215"/>
                    <a:pt x="1542" y="232"/>
                    <a:pt x="1578" y="268"/>
                  </a:cubicBezTo>
                  <a:cubicBezTo>
                    <a:pt x="1591" y="312"/>
                    <a:pt x="1594" y="314"/>
                    <a:pt x="1578" y="384"/>
                  </a:cubicBezTo>
                  <a:cubicBezTo>
                    <a:pt x="1573" y="407"/>
                    <a:pt x="1516" y="419"/>
                    <a:pt x="1516" y="419"/>
                  </a:cubicBezTo>
                  <a:cubicBezTo>
                    <a:pt x="1475" y="458"/>
                    <a:pt x="1458" y="447"/>
                    <a:pt x="1392" y="453"/>
                  </a:cubicBezTo>
                  <a:cubicBezTo>
                    <a:pt x="1335" y="451"/>
                    <a:pt x="1277" y="455"/>
                    <a:pt x="1221" y="446"/>
                  </a:cubicBezTo>
                  <a:cubicBezTo>
                    <a:pt x="1205" y="443"/>
                    <a:pt x="1196" y="424"/>
                    <a:pt x="1180" y="419"/>
                  </a:cubicBezTo>
                  <a:cubicBezTo>
                    <a:pt x="1159" y="412"/>
                    <a:pt x="1138" y="408"/>
                    <a:pt x="1118" y="39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79840" y="28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20880" y="2530440"/>
              <a:ext cx="671400" cy="1165320"/>
            </a:xfrm>
            <a:custGeom>
              <a:avLst/>
              <a:gdLst/>
              <a:ahLst/>
              <a:rect l="l" t="t" r="r" b="b"/>
              <a:pathLst>
                <a:path w="423" h="734">
                  <a:moveTo>
                    <a:pt x="313" y="0"/>
                  </a:moveTo>
                  <a:cubicBezTo>
                    <a:pt x="318" y="62"/>
                    <a:pt x="315" y="78"/>
                    <a:pt x="347" y="123"/>
                  </a:cubicBezTo>
                  <a:cubicBezTo>
                    <a:pt x="350" y="160"/>
                    <a:pt x="354" y="221"/>
                    <a:pt x="361" y="261"/>
                  </a:cubicBezTo>
                  <a:cubicBezTo>
                    <a:pt x="365" y="284"/>
                    <a:pt x="395" y="322"/>
                    <a:pt x="395" y="322"/>
                  </a:cubicBezTo>
                  <a:cubicBezTo>
                    <a:pt x="423" y="434"/>
                    <a:pt x="407" y="361"/>
                    <a:pt x="395" y="617"/>
                  </a:cubicBezTo>
                  <a:cubicBezTo>
                    <a:pt x="395" y="624"/>
                    <a:pt x="394" y="634"/>
                    <a:pt x="388" y="638"/>
                  </a:cubicBezTo>
                  <a:cubicBezTo>
                    <a:pt x="376" y="646"/>
                    <a:pt x="328" y="655"/>
                    <a:pt x="313" y="658"/>
                  </a:cubicBezTo>
                  <a:cubicBezTo>
                    <a:pt x="284" y="673"/>
                    <a:pt x="273" y="677"/>
                    <a:pt x="244" y="699"/>
                  </a:cubicBezTo>
                  <a:cubicBezTo>
                    <a:pt x="236" y="705"/>
                    <a:pt x="232" y="715"/>
                    <a:pt x="223" y="720"/>
                  </a:cubicBezTo>
                  <a:cubicBezTo>
                    <a:pt x="210" y="727"/>
                    <a:pt x="182" y="734"/>
                    <a:pt x="182" y="734"/>
                  </a:cubicBezTo>
                  <a:cubicBezTo>
                    <a:pt x="132" y="729"/>
                    <a:pt x="92" y="718"/>
                    <a:pt x="45" y="706"/>
                  </a:cubicBezTo>
                  <a:cubicBezTo>
                    <a:pt x="0" y="677"/>
                    <a:pt x="14" y="618"/>
                    <a:pt x="4" y="569"/>
                  </a:cubicBezTo>
                  <a:cubicBezTo>
                    <a:pt x="10" y="501"/>
                    <a:pt x="8" y="501"/>
                    <a:pt x="31" y="453"/>
                  </a:cubicBezTo>
                  <a:cubicBezTo>
                    <a:pt x="41" y="432"/>
                    <a:pt x="66" y="391"/>
                    <a:pt x="66" y="391"/>
                  </a:cubicBezTo>
                  <a:cubicBezTo>
                    <a:pt x="75" y="365"/>
                    <a:pt x="70" y="377"/>
                    <a:pt x="79" y="35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05:50Z</dcterms:created>
  <dc:creator>x</dc:creator>
  <dc:description/>
  <dc:language>en-US</dc:language>
  <cp:lastModifiedBy>x</cp:lastModifiedBy>
  <dcterms:modified xsi:type="dcterms:W3CDTF">2007-03-07T11:07:31Z</dcterms:modified>
  <cp:revision>2</cp:revision>
  <dc:subject/>
  <dc:title>Folie 1</dc:title>
</cp:coreProperties>
</file>