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51613" cy="2987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B26-2817-41EB-B953-8573FDE0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520" y="119160"/>
            <a:ext cx="5899320" cy="4982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6520" y="696600"/>
            <a:ext cx="589932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6520" y="1727280"/>
            <a:ext cx="589932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881-4642-4275-80CB-7BFF1A11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520" y="119160"/>
            <a:ext cx="5899320" cy="4982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6520" y="696600"/>
            <a:ext cx="287856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49440" y="696600"/>
            <a:ext cx="287856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6520" y="1727280"/>
            <a:ext cx="287856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49440" y="1727280"/>
            <a:ext cx="287856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6606-6904-43C7-A2C2-CFA03642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520" y="119160"/>
            <a:ext cx="5899320" cy="4982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6520" y="696600"/>
            <a:ext cx="189936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21280" y="696600"/>
            <a:ext cx="189936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16040" y="696600"/>
            <a:ext cx="189936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6520" y="1727280"/>
            <a:ext cx="189936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21280" y="1727280"/>
            <a:ext cx="189936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16040" y="1727280"/>
            <a:ext cx="189936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DC08-14A4-41B4-89B1-6EE47D85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520" y="119160"/>
            <a:ext cx="5899320" cy="4982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6520" y="696600"/>
            <a:ext cx="589932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B840-DEFE-4A21-9FC0-1A44A692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520" y="119160"/>
            <a:ext cx="5899320" cy="4982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6520" y="696600"/>
            <a:ext cx="5899320" cy="197316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4B8-FC11-4681-AC34-87417E43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520" y="119160"/>
            <a:ext cx="5899320" cy="4982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6520" y="696600"/>
            <a:ext cx="2878560" cy="197316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49440" y="696600"/>
            <a:ext cx="2878560" cy="197316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E98-D988-47D3-8A45-513A70AF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520" y="119160"/>
            <a:ext cx="5899320" cy="4982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4A9E-6184-406B-B07B-1BD50B21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520" y="119160"/>
            <a:ext cx="589932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190-FA2D-497C-B844-BA319A8F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520" y="119160"/>
            <a:ext cx="5899320" cy="4982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6520" y="696600"/>
            <a:ext cx="287856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49440" y="696600"/>
            <a:ext cx="2878560" cy="197316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6520" y="1727280"/>
            <a:ext cx="287856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3DC-31A4-4799-BD44-26A33420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520" y="119160"/>
            <a:ext cx="5899320" cy="4982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6520" y="696600"/>
            <a:ext cx="2878560" cy="197316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49440" y="696600"/>
            <a:ext cx="287856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49440" y="1727280"/>
            <a:ext cx="287856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346-50CB-4904-9F98-8F480CDC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520" y="119160"/>
            <a:ext cx="5899320" cy="4982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6520" y="696600"/>
            <a:ext cx="287856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49440" y="696600"/>
            <a:ext cx="287856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6520" y="1727280"/>
            <a:ext cx="5899320" cy="9410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81E-5223-49B6-99AE-7D42B5C7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6520" y="119160"/>
            <a:ext cx="5899320" cy="4982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6520" y="696600"/>
            <a:ext cx="5899320" cy="197316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 fontScale="80000"/>
          </a:bodyPr>
          <a:p>
            <a:pPr marL="163800" indent="-163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54240" indent="-13572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44680" indent="-109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763200" indent="-1090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981720" indent="-10944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981720" indent="-10944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981720" indent="-10944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6520" y="2722320"/>
            <a:ext cx="1530360" cy="20772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Autofit/>
          </a:bodyPr>
          <a:lstStyle>
            <a:lvl1pPr indent="0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38480" y="2722320"/>
            <a:ext cx="2076480" cy="20772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Autofit/>
          </a:bodyPr>
          <a:lstStyle>
            <a:lvl1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95480" y="2722320"/>
            <a:ext cx="1530360" cy="20772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Autofit/>
          </a:bodyPr>
          <a:lstStyle>
            <a:lvl1pPr indent="0" algn="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fld id="{FECB0159-0076-49E2-AAFE-D58FE6197C7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1800" y="154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3880" y="1540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1560" y="154080"/>
            <a:ext cx="44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(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10240" y="1540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22560" y="15408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&amp;&amp; pre(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94400" y="1540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54280" y="154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66960" y="1540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74440" y="154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55080" y="1540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1520" y="144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1520" y="144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44360"/>
            <a:ext cx="1401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09840" y="1443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15960" y="144360"/>
            <a:ext cx="1425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41560" y="144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48040" y="144360"/>
            <a:ext cx="1425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73640" y="1443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81560" y="144360"/>
            <a:ext cx="911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92720" y="1443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00640" y="144360"/>
            <a:ext cx="1144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45080" y="144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45080" y="144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1520" y="150840"/>
            <a:ext cx="6480" cy="1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09840" y="150840"/>
            <a:ext cx="6120" cy="1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41560" y="150840"/>
            <a:ext cx="6480" cy="1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73640" y="150840"/>
            <a:ext cx="7920" cy="1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2720" y="150840"/>
            <a:ext cx="7920" cy="1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45080" y="150840"/>
            <a:ext cx="6480" cy="1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080" y="360360"/>
            <a:ext cx="116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s=x+y+pos2 &amp;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0360" y="504720"/>
            <a:ext cx="55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1=0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8480" y="504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2880" y="647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90840" y="360360"/>
            <a:ext cx="116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s=x+y+pos1 &amp;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90120" y="504720"/>
            <a:ext cx="55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2=0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16440" y="504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92640" y="647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24360" y="360360"/>
            <a:ext cx="40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=x+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03800" y="360360"/>
            <a:ext cx="83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&amp; pos1=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21480" y="504720"/>
            <a:ext cx="7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&amp; pos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5000" y="504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8640" y="355680"/>
            <a:ext cx="42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pos2=0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3880" y="35568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49960" y="48096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74080" y="360360"/>
            <a:ext cx="91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s=x+y+pos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72640" y="504720"/>
            <a:ext cx="80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&amp; pos1=0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30440" y="504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75520" y="647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520" y="349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349200"/>
            <a:ext cx="1401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09840" y="349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15960" y="349200"/>
            <a:ext cx="1425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41560" y="349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48040" y="349200"/>
            <a:ext cx="1425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73640" y="34920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81560" y="349200"/>
            <a:ext cx="911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34920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00640" y="349200"/>
            <a:ext cx="1144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5080" y="349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1520" y="355680"/>
            <a:ext cx="64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09840" y="355680"/>
            <a:ext cx="612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41560" y="355680"/>
            <a:ext cx="64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73640" y="355680"/>
            <a:ext cx="792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355680"/>
            <a:ext cx="792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5080" y="355680"/>
            <a:ext cx="64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1080" y="709560"/>
            <a:ext cx="116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s=x+y+pos2 &amp;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0360" y="853920"/>
            <a:ext cx="55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1=0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480" y="8539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" y="998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90840" y="709560"/>
            <a:ext cx="116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s=x+y+pos1 &amp;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91560" y="853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0040" y="853920"/>
            <a:ext cx="47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2=0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16440" y="8539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92640" y="998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24360" y="709560"/>
            <a:ext cx="40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=x+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03800" y="709560"/>
            <a:ext cx="83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&amp; pos1=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21480" y="853920"/>
            <a:ext cx="7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&amp; pos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5000" y="8539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03520" y="703440"/>
            <a:ext cx="61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atomic{y=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80960" y="70344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8120" y="703440"/>
            <a:ext cx="18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1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3600" y="831960"/>
            <a:ext cx="48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pos2=1;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15080" y="83196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49960" y="95724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74080" y="709560"/>
            <a:ext cx="91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s=x+y+pos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72640" y="853920"/>
            <a:ext cx="80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&amp; pos1=0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30440" y="8539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75520" y="998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520" y="716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8000" y="716040"/>
            <a:ext cx="14018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09840" y="7160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15960" y="716040"/>
            <a:ext cx="1425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41560" y="716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48040" y="716040"/>
            <a:ext cx="1425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73640" y="7160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81560" y="716040"/>
            <a:ext cx="9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92720" y="7160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00640" y="716040"/>
            <a:ext cx="1144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45080" y="716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1520" y="706320"/>
            <a:ext cx="648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09840" y="706320"/>
            <a:ext cx="612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41560" y="706320"/>
            <a:ext cx="648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73640" y="706320"/>
            <a:ext cx="792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706320"/>
            <a:ext cx="792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45080" y="706320"/>
            <a:ext cx="648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1080" y="1147680"/>
            <a:ext cx="116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s=x+y+pos2 &amp;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0360" y="1292400"/>
            <a:ext cx="55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1=0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8480" y="12924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" y="14367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90480" y="1147680"/>
            <a:ext cx="134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s=x+y+1+pos1 &amp;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90120" y="1292400"/>
            <a:ext cx="55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2=1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16440" y="12924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92640" y="14367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24000" y="1147680"/>
            <a:ext cx="86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=x+y+1 &amp;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19320" y="1292400"/>
            <a:ext cx="125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1=0 &amp;&amp;pos2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09840" y="12924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83000" y="1143000"/>
            <a:ext cx="85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atomic{x=x+1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13600" y="1268280"/>
            <a:ext cx="48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pos2=0;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15080" y="126828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74080" y="1147680"/>
            <a:ext cx="91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s=x+y+pos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73720" y="1292400"/>
            <a:ext cx="98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&amp; pos1=0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440" y="12924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75520" y="14367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1520" y="11383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000" y="1138320"/>
            <a:ext cx="14018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09840" y="1138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15960" y="1138320"/>
            <a:ext cx="1425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41560" y="11383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48040" y="1138320"/>
            <a:ext cx="1425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73640" y="11383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81560" y="1138320"/>
            <a:ext cx="9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92720" y="11383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00640" y="1138320"/>
            <a:ext cx="1144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45080" y="11383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1520" y="1144440"/>
            <a:ext cx="648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09840" y="1144440"/>
            <a:ext cx="612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41560" y="1144440"/>
            <a:ext cx="648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73640" y="1144440"/>
            <a:ext cx="792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92720" y="1144440"/>
            <a:ext cx="792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5080" y="1144440"/>
            <a:ext cx="648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0720" y="1585800"/>
            <a:ext cx="134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s=x+y+1+pos2 &amp;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0360" y="1730520"/>
            <a:ext cx="55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1=1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8480" y="17305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" y="18730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90840" y="1585800"/>
            <a:ext cx="116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s=x+y+pos1 &amp;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90120" y="1730520"/>
            <a:ext cx="55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2=0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16440" y="17305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92640" y="18730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24000" y="1585800"/>
            <a:ext cx="86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=x+y+1 &amp;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19320" y="1730520"/>
            <a:ext cx="130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1=1 &amp;&amp; pos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50160" y="17305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18640" y="1581120"/>
            <a:ext cx="42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pos2=0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53880" y="158112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49960" y="170640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75160" y="1585800"/>
            <a:ext cx="12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s=x+y+1+pos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72640" y="1730520"/>
            <a:ext cx="80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&amp; pos1=1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30440" y="17305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75520" y="18730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1520" y="157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000" y="1576440"/>
            <a:ext cx="14018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09840" y="15764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15960" y="1576440"/>
            <a:ext cx="1425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41560" y="157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48040" y="1576440"/>
            <a:ext cx="1425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73640" y="15764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81560" y="1576440"/>
            <a:ext cx="9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92720" y="15764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00640" y="1576440"/>
            <a:ext cx="1144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45080" y="157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1520" y="1582560"/>
            <a:ext cx="6480" cy="43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09840" y="1582560"/>
            <a:ext cx="6120" cy="43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41560" y="1582560"/>
            <a:ext cx="6480" cy="43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73640" y="1582560"/>
            <a:ext cx="7920" cy="43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2720" y="1582560"/>
            <a:ext cx="7920" cy="43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5080" y="1582560"/>
            <a:ext cx="6480" cy="43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0720" y="2022480"/>
            <a:ext cx="134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s=x+y+1+pos2 &amp;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0360" y="2166840"/>
            <a:ext cx="55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1=1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8480" y="21668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" y="23115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90840" y="2022480"/>
            <a:ext cx="116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s=x+y+pos1 &amp;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90120" y="2166840"/>
            <a:ext cx="55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2=0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16440" y="21668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92640" y="23115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24000" y="2022480"/>
            <a:ext cx="86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=x+y+1 &amp;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19320" y="2166840"/>
            <a:ext cx="130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1=1 &amp;&amp; pos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50160" y="21668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03520" y="2017800"/>
            <a:ext cx="61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atomic{y=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80960" y="201780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43960" y="2017800"/>
            <a:ext cx="18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1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13600" y="2144880"/>
            <a:ext cx="48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pos2=1;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5080" y="214488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49960" y="227160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72280" y="2022480"/>
            <a:ext cx="109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s=x+y+1+pos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71200" y="2166840"/>
            <a:ext cx="80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&amp; pos1=1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30440" y="21668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74080" y="23115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1520" y="20131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8000" y="2013120"/>
            <a:ext cx="1401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09840" y="201312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15960" y="2013120"/>
            <a:ext cx="1425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41560" y="20131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48040" y="2013120"/>
            <a:ext cx="1425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73640" y="201312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79760" y="2013120"/>
            <a:ext cx="9129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92720" y="20131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9200" y="2013120"/>
            <a:ext cx="1144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43640" y="2013120"/>
            <a:ext cx="7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1520" y="2017800"/>
            <a:ext cx="64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09840" y="2017800"/>
            <a:ext cx="612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41560" y="2017800"/>
            <a:ext cx="64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73640" y="2017800"/>
            <a:ext cx="612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92720" y="2017800"/>
            <a:ext cx="64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2017800"/>
            <a:ext cx="792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0720" y="2460600"/>
            <a:ext cx="134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s=x+y+1+pos2 &amp;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0360" y="2604960"/>
            <a:ext cx="55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1=1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8480" y="2604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2880" y="27478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90480" y="2460600"/>
            <a:ext cx="134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s=x+y+1+pos1 &amp;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90120" y="2604960"/>
            <a:ext cx="55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2=1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18240" y="2604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92640" y="27478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24000" y="2460600"/>
            <a:ext cx="72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=x+y+2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11240" y="2460600"/>
            <a:ext cx="14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19320" y="2604960"/>
            <a:ext cx="130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1=1 &amp;&amp; pos2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50160" y="2604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84800" y="2454120"/>
            <a:ext cx="85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atomic{x=x+1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15040" y="2581200"/>
            <a:ext cx="48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pos2=0;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12560" y="258120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etter Gothi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74080" y="2460600"/>
            <a:ext cx="109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s=x+y+1+pos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72640" y="2604960"/>
            <a:ext cx="80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&amp; pos1=1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31160" y="2604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75520" y="27478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1520" y="2449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8000" y="2449440"/>
            <a:ext cx="1401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09840" y="2449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15960" y="2449440"/>
            <a:ext cx="1425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41560" y="2449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48040" y="2449440"/>
            <a:ext cx="1425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73640" y="2449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79760" y="2449440"/>
            <a:ext cx="912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2449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99200" y="2449440"/>
            <a:ext cx="1144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43640" y="24494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1520" y="2455920"/>
            <a:ext cx="64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1520" y="288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1520" y="288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8000" y="2887560"/>
            <a:ext cx="1401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09840" y="2455920"/>
            <a:ext cx="612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09840" y="28875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15960" y="2887560"/>
            <a:ext cx="1425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41560" y="2455920"/>
            <a:ext cx="64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41560" y="288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48040" y="2887560"/>
            <a:ext cx="1425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73640" y="2455920"/>
            <a:ext cx="612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73640" y="28875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79760" y="2887560"/>
            <a:ext cx="912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92720" y="2455920"/>
            <a:ext cx="64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92720" y="288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99200" y="2887560"/>
            <a:ext cx="1144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43640" y="2455920"/>
            <a:ext cx="792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443640" y="28875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43640" y="28875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2880" y="2895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6:31:50Z</dcterms:created>
  <dc:creator>x</dc:creator>
  <dc:description/>
  <dc:language>en-US</dc:language>
  <cp:lastModifiedBy>x</cp:lastModifiedBy>
  <dcterms:modified xsi:type="dcterms:W3CDTF">2009-07-07T16:39:13Z</dcterms:modified>
  <cp:revision>2</cp:revision>
  <dc:subject/>
  <dc:title>Folie 1</dc:title>
</cp:coreProperties>
</file>