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8" cy="42481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F15-C9F1-48B7-BB31-9D878ABD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245484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4C3-BF7D-408B-AC25-C8CDF3F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932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08E-C3EC-4415-B047-BDAA8E07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160" y="99036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160" y="2454840"/>
            <a:ext cx="125208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C43-994B-4395-9BBB-019CB6BF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C63-D074-4E8C-8F05-83271A2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231-2C91-4F7B-9895-E2494E68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58A-C03E-4615-9238-A695AAE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A3A-9E7C-4FE6-A99E-11995F2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169560"/>
            <a:ext cx="388944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5E0-03B4-43E5-A711-AD5D1B8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A79-8FF2-4F97-914C-5363F23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245484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EB4-E872-463E-8952-2DEA74B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9320" y="990360"/>
            <a:ext cx="189792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2454840"/>
            <a:ext cx="3889440" cy="133704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2C8-7214-453C-AD90-E815D55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169560"/>
            <a:ext cx="3889440" cy="7081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990360"/>
            <a:ext cx="3889440" cy="280332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rmAutofit/>
          </a:bodyPr>
          <a:p>
            <a:pPr marL="184320" indent="-1843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54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123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57160" indent="-1220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1600" indent="-122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00" y="3868200"/>
            <a:ext cx="100800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868200"/>
            <a:ext cx="136836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868200"/>
            <a:ext cx="1008360" cy="295560"/>
          </a:xfrm>
          <a:prstGeom prst="rect">
            <a:avLst/>
          </a:prstGeom>
          <a:noFill/>
          <a:ln w="0">
            <a:noFill/>
          </a:ln>
        </p:spPr>
        <p:txBody>
          <a:bodyPr lIns="48960" rIns="48960" tIns="24480" bIns="24480" anchor="t">
            <a:noAutofit/>
          </a:bodyPr>
          <a:lstStyle>
            <a:lvl1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fld id="{77D20170-CDFF-4929-8B07-33AC44B2C057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59160" cy="4178160"/>
            <a:chOff x="0" y="0"/>
            <a:chExt cx="4259160" cy="41781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56040" y="17510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:=j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08440" y="944640"/>
              <a:ext cx="82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:=array[count]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08440" y="10526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rray[count]:=array[j]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07720" y="116064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rray[j]:=tmp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08440" y="12682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:=j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9040" y="2327400"/>
              <a:ext cx="3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463760"/>
              <a:ext cx="3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7320" y="14637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count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13840" y="1003320"/>
              <a:ext cx="47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:=count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3360" y="330660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:=count2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000" y="2730600"/>
              <a:ext cx="94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zahl2:=anzahl2+1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40640" y="283860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:=count2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30480" y="20397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count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89520" y="296064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zahl1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89520" y="306864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zahl2:=0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9160" y="3176640"/>
              <a:ext cx="45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38160" y="3710160"/>
              <a:ext cx="918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zahl1:=anzahl1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14560" y="38829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count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0120" y="138240"/>
              <a:ext cx="38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unt&lt;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7040" y="1995480"/>
              <a:ext cx="17136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040" y="1995480"/>
              <a:ext cx="17136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120" y="2063880"/>
              <a:ext cx="79200" cy="5544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7040" y="285912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7040" y="285912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3120" y="2927520"/>
              <a:ext cx="79200" cy="5688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8840" y="2282760"/>
              <a:ext cx="1731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28840" y="2282760"/>
              <a:ext cx="1731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440" y="380880"/>
              <a:ext cx="1728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1440" y="380880"/>
              <a:ext cx="1728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27520" y="450720"/>
              <a:ext cx="80640" cy="5580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4600" y="1073160"/>
              <a:ext cx="1717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4600" y="1073160"/>
              <a:ext cx="1717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0680" y="1141560"/>
              <a:ext cx="79560" cy="5688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7040" y="107316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7040" y="107316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3120" y="1141560"/>
              <a:ext cx="79200" cy="5688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3600" y="771480"/>
              <a:ext cx="3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98440" y="23760"/>
              <a:ext cx="80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rray[count]:=rnd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98080" y="131760"/>
              <a:ext cx="1152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ave[count]:=array[count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7160" y="6573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:=count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7040" y="3722760"/>
              <a:ext cx="17136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7040" y="3722760"/>
              <a:ext cx="17136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5920" y="2859120"/>
              <a:ext cx="1731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85920" y="2859120"/>
              <a:ext cx="1731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3440" y="2927520"/>
              <a:ext cx="79560" cy="5688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3608280"/>
              <a:ext cx="1746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3608280"/>
              <a:ext cx="1746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6360" y="3676680"/>
              <a:ext cx="81000" cy="5724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5920" y="3608280"/>
              <a:ext cx="1731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85920" y="3608280"/>
              <a:ext cx="1731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33440" y="3676680"/>
              <a:ext cx="79560" cy="5724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7040" y="38088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7040" y="38088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5480" y="411120"/>
              <a:ext cx="11592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3120" y="450720"/>
              <a:ext cx="79200" cy="55800"/>
            </a:xfrm>
            <a:custGeom>
              <a:avLst/>
              <a:gdLst/>
              <a:ahLst/>
              <a:rect l="l" t="t" r="r" b="b"/>
              <a:pathLst>
                <a:path w="221" h="158">
                  <a:moveTo>
                    <a:pt x="24" y="0"/>
                  </a:moveTo>
                  <a:cubicBezTo>
                    <a:pt x="0" y="43"/>
                    <a:pt x="9" y="96"/>
                    <a:pt x="46" y="127"/>
                  </a:cubicBezTo>
                  <a:cubicBezTo>
                    <a:pt x="83" y="158"/>
                    <a:pt x="138" y="158"/>
                    <a:pt x="175" y="127"/>
                  </a:cubicBezTo>
                  <a:cubicBezTo>
                    <a:pt x="212" y="96"/>
                    <a:pt x="221" y="43"/>
                    <a:pt x="197" y="0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9400" y="23760"/>
              <a:ext cx="64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d:int[0,MAX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7440" y="228600"/>
              <a:ext cx="59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isier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6280" y="343080"/>
              <a:ext cx="59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WertGesetz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52640" y="3192480"/>
              <a:ext cx="934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ray[count2]!=cou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07920" y="244332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&gt;=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09000" y="2550960"/>
              <a:ext cx="96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amp;&amp; anzahl1!=anzahl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9920" y="2616120"/>
              <a:ext cx="96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ray[count2]==cou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4056120"/>
              <a:ext cx="91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ve[count2]!=cou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3320" y="224460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4120" y="362736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6120" y="97776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ortier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6120" y="91908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usch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640" y="2762280"/>
              <a:ext cx="82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leicheElem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1920" y="189864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Pruef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880" y="657360"/>
              <a:ext cx="44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unt&gt;=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9400" y="1924200"/>
              <a:ext cx="198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&lt;N-1 &amp;&amp; array[count]&lt;=array[count+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560" y="221292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&gt;=N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9760" y="2212920"/>
              <a:ext cx="192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&lt;N-1 &amp;&amp; array[count]&gt;array[count+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3840" y="319248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unt&gt;MA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7720" y="2787480"/>
              <a:ext cx="59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unt&lt;=MA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29400" y="134784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&gt;=N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4560" y="887400"/>
              <a:ext cx="47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&lt;N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6640" y="771480"/>
              <a:ext cx="1352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j&lt;N-1 &amp;&amp; array[count]&gt;array[j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560" y="134784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&gt;=N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54960" y="1636560"/>
              <a:ext cx="1411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j&lt;N-1 &amp;&amp; array[count]&lt;=array[j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77680" y="3537000"/>
              <a:ext cx="950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ve[count2]==cou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56960" y="359568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&gt;=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7680" y="3703680"/>
              <a:ext cx="99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amp;&amp; anzahl1==anzahl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29920" y="3363840"/>
              <a:ext cx="43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2&lt;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73400" y="3038400"/>
              <a:ext cx="0" cy="56196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54320" y="3530520"/>
              <a:ext cx="3816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7000" y="3693960"/>
              <a:ext cx="166536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0720" y="3676680"/>
              <a:ext cx="7164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2320" y="3029040"/>
              <a:ext cx="1308240" cy="550800"/>
            </a:xfrm>
            <a:custGeom>
              <a:avLst/>
              <a:gdLst/>
              <a:ahLst/>
              <a:rect l="l" t="t" r="r" b="b"/>
              <a:pathLst>
                <a:path w="3616" h="1527">
                  <a:moveTo>
                    <a:pt x="3616" y="0"/>
                  </a:moveTo>
                  <a:cubicBezTo>
                    <a:pt x="3587" y="58"/>
                    <a:pt x="3532" y="140"/>
                    <a:pt x="3450" y="245"/>
                  </a:cubicBezTo>
                  <a:lnTo>
                    <a:pt x="2575" y="1370"/>
                  </a:lnTo>
                  <a:cubicBezTo>
                    <a:pt x="2493" y="1475"/>
                    <a:pt x="2386" y="1527"/>
                    <a:pt x="2252" y="1527"/>
                  </a:cubicBezTo>
                  <a:lnTo>
                    <a:pt x="892" y="1527"/>
                  </a:lnTo>
                  <a:cubicBezTo>
                    <a:pt x="759" y="1527"/>
                    <a:pt x="665" y="1467"/>
                    <a:pt x="610" y="1345"/>
                  </a:cubicBezTo>
                  <a:lnTo>
                    <a:pt x="0" y="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2320" y="3030480"/>
              <a:ext cx="44640" cy="71640"/>
            </a:xfrm>
            <a:custGeom>
              <a:avLst/>
              <a:gdLst/>
              <a:ahLst/>
              <a:rect l="l" t="t" r="r" b="b"/>
              <a:pathLst>
                <a:path w="127" h="197">
                  <a:moveTo>
                    <a:pt x="127" y="155"/>
                  </a:moveTo>
                  <a:lnTo>
                    <a:pt x="0" y="0"/>
                  </a:lnTo>
                  <a:lnTo>
                    <a:pt x="33" y="19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77760" y="2944800"/>
              <a:ext cx="120024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09960" y="2927520"/>
              <a:ext cx="6804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54400" y="2414520"/>
              <a:ext cx="877680" cy="4860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2240" y="2414520"/>
              <a:ext cx="69840" cy="50760"/>
            </a:xfrm>
            <a:custGeom>
              <a:avLst/>
              <a:gdLst/>
              <a:ahLst/>
              <a:rect l="l" t="t" r="r" b="b"/>
              <a:pathLst>
                <a:path w="194" h="139">
                  <a:moveTo>
                    <a:pt x="50" y="139"/>
                  </a:moveTo>
                  <a:lnTo>
                    <a:pt x="194" y="0"/>
                  </a:lnTo>
                  <a:lnTo>
                    <a:pt x="0" y="48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14440" y="3749760"/>
              <a:ext cx="1737000" cy="290520"/>
            </a:xfrm>
            <a:custGeom>
              <a:avLst/>
              <a:gdLst/>
              <a:ahLst/>
              <a:rect l="l" t="t" r="r" b="b"/>
              <a:pathLst>
                <a:path w="4796" h="804">
                  <a:moveTo>
                    <a:pt x="0" y="77"/>
                  </a:moveTo>
                  <a:lnTo>
                    <a:pt x="274" y="626"/>
                  </a:lnTo>
                  <a:cubicBezTo>
                    <a:pt x="334" y="745"/>
                    <a:pt x="430" y="804"/>
                    <a:pt x="563" y="804"/>
                  </a:cubicBezTo>
                  <a:lnTo>
                    <a:pt x="3523" y="804"/>
                  </a:lnTo>
                  <a:cubicBezTo>
                    <a:pt x="3657" y="804"/>
                    <a:pt x="3777" y="764"/>
                    <a:pt x="3883" y="684"/>
                  </a:cubicBezTo>
                  <a:lnTo>
                    <a:pt x="479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83040" y="3749760"/>
              <a:ext cx="68400" cy="57240"/>
            </a:xfrm>
            <a:custGeom>
              <a:avLst/>
              <a:gdLst/>
              <a:ahLst/>
              <a:rect l="l" t="t" r="r" b="b"/>
              <a:pathLst>
                <a:path w="186" h="158">
                  <a:moveTo>
                    <a:pt x="62" y="158"/>
                  </a:moveTo>
                  <a:lnTo>
                    <a:pt x="186" y="0"/>
                  </a:lnTo>
                  <a:lnTo>
                    <a:pt x="0" y="75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7000" y="2944800"/>
              <a:ext cx="1758960" cy="655560"/>
            </a:xfrm>
            <a:custGeom>
              <a:avLst/>
              <a:gdLst/>
              <a:ahLst/>
              <a:rect l="l" t="t" r="r" b="b"/>
              <a:pathLst>
                <a:path w="4860" h="1820">
                  <a:moveTo>
                    <a:pt x="4860" y="1820"/>
                  </a:moveTo>
                  <a:lnTo>
                    <a:pt x="4860" y="360"/>
                  </a:lnTo>
                  <a:cubicBezTo>
                    <a:pt x="4860" y="227"/>
                    <a:pt x="4860" y="134"/>
                    <a:pt x="4860" y="80"/>
                  </a:cubicBezTo>
                  <a:cubicBezTo>
                    <a:pt x="4860" y="27"/>
                    <a:pt x="4794" y="0"/>
                    <a:pt x="4660" y="0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7000" y="2927520"/>
              <a:ext cx="6984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194" y="0"/>
                  </a:moveTo>
                  <a:lnTo>
                    <a:pt x="0" y="51"/>
                  </a:lnTo>
                  <a:lnTo>
                    <a:pt x="194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46480" y="3003480"/>
              <a:ext cx="1733400" cy="609840"/>
            </a:xfrm>
            <a:custGeom>
              <a:avLst/>
              <a:gdLst/>
              <a:ahLst/>
              <a:rect l="l" t="t" r="r" b="b"/>
              <a:pathLst>
                <a:path w="4790" h="1690">
                  <a:moveTo>
                    <a:pt x="4790" y="1690"/>
                  </a:moveTo>
                  <a:lnTo>
                    <a:pt x="4214" y="652"/>
                  </a:lnTo>
                  <a:cubicBezTo>
                    <a:pt x="4149" y="536"/>
                    <a:pt x="4050" y="477"/>
                    <a:pt x="3916" y="477"/>
                  </a:cubicBezTo>
                  <a:lnTo>
                    <a:pt x="796" y="477"/>
                  </a:lnTo>
                  <a:cubicBezTo>
                    <a:pt x="663" y="477"/>
                    <a:pt x="544" y="436"/>
                    <a:pt x="440" y="353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6480" y="3003480"/>
              <a:ext cx="66600" cy="5868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83" y="80"/>
                  </a:moveTo>
                  <a:lnTo>
                    <a:pt x="0" y="0"/>
                  </a:lnTo>
                  <a:lnTo>
                    <a:pt x="118" y="16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2720" y="3038400"/>
              <a:ext cx="0" cy="67788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3640" y="3646440"/>
              <a:ext cx="3816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720" y="2174760"/>
              <a:ext cx="0" cy="67644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3640" y="2782800"/>
              <a:ext cx="38160" cy="6840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9840" y="826920"/>
              <a:ext cx="442800" cy="497160"/>
            </a:xfrm>
            <a:custGeom>
              <a:avLst/>
              <a:gdLst/>
              <a:ahLst/>
              <a:rect l="l" t="t" r="r" b="b"/>
              <a:pathLst>
                <a:path w="1223" h="1382">
                  <a:moveTo>
                    <a:pt x="0" y="779"/>
                  </a:moveTo>
                  <a:lnTo>
                    <a:pt x="1057" y="74"/>
                  </a:lnTo>
                  <a:cubicBezTo>
                    <a:pt x="1168" y="0"/>
                    <a:pt x="1223" y="30"/>
                    <a:pt x="1223" y="163"/>
                  </a:cubicBezTo>
                  <a:lnTo>
                    <a:pt x="1223" y="1203"/>
                  </a:lnTo>
                  <a:cubicBezTo>
                    <a:pt x="1223" y="1337"/>
                    <a:pt x="1160" y="1382"/>
                    <a:pt x="1034" y="1340"/>
                  </a:cubicBezTo>
                  <a:lnTo>
                    <a:pt x="30" y="100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1000" y="1189080"/>
              <a:ext cx="71280" cy="39600"/>
            </a:xfrm>
            <a:custGeom>
              <a:avLst/>
              <a:gdLst/>
              <a:ahLst/>
              <a:rect l="l" t="t" r="r" b="b"/>
              <a:pathLst>
                <a:path w="200" h="110">
                  <a:moveTo>
                    <a:pt x="200" y="12"/>
                  </a:moveTo>
                  <a:lnTo>
                    <a:pt x="0" y="0"/>
                  </a:lnTo>
                  <a:lnTo>
                    <a:pt x="167" y="11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9960" y="1243080"/>
              <a:ext cx="441000" cy="377640"/>
            </a:xfrm>
            <a:custGeom>
              <a:avLst/>
              <a:gdLst/>
              <a:ahLst/>
              <a:rect l="l" t="t" r="r" b="b"/>
              <a:pathLst>
                <a:path w="1221" h="1047">
                  <a:moveTo>
                    <a:pt x="727" y="0"/>
                  </a:moveTo>
                  <a:lnTo>
                    <a:pt x="1161" y="869"/>
                  </a:lnTo>
                  <a:cubicBezTo>
                    <a:pt x="1221" y="988"/>
                    <a:pt x="1184" y="1047"/>
                    <a:pt x="1050" y="1047"/>
                  </a:cubicBezTo>
                  <a:lnTo>
                    <a:pt x="170" y="1047"/>
                  </a:lnTo>
                  <a:cubicBezTo>
                    <a:pt x="37" y="1047"/>
                    <a:pt x="0" y="988"/>
                    <a:pt x="60" y="869"/>
                  </a:cubicBezTo>
                  <a:lnTo>
                    <a:pt x="494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39920" y="1243080"/>
              <a:ext cx="49320" cy="7128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92" y="196"/>
                  </a:moveTo>
                  <a:lnTo>
                    <a:pt x="132" y="0"/>
                  </a:lnTo>
                  <a:lnTo>
                    <a:pt x="0" y="15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50760" y="1809720"/>
              <a:ext cx="222480" cy="324000"/>
            </a:xfrm>
            <a:custGeom>
              <a:avLst/>
              <a:gdLst/>
              <a:ahLst/>
              <a:rect l="l" t="t" r="r" b="b"/>
              <a:pathLst>
                <a:path w="616" h="899">
                  <a:moveTo>
                    <a:pt x="0" y="569"/>
                  </a:moveTo>
                  <a:lnTo>
                    <a:pt x="475" y="94"/>
                  </a:lnTo>
                  <a:cubicBezTo>
                    <a:pt x="569" y="0"/>
                    <a:pt x="616" y="19"/>
                    <a:pt x="616" y="152"/>
                  </a:cubicBezTo>
                  <a:lnTo>
                    <a:pt x="616" y="712"/>
                  </a:lnTo>
                  <a:cubicBezTo>
                    <a:pt x="616" y="846"/>
                    <a:pt x="551" y="899"/>
                    <a:pt x="420" y="873"/>
                  </a:cubicBezTo>
                  <a:lnTo>
                    <a:pt x="71" y="8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6320" y="2095560"/>
              <a:ext cx="73080" cy="36360"/>
            </a:xfrm>
            <a:custGeom>
              <a:avLst/>
              <a:gdLst/>
              <a:ahLst/>
              <a:rect l="l" t="t" r="r" b="b"/>
              <a:pathLst>
                <a:path w="200" h="101">
                  <a:moveTo>
                    <a:pt x="200" y="0"/>
                  </a:moveTo>
                  <a:lnTo>
                    <a:pt x="0" y="12"/>
                  </a:lnTo>
                  <a:lnTo>
                    <a:pt x="180" y="10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50760" y="2147760"/>
              <a:ext cx="2270160" cy="220680"/>
            </a:xfrm>
            <a:custGeom>
              <a:avLst/>
              <a:gdLst/>
              <a:ahLst/>
              <a:rect l="l" t="t" r="r" b="b"/>
              <a:pathLst>
                <a:path w="6276" h="616">
                  <a:moveTo>
                    <a:pt x="0" y="0"/>
                  </a:moveTo>
                  <a:lnTo>
                    <a:pt x="475" y="475"/>
                  </a:lnTo>
                  <a:cubicBezTo>
                    <a:pt x="569" y="569"/>
                    <a:pt x="683" y="616"/>
                    <a:pt x="816" y="616"/>
                  </a:cubicBezTo>
                  <a:lnTo>
                    <a:pt x="6276" y="61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1080" y="2351160"/>
              <a:ext cx="6984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76320" y="298440"/>
              <a:ext cx="1898640" cy="155520"/>
            </a:xfrm>
            <a:custGeom>
              <a:avLst/>
              <a:gdLst/>
              <a:ahLst/>
              <a:rect l="l" t="t" r="r" b="b"/>
              <a:pathLst>
                <a:path w="5247" h="429">
                  <a:moveTo>
                    <a:pt x="0" y="424"/>
                  </a:moveTo>
                  <a:lnTo>
                    <a:pt x="2267" y="24"/>
                  </a:lnTo>
                  <a:cubicBezTo>
                    <a:pt x="2398" y="1"/>
                    <a:pt x="2529" y="0"/>
                    <a:pt x="2661" y="21"/>
                  </a:cubicBezTo>
                  <a:lnTo>
                    <a:pt x="5247" y="42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03680" y="423720"/>
              <a:ext cx="71280" cy="3816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0" y="102"/>
                  </a:moveTo>
                  <a:lnTo>
                    <a:pt x="199" y="81"/>
                  </a:lnTo>
                  <a:lnTo>
                    <a:pt x="1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2720" y="561960"/>
              <a:ext cx="0" cy="50328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3640" y="996840"/>
              <a:ext cx="38160" cy="6840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6320" y="484200"/>
              <a:ext cx="1898640" cy="152280"/>
            </a:xfrm>
            <a:custGeom>
              <a:avLst/>
              <a:gdLst/>
              <a:ahLst/>
              <a:rect l="l" t="t" r="r" b="b"/>
              <a:pathLst>
                <a:path w="5247" h="427">
                  <a:moveTo>
                    <a:pt x="5247" y="0"/>
                  </a:moveTo>
                  <a:lnTo>
                    <a:pt x="2821" y="405"/>
                  </a:lnTo>
                  <a:cubicBezTo>
                    <a:pt x="2689" y="427"/>
                    <a:pt x="2558" y="427"/>
                    <a:pt x="2426" y="405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6320" y="476280"/>
              <a:ext cx="73080" cy="3636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199" y="0"/>
                  </a:moveTo>
                  <a:lnTo>
                    <a:pt x="0" y="19"/>
                  </a:lnTo>
                  <a:lnTo>
                    <a:pt x="182" y="102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2720" y="1252440"/>
              <a:ext cx="0" cy="7351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3640" y="1917720"/>
              <a:ext cx="3816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1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77760" y="1158840"/>
              <a:ext cx="125892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66840" y="1141560"/>
              <a:ext cx="69840" cy="3636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103"/>
                  </a:moveTo>
                  <a:lnTo>
                    <a:pt x="193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71640" y="1176480"/>
              <a:ext cx="1266840" cy="152280"/>
            </a:xfrm>
            <a:custGeom>
              <a:avLst/>
              <a:gdLst/>
              <a:ahLst/>
              <a:rect l="l" t="t" r="r" b="b"/>
              <a:pathLst>
                <a:path w="3500" h="423">
                  <a:moveTo>
                    <a:pt x="3500" y="0"/>
                  </a:moveTo>
                  <a:lnTo>
                    <a:pt x="1233" y="400"/>
                  </a:lnTo>
                  <a:cubicBezTo>
                    <a:pt x="1102" y="423"/>
                    <a:pt x="974" y="411"/>
                    <a:pt x="849" y="364"/>
                  </a:cubicBezTo>
                  <a:lnTo>
                    <a:pt x="0" y="4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1192320"/>
              <a:ext cx="71280" cy="4284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199" y="19"/>
                  </a:moveTo>
                  <a:lnTo>
                    <a:pt x="0" y="0"/>
                  </a:lnTo>
                  <a:lnTo>
                    <a:pt x="163" y="11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38:03Z</dcterms:created>
  <dc:creator>x</dc:creator>
  <dc:description/>
  <dc:language>en-US</dc:language>
  <cp:lastModifiedBy>x</cp:lastModifiedBy>
  <dcterms:modified xsi:type="dcterms:W3CDTF">2009-06-27T16:38:35Z</dcterms:modified>
  <cp:revision>1</cp:revision>
  <dc:subject/>
  <dc:title>Folie 1</dc:title>
</cp:coreProperties>
</file>