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64500" cy="2484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A11-A8C8-4686-A2F5-FF26672C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2840" y="143568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ABC-A983-4EDA-B022-38F64139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200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6F3-6AE9-47A0-B690-DCB548A9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696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1072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284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696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1072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D32-506F-4A74-9181-6B48EAD0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1BC-0F7B-4D12-8626-81FAFF36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DAA-5250-459C-B5E1-09364D3A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2EC-5B6E-48E3-BBA9-BA9BA6AC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8A1-C60D-43AF-833F-D9AC07BE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2840" y="99720"/>
            <a:ext cx="72579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115-4065-4453-B6BD-CF37B456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72C-46FD-4AB7-B803-8880E62F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200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649-09E4-429C-9E4D-4F97241C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101-7C65-4918-8E70-080AD1AB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2840" y="99720"/>
            <a:ext cx="7257960" cy="414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 fontScale="59000"/>
          </a:bodyPr>
          <a:p>
            <a:pPr marL="132840" indent="-132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-1112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444960" indent="-88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621720" indent="-87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200" y="2261880"/>
            <a:ext cx="188136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55440" y="2261880"/>
            <a:ext cx="255276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79800" y="2261880"/>
            <a:ext cx="188100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 algn="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fld id="{D0EB23A2-F1D2-4AD1-910D-A67CD0AEAA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3080" y="17640"/>
            <a:ext cx="4752720" cy="2017440"/>
            <a:chOff x="343080" y="17640"/>
            <a:chExt cx="4752720" cy="2017440"/>
          </a:xfrm>
        </p:grpSpPr>
        <p:sp>
          <p:nvSpPr>
            <p:cNvPr id="42" name=""/>
            <p:cNvSpPr/>
            <p:nvPr/>
          </p:nvSpPr>
          <p:spPr>
            <a:xfrm>
              <a:off x="2575080" y="1764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99080" y="522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51080" y="522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>
              <a:stCxn id="42" idx="3"/>
              <a:endCxn id="44" idx="7"/>
            </p:cNvCxnSpPr>
            <p:nvPr/>
          </p:nvCxnSpPr>
          <p:spPr>
            <a:xfrm flipH="1">
              <a:off x="1658880" y="325440"/>
              <a:ext cx="96912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46" name=""/>
            <p:cNvCxnSpPr>
              <a:stCxn id="42" idx="5"/>
              <a:endCxn id="43" idx="1"/>
            </p:cNvCxnSpPr>
            <p:nvPr/>
          </p:nvCxnSpPr>
          <p:spPr>
            <a:xfrm>
              <a:off x="2882880" y="325440"/>
              <a:ext cx="96912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7" name=""/>
            <p:cNvSpPr/>
            <p:nvPr/>
          </p:nvSpPr>
          <p:spPr>
            <a:xfrm>
              <a:off x="701640" y="1170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6200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308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7" idx="3"/>
              <a:endCxn id="49" idx="7"/>
            </p:cNvCxnSpPr>
            <p:nvPr/>
          </p:nvCxnSpPr>
          <p:spPr>
            <a:xfrm flipH="1">
              <a:off x="650880" y="1477800"/>
              <a:ext cx="1036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1" name=""/>
            <p:cNvCxnSpPr>
              <a:stCxn id="47" idx="5"/>
              <a:endCxn id="48" idx="1"/>
            </p:cNvCxnSpPr>
            <p:nvPr/>
          </p:nvCxnSpPr>
          <p:spPr>
            <a:xfrm>
              <a:off x="100944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2" name=""/>
            <p:cNvSpPr/>
            <p:nvPr/>
          </p:nvSpPr>
          <p:spPr>
            <a:xfrm>
              <a:off x="1927440" y="1170000"/>
              <a:ext cx="360360" cy="360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780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6852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2" idx="3"/>
              <a:endCxn id="54" idx="7"/>
            </p:cNvCxnSpPr>
            <p:nvPr/>
          </p:nvCxnSpPr>
          <p:spPr>
            <a:xfrm flipH="1">
              <a:off x="1876320" y="1477800"/>
              <a:ext cx="10404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6" name=""/>
            <p:cNvCxnSpPr>
              <a:stCxn id="52" idx="5"/>
              <a:endCxn id="53" idx="1"/>
            </p:cNvCxnSpPr>
            <p:nvPr/>
          </p:nvCxnSpPr>
          <p:spPr>
            <a:xfrm>
              <a:off x="223524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7" name=""/>
            <p:cNvSpPr/>
            <p:nvPr/>
          </p:nvSpPr>
          <p:spPr>
            <a:xfrm>
              <a:off x="3151440" y="1170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1180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9252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"/>
            <p:cNvCxnSpPr>
              <a:stCxn id="57" idx="3"/>
              <a:endCxn id="59" idx="7"/>
            </p:cNvCxnSpPr>
            <p:nvPr/>
          </p:nvCxnSpPr>
          <p:spPr>
            <a:xfrm flipH="1">
              <a:off x="3100320" y="1477800"/>
              <a:ext cx="10404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1" name=""/>
            <p:cNvCxnSpPr>
              <a:stCxn id="57" idx="5"/>
              <a:endCxn id="58" idx="1"/>
            </p:cNvCxnSpPr>
            <p:nvPr/>
          </p:nvCxnSpPr>
          <p:spPr>
            <a:xfrm>
              <a:off x="345924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2" name=""/>
            <p:cNvSpPr/>
            <p:nvPr/>
          </p:nvSpPr>
          <p:spPr>
            <a:xfrm>
              <a:off x="4375080" y="1170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3544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1652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"/>
            <p:cNvCxnSpPr>
              <a:stCxn id="62" idx="3"/>
              <a:endCxn id="64" idx="7"/>
            </p:cNvCxnSpPr>
            <p:nvPr/>
          </p:nvCxnSpPr>
          <p:spPr>
            <a:xfrm flipH="1">
              <a:off x="4324320" y="1477800"/>
              <a:ext cx="1036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6" name=""/>
            <p:cNvCxnSpPr>
              <a:stCxn id="62" idx="5"/>
              <a:endCxn id="63" idx="1"/>
            </p:cNvCxnSpPr>
            <p:nvPr/>
          </p:nvCxnSpPr>
          <p:spPr>
            <a:xfrm>
              <a:off x="468288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7" name=""/>
            <p:cNvCxnSpPr>
              <a:stCxn id="44" idx="3"/>
              <a:endCxn id="47" idx="7"/>
            </p:cNvCxnSpPr>
            <p:nvPr/>
          </p:nvCxnSpPr>
          <p:spPr>
            <a:xfrm flipH="1">
              <a:off x="1009440" y="830160"/>
              <a:ext cx="39456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8" name=""/>
            <p:cNvCxnSpPr>
              <a:stCxn id="44" idx="5"/>
              <a:endCxn id="52" idx="1"/>
            </p:cNvCxnSpPr>
            <p:nvPr/>
          </p:nvCxnSpPr>
          <p:spPr>
            <a:xfrm>
              <a:off x="1658880" y="830160"/>
              <a:ext cx="32148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9" name=""/>
            <p:cNvCxnSpPr>
              <a:stCxn id="43" idx="5"/>
              <a:endCxn id="62" idx="1"/>
            </p:cNvCxnSpPr>
            <p:nvPr/>
          </p:nvCxnSpPr>
          <p:spPr>
            <a:xfrm>
              <a:off x="4106880" y="830160"/>
              <a:ext cx="32112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0" name=""/>
            <p:cNvCxnSpPr>
              <a:stCxn id="43" idx="3"/>
              <a:endCxn id="57" idx="7"/>
            </p:cNvCxnSpPr>
            <p:nvPr/>
          </p:nvCxnSpPr>
          <p:spPr>
            <a:xfrm flipH="1">
              <a:off x="3459240" y="830160"/>
              <a:ext cx="39276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sp>
        <p:nvSpPr>
          <p:cNvPr id="71" name=""/>
          <p:cNvSpPr/>
          <p:nvPr/>
        </p:nvSpPr>
        <p:spPr>
          <a:xfrm>
            <a:off x="5599080" y="378000"/>
            <a:ext cx="203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 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 leads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 --&gt;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64040" y="1050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44600" y="41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568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16280" y="1073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52640" y="1576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158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0280" y="1576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4880" y="204480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3120" y="204480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7840" y="204480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37120" y="204480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1840" y="204480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1120" y="204480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5840" y="204480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86560" y="204480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1:47:12Z</dcterms:created>
  <dc:creator>x</dc:creator>
  <dc:description/>
  <dc:language>en-US</dc:language>
  <cp:lastModifiedBy>x</cp:lastModifiedBy>
  <dcterms:modified xsi:type="dcterms:W3CDTF">2007-01-07T11:55:31Z</dcterms:modified>
  <cp:revision>5</cp:revision>
  <dc:subject/>
  <dc:title>Folie 1</dc:title>
</cp:coreProperties>
</file>