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43550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042-200A-40C9-9C4D-2060694A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7560" y="907560"/>
            <a:ext cx="498924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7560" y="2248560"/>
            <a:ext cx="498924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918-BC7C-4203-920C-6401FC73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7560" y="907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34280" y="907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7560" y="2248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34280" y="2248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05D-A410-4C62-A171-A72C6618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560" y="907560"/>
            <a:ext cx="160632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4520" y="907560"/>
            <a:ext cx="160632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51480" y="907560"/>
            <a:ext cx="160632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7560" y="2248560"/>
            <a:ext cx="160632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4520" y="2248560"/>
            <a:ext cx="160632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51480" y="2248560"/>
            <a:ext cx="160632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FD7-D30A-45F0-B2F6-0DD437AA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7560" y="907560"/>
            <a:ext cx="498924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5BB-89A6-4DF6-A97F-DB71CF2C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7560" y="907560"/>
            <a:ext cx="4989240" cy="2567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F91-1CE4-47DC-91E3-DA11A4EC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7560" y="907560"/>
            <a:ext cx="2434680" cy="2567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34280" y="907560"/>
            <a:ext cx="2434680" cy="2567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ABA-88BE-4161-9929-DD3316D5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A96-0A07-4CF0-A306-BC5D9974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7560" y="155160"/>
            <a:ext cx="498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290-48A3-4681-A08A-3A81BAF2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560" y="907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34280" y="907560"/>
            <a:ext cx="2434680" cy="2567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7560" y="2248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CA9-5767-4B3E-9583-343B1D0F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7560" y="907560"/>
            <a:ext cx="2434680" cy="2567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34280" y="907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34280" y="2248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87A-4C9B-4017-947B-7508E7E5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7560" y="907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34280" y="907560"/>
            <a:ext cx="243468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7560" y="2248560"/>
            <a:ext cx="4989240" cy="1224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FDA-83B3-40EE-8A48-98A6B8F3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560" y="155160"/>
            <a:ext cx="4989240" cy="647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ctr">
            <a:noAutofit/>
          </a:bodyPr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7560" y="907560"/>
            <a:ext cx="4989240" cy="2567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rmAutofit/>
          </a:bodyPr>
          <a:p>
            <a:pPr marL="201600" indent="-201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12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320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42840" indent="-1346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12840" indent="-135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12840" indent="-135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12840" indent="-135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7920" y="3541680"/>
            <a:ext cx="1293840" cy="270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Autofit/>
          </a:bodyPr>
          <a:lstStyle>
            <a:lvl1pPr indent="0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600" y="3541680"/>
            <a:ext cx="1757160" cy="270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Autofit/>
          </a:bodyPr>
          <a:lstStyle>
            <a:lvl1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73320" y="3541680"/>
            <a:ext cx="1293480" cy="270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27000" bIns="27000" anchor="t">
            <a:noAutofit/>
          </a:bodyPr>
          <a:lstStyle>
            <a:lvl1pPr indent="0" algn="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fld id="{73949B75-CA59-441A-881F-2D3385BC51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73080"/>
            <a:ext cx="5473440" cy="3816360"/>
            <a:chOff x="34920" y="73080"/>
            <a:chExt cx="5473440" cy="3816360"/>
          </a:xfrm>
        </p:grpSpPr>
        <p:sp>
          <p:nvSpPr>
            <p:cNvPr id="42" name=""/>
            <p:cNvSpPr/>
            <p:nvPr/>
          </p:nvSpPr>
          <p:spPr>
            <a:xfrm>
              <a:off x="1042920" y="2233440"/>
              <a:ext cx="39610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01600" indent="-201600"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539640"/>
                  <a:tab algn="l" pos="1079640"/>
                  <a:tab algn="l" pos="1619280"/>
                  <a:tab algn="l" pos="2158920"/>
                  <a:tab algn="l" pos="2698920"/>
                  <a:tab algn="l" pos="3238560"/>
                  <a:tab algn="l" pos="3778200"/>
                  <a:tab algn="l" pos="4317840"/>
                  <a:tab algn="l" pos="4857840"/>
                  <a:tab algn="l" pos="5397480"/>
                  <a:tab algn="l" pos="5937120"/>
                  <a:tab algn="l" pos="6477120"/>
                  <a:tab algn="l" pos="7016760"/>
                  <a:tab algn="l" pos="7556400"/>
                  <a:tab algn="l" pos="8096400"/>
                  <a:tab algn="l" pos="8636040"/>
                  <a:tab algn="l" pos="9175680"/>
                  <a:tab algn="l" pos="9715680"/>
                  <a:tab algn="l" pos="10255320"/>
                  <a:tab algn="l" pos="107949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(t3) = 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01600" indent="-201600"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539640"/>
                  <a:tab algn="l" pos="1079640"/>
                  <a:tab algn="l" pos="1619280"/>
                  <a:tab algn="l" pos="2158920"/>
                  <a:tab algn="l" pos="2698920"/>
                  <a:tab algn="l" pos="3238560"/>
                  <a:tab algn="l" pos="3778200"/>
                  <a:tab algn="l" pos="4317840"/>
                  <a:tab algn="l" pos="4857840"/>
                  <a:tab algn="l" pos="5397480"/>
                  <a:tab algn="l" pos="5937120"/>
                  <a:tab algn="l" pos="6477120"/>
                  <a:tab algn="l" pos="7016760"/>
                  <a:tab algn="l" pos="7556400"/>
                  <a:tab algn="l" pos="8096400"/>
                  <a:tab algn="l" pos="8636040"/>
                  <a:tab algn="l" pos="9175680"/>
                  <a:tab algn="l" pos="9715680"/>
                  <a:tab algn="l" pos="10255320"/>
                  <a:tab algn="l" pos="107949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(t2) = 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01600" indent="-201600"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539640"/>
                  <a:tab algn="l" pos="1079640"/>
                  <a:tab algn="l" pos="1619280"/>
                  <a:tab algn="l" pos="2158920"/>
                  <a:tab algn="l" pos="2698920"/>
                  <a:tab algn="l" pos="3238560"/>
                  <a:tab algn="l" pos="3778200"/>
                  <a:tab algn="l" pos="4317840"/>
                  <a:tab algn="l" pos="4857840"/>
                  <a:tab algn="l" pos="5397480"/>
                  <a:tab algn="l" pos="5937120"/>
                  <a:tab algn="l" pos="6477120"/>
                  <a:tab algn="l" pos="7016760"/>
                  <a:tab algn="l" pos="7556400"/>
                  <a:tab algn="l" pos="8096400"/>
                  <a:tab algn="l" pos="8636040"/>
                  <a:tab algn="l" pos="9175680"/>
                  <a:tab algn="l" pos="9715680"/>
                  <a:tab algn="l" pos="10255320"/>
                  <a:tab algn="l" pos="107949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(t1)=i(t2)+t(t3)= 2 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01600" indent="-201600"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539640"/>
                  <a:tab algn="l" pos="1079640"/>
                  <a:tab algn="l" pos="1619280"/>
                  <a:tab algn="l" pos="2158920"/>
                  <a:tab algn="l" pos="2698920"/>
                  <a:tab algn="l" pos="3238560"/>
                  <a:tab algn="l" pos="3778200"/>
                  <a:tab algn="l" pos="4317840"/>
                  <a:tab algn="l" pos="4857840"/>
                  <a:tab algn="l" pos="5397480"/>
                  <a:tab algn="l" pos="5937120"/>
                  <a:tab algn="l" pos="6477120"/>
                  <a:tab algn="l" pos="7016760"/>
                  <a:tab algn="l" pos="7556400"/>
                  <a:tab algn="l" pos="8096400"/>
                  <a:tab algn="l" pos="8636040"/>
                  <a:tab algn="l" pos="9175680"/>
                  <a:tab algn="l" pos="9715680"/>
                  <a:tab algn="l" pos="10255320"/>
                  <a:tab algn="l" pos="107949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01600" indent="-201600"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539640"/>
                  <a:tab algn="l" pos="1079640"/>
                  <a:tab algn="l" pos="1619280"/>
                  <a:tab algn="l" pos="2158920"/>
                  <a:tab algn="l" pos="2698920"/>
                  <a:tab algn="l" pos="3238560"/>
                  <a:tab algn="l" pos="3778200"/>
                  <a:tab algn="l" pos="4317840"/>
                  <a:tab algn="l" pos="4857840"/>
                  <a:tab algn="l" pos="5397480"/>
                  <a:tab algn="l" pos="5937120"/>
                  <a:tab algn="l" pos="6477120"/>
                  <a:tab algn="l" pos="7016760"/>
                  <a:tab algn="l" pos="7556400"/>
                  <a:tab algn="l" pos="8096400"/>
                  <a:tab algn="l" pos="8636040"/>
                  <a:tab algn="l" pos="9175680"/>
                  <a:tab algn="l" pos="9715680"/>
                  <a:tab algn="l" pos="10255320"/>
                  <a:tab algn="l" pos="107949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.B. i(t1)=2, i(t2)=1, (t3)=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91520" y="5428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920" y="46836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8720" y="5428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1640" y="46980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" name=""/>
            <p:cNvCxnSpPr>
              <a:stCxn id="44" idx="3"/>
              <a:endCxn id="46" idx="2"/>
            </p:cNvCxnSpPr>
            <p:nvPr/>
          </p:nvCxnSpPr>
          <p:spPr>
            <a:xfrm>
              <a:off x="539640" y="720720"/>
              <a:ext cx="43236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8" name=""/>
            <p:cNvSpPr/>
            <p:nvPr/>
          </p:nvSpPr>
          <p:spPr>
            <a:xfrm>
              <a:off x="1010880" y="7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68480" y="46836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960" y="1477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6" idx="6"/>
              <a:endCxn id="49" idx="1"/>
            </p:cNvCxnSpPr>
            <p:nvPr/>
          </p:nvCxnSpPr>
          <p:spPr>
            <a:xfrm flipV="1">
              <a:off x="1476360" y="720720"/>
              <a:ext cx="4924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2" name=""/>
            <p:cNvSpPr/>
            <p:nvPr/>
          </p:nvSpPr>
          <p:spPr>
            <a:xfrm>
              <a:off x="1187640" y="136980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"/>
            <p:cNvCxnSpPr>
              <a:stCxn id="52" idx="7"/>
              <a:endCxn id="49" idx="2"/>
            </p:cNvCxnSpPr>
            <p:nvPr/>
          </p:nvCxnSpPr>
          <p:spPr>
            <a:xfrm flipV="1">
              <a:off x="1618560" y="973080"/>
              <a:ext cx="602640" cy="470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4" name=""/>
            <p:cNvCxnSpPr>
              <a:stCxn id="46" idx="3"/>
              <a:endCxn id="55" idx="0"/>
            </p:cNvCxnSpPr>
            <p:nvPr/>
          </p:nvCxnSpPr>
          <p:spPr>
            <a:xfrm flipH="1">
              <a:off x="287280" y="900720"/>
              <a:ext cx="758520" cy="46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5" name=""/>
            <p:cNvSpPr/>
            <p:nvPr/>
          </p:nvSpPr>
          <p:spPr>
            <a:xfrm>
              <a:off x="34920" y="1369800"/>
              <a:ext cx="50472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55" idx="3"/>
              <a:endCxn id="52" idx="2"/>
            </p:cNvCxnSpPr>
            <p:nvPr/>
          </p:nvCxnSpPr>
          <p:spPr>
            <a:xfrm>
              <a:off x="539640" y="1622160"/>
              <a:ext cx="64836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3708360" y="577800"/>
              <a:ext cx="144720" cy="1008000"/>
            </a:xfrm>
            <a:custGeom>
              <a:avLst/>
              <a:gdLst>
                <a:gd name="textAreaLeft" fmla="*/ 42480 w 144720"/>
                <a:gd name="textAreaRight" fmla="*/ 145080 w 144720"/>
                <a:gd name="textAreaTop" fmla="*/ 41760 h 1008000"/>
                <a:gd name="textAreaBottom" fmla="*/ 96624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64320" y="10810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89400" y="108108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14840" y="10810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64320" y="64908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9400" y="649080"/>
              <a:ext cx="57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14840" y="64908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14840" y="64908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14840" y="64908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38880" y="64908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89400" y="147636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14840" y="147636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64320" y="147636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4320" y="64908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89400" y="64908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14840" y="10810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38880" y="10810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363640" y="577800"/>
              <a:ext cx="144360" cy="1008000"/>
            </a:xfrm>
            <a:custGeom>
              <a:avLst/>
              <a:gdLst>
                <a:gd name="textAreaLeft" fmla="*/ 42480 w 144360"/>
                <a:gd name="textAreaRight" fmla="*/ 144360 w 144360"/>
                <a:gd name="textAreaTop" fmla="*/ 41760 h 1008000"/>
                <a:gd name="textAreaBottom" fmla="*/ 96624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20720" y="1404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0:09:21Z</dcterms:created>
  <dc:creator>x</dc:creator>
  <dc:description/>
  <dc:language>en-US</dc:language>
  <cp:lastModifiedBy>x</cp:lastModifiedBy>
  <dcterms:modified xsi:type="dcterms:W3CDTF">2009-02-10T17:00:36Z</dcterms:modified>
  <cp:revision>3</cp:revision>
  <dc:subject/>
  <dc:title>Folie 1</dc:title>
</cp:coreProperties>
</file>