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7923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1F1-27A7-4160-92F4-4722AD27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848960"/>
            <a:ext cx="55087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4578840"/>
            <a:ext cx="55087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A43-6D3E-4025-99DF-9CD0C3DB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84896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84896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457884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457884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A0E-3CBE-47E1-8BC9-996300A9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848960"/>
            <a:ext cx="17737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848960"/>
            <a:ext cx="17737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848960"/>
            <a:ext cx="17737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4578840"/>
            <a:ext cx="17737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4578840"/>
            <a:ext cx="17737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4578840"/>
            <a:ext cx="17737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F79-B521-41E9-862A-567813A4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848960"/>
            <a:ext cx="55087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9FC-F0AA-402D-8C44-A8142D89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848960"/>
            <a:ext cx="5508720" cy="52261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C2B-E78A-4A9A-9B2C-B69AF70A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848960"/>
            <a:ext cx="2688120" cy="52261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848960"/>
            <a:ext cx="2688120" cy="52261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A52-A576-42F3-B085-5079883A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66C-8036-40DC-BC09-3BF0FCDE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317520"/>
            <a:ext cx="5508720" cy="61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13A-2AD7-4C85-812B-40708B3A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84896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848960"/>
            <a:ext cx="2688120" cy="52261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457884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F4A-EB2A-49B8-A7EB-02A8B25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848960"/>
            <a:ext cx="2688120" cy="52261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84896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457884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27F-663E-4D8A-AEBF-0245A5A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84896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848960"/>
            <a:ext cx="26881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4578840"/>
            <a:ext cx="5508720" cy="24926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506-E5C1-44DA-BBE2-299C24C2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317520"/>
            <a:ext cx="5508720" cy="131904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848960"/>
            <a:ext cx="5508720" cy="522612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rmAutofit/>
          </a:bodyPr>
          <a:p>
            <a:pPr marL="239760" indent="-239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98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58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1587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1587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1587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1587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000" y="7213680"/>
            <a:ext cx="1428840" cy="5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Autofit/>
          </a:bodyPr>
          <a:lstStyle>
            <a:lvl1pPr indent="0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0880" y="7213680"/>
            <a:ext cx="1939680" cy="5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Autofit/>
          </a:bodyPr>
          <a:lstStyle>
            <a:lvl1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5880" y="7213680"/>
            <a:ext cx="1428840" cy="55080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32040" bIns="32040" anchor="t">
            <a:noAutofit/>
          </a:bodyPr>
          <a:lstStyle>
            <a:lvl1pPr indent="0" algn="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fld id="{7B541BD5-4156-43A6-BBBE-415088B0D2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80" y="11160"/>
            <a:ext cx="6053040" cy="7864560"/>
            <a:chOff x="6480" y="11160"/>
            <a:chExt cx="6053040" cy="78645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235160" y="5851440"/>
              <a:ext cx="4143240" cy="20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6480" y="11160"/>
              <a:ext cx="605304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957320" y="2935080"/>
              <a:ext cx="2136960" cy="64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40480" y="3133800"/>
              <a:ext cx="19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38280"/>
                  <a:tab algn="l" pos="1276200"/>
                  <a:tab algn="l" pos="1914480"/>
                  <a:tab algn="l" pos="2552760"/>
                  <a:tab algn="l" pos="3191040"/>
                  <a:tab algn="l" pos="3828960"/>
                  <a:tab algn="l" pos="4467240"/>
                  <a:tab algn="l" pos="5105520"/>
                  <a:tab algn="l" pos="5743440"/>
                  <a:tab algn="l" pos="6381720"/>
                  <a:tab algn="l" pos="7020000"/>
                  <a:tab algn="l" pos="7658280"/>
                  <a:tab algn="l" pos="8296200"/>
                  <a:tab algn="l" pos="8934480"/>
                  <a:tab algn="l" pos="9572760"/>
                  <a:tab algn="l" pos="10210680"/>
                  <a:tab algn="l" pos="108489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mittlungs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480" y="2935080"/>
              <a:ext cx="1496880" cy="64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4920" y="3133800"/>
              <a:ext cx="133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38280"/>
                  <a:tab algn="l" pos="1276200"/>
                  <a:tab algn="l" pos="1914480"/>
                  <a:tab algn="l" pos="2552760"/>
                  <a:tab algn="l" pos="3191040"/>
                  <a:tab algn="l" pos="3828960"/>
                  <a:tab algn="l" pos="4467240"/>
                  <a:tab algn="l" pos="5105520"/>
                  <a:tab algn="l" pos="5743440"/>
                  <a:tab algn="l" pos="6381720"/>
                  <a:tab algn="l" pos="7020000"/>
                  <a:tab algn="l" pos="7658280"/>
                  <a:tab algn="l" pos="8296200"/>
                  <a:tab algn="l" pos="8934480"/>
                  <a:tab algn="l" pos="9572760"/>
                  <a:tab algn="l" pos="10210680"/>
                  <a:tab algn="l" pos="108489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ilnehmer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7560" y="3995640"/>
              <a:ext cx="2208240" cy="169920"/>
            </a:xfrm>
            <a:custGeom>
              <a:avLst/>
              <a:gdLst/>
              <a:ahLst/>
              <a:rect l="l" t="t" r="r" b="b"/>
              <a:pathLst>
                <a:path w="4172" h="323">
                  <a:moveTo>
                    <a:pt x="0" y="135"/>
                  </a:moveTo>
                  <a:lnTo>
                    <a:pt x="4118" y="135"/>
                  </a:lnTo>
                  <a:lnTo>
                    <a:pt x="4118" y="188"/>
                  </a:lnTo>
                  <a:lnTo>
                    <a:pt x="0" y="188"/>
                  </a:lnTo>
                  <a:lnTo>
                    <a:pt x="0" y="135"/>
                  </a:lnTo>
                  <a:close/>
                  <a:moveTo>
                    <a:pt x="3890" y="3"/>
                  </a:moveTo>
                  <a:lnTo>
                    <a:pt x="4172" y="162"/>
                  </a:lnTo>
                  <a:lnTo>
                    <a:pt x="3890" y="320"/>
                  </a:lnTo>
                  <a:lnTo>
                    <a:pt x="3885" y="321"/>
                  </a:lnTo>
                  <a:lnTo>
                    <a:pt x="3880" y="323"/>
                  </a:lnTo>
                  <a:lnTo>
                    <a:pt x="3874" y="323"/>
                  </a:lnTo>
                  <a:lnTo>
                    <a:pt x="3870" y="321"/>
                  </a:lnTo>
                  <a:lnTo>
                    <a:pt x="3864" y="320"/>
                  </a:lnTo>
                  <a:lnTo>
                    <a:pt x="3860" y="317"/>
                  </a:lnTo>
                  <a:lnTo>
                    <a:pt x="3857" y="312"/>
                  </a:lnTo>
                  <a:lnTo>
                    <a:pt x="3854" y="308"/>
                  </a:lnTo>
                  <a:lnTo>
                    <a:pt x="3851" y="304"/>
                  </a:lnTo>
                  <a:lnTo>
                    <a:pt x="3850" y="298"/>
                  </a:lnTo>
                  <a:lnTo>
                    <a:pt x="3850" y="294"/>
                  </a:lnTo>
                  <a:lnTo>
                    <a:pt x="3851" y="288"/>
                  </a:lnTo>
                  <a:lnTo>
                    <a:pt x="3853" y="284"/>
                  </a:lnTo>
                  <a:lnTo>
                    <a:pt x="3856" y="280"/>
                  </a:lnTo>
                  <a:lnTo>
                    <a:pt x="3860" y="275"/>
                  </a:lnTo>
                  <a:lnTo>
                    <a:pt x="3864" y="272"/>
                  </a:lnTo>
                  <a:lnTo>
                    <a:pt x="4105" y="138"/>
                  </a:lnTo>
                  <a:lnTo>
                    <a:pt x="4105" y="185"/>
                  </a:lnTo>
                  <a:lnTo>
                    <a:pt x="3864" y="50"/>
                  </a:lnTo>
                  <a:lnTo>
                    <a:pt x="3860" y="48"/>
                  </a:lnTo>
                  <a:lnTo>
                    <a:pt x="3856" y="43"/>
                  </a:lnTo>
                  <a:lnTo>
                    <a:pt x="3853" y="39"/>
                  </a:lnTo>
                  <a:lnTo>
                    <a:pt x="3851" y="35"/>
                  </a:lnTo>
                  <a:lnTo>
                    <a:pt x="3850" y="29"/>
                  </a:lnTo>
                  <a:lnTo>
                    <a:pt x="3850" y="25"/>
                  </a:lnTo>
                  <a:lnTo>
                    <a:pt x="3851" y="19"/>
                  </a:lnTo>
                  <a:lnTo>
                    <a:pt x="3854" y="15"/>
                  </a:lnTo>
                  <a:lnTo>
                    <a:pt x="3857" y="9"/>
                  </a:lnTo>
                  <a:lnTo>
                    <a:pt x="3860" y="6"/>
                  </a:lnTo>
                  <a:lnTo>
                    <a:pt x="3864" y="3"/>
                  </a:lnTo>
                  <a:lnTo>
                    <a:pt x="3870" y="2"/>
                  </a:lnTo>
                  <a:lnTo>
                    <a:pt x="3874" y="0"/>
                  </a:lnTo>
                  <a:lnTo>
                    <a:pt x="3880" y="0"/>
                  </a:lnTo>
                  <a:lnTo>
                    <a:pt x="3885" y="2"/>
                  </a:lnTo>
                  <a:lnTo>
                    <a:pt x="3890" y="3"/>
                  </a:lnTo>
                  <a:lnTo>
                    <a:pt x="389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21440" y="380520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38280"/>
                  <a:tab algn="l" pos="1276200"/>
                  <a:tab algn="l" pos="1914480"/>
                  <a:tab algn="l" pos="2552760"/>
                  <a:tab algn="l" pos="3191040"/>
                  <a:tab algn="l" pos="3828960"/>
                  <a:tab algn="l" pos="4467240"/>
                  <a:tab algn="l" pos="5105520"/>
                  <a:tab algn="l" pos="5743440"/>
                  <a:tab algn="l" pos="6381720"/>
                  <a:tab algn="l" pos="7020000"/>
                  <a:tab algn="l" pos="7658280"/>
                  <a:tab algn="l" pos="8296200"/>
                  <a:tab algn="l" pos="8934480"/>
                  <a:tab algn="l" pos="9572760"/>
                  <a:tab algn="l" pos="10210680"/>
                  <a:tab algn="l" pos="108489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al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21240" y="2935080"/>
              <a:ext cx="1495440" cy="64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11240" y="3133800"/>
              <a:ext cx="133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38280"/>
                  <a:tab algn="l" pos="1276200"/>
                  <a:tab algn="l" pos="1914480"/>
                  <a:tab algn="l" pos="2552760"/>
                  <a:tab algn="l" pos="3191040"/>
                  <a:tab algn="l" pos="3828960"/>
                  <a:tab algn="l" pos="4467240"/>
                  <a:tab algn="l" pos="5105520"/>
                  <a:tab algn="l" pos="5743440"/>
                  <a:tab algn="l" pos="6381720"/>
                  <a:tab algn="l" pos="7020000"/>
                  <a:tab algn="l" pos="7658280"/>
                  <a:tab algn="l" pos="8296200"/>
                  <a:tab algn="l" pos="8934480"/>
                  <a:tab algn="l" pos="9572760"/>
                  <a:tab algn="l" pos="10210680"/>
                  <a:tab algn="l" pos="108489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ilnehmer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7560" y="3578040"/>
              <a:ext cx="0" cy="186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24360" y="3578040"/>
              <a:ext cx="0" cy="186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34040" y="3578040"/>
              <a:ext cx="0" cy="186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25800" y="4209840"/>
              <a:ext cx="2208240" cy="169920"/>
            </a:xfrm>
            <a:custGeom>
              <a:avLst/>
              <a:gdLst/>
              <a:ahLst/>
              <a:rect l="l" t="t" r="r" b="b"/>
              <a:pathLst>
                <a:path w="4173" h="322">
                  <a:moveTo>
                    <a:pt x="0" y="134"/>
                  </a:moveTo>
                  <a:lnTo>
                    <a:pt x="4118" y="134"/>
                  </a:lnTo>
                  <a:lnTo>
                    <a:pt x="4118" y="189"/>
                  </a:lnTo>
                  <a:lnTo>
                    <a:pt x="0" y="189"/>
                  </a:lnTo>
                  <a:lnTo>
                    <a:pt x="0" y="134"/>
                  </a:lnTo>
                  <a:close/>
                  <a:moveTo>
                    <a:pt x="3890" y="4"/>
                  </a:moveTo>
                  <a:lnTo>
                    <a:pt x="4173" y="161"/>
                  </a:lnTo>
                  <a:lnTo>
                    <a:pt x="3890" y="319"/>
                  </a:lnTo>
                  <a:lnTo>
                    <a:pt x="3886" y="322"/>
                  </a:lnTo>
                  <a:lnTo>
                    <a:pt x="3880" y="322"/>
                  </a:lnTo>
                  <a:lnTo>
                    <a:pt x="3876" y="322"/>
                  </a:lnTo>
                  <a:lnTo>
                    <a:pt x="3870" y="322"/>
                  </a:lnTo>
                  <a:lnTo>
                    <a:pt x="3866" y="319"/>
                  </a:lnTo>
                  <a:lnTo>
                    <a:pt x="3861" y="316"/>
                  </a:lnTo>
                  <a:lnTo>
                    <a:pt x="3857" y="313"/>
                  </a:lnTo>
                  <a:lnTo>
                    <a:pt x="3854" y="309"/>
                  </a:lnTo>
                  <a:lnTo>
                    <a:pt x="3852" y="303"/>
                  </a:lnTo>
                  <a:lnTo>
                    <a:pt x="3852" y="299"/>
                  </a:lnTo>
                  <a:lnTo>
                    <a:pt x="3850" y="293"/>
                  </a:lnTo>
                  <a:lnTo>
                    <a:pt x="3852" y="287"/>
                  </a:lnTo>
                  <a:lnTo>
                    <a:pt x="3853" y="283"/>
                  </a:lnTo>
                  <a:lnTo>
                    <a:pt x="3856" y="279"/>
                  </a:lnTo>
                  <a:lnTo>
                    <a:pt x="3860" y="274"/>
                  </a:lnTo>
                  <a:lnTo>
                    <a:pt x="3864" y="272"/>
                  </a:lnTo>
                  <a:lnTo>
                    <a:pt x="4105" y="138"/>
                  </a:lnTo>
                  <a:lnTo>
                    <a:pt x="4105" y="184"/>
                  </a:lnTo>
                  <a:lnTo>
                    <a:pt x="3864" y="51"/>
                  </a:lnTo>
                  <a:lnTo>
                    <a:pt x="3860" y="47"/>
                  </a:lnTo>
                  <a:lnTo>
                    <a:pt x="3856" y="44"/>
                  </a:lnTo>
                  <a:lnTo>
                    <a:pt x="3853" y="40"/>
                  </a:lnTo>
                  <a:lnTo>
                    <a:pt x="3852" y="34"/>
                  </a:lnTo>
                  <a:lnTo>
                    <a:pt x="3850" y="30"/>
                  </a:lnTo>
                  <a:lnTo>
                    <a:pt x="3852" y="24"/>
                  </a:lnTo>
                  <a:lnTo>
                    <a:pt x="3852" y="18"/>
                  </a:lnTo>
                  <a:lnTo>
                    <a:pt x="3854" y="14"/>
                  </a:lnTo>
                  <a:lnTo>
                    <a:pt x="3857" y="10"/>
                  </a:lnTo>
                  <a:lnTo>
                    <a:pt x="3861" y="5"/>
                  </a:lnTo>
                  <a:lnTo>
                    <a:pt x="3866" y="2"/>
                  </a:lnTo>
                  <a:lnTo>
                    <a:pt x="3870" y="1"/>
                  </a:lnTo>
                  <a:lnTo>
                    <a:pt x="3876" y="0"/>
                  </a:lnTo>
                  <a:lnTo>
                    <a:pt x="3880" y="0"/>
                  </a:lnTo>
                  <a:lnTo>
                    <a:pt x="3886" y="1"/>
                  </a:lnTo>
                  <a:lnTo>
                    <a:pt x="3890" y="4"/>
                  </a:lnTo>
                  <a:lnTo>
                    <a:pt x="389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6120" y="4449600"/>
              <a:ext cx="2208240" cy="169920"/>
            </a:xfrm>
            <a:custGeom>
              <a:avLst/>
              <a:gdLst/>
              <a:ahLst/>
              <a:rect l="l" t="t" r="r" b="b"/>
              <a:pathLst>
                <a:path w="4172" h="322">
                  <a:moveTo>
                    <a:pt x="4172" y="189"/>
                  </a:moveTo>
                  <a:lnTo>
                    <a:pt x="56" y="189"/>
                  </a:lnTo>
                  <a:lnTo>
                    <a:pt x="56" y="134"/>
                  </a:lnTo>
                  <a:lnTo>
                    <a:pt x="4172" y="134"/>
                  </a:lnTo>
                  <a:lnTo>
                    <a:pt x="4172" y="189"/>
                  </a:lnTo>
                  <a:close/>
                  <a:moveTo>
                    <a:pt x="282" y="319"/>
                  </a:moveTo>
                  <a:lnTo>
                    <a:pt x="0" y="162"/>
                  </a:lnTo>
                  <a:lnTo>
                    <a:pt x="282" y="4"/>
                  </a:lnTo>
                  <a:lnTo>
                    <a:pt x="288" y="1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4" y="1"/>
                  </a:lnTo>
                  <a:lnTo>
                    <a:pt x="308" y="3"/>
                  </a:lnTo>
                  <a:lnTo>
                    <a:pt x="312" y="5"/>
                  </a:lnTo>
                  <a:lnTo>
                    <a:pt x="317" y="10"/>
                  </a:lnTo>
                  <a:lnTo>
                    <a:pt x="319" y="14"/>
                  </a:lnTo>
                  <a:lnTo>
                    <a:pt x="321" y="18"/>
                  </a:lnTo>
                  <a:lnTo>
                    <a:pt x="322" y="24"/>
                  </a:lnTo>
                  <a:lnTo>
                    <a:pt x="322" y="30"/>
                  </a:lnTo>
                  <a:lnTo>
                    <a:pt x="321" y="34"/>
                  </a:lnTo>
                  <a:lnTo>
                    <a:pt x="319" y="38"/>
                  </a:lnTo>
                  <a:lnTo>
                    <a:pt x="317" y="43"/>
                  </a:lnTo>
                  <a:lnTo>
                    <a:pt x="314" y="47"/>
                  </a:lnTo>
                  <a:lnTo>
                    <a:pt x="309" y="50"/>
                  </a:lnTo>
                  <a:lnTo>
                    <a:pt x="69" y="184"/>
                  </a:lnTo>
                  <a:lnTo>
                    <a:pt x="69" y="137"/>
                  </a:lnTo>
                  <a:lnTo>
                    <a:pt x="309" y="272"/>
                  </a:lnTo>
                  <a:lnTo>
                    <a:pt x="314" y="275"/>
                  </a:lnTo>
                  <a:lnTo>
                    <a:pt x="317" y="279"/>
                  </a:lnTo>
                  <a:lnTo>
                    <a:pt x="319" y="283"/>
                  </a:lnTo>
                  <a:lnTo>
                    <a:pt x="321" y="288"/>
                  </a:lnTo>
                  <a:lnTo>
                    <a:pt x="322" y="293"/>
                  </a:lnTo>
                  <a:lnTo>
                    <a:pt x="322" y="298"/>
                  </a:lnTo>
                  <a:lnTo>
                    <a:pt x="321" y="303"/>
                  </a:lnTo>
                  <a:lnTo>
                    <a:pt x="319" y="309"/>
                  </a:lnTo>
                  <a:lnTo>
                    <a:pt x="317" y="313"/>
                  </a:lnTo>
                  <a:lnTo>
                    <a:pt x="312" y="316"/>
                  </a:lnTo>
                  <a:lnTo>
                    <a:pt x="308" y="319"/>
                  </a:lnTo>
                  <a:lnTo>
                    <a:pt x="304" y="320"/>
                  </a:lnTo>
                  <a:lnTo>
                    <a:pt x="298" y="322"/>
                  </a:lnTo>
                  <a:lnTo>
                    <a:pt x="292" y="322"/>
                  </a:lnTo>
                  <a:lnTo>
                    <a:pt x="288" y="320"/>
                  </a:lnTo>
                  <a:lnTo>
                    <a:pt x="282" y="319"/>
                  </a:lnTo>
                  <a:lnTo>
                    <a:pt x="282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28600" y="4019400"/>
              <a:ext cx="65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38280"/>
                  <a:tab algn="l" pos="1276200"/>
                  <a:tab algn="l" pos="1914480"/>
                  <a:tab algn="l" pos="2552760"/>
                  <a:tab algn="l" pos="3191040"/>
                  <a:tab algn="l" pos="3828960"/>
                  <a:tab algn="l" pos="4467240"/>
                  <a:tab algn="l" pos="5105520"/>
                  <a:tab algn="l" pos="5743440"/>
                  <a:tab algn="l" pos="6381720"/>
                  <a:tab algn="l" pos="7020000"/>
                  <a:tab algn="l" pos="7658280"/>
                  <a:tab algn="l" pos="8296200"/>
                  <a:tab algn="l" pos="8934480"/>
                  <a:tab algn="l" pos="9572760"/>
                  <a:tab algn="l" pos="10210680"/>
                  <a:tab algn="l" pos="108489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al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51240" y="4259160"/>
              <a:ext cx="79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38280"/>
                  <a:tab algn="l" pos="1276200"/>
                  <a:tab algn="l" pos="1914480"/>
                  <a:tab algn="l" pos="2552760"/>
                  <a:tab algn="l" pos="3191040"/>
                  <a:tab algn="l" pos="3828960"/>
                  <a:tab algn="l" pos="4467240"/>
                  <a:tab algn="l" pos="5105520"/>
                  <a:tab algn="l" pos="5743440"/>
                  <a:tab algn="l" pos="6381720"/>
                  <a:tab algn="l" pos="7020000"/>
                  <a:tab algn="l" pos="7658280"/>
                  <a:tab algn="l" pos="8296200"/>
                  <a:tab algn="l" pos="8934480"/>
                  <a:tab algn="l" pos="9572760"/>
                  <a:tab algn="l" pos="10210680"/>
                  <a:tab algn="l" pos="108489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05800" y="463212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38280"/>
                  <a:tab algn="l" pos="1276200"/>
                  <a:tab algn="l" pos="1914480"/>
                  <a:tab algn="l" pos="2552760"/>
                  <a:tab algn="l" pos="3191040"/>
                  <a:tab algn="l" pos="3828960"/>
                  <a:tab algn="l" pos="4467240"/>
                  <a:tab algn="l" pos="5105520"/>
                  <a:tab algn="l" pos="5743440"/>
                  <a:tab algn="l" pos="6381720"/>
                  <a:tab algn="l" pos="7020000"/>
                  <a:tab algn="l" pos="7658280"/>
                  <a:tab algn="l" pos="8296200"/>
                  <a:tab algn="l" pos="8934480"/>
                  <a:tab algn="l" pos="9572760"/>
                  <a:tab algn="l" pos="10210680"/>
                  <a:tab algn="l" pos="108489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4480" y="4951440"/>
              <a:ext cx="1343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638280"/>
                  <a:tab algn="l" pos="1276200"/>
                  <a:tab algn="l" pos="1914480"/>
                  <a:tab algn="l" pos="2552760"/>
                  <a:tab algn="l" pos="3191040"/>
                  <a:tab algn="l" pos="3828960"/>
                  <a:tab algn="l" pos="4467240"/>
                  <a:tab algn="l" pos="5105520"/>
                  <a:tab algn="l" pos="5743440"/>
                  <a:tab algn="l" pos="6381720"/>
                  <a:tab algn="l" pos="7020000"/>
                  <a:tab algn="l" pos="7658280"/>
                  <a:tab algn="l" pos="8296200"/>
                  <a:tab algn="l" pos="8934480"/>
                  <a:tab algn="l" pos="9572760"/>
                  <a:tab algn="l" pos="10210680"/>
                  <a:tab algn="l" pos="108489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sconn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4320" y="4808520"/>
              <a:ext cx="2208240" cy="169920"/>
            </a:xfrm>
            <a:custGeom>
              <a:avLst/>
              <a:gdLst/>
              <a:ahLst/>
              <a:rect l="l" t="t" r="r" b="b"/>
              <a:pathLst>
                <a:path w="4172" h="323">
                  <a:moveTo>
                    <a:pt x="0" y="135"/>
                  </a:moveTo>
                  <a:lnTo>
                    <a:pt x="4118" y="135"/>
                  </a:lnTo>
                  <a:lnTo>
                    <a:pt x="4118" y="188"/>
                  </a:lnTo>
                  <a:lnTo>
                    <a:pt x="0" y="188"/>
                  </a:lnTo>
                  <a:lnTo>
                    <a:pt x="0" y="135"/>
                  </a:lnTo>
                  <a:close/>
                  <a:moveTo>
                    <a:pt x="3890" y="3"/>
                  </a:moveTo>
                  <a:lnTo>
                    <a:pt x="4172" y="162"/>
                  </a:lnTo>
                  <a:lnTo>
                    <a:pt x="3890" y="320"/>
                  </a:lnTo>
                  <a:lnTo>
                    <a:pt x="3885" y="321"/>
                  </a:lnTo>
                  <a:lnTo>
                    <a:pt x="3880" y="323"/>
                  </a:lnTo>
                  <a:lnTo>
                    <a:pt x="3874" y="323"/>
                  </a:lnTo>
                  <a:lnTo>
                    <a:pt x="3870" y="321"/>
                  </a:lnTo>
                  <a:lnTo>
                    <a:pt x="3864" y="320"/>
                  </a:lnTo>
                  <a:lnTo>
                    <a:pt x="3860" y="317"/>
                  </a:lnTo>
                  <a:lnTo>
                    <a:pt x="3857" y="312"/>
                  </a:lnTo>
                  <a:lnTo>
                    <a:pt x="3854" y="308"/>
                  </a:lnTo>
                  <a:lnTo>
                    <a:pt x="3851" y="304"/>
                  </a:lnTo>
                  <a:lnTo>
                    <a:pt x="3850" y="298"/>
                  </a:lnTo>
                  <a:lnTo>
                    <a:pt x="3850" y="294"/>
                  </a:lnTo>
                  <a:lnTo>
                    <a:pt x="3851" y="288"/>
                  </a:lnTo>
                  <a:lnTo>
                    <a:pt x="3853" y="284"/>
                  </a:lnTo>
                  <a:lnTo>
                    <a:pt x="3856" y="280"/>
                  </a:lnTo>
                  <a:lnTo>
                    <a:pt x="3860" y="275"/>
                  </a:lnTo>
                  <a:lnTo>
                    <a:pt x="3864" y="272"/>
                  </a:lnTo>
                  <a:lnTo>
                    <a:pt x="4105" y="138"/>
                  </a:lnTo>
                  <a:lnTo>
                    <a:pt x="4105" y="185"/>
                  </a:lnTo>
                  <a:lnTo>
                    <a:pt x="3864" y="50"/>
                  </a:lnTo>
                  <a:lnTo>
                    <a:pt x="3860" y="48"/>
                  </a:lnTo>
                  <a:lnTo>
                    <a:pt x="3856" y="43"/>
                  </a:lnTo>
                  <a:lnTo>
                    <a:pt x="3853" y="39"/>
                  </a:lnTo>
                  <a:lnTo>
                    <a:pt x="3851" y="35"/>
                  </a:lnTo>
                  <a:lnTo>
                    <a:pt x="3850" y="29"/>
                  </a:lnTo>
                  <a:lnTo>
                    <a:pt x="3850" y="25"/>
                  </a:lnTo>
                  <a:lnTo>
                    <a:pt x="3851" y="19"/>
                  </a:lnTo>
                  <a:lnTo>
                    <a:pt x="3854" y="15"/>
                  </a:lnTo>
                  <a:lnTo>
                    <a:pt x="3857" y="9"/>
                  </a:lnTo>
                  <a:lnTo>
                    <a:pt x="3860" y="6"/>
                  </a:lnTo>
                  <a:lnTo>
                    <a:pt x="3864" y="3"/>
                  </a:lnTo>
                  <a:lnTo>
                    <a:pt x="3870" y="2"/>
                  </a:lnTo>
                  <a:lnTo>
                    <a:pt x="3874" y="0"/>
                  </a:lnTo>
                  <a:lnTo>
                    <a:pt x="3880" y="0"/>
                  </a:lnTo>
                  <a:lnTo>
                    <a:pt x="3885" y="2"/>
                  </a:lnTo>
                  <a:lnTo>
                    <a:pt x="3890" y="3"/>
                  </a:lnTo>
                  <a:lnTo>
                    <a:pt x="389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25800" y="5122800"/>
              <a:ext cx="2208240" cy="169920"/>
            </a:xfrm>
            <a:custGeom>
              <a:avLst/>
              <a:gdLst/>
              <a:ahLst/>
              <a:rect l="l" t="t" r="r" b="b"/>
              <a:pathLst>
                <a:path w="4172" h="323">
                  <a:moveTo>
                    <a:pt x="0" y="135"/>
                  </a:moveTo>
                  <a:lnTo>
                    <a:pt x="4118" y="135"/>
                  </a:lnTo>
                  <a:lnTo>
                    <a:pt x="4118" y="188"/>
                  </a:lnTo>
                  <a:lnTo>
                    <a:pt x="0" y="188"/>
                  </a:lnTo>
                  <a:lnTo>
                    <a:pt x="0" y="135"/>
                  </a:lnTo>
                  <a:close/>
                  <a:moveTo>
                    <a:pt x="3890" y="3"/>
                  </a:moveTo>
                  <a:lnTo>
                    <a:pt x="4172" y="162"/>
                  </a:lnTo>
                  <a:lnTo>
                    <a:pt x="3890" y="320"/>
                  </a:lnTo>
                  <a:lnTo>
                    <a:pt x="3885" y="321"/>
                  </a:lnTo>
                  <a:lnTo>
                    <a:pt x="3880" y="323"/>
                  </a:lnTo>
                  <a:lnTo>
                    <a:pt x="3874" y="323"/>
                  </a:lnTo>
                  <a:lnTo>
                    <a:pt x="3870" y="321"/>
                  </a:lnTo>
                  <a:lnTo>
                    <a:pt x="3864" y="320"/>
                  </a:lnTo>
                  <a:lnTo>
                    <a:pt x="3860" y="317"/>
                  </a:lnTo>
                  <a:lnTo>
                    <a:pt x="3857" y="312"/>
                  </a:lnTo>
                  <a:lnTo>
                    <a:pt x="3854" y="308"/>
                  </a:lnTo>
                  <a:lnTo>
                    <a:pt x="3851" y="304"/>
                  </a:lnTo>
                  <a:lnTo>
                    <a:pt x="3850" y="298"/>
                  </a:lnTo>
                  <a:lnTo>
                    <a:pt x="3850" y="294"/>
                  </a:lnTo>
                  <a:lnTo>
                    <a:pt x="3851" y="288"/>
                  </a:lnTo>
                  <a:lnTo>
                    <a:pt x="3853" y="284"/>
                  </a:lnTo>
                  <a:lnTo>
                    <a:pt x="3856" y="280"/>
                  </a:lnTo>
                  <a:lnTo>
                    <a:pt x="3860" y="275"/>
                  </a:lnTo>
                  <a:lnTo>
                    <a:pt x="3864" y="272"/>
                  </a:lnTo>
                  <a:lnTo>
                    <a:pt x="4105" y="138"/>
                  </a:lnTo>
                  <a:lnTo>
                    <a:pt x="4105" y="185"/>
                  </a:lnTo>
                  <a:lnTo>
                    <a:pt x="3864" y="50"/>
                  </a:lnTo>
                  <a:lnTo>
                    <a:pt x="3860" y="48"/>
                  </a:lnTo>
                  <a:lnTo>
                    <a:pt x="3856" y="43"/>
                  </a:lnTo>
                  <a:lnTo>
                    <a:pt x="3853" y="39"/>
                  </a:lnTo>
                  <a:lnTo>
                    <a:pt x="3851" y="35"/>
                  </a:lnTo>
                  <a:lnTo>
                    <a:pt x="3850" y="29"/>
                  </a:lnTo>
                  <a:lnTo>
                    <a:pt x="3850" y="25"/>
                  </a:lnTo>
                  <a:lnTo>
                    <a:pt x="3851" y="19"/>
                  </a:lnTo>
                  <a:lnTo>
                    <a:pt x="3854" y="15"/>
                  </a:lnTo>
                  <a:lnTo>
                    <a:pt x="3857" y="9"/>
                  </a:lnTo>
                  <a:lnTo>
                    <a:pt x="3860" y="6"/>
                  </a:lnTo>
                  <a:lnTo>
                    <a:pt x="3864" y="3"/>
                  </a:lnTo>
                  <a:lnTo>
                    <a:pt x="3870" y="2"/>
                  </a:lnTo>
                  <a:lnTo>
                    <a:pt x="3874" y="0"/>
                  </a:lnTo>
                  <a:lnTo>
                    <a:pt x="3880" y="0"/>
                  </a:lnTo>
                  <a:lnTo>
                    <a:pt x="3885" y="2"/>
                  </a:lnTo>
                  <a:lnTo>
                    <a:pt x="3890" y="3"/>
                  </a:lnTo>
                  <a:lnTo>
                    <a:pt x="389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2:23:26Z</dcterms:created>
  <dc:creator>x</dc:creator>
  <dc:description/>
  <dc:language>en-US</dc:language>
  <cp:lastModifiedBy>x</cp:lastModifiedBy>
  <dcterms:modified xsi:type="dcterms:W3CDTF">2009-05-03T12:32:21Z</dcterms:modified>
  <cp:revision>2</cp:revision>
  <dc:subject/>
  <dc:title>Folie 1</dc:title>
</cp:coreProperties>
</file>