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527425" cy="2087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176-8732-476A-B7AA-EE95EF6F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317664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040" y="1208160"/>
            <a:ext cx="317664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BC-2A95-4F51-9812-117DBAD8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0396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040" y="120816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03960" y="120816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E02-7BC7-40DC-9FFF-42B21DD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50280" y="48744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24520" y="48744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040" y="120816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50280" y="120816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24520" y="1208160"/>
            <a:ext cx="10227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1F6-E35F-4BE8-B042-5F960BEF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040" y="487440"/>
            <a:ext cx="31766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414-F1D1-417A-9BC9-DFF3A43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317664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8D1-F11B-4392-B53D-09209365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55016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03960" y="487440"/>
            <a:ext cx="155016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4C3-A54C-423F-8103-96D74AE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0DF-C2A7-4102-B67D-D683078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040" y="83880"/>
            <a:ext cx="3176640" cy="16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772-671B-46A4-AD52-A8F4526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03960" y="487440"/>
            <a:ext cx="155016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040" y="120816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FCE-961E-4DBE-9FC3-588C2AA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55016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0396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3960" y="120816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3E9-90DC-444B-B5F4-616163D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04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3960" y="487440"/>
            <a:ext cx="155016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040" y="1208160"/>
            <a:ext cx="3176640" cy="657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8FB-58AF-4140-9087-9F74C91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040" y="83880"/>
            <a:ext cx="3176640" cy="3474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040" y="487440"/>
            <a:ext cx="3176640" cy="13795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 fontScale="97000"/>
          </a:bodyPr>
          <a:p>
            <a:pPr marL="116640" indent="-1166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89520" indent="-78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45040" indent="-784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0020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70020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70020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680" y="1901880"/>
            <a:ext cx="824040" cy="1461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06360" y="1901880"/>
            <a:ext cx="1116000" cy="1461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29000" y="1901880"/>
            <a:ext cx="823680" cy="1461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 algn="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fld id="{6EF6B5F2-1834-4939-8D7A-256607E2E9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3462480" cy="2046240"/>
            <a:chOff x="0" y="0"/>
            <a:chExt cx="3462480" cy="20462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2160" y="88740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al[ich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7560" y="1233360"/>
              <a:ext cx="60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nect[ich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9960" y="1060560"/>
              <a:ext cx="46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usy[ich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74000" y="11746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77240" y="128268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u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54720" y="1751040"/>
              <a:ext cx="70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rufen[ich]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55800" y="185904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u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80" y="1808280"/>
              <a:ext cx="70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rufen[ich]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00" y="191628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u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74200" y="554040"/>
              <a:ext cx="17784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4200" y="554040"/>
              <a:ext cx="17784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3720" y="582480"/>
              <a:ext cx="11916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74200" y="1073160"/>
              <a:ext cx="17784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4200" y="1073160"/>
              <a:ext cx="17784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120" y="1924200"/>
              <a:ext cx="70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sconnect[ich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76160" y="106056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alled[ich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01080" y="1808280"/>
              <a:ext cx="84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sconnected[ich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200" y="1649520"/>
              <a:ext cx="17784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4200" y="1649520"/>
              <a:ext cx="17784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65880" y="1577880"/>
              <a:ext cx="52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erbund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4680" y="180828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&lt;=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4800" y="23760"/>
              <a:ext cx="46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int[1,N-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83360" y="11174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ewaeh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4320" y="42696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720" y="830160"/>
              <a:ext cx="70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rufen[ich]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3440" y="9381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u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7080" y="91584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uer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23720" y="134784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3240" y="771480"/>
              <a:ext cx="67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rufen[ich]!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06360" y="138240"/>
              <a:ext cx="64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nrufen[ich]:=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7200" y="180828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&gt;=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61040" y="641520"/>
              <a:ext cx="1571040" cy="1093680"/>
            </a:xfrm>
            <a:custGeom>
              <a:avLst/>
              <a:gdLst/>
              <a:ahLst/>
              <a:rect l="l" t="t" r="r" b="b"/>
              <a:pathLst>
                <a:path w="4220" h="3040">
                  <a:moveTo>
                    <a:pt x="0" y="3040"/>
                  </a:moveTo>
                  <a:lnTo>
                    <a:pt x="4020" y="3040"/>
                  </a:lnTo>
                  <a:cubicBezTo>
                    <a:pt x="4153" y="3040"/>
                    <a:pt x="4220" y="2973"/>
                    <a:pt x="4220" y="2840"/>
                  </a:cubicBezTo>
                  <a:lnTo>
                    <a:pt x="4220" y="200"/>
                  </a:lnTo>
                  <a:cubicBezTo>
                    <a:pt x="4220" y="66"/>
                    <a:pt x="4153" y="0"/>
                    <a:pt x="4020" y="0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1040" y="622440"/>
              <a:ext cx="7092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193" y="0"/>
                  </a:moveTo>
                  <a:lnTo>
                    <a:pt x="0" y="52"/>
                  </a:lnTo>
                  <a:lnTo>
                    <a:pt x="193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6000" y="652320"/>
              <a:ext cx="860040" cy="1054080"/>
            </a:xfrm>
            <a:custGeom>
              <a:avLst/>
              <a:gdLst/>
              <a:ahLst/>
              <a:rect l="l" t="t" r="r" b="b"/>
              <a:pathLst>
                <a:path w="2312" h="2930">
                  <a:moveTo>
                    <a:pt x="9" y="0"/>
                  </a:moveTo>
                  <a:lnTo>
                    <a:pt x="2113" y="263"/>
                  </a:lnTo>
                  <a:cubicBezTo>
                    <a:pt x="2245" y="279"/>
                    <a:pt x="2312" y="354"/>
                    <a:pt x="2312" y="488"/>
                  </a:cubicBezTo>
                  <a:lnTo>
                    <a:pt x="2312" y="2008"/>
                  </a:lnTo>
                  <a:cubicBezTo>
                    <a:pt x="2312" y="2141"/>
                    <a:pt x="2248" y="2227"/>
                    <a:pt x="2121" y="2267"/>
                  </a:cubicBezTo>
                  <a:lnTo>
                    <a:pt x="0" y="293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6000" y="1668600"/>
              <a:ext cx="74520" cy="37800"/>
            </a:xfrm>
            <a:custGeom>
              <a:avLst/>
              <a:gdLst/>
              <a:ahLst/>
              <a:rect l="l" t="t" r="r" b="b"/>
              <a:pathLst>
                <a:path w="199" h="107">
                  <a:moveTo>
                    <a:pt x="169" y="0"/>
                  </a:moveTo>
                  <a:lnTo>
                    <a:pt x="0" y="107"/>
                  </a:lnTo>
                  <a:lnTo>
                    <a:pt x="199" y="9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23280" y="295200"/>
              <a:ext cx="622800" cy="279360"/>
            </a:xfrm>
            <a:custGeom>
              <a:avLst/>
              <a:gdLst/>
              <a:ahLst/>
              <a:rect l="l" t="t" r="r" b="b"/>
              <a:pathLst>
                <a:path w="1670" h="776">
                  <a:moveTo>
                    <a:pt x="729" y="776"/>
                  </a:moveTo>
                  <a:lnTo>
                    <a:pt x="94" y="141"/>
                  </a:lnTo>
                  <a:cubicBezTo>
                    <a:pt x="0" y="47"/>
                    <a:pt x="19" y="0"/>
                    <a:pt x="153" y="0"/>
                  </a:cubicBezTo>
                  <a:lnTo>
                    <a:pt x="1513" y="0"/>
                  </a:lnTo>
                  <a:cubicBezTo>
                    <a:pt x="1646" y="0"/>
                    <a:pt x="1670" y="51"/>
                    <a:pt x="1584" y="153"/>
                  </a:cubicBezTo>
                  <a:lnTo>
                    <a:pt x="1079" y="76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25040" y="503280"/>
              <a:ext cx="60120" cy="65160"/>
            </a:xfrm>
            <a:custGeom>
              <a:avLst/>
              <a:gdLst/>
              <a:ahLst/>
              <a:rect l="l" t="t" r="r" b="b"/>
              <a:pathLst>
                <a:path w="163" h="182">
                  <a:moveTo>
                    <a:pt x="84" y="0"/>
                  </a:moveTo>
                  <a:lnTo>
                    <a:pt x="0" y="182"/>
                  </a:lnTo>
                  <a:lnTo>
                    <a:pt x="163" y="6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64200" y="735120"/>
              <a:ext cx="0" cy="3301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43320" y="995400"/>
              <a:ext cx="39960" cy="6984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0" y="0"/>
                  </a:moveTo>
                  <a:lnTo>
                    <a:pt x="52" y="194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480" y="641520"/>
              <a:ext cx="1451520" cy="1093680"/>
            </a:xfrm>
            <a:custGeom>
              <a:avLst/>
              <a:gdLst/>
              <a:ahLst/>
              <a:rect l="l" t="t" r="r" b="b"/>
              <a:pathLst>
                <a:path w="3900" h="3040">
                  <a:moveTo>
                    <a:pt x="3900" y="3040"/>
                  </a:moveTo>
                  <a:lnTo>
                    <a:pt x="200" y="3040"/>
                  </a:lnTo>
                  <a:cubicBezTo>
                    <a:pt x="66" y="3040"/>
                    <a:pt x="0" y="2973"/>
                    <a:pt x="0" y="2840"/>
                  </a:cubicBezTo>
                  <a:lnTo>
                    <a:pt x="0" y="200"/>
                  </a:lnTo>
                  <a:cubicBezTo>
                    <a:pt x="0" y="66"/>
                    <a:pt x="66" y="0"/>
                    <a:pt x="200" y="0"/>
                  </a:cubicBezTo>
                  <a:lnTo>
                    <a:pt x="390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4640" y="622440"/>
              <a:ext cx="7236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64200" y="1252440"/>
              <a:ext cx="0" cy="38916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43320" y="1571760"/>
              <a:ext cx="39960" cy="6984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0" y="0"/>
                  </a:moveTo>
                  <a:lnTo>
                    <a:pt x="52" y="194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67320" y="666720"/>
              <a:ext cx="503280" cy="482760"/>
            </a:xfrm>
            <a:custGeom>
              <a:avLst/>
              <a:gdLst/>
              <a:ahLst/>
              <a:rect l="l" t="t" r="r" b="b"/>
              <a:pathLst>
                <a:path w="1350" h="1340">
                  <a:moveTo>
                    <a:pt x="1341" y="1340"/>
                  </a:moveTo>
                  <a:lnTo>
                    <a:pt x="199" y="1225"/>
                  </a:lnTo>
                  <a:cubicBezTo>
                    <a:pt x="66" y="1212"/>
                    <a:pt x="0" y="1139"/>
                    <a:pt x="0" y="1006"/>
                  </a:cubicBezTo>
                  <a:lnTo>
                    <a:pt x="0" y="606"/>
                  </a:lnTo>
                  <a:cubicBezTo>
                    <a:pt x="0" y="472"/>
                    <a:pt x="63" y="386"/>
                    <a:pt x="191" y="348"/>
                  </a:cubicBezTo>
                  <a:lnTo>
                    <a:pt x="135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6440" y="666720"/>
              <a:ext cx="74160" cy="38160"/>
            </a:xfrm>
            <a:custGeom>
              <a:avLst/>
              <a:gdLst/>
              <a:ahLst/>
              <a:rect l="l" t="t" r="r" b="b"/>
              <a:pathLst>
                <a:path w="199" h="105">
                  <a:moveTo>
                    <a:pt x="29" y="105"/>
                  </a:moveTo>
                  <a:lnTo>
                    <a:pt x="199" y="0"/>
                  </a:lnTo>
                  <a:lnTo>
                    <a:pt x="0" y="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40:48Z</dcterms:created>
  <dc:creator>x</dc:creator>
  <dc:description/>
  <dc:language>en-US</dc:language>
  <cp:lastModifiedBy>x</cp:lastModifiedBy>
  <dcterms:modified xsi:type="dcterms:W3CDTF">2009-06-28T08:01:56Z</dcterms:modified>
  <cp:revision>2</cp:revision>
  <dc:subject/>
  <dc:title>Folie 1</dc:title>
</cp:coreProperties>
</file>