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51275" cy="1763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B28-3BDC-4E4F-887D-9AF3DCCA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346536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3680" y="1018800"/>
            <a:ext cx="346536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687-3729-4CC2-9AEC-88167B00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9560" y="41112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3680" y="101880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9560" y="101880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B3C-15AD-4ABD-A872-FE6C1954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111564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5480" y="411120"/>
            <a:ext cx="111564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37280" y="411120"/>
            <a:ext cx="111564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3680" y="1018800"/>
            <a:ext cx="111564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65480" y="1018800"/>
            <a:ext cx="111564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37280" y="1018800"/>
            <a:ext cx="111564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7D5-6642-4358-9ACD-FF3EEA85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3680" y="411120"/>
            <a:ext cx="34653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2C7-F7D4-402C-ACA8-1259F25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3465360" cy="116352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135-A3D3-4F83-A23E-27E487A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1690920" cy="116352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9560" y="411120"/>
            <a:ext cx="1690920" cy="116352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6D5-131C-405B-A382-E012300A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289-6F31-412E-B737-2A98305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680" y="69840"/>
            <a:ext cx="346536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262-76E9-4B41-BAE0-2BD63B4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9560" y="411120"/>
            <a:ext cx="1690920" cy="116352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3680" y="101880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8AD-F7B6-486C-B3DB-90B5AD7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1690920" cy="116352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9560" y="41112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9560" y="101880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2C6-7DD8-4E19-9424-62BBAA4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3680" y="41112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9560" y="411120"/>
            <a:ext cx="169092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3680" y="1018800"/>
            <a:ext cx="3465360" cy="55476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2CE-7A29-4725-8552-49CE55C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69840"/>
            <a:ext cx="3465360" cy="29520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411120"/>
            <a:ext cx="3465360" cy="116352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rmAutofit fontScale="82000"/>
          </a:bodyPr>
          <a:p>
            <a:pPr marL="95040" indent="-95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06640" indent="-792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18600" indent="-63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444960" indent="-637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572400" indent="-637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572400" indent="-637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572400" indent="-637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3320" y="1606320"/>
            <a:ext cx="896760" cy="12204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Autofit/>
          </a:bodyPr>
          <a:lstStyle>
            <a:lvl1pPr indent="0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5800" y="1606320"/>
            <a:ext cx="1220760" cy="12204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Autofit/>
          </a:bodyPr>
          <a:lstStyle>
            <a:lvl1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61920" y="1606320"/>
            <a:ext cx="896760" cy="122040"/>
          </a:xfrm>
          <a:prstGeom prst="rect">
            <a:avLst/>
          </a:prstGeom>
          <a:noFill/>
          <a:ln w="0">
            <a:noFill/>
          </a:ln>
        </p:spPr>
        <p:txBody>
          <a:bodyPr lIns="30960" rIns="30960" tIns="15480" bIns="15480" anchor="t">
            <a:noAutofit/>
          </a:bodyPr>
          <a:lstStyle>
            <a:lvl1pPr indent="0" algn="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fld id="{E25A8657-8156-4C32-98B2-9296166EC3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0" y="-1440"/>
            <a:ext cx="3836160" cy="1746000"/>
            <a:chOff x="14400" y="-1440"/>
            <a:chExt cx="3836160" cy="1746000"/>
          </a:xfrm>
        </p:grpSpPr>
        <p:sp>
          <p:nvSpPr>
            <p:cNvPr id="42" name=""/>
            <p:cNvSpPr/>
            <p:nvPr/>
          </p:nvSpPr>
          <p:spPr>
            <a:xfrm>
              <a:off x="91800" y="0"/>
              <a:ext cx="18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83400" y="1003320"/>
              <a:ext cx="58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um:=sum+i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86280" y="1111320"/>
              <a:ext cx="76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esendet[i]:=tr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000" y="91908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[i]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78560" y="103500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mp:=0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81440" y="1143000"/>
              <a:ext cx="84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llegesendet:=tr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5360" y="1406520"/>
              <a:ext cx="66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llegesendet:=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880" y="1514520"/>
              <a:ext cx="1508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llegesendet &amp;&amp; gesendet[tmp]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8000" y="162252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mp:=tmp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47040" y="88740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mp:=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0800" y="1189080"/>
              <a:ext cx="1663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0800" y="1189080"/>
              <a:ext cx="1663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84120" y="887400"/>
              <a:ext cx="16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[i]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21520" y="1189080"/>
              <a:ext cx="166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1520" y="1189080"/>
              <a:ext cx="16668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0920" y="439560"/>
              <a:ext cx="1681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0920" y="439560"/>
              <a:ext cx="1681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0800" y="380880"/>
              <a:ext cx="16632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0800" y="380880"/>
              <a:ext cx="166320" cy="1731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8160" y="411120"/>
              <a:ext cx="111960" cy="11448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7480" y="19512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&lt;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39400" y="-144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==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84840" y="657360"/>
              <a:ext cx="49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 int[0,N-1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8560" y="804960"/>
              <a:ext cx="49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: int[0,N-1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120" y="368280"/>
              <a:ext cx="982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esendet[tmp]:=false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0" y="4762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mp:=tmp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6640" y="123336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&lt;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2360" y="22860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==N &amp;&amp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4880" y="336600"/>
              <a:ext cx="66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!allegesend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86280" y="77148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!gesendet[i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0440" y="65736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mp==N &amp;&amp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6720" y="765000"/>
              <a:ext cx="63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llegesend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65200" y="7920"/>
              <a:ext cx="1454040" cy="439920"/>
            </a:xfrm>
            <a:custGeom>
              <a:avLst/>
              <a:gdLst/>
              <a:ahLst/>
              <a:rect l="l" t="t" r="r" b="b"/>
              <a:pathLst>
                <a:path w="4179" h="1224">
                  <a:moveTo>
                    <a:pt x="0" y="1224"/>
                  </a:moveTo>
                  <a:lnTo>
                    <a:pt x="705" y="167"/>
                  </a:lnTo>
                  <a:cubicBezTo>
                    <a:pt x="779" y="56"/>
                    <a:pt x="882" y="0"/>
                    <a:pt x="1015" y="0"/>
                  </a:cubicBezTo>
                  <a:lnTo>
                    <a:pt x="3175" y="0"/>
                  </a:lnTo>
                  <a:cubicBezTo>
                    <a:pt x="3308" y="0"/>
                    <a:pt x="3415" y="54"/>
                    <a:pt x="3495" y="160"/>
                  </a:cubicBezTo>
                  <a:lnTo>
                    <a:pt x="4179" y="107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5240" y="326880"/>
              <a:ext cx="54000" cy="66960"/>
            </a:xfrm>
            <a:custGeom>
              <a:avLst/>
              <a:gdLst/>
              <a:ahLst/>
              <a:rect l="l" t="t" r="r" b="b"/>
              <a:pathLst>
                <a:path w="158" h="186">
                  <a:moveTo>
                    <a:pt x="0" y="62"/>
                  </a:moveTo>
                  <a:lnTo>
                    <a:pt x="158" y="186"/>
                  </a:lnTo>
                  <a:lnTo>
                    <a:pt x="8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1458360" y="607680"/>
              <a:ext cx="303840" cy="58428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8360" y="608040"/>
              <a:ext cx="47160" cy="69840"/>
            </a:xfrm>
            <a:custGeom>
              <a:avLst/>
              <a:gdLst/>
              <a:ahLst/>
              <a:rect l="l" t="t" r="r" b="b"/>
              <a:pathLst>
                <a:path w="137" h="195">
                  <a:moveTo>
                    <a:pt x="137" y="146"/>
                  </a:moveTo>
                  <a:lnTo>
                    <a:pt x="0" y="0"/>
                  </a:lnTo>
                  <a:lnTo>
                    <a:pt x="46" y="195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080" y="252360"/>
              <a:ext cx="264960" cy="273240"/>
            </a:xfrm>
            <a:custGeom>
              <a:avLst/>
              <a:gdLst/>
              <a:ahLst/>
              <a:rect l="l" t="t" r="r" b="b"/>
              <a:pathLst>
                <a:path w="761" h="757">
                  <a:moveTo>
                    <a:pt x="700" y="757"/>
                  </a:moveTo>
                  <a:lnTo>
                    <a:pt x="200" y="757"/>
                  </a:lnTo>
                  <a:cubicBezTo>
                    <a:pt x="67" y="757"/>
                    <a:pt x="0" y="691"/>
                    <a:pt x="0" y="557"/>
                  </a:cubicBezTo>
                  <a:lnTo>
                    <a:pt x="0" y="157"/>
                  </a:lnTo>
                  <a:cubicBezTo>
                    <a:pt x="0" y="24"/>
                    <a:pt x="52" y="0"/>
                    <a:pt x="154" y="86"/>
                  </a:cubicBezTo>
                  <a:lnTo>
                    <a:pt x="761" y="591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81600" y="407880"/>
              <a:ext cx="64440" cy="586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0" y="79"/>
                  </a:moveTo>
                  <a:lnTo>
                    <a:pt x="182" y="163"/>
                  </a:lnTo>
                  <a:lnTo>
                    <a:pt x="66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15120" y="468360"/>
              <a:ext cx="1068840" cy="714240"/>
            </a:xfrm>
            <a:custGeom>
              <a:avLst/>
              <a:gdLst/>
              <a:ahLst/>
              <a:rect l="l" t="t" r="r" b="b"/>
              <a:pathLst>
                <a:path w="3072" h="1982">
                  <a:moveTo>
                    <a:pt x="0" y="1982"/>
                  </a:moveTo>
                  <a:lnTo>
                    <a:pt x="191" y="199"/>
                  </a:lnTo>
                  <a:cubicBezTo>
                    <a:pt x="205" y="67"/>
                    <a:pt x="279" y="0"/>
                    <a:pt x="412" y="0"/>
                  </a:cubicBezTo>
                  <a:lnTo>
                    <a:pt x="3072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5920" y="423720"/>
              <a:ext cx="680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0" y="103"/>
                  </a:moveTo>
                  <a:lnTo>
                    <a:pt x="194" y="51"/>
                  </a:lnTo>
                  <a:lnTo>
                    <a:pt x="0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99400" y="1112760"/>
              <a:ext cx="232560" cy="378000"/>
            </a:xfrm>
            <a:custGeom>
              <a:avLst/>
              <a:gdLst/>
              <a:ahLst/>
              <a:rect l="l" t="t" r="r" b="b"/>
              <a:pathLst>
                <a:path w="670" h="1049">
                  <a:moveTo>
                    <a:pt x="670" y="601"/>
                  </a:moveTo>
                  <a:lnTo>
                    <a:pt x="162" y="971"/>
                  </a:lnTo>
                  <a:cubicBezTo>
                    <a:pt x="54" y="1049"/>
                    <a:pt x="0" y="1022"/>
                    <a:pt x="0" y="888"/>
                  </a:cubicBezTo>
                  <a:lnTo>
                    <a:pt x="0" y="168"/>
                  </a:lnTo>
                  <a:cubicBezTo>
                    <a:pt x="0" y="35"/>
                    <a:pt x="59" y="0"/>
                    <a:pt x="176" y="64"/>
                  </a:cubicBezTo>
                  <a:lnTo>
                    <a:pt x="652" y="324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57440" y="1181160"/>
              <a:ext cx="67680" cy="49320"/>
            </a:xfrm>
            <a:custGeom>
              <a:avLst/>
              <a:gdLst/>
              <a:ahLst/>
              <a:rect l="l" t="t" r="r" b="b"/>
              <a:pathLst>
                <a:path w="194" h="138">
                  <a:moveTo>
                    <a:pt x="0" y="91"/>
                  </a:moveTo>
                  <a:lnTo>
                    <a:pt x="194" y="138"/>
                  </a:lnTo>
                  <a:lnTo>
                    <a:pt x="49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3960" y="561960"/>
              <a:ext cx="0" cy="61920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07720" y="1085760"/>
              <a:ext cx="37080" cy="6984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52" y="193"/>
                  </a:lnTo>
                  <a:lnTo>
                    <a:pt x="103" y="0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894680" y="1274760"/>
              <a:ext cx="988920" cy="0"/>
            </a:xfrm>
            <a:prstGeom prst="line">
              <a:avLst/>
            </a:prstGeom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95040" y="1255680"/>
              <a:ext cx="68040" cy="38160"/>
            </a:xfrm>
            <a:custGeom>
              <a:avLst/>
              <a:gdLst/>
              <a:ahLst/>
              <a:rect l="l" t="t" r="r" b="b"/>
              <a:pathLst>
                <a:path w="194" h="103">
                  <a:moveTo>
                    <a:pt x="194" y="0"/>
                  </a:moveTo>
                  <a:lnTo>
                    <a:pt x="0" y="51"/>
                  </a:lnTo>
                  <a:lnTo>
                    <a:pt x="194" y="1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4:28:16Z</dcterms:created>
  <dc:creator>x</dc:creator>
  <dc:description/>
  <dc:language>en-US</dc:language>
  <cp:lastModifiedBy>x</cp:lastModifiedBy>
  <dcterms:modified xsi:type="dcterms:W3CDTF">2009-06-27T15:14:56Z</dcterms:modified>
  <cp:revision>2</cp:revision>
  <dc:subject/>
  <dc:title>Folie 1</dc:title>
</cp:coreProperties>
</file>