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812088" cy="5472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224-C5AE-47DE-B10A-8D07109C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600" y="218880"/>
            <a:ext cx="7030800" cy="91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1275840"/>
            <a:ext cx="703080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3162600"/>
            <a:ext cx="703080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8A6-D0D7-4788-B930-695815BF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218880"/>
            <a:ext cx="7030800" cy="91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1275840"/>
            <a:ext cx="343080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3480" y="1275840"/>
            <a:ext cx="343080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3162600"/>
            <a:ext cx="343080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93480" y="3162600"/>
            <a:ext cx="343080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434-7337-4284-96AC-E3ED6DCD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600" y="218880"/>
            <a:ext cx="7030800" cy="91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1275840"/>
            <a:ext cx="226368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7680" y="1275840"/>
            <a:ext cx="226368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45120" y="1275840"/>
            <a:ext cx="226368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3162600"/>
            <a:ext cx="226368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7680" y="3162600"/>
            <a:ext cx="226368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45120" y="3162600"/>
            <a:ext cx="226368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8CE-2AF6-4979-8AFC-368D95F4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600" y="218880"/>
            <a:ext cx="7030800" cy="91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1275840"/>
            <a:ext cx="7030800" cy="36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A2C-8B74-4E77-9EF2-C3954A2D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218880"/>
            <a:ext cx="7030800" cy="91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1275840"/>
            <a:ext cx="7030800" cy="361188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C06-D7A4-4609-B6A2-E9AEF40F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218880"/>
            <a:ext cx="7030800" cy="91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1275840"/>
            <a:ext cx="3430800" cy="361188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93480" y="1275840"/>
            <a:ext cx="3430800" cy="361188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3F7-727F-4E63-87FA-F87276DD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218880"/>
            <a:ext cx="7030800" cy="91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A3E-30FC-48E1-B1F9-65784343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600" y="218880"/>
            <a:ext cx="70308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05A-E88B-4ABD-971D-272F83DD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218880"/>
            <a:ext cx="7030800" cy="91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1275840"/>
            <a:ext cx="343080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93480" y="1275840"/>
            <a:ext cx="3430800" cy="361188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3162600"/>
            <a:ext cx="343080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7D3-0C98-4470-B9F0-D0BF8825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600" y="218880"/>
            <a:ext cx="7030800" cy="91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1275840"/>
            <a:ext cx="3430800" cy="361188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93480" y="1275840"/>
            <a:ext cx="343080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93480" y="3162600"/>
            <a:ext cx="343080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8BA-3833-495B-9526-E26B3837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600" y="218880"/>
            <a:ext cx="7030800" cy="91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1275840"/>
            <a:ext cx="343080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93480" y="1275840"/>
            <a:ext cx="343080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3162600"/>
            <a:ext cx="7030800" cy="172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56C-27DA-4482-B716-BFC39459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218880"/>
            <a:ext cx="7030800" cy="912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1275840"/>
            <a:ext cx="7030800" cy="361188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rmAutofit/>
          </a:bodyPr>
          <a:p>
            <a:pPr marL="284040" indent="-284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365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4932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28760" indent="-1904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190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190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190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600" y="4983120"/>
            <a:ext cx="1822320" cy="3794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Autofit/>
          </a:bodyPr>
          <a:lstStyle>
            <a:lvl1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8320" y="4983120"/>
            <a:ext cx="2475000" cy="3794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Autofit/>
          </a:bodyPr>
          <a:lstStyle>
            <a:lvl1pPr indent="0" algn="ct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99080" y="4983120"/>
            <a:ext cx="1822320" cy="3794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800" bIns="37800" anchor="t">
            <a:noAutofit/>
          </a:bodyPr>
          <a:lstStyle>
            <a:lvl1pPr indent="0" algn="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fld id="{7B378AE6-2BF8-4FF1-9BA2-580051DBC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8920" y="118908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39840" y="360360"/>
            <a:ext cx="50472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6720" y="792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1" idx="6"/>
            <a:endCxn id="42" idx="1"/>
          </p:cNvCxnSpPr>
          <p:nvPr/>
        </p:nvCxnSpPr>
        <p:spPr>
          <a:xfrm flipV="1">
            <a:off x="593640" y="612720"/>
            <a:ext cx="646560" cy="82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45" name=""/>
          <p:cNvSpPr/>
          <p:nvPr/>
        </p:nvSpPr>
        <p:spPr>
          <a:xfrm>
            <a:off x="2835360" y="361800"/>
            <a:ext cx="504720" cy="505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5" idx="2"/>
          </p:cNvCxnSpPr>
          <p:nvPr/>
        </p:nvCxnSpPr>
        <p:spPr>
          <a:xfrm>
            <a:off x="1744560" y="612720"/>
            <a:ext cx="10911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47" name=""/>
          <p:cNvSpPr/>
          <p:nvPr/>
        </p:nvSpPr>
        <p:spPr>
          <a:xfrm>
            <a:off x="2863440" y="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39840" y="1979640"/>
            <a:ext cx="50472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1" idx="6"/>
            <a:endCxn id="48" idx="1"/>
          </p:cNvCxnSpPr>
          <p:nvPr/>
        </p:nvCxnSpPr>
        <p:spPr>
          <a:xfrm>
            <a:off x="593640" y="1441440"/>
            <a:ext cx="646560" cy="79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0" name=""/>
          <p:cNvSpPr/>
          <p:nvPr/>
        </p:nvSpPr>
        <p:spPr>
          <a:xfrm>
            <a:off x="2824200" y="1981080"/>
            <a:ext cx="504720" cy="505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8" idx="3"/>
            <a:endCxn id="50" idx="2"/>
          </p:cNvCxnSpPr>
          <p:nvPr/>
        </p:nvCxnSpPr>
        <p:spPr>
          <a:xfrm>
            <a:off x="1744560" y="2232000"/>
            <a:ext cx="1080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2" name=""/>
          <p:cNvSpPr/>
          <p:nvPr/>
        </p:nvSpPr>
        <p:spPr>
          <a:xfrm>
            <a:off x="2874600" y="1657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89280" y="1189080"/>
            <a:ext cx="50472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5" idx="6"/>
            <a:endCxn id="53" idx="0"/>
          </p:cNvCxnSpPr>
          <p:nvPr/>
        </p:nvCxnSpPr>
        <p:spPr>
          <a:xfrm>
            <a:off x="3340080" y="614520"/>
            <a:ext cx="601920" cy="574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55" name=""/>
          <p:cNvCxnSpPr>
            <a:stCxn id="53" idx="2"/>
            <a:endCxn id="50" idx="6"/>
          </p:cNvCxnSpPr>
          <p:nvPr/>
        </p:nvCxnSpPr>
        <p:spPr>
          <a:xfrm flipH="1">
            <a:off x="3328920" y="1693800"/>
            <a:ext cx="613080" cy="54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6" name=""/>
          <p:cNvSpPr/>
          <p:nvPr/>
        </p:nvSpPr>
        <p:spPr>
          <a:xfrm>
            <a:off x="3187800" y="853920"/>
            <a:ext cx="476280" cy="551160"/>
          </a:xfrm>
          <a:custGeom>
            <a:avLst/>
            <a:gdLst/>
            <a:ahLst/>
            <a:rect l="l" t="t" r="r" b="b"/>
            <a:pathLst>
              <a:path w="300" h="347">
                <a:moveTo>
                  <a:pt x="300" y="347"/>
                </a:moveTo>
                <a:cubicBezTo>
                  <a:pt x="261" y="326"/>
                  <a:pt x="113" y="279"/>
                  <a:pt x="63" y="221"/>
                </a:cubicBezTo>
                <a:cubicBezTo>
                  <a:pt x="13" y="163"/>
                  <a:pt x="13" y="46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1840" y="1405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63240" y="434880"/>
            <a:ext cx="3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3600" y="20178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63800" y="122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93760" y="1187280"/>
            <a:ext cx="505080" cy="50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0"/>
            <a:endCxn id="45" idx="3"/>
          </p:cNvCxnSpPr>
          <p:nvPr/>
        </p:nvCxnSpPr>
        <p:spPr>
          <a:xfrm flipV="1">
            <a:off x="2346120" y="793080"/>
            <a:ext cx="563400" cy="394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63" name=""/>
          <p:cNvCxnSpPr>
            <a:stCxn id="50" idx="1"/>
            <a:endCxn id="61" idx="2"/>
          </p:cNvCxnSpPr>
          <p:nvPr/>
        </p:nvCxnSpPr>
        <p:spPr>
          <a:xfrm flipH="1" flipV="1">
            <a:off x="2346120" y="1692360"/>
            <a:ext cx="552240" cy="362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4" name=""/>
          <p:cNvSpPr/>
          <p:nvPr/>
        </p:nvSpPr>
        <p:spPr>
          <a:xfrm>
            <a:off x="2106360" y="1224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52560" y="10098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,0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89280" y="1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,0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89280" y="18367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,1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5840" y="183672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7" idx="3"/>
            <a:endCxn id="68" idx="1"/>
          </p:cNvCxnSpPr>
          <p:nvPr/>
        </p:nvCxnSpPr>
        <p:spPr>
          <a:xfrm>
            <a:off x="6406200" y="2036160"/>
            <a:ext cx="4500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0" name=""/>
          <p:cNvCxnSpPr>
            <a:stCxn id="66" idx="2"/>
            <a:endCxn id="67" idx="0"/>
          </p:cNvCxnSpPr>
          <p:nvPr/>
        </p:nvCxnSpPr>
        <p:spPr>
          <a:xfrm>
            <a:off x="5947560" y="400320"/>
            <a:ext cx="360" cy="143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1" name=""/>
          <p:cNvCxnSpPr>
            <a:stCxn id="65" idx="0"/>
            <a:endCxn id="66" idx="1"/>
          </p:cNvCxnSpPr>
          <p:nvPr/>
        </p:nvCxnSpPr>
        <p:spPr>
          <a:xfrm flipV="1">
            <a:off x="5010840" y="200880"/>
            <a:ext cx="478800" cy="809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2" name=""/>
          <p:cNvCxnSpPr>
            <a:stCxn id="65" idx="2"/>
            <a:endCxn id="67" idx="1"/>
          </p:cNvCxnSpPr>
          <p:nvPr/>
        </p:nvCxnSpPr>
        <p:spPr>
          <a:xfrm>
            <a:off x="5010840" y="1408680"/>
            <a:ext cx="478800" cy="627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3" name=""/>
          <p:cNvSpPr/>
          <p:nvPr/>
        </p:nvSpPr>
        <p:spPr>
          <a:xfrm>
            <a:off x="7145280" y="1565280"/>
            <a:ext cx="432000" cy="338040"/>
          </a:xfrm>
          <a:custGeom>
            <a:avLst/>
            <a:gdLst/>
            <a:ahLst/>
            <a:rect l="l" t="t" r="r" b="b"/>
            <a:pathLst>
              <a:path w="177" h="213">
                <a:moveTo>
                  <a:pt x="0" y="209"/>
                </a:moveTo>
                <a:cubicBezTo>
                  <a:pt x="12" y="174"/>
                  <a:pt x="45" y="0"/>
                  <a:pt x="74" y="1"/>
                </a:cubicBezTo>
                <a:cubicBezTo>
                  <a:pt x="103" y="2"/>
                  <a:pt x="156" y="169"/>
                  <a:pt x="177" y="2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145280" y="2233440"/>
            <a:ext cx="432000" cy="338400"/>
          </a:xfrm>
          <a:custGeom>
            <a:avLst/>
            <a:gdLst/>
            <a:ahLst/>
            <a:rect l="l" t="t" r="r" b="b"/>
            <a:pathLst>
              <a:path w="177" h="213">
                <a:moveTo>
                  <a:pt x="0" y="209"/>
                </a:moveTo>
                <a:cubicBezTo>
                  <a:pt x="12" y="174"/>
                  <a:pt x="45" y="0"/>
                  <a:pt x="74" y="1"/>
                </a:cubicBezTo>
                <a:cubicBezTo>
                  <a:pt x="103" y="2"/>
                  <a:pt x="156" y="169"/>
                  <a:pt x="177" y="2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26000" y="165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81640" y="1187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64200" y="5396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30360" y="5005440"/>
            <a:ext cx="49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: gibt Arbeitsschrittnummer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54880" y="828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47080" y="25210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23080" y="828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26360" y="2052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86840" y="1368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58120" y="2305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15080" y="1584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00560" y="13683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15080" y="396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96560" y="3708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,0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0840" y="26290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,0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50840" y="41781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,1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60680" y="417672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,1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3"/>
            <a:endCxn id="91" idx="1"/>
          </p:cNvCxnSpPr>
          <p:nvPr/>
        </p:nvCxnSpPr>
        <p:spPr>
          <a:xfrm flipV="1">
            <a:off x="3767760" y="4376160"/>
            <a:ext cx="593280" cy="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3" name=""/>
          <p:cNvCxnSpPr>
            <a:stCxn id="89" idx="2"/>
            <a:endCxn id="90" idx="0"/>
          </p:cNvCxnSpPr>
          <p:nvPr/>
        </p:nvCxnSpPr>
        <p:spPr>
          <a:xfrm>
            <a:off x="3309120" y="3027960"/>
            <a:ext cx="360" cy="115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4" name=""/>
          <p:cNvCxnSpPr>
            <a:stCxn id="88" idx="0"/>
            <a:endCxn id="89" idx="1"/>
          </p:cNvCxnSpPr>
          <p:nvPr/>
        </p:nvCxnSpPr>
        <p:spPr>
          <a:xfrm flipV="1">
            <a:off x="1554840" y="2828520"/>
            <a:ext cx="1296360" cy="88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5" name=""/>
          <p:cNvCxnSpPr>
            <a:stCxn id="88" idx="2"/>
            <a:endCxn id="90" idx="1"/>
          </p:cNvCxnSpPr>
          <p:nvPr/>
        </p:nvCxnSpPr>
        <p:spPr>
          <a:xfrm>
            <a:off x="1554840" y="4107240"/>
            <a:ext cx="1296360" cy="270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96" name=""/>
          <p:cNvSpPr/>
          <p:nvPr/>
        </p:nvSpPr>
        <p:spPr>
          <a:xfrm>
            <a:off x="4649760" y="3905280"/>
            <a:ext cx="432000" cy="338040"/>
          </a:xfrm>
          <a:custGeom>
            <a:avLst/>
            <a:gdLst/>
            <a:ahLst/>
            <a:rect l="l" t="t" r="r" b="b"/>
            <a:pathLst>
              <a:path w="177" h="213">
                <a:moveTo>
                  <a:pt x="0" y="209"/>
                </a:moveTo>
                <a:cubicBezTo>
                  <a:pt x="12" y="174"/>
                  <a:pt x="45" y="0"/>
                  <a:pt x="74" y="1"/>
                </a:cubicBezTo>
                <a:cubicBezTo>
                  <a:pt x="103" y="2"/>
                  <a:pt x="156" y="169"/>
                  <a:pt x="177" y="2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68560" y="399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87840" y="3565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70040" y="30607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16440" y="3276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84640" y="3276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34000" y="4394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1320" y="3708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20920" y="3962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62120" y="38163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51080" y="2771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7400" y="417672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7200" y="3905280"/>
            <a:ext cx="431640" cy="338040"/>
          </a:xfrm>
          <a:custGeom>
            <a:avLst/>
            <a:gdLst/>
            <a:ahLst/>
            <a:rect l="l" t="t" r="r" b="b"/>
            <a:pathLst>
              <a:path w="177" h="213">
                <a:moveTo>
                  <a:pt x="0" y="209"/>
                </a:moveTo>
                <a:cubicBezTo>
                  <a:pt x="12" y="174"/>
                  <a:pt x="45" y="0"/>
                  <a:pt x="74" y="1"/>
                </a:cubicBezTo>
                <a:cubicBezTo>
                  <a:pt x="103" y="2"/>
                  <a:pt x="156" y="169"/>
                  <a:pt x="177" y="2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307200" y="4573440"/>
            <a:ext cx="431640" cy="338400"/>
          </a:xfrm>
          <a:custGeom>
            <a:avLst/>
            <a:gdLst/>
            <a:ahLst/>
            <a:rect l="l" t="t" r="r" b="b"/>
            <a:pathLst>
              <a:path w="177" h="213">
                <a:moveTo>
                  <a:pt x="0" y="209"/>
                </a:moveTo>
                <a:cubicBezTo>
                  <a:pt x="12" y="174"/>
                  <a:pt x="45" y="0"/>
                  <a:pt x="74" y="1"/>
                </a:cubicBezTo>
                <a:cubicBezTo>
                  <a:pt x="103" y="2"/>
                  <a:pt x="156" y="169"/>
                  <a:pt x="177" y="2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16560" y="352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48760" y="3708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99440" y="4714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1" idx="3"/>
            <a:endCxn id="107" idx="1"/>
          </p:cNvCxnSpPr>
          <p:nvPr/>
        </p:nvCxnSpPr>
        <p:spPr>
          <a:xfrm>
            <a:off x="5311080" y="4376160"/>
            <a:ext cx="7066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14" name=""/>
          <p:cNvSpPr/>
          <p:nvPr/>
        </p:nvSpPr>
        <p:spPr>
          <a:xfrm>
            <a:off x="5500800" y="4032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13400" y="4357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5960" y="4643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2:49:05Z</dcterms:created>
  <dc:creator>kleuker</dc:creator>
  <dc:description/>
  <dc:language>en-US</dc:language>
  <cp:lastModifiedBy>x</cp:lastModifiedBy>
  <dcterms:modified xsi:type="dcterms:W3CDTF">2009-05-01T10:24:04Z</dcterms:modified>
  <cp:revision>2</cp:revision>
  <dc:subject/>
  <dc:title>Folie 1</dc:title>
</cp:coreProperties>
</file>