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391525" cy="5616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FA2B-B5B5-4CC9-91BB-C4EC456D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225360"/>
            <a:ext cx="7551720" cy="9367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8680" y="1312920"/>
            <a:ext cx="7551720" cy="17672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8680" y="3248280"/>
            <a:ext cx="7551720" cy="17672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3DD-6D21-4238-B0F7-43469774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8680" y="225360"/>
            <a:ext cx="7551720" cy="9367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8680" y="1312920"/>
            <a:ext cx="3684960" cy="17672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8320" y="1312920"/>
            <a:ext cx="3684960" cy="17672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8680" y="3248280"/>
            <a:ext cx="3684960" cy="17672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8320" y="3248280"/>
            <a:ext cx="3684960" cy="17672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14A-3D5F-41E6-8114-7141A1FE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8680" y="225360"/>
            <a:ext cx="7551720" cy="9367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8680" y="1312920"/>
            <a:ext cx="2431440" cy="17672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72160" y="1312920"/>
            <a:ext cx="2431440" cy="17672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25640" y="1312920"/>
            <a:ext cx="2431440" cy="17672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8680" y="3248280"/>
            <a:ext cx="2431440" cy="17672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72160" y="3248280"/>
            <a:ext cx="2431440" cy="17672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25640" y="3248280"/>
            <a:ext cx="2431440" cy="17672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26E-C9BA-4F61-8FAC-C219283E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8680" y="225360"/>
            <a:ext cx="7551720" cy="9367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8680" y="1312920"/>
            <a:ext cx="755172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49BD-C7CF-40D7-915D-09A2F6AA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25360"/>
            <a:ext cx="7551720" cy="9367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8680" y="1312920"/>
            <a:ext cx="7551720" cy="3705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BB64-DC5A-4881-A582-7BE79770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25360"/>
            <a:ext cx="7551720" cy="9367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312920"/>
            <a:ext cx="3684960" cy="3705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8320" y="1312920"/>
            <a:ext cx="3684960" cy="3705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33B-58B8-4090-A304-A3394C7B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25360"/>
            <a:ext cx="7551720" cy="9367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D5B1-8D05-4F5A-B70F-A7021EAF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8680" y="225360"/>
            <a:ext cx="7551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22C-DDE1-4DCC-9120-7E8AFBA8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25360"/>
            <a:ext cx="7551720" cy="9367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8680" y="1312920"/>
            <a:ext cx="3684960" cy="17672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8320" y="1312920"/>
            <a:ext cx="3684960" cy="3705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8680" y="3248280"/>
            <a:ext cx="3684960" cy="17672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2030-599C-4B98-8B4C-EA38163C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225360"/>
            <a:ext cx="7551720" cy="9367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8680" y="1312920"/>
            <a:ext cx="3684960" cy="3705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8320" y="1312920"/>
            <a:ext cx="3684960" cy="17672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8320" y="3248280"/>
            <a:ext cx="3684960" cy="17672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FBF-2785-42FA-8769-210AF49C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225360"/>
            <a:ext cx="7551720" cy="9367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8680" y="1312920"/>
            <a:ext cx="3684960" cy="17672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8320" y="1312920"/>
            <a:ext cx="3684960" cy="17672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8680" y="3248280"/>
            <a:ext cx="7551720" cy="17672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771-FB51-4733-BAC3-9EBA0CE7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25360"/>
            <a:ext cx="7551720" cy="9367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312920"/>
            <a:ext cx="7551720" cy="3705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9000"/>
          </a:bodyPr>
          <a:p>
            <a:pPr marL="301680" indent="-3016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55200" indent="-25128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08720" indent="-2026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12640" indent="-20268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16920" indent="-20268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16920" indent="-20268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16920" indent="-20268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9040" y="5114520"/>
            <a:ext cx="1959120" cy="390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68120" y="5114520"/>
            <a:ext cx="2652840" cy="390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011640" y="5114520"/>
            <a:ext cx="1958760" cy="390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4A0CBE4-2324-42BF-809C-041CEF21B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4480" y="1440"/>
            <a:ext cx="8343000" cy="5543640"/>
            <a:chOff x="24480" y="1440"/>
            <a:chExt cx="8343000" cy="5543640"/>
          </a:xfrm>
        </p:grpSpPr>
        <p:sp>
          <p:nvSpPr>
            <p:cNvPr id="42" name=""/>
            <p:cNvSpPr/>
            <p:nvPr/>
          </p:nvSpPr>
          <p:spPr>
            <a:xfrm flipV="1">
              <a:off x="6140520" y="3529080"/>
              <a:ext cx="171360" cy="433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40600" y="2917800"/>
              <a:ext cx="0" cy="46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518080" y="1262160"/>
              <a:ext cx="0" cy="46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02440" y="1262160"/>
              <a:ext cx="0" cy="46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13360" y="1441440"/>
              <a:ext cx="1152360" cy="50328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26080" y="1441440"/>
              <a:ext cx="1152720" cy="46512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518080" y="1249560"/>
              <a:ext cx="158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83160" y="289080"/>
              <a:ext cx="0" cy="9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34080" y="57636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56240" y="2917800"/>
              <a:ext cx="0" cy="46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51160" y="3097080"/>
              <a:ext cx="1152720" cy="5032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56240" y="2905200"/>
              <a:ext cx="158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21320" y="1944720"/>
              <a:ext cx="0" cy="9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71880" y="2232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92600" y="4575240"/>
              <a:ext cx="0" cy="46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76960" y="4575240"/>
              <a:ext cx="0" cy="46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87880" y="4754520"/>
              <a:ext cx="1152360" cy="50328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00600" y="4754520"/>
              <a:ext cx="1152360" cy="46512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92600" y="4562640"/>
              <a:ext cx="158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57680" y="3602160"/>
              <a:ext cx="0" cy="9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08600" y="3889440"/>
              <a:ext cx="122364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35520" y="3097080"/>
              <a:ext cx="1008000" cy="505080"/>
            </a:xfrm>
            <a:prstGeom prst="parallelogram">
              <a:avLst>
                <a:gd name="adj" fmla="val 49893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140520" y="3962520"/>
              <a:ext cx="2043000" cy="1008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183520" y="3962520"/>
              <a:ext cx="0" cy="10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70400" y="4035600"/>
              <a:ext cx="2197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gnal wird gerettet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bleibt in 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ingabe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58800" y="793800"/>
              <a:ext cx="36036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98440" y="793800"/>
              <a:ext cx="36036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080" y="793800"/>
              <a:ext cx="36036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7720" y="793800"/>
              <a:ext cx="36036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9160" y="793800"/>
              <a:ext cx="36036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58800" y="1657440"/>
              <a:ext cx="36036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98440" y="1657440"/>
              <a:ext cx="36036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8080" y="1657440"/>
              <a:ext cx="36036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9520" y="1657440"/>
              <a:ext cx="36036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58800" y="2449440"/>
              <a:ext cx="360360" cy="432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98440" y="2449440"/>
              <a:ext cx="360360" cy="432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9880" y="2449440"/>
              <a:ext cx="360360" cy="432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360" y="3889440"/>
              <a:ext cx="36036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98440" y="3889440"/>
              <a:ext cx="36036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57360" y="4970520"/>
              <a:ext cx="36036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480" y="1440"/>
              <a:ext cx="189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Prozess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ingabeque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1990800" y="793800"/>
              <a:ext cx="374472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1363600">
              <a:off x="3001680" y="504360"/>
              <a:ext cx="193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wird verarbeit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19160" y="1873440"/>
              <a:ext cx="295128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19160" y="2665440"/>
              <a:ext cx="403236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43160" y="2881440"/>
              <a:ext cx="287964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19160" y="4178160"/>
              <a:ext cx="2086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596400">
              <a:off x="1993680" y="2874960"/>
              <a:ext cx="193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 wird verarbeit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93680" y="3745080"/>
              <a:ext cx="19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 wird verarbeit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481800">
              <a:off x="2209320" y="2449080"/>
              <a:ext cx="176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 wird gesiche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632400">
              <a:off x="2065320" y="1793520"/>
              <a:ext cx="290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 wird verworfen (gelösch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39760" y="73080"/>
              <a:ext cx="0" cy="5472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0:01:43Z</dcterms:created>
  <dc:creator>x</dc:creator>
  <dc:description/>
  <dc:language>en-US</dc:language>
  <cp:lastModifiedBy>x</cp:lastModifiedBy>
  <dcterms:modified xsi:type="dcterms:W3CDTF">2007-03-10T10:45:01Z</dcterms:modified>
  <cp:revision>4</cp:revision>
  <dc:subject/>
  <dc:title>Folie 1</dc:title>
</cp:coreProperties>
</file>