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983413" cy="5184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4592-C61F-4956-A4DA-B3C12FF6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8840" y="207720"/>
            <a:ext cx="6286680" cy="86508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8840" y="1211040"/>
            <a:ext cx="6286680" cy="16315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8840" y="2998080"/>
            <a:ext cx="6286680" cy="16315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279B-9A1D-4D05-A612-014C11B7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8840" y="207720"/>
            <a:ext cx="6286680" cy="86508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8840" y="1211040"/>
            <a:ext cx="3067560" cy="16315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70120" y="1211040"/>
            <a:ext cx="3067560" cy="16315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8840" y="2998080"/>
            <a:ext cx="3067560" cy="16315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70120" y="2998080"/>
            <a:ext cx="3067560" cy="16315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C5AF-6184-49CE-ABE5-1F853509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8840" y="207720"/>
            <a:ext cx="6286680" cy="86508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8840" y="1211040"/>
            <a:ext cx="2023920" cy="16315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74280" y="1211040"/>
            <a:ext cx="2023920" cy="16315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99720" y="1211040"/>
            <a:ext cx="2023920" cy="16315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8840" y="2998080"/>
            <a:ext cx="2023920" cy="16315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74280" y="2998080"/>
            <a:ext cx="2023920" cy="16315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99720" y="2998080"/>
            <a:ext cx="2023920" cy="16315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5207-FC19-4D30-987B-764EA6B8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8840" y="207720"/>
            <a:ext cx="6286680" cy="86508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8840" y="1211040"/>
            <a:ext cx="628668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FCF4-6356-475A-949C-A6CF8DA7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8840" y="207720"/>
            <a:ext cx="6286680" cy="86508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8840" y="1211040"/>
            <a:ext cx="6286680" cy="342108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295A-F835-4824-89FB-C175A471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8840" y="207720"/>
            <a:ext cx="6286680" cy="86508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8840" y="1211040"/>
            <a:ext cx="3067560" cy="342108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70120" y="1211040"/>
            <a:ext cx="3067560" cy="342108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A3D8-4DE3-4E80-A38C-2A321FB7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8840" y="207720"/>
            <a:ext cx="6286680" cy="86508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4A56-2B3D-4B25-B55A-D5CBFDA5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8840" y="207720"/>
            <a:ext cx="628668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EE0C-BAD7-49BB-9391-6F5802B1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8840" y="207720"/>
            <a:ext cx="6286680" cy="86508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8840" y="1211040"/>
            <a:ext cx="3067560" cy="16315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70120" y="1211040"/>
            <a:ext cx="3067560" cy="342108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8840" y="2998080"/>
            <a:ext cx="3067560" cy="16315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BC28-38AB-4E6B-8845-BFE32D2F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8840" y="207720"/>
            <a:ext cx="6286680" cy="86508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8840" y="1211040"/>
            <a:ext cx="3067560" cy="342108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70120" y="1211040"/>
            <a:ext cx="3067560" cy="16315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70120" y="2998080"/>
            <a:ext cx="3067560" cy="16315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7E0F-86AE-4DE2-BB5E-F0E4A1FE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8840" y="207720"/>
            <a:ext cx="6286680" cy="86508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8840" y="1211040"/>
            <a:ext cx="3067560" cy="16315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70120" y="1211040"/>
            <a:ext cx="3067560" cy="16315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8840" y="2998080"/>
            <a:ext cx="6286680" cy="163152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B947-09B0-47EB-B24A-84F160FE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8840" y="207720"/>
            <a:ext cx="6286680" cy="86508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8840" y="1211040"/>
            <a:ext cx="6286680" cy="342108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rmAutofit/>
          </a:bodyPr>
          <a:p>
            <a:pPr marL="264960" indent="-2649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06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239840" indent="-177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1778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1778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1778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8840" y="4721040"/>
            <a:ext cx="1630440" cy="36036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Autofit/>
          </a:bodyPr>
          <a:lstStyle>
            <a:lvl1pPr indent="0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87160" y="4721040"/>
            <a:ext cx="2210040" cy="36036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Autofit/>
          </a:bodyPr>
          <a:lstStyle>
            <a:lvl1pPr indent="0" algn="ct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05080" y="4721040"/>
            <a:ext cx="1630440" cy="36036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t">
            <a:noAutofit/>
          </a:bodyPr>
          <a:lstStyle>
            <a:lvl1pPr indent="0" algn="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fld id="{C5DE9B24-66B6-40C9-9EA8-FAE565D8F54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86120" y="695160"/>
            <a:ext cx="0" cy="151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50960" y="46080"/>
            <a:ext cx="1224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u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9760" y="838080"/>
            <a:ext cx="1152720" cy="50328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6640" y="1846440"/>
            <a:ext cx="1224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0480" y="695160"/>
            <a:ext cx="309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74840" y="55080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25760" y="3451320"/>
            <a:ext cx="1434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20720" y="4105440"/>
            <a:ext cx="15940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g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20720" y="2711520"/>
            <a:ext cx="165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g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81480" y="1774800"/>
            <a:ext cx="1409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chn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94440" y="321480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vorherigen Zu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33680" y="4727520"/>
            <a:ext cx="15235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53400" y="3143160"/>
            <a:ext cx="0" cy="505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828720" y="4032360"/>
            <a:ext cx="2015640" cy="504720"/>
            <a:chOff x="828720" y="4032360"/>
            <a:chExt cx="2015640" cy="504720"/>
          </a:xfrm>
        </p:grpSpPr>
        <p:sp>
          <p:nvSpPr>
            <p:cNvPr id="55" name=""/>
            <p:cNvSpPr/>
            <p:nvPr/>
          </p:nvSpPr>
          <p:spPr>
            <a:xfrm flipH="1">
              <a:off x="828720" y="4032360"/>
              <a:ext cx="744480" cy="1504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47640" y="4032360"/>
              <a:ext cx="1296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47640" y="4032360"/>
              <a:ext cx="0" cy="504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47640" y="4537080"/>
              <a:ext cx="1296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28720" y="3384720"/>
            <a:ext cx="2015640" cy="504720"/>
            <a:chOff x="828720" y="3384720"/>
            <a:chExt cx="2015640" cy="504720"/>
          </a:xfrm>
        </p:grpSpPr>
        <p:sp>
          <p:nvSpPr>
            <p:cNvPr id="60" name=""/>
            <p:cNvSpPr/>
            <p:nvPr/>
          </p:nvSpPr>
          <p:spPr>
            <a:xfrm flipH="1">
              <a:off x="828720" y="3384720"/>
              <a:ext cx="744480" cy="1504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47640" y="3384720"/>
              <a:ext cx="1296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47640" y="3384720"/>
              <a:ext cx="0" cy="504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47640" y="3889440"/>
              <a:ext cx="1296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828720" y="2664000"/>
            <a:ext cx="2015640" cy="504720"/>
            <a:chOff x="828720" y="2664000"/>
            <a:chExt cx="2015640" cy="504720"/>
          </a:xfrm>
        </p:grpSpPr>
        <p:sp>
          <p:nvSpPr>
            <p:cNvPr id="65" name=""/>
            <p:cNvSpPr/>
            <p:nvPr/>
          </p:nvSpPr>
          <p:spPr>
            <a:xfrm flipH="1">
              <a:off x="828720" y="2664000"/>
              <a:ext cx="744480" cy="1504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47640" y="2664000"/>
              <a:ext cx="1296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47640" y="2664000"/>
              <a:ext cx="0" cy="504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547640" y="3168720"/>
              <a:ext cx="1296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828720" y="4680000"/>
            <a:ext cx="2015640" cy="504720"/>
            <a:chOff x="828720" y="4680000"/>
            <a:chExt cx="2015640" cy="504720"/>
          </a:xfrm>
        </p:grpSpPr>
        <p:sp>
          <p:nvSpPr>
            <p:cNvPr id="70" name=""/>
            <p:cNvSpPr/>
            <p:nvPr/>
          </p:nvSpPr>
          <p:spPr>
            <a:xfrm flipH="1">
              <a:off x="828720" y="4680000"/>
              <a:ext cx="744480" cy="1504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47640" y="4680000"/>
              <a:ext cx="1296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47640" y="4680000"/>
              <a:ext cx="0" cy="504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47640" y="5184720"/>
              <a:ext cx="1296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828720" y="1727280"/>
            <a:ext cx="2015640" cy="504720"/>
            <a:chOff x="828720" y="1727280"/>
            <a:chExt cx="2015640" cy="504720"/>
          </a:xfrm>
        </p:grpSpPr>
        <p:sp>
          <p:nvSpPr>
            <p:cNvPr id="75" name=""/>
            <p:cNvSpPr/>
            <p:nvPr/>
          </p:nvSpPr>
          <p:spPr>
            <a:xfrm flipH="1">
              <a:off x="828720" y="1727280"/>
              <a:ext cx="744480" cy="1504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47640" y="1727280"/>
              <a:ext cx="1296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47640" y="1727280"/>
              <a:ext cx="0" cy="504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47640" y="2232000"/>
              <a:ext cx="1296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690480" y="695160"/>
            <a:ext cx="0" cy="431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480" y="876240"/>
            <a:ext cx="1152360" cy="503280"/>
          </a:xfrm>
          <a:custGeom>
            <a:avLst/>
            <a:gdLst>
              <a:gd name="textAreaLeft" fmla="*/ 0 w 1152360"/>
              <a:gd name="textAreaRight" fmla="*/ 1152360 w 1152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4480" y="2422440"/>
            <a:ext cx="1152360" cy="576360"/>
          </a:xfrm>
          <a:custGeom>
            <a:avLst/>
            <a:gdLst>
              <a:gd name="textAreaLeft" fmla="*/ 0 w 1152360"/>
              <a:gd name="textAreaRight" fmla="*/ 1152360 w 1152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440" y="1630440"/>
            <a:ext cx="1297080" cy="57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:=x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00" y="3287880"/>
            <a:ext cx="1224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7960" y="4799160"/>
            <a:ext cx="360360" cy="360360"/>
          </a:xfrm>
          <a:prstGeom prst="flowChartSummingJunction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480" y="4006800"/>
            <a:ext cx="1152360" cy="503280"/>
          </a:xfrm>
          <a:custGeom>
            <a:avLst/>
            <a:gdLst>
              <a:gd name="textAreaLeft" fmla="*/ 0 w 1152360"/>
              <a:gd name="textAreaRight" fmla="*/ 1152360 w 1152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3997440" y="2376360"/>
            <a:ext cx="372960" cy="790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22880" y="3166920"/>
            <a:ext cx="24098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22880" y="3166920"/>
            <a:ext cx="0" cy="505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22880" y="3672000"/>
            <a:ext cx="24098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10:01:43Z</dcterms:created>
  <dc:creator>x</dc:creator>
  <dc:description/>
  <dc:language>en-US</dc:language>
  <cp:lastModifiedBy>x</cp:lastModifiedBy>
  <dcterms:modified xsi:type="dcterms:W3CDTF">2009-02-17T18:14:54Z</dcterms:modified>
  <cp:revision>5</cp:revision>
  <dc:subject/>
  <dc:title>Folie 1</dc:title>
</cp:coreProperties>
</file>