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164388" cy="24479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F8CF-4D68-4D0D-8961-AF59519F9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8560" y="77040"/>
            <a:ext cx="6446520" cy="4510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8560" y="571680"/>
            <a:ext cx="6446520" cy="7696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8560" y="1414800"/>
            <a:ext cx="6446520" cy="7696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69B6-28D9-4B6D-8190-D0A1E25D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8560" y="77040"/>
            <a:ext cx="6446520" cy="4510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8560" y="571680"/>
            <a:ext cx="3145680" cy="7696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61920" y="571680"/>
            <a:ext cx="3145680" cy="7696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8560" y="1414800"/>
            <a:ext cx="3145680" cy="7696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61920" y="1414800"/>
            <a:ext cx="3145680" cy="7696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DA8B-1719-4093-AD78-54516F01F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8560" y="77040"/>
            <a:ext cx="6446520" cy="4510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8560" y="571680"/>
            <a:ext cx="2075400" cy="7696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38000" y="571680"/>
            <a:ext cx="2075400" cy="7696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17800" y="571680"/>
            <a:ext cx="2075400" cy="7696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8560" y="1414800"/>
            <a:ext cx="2075400" cy="7696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38000" y="1414800"/>
            <a:ext cx="2075400" cy="7696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17800" y="1414800"/>
            <a:ext cx="2075400" cy="7696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9083-41E8-40BC-AB05-089D296AD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8560" y="77040"/>
            <a:ext cx="6446520" cy="4510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8560" y="571680"/>
            <a:ext cx="6446520" cy="16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D873-7AC4-4FF3-803D-A6A8EB95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8560" y="77040"/>
            <a:ext cx="6446520" cy="4510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8560" y="571680"/>
            <a:ext cx="6446520" cy="161424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2A01-E4EF-4A0B-9821-41EEC1DB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8560" y="77040"/>
            <a:ext cx="6446520" cy="4510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8560" y="571680"/>
            <a:ext cx="3145680" cy="161424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61920" y="571680"/>
            <a:ext cx="3145680" cy="161424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966B-BC21-42D2-B471-2446A17D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8560" y="77040"/>
            <a:ext cx="6446520" cy="4510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3F07-0609-4570-BC53-F00E7117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8560" y="98280"/>
            <a:ext cx="644652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2B31-FC76-4CA5-B2B0-3CC624AA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8560" y="77040"/>
            <a:ext cx="6446520" cy="4510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8560" y="571680"/>
            <a:ext cx="3145680" cy="7696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61920" y="571680"/>
            <a:ext cx="3145680" cy="161424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8560" y="1414800"/>
            <a:ext cx="3145680" cy="7696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E3F4-F1E9-40E0-9680-34A6DC3D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8560" y="77040"/>
            <a:ext cx="6446520" cy="4510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8560" y="571680"/>
            <a:ext cx="3145680" cy="161424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61920" y="571680"/>
            <a:ext cx="3145680" cy="7696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61920" y="1414800"/>
            <a:ext cx="3145680" cy="7696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1111-7C79-4D2B-A1BE-FD83AD33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8560" y="77040"/>
            <a:ext cx="6446520" cy="4510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8560" y="571680"/>
            <a:ext cx="3145680" cy="7696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61920" y="571680"/>
            <a:ext cx="3145680" cy="7696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8560" y="1414800"/>
            <a:ext cx="6446520" cy="7696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926F-5170-4966-A9CD-B88B5EE1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8560" y="98280"/>
            <a:ext cx="6446520" cy="40824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8560" y="571680"/>
            <a:ext cx="6446520" cy="161424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 fontScale="65000"/>
          </a:bodyPr>
          <a:p>
            <a:pPr marL="133920" indent="-1339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89800" indent="-111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445680" indent="-885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624240" indent="-8856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802800" indent="-8856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802800" indent="-8856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802800" indent="-8856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8560" y="2228760"/>
            <a:ext cx="1671480" cy="16992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Autofit/>
          </a:bodyPr>
          <a:lstStyle>
            <a:lvl1pPr indent="0">
              <a:buNone/>
              <a:tabLst>
                <a:tab algn="l" pos="0"/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47640" y="2228760"/>
            <a:ext cx="2268360" cy="16992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Autofit/>
          </a:bodyPr>
          <a:lstStyle>
            <a:lvl1pPr indent="0" algn="ctr">
              <a:buNone/>
              <a:tabLst>
                <a:tab algn="l" pos="0"/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33600" y="2228760"/>
            <a:ext cx="1671480" cy="16992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Autofit/>
          </a:bodyPr>
          <a:lstStyle>
            <a:lvl1pPr indent="0" algn="r">
              <a:buNone/>
              <a:tabLst>
                <a:tab algn="l" pos="0"/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fld id="{392F231F-93BE-4302-A0F3-39580F26162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68200" y="39600"/>
            <a:ext cx="7131240" cy="2374920"/>
            <a:chOff x="268200" y="39600"/>
            <a:chExt cx="7131240" cy="2374920"/>
          </a:xfrm>
        </p:grpSpPr>
        <p:sp>
          <p:nvSpPr>
            <p:cNvPr id="42" name=""/>
            <p:cNvSpPr/>
            <p:nvPr/>
          </p:nvSpPr>
          <p:spPr>
            <a:xfrm>
              <a:off x="3508560" y="201600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508560" y="162072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08560" y="122544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08560" y="83016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508560" y="43488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508560" y="3960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318360" y="2016000"/>
              <a:ext cx="1081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318360" y="1620720"/>
              <a:ext cx="1081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18360" y="1225440"/>
              <a:ext cx="1081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18360" y="830160"/>
              <a:ext cx="1081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18360" y="434880"/>
              <a:ext cx="1081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18360" y="39600"/>
              <a:ext cx="1081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51480" y="2016000"/>
              <a:ext cx="8668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51480" y="1620720"/>
              <a:ext cx="8668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51480" y="1225440"/>
              <a:ext cx="8668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451480" y="830160"/>
              <a:ext cx="8668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51480" y="434880"/>
              <a:ext cx="8668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451480" y="39600"/>
              <a:ext cx="8668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56200" y="2016000"/>
              <a:ext cx="1295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60560" y="2016000"/>
              <a:ext cx="648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12920" y="201600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65280" y="201600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7640" y="201600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8200" y="2016000"/>
              <a:ext cx="6494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56200" y="1620720"/>
              <a:ext cx="1295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60560" y="1620720"/>
              <a:ext cx="648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212920" y="162072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65280" y="162072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17640" y="162072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68200" y="1620720"/>
              <a:ext cx="6494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56200" y="1225440"/>
              <a:ext cx="1295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60560" y="1225440"/>
              <a:ext cx="648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12920" y="122544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65280" y="122544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17640" y="122544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8200" y="1225440"/>
              <a:ext cx="6494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156200" y="830160"/>
              <a:ext cx="1295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860560" y="830160"/>
              <a:ext cx="648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12920" y="83016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565280" y="83016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17640" y="83016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8200" y="830160"/>
              <a:ext cx="6494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156200" y="434880"/>
              <a:ext cx="1295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860560" y="434880"/>
              <a:ext cx="648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12920" y="43488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565280" y="43488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17640" y="43488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8200" y="434880"/>
              <a:ext cx="6494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56200" y="39600"/>
              <a:ext cx="1295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860560" y="39600"/>
              <a:ext cx="648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12920" y="3960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65280" y="3960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17640" y="3960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8200" y="39600"/>
              <a:ext cx="6494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68200" y="39600"/>
              <a:ext cx="324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8200" y="434880"/>
              <a:ext cx="324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68200" y="830160"/>
              <a:ext cx="6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8200" y="1225440"/>
              <a:ext cx="6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8200" y="1620720"/>
              <a:ext cx="6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68200" y="2016000"/>
              <a:ext cx="6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8200" y="2411280"/>
              <a:ext cx="649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68200" y="39600"/>
              <a:ext cx="0" cy="2371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17640" y="39600"/>
              <a:ext cx="0" cy="23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65280" y="396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12920" y="396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60560" y="396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56200" y="3960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99440" y="39600"/>
              <a:ext cx="0" cy="790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65280" y="2411280"/>
              <a:ext cx="647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7640" y="2411280"/>
              <a:ext cx="647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12920" y="2411280"/>
              <a:ext cx="647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60560" y="2411280"/>
              <a:ext cx="1295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56200" y="2411280"/>
              <a:ext cx="1295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51480" y="3960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318360" y="3960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9440" y="83016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99440" y="122544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99440" y="162072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99440" y="201600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51480" y="2411280"/>
              <a:ext cx="866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18360" y="2411280"/>
              <a:ext cx="108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08560" y="396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08560" y="434880"/>
              <a:ext cx="647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08560" y="39600"/>
              <a:ext cx="3890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49400" y="471600"/>
              <a:ext cx="216000" cy="1942920"/>
            </a:xfrm>
            <a:custGeom>
              <a:avLst/>
              <a:gdLst>
                <a:gd name="textAreaLeft" fmla="*/ 63360 w 216000"/>
                <a:gd name="textAreaRight" fmla="*/ 216360 w 216000"/>
                <a:gd name="textAreaTop" fmla="*/ 80640 h 1942920"/>
                <a:gd name="textAreaBottom" fmla="*/ 1862280 h 19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72200" y="471600"/>
              <a:ext cx="216000" cy="1942920"/>
            </a:xfrm>
            <a:custGeom>
              <a:avLst/>
              <a:gdLst>
                <a:gd name="textAreaLeft" fmla="*/ 63360 w 216000"/>
                <a:gd name="textAreaRight" fmla="*/ 216360 w 216000"/>
                <a:gd name="textAreaTop" fmla="*/ 80640 h 1942920"/>
                <a:gd name="textAreaBottom" fmla="*/ 1862280 h 19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16560" y="471600"/>
              <a:ext cx="215640" cy="1512720"/>
            </a:xfrm>
            <a:custGeom>
              <a:avLst/>
              <a:gdLst>
                <a:gd name="textAreaLeft" fmla="*/ 63360 w 215640"/>
                <a:gd name="textAreaRight" fmla="*/ 216000 w 215640"/>
                <a:gd name="textAreaTop" fmla="*/ 63000 h 1512720"/>
                <a:gd name="textAreaBottom" fmla="*/ 1449720 h 15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3219480" y="471600"/>
              <a:ext cx="216000" cy="1942920"/>
            </a:xfrm>
            <a:custGeom>
              <a:avLst/>
              <a:gdLst>
                <a:gd name="textAreaLeft" fmla="*/ 63720 w 216000"/>
                <a:gd name="textAreaRight" fmla="*/ 216720 w 216000"/>
                <a:gd name="textAreaTop" fmla="*/ 80640 h 1942920"/>
                <a:gd name="textAreaBottom" fmla="*/ 1862280 h 19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6603480" y="471600"/>
              <a:ext cx="215640" cy="1942920"/>
            </a:xfrm>
            <a:custGeom>
              <a:avLst/>
              <a:gdLst>
                <a:gd name="textAreaLeft" fmla="*/ 63000 w 215640"/>
                <a:gd name="textAreaRight" fmla="*/ 215640 w 215640"/>
                <a:gd name="textAreaTop" fmla="*/ 80640 h 1942920"/>
                <a:gd name="textAreaBottom" fmla="*/ 1862280 h 19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876200" y="471600"/>
              <a:ext cx="215640" cy="1512720"/>
            </a:xfrm>
            <a:custGeom>
              <a:avLst/>
              <a:gdLst>
                <a:gd name="textAreaLeft" fmla="*/ 63000 w 215640"/>
                <a:gd name="textAreaRight" fmla="*/ 215640 w 215640"/>
                <a:gd name="textAreaTop" fmla="*/ 63000 h 1512720"/>
                <a:gd name="textAreaBottom" fmla="*/ 1449720 h 15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6T10:12:18Z</dcterms:created>
  <dc:creator>x</dc:creator>
  <dc:description/>
  <dc:language>en-US</dc:language>
  <cp:lastModifiedBy>x</cp:lastModifiedBy>
  <dcterms:modified xsi:type="dcterms:W3CDTF">2007-01-06T10:13:25Z</dcterms:modified>
  <cp:revision>1</cp:revision>
  <dc:subject/>
  <dc:title>Folie 1</dc:title>
</cp:coreProperties>
</file>