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99425" cy="23399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4CAE-E91F-4AA4-BE4E-D648ACB2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4640" y="37800"/>
            <a:ext cx="7291440" cy="5018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4640" y="545760"/>
            <a:ext cx="7291440" cy="7365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4640" y="1352520"/>
            <a:ext cx="7291440" cy="7365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F620-2DB0-45F5-8367-D69248C9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4640" y="37800"/>
            <a:ext cx="7291440" cy="5018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4640" y="545760"/>
            <a:ext cx="3557880" cy="7365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0720" y="545760"/>
            <a:ext cx="3557880" cy="7365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4640" y="1352520"/>
            <a:ext cx="3557880" cy="7365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40720" y="1352520"/>
            <a:ext cx="3557880" cy="7365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A280-CAEB-421E-844E-A3788C3E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4640" y="37800"/>
            <a:ext cx="7291440" cy="5018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4640" y="545760"/>
            <a:ext cx="2347560" cy="7365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69920" y="545760"/>
            <a:ext cx="2347560" cy="7365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0" y="545760"/>
            <a:ext cx="2347560" cy="7365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4640" y="1352520"/>
            <a:ext cx="2347560" cy="7365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69920" y="1352520"/>
            <a:ext cx="2347560" cy="7365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35200" y="1352520"/>
            <a:ext cx="2347560" cy="7365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1420-5CD9-4BE8-A203-2342BE8B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4640" y="37800"/>
            <a:ext cx="7291440" cy="5018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4640" y="545760"/>
            <a:ext cx="7291440" cy="15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1AB-246D-4DF5-8E64-3504EC2C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4640" y="37800"/>
            <a:ext cx="7291440" cy="5018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4640" y="545760"/>
            <a:ext cx="7291440" cy="15447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34AA-90FD-4F9C-BC0D-6BED0B29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4640" y="37800"/>
            <a:ext cx="7291440" cy="5018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4640" y="545760"/>
            <a:ext cx="3557880" cy="15447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40720" y="545760"/>
            <a:ext cx="3557880" cy="15447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999F-511C-4550-8ECE-33648585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4640" y="37800"/>
            <a:ext cx="7291440" cy="5018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850B-E6C8-4781-B136-2FCD678F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4640" y="93240"/>
            <a:ext cx="729144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C973-A167-4942-8429-F592E6DA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4640" y="37800"/>
            <a:ext cx="7291440" cy="5018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4640" y="545760"/>
            <a:ext cx="3557880" cy="7365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40720" y="545760"/>
            <a:ext cx="3557880" cy="15447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4640" y="1352520"/>
            <a:ext cx="3557880" cy="7365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78D4-54F5-49A2-B237-ED33FAB0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4640" y="37800"/>
            <a:ext cx="7291440" cy="5018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4640" y="545760"/>
            <a:ext cx="3557880" cy="15447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0720" y="545760"/>
            <a:ext cx="3557880" cy="7365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0720" y="1352520"/>
            <a:ext cx="3557880" cy="7365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9C73-28E5-412D-9F49-A2B2A4EE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4640" y="37800"/>
            <a:ext cx="7291440" cy="5018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4640" y="545760"/>
            <a:ext cx="3557880" cy="7365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0720" y="545760"/>
            <a:ext cx="3557880" cy="7365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4640" y="1352520"/>
            <a:ext cx="7291440" cy="7365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F39C-95DB-4BAF-B19D-6DED5AC9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4640" y="93240"/>
            <a:ext cx="7291440" cy="39060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4640" y="545760"/>
            <a:ext cx="7291440" cy="15447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 fontScale="56000"/>
          </a:bodyPr>
          <a:p>
            <a:pPr marL="125280" indent="-125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271080" indent="-10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417600" indent="-83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85000" indent="-83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52040" indent="-83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752040" indent="-83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752040" indent="-83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4640" y="2130480"/>
            <a:ext cx="1890720" cy="1634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Autofit/>
          </a:bodyPr>
          <a:lstStyle>
            <a:lvl1pPr indent="0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68400" y="2130480"/>
            <a:ext cx="2563560" cy="1634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Autofit/>
          </a:bodyPr>
          <a:lstStyle>
            <a:lvl1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05360" y="2130480"/>
            <a:ext cx="1890720" cy="1634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Autofit/>
          </a:bodyPr>
          <a:lstStyle>
            <a:lvl1pPr indent="0" algn="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fld id="{0AB28C15-546D-49FC-BAE5-6A7DBD6A0F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920" y="7920"/>
            <a:ext cx="8064000" cy="2311560"/>
            <a:chOff x="7920" y="7920"/>
            <a:chExt cx="8064000" cy="2311560"/>
          </a:xfrm>
        </p:grpSpPr>
        <p:sp>
          <p:nvSpPr>
            <p:cNvPr id="42" name=""/>
            <p:cNvSpPr/>
            <p:nvPr/>
          </p:nvSpPr>
          <p:spPr>
            <a:xfrm>
              <a:off x="5483520" y="188748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206520" y="446040"/>
              <a:ext cx="112212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02080" y="3747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626080" y="87948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z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47160" y="181476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Ka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211160" y="23040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Ka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5920" y="1166760"/>
              <a:ext cx="76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Ka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33360" y="792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0640" y="14400"/>
              <a:ext cx="7991280" cy="230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57000" y="230400"/>
              <a:ext cx="3887280" cy="1946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7000" y="662040"/>
              <a:ext cx="2447640" cy="1584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52640" y="806400"/>
              <a:ext cx="1223640" cy="50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62800" y="174312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z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89360" y="1670040"/>
              <a:ext cx="1223640" cy="50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129000" y="1311480"/>
              <a:ext cx="360000" cy="35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81720" y="662040"/>
              <a:ext cx="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81720" y="1440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22800" y="167184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z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49360" y="1598760"/>
              <a:ext cx="1223640" cy="50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4473000" y="1886040"/>
              <a:ext cx="2015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99920" y="374760"/>
              <a:ext cx="2088720" cy="1728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20640" y="781200"/>
              <a:ext cx="112176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0640" y="1573200"/>
              <a:ext cx="112176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z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68280" y="1166760"/>
              <a:ext cx="0" cy="43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2634480" y="1742760"/>
              <a:ext cx="541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634480" y="662040"/>
              <a:ext cx="541080" cy="33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920" y="1743120"/>
              <a:ext cx="151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4400" y="1382760"/>
              <a:ext cx="76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Ka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10:01:43Z</dcterms:created>
  <dc:creator>x</dc:creator>
  <dc:description/>
  <dc:language>en-US</dc:language>
  <cp:lastModifiedBy>x</cp:lastModifiedBy>
  <dcterms:modified xsi:type="dcterms:W3CDTF">2007-03-10T10:02:49Z</dcterms:modified>
  <cp:revision>1</cp:revision>
  <dc:subject/>
  <dc:title>Folie 1</dc:title>
</cp:coreProperties>
</file>