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32700" cy="3240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B23-ECDA-43BD-A179-E2193D27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755640"/>
            <a:ext cx="687096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1872720"/>
            <a:ext cx="687096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697-2628-40AF-ADFF-4CE3019E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75564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01680" y="75564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187272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01680" y="187272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AE1-115E-4CDF-9253-3B8BBBF1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755640"/>
            <a:ext cx="221220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03960" y="755640"/>
            <a:ext cx="221220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27400" y="755640"/>
            <a:ext cx="221220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1872720"/>
            <a:ext cx="221220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03960" y="1872720"/>
            <a:ext cx="221220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27400" y="1872720"/>
            <a:ext cx="221220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ACA-A83F-41FC-8113-1358A61D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755640"/>
            <a:ext cx="687096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777-F8A6-4B21-B98F-E24CAA31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755640"/>
            <a:ext cx="6870960" cy="2138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3EA-C5CB-4747-BD7A-27301E7F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755640"/>
            <a:ext cx="3352680" cy="2138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01680" y="755640"/>
            <a:ext cx="3352680" cy="2138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624-2E10-4037-9296-2806C4C1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BCD-54C4-40F6-B2F1-64A39409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29960"/>
            <a:ext cx="68709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716-E895-47E8-B362-BEABA564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75564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01680" y="755640"/>
            <a:ext cx="3352680" cy="2138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187272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BAB-2434-4D68-BDE0-10ED0EF0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755640"/>
            <a:ext cx="3352680" cy="2138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01680" y="75564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01680" y="187272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184-4F17-49D9-BD5A-0C28A8C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75564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01680" y="755640"/>
            <a:ext cx="335268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1872720"/>
            <a:ext cx="6870960" cy="10198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D67-CC6B-40F6-84A4-6E1A8D84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755640"/>
            <a:ext cx="6870960" cy="2138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75000"/>
          </a:bodyPr>
          <a:p>
            <a:pPr marL="180720" indent="-180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0240" indent="-1497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19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42760" indent="-121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83240" indent="-120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83240" indent="-120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83240" indent="-120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2949120"/>
            <a:ext cx="1781280" cy="2271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Autofit/>
          </a:bodyPr>
          <a:lstStyle>
            <a:lvl1pPr indent="0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8200" y="2949120"/>
            <a:ext cx="2416320" cy="2271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Autofit/>
          </a:bodyPr>
          <a:lstStyle>
            <a:lvl1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70560" y="2949120"/>
            <a:ext cx="1781280" cy="2271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Autofit/>
          </a:bodyPr>
          <a:lstStyle>
            <a:lvl1pPr indent="0" algn="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fld id="{77412240-F5AE-42C3-89A6-373A004963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3480"/>
            <a:ext cx="7576200" cy="3169800"/>
            <a:chOff x="71280" y="33480"/>
            <a:chExt cx="7576200" cy="3169800"/>
          </a:xfrm>
        </p:grpSpPr>
        <p:sp>
          <p:nvSpPr>
            <p:cNvPr id="42" name=""/>
            <p:cNvSpPr/>
            <p:nvPr/>
          </p:nvSpPr>
          <p:spPr>
            <a:xfrm>
              <a:off x="2630520" y="334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630520" y="969840"/>
              <a:ext cx="50472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28680" y="106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4"/>
              <a:endCxn id="43" idx="0"/>
            </p:cNvCxnSpPr>
            <p:nvPr/>
          </p:nvCxnSpPr>
          <p:spPr>
            <a:xfrm>
              <a:off x="2882880" y="538200"/>
              <a:ext cx="360" cy="432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6" name=""/>
            <p:cNvSpPr/>
            <p:nvPr/>
          </p:nvSpPr>
          <p:spPr>
            <a:xfrm>
              <a:off x="3567240" y="39528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" name=""/>
            <p:cNvCxnSpPr>
              <a:stCxn id="48" idx="4"/>
              <a:endCxn id="49" idx="0"/>
            </p:cNvCxnSpPr>
            <p:nvPr/>
          </p:nvCxnSpPr>
          <p:spPr>
            <a:xfrm>
              <a:off x="2882880" y="2337840"/>
              <a:ext cx="360" cy="36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0" name=""/>
            <p:cNvSpPr/>
            <p:nvPr/>
          </p:nvSpPr>
          <p:spPr>
            <a:xfrm>
              <a:off x="4502160" y="969840"/>
              <a:ext cx="50472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3" idx="2"/>
              <a:endCxn id="48" idx="0"/>
            </p:cNvCxnSpPr>
            <p:nvPr/>
          </p:nvCxnSpPr>
          <p:spPr>
            <a:xfrm>
              <a:off x="2882880" y="1474200"/>
              <a:ext cx="360" cy="359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2" name=""/>
            <p:cNvSpPr/>
            <p:nvPr/>
          </p:nvSpPr>
          <p:spPr>
            <a:xfrm>
              <a:off x="4502160" y="334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"/>
            <p:cNvCxnSpPr>
              <a:stCxn id="54" idx="4"/>
              <a:endCxn id="55" idx="0"/>
            </p:cNvCxnSpPr>
            <p:nvPr/>
          </p:nvCxnSpPr>
          <p:spPr>
            <a:xfrm>
              <a:off x="4754520" y="2339640"/>
              <a:ext cx="360" cy="359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6" name=""/>
            <p:cNvSpPr/>
            <p:nvPr/>
          </p:nvSpPr>
          <p:spPr>
            <a:xfrm>
              <a:off x="3568320" y="34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" name=""/>
            <p:cNvCxnSpPr>
              <a:stCxn id="46" idx="6"/>
              <a:endCxn id="50" idx="1"/>
            </p:cNvCxnSpPr>
            <p:nvPr/>
          </p:nvCxnSpPr>
          <p:spPr>
            <a:xfrm>
              <a:off x="4071960" y="647640"/>
              <a:ext cx="430560" cy="574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8" name=""/>
            <p:cNvCxnSpPr>
              <a:stCxn id="50" idx="2"/>
              <a:endCxn id="54" idx="0"/>
            </p:cNvCxnSpPr>
            <p:nvPr/>
          </p:nvCxnSpPr>
          <p:spPr>
            <a:xfrm>
              <a:off x="4754520" y="1474200"/>
              <a:ext cx="360" cy="36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9" name=""/>
            <p:cNvSpPr/>
            <p:nvPr/>
          </p:nvSpPr>
          <p:spPr>
            <a:xfrm>
              <a:off x="2090880" y="390600"/>
              <a:ext cx="542880" cy="2571120"/>
            </a:xfrm>
            <a:custGeom>
              <a:avLst/>
              <a:gdLst/>
              <a:ahLst/>
              <a:rect l="l" t="t" r="r" b="b"/>
              <a:pathLst>
                <a:path w="342" h="1620">
                  <a:moveTo>
                    <a:pt x="323" y="1620"/>
                  </a:moveTo>
                  <a:cubicBezTo>
                    <a:pt x="270" y="1516"/>
                    <a:pt x="0" y="1265"/>
                    <a:pt x="3" y="995"/>
                  </a:cubicBezTo>
                  <a:cubicBezTo>
                    <a:pt x="6" y="725"/>
                    <a:pt x="271" y="207"/>
                    <a:pt x="34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11600" y="611280"/>
              <a:ext cx="144360" cy="14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31600" y="104292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6680" y="104292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3240" y="2770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"/>
            <p:cNvCxnSpPr>
              <a:stCxn id="46" idx="2"/>
              <a:endCxn id="43" idx="3"/>
            </p:cNvCxnSpPr>
            <p:nvPr/>
          </p:nvCxnSpPr>
          <p:spPr>
            <a:xfrm flipH="1">
              <a:off x="3135240" y="647640"/>
              <a:ext cx="432360" cy="574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5" name=""/>
            <p:cNvCxnSpPr>
              <a:stCxn id="52" idx="4"/>
              <a:endCxn id="50" idx="0"/>
            </p:cNvCxnSpPr>
            <p:nvPr/>
          </p:nvCxnSpPr>
          <p:spPr>
            <a:xfrm>
              <a:off x="4754520" y="538200"/>
              <a:ext cx="360" cy="432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6" name=""/>
            <p:cNvSpPr/>
            <p:nvPr/>
          </p:nvSpPr>
          <p:spPr>
            <a:xfrm>
              <a:off x="4576680" y="27702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30520" y="183348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02160" y="183492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30520" y="269856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2160" y="269856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70160" y="106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65040" y="1906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0160" y="1906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967280" y="395280"/>
              <a:ext cx="542880" cy="2571480"/>
            </a:xfrm>
            <a:custGeom>
              <a:avLst/>
              <a:gdLst/>
              <a:ahLst/>
              <a:rect l="l" t="t" r="r" b="b"/>
              <a:pathLst>
                <a:path w="342" h="1620">
                  <a:moveTo>
                    <a:pt x="323" y="1620"/>
                  </a:moveTo>
                  <a:cubicBezTo>
                    <a:pt x="270" y="1516"/>
                    <a:pt x="0" y="1265"/>
                    <a:pt x="3" y="995"/>
                  </a:cubicBezTo>
                  <a:cubicBezTo>
                    <a:pt x="6" y="725"/>
                    <a:pt x="271" y="207"/>
                    <a:pt x="34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55" idx="1"/>
              <a:endCxn id="46" idx="5"/>
            </p:cNvCxnSpPr>
            <p:nvPr/>
          </p:nvCxnSpPr>
          <p:spPr>
            <a:xfrm flipH="1" flipV="1">
              <a:off x="3998160" y="825840"/>
              <a:ext cx="504360" cy="2125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2" name=""/>
            <p:cNvCxnSpPr>
              <a:stCxn id="49" idx="3"/>
              <a:endCxn id="46" idx="3"/>
            </p:cNvCxnSpPr>
            <p:nvPr/>
          </p:nvCxnSpPr>
          <p:spPr>
            <a:xfrm flipV="1">
              <a:off x="3135240" y="825840"/>
              <a:ext cx="506160" cy="2125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3" name=""/>
            <p:cNvSpPr/>
            <p:nvPr/>
          </p:nvSpPr>
          <p:spPr>
            <a:xfrm>
              <a:off x="4719600" y="250920"/>
              <a:ext cx="144360" cy="14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74880" y="177840"/>
              <a:ext cx="144720" cy="14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280" y="108000"/>
              <a:ext cx="203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1 will druck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6720" y="190800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1 druck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16720" y="108000"/>
              <a:ext cx="203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2 will druck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44080" y="190800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2 druck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02:39Z</dcterms:created>
  <dc:creator>kleuker</dc:creator>
  <dc:description/>
  <dc:language>en-US</dc:language>
  <cp:lastModifiedBy>kleuker</cp:lastModifiedBy>
  <dcterms:modified xsi:type="dcterms:W3CDTF">2007-01-11T12:03:38Z</dcterms:modified>
  <cp:revision>1</cp:revision>
  <dc:subject/>
  <dc:title>Folie 1</dc:title>
</cp:coreProperties>
</file>