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699250" cy="55800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E4B1-6499-4006-9F1E-AF484994C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34800" y="223920"/>
            <a:ext cx="6027840" cy="93024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4800" y="1301400"/>
            <a:ext cx="6027840" cy="17568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4920" bIns="349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34800" y="3225600"/>
            <a:ext cx="6027840" cy="17568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4920" bIns="349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98CE-A7DD-417D-974F-9A99773B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34800" y="223920"/>
            <a:ext cx="6027840" cy="93024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4800" y="1301400"/>
            <a:ext cx="2941560" cy="17568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4920" bIns="349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23960" y="1301400"/>
            <a:ext cx="2941560" cy="17568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4920" bIns="349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34800" y="3225600"/>
            <a:ext cx="2941560" cy="17568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4920" bIns="349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23960" y="3225600"/>
            <a:ext cx="2941560" cy="17568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4920" bIns="349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7364-A484-4462-A5E2-F3597829E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34800" y="223920"/>
            <a:ext cx="6027840" cy="93024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34800" y="1301400"/>
            <a:ext cx="1940760" cy="17568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4920" bIns="349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73120" y="1301400"/>
            <a:ext cx="1940760" cy="17568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4920" bIns="349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11080" y="1301400"/>
            <a:ext cx="1940760" cy="17568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4920" bIns="349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34800" y="3225600"/>
            <a:ext cx="1940760" cy="17568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4920" bIns="349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73120" y="3225600"/>
            <a:ext cx="1940760" cy="17568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4920" bIns="349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11080" y="3225600"/>
            <a:ext cx="1940760" cy="17568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4920" bIns="349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8F56-63F5-4728-8D73-648CDE445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34800" y="223920"/>
            <a:ext cx="6027840" cy="93024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34800" y="1301400"/>
            <a:ext cx="6027840" cy="36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ADBA-26F5-4B07-AB60-685AEB59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34800" y="223920"/>
            <a:ext cx="6027840" cy="93024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34800" y="1301400"/>
            <a:ext cx="6027840" cy="368316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4920" bIns="349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F0AC-5B8B-4AB4-9E4F-1C736A8A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34800" y="223920"/>
            <a:ext cx="6027840" cy="93024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34800" y="1301400"/>
            <a:ext cx="2941560" cy="368316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4920" bIns="349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423960" y="1301400"/>
            <a:ext cx="2941560" cy="368316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4920" bIns="349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B45D-B236-4DD5-B63F-08ABA90B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34800" y="223920"/>
            <a:ext cx="6027840" cy="93024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BA1E-62FF-45B0-8BEE-13C6D67D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34800" y="223920"/>
            <a:ext cx="602784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3AF0-BF0F-408A-AA4E-8BF5F289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34800" y="223920"/>
            <a:ext cx="6027840" cy="93024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34800" y="1301400"/>
            <a:ext cx="2941560" cy="17568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4920" bIns="349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423960" y="1301400"/>
            <a:ext cx="2941560" cy="368316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4920" bIns="349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34800" y="3225600"/>
            <a:ext cx="2941560" cy="17568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4920" bIns="349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941A-0BDF-4F6E-9354-ED813233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34800" y="223920"/>
            <a:ext cx="6027840" cy="93024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4800" y="1301400"/>
            <a:ext cx="2941560" cy="368316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4920" bIns="349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423960" y="1301400"/>
            <a:ext cx="2941560" cy="17568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4920" bIns="349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3960" y="3225600"/>
            <a:ext cx="2941560" cy="17568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4920" bIns="349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B405-E6DF-4832-A7AC-C99D4EBC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34800" y="223920"/>
            <a:ext cx="6027840" cy="93024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4800" y="1301400"/>
            <a:ext cx="2941560" cy="17568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4920" bIns="349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3960" y="1301400"/>
            <a:ext cx="2941560" cy="17568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4920" bIns="349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34800" y="3225600"/>
            <a:ext cx="6027840" cy="17568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4920" bIns="349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7B21-F77B-419A-9720-3633AB24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34800" y="223920"/>
            <a:ext cx="6027840" cy="93024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4800" y="1301400"/>
            <a:ext cx="6027840" cy="368316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4920" bIns="34920" anchor="t">
            <a:normAutofit/>
          </a:bodyPr>
          <a:p>
            <a:pPr marL="263520" indent="-2635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188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876240" indent="-174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227240" indent="-1746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1577880" indent="-174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1577880" indent="-174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1577880" indent="-174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34800" y="5081400"/>
            <a:ext cx="1562400" cy="387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4920" bIns="34920" anchor="t">
            <a:noAutofit/>
          </a:bodyPr>
          <a:lstStyle>
            <a:lvl1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7440" y="5081400"/>
            <a:ext cx="2122560" cy="387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4920" bIns="34920" anchor="t">
            <a:noAutofit/>
          </a:bodyPr>
          <a:lstStyle>
            <a:lvl1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800240" y="5081400"/>
            <a:ext cx="1562040" cy="387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4920" bIns="34920" anchor="t">
            <a:noAutofit/>
          </a:bodyPr>
          <a:lstStyle>
            <a:lvl1pPr indent="0" algn="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1EFBC625-F788-4C47-810A-E15EE1F0654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26800" y="357120"/>
            <a:ext cx="435240" cy="510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Palatino Linotyp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58800" y="357120"/>
            <a:ext cx="435240" cy="510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90440" y="357120"/>
            <a:ext cx="435240" cy="510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Palatino Linotyp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22440" y="357120"/>
            <a:ext cx="435240" cy="510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54080" y="357120"/>
            <a:ext cx="435240" cy="510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86080" y="357120"/>
            <a:ext cx="435240" cy="510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17720" y="357120"/>
            <a:ext cx="435240" cy="510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Palatino Linotype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49360" y="357120"/>
            <a:ext cx="435240" cy="510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43280" y="216000"/>
            <a:ext cx="396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05800" y="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05440" y="40644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f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3160" y="357120"/>
            <a:ext cx="4093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0040" y="72072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TL-Form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7760" y="158328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1000" y="215964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56440" y="10069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6720" y="2851560"/>
            <a:ext cx="6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Gatineau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0160" y="4752000"/>
            <a:ext cx="9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Gatineau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Gatineau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0160" y="3599280"/>
            <a:ext cx="9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Gatineau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Gatineau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4000" y="511164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chwa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" y="398628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tark, SP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16000" y="103500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48000" y="103500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79640" y="103500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1640" y="103500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43280" y="103500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75280" y="103500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06920" y="103500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38560" y="1035000"/>
            <a:ext cx="44640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72000" y="1035000"/>
            <a:ext cx="44136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16000" y="161280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48000" y="161280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79640" y="161280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11640" y="161280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43280" y="161280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75280" y="161280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06920" y="161280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38560" y="1612800"/>
            <a:ext cx="44640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72000" y="1612800"/>
            <a:ext cx="44136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16000" y="218916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48000" y="218916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79640" y="218916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11640" y="218916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43280" y="218916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75280" y="218916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06920" y="218916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38560" y="2189160"/>
            <a:ext cx="44640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72000" y="2189160"/>
            <a:ext cx="44136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97800" y="47959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16000" y="280836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48000" y="280836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79640" y="280836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11640" y="280836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43280" y="280836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75280" y="280836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06920" y="280836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38560" y="2808360"/>
            <a:ext cx="44640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72000" y="2808360"/>
            <a:ext cx="44136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16000" y="345600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48000" y="345600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79640" y="345600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11640" y="345600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43280" y="345600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75280" y="345600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06920" y="345600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38560" y="3456000"/>
            <a:ext cx="44640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72000" y="3456000"/>
            <a:ext cx="44136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17800" y="393228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49440" y="393228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81440" y="393228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13080" y="393228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45080" y="393228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76720" y="393228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08360" y="3932280"/>
            <a:ext cx="44640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40360" y="393228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73800" y="3932280"/>
            <a:ext cx="44136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16000" y="456408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48000" y="456408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79640" y="456408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11640" y="456408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43280" y="456408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75280" y="456408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06920" y="456408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38560" y="4564080"/>
            <a:ext cx="44640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72000" y="4564080"/>
            <a:ext cx="44136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17800" y="504036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49440" y="504036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81440" y="504036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13080" y="504036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45080" y="504036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76720" y="504036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08360" y="5040360"/>
            <a:ext cx="44640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40360" y="5040360"/>
            <a:ext cx="44604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73800" y="5040360"/>
            <a:ext cx="441360" cy="47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08:46:05Z</dcterms:created>
  <dc:creator>x</dc:creator>
  <dc:description/>
  <dc:language>en-US</dc:language>
  <cp:lastModifiedBy>x</cp:lastModifiedBy>
  <dcterms:modified xsi:type="dcterms:W3CDTF">2009-02-17T17:21:51Z</dcterms:modified>
  <cp:revision>5</cp:revision>
  <dc:subject/>
  <dc:title>Folie 1</dc:title>
</cp:coreProperties>
</file>