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64500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37E-704D-4D87-9A4D-97975459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72579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2840" y="2705040"/>
            <a:ext cx="72579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17F-1295-42EC-84AF-CE08AE53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200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2840" y="270504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2000" y="270504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180-093F-414D-A8ED-72008F20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960" y="109188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720" y="109188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2840" y="270504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960" y="270504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0720" y="2705040"/>
            <a:ext cx="23367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8EA-899C-4CA1-AA39-D87A98BF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2840" y="1091880"/>
            <a:ext cx="72579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A12-7AFB-4493-BBFC-2F57633E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725796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217-645F-45F9-A26F-90AA5035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354168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2000" y="1091880"/>
            <a:ext cx="354168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C04-417C-40B9-8821-2737E87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EF7-408E-4139-9C7A-7774B1B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187200"/>
            <a:ext cx="725796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948-8108-4C84-A21A-5E327DAC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2000" y="1091880"/>
            <a:ext cx="354168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2840" y="270504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708-6D3D-4810-BC63-7778BFE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354168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200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2000" y="270504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F49-10A6-4527-A38F-B0825EE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284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2000" y="1091880"/>
            <a:ext cx="354168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2840" y="2705040"/>
            <a:ext cx="7257960" cy="1472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90C-FCD7-4F4C-8424-EC47086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187200"/>
            <a:ext cx="7257960" cy="779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2840" y="1091880"/>
            <a:ext cx="7257960" cy="308772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19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73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23640" indent="-174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72480" indent="-174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72480" indent="-174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72480" indent="-174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200" y="4262400"/>
            <a:ext cx="1881360" cy="32400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Autofit/>
          </a:bodyPr>
          <a:lstStyle>
            <a:lvl1pPr indent="0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5440" y="4262400"/>
            <a:ext cx="2552760" cy="32400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Autofit/>
          </a:bodyPr>
          <a:lstStyle>
            <a:lvl1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9800" y="4262400"/>
            <a:ext cx="1881000" cy="32400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Autofit/>
          </a:bodyPr>
          <a:lstStyle>
            <a:lvl1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fld id="{C842F22E-D668-4C5A-A130-EC871F43CE8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92640" y="1654200"/>
            <a:ext cx="2438280" cy="838080"/>
          </a:xfrm>
          <a:prstGeom prst="cloudCallout">
            <a:avLst>
              <a:gd name="adj1" fmla="val 83268"/>
              <a:gd name="adj2" fmla="val -207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id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1044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5120" y="206280"/>
            <a:ext cx="1981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96800" y="89208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äz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2880" y="96840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ulässi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15920" y="2949480"/>
            <a:ext cx="167652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5120" y="4016520"/>
            <a:ext cx="167652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5920" y="4016520"/>
            <a:ext cx="167652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7680" y="203508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hlerha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sierung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9200" y="2720880"/>
            <a:ext cx="17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ass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24600" y="355932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starke Vereinfa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05200" y="256860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54360" y="34066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1440" y="2416320"/>
            <a:ext cx="6094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3240" y="2720880"/>
            <a:ext cx="17460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0" y="34066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88760" y="43354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92080" y="4092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92640" y="3940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11200" y="2416320"/>
            <a:ext cx="2895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064040" y="2978280"/>
            <a:ext cx="380880" cy="199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92080" y="2263680"/>
            <a:ext cx="1676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25960" y="2340000"/>
            <a:ext cx="457200" cy="18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92440" y="432108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8960" y="54000"/>
            <a:ext cx="2057400" cy="990720"/>
          </a:xfrm>
          <a:prstGeom prst="cloudCallout">
            <a:avLst>
              <a:gd name="adj1" fmla="val -209027"/>
              <a:gd name="adj2" fmla="val 2243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gaben-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3640" y="282600"/>
            <a:ext cx="3276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47680" y="130320"/>
            <a:ext cx="3124440" cy="990360"/>
            <a:chOff x="247680" y="130320"/>
            <a:chExt cx="3124440" cy="990360"/>
          </a:xfrm>
        </p:grpSpPr>
        <p:sp>
          <p:nvSpPr>
            <p:cNvPr id="68" name=""/>
            <p:cNvSpPr/>
            <p:nvPr/>
          </p:nvSpPr>
          <p:spPr>
            <a:xfrm>
              <a:off x="323640" y="3585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3640" y="6206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6600" y="171360"/>
              <a:ext cx="258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öglicher Arbeitsw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tenzielle Fehlerqu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gesicherter W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89208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7680" y="130320"/>
              <a:ext cx="312408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740560" y="1120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07040" y="1120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leuker</cp:lastModifiedBy>
  <dcterms:modified xsi:type="dcterms:W3CDTF">2006-03-02T14:14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