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168650" cy="1044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4D-2986-4C7D-B287-94DC3F98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28512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760" y="604440"/>
            <a:ext cx="28512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F42-5B84-4E42-AB0B-95A0D35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1964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760" y="60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19640" y="60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B85-E82E-4344-9781-A630880B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23200" y="24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87280" y="24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760" y="60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23200" y="60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87280" y="604440"/>
            <a:ext cx="9180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16F-033C-45F0-8247-ACCE8A36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760" y="244440"/>
            <a:ext cx="28512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EC4-33E0-4539-87C0-7889FBA1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285120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2D5-824E-465A-8AD5-44EE0717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139104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19640" y="244440"/>
            <a:ext cx="139104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AEE-4842-4974-A0B4-AA5F469A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837-1CAC-445F-BF16-681B2422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760" y="41040"/>
            <a:ext cx="2851200" cy="8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FE7-9D6B-4BA7-9D6C-1D8A754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19640" y="244440"/>
            <a:ext cx="139104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760" y="60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F74-965A-4E2C-AC72-F92316A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139104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1964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19640" y="60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32A-E169-42FD-A359-E6819CC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760" y="25200"/>
            <a:ext cx="2851200" cy="2066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76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19640" y="244440"/>
            <a:ext cx="139104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760" y="604440"/>
            <a:ext cx="2851200" cy="32832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97A-D273-4F97-AE7E-D1C2A2C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41040"/>
            <a:ext cx="2851200" cy="17460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ctr">
            <a:noAutofit/>
          </a:bodyPr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8760" y="244440"/>
            <a:ext cx="2851200" cy="68904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rmAutofit fontScale="66000"/>
          </a:bodyPr>
          <a:p>
            <a:pPr marL="59400" indent="-59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8520" indent="-489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99080" indent="-39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277560" indent="-39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357120" indent="-39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357120" indent="-39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357120" indent="-39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8400" y="950400"/>
            <a:ext cx="739800" cy="730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2160" y="950400"/>
            <a:ext cx="1003320" cy="730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69800" y="950400"/>
            <a:ext cx="739800" cy="73080"/>
          </a:xfrm>
          <a:prstGeom prst="rect">
            <a:avLst/>
          </a:prstGeom>
          <a:noFill/>
          <a:ln w="0">
            <a:noFill/>
          </a:ln>
        </p:spPr>
        <p:txBody>
          <a:bodyPr lIns="24120" rIns="24120" tIns="11880" bIns="11880" anchor="t">
            <a:noAutofit/>
          </a:bodyPr>
          <a:lstStyle>
            <a:lvl1pPr indent="0" algn="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fld id="{1B7E229E-3C3E-44F3-A9B6-0B0C163C8764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0"/>
            <a:ext cx="3116520" cy="952200"/>
            <a:chOff x="36360" y="0"/>
            <a:chExt cx="3116520" cy="952200"/>
          </a:xfrm>
        </p:grpSpPr>
        <p:sp>
          <p:nvSpPr>
            <p:cNvPr id="42" name=""/>
            <p:cNvSpPr/>
            <p:nvPr/>
          </p:nvSpPr>
          <p:spPr>
            <a:xfrm>
              <a:off x="36360" y="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20800" y="6494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45320" y="35568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73160" y="4716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2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73880" y="57960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42200" y="7016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30520" y="1825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2200" y="1825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i+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5880" y="655560"/>
              <a:ext cx="17136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15880" y="655560"/>
              <a:ext cx="171360" cy="1713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9000" y="42372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9000" y="42372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840" y="423720"/>
              <a:ext cx="1728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840" y="423720"/>
              <a:ext cx="1728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720" y="453960"/>
              <a:ext cx="11448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5880" y="13644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15880" y="13644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7320" y="423720"/>
              <a:ext cx="17136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7320" y="423720"/>
              <a:ext cx="17136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03440" y="423720"/>
              <a:ext cx="17280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03440" y="423720"/>
              <a:ext cx="17280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32080" y="25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4680" y="528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1960" y="312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1720" y="312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40" y="312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3280" y="52848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=4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3280" y="636480"/>
              <a:ext cx="1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19120" y="30168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5760" y="58572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80" y="6364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=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5880" y="83016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7440" y="58572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&lt;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7840" y="312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957240" y="262080"/>
              <a:ext cx="460080" cy="20952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7480" y="262080"/>
              <a:ext cx="69840" cy="45720"/>
            </a:xfrm>
            <a:custGeom>
              <a:avLst/>
              <a:gdLst/>
              <a:ahLst/>
              <a:rect l="l" t="t" r="r" b="b"/>
              <a:pathLst>
                <a:path w="197" h="127">
                  <a:moveTo>
                    <a:pt x="42" y="127"/>
                  </a:moveTo>
                  <a:lnTo>
                    <a:pt x="197" y="0"/>
                  </a:lnTo>
                  <a:lnTo>
                    <a:pt x="0" y="3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84000" y="264960"/>
              <a:ext cx="406440" cy="2034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0600" y="420840"/>
              <a:ext cx="69840" cy="47520"/>
            </a:xfrm>
            <a:custGeom>
              <a:avLst/>
              <a:gdLst/>
              <a:ahLst/>
              <a:rect l="l" t="t" r="r" b="b"/>
              <a:pathLst>
                <a:path w="196" h="132">
                  <a:moveTo>
                    <a:pt x="0" y="92"/>
                  </a:moveTo>
                  <a:lnTo>
                    <a:pt x="196" y="132"/>
                  </a:lnTo>
                  <a:lnTo>
                    <a:pt x="4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2120" y="511200"/>
              <a:ext cx="55728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9560" y="492120"/>
              <a:ext cx="6984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68280" y="511200"/>
              <a:ext cx="32868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7120" y="492120"/>
              <a:ext cx="69840" cy="363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2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3640" y="352440"/>
              <a:ext cx="154080" cy="317520"/>
            </a:xfrm>
            <a:custGeom>
              <a:avLst/>
              <a:gdLst/>
              <a:ahLst/>
              <a:rect l="l" t="t" r="r" b="b"/>
              <a:pathLst>
                <a:path w="433" h="880">
                  <a:moveTo>
                    <a:pt x="0" y="283"/>
                  </a:moveTo>
                  <a:lnTo>
                    <a:pt x="273" y="80"/>
                  </a:lnTo>
                  <a:cubicBezTo>
                    <a:pt x="379" y="0"/>
                    <a:pt x="433" y="26"/>
                    <a:pt x="433" y="160"/>
                  </a:cubicBezTo>
                  <a:lnTo>
                    <a:pt x="433" y="720"/>
                  </a:lnTo>
                  <a:cubicBezTo>
                    <a:pt x="433" y="853"/>
                    <a:pt x="379" y="880"/>
                    <a:pt x="273" y="800"/>
                  </a:cubicBezTo>
                  <a:lnTo>
                    <a:pt x="0" y="59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3640" y="566640"/>
              <a:ext cx="66600" cy="57240"/>
            </a:xfrm>
            <a:custGeom>
              <a:avLst/>
              <a:gdLst/>
              <a:ahLst/>
              <a:rect l="l" t="t" r="r" b="b"/>
              <a:pathLst>
                <a:path w="186" h="157">
                  <a:moveTo>
                    <a:pt x="186" y="74"/>
                  </a:moveTo>
                  <a:lnTo>
                    <a:pt x="0" y="0"/>
                  </a:lnTo>
                  <a:lnTo>
                    <a:pt x="124" y="157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60120" y="542880"/>
              <a:ext cx="454320" cy="16668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4600" y="668160"/>
              <a:ext cx="69840" cy="41400"/>
            </a:xfrm>
            <a:custGeom>
              <a:avLst/>
              <a:gdLst/>
              <a:ahLst/>
              <a:rect l="l" t="t" r="r" b="b"/>
              <a:pathLst>
                <a:path w="199" h="115">
                  <a:moveTo>
                    <a:pt x="0" y="97"/>
                  </a:moveTo>
                  <a:lnTo>
                    <a:pt x="199" y="115"/>
                  </a:lnTo>
                  <a:lnTo>
                    <a:pt x="35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587240" y="545760"/>
              <a:ext cx="401760" cy="1602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17720" y="546120"/>
              <a:ext cx="71280" cy="42840"/>
            </a:xfrm>
            <a:custGeom>
              <a:avLst/>
              <a:gdLst/>
              <a:ahLst/>
              <a:rect l="l" t="t" r="r" b="b"/>
              <a:pathLst>
                <a:path w="198" h="120">
                  <a:moveTo>
                    <a:pt x="38" y="120"/>
                  </a:moveTo>
                  <a:lnTo>
                    <a:pt x="198" y="0"/>
                  </a:lnTo>
                  <a:lnTo>
                    <a:pt x="0" y="2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6:24:01Z</dcterms:created>
  <dc:creator>x</dc:creator>
  <dc:description/>
  <dc:language>en-US</dc:language>
  <cp:lastModifiedBy>x</cp:lastModifiedBy>
  <dcterms:modified xsi:type="dcterms:W3CDTF">2009-06-27T16:24:32Z</dcterms:modified>
  <cp:revision>1</cp:revision>
  <dc:subject/>
  <dc:title>Folie 1</dc:title>
</cp:coreProperties>
</file>