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35263" cy="1403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4BE-9408-4910-B08A-B770E13B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24638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440" y="811440"/>
            <a:ext cx="24638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2CB-A118-4204-BAFD-59B0F95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98960" y="32688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440" y="81144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98960" y="81144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549-D952-44F7-B9DC-C4CFD93D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79308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9480" y="326880"/>
            <a:ext cx="79308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2520" y="326880"/>
            <a:ext cx="79308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440" y="811440"/>
            <a:ext cx="79308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9480" y="811440"/>
            <a:ext cx="79308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2520" y="811440"/>
            <a:ext cx="79308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E57-7DDD-4C4A-90E1-ECBFAD98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440" y="326880"/>
            <a:ext cx="2463840" cy="9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6B7-C165-408D-846D-78FAF2F8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2463840" cy="92736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4B4-F6C1-4ED3-B272-798B6829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1202040" cy="92736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98960" y="326880"/>
            <a:ext cx="1202040" cy="92736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226-BE1B-4874-90FB-B6766589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0AB-4EF1-4B23-9FAB-25AE7EB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440" y="55080"/>
            <a:ext cx="2463840" cy="10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009-CCF7-4205-920F-3E4137E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98960" y="326880"/>
            <a:ext cx="1202040" cy="92736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440" y="81144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8E4-3A4D-4A33-B2BA-669CD323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1202040" cy="92736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98960" y="32688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98960" y="81144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05B-A569-4685-989A-38D7CD55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440" y="32688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98960" y="326880"/>
            <a:ext cx="12020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440" y="811440"/>
            <a:ext cx="2463840" cy="442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4CE-0CA5-45E5-8BCF-F6255011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440" y="55080"/>
            <a:ext cx="2463840" cy="23508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440" y="326880"/>
            <a:ext cx="2463840" cy="92736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rmAutofit fontScale="89000"/>
          </a:bodyPr>
          <a:p>
            <a:pPr marL="78840" indent="-78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71000" indent="-648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62440" indent="-5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368640" indent="-522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473040" indent="-522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473040" indent="-522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473040" indent="-522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6080" y="1277640"/>
            <a:ext cx="638280" cy="9684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Autofit/>
          </a:bodyPr>
          <a:lstStyle>
            <a:lvl1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4920" y="1277640"/>
            <a:ext cx="866880" cy="9684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Autofit/>
          </a:bodyPr>
          <a:lstStyle>
            <a:lvl1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1640" y="1277640"/>
            <a:ext cx="638280" cy="96840"/>
          </a:xfrm>
          <a:prstGeom prst="rect">
            <a:avLst/>
          </a:prstGeom>
          <a:noFill/>
          <a:ln w="0">
            <a:noFill/>
          </a:ln>
        </p:spPr>
        <p:txBody>
          <a:bodyPr lIns="23760" rIns="23760" tIns="11880" bIns="11880" anchor="t">
            <a:noAutofit/>
          </a:bodyPr>
          <a:lstStyle>
            <a:lvl1pPr indent="0" algn="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fld id="{A07904C1-BEE9-4619-B905-B3CF4AACD269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93520" cy="1355400"/>
            <a:chOff x="0" y="0"/>
            <a:chExt cx="2693520" cy="1355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25160" y="1233360"/>
              <a:ext cx="22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lt;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97680" y="88740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4720" y="1951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lt;=10 &amp;&amp; i==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94720" y="42696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=17 &amp;&amp; i&gt;=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82600" y="785880"/>
              <a:ext cx="17136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82600" y="785880"/>
              <a:ext cx="17136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920" y="54144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6880" y="785880"/>
              <a:ext cx="17172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6880" y="785880"/>
              <a:ext cx="17172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680" y="814320"/>
              <a:ext cx="114120" cy="11448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4920" y="23760"/>
              <a:ext cx="1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79600" y="785880"/>
              <a:ext cx="17136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79600" y="785880"/>
              <a:ext cx="17136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1760" y="8301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80120" y="8301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6120" y="771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23320" y="7142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lt;=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7320" y="71424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=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7680" y="36828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&gt;=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400" y="88740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4160" y="9446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7720" y="938160"/>
              <a:ext cx="1922760" cy="279360"/>
            </a:xfrm>
            <a:custGeom>
              <a:avLst/>
              <a:gdLst/>
              <a:ahLst/>
              <a:rect l="l" t="t" r="r" b="b"/>
              <a:pathLst>
                <a:path w="5393" h="777">
                  <a:moveTo>
                    <a:pt x="5393" y="0"/>
                  </a:moveTo>
                  <a:lnTo>
                    <a:pt x="4758" y="635"/>
                  </a:lnTo>
                  <a:cubicBezTo>
                    <a:pt x="4664" y="729"/>
                    <a:pt x="4550" y="777"/>
                    <a:pt x="4417" y="777"/>
                  </a:cubicBezTo>
                  <a:lnTo>
                    <a:pt x="977" y="777"/>
                  </a:lnTo>
                  <a:cubicBezTo>
                    <a:pt x="843" y="777"/>
                    <a:pt x="729" y="729"/>
                    <a:pt x="635" y="635"/>
                  </a:cubicBez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7720" y="938160"/>
              <a:ext cx="61920" cy="6192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4" y="100"/>
                  </a:moveTo>
                  <a:lnTo>
                    <a:pt x="0" y="0"/>
                  </a:lnTo>
                  <a:lnTo>
                    <a:pt x="100" y="174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6520" y="871560"/>
              <a:ext cx="66996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6640" y="852480"/>
              <a:ext cx="6984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5120" y="525600"/>
              <a:ext cx="750960" cy="268200"/>
            </a:xfrm>
            <a:custGeom>
              <a:avLst/>
              <a:gdLst/>
              <a:ahLst/>
              <a:rect l="l" t="t" r="r" b="b"/>
              <a:pathLst>
                <a:path w="2111" h="743">
                  <a:moveTo>
                    <a:pt x="0" y="743"/>
                  </a:moveTo>
                  <a:lnTo>
                    <a:pt x="385" y="166"/>
                  </a:lnTo>
                  <a:cubicBezTo>
                    <a:pt x="459" y="55"/>
                    <a:pt x="562" y="0"/>
                    <a:pt x="696" y="0"/>
                  </a:cubicBezTo>
                  <a:lnTo>
                    <a:pt x="1416" y="0"/>
                  </a:lnTo>
                  <a:cubicBezTo>
                    <a:pt x="1549" y="0"/>
                    <a:pt x="1652" y="55"/>
                    <a:pt x="1726" y="166"/>
                  </a:cubicBezTo>
                  <a:lnTo>
                    <a:pt x="2111" y="74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63520" y="725400"/>
              <a:ext cx="52560" cy="68400"/>
            </a:xfrm>
            <a:custGeom>
              <a:avLst/>
              <a:gdLst/>
              <a:ahLst/>
              <a:rect l="l" t="t" r="r" b="b"/>
              <a:pathLst>
                <a:path w="150" h="189">
                  <a:moveTo>
                    <a:pt x="0" y="57"/>
                  </a:moveTo>
                  <a:lnTo>
                    <a:pt x="150" y="189"/>
                  </a:lnTo>
                  <a:lnTo>
                    <a:pt x="8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8760" y="179280"/>
              <a:ext cx="823680" cy="600120"/>
            </a:xfrm>
            <a:custGeom>
              <a:avLst/>
              <a:gdLst/>
              <a:ahLst/>
              <a:rect l="l" t="t" r="r" b="b"/>
              <a:pathLst>
                <a:path w="2315" h="1663">
                  <a:moveTo>
                    <a:pt x="0" y="1663"/>
                  </a:moveTo>
                  <a:lnTo>
                    <a:pt x="245" y="197"/>
                  </a:lnTo>
                  <a:cubicBezTo>
                    <a:pt x="267" y="65"/>
                    <a:pt x="344" y="0"/>
                    <a:pt x="478" y="0"/>
                  </a:cubicBezTo>
                  <a:lnTo>
                    <a:pt x="1838" y="0"/>
                  </a:lnTo>
                  <a:cubicBezTo>
                    <a:pt x="1971" y="0"/>
                    <a:pt x="2048" y="65"/>
                    <a:pt x="2070" y="197"/>
                  </a:cubicBezTo>
                  <a:lnTo>
                    <a:pt x="2315" y="166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708120"/>
              <a:ext cx="36360" cy="71280"/>
            </a:xfrm>
            <a:custGeom>
              <a:avLst/>
              <a:gdLst/>
              <a:ahLst/>
              <a:rect l="l" t="t" r="r" b="b"/>
              <a:pathLst>
                <a:path w="102" h="199">
                  <a:moveTo>
                    <a:pt x="0" y="17"/>
                  </a:moveTo>
                  <a:lnTo>
                    <a:pt x="83" y="199"/>
                  </a:lnTo>
                  <a:lnTo>
                    <a:pt x="102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7080" y="352440"/>
              <a:ext cx="1123920" cy="436680"/>
            </a:xfrm>
            <a:custGeom>
              <a:avLst/>
              <a:gdLst/>
              <a:ahLst/>
              <a:rect l="l" t="t" r="r" b="b"/>
              <a:pathLst>
                <a:path w="3151" h="1212">
                  <a:moveTo>
                    <a:pt x="0" y="1193"/>
                  </a:moveTo>
                  <a:lnTo>
                    <a:pt x="334" y="189"/>
                  </a:lnTo>
                  <a:cubicBezTo>
                    <a:pt x="376" y="63"/>
                    <a:pt x="464" y="0"/>
                    <a:pt x="598" y="0"/>
                  </a:cubicBezTo>
                  <a:lnTo>
                    <a:pt x="2278" y="0"/>
                  </a:lnTo>
                  <a:cubicBezTo>
                    <a:pt x="2411" y="0"/>
                    <a:pt x="2510" y="58"/>
                    <a:pt x="2575" y="174"/>
                  </a:cubicBezTo>
                  <a:lnTo>
                    <a:pt x="3151" y="1212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70240" y="719280"/>
              <a:ext cx="50760" cy="69840"/>
            </a:xfrm>
            <a:custGeom>
              <a:avLst/>
              <a:gdLst/>
              <a:ahLst/>
              <a:rect l="l" t="t" r="r" b="b"/>
              <a:pathLst>
                <a:path w="139" h="194">
                  <a:moveTo>
                    <a:pt x="0" y="50"/>
                  </a:moveTo>
                  <a:lnTo>
                    <a:pt x="139" y="194"/>
                  </a:lnTo>
                  <a:lnTo>
                    <a:pt x="91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60440" y="871560"/>
              <a:ext cx="101304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03640" y="852480"/>
              <a:ext cx="6984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6160" y="584280"/>
              <a:ext cx="1077840" cy="226800"/>
            </a:xfrm>
            <a:custGeom>
              <a:avLst/>
              <a:gdLst/>
              <a:ahLst/>
              <a:rect l="l" t="t" r="r" b="b"/>
              <a:pathLst>
                <a:path w="3027" h="633">
                  <a:moveTo>
                    <a:pt x="0" y="577"/>
                  </a:moveTo>
                  <a:lnTo>
                    <a:pt x="244" y="171"/>
                  </a:lnTo>
                  <a:cubicBezTo>
                    <a:pt x="312" y="57"/>
                    <a:pt x="413" y="0"/>
                    <a:pt x="547" y="0"/>
                  </a:cubicBezTo>
                  <a:lnTo>
                    <a:pt x="2067" y="0"/>
                  </a:lnTo>
                  <a:cubicBezTo>
                    <a:pt x="2200" y="0"/>
                    <a:pt x="2318" y="42"/>
                    <a:pt x="2420" y="128"/>
                  </a:cubicBezTo>
                  <a:lnTo>
                    <a:pt x="3027" y="63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8840" y="752400"/>
              <a:ext cx="65160" cy="586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0" y="79"/>
                  </a:moveTo>
                  <a:lnTo>
                    <a:pt x="182" y="163"/>
                  </a:lnTo>
                  <a:lnTo>
                    <a:pt x="6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54:48Z</dcterms:created>
  <dc:creator>x</dc:creator>
  <dc:description/>
  <dc:language>en-US</dc:language>
  <cp:lastModifiedBy>x</cp:lastModifiedBy>
  <dcterms:modified xsi:type="dcterms:W3CDTF">2009-06-27T16:55:14Z</dcterms:modified>
  <cp:revision>1</cp:revision>
  <dc:subject/>
  <dc:title>Folie 1</dc:title>
</cp:coreProperties>
</file>