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2038" cy="1079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5147-C13B-4478-ACE6-7CDBDBB0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2200" y="-61920"/>
            <a:ext cx="957240" cy="38988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ctr">
            <a:noAutofit/>
          </a:bodyPr>
          <a:p>
            <a:pPr indent="0" algn="ctr">
              <a:buNone/>
              <a:tabLst>
                <a:tab algn="l" pos="0"/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2200" y="252360"/>
            <a:ext cx="957240" cy="33912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200" y="624240"/>
            <a:ext cx="957240" cy="33912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FD51-F8DF-4874-9261-17DCA7BC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2200" y="-61920"/>
            <a:ext cx="957240" cy="38988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ctr">
            <a:noAutofit/>
          </a:bodyPr>
          <a:p>
            <a:pPr indent="0" algn="ctr">
              <a:buNone/>
              <a:tabLst>
                <a:tab algn="l" pos="0"/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2200" y="252360"/>
            <a:ext cx="466920" cy="33912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 fontScale="77000"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880" y="252360"/>
            <a:ext cx="466920" cy="33912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 fontScale="77000"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200" y="624240"/>
            <a:ext cx="466920" cy="33912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 fontScale="77000"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880" y="624240"/>
            <a:ext cx="466920" cy="33912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 fontScale="77000"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C421-F961-41CA-A1D0-54032EF6F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2200" y="-61920"/>
            <a:ext cx="957240" cy="38988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ctr">
            <a:noAutofit/>
          </a:bodyPr>
          <a:p>
            <a:pPr indent="0" algn="ctr">
              <a:buNone/>
              <a:tabLst>
                <a:tab algn="l" pos="0"/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2200" y="252360"/>
            <a:ext cx="308160" cy="33912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 fontScale="62000"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6200" y="252360"/>
            <a:ext cx="308160" cy="33912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 fontScale="62000"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0200" y="252360"/>
            <a:ext cx="308160" cy="33912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 fontScale="62000"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200" y="624240"/>
            <a:ext cx="308160" cy="33912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 fontScale="62000"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6200" y="624240"/>
            <a:ext cx="308160" cy="33912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 fontScale="62000"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0200" y="624240"/>
            <a:ext cx="308160" cy="33912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 fontScale="62000"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33C9-E973-4C3A-B024-B8F9E9D5E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2200" y="-61920"/>
            <a:ext cx="957240" cy="38988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ctr">
            <a:noAutofit/>
          </a:bodyPr>
          <a:p>
            <a:pPr indent="0" algn="ctr">
              <a:buNone/>
              <a:tabLst>
                <a:tab algn="l" pos="0"/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2200" y="252360"/>
            <a:ext cx="95724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E035-E3AD-448D-BE07-A014DC94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2200" y="-61920"/>
            <a:ext cx="957240" cy="38988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ctr">
            <a:noAutofit/>
          </a:bodyPr>
          <a:p>
            <a:pPr indent="0" algn="ctr">
              <a:buNone/>
              <a:tabLst>
                <a:tab algn="l" pos="0"/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2200" y="252360"/>
            <a:ext cx="957240" cy="71136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109F-AE58-4539-BEC5-C42F8D6F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200" y="-61920"/>
            <a:ext cx="957240" cy="38988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ctr">
            <a:noAutofit/>
          </a:bodyPr>
          <a:p>
            <a:pPr indent="0" algn="ctr">
              <a:buNone/>
              <a:tabLst>
                <a:tab algn="l" pos="0"/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2200" y="252360"/>
            <a:ext cx="466920" cy="71136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880" y="252360"/>
            <a:ext cx="466920" cy="71136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C4A2-106A-40EF-8316-7314CBFB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2200" y="-61920"/>
            <a:ext cx="957240" cy="38988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ctr">
            <a:noAutofit/>
          </a:bodyPr>
          <a:p>
            <a:pPr indent="0" algn="ctr">
              <a:buNone/>
              <a:tabLst>
                <a:tab algn="l" pos="0"/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EBDB-0D3F-4306-A7F4-B8FA126E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2200" y="42480"/>
            <a:ext cx="957240" cy="8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A7C3-5743-48F7-B7EE-1263CAE9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2200" y="-61920"/>
            <a:ext cx="957240" cy="38988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ctr">
            <a:noAutofit/>
          </a:bodyPr>
          <a:p>
            <a:pPr indent="0" algn="ctr">
              <a:buNone/>
              <a:tabLst>
                <a:tab algn="l" pos="0"/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2200" y="252360"/>
            <a:ext cx="466920" cy="33912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 fontScale="77000"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880" y="252360"/>
            <a:ext cx="466920" cy="71136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2200" y="624240"/>
            <a:ext cx="466920" cy="33912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 fontScale="77000"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9E84-329F-4C0A-AE37-64416359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2200" y="-61920"/>
            <a:ext cx="957240" cy="38988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ctr">
            <a:noAutofit/>
          </a:bodyPr>
          <a:p>
            <a:pPr indent="0" algn="ctr">
              <a:buNone/>
              <a:tabLst>
                <a:tab algn="l" pos="0"/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2200" y="252360"/>
            <a:ext cx="466920" cy="71136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880" y="252360"/>
            <a:ext cx="466920" cy="33912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 fontScale="77000"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880" y="624240"/>
            <a:ext cx="466920" cy="33912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 fontScale="77000"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FFE9-0446-4061-AAA0-8D7CE046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2200" y="-61920"/>
            <a:ext cx="957240" cy="38988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ctr">
            <a:noAutofit/>
          </a:bodyPr>
          <a:p>
            <a:pPr indent="0" algn="ctr">
              <a:buNone/>
              <a:tabLst>
                <a:tab algn="l" pos="0"/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2200" y="252360"/>
            <a:ext cx="466920" cy="33912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 fontScale="77000"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880" y="252360"/>
            <a:ext cx="466920" cy="33912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 fontScale="77000"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200" y="624240"/>
            <a:ext cx="957240" cy="33912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6EF4-6608-4332-96B5-DE1B1B90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200" y="42480"/>
            <a:ext cx="957240" cy="18108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ctr">
            <a:noAutofit/>
          </a:bodyPr>
          <a:p>
            <a:pPr indent="0" algn="ctr">
              <a:buNone/>
              <a:tabLst>
                <a:tab algn="l" pos="0"/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2200" y="252360"/>
            <a:ext cx="957240" cy="71136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 fontScale="53000"/>
          </a:bodyPr>
          <a:p>
            <a:pPr marL="48600" indent="-4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05120" indent="-3996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62360" indent="-3276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227160" indent="-3276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4" marL="291600" indent="-32760">
              <a:spcBef>
                <a:spcPts val="224"/>
              </a:spcBef>
              <a:buClr>
                <a:srgbClr val="000000"/>
              </a:buClr>
              <a:buFont typeface="Arial"/>
              <a:buChar char="»"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5" marL="291600" indent="-32760">
              <a:spcBef>
                <a:spcPts val="224"/>
              </a:spcBef>
              <a:buClr>
                <a:srgbClr val="000000"/>
              </a:buClr>
              <a:buFont typeface="Arial"/>
              <a:buChar char="»"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6" marL="291600" indent="-32760">
              <a:spcBef>
                <a:spcPts val="224"/>
              </a:spcBef>
              <a:buClr>
                <a:srgbClr val="000000"/>
              </a:buClr>
              <a:buFont typeface="Arial"/>
              <a:buChar char="»"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2560" y="982440"/>
            <a:ext cx="249120" cy="7452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Autofit/>
          </a:bodyPr>
          <a:lstStyle>
            <a:lvl1pPr indent="0">
              <a:buNone/>
              <a:tabLst>
                <a:tab algn="l" pos="0"/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  <a:defRPr b="0" lang="en-US" sz="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1800" y="982440"/>
            <a:ext cx="338400" cy="7452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Autofit/>
          </a:bodyPr>
          <a:lstStyle>
            <a:lvl1pPr indent="0" algn="ctr">
              <a:buNone/>
              <a:tabLst>
                <a:tab algn="l" pos="0"/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  <a:defRPr b="0" lang="en-US" sz="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9960" y="982440"/>
            <a:ext cx="249480" cy="7452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Autofit/>
          </a:bodyPr>
          <a:lstStyle>
            <a:lvl1pPr indent="0" algn="r">
              <a:buNone/>
              <a:tabLst>
                <a:tab algn="l" pos="0"/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  <a:defRPr b="0" lang="en-US" sz="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fld id="{A4A931BC-8068-428D-81EE-CF70A95B6097}" type="slidenum">
              <a:rPr b="0" lang="en-US" sz="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1320" y="0"/>
            <a:ext cx="79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Letter Gothic"/>
              </a:rPr>
              <a:t>Template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216000"/>
            <a:ext cx="1051920" cy="814320"/>
            <a:chOff x="0" y="216000"/>
            <a:chExt cx="1051920" cy="814320"/>
          </a:xfrm>
        </p:grpSpPr>
        <p:sp>
          <p:nvSpPr>
            <p:cNvPr id="43" name=""/>
            <p:cNvSpPr/>
            <p:nvPr/>
          </p:nvSpPr>
          <p:spPr>
            <a:xfrm>
              <a:off x="0" y="216000"/>
              <a:ext cx="144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00640" y="55548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244440"/>
                  <a:tab algn="l" pos="488880"/>
                  <a:tab algn="l" pos="733320"/>
                  <a:tab algn="l" pos="977760"/>
                  <a:tab algn="l" pos="1222200"/>
                  <a:tab algn="l" pos="1467000"/>
                  <a:tab algn="l" pos="1711440"/>
                  <a:tab algn="l" pos="1955880"/>
                  <a:tab algn="l" pos="2200320"/>
                  <a:tab algn="l" pos="2444760"/>
                  <a:tab algn="l" pos="2689200"/>
                  <a:tab algn="l" pos="2933640"/>
                  <a:tab algn="l" pos="3178080"/>
                  <a:tab algn="l" pos="3422520"/>
                  <a:tab algn="l" pos="3666960"/>
                  <a:tab algn="l" pos="3911760"/>
                  <a:tab algn="l" pos="4156200"/>
                  <a:tab algn="l" pos="4400640"/>
                  <a:tab algn="l" pos="4645080"/>
                  <a:tab algn="l" pos="48895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!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600" y="857160"/>
              <a:ext cx="16848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35600" y="857160"/>
              <a:ext cx="168480" cy="1731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35600" y="223920"/>
              <a:ext cx="168480" cy="17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35600" y="223920"/>
              <a:ext cx="168480" cy="1713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3680" y="252360"/>
              <a:ext cx="112680" cy="11448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680" y="671400"/>
              <a:ext cx="28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244440"/>
                  <a:tab algn="l" pos="488880"/>
                  <a:tab algn="l" pos="733320"/>
                  <a:tab algn="l" pos="977760"/>
                  <a:tab algn="l" pos="1222200"/>
                  <a:tab algn="l" pos="1467000"/>
                  <a:tab algn="l" pos="1711440"/>
                  <a:tab algn="l" pos="1955880"/>
                  <a:tab algn="l" pos="2200320"/>
                  <a:tab algn="l" pos="2444760"/>
                  <a:tab algn="l" pos="2689200"/>
                  <a:tab algn="l" pos="2933640"/>
                  <a:tab algn="l" pos="3178080"/>
                  <a:tab algn="l" pos="3422520"/>
                  <a:tab algn="l" pos="3666960"/>
                  <a:tab algn="l" pos="3911760"/>
                  <a:tab algn="l" pos="4156200"/>
                  <a:tab algn="l" pos="4400640"/>
                  <a:tab algn="l" pos="4645080"/>
                  <a:tab algn="l" pos="488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sub(x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7920" y="534960"/>
              <a:ext cx="109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244440"/>
                  <a:tab algn="l" pos="488880"/>
                  <a:tab algn="l" pos="733320"/>
                  <a:tab algn="l" pos="977760"/>
                  <a:tab algn="l" pos="1222200"/>
                  <a:tab algn="l" pos="1467000"/>
                  <a:tab algn="l" pos="1711440"/>
                  <a:tab algn="l" pos="1955880"/>
                  <a:tab algn="l" pos="2200320"/>
                  <a:tab algn="l" pos="2444760"/>
                  <a:tab algn="l" pos="2689200"/>
                  <a:tab algn="l" pos="2933640"/>
                  <a:tab algn="l" pos="3178080"/>
                  <a:tab algn="l" pos="3422520"/>
                  <a:tab algn="l" pos="3666960"/>
                  <a:tab algn="l" pos="3911760"/>
                  <a:tab algn="l" pos="4156200"/>
                  <a:tab algn="l" pos="4400640"/>
                  <a:tab algn="l" pos="4645080"/>
                  <a:tab algn="l" pos="48895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?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3400" y="671400"/>
              <a:ext cx="308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244440"/>
                  <a:tab algn="l" pos="488880"/>
                  <a:tab algn="l" pos="733320"/>
                  <a:tab algn="l" pos="977760"/>
                  <a:tab algn="l" pos="1222200"/>
                  <a:tab algn="l" pos="1467000"/>
                  <a:tab algn="l" pos="1711440"/>
                  <a:tab algn="l" pos="1955880"/>
                  <a:tab algn="l" pos="2200320"/>
                  <a:tab algn="l" pos="2444760"/>
                  <a:tab algn="l" pos="2689200"/>
                  <a:tab algn="l" pos="2933640"/>
                  <a:tab algn="l" pos="3178080"/>
                  <a:tab algn="l" pos="3422520"/>
                  <a:tab algn="l" pos="3666960"/>
                  <a:tab algn="l" pos="3911760"/>
                  <a:tab algn="l" pos="4156200"/>
                  <a:tab algn="l" pos="4400640"/>
                  <a:tab algn="l" pos="4645080"/>
                  <a:tab algn="l" pos="48895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:=x+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7800" y="387360"/>
              <a:ext cx="162360" cy="482760"/>
            </a:xfrm>
            <a:custGeom>
              <a:avLst/>
              <a:gdLst/>
              <a:ahLst/>
              <a:rect l="l" t="t" r="r" b="b"/>
              <a:pathLst>
                <a:path w="459" h="1340">
                  <a:moveTo>
                    <a:pt x="441" y="1340"/>
                  </a:moveTo>
                  <a:lnTo>
                    <a:pt x="88" y="900"/>
                  </a:lnTo>
                  <a:cubicBezTo>
                    <a:pt x="5" y="796"/>
                    <a:pt x="0" y="688"/>
                    <a:pt x="74" y="577"/>
                  </a:cubicBezTo>
                  <a:lnTo>
                    <a:pt x="459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7600" y="387360"/>
              <a:ext cx="52560" cy="68400"/>
            </a:xfrm>
            <a:custGeom>
              <a:avLst/>
              <a:gdLst/>
              <a:ahLst/>
              <a:rect l="l" t="t" r="r" b="b"/>
              <a:pathLst>
                <a:path w="150" h="189">
                  <a:moveTo>
                    <a:pt x="86" y="189"/>
                  </a:moveTo>
                  <a:lnTo>
                    <a:pt x="150" y="0"/>
                  </a:lnTo>
                  <a:lnTo>
                    <a:pt x="0" y="132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71680" y="387360"/>
              <a:ext cx="160200" cy="482760"/>
            </a:xfrm>
            <a:custGeom>
              <a:avLst/>
              <a:gdLst/>
              <a:ahLst/>
              <a:rect l="l" t="t" r="r" b="b"/>
              <a:pathLst>
                <a:path w="459" h="1340">
                  <a:moveTo>
                    <a:pt x="0" y="0"/>
                  </a:moveTo>
                  <a:lnTo>
                    <a:pt x="385" y="577"/>
                  </a:lnTo>
                  <a:cubicBezTo>
                    <a:pt x="459" y="688"/>
                    <a:pt x="454" y="796"/>
                    <a:pt x="371" y="900"/>
                  </a:cubicBezTo>
                  <a:lnTo>
                    <a:pt x="18" y="134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78520" y="804960"/>
              <a:ext cx="55440" cy="65160"/>
            </a:xfrm>
            <a:custGeom>
              <a:avLst/>
              <a:gdLst/>
              <a:ahLst/>
              <a:rect l="l" t="t" r="r" b="b"/>
              <a:pathLst>
                <a:path w="161" h="183">
                  <a:moveTo>
                    <a:pt x="80" y="0"/>
                  </a:moveTo>
                  <a:lnTo>
                    <a:pt x="0" y="183"/>
                  </a:lnTo>
                  <a:lnTo>
                    <a:pt x="161" y="65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7T14:12:30Z</dcterms:created>
  <dc:creator>x</dc:creator>
  <dc:description/>
  <dc:language>en-US</dc:language>
  <cp:lastModifiedBy>x</cp:lastModifiedBy>
  <dcterms:modified xsi:type="dcterms:W3CDTF">2009-06-27T15:10:06Z</dcterms:modified>
  <cp:revision>3</cp:revision>
  <dc:subject/>
  <dc:title>Folie 1</dc:title>
</cp:coreProperties>
</file>