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2627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080-4B80-4468-8C62-AE47EFDE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67402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4400" y="1519560"/>
            <a:ext cx="67402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D53-6DA2-4FA9-8A0B-D0AE0FC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24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4400" y="151956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240" y="151956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065-F311-42B6-B8C4-FB1D817C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3200" y="61272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2360" y="61272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4400" y="151956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3200" y="151956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2360" y="1519560"/>
            <a:ext cx="21700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F97-68C8-4879-BCCF-3C6DF37C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4400" y="612720"/>
            <a:ext cx="674028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745-7175-455E-9527-32E27B1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674028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6A0-3132-4999-99B2-1785F800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328896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240" y="612720"/>
            <a:ext cx="328896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4A4-7780-476A-8A8F-BAB0DC16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E8B-12F1-4EF8-8E45-8531E67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4400" y="104760"/>
            <a:ext cx="6740280" cy="20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434-885C-4116-974B-70A6758F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240" y="612720"/>
            <a:ext cx="328896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4400" y="151956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7BF-A416-4258-ACCB-8001185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328896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24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240" y="151956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3F5-FB4D-425E-8B52-D6E7F6B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65520"/>
            <a:ext cx="6740280" cy="5184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240" y="612720"/>
            <a:ext cx="328896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4400" y="1519560"/>
            <a:ext cx="6740280" cy="827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38B-7BDB-4FD7-A6E3-C0E23B2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400" y="104760"/>
            <a:ext cx="6740280" cy="439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400" y="612720"/>
            <a:ext cx="6740280" cy="1735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 fontScale="63000"/>
          </a:bodyPr>
          <a:p>
            <a:pPr marL="144720" indent="-144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20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82760" indent="-96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76080" indent="-95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869040" indent="-95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869040" indent="-95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869040" indent="-95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4400" y="2393640"/>
            <a:ext cx="1747800" cy="1825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520" y="2393640"/>
            <a:ext cx="2372040" cy="1825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66880" y="2393640"/>
            <a:ext cx="1747800" cy="1825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fld id="{3C254918-9D0D-4545-86B7-2A6EFCB784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19600" y="19080"/>
            <a:ext cx="1826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z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d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Gesamtzeit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7640" y="19080"/>
            <a:ext cx="649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0     1                        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0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0    2.7             0        3.7    0    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etter Gothic"/>
              </a:rPr>
              <a:t>0    2.7             9       12.7 12.7    15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819440"/>
            <a:ext cx="5545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40520" y="16747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954000"/>
            <a:ext cx="5400720" cy="576360"/>
          </a:xfrm>
          <a:custGeom>
            <a:avLst/>
            <a:gdLst/>
            <a:ahLst/>
            <a:rect l="l" t="t" r="r" b="b"/>
            <a:pathLst>
              <a:path w="3402" h="363">
                <a:moveTo>
                  <a:pt x="0" y="0"/>
                </a:moveTo>
                <a:lnTo>
                  <a:pt x="454" y="1"/>
                </a:lnTo>
                <a:lnTo>
                  <a:pt x="454" y="363"/>
                </a:lnTo>
                <a:lnTo>
                  <a:pt x="1521" y="361"/>
                </a:lnTo>
                <a:lnTo>
                  <a:pt x="1521" y="6"/>
                </a:lnTo>
                <a:lnTo>
                  <a:pt x="2244" y="7"/>
                </a:lnTo>
                <a:lnTo>
                  <a:pt x="2244" y="361"/>
                </a:lnTo>
                <a:lnTo>
                  <a:pt x="2676" y="363"/>
                </a:lnTo>
                <a:lnTo>
                  <a:pt x="2676" y="1"/>
                </a:lnTo>
                <a:lnTo>
                  <a:pt x="3175" y="0"/>
                </a:lnTo>
                <a:lnTo>
                  <a:pt x="3175" y="363"/>
                </a:lnTo>
                <a:lnTo>
                  <a:pt x="3402" y="36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45:45Z</dcterms:created>
  <dc:creator>x</dc:creator>
  <dc:description/>
  <dc:language>en-US</dc:language>
  <cp:lastModifiedBy>kleuker</cp:lastModifiedBy>
  <dcterms:modified xsi:type="dcterms:W3CDTF">2009-05-14T09:38:03Z</dcterms:modified>
  <cp:revision>5</cp:revision>
  <dc:subject/>
  <dc:title>Folie 1</dc:title>
</cp:coreProperties>
</file>