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959225" cy="1368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7D5-CD55-40F8-8C64-0F06D2ED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360" y="55080"/>
            <a:ext cx="3564000" cy="2271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360" y="318600"/>
            <a:ext cx="356400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360" y="790560"/>
            <a:ext cx="356400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5EE-67E1-4540-B0C8-4892446C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360" y="55080"/>
            <a:ext cx="3564000" cy="2271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360" y="318600"/>
            <a:ext cx="173916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25000" y="318600"/>
            <a:ext cx="173916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360" y="790560"/>
            <a:ext cx="173916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025000" y="790560"/>
            <a:ext cx="173916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86A-5352-4E25-B8B5-46406DC9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360" y="55080"/>
            <a:ext cx="3564000" cy="2271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360" y="318600"/>
            <a:ext cx="114732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03280" y="318600"/>
            <a:ext cx="114732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08560" y="318600"/>
            <a:ext cx="114732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360" y="790560"/>
            <a:ext cx="114732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03280" y="790560"/>
            <a:ext cx="114732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608560" y="790560"/>
            <a:ext cx="114732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8FA-BFA4-4772-BA9B-09F00304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360" y="55080"/>
            <a:ext cx="3564000" cy="2271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360" y="318600"/>
            <a:ext cx="35640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A36-5F17-456A-92F8-D515BD4D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360" y="55080"/>
            <a:ext cx="3564000" cy="2271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360" y="318600"/>
            <a:ext cx="3564000" cy="90324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317-5694-4ACA-A19C-BE3FB71E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360" y="55080"/>
            <a:ext cx="3564000" cy="2271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360" y="318600"/>
            <a:ext cx="1739160" cy="90324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025000" y="318600"/>
            <a:ext cx="1739160" cy="90324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9B3-702F-4F2F-95DC-CC685683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360" y="55080"/>
            <a:ext cx="3564000" cy="2271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9AC-1FDE-4AD1-9FE0-C3CEDD76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360" y="55080"/>
            <a:ext cx="3564000" cy="10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9BD-B2B1-4DA1-AB30-99CA94AA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360" y="55080"/>
            <a:ext cx="3564000" cy="2271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360" y="318600"/>
            <a:ext cx="173916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25000" y="318600"/>
            <a:ext cx="1739160" cy="90324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360" y="790560"/>
            <a:ext cx="173916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9EF-89A4-4AF0-B5D8-1CC6D276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360" y="55080"/>
            <a:ext cx="3564000" cy="2271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360" y="318600"/>
            <a:ext cx="1739160" cy="90324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25000" y="318600"/>
            <a:ext cx="173916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25000" y="790560"/>
            <a:ext cx="173916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D79-C005-4F4A-9982-A149BF42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360" y="55080"/>
            <a:ext cx="3564000" cy="2271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360" y="318600"/>
            <a:ext cx="173916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25000" y="318600"/>
            <a:ext cx="173916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360" y="790560"/>
            <a:ext cx="3564000" cy="4305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5117-0DDF-40B7-85A0-5A630217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360" y="55080"/>
            <a:ext cx="3564000" cy="22716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360" y="318600"/>
            <a:ext cx="3564000" cy="90324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rmAutofit fontScale="70000"/>
          </a:bodyPr>
          <a:p>
            <a:pPr marL="73080" indent="-7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7680" indent="-60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4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339840" indent="-4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437400" indent="-486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437400" indent="-486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437400" indent="-486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8000" y="1246320"/>
            <a:ext cx="924120" cy="9504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Autofit/>
          </a:bodyPr>
          <a:lstStyle>
            <a:lvl1pPr indent="0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53960" y="1246320"/>
            <a:ext cx="1252800" cy="9504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Autofit/>
          </a:bodyPr>
          <a:lstStyle>
            <a:lvl1pPr indent="0" algn="ctr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38600" y="1246320"/>
            <a:ext cx="923760" cy="95040"/>
          </a:xfrm>
          <a:prstGeom prst="rect">
            <a:avLst/>
          </a:prstGeom>
          <a:noFill/>
          <a:ln w="0">
            <a:noFill/>
          </a:ln>
        </p:spPr>
        <p:txBody>
          <a:bodyPr lIns="27720" rIns="27720" tIns="14040" bIns="14040" anchor="t">
            <a:noAutofit/>
          </a:bodyPr>
          <a:lstStyle>
            <a:lvl1pPr indent="0" algn="r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7792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</a:tabLst>
            </a:pPr>
            <a:fld id="{BA216280-7A73-4463-9EAA-2F522EB51708}" type="slidenum">
              <a:rPr b="0" lang="en-US" sz="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48960" y="27000"/>
            <a:ext cx="3942000" cy="1316160"/>
            <a:chOff x="-48960" y="27000"/>
            <a:chExt cx="3942000" cy="1316160"/>
          </a:xfrm>
        </p:grpSpPr>
        <p:sp>
          <p:nvSpPr>
            <p:cNvPr id="42" name=""/>
            <p:cNvSpPr/>
            <p:nvPr/>
          </p:nvSpPr>
          <p:spPr>
            <a:xfrm>
              <a:off x="-48960" y="27000"/>
              <a:ext cx="79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Letter Gothic"/>
                </a:rPr>
                <a:t>Template 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38960" y="27000"/>
              <a:ext cx="79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Letter Gothic"/>
                </a:rPr>
                <a:t>Template 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1040" y="163440"/>
              <a:ext cx="180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760" y="5634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75840" y="5634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800" y="5634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44760" y="563400"/>
              <a:ext cx="8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72880" y="919080"/>
              <a:ext cx="17172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72880" y="919080"/>
              <a:ext cx="17172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2880" y="171360"/>
              <a:ext cx="171720" cy="17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72880" y="171360"/>
              <a:ext cx="171720" cy="1713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01680" y="200160"/>
              <a:ext cx="114480" cy="11412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39204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%2==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74760" y="39204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%4=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86800" y="736560"/>
              <a:ext cx="30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:=v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720" y="736560"/>
              <a:ext cx="636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:=(v+1)%25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30280" y="39204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%2=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040" y="736560"/>
              <a:ext cx="30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:=v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96720" y="342720"/>
              <a:ext cx="125640" cy="579600"/>
            </a:xfrm>
            <a:custGeom>
              <a:avLst/>
              <a:gdLst/>
              <a:ahLst/>
              <a:rect l="l" t="t" r="r" b="b"/>
              <a:pathLst>
                <a:path w="351" h="1609">
                  <a:moveTo>
                    <a:pt x="0" y="0"/>
                  </a:moveTo>
                  <a:lnTo>
                    <a:pt x="299" y="698"/>
                  </a:lnTo>
                  <a:cubicBezTo>
                    <a:pt x="351" y="820"/>
                    <a:pt x="348" y="941"/>
                    <a:pt x="288" y="1060"/>
                  </a:cubicBezTo>
                  <a:lnTo>
                    <a:pt x="14" y="1609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0320" y="852480"/>
              <a:ext cx="48240" cy="69840"/>
            </a:xfrm>
            <a:custGeom>
              <a:avLst/>
              <a:gdLst/>
              <a:ahLst/>
              <a:rect l="l" t="t" r="r" b="b"/>
              <a:pathLst>
                <a:path w="132" h="196">
                  <a:moveTo>
                    <a:pt x="40" y="0"/>
                  </a:moveTo>
                  <a:lnTo>
                    <a:pt x="0" y="196"/>
                  </a:lnTo>
                  <a:lnTo>
                    <a:pt x="132" y="4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7520" y="257040"/>
              <a:ext cx="937800" cy="749520"/>
            </a:xfrm>
            <a:custGeom>
              <a:avLst/>
              <a:gdLst/>
              <a:ahLst/>
              <a:rect l="l" t="t" r="r" b="b"/>
              <a:pathLst>
                <a:path w="2620" h="2080">
                  <a:moveTo>
                    <a:pt x="2620" y="2080"/>
                  </a:moveTo>
                  <a:lnTo>
                    <a:pt x="200" y="2080"/>
                  </a:lnTo>
                  <a:cubicBezTo>
                    <a:pt x="67" y="2080"/>
                    <a:pt x="0" y="2014"/>
                    <a:pt x="0" y="1880"/>
                  </a:cubicBezTo>
                  <a:lnTo>
                    <a:pt x="0" y="200"/>
                  </a:lnTo>
                  <a:cubicBezTo>
                    <a:pt x="0" y="67"/>
                    <a:pt x="67" y="0"/>
                    <a:pt x="200" y="0"/>
                  </a:cubicBezTo>
                  <a:lnTo>
                    <a:pt x="262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97640" y="237960"/>
              <a:ext cx="67680" cy="38160"/>
            </a:xfrm>
            <a:custGeom>
              <a:avLst/>
              <a:gdLst/>
              <a:ahLst/>
              <a:rect l="l" t="t" r="r" b="b"/>
              <a:pathLst>
                <a:path w="193" h="103">
                  <a:moveTo>
                    <a:pt x="0" y="103"/>
                  </a:moveTo>
                  <a:lnTo>
                    <a:pt x="193" y="51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97640" y="342720"/>
              <a:ext cx="125280" cy="579600"/>
            </a:xfrm>
            <a:custGeom>
              <a:avLst/>
              <a:gdLst/>
              <a:ahLst/>
              <a:rect l="l" t="t" r="r" b="b"/>
              <a:pathLst>
                <a:path w="351" h="1609">
                  <a:moveTo>
                    <a:pt x="351" y="0"/>
                  </a:moveTo>
                  <a:lnTo>
                    <a:pt x="52" y="698"/>
                  </a:lnTo>
                  <a:cubicBezTo>
                    <a:pt x="0" y="820"/>
                    <a:pt x="3" y="941"/>
                    <a:pt x="63" y="1060"/>
                  </a:cubicBezTo>
                  <a:lnTo>
                    <a:pt x="337" y="1609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71440" y="852480"/>
              <a:ext cx="46080" cy="69840"/>
            </a:xfrm>
            <a:custGeom>
              <a:avLst/>
              <a:gdLst/>
              <a:ahLst/>
              <a:rect l="l" t="t" r="r" b="b"/>
              <a:pathLst>
                <a:path w="132" h="196">
                  <a:moveTo>
                    <a:pt x="0" y="46"/>
                  </a:moveTo>
                  <a:lnTo>
                    <a:pt x="132" y="196"/>
                  </a:lnTo>
                  <a:lnTo>
                    <a:pt x="92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52520" y="257040"/>
              <a:ext cx="765720" cy="749520"/>
            </a:xfrm>
            <a:custGeom>
              <a:avLst/>
              <a:gdLst/>
              <a:ahLst/>
              <a:rect l="l" t="t" r="r" b="b"/>
              <a:pathLst>
                <a:path w="2140" h="2080">
                  <a:moveTo>
                    <a:pt x="0" y="0"/>
                  </a:moveTo>
                  <a:lnTo>
                    <a:pt x="1940" y="0"/>
                  </a:lnTo>
                  <a:cubicBezTo>
                    <a:pt x="2073" y="0"/>
                    <a:pt x="2140" y="67"/>
                    <a:pt x="2140" y="200"/>
                  </a:cubicBezTo>
                  <a:lnTo>
                    <a:pt x="2140" y="1880"/>
                  </a:lnTo>
                  <a:cubicBezTo>
                    <a:pt x="2140" y="2014"/>
                    <a:pt x="2073" y="2080"/>
                    <a:pt x="1940" y="2080"/>
                  </a:cubicBezTo>
                  <a:lnTo>
                    <a:pt x="0" y="208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52520" y="987480"/>
              <a:ext cx="69840" cy="36360"/>
            </a:xfrm>
            <a:custGeom>
              <a:avLst/>
              <a:gdLst/>
              <a:ahLst/>
              <a:rect l="l" t="t" r="r" b="b"/>
              <a:pathLst>
                <a:path w="194" h="103">
                  <a:moveTo>
                    <a:pt x="194" y="0"/>
                  </a:moveTo>
                  <a:lnTo>
                    <a:pt x="0" y="51"/>
                  </a:lnTo>
                  <a:lnTo>
                    <a:pt x="194" y="10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968560" y="241200"/>
              <a:ext cx="924480" cy="1101960"/>
              <a:chOff x="2968560" y="241200"/>
              <a:chExt cx="924480" cy="1101960"/>
            </a:xfrm>
          </p:grpSpPr>
          <p:sp>
            <p:nvSpPr>
              <p:cNvPr id="69" name=""/>
              <p:cNvSpPr/>
              <p:nvPr/>
            </p:nvSpPr>
            <p:spPr>
              <a:xfrm>
                <a:off x="2968560" y="241200"/>
                <a:ext cx="180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069000" y="709560"/>
                <a:ext cx="17172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069000" y="709560"/>
                <a:ext cx="171720" cy="1731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783960" y="523800"/>
                <a:ext cx="109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?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26200" y="1170000"/>
                <a:ext cx="17172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26200" y="1170000"/>
                <a:ext cx="171720" cy="1731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26200" y="709560"/>
                <a:ext cx="17172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26200" y="709560"/>
                <a:ext cx="171720" cy="1731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526200" y="249120"/>
                <a:ext cx="171720" cy="17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26200" y="249120"/>
                <a:ext cx="171720" cy="1713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554640" y="277920"/>
                <a:ext cx="114480" cy="11412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983320" y="98424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?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69480" y="9270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q!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982600" y="4665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q!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327480" y="5238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?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155040" y="888840"/>
                <a:ext cx="363600" cy="368280"/>
              </a:xfrm>
              <a:custGeom>
                <a:avLst/>
                <a:gdLst/>
                <a:ahLst/>
                <a:rect l="l" t="t" r="r" b="b"/>
                <a:pathLst>
                  <a:path w="1020" h="1020">
                    <a:moveTo>
                      <a:pt x="1020" y="1020"/>
                    </a:moveTo>
                    <a:lnTo>
                      <a:pt x="200" y="1020"/>
                    </a:lnTo>
                    <a:cubicBezTo>
                      <a:pt x="67" y="1020"/>
                      <a:pt x="0" y="954"/>
                      <a:pt x="0" y="820"/>
                    </a:cubicBezTo>
                    <a:lnTo>
                      <a:pt x="0" y="740"/>
                    </a:lnTo>
                    <a:cubicBezTo>
                      <a:pt x="0" y="607"/>
                      <a:pt x="0" y="474"/>
                      <a:pt x="0" y="340"/>
                    </a:cubicBezTo>
                    <a:lnTo>
                      <a:pt x="0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137040" y="888840"/>
                <a:ext cx="35640" cy="69840"/>
              </a:xfrm>
              <a:custGeom>
                <a:avLst/>
                <a:gdLst/>
                <a:ahLst/>
                <a:rect l="l" t="t" r="r" b="b"/>
                <a:pathLst>
                  <a:path w="103" h="194">
                    <a:moveTo>
                      <a:pt x="103" y="194"/>
                    </a:moveTo>
                    <a:lnTo>
                      <a:pt x="51" y="0"/>
                    </a:lnTo>
                    <a:lnTo>
                      <a:pt x="0" y="194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155040" y="334800"/>
                <a:ext cx="363600" cy="366840"/>
              </a:xfrm>
              <a:custGeom>
                <a:avLst/>
                <a:gdLst/>
                <a:ahLst/>
                <a:rect l="l" t="t" r="r" b="b"/>
                <a:pathLst>
                  <a:path w="1020" h="1020">
                    <a:moveTo>
                      <a:pt x="0" y="1020"/>
                    </a:moveTo>
                    <a:lnTo>
                      <a:pt x="0" y="200"/>
                    </a:lnTo>
                    <a:cubicBezTo>
                      <a:pt x="0" y="67"/>
                      <a:pt x="67" y="0"/>
                      <a:pt x="200" y="0"/>
                    </a:cubicBezTo>
                    <a:lnTo>
                      <a:pt x="1020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450600" y="315720"/>
                <a:ext cx="68040" cy="38160"/>
              </a:xfrm>
              <a:custGeom>
                <a:avLst/>
                <a:gdLst/>
                <a:ahLst/>
                <a:rect l="l" t="t" r="r" b="b"/>
                <a:pathLst>
                  <a:path w="193" h="103">
                    <a:moveTo>
                      <a:pt x="0" y="103"/>
                    </a:moveTo>
                    <a:lnTo>
                      <a:pt x="193" y="5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07840" y="419040"/>
                <a:ext cx="63000" cy="293760"/>
              </a:xfrm>
              <a:custGeom>
                <a:avLst/>
                <a:gdLst/>
                <a:ahLst/>
                <a:rect l="l" t="t" r="r" b="b"/>
                <a:pathLst>
                  <a:path w="174" h="815">
                    <a:moveTo>
                      <a:pt x="174" y="0"/>
                    </a:moveTo>
                    <a:lnTo>
                      <a:pt x="60" y="229"/>
                    </a:lnTo>
                    <a:cubicBezTo>
                      <a:pt x="0" y="348"/>
                      <a:pt x="0" y="467"/>
                      <a:pt x="60" y="586"/>
                    </a:cubicBezTo>
                    <a:lnTo>
                      <a:pt x="174" y="815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524400" y="641160"/>
                <a:ext cx="46440" cy="71640"/>
              </a:xfrm>
              <a:custGeom>
                <a:avLst/>
                <a:gdLst/>
                <a:ahLst/>
                <a:rect l="l" t="t" r="r" b="b"/>
                <a:pathLst>
                  <a:path w="132" h="196">
                    <a:moveTo>
                      <a:pt x="0" y="46"/>
                    </a:moveTo>
                    <a:lnTo>
                      <a:pt x="132" y="196"/>
                    </a:lnTo>
                    <a:lnTo>
                      <a:pt x="92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12240" y="888840"/>
                <a:ext cx="0" cy="27468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94240" y="1093680"/>
                <a:ext cx="37800" cy="69840"/>
              </a:xfrm>
              <a:custGeom>
                <a:avLst/>
                <a:gdLst/>
                <a:ahLst/>
                <a:rect l="l" t="t" r="r" b="b"/>
                <a:pathLst>
                  <a:path w="103" h="193">
                    <a:moveTo>
                      <a:pt x="0" y="0"/>
                    </a:moveTo>
                    <a:lnTo>
                      <a:pt x="51" y="193"/>
                    </a:lnTo>
                    <a:lnTo>
                      <a:pt x="103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55080" y="419040"/>
                <a:ext cx="60840" cy="293760"/>
              </a:xfrm>
              <a:custGeom>
                <a:avLst/>
                <a:gdLst/>
                <a:ahLst/>
                <a:rect l="l" t="t" r="r" b="b"/>
                <a:pathLst>
                  <a:path w="174" h="815">
                    <a:moveTo>
                      <a:pt x="0" y="0"/>
                    </a:moveTo>
                    <a:lnTo>
                      <a:pt x="114" y="229"/>
                    </a:lnTo>
                    <a:cubicBezTo>
                      <a:pt x="174" y="348"/>
                      <a:pt x="174" y="467"/>
                      <a:pt x="114" y="586"/>
                    </a:cubicBezTo>
                    <a:lnTo>
                      <a:pt x="0" y="815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655080" y="641160"/>
                <a:ext cx="46440" cy="71640"/>
              </a:xfrm>
              <a:custGeom>
                <a:avLst/>
                <a:gdLst/>
                <a:ahLst/>
                <a:rect l="l" t="t" r="r" b="b"/>
                <a:pathLst>
                  <a:path w="132" h="196">
                    <a:moveTo>
                      <a:pt x="40" y="0"/>
                    </a:moveTo>
                    <a:lnTo>
                      <a:pt x="0" y="196"/>
                    </a:lnTo>
                    <a:lnTo>
                      <a:pt x="132" y="46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4:22:05Z</dcterms:created>
  <dc:creator>x</dc:creator>
  <dc:description/>
  <dc:language>en-US</dc:language>
  <cp:lastModifiedBy>x</cp:lastModifiedBy>
  <dcterms:modified xsi:type="dcterms:W3CDTF">2009-06-27T15:08:53Z</dcterms:modified>
  <cp:revision>2</cp:revision>
  <dc:subject/>
  <dc:title>Folie 1</dc:title>
</cp:coreProperties>
</file>