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484438" cy="1439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7D5-7D5F-414F-89A6-D12BE2D9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3480" y="336240"/>
            <a:ext cx="223668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3480" y="832320"/>
            <a:ext cx="223668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987-4C1A-4C3F-9ADE-6D2EB9B9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3480" y="336240"/>
            <a:ext cx="109116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69720" y="336240"/>
            <a:ext cx="109116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3480" y="832320"/>
            <a:ext cx="109116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69720" y="832320"/>
            <a:ext cx="109116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1E6-DDF5-4E47-ABFA-1EBFA9DC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3480" y="336240"/>
            <a:ext cx="72000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79840" y="336240"/>
            <a:ext cx="72000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36200" y="336240"/>
            <a:ext cx="72000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3480" y="832320"/>
            <a:ext cx="72000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79840" y="832320"/>
            <a:ext cx="72000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36200" y="832320"/>
            <a:ext cx="72000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C4C-6F94-439D-B426-88843D14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3480" y="336240"/>
            <a:ext cx="223668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9BD-680D-4825-BB27-B546C937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3480" y="336240"/>
            <a:ext cx="2236680" cy="9493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07E-35E1-4961-A156-B77DAF82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3480" y="336240"/>
            <a:ext cx="1091160" cy="9493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69720" y="336240"/>
            <a:ext cx="1091160" cy="9493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B85-86E2-4A6D-ACA5-37488929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622-DC14-466E-8260-88095098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3480" y="57240"/>
            <a:ext cx="2236680" cy="11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799-B553-4B89-87BA-B6A4EB8A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3480" y="336240"/>
            <a:ext cx="109116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69720" y="336240"/>
            <a:ext cx="1091160" cy="9493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3480" y="832320"/>
            <a:ext cx="109116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410-40DE-4B3C-9DD4-156C4406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3480" y="336240"/>
            <a:ext cx="1091160" cy="9493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69720" y="336240"/>
            <a:ext cx="109116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832320"/>
            <a:ext cx="109116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B72-7173-448D-8EB6-47111EDF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3480" y="336240"/>
            <a:ext cx="109116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336240"/>
            <a:ext cx="109116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3480" y="832320"/>
            <a:ext cx="2236680" cy="4525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540-CC41-4298-8B4F-85F541A3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3480" y="57240"/>
            <a:ext cx="2236680" cy="23976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3480" y="336240"/>
            <a:ext cx="2236680" cy="94932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rmAutofit fontScale="91000"/>
          </a:bodyPr>
          <a:p>
            <a:pPr marL="76320" indent="-7632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65960" indent="-6336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255600" indent="-51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356400" indent="-504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459000" indent="-514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5" marL="459000" indent="-514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6" marL="459000" indent="-514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840" y="1311120"/>
            <a:ext cx="579600" cy="10008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Autofit/>
          </a:bodyPr>
          <a:lstStyle>
            <a:lvl1pPr indent="0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48880" y="1311120"/>
            <a:ext cx="785880" cy="10008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Autofit/>
          </a:bodyPr>
          <a:lstStyle>
            <a:lvl1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80920" y="1311120"/>
            <a:ext cx="579240" cy="100080"/>
          </a:xfrm>
          <a:prstGeom prst="rect">
            <a:avLst/>
          </a:prstGeom>
          <a:noFill/>
          <a:ln w="0">
            <a:noFill/>
          </a:ln>
        </p:spPr>
        <p:txBody>
          <a:bodyPr lIns="22320" rIns="22320" tIns="11160" bIns="11160" anchor="t">
            <a:noAutofit/>
          </a:bodyPr>
          <a:lstStyle>
            <a:lvl1pPr indent="0" algn="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fld id="{F8E571EA-A46F-4D21-9EA1-7D50737621B2}" type="slidenum">
              <a:rPr b="0" lang="en-US" sz="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640" y="0"/>
            <a:ext cx="2432880" cy="1403280"/>
            <a:chOff x="17640" y="0"/>
            <a:chExt cx="2432880" cy="1403280"/>
          </a:xfrm>
        </p:grpSpPr>
        <p:sp>
          <p:nvSpPr>
            <p:cNvPr id="42" name=""/>
            <p:cNvSpPr/>
            <p:nvPr/>
          </p:nvSpPr>
          <p:spPr>
            <a:xfrm>
              <a:off x="17640" y="144360"/>
              <a:ext cx="144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0680" y="284040"/>
              <a:ext cx="23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ick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120" y="295200"/>
              <a:ext cx="17280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" y="295200"/>
              <a:ext cx="17280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920" y="324000"/>
              <a:ext cx="115560" cy="1155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680" y="168120"/>
              <a:ext cx="22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0680" y="166680"/>
              <a:ext cx="213840" cy="430200"/>
            </a:xfrm>
            <a:custGeom>
              <a:avLst/>
              <a:gdLst/>
              <a:ahLst/>
              <a:rect l="l" t="t" r="r" b="b"/>
              <a:pathLst>
                <a:path w="597" h="1197">
                  <a:moveTo>
                    <a:pt x="0" y="436"/>
                  </a:moveTo>
                  <a:lnTo>
                    <a:pt x="440" y="83"/>
                  </a:lnTo>
                  <a:cubicBezTo>
                    <a:pt x="544" y="0"/>
                    <a:pt x="597" y="25"/>
                    <a:pt x="597" y="159"/>
                  </a:cubicBezTo>
                  <a:lnTo>
                    <a:pt x="597" y="1039"/>
                  </a:lnTo>
                  <a:cubicBezTo>
                    <a:pt x="597" y="1172"/>
                    <a:pt x="544" y="1197"/>
                    <a:pt x="440" y="1114"/>
                  </a:cubicBezTo>
                  <a:lnTo>
                    <a:pt x="0" y="761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0680" y="439560"/>
              <a:ext cx="64800" cy="5904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83" y="80"/>
                  </a:moveTo>
                  <a:lnTo>
                    <a:pt x="0" y="0"/>
                  </a:lnTo>
                  <a:lnTo>
                    <a:pt x="118" y="161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04920" y="0"/>
              <a:ext cx="108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39120" y="98892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ick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9120" y="35568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ick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18600" y="1219320"/>
              <a:ext cx="45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dus:=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4120" y="136440"/>
              <a:ext cx="17244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24120" y="136440"/>
              <a:ext cx="17244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52560" y="165240"/>
              <a:ext cx="115560" cy="11592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24120" y="712800"/>
              <a:ext cx="17244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4120" y="712800"/>
              <a:ext cx="17244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4120" y="1230480"/>
              <a:ext cx="17244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4120" y="1230480"/>
              <a:ext cx="172440" cy="17280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71640" y="1276200"/>
              <a:ext cx="61560" cy="79560"/>
            </a:xfrm>
            <a:custGeom>
              <a:avLst/>
              <a:gdLst/>
              <a:ahLst/>
              <a:rect l="l" t="t" r="r" b="b"/>
              <a:pathLst>
                <a:path w="174" h="221">
                  <a:moveTo>
                    <a:pt x="174" y="34"/>
                  </a:moveTo>
                  <a:cubicBezTo>
                    <a:pt x="133" y="0"/>
                    <a:pt x="73" y="3"/>
                    <a:pt x="37" y="42"/>
                  </a:cubicBezTo>
                  <a:cubicBezTo>
                    <a:pt x="0" y="80"/>
                    <a:pt x="0" y="141"/>
                    <a:pt x="37" y="179"/>
                  </a:cubicBezTo>
                  <a:cubicBezTo>
                    <a:pt x="73" y="218"/>
                    <a:pt x="133" y="221"/>
                    <a:pt x="174" y="187"/>
                  </a:cubicBezTo>
                </a:path>
              </a:pathLst>
            </a:cu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49000" y="758880"/>
              <a:ext cx="35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infa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38160" y="25560"/>
              <a:ext cx="22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4520" y="471600"/>
              <a:ext cx="45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dus:=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82240" y="7588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=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40200" y="47160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81160" y="127620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oppe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68480" y="297000"/>
              <a:ext cx="156600" cy="428400"/>
            </a:xfrm>
            <a:custGeom>
              <a:avLst/>
              <a:gdLst/>
              <a:ahLst/>
              <a:rect l="l" t="t" r="r" b="b"/>
              <a:pathLst>
                <a:path w="436" h="1193">
                  <a:moveTo>
                    <a:pt x="0" y="0"/>
                  </a:moveTo>
                  <a:lnTo>
                    <a:pt x="353" y="440"/>
                  </a:lnTo>
                  <a:cubicBezTo>
                    <a:pt x="436" y="544"/>
                    <a:pt x="436" y="649"/>
                    <a:pt x="353" y="753"/>
                  </a:cubicBezTo>
                  <a:lnTo>
                    <a:pt x="0" y="119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68480" y="658800"/>
              <a:ext cx="58320" cy="66600"/>
            </a:xfrm>
            <a:custGeom>
              <a:avLst/>
              <a:gdLst/>
              <a:ahLst/>
              <a:rect l="l" t="t" r="r" b="b"/>
              <a:pathLst>
                <a:path w="161" h="183">
                  <a:moveTo>
                    <a:pt x="80" y="0"/>
                  </a:moveTo>
                  <a:lnTo>
                    <a:pt x="0" y="183"/>
                  </a:lnTo>
                  <a:lnTo>
                    <a:pt x="161" y="65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62000" y="855720"/>
              <a:ext cx="164880" cy="382680"/>
            </a:xfrm>
            <a:custGeom>
              <a:avLst/>
              <a:gdLst/>
              <a:ahLst/>
              <a:rect l="l" t="t" r="r" b="b"/>
              <a:pathLst>
                <a:path w="459" h="1067">
                  <a:moveTo>
                    <a:pt x="63" y="0"/>
                  </a:moveTo>
                  <a:lnTo>
                    <a:pt x="336" y="204"/>
                  </a:lnTo>
                  <a:cubicBezTo>
                    <a:pt x="442" y="284"/>
                    <a:pt x="459" y="379"/>
                    <a:pt x="385" y="490"/>
                  </a:cubicBezTo>
                  <a:lnTo>
                    <a:pt x="0" y="1067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2000" y="1171440"/>
              <a:ext cx="53640" cy="66960"/>
            </a:xfrm>
            <a:custGeom>
              <a:avLst/>
              <a:gdLst/>
              <a:ahLst/>
              <a:rect l="l" t="t" r="r" b="b"/>
              <a:pathLst>
                <a:path w="150" h="189">
                  <a:moveTo>
                    <a:pt x="64" y="0"/>
                  </a:moveTo>
                  <a:lnTo>
                    <a:pt x="0" y="189"/>
                  </a:lnTo>
                  <a:lnTo>
                    <a:pt x="150" y="57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03240" y="311040"/>
              <a:ext cx="77400" cy="403200"/>
            </a:xfrm>
            <a:custGeom>
              <a:avLst/>
              <a:gdLst/>
              <a:ahLst/>
              <a:rect l="l" t="t" r="r" b="b"/>
              <a:pathLst>
                <a:path w="216" h="1121">
                  <a:moveTo>
                    <a:pt x="182" y="1121"/>
                  </a:moveTo>
                  <a:lnTo>
                    <a:pt x="68" y="892"/>
                  </a:lnTo>
                  <a:cubicBezTo>
                    <a:pt x="8" y="773"/>
                    <a:pt x="0" y="650"/>
                    <a:pt x="42" y="524"/>
                  </a:cubicBezTo>
                  <a:lnTo>
                    <a:pt x="216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311040"/>
              <a:ext cx="39240" cy="7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98" y="200"/>
                  </a:moveTo>
                  <a:lnTo>
                    <a:pt x="110" y="0"/>
                  </a:lnTo>
                  <a:lnTo>
                    <a:pt x="0" y="167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76200" y="239760"/>
              <a:ext cx="545760" cy="1044360"/>
            </a:xfrm>
            <a:custGeom>
              <a:avLst/>
              <a:gdLst/>
              <a:ahLst/>
              <a:rect l="l" t="t" r="r" b="b"/>
              <a:pathLst>
                <a:path w="1515" h="2905">
                  <a:moveTo>
                    <a:pt x="1515" y="2905"/>
                  </a:moveTo>
                  <a:lnTo>
                    <a:pt x="187" y="2422"/>
                  </a:lnTo>
                  <a:cubicBezTo>
                    <a:pt x="62" y="2376"/>
                    <a:pt x="0" y="2287"/>
                    <a:pt x="0" y="2154"/>
                  </a:cubicBezTo>
                  <a:lnTo>
                    <a:pt x="0" y="474"/>
                  </a:lnTo>
                  <a:cubicBezTo>
                    <a:pt x="0" y="340"/>
                    <a:pt x="65" y="262"/>
                    <a:pt x="196" y="238"/>
                  </a:cubicBezTo>
                  <a:lnTo>
                    <a:pt x="1504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46000" y="233280"/>
              <a:ext cx="71280" cy="36720"/>
            </a:xfrm>
            <a:custGeom>
              <a:avLst/>
              <a:gdLst/>
              <a:ahLst/>
              <a:rect l="l" t="t" r="r" b="b"/>
              <a:pathLst>
                <a:path w="200" h="101">
                  <a:moveTo>
                    <a:pt x="19" y="101"/>
                  </a:moveTo>
                  <a:lnTo>
                    <a:pt x="200" y="16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5:56:50Z</dcterms:created>
  <dc:creator>x</dc:creator>
  <dc:description/>
  <dc:language>en-US</dc:language>
  <cp:lastModifiedBy>x</cp:lastModifiedBy>
  <dcterms:modified xsi:type="dcterms:W3CDTF">2009-06-27T15:57:40Z</dcterms:modified>
  <cp:revision>1</cp:revision>
  <dc:subject/>
  <dc:title>Folie 1</dc:title>
</cp:coreProperties>
</file>