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135938" cy="5256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CA7-C041-47CF-B859-FEB3B9D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73245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40" y="3039120"/>
            <a:ext cx="73245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5BB-830F-4CBC-8BF6-BCBE19A0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9440" y="12283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30391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59440" y="30391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B19-0097-492F-A3E3-F38CF08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23583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3240" y="1228320"/>
            <a:ext cx="23583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9680" y="1228320"/>
            <a:ext cx="23583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440" y="3039120"/>
            <a:ext cx="23583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3240" y="3039120"/>
            <a:ext cx="23583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9680" y="3039120"/>
            <a:ext cx="23583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C99-12DD-4DED-85B2-0F07AEF6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440" y="1228320"/>
            <a:ext cx="732456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513-C55C-4F3F-9C30-7E0B980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7324560" cy="346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8E5-93E6-48DB-81B6-B8995490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3574080" cy="346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59440" y="1228320"/>
            <a:ext cx="3574080" cy="346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F43-FE07-447F-9640-B1FFF43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72B-3346-47E5-B936-C390AA6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09160"/>
            <a:ext cx="7324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24B-85DE-4124-A40D-4ED7AE1E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9440" y="1228320"/>
            <a:ext cx="3574080" cy="346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440" y="30391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FE1-0CB4-4ABB-A382-DBD9F00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3574080" cy="346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59440" y="12283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9440" y="30391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E10-65AB-4CD6-972C-35C9FC22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2283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9440" y="1228320"/>
            <a:ext cx="357408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440" y="3039120"/>
            <a:ext cx="7324560" cy="165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B92-3911-462F-894C-633A652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09160"/>
            <a:ext cx="7324560" cy="87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228320"/>
            <a:ext cx="7324560" cy="346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 fontScale="78000"/>
          </a:bodyPr>
          <a:p>
            <a:pPr marL="278280" indent="-27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05160" indent="-231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932400" indent="-18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303560" indent="-1854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677600" indent="-1879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677600" indent="-1879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677600" indent="-1879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6440" y="4785840"/>
            <a:ext cx="1900080" cy="366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82800" y="4785840"/>
            <a:ext cx="2571840" cy="366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30920" y="4785840"/>
            <a:ext cx="1900080" cy="366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CFD662E-C64F-40C0-A172-180C3958D2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360" y="36360"/>
            <a:ext cx="8066160" cy="5184720"/>
            <a:chOff x="36360" y="36360"/>
            <a:chExt cx="8066160" cy="5184720"/>
          </a:xfrm>
        </p:grpSpPr>
        <p:sp>
          <p:nvSpPr>
            <p:cNvPr id="42" name=""/>
            <p:cNvSpPr/>
            <p:nvPr/>
          </p:nvSpPr>
          <p:spPr>
            <a:xfrm flipH="1">
              <a:off x="1044000" y="1163520"/>
              <a:ext cx="1800" cy="15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90520" y="514080"/>
              <a:ext cx="1366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fan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9800" y="1344240"/>
              <a:ext cx="1152360" cy="50328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046160" y="1161360"/>
              <a:ext cx="1584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85680" y="101880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2628360" y="1163520"/>
              <a:ext cx="1800" cy="15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4160" y="1344240"/>
              <a:ext cx="1152360" cy="50328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6720" y="1981080"/>
              <a:ext cx="1297080" cy="57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1:=x1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81080" y="1981080"/>
              <a:ext cx="1297080" cy="57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2:=x2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046160" y="2699640"/>
              <a:ext cx="1584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789080" y="180720"/>
              <a:ext cx="2160720" cy="936720"/>
              <a:chOff x="4789080" y="180720"/>
              <a:chExt cx="2160720" cy="936720"/>
            </a:xfrm>
          </p:grpSpPr>
          <p:sp>
            <p:nvSpPr>
              <p:cNvPr id="53" name=""/>
              <p:cNvSpPr/>
              <p:nvPr/>
            </p:nvSpPr>
            <p:spPr>
              <a:xfrm>
                <a:off x="4799160" y="182520"/>
                <a:ext cx="2100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dc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x1 Natural =0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x2 Natural =0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3800" y="188640"/>
                <a:ext cx="215640" cy="216000"/>
              </a:xfrm>
              <a:prstGeom prst="rtTriangl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4789080" y="180720"/>
                <a:ext cx="19443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4789440" y="188640"/>
                <a:ext cx="0" cy="9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4789080" y="1117440"/>
                <a:ext cx="21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6949800" y="404640"/>
                <a:ext cx="0" cy="71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83600" y="3636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mpfaen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8000" y="2944440"/>
              <a:ext cx="2133720" cy="71928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1&gt;10 u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2&gt;10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49080" y="363672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01720" y="330480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2600" y="29444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35040" y="27000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331128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0000" y="3598560"/>
              <a:ext cx="1223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60" y="36360"/>
              <a:ext cx="8066160" cy="518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8360" y="4644720"/>
              <a:ext cx="1366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78160" y="1476000"/>
              <a:ext cx="1366920" cy="5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81800" y="21254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86160" y="21254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09800" y="2306520"/>
              <a:ext cx="1152720" cy="5029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05440" y="2268360"/>
              <a:ext cx="1152720" cy="5032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65800" y="3204720"/>
              <a:ext cx="360360" cy="360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86160" y="212544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70520" y="1981080"/>
              <a:ext cx="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09800" y="313344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868360" y="2125440"/>
              <a:ext cx="180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4160" y="2306520"/>
              <a:ext cx="1152360" cy="50292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1560" y="313344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60120" y="3925440"/>
              <a:ext cx="1152720" cy="43344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1:26:52Z</dcterms:modified>
  <cp:revision>8</cp:revision>
  <dc:subject/>
  <dc:title>Folie 1</dc:title>
</cp:coreProperties>
</file>