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908175" cy="1116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405-889D-4C67-89A0-70B70EE0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040" y="43920"/>
            <a:ext cx="1717560" cy="1875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ctr">
            <a:noAutofit/>
          </a:bodyPr>
          <a:p>
            <a:pPr indent="0" algn="ctr"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040" y="260280"/>
            <a:ext cx="171756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040" y="645120"/>
            <a:ext cx="171756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846-C625-4547-B8E0-57215F72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040" y="43920"/>
            <a:ext cx="1717560" cy="1875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ctr">
            <a:noAutofit/>
          </a:bodyPr>
          <a:p>
            <a:pPr indent="0" algn="ctr"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040" y="2602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75240" y="2602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040" y="64512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75240" y="64512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FAD-AFEC-4861-BB51-0976D91A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040" y="43920"/>
            <a:ext cx="1717560" cy="1875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ctr">
            <a:noAutofit/>
          </a:bodyPr>
          <a:p>
            <a:pPr indent="0" algn="ctr"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040" y="260280"/>
            <a:ext cx="55296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6080" y="260280"/>
            <a:ext cx="55296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57120" y="260280"/>
            <a:ext cx="55296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040" y="645120"/>
            <a:ext cx="55296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76080" y="645120"/>
            <a:ext cx="55296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57120" y="645120"/>
            <a:ext cx="55296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033-B9E9-412F-84C2-1C45C59B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040" y="43920"/>
            <a:ext cx="1717560" cy="1875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ctr">
            <a:noAutofit/>
          </a:bodyPr>
          <a:p>
            <a:pPr indent="0" algn="ctr"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040" y="260280"/>
            <a:ext cx="171756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E7D-A862-46EE-9D15-73090F8D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40" y="43920"/>
            <a:ext cx="1717560" cy="1875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ctr">
            <a:noAutofit/>
          </a:bodyPr>
          <a:p>
            <a:pPr indent="0" algn="ctr"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040" y="260280"/>
            <a:ext cx="1717560" cy="7365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A54-A868-46C8-87A5-CBEC375E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40" y="43920"/>
            <a:ext cx="1717560" cy="1875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ctr">
            <a:noAutofit/>
          </a:bodyPr>
          <a:p>
            <a:pPr indent="0" algn="ctr"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040" y="260280"/>
            <a:ext cx="838080" cy="7365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75240" y="260280"/>
            <a:ext cx="838080" cy="7365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912-8891-44A9-ABB6-D47A1415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040" y="43920"/>
            <a:ext cx="1717560" cy="1875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ctr">
            <a:noAutofit/>
          </a:bodyPr>
          <a:p>
            <a:pPr indent="0" algn="ctr"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346-2789-46FE-AF41-D48E658E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040" y="43920"/>
            <a:ext cx="1717560" cy="8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E06-8206-491C-B8B8-A94AC075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40" y="43920"/>
            <a:ext cx="1717560" cy="1875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ctr">
            <a:noAutofit/>
          </a:bodyPr>
          <a:p>
            <a:pPr indent="0" algn="ctr"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040" y="2602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75240" y="260280"/>
            <a:ext cx="838080" cy="7365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040" y="64512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E67-49B6-4696-B3BC-B26FAA0C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040" y="43920"/>
            <a:ext cx="1717560" cy="1875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ctr">
            <a:noAutofit/>
          </a:bodyPr>
          <a:p>
            <a:pPr indent="0" algn="ctr"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040" y="260280"/>
            <a:ext cx="838080" cy="7365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75240" y="2602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75240" y="64512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FC7-81D1-4570-A213-328439AF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040" y="43920"/>
            <a:ext cx="1717560" cy="1875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ctr">
            <a:noAutofit/>
          </a:bodyPr>
          <a:p>
            <a:pPr indent="0" algn="ctr"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040" y="2602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75240" y="2602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040" y="645120"/>
            <a:ext cx="1717560" cy="35100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E2C-E7C0-4F2F-A52A-DCD0B676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040" y="43920"/>
            <a:ext cx="1717560" cy="1875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ctr">
            <a:noAutofit/>
          </a:bodyPr>
          <a:p>
            <a:pPr indent="0" algn="ctr"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040" y="260280"/>
            <a:ext cx="1717560" cy="7365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rmAutofit fontScale="95000"/>
          </a:bodyPr>
          <a:p>
            <a:pPr marL="61560" indent="-6156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132480" indent="-4932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205200" indent="-406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3" marL="287640" indent="-4068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4" marL="369360" indent="-4068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5" marL="369360" indent="-4068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6" marL="369360" indent="-4068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5400" y="1015920"/>
            <a:ext cx="444240" cy="777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Autofit/>
          </a:bodyPr>
          <a:lstStyle>
            <a:lvl1pPr indent="0"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  <a:defRPr b="0" lang="en-US" sz="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2320" y="1015920"/>
            <a:ext cx="603360" cy="777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Autofit/>
          </a:bodyPr>
          <a:lstStyle>
            <a:lvl1pPr indent="0" algn="ctr"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  <a:defRPr b="0" lang="en-US" sz="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68000" y="1015920"/>
            <a:ext cx="444600" cy="77760"/>
          </a:xfrm>
          <a:prstGeom prst="rect">
            <a:avLst/>
          </a:prstGeom>
          <a:noFill/>
          <a:ln w="0">
            <a:noFill/>
          </a:ln>
        </p:spPr>
        <p:txBody>
          <a:bodyPr lIns="17280" rIns="17280" tIns="8640" bIns="8640" anchor="t">
            <a:noAutofit/>
          </a:bodyPr>
          <a:lstStyle>
            <a:lvl1pPr indent="0" algn="r"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  <a:defRPr b="0" lang="en-US" sz="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fld id="{34AA81CD-EEBD-4159-B407-C49AAAA1E3B7}" type="slidenum">
              <a:rPr b="0" lang="en-US" sz="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868040" cy="1068120"/>
            <a:chOff x="0" y="0"/>
            <a:chExt cx="1868040" cy="106812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2000" y="412920"/>
              <a:ext cx="19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236520"/>
                  <a:tab algn="l" pos="473040"/>
                  <a:tab algn="l" pos="709560"/>
                  <a:tab algn="l" pos="946080"/>
                  <a:tab algn="l" pos="1182600"/>
                  <a:tab algn="l" pos="1419120"/>
                  <a:tab algn="l" pos="1655640"/>
                  <a:tab algn="l" pos="1892160"/>
                  <a:tab algn="l" pos="2128680"/>
                  <a:tab algn="l" pos="2365200"/>
                  <a:tab algn="l" pos="2602080"/>
                  <a:tab algn="l" pos="2838600"/>
                  <a:tab algn="l" pos="3075120"/>
                  <a:tab algn="l" pos="3311640"/>
                  <a:tab algn="l" pos="3548160"/>
                  <a:tab algn="l" pos="3784680"/>
                  <a:tab algn="l" pos="4021200"/>
                  <a:tab algn="l" pos="4257720"/>
                  <a:tab algn="l" pos="4494240"/>
                  <a:tab algn="l" pos="473076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6520" y="469800"/>
              <a:ext cx="16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236520"/>
                  <a:tab algn="l" pos="473040"/>
                  <a:tab algn="l" pos="709560"/>
                  <a:tab algn="l" pos="946080"/>
                  <a:tab algn="l" pos="1182600"/>
                  <a:tab algn="l" pos="1419120"/>
                  <a:tab algn="l" pos="1655640"/>
                  <a:tab algn="l" pos="1892160"/>
                  <a:tab algn="l" pos="2128680"/>
                  <a:tab algn="l" pos="2365200"/>
                  <a:tab algn="l" pos="2602080"/>
                  <a:tab algn="l" pos="2838600"/>
                  <a:tab algn="l" pos="3075120"/>
                  <a:tab algn="l" pos="3311640"/>
                  <a:tab algn="l" pos="3548160"/>
                  <a:tab algn="l" pos="3784680"/>
                  <a:tab algn="l" pos="4021200"/>
                  <a:tab algn="l" pos="4257720"/>
                  <a:tab algn="l" pos="4494240"/>
                  <a:tab algn="l" pos="473076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&gt;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96320" y="527040"/>
              <a:ext cx="16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236520"/>
                  <a:tab algn="l" pos="473040"/>
                  <a:tab algn="l" pos="709560"/>
                  <a:tab algn="l" pos="946080"/>
                  <a:tab algn="l" pos="1182600"/>
                  <a:tab algn="l" pos="1419120"/>
                  <a:tab algn="l" pos="1655640"/>
                  <a:tab algn="l" pos="1892160"/>
                  <a:tab algn="l" pos="2128680"/>
                  <a:tab algn="l" pos="2365200"/>
                  <a:tab algn="l" pos="2602080"/>
                  <a:tab algn="l" pos="2838600"/>
                  <a:tab algn="l" pos="3075120"/>
                  <a:tab algn="l" pos="3311640"/>
                  <a:tab algn="l" pos="3548160"/>
                  <a:tab algn="l" pos="3784680"/>
                  <a:tab algn="l" pos="4021200"/>
                  <a:tab algn="l" pos="4257720"/>
                  <a:tab algn="l" pos="4494240"/>
                  <a:tab algn="l" pos="473076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&lt;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0960" y="770040"/>
              <a:ext cx="168480" cy="17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0960" y="770040"/>
              <a:ext cx="168480" cy="172800"/>
            </a:xfrm>
            <a:prstGeom prst="ellipse">
              <a:avLst/>
            </a:prstGeom>
            <a:noFill/>
            <a:ln cap="sq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7960" y="800280"/>
              <a:ext cx="113040" cy="114120"/>
            </a:xfrm>
            <a:prstGeom prst="ellipse">
              <a:avLst/>
            </a:prstGeom>
            <a:noFill/>
            <a:ln cap="sq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57360" y="770040"/>
              <a:ext cx="168120" cy="17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57360" y="770040"/>
              <a:ext cx="168120" cy="172800"/>
            </a:xfrm>
            <a:prstGeom prst="ellipse">
              <a:avLst/>
            </a:prstGeom>
            <a:noFill/>
            <a:ln cap="sq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57360" y="136440"/>
              <a:ext cx="16812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7360" y="136440"/>
              <a:ext cx="168120" cy="173160"/>
            </a:xfrm>
            <a:prstGeom prst="ellipse">
              <a:avLst/>
            </a:prstGeom>
            <a:noFill/>
            <a:ln cap="sq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3440" y="182520"/>
              <a:ext cx="60120" cy="81000"/>
            </a:xfrm>
            <a:custGeom>
              <a:avLst/>
              <a:gdLst/>
              <a:ahLst/>
              <a:rect l="l" t="t" r="r" b="b"/>
              <a:pathLst>
                <a:path w="174" h="221">
                  <a:moveTo>
                    <a:pt x="174" y="34"/>
                  </a:moveTo>
                  <a:cubicBezTo>
                    <a:pt x="133" y="0"/>
                    <a:pt x="73" y="3"/>
                    <a:pt x="37" y="42"/>
                  </a:cubicBezTo>
                  <a:cubicBezTo>
                    <a:pt x="0" y="80"/>
                    <a:pt x="0" y="141"/>
                    <a:pt x="37" y="179"/>
                  </a:cubicBezTo>
                  <a:cubicBezTo>
                    <a:pt x="73" y="218"/>
                    <a:pt x="133" y="221"/>
                    <a:pt x="174" y="187"/>
                  </a:cubicBezTo>
                </a:path>
              </a:pathLst>
            </a:custGeom>
            <a:noFill/>
            <a:ln cap="sq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54640" y="816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236520"/>
                  <a:tab algn="l" pos="473040"/>
                  <a:tab algn="l" pos="709560"/>
                  <a:tab algn="l" pos="946080"/>
                  <a:tab algn="l" pos="1182600"/>
                  <a:tab algn="l" pos="1419120"/>
                  <a:tab algn="l" pos="1655640"/>
                  <a:tab algn="l" pos="1892160"/>
                  <a:tab algn="l" pos="2128680"/>
                  <a:tab algn="l" pos="2365200"/>
                  <a:tab algn="l" pos="2602080"/>
                  <a:tab algn="l" pos="2838600"/>
                  <a:tab algn="l" pos="3075120"/>
                  <a:tab algn="l" pos="3311640"/>
                  <a:tab algn="l" pos="3548160"/>
                  <a:tab algn="l" pos="3784680"/>
                  <a:tab algn="l" pos="4021200"/>
                  <a:tab algn="l" pos="4257720"/>
                  <a:tab algn="l" pos="4494240"/>
                  <a:tab algn="l" pos="473076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1600" y="696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236520"/>
                  <a:tab algn="l" pos="473040"/>
                  <a:tab algn="l" pos="709560"/>
                  <a:tab algn="l" pos="946080"/>
                  <a:tab algn="l" pos="1182600"/>
                  <a:tab algn="l" pos="1419120"/>
                  <a:tab algn="l" pos="1655640"/>
                  <a:tab algn="l" pos="1892160"/>
                  <a:tab algn="l" pos="2128680"/>
                  <a:tab algn="l" pos="2365200"/>
                  <a:tab algn="l" pos="2602080"/>
                  <a:tab algn="l" pos="2838600"/>
                  <a:tab algn="l" pos="3075120"/>
                  <a:tab algn="l" pos="3311640"/>
                  <a:tab algn="l" pos="3548160"/>
                  <a:tab algn="l" pos="3784680"/>
                  <a:tab algn="l" pos="4021200"/>
                  <a:tab algn="l" pos="4257720"/>
                  <a:tab algn="l" pos="4494240"/>
                  <a:tab algn="l" pos="473076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55000" y="741240"/>
              <a:ext cx="16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236520"/>
                  <a:tab algn="l" pos="473040"/>
                  <a:tab algn="l" pos="709560"/>
                  <a:tab algn="l" pos="946080"/>
                  <a:tab algn="l" pos="1182600"/>
                  <a:tab algn="l" pos="1419120"/>
                  <a:tab algn="l" pos="1655640"/>
                  <a:tab algn="l" pos="1892160"/>
                  <a:tab algn="l" pos="2128680"/>
                  <a:tab algn="l" pos="2365200"/>
                  <a:tab algn="l" pos="2602080"/>
                  <a:tab algn="l" pos="2838600"/>
                  <a:tab algn="l" pos="3075120"/>
                  <a:tab algn="l" pos="3311640"/>
                  <a:tab algn="l" pos="3548160"/>
                  <a:tab algn="l" pos="3784680"/>
                  <a:tab algn="l" pos="4021200"/>
                  <a:tab algn="l" pos="4257720"/>
                  <a:tab algn="l" pos="4494240"/>
                  <a:tab algn="l" pos="473076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&gt;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72120" y="2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236520"/>
                  <a:tab algn="l" pos="473040"/>
                  <a:tab algn="l" pos="709560"/>
                  <a:tab algn="l" pos="946080"/>
                  <a:tab algn="l" pos="1182600"/>
                  <a:tab algn="l" pos="1419120"/>
                  <a:tab algn="l" pos="1655640"/>
                  <a:tab algn="l" pos="1892160"/>
                  <a:tab algn="l" pos="2128680"/>
                  <a:tab algn="l" pos="2365200"/>
                  <a:tab algn="l" pos="2602080"/>
                  <a:tab algn="l" pos="2838600"/>
                  <a:tab algn="l" pos="3075120"/>
                  <a:tab algn="l" pos="3311640"/>
                  <a:tab algn="l" pos="3548160"/>
                  <a:tab algn="l" pos="3784680"/>
                  <a:tab algn="l" pos="4021200"/>
                  <a:tab algn="l" pos="4257720"/>
                  <a:tab algn="l" pos="4494240"/>
                  <a:tab algn="l" pos="473076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9640" y="946080"/>
              <a:ext cx="22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236520"/>
                  <a:tab algn="l" pos="473040"/>
                  <a:tab algn="l" pos="709560"/>
                  <a:tab algn="l" pos="946080"/>
                  <a:tab algn="l" pos="1182600"/>
                  <a:tab algn="l" pos="1419120"/>
                  <a:tab algn="l" pos="1655640"/>
                  <a:tab algn="l" pos="1892160"/>
                  <a:tab algn="l" pos="2128680"/>
                  <a:tab algn="l" pos="2365200"/>
                  <a:tab algn="l" pos="2602080"/>
                  <a:tab algn="l" pos="2838600"/>
                  <a:tab algn="l" pos="3075120"/>
                  <a:tab algn="l" pos="3311640"/>
                  <a:tab algn="l" pos="3548160"/>
                  <a:tab algn="l" pos="3784680"/>
                  <a:tab algn="l" pos="4021200"/>
                  <a:tab algn="l" pos="4257720"/>
                  <a:tab algn="l" pos="4494240"/>
                  <a:tab algn="l" pos="473076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&lt;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5920" y="857160"/>
              <a:ext cx="1164960" cy="0"/>
            </a:xfrm>
            <a:prstGeom prst="line">
              <a:avLst/>
            </a:prstGeom>
            <a:ln cap="rnd"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82840" y="838080"/>
              <a:ext cx="68040" cy="36720"/>
            </a:xfrm>
            <a:custGeom>
              <a:avLst/>
              <a:gdLst/>
              <a:ahLst/>
              <a:rect l="l" t="t" r="r" b="b"/>
              <a:pathLst>
                <a:path w="194" h="103">
                  <a:moveTo>
                    <a:pt x="0" y="103"/>
                  </a:moveTo>
                  <a:lnTo>
                    <a:pt x="194" y="52"/>
                  </a:lnTo>
                  <a:lnTo>
                    <a:pt x="0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641600" y="317160"/>
              <a:ext cx="0" cy="446040"/>
            </a:xfrm>
            <a:prstGeom prst="line">
              <a:avLst/>
            </a:prstGeom>
            <a:ln cap="rnd"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23960" y="317520"/>
              <a:ext cx="34920" cy="6840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103" y="193"/>
                  </a:moveTo>
                  <a:lnTo>
                    <a:pt x="52" y="0"/>
                  </a:lnTo>
                  <a:lnTo>
                    <a:pt x="0" y="193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200" y="223920"/>
              <a:ext cx="1255680" cy="539640"/>
            </a:xfrm>
            <a:custGeom>
              <a:avLst/>
              <a:gdLst/>
              <a:ahLst/>
              <a:rect l="l" t="t" r="r" b="b"/>
              <a:pathLst>
                <a:path w="3580" h="1500">
                  <a:moveTo>
                    <a:pt x="3580" y="0"/>
                  </a:moveTo>
                  <a:lnTo>
                    <a:pt x="200" y="0"/>
                  </a:lnTo>
                  <a:cubicBezTo>
                    <a:pt x="66" y="0"/>
                    <a:pt x="0" y="66"/>
                    <a:pt x="0" y="200"/>
                  </a:cubicBezTo>
                  <a:lnTo>
                    <a:pt x="0" y="150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6120" y="693720"/>
              <a:ext cx="36720" cy="69840"/>
            </a:xfrm>
            <a:custGeom>
              <a:avLst/>
              <a:gdLst/>
              <a:ahLst/>
              <a:rect l="l" t="t" r="r" b="b"/>
              <a:pathLst>
                <a:path w="103" h="194">
                  <a:moveTo>
                    <a:pt x="0" y="0"/>
                  </a:moveTo>
                  <a:lnTo>
                    <a:pt x="52" y="194"/>
                  </a:lnTo>
                  <a:lnTo>
                    <a:pt x="103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78000" y="261720"/>
              <a:ext cx="1180800" cy="555480"/>
            </a:xfrm>
            <a:prstGeom prst="line">
              <a:avLst/>
            </a:prstGeom>
            <a:ln cap="rnd"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88960" y="262080"/>
              <a:ext cx="69840" cy="45720"/>
            </a:xfrm>
            <a:custGeom>
              <a:avLst/>
              <a:gdLst/>
              <a:ahLst/>
              <a:rect l="l" t="t" r="r" b="b"/>
              <a:pathLst>
                <a:path w="197" h="127">
                  <a:moveTo>
                    <a:pt x="43" y="127"/>
                  </a:moveTo>
                  <a:lnTo>
                    <a:pt x="197" y="0"/>
                  </a:lnTo>
                  <a:lnTo>
                    <a:pt x="0" y="33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6:54:48Z</dcterms:created>
  <dc:creator>x</dc:creator>
  <dc:description/>
  <dc:language>en-US</dc:language>
  <cp:lastModifiedBy>x</cp:lastModifiedBy>
  <dcterms:modified xsi:type="dcterms:W3CDTF">2009-06-27T16:57:21Z</dcterms:modified>
  <cp:revision>2</cp:revision>
  <dc:subject/>
  <dc:title>Folie 1</dc:title>
</cp:coreProperties>
</file>