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3575" cy="1079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E5D-43D8-49E1-A9F2-C28BB204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200" y="29520"/>
            <a:ext cx="2882880" cy="207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200" y="252360"/>
            <a:ext cx="288288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200" y="624240"/>
            <a:ext cx="288288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663-4BA0-4A9F-859C-39DBBAF5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200" y="29520"/>
            <a:ext cx="2882880" cy="207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200" y="252360"/>
            <a:ext cx="14065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7280" y="252360"/>
            <a:ext cx="14065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200" y="624240"/>
            <a:ext cx="14065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7280" y="624240"/>
            <a:ext cx="14065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8B1-F3FE-4F93-AE8C-C2CEE4B7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200" y="29520"/>
            <a:ext cx="2882880" cy="207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200" y="252360"/>
            <a:ext cx="92808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35080" y="252360"/>
            <a:ext cx="92808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9960" y="252360"/>
            <a:ext cx="92808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200" y="624240"/>
            <a:ext cx="92808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35080" y="624240"/>
            <a:ext cx="92808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9960" y="624240"/>
            <a:ext cx="92808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121-2C76-49F4-86EC-388A996C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200" y="29520"/>
            <a:ext cx="2882880" cy="207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200" y="252360"/>
            <a:ext cx="288288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405-1470-4AE0-ADD6-A5A53C49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200" y="29520"/>
            <a:ext cx="2882880" cy="207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200" y="252360"/>
            <a:ext cx="2882880" cy="711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66AC-09DD-4C8C-9046-5B011DDB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200" y="29520"/>
            <a:ext cx="2882880" cy="207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200" y="252360"/>
            <a:ext cx="1406520" cy="711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7280" y="252360"/>
            <a:ext cx="1406520" cy="711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5659-ECAD-4B5C-8D4F-F6920706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200" y="29520"/>
            <a:ext cx="2882880" cy="207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27FE-C7DA-44C1-BCA2-1DA09229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200" y="42480"/>
            <a:ext cx="2882880" cy="8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5D0A-ED57-4598-A831-2A82590E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200" y="29520"/>
            <a:ext cx="2882880" cy="207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200" y="252360"/>
            <a:ext cx="14065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7280" y="252360"/>
            <a:ext cx="1406520" cy="711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200" y="624240"/>
            <a:ext cx="14065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9867-B588-40BF-A3EE-4202949A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200" y="29520"/>
            <a:ext cx="2882880" cy="207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200" y="252360"/>
            <a:ext cx="1406520" cy="711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7280" y="252360"/>
            <a:ext cx="14065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7280" y="624240"/>
            <a:ext cx="14065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87E-2E5A-49C7-A872-7FF29768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200" y="29520"/>
            <a:ext cx="2882880" cy="207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200" y="252360"/>
            <a:ext cx="14065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7280" y="252360"/>
            <a:ext cx="140652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200" y="624240"/>
            <a:ext cx="2882880" cy="3391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32D-346E-41DC-AD8B-F5EF539A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200" y="42480"/>
            <a:ext cx="2882880" cy="18108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ctr">
            <a:noAutofit/>
          </a:bodyPr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200" y="252360"/>
            <a:ext cx="2882880" cy="71136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rmAutofit fontScale="61000"/>
          </a:bodyPr>
          <a:p>
            <a:pPr marL="56160" indent="-5616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20960" indent="-4608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86840" indent="-374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261360" indent="-374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-37440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-37440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-37440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9840" y="982440"/>
            <a:ext cx="747720" cy="745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Autofit/>
          </a:bodyPr>
          <a:lstStyle>
            <a:lvl1pPr indent="0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320" y="982440"/>
            <a:ext cx="1016280" cy="745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Autofit/>
          </a:bodyPr>
          <a:lstStyle>
            <a:lvl1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5000" y="982440"/>
            <a:ext cx="747720" cy="74520"/>
          </a:xfrm>
          <a:prstGeom prst="rect">
            <a:avLst/>
          </a:prstGeom>
          <a:noFill/>
          <a:ln w="0">
            <a:noFill/>
          </a:ln>
        </p:spPr>
        <p:txBody>
          <a:bodyPr lIns="24480" rIns="24480" tIns="12240" bIns="12240" anchor="t">
            <a:noAutofit/>
          </a:bodyPr>
          <a:lstStyle>
            <a:lvl1pPr indent="0" algn="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4444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</a:tabLst>
            </a:pPr>
            <a:fld id="{71CA6E23-6D1A-4288-8657-ED0B699D7B33}" type="slidenum">
              <a:rPr b="0" lang="en-US" sz="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8960"/>
            <a:ext cx="3241080" cy="1052640"/>
            <a:chOff x="0" y="48960"/>
            <a:chExt cx="3241080" cy="1052640"/>
          </a:xfrm>
        </p:grpSpPr>
        <p:sp>
          <p:nvSpPr>
            <p:cNvPr id="42" name=""/>
            <p:cNvSpPr/>
            <p:nvPr/>
          </p:nvSpPr>
          <p:spPr>
            <a:xfrm>
              <a:off x="28800" y="885960"/>
              <a:ext cx="790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Letter Gothic"/>
                </a:rPr>
                <a:t>Template 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303200" y="885960"/>
              <a:ext cx="790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Letter Gothic"/>
                </a:rPr>
                <a:t>Template 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450880" y="885960"/>
              <a:ext cx="790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Letter Gothic"/>
                </a:rPr>
                <a:t>Template 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0" y="49320"/>
              <a:ext cx="798480" cy="814320"/>
              <a:chOff x="0" y="49320"/>
              <a:chExt cx="798480" cy="814320"/>
            </a:xfrm>
          </p:grpSpPr>
          <p:sp>
            <p:nvSpPr>
              <p:cNvPr id="46" name=""/>
              <p:cNvSpPr/>
              <p:nvPr/>
            </p:nvSpPr>
            <p:spPr>
              <a:xfrm>
                <a:off x="0" y="4932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49560" y="690840"/>
                <a:ext cx="167760" cy="17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49560" y="690840"/>
                <a:ext cx="167760" cy="17280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49560" y="57240"/>
                <a:ext cx="167760" cy="17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49560" y="57240"/>
                <a:ext cx="167760" cy="1713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76920" y="85680"/>
                <a:ext cx="112680" cy="11448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400" y="368280"/>
                <a:ext cx="109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?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12440" y="3891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!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83480" y="220680"/>
                <a:ext cx="160920" cy="482760"/>
              </a:xfrm>
              <a:custGeom>
                <a:avLst/>
                <a:gdLst/>
                <a:ahLst/>
                <a:rect l="l" t="t" r="r" b="b"/>
                <a:pathLst>
                  <a:path w="459" h="1340">
                    <a:moveTo>
                      <a:pt x="0" y="0"/>
                    </a:moveTo>
                    <a:lnTo>
                      <a:pt x="385" y="577"/>
                    </a:lnTo>
                    <a:cubicBezTo>
                      <a:pt x="459" y="688"/>
                      <a:pt x="454" y="796"/>
                      <a:pt x="371" y="900"/>
                    </a:cubicBezTo>
                    <a:lnTo>
                      <a:pt x="18" y="134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9960" y="638280"/>
                <a:ext cx="56160" cy="65160"/>
              </a:xfrm>
              <a:custGeom>
                <a:avLst/>
                <a:gdLst/>
                <a:ahLst/>
                <a:rect l="l" t="t" r="r" b="b"/>
                <a:pathLst>
                  <a:path w="161" h="183">
                    <a:moveTo>
                      <a:pt x="80" y="0"/>
                    </a:moveTo>
                    <a:lnTo>
                      <a:pt x="0" y="183"/>
                    </a:lnTo>
                    <a:lnTo>
                      <a:pt x="161" y="65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2480" y="220680"/>
                <a:ext cx="160920" cy="482760"/>
              </a:xfrm>
              <a:custGeom>
                <a:avLst/>
                <a:gdLst/>
                <a:ahLst/>
                <a:rect l="l" t="t" r="r" b="b"/>
                <a:pathLst>
                  <a:path w="459" h="1340">
                    <a:moveTo>
                      <a:pt x="441" y="1340"/>
                    </a:moveTo>
                    <a:lnTo>
                      <a:pt x="88" y="900"/>
                    </a:lnTo>
                    <a:cubicBezTo>
                      <a:pt x="5" y="796"/>
                      <a:pt x="0" y="688"/>
                      <a:pt x="74" y="577"/>
                    </a:cubicBezTo>
                    <a:lnTo>
                      <a:pt x="459" y="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30120" y="220680"/>
                <a:ext cx="53280" cy="68400"/>
              </a:xfrm>
              <a:custGeom>
                <a:avLst/>
                <a:gdLst/>
                <a:ahLst/>
                <a:rect l="l" t="t" r="r" b="b"/>
                <a:pathLst>
                  <a:path w="150" h="189">
                    <a:moveTo>
                      <a:pt x="86" y="189"/>
                    </a:moveTo>
                    <a:lnTo>
                      <a:pt x="150" y="0"/>
                    </a:lnTo>
                    <a:lnTo>
                      <a:pt x="0" y="132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278360" y="49320"/>
              <a:ext cx="828000" cy="755640"/>
              <a:chOff x="1278360" y="49320"/>
              <a:chExt cx="828000" cy="755640"/>
            </a:xfrm>
          </p:grpSpPr>
          <p:sp>
            <p:nvSpPr>
              <p:cNvPr id="59" name=""/>
              <p:cNvSpPr/>
              <p:nvPr/>
            </p:nvSpPr>
            <p:spPr>
              <a:xfrm>
                <a:off x="1278360" y="4932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27920" y="631800"/>
                <a:ext cx="16704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27920" y="631800"/>
                <a:ext cx="167040" cy="173160"/>
              </a:xfrm>
              <a:prstGeom prst="ellipse">
                <a:avLst/>
              </a:prstGeom>
              <a:noFill/>
              <a:ln cap="sq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627920" y="57240"/>
                <a:ext cx="167040" cy="17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627920" y="57240"/>
                <a:ext cx="167040" cy="171360"/>
              </a:xfrm>
              <a:prstGeom prst="ellipse">
                <a:avLst/>
              </a:prstGeom>
              <a:noFill/>
              <a:ln cap="sq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55280" y="85680"/>
                <a:ext cx="112320" cy="114480"/>
              </a:xfrm>
              <a:prstGeom prst="ellipse">
                <a:avLst/>
              </a:prstGeom>
              <a:noFill/>
              <a:ln cap="sq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293120" y="3384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!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992960" y="3319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?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63280" y="220680"/>
                <a:ext cx="159480" cy="432000"/>
              </a:xfrm>
              <a:custGeom>
                <a:avLst/>
                <a:gdLst/>
                <a:ahLst/>
                <a:rect l="l" t="t" r="r" b="b"/>
                <a:pathLst>
                  <a:path w="459" h="1200">
                    <a:moveTo>
                      <a:pt x="0" y="0"/>
                    </a:moveTo>
                    <a:lnTo>
                      <a:pt x="385" y="577"/>
                    </a:lnTo>
                    <a:cubicBezTo>
                      <a:pt x="459" y="688"/>
                      <a:pt x="448" y="791"/>
                      <a:pt x="354" y="885"/>
                    </a:cubicBezTo>
                    <a:lnTo>
                      <a:pt x="39" y="120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76240" y="590760"/>
                <a:ext cx="60840" cy="61920"/>
              </a:xfrm>
              <a:custGeom>
                <a:avLst/>
                <a:gdLst/>
                <a:ahLst/>
                <a:rect l="l" t="t" r="r" b="b"/>
                <a:pathLst>
                  <a:path w="174" h="174">
                    <a:moveTo>
                      <a:pt x="100" y="0"/>
                    </a:moveTo>
                    <a:lnTo>
                      <a:pt x="0" y="174"/>
                    </a:lnTo>
                    <a:lnTo>
                      <a:pt x="174" y="7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00480" y="220680"/>
                <a:ext cx="160920" cy="432000"/>
              </a:xfrm>
              <a:custGeom>
                <a:avLst/>
                <a:gdLst/>
                <a:ahLst/>
                <a:rect l="l" t="t" r="r" b="b"/>
                <a:pathLst>
                  <a:path w="459" h="1200">
                    <a:moveTo>
                      <a:pt x="420" y="1200"/>
                    </a:moveTo>
                    <a:lnTo>
                      <a:pt x="105" y="885"/>
                    </a:lnTo>
                    <a:cubicBezTo>
                      <a:pt x="11" y="791"/>
                      <a:pt x="0" y="688"/>
                      <a:pt x="74" y="577"/>
                    </a:cubicBezTo>
                    <a:lnTo>
                      <a:pt x="459" y="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08480" y="220680"/>
                <a:ext cx="52920" cy="68400"/>
              </a:xfrm>
              <a:custGeom>
                <a:avLst/>
                <a:gdLst/>
                <a:ahLst/>
                <a:rect l="l" t="t" r="r" b="b"/>
                <a:pathLst>
                  <a:path w="150" h="189">
                    <a:moveTo>
                      <a:pt x="86" y="189"/>
                    </a:moveTo>
                    <a:lnTo>
                      <a:pt x="150" y="0"/>
                    </a:lnTo>
                    <a:lnTo>
                      <a:pt x="0" y="132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2448720" y="49320"/>
              <a:ext cx="743040" cy="755640"/>
              <a:chOff x="2448720" y="49320"/>
              <a:chExt cx="743040" cy="755640"/>
            </a:xfrm>
          </p:grpSpPr>
          <p:sp>
            <p:nvSpPr>
              <p:cNvPr id="72" name=""/>
              <p:cNvSpPr/>
              <p:nvPr/>
            </p:nvSpPr>
            <p:spPr>
              <a:xfrm>
                <a:off x="2448720" y="49320"/>
                <a:ext cx="1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769480" y="631800"/>
                <a:ext cx="16776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69480" y="631800"/>
                <a:ext cx="167760" cy="1731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769480" y="57240"/>
                <a:ext cx="167760" cy="17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769480" y="57240"/>
                <a:ext cx="167760" cy="17136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98280" y="85680"/>
                <a:ext cx="111240" cy="114480"/>
              </a:xfrm>
              <a:prstGeom prst="ellipse">
                <a:avLst/>
              </a:prstGeom>
              <a:noFill/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462760" y="333360"/>
                <a:ext cx="8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!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078360" y="3333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?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911320" y="216000"/>
                <a:ext cx="151200" cy="430200"/>
              </a:xfrm>
              <a:custGeom>
                <a:avLst/>
                <a:gdLst/>
                <a:ahLst/>
                <a:rect l="l" t="t" r="r" b="b"/>
                <a:pathLst>
                  <a:path w="436" h="1193">
                    <a:moveTo>
                      <a:pt x="0" y="0"/>
                    </a:moveTo>
                    <a:lnTo>
                      <a:pt x="353" y="440"/>
                    </a:lnTo>
                    <a:cubicBezTo>
                      <a:pt x="436" y="544"/>
                      <a:pt x="436" y="649"/>
                      <a:pt x="353" y="753"/>
                    </a:cubicBezTo>
                    <a:lnTo>
                      <a:pt x="0" y="1193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911320" y="579600"/>
                <a:ext cx="56160" cy="66600"/>
              </a:xfrm>
              <a:custGeom>
                <a:avLst/>
                <a:gdLst/>
                <a:ahLst/>
                <a:rect l="l" t="t" r="r" b="b"/>
                <a:pathLst>
                  <a:path w="161" h="183">
                    <a:moveTo>
                      <a:pt x="80" y="0"/>
                    </a:moveTo>
                    <a:lnTo>
                      <a:pt x="0" y="183"/>
                    </a:lnTo>
                    <a:lnTo>
                      <a:pt x="161" y="65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645280" y="216000"/>
                <a:ext cx="151560" cy="430200"/>
              </a:xfrm>
              <a:custGeom>
                <a:avLst/>
                <a:gdLst/>
                <a:ahLst/>
                <a:rect l="l" t="t" r="r" b="b"/>
                <a:pathLst>
                  <a:path w="436" h="1193">
                    <a:moveTo>
                      <a:pt x="436" y="1193"/>
                    </a:moveTo>
                    <a:lnTo>
                      <a:pt x="83" y="753"/>
                    </a:lnTo>
                    <a:cubicBezTo>
                      <a:pt x="0" y="649"/>
                      <a:pt x="0" y="544"/>
                      <a:pt x="83" y="440"/>
                    </a:cubicBezTo>
                    <a:lnTo>
                      <a:pt x="436" y="0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740680" y="216000"/>
                <a:ext cx="56160" cy="66600"/>
              </a:xfrm>
              <a:custGeom>
                <a:avLst/>
                <a:gdLst/>
                <a:ahLst/>
                <a:rect l="l" t="t" r="r" b="b"/>
                <a:pathLst>
                  <a:path w="161" h="183">
                    <a:moveTo>
                      <a:pt x="81" y="183"/>
                    </a:moveTo>
                    <a:lnTo>
                      <a:pt x="161" y="0"/>
                    </a:lnTo>
                    <a:lnTo>
                      <a:pt x="0" y="118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V="1">
              <a:off x="1059120" y="48960"/>
              <a:ext cx="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303640" y="48960"/>
              <a:ext cx="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4:12:30Z</dcterms:created>
  <dc:creator>x</dc:creator>
  <dc:description/>
  <dc:language>en-US</dc:language>
  <cp:lastModifiedBy>x</cp:lastModifiedBy>
  <dcterms:modified xsi:type="dcterms:W3CDTF">2009-06-27T15:10:59Z</dcterms:modified>
  <cp:revision>2</cp:revision>
  <dc:subject/>
  <dc:title>Folie 1</dc:title>
</cp:coreProperties>
</file>