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10.png" ContentType="image/png"/>
  <Override PartName="/ppt/media/image28.wmf" ContentType="image/x-wmf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de-CH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715680" y="744120"/>
            <a:ext cx="537516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0" y="9426240"/>
            <a:ext cx="29462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de-CH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4"/>
          </p:nvPr>
        </p:nvSpPr>
        <p:spPr>
          <a:xfrm>
            <a:off x="3851280" y="9426240"/>
            <a:ext cx="29462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de-CH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B6187E7-2D97-4E3A-9C53-5321257550AA}" type="slidenum">
              <a:rPr b="0" lang="de-CH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CA06-BA54-4D75-BB7C-EB471E646A7C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25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94F3-C98E-4CED-925A-2B4D16C3722E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25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A155-8BB4-4C10-AF8F-9E0477128A4C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25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"/>
          <p:cNvSpPr txBox="1"/>
          <p:nvPr/>
        </p:nvSpPr>
        <p:spPr>
          <a:xfrm>
            <a:off x="3851280" y="9426240"/>
            <a:ext cx="29462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DC43762-AEAA-445C-86E1-033789399F8A}" type="slidenum">
              <a:rPr b="0" lang="de-CH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 txBox="1"/>
          <p:nvPr/>
        </p:nvSpPr>
        <p:spPr>
          <a:xfrm>
            <a:off x="0" y="9426240"/>
            <a:ext cx="29462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 txBox="1"/>
          <p:nvPr/>
        </p:nvSpPr>
        <p:spPr>
          <a:xfrm>
            <a:off x="0" y="-360"/>
            <a:ext cx="29462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 txBox="1"/>
          <p:nvPr/>
        </p:nvSpPr>
        <p:spPr>
          <a:xfrm>
            <a:off x="3851280" y="-360"/>
            <a:ext cx="29462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PlaceHolder 1"/>
          <p:cNvSpPr>
            <a:spLocks noGrp="1"/>
          </p:cNvSpPr>
          <p:nvPr>
            <p:ph type="sldImg"/>
          </p:nvPr>
        </p:nvSpPr>
        <p:spPr>
          <a:xfrm>
            <a:off x="712800" y="739800"/>
            <a:ext cx="5380200" cy="3726000"/>
          </a:xfrm>
          <a:prstGeom prst="rect">
            <a:avLst/>
          </a:prstGeom>
          <a:ln w="0">
            <a:noFill/>
          </a:ln>
        </p:spPr>
      </p:sp>
      <p:sp>
        <p:nvSpPr>
          <p:cNvPr id="259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009D-0B46-4E12-91CF-E075D0F43793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25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6AA5-5411-418E-8F45-DF19C59AD409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25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D47D-8AC8-4F4D-8814-53055C237B49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26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"/>
          <p:cNvSpPr txBox="1"/>
          <p:nvPr/>
        </p:nvSpPr>
        <p:spPr>
          <a:xfrm>
            <a:off x="3851280" y="9426240"/>
            <a:ext cx="29462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A82E6AC-48C6-46F9-8C1A-51F756436D60}" type="slidenum">
              <a:rPr b="0" lang="de-CH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 txBox="1"/>
          <p:nvPr/>
        </p:nvSpPr>
        <p:spPr>
          <a:xfrm>
            <a:off x="0" y="9426240"/>
            <a:ext cx="29462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 txBox="1"/>
          <p:nvPr/>
        </p:nvSpPr>
        <p:spPr>
          <a:xfrm>
            <a:off x="0" y="-360"/>
            <a:ext cx="29462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 txBox="1"/>
          <p:nvPr/>
        </p:nvSpPr>
        <p:spPr>
          <a:xfrm>
            <a:off x="3851280" y="-360"/>
            <a:ext cx="29462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sldImg"/>
          </p:nvPr>
        </p:nvSpPr>
        <p:spPr>
          <a:xfrm>
            <a:off x="712800" y="739800"/>
            <a:ext cx="5380200" cy="3726000"/>
          </a:xfrm>
          <a:prstGeom prst="rect">
            <a:avLst/>
          </a:prstGeom>
          <a:ln w="0">
            <a:noFill/>
          </a:ln>
        </p:spPr>
      </p:sp>
      <p:sp>
        <p:nvSpPr>
          <p:cNvPr id="256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1D45-94AC-4156-A26F-7493E0865413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26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3851280" y="9426240"/>
            <a:ext cx="29462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EB1328A-4AEE-4E18-ABF4-34E5A4745988}" type="slidenum">
              <a:rPr b="0" lang="de-CH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0" y="9426240"/>
            <a:ext cx="29462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0" y="-360"/>
            <a:ext cx="29462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3851280" y="-360"/>
            <a:ext cx="29462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1"/>
          <p:cNvSpPr>
            <a:spLocks noGrp="1"/>
          </p:cNvSpPr>
          <p:nvPr>
            <p:ph type="sldImg"/>
          </p:nvPr>
        </p:nvSpPr>
        <p:spPr>
          <a:xfrm>
            <a:off x="712800" y="739800"/>
            <a:ext cx="5380200" cy="3726000"/>
          </a:xfrm>
          <a:prstGeom prst="rect">
            <a:avLst/>
          </a:prstGeom>
          <a:ln w="0">
            <a:noFill/>
          </a:ln>
        </p:spPr>
      </p:sp>
      <p:sp>
        <p:nvSpPr>
          <p:cNvPr id="257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002A-29DC-4DF7-8CC8-6E4801CF2626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25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74320" y="6600600"/>
            <a:ext cx="6824520" cy="1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92897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92897d"/>
                </a:solidFill>
                <a:latin typeface="Arial"/>
              </a:rPr>
              <a:t>Seite </a:t>
            </a:r>
            <a:fld id="{060F44A3-A862-4025-9A23-268472502EDB}" type="slidenum">
              <a:rPr b="0" lang="de-CH" sz="1000" spc="-1" strike="noStrike">
                <a:solidFill>
                  <a:srgbClr val="92897d"/>
                </a:solidFill>
                <a:latin typeface="Arial"/>
              </a:rPr>
              <a:t>&lt;number&gt;</a:t>
            </a:fld>
            <a:r>
              <a:rPr b="0" lang="de-CH" sz="1000" spc="-1" strike="noStrike">
                <a:solidFill>
                  <a:srgbClr val="92897d"/>
                </a:solidFill>
                <a:latin typeface="Arial"/>
              </a:rPr>
              <a:t> </a:t>
            </a:r>
            <a:r>
              <a:rPr b="0" lang="de-CH" sz="1000" spc="-1" strike="noStrike">
                <a:solidFill>
                  <a:srgbClr val="92897d"/>
                </a:solidFill>
                <a:latin typeface="Arial"/>
                <a:ea typeface="Arial"/>
              </a:rPr>
              <a:t>| </a:t>
            </a:r>
            <a:r>
              <a:rPr b="0" lang="de-CH" sz="1000" spc="-1" strike="noStrike">
                <a:solidFill>
                  <a:srgbClr val="92897d"/>
                </a:solidFill>
                <a:latin typeface="Arial"/>
              </a:rPr>
              <a:t>27.06.2011</a:t>
            </a:r>
            <a:r>
              <a:rPr b="0" lang="de-CH" sz="1000" spc="-1" strike="noStrike">
                <a:solidFill>
                  <a:srgbClr val="92897d"/>
                </a:solidFill>
                <a:latin typeface="Arial"/>
                <a:ea typeface="Arial"/>
              </a:rPr>
              <a:t> | </a:t>
            </a:r>
            <a:r>
              <a:rPr b="0" lang="de-DE" sz="1000" spc="-1" strike="noStrike">
                <a:solidFill>
                  <a:srgbClr val="92897d"/>
                </a:solidFill>
                <a:latin typeface="Arial"/>
                <a:ea typeface="Arial"/>
              </a:rPr>
              <a:t>Testing von Informationssystemen</a:t>
            </a:r>
            <a:r>
              <a:rPr b="0" lang="de-CH" sz="1000" spc="-1" strike="noStrike">
                <a:solidFill>
                  <a:srgbClr val="92897d"/>
                </a:solidFill>
                <a:latin typeface="Arial"/>
                <a:ea typeface="Arial"/>
              </a:rPr>
              <a:t> </a:t>
            </a:r>
            <a:r>
              <a:rPr b="0" lang="de-CH" sz="1000" spc="-1" strike="noStrike">
                <a:solidFill>
                  <a:srgbClr val="92897d"/>
                </a:solidFill>
                <a:latin typeface="Arial"/>
              </a:rPr>
              <a:t>| L. Pilor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Base" hidden="1"/>
          <p:cNvSpPr/>
          <p:nvPr/>
        </p:nvSpPr>
        <p:spPr>
          <a:xfrm>
            <a:off x="1650960" y="1397160"/>
            <a:ext cx="66042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a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4080" y="2133360"/>
            <a:ext cx="8399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736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7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7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9.wmf"/><Relationship Id="rId10" Type="http://schemas.openxmlformats.org/officeDocument/2006/relationships/image" Target="../media/image29.wmf"/><Relationship Id="rId11" Type="http://schemas.openxmlformats.org/officeDocument/2006/relationships/image" Target="../media/image29.wmf"/><Relationship Id="rId1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a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4080" y="2133360"/>
            <a:ext cx="869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Testing von Informationssystemen </a:t>
            </a:r>
            <a:br>
              <a:rPr sz="3800"/>
            </a:b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(Folien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714320" y="4167360"/>
            <a:ext cx="6127560" cy="10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iertes und Prozessorientiertes Testen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0880" y="1281240"/>
            <a:ext cx="8871120" cy="338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7659720" y="1414440"/>
            <a:ext cx="1398600" cy="395280"/>
            <a:chOff x="7659720" y="1414440"/>
            <a:chExt cx="1398600" cy="395280"/>
          </a:xfrm>
        </p:grpSpPr>
        <p:sp>
          <p:nvSpPr>
            <p:cNvPr id="365" name=""/>
            <p:cNvSpPr/>
            <p:nvPr/>
          </p:nvSpPr>
          <p:spPr>
            <a:xfrm>
              <a:off x="7659720" y="1414440"/>
              <a:ext cx="1398600" cy="39528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st Mana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8889480" y="1488960"/>
              <a:ext cx="108360" cy="212400"/>
              <a:chOff x="8889480" y="1488960"/>
              <a:chExt cx="108360" cy="212400"/>
            </a:xfrm>
          </p:grpSpPr>
          <p:sp>
            <p:nvSpPr>
              <p:cNvPr id="367" name=""/>
              <p:cNvSpPr/>
              <p:nvPr/>
            </p:nvSpPr>
            <p:spPr>
              <a:xfrm>
                <a:off x="8904600" y="1488960"/>
                <a:ext cx="73800" cy="65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941320" y="155412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941320" y="1641240"/>
                <a:ext cx="3924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8901000" y="1641240"/>
                <a:ext cx="3888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8889480" y="1589400"/>
                <a:ext cx="108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2" name=""/>
          <p:cNvGrpSpPr/>
          <p:nvPr/>
        </p:nvGrpSpPr>
        <p:grpSpPr>
          <a:xfrm>
            <a:off x="500040" y="1433520"/>
            <a:ext cx="1398600" cy="395280"/>
            <a:chOff x="500040" y="1433520"/>
            <a:chExt cx="1398600" cy="395280"/>
          </a:xfrm>
        </p:grpSpPr>
        <p:sp>
          <p:nvSpPr>
            <p:cNvPr id="373" name=""/>
            <p:cNvSpPr/>
            <p:nvPr/>
          </p:nvSpPr>
          <p:spPr>
            <a:xfrm>
              <a:off x="500040" y="1433520"/>
              <a:ext cx="1398600" cy="39528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st Mana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1729800" y="1508040"/>
              <a:ext cx="108360" cy="212400"/>
              <a:chOff x="1729800" y="1508040"/>
              <a:chExt cx="108360" cy="212400"/>
            </a:xfrm>
          </p:grpSpPr>
          <p:sp>
            <p:nvSpPr>
              <p:cNvPr id="375" name=""/>
              <p:cNvSpPr/>
              <p:nvPr/>
            </p:nvSpPr>
            <p:spPr>
              <a:xfrm>
                <a:off x="1744920" y="1508040"/>
                <a:ext cx="73800" cy="65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81640" y="15732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781640" y="1660320"/>
                <a:ext cx="3924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1741320" y="1660320"/>
                <a:ext cx="3888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1729800" y="1608480"/>
                <a:ext cx="108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2098800" y="1978200"/>
            <a:ext cx="1400040" cy="395280"/>
            <a:chOff x="2098800" y="1978200"/>
            <a:chExt cx="1400040" cy="395280"/>
          </a:xfrm>
        </p:grpSpPr>
        <p:sp>
          <p:nvSpPr>
            <p:cNvPr id="381" name=""/>
            <p:cNvSpPr/>
            <p:nvPr/>
          </p:nvSpPr>
          <p:spPr>
            <a:xfrm>
              <a:off x="2098800" y="1978200"/>
              <a:ext cx="1400040" cy="39528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s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Verantwortlic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3330000" y="2052720"/>
              <a:ext cx="108360" cy="212400"/>
              <a:chOff x="3330000" y="2052720"/>
              <a:chExt cx="108360" cy="212400"/>
            </a:xfrm>
          </p:grpSpPr>
          <p:sp>
            <p:nvSpPr>
              <p:cNvPr id="383" name=""/>
              <p:cNvSpPr/>
              <p:nvPr/>
            </p:nvSpPr>
            <p:spPr>
              <a:xfrm>
                <a:off x="3345120" y="2052720"/>
                <a:ext cx="73800" cy="65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381840" y="2117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381840" y="2205000"/>
                <a:ext cx="3924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3341520" y="2205000"/>
                <a:ext cx="3888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3330000" y="2153160"/>
                <a:ext cx="108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4332240" y="2158920"/>
            <a:ext cx="1400400" cy="395280"/>
            <a:chOff x="4332240" y="2158920"/>
            <a:chExt cx="1400400" cy="395280"/>
          </a:xfrm>
        </p:grpSpPr>
        <p:sp>
          <p:nvSpPr>
            <p:cNvPr id="389" name=""/>
            <p:cNvSpPr/>
            <p:nvPr/>
          </p:nvSpPr>
          <p:spPr>
            <a:xfrm>
              <a:off x="4332240" y="2158920"/>
              <a:ext cx="1400400" cy="39528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5563440" y="2233440"/>
              <a:ext cx="108720" cy="212400"/>
              <a:chOff x="5563440" y="2233440"/>
              <a:chExt cx="108720" cy="212400"/>
            </a:xfrm>
          </p:grpSpPr>
          <p:sp>
            <p:nvSpPr>
              <p:cNvPr id="391" name=""/>
              <p:cNvSpPr/>
              <p:nvPr/>
            </p:nvSpPr>
            <p:spPr>
              <a:xfrm>
                <a:off x="5578560" y="2233440"/>
                <a:ext cx="74160" cy="65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615280" y="22986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615280" y="2385720"/>
                <a:ext cx="3924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5574600" y="2385720"/>
                <a:ext cx="3924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5563440" y="2333880"/>
                <a:ext cx="1087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6" name=""/>
          <p:cNvSpPr/>
          <p:nvPr/>
        </p:nvSpPr>
        <p:spPr>
          <a:xfrm>
            <a:off x="730080" y="3213000"/>
            <a:ext cx="1130400" cy="120672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1206720"/>
              <a:gd name="textAreaBottom" fmla="*/ 1206720 h 120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4" y="0"/>
                </a:lnTo>
                <a:lnTo>
                  <a:pt x="21600" y="10800"/>
                </a:lnTo>
                <a:lnTo>
                  <a:pt x="18714" y="21600"/>
                </a:lnTo>
                <a:lnTo>
                  <a:pt x="0" y="21600"/>
                </a:lnTo>
                <a:lnTo>
                  <a:pt x="2886" y="10800"/>
                </a:lnTo>
                <a:close/>
              </a:path>
            </a:pathLst>
          </a:custGeom>
          <a:solidFill>
            <a:srgbClr val="c0c0c0">
              <a:alpha val="48000"/>
            </a:srgbClr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792440" y="3213000"/>
            <a:ext cx="1130040" cy="1206720"/>
          </a:xfrm>
          <a:custGeom>
            <a:avLst/>
            <a:gdLst>
              <a:gd name="textAreaLeft" fmla="*/ 0 w 1130040"/>
              <a:gd name="textAreaRight" fmla="*/ 1130400 w 1130040"/>
              <a:gd name="textAreaTop" fmla="*/ 0 h 1206720"/>
              <a:gd name="textAreaBottom" fmla="*/ 1206720 h 120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4" y="0"/>
                </a:lnTo>
                <a:lnTo>
                  <a:pt x="21600" y="10800"/>
                </a:lnTo>
                <a:lnTo>
                  <a:pt x="18714" y="21600"/>
                </a:lnTo>
                <a:lnTo>
                  <a:pt x="0" y="21600"/>
                </a:lnTo>
                <a:lnTo>
                  <a:pt x="2886" y="10800"/>
                </a:lnTo>
                <a:close/>
              </a:path>
            </a:pathLst>
          </a:custGeom>
          <a:solidFill>
            <a:srgbClr val="c0c0c0">
              <a:alpha val="48000"/>
            </a:srgbClr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55880" y="3213000"/>
            <a:ext cx="965160" cy="1206720"/>
          </a:xfrm>
          <a:custGeom>
            <a:avLst/>
            <a:gdLst>
              <a:gd name="textAreaLeft" fmla="*/ 0 w 965160"/>
              <a:gd name="textAreaRight" fmla="*/ 965520 w 965160"/>
              <a:gd name="textAreaTop" fmla="*/ 0 h 1206720"/>
              <a:gd name="textAreaBottom" fmla="*/ 1206720 h 120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7" y="0"/>
                </a:lnTo>
                <a:lnTo>
                  <a:pt x="21600" y="10800"/>
                </a:lnTo>
                <a:lnTo>
                  <a:pt x="18317" y="21600"/>
                </a:lnTo>
                <a:lnTo>
                  <a:pt x="0" y="21600"/>
                </a:lnTo>
                <a:lnTo>
                  <a:pt x="3283" y="10800"/>
                </a:lnTo>
                <a:close/>
              </a:path>
            </a:pathLst>
          </a:custGeom>
          <a:solidFill>
            <a:srgbClr val="c0c0c0">
              <a:alpha val="48000"/>
            </a:srgbClr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548320" y="3213000"/>
            <a:ext cx="1130400" cy="120672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1206720"/>
              <a:gd name="textAreaBottom" fmla="*/ 1206720 h 120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4" y="0"/>
                </a:lnTo>
                <a:lnTo>
                  <a:pt x="21600" y="10800"/>
                </a:lnTo>
                <a:lnTo>
                  <a:pt x="18714" y="21600"/>
                </a:lnTo>
                <a:lnTo>
                  <a:pt x="0" y="21600"/>
                </a:lnTo>
                <a:lnTo>
                  <a:pt x="2886" y="10800"/>
                </a:lnTo>
                <a:close/>
              </a:path>
            </a:pathLst>
          </a:custGeom>
          <a:solidFill>
            <a:srgbClr val="c0c0c0">
              <a:alpha val="48000"/>
            </a:srgbClr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54440" y="3213000"/>
            <a:ext cx="965160" cy="1206720"/>
          </a:xfrm>
          <a:custGeom>
            <a:avLst/>
            <a:gdLst>
              <a:gd name="textAreaLeft" fmla="*/ 0 w 965160"/>
              <a:gd name="textAreaRight" fmla="*/ 965520 w 965160"/>
              <a:gd name="textAreaTop" fmla="*/ 0 h 1206720"/>
              <a:gd name="textAreaBottom" fmla="*/ 1206720 h 120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7" y="0"/>
                </a:lnTo>
                <a:lnTo>
                  <a:pt x="21600" y="10800"/>
                </a:lnTo>
                <a:lnTo>
                  <a:pt x="18317" y="21600"/>
                </a:lnTo>
                <a:lnTo>
                  <a:pt x="0" y="21600"/>
                </a:lnTo>
                <a:lnTo>
                  <a:pt x="3283" y="10800"/>
                </a:lnTo>
                <a:close/>
              </a:path>
            </a:pathLst>
          </a:custGeom>
          <a:solidFill>
            <a:srgbClr val="c0c0c0">
              <a:alpha val="48000"/>
            </a:srgbClr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51200" y="3213000"/>
            <a:ext cx="965520" cy="1206720"/>
          </a:xfrm>
          <a:custGeom>
            <a:avLst/>
            <a:gdLst>
              <a:gd name="textAreaLeft" fmla="*/ 0 w 965520"/>
              <a:gd name="textAreaRight" fmla="*/ 965880 w 965520"/>
              <a:gd name="textAreaTop" fmla="*/ 0 h 1206720"/>
              <a:gd name="textAreaBottom" fmla="*/ 1206720 h 120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7" y="0"/>
                </a:lnTo>
                <a:lnTo>
                  <a:pt x="21600" y="10800"/>
                </a:lnTo>
                <a:lnTo>
                  <a:pt x="18317" y="21600"/>
                </a:lnTo>
                <a:lnTo>
                  <a:pt x="0" y="21600"/>
                </a:lnTo>
                <a:lnTo>
                  <a:pt x="3283" y="10800"/>
                </a:lnTo>
                <a:close/>
              </a:path>
            </a:pathLst>
          </a:custGeom>
          <a:solidFill>
            <a:srgbClr val="c0c0c0">
              <a:alpha val="48000"/>
            </a:srgbClr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11760" y="3213000"/>
            <a:ext cx="1241640" cy="120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8714" y="0"/>
                </a:lnTo>
                <a:lnTo>
                  <a:pt x="21600" y="10800"/>
                </a:lnTo>
                <a:lnTo>
                  <a:pt x="18714" y="21600"/>
                </a:lnTo>
                <a:lnTo>
                  <a:pt x="0" y="21600"/>
                </a:lnTo>
                <a:lnTo>
                  <a:pt x="2886" y="10800"/>
                </a:lnTo>
                <a:close/>
              </a:path>
            </a:pathLst>
          </a:custGeom>
          <a:solidFill>
            <a:srgbClr val="c0c0c0">
              <a:alpha val="48000"/>
            </a:srgbClr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810560" y="3213000"/>
            <a:ext cx="1224000" cy="120672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1206720"/>
              <a:gd name="textAreaBottom" fmla="*/ 1206720 h 120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4" y="0"/>
                </a:lnTo>
                <a:lnTo>
                  <a:pt x="21600" y="10800"/>
                </a:lnTo>
                <a:lnTo>
                  <a:pt x="18714" y="21600"/>
                </a:lnTo>
                <a:lnTo>
                  <a:pt x="0" y="21600"/>
                </a:lnTo>
                <a:lnTo>
                  <a:pt x="2886" y="10800"/>
                </a:lnTo>
                <a:close/>
              </a:path>
            </a:pathLst>
          </a:custGeom>
          <a:solidFill>
            <a:srgbClr val="c0c0c0">
              <a:alpha val="48000"/>
            </a:srgbClr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30240" y="3241800"/>
            <a:ext cx="7635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anforderungen sicher-ste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994040" y="3273480"/>
            <a:ext cx="796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s pla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951360" y="3317760"/>
            <a:ext cx="693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älle defin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03480" y="3311640"/>
            <a:ext cx="763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 Sets bil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65760" y="3241800"/>
            <a:ext cx="6969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s durch-füh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34240" y="3289320"/>
            <a:ext cx="934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fälle zur Wieder-verwendung sich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48480" y="3241800"/>
            <a:ext cx="7650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sues zu aufge-tretenen Fehlern erfas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021520" y="3241800"/>
            <a:ext cx="6969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 Repor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ntrolle und Qualitäts-sich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2" name=""/>
          <p:cNvCxnSpPr>
            <a:stCxn id="373" idx="2"/>
            <a:endCxn id="396" idx="0"/>
          </p:cNvCxnSpPr>
          <p:nvPr/>
        </p:nvCxnSpPr>
        <p:spPr>
          <a:xfrm>
            <a:off x="1199880" y="1828440"/>
            <a:ext cx="19800" cy="1384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13" name=""/>
          <p:cNvCxnSpPr>
            <a:stCxn id="381" idx="2"/>
            <a:endCxn id="397" idx="0"/>
          </p:cNvCxnSpPr>
          <p:nvPr/>
        </p:nvCxnSpPr>
        <p:spPr>
          <a:xfrm flipH="1">
            <a:off x="2280600" y="2373480"/>
            <a:ext cx="518040" cy="8402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14" name=""/>
          <p:cNvCxnSpPr>
            <a:stCxn id="381" idx="2"/>
            <a:endCxn id="398" idx="0"/>
          </p:cNvCxnSpPr>
          <p:nvPr/>
        </p:nvCxnSpPr>
        <p:spPr>
          <a:xfrm>
            <a:off x="2798280" y="2373480"/>
            <a:ext cx="467640" cy="8402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15" name=""/>
          <p:cNvCxnSpPr>
            <a:stCxn id="389" idx="2"/>
            <a:endCxn id="400" idx="0"/>
          </p:cNvCxnSpPr>
          <p:nvPr/>
        </p:nvCxnSpPr>
        <p:spPr>
          <a:xfrm flipH="1">
            <a:off x="4163760" y="2554200"/>
            <a:ext cx="869040" cy="659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16" name=""/>
          <p:cNvCxnSpPr>
            <a:stCxn id="389" idx="2"/>
            <a:endCxn id="401" idx="0"/>
          </p:cNvCxnSpPr>
          <p:nvPr/>
        </p:nvCxnSpPr>
        <p:spPr>
          <a:xfrm>
            <a:off x="5032080" y="2554200"/>
            <a:ext cx="29160" cy="659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17" name=""/>
          <p:cNvCxnSpPr>
            <a:stCxn id="389" idx="2"/>
            <a:endCxn id="399" idx="0"/>
          </p:cNvCxnSpPr>
          <p:nvPr/>
        </p:nvCxnSpPr>
        <p:spPr>
          <a:xfrm>
            <a:off x="5032080" y="2554200"/>
            <a:ext cx="1005480" cy="659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18" name=""/>
          <p:cNvCxnSpPr>
            <a:stCxn id="365" idx="2"/>
            <a:endCxn id="403" idx="0"/>
          </p:cNvCxnSpPr>
          <p:nvPr/>
        </p:nvCxnSpPr>
        <p:spPr>
          <a:xfrm flipH="1">
            <a:off x="8340120" y="1809720"/>
            <a:ext cx="19800" cy="14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419" name=""/>
          <p:cNvSpPr/>
          <p:nvPr/>
        </p:nvSpPr>
        <p:spPr>
          <a:xfrm>
            <a:off x="418320" y="1066680"/>
            <a:ext cx="256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auptrollen im Testwes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459480" y="1971720"/>
            <a:ext cx="1400400" cy="395280"/>
            <a:chOff x="6459480" y="1971720"/>
            <a:chExt cx="1400400" cy="395280"/>
          </a:xfrm>
        </p:grpSpPr>
        <p:sp>
          <p:nvSpPr>
            <p:cNvPr id="421" name=""/>
            <p:cNvSpPr/>
            <p:nvPr/>
          </p:nvSpPr>
          <p:spPr>
            <a:xfrm>
              <a:off x="6459480" y="1971720"/>
              <a:ext cx="1400400" cy="39528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s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Verantwortlic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7690680" y="2046240"/>
              <a:ext cx="108720" cy="212400"/>
              <a:chOff x="7690680" y="2046240"/>
              <a:chExt cx="108720" cy="212400"/>
            </a:xfrm>
          </p:grpSpPr>
          <p:sp>
            <p:nvSpPr>
              <p:cNvPr id="423" name=""/>
              <p:cNvSpPr/>
              <p:nvPr/>
            </p:nvSpPr>
            <p:spPr>
              <a:xfrm>
                <a:off x="7705800" y="2046240"/>
                <a:ext cx="74160" cy="65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742520" y="21114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742520" y="2198520"/>
                <a:ext cx="3924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7701840" y="2198520"/>
                <a:ext cx="3924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7690680" y="2146680"/>
                <a:ext cx="1087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428" name=""/>
          <p:cNvCxnSpPr>
            <a:stCxn id="421" idx="2"/>
            <a:endCxn id="402" idx="0"/>
          </p:cNvCxnSpPr>
          <p:nvPr/>
        </p:nvCxnSpPr>
        <p:spPr>
          <a:xfrm flipH="1">
            <a:off x="7149240" y="2367000"/>
            <a:ext cx="10440" cy="846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hteck 97"/>
          <p:cNvSpPr/>
          <p:nvPr/>
        </p:nvSpPr>
        <p:spPr>
          <a:xfrm>
            <a:off x="460440" y="1050840"/>
            <a:ext cx="8994600" cy="1154160"/>
          </a:xfrm>
          <a:prstGeom prst="rect">
            <a:avLst/>
          </a:prstGeom>
          <a:solidFill>
            <a:srgbClr val="ffffff">
              <a:alpha val="45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nte 1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 System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Umgeb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hteck 97"/>
          <p:cNvSpPr/>
          <p:nvPr/>
        </p:nvSpPr>
        <p:spPr>
          <a:xfrm>
            <a:off x="452520" y="2300400"/>
            <a:ext cx="8994600" cy="1233360"/>
          </a:xfrm>
          <a:prstGeom prst="rect">
            <a:avLst/>
          </a:prstGeom>
          <a:solidFill>
            <a:srgbClr val="ffffff">
              <a:alpha val="45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nte 2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 System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Umgeb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hteck 97"/>
          <p:cNvSpPr/>
          <p:nvPr/>
        </p:nvSpPr>
        <p:spPr>
          <a:xfrm>
            <a:off x="452520" y="3618000"/>
            <a:ext cx="8994600" cy="1371600"/>
          </a:xfrm>
          <a:prstGeom prst="rect">
            <a:avLst/>
          </a:prstGeom>
          <a:solidFill>
            <a:srgbClr val="ffffff">
              <a:alpha val="45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nte 3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 System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Umgebu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hteck 97"/>
          <p:cNvSpPr/>
          <p:nvPr/>
        </p:nvSpPr>
        <p:spPr>
          <a:xfrm>
            <a:off x="452520" y="5073480"/>
            <a:ext cx="8994600" cy="1371600"/>
          </a:xfrm>
          <a:prstGeom prst="rect">
            <a:avLst/>
          </a:prstGeom>
          <a:solidFill>
            <a:srgbClr val="ffffff">
              <a:alpha val="45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nte 4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 System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Umgebu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hteck 97"/>
          <p:cNvSpPr/>
          <p:nvPr/>
        </p:nvSpPr>
        <p:spPr>
          <a:xfrm>
            <a:off x="2001960" y="628560"/>
            <a:ext cx="1706400" cy="5816520"/>
          </a:xfrm>
          <a:prstGeom prst="rect">
            <a:avLst/>
          </a:prstGeom>
          <a:solidFill>
            <a:srgbClr val="b2b2b2">
              <a:alpha val="45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wickl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hteck 97"/>
          <p:cNvSpPr/>
          <p:nvPr/>
        </p:nvSpPr>
        <p:spPr>
          <a:xfrm>
            <a:off x="3841920" y="628560"/>
            <a:ext cx="1801800" cy="5816520"/>
          </a:xfrm>
          <a:prstGeom prst="rect">
            <a:avLst/>
          </a:prstGeom>
          <a:solidFill>
            <a:srgbClr val="b2b2b2">
              <a:alpha val="45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hteck 97"/>
          <p:cNvSpPr/>
          <p:nvPr/>
        </p:nvSpPr>
        <p:spPr>
          <a:xfrm>
            <a:off x="5780160" y="628560"/>
            <a:ext cx="1770120" cy="5816520"/>
          </a:xfrm>
          <a:prstGeom prst="rect">
            <a:avLst/>
          </a:prstGeom>
          <a:solidFill>
            <a:srgbClr val="b2b2b2">
              <a:alpha val="45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e-Produ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hteck 97"/>
          <p:cNvSpPr/>
          <p:nvPr/>
        </p:nvSpPr>
        <p:spPr>
          <a:xfrm>
            <a:off x="7683480" y="630360"/>
            <a:ext cx="1770120" cy="5816520"/>
          </a:xfrm>
          <a:prstGeom prst="rect">
            <a:avLst/>
          </a:prstGeom>
          <a:solidFill>
            <a:srgbClr val="b2b2b2">
              <a:alpha val="45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89040" y="2630520"/>
            <a:ext cx="735120" cy="674640"/>
          </a:xfrm>
          <a:prstGeom prst="can">
            <a:avLst>
              <a:gd name="adj" fmla="val 25000"/>
            </a:avLst>
          </a:prstGeom>
          <a:solidFill>
            <a:srgbClr val="638dab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143920" y="2630520"/>
            <a:ext cx="735120" cy="674640"/>
          </a:xfrm>
          <a:prstGeom prst="can">
            <a:avLst>
              <a:gd name="adj" fmla="val 25000"/>
            </a:avLst>
          </a:prstGeom>
          <a:solidFill>
            <a:srgbClr val="638dab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68520" y="4070520"/>
            <a:ext cx="735120" cy="674640"/>
          </a:xfrm>
          <a:prstGeom prst="can">
            <a:avLst>
              <a:gd name="adj" fmla="val 25000"/>
            </a:avLst>
          </a:prstGeom>
          <a:solidFill>
            <a:srgbClr val="638dab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68520" y="5546880"/>
            <a:ext cx="735120" cy="674640"/>
          </a:xfrm>
          <a:prstGeom prst="can">
            <a:avLst>
              <a:gd name="adj" fmla="val 25000"/>
            </a:avLst>
          </a:prstGeom>
          <a:solidFill>
            <a:srgbClr val="638dab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13240" y="4070520"/>
            <a:ext cx="735120" cy="674640"/>
          </a:xfrm>
          <a:prstGeom prst="can">
            <a:avLst>
              <a:gd name="adj" fmla="val 25000"/>
            </a:avLst>
          </a:prstGeom>
          <a:solidFill>
            <a:srgbClr val="638dab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13240" y="5546880"/>
            <a:ext cx="735120" cy="674640"/>
          </a:xfrm>
          <a:prstGeom prst="can">
            <a:avLst>
              <a:gd name="adj" fmla="val 25000"/>
            </a:avLst>
          </a:prstGeom>
          <a:solidFill>
            <a:srgbClr val="638dab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21600" y="5546880"/>
            <a:ext cx="734760" cy="674640"/>
          </a:xfrm>
          <a:prstGeom prst="can">
            <a:avLst>
              <a:gd name="adj" fmla="val 25000"/>
            </a:avLst>
          </a:prstGeom>
          <a:solidFill>
            <a:srgbClr val="638dab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143920" y="5546880"/>
            <a:ext cx="735120" cy="674640"/>
          </a:xfrm>
          <a:prstGeom prst="can">
            <a:avLst>
              <a:gd name="adj" fmla="val 25000"/>
            </a:avLst>
          </a:prstGeom>
          <a:solidFill>
            <a:srgbClr val="638dab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143920" y="4070520"/>
            <a:ext cx="735120" cy="674640"/>
          </a:xfrm>
          <a:prstGeom prst="can">
            <a:avLst>
              <a:gd name="adj" fmla="val 25000"/>
            </a:avLst>
          </a:prstGeom>
          <a:solidFill>
            <a:srgbClr val="638dab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37" idx="4"/>
            <a:endCxn id="438" idx="2"/>
          </p:cNvCxnSpPr>
          <p:nvPr/>
        </p:nvCxnSpPr>
        <p:spPr>
          <a:xfrm>
            <a:off x="3224160" y="2968200"/>
            <a:ext cx="4920480" cy="1080"/>
          </a:xfrm>
          <a:prstGeom prst="straightConnector1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</p:cxnSp>
      <p:cxnSp>
        <p:nvCxnSpPr>
          <p:cNvPr id="447" name=""/>
          <p:cNvCxnSpPr>
            <a:stCxn id="439" idx="4"/>
            <a:endCxn id="441" idx="2"/>
          </p:cNvCxnSpPr>
          <p:nvPr/>
        </p:nvCxnSpPr>
        <p:spPr>
          <a:xfrm>
            <a:off x="3203640" y="4408200"/>
            <a:ext cx="1210320" cy="1080"/>
          </a:xfrm>
          <a:prstGeom prst="straightConnector1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39" idx="1"/>
            <a:endCxn id="445" idx="1"/>
          </p:cNvCxnSpPr>
          <p:nvPr/>
        </p:nvCxnSpPr>
        <p:spPr>
          <a:xfrm flipH="1" rot="16200000">
            <a:off x="5673600" y="1233360"/>
            <a:ext cx="2160" cy="5676120"/>
          </a:xfrm>
          <a:prstGeom prst="bentConnector3">
            <a:avLst>
              <a:gd name="adj1" fmla="val -14400000"/>
            </a:avLst>
          </a:prstGeom>
          <a:ln w="9360">
            <a:solidFill>
              <a:srgbClr val="4d4d4d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50" idx="0"/>
            <a:endCxn id="443" idx="1"/>
          </p:cNvCxnSpPr>
          <p:nvPr/>
        </p:nvCxnSpPr>
        <p:spPr>
          <a:xfrm flipH="1" rot="16200000">
            <a:off x="4813200" y="3671640"/>
            <a:ext cx="2160" cy="3752280"/>
          </a:xfrm>
          <a:prstGeom prst="bentConnector3">
            <a:avLst>
              <a:gd name="adj1" fmla="val -11700000"/>
            </a:avLst>
          </a:prstGeom>
          <a:ln w="9360">
            <a:solidFill>
              <a:srgbClr val="4d4d4d"/>
            </a:solidFill>
            <a:miter/>
            <a:tailEnd len="med" type="triangle" w="med"/>
          </a:ln>
        </p:spPr>
      </p:cxnSp>
      <p:cxnSp>
        <p:nvCxnSpPr>
          <p:cNvPr id="451" name=""/>
          <p:cNvCxnSpPr>
            <a:stCxn id="452" idx="0"/>
            <a:endCxn id="444" idx="1"/>
          </p:cNvCxnSpPr>
          <p:nvPr/>
        </p:nvCxnSpPr>
        <p:spPr>
          <a:xfrm flipH="1" rot="16200000">
            <a:off x="5580000" y="2616120"/>
            <a:ext cx="2160" cy="5863320"/>
          </a:xfrm>
          <a:prstGeom prst="bentConnector3">
            <a:avLst>
              <a:gd name="adj1" fmla="val -20800000"/>
            </a:avLst>
          </a:prstGeom>
          <a:ln w="9360">
            <a:solidFill>
              <a:srgbClr val="4d4d4d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0" idx="4"/>
            <a:endCxn id="442" idx="2"/>
          </p:cNvCxnSpPr>
          <p:nvPr/>
        </p:nvCxnSpPr>
        <p:spPr>
          <a:xfrm>
            <a:off x="3203640" y="5884560"/>
            <a:ext cx="1210320" cy="1080"/>
          </a:xfrm>
          <a:prstGeom prst="straightConnector1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612880" y="55468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901960" y="55468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5960" y="541440"/>
            <a:ext cx="9317160" cy="601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143920" y="1312920"/>
            <a:ext cx="735120" cy="674640"/>
          </a:xfrm>
          <a:prstGeom prst="can">
            <a:avLst>
              <a:gd name="adj" fmla="val 25000"/>
            </a:avLst>
          </a:prstGeom>
          <a:solidFill>
            <a:srgbClr val="638dab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30200" y="260280"/>
            <a:ext cx="4141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ögliche Ausprägungen eines IT-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44520" y="4003560"/>
            <a:ext cx="9288360" cy="20894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928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882800">
            <a:off x="6316200" y="4400640"/>
            <a:ext cx="1784520" cy="1093320"/>
          </a:xfrm>
          <a:prstGeom prst="ellipse">
            <a:avLst/>
          </a:prstGeom>
          <a:solidFill>
            <a:srgbClr val="ffffff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3604200">
            <a:off x="5271480" y="4694400"/>
            <a:ext cx="1789200" cy="972720"/>
          </a:xfrm>
          <a:prstGeom prst="ellipse">
            <a:avLst/>
          </a:prstGeom>
          <a:solidFill>
            <a:srgbClr val="ffffff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16200000">
            <a:off x="4210560" y="4612320"/>
            <a:ext cx="1789200" cy="1098360"/>
          </a:xfrm>
          <a:prstGeom prst="ellipse">
            <a:avLst/>
          </a:prstGeom>
          <a:solidFill>
            <a:srgbClr val="ffffff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7995800">
            <a:off x="3143160" y="4626000"/>
            <a:ext cx="1789200" cy="1046160"/>
          </a:xfrm>
          <a:prstGeom prst="ellipse">
            <a:avLst/>
          </a:prstGeom>
          <a:solidFill>
            <a:srgbClr val="ffffff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20146200">
            <a:off x="1679400" y="4484520"/>
            <a:ext cx="2067120" cy="1171800"/>
          </a:xfrm>
          <a:prstGeom prst="ellipse">
            <a:avLst/>
          </a:prstGeom>
          <a:solidFill>
            <a:srgbClr val="ffffff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60440" y="5299200"/>
            <a:ext cx="216000" cy="215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4520" y="2455920"/>
            <a:ext cx="9288360" cy="20527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928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hteck 97"/>
          <p:cNvSpPr/>
          <p:nvPr/>
        </p:nvSpPr>
        <p:spPr>
          <a:xfrm>
            <a:off x="560520" y="4797360"/>
            <a:ext cx="13906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wickl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32280" y="4581360"/>
            <a:ext cx="217440" cy="216000"/>
          </a:xfrm>
          <a:prstGeom prst="rect">
            <a:avLst/>
          </a:prstGeom>
          <a:solidFill>
            <a:srgbClr val="638da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52720" y="4917960"/>
            <a:ext cx="216000" cy="216000"/>
          </a:xfrm>
          <a:prstGeom prst="rect">
            <a:avLst/>
          </a:prstGeom>
          <a:solidFill>
            <a:srgbClr val="638da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60800" y="4975200"/>
            <a:ext cx="216000" cy="216000"/>
          </a:xfrm>
          <a:prstGeom prst="rect">
            <a:avLst/>
          </a:prstGeom>
          <a:solidFill>
            <a:srgbClr val="638da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965920" y="4965840"/>
            <a:ext cx="217440" cy="215640"/>
          </a:xfrm>
          <a:prstGeom prst="rect">
            <a:avLst/>
          </a:prstGeom>
          <a:solidFill>
            <a:srgbClr val="638da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83360" y="4627440"/>
            <a:ext cx="216000" cy="216000"/>
          </a:xfrm>
          <a:prstGeom prst="rect">
            <a:avLst/>
          </a:prstGeom>
          <a:solidFill>
            <a:srgbClr val="638da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635280" y="4548960"/>
            <a:ext cx="330696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1 Entwicklungsinstanz pro Entwicklungs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75040" y="4905360"/>
            <a:ext cx="215640" cy="216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95440" y="5264280"/>
            <a:ext cx="216000" cy="215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044880" y="5156280"/>
            <a:ext cx="216000" cy="216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"/>
          <p:cNvCxnSpPr>
            <a:stCxn id="466" idx="2"/>
            <a:endCxn id="472" idx="3"/>
          </p:cNvCxnSpPr>
          <p:nvPr/>
        </p:nvCxnSpPr>
        <p:spPr>
          <a:xfrm flipH="1">
            <a:off x="2290320" y="4797360"/>
            <a:ext cx="851760" cy="21672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476" name=""/>
          <p:cNvCxnSpPr>
            <a:stCxn id="472" idx="2"/>
            <a:endCxn id="463" idx="3"/>
          </p:cNvCxnSpPr>
          <p:nvPr/>
        </p:nvCxnSpPr>
        <p:spPr>
          <a:xfrm flipH="1">
            <a:off x="1576080" y="5121360"/>
            <a:ext cx="606960" cy="28656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477" name=""/>
          <p:cNvCxnSpPr>
            <a:stCxn id="466" idx="2"/>
            <a:endCxn id="473" idx="0"/>
          </p:cNvCxnSpPr>
          <p:nvPr/>
        </p:nvCxnSpPr>
        <p:spPr>
          <a:xfrm flipH="1">
            <a:off x="2502720" y="4797000"/>
            <a:ext cx="639000" cy="46764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478" name=""/>
          <p:cNvCxnSpPr>
            <a:stCxn id="466" idx="2"/>
            <a:endCxn id="474" idx="0"/>
          </p:cNvCxnSpPr>
          <p:nvPr/>
        </p:nvCxnSpPr>
        <p:spPr>
          <a:xfrm>
            <a:off x="3141360" y="4797000"/>
            <a:ext cx="11880" cy="35964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479" name=""/>
          <p:cNvCxnSpPr>
            <a:stCxn id="474" idx="2"/>
            <a:endCxn id="473" idx="3"/>
          </p:cNvCxnSpPr>
          <p:nvPr/>
        </p:nvCxnSpPr>
        <p:spPr>
          <a:xfrm flipH="1">
            <a:off x="2611080" y="5371920"/>
            <a:ext cx="542160" cy="108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sp>
        <p:nvSpPr>
          <p:cNvPr id="480" name=""/>
          <p:cNvSpPr/>
          <p:nvPr/>
        </p:nvSpPr>
        <p:spPr>
          <a:xfrm>
            <a:off x="1817640" y="5504040"/>
            <a:ext cx="90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am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124160" y="5264280"/>
            <a:ext cx="216000" cy="215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16080" y="5697360"/>
            <a:ext cx="216000" cy="216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5300640"/>
            <a:ext cx="216000" cy="216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81600" y="5659560"/>
            <a:ext cx="214200" cy="215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67" idx="2"/>
            <a:endCxn id="482" idx="0"/>
          </p:cNvCxnSpPr>
          <p:nvPr/>
        </p:nvCxnSpPr>
        <p:spPr>
          <a:xfrm flipH="1">
            <a:off x="3123720" y="5133600"/>
            <a:ext cx="837360" cy="56412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486" name=""/>
          <p:cNvCxnSpPr>
            <a:stCxn id="467" idx="2"/>
            <a:endCxn id="481" idx="0"/>
          </p:cNvCxnSpPr>
          <p:nvPr/>
        </p:nvCxnSpPr>
        <p:spPr>
          <a:xfrm>
            <a:off x="3960720" y="5133960"/>
            <a:ext cx="272160" cy="13104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sp>
        <p:nvSpPr>
          <p:cNvPr id="487" name=""/>
          <p:cNvSpPr/>
          <p:nvPr/>
        </p:nvSpPr>
        <p:spPr>
          <a:xfrm>
            <a:off x="6284880" y="5408640"/>
            <a:ext cx="216000" cy="216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932520" y="5084640"/>
            <a:ext cx="216000" cy="216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284960" y="5692680"/>
            <a:ext cx="216000" cy="216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177040" y="5330880"/>
            <a:ext cx="216000" cy="216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"/>
          <p:cNvCxnSpPr>
            <a:stCxn id="468" idx="2"/>
            <a:endCxn id="484" idx="0"/>
          </p:cNvCxnSpPr>
          <p:nvPr/>
        </p:nvCxnSpPr>
        <p:spPr>
          <a:xfrm flipH="1">
            <a:off x="4989240" y="5190840"/>
            <a:ext cx="79920" cy="46908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492" name=""/>
          <p:cNvCxnSpPr>
            <a:stCxn id="468" idx="2"/>
            <a:endCxn id="483" idx="0"/>
          </p:cNvCxnSpPr>
          <p:nvPr/>
        </p:nvCxnSpPr>
        <p:spPr>
          <a:xfrm>
            <a:off x="5068800" y="5191200"/>
            <a:ext cx="316800" cy="11016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493" name=""/>
          <p:cNvCxnSpPr>
            <a:stCxn id="469" idx="2"/>
            <a:endCxn id="487" idx="0"/>
          </p:cNvCxnSpPr>
          <p:nvPr/>
        </p:nvCxnSpPr>
        <p:spPr>
          <a:xfrm>
            <a:off x="6075360" y="5181120"/>
            <a:ext cx="317880" cy="22788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494" name=""/>
          <p:cNvCxnSpPr>
            <a:stCxn id="470" idx="2"/>
            <a:endCxn id="488" idx="0"/>
          </p:cNvCxnSpPr>
          <p:nvPr/>
        </p:nvCxnSpPr>
        <p:spPr>
          <a:xfrm flipH="1">
            <a:off x="7039800" y="4843440"/>
            <a:ext cx="151560" cy="24192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495" name=""/>
          <p:cNvCxnSpPr>
            <a:stCxn id="470" idx="2"/>
            <a:endCxn id="490" idx="0"/>
          </p:cNvCxnSpPr>
          <p:nvPr/>
        </p:nvCxnSpPr>
        <p:spPr>
          <a:xfrm>
            <a:off x="7191360" y="4843440"/>
            <a:ext cx="1094400" cy="48816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496" name=""/>
          <p:cNvCxnSpPr>
            <a:stCxn id="490" idx="2"/>
            <a:endCxn id="489" idx="3"/>
          </p:cNvCxnSpPr>
          <p:nvPr/>
        </p:nvCxnSpPr>
        <p:spPr>
          <a:xfrm flipH="1">
            <a:off x="7500600" y="5546520"/>
            <a:ext cx="784800" cy="25452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sp>
        <p:nvSpPr>
          <p:cNvPr id="497" name=""/>
          <p:cNvSpPr/>
          <p:nvPr/>
        </p:nvSpPr>
        <p:spPr>
          <a:xfrm>
            <a:off x="1531800" y="2671920"/>
            <a:ext cx="7272360" cy="1396800"/>
          </a:xfrm>
          <a:prstGeom prst="ellipse">
            <a:avLst/>
          </a:prstGeom>
          <a:solidFill>
            <a:srgbClr val="ffffff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4520" y="979560"/>
            <a:ext cx="9288360" cy="20527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928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hteck 97"/>
          <p:cNvSpPr/>
          <p:nvPr/>
        </p:nvSpPr>
        <p:spPr>
          <a:xfrm>
            <a:off x="560520" y="3249720"/>
            <a:ext cx="12589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3138480"/>
            <a:ext cx="306360" cy="285840"/>
          </a:xfrm>
          <a:prstGeom prst="rect">
            <a:avLst/>
          </a:prstGeom>
          <a:solidFill>
            <a:srgbClr val="d6c67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78480" y="3117600"/>
            <a:ext cx="143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aupttestinstan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78000" y="3765600"/>
            <a:ext cx="216000" cy="216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20800" y="3063960"/>
            <a:ext cx="216000" cy="215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681280" y="3465360"/>
            <a:ext cx="216000" cy="216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81280" y="3551400"/>
            <a:ext cx="216000" cy="215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503" idx="2"/>
            <a:endCxn id="502" idx="3"/>
          </p:cNvCxnSpPr>
          <p:nvPr/>
        </p:nvCxnSpPr>
        <p:spPr>
          <a:xfrm flipH="1">
            <a:off x="1493640" y="3279600"/>
            <a:ext cx="1235520" cy="59472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507" name=""/>
          <p:cNvCxnSpPr>
            <a:stCxn id="505" idx="1"/>
            <a:endCxn id="504" idx="3"/>
          </p:cNvCxnSpPr>
          <p:nvPr/>
        </p:nvCxnSpPr>
        <p:spPr>
          <a:xfrm flipH="1" flipV="1">
            <a:off x="2896920" y="3573000"/>
            <a:ext cx="684720" cy="8640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sp>
        <p:nvSpPr>
          <p:cNvPr id="508" name=""/>
          <p:cNvSpPr/>
          <p:nvPr/>
        </p:nvSpPr>
        <p:spPr>
          <a:xfrm>
            <a:off x="4124160" y="3716280"/>
            <a:ext cx="216000" cy="216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70240" y="4218120"/>
            <a:ext cx="216000" cy="215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76880" y="3753000"/>
            <a:ext cx="216000" cy="215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13200" y="3803760"/>
            <a:ext cx="214560" cy="215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00" idx="2"/>
            <a:endCxn id="509" idx="0"/>
          </p:cNvCxnSpPr>
          <p:nvPr/>
        </p:nvCxnSpPr>
        <p:spPr>
          <a:xfrm flipH="1">
            <a:off x="4277880" y="3423960"/>
            <a:ext cx="829440" cy="79452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513" name=""/>
          <p:cNvCxnSpPr>
            <a:stCxn id="500" idx="2"/>
            <a:endCxn id="508" idx="0"/>
          </p:cNvCxnSpPr>
          <p:nvPr/>
        </p:nvCxnSpPr>
        <p:spPr>
          <a:xfrm flipH="1">
            <a:off x="4231800" y="3423960"/>
            <a:ext cx="875520" cy="29268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sp>
        <p:nvSpPr>
          <p:cNvPr id="514" name=""/>
          <p:cNvSpPr/>
          <p:nvPr/>
        </p:nvSpPr>
        <p:spPr>
          <a:xfrm>
            <a:off x="6091200" y="3700440"/>
            <a:ext cx="216000" cy="216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93080" y="3343320"/>
            <a:ext cx="215640" cy="216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126200" y="4113360"/>
            <a:ext cx="216000" cy="215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016840" y="3772080"/>
            <a:ext cx="216000" cy="215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8" name=""/>
          <p:cNvCxnSpPr>
            <a:stCxn id="500" idx="2"/>
            <a:endCxn id="511" idx="0"/>
          </p:cNvCxnSpPr>
          <p:nvPr/>
        </p:nvCxnSpPr>
        <p:spPr>
          <a:xfrm flipH="1">
            <a:off x="4920840" y="3424320"/>
            <a:ext cx="186480" cy="38016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519" name=""/>
          <p:cNvCxnSpPr>
            <a:stCxn id="500" idx="2"/>
            <a:endCxn id="510" idx="0"/>
          </p:cNvCxnSpPr>
          <p:nvPr/>
        </p:nvCxnSpPr>
        <p:spPr>
          <a:xfrm>
            <a:off x="5106960" y="3423960"/>
            <a:ext cx="278280" cy="32904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520" name=""/>
          <p:cNvCxnSpPr>
            <a:stCxn id="500" idx="2"/>
            <a:endCxn id="514" idx="0"/>
          </p:cNvCxnSpPr>
          <p:nvPr/>
        </p:nvCxnSpPr>
        <p:spPr>
          <a:xfrm>
            <a:off x="5106960" y="3423960"/>
            <a:ext cx="1092960" cy="27684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521" name=""/>
          <p:cNvCxnSpPr>
            <a:stCxn id="517" idx="2"/>
            <a:endCxn id="516" idx="0"/>
          </p:cNvCxnSpPr>
          <p:nvPr/>
        </p:nvCxnSpPr>
        <p:spPr>
          <a:xfrm flipH="1">
            <a:off x="7233840" y="3987360"/>
            <a:ext cx="891360" cy="12636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522" name=""/>
          <p:cNvCxnSpPr>
            <a:stCxn id="500" idx="2"/>
            <a:endCxn id="503" idx="3"/>
          </p:cNvCxnSpPr>
          <p:nvPr/>
        </p:nvCxnSpPr>
        <p:spPr>
          <a:xfrm flipH="1" flipV="1">
            <a:off x="2836800" y="3171240"/>
            <a:ext cx="2270520" cy="25308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523" name=""/>
          <p:cNvCxnSpPr>
            <a:stCxn id="500" idx="2"/>
            <a:endCxn id="505" idx="3"/>
          </p:cNvCxnSpPr>
          <p:nvPr/>
        </p:nvCxnSpPr>
        <p:spPr>
          <a:xfrm flipH="1">
            <a:off x="3796920" y="3424320"/>
            <a:ext cx="1310400" cy="23544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524" name=""/>
          <p:cNvCxnSpPr>
            <a:stCxn id="500" idx="2"/>
            <a:endCxn id="515" idx="1"/>
          </p:cNvCxnSpPr>
          <p:nvPr/>
        </p:nvCxnSpPr>
        <p:spPr>
          <a:xfrm>
            <a:off x="5106600" y="3423960"/>
            <a:ext cx="1986840" cy="2772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525" name=""/>
          <p:cNvCxnSpPr>
            <a:stCxn id="500" idx="2"/>
            <a:endCxn id="517" idx="1"/>
          </p:cNvCxnSpPr>
          <p:nvPr/>
        </p:nvCxnSpPr>
        <p:spPr>
          <a:xfrm>
            <a:off x="5106600" y="3423960"/>
            <a:ext cx="2910240" cy="45612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sp>
        <p:nvSpPr>
          <p:cNvPr id="526" name=""/>
          <p:cNvSpPr/>
          <p:nvPr/>
        </p:nvSpPr>
        <p:spPr>
          <a:xfrm>
            <a:off x="560520" y="4113360"/>
            <a:ext cx="684000" cy="502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60520" y="2637000"/>
            <a:ext cx="684000" cy="502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531800" y="1123920"/>
            <a:ext cx="7145640" cy="1513080"/>
          </a:xfrm>
          <a:prstGeom prst="ellipse">
            <a:avLst/>
          </a:prstGeom>
          <a:solidFill>
            <a:srgbClr val="ffffff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hteck 97"/>
          <p:cNvSpPr/>
          <p:nvPr/>
        </p:nvSpPr>
        <p:spPr>
          <a:xfrm>
            <a:off x="560520" y="1773360"/>
            <a:ext cx="12589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duk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22880" y="1134720"/>
            <a:ext cx="165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duktionsinstan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962600" y="1452600"/>
            <a:ext cx="444600" cy="35244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27040" y="1440000"/>
            <a:ext cx="216000" cy="215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54280" y="1468440"/>
            <a:ext cx="216000" cy="216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327400" y="1870200"/>
            <a:ext cx="215640" cy="215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44880" y="2023920"/>
            <a:ext cx="216000" cy="216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33" idx="1"/>
            <a:endCxn id="532" idx="3"/>
          </p:cNvCxnSpPr>
          <p:nvPr/>
        </p:nvCxnSpPr>
        <p:spPr>
          <a:xfrm flipH="1" flipV="1">
            <a:off x="1642320" y="1547280"/>
            <a:ext cx="1011960" cy="2952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537" name=""/>
          <p:cNvCxnSpPr>
            <a:stCxn id="535" idx="1"/>
            <a:endCxn id="534" idx="3"/>
          </p:cNvCxnSpPr>
          <p:nvPr/>
        </p:nvCxnSpPr>
        <p:spPr>
          <a:xfrm flipH="1" flipV="1">
            <a:off x="2542680" y="1977480"/>
            <a:ext cx="502560" cy="15444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sp>
        <p:nvSpPr>
          <p:cNvPr id="538" name=""/>
          <p:cNvSpPr/>
          <p:nvPr/>
        </p:nvSpPr>
        <p:spPr>
          <a:xfrm>
            <a:off x="4376880" y="2257560"/>
            <a:ext cx="215640" cy="215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765520" y="2646360"/>
            <a:ext cx="215640" cy="216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76880" y="2168640"/>
            <a:ext cx="216000" cy="215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70440" y="2230560"/>
            <a:ext cx="214200" cy="215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2" name=""/>
          <p:cNvCxnSpPr>
            <a:stCxn id="531" idx="2"/>
            <a:endCxn id="539" idx="3"/>
          </p:cNvCxnSpPr>
          <p:nvPr/>
        </p:nvCxnSpPr>
        <p:spPr>
          <a:xfrm flipH="1">
            <a:off x="2980440" y="1804680"/>
            <a:ext cx="2204280" cy="95004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543" name=""/>
          <p:cNvCxnSpPr>
            <a:stCxn id="531" idx="2"/>
            <a:endCxn id="538" idx="3"/>
          </p:cNvCxnSpPr>
          <p:nvPr/>
        </p:nvCxnSpPr>
        <p:spPr>
          <a:xfrm flipH="1">
            <a:off x="4591800" y="1805040"/>
            <a:ext cx="592920" cy="56088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sp>
        <p:nvSpPr>
          <p:cNvPr id="544" name=""/>
          <p:cNvSpPr/>
          <p:nvPr/>
        </p:nvSpPr>
        <p:spPr>
          <a:xfrm>
            <a:off x="6284880" y="2276640"/>
            <a:ext cx="216000" cy="215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932520" y="1585800"/>
            <a:ext cx="216000" cy="216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616880" y="2529000"/>
            <a:ext cx="216000" cy="215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623440" y="2039760"/>
            <a:ext cx="215640" cy="216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31" idx="2"/>
            <a:endCxn id="541" idx="0"/>
          </p:cNvCxnSpPr>
          <p:nvPr/>
        </p:nvCxnSpPr>
        <p:spPr>
          <a:xfrm flipH="1">
            <a:off x="4977720" y="1805040"/>
            <a:ext cx="207000" cy="42624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549" name=""/>
          <p:cNvCxnSpPr>
            <a:stCxn id="531" idx="2"/>
            <a:endCxn id="540" idx="0"/>
          </p:cNvCxnSpPr>
          <p:nvPr/>
        </p:nvCxnSpPr>
        <p:spPr>
          <a:xfrm>
            <a:off x="5184720" y="1805040"/>
            <a:ext cx="200880" cy="36432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550" name=""/>
          <p:cNvCxnSpPr>
            <a:stCxn id="531" idx="2"/>
            <a:endCxn id="544" idx="1"/>
          </p:cNvCxnSpPr>
          <p:nvPr/>
        </p:nvCxnSpPr>
        <p:spPr>
          <a:xfrm>
            <a:off x="5184720" y="1804680"/>
            <a:ext cx="1100880" cy="57996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551" name=""/>
          <p:cNvCxnSpPr>
            <a:stCxn id="547" idx="2"/>
            <a:endCxn id="546" idx="0"/>
          </p:cNvCxnSpPr>
          <p:nvPr/>
        </p:nvCxnSpPr>
        <p:spPr>
          <a:xfrm flipH="1">
            <a:off x="7724160" y="2255400"/>
            <a:ext cx="1006920" cy="27396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552" name=""/>
          <p:cNvCxnSpPr>
            <a:stCxn id="531" idx="2"/>
            <a:endCxn id="533" idx="3"/>
          </p:cNvCxnSpPr>
          <p:nvPr/>
        </p:nvCxnSpPr>
        <p:spPr>
          <a:xfrm flipH="1" flipV="1">
            <a:off x="2869920" y="1575720"/>
            <a:ext cx="2314800" cy="22932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553" name=""/>
          <p:cNvCxnSpPr>
            <a:stCxn id="531" idx="2"/>
            <a:endCxn id="535" idx="3"/>
          </p:cNvCxnSpPr>
          <p:nvPr/>
        </p:nvCxnSpPr>
        <p:spPr>
          <a:xfrm flipH="1">
            <a:off x="3260520" y="1805040"/>
            <a:ext cx="1924560" cy="32760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554" name=""/>
          <p:cNvCxnSpPr>
            <a:stCxn id="531" idx="2"/>
            <a:endCxn id="545" idx="1"/>
          </p:cNvCxnSpPr>
          <p:nvPr/>
        </p:nvCxnSpPr>
        <p:spPr>
          <a:xfrm flipV="1">
            <a:off x="5184360" y="1693080"/>
            <a:ext cx="1748520" cy="11196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555" name=""/>
          <p:cNvCxnSpPr>
            <a:stCxn id="531" idx="2"/>
            <a:endCxn id="547" idx="1"/>
          </p:cNvCxnSpPr>
          <p:nvPr/>
        </p:nvCxnSpPr>
        <p:spPr>
          <a:xfrm>
            <a:off x="5184720" y="1805040"/>
            <a:ext cx="3439440" cy="34344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sp>
        <p:nvSpPr>
          <p:cNvPr id="556" name="Rechteck 97"/>
          <p:cNvSpPr/>
          <p:nvPr/>
        </p:nvSpPr>
        <p:spPr>
          <a:xfrm>
            <a:off x="7647120" y="1103400"/>
            <a:ext cx="1488960" cy="542880"/>
          </a:xfrm>
          <a:prstGeom prst="ellipse">
            <a:avLst/>
          </a:prstGeom>
          <a:solidFill>
            <a:srgbClr val="ff9900"/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980480" y="2793960"/>
            <a:ext cx="1260360" cy="360360"/>
          </a:xfrm>
          <a:prstGeom prst="ellipse">
            <a:avLst/>
          </a:prstGeom>
          <a:solidFill>
            <a:srgbClr val="d7c777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hteck 84"/>
          <p:cNvSpPr/>
          <p:nvPr/>
        </p:nvSpPr>
        <p:spPr>
          <a:xfrm>
            <a:off x="8426520" y="3349800"/>
            <a:ext cx="1258920" cy="360360"/>
          </a:xfrm>
          <a:prstGeom prst="ellipse">
            <a:avLst/>
          </a:prstGeom>
          <a:solidFill>
            <a:srgbClr val="ccdfd7"/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hteck 84"/>
          <p:cNvSpPr/>
          <p:nvPr/>
        </p:nvSpPr>
        <p:spPr>
          <a:xfrm>
            <a:off x="8086680" y="4467240"/>
            <a:ext cx="1444680" cy="431640"/>
          </a:xfrm>
          <a:prstGeom prst="ellipse">
            <a:avLst/>
          </a:prstGeom>
          <a:solidFill>
            <a:srgbClr val="638dab">
              <a:alpha val="63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00" idx="2"/>
            <a:endCxn id="504" idx="0"/>
          </p:cNvCxnSpPr>
          <p:nvPr/>
        </p:nvCxnSpPr>
        <p:spPr>
          <a:xfrm flipH="1">
            <a:off x="2788920" y="3424320"/>
            <a:ext cx="2318400" cy="4176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cxnSp>
        <p:nvCxnSpPr>
          <p:cNvPr id="561" name=""/>
          <p:cNvCxnSpPr>
            <a:stCxn id="531" idx="2"/>
            <a:endCxn id="534" idx="0"/>
          </p:cNvCxnSpPr>
          <p:nvPr/>
        </p:nvCxnSpPr>
        <p:spPr>
          <a:xfrm flipH="1">
            <a:off x="2434680" y="1804680"/>
            <a:ext cx="2750040" cy="65520"/>
          </a:xfrm>
          <a:prstGeom prst="straightConnector1">
            <a:avLst/>
          </a:prstGeom>
          <a:ln w="3240">
            <a:solidFill>
              <a:srgbClr val="4d4d4d"/>
            </a:solidFill>
            <a:prstDash val="dash"/>
            <a:miter/>
          </a:ln>
        </p:spPr>
      </p:cxnSp>
      <p:sp>
        <p:nvSpPr>
          <p:cNvPr id="562" name=""/>
          <p:cNvSpPr/>
          <p:nvPr/>
        </p:nvSpPr>
        <p:spPr>
          <a:xfrm>
            <a:off x="3416400" y="5533920"/>
            <a:ext cx="90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am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786200" y="5761080"/>
            <a:ext cx="90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am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37120" y="5676840"/>
            <a:ext cx="90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am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023240" y="5289480"/>
            <a:ext cx="90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am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047080" y="4618080"/>
            <a:ext cx="1665360" cy="150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791480" y="2922480"/>
            <a:ext cx="1665360" cy="150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Abnah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240760" y="3470400"/>
            <a:ext cx="1665360" cy="150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577280" y="1054440"/>
            <a:ext cx="1665000" cy="610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Produktiv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setz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74600" y="766800"/>
            <a:ext cx="9590040" cy="546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21760" y="574560"/>
            <a:ext cx="6107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ema der Entwicklungs- Test- und Produktionsumgebun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hteck 51"/>
          <p:cNvSpPr/>
          <p:nvPr/>
        </p:nvSpPr>
        <p:spPr>
          <a:xfrm>
            <a:off x="272880" y="1378080"/>
            <a:ext cx="5915160" cy="379440"/>
          </a:xfrm>
          <a:prstGeom prst="rect">
            <a:avLst/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alis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hteck 51"/>
          <p:cNvSpPr/>
          <p:nvPr/>
        </p:nvSpPr>
        <p:spPr>
          <a:xfrm>
            <a:off x="6188040" y="1378080"/>
            <a:ext cx="1936800" cy="379440"/>
          </a:xfrm>
          <a:prstGeom prst="rect">
            <a:avLst/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hteck 51"/>
          <p:cNvSpPr/>
          <p:nvPr/>
        </p:nvSpPr>
        <p:spPr>
          <a:xfrm>
            <a:off x="8124840" y="1378080"/>
            <a:ext cx="1544760" cy="379440"/>
          </a:xfrm>
          <a:prstGeom prst="rect">
            <a:avLst/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tim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312840" y="1793880"/>
            <a:ext cx="9356400" cy="3636720"/>
            <a:chOff x="312840" y="1793880"/>
            <a:chExt cx="9356400" cy="3636720"/>
          </a:xfrm>
        </p:grpSpPr>
        <p:sp>
          <p:nvSpPr>
            <p:cNvPr id="576" name="Gerade Verbindung 8"/>
            <p:cNvSpPr/>
            <p:nvPr/>
          </p:nvSpPr>
          <p:spPr>
            <a:xfrm flipH="1">
              <a:off x="312840" y="1793880"/>
              <a:ext cx="1440" cy="363240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Gerade Verbindung 8"/>
            <p:cNvSpPr/>
            <p:nvPr/>
          </p:nvSpPr>
          <p:spPr>
            <a:xfrm flipH="1">
              <a:off x="818640" y="1793880"/>
              <a:ext cx="1800" cy="363240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Gerade Verbindung 8"/>
            <p:cNvSpPr/>
            <p:nvPr/>
          </p:nvSpPr>
          <p:spPr>
            <a:xfrm flipH="1">
              <a:off x="1378080" y="1793880"/>
              <a:ext cx="1440" cy="363240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Gerade Verbindung 8"/>
            <p:cNvSpPr/>
            <p:nvPr/>
          </p:nvSpPr>
          <p:spPr>
            <a:xfrm>
              <a:off x="1884240" y="1793880"/>
              <a:ext cx="0" cy="363240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Gerade Verbindung 8"/>
            <p:cNvSpPr/>
            <p:nvPr/>
          </p:nvSpPr>
          <p:spPr>
            <a:xfrm>
              <a:off x="2417760" y="1793880"/>
              <a:ext cx="0" cy="363240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Gerade Verbindung 8"/>
            <p:cNvSpPr/>
            <p:nvPr/>
          </p:nvSpPr>
          <p:spPr>
            <a:xfrm flipH="1">
              <a:off x="2924280" y="1793880"/>
              <a:ext cx="1440" cy="363240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Gerade Verbindung 8"/>
            <p:cNvSpPr/>
            <p:nvPr/>
          </p:nvSpPr>
          <p:spPr>
            <a:xfrm>
              <a:off x="3457440" y="1793880"/>
              <a:ext cx="0" cy="363240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Gerade Verbindung 8"/>
            <p:cNvSpPr/>
            <p:nvPr/>
          </p:nvSpPr>
          <p:spPr>
            <a:xfrm flipH="1">
              <a:off x="3963960" y="1793880"/>
              <a:ext cx="1440" cy="363240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Gerade Verbindung 8"/>
            <p:cNvSpPr/>
            <p:nvPr/>
          </p:nvSpPr>
          <p:spPr>
            <a:xfrm>
              <a:off x="4495680" y="1793880"/>
              <a:ext cx="0" cy="363240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Gerade Verbindung 8"/>
            <p:cNvSpPr/>
            <p:nvPr/>
          </p:nvSpPr>
          <p:spPr>
            <a:xfrm>
              <a:off x="5005440" y="1793880"/>
              <a:ext cx="0" cy="363240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Gerade Verbindung 8"/>
            <p:cNvSpPr/>
            <p:nvPr/>
          </p:nvSpPr>
          <p:spPr>
            <a:xfrm flipH="1">
              <a:off x="5533560" y="1793880"/>
              <a:ext cx="1800" cy="363240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Gerade Verbindung 8"/>
            <p:cNvSpPr/>
            <p:nvPr/>
          </p:nvSpPr>
          <p:spPr>
            <a:xfrm>
              <a:off x="6053040" y="1793880"/>
              <a:ext cx="0" cy="363240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Gerade Verbindung 8"/>
            <p:cNvSpPr/>
            <p:nvPr/>
          </p:nvSpPr>
          <p:spPr>
            <a:xfrm flipH="1">
              <a:off x="6560640" y="1793880"/>
              <a:ext cx="1800" cy="363240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Gerade Verbindung 8"/>
            <p:cNvSpPr/>
            <p:nvPr/>
          </p:nvSpPr>
          <p:spPr>
            <a:xfrm>
              <a:off x="7093080" y="1793880"/>
              <a:ext cx="0" cy="363240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Gerade Verbindung 8"/>
            <p:cNvSpPr/>
            <p:nvPr/>
          </p:nvSpPr>
          <p:spPr>
            <a:xfrm flipH="1">
              <a:off x="7601040" y="1793880"/>
              <a:ext cx="1440" cy="363240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Gerade Verbindung 8"/>
            <p:cNvSpPr/>
            <p:nvPr/>
          </p:nvSpPr>
          <p:spPr>
            <a:xfrm flipH="1">
              <a:off x="8132760" y="1793880"/>
              <a:ext cx="1440" cy="363240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Gerade Verbindung 8"/>
            <p:cNvSpPr/>
            <p:nvPr/>
          </p:nvSpPr>
          <p:spPr>
            <a:xfrm>
              <a:off x="8640720" y="1793880"/>
              <a:ext cx="0" cy="363240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Gerade Verbindung 8"/>
            <p:cNvSpPr/>
            <p:nvPr/>
          </p:nvSpPr>
          <p:spPr>
            <a:xfrm flipH="1">
              <a:off x="9172080" y="1793880"/>
              <a:ext cx="1800" cy="363240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Gerade Verbindung 8"/>
            <p:cNvSpPr/>
            <p:nvPr/>
          </p:nvSpPr>
          <p:spPr>
            <a:xfrm flipH="1">
              <a:off x="9667440" y="1797840"/>
              <a:ext cx="1800" cy="363276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4910040" y="1157400"/>
            <a:ext cx="179640" cy="215640"/>
          </a:xfrm>
          <a:prstGeom prst="diamond">
            <a:avLst/>
          </a:prstGeom>
          <a:solidFill>
            <a:srgbClr val="ff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227480" y="944640"/>
            <a:ext cx="156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ntwicklungs-Free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042400" y="1157400"/>
            <a:ext cx="179280" cy="215640"/>
          </a:xfrm>
          <a:prstGeom prst="diamond">
            <a:avLst/>
          </a:prstGeom>
          <a:solidFill>
            <a:srgbClr val="ff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09400" y="94464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oing-L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hteck 99"/>
          <p:cNvSpPr/>
          <p:nvPr/>
        </p:nvSpPr>
        <p:spPr>
          <a:xfrm>
            <a:off x="307800" y="5775480"/>
            <a:ext cx="142920" cy="106200"/>
          </a:xfrm>
          <a:custGeom>
            <a:avLst/>
            <a:gdLst>
              <a:gd name="textAreaLeft" fmla="*/ 0 w 142920"/>
              <a:gd name="textAreaRight" fmla="*/ 143280 w 1429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840" y="0"/>
                </a:lnTo>
                <a:lnTo>
                  <a:pt x="21600" y="10800"/>
                </a:lnTo>
                <a:lnTo>
                  <a:pt x="15840" y="21600"/>
                </a:lnTo>
                <a:lnTo>
                  <a:pt x="0" y="21600"/>
                </a:lnTo>
                <a:lnTo>
                  <a:pt x="5760" y="10800"/>
                </a:lnTo>
                <a:close/>
              </a:path>
            </a:pathLst>
          </a:custGeom>
          <a:noFill/>
          <a:ln w="324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04360" y="5724360"/>
            <a:ext cx="593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operative Durchführung der geplanten Tests (FuT, Integrationstests und Abnahmetes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hteck 97"/>
          <p:cNvSpPr/>
          <p:nvPr/>
        </p:nvSpPr>
        <p:spPr>
          <a:xfrm>
            <a:off x="3981600" y="4327560"/>
            <a:ext cx="3924000" cy="596880"/>
          </a:xfrm>
          <a:prstGeom prst="rect">
            <a:avLst/>
          </a:prstGeom>
          <a:solidFill>
            <a:srgbClr val="6699ff">
              <a:alpha val="45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neralpro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hteck 84"/>
          <p:cNvSpPr/>
          <p:nvPr/>
        </p:nvSpPr>
        <p:spPr>
          <a:xfrm>
            <a:off x="307800" y="1825560"/>
            <a:ext cx="7597800" cy="473040"/>
          </a:xfrm>
          <a:prstGeom prst="rect">
            <a:avLst/>
          </a:prstGeom>
          <a:solidFill>
            <a:srgbClr val="b6c9d8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rametrisierung und Functional Unit T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hteck 99"/>
          <p:cNvSpPr/>
          <p:nvPr/>
        </p:nvSpPr>
        <p:spPr>
          <a:xfrm>
            <a:off x="355680" y="2052720"/>
            <a:ext cx="434880" cy="171360"/>
          </a:xfrm>
          <a:custGeom>
            <a:avLst/>
            <a:gdLst>
              <a:gd name="textAreaLeft" fmla="*/ 0 w 434880"/>
              <a:gd name="textAreaRight" fmla="*/ 435240 w 4348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hteck 99"/>
          <p:cNvSpPr/>
          <p:nvPr/>
        </p:nvSpPr>
        <p:spPr>
          <a:xfrm>
            <a:off x="839880" y="2052720"/>
            <a:ext cx="434880" cy="171360"/>
          </a:xfrm>
          <a:custGeom>
            <a:avLst/>
            <a:gdLst>
              <a:gd name="textAreaLeft" fmla="*/ 0 w 434880"/>
              <a:gd name="textAreaRight" fmla="*/ 435240 w 4348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hteck 99"/>
          <p:cNvSpPr/>
          <p:nvPr/>
        </p:nvSpPr>
        <p:spPr>
          <a:xfrm>
            <a:off x="1395360" y="2052720"/>
            <a:ext cx="434880" cy="171360"/>
          </a:xfrm>
          <a:custGeom>
            <a:avLst/>
            <a:gdLst>
              <a:gd name="textAreaLeft" fmla="*/ 0 w 434880"/>
              <a:gd name="textAreaRight" fmla="*/ 435240 w 4348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hteck 99"/>
          <p:cNvSpPr/>
          <p:nvPr/>
        </p:nvSpPr>
        <p:spPr>
          <a:xfrm>
            <a:off x="1903320" y="2052720"/>
            <a:ext cx="435240" cy="171360"/>
          </a:xfrm>
          <a:custGeom>
            <a:avLst/>
            <a:gdLst>
              <a:gd name="textAreaLeft" fmla="*/ 0 w 435240"/>
              <a:gd name="textAreaRight" fmla="*/ 435600 w 4352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hteck 99"/>
          <p:cNvSpPr/>
          <p:nvPr/>
        </p:nvSpPr>
        <p:spPr>
          <a:xfrm>
            <a:off x="2435400" y="2052720"/>
            <a:ext cx="434880" cy="171360"/>
          </a:xfrm>
          <a:custGeom>
            <a:avLst/>
            <a:gdLst>
              <a:gd name="textAreaLeft" fmla="*/ 0 w 434880"/>
              <a:gd name="textAreaRight" fmla="*/ 435240 w 4348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hteck 99"/>
          <p:cNvSpPr/>
          <p:nvPr/>
        </p:nvSpPr>
        <p:spPr>
          <a:xfrm>
            <a:off x="2967120" y="2052720"/>
            <a:ext cx="434880" cy="171360"/>
          </a:xfrm>
          <a:custGeom>
            <a:avLst/>
            <a:gdLst>
              <a:gd name="textAreaLeft" fmla="*/ 0 w 434880"/>
              <a:gd name="textAreaRight" fmla="*/ 435240 w 4348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hteck 99"/>
          <p:cNvSpPr/>
          <p:nvPr/>
        </p:nvSpPr>
        <p:spPr>
          <a:xfrm>
            <a:off x="3475080" y="2052720"/>
            <a:ext cx="434880" cy="171360"/>
          </a:xfrm>
          <a:custGeom>
            <a:avLst/>
            <a:gdLst>
              <a:gd name="textAreaLeft" fmla="*/ 0 w 434880"/>
              <a:gd name="textAreaRight" fmla="*/ 435240 w 4348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hteck 99"/>
          <p:cNvSpPr/>
          <p:nvPr/>
        </p:nvSpPr>
        <p:spPr>
          <a:xfrm>
            <a:off x="3983040" y="2052720"/>
            <a:ext cx="434880" cy="171360"/>
          </a:xfrm>
          <a:custGeom>
            <a:avLst/>
            <a:gdLst>
              <a:gd name="textAreaLeft" fmla="*/ 0 w 434880"/>
              <a:gd name="textAreaRight" fmla="*/ 435240 w 4348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hteck 99"/>
          <p:cNvSpPr/>
          <p:nvPr/>
        </p:nvSpPr>
        <p:spPr>
          <a:xfrm>
            <a:off x="4514760" y="2052720"/>
            <a:ext cx="435240" cy="171360"/>
          </a:xfrm>
          <a:custGeom>
            <a:avLst/>
            <a:gdLst>
              <a:gd name="textAreaLeft" fmla="*/ 0 w 435240"/>
              <a:gd name="textAreaRight" fmla="*/ 435600 w 4352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hteck 97"/>
          <p:cNvSpPr/>
          <p:nvPr/>
        </p:nvSpPr>
        <p:spPr>
          <a:xfrm>
            <a:off x="4954680" y="2909880"/>
            <a:ext cx="2950920" cy="609480"/>
          </a:xfrm>
          <a:prstGeom prst="rect">
            <a:avLst/>
          </a:prstGeom>
          <a:solidFill>
            <a:srgbClr val="efebcc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nahme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hteck 84"/>
          <p:cNvSpPr/>
          <p:nvPr/>
        </p:nvSpPr>
        <p:spPr>
          <a:xfrm>
            <a:off x="812880" y="2370240"/>
            <a:ext cx="7092720" cy="477720"/>
          </a:xfrm>
          <a:prstGeom prst="rect">
            <a:avLst/>
          </a:prstGeom>
          <a:solidFill>
            <a:srgbClr val="e5efeb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tegration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hteck 99"/>
          <p:cNvSpPr/>
          <p:nvPr/>
        </p:nvSpPr>
        <p:spPr>
          <a:xfrm>
            <a:off x="3479760" y="2602080"/>
            <a:ext cx="243000" cy="169560"/>
          </a:xfrm>
          <a:custGeom>
            <a:avLst/>
            <a:gdLst>
              <a:gd name="textAreaLeft" fmla="*/ 0 w 243000"/>
              <a:gd name="textAreaRight" fmla="*/ 243360 w 24300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hteck 99"/>
          <p:cNvSpPr/>
          <p:nvPr/>
        </p:nvSpPr>
        <p:spPr>
          <a:xfrm>
            <a:off x="2946240" y="2602080"/>
            <a:ext cx="241560" cy="169560"/>
          </a:xfrm>
          <a:custGeom>
            <a:avLst/>
            <a:gdLst>
              <a:gd name="textAreaLeft" fmla="*/ 0 w 241560"/>
              <a:gd name="textAreaRight" fmla="*/ 241920 w 24156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hteck 99"/>
          <p:cNvSpPr/>
          <p:nvPr/>
        </p:nvSpPr>
        <p:spPr>
          <a:xfrm>
            <a:off x="2435400" y="2602080"/>
            <a:ext cx="241200" cy="169560"/>
          </a:xfrm>
          <a:custGeom>
            <a:avLst/>
            <a:gdLst>
              <a:gd name="textAreaLeft" fmla="*/ 0 w 241200"/>
              <a:gd name="textAreaRight" fmla="*/ 241560 w 24120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hteck 99"/>
          <p:cNvSpPr/>
          <p:nvPr/>
        </p:nvSpPr>
        <p:spPr>
          <a:xfrm>
            <a:off x="1900080" y="2602080"/>
            <a:ext cx="243000" cy="169560"/>
          </a:xfrm>
          <a:custGeom>
            <a:avLst/>
            <a:gdLst>
              <a:gd name="textAreaLeft" fmla="*/ 0 w 243000"/>
              <a:gd name="textAreaRight" fmla="*/ 243360 w 24300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hteck 99"/>
          <p:cNvSpPr/>
          <p:nvPr/>
        </p:nvSpPr>
        <p:spPr>
          <a:xfrm>
            <a:off x="1389240" y="2602080"/>
            <a:ext cx="242640" cy="169560"/>
          </a:xfrm>
          <a:custGeom>
            <a:avLst/>
            <a:gdLst>
              <a:gd name="textAreaLeft" fmla="*/ 0 w 242640"/>
              <a:gd name="textAreaRight" fmla="*/ 243000 w 24264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hteck 99"/>
          <p:cNvSpPr/>
          <p:nvPr/>
        </p:nvSpPr>
        <p:spPr>
          <a:xfrm>
            <a:off x="5035680" y="2602080"/>
            <a:ext cx="242640" cy="169560"/>
          </a:xfrm>
          <a:custGeom>
            <a:avLst/>
            <a:gdLst>
              <a:gd name="textAreaLeft" fmla="*/ 0 w 242640"/>
              <a:gd name="textAreaRight" fmla="*/ 243000 w 24264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hteck 99"/>
          <p:cNvSpPr/>
          <p:nvPr/>
        </p:nvSpPr>
        <p:spPr>
          <a:xfrm>
            <a:off x="4525920" y="2602080"/>
            <a:ext cx="241200" cy="169560"/>
          </a:xfrm>
          <a:custGeom>
            <a:avLst/>
            <a:gdLst>
              <a:gd name="textAreaLeft" fmla="*/ 0 w 241200"/>
              <a:gd name="textAreaRight" fmla="*/ 241560 w 24120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hteck 99"/>
          <p:cNvSpPr/>
          <p:nvPr/>
        </p:nvSpPr>
        <p:spPr>
          <a:xfrm>
            <a:off x="3990960" y="2602080"/>
            <a:ext cx="241200" cy="169560"/>
          </a:xfrm>
          <a:custGeom>
            <a:avLst/>
            <a:gdLst>
              <a:gd name="textAreaLeft" fmla="*/ 0 w 241200"/>
              <a:gd name="textAreaRight" fmla="*/ 241560 w 24120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hteck 99"/>
          <p:cNvSpPr/>
          <p:nvPr/>
        </p:nvSpPr>
        <p:spPr>
          <a:xfrm>
            <a:off x="5565600" y="3219480"/>
            <a:ext cx="466920" cy="171360"/>
          </a:xfrm>
          <a:custGeom>
            <a:avLst/>
            <a:gdLst>
              <a:gd name="textAreaLeft" fmla="*/ 0 w 466920"/>
              <a:gd name="textAreaRight" fmla="*/ 467280 w 46692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51" y="0"/>
                </a:lnTo>
                <a:lnTo>
                  <a:pt x="21600" y="10800"/>
                </a:lnTo>
                <a:lnTo>
                  <a:pt x="20351" y="21600"/>
                </a:lnTo>
                <a:lnTo>
                  <a:pt x="0" y="21600"/>
                </a:lnTo>
                <a:lnTo>
                  <a:pt x="1249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hteck 99"/>
          <p:cNvSpPr/>
          <p:nvPr/>
        </p:nvSpPr>
        <p:spPr>
          <a:xfrm>
            <a:off x="6068880" y="3219480"/>
            <a:ext cx="216000" cy="171360"/>
          </a:xfrm>
          <a:custGeom>
            <a:avLst/>
            <a:gdLst>
              <a:gd name="textAreaLeft" fmla="*/ 0 w 216000"/>
              <a:gd name="textAreaRight" fmla="*/ 216360 w 2160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hteck 99"/>
          <p:cNvSpPr/>
          <p:nvPr/>
        </p:nvSpPr>
        <p:spPr>
          <a:xfrm>
            <a:off x="5062680" y="3219480"/>
            <a:ext cx="466560" cy="171360"/>
          </a:xfrm>
          <a:custGeom>
            <a:avLst/>
            <a:gdLst>
              <a:gd name="textAreaLeft" fmla="*/ 0 w 466560"/>
              <a:gd name="textAreaRight" fmla="*/ 466920 w 46656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51" y="0"/>
                </a:lnTo>
                <a:lnTo>
                  <a:pt x="21600" y="10800"/>
                </a:lnTo>
                <a:lnTo>
                  <a:pt x="20351" y="21600"/>
                </a:lnTo>
                <a:lnTo>
                  <a:pt x="0" y="21600"/>
                </a:lnTo>
                <a:lnTo>
                  <a:pt x="1249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hteck 97"/>
          <p:cNvSpPr/>
          <p:nvPr/>
        </p:nvSpPr>
        <p:spPr>
          <a:xfrm>
            <a:off x="5008680" y="4997520"/>
            <a:ext cx="3112920" cy="492120"/>
          </a:xfrm>
          <a:prstGeom prst="rect">
            <a:avLst/>
          </a:prstGeom>
          <a:solidFill>
            <a:srgbClr val="ff9900">
              <a:alpha val="45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ut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hteck 99"/>
          <p:cNvSpPr/>
          <p:nvPr/>
        </p:nvSpPr>
        <p:spPr>
          <a:xfrm>
            <a:off x="5567400" y="2595600"/>
            <a:ext cx="243000" cy="169920"/>
          </a:xfrm>
          <a:custGeom>
            <a:avLst/>
            <a:gdLst>
              <a:gd name="textAreaLeft" fmla="*/ 0 w 243000"/>
              <a:gd name="textAreaRight" fmla="*/ 243360 w 24300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hteck 99"/>
          <p:cNvSpPr/>
          <p:nvPr/>
        </p:nvSpPr>
        <p:spPr>
          <a:xfrm>
            <a:off x="7122960" y="2595600"/>
            <a:ext cx="243000" cy="169920"/>
          </a:xfrm>
          <a:custGeom>
            <a:avLst/>
            <a:gdLst>
              <a:gd name="textAreaLeft" fmla="*/ 0 w 243000"/>
              <a:gd name="textAreaRight" fmla="*/ 243360 w 24300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hteck 99"/>
          <p:cNvSpPr/>
          <p:nvPr/>
        </p:nvSpPr>
        <p:spPr>
          <a:xfrm>
            <a:off x="6613560" y="2595600"/>
            <a:ext cx="241200" cy="169920"/>
          </a:xfrm>
          <a:custGeom>
            <a:avLst/>
            <a:gdLst>
              <a:gd name="textAreaLeft" fmla="*/ 0 w 241200"/>
              <a:gd name="textAreaRight" fmla="*/ 241560 w 24120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hteck 99"/>
          <p:cNvSpPr/>
          <p:nvPr/>
        </p:nvSpPr>
        <p:spPr>
          <a:xfrm>
            <a:off x="6078600" y="2595600"/>
            <a:ext cx="241200" cy="169920"/>
          </a:xfrm>
          <a:custGeom>
            <a:avLst/>
            <a:gdLst>
              <a:gd name="textAreaLeft" fmla="*/ 0 w 241200"/>
              <a:gd name="textAreaRight" fmla="*/ 241560 w 24120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hteck 99"/>
          <p:cNvSpPr/>
          <p:nvPr/>
        </p:nvSpPr>
        <p:spPr>
          <a:xfrm>
            <a:off x="7616880" y="2595600"/>
            <a:ext cx="243000" cy="169920"/>
          </a:xfrm>
          <a:custGeom>
            <a:avLst/>
            <a:gdLst>
              <a:gd name="textAreaLeft" fmla="*/ 0 w 243000"/>
              <a:gd name="textAreaRight" fmla="*/ 243360 w 24300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hteck 99"/>
          <p:cNvSpPr/>
          <p:nvPr/>
        </p:nvSpPr>
        <p:spPr>
          <a:xfrm>
            <a:off x="5024520" y="2054160"/>
            <a:ext cx="434880" cy="171360"/>
          </a:xfrm>
          <a:custGeom>
            <a:avLst/>
            <a:gdLst>
              <a:gd name="textAreaLeft" fmla="*/ 0 w 434880"/>
              <a:gd name="textAreaRight" fmla="*/ 435240 w 4348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hteck 99"/>
          <p:cNvSpPr/>
          <p:nvPr/>
        </p:nvSpPr>
        <p:spPr>
          <a:xfrm>
            <a:off x="5556240" y="2054160"/>
            <a:ext cx="434880" cy="171360"/>
          </a:xfrm>
          <a:custGeom>
            <a:avLst/>
            <a:gdLst>
              <a:gd name="textAreaLeft" fmla="*/ 0 w 434880"/>
              <a:gd name="textAreaRight" fmla="*/ 435240 w 4348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hteck 99"/>
          <p:cNvSpPr/>
          <p:nvPr/>
        </p:nvSpPr>
        <p:spPr>
          <a:xfrm>
            <a:off x="6064200" y="2054160"/>
            <a:ext cx="434880" cy="171360"/>
          </a:xfrm>
          <a:custGeom>
            <a:avLst/>
            <a:gdLst>
              <a:gd name="textAreaLeft" fmla="*/ 0 w 434880"/>
              <a:gd name="textAreaRight" fmla="*/ 435240 w 4348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hteck 99"/>
          <p:cNvSpPr/>
          <p:nvPr/>
        </p:nvSpPr>
        <p:spPr>
          <a:xfrm>
            <a:off x="6572160" y="2054160"/>
            <a:ext cx="435240" cy="171360"/>
          </a:xfrm>
          <a:custGeom>
            <a:avLst/>
            <a:gdLst>
              <a:gd name="textAreaLeft" fmla="*/ 0 w 435240"/>
              <a:gd name="textAreaRight" fmla="*/ 435600 w 4352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hteck 99"/>
          <p:cNvSpPr/>
          <p:nvPr/>
        </p:nvSpPr>
        <p:spPr>
          <a:xfrm>
            <a:off x="7104240" y="2054160"/>
            <a:ext cx="434880" cy="171360"/>
          </a:xfrm>
          <a:custGeom>
            <a:avLst/>
            <a:gdLst>
              <a:gd name="textAreaLeft" fmla="*/ 0 w 434880"/>
              <a:gd name="textAreaRight" fmla="*/ 435240 w 4348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hteck 99"/>
          <p:cNvSpPr/>
          <p:nvPr/>
        </p:nvSpPr>
        <p:spPr>
          <a:xfrm>
            <a:off x="6716880" y="3220920"/>
            <a:ext cx="215640" cy="171720"/>
          </a:xfrm>
          <a:custGeom>
            <a:avLst/>
            <a:gdLst>
              <a:gd name="textAreaLeft" fmla="*/ 0 w 215640"/>
              <a:gd name="textAreaRight" fmla="*/ 216000 w 21564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hteck 99"/>
          <p:cNvSpPr/>
          <p:nvPr/>
        </p:nvSpPr>
        <p:spPr>
          <a:xfrm>
            <a:off x="7329600" y="3220920"/>
            <a:ext cx="215640" cy="171720"/>
          </a:xfrm>
          <a:custGeom>
            <a:avLst/>
            <a:gdLst>
              <a:gd name="textAreaLeft" fmla="*/ 0 w 215640"/>
              <a:gd name="textAreaRight" fmla="*/ 216000 w 21564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hteck 99"/>
          <p:cNvSpPr/>
          <p:nvPr/>
        </p:nvSpPr>
        <p:spPr>
          <a:xfrm>
            <a:off x="7653240" y="3220920"/>
            <a:ext cx="216000" cy="171720"/>
          </a:xfrm>
          <a:custGeom>
            <a:avLst/>
            <a:gdLst>
              <a:gd name="textAreaLeft" fmla="*/ 0 w 216000"/>
              <a:gd name="textAreaRight" fmla="*/ 216360 w 21600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hteck 99"/>
          <p:cNvSpPr/>
          <p:nvPr/>
        </p:nvSpPr>
        <p:spPr>
          <a:xfrm>
            <a:off x="6284880" y="3220920"/>
            <a:ext cx="216000" cy="171720"/>
          </a:xfrm>
          <a:custGeom>
            <a:avLst/>
            <a:gdLst>
              <a:gd name="textAreaLeft" fmla="*/ 0 w 216000"/>
              <a:gd name="textAreaRight" fmla="*/ 216360 w 21600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hteck 97"/>
          <p:cNvSpPr/>
          <p:nvPr/>
        </p:nvSpPr>
        <p:spPr>
          <a:xfrm>
            <a:off x="8445600" y="1832040"/>
            <a:ext cx="1258920" cy="466560"/>
          </a:xfrm>
          <a:prstGeom prst="rect">
            <a:avLst/>
          </a:prstGeom>
          <a:solidFill>
            <a:srgbClr val="dddddd"/>
          </a:solidFill>
          <a:ln w="9360">
            <a:solidFill>
              <a:srgbClr val="928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ystemumgeb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ntwicklu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hteck 97"/>
          <p:cNvSpPr/>
          <p:nvPr/>
        </p:nvSpPr>
        <p:spPr>
          <a:xfrm>
            <a:off x="8445600" y="2622600"/>
            <a:ext cx="1258920" cy="466560"/>
          </a:xfrm>
          <a:prstGeom prst="rect">
            <a:avLst/>
          </a:prstGeom>
          <a:solidFill>
            <a:srgbClr val="dddddd"/>
          </a:solidFill>
          <a:ln w="9360">
            <a:solidFill>
              <a:srgbClr val="928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ystemumgeb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hteck 97"/>
          <p:cNvSpPr/>
          <p:nvPr/>
        </p:nvSpPr>
        <p:spPr>
          <a:xfrm>
            <a:off x="8445600" y="3595680"/>
            <a:ext cx="1258920" cy="466560"/>
          </a:xfrm>
          <a:prstGeom prst="rect">
            <a:avLst/>
          </a:prstGeom>
          <a:solidFill>
            <a:srgbClr val="dddddd"/>
          </a:solidFill>
          <a:ln w="9360">
            <a:solidFill>
              <a:srgbClr val="928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ystemumgeb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ulu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hteck 97"/>
          <p:cNvSpPr/>
          <p:nvPr/>
        </p:nvSpPr>
        <p:spPr>
          <a:xfrm>
            <a:off x="8445600" y="4495680"/>
            <a:ext cx="1258920" cy="466920"/>
          </a:xfrm>
          <a:prstGeom prst="rect">
            <a:avLst/>
          </a:prstGeom>
          <a:solidFill>
            <a:srgbClr val="dddddd"/>
          </a:solidFill>
          <a:ln w="9360">
            <a:solidFill>
              <a:srgbClr val="928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ystemumgeb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duk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hteck 97"/>
          <p:cNvSpPr/>
          <p:nvPr/>
        </p:nvSpPr>
        <p:spPr>
          <a:xfrm>
            <a:off x="3476520" y="3594240"/>
            <a:ext cx="4429080" cy="581040"/>
          </a:xfrm>
          <a:prstGeom prst="rect">
            <a:avLst/>
          </a:prstGeom>
          <a:solidFill>
            <a:srgbClr val="ffffff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u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44" idx="3"/>
            <a:endCxn id="642" idx="1"/>
          </p:cNvCxnSpPr>
          <p:nvPr/>
        </p:nvCxnSpPr>
        <p:spPr>
          <a:xfrm flipV="1">
            <a:off x="7905600" y="3828240"/>
            <a:ext cx="540720" cy="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6" name=""/>
          <p:cNvCxnSpPr>
            <a:stCxn id="612" idx="3"/>
            <a:endCxn id="641" idx="1"/>
          </p:cNvCxnSpPr>
          <p:nvPr/>
        </p:nvCxnSpPr>
        <p:spPr>
          <a:xfrm flipV="1">
            <a:off x="7905600" y="2855160"/>
            <a:ext cx="54072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7" name=""/>
          <p:cNvCxnSpPr>
            <a:stCxn id="613" idx="3"/>
            <a:endCxn id="641" idx="1"/>
          </p:cNvCxnSpPr>
          <p:nvPr/>
        </p:nvCxnSpPr>
        <p:spPr>
          <a:xfrm>
            <a:off x="7905600" y="2609640"/>
            <a:ext cx="540720" cy="24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8" name=""/>
          <p:cNvCxnSpPr>
            <a:stCxn id="602" idx="3"/>
            <a:endCxn id="640" idx="1"/>
          </p:cNvCxnSpPr>
          <p:nvPr/>
        </p:nvCxnSpPr>
        <p:spPr>
          <a:xfrm>
            <a:off x="7905600" y="2061720"/>
            <a:ext cx="5407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9" name=""/>
          <p:cNvCxnSpPr>
            <a:stCxn id="601" idx="3"/>
            <a:endCxn id="643" idx="1"/>
          </p:cNvCxnSpPr>
          <p:nvPr/>
        </p:nvCxnSpPr>
        <p:spPr>
          <a:xfrm>
            <a:off x="7905600" y="4625640"/>
            <a:ext cx="540720" cy="10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0" name=""/>
          <p:cNvCxnSpPr>
            <a:stCxn id="625" idx="3"/>
            <a:endCxn id="643" idx="1"/>
          </p:cNvCxnSpPr>
          <p:nvPr/>
        </p:nvCxnSpPr>
        <p:spPr>
          <a:xfrm flipV="1">
            <a:off x="8121600" y="4729320"/>
            <a:ext cx="324720" cy="51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1" name=""/>
          <p:cNvSpPr/>
          <p:nvPr/>
        </p:nvSpPr>
        <p:spPr>
          <a:xfrm>
            <a:off x="174600" y="663480"/>
            <a:ext cx="9590040" cy="534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78920" y="439560"/>
            <a:ext cx="532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nerische Testplanung im Rahmen eines IT-Projek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312840" y="1808280"/>
            <a:ext cx="9356400" cy="4176360"/>
            <a:chOff x="312840" y="1808280"/>
            <a:chExt cx="9356400" cy="4176360"/>
          </a:xfrm>
        </p:grpSpPr>
        <p:sp>
          <p:nvSpPr>
            <p:cNvPr id="654" name="Gerade Verbindung 8"/>
            <p:cNvSpPr/>
            <p:nvPr/>
          </p:nvSpPr>
          <p:spPr>
            <a:xfrm flipH="1">
              <a:off x="312840" y="1808280"/>
              <a:ext cx="1440" cy="417132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Gerade Verbindung 8"/>
            <p:cNvSpPr/>
            <p:nvPr/>
          </p:nvSpPr>
          <p:spPr>
            <a:xfrm flipH="1">
              <a:off x="818640" y="1808280"/>
              <a:ext cx="1800" cy="417132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Gerade Verbindung 8"/>
            <p:cNvSpPr/>
            <p:nvPr/>
          </p:nvSpPr>
          <p:spPr>
            <a:xfrm flipH="1">
              <a:off x="1378080" y="1808280"/>
              <a:ext cx="1440" cy="417132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Gerade Verbindung 8"/>
            <p:cNvSpPr/>
            <p:nvPr/>
          </p:nvSpPr>
          <p:spPr>
            <a:xfrm>
              <a:off x="1884240" y="1808280"/>
              <a:ext cx="0" cy="417132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Gerade Verbindung 8"/>
            <p:cNvSpPr/>
            <p:nvPr/>
          </p:nvSpPr>
          <p:spPr>
            <a:xfrm>
              <a:off x="2417760" y="1808280"/>
              <a:ext cx="0" cy="417132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Gerade Verbindung 8"/>
            <p:cNvSpPr/>
            <p:nvPr/>
          </p:nvSpPr>
          <p:spPr>
            <a:xfrm flipH="1">
              <a:off x="2924280" y="1808280"/>
              <a:ext cx="1440" cy="417132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Gerade Verbindung 8"/>
            <p:cNvSpPr/>
            <p:nvPr/>
          </p:nvSpPr>
          <p:spPr>
            <a:xfrm>
              <a:off x="3457440" y="1808280"/>
              <a:ext cx="0" cy="417132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Gerade Verbindung 8"/>
            <p:cNvSpPr/>
            <p:nvPr/>
          </p:nvSpPr>
          <p:spPr>
            <a:xfrm flipH="1">
              <a:off x="3963960" y="1808280"/>
              <a:ext cx="1440" cy="417132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Gerade Verbindung 8"/>
            <p:cNvSpPr/>
            <p:nvPr/>
          </p:nvSpPr>
          <p:spPr>
            <a:xfrm>
              <a:off x="4495680" y="1808280"/>
              <a:ext cx="0" cy="417132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Gerade Verbindung 8"/>
            <p:cNvSpPr/>
            <p:nvPr/>
          </p:nvSpPr>
          <p:spPr>
            <a:xfrm>
              <a:off x="5005440" y="1808280"/>
              <a:ext cx="0" cy="417132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Gerade Verbindung 8"/>
            <p:cNvSpPr/>
            <p:nvPr/>
          </p:nvSpPr>
          <p:spPr>
            <a:xfrm flipH="1">
              <a:off x="5533560" y="1808280"/>
              <a:ext cx="1800" cy="417132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Gerade Verbindung 8"/>
            <p:cNvSpPr/>
            <p:nvPr/>
          </p:nvSpPr>
          <p:spPr>
            <a:xfrm>
              <a:off x="6053040" y="1808280"/>
              <a:ext cx="0" cy="417132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Gerade Verbindung 8"/>
            <p:cNvSpPr/>
            <p:nvPr/>
          </p:nvSpPr>
          <p:spPr>
            <a:xfrm flipH="1">
              <a:off x="6560640" y="1808280"/>
              <a:ext cx="1800" cy="417132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Gerade Verbindung 8"/>
            <p:cNvSpPr/>
            <p:nvPr/>
          </p:nvSpPr>
          <p:spPr>
            <a:xfrm>
              <a:off x="7093080" y="1808280"/>
              <a:ext cx="0" cy="417132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Gerade Verbindung 8"/>
            <p:cNvSpPr/>
            <p:nvPr/>
          </p:nvSpPr>
          <p:spPr>
            <a:xfrm flipH="1">
              <a:off x="7601040" y="1808280"/>
              <a:ext cx="1440" cy="417132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Gerade Verbindung 8"/>
            <p:cNvSpPr/>
            <p:nvPr/>
          </p:nvSpPr>
          <p:spPr>
            <a:xfrm flipH="1">
              <a:off x="8132760" y="1808280"/>
              <a:ext cx="1440" cy="417132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Gerade Verbindung 8"/>
            <p:cNvSpPr/>
            <p:nvPr/>
          </p:nvSpPr>
          <p:spPr>
            <a:xfrm>
              <a:off x="8640720" y="1808280"/>
              <a:ext cx="0" cy="417132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Gerade Verbindung 8"/>
            <p:cNvSpPr/>
            <p:nvPr/>
          </p:nvSpPr>
          <p:spPr>
            <a:xfrm flipH="1">
              <a:off x="9172080" y="1808280"/>
              <a:ext cx="1800" cy="417132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Gerade Verbindung 8"/>
            <p:cNvSpPr/>
            <p:nvPr/>
          </p:nvSpPr>
          <p:spPr>
            <a:xfrm flipH="1">
              <a:off x="9667440" y="1812960"/>
              <a:ext cx="1800" cy="4171680"/>
            </a:xfrm>
            <a:prstGeom prst="line">
              <a:avLst/>
            </a:prstGeom>
            <a:ln w="324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4910040" y="1160640"/>
            <a:ext cx="179640" cy="215640"/>
          </a:xfrm>
          <a:prstGeom prst="diamond">
            <a:avLst/>
          </a:prstGeom>
          <a:solidFill>
            <a:srgbClr val="ff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227480" y="914400"/>
            <a:ext cx="156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ntwicklungs-Free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042400" y="1160640"/>
            <a:ext cx="179280" cy="215640"/>
          </a:xfrm>
          <a:prstGeom prst="diamond">
            <a:avLst/>
          </a:prstGeom>
          <a:solidFill>
            <a:srgbClr val="ff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709400" y="91440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oing-L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hteck 99"/>
          <p:cNvSpPr/>
          <p:nvPr/>
        </p:nvSpPr>
        <p:spPr>
          <a:xfrm>
            <a:off x="307800" y="6093000"/>
            <a:ext cx="142920" cy="106200"/>
          </a:xfrm>
          <a:custGeom>
            <a:avLst/>
            <a:gdLst>
              <a:gd name="textAreaLeft" fmla="*/ 0 w 142920"/>
              <a:gd name="textAreaRight" fmla="*/ 143280 w 1429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840" y="0"/>
                </a:lnTo>
                <a:lnTo>
                  <a:pt x="21600" y="10800"/>
                </a:lnTo>
                <a:lnTo>
                  <a:pt x="15840" y="21600"/>
                </a:lnTo>
                <a:lnTo>
                  <a:pt x="0" y="21600"/>
                </a:lnTo>
                <a:lnTo>
                  <a:pt x="5760" y="10800"/>
                </a:lnTo>
                <a:close/>
              </a:path>
            </a:pathLst>
          </a:custGeom>
          <a:noFill/>
          <a:ln w="324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4360" y="6041880"/>
            <a:ext cx="593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operative Durchführung der geplanten Tests (FuT, Integrationstests und Abnahmetes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hteck 97"/>
          <p:cNvSpPr/>
          <p:nvPr/>
        </p:nvSpPr>
        <p:spPr>
          <a:xfrm>
            <a:off x="3981600" y="4654440"/>
            <a:ext cx="3924000" cy="615960"/>
          </a:xfrm>
          <a:prstGeom prst="rect">
            <a:avLst/>
          </a:prstGeom>
          <a:solidFill>
            <a:srgbClr val="6699ff">
              <a:alpha val="45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neralpro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hteck 84"/>
          <p:cNvSpPr/>
          <p:nvPr/>
        </p:nvSpPr>
        <p:spPr>
          <a:xfrm>
            <a:off x="307800" y="1839960"/>
            <a:ext cx="7597800" cy="718920"/>
          </a:xfrm>
          <a:prstGeom prst="rect">
            <a:avLst/>
          </a:prstGeom>
          <a:solidFill>
            <a:srgbClr val="b6c9d8">
              <a:alpha val="82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rametrisierung und Functional Unit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hteck 99"/>
          <p:cNvSpPr/>
          <p:nvPr/>
        </p:nvSpPr>
        <p:spPr>
          <a:xfrm>
            <a:off x="355680" y="2319480"/>
            <a:ext cx="434880" cy="171360"/>
          </a:xfrm>
          <a:custGeom>
            <a:avLst/>
            <a:gdLst>
              <a:gd name="textAreaLeft" fmla="*/ 0 w 434880"/>
              <a:gd name="textAreaRight" fmla="*/ 435240 w 4348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hteck 99"/>
          <p:cNvSpPr/>
          <p:nvPr/>
        </p:nvSpPr>
        <p:spPr>
          <a:xfrm>
            <a:off x="839880" y="2319480"/>
            <a:ext cx="434880" cy="171360"/>
          </a:xfrm>
          <a:custGeom>
            <a:avLst/>
            <a:gdLst>
              <a:gd name="textAreaLeft" fmla="*/ 0 w 434880"/>
              <a:gd name="textAreaRight" fmla="*/ 435240 w 4348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hteck 99"/>
          <p:cNvSpPr/>
          <p:nvPr/>
        </p:nvSpPr>
        <p:spPr>
          <a:xfrm>
            <a:off x="1395360" y="2319480"/>
            <a:ext cx="434880" cy="171360"/>
          </a:xfrm>
          <a:custGeom>
            <a:avLst/>
            <a:gdLst>
              <a:gd name="textAreaLeft" fmla="*/ 0 w 434880"/>
              <a:gd name="textAreaRight" fmla="*/ 435240 w 4348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hteck 99"/>
          <p:cNvSpPr/>
          <p:nvPr/>
        </p:nvSpPr>
        <p:spPr>
          <a:xfrm>
            <a:off x="1903320" y="2319480"/>
            <a:ext cx="435240" cy="171360"/>
          </a:xfrm>
          <a:custGeom>
            <a:avLst/>
            <a:gdLst>
              <a:gd name="textAreaLeft" fmla="*/ 0 w 435240"/>
              <a:gd name="textAreaRight" fmla="*/ 435600 w 4352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hteck 99"/>
          <p:cNvSpPr/>
          <p:nvPr/>
        </p:nvSpPr>
        <p:spPr>
          <a:xfrm>
            <a:off x="2435400" y="2319480"/>
            <a:ext cx="434880" cy="171360"/>
          </a:xfrm>
          <a:custGeom>
            <a:avLst/>
            <a:gdLst>
              <a:gd name="textAreaLeft" fmla="*/ 0 w 434880"/>
              <a:gd name="textAreaRight" fmla="*/ 435240 w 4348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hteck 99"/>
          <p:cNvSpPr/>
          <p:nvPr/>
        </p:nvSpPr>
        <p:spPr>
          <a:xfrm>
            <a:off x="2967120" y="2319480"/>
            <a:ext cx="434880" cy="171360"/>
          </a:xfrm>
          <a:custGeom>
            <a:avLst/>
            <a:gdLst>
              <a:gd name="textAreaLeft" fmla="*/ 0 w 434880"/>
              <a:gd name="textAreaRight" fmla="*/ 435240 w 4348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hteck 99"/>
          <p:cNvSpPr/>
          <p:nvPr/>
        </p:nvSpPr>
        <p:spPr>
          <a:xfrm>
            <a:off x="3475080" y="2319480"/>
            <a:ext cx="434880" cy="171360"/>
          </a:xfrm>
          <a:custGeom>
            <a:avLst/>
            <a:gdLst>
              <a:gd name="textAreaLeft" fmla="*/ 0 w 434880"/>
              <a:gd name="textAreaRight" fmla="*/ 435240 w 4348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hteck 99"/>
          <p:cNvSpPr/>
          <p:nvPr/>
        </p:nvSpPr>
        <p:spPr>
          <a:xfrm>
            <a:off x="3983040" y="2319480"/>
            <a:ext cx="434880" cy="171360"/>
          </a:xfrm>
          <a:custGeom>
            <a:avLst/>
            <a:gdLst>
              <a:gd name="textAreaLeft" fmla="*/ 0 w 434880"/>
              <a:gd name="textAreaRight" fmla="*/ 435240 w 4348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hteck 99"/>
          <p:cNvSpPr/>
          <p:nvPr/>
        </p:nvSpPr>
        <p:spPr>
          <a:xfrm>
            <a:off x="4514760" y="2319480"/>
            <a:ext cx="435240" cy="171360"/>
          </a:xfrm>
          <a:custGeom>
            <a:avLst/>
            <a:gdLst>
              <a:gd name="textAreaLeft" fmla="*/ 0 w 435240"/>
              <a:gd name="textAreaRight" fmla="*/ 435600 w 4352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hteck 97"/>
          <p:cNvSpPr/>
          <p:nvPr/>
        </p:nvSpPr>
        <p:spPr>
          <a:xfrm>
            <a:off x="1604880" y="3657600"/>
            <a:ext cx="6300720" cy="922320"/>
          </a:xfrm>
          <a:prstGeom prst="rect">
            <a:avLst/>
          </a:prstGeom>
          <a:solidFill>
            <a:srgbClr val="efebcc">
              <a:alpha val="79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nahme-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hteck 84"/>
          <p:cNvSpPr/>
          <p:nvPr/>
        </p:nvSpPr>
        <p:spPr>
          <a:xfrm>
            <a:off x="812880" y="2627280"/>
            <a:ext cx="7092720" cy="961920"/>
          </a:xfrm>
          <a:prstGeom prst="rect">
            <a:avLst/>
          </a:prstGeom>
          <a:solidFill>
            <a:srgbClr val="e5efeb">
              <a:alpha val="83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tegration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hteck 99"/>
          <p:cNvSpPr/>
          <p:nvPr/>
        </p:nvSpPr>
        <p:spPr>
          <a:xfrm>
            <a:off x="3479760" y="3110040"/>
            <a:ext cx="243000" cy="169560"/>
          </a:xfrm>
          <a:custGeom>
            <a:avLst/>
            <a:gdLst>
              <a:gd name="textAreaLeft" fmla="*/ 0 w 243000"/>
              <a:gd name="textAreaRight" fmla="*/ 243360 w 24300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hteck 99"/>
          <p:cNvSpPr/>
          <p:nvPr/>
        </p:nvSpPr>
        <p:spPr>
          <a:xfrm>
            <a:off x="2946240" y="3110040"/>
            <a:ext cx="241560" cy="169560"/>
          </a:xfrm>
          <a:custGeom>
            <a:avLst/>
            <a:gdLst>
              <a:gd name="textAreaLeft" fmla="*/ 0 w 241560"/>
              <a:gd name="textAreaRight" fmla="*/ 241920 w 24156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hteck 99"/>
          <p:cNvSpPr/>
          <p:nvPr/>
        </p:nvSpPr>
        <p:spPr>
          <a:xfrm>
            <a:off x="2435400" y="3110040"/>
            <a:ext cx="241200" cy="169560"/>
          </a:xfrm>
          <a:custGeom>
            <a:avLst/>
            <a:gdLst>
              <a:gd name="textAreaLeft" fmla="*/ 0 w 241200"/>
              <a:gd name="textAreaRight" fmla="*/ 241560 w 24120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hteck 99"/>
          <p:cNvSpPr/>
          <p:nvPr/>
        </p:nvSpPr>
        <p:spPr>
          <a:xfrm>
            <a:off x="1900080" y="3110040"/>
            <a:ext cx="243000" cy="169560"/>
          </a:xfrm>
          <a:custGeom>
            <a:avLst/>
            <a:gdLst>
              <a:gd name="textAreaLeft" fmla="*/ 0 w 243000"/>
              <a:gd name="textAreaRight" fmla="*/ 243360 w 24300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hteck 99"/>
          <p:cNvSpPr/>
          <p:nvPr/>
        </p:nvSpPr>
        <p:spPr>
          <a:xfrm>
            <a:off x="1389240" y="3110040"/>
            <a:ext cx="242640" cy="169560"/>
          </a:xfrm>
          <a:custGeom>
            <a:avLst/>
            <a:gdLst>
              <a:gd name="textAreaLeft" fmla="*/ 0 w 242640"/>
              <a:gd name="textAreaRight" fmla="*/ 243000 w 24264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hteck 99"/>
          <p:cNvSpPr/>
          <p:nvPr/>
        </p:nvSpPr>
        <p:spPr>
          <a:xfrm>
            <a:off x="5035680" y="3110040"/>
            <a:ext cx="242640" cy="169560"/>
          </a:xfrm>
          <a:custGeom>
            <a:avLst/>
            <a:gdLst>
              <a:gd name="textAreaLeft" fmla="*/ 0 w 242640"/>
              <a:gd name="textAreaRight" fmla="*/ 243000 w 24264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hteck 99"/>
          <p:cNvSpPr/>
          <p:nvPr/>
        </p:nvSpPr>
        <p:spPr>
          <a:xfrm>
            <a:off x="4525920" y="3110040"/>
            <a:ext cx="241200" cy="169560"/>
          </a:xfrm>
          <a:custGeom>
            <a:avLst/>
            <a:gdLst>
              <a:gd name="textAreaLeft" fmla="*/ 0 w 241200"/>
              <a:gd name="textAreaRight" fmla="*/ 241560 w 24120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hteck 99"/>
          <p:cNvSpPr/>
          <p:nvPr/>
        </p:nvSpPr>
        <p:spPr>
          <a:xfrm>
            <a:off x="3990960" y="3110040"/>
            <a:ext cx="241200" cy="169560"/>
          </a:xfrm>
          <a:custGeom>
            <a:avLst/>
            <a:gdLst>
              <a:gd name="textAreaLeft" fmla="*/ 0 w 241200"/>
              <a:gd name="textAreaRight" fmla="*/ 241560 w 24120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hteck 84"/>
          <p:cNvSpPr/>
          <p:nvPr/>
        </p:nvSpPr>
        <p:spPr>
          <a:xfrm>
            <a:off x="812880" y="2887560"/>
            <a:ext cx="4176720" cy="181080"/>
          </a:xfrm>
          <a:prstGeom prst="rect">
            <a:avLst/>
          </a:pr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finition und Planung von Integrations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hteck 84"/>
          <p:cNvSpPr/>
          <p:nvPr/>
        </p:nvSpPr>
        <p:spPr>
          <a:xfrm>
            <a:off x="1676520" y="3319560"/>
            <a:ext cx="3600360" cy="180720"/>
          </a:xfrm>
          <a:prstGeom prst="rect">
            <a:avLst/>
          </a:pr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üfung der Integrations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hteck 84"/>
          <p:cNvSpPr/>
          <p:nvPr/>
        </p:nvSpPr>
        <p:spPr>
          <a:xfrm>
            <a:off x="318960" y="2060640"/>
            <a:ext cx="4670640" cy="179280"/>
          </a:xfrm>
          <a:prstGeom prst="rect">
            <a:avLst/>
          </a:prstGeom>
          <a:solidFill>
            <a:srgbClr val="638dab">
              <a:alpha val="63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arametrisi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hteck 99"/>
          <p:cNvSpPr/>
          <p:nvPr/>
        </p:nvSpPr>
        <p:spPr>
          <a:xfrm>
            <a:off x="5565600" y="4005360"/>
            <a:ext cx="466920" cy="171360"/>
          </a:xfrm>
          <a:custGeom>
            <a:avLst/>
            <a:gdLst>
              <a:gd name="textAreaLeft" fmla="*/ 0 w 466920"/>
              <a:gd name="textAreaRight" fmla="*/ 467280 w 46692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51" y="0"/>
                </a:lnTo>
                <a:lnTo>
                  <a:pt x="21600" y="10800"/>
                </a:lnTo>
                <a:lnTo>
                  <a:pt x="20351" y="21600"/>
                </a:lnTo>
                <a:lnTo>
                  <a:pt x="0" y="21600"/>
                </a:lnTo>
                <a:lnTo>
                  <a:pt x="1249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hteck 99"/>
          <p:cNvSpPr/>
          <p:nvPr/>
        </p:nvSpPr>
        <p:spPr>
          <a:xfrm>
            <a:off x="6068880" y="4005360"/>
            <a:ext cx="363600" cy="171360"/>
          </a:xfrm>
          <a:custGeom>
            <a:avLst/>
            <a:gdLst>
              <a:gd name="textAreaLeft" fmla="*/ 0 w 363600"/>
              <a:gd name="textAreaRight" fmla="*/ 363960 w 3636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599160" y="4906800"/>
            <a:ext cx="60480" cy="257400"/>
          </a:xfrm>
          <a:prstGeom prst="rect">
            <a:avLst/>
          </a:prstGeom>
          <a:solidFill>
            <a:srgbClr val="669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548400" y="47214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P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010280" y="4905360"/>
            <a:ext cx="60480" cy="257040"/>
          </a:xfrm>
          <a:prstGeom prst="rect">
            <a:avLst/>
          </a:prstGeom>
          <a:solidFill>
            <a:srgbClr val="669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959520" y="47131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P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391520" y="4905360"/>
            <a:ext cx="60120" cy="257040"/>
          </a:xfrm>
          <a:prstGeom prst="rect">
            <a:avLst/>
          </a:prstGeom>
          <a:solidFill>
            <a:srgbClr val="669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340760" y="47131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P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hteck 84"/>
          <p:cNvSpPr/>
          <p:nvPr/>
        </p:nvSpPr>
        <p:spPr>
          <a:xfrm>
            <a:off x="3981600" y="4905360"/>
            <a:ext cx="2334960" cy="274680"/>
          </a:xfrm>
          <a:prstGeom prst="rect">
            <a:avLst/>
          </a:prstGeom>
          <a:solidFill>
            <a:srgbClr val="6699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Vorbereitung 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hteck 84"/>
          <p:cNvSpPr/>
          <p:nvPr/>
        </p:nvSpPr>
        <p:spPr>
          <a:xfrm>
            <a:off x="2505240" y="3897360"/>
            <a:ext cx="2484360" cy="573120"/>
          </a:xfrm>
          <a:prstGeom prst="rect">
            <a:avLst/>
          </a:pr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dentifikation von Testszenarien,  Definition und Planung der 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349960" y="3708360"/>
            <a:ext cx="2520720" cy="184320"/>
          </a:xfrm>
          <a:prstGeom prst="rect">
            <a:avLst/>
          </a:prstGeom>
          <a:solidFill>
            <a:srgbClr val="efe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urchführung der Abnahme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337240" y="2432160"/>
            <a:ext cx="13312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uality 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ady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nahme-Te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336160" y="3537000"/>
            <a:ext cx="968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uality 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ady for 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hteck 97"/>
          <p:cNvSpPr/>
          <p:nvPr/>
        </p:nvSpPr>
        <p:spPr>
          <a:xfrm>
            <a:off x="4483080" y="5376960"/>
            <a:ext cx="3638520" cy="538200"/>
          </a:xfrm>
          <a:prstGeom prst="rect">
            <a:avLst/>
          </a:prstGeom>
          <a:solidFill>
            <a:srgbClr val="ff9900">
              <a:alpha val="45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ut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283360" y="2635200"/>
            <a:ext cx="39600" cy="1944720"/>
          </a:xfrm>
          <a:custGeom>
            <a:avLst/>
            <a:gdLst>
              <a:gd name="textAreaLeft" fmla="*/ 1800 w 39600"/>
              <a:gd name="textAreaRight" fmla="*/ 37800 w 39600"/>
              <a:gd name="textAreaTop" fmla="*/ 1800 h 1944720"/>
              <a:gd name="textAreaBottom" fmla="*/ 1942920 h 1944720"/>
            </a:gdLst>
            <a:ahLst/>
            <a:rect l="textAreaLeft" t="textAreaTop" r="textAreaRight" b="textAreaBottom"/>
            <a:pathLst>
              <a:path w="21600" h="1051395">
                <a:moveTo>
                  <a:pt x="3600" y="0"/>
                </a:moveTo>
                <a:arcTo wR="3600" hR="3600" stAng="16200000" swAng="-5400000"/>
                <a:lnTo>
                  <a:pt x="0" y="1047795"/>
                </a:lnTo>
                <a:arcTo wR="3600" hR="3600" stAng="10800000" swAng="-5400000"/>
                <a:lnTo>
                  <a:pt x="18000" y="1051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211720" y="2606760"/>
            <a:ext cx="179280" cy="215640"/>
          </a:xfrm>
          <a:prstGeom prst="diamond">
            <a:avLst/>
          </a:prstGeom>
          <a:solidFill>
            <a:srgbClr val="ff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hteck 99"/>
          <p:cNvSpPr/>
          <p:nvPr/>
        </p:nvSpPr>
        <p:spPr>
          <a:xfrm>
            <a:off x="5567400" y="3103560"/>
            <a:ext cx="243000" cy="169920"/>
          </a:xfrm>
          <a:custGeom>
            <a:avLst/>
            <a:gdLst>
              <a:gd name="textAreaLeft" fmla="*/ 0 w 243000"/>
              <a:gd name="textAreaRight" fmla="*/ 243360 w 24300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hteck 84"/>
          <p:cNvSpPr/>
          <p:nvPr/>
        </p:nvSpPr>
        <p:spPr>
          <a:xfrm>
            <a:off x="4989600" y="2887560"/>
            <a:ext cx="1574640" cy="19044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ung Re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hteck 84"/>
          <p:cNvSpPr/>
          <p:nvPr/>
        </p:nvSpPr>
        <p:spPr>
          <a:xfrm>
            <a:off x="5276880" y="3319560"/>
            <a:ext cx="1587600" cy="16992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üfung Re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hteck 84"/>
          <p:cNvSpPr/>
          <p:nvPr/>
        </p:nvSpPr>
        <p:spPr>
          <a:xfrm>
            <a:off x="4989600" y="2060640"/>
            <a:ext cx="2627280" cy="17928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gfix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hteck 99"/>
          <p:cNvSpPr/>
          <p:nvPr/>
        </p:nvSpPr>
        <p:spPr>
          <a:xfrm>
            <a:off x="5024520" y="2320920"/>
            <a:ext cx="434880" cy="171360"/>
          </a:xfrm>
          <a:custGeom>
            <a:avLst/>
            <a:gdLst>
              <a:gd name="textAreaLeft" fmla="*/ 0 w 434880"/>
              <a:gd name="textAreaRight" fmla="*/ 435240 w 4348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hteck 99"/>
          <p:cNvSpPr/>
          <p:nvPr/>
        </p:nvSpPr>
        <p:spPr>
          <a:xfrm>
            <a:off x="5556240" y="2320920"/>
            <a:ext cx="434880" cy="171360"/>
          </a:xfrm>
          <a:custGeom>
            <a:avLst/>
            <a:gdLst>
              <a:gd name="textAreaLeft" fmla="*/ 0 w 434880"/>
              <a:gd name="textAreaRight" fmla="*/ 435240 w 4348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hteck 99"/>
          <p:cNvSpPr/>
          <p:nvPr/>
        </p:nvSpPr>
        <p:spPr>
          <a:xfrm>
            <a:off x="6064200" y="2320920"/>
            <a:ext cx="434880" cy="171360"/>
          </a:xfrm>
          <a:custGeom>
            <a:avLst/>
            <a:gdLst>
              <a:gd name="textAreaLeft" fmla="*/ 0 w 434880"/>
              <a:gd name="textAreaRight" fmla="*/ 435240 w 4348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hteck 99"/>
          <p:cNvSpPr/>
          <p:nvPr/>
        </p:nvSpPr>
        <p:spPr>
          <a:xfrm>
            <a:off x="6572160" y="2320920"/>
            <a:ext cx="435240" cy="171360"/>
          </a:xfrm>
          <a:custGeom>
            <a:avLst/>
            <a:gdLst>
              <a:gd name="textAreaLeft" fmla="*/ 0 w 435240"/>
              <a:gd name="textAreaRight" fmla="*/ 435600 w 4352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hteck 99"/>
          <p:cNvSpPr/>
          <p:nvPr/>
        </p:nvSpPr>
        <p:spPr>
          <a:xfrm>
            <a:off x="7104240" y="2320920"/>
            <a:ext cx="434880" cy="171360"/>
          </a:xfrm>
          <a:custGeom>
            <a:avLst/>
            <a:gdLst>
              <a:gd name="textAreaLeft" fmla="*/ 0 w 434880"/>
              <a:gd name="textAreaRight" fmla="*/ 435240 w 4348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hteck 99"/>
          <p:cNvSpPr/>
          <p:nvPr/>
        </p:nvSpPr>
        <p:spPr>
          <a:xfrm>
            <a:off x="6972480" y="4006800"/>
            <a:ext cx="215640" cy="171360"/>
          </a:xfrm>
          <a:custGeom>
            <a:avLst/>
            <a:gdLst>
              <a:gd name="textAreaLeft" fmla="*/ 0 w 215640"/>
              <a:gd name="textAreaRight" fmla="*/ 216000 w 2156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hteck 99"/>
          <p:cNvSpPr/>
          <p:nvPr/>
        </p:nvSpPr>
        <p:spPr>
          <a:xfrm>
            <a:off x="7292880" y="4006800"/>
            <a:ext cx="216000" cy="171360"/>
          </a:xfrm>
          <a:custGeom>
            <a:avLst/>
            <a:gdLst>
              <a:gd name="textAreaLeft" fmla="*/ 0 w 216000"/>
              <a:gd name="textAreaRight" fmla="*/ 216360 w 2160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hteck 84"/>
          <p:cNvSpPr/>
          <p:nvPr/>
        </p:nvSpPr>
        <p:spPr>
          <a:xfrm>
            <a:off x="5313240" y="4255920"/>
            <a:ext cx="971640" cy="216000"/>
          </a:xfrm>
          <a:prstGeom prst="rect">
            <a:avLst/>
          </a:prstGeom>
          <a:solidFill>
            <a:srgbClr val="d6c6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hteck 84"/>
          <p:cNvSpPr/>
          <p:nvPr/>
        </p:nvSpPr>
        <p:spPr>
          <a:xfrm>
            <a:off x="5313240" y="4255920"/>
            <a:ext cx="2268720" cy="21600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üfung der Abnahme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018200" y="3679920"/>
            <a:ext cx="36720" cy="900000"/>
          </a:xfrm>
          <a:custGeom>
            <a:avLst/>
            <a:gdLst>
              <a:gd name="textAreaLeft" fmla="*/ 1800 w 36720"/>
              <a:gd name="textAreaRight" fmla="*/ 34920 w 36720"/>
              <a:gd name="textAreaTop" fmla="*/ 1800 h 900000"/>
              <a:gd name="textAreaBottom" fmla="*/ 898200 h 900000"/>
            </a:gdLst>
            <a:ahLst/>
            <a:rect l="textAreaLeft" t="textAreaTop" r="textAreaRight" b="textAreaBottom"/>
            <a:pathLst>
              <a:path w="21600" h="524482">
                <a:moveTo>
                  <a:pt x="3600" y="0"/>
                </a:moveTo>
                <a:arcTo wR="3600" hR="3600" stAng="16200000" swAng="-5400000"/>
                <a:lnTo>
                  <a:pt x="0" y="520882"/>
                </a:lnTo>
                <a:arcTo wR="3600" hR="3600" stAng="10800000" swAng="-5400000"/>
                <a:lnTo>
                  <a:pt x="18000" y="524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946920" y="3516480"/>
            <a:ext cx="179280" cy="215640"/>
          </a:xfrm>
          <a:prstGeom prst="diamond">
            <a:avLst/>
          </a:prstGeom>
          <a:solidFill>
            <a:srgbClr val="ff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5420880" y="2716200"/>
            <a:ext cx="2808360" cy="0"/>
          </a:xfrm>
          <a:prstGeom prst="line">
            <a:avLst/>
          </a:prstGeom>
          <a:ln w="3240">
            <a:solidFill>
              <a:srgbClr val="ff3300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7102080" y="3624120"/>
            <a:ext cx="1127160" cy="0"/>
          </a:xfrm>
          <a:prstGeom prst="line">
            <a:avLst/>
          </a:prstGeom>
          <a:ln w="3240">
            <a:solidFill>
              <a:srgbClr val="ff3300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637240" y="4043520"/>
            <a:ext cx="25236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327800" y="4043520"/>
            <a:ext cx="25236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097600" y="3139920"/>
            <a:ext cx="252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602320" y="3139920"/>
            <a:ext cx="252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508880" y="4255920"/>
            <a:ext cx="179280" cy="216000"/>
          </a:xfrm>
          <a:prstGeom prst="diamond">
            <a:avLst/>
          </a:prstGeom>
          <a:solidFill>
            <a:srgbClr val="ff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hteck 99"/>
          <p:cNvSpPr/>
          <p:nvPr/>
        </p:nvSpPr>
        <p:spPr>
          <a:xfrm>
            <a:off x="5313240" y="4006800"/>
            <a:ext cx="216000" cy="171360"/>
          </a:xfrm>
          <a:custGeom>
            <a:avLst/>
            <a:gdLst>
              <a:gd name="textAreaLeft" fmla="*/ 0 w 216000"/>
              <a:gd name="textAreaRight" fmla="*/ 216360 w 2160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348160" y="4043520"/>
            <a:ext cx="252720" cy="1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335440" y="4195800"/>
            <a:ext cx="1052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gn-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nahme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7724880" y="4363920"/>
            <a:ext cx="504720" cy="0"/>
          </a:xfrm>
          <a:prstGeom prst="line">
            <a:avLst/>
          </a:prstGeom>
          <a:ln w="3240">
            <a:solidFill>
              <a:srgbClr val="ff3300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hteck 51"/>
          <p:cNvSpPr/>
          <p:nvPr/>
        </p:nvSpPr>
        <p:spPr>
          <a:xfrm>
            <a:off x="8124840" y="1378080"/>
            <a:ext cx="1544760" cy="379440"/>
          </a:xfrm>
          <a:prstGeom prst="rect">
            <a:avLst/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tim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hteck 51"/>
          <p:cNvSpPr/>
          <p:nvPr/>
        </p:nvSpPr>
        <p:spPr>
          <a:xfrm>
            <a:off x="272880" y="1378080"/>
            <a:ext cx="5915160" cy="379440"/>
          </a:xfrm>
          <a:prstGeom prst="rect">
            <a:avLst/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alis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hteck 51"/>
          <p:cNvSpPr/>
          <p:nvPr/>
        </p:nvSpPr>
        <p:spPr>
          <a:xfrm>
            <a:off x="6188040" y="1378080"/>
            <a:ext cx="1936800" cy="379440"/>
          </a:xfrm>
          <a:prstGeom prst="rect">
            <a:avLst/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74600" y="790560"/>
            <a:ext cx="9590040" cy="55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hteck 99"/>
          <p:cNvSpPr/>
          <p:nvPr/>
        </p:nvSpPr>
        <p:spPr>
          <a:xfrm>
            <a:off x="6499080" y="3990960"/>
            <a:ext cx="363600" cy="195120"/>
          </a:xfrm>
          <a:custGeom>
            <a:avLst/>
            <a:gdLst>
              <a:gd name="textAreaLeft" fmla="*/ 0 w 363600"/>
              <a:gd name="textAreaRight" fmla="*/ 363960 w 3636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hteck 84"/>
          <p:cNvSpPr/>
          <p:nvPr/>
        </p:nvSpPr>
        <p:spPr>
          <a:xfrm>
            <a:off x="1782720" y="3894120"/>
            <a:ext cx="723960" cy="585720"/>
          </a:xfrm>
          <a:prstGeom prst="rect">
            <a:avLst/>
          </a:pr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nz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12760" y="565200"/>
            <a:ext cx="508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ung der Quality Gates am Ende einer Test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461880" y="1092240"/>
            <a:ext cx="9215640" cy="34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23880" y="1195560"/>
            <a:ext cx="8898120" cy="1473120"/>
          </a:xfrm>
          <a:prstGeom prst="rect">
            <a:avLst/>
          </a:prstGeom>
          <a:solidFill>
            <a:srgbClr val="edede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34320" y="1339920"/>
            <a:ext cx="1360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Anforderungstyp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870120" y="1906560"/>
            <a:ext cx="1180800" cy="358560"/>
            <a:chOff x="870120" y="1906560"/>
            <a:chExt cx="1180800" cy="358560"/>
          </a:xfrm>
        </p:grpSpPr>
        <p:sp>
          <p:nvSpPr>
            <p:cNvPr id="756" name=""/>
            <p:cNvSpPr/>
            <p:nvPr/>
          </p:nvSpPr>
          <p:spPr>
            <a:xfrm>
              <a:off x="870120" y="1913040"/>
              <a:ext cx="1180800" cy="35208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Geschäftsfall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011240" y="2206440"/>
              <a:ext cx="86760" cy="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54000" y="2206440"/>
              <a:ext cx="87120" cy="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560240" y="1906560"/>
              <a:ext cx="87120" cy="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25360" y="1906560"/>
              <a:ext cx="87120" cy="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751040" y="1919160"/>
              <a:ext cx="29808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600" spc="-1" strike="noStrike">
                  <a:solidFill>
                    <a:srgbClr val="000000"/>
                  </a:solidFill>
                  <a:latin typeface="Arial"/>
                </a:rPr>
                <a:t>RQ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860480" y="2136600"/>
              <a:ext cx="107640" cy="777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12" y="0"/>
                  </a:lnTo>
                  <a:lnTo>
                    <a:pt x="21600" y="10800"/>
                  </a:lnTo>
                  <a:lnTo>
                    <a:pt x="14612" y="21600"/>
                  </a:lnTo>
                  <a:lnTo>
                    <a:pt x="0" y="21600"/>
                  </a:lnTo>
                  <a:lnTo>
                    <a:pt x="6988" y="10800"/>
                  </a:lnTo>
                  <a:close/>
                </a:path>
              </a:pathLst>
            </a:cu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3" name="" descr=""/>
            <p:cNvPicPr/>
            <p:nvPr/>
          </p:nvPicPr>
          <p:blipFill>
            <a:blip r:embed="rId1"/>
            <a:stretch/>
          </p:blipFill>
          <p:spPr>
            <a:xfrm>
              <a:off x="1817640" y="2062080"/>
              <a:ext cx="183600" cy="17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4" name=""/>
          <p:cNvGrpSpPr/>
          <p:nvPr/>
        </p:nvGrpSpPr>
        <p:grpSpPr>
          <a:xfrm>
            <a:off x="5232240" y="1836720"/>
            <a:ext cx="1181160" cy="444600"/>
            <a:chOff x="5232240" y="1836720"/>
            <a:chExt cx="1181160" cy="444600"/>
          </a:xfrm>
        </p:grpSpPr>
        <p:sp>
          <p:nvSpPr>
            <p:cNvPr id="765" name=""/>
            <p:cNvSpPr/>
            <p:nvPr/>
          </p:nvSpPr>
          <p:spPr>
            <a:xfrm>
              <a:off x="5373720" y="1836720"/>
              <a:ext cx="87120" cy="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216480" y="1836720"/>
              <a:ext cx="87480" cy="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232240" y="1927440"/>
              <a:ext cx="1181160" cy="35388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Schnittstelle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22720" y="1920960"/>
              <a:ext cx="8748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487840" y="1920960"/>
              <a:ext cx="8748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13520" y="1930680"/>
              <a:ext cx="29808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600" spc="-1" strike="noStrike">
                  <a:solidFill>
                    <a:srgbClr val="000000"/>
                  </a:solidFill>
                  <a:latin typeface="Arial"/>
                </a:rPr>
                <a:t>RQ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1" name="" descr=""/>
            <p:cNvPicPr/>
            <p:nvPr/>
          </p:nvPicPr>
          <p:blipFill>
            <a:blip r:embed="rId2"/>
            <a:stretch/>
          </p:blipFill>
          <p:spPr>
            <a:xfrm>
              <a:off x="6183360" y="2089440"/>
              <a:ext cx="171360" cy="16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2" name=""/>
          <p:cNvGrpSpPr/>
          <p:nvPr/>
        </p:nvGrpSpPr>
        <p:grpSpPr>
          <a:xfrm>
            <a:off x="2374920" y="1908000"/>
            <a:ext cx="1181160" cy="446400"/>
            <a:chOff x="2374920" y="1908000"/>
            <a:chExt cx="1181160" cy="446400"/>
          </a:xfrm>
        </p:grpSpPr>
        <p:sp>
          <p:nvSpPr>
            <p:cNvPr id="773" name=""/>
            <p:cNvSpPr/>
            <p:nvPr/>
          </p:nvSpPr>
          <p:spPr>
            <a:xfrm>
              <a:off x="3065400" y="2293920"/>
              <a:ext cx="8748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30520" y="2293920"/>
              <a:ext cx="8748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374920" y="1914480"/>
              <a:ext cx="1181160" cy="35244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utput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516400" y="2208240"/>
              <a:ext cx="87120" cy="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65400" y="1908000"/>
              <a:ext cx="8748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630520" y="1908000"/>
              <a:ext cx="8748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256200" y="1928880"/>
              <a:ext cx="29808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600" spc="-1" strike="noStrike">
                  <a:solidFill>
                    <a:srgbClr val="000000"/>
                  </a:solidFill>
                  <a:latin typeface="Arial"/>
                </a:rPr>
                <a:t>RQ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0" name="" descr=""/>
            <p:cNvPicPr/>
            <p:nvPr/>
          </p:nvPicPr>
          <p:blipFill>
            <a:blip r:embed="rId3"/>
            <a:stretch/>
          </p:blipFill>
          <p:spPr>
            <a:xfrm>
              <a:off x="3297240" y="2073240"/>
              <a:ext cx="209520" cy="18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1" name=""/>
          <p:cNvGrpSpPr/>
          <p:nvPr/>
        </p:nvGrpSpPr>
        <p:grpSpPr>
          <a:xfrm>
            <a:off x="3794040" y="1916280"/>
            <a:ext cx="1181160" cy="361440"/>
            <a:chOff x="3794040" y="1916280"/>
            <a:chExt cx="1181160" cy="361440"/>
          </a:xfrm>
        </p:grpSpPr>
        <p:sp>
          <p:nvSpPr>
            <p:cNvPr id="782" name=""/>
            <p:cNvSpPr/>
            <p:nvPr/>
          </p:nvSpPr>
          <p:spPr>
            <a:xfrm>
              <a:off x="3794040" y="1925640"/>
              <a:ext cx="1181160" cy="35208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atenmigr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75320" y="1916280"/>
              <a:ext cx="29808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600" spc="-1" strike="noStrike">
                  <a:solidFill>
                    <a:srgbClr val="000000"/>
                  </a:solidFill>
                  <a:latin typeface="Arial"/>
                </a:rPr>
                <a:t>RQ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84760" y="2136600"/>
              <a:ext cx="108000" cy="101160"/>
            </a:xfrm>
            <a:prstGeom prst="flowChartMagneticDisk">
              <a:avLst/>
            </a:prstGeom>
            <a:solidFill>
              <a:srgbClr val="e9e9e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5" name="" descr=""/>
            <p:cNvPicPr/>
            <p:nvPr/>
          </p:nvPicPr>
          <p:blipFill>
            <a:blip r:embed="rId4"/>
            <a:stretch/>
          </p:blipFill>
          <p:spPr>
            <a:xfrm>
              <a:off x="4722840" y="2060280"/>
              <a:ext cx="203040" cy="18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6" name=""/>
          <p:cNvGrpSpPr/>
          <p:nvPr/>
        </p:nvGrpSpPr>
        <p:grpSpPr>
          <a:xfrm>
            <a:off x="6607080" y="1803240"/>
            <a:ext cx="1181160" cy="461880"/>
            <a:chOff x="6607080" y="1803240"/>
            <a:chExt cx="1181160" cy="461880"/>
          </a:xfrm>
        </p:grpSpPr>
        <p:sp>
          <p:nvSpPr>
            <p:cNvPr id="787" name=""/>
            <p:cNvSpPr/>
            <p:nvPr/>
          </p:nvSpPr>
          <p:spPr>
            <a:xfrm>
              <a:off x="6732720" y="1803240"/>
              <a:ext cx="87120" cy="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607080" y="1912680"/>
              <a:ext cx="1181160" cy="35244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297560" y="1906200"/>
              <a:ext cx="8748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862680" y="1906200"/>
              <a:ext cx="8748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470720" y="1908000"/>
              <a:ext cx="29808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600" spc="-1" strike="noStrike">
                  <a:solidFill>
                    <a:srgbClr val="000000"/>
                  </a:solidFill>
                  <a:latin typeface="Arial"/>
                </a:rPr>
                <a:t>RQ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2" name="" descr=""/>
            <p:cNvPicPr/>
            <p:nvPr/>
          </p:nvPicPr>
          <p:blipFill>
            <a:blip r:embed="rId5"/>
            <a:stretch/>
          </p:blipFill>
          <p:spPr>
            <a:xfrm>
              <a:off x="7542360" y="2052360"/>
              <a:ext cx="203040" cy="18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3" name=""/>
          <p:cNvGrpSpPr/>
          <p:nvPr/>
        </p:nvGrpSpPr>
        <p:grpSpPr>
          <a:xfrm>
            <a:off x="8104320" y="1814400"/>
            <a:ext cx="1180800" cy="444240"/>
            <a:chOff x="8104320" y="1814400"/>
            <a:chExt cx="1180800" cy="444240"/>
          </a:xfrm>
        </p:grpSpPr>
        <p:sp>
          <p:nvSpPr>
            <p:cNvPr id="794" name=""/>
            <p:cNvSpPr/>
            <p:nvPr/>
          </p:nvSpPr>
          <p:spPr>
            <a:xfrm>
              <a:off x="8245440" y="1814400"/>
              <a:ext cx="86760" cy="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9088200" y="1814400"/>
              <a:ext cx="87120" cy="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104320" y="1904760"/>
              <a:ext cx="1180800" cy="35388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Nichtfunktional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245440" y="2198520"/>
              <a:ext cx="86760" cy="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088200" y="2198520"/>
              <a:ext cx="87120" cy="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794440" y="1898280"/>
              <a:ext cx="871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359560" y="1898280"/>
              <a:ext cx="871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967600" y="1911240"/>
              <a:ext cx="29808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600" spc="-1" strike="noStrike">
                  <a:solidFill>
                    <a:srgbClr val="000000"/>
                  </a:solidFill>
                  <a:latin typeface="Arial"/>
                </a:rPr>
                <a:t>RQ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2" name="" descr=""/>
            <p:cNvPicPr/>
            <p:nvPr/>
          </p:nvPicPr>
          <p:blipFill>
            <a:blip r:embed="rId6"/>
            <a:stretch/>
          </p:blipFill>
          <p:spPr>
            <a:xfrm>
              <a:off x="9039240" y="2064960"/>
              <a:ext cx="17100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3" name=""/>
          <p:cNvSpPr/>
          <p:nvPr/>
        </p:nvSpPr>
        <p:spPr>
          <a:xfrm>
            <a:off x="7529400" y="3478320"/>
            <a:ext cx="8748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369280" y="3478320"/>
            <a:ext cx="8748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28560" y="2820960"/>
            <a:ext cx="8898120" cy="1473120"/>
          </a:xfrm>
          <a:prstGeom prst="rect">
            <a:avLst/>
          </a:prstGeom>
          <a:solidFill>
            <a:srgbClr val="edede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90480" y="2851200"/>
            <a:ext cx="6973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Testfä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88840" y="3541680"/>
            <a:ext cx="1260720" cy="38736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stfall 01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462040" y="3541680"/>
            <a:ext cx="1260720" cy="38736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stfall 02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026560" y="3541680"/>
            <a:ext cx="1260360" cy="38736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stfall n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rot="10800000">
            <a:off x="5226480" y="3366720"/>
            <a:ext cx="4838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1" name=""/>
          <p:cNvCxnSpPr>
            <a:stCxn id="807" idx="0"/>
            <a:endCxn id="756" idx="2"/>
          </p:cNvCxnSpPr>
          <p:nvPr/>
        </p:nvCxnSpPr>
        <p:spPr>
          <a:xfrm flipV="1" rot="16200000">
            <a:off x="851400" y="2873520"/>
            <a:ext cx="1276560" cy="594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2" name=""/>
          <p:cNvCxnSpPr>
            <a:stCxn id="808" idx="0"/>
            <a:endCxn id="767" idx="2"/>
          </p:cNvCxnSpPr>
          <p:nvPr/>
        </p:nvCxnSpPr>
        <p:spPr>
          <a:xfrm flipH="1" flipV="1" rot="5400000">
            <a:off x="3827160" y="1545480"/>
            <a:ext cx="1261080" cy="2731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3" name=""/>
          <p:cNvCxnSpPr>
            <a:stCxn id="808" idx="0"/>
            <a:endCxn id="788" idx="2"/>
          </p:cNvCxnSpPr>
          <p:nvPr/>
        </p:nvCxnSpPr>
        <p:spPr>
          <a:xfrm flipH="1" flipV="1" rot="5400000">
            <a:off x="4506840" y="850320"/>
            <a:ext cx="1276560" cy="4106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4" name=""/>
          <p:cNvCxnSpPr>
            <a:stCxn id="808" idx="0"/>
            <a:endCxn id="775" idx="2"/>
          </p:cNvCxnSpPr>
          <p:nvPr/>
        </p:nvCxnSpPr>
        <p:spPr>
          <a:xfrm flipV="1" rot="16200000">
            <a:off x="2390760" y="2840040"/>
            <a:ext cx="1275480" cy="127800"/>
          </a:xfrm>
          <a:prstGeom prst="bentConnector3">
            <a:avLst>
              <a:gd name="adj1" fmla="val 499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5" name=""/>
          <p:cNvCxnSpPr>
            <a:stCxn id="809" idx="0"/>
            <a:endCxn id="796" idx="2"/>
          </p:cNvCxnSpPr>
          <p:nvPr/>
        </p:nvCxnSpPr>
        <p:spPr>
          <a:xfrm flipH="1" flipV="1" rot="5400000">
            <a:off x="8034120" y="2880720"/>
            <a:ext cx="128340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6" name=""/>
          <p:cNvSpPr/>
          <p:nvPr/>
        </p:nvSpPr>
        <p:spPr>
          <a:xfrm>
            <a:off x="451080" y="828720"/>
            <a:ext cx="498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ziehung zwischen Anforderungen und Testfäll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2660760" y="1639800"/>
            <a:ext cx="1687320" cy="56844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4843440" y="1182600"/>
            <a:ext cx="1260360" cy="38736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stfall  / Tes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817" idx="3"/>
            <a:endCxn id="818" idx="1"/>
          </p:cNvCxnSpPr>
          <p:nvPr/>
        </p:nvCxnSpPr>
        <p:spPr>
          <a:xfrm flipV="1">
            <a:off x="4348080" y="1375920"/>
            <a:ext cx="496080" cy="548640"/>
          </a:xfrm>
          <a:prstGeom prst="bentConnector3">
            <a:avLst>
              <a:gd name="adj1" fmla="val 4967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20" name=""/>
          <p:cNvSpPr/>
          <p:nvPr/>
        </p:nvSpPr>
        <p:spPr>
          <a:xfrm>
            <a:off x="4843440" y="1728720"/>
            <a:ext cx="1260360" cy="38736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stfall  / Test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843440" y="2293920"/>
            <a:ext cx="1260360" cy="38736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stfall  / Tes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817" idx="3"/>
            <a:endCxn id="821" idx="1"/>
          </p:cNvCxnSpPr>
          <p:nvPr/>
        </p:nvCxnSpPr>
        <p:spPr>
          <a:xfrm>
            <a:off x="4348080" y="1923840"/>
            <a:ext cx="496080" cy="564120"/>
          </a:xfrm>
          <a:prstGeom prst="bentConnector3">
            <a:avLst>
              <a:gd name="adj1" fmla="val 496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17" idx="3"/>
            <a:endCxn id="820" idx="1"/>
          </p:cNvCxnSpPr>
          <p:nvPr/>
        </p:nvCxnSpPr>
        <p:spPr>
          <a:xfrm flipV="1">
            <a:off x="4348080" y="1921680"/>
            <a:ext cx="496080" cy="2520"/>
          </a:xfrm>
          <a:prstGeom prst="bentConnector3">
            <a:avLst>
              <a:gd name="adj1" fmla="val 49673"/>
            </a:avLst>
          </a:prstGeom>
          <a:ln w="9360">
            <a:solidFill>
              <a:srgbClr val="000000"/>
            </a:solidFill>
            <a:miter/>
          </a:ln>
        </p:spPr>
      </p:cxnSp>
      <p:pic>
        <p:nvPicPr>
          <p:cNvPr id="824" name="" descr=""/>
          <p:cNvPicPr/>
          <p:nvPr/>
        </p:nvPicPr>
        <p:blipFill>
          <a:blip r:embed="rId2"/>
          <a:stretch/>
        </p:blipFill>
        <p:spPr>
          <a:xfrm>
            <a:off x="2660760" y="4594320"/>
            <a:ext cx="1687320" cy="56808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4843440" y="3835440"/>
            <a:ext cx="1260360" cy="38736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stfall  / Tes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843440" y="4381560"/>
            <a:ext cx="1260360" cy="38736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stfall  / Tes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843440" y="4946760"/>
            <a:ext cx="1260360" cy="38736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stfall  / 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843440" y="5475240"/>
            <a:ext cx="1260360" cy="38736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stfall  / 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stCxn id="824" idx="3"/>
            <a:endCxn id="825" idx="1"/>
          </p:cNvCxnSpPr>
          <p:nvPr/>
        </p:nvCxnSpPr>
        <p:spPr>
          <a:xfrm flipV="1">
            <a:off x="4348080" y="4028400"/>
            <a:ext cx="496080" cy="849960"/>
          </a:xfrm>
          <a:prstGeom prst="bentConnector3">
            <a:avLst>
              <a:gd name="adj1" fmla="val 496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0" name=""/>
          <p:cNvCxnSpPr>
            <a:stCxn id="824" idx="3"/>
            <a:endCxn id="828" idx="1"/>
          </p:cNvCxnSpPr>
          <p:nvPr/>
        </p:nvCxnSpPr>
        <p:spPr>
          <a:xfrm>
            <a:off x="4348080" y="4878360"/>
            <a:ext cx="496080" cy="791280"/>
          </a:xfrm>
          <a:prstGeom prst="bentConnector3">
            <a:avLst>
              <a:gd name="adj1" fmla="val 496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1" name=""/>
          <p:cNvCxnSpPr>
            <a:stCxn id="824" idx="3"/>
            <a:endCxn id="826" idx="1"/>
          </p:cNvCxnSpPr>
          <p:nvPr/>
        </p:nvCxnSpPr>
        <p:spPr>
          <a:xfrm flipV="1">
            <a:off x="4348080" y="4574880"/>
            <a:ext cx="496080" cy="303840"/>
          </a:xfrm>
          <a:prstGeom prst="bentConnector3">
            <a:avLst>
              <a:gd name="adj1" fmla="val 496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2" name=""/>
          <p:cNvCxnSpPr>
            <a:stCxn id="824" idx="3"/>
            <a:endCxn id="827" idx="1"/>
          </p:cNvCxnSpPr>
          <p:nvPr/>
        </p:nvCxnSpPr>
        <p:spPr>
          <a:xfrm>
            <a:off x="4348080" y="4878360"/>
            <a:ext cx="496080" cy="262800"/>
          </a:xfrm>
          <a:prstGeom prst="bentConnector3">
            <a:avLst>
              <a:gd name="adj1" fmla="val 4967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33" name=""/>
          <p:cNvSpPr/>
          <p:nvPr/>
        </p:nvSpPr>
        <p:spPr>
          <a:xfrm rot="16200000">
            <a:off x="5044320" y="2961360"/>
            <a:ext cx="4838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939960" y="855720"/>
            <a:ext cx="1400040" cy="395280"/>
            <a:chOff x="939960" y="855720"/>
            <a:chExt cx="1400040" cy="395280"/>
          </a:xfrm>
        </p:grpSpPr>
        <p:sp>
          <p:nvSpPr>
            <p:cNvPr id="835" name=""/>
            <p:cNvSpPr/>
            <p:nvPr/>
          </p:nvSpPr>
          <p:spPr>
            <a:xfrm>
              <a:off x="939960" y="855720"/>
              <a:ext cx="1400040" cy="39528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s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Verantwortlic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" name=""/>
            <p:cNvGrpSpPr/>
            <p:nvPr/>
          </p:nvGrpSpPr>
          <p:grpSpPr>
            <a:xfrm>
              <a:off x="2171160" y="930240"/>
              <a:ext cx="108360" cy="212400"/>
              <a:chOff x="2171160" y="930240"/>
              <a:chExt cx="108360" cy="212400"/>
            </a:xfrm>
          </p:grpSpPr>
          <p:sp>
            <p:nvSpPr>
              <p:cNvPr id="837" name=""/>
              <p:cNvSpPr/>
              <p:nvPr/>
            </p:nvSpPr>
            <p:spPr>
              <a:xfrm>
                <a:off x="2186280" y="930240"/>
                <a:ext cx="73800" cy="65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223000" y="9954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23000" y="1082520"/>
                <a:ext cx="3924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2182680" y="1082520"/>
                <a:ext cx="3888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2171160" y="1030680"/>
                <a:ext cx="108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2" name=""/>
          <p:cNvGrpSpPr/>
          <p:nvPr/>
        </p:nvGrpSpPr>
        <p:grpSpPr>
          <a:xfrm>
            <a:off x="7385040" y="1662120"/>
            <a:ext cx="1400040" cy="395280"/>
            <a:chOff x="7385040" y="1662120"/>
            <a:chExt cx="1400040" cy="395280"/>
          </a:xfrm>
        </p:grpSpPr>
        <p:sp>
          <p:nvSpPr>
            <p:cNvPr id="843" name=""/>
            <p:cNvSpPr/>
            <p:nvPr/>
          </p:nvSpPr>
          <p:spPr>
            <a:xfrm>
              <a:off x="7385040" y="1662120"/>
              <a:ext cx="1400040" cy="39528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ster 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8616240" y="1736640"/>
              <a:ext cx="108360" cy="212400"/>
              <a:chOff x="8616240" y="1736640"/>
              <a:chExt cx="108360" cy="212400"/>
            </a:xfrm>
          </p:grpSpPr>
          <p:sp>
            <p:nvSpPr>
              <p:cNvPr id="845" name=""/>
              <p:cNvSpPr/>
              <p:nvPr/>
            </p:nvSpPr>
            <p:spPr>
              <a:xfrm>
                <a:off x="8631360" y="1736640"/>
                <a:ext cx="73800" cy="65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668080" y="1801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668080" y="1888920"/>
                <a:ext cx="3924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8627760" y="1888920"/>
                <a:ext cx="3888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8616240" y="1837080"/>
                <a:ext cx="108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50" name=""/>
          <p:cNvCxnSpPr/>
          <p:nvPr/>
        </p:nvCxnSpPr>
        <p:spPr>
          <a:xfrm>
            <a:off x="1596960" y="1263600"/>
            <a:ext cx="1085040" cy="1991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51" name=""/>
          <p:cNvCxnSpPr>
            <a:endCxn id="817" idx="1"/>
          </p:cNvCxnSpPr>
          <p:nvPr/>
        </p:nvCxnSpPr>
        <p:spPr>
          <a:xfrm>
            <a:off x="1646280" y="1251000"/>
            <a:ext cx="1015200" cy="673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52" name=""/>
          <p:cNvCxnSpPr>
            <a:endCxn id="824" idx="1"/>
          </p:cNvCxnSpPr>
          <p:nvPr/>
        </p:nvCxnSpPr>
        <p:spPr>
          <a:xfrm>
            <a:off x="1525320" y="1269720"/>
            <a:ext cx="1135800" cy="3609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grpSp>
        <p:nvGrpSpPr>
          <p:cNvPr id="853" name=""/>
          <p:cNvGrpSpPr/>
          <p:nvPr/>
        </p:nvGrpSpPr>
        <p:grpSpPr>
          <a:xfrm>
            <a:off x="7385040" y="4506840"/>
            <a:ext cx="1400040" cy="395280"/>
            <a:chOff x="7385040" y="4506840"/>
            <a:chExt cx="1400040" cy="395280"/>
          </a:xfrm>
        </p:grpSpPr>
        <p:sp>
          <p:nvSpPr>
            <p:cNvPr id="854" name=""/>
            <p:cNvSpPr/>
            <p:nvPr/>
          </p:nvSpPr>
          <p:spPr>
            <a:xfrm>
              <a:off x="7385040" y="4506840"/>
              <a:ext cx="1400040" cy="39528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ster 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8616240" y="4581360"/>
              <a:ext cx="108360" cy="212400"/>
              <a:chOff x="8616240" y="4581360"/>
              <a:chExt cx="108360" cy="212400"/>
            </a:xfrm>
          </p:grpSpPr>
          <p:sp>
            <p:nvSpPr>
              <p:cNvPr id="856" name=""/>
              <p:cNvSpPr/>
              <p:nvPr/>
            </p:nvSpPr>
            <p:spPr>
              <a:xfrm>
                <a:off x="8631360" y="4581360"/>
                <a:ext cx="73800" cy="65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668080" y="464652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668080" y="4733640"/>
                <a:ext cx="3924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8627760" y="4733640"/>
                <a:ext cx="3888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8616240" y="4681800"/>
                <a:ext cx="108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61" name=""/>
          <p:cNvCxnSpPr>
            <a:stCxn id="843" idx="1"/>
            <a:endCxn id="818" idx="3"/>
          </p:cNvCxnSpPr>
          <p:nvPr/>
        </p:nvCxnSpPr>
        <p:spPr>
          <a:xfrm flipH="1" flipV="1">
            <a:off x="6103440" y="1375560"/>
            <a:ext cx="1281600" cy="484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62" name=""/>
          <p:cNvCxnSpPr>
            <a:stCxn id="843" idx="1"/>
            <a:endCxn id="820" idx="3"/>
          </p:cNvCxnSpPr>
          <p:nvPr/>
        </p:nvCxnSpPr>
        <p:spPr>
          <a:xfrm flipH="1">
            <a:off x="6103440" y="1860480"/>
            <a:ext cx="1281600" cy="62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63" name=""/>
          <p:cNvCxnSpPr>
            <a:stCxn id="843" idx="1"/>
            <a:endCxn id="821" idx="3"/>
          </p:cNvCxnSpPr>
          <p:nvPr/>
        </p:nvCxnSpPr>
        <p:spPr>
          <a:xfrm flipH="1">
            <a:off x="6103440" y="1860480"/>
            <a:ext cx="1281600" cy="627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64" name=""/>
          <p:cNvCxnSpPr>
            <a:stCxn id="854" idx="1"/>
            <a:endCxn id="826" idx="3"/>
          </p:cNvCxnSpPr>
          <p:nvPr/>
        </p:nvCxnSpPr>
        <p:spPr>
          <a:xfrm flipH="1" flipV="1">
            <a:off x="6103440" y="4574520"/>
            <a:ext cx="1281600" cy="130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65" name=""/>
          <p:cNvCxnSpPr>
            <a:stCxn id="854" idx="1"/>
            <a:endCxn id="827" idx="3"/>
          </p:cNvCxnSpPr>
          <p:nvPr/>
        </p:nvCxnSpPr>
        <p:spPr>
          <a:xfrm flipH="1">
            <a:off x="6103440" y="4704840"/>
            <a:ext cx="1281600" cy="435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66" name=""/>
          <p:cNvCxnSpPr>
            <a:stCxn id="854" idx="1"/>
            <a:endCxn id="828" idx="3"/>
          </p:cNvCxnSpPr>
          <p:nvPr/>
        </p:nvCxnSpPr>
        <p:spPr>
          <a:xfrm flipH="1">
            <a:off x="6103440" y="4704840"/>
            <a:ext cx="1281600" cy="964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67" name=""/>
          <p:cNvCxnSpPr>
            <a:stCxn id="854" idx="1"/>
            <a:endCxn id="825" idx="3"/>
          </p:cNvCxnSpPr>
          <p:nvPr/>
        </p:nvCxnSpPr>
        <p:spPr>
          <a:xfrm flipH="1" flipV="1">
            <a:off x="6103440" y="4028760"/>
            <a:ext cx="1281600" cy="676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68" name=""/>
          <p:cNvSpPr/>
          <p:nvPr/>
        </p:nvSpPr>
        <p:spPr>
          <a:xfrm>
            <a:off x="793800" y="687240"/>
            <a:ext cx="8353440" cy="529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rot="16200000">
            <a:off x="3045600" y="2961360"/>
            <a:ext cx="4838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rot="16200000">
            <a:off x="7884360" y="2961360"/>
            <a:ext cx="4838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24400" y="506520"/>
            <a:ext cx="3332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ildung der Test Sets nach Tes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826920" y="1203480"/>
            <a:ext cx="8039160" cy="450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hteck 97"/>
          <p:cNvSpPr/>
          <p:nvPr/>
        </p:nvSpPr>
        <p:spPr>
          <a:xfrm>
            <a:off x="938160" y="1766880"/>
            <a:ext cx="7810560" cy="1154160"/>
          </a:xfrm>
          <a:prstGeom prst="rect">
            <a:avLst/>
          </a:prstGeom>
          <a:solidFill>
            <a:srgbClr val="ffffff">
              <a:alpha val="45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nte 1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estdaten we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on den Tester manuell erstel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hteck 97"/>
          <p:cNvSpPr/>
          <p:nvPr/>
        </p:nvSpPr>
        <p:spPr>
          <a:xfrm>
            <a:off x="3963960" y="1387440"/>
            <a:ext cx="1886040" cy="4232160"/>
          </a:xfrm>
          <a:prstGeom prst="rect">
            <a:avLst/>
          </a:prstGeom>
          <a:solidFill>
            <a:srgbClr val="b2b2b2">
              <a:alpha val="45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319640" y="1898640"/>
            <a:ext cx="1274760" cy="831960"/>
          </a:xfrm>
          <a:prstGeom prst="can">
            <a:avLst>
              <a:gd name="adj" fmla="val 25000"/>
            </a:avLst>
          </a:prstGeom>
          <a:solidFill>
            <a:srgbClr val="638dab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4572000" y="1963440"/>
            <a:ext cx="727200" cy="779400"/>
            <a:chOff x="4572000" y="1963440"/>
            <a:chExt cx="727200" cy="779400"/>
          </a:xfrm>
        </p:grpSpPr>
        <p:sp>
          <p:nvSpPr>
            <p:cNvPr id="877" name=""/>
            <p:cNvSpPr/>
            <p:nvPr/>
          </p:nvSpPr>
          <p:spPr>
            <a:xfrm rot="16200000">
              <a:off x="4799160" y="2242800"/>
              <a:ext cx="312840" cy="687240"/>
            </a:xfrm>
            <a:custGeom>
              <a:avLst/>
              <a:gdLst>
                <a:gd name="textAreaLeft" fmla="*/ 41760 w 312840"/>
                <a:gd name="textAreaRight" fmla="*/ 271080 w 312840"/>
                <a:gd name="textAreaTop" fmla="*/ 120240 h 687240"/>
                <a:gd name="textAreaBottom" fmla="*/ 498240 h 68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5400000">
              <a:off x="4759560" y="1775880"/>
              <a:ext cx="312480" cy="687600"/>
            </a:xfrm>
            <a:custGeom>
              <a:avLst/>
              <a:gdLst>
                <a:gd name="textAreaLeft" fmla="*/ 41760 w 312480"/>
                <a:gd name="textAreaRight" fmla="*/ 270720 w 312480"/>
                <a:gd name="textAreaTop" fmla="*/ 120240 h 687600"/>
                <a:gd name="textAreaBottom" fmla="*/ 498600 h 68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Rechteck 97"/>
          <p:cNvSpPr/>
          <p:nvPr/>
        </p:nvSpPr>
        <p:spPr>
          <a:xfrm>
            <a:off x="938160" y="3035160"/>
            <a:ext cx="7810560" cy="1154160"/>
          </a:xfrm>
          <a:prstGeom prst="rect">
            <a:avLst/>
          </a:prstGeom>
          <a:solidFill>
            <a:srgbClr val="ffffff">
              <a:alpha val="45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nte 2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estdaten we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on der Produktion kopi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hteck 97"/>
          <p:cNvSpPr/>
          <p:nvPr/>
        </p:nvSpPr>
        <p:spPr>
          <a:xfrm>
            <a:off x="6724800" y="1392120"/>
            <a:ext cx="1885680" cy="4232520"/>
          </a:xfrm>
          <a:prstGeom prst="rect">
            <a:avLst/>
          </a:prstGeom>
          <a:solidFill>
            <a:srgbClr val="b2b2b2">
              <a:alpha val="45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325760" y="3184560"/>
            <a:ext cx="1275120" cy="831960"/>
          </a:xfrm>
          <a:prstGeom prst="can">
            <a:avLst>
              <a:gd name="adj" fmla="val 25000"/>
            </a:avLst>
          </a:prstGeom>
          <a:solidFill>
            <a:srgbClr val="638dab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526160" y="3130560"/>
            <a:ext cx="987480" cy="561960"/>
          </a:xfrm>
          <a:prstGeom prst="can">
            <a:avLst>
              <a:gd name="adj" fmla="val 25000"/>
            </a:avLst>
          </a:prstGeom>
          <a:solidFill>
            <a:srgbClr val="638dab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199200" y="3641760"/>
            <a:ext cx="434880" cy="401760"/>
          </a:xfrm>
          <a:prstGeom prst="cube">
            <a:avLst>
              <a:gd name="adj" fmla="val 25000"/>
            </a:avLst>
          </a:prstGeom>
          <a:solidFill>
            <a:srgbClr val="638dab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stCxn id="882" idx="2"/>
            <a:endCxn id="883" idx="0"/>
          </p:cNvCxnSpPr>
          <p:nvPr/>
        </p:nvCxnSpPr>
        <p:spPr>
          <a:xfrm flipV="1" rot="10800000">
            <a:off x="6466680" y="3411000"/>
            <a:ext cx="1059480" cy="23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5" name=""/>
          <p:cNvSpPr/>
          <p:nvPr/>
        </p:nvSpPr>
        <p:spPr>
          <a:xfrm>
            <a:off x="6625080" y="2887560"/>
            <a:ext cx="7293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6" name=""/>
          <p:cNvCxnSpPr>
            <a:stCxn id="883" idx="2"/>
            <a:endCxn id="881" idx="4"/>
          </p:cNvCxnSpPr>
          <p:nvPr/>
        </p:nvCxnSpPr>
        <p:spPr>
          <a:xfrm rot="10800000">
            <a:off x="5600880" y="3599640"/>
            <a:ext cx="598680" cy="293040"/>
          </a:xfrm>
          <a:prstGeom prst="bentConnector3">
            <a:avLst>
              <a:gd name="adj1" fmla="val 501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7" name=""/>
          <p:cNvSpPr/>
          <p:nvPr/>
        </p:nvSpPr>
        <p:spPr>
          <a:xfrm>
            <a:off x="5646600" y="3024360"/>
            <a:ext cx="5173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Up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hteck 97"/>
          <p:cNvSpPr/>
          <p:nvPr/>
        </p:nvSpPr>
        <p:spPr>
          <a:xfrm>
            <a:off x="938160" y="4381560"/>
            <a:ext cx="7810560" cy="1154160"/>
          </a:xfrm>
          <a:prstGeom prst="rect">
            <a:avLst/>
          </a:prstGeom>
          <a:solidFill>
            <a:srgbClr val="ffffff">
              <a:alpha val="45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nte 3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estdaten we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utomatisch generi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325760" y="4568760"/>
            <a:ext cx="1275120" cy="831960"/>
          </a:xfrm>
          <a:prstGeom prst="can">
            <a:avLst>
              <a:gd name="adj" fmla="val 25000"/>
            </a:avLst>
          </a:prstGeom>
          <a:solidFill>
            <a:srgbClr val="638dab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475160" y="4896000"/>
            <a:ext cx="592200" cy="38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597560" y="4905360"/>
            <a:ext cx="365040" cy="330120"/>
          </a:xfrm>
          <a:prstGeom prst="su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867640" y="4791240"/>
            <a:ext cx="704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Dat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5057640" y="5078520"/>
            <a:ext cx="68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32680" y="973080"/>
            <a:ext cx="348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stellungsvarianten von Testdat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412920" y="1228680"/>
            <a:ext cx="8948520" cy="443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477800" y="2681280"/>
            <a:ext cx="1035360" cy="649440"/>
          </a:xfrm>
          <a:prstGeom prst="ellipse">
            <a:avLst/>
          </a:prstGeom>
          <a:solidFill>
            <a:srgbClr val="a0b9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701720" y="2843280"/>
            <a:ext cx="50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487680" y="2679840"/>
            <a:ext cx="1035000" cy="649080"/>
          </a:xfrm>
          <a:prstGeom prst="ellipse">
            <a:avLst/>
          </a:prstGeom>
          <a:solidFill>
            <a:srgbClr val="a0b9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36200" y="2824200"/>
            <a:ext cx="112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ewie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301840" y="3867120"/>
            <a:ext cx="1035000" cy="649440"/>
          </a:xfrm>
          <a:prstGeom prst="ellipse">
            <a:avLst/>
          </a:prstGeom>
          <a:solidFill>
            <a:srgbClr val="a0b9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440080" y="3935520"/>
            <a:ext cx="777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ück-gewie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350040" y="3687840"/>
            <a:ext cx="1035000" cy="649080"/>
          </a:xfrm>
          <a:prstGeom prst="ellipse">
            <a:avLst/>
          </a:prstGeom>
          <a:solidFill>
            <a:srgbClr val="a0b9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321600" y="3708360"/>
            <a:ext cx="10965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st fehl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ch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348240" y="2679840"/>
            <a:ext cx="1035360" cy="649080"/>
          </a:xfrm>
          <a:prstGeom prst="ellipse">
            <a:avLst/>
          </a:prstGeom>
          <a:solidFill>
            <a:srgbClr val="a0b9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275520" y="2752560"/>
            <a:ext cx="11714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reit fü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906800" y="2679840"/>
            <a:ext cx="1035360" cy="649080"/>
          </a:xfrm>
          <a:prstGeom prst="ellipse">
            <a:avLst/>
          </a:prstGeom>
          <a:solidFill>
            <a:srgbClr val="a0b9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095800" y="2833560"/>
            <a:ext cx="66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lö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132760" y="2679840"/>
            <a:ext cx="1035000" cy="649080"/>
          </a:xfrm>
          <a:prstGeom prst="ellipse">
            <a:avLst/>
          </a:prstGeom>
          <a:solidFill>
            <a:srgbClr val="a0b9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094240" y="2859120"/>
            <a:ext cx="117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chlos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90680" y="1528920"/>
            <a:ext cx="1035000" cy="649080"/>
          </a:xfrm>
          <a:prstGeom prst="ellipse">
            <a:avLst/>
          </a:prstGeom>
          <a:solidFill>
            <a:srgbClr val="a0b9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515680" y="1673280"/>
            <a:ext cx="63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ff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2" name=""/>
          <p:cNvCxnSpPr>
            <a:stCxn id="896" idx="0"/>
            <a:endCxn id="910" idx="2"/>
          </p:cNvCxnSpPr>
          <p:nvPr/>
        </p:nvCxnSpPr>
        <p:spPr>
          <a:xfrm flipH="1" flipV="1" rot="5400000">
            <a:off x="1729440" y="2119680"/>
            <a:ext cx="827640" cy="295560"/>
          </a:xfrm>
          <a:prstGeom prst="curvedConnector2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</p:cxnSp>
      <p:cxnSp>
        <p:nvCxnSpPr>
          <p:cNvPr id="913" name=""/>
          <p:cNvCxnSpPr/>
          <p:nvPr/>
        </p:nvCxnSpPr>
        <p:spPr>
          <a:xfrm flipV="1">
            <a:off x="2530440" y="3004920"/>
            <a:ext cx="937440" cy="2160"/>
          </a:xfrm>
          <a:prstGeom prst="curvedConnector5">
            <a:avLst>
              <a:gd name="adj1" fmla="val 49980"/>
              <a:gd name="adj2" fmla="val 40000"/>
              <a:gd name="adj3" fmla="val 49980"/>
            </a:avLst>
          </a:prstGeom>
          <a:ln w="57240">
            <a:solidFill>
              <a:srgbClr val="4d4d4d"/>
            </a:solidFill>
            <a:miter/>
            <a:tailEnd len="med" type="triangle" w="med"/>
          </a:ln>
        </p:spPr>
      </p:cxnSp>
      <p:cxnSp>
        <p:nvCxnSpPr>
          <p:cNvPr id="914" name=""/>
          <p:cNvCxnSpPr>
            <a:stCxn id="896" idx="4"/>
            <a:endCxn id="900" idx="2"/>
          </p:cNvCxnSpPr>
          <p:nvPr/>
        </p:nvCxnSpPr>
        <p:spPr>
          <a:xfrm flipH="1" rot="16200000">
            <a:off x="1716480" y="3608280"/>
            <a:ext cx="862560" cy="306720"/>
          </a:xfrm>
          <a:prstGeom prst="curvedConnector2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</p:cxnSp>
      <p:cxnSp>
        <p:nvCxnSpPr>
          <p:cNvPr id="915" name=""/>
          <p:cNvCxnSpPr>
            <a:stCxn id="898" idx="4"/>
            <a:endCxn id="900" idx="6"/>
          </p:cNvCxnSpPr>
          <p:nvPr/>
        </p:nvCxnSpPr>
        <p:spPr>
          <a:xfrm rot="5400000">
            <a:off x="3238560" y="3426120"/>
            <a:ext cx="864360" cy="669240"/>
          </a:xfrm>
          <a:prstGeom prst="curvedConnector2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</p:cxnSp>
      <p:cxnSp>
        <p:nvCxnSpPr>
          <p:cNvPr id="916" name=""/>
          <p:cNvCxnSpPr>
            <a:stCxn id="910" idx="6"/>
            <a:endCxn id="898" idx="0"/>
          </p:cNvCxnSpPr>
          <p:nvPr/>
        </p:nvCxnSpPr>
        <p:spPr>
          <a:xfrm>
            <a:off x="3325680" y="1854000"/>
            <a:ext cx="680400" cy="826200"/>
          </a:xfrm>
          <a:prstGeom prst="curvedConnector2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</p:cxnSp>
      <p:cxnSp>
        <p:nvCxnSpPr>
          <p:cNvPr id="917" name=""/>
          <p:cNvCxnSpPr>
            <a:stCxn id="898" idx="6"/>
            <a:endCxn id="906" idx="2"/>
          </p:cNvCxnSpPr>
          <p:nvPr/>
        </p:nvCxnSpPr>
        <p:spPr>
          <a:xfrm>
            <a:off x="4522320" y="3004920"/>
            <a:ext cx="384840" cy="1080"/>
          </a:xfrm>
          <a:prstGeom prst="curvedConnector2">
            <a:avLst/>
          </a:prstGeom>
          <a:ln w="57240">
            <a:solidFill>
              <a:srgbClr val="4d4d4d"/>
            </a:solidFill>
            <a:miter/>
            <a:tailEnd len="med" type="triangle" w="med"/>
          </a:ln>
        </p:spPr>
      </p:cxnSp>
      <p:cxnSp>
        <p:nvCxnSpPr>
          <p:cNvPr id="918" name=""/>
          <p:cNvCxnSpPr>
            <a:stCxn id="904" idx="4"/>
            <a:endCxn id="902" idx="0"/>
          </p:cNvCxnSpPr>
          <p:nvPr/>
        </p:nvCxnSpPr>
        <p:spPr>
          <a:xfrm flipH="1" rot="16200000">
            <a:off x="6687000" y="3507120"/>
            <a:ext cx="359640" cy="2160"/>
          </a:xfrm>
          <a:prstGeom prst="curvedConnector5">
            <a:avLst>
              <a:gd name="adj1" fmla="val 49498"/>
              <a:gd name="adj2" fmla="val 40000"/>
              <a:gd name="adj3" fmla="val 49498"/>
            </a:avLst>
          </a:prstGeom>
          <a:ln w="9360">
            <a:solidFill>
              <a:srgbClr val="4d4d4d"/>
            </a:solidFill>
            <a:miter/>
            <a:tailEnd len="med" type="triangle" w="med"/>
          </a:ln>
        </p:spPr>
      </p:cxnSp>
      <p:cxnSp>
        <p:nvCxnSpPr>
          <p:cNvPr id="919" name=""/>
          <p:cNvCxnSpPr>
            <a:stCxn id="904" idx="6"/>
            <a:endCxn id="909" idx="1"/>
          </p:cNvCxnSpPr>
          <p:nvPr/>
        </p:nvCxnSpPr>
        <p:spPr>
          <a:xfrm>
            <a:off x="7383600" y="3004920"/>
            <a:ext cx="714960" cy="6840"/>
          </a:xfrm>
          <a:prstGeom prst="curvedConnector5">
            <a:avLst>
              <a:gd name="adj1" fmla="val 49974"/>
              <a:gd name="adj2" fmla="val 50000"/>
              <a:gd name="adj3" fmla="val 49974"/>
            </a:avLst>
          </a:prstGeom>
          <a:ln w="57240">
            <a:solidFill>
              <a:srgbClr val="4d4d4d"/>
            </a:solidFill>
            <a:miter/>
            <a:tailEnd len="med" type="triangle" w="med"/>
          </a:ln>
        </p:spPr>
      </p:cxnSp>
      <p:cxnSp>
        <p:nvCxnSpPr>
          <p:cNvPr id="920" name=""/>
          <p:cNvCxnSpPr>
            <a:stCxn id="906" idx="6"/>
            <a:endCxn id="904" idx="2"/>
          </p:cNvCxnSpPr>
          <p:nvPr/>
        </p:nvCxnSpPr>
        <p:spPr>
          <a:xfrm>
            <a:off x="5942160" y="3004920"/>
            <a:ext cx="406800" cy="1080"/>
          </a:xfrm>
          <a:prstGeom prst="curvedConnector2">
            <a:avLst/>
          </a:prstGeom>
          <a:ln w="57240">
            <a:solidFill>
              <a:srgbClr val="4d4d4d"/>
            </a:solidFill>
            <a:miter/>
            <a:tailEnd len="med" type="triangle" w="med"/>
          </a:ln>
        </p:spPr>
      </p:cxnSp>
      <p:cxnSp>
        <p:nvCxnSpPr>
          <p:cNvPr id="921" name=""/>
          <p:cNvCxnSpPr>
            <a:stCxn id="902" idx="2"/>
            <a:endCxn id="898" idx="5"/>
          </p:cNvCxnSpPr>
          <p:nvPr/>
        </p:nvCxnSpPr>
        <p:spPr>
          <a:xfrm rot="10800000">
            <a:off x="4371120" y="3233160"/>
            <a:ext cx="1978560" cy="780120"/>
          </a:xfrm>
          <a:prstGeom prst="curvedConnector2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</p:cxnSp>
      <p:cxnSp>
        <p:nvCxnSpPr>
          <p:cNvPr id="922" name=""/>
          <p:cNvCxnSpPr>
            <a:stCxn id="900" idx="7"/>
            <a:endCxn id="898" idx="3"/>
          </p:cNvCxnSpPr>
          <p:nvPr/>
        </p:nvCxnSpPr>
        <p:spPr>
          <a:xfrm flipH="1" flipV="1" rot="5400000">
            <a:off x="3047400" y="3371400"/>
            <a:ext cx="729360" cy="453240"/>
          </a:xfrm>
          <a:prstGeom prst="curvedConnector5">
            <a:avLst>
              <a:gd name="adj1" fmla="val 50074"/>
              <a:gd name="adj2" fmla="val 50000"/>
              <a:gd name="adj3" fmla="val 50074"/>
            </a:avLst>
          </a:prstGeom>
          <a:ln w="9360">
            <a:solidFill>
              <a:srgbClr val="4d4d4d"/>
            </a:solidFill>
            <a:miter/>
            <a:tailEnd len="med" type="triangle" w="med"/>
          </a:ln>
        </p:spPr>
      </p:cxnSp>
      <p:cxnSp>
        <p:nvCxnSpPr>
          <p:cNvPr id="923" name=""/>
          <p:cNvCxnSpPr>
            <a:stCxn id="900" idx="5"/>
            <a:endCxn id="908" idx="4"/>
          </p:cNvCxnSpPr>
          <p:nvPr/>
        </p:nvCxnSpPr>
        <p:spPr>
          <a:xfrm flipH="1" flipV="1" rot="5400000">
            <a:off x="5370480" y="1142640"/>
            <a:ext cx="1092960" cy="5464800"/>
          </a:xfrm>
          <a:prstGeom prst="curvedConnector5">
            <a:avLst>
              <a:gd name="adj1" fmla="val -29489"/>
              <a:gd name="adj2" fmla="val 49996"/>
              <a:gd name="adj3" fmla="val -29489"/>
            </a:avLst>
          </a:prstGeom>
          <a:ln w="9360">
            <a:solidFill>
              <a:srgbClr val="4d4d4d"/>
            </a:solidFill>
            <a:miter/>
            <a:tailEnd len="med" type="triangle" w="med"/>
          </a:ln>
        </p:spPr>
      </p:cxnSp>
      <p:cxnSp>
        <p:nvCxnSpPr>
          <p:cNvPr id="924" name=""/>
          <p:cNvCxnSpPr>
            <a:stCxn id="910" idx="4"/>
            <a:endCxn id="900" idx="0"/>
          </p:cNvCxnSpPr>
          <p:nvPr/>
        </p:nvCxnSpPr>
        <p:spPr>
          <a:xfrm flipH="1" rot="16200000">
            <a:off x="1968480" y="3016800"/>
            <a:ext cx="1689840" cy="11880"/>
          </a:xfrm>
          <a:prstGeom prst="curvedConnector5">
            <a:avLst>
              <a:gd name="adj1" fmla="val 49904"/>
              <a:gd name="adj2" fmla="val 50000"/>
              <a:gd name="adj3" fmla="val 49904"/>
            </a:avLst>
          </a:prstGeom>
          <a:ln w="9360">
            <a:solidFill>
              <a:srgbClr val="4d4d4d"/>
            </a:solidFill>
            <a:miter/>
            <a:tailEnd len="med" type="triangle" w="med"/>
          </a:ln>
        </p:spPr>
      </p:cxnSp>
      <p:cxnSp>
        <p:nvCxnSpPr>
          <p:cNvPr id="925" name=""/>
          <p:cNvCxnSpPr>
            <a:stCxn id="926" idx="6"/>
            <a:endCxn id="896" idx="2"/>
          </p:cNvCxnSpPr>
          <p:nvPr/>
        </p:nvCxnSpPr>
        <p:spPr>
          <a:xfrm>
            <a:off x="820440" y="3006360"/>
            <a:ext cx="657720" cy="1080"/>
          </a:xfrm>
          <a:prstGeom prst="curvedConnector2">
            <a:avLst/>
          </a:prstGeom>
          <a:ln w="57240">
            <a:solidFill>
              <a:srgbClr val="4d4d4d"/>
            </a:solidFill>
            <a:miter/>
            <a:tailEnd len="med" type="triangle" w="med"/>
          </a:ln>
        </p:spPr>
      </p:cxnSp>
      <p:sp>
        <p:nvSpPr>
          <p:cNvPr id="927" name=""/>
          <p:cNvSpPr/>
          <p:nvPr/>
        </p:nvSpPr>
        <p:spPr>
          <a:xfrm>
            <a:off x="547560" y="3290760"/>
            <a:ext cx="96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uerfassu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ines Fehl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urch T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5457960" y="1897200"/>
            <a:ext cx="2081160" cy="9360"/>
          </a:xfrm>
          <a:prstGeom prst="line">
            <a:avLst/>
          </a:prstGeom>
          <a:ln w="572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446800" y="1457280"/>
            <a:ext cx="2131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fei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Ändert Status und weist zu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097720" y="2432160"/>
            <a:ext cx="509760" cy="366120"/>
          </a:xfrm>
          <a:prstGeom prst="rect">
            <a:avLst/>
          </a:prstGeom>
          <a:solidFill>
            <a:srgbClr val="ffff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Feh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P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970360" y="2365200"/>
            <a:ext cx="892080" cy="424080"/>
          </a:xfrm>
          <a:prstGeom prst="rect">
            <a:avLst/>
          </a:prstGeom>
          <a:solidFill>
            <a:srgbClr val="ffff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IT Expe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Fachexpe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703040" y="2378160"/>
            <a:ext cx="668160" cy="366120"/>
          </a:xfrm>
          <a:prstGeom prst="rect">
            <a:avLst/>
          </a:prstGeom>
          <a:solidFill>
            <a:srgbClr val="ffff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Issu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anag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148520" y="5221440"/>
            <a:ext cx="307800" cy="237960"/>
          </a:xfrm>
          <a:prstGeom prst="rect">
            <a:avLst/>
          </a:prstGeom>
          <a:solidFill>
            <a:srgbClr val="ffff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510320" y="5272200"/>
            <a:ext cx="17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Aktueller Owner eines Fehl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102440" y="4840200"/>
            <a:ext cx="387360" cy="217440"/>
          </a:xfrm>
          <a:prstGeom prst="ellipse">
            <a:avLst/>
          </a:prstGeom>
          <a:solidFill>
            <a:srgbClr val="a0b9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10320" y="4876920"/>
            <a:ext cx="96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Fehler Statu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990720" y="5361120"/>
            <a:ext cx="2879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POC: Single Point of Cont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85240" y="4465800"/>
            <a:ext cx="943920" cy="366120"/>
          </a:xfrm>
          <a:prstGeom prst="rect">
            <a:avLst/>
          </a:prstGeom>
          <a:solidFill>
            <a:srgbClr val="ffff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Fehler SPOC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Issue Mana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029680" y="1384200"/>
            <a:ext cx="864720" cy="228960"/>
          </a:xfrm>
          <a:prstGeom prst="rect">
            <a:avLst/>
          </a:prstGeom>
          <a:solidFill>
            <a:srgbClr val="ffff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Fehler SP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127200" y="4251240"/>
            <a:ext cx="864720" cy="228960"/>
          </a:xfrm>
          <a:prstGeom prst="rect">
            <a:avLst/>
          </a:prstGeom>
          <a:solidFill>
            <a:srgbClr val="ffff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Fehler SP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1" name=""/>
          <p:cNvCxnSpPr>
            <a:stCxn id="904" idx="3"/>
            <a:endCxn id="898" idx="5"/>
          </p:cNvCxnSpPr>
          <p:nvPr/>
        </p:nvCxnSpPr>
        <p:spPr>
          <a:xfrm rot="5400000">
            <a:off x="5433840" y="2170800"/>
            <a:ext cx="2160" cy="2127960"/>
          </a:xfrm>
          <a:prstGeom prst="curvedConnector5">
            <a:avLst>
              <a:gd name="adj1" fmla="val 20300000"/>
              <a:gd name="adj2" fmla="val 50000"/>
              <a:gd name="adj3" fmla="val 20300000"/>
            </a:avLst>
          </a:prstGeom>
          <a:ln w="9360">
            <a:solidFill>
              <a:srgbClr val="4d4d4d"/>
            </a:solidFill>
            <a:miter/>
            <a:tailEnd len="med" type="triangle" w="med"/>
          </a:ln>
        </p:spPr>
      </p:cxnSp>
      <p:sp>
        <p:nvSpPr>
          <p:cNvPr id="942" name=""/>
          <p:cNvSpPr/>
          <p:nvPr/>
        </p:nvSpPr>
        <p:spPr>
          <a:xfrm>
            <a:off x="630720" y="2549520"/>
            <a:ext cx="509760" cy="228960"/>
          </a:xfrm>
          <a:prstGeom prst="rect">
            <a:avLst/>
          </a:prstGeom>
          <a:solidFill>
            <a:srgbClr val="ffff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252120" y="2371680"/>
            <a:ext cx="541800" cy="366120"/>
          </a:xfrm>
          <a:prstGeom prst="rect">
            <a:avLst/>
          </a:prstGeom>
          <a:solidFill>
            <a:srgbClr val="ffff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est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870480" y="3062160"/>
            <a:ext cx="547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&lt; 1 Tag 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55480" y="2879640"/>
            <a:ext cx="250920" cy="252360"/>
          </a:xfrm>
          <a:prstGeom prst="ellipse">
            <a:avLst/>
          </a:prstGeom>
          <a:noFill/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888280" y="3117960"/>
            <a:ext cx="547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&lt; 1 Tag 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539600" y="3097080"/>
            <a:ext cx="343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&lt; … 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444080" y="3056040"/>
            <a:ext cx="618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&lt; 3 Tage 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946120" y="3059280"/>
            <a:ext cx="343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&lt; … 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08960" y="998640"/>
            <a:ext cx="353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rchlaufzeit der Fehlerbearbeit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 flipV="1">
            <a:off x="741240" y="5817960"/>
            <a:ext cx="7670880" cy="1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1008000" y="1314360"/>
            <a:ext cx="9720" cy="480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028880" y="2409840"/>
            <a:ext cx="936360" cy="3419640"/>
          </a:xfrm>
          <a:custGeom>
            <a:avLst/>
            <a:gdLst/>
            <a:ahLst/>
            <a:rect l="l" t="t" r="r" b="b"/>
            <a:pathLst>
              <a:path w="590" h="2154">
                <a:moveTo>
                  <a:pt x="0" y="2154"/>
                </a:moveTo>
                <a:cubicBezTo>
                  <a:pt x="193" y="1105"/>
                  <a:pt x="386" y="57"/>
                  <a:pt x="590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308080" y="5237280"/>
            <a:ext cx="10810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chtigk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07800" y="538200"/>
            <a:ext cx="9264960" cy="58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023840" y="2330280"/>
            <a:ext cx="2011320" cy="3494160"/>
          </a:xfrm>
          <a:custGeom>
            <a:avLst/>
            <a:gdLst/>
            <a:ahLst/>
            <a:rect l="l" t="t" r="r" b="b"/>
            <a:pathLst>
              <a:path w="1267" h="2201">
                <a:moveTo>
                  <a:pt x="0" y="2201"/>
                </a:moveTo>
                <a:cubicBezTo>
                  <a:pt x="194" y="1147"/>
                  <a:pt x="388" y="94"/>
                  <a:pt x="599" y="47"/>
                </a:cubicBezTo>
                <a:cubicBezTo>
                  <a:pt x="810" y="0"/>
                  <a:pt x="1129" y="1629"/>
                  <a:pt x="1267" y="1919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95720" y="781200"/>
            <a:ext cx="1227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ringlichk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rot="16200000">
            <a:off x="192960" y="1914840"/>
            <a:ext cx="1020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049400" y="5864400"/>
            <a:ext cx="16272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bedeu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82720" y="5867280"/>
            <a:ext cx="16272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357800" y="5867280"/>
            <a:ext cx="16272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n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977080" y="5867280"/>
            <a:ext cx="16272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astroph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050840" y="1706400"/>
            <a:ext cx="16462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692440" y="1714680"/>
            <a:ext cx="16462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341960" y="1708200"/>
            <a:ext cx="16459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983200" y="1716120"/>
            <a:ext cx="16462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017720" y="4768920"/>
            <a:ext cx="6618240" cy="10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19160" y="3747960"/>
            <a:ext cx="6618240" cy="10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008000" y="2725560"/>
            <a:ext cx="6618240" cy="10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009800" y="1716120"/>
            <a:ext cx="6618240" cy="10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rot="16200000">
            <a:off x="187920" y="2951640"/>
            <a:ext cx="10209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ring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rot="16200000">
            <a:off x="173520" y="4993200"/>
            <a:ext cx="10209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rot="16200000">
            <a:off x="184680" y="3966120"/>
            <a:ext cx="10209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571800" y="1847880"/>
            <a:ext cx="483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sof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14920" y="2882880"/>
            <a:ext cx="6544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tagfert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770360" y="2882880"/>
            <a:ext cx="6544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tagfert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770360" y="1847880"/>
            <a:ext cx="6544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tagfert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038400" y="1847880"/>
            <a:ext cx="968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wochenfert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38400" y="2882880"/>
            <a:ext cx="968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wochenfert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80000" y="3913200"/>
            <a:ext cx="968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wochenfert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335640" y="3913200"/>
            <a:ext cx="968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wochenfert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120" y="4888080"/>
            <a:ext cx="8665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monatfert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493280" y="1847880"/>
            <a:ext cx="8665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monatfert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084120" y="4888080"/>
            <a:ext cx="8571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jahresfert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93280" y="3913200"/>
            <a:ext cx="8571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jahresfert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93280" y="4888080"/>
            <a:ext cx="8571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jahresfert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770000" y="4888080"/>
            <a:ext cx="8665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monatfert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084120" y="3913200"/>
            <a:ext cx="8665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monatfert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493280" y="2882880"/>
            <a:ext cx="8665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monatfert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931000" y="1535040"/>
            <a:ext cx="1946160" cy="1486080"/>
          </a:xfrm>
          <a:prstGeom prst="irregularSeal2">
            <a:avLst/>
          </a:prstGeom>
          <a:noFill/>
          <a:ln w="9360">
            <a:solidFill>
              <a:srgbClr val="e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46920" y="917640"/>
            <a:ext cx="1281240" cy="679320"/>
          </a:xfrm>
          <a:prstGeom prst="borderCallout2">
            <a:avLst>
              <a:gd name="adj1" fmla="val 18750"/>
              <a:gd name="adj2" fmla="val -8333"/>
              <a:gd name="adj3" fmla="val 16824"/>
              <a:gd name="adj4" fmla="val -25898"/>
              <a:gd name="adj5" fmla="val 116120"/>
              <a:gd name="adj6" fmla="val -45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Krisen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ituation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58920" y="330120"/>
            <a:ext cx="5977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ordnung von Fehlern in der Dringlichkeits-/Severity-Matri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20840" y="1641600"/>
            <a:ext cx="2666880" cy="29588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50800" y="1797120"/>
            <a:ext cx="2413080" cy="7617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61960" y="2671920"/>
            <a:ext cx="2387880" cy="7491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86080" y="3584520"/>
            <a:ext cx="2400120" cy="863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24200" y="2119320"/>
            <a:ext cx="19015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1477800" y="1801800"/>
            <a:ext cx="663840" cy="663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01400" y="1519200"/>
            <a:ext cx="753480" cy="559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96920" y="4032360"/>
            <a:ext cx="1865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44960" y="3440160"/>
            <a:ext cx="812880" cy="559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11240" y="3046320"/>
            <a:ext cx="1852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320" y="2454120"/>
            <a:ext cx="909000" cy="559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>
            <a:alphaModFix amt="70000"/>
          </a:blip>
          <a:stretch/>
        </p:blipFill>
        <p:spPr>
          <a:xfrm>
            <a:off x="1531800" y="2733840"/>
            <a:ext cx="492120" cy="576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>
            <a:alphaModFix amt="70000"/>
          </a:blip>
          <a:stretch/>
        </p:blipFill>
        <p:spPr>
          <a:xfrm>
            <a:off x="1595520" y="3780000"/>
            <a:ext cx="590400" cy="590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20200" y="4079880"/>
            <a:ext cx="1230480" cy="1908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inkl. Betriebs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21240" y="1247760"/>
            <a:ext cx="4330800" cy="3429000"/>
          </a:xfrm>
          <a:prstGeom prst="rect">
            <a:avLst/>
          </a:prstGeom>
          <a:solidFill>
            <a:srgbClr val="ffff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7800" y="530280"/>
            <a:ext cx="9290160" cy="58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7840" y="587520"/>
            <a:ext cx="90230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T-Mar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19400" y="5784840"/>
            <a:ext cx="7230960" cy="25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06440" y="5097600"/>
            <a:ext cx="847800" cy="852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56480" y="5464080"/>
            <a:ext cx="324396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T Produkte ohne Auswirk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5800" y="1660680"/>
            <a:ext cx="284040" cy="2928960"/>
          </a:xfrm>
          <a:custGeom>
            <a:avLst/>
            <a:gdLst>
              <a:gd name="textAreaLeft" fmla="*/ 0 w 284040"/>
              <a:gd name="textAreaRight" fmla="*/ 102600 w 284040"/>
              <a:gd name="textAreaTop" fmla="*/ 76320 h 2928960"/>
              <a:gd name="textAreaBottom" fmla="*/ 2852640 h 292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649760" y="1668600"/>
            <a:ext cx="1206360" cy="2933640"/>
            <a:chOff x="4649760" y="1668600"/>
            <a:chExt cx="1206360" cy="2933640"/>
          </a:xfrm>
        </p:grpSpPr>
        <p:sp>
          <p:nvSpPr>
            <p:cNvPr id="109" name=""/>
            <p:cNvSpPr/>
            <p:nvPr/>
          </p:nvSpPr>
          <p:spPr>
            <a:xfrm>
              <a:off x="4649760" y="1668600"/>
              <a:ext cx="1206360" cy="29336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01680" y="3119400"/>
              <a:ext cx="96840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43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IT-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844880" y="2444760"/>
              <a:ext cx="675720" cy="804960"/>
              <a:chOff x="4844880" y="2444760"/>
              <a:chExt cx="675720" cy="804960"/>
            </a:xfrm>
          </p:grpSpPr>
          <p:sp>
            <p:nvSpPr>
              <p:cNvPr id="112" name=""/>
              <p:cNvSpPr/>
              <p:nvPr/>
            </p:nvSpPr>
            <p:spPr>
              <a:xfrm>
                <a:off x="4853880" y="2444760"/>
                <a:ext cx="666360" cy="80496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55146"/>
                  </a:gs>
                  <a:gs pos="50000">
                    <a:srgbClr val="b9b098">
                      <a:alpha val="40000"/>
                    </a:srgbClr>
                  </a:gs>
                  <a:gs pos="100000">
                    <a:srgbClr val="5551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ts val="43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844880" y="2451240"/>
                <a:ext cx="675720" cy="237960"/>
              </a:xfrm>
              <a:prstGeom prst="ellipse">
                <a:avLst/>
              </a:prstGeom>
              <a:gradFill rotWithShape="0">
                <a:gsLst>
                  <a:gs pos="0">
                    <a:srgbClr val="b9b098">
                      <a:alpha val="40000"/>
                    </a:srgbClr>
                  </a:gs>
                  <a:gs pos="100000">
                    <a:srgbClr val="55514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" name=""/>
          <p:cNvSpPr/>
          <p:nvPr/>
        </p:nvSpPr>
        <p:spPr>
          <a:xfrm flipV="1">
            <a:off x="1606680" y="6033960"/>
            <a:ext cx="7616520" cy="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627120" y="5475240"/>
            <a:ext cx="853920" cy="854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124680" y="1682640"/>
            <a:ext cx="2438280" cy="293364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24560" y="2851200"/>
            <a:ext cx="833400" cy="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14720" y="1363680"/>
            <a:ext cx="16419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97840" y="4684680"/>
            <a:ext cx="12564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eues Produ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2084400" y="4629240"/>
            <a:ext cx="517680" cy="520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638800" y="4984920"/>
            <a:ext cx="1985040" cy="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integriert oder Modulerweit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02120" y="4245120"/>
            <a:ext cx="635040" cy="753840"/>
          </a:xfrm>
          <a:custGeom>
            <a:avLst/>
            <a:gdLst/>
            <a:ahLst/>
            <a:rect l="l" t="t" r="r" b="b"/>
            <a:pathLst>
              <a:path w="400" h="339">
                <a:moveTo>
                  <a:pt x="0" y="320"/>
                </a:moveTo>
                <a:cubicBezTo>
                  <a:pt x="15" y="329"/>
                  <a:pt x="31" y="339"/>
                  <a:pt x="88" y="320"/>
                </a:cubicBezTo>
                <a:cubicBezTo>
                  <a:pt x="145" y="301"/>
                  <a:pt x="292" y="261"/>
                  <a:pt x="344" y="208"/>
                </a:cubicBezTo>
                <a:cubicBezTo>
                  <a:pt x="396" y="155"/>
                  <a:pt x="398" y="77"/>
                  <a:pt x="400" y="0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7720" y="1352520"/>
            <a:ext cx="145620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T Zuliefe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77960" y="4964040"/>
            <a:ext cx="224172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380280" y="2043000"/>
            <a:ext cx="2035080" cy="2054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16440" y="186120"/>
            <a:ext cx="2925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chreibung</a:t>
            </a: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s IT-Markts</a:t>
            </a: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6120" y="1760400"/>
            <a:ext cx="282600" cy="2653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60840" y="1719360"/>
            <a:ext cx="230400" cy="2142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13240" y="2009880"/>
            <a:ext cx="393840" cy="4014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 rot="16200000">
            <a:off x="4575960" y="-2502360"/>
            <a:ext cx="682560" cy="9215280"/>
          </a:xfrm>
          <a:prstGeom prst="rect">
            <a:avLst/>
          </a:prstGeom>
          <a:solidFill>
            <a:srgbClr val="f8f8f8">
              <a:alpha val="55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6200000">
            <a:off x="4575960" y="-1744920"/>
            <a:ext cx="682560" cy="9215280"/>
          </a:xfrm>
          <a:prstGeom prst="rect">
            <a:avLst/>
          </a:prstGeom>
          <a:solidFill>
            <a:srgbClr val="f8f8f8">
              <a:alpha val="55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rot="16200000">
            <a:off x="4575960" y="-952920"/>
            <a:ext cx="682560" cy="9215280"/>
          </a:xfrm>
          <a:prstGeom prst="rect">
            <a:avLst/>
          </a:prstGeom>
          <a:solidFill>
            <a:srgbClr val="f8f8f8">
              <a:alpha val="55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rot="16200000">
            <a:off x="4575960" y="-160560"/>
            <a:ext cx="682560" cy="9215280"/>
          </a:xfrm>
          <a:prstGeom prst="rect">
            <a:avLst/>
          </a:prstGeom>
          <a:solidFill>
            <a:srgbClr val="f8f8f8">
              <a:alpha val="55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rot="16200000">
            <a:off x="4599360" y="667080"/>
            <a:ext cx="682920" cy="9215280"/>
          </a:xfrm>
          <a:prstGeom prst="rect">
            <a:avLst/>
          </a:prstGeom>
          <a:solidFill>
            <a:srgbClr val="f8f8f8">
              <a:alpha val="55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359240" y="1190520"/>
            <a:ext cx="1008000" cy="4456080"/>
          </a:xfrm>
          <a:prstGeom prst="rect">
            <a:avLst/>
          </a:prstGeom>
          <a:solidFill>
            <a:srgbClr val="f8f8f8">
              <a:alpha val="55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403960" y="1190520"/>
            <a:ext cx="1008000" cy="4456080"/>
          </a:xfrm>
          <a:prstGeom prst="rect">
            <a:avLst/>
          </a:prstGeom>
          <a:solidFill>
            <a:srgbClr val="f8f8f8">
              <a:alpha val="55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448320" y="1190520"/>
            <a:ext cx="1008000" cy="4456080"/>
          </a:xfrm>
          <a:prstGeom prst="rect">
            <a:avLst/>
          </a:prstGeom>
          <a:solidFill>
            <a:srgbClr val="f8f8f8">
              <a:alpha val="55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491240" y="1190520"/>
            <a:ext cx="1008360" cy="4456080"/>
          </a:xfrm>
          <a:prstGeom prst="rect">
            <a:avLst/>
          </a:prstGeom>
          <a:solidFill>
            <a:srgbClr val="f8f8f8">
              <a:alpha val="55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8535960" y="1190520"/>
            <a:ext cx="1008000" cy="4456080"/>
          </a:xfrm>
          <a:prstGeom prst="rect">
            <a:avLst/>
          </a:prstGeom>
          <a:solidFill>
            <a:srgbClr val="f8f8f8">
              <a:alpha val="55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335840" y="1189080"/>
            <a:ext cx="8085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ereich 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378760" y="1189080"/>
            <a:ext cx="8085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ereich 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423480" y="1189080"/>
            <a:ext cx="8085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ereich 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467840" y="1189080"/>
            <a:ext cx="3452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512200" y="1189080"/>
            <a:ext cx="794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ereich 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24000" y="2514600"/>
            <a:ext cx="39416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Vollständigkeit der Anforderung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Kritikalität der Anforderungen defini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9960" y="4954680"/>
            <a:ext cx="39052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Beschreibung zu Issues komplet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Issues sind zugeord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99960" y="4089240"/>
            <a:ext cx="391788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Vollständigkeit Test Se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urchgeführte Tes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Issues zu Fehlern erfas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55680" y="3309840"/>
            <a:ext cx="400212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Vollständigkeit der Testfä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keine „leere“ Testfälle (inkl. Testschrit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Bezug Testfälle zu Anforder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12840" y="1785960"/>
            <a:ext cx="402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Planung der Anzahl Tests pro Testkampag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681440" y="1909800"/>
            <a:ext cx="3967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94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94000"/>
              </a:path>
            </a:pathLst>
          </a:custGeom>
          <a:solidFill>
            <a:srgbClr val="4d4f5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906560"/>
            <a:ext cx="396360" cy="39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94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94000"/>
              </a:path>
            </a:pathLst>
          </a:custGeom>
          <a:solidFill>
            <a:srgbClr val="4d4f5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858160" y="1909800"/>
            <a:ext cx="3967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94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94000"/>
              </a:path>
            </a:pathLst>
          </a:custGeom>
          <a:solidFill>
            <a:srgbClr val="4d4f5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726160" y="1941480"/>
            <a:ext cx="396360" cy="39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94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94000"/>
              </a:path>
            </a:pathLst>
          </a:custGeom>
          <a:solidFill>
            <a:srgbClr val="4d4f5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8821080" y="3454560"/>
            <a:ext cx="396360" cy="405000"/>
            <a:chOff x="8821080" y="3454560"/>
            <a:chExt cx="396360" cy="405000"/>
          </a:xfrm>
        </p:grpSpPr>
        <p:sp>
          <p:nvSpPr>
            <p:cNvPr id="1017" name=""/>
            <p:cNvSpPr/>
            <p:nvPr/>
          </p:nvSpPr>
          <p:spPr>
            <a:xfrm>
              <a:off x="8821080" y="3454560"/>
              <a:ext cx="396000" cy="40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821800" y="3454560"/>
              <a:ext cx="395640" cy="40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62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6200000"/>
                </a:path>
              </a:pathLst>
            </a:custGeom>
            <a:solidFill>
              <a:srgbClr val="4d4f5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" name=""/>
          <p:cNvSpPr/>
          <p:nvPr/>
        </p:nvSpPr>
        <p:spPr>
          <a:xfrm>
            <a:off x="6769080" y="3454560"/>
            <a:ext cx="39636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94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94000"/>
              </a:path>
            </a:pathLst>
          </a:custGeom>
          <a:solidFill>
            <a:srgbClr val="4d4f5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726160" y="4248000"/>
            <a:ext cx="396360" cy="39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94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94000"/>
              </a:path>
            </a:pathLst>
          </a:custGeom>
          <a:solidFill>
            <a:srgbClr val="4d4f5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681440" y="4249800"/>
            <a:ext cx="3967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94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94000"/>
              </a:path>
            </a:pathLst>
          </a:custGeom>
          <a:solidFill>
            <a:srgbClr val="4d4f5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769080" y="4249800"/>
            <a:ext cx="39636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94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94000"/>
              </a:path>
            </a:pathLst>
          </a:custGeom>
          <a:solidFill>
            <a:srgbClr val="4d4f5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858160" y="4246560"/>
            <a:ext cx="3967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94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94000"/>
              </a:path>
            </a:pathLst>
          </a:custGeom>
          <a:solidFill>
            <a:srgbClr val="4d4f5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726160" y="5073480"/>
            <a:ext cx="396360" cy="39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94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94000"/>
              </a:path>
            </a:pathLst>
          </a:custGeom>
          <a:solidFill>
            <a:srgbClr val="4d4f5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718160" y="5038560"/>
            <a:ext cx="396360" cy="39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94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94000"/>
              </a:path>
            </a:pathLst>
          </a:custGeom>
          <a:solidFill>
            <a:srgbClr val="4d4f5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681440" y="2662200"/>
            <a:ext cx="396720" cy="39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94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94000"/>
              </a:path>
            </a:pathLst>
          </a:custGeom>
          <a:solidFill>
            <a:srgbClr val="4d4f5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769080" y="5075280"/>
            <a:ext cx="39636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94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94000"/>
              </a:path>
            </a:pathLst>
          </a:custGeom>
          <a:solidFill>
            <a:srgbClr val="4d4f5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854920" y="5075280"/>
            <a:ext cx="3967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94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94000"/>
              </a:path>
            </a:pathLst>
          </a:custGeom>
          <a:solidFill>
            <a:srgbClr val="4d4f5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4645800" y="3454560"/>
            <a:ext cx="396720" cy="405000"/>
            <a:chOff x="4645800" y="3454560"/>
            <a:chExt cx="396720" cy="405000"/>
          </a:xfrm>
        </p:grpSpPr>
        <p:sp>
          <p:nvSpPr>
            <p:cNvPr id="1030" name=""/>
            <p:cNvSpPr/>
            <p:nvPr/>
          </p:nvSpPr>
          <p:spPr>
            <a:xfrm>
              <a:off x="4645800" y="3454560"/>
              <a:ext cx="396720" cy="40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646520" y="3454560"/>
              <a:ext cx="396000" cy="40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62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6200000"/>
                </a:path>
              </a:pathLst>
            </a:custGeom>
            <a:solidFill>
              <a:srgbClr val="4d4f5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5690520" y="3454560"/>
            <a:ext cx="396360" cy="405000"/>
            <a:chOff x="5690520" y="3454560"/>
            <a:chExt cx="396360" cy="405000"/>
          </a:xfrm>
        </p:grpSpPr>
        <p:sp>
          <p:nvSpPr>
            <p:cNvPr id="1033" name=""/>
            <p:cNvSpPr/>
            <p:nvPr/>
          </p:nvSpPr>
          <p:spPr>
            <a:xfrm>
              <a:off x="5690520" y="3454560"/>
              <a:ext cx="396000" cy="40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691240" y="3454560"/>
              <a:ext cx="395640" cy="40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62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6200000"/>
                </a:path>
              </a:pathLst>
            </a:custGeom>
            <a:solidFill>
              <a:srgbClr val="4d4f5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5725440" y="2662200"/>
            <a:ext cx="396360" cy="405360"/>
            <a:chOff x="5725440" y="2662200"/>
            <a:chExt cx="396360" cy="405360"/>
          </a:xfrm>
        </p:grpSpPr>
        <p:sp>
          <p:nvSpPr>
            <p:cNvPr id="1036" name=""/>
            <p:cNvSpPr/>
            <p:nvPr/>
          </p:nvSpPr>
          <p:spPr>
            <a:xfrm>
              <a:off x="5725440" y="2662200"/>
              <a:ext cx="396000" cy="40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726160" y="2662200"/>
              <a:ext cx="3956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62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6200000"/>
                </a:path>
              </a:pathLst>
            </a:custGeom>
            <a:solidFill>
              <a:srgbClr val="4d4f5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6768360" y="2662200"/>
            <a:ext cx="396360" cy="405360"/>
            <a:chOff x="6768360" y="2662200"/>
            <a:chExt cx="396360" cy="405360"/>
          </a:xfrm>
        </p:grpSpPr>
        <p:sp>
          <p:nvSpPr>
            <p:cNvPr id="1039" name=""/>
            <p:cNvSpPr/>
            <p:nvPr/>
          </p:nvSpPr>
          <p:spPr>
            <a:xfrm>
              <a:off x="6768360" y="2662200"/>
              <a:ext cx="396000" cy="40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769080" y="2662200"/>
              <a:ext cx="3956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62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6200000"/>
                </a:path>
              </a:pathLst>
            </a:custGeom>
            <a:solidFill>
              <a:srgbClr val="4d4f5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8819280" y="2698920"/>
            <a:ext cx="396720" cy="405000"/>
            <a:chOff x="8819280" y="2698920"/>
            <a:chExt cx="396720" cy="405000"/>
          </a:xfrm>
        </p:grpSpPr>
        <p:sp>
          <p:nvSpPr>
            <p:cNvPr id="1042" name=""/>
            <p:cNvSpPr/>
            <p:nvPr/>
          </p:nvSpPr>
          <p:spPr>
            <a:xfrm>
              <a:off x="8819280" y="2698920"/>
              <a:ext cx="396720" cy="40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8820000" y="2698920"/>
              <a:ext cx="396000" cy="40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62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6200000"/>
                </a:path>
              </a:pathLst>
            </a:custGeom>
            <a:solidFill>
              <a:srgbClr val="4d4f5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" name=""/>
          <p:cNvSpPr/>
          <p:nvPr/>
        </p:nvSpPr>
        <p:spPr>
          <a:xfrm>
            <a:off x="155520" y="1014480"/>
            <a:ext cx="9580680" cy="47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57680" y="793800"/>
            <a:ext cx="4546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haltung der Qualitätsstandards pro Berei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809640" y="1376280"/>
            <a:ext cx="6881760" cy="4668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131920" y="2224080"/>
            <a:ext cx="4181400" cy="300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886120" y="2814480"/>
            <a:ext cx="2774880" cy="1928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414600" y="3244680"/>
            <a:ext cx="1689120" cy="10353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011840" y="3529080"/>
            <a:ext cx="563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C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8109000" y="3106800"/>
            <a:ext cx="903240" cy="60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034" y="18498"/>
                </a:moveTo>
                <a:lnTo>
                  <a:pt x="-1822" y="4061"/>
                </a:lnTo>
              </a:path>
              <a:path w="21600" h="21600">
                <a:moveTo>
                  <a:pt x="-1822" y="0"/>
                </a:moveTo>
                <a:lnTo>
                  <a:pt x="-1822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876120" y="2697120"/>
            <a:ext cx="9579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866400" y="2112840"/>
            <a:ext cx="979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w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699720" y="1295280"/>
            <a:ext cx="13615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umf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719840" y="2079720"/>
            <a:ext cx="9036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5825" y="15638"/>
                </a:moveTo>
                <a:lnTo>
                  <a:pt x="-1822" y="4000"/>
                </a:lnTo>
              </a:path>
              <a:path w="21600" h="21600">
                <a:moveTo>
                  <a:pt x="-1822" y="0"/>
                </a:moveTo>
                <a:lnTo>
                  <a:pt x="-1822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ter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259760" y="1136520"/>
            <a:ext cx="90324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464" y="19631"/>
                </a:moveTo>
                <a:lnTo>
                  <a:pt x="-1822" y="4000"/>
                </a:lnTo>
              </a:path>
              <a:path w="21600" h="21600">
                <a:moveTo>
                  <a:pt x="-1822" y="0"/>
                </a:moveTo>
                <a:lnTo>
                  <a:pt x="-1822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ffek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82680" y="906480"/>
            <a:ext cx="9056520" cy="535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513480" y="5492880"/>
            <a:ext cx="28209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 u="sng">
                <a:solidFill>
                  <a:srgbClr val="000000"/>
                </a:solidFill>
                <a:uFillTx/>
                <a:latin typeface="Arial"/>
              </a:rPr>
              <a:t>Quelle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: Nigel Bevan, „Quality in use: Meeting user needs for quality“, The Journal of Systems and Software 49 - 1999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2200" y="701640"/>
            <a:ext cx="1529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Qualitätsstuf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3008160" y="1173240"/>
            <a:ext cx="1332000" cy="539640"/>
          </a:xfrm>
          <a:custGeom>
            <a:avLst/>
            <a:gdLst>
              <a:gd name="textAreaLeft" fmla="*/ 0 w 1332000"/>
              <a:gd name="textAreaRight" fmla="*/ 1332360 w 133200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160" y="0"/>
                </a:lnTo>
                <a:lnTo>
                  <a:pt x="21600" y="10800"/>
                </a:lnTo>
                <a:lnTo>
                  <a:pt x="151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6600" y="426960"/>
            <a:ext cx="9791640" cy="607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60560" y="2865600"/>
            <a:ext cx="11923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ystemstand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927120" y="2865600"/>
            <a:ext cx="1395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ystemstand T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37280" y="6148440"/>
            <a:ext cx="586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346440" y="6148440"/>
            <a:ext cx="29026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ression Tests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Mindestanforderu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163440" y="507960"/>
            <a:ext cx="2844720" cy="2430360"/>
            <a:chOff x="163440" y="507960"/>
            <a:chExt cx="2844720" cy="2430360"/>
          </a:xfrm>
        </p:grpSpPr>
        <p:sp>
          <p:nvSpPr>
            <p:cNvPr id="1067" name=""/>
            <p:cNvSpPr/>
            <p:nvPr/>
          </p:nvSpPr>
          <p:spPr>
            <a:xfrm>
              <a:off x="163440" y="507960"/>
              <a:ext cx="2844720" cy="24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43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73000" y="1433520"/>
              <a:ext cx="389160" cy="357120"/>
            </a:xfrm>
            <a:prstGeom prst="ellipse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5400000">
              <a:off x="1420560" y="995400"/>
              <a:ext cx="230040" cy="144360"/>
            </a:xfrm>
            <a:prstGeom prst="leftRightArrow">
              <a:avLst>
                <a:gd name="adj1" fmla="val 50000"/>
                <a:gd name="adj2" fmla="val 31722"/>
              </a:avLst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338120" y="1189080"/>
              <a:ext cx="390600" cy="357120"/>
            </a:xfrm>
            <a:prstGeom prst="ellipse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998640" y="1927080"/>
              <a:ext cx="390600" cy="357480"/>
            </a:xfrm>
            <a:prstGeom prst="ellipse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776240" y="1467000"/>
              <a:ext cx="390600" cy="357120"/>
            </a:xfrm>
            <a:prstGeom prst="ellipse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546200" y="1930320"/>
              <a:ext cx="388800" cy="357120"/>
            </a:xfrm>
            <a:prstGeom prst="ellipse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2374800">
              <a:off x="1693440" y="1428840"/>
              <a:ext cx="142920" cy="108000"/>
            </a:xfrm>
            <a:prstGeom prst="flowChartDecision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6903600">
              <a:off x="1784160" y="1823760"/>
              <a:ext cx="142920" cy="108000"/>
            </a:xfrm>
            <a:prstGeom prst="flowChartDecision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395360" y="2060640"/>
              <a:ext cx="144360" cy="108000"/>
            </a:xfrm>
            <a:prstGeom prst="flowChartDecision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4500000">
              <a:off x="1056240" y="1800720"/>
              <a:ext cx="144360" cy="108000"/>
            </a:xfrm>
            <a:prstGeom prst="flowChartDecision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19209000">
              <a:off x="1214280" y="1411200"/>
              <a:ext cx="144720" cy="108000"/>
            </a:xfrm>
            <a:prstGeom prst="flowChartDecision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rot="9084000">
              <a:off x="2128680" y="1424880"/>
              <a:ext cx="230400" cy="144360"/>
            </a:xfrm>
            <a:prstGeom prst="leftRightArrow">
              <a:avLst>
                <a:gd name="adj1" fmla="val 50000"/>
                <a:gd name="adj2" fmla="val 31772"/>
              </a:avLst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rot="2881200">
              <a:off x="734760" y="1324080"/>
              <a:ext cx="230040" cy="144360"/>
            </a:xfrm>
            <a:prstGeom prst="leftRightArrow">
              <a:avLst>
                <a:gd name="adj1" fmla="val 50000"/>
                <a:gd name="adj2" fmla="val 31722"/>
              </a:avLst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3717000">
              <a:off x="1767600" y="2301120"/>
              <a:ext cx="231480" cy="144360"/>
            </a:xfrm>
            <a:prstGeom prst="leftRightArrow">
              <a:avLst>
                <a:gd name="adj1" fmla="val 50000"/>
                <a:gd name="adj2" fmla="val 31921"/>
              </a:avLst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18780600">
              <a:off x="866160" y="2254680"/>
              <a:ext cx="230040" cy="142920"/>
            </a:xfrm>
            <a:prstGeom prst="leftRightArrow">
              <a:avLst>
                <a:gd name="adj1" fmla="val 50000"/>
                <a:gd name="adj2" fmla="val 32042"/>
              </a:avLst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3" name="" descr=""/>
            <p:cNvPicPr/>
            <p:nvPr/>
          </p:nvPicPr>
          <p:blipFill>
            <a:blip r:embed="rId1">
              <a:grayscl/>
            </a:blip>
            <a:srcRect l="26724" t="31411" r="28352" b="34539"/>
            <a:stretch/>
          </p:blipFill>
          <p:spPr>
            <a:xfrm>
              <a:off x="642960" y="2455920"/>
              <a:ext cx="342720" cy="2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" descr=""/>
            <p:cNvPicPr/>
            <p:nvPr/>
          </p:nvPicPr>
          <p:blipFill>
            <a:blip r:embed="rId2">
              <a:grayscl/>
            </a:blip>
            <a:srcRect l="26724" t="31411" r="28352" b="34539"/>
            <a:stretch/>
          </p:blipFill>
          <p:spPr>
            <a:xfrm>
              <a:off x="468360" y="1009800"/>
              <a:ext cx="342720" cy="2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" descr=""/>
            <p:cNvPicPr/>
            <p:nvPr/>
          </p:nvPicPr>
          <p:blipFill>
            <a:blip r:embed="rId3">
              <a:grayscl/>
            </a:blip>
            <a:srcRect l="26724" t="31411" r="28352" b="34539"/>
            <a:stretch/>
          </p:blipFill>
          <p:spPr>
            <a:xfrm>
              <a:off x="1362240" y="685800"/>
              <a:ext cx="342720" cy="2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" descr=""/>
            <p:cNvPicPr/>
            <p:nvPr/>
          </p:nvPicPr>
          <p:blipFill>
            <a:blip r:embed="rId4">
              <a:grayscl/>
            </a:blip>
            <a:srcRect l="26724" t="31411" r="28352" b="34539"/>
            <a:stretch/>
          </p:blipFill>
          <p:spPr>
            <a:xfrm>
              <a:off x="2368440" y="1273320"/>
              <a:ext cx="343080" cy="2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" descr=""/>
            <p:cNvPicPr/>
            <p:nvPr/>
          </p:nvPicPr>
          <p:blipFill>
            <a:blip r:embed="rId5">
              <a:grayscl/>
            </a:blip>
            <a:srcRect l="26724" t="31411" r="28352" b="34539"/>
            <a:stretch/>
          </p:blipFill>
          <p:spPr>
            <a:xfrm>
              <a:off x="1830240" y="2476440"/>
              <a:ext cx="343080" cy="26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8" name="" descr=""/>
          <p:cNvPicPr/>
          <p:nvPr/>
        </p:nvPicPr>
        <p:blipFill>
          <a:blip r:embed="rId6">
            <a:grayscl/>
          </a:blip>
          <a:srcRect l="26724" t="31411" r="28352" b="34539"/>
          <a:stretch/>
        </p:blipFill>
        <p:spPr>
          <a:xfrm>
            <a:off x="3925800" y="5835600"/>
            <a:ext cx="306360" cy="233280"/>
          </a:xfrm>
          <a:prstGeom prst="rect">
            <a:avLst/>
          </a:prstGeom>
          <a:ln w="0">
            <a:noFill/>
          </a:ln>
        </p:spPr>
      </p:pic>
      <p:sp>
        <p:nvSpPr>
          <p:cNvPr id="1089" name=""/>
          <p:cNvSpPr/>
          <p:nvPr/>
        </p:nvSpPr>
        <p:spPr>
          <a:xfrm>
            <a:off x="3908520" y="4159080"/>
            <a:ext cx="318960" cy="304920"/>
          </a:xfrm>
          <a:prstGeom prst="ellipse">
            <a:avLst/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981600" y="5527800"/>
            <a:ext cx="230040" cy="142920"/>
          </a:xfrm>
          <a:prstGeom prst="leftRightArrow">
            <a:avLst>
              <a:gd name="adj1" fmla="val 50000"/>
              <a:gd name="adj2" fmla="val 32042"/>
            </a:avLst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6932520" y="488880"/>
            <a:ext cx="2844720" cy="2438280"/>
            <a:chOff x="6932520" y="488880"/>
            <a:chExt cx="2844720" cy="2438280"/>
          </a:xfrm>
        </p:grpSpPr>
        <p:sp>
          <p:nvSpPr>
            <p:cNvPr id="1092" name=""/>
            <p:cNvSpPr/>
            <p:nvPr/>
          </p:nvSpPr>
          <p:spPr>
            <a:xfrm>
              <a:off x="6932520" y="488880"/>
              <a:ext cx="28447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43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05720" y="1246320"/>
              <a:ext cx="388800" cy="357120"/>
            </a:xfrm>
            <a:prstGeom prst="ellipse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rot="5400000">
              <a:off x="8153280" y="807840"/>
              <a:ext cx="230400" cy="144720"/>
            </a:xfrm>
            <a:prstGeom prst="leftRightArrow">
              <a:avLst>
                <a:gd name="adj1" fmla="val 50000"/>
                <a:gd name="adj2" fmla="val 31693"/>
              </a:avLst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070840" y="1001520"/>
              <a:ext cx="390600" cy="357480"/>
            </a:xfrm>
            <a:prstGeom prst="ellipse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535880" y="1746360"/>
              <a:ext cx="390600" cy="357120"/>
            </a:xfrm>
            <a:prstGeom prst="ellipse">
              <a:avLst/>
            </a:prstGeom>
            <a:solidFill>
              <a:srgbClr val="928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508960" y="1279440"/>
              <a:ext cx="390600" cy="357120"/>
            </a:xfrm>
            <a:prstGeom prst="ellipse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445600" y="1781280"/>
              <a:ext cx="388800" cy="357120"/>
            </a:xfrm>
            <a:prstGeom prst="ellipse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rot="2374800">
              <a:off x="8426160" y="1241280"/>
              <a:ext cx="142920" cy="108000"/>
            </a:xfrm>
            <a:prstGeom prst="flowChartDecision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rot="5700000">
              <a:off x="8602560" y="1655640"/>
              <a:ext cx="142920" cy="108000"/>
            </a:xfrm>
            <a:prstGeom prst="flowChartDecision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rot="19800000">
              <a:off x="8346600" y="2044440"/>
              <a:ext cx="144720" cy="107640"/>
            </a:xfrm>
            <a:prstGeom prst="flowChartDecision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rot="5700000">
              <a:off x="7677720" y="1624680"/>
              <a:ext cx="144360" cy="108000"/>
            </a:xfrm>
            <a:prstGeom prst="flowChartDecision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rot="19209000">
              <a:off x="7946640" y="1223640"/>
              <a:ext cx="144360" cy="108000"/>
            </a:xfrm>
            <a:prstGeom prst="flowChartDecision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rot="9084000">
              <a:off x="8860680" y="1238040"/>
              <a:ext cx="230040" cy="144720"/>
            </a:xfrm>
            <a:prstGeom prst="leftRightArrow">
              <a:avLst>
                <a:gd name="adj1" fmla="val 50000"/>
                <a:gd name="adj2" fmla="val 31644"/>
              </a:avLst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rot="2881200">
              <a:off x="7467120" y="1136520"/>
              <a:ext cx="230400" cy="144720"/>
            </a:xfrm>
            <a:prstGeom prst="leftRightArrow">
              <a:avLst>
                <a:gd name="adj1" fmla="val 50000"/>
                <a:gd name="adj2" fmla="val 31693"/>
              </a:avLst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rot="2949000">
              <a:off x="8719200" y="2122920"/>
              <a:ext cx="231480" cy="144360"/>
            </a:xfrm>
            <a:prstGeom prst="leftRightArrow">
              <a:avLst>
                <a:gd name="adj1" fmla="val 50000"/>
                <a:gd name="adj2" fmla="val 31921"/>
              </a:avLst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rot="19234800">
              <a:off x="7369200" y="2039400"/>
              <a:ext cx="230040" cy="142920"/>
            </a:xfrm>
            <a:prstGeom prst="leftRightArrow">
              <a:avLst>
                <a:gd name="adj1" fmla="val 50000"/>
                <a:gd name="adj2" fmla="val 32042"/>
              </a:avLst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983360" y="2012760"/>
              <a:ext cx="389160" cy="357480"/>
            </a:xfrm>
            <a:prstGeom prst="ellipse">
              <a:avLst/>
            </a:prstGeom>
            <a:solidFill>
              <a:srgbClr val="928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1800000">
              <a:off x="7878600" y="2014560"/>
              <a:ext cx="144720" cy="108000"/>
            </a:xfrm>
            <a:prstGeom prst="flowChartDecision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rot="5634000">
              <a:off x="8040960" y="2416680"/>
              <a:ext cx="231840" cy="144360"/>
            </a:xfrm>
            <a:prstGeom prst="leftRightArrow">
              <a:avLst>
                <a:gd name="adj1" fmla="val 50000"/>
                <a:gd name="adj2" fmla="val 31971"/>
              </a:avLst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1" name="" descr=""/>
            <p:cNvPicPr/>
            <p:nvPr/>
          </p:nvPicPr>
          <p:blipFill>
            <a:blip r:embed="rId7">
              <a:grayscl/>
            </a:blip>
            <a:srcRect l="26724" t="31411" r="28352" b="34539"/>
            <a:stretch/>
          </p:blipFill>
          <p:spPr>
            <a:xfrm>
              <a:off x="7975440" y="2611440"/>
              <a:ext cx="343080" cy="2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" descr=""/>
            <p:cNvPicPr/>
            <p:nvPr/>
          </p:nvPicPr>
          <p:blipFill>
            <a:blip r:embed="rId8">
              <a:grayscl/>
            </a:blip>
            <a:srcRect l="26724" t="31411" r="28352" b="34539"/>
            <a:stretch/>
          </p:blipFill>
          <p:spPr>
            <a:xfrm>
              <a:off x="8852040" y="2274840"/>
              <a:ext cx="342720" cy="2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" descr=""/>
            <p:cNvPicPr/>
            <p:nvPr/>
          </p:nvPicPr>
          <p:blipFill>
            <a:blip r:embed="rId9">
              <a:grayscl/>
            </a:blip>
            <a:srcRect l="26724" t="31411" r="28352" b="34539"/>
            <a:stretch/>
          </p:blipFill>
          <p:spPr>
            <a:xfrm>
              <a:off x="9078840" y="1057320"/>
              <a:ext cx="343080" cy="2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4" name="" descr=""/>
            <p:cNvPicPr/>
            <p:nvPr/>
          </p:nvPicPr>
          <p:blipFill>
            <a:blip r:embed="rId10">
              <a:grayscl/>
            </a:blip>
            <a:srcRect l="26724" t="31411" r="28352" b="34539"/>
            <a:stretch/>
          </p:blipFill>
          <p:spPr>
            <a:xfrm>
              <a:off x="8078760" y="503280"/>
              <a:ext cx="342720" cy="2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5" name="" descr=""/>
            <p:cNvPicPr/>
            <p:nvPr/>
          </p:nvPicPr>
          <p:blipFill>
            <a:blip r:embed="rId11">
              <a:grayscl/>
            </a:blip>
            <a:srcRect l="26724" t="31411" r="28352" b="34539"/>
            <a:stretch/>
          </p:blipFill>
          <p:spPr>
            <a:xfrm>
              <a:off x="7253280" y="826920"/>
              <a:ext cx="342720" cy="2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6" name="" descr=""/>
            <p:cNvPicPr/>
            <p:nvPr/>
          </p:nvPicPr>
          <p:blipFill>
            <a:blip r:embed="rId12">
              <a:grayscl/>
            </a:blip>
            <a:srcRect l="26724" t="31411" r="28352" b="34539"/>
            <a:stretch/>
          </p:blipFill>
          <p:spPr>
            <a:xfrm>
              <a:off x="7076880" y="2178000"/>
              <a:ext cx="343080" cy="26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7" name=""/>
          <p:cNvSpPr/>
          <p:nvPr/>
        </p:nvSpPr>
        <p:spPr>
          <a:xfrm>
            <a:off x="6356520" y="3765600"/>
            <a:ext cx="28447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029360" y="4522680"/>
            <a:ext cx="390600" cy="35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rot="5400000">
            <a:off x="7576560" y="4084560"/>
            <a:ext cx="230400" cy="144360"/>
          </a:xfrm>
          <a:prstGeom prst="leftRightArrow">
            <a:avLst>
              <a:gd name="adj1" fmla="val 50000"/>
              <a:gd name="adj2" fmla="val 31772"/>
            </a:avLst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494480" y="4278240"/>
            <a:ext cx="390600" cy="357120"/>
          </a:xfrm>
          <a:prstGeom prst="ellipse">
            <a:avLst/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e9e9e9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959520" y="5022720"/>
            <a:ext cx="390600" cy="357480"/>
          </a:xfrm>
          <a:prstGeom prst="ellipse">
            <a:avLst/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e9e9e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32600" y="4556160"/>
            <a:ext cx="390600" cy="357120"/>
          </a:xfrm>
          <a:prstGeom prst="ellipse">
            <a:avLst/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e9e9e9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869240" y="5057640"/>
            <a:ext cx="388800" cy="35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rot="2374800">
            <a:off x="7849800" y="4518000"/>
            <a:ext cx="142920" cy="108000"/>
          </a:xfrm>
          <a:prstGeom prst="flowChartDecision">
            <a:avLst/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rot="5700000">
            <a:off x="8026560" y="4932360"/>
            <a:ext cx="142560" cy="10800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rot="19800000">
            <a:off x="7770960" y="5320800"/>
            <a:ext cx="144360" cy="108000"/>
          </a:xfrm>
          <a:prstGeom prst="flowChartDecision">
            <a:avLst/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rot="5700000">
            <a:off x="7101000" y="4901400"/>
            <a:ext cx="144720" cy="107640"/>
          </a:xfrm>
          <a:prstGeom prst="flowChartDecision">
            <a:avLst/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rot="19209000">
            <a:off x="7370640" y="4500360"/>
            <a:ext cx="144720" cy="10764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rot="9084000">
            <a:off x="8286480" y="4514760"/>
            <a:ext cx="228600" cy="144720"/>
          </a:xfrm>
          <a:prstGeom prst="leftRightArrow">
            <a:avLst>
              <a:gd name="adj1" fmla="val 50000"/>
              <a:gd name="adj2" fmla="val 31446"/>
            </a:avLst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rot="2881200">
            <a:off x="6891120" y="4413240"/>
            <a:ext cx="230040" cy="144360"/>
          </a:xfrm>
          <a:prstGeom prst="leftRightArrow">
            <a:avLst>
              <a:gd name="adj1" fmla="val 50000"/>
              <a:gd name="adj2" fmla="val 317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rot="2949000">
            <a:off x="8142480" y="5400000"/>
            <a:ext cx="231840" cy="144360"/>
          </a:xfrm>
          <a:prstGeom prst="leftRightArrow">
            <a:avLst>
              <a:gd name="adj1" fmla="val 50000"/>
              <a:gd name="adj2" fmla="val 3197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rot="19234800">
            <a:off x="6792840" y="5316120"/>
            <a:ext cx="230400" cy="142920"/>
          </a:xfrm>
          <a:prstGeom prst="leftRightArrow">
            <a:avLst>
              <a:gd name="adj1" fmla="val 50000"/>
              <a:gd name="adj2" fmla="val 32092"/>
            </a:avLst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407360" y="5289480"/>
            <a:ext cx="388800" cy="357120"/>
          </a:xfrm>
          <a:prstGeom prst="ellipse">
            <a:avLst/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e9e9e9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1800000">
            <a:off x="7302240" y="5291280"/>
            <a:ext cx="144360" cy="107640"/>
          </a:xfrm>
          <a:prstGeom prst="flowChartDecision">
            <a:avLst/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rot="5634000">
            <a:off x="7464600" y="5693400"/>
            <a:ext cx="231840" cy="144360"/>
          </a:xfrm>
          <a:prstGeom prst="leftRightArrow">
            <a:avLst>
              <a:gd name="adj1" fmla="val 50000"/>
              <a:gd name="adj2" fmla="val 31971"/>
            </a:avLst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6" name="" descr=""/>
          <p:cNvPicPr/>
          <p:nvPr/>
        </p:nvPicPr>
        <p:blipFill>
          <a:blip r:embed="rId13"/>
          <a:srcRect l="26724" t="31411" r="28352" b="34539"/>
          <a:stretch/>
        </p:blipFill>
        <p:spPr>
          <a:xfrm>
            <a:off x="7399440" y="5886360"/>
            <a:ext cx="341280" cy="260280"/>
          </a:xfrm>
          <a:prstGeom prst="rect">
            <a:avLst/>
          </a:prstGeom>
          <a:ln w="0">
            <a:noFill/>
          </a:ln>
        </p:spPr>
      </p:pic>
      <p:pic>
        <p:nvPicPr>
          <p:cNvPr id="1137" name="" descr=""/>
          <p:cNvPicPr/>
          <p:nvPr/>
        </p:nvPicPr>
        <p:blipFill>
          <a:blip r:embed="rId14"/>
          <a:srcRect l="26724" t="31411" r="28352" b="34539"/>
          <a:stretch/>
        </p:blipFill>
        <p:spPr>
          <a:xfrm>
            <a:off x="6526080" y="5457960"/>
            <a:ext cx="343080" cy="26028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/>
          <p:cNvPicPr/>
          <p:nvPr/>
        </p:nvPicPr>
        <p:blipFill>
          <a:blip r:embed="rId15"/>
          <a:srcRect l="26724" t="31411" r="28352" b="34539"/>
          <a:stretch/>
        </p:blipFill>
        <p:spPr>
          <a:xfrm>
            <a:off x="6705720" y="4116240"/>
            <a:ext cx="342720" cy="260640"/>
          </a:xfrm>
          <a:prstGeom prst="rect">
            <a:avLst/>
          </a:prstGeom>
          <a:ln w="0">
            <a:noFill/>
          </a:ln>
        </p:spPr>
      </p:pic>
      <p:pic>
        <p:nvPicPr>
          <p:cNvPr id="1139" name="" descr=""/>
          <p:cNvPicPr/>
          <p:nvPr/>
        </p:nvPicPr>
        <p:blipFill>
          <a:blip r:embed="rId16"/>
          <a:srcRect l="26724" t="31411" r="28352" b="34539"/>
          <a:stretch/>
        </p:blipFill>
        <p:spPr>
          <a:xfrm>
            <a:off x="7545240" y="3781440"/>
            <a:ext cx="343080" cy="260280"/>
          </a:xfrm>
          <a:prstGeom prst="rect">
            <a:avLst/>
          </a:prstGeom>
          <a:ln w="0">
            <a:noFill/>
          </a:ln>
        </p:spPr>
      </p:pic>
      <p:pic>
        <p:nvPicPr>
          <p:cNvPr id="1140" name="" descr=""/>
          <p:cNvPicPr/>
          <p:nvPr/>
        </p:nvPicPr>
        <p:blipFill>
          <a:blip r:embed="rId17"/>
          <a:srcRect l="26724" t="31411" r="28352" b="34539"/>
          <a:stretch/>
        </p:blipFill>
        <p:spPr>
          <a:xfrm>
            <a:off x="8513640" y="4367160"/>
            <a:ext cx="343080" cy="260280"/>
          </a:xfrm>
          <a:prstGeom prst="rect">
            <a:avLst/>
          </a:prstGeom>
          <a:ln w="0">
            <a:noFill/>
          </a:ln>
        </p:spPr>
      </p:pic>
      <p:pic>
        <p:nvPicPr>
          <p:cNvPr id="1141" name="" descr=""/>
          <p:cNvPicPr/>
          <p:nvPr/>
        </p:nvPicPr>
        <p:blipFill>
          <a:blip r:embed="rId18"/>
          <a:srcRect l="26724" t="31411" r="28352" b="34539"/>
          <a:stretch/>
        </p:blipFill>
        <p:spPr>
          <a:xfrm>
            <a:off x="8286840" y="5568840"/>
            <a:ext cx="341280" cy="260640"/>
          </a:xfrm>
          <a:prstGeom prst="rect">
            <a:avLst/>
          </a:prstGeom>
          <a:ln w="0">
            <a:noFill/>
          </a:ln>
        </p:spPr>
      </p:pic>
      <p:sp>
        <p:nvSpPr>
          <p:cNvPr id="1142" name=""/>
          <p:cNvSpPr/>
          <p:nvPr/>
        </p:nvSpPr>
        <p:spPr>
          <a:xfrm>
            <a:off x="739800" y="3765600"/>
            <a:ext cx="28447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414440" y="4522680"/>
            <a:ext cx="387360" cy="357120"/>
          </a:xfrm>
          <a:prstGeom prst="ellipse">
            <a:avLst/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9e9e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rot="5400000">
            <a:off x="1959840" y="4084560"/>
            <a:ext cx="230400" cy="144360"/>
          </a:xfrm>
          <a:prstGeom prst="leftRightArrow">
            <a:avLst>
              <a:gd name="adj1" fmla="val 50000"/>
              <a:gd name="adj2" fmla="val 31772"/>
            </a:avLst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878120" y="4278240"/>
            <a:ext cx="390240" cy="357120"/>
          </a:xfrm>
          <a:prstGeom prst="ellipse">
            <a:avLst/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9e9e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343160" y="5022720"/>
            <a:ext cx="390240" cy="35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316240" y="4556160"/>
            <a:ext cx="390600" cy="357120"/>
          </a:xfrm>
          <a:prstGeom prst="ellipse">
            <a:avLst/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e9e9e9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252520" y="5057640"/>
            <a:ext cx="389160" cy="357480"/>
          </a:xfrm>
          <a:prstGeom prst="ellipse">
            <a:avLst/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9e9e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rot="2374800">
            <a:off x="2233080" y="4518000"/>
            <a:ext cx="142920" cy="108000"/>
          </a:xfrm>
          <a:prstGeom prst="flowChartDecision">
            <a:avLst/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rot="5700000">
            <a:off x="2409840" y="4932360"/>
            <a:ext cx="142560" cy="108000"/>
          </a:xfrm>
          <a:prstGeom prst="flowChartDecision">
            <a:avLst/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rot="19800000">
            <a:off x="2154240" y="5320800"/>
            <a:ext cx="144360" cy="10800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rot="5700000">
            <a:off x="1485000" y="4901400"/>
            <a:ext cx="144720" cy="10800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rot="19209000">
            <a:off x="1754280" y="4500360"/>
            <a:ext cx="144360" cy="107640"/>
          </a:xfrm>
          <a:prstGeom prst="flowChartDecision">
            <a:avLst/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rot="9084000">
            <a:off x="2668680" y="4514400"/>
            <a:ext cx="231840" cy="144720"/>
          </a:xfrm>
          <a:prstGeom prst="leftRightArrow">
            <a:avLst>
              <a:gd name="adj1" fmla="val 50000"/>
              <a:gd name="adj2" fmla="val 31891"/>
            </a:avLst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rot="2881200">
            <a:off x="1274400" y="4413240"/>
            <a:ext cx="230040" cy="144360"/>
          </a:xfrm>
          <a:prstGeom prst="leftRightArrow">
            <a:avLst>
              <a:gd name="adj1" fmla="val 50000"/>
              <a:gd name="adj2" fmla="val 31722"/>
            </a:avLst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rot="2949000">
            <a:off x="2526120" y="5399640"/>
            <a:ext cx="231840" cy="144720"/>
          </a:xfrm>
          <a:prstGeom prst="leftRightArrow">
            <a:avLst>
              <a:gd name="adj1" fmla="val 50000"/>
              <a:gd name="adj2" fmla="val 31891"/>
            </a:avLst>
          </a:prstGeom>
          <a:noFill/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19234800">
            <a:off x="1176480" y="5316120"/>
            <a:ext cx="230040" cy="142920"/>
          </a:xfrm>
          <a:prstGeom prst="leftRightArrow">
            <a:avLst>
              <a:gd name="adj1" fmla="val 50000"/>
              <a:gd name="adj2" fmla="val 32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790640" y="5289480"/>
            <a:ext cx="389160" cy="35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rot="1800000">
            <a:off x="1685520" y="5291280"/>
            <a:ext cx="144360" cy="10764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rot="5634000">
            <a:off x="1848240" y="5693040"/>
            <a:ext cx="231840" cy="144720"/>
          </a:xfrm>
          <a:prstGeom prst="leftRightArrow">
            <a:avLst>
              <a:gd name="adj1" fmla="val 50000"/>
              <a:gd name="adj2" fmla="val 3189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19"/>
          <a:srcRect l="26724" t="31411" r="28352" b="34539"/>
          <a:stretch/>
        </p:blipFill>
        <p:spPr>
          <a:xfrm>
            <a:off x="1063800" y="4140360"/>
            <a:ext cx="342720" cy="26028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/>
          <p:cNvPicPr/>
          <p:nvPr/>
        </p:nvPicPr>
        <p:blipFill>
          <a:blip r:embed="rId20"/>
          <a:srcRect l="26724" t="31411" r="28352" b="34539"/>
          <a:stretch/>
        </p:blipFill>
        <p:spPr>
          <a:xfrm>
            <a:off x="1903320" y="3792600"/>
            <a:ext cx="343080" cy="26028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21"/>
          <a:srcRect l="26724" t="31411" r="28352" b="34539"/>
          <a:stretch/>
        </p:blipFill>
        <p:spPr>
          <a:xfrm>
            <a:off x="2905200" y="4334040"/>
            <a:ext cx="342720" cy="26028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22"/>
          <a:srcRect l="26724" t="31411" r="28352" b="34539"/>
          <a:stretch/>
        </p:blipFill>
        <p:spPr>
          <a:xfrm>
            <a:off x="857160" y="5445000"/>
            <a:ext cx="343080" cy="260640"/>
          </a:xfrm>
          <a:prstGeom prst="rect">
            <a:avLst/>
          </a:prstGeom>
          <a:ln w="0">
            <a:noFill/>
          </a:ln>
        </p:spPr>
      </p:pic>
      <p:pic>
        <p:nvPicPr>
          <p:cNvPr id="1165" name="" descr=""/>
          <p:cNvPicPr/>
          <p:nvPr/>
        </p:nvPicPr>
        <p:blipFill>
          <a:blip r:embed="rId23"/>
          <a:srcRect l="26724" t="31411" r="28352" b="34539"/>
          <a:stretch/>
        </p:blipFill>
        <p:spPr>
          <a:xfrm>
            <a:off x="1779480" y="5888160"/>
            <a:ext cx="343080" cy="260280"/>
          </a:xfrm>
          <a:prstGeom prst="rect">
            <a:avLst/>
          </a:prstGeom>
          <a:ln w="0">
            <a:noFill/>
          </a:ln>
        </p:spPr>
      </p:pic>
      <p:pic>
        <p:nvPicPr>
          <p:cNvPr id="1166" name="" descr=""/>
          <p:cNvPicPr/>
          <p:nvPr/>
        </p:nvPicPr>
        <p:blipFill>
          <a:blip r:embed="rId24"/>
          <a:srcRect l="26724" t="31411" r="28352" b="34539"/>
          <a:stretch/>
        </p:blipFill>
        <p:spPr>
          <a:xfrm>
            <a:off x="2638440" y="5578560"/>
            <a:ext cx="344520" cy="26028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/>
          <p:nvPr/>
        </p:nvSpPr>
        <p:spPr>
          <a:xfrm>
            <a:off x="4016520" y="1174680"/>
            <a:ext cx="1728720" cy="54000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92" y="0"/>
                </a:lnTo>
                <a:lnTo>
                  <a:pt x="21600" y="10800"/>
                </a:lnTo>
                <a:lnTo>
                  <a:pt x="16692" y="21600"/>
                </a:lnTo>
                <a:lnTo>
                  <a:pt x="0" y="21600"/>
                </a:lnTo>
                <a:lnTo>
                  <a:pt x="4908" y="10800"/>
                </a:lnTo>
                <a:close/>
              </a:path>
            </a:pathLst>
          </a:cu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421240" y="1174680"/>
            <a:ext cx="1511280" cy="54000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9" name=""/>
          <p:cNvGraphicFramePr/>
          <p:nvPr/>
        </p:nvGraphicFramePr>
        <p:xfrm>
          <a:off x="3836880" y="3844800"/>
          <a:ext cx="2374920" cy="2262240"/>
        </p:xfrm>
        <a:graphic>
          <a:graphicData uri="http://schemas.openxmlformats.org/drawingml/2006/table">
            <a:tbl>
              <a:tblPr/>
              <a:tblGrid>
                <a:gridCol w="585720"/>
                <a:gridCol w="1789200"/>
              </a:tblGrid>
              <a:tr h="32400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mod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es oder geändertes Mod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estetes Mod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 Schnittst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e Schnittst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0" name=""/>
          <p:cNvSpPr/>
          <p:nvPr/>
        </p:nvSpPr>
        <p:spPr>
          <a:xfrm>
            <a:off x="4016520" y="5241960"/>
            <a:ext cx="144360" cy="108000"/>
          </a:xfrm>
          <a:prstGeom prst="flowChartDecision">
            <a:avLst/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13200" y="4505400"/>
            <a:ext cx="318960" cy="304560"/>
          </a:xfrm>
          <a:prstGeom prst="ellipse">
            <a:avLst/>
          </a:prstGeom>
          <a:solidFill>
            <a:srgbClr val="928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305240" y="1389240"/>
            <a:ext cx="108000" cy="109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708520" y="1389240"/>
            <a:ext cx="108000" cy="109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3584520" y="1461600"/>
            <a:ext cx="755640" cy="230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 flipV="1">
            <a:off x="5781240" y="1498320"/>
            <a:ext cx="576360" cy="2266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913200" y="4846680"/>
            <a:ext cx="3189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19880" y="254160"/>
            <a:ext cx="2466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ema Regression Te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3645000" y="189396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253120" y="189396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212920" y="1614600"/>
            <a:ext cx="141768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222640" y="1614600"/>
            <a:ext cx="133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ster Kundenkonta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836880" y="1606680"/>
            <a:ext cx="141768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846600" y="1606680"/>
            <a:ext cx="1336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sten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oranschla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468760" y="1579680"/>
            <a:ext cx="141768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478480" y="1579680"/>
            <a:ext cx="1336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unden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641760" y="315288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49880" y="315288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209680" y="2873520"/>
            <a:ext cx="141768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219400" y="2873520"/>
            <a:ext cx="1336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833640" y="2865600"/>
            <a:ext cx="141768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843360" y="2865600"/>
            <a:ext cx="13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ertig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465880" y="2838600"/>
            <a:ext cx="141768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475240" y="2838600"/>
            <a:ext cx="13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ag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641760" y="449424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249880" y="449424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209680" y="4214880"/>
            <a:ext cx="141768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219400" y="4214880"/>
            <a:ext cx="13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833640" y="4206960"/>
            <a:ext cx="141768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843360" y="4206960"/>
            <a:ext cx="13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rechn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465880" y="4179960"/>
            <a:ext cx="141768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475240" y="4179960"/>
            <a:ext cx="13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Zahl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2" name=""/>
          <p:cNvCxnSpPr>
            <a:stCxn id="1184" idx="3"/>
            <a:endCxn id="1189" idx="1"/>
          </p:cNvCxnSpPr>
          <p:nvPr/>
        </p:nvCxnSpPr>
        <p:spPr>
          <a:xfrm flipH="1">
            <a:off x="2219040" y="2035080"/>
            <a:ext cx="4667760" cy="1075680"/>
          </a:xfrm>
          <a:prstGeom prst="bentConnector5">
            <a:avLst>
              <a:gd name="adj1" fmla="val -4859"/>
              <a:gd name="adj2" fmla="val 60093"/>
              <a:gd name="adj3" fmla="val 1048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3" name=""/>
          <p:cNvCxnSpPr>
            <a:stCxn id="1192" idx="3"/>
            <a:endCxn id="1196" idx="1"/>
          </p:cNvCxnSpPr>
          <p:nvPr/>
        </p:nvCxnSpPr>
        <p:spPr>
          <a:xfrm flipH="1">
            <a:off x="2208960" y="3293640"/>
            <a:ext cx="4674600" cy="1377000"/>
          </a:xfrm>
          <a:prstGeom prst="bentConnector5">
            <a:avLst>
              <a:gd name="adj1" fmla="val -4852"/>
              <a:gd name="adj2" fmla="val 49921"/>
              <a:gd name="adj3" fmla="val 1048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4" name=""/>
          <p:cNvSpPr/>
          <p:nvPr/>
        </p:nvSpPr>
        <p:spPr>
          <a:xfrm>
            <a:off x="1609560" y="1349280"/>
            <a:ext cx="5781960" cy="394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629360" y="1092240"/>
            <a:ext cx="400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nerischer Ablauf im Fertigungsberei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6437160" y="3990960"/>
            <a:ext cx="2935440" cy="1671480"/>
          </a:xfrm>
          <a:prstGeom prst="rect">
            <a:avLst/>
          </a:prstGeom>
          <a:solidFill>
            <a:srgbClr val="c0c0c0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578640" y="4503600"/>
            <a:ext cx="1166760" cy="4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932600" y="4503600"/>
            <a:ext cx="1152720" cy="4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932600" y="5089680"/>
            <a:ext cx="114480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578640" y="4040280"/>
            <a:ext cx="15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chnungswe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8491680" y="497520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707240" y="4697280"/>
            <a:ext cx="216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78640" y="4498920"/>
            <a:ext cx="931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uchung verarbei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956720" y="4497480"/>
            <a:ext cx="106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ntogebühren belas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934400" y="5062680"/>
            <a:ext cx="1082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lastungs-anzei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7280" y="1479600"/>
            <a:ext cx="70153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576680" y="254808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68440" y="1479600"/>
            <a:ext cx="1716120" cy="418464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27120" y="1662120"/>
            <a:ext cx="1611360" cy="2057400"/>
          </a:xfrm>
          <a:prstGeom prst="rightArrow">
            <a:avLst>
              <a:gd name="adj1" fmla="val 82583"/>
              <a:gd name="adj2" fmla="val 25023"/>
            </a:avLst>
          </a:prstGeom>
          <a:solidFill>
            <a:srgbClr val="969696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92200" y="2055960"/>
            <a:ext cx="128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ukunde ist an Geschäfts-beziehung mit der Bank interessie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229360" y="2071800"/>
            <a:ext cx="114300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940520" y="2071800"/>
            <a:ext cx="114624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580080" y="2071800"/>
            <a:ext cx="117792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221440" y="1592280"/>
            <a:ext cx="1144440" cy="29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580080" y="1592280"/>
            <a:ext cx="1170000" cy="29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237280" y="2728800"/>
            <a:ext cx="11286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940520" y="3086280"/>
            <a:ext cx="1146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940520" y="3443400"/>
            <a:ext cx="11462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830760" y="2071800"/>
            <a:ext cx="1144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30760" y="2031840"/>
            <a:ext cx="1216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terschriften-karten unterschreiben (Vertrag, Vollmachten, I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229360" y="2071800"/>
            <a:ext cx="107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nto eröffn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580080" y="2023920"/>
            <a:ext cx="1074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nstleistung eröffnen (Karten, e-Banking 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940520" y="2071800"/>
            <a:ext cx="1076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inzahlung verarbei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229360" y="1592280"/>
            <a:ext cx="107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Zahlungskonto: Privatko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595920" y="1592280"/>
            <a:ext cx="1074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Maestroka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836880" y="3086280"/>
            <a:ext cx="1146240" cy="4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36880" y="3086280"/>
            <a:ext cx="1074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nstleistung-vertra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221440" y="2728800"/>
            <a:ext cx="107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nto-eröffnungs-bestätig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940520" y="3087720"/>
            <a:ext cx="107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ostenausz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940520" y="3443400"/>
            <a:ext cx="107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ntoausz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637080" y="235116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998960" y="23511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365880" y="235728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743960" y="235728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22920" y="254808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722920" y="189216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8083440" y="254808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153200" y="189216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8515440" y="3025800"/>
            <a:ext cx="0" cy="60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8871120" y="3384720"/>
            <a:ext cx="0" cy="58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8515440" y="254808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8871120" y="254808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8871120" y="3025800"/>
            <a:ext cx="0" cy="60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476440" y="1527120"/>
            <a:ext cx="15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undengewin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9085320" y="2311560"/>
            <a:ext cx="1429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9228240" y="2311560"/>
            <a:ext cx="3240" cy="1616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2833200" y="3916440"/>
            <a:ext cx="63896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827440" y="4754520"/>
            <a:ext cx="9316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789360" y="3983040"/>
            <a:ext cx="1289160" cy="1681200"/>
          </a:xfrm>
          <a:prstGeom prst="rect">
            <a:avLst/>
          </a:prstGeom>
          <a:solidFill>
            <a:srgbClr val="c0c0c0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830760" y="4441680"/>
            <a:ext cx="1144440" cy="4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828960" y="4435560"/>
            <a:ext cx="107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WG/ V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828960" y="5118120"/>
            <a:ext cx="11448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43360" y="3995640"/>
            <a:ext cx="157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cht &amp; Comp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828960" y="5126040"/>
            <a:ext cx="107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rmular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392720" y="49276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076720" y="4764240"/>
            <a:ext cx="146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27440" y="3908520"/>
            <a:ext cx="0" cy="847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479680" y="2071800"/>
            <a:ext cx="114300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479680" y="2071800"/>
            <a:ext cx="1071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ratung (Bedürfnis-Check). Angebot erstell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2040" y="1314360"/>
            <a:ext cx="9134640" cy="45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940520" y="2643120"/>
            <a:ext cx="11462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940520" y="2625840"/>
            <a:ext cx="1076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inzahlungs-beleg (Kass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19760" y="1066680"/>
            <a:ext cx="265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-to-E Testfall „Neukunde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8007480" y="1930320"/>
            <a:ext cx="1303200" cy="1928880"/>
          </a:xfrm>
          <a:prstGeom prst="rect">
            <a:avLst/>
          </a:prstGeom>
          <a:solidFill>
            <a:srgbClr val="c0c0c0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007480" y="193032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chnungswe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769240" y="3137040"/>
            <a:ext cx="128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354400" y="1930320"/>
            <a:ext cx="4203720" cy="1928880"/>
          </a:xfrm>
          <a:prstGeom prst="rect">
            <a:avLst/>
          </a:prstGeom>
          <a:solidFill>
            <a:srgbClr val="c0c0c0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42880" y="1920960"/>
            <a:ext cx="1738440" cy="193968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66640" y="1927080"/>
            <a:ext cx="1677960" cy="1582920"/>
          </a:xfrm>
          <a:prstGeom prst="rightArrow">
            <a:avLst>
              <a:gd name="adj1" fmla="val 82194"/>
              <a:gd name="adj2" fmla="val 29686"/>
            </a:avLst>
          </a:prstGeom>
          <a:solidFill>
            <a:srgbClr val="969696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68440" y="2235240"/>
            <a:ext cx="1301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unde hat Bedürfnis Steuern zu spa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261040" y="2714760"/>
            <a:ext cx="1158840" cy="51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498760" y="2252520"/>
            <a:ext cx="116028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844800" y="2714760"/>
            <a:ext cx="1158840" cy="66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844800" y="2714760"/>
            <a:ext cx="123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trag zur Eröffnung eines Vorsorgekon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253120" y="2724120"/>
            <a:ext cx="108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nto eröffn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498760" y="2252520"/>
            <a:ext cx="10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Sparprodukte gebun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651120" y="29574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027760" y="29574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006720" y="259560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378160" y="1916280"/>
            <a:ext cx="159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undenbetreu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637320" y="1930320"/>
            <a:ext cx="1306440" cy="1928880"/>
          </a:xfrm>
          <a:prstGeom prst="rect">
            <a:avLst/>
          </a:prstGeom>
          <a:solidFill>
            <a:srgbClr val="c0c0c0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696000" y="2724120"/>
            <a:ext cx="1157400" cy="5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694560" y="2755800"/>
            <a:ext cx="108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gütung bis max. Beitra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607080" y="1930320"/>
            <a:ext cx="159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Zah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413400" y="297972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478240" y="2714760"/>
            <a:ext cx="1157040" cy="51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478240" y="2714760"/>
            <a:ext cx="108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rat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078760" y="2724120"/>
            <a:ext cx="1158840" cy="5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8078760" y="2724120"/>
            <a:ext cx="101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uchung verarbei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8078760" y="3363840"/>
            <a:ext cx="116064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8658360" y="323532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8078760" y="3363840"/>
            <a:ext cx="108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apital-bestätig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839000" y="3005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87360" y="1763640"/>
            <a:ext cx="9058320" cy="221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85920" y="1541520"/>
            <a:ext cx="3153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-to-E Testfall „Steuern sparen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6461280" y="3346560"/>
            <a:ext cx="2844720" cy="1841400"/>
          </a:xfrm>
          <a:prstGeom prst="rect">
            <a:avLst/>
          </a:prstGeom>
          <a:solidFill>
            <a:srgbClr val="c0c0c0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578640" y="3800520"/>
            <a:ext cx="11318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923240" y="3800520"/>
            <a:ext cx="111456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913520" y="4444920"/>
            <a:ext cx="11242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585120" y="3346560"/>
            <a:ext cx="155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chnungswe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426520" y="4272120"/>
            <a:ext cx="0" cy="172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694640" y="404964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710400" y="380052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uchung verarbei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932600" y="3819600"/>
            <a:ext cx="110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potgebühren belas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915320" y="4444920"/>
            <a:ext cx="1068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lastungs-anzei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378160" y="1511280"/>
            <a:ext cx="6927840" cy="1608120"/>
          </a:xfrm>
          <a:prstGeom prst="rect">
            <a:avLst/>
          </a:prstGeom>
          <a:solidFill>
            <a:srgbClr val="c0c0c0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1280" y="1511280"/>
            <a:ext cx="1693800" cy="366408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9960" y="1862280"/>
            <a:ext cx="1589040" cy="1879560"/>
          </a:xfrm>
          <a:prstGeom prst="rightArrow">
            <a:avLst>
              <a:gd name="adj1" fmla="val 83019"/>
              <a:gd name="adj2" fmla="val 28671"/>
            </a:avLst>
          </a:prstGeom>
          <a:solidFill>
            <a:srgbClr val="969696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35040" y="2090880"/>
            <a:ext cx="117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unde möchte Geld aus Erbschaft anle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211720" y="2027160"/>
            <a:ext cx="1130400" cy="7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893000" y="2027160"/>
            <a:ext cx="11318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550200" y="2027160"/>
            <a:ext cx="11602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862440" y="1568520"/>
            <a:ext cx="11304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550200" y="2660760"/>
            <a:ext cx="11286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832200" y="2027160"/>
            <a:ext cx="1130400" cy="6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2200" y="2027160"/>
            <a:ext cx="120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ratung, Finanzplanung durchfüh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211720" y="2027160"/>
            <a:ext cx="106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lageaufträge erstell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605640" y="2050920"/>
            <a:ext cx="106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pot eröffn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893000" y="2027160"/>
            <a:ext cx="106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fassung Börsenaufträ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68560" y="1568520"/>
            <a:ext cx="10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Produktgruppe Bör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594480" y="264492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ntoeröffnungs-bestätig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643200" y="2297160"/>
            <a:ext cx="21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986360" y="2297160"/>
            <a:ext cx="21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335640" y="230364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694640" y="23036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091280" y="2487600"/>
            <a:ext cx="0" cy="17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357800" y="185580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401920" y="1498680"/>
            <a:ext cx="155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undenbetreu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9023400" y="2259000"/>
            <a:ext cx="1396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9163080" y="2259000"/>
            <a:ext cx="0" cy="97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2377800" y="3235320"/>
            <a:ext cx="67849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378160" y="4038480"/>
            <a:ext cx="4237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825640" y="3346560"/>
            <a:ext cx="1271520" cy="1838160"/>
          </a:xfrm>
          <a:prstGeom prst="rect">
            <a:avLst/>
          </a:prstGeom>
          <a:solidFill>
            <a:srgbClr val="c0c0c0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881440" y="3787920"/>
            <a:ext cx="1130040" cy="46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879640" y="3781440"/>
            <a:ext cx="10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iteleinbuch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887560" y="4438800"/>
            <a:ext cx="111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793960" y="333360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a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879640" y="4444920"/>
            <a:ext cx="111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aufabrechn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421080" y="4254480"/>
            <a:ext cx="0" cy="17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257800" y="4037040"/>
            <a:ext cx="134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378160" y="3235320"/>
            <a:ext cx="0" cy="803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498760" y="2027160"/>
            <a:ext cx="113040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498760" y="2003400"/>
            <a:ext cx="1120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inteilung in Kundensegment überprüfen / anpas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583160" y="3359160"/>
            <a:ext cx="1272960" cy="1825560"/>
          </a:xfrm>
          <a:prstGeom prst="rect">
            <a:avLst/>
          </a:prstGeom>
          <a:solidFill>
            <a:srgbClr val="c0c0c0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640400" y="3800520"/>
            <a:ext cx="1130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638600" y="3794040"/>
            <a:ext cx="1058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pot bewer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551480" y="3346560"/>
            <a:ext cx="15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nle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905360" y="4265640"/>
            <a:ext cx="0" cy="17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29080" y="4265640"/>
            <a:ext cx="0" cy="17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003560" y="4038480"/>
            <a:ext cx="63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87440" y="1368360"/>
            <a:ext cx="8934480" cy="39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646520" y="4367160"/>
            <a:ext cx="111600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38600" y="4332240"/>
            <a:ext cx="106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mögens-ausz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646520" y="4808520"/>
            <a:ext cx="11304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646520" y="4809960"/>
            <a:ext cx="106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ntoausz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329080" y="4738680"/>
            <a:ext cx="0" cy="5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16960" y="1108080"/>
            <a:ext cx="3434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-to-E Testfall „Erbschaft anlegen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6638760" y="3166920"/>
            <a:ext cx="2826000" cy="1613160"/>
          </a:xfrm>
          <a:prstGeom prst="rect">
            <a:avLst/>
          </a:prstGeom>
          <a:solidFill>
            <a:srgbClr val="c0c0c0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710400" y="3224160"/>
            <a:ext cx="16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chnungswe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8761320" y="2414520"/>
            <a:ext cx="130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35400" y="1386000"/>
            <a:ext cx="7029360" cy="1614240"/>
          </a:xfrm>
          <a:prstGeom prst="rect">
            <a:avLst/>
          </a:prstGeom>
          <a:solidFill>
            <a:srgbClr val="c0c0c0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3880" y="1376280"/>
            <a:ext cx="1738440" cy="346248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92280" y="1625760"/>
            <a:ext cx="1633320" cy="1817640"/>
          </a:xfrm>
          <a:prstGeom prst="rightArrow">
            <a:avLst>
              <a:gd name="adj1" fmla="val 68907"/>
              <a:gd name="adj2" fmla="val 25620"/>
            </a:avLst>
          </a:prstGeom>
          <a:solidFill>
            <a:srgbClr val="969696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81120" y="2054160"/>
            <a:ext cx="1301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unde braucht Finanzierung für Haus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427800" y="2028960"/>
            <a:ext cx="1158840" cy="6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660760" y="1619280"/>
            <a:ext cx="1160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537080" y="2035080"/>
            <a:ext cx="115740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537080" y="2035080"/>
            <a:ext cx="123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reditprüf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419880" y="2035080"/>
            <a:ext cx="1085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reditakten, Pfandvertrag erstell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668680" y="1631880"/>
            <a:ext cx="108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Hypothe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643200" y="22525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884760" y="2265480"/>
            <a:ext cx="65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232080" y="192096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459160" y="1373040"/>
            <a:ext cx="159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inanz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8089920" y="2006640"/>
            <a:ext cx="1157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8088480" y="2035080"/>
            <a:ext cx="108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ussetzung Limi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695920" y="22654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620800" y="2035080"/>
            <a:ext cx="126216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638440" y="2035080"/>
            <a:ext cx="117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ratung, Kreditanbahn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594240" y="3166920"/>
            <a:ext cx="2971800" cy="1613160"/>
          </a:xfrm>
          <a:prstGeom prst="rect">
            <a:avLst/>
          </a:prstGeom>
          <a:solidFill>
            <a:srgbClr val="c0c0c0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170320" y="3684600"/>
            <a:ext cx="116064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9391680" y="2257560"/>
            <a:ext cx="0" cy="863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H="1">
            <a:off x="3158640" y="3110040"/>
            <a:ext cx="62326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159000" y="3916440"/>
            <a:ext cx="6526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159000" y="3110040"/>
            <a:ext cx="0" cy="806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80160" y="2265480"/>
            <a:ext cx="50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9245520" y="2265480"/>
            <a:ext cx="1461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8159760" y="3684600"/>
            <a:ext cx="1157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781680" y="3684600"/>
            <a:ext cx="11588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8159760" y="4287960"/>
            <a:ext cx="115884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8739360" y="414648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794040" y="3684600"/>
            <a:ext cx="1157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813120" y="3684600"/>
            <a:ext cx="101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güt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116680" y="368316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Zins-anpassung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781680" y="3684600"/>
            <a:ext cx="108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uchung verarbei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159760" y="368460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Zinsbelast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8159760" y="4319640"/>
            <a:ext cx="1093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lastungs-anzei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942320" y="3916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348240" y="39164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970520" y="3916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14440" y="1257480"/>
            <a:ext cx="9077400" cy="37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31000" y="1047600"/>
            <a:ext cx="337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-to-E Testfall „Hausfinanzierung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711360" y="1014480"/>
            <a:ext cx="8589960" cy="52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195560" y="2747880"/>
            <a:ext cx="1312560" cy="1339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am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hteck 51"/>
          <p:cNvSpPr/>
          <p:nvPr/>
        </p:nvSpPr>
        <p:spPr>
          <a:xfrm>
            <a:off x="2833560" y="1197000"/>
            <a:ext cx="3721320" cy="431640"/>
          </a:xfrm>
          <a:prstGeom prst="rect">
            <a:avLst/>
          </a:prstGeom>
          <a:solidFill>
            <a:srgbClr val="dddddd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hteck 51"/>
          <p:cNvSpPr/>
          <p:nvPr/>
        </p:nvSpPr>
        <p:spPr>
          <a:xfrm>
            <a:off x="3567240" y="1832040"/>
            <a:ext cx="2255760" cy="493560"/>
          </a:xfrm>
          <a:prstGeom prst="rect">
            <a:avLst/>
          </a:prstGeom>
          <a:solidFill>
            <a:srgbClr val="777777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jektlei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hteck 51"/>
          <p:cNvSpPr/>
          <p:nvPr/>
        </p:nvSpPr>
        <p:spPr>
          <a:xfrm>
            <a:off x="6283440" y="1832040"/>
            <a:ext cx="2076480" cy="493560"/>
          </a:xfrm>
          <a:prstGeom prst="rect">
            <a:avLst/>
          </a:prstGeom>
          <a:solidFill>
            <a:srgbClr val="777777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jekt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8" name=""/>
          <p:cNvCxnSpPr>
            <a:stCxn id="1415" idx="2"/>
            <a:endCxn id="1416" idx="0"/>
          </p:cNvCxnSpPr>
          <p:nvPr/>
        </p:nvCxnSpPr>
        <p:spPr>
          <a:xfrm flipH="1" rot="16200000">
            <a:off x="4593240" y="1729080"/>
            <a:ext cx="204120" cy="21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9" name=""/>
          <p:cNvCxnSpPr>
            <a:stCxn id="1417" idx="1"/>
            <a:endCxn id="1416" idx="3"/>
          </p:cNvCxnSpPr>
          <p:nvPr/>
        </p:nvCxnSpPr>
        <p:spPr>
          <a:xfrm rot="10800000">
            <a:off x="5822280" y="2079000"/>
            <a:ext cx="46116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20" name="Rechteck 51"/>
          <p:cNvSpPr/>
          <p:nvPr/>
        </p:nvSpPr>
        <p:spPr>
          <a:xfrm>
            <a:off x="1020600" y="1833480"/>
            <a:ext cx="2076480" cy="493920"/>
          </a:xfrm>
          <a:prstGeom prst="rect">
            <a:avLst/>
          </a:prstGeom>
          <a:solidFill>
            <a:srgbClr val="777777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Qualitätssich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1" name=""/>
          <p:cNvCxnSpPr>
            <a:stCxn id="1416" idx="1"/>
            <a:endCxn id="1420" idx="3"/>
          </p:cNvCxnSpPr>
          <p:nvPr/>
        </p:nvCxnSpPr>
        <p:spPr>
          <a:xfrm flipV="1" rot="10800000">
            <a:off x="3096360" y="2079360"/>
            <a:ext cx="470880" cy="2160"/>
          </a:xfrm>
          <a:prstGeom prst="bentConnector3">
            <a:avLst>
              <a:gd name="adj1" fmla="val 4996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422" name=""/>
          <p:cNvSpPr/>
          <p:nvPr/>
        </p:nvSpPr>
        <p:spPr>
          <a:xfrm>
            <a:off x="1386000" y="3406680"/>
            <a:ext cx="1000080" cy="5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898720" y="2747880"/>
            <a:ext cx="1312920" cy="1339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am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089160" y="3406680"/>
            <a:ext cx="1000080" cy="5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880320" y="2747880"/>
            <a:ext cx="1312920" cy="1339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am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070760" y="3406680"/>
            <a:ext cx="1000080" cy="5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ing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rot="10800000">
            <a:off x="4965120" y="3031920"/>
            <a:ext cx="4838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8339040" y="2652840"/>
            <a:ext cx="314280" cy="1457280"/>
          </a:xfrm>
          <a:custGeom>
            <a:avLst/>
            <a:gdLst>
              <a:gd name="textAreaLeft" fmla="*/ 0 w 314280"/>
              <a:gd name="textAreaRight" fmla="*/ 113400 w 31428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rot="5400000">
            <a:off x="8465040" y="3150000"/>
            <a:ext cx="11923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chthe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0" name=""/>
          <p:cNvCxnSpPr>
            <a:stCxn id="1416" idx="2"/>
            <a:endCxn id="1414" idx="0"/>
          </p:cNvCxnSpPr>
          <p:nvPr/>
        </p:nvCxnSpPr>
        <p:spPr>
          <a:xfrm rot="5400000">
            <a:off x="3062520" y="1114920"/>
            <a:ext cx="423000" cy="2844000"/>
          </a:xfrm>
          <a:prstGeom prst="bentConnector3">
            <a:avLst>
              <a:gd name="adj1" fmla="val 49574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31" name=""/>
          <p:cNvCxnSpPr>
            <a:stCxn id="1416" idx="2"/>
            <a:endCxn id="1425" idx="0"/>
          </p:cNvCxnSpPr>
          <p:nvPr/>
        </p:nvCxnSpPr>
        <p:spPr>
          <a:xfrm flipH="1" rot="16200000">
            <a:off x="5904360" y="1115640"/>
            <a:ext cx="423000" cy="2842200"/>
          </a:xfrm>
          <a:prstGeom prst="bentConnector3">
            <a:avLst>
              <a:gd name="adj1" fmla="val 49574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32" name=""/>
          <p:cNvCxnSpPr>
            <a:stCxn id="1416" idx="2"/>
            <a:endCxn id="1423" idx="0"/>
          </p:cNvCxnSpPr>
          <p:nvPr/>
        </p:nvCxnSpPr>
        <p:spPr>
          <a:xfrm rot="5400000">
            <a:off x="3914280" y="1966680"/>
            <a:ext cx="423000" cy="1140480"/>
          </a:xfrm>
          <a:prstGeom prst="bentConnector3">
            <a:avLst>
              <a:gd name="adj1" fmla="val 49574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433" name=""/>
          <p:cNvSpPr/>
          <p:nvPr/>
        </p:nvSpPr>
        <p:spPr>
          <a:xfrm>
            <a:off x="1203480" y="4260960"/>
            <a:ext cx="6970680" cy="4064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T-Team 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rot="16200000">
            <a:off x="4412520" y="5118840"/>
            <a:ext cx="4838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8356680" y="4251240"/>
            <a:ext cx="314280" cy="1838520"/>
          </a:xfrm>
          <a:custGeom>
            <a:avLst/>
            <a:gdLst>
              <a:gd name="textAreaLeft" fmla="*/ 0 w 314280"/>
              <a:gd name="textAreaRight" fmla="*/ 113400 w 314280"/>
              <a:gd name="textAreaTop" fmla="*/ 47880 h 1838520"/>
              <a:gd name="textAreaBottom" fmla="*/ 1790640 h 183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rot="5400000">
            <a:off x="8566920" y="4742640"/>
            <a:ext cx="10234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T-The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192320" y="4754520"/>
            <a:ext cx="6970680" cy="4064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T-Team 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257480" y="5695920"/>
            <a:ext cx="6970680" cy="4064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T-Team (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425840" y="3274920"/>
            <a:ext cx="1228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st  Verantwortli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4316400" y="3308400"/>
            <a:ext cx="108000" cy="212400"/>
            <a:chOff x="4316400" y="3308400"/>
            <a:chExt cx="108000" cy="212400"/>
          </a:xfrm>
        </p:grpSpPr>
        <p:sp>
          <p:nvSpPr>
            <p:cNvPr id="1441" name=""/>
            <p:cNvSpPr/>
            <p:nvPr/>
          </p:nvSpPr>
          <p:spPr>
            <a:xfrm>
              <a:off x="4331520" y="3308400"/>
              <a:ext cx="73800" cy="65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367880" y="3373560"/>
              <a:ext cx="0" cy="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367880" y="3460680"/>
              <a:ext cx="3924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4327560" y="3460680"/>
              <a:ext cx="3888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V="1">
              <a:off x="4316400" y="3408840"/>
              <a:ext cx="108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4313160" y="2698920"/>
            <a:ext cx="108000" cy="212400"/>
            <a:chOff x="4313160" y="2698920"/>
            <a:chExt cx="108000" cy="212400"/>
          </a:xfrm>
        </p:grpSpPr>
        <p:sp>
          <p:nvSpPr>
            <p:cNvPr id="1447" name=""/>
            <p:cNvSpPr/>
            <p:nvPr/>
          </p:nvSpPr>
          <p:spPr>
            <a:xfrm>
              <a:off x="4328280" y="2698920"/>
              <a:ext cx="73800" cy="65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364640" y="2764080"/>
              <a:ext cx="0" cy="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364640" y="2851200"/>
              <a:ext cx="3924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4324320" y="2851200"/>
              <a:ext cx="3888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4313160" y="2799360"/>
              <a:ext cx="108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2" name=""/>
          <p:cNvSpPr/>
          <p:nvPr/>
        </p:nvSpPr>
        <p:spPr>
          <a:xfrm>
            <a:off x="4419720" y="2657520"/>
            <a:ext cx="954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amlei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5565600" y="4867200"/>
            <a:ext cx="108000" cy="212400"/>
            <a:chOff x="5565600" y="4867200"/>
            <a:chExt cx="108000" cy="212400"/>
          </a:xfrm>
        </p:grpSpPr>
        <p:sp>
          <p:nvSpPr>
            <p:cNvPr id="1454" name=""/>
            <p:cNvSpPr/>
            <p:nvPr/>
          </p:nvSpPr>
          <p:spPr>
            <a:xfrm>
              <a:off x="5580720" y="4867200"/>
              <a:ext cx="73800" cy="65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17080" y="4932360"/>
              <a:ext cx="0" cy="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17080" y="5019480"/>
              <a:ext cx="3924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5576760" y="5019480"/>
              <a:ext cx="3888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5565600" y="4967640"/>
              <a:ext cx="108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9" name=""/>
          <p:cNvSpPr/>
          <p:nvPr/>
        </p:nvSpPr>
        <p:spPr>
          <a:xfrm>
            <a:off x="5775480" y="4791240"/>
            <a:ext cx="954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amlei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86480" y="5778360"/>
            <a:ext cx="108000" cy="212400"/>
            <a:chOff x="5586480" y="5778360"/>
            <a:chExt cx="108000" cy="212400"/>
          </a:xfrm>
        </p:grpSpPr>
        <p:sp>
          <p:nvSpPr>
            <p:cNvPr id="1461" name=""/>
            <p:cNvSpPr/>
            <p:nvPr/>
          </p:nvSpPr>
          <p:spPr>
            <a:xfrm>
              <a:off x="5601600" y="5778360"/>
              <a:ext cx="73800" cy="65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637960" y="5843520"/>
              <a:ext cx="0" cy="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637960" y="5930640"/>
              <a:ext cx="3924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5597640" y="5930640"/>
              <a:ext cx="3888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5586480" y="5878800"/>
              <a:ext cx="108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6" name=""/>
          <p:cNvSpPr/>
          <p:nvPr/>
        </p:nvSpPr>
        <p:spPr>
          <a:xfrm>
            <a:off x="5796000" y="5702400"/>
            <a:ext cx="954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amlei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5572080" y="4390920"/>
            <a:ext cx="108000" cy="212400"/>
            <a:chOff x="5572080" y="4390920"/>
            <a:chExt cx="108000" cy="212400"/>
          </a:xfrm>
        </p:grpSpPr>
        <p:sp>
          <p:nvSpPr>
            <p:cNvPr id="1468" name=""/>
            <p:cNvSpPr/>
            <p:nvPr/>
          </p:nvSpPr>
          <p:spPr>
            <a:xfrm>
              <a:off x="5587200" y="4390920"/>
              <a:ext cx="73800" cy="65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623560" y="4456080"/>
              <a:ext cx="0" cy="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623560" y="4543200"/>
              <a:ext cx="3924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5583240" y="4543200"/>
              <a:ext cx="3888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5572080" y="4491360"/>
              <a:ext cx="108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5781600" y="4314960"/>
            <a:ext cx="954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amlei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4302000" y="3659040"/>
            <a:ext cx="108000" cy="212400"/>
            <a:chOff x="4302000" y="3659040"/>
            <a:chExt cx="108000" cy="212400"/>
          </a:xfrm>
        </p:grpSpPr>
        <p:sp>
          <p:nvSpPr>
            <p:cNvPr id="1475" name=""/>
            <p:cNvSpPr/>
            <p:nvPr/>
          </p:nvSpPr>
          <p:spPr>
            <a:xfrm>
              <a:off x="4317120" y="3659040"/>
              <a:ext cx="73800" cy="65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353480" y="3724200"/>
              <a:ext cx="0" cy="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353480" y="3811320"/>
              <a:ext cx="3924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4313160" y="3811320"/>
              <a:ext cx="3888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V="1">
              <a:off x="4302000" y="3759480"/>
              <a:ext cx="108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4519440" y="3681360"/>
            <a:ext cx="108000" cy="212400"/>
            <a:chOff x="4519440" y="3681360"/>
            <a:chExt cx="108000" cy="212400"/>
          </a:xfrm>
        </p:grpSpPr>
        <p:sp>
          <p:nvSpPr>
            <p:cNvPr id="1481" name=""/>
            <p:cNvSpPr/>
            <p:nvPr/>
          </p:nvSpPr>
          <p:spPr>
            <a:xfrm>
              <a:off x="4534560" y="3681360"/>
              <a:ext cx="73800" cy="65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570920" y="3746520"/>
              <a:ext cx="0" cy="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570920" y="3833640"/>
              <a:ext cx="3924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4530600" y="3833640"/>
              <a:ext cx="3888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4519440" y="3781800"/>
              <a:ext cx="108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4713120" y="3670200"/>
            <a:ext cx="108000" cy="212400"/>
            <a:chOff x="4713120" y="3670200"/>
            <a:chExt cx="108000" cy="212400"/>
          </a:xfrm>
        </p:grpSpPr>
        <p:sp>
          <p:nvSpPr>
            <p:cNvPr id="1487" name=""/>
            <p:cNvSpPr/>
            <p:nvPr/>
          </p:nvSpPr>
          <p:spPr>
            <a:xfrm>
              <a:off x="4728240" y="3670200"/>
              <a:ext cx="73800" cy="65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764600" y="3735360"/>
              <a:ext cx="0" cy="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64600" y="3822480"/>
              <a:ext cx="3924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4724280" y="3822480"/>
              <a:ext cx="3888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V="1">
              <a:off x="4713120" y="3770640"/>
              <a:ext cx="108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2" name=""/>
          <p:cNvGrpSpPr/>
          <p:nvPr/>
        </p:nvGrpSpPr>
        <p:grpSpPr>
          <a:xfrm>
            <a:off x="4896000" y="3672000"/>
            <a:ext cx="107640" cy="212400"/>
            <a:chOff x="4896000" y="3672000"/>
            <a:chExt cx="107640" cy="212400"/>
          </a:xfrm>
        </p:grpSpPr>
        <p:sp>
          <p:nvSpPr>
            <p:cNvPr id="1493" name=""/>
            <p:cNvSpPr/>
            <p:nvPr/>
          </p:nvSpPr>
          <p:spPr>
            <a:xfrm>
              <a:off x="4911120" y="3672000"/>
              <a:ext cx="73440" cy="65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947480" y="3737160"/>
              <a:ext cx="0" cy="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947480" y="3824280"/>
              <a:ext cx="3888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4907160" y="3824280"/>
              <a:ext cx="3888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V="1">
              <a:off x="4896000" y="3772440"/>
              <a:ext cx="107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8" name=""/>
          <p:cNvSpPr/>
          <p:nvPr/>
        </p:nvSpPr>
        <p:spPr>
          <a:xfrm>
            <a:off x="5245200" y="3592440"/>
            <a:ext cx="1228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rot="10800000">
            <a:off x="4818240" y="3543480"/>
            <a:ext cx="482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233360" y="2062080"/>
            <a:ext cx="1228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ffffff"/>
                </a:solidFill>
                <a:latin typeface="Arial"/>
              </a:rPr>
              <a:t>Test 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1157400" y="2139840"/>
            <a:ext cx="108000" cy="212400"/>
            <a:chOff x="1157400" y="2139840"/>
            <a:chExt cx="108000" cy="212400"/>
          </a:xfrm>
        </p:grpSpPr>
        <p:sp>
          <p:nvSpPr>
            <p:cNvPr id="1502" name=""/>
            <p:cNvSpPr/>
            <p:nvPr/>
          </p:nvSpPr>
          <p:spPr>
            <a:xfrm>
              <a:off x="1172520" y="2139840"/>
              <a:ext cx="73800" cy="65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208880" y="2205000"/>
              <a:ext cx="0" cy="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208880" y="2292120"/>
              <a:ext cx="3924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1168560" y="2292120"/>
              <a:ext cx="3888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1157400" y="2240280"/>
              <a:ext cx="108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7" name=""/>
          <p:cNvSpPr/>
          <p:nvPr/>
        </p:nvSpPr>
        <p:spPr>
          <a:xfrm>
            <a:off x="3767040" y="2058840"/>
            <a:ext cx="1228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ffffff"/>
                </a:solidFill>
                <a:latin typeface="Arial"/>
              </a:rPr>
              <a:t>Projektlei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3691080" y="2136600"/>
            <a:ext cx="107640" cy="212400"/>
            <a:chOff x="3691080" y="2136600"/>
            <a:chExt cx="107640" cy="212400"/>
          </a:xfrm>
        </p:grpSpPr>
        <p:sp>
          <p:nvSpPr>
            <p:cNvPr id="1509" name=""/>
            <p:cNvSpPr/>
            <p:nvPr/>
          </p:nvSpPr>
          <p:spPr>
            <a:xfrm>
              <a:off x="3706200" y="2136600"/>
              <a:ext cx="73440" cy="65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742560" y="2201760"/>
              <a:ext cx="0" cy="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742560" y="2288880"/>
              <a:ext cx="3888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702240" y="2288880"/>
              <a:ext cx="3888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3691080" y="2237040"/>
              <a:ext cx="107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4" name=""/>
          <p:cNvSpPr/>
          <p:nvPr/>
        </p:nvSpPr>
        <p:spPr>
          <a:xfrm>
            <a:off x="746640" y="785880"/>
            <a:ext cx="709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jektorganigramm mit einer dezentralen Testing-Organisationsstruktu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125280" y="919080"/>
            <a:ext cx="9609120" cy="51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844640" y="2225520"/>
            <a:ext cx="4183200" cy="2692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33520" y="2225520"/>
            <a:ext cx="1312920" cy="2692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hteck 51"/>
          <p:cNvSpPr/>
          <p:nvPr/>
        </p:nvSpPr>
        <p:spPr>
          <a:xfrm>
            <a:off x="219240" y="1082520"/>
            <a:ext cx="3720960" cy="432000"/>
          </a:xfrm>
          <a:prstGeom prst="rect">
            <a:avLst/>
          </a:prstGeom>
          <a:solidFill>
            <a:srgbClr val="dddddd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ahr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hteck 51"/>
          <p:cNvSpPr/>
          <p:nvPr/>
        </p:nvSpPr>
        <p:spPr>
          <a:xfrm>
            <a:off x="3940200" y="1082520"/>
            <a:ext cx="4165560" cy="432000"/>
          </a:xfrm>
          <a:prstGeom prst="rect">
            <a:avLst/>
          </a:prstGeom>
          <a:solidFill>
            <a:srgbClr val="dddddd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ahr 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hteck 51"/>
          <p:cNvSpPr/>
          <p:nvPr/>
        </p:nvSpPr>
        <p:spPr>
          <a:xfrm>
            <a:off x="1851120" y="1746360"/>
            <a:ext cx="4170240" cy="493560"/>
          </a:xfrm>
          <a:prstGeom prst="rect">
            <a:avLst/>
          </a:prstGeom>
          <a:solidFill>
            <a:srgbClr val="777777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Realisi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hteck 51"/>
          <p:cNvSpPr/>
          <p:nvPr/>
        </p:nvSpPr>
        <p:spPr>
          <a:xfrm>
            <a:off x="6021360" y="1743120"/>
            <a:ext cx="2076480" cy="493560"/>
          </a:xfrm>
          <a:prstGeom prst="rect">
            <a:avLst/>
          </a:prstGeom>
          <a:solidFill>
            <a:srgbClr val="777777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infüh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925880" y="4986360"/>
            <a:ext cx="103536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ntwicklung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ree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hteck 51"/>
          <p:cNvSpPr/>
          <p:nvPr/>
        </p:nvSpPr>
        <p:spPr>
          <a:xfrm>
            <a:off x="522360" y="1746360"/>
            <a:ext cx="1328760" cy="492120"/>
          </a:xfrm>
          <a:prstGeom prst="rect">
            <a:avLst/>
          </a:prstGeom>
          <a:solidFill>
            <a:srgbClr val="777777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Konz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493040" y="5316480"/>
            <a:ext cx="165240" cy="216000"/>
          </a:xfrm>
          <a:prstGeom prst="diamond">
            <a:avLst/>
          </a:prstGeom>
          <a:solidFill>
            <a:srgbClr val="ff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002000" y="4927680"/>
            <a:ext cx="105228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gn-Of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nahme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hteck 51"/>
          <p:cNvSpPr/>
          <p:nvPr/>
        </p:nvSpPr>
        <p:spPr>
          <a:xfrm>
            <a:off x="8104320" y="1082520"/>
            <a:ext cx="1452600" cy="432000"/>
          </a:xfrm>
          <a:prstGeom prst="rect">
            <a:avLst/>
          </a:prstGeom>
          <a:solidFill>
            <a:srgbClr val="dddddd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ahr n+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973760" y="1517760"/>
            <a:ext cx="1039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935520" y="1514520"/>
            <a:ext cx="1039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016680" y="1514520"/>
            <a:ext cx="1039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056360" y="1512720"/>
            <a:ext cx="1040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8096400" y="1517760"/>
            <a:ext cx="1039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892600" y="1514520"/>
            <a:ext cx="1039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852560" y="1517760"/>
            <a:ext cx="1040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809640" y="1514520"/>
            <a:ext cx="1039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Rechteck 51"/>
          <p:cNvSpPr/>
          <p:nvPr/>
        </p:nvSpPr>
        <p:spPr>
          <a:xfrm>
            <a:off x="8099280" y="1746360"/>
            <a:ext cx="1032120" cy="493560"/>
          </a:xfrm>
          <a:prstGeom prst="rect">
            <a:avLst/>
          </a:prstGeom>
          <a:solidFill>
            <a:srgbClr val="777777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abili-si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8094600" y="2239920"/>
            <a:ext cx="1046160" cy="266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033960" y="2246400"/>
            <a:ext cx="2049480" cy="26542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33520" y="4910040"/>
            <a:ext cx="8619840" cy="96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26760" y="4643280"/>
            <a:ext cx="9180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Meilenste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847880" y="2243160"/>
            <a:ext cx="9360" cy="375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027840" y="2222640"/>
            <a:ext cx="9360" cy="37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8083440" y="2211480"/>
            <a:ext cx="9720" cy="37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412640" y="5195880"/>
            <a:ext cx="9180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alisi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8005680" y="5592600"/>
            <a:ext cx="165240" cy="216000"/>
          </a:xfrm>
          <a:prstGeom prst="diamond">
            <a:avLst/>
          </a:prstGeom>
          <a:solidFill>
            <a:srgbClr val="ff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720200" y="5376960"/>
            <a:ext cx="840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oing-L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774800" y="5607000"/>
            <a:ext cx="165240" cy="216000"/>
          </a:xfrm>
          <a:prstGeom prst="diamond">
            <a:avLst/>
          </a:prstGeom>
          <a:solidFill>
            <a:srgbClr val="ff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472000" y="5416560"/>
            <a:ext cx="165240" cy="216000"/>
          </a:xfrm>
          <a:prstGeom prst="diamond">
            <a:avLst/>
          </a:prstGeom>
          <a:solidFill>
            <a:srgbClr val="ff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0120" y="2409840"/>
            <a:ext cx="12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1080" indent="-85680">
              <a:lnSpc>
                <a:spcPts val="1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85680">
              <a:lnSpc>
                <a:spcPts val="1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jektt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85680">
              <a:lnSpc>
                <a:spcPts val="1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85680">
              <a:lnSpc>
                <a:spcPts val="1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nzep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85680">
              <a:lnSpc>
                <a:spcPts val="1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flicht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85680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85680">
              <a:lnSpc>
                <a:spcPts val="1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AP Analy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227320" y="2560680"/>
            <a:ext cx="355608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1080" indent="-85680">
              <a:lnSpc>
                <a:spcPts val="1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W Entwick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85680">
              <a:lnSpc>
                <a:spcPts val="1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T Infrastrukt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85680">
              <a:lnSpc>
                <a:spcPts val="1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85680">
              <a:lnSpc>
                <a:spcPts val="1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torisier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85680">
              <a:lnSpc>
                <a:spcPts val="1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 und Planung der Schul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85680">
              <a:lnSpc>
                <a:spcPts val="1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tegrations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19200" y="2443320"/>
            <a:ext cx="0" cy="149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2217600" y="2603520"/>
            <a:ext cx="0" cy="124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149880" y="2502000"/>
            <a:ext cx="17748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1080" indent="-85680">
              <a:lnSpc>
                <a:spcPts val="1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u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85680">
              <a:lnSpc>
                <a:spcPts val="1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nah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85680">
              <a:lnSpc>
                <a:spcPts val="1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neralpro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85680">
              <a:lnSpc>
                <a:spcPts val="1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ut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85680">
              <a:lnSpc>
                <a:spcPts val="1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ssu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85680">
              <a:lnSpc>
                <a:spcPts val="1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unden-kommunik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H="1">
            <a:off x="6159600" y="2535120"/>
            <a:ext cx="9360" cy="148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129520" y="2490840"/>
            <a:ext cx="105084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1080" indent="-85680">
              <a:lnSpc>
                <a:spcPts val="1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kut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85680">
              <a:lnSpc>
                <a:spcPts val="1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85680">
              <a:lnSpc>
                <a:spcPts val="1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85680">
              <a:lnSpc>
                <a:spcPts val="1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schlu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8167680" y="2495520"/>
            <a:ext cx="0" cy="85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29240" y="709560"/>
            <a:ext cx="218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robe Projektplan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17680" y="627120"/>
            <a:ext cx="1014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staufw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65240" y="1192320"/>
            <a:ext cx="6804000" cy="360360"/>
            <a:chOff x="1065240" y="1192320"/>
            <a:chExt cx="6804000" cy="360360"/>
          </a:xfrm>
        </p:grpSpPr>
        <p:sp>
          <p:nvSpPr>
            <p:cNvPr id="132" name=""/>
            <p:cNvSpPr/>
            <p:nvPr/>
          </p:nvSpPr>
          <p:spPr>
            <a:xfrm>
              <a:off x="6573600" y="1192320"/>
              <a:ext cx="1295640" cy="360360"/>
            </a:xfrm>
            <a:prstGeom prst="rect">
              <a:avLst/>
            </a:prstGeom>
            <a:solidFill>
              <a:srgbClr val="638d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Archivier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4880" y="1192320"/>
              <a:ext cx="3528720" cy="360360"/>
            </a:xfrm>
            <a:prstGeom prst="rect">
              <a:avLst/>
            </a:prstGeom>
            <a:solidFill>
              <a:srgbClr val="638d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Benutz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5240" y="1192320"/>
              <a:ext cx="1979640" cy="360360"/>
            </a:xfrm>
            <a:prstGeom prst="rect">
              <a:avLst/>
            </a:prstGeom>
            <a:solidFill>
              <a:srgbClr val="638d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Aufba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741240" y="5549760"/>
            <a:ext cx="5659560" cy="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028880" y="902880"/>
            <a:ext cx="0" cy="5351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28880" y="2128680"/>
            <a:ext cx="936360" cy="3419640"/>
          </a:xfrm>
          <a:custGeom>
            <a:avLst/>
            <a:gdLst/>
            <a:ahLst/>
            <a:rect l="l" t="t" r="r" b="b"/>
            <a:pathLst>
              <a:path w="590" h="2154">
                <a:moveTo>
                  <a:pt x="0" y="2154"/>
                </a:moveTo>
                <a:cubicBezTo>
                  <a:pt x="193" y="1105"/>
                  <a:pt x="386" y="57"/>
                  <a:pt x="590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28880" y="2038320"/>
            <a:ext cx="4968720" cy="3510000"/>
          </a:xfrm>
          <a:custGeom>
            <a:avLst/>
            <a:gdLst/>
            <a:ahLst/>
            <a:rect l="l" t="t" r="r" b="b"/>
            <a:pathLst>
              <a:path w="3130" h="2211">
                <a:moveTo>
                  <a:pt x="0" y="2211"/>
                </a:moveTo>
                <a:cubicBezTo>
                  <a:pt x="193" y="1162"/>
                  <a:pt x="386" y="114"/>
                  <a:pt x="590" y="57"/>
                </a:cubicBezTo>
                <a:cubicBezTo>
                  <a:pt x="794" y="0"/>
                  <a:pt x="1040" y="1648"/>
                  <a:pt x="1225" y="1871"/>
                </a:cubicBezTo>
                <a:cubicBezTo>
                  <a:pt x="1410" y="2094"/>
                  <a:pt x="1542" y="1395"/>
                  <a:pt x="1701" y="1395"/>
                </a:cubicBezTo>
                <a:cubicBezTo>
                  <a:pt x="1860" y="1395"/>
                  <a:pt x="2018" y="1871"/>
                  <a:pt x="2177" y="1871"/>
                </a:cubicBezTo>
                <a:cubicBezTo>
                  <a:pt x="2336" y="1871"/>
                  <a:pt x="2495" y="1395"/>
                  <a:pt x="2654" y="1395"/>
                </a:cubicBezTo>
                <a:cubicBezTo>
                  <a:pt x="2813" y="1395"/>
                  <a:pt x="2971" y="1871"/>
                  <a:pt x="3130" y="1871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64600" y="5175360"/>
            <a:ext cx="2980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65240" y="2236320"/>
            <a:ext cx="0" cy="324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322800" y="4689360"/>
            <a:ext cx="10800" cy="787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052880" y="4325760"/>
            <a:ext cx="0" cy="115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762080" y="3807000"/>
            <a:ext cx="11160" cy="1668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492880" y="4699080"/>
            <a:ext cx="0" cy="77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213600" y="432396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149960" y="3235320"/>
            <a:ext cx="0" cy="2239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77280" y="5281560"/>
            <a:ext cx="5479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Änd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896880" y="1568520"/>
            <a:ext cx="613080" cy="559080"/>
            <a:chOff x="6896880" y="1568520"/>
            <a:chExt cx="613080" cy="559080"/>
          </a:xfrm>
        </p:grpSpPr>
        <p:sp>
          <p:nvSpPr>
            <p:cNvPr id="149" name=""/>
            <p:cNvSpPr/>
            <p:nvPr/>
          </p:nvSpPr>
          <p:spPr>
            <a:xfrm>
              <a:off x="6896880" y="1568520"/>
              <a:ext cx="5860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43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3960" y="1603080"/>
              <a:ext cx="576000" cy="215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28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675440" y="1568520"/>
            <a:ext cx="613800" cy="559080"/>
            <a:chOff x="1675440" y="1568520"/>
            <a:chExt cx="613800" cy="559080"/>
          </a:xfrm>
        </p:grpSpPr>
        <p:sp>
          <p:nvSpPr>
            <p:cNvPr id="152" name=""/>
            <p:cNvSpPr/>
            <p:nvPr/>
          </p:nvSpPr>
          <p:spPr>
            <a:xfrm>
              <a:off x="1675440" y="1568520"/>
              <a:ext cx="5860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43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2880" y="1603080"/>
              <a:ext cx="576360" cy="215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28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482000" y="1568520"/>
            <a:ext cx="613800" cy="559080"/>
            <a:chOff x="4482000" y="1568520"/>
            <a:chExt cx="613800" cy="559080"/>
          </a:xfrm>
        </p:grpSpPr>
        <p:sp>
          <p:nvSpPr>
            <p:cNvPr id="155" name=""/>
            <p:cNvSpPr/>
            <p:nvPr/>
          </p:nvSpPr>
          <p:spPr>
            <a:xfrm>
              <a:off x="4482000" y="1568520"/>
              <a:ext cx="5860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43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19440" y="1603080"/>
              <a:ext cx="576360" cy="215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28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07800" y="601560"/>
            <a:ext cx="92901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4880" y="5894280"/>
            <a:ext cx="3529080" cy="324000"/>
          </a:xfrm>
          <a:prstGeom prst="rect">
            <a:avLst/>
          </a:prstGeom>
          <a:solidFill>
            <a:srgbClr val="638d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War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5240" y="5894280"/>
            <a:ext cx="1979640" cy="324000"/>
          </a:xfrm>
          <a:prstGeom prst="rect">
            <a:avLst/>
          </a:prstGeom>
          <a:solidFill>
            <a:srgbClr val="638d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Einfüh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73960" y="5894280"/>
            <a:ext cx="1295280" cy="324000"/>
          </a:xfrm>
          <a:prstGeom prst="rect">
            <a:avLst/>
          </a:prstGeom>
          <a:solidFill>
            <a:srgbClr val="638d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tillleg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044880" y="1191960"/>
            <a:ext cx="0" cy="50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573960" y="1191960"/>
            <a:ext cx="0" cy="50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7869240" y="1191960"/>
            <a:ext cx="0" cy="50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940520" y="1191960"/>
            <a:ext cx="503280" cy="360720"/>
            <a:chOff x="7940520" y="1191960"/>
            <a:chExt cx="503280" cy="360720"/>
          </a:xfrm>
        </p:grpSpPr>
        <p:sp>
          <p:nvSpPr>
            <p:cNvPr id="165" name=""/>
            <p:cNvSpPr/>
            <p:nvPr/>
          </p:nvSpPr>
          <p:spPr>
            <a:xfrm>
              <a:off x="7954920" y="1263960"/>
              <a:ext cx="73080" cy="21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7940520" y="1191960"/>
              <a:ext cx="50328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7940520" y="1371960"/>
              <a:ext cx="50328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62840" y="1221120"/>
              <a:ext cx="42840" cy="304560"/>
            </a:xfrm>
            <a:custGeom>
              <a:avLst/>
              <a:gdLst>
                <a:gd name="textAreaLeft" fmla="*/ 12600 w 42840"/>
                <a:gd name="textAreaRight" fmla="*/ 43200 w 4284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942320" y="5857560"/>
            <a:ext cx="503280" cy="360720"/>
            <a:chOff x="7942320" y="5857560"/>
            <a:chExt cx="503280" cy="360720"/>
          </a:xfrm>
        </p:grpSpPr>
        <p:sp>
          <p:nvSpPr>
            <p:cNvPr id="170" name=""/>
            <p:cNvSpPr/>
            <p:nvPr/>
          </p:nvSpPr>
          <p:spPr>
            <a:xfrm>
              <a:off x="7956720" y="5929560"/>
              <a:ext cx="73080" cy="21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7942320" y="5857560"/>
              <a:ext cx="50328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942320" y="6037560"/>
              <a:ext cx="50328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964640" y="5886720"/>
              <a:ext cx="42840" cy="304560"/>
            </a:xfrm>
            <a:custGeom>
              <a:avLst/>
              <a:gdLst>
                <a:gd name="textAreaLeft" fmla="*/ 12600 w 42840"/>
                <a:gd name="textAreaRight" fmla="*/ 43200 w 4284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8541360" y="5659560"/>
            <a:ext cx="6544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T-Sic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514720" y="979560"/>
            <a:ext cx="9288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acheb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23840" y="2049480"/>
            <a:ext cx="2011320" cy="3494160"/>
          </a:xfrm>
          <a:custGeom>
            <a:avLst/>
            <a:gdLst/>
            <a:ahLst/>
            <a:rect l="l" t="t" r="r" b="b"/>
            <a:pathLst>
              <a:path w="1267" h="2201">
                <a:moveTo>
                  <a:pt x="0" y="2201"/>
                </a:moveTo>
                <a:cubicBezTo>
                  <a:pt x="194" y="1147"/>
                  <a:pt x="388" y="94"/>
                  <a:pt x="599" y="47"/>
                </a:cubicBezTo>
                <a:cubicBezTo>
                  <a:pt x="810" y="0"/>
                  <a:pt x="1129" y="1629"/>
                  <a:pt x="1267" y="1919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6840" y="1994040"/>
            <a:ext cx="5394600" cy="3568680"/>
          </a:xfrm>
          <a:custGeom>
            <a:avLst/>
            <a:gdLst/>
            <a:ahLst/>
            <a:rect l="l" t="t" r="r" b="b"/>
            <a:pathLst>
              <a:path w="3398" h="2248">
                <a:moveTo>
                  <a:pt x="0" y="2248"/>
                </a:moveTo>
                <a:cubicBezTo>
                  <a:pt x="207" y="1189"/>
                  <a:pt x="415" y="130"/>
                  <a:pt x="605" y="65"/>
                </a:cubicBezTo>
                <a:cubicBezTo>
                  <a:pt x="795" y="0"/>
                  <a:pt x="998" y="1590"/>
                  <a:pt x="1140" y="1856"/>
                </a:cubicBezTo>
                <a:cubicBezTo>
                  <a:pt x="1282" y="2122"/>
                  <a:pt x="1372" y="1653"/>
                  <a:pt x="1457" y="1660"/>
                </a:cubicBezTo>
                <a:cubicBezTo>
                  <a:pt x="1542" y="1667"/>
                  <a:pt x="1576" y="1941"/>
                  <a:pt x="1653" y="1897"/>
                </a:cubicBezTo>
                <a:cubicBezTo>
                  <a:pt x="1730" y="1853"/>
                  <a:pt x="1840" y="1396"/>
                  <a:pt x="1918" y="1395"/>
                </a:cubicBezTo>
                <a:cubicBezTo>
                  <a:pt x="1996" y="1394"/>
                  <a:pt x="2045" y="1945"/>
                  <a:pt x="2120" y="1891"/>
                </a:cubicBezTo>
                <a:cubicBezTo>
                  <a:pt x="2195" y="1837"/>
                  <a:pt x="2286" y="1070"/>
                  <a:pt x="2367" y="1073"/>
                </a:cubicBezTo>
                <a:cubicBezTo>
                  <a:pt x="2448" y="1076"/>
                  <a:pt x="2532" y="1811"/>
                  <a:pt x="2609" y="1908"/>
                </a:cubicBezTo>
                <a:cubicBezTo>
                  <a:pt x="2686" y="2005"/>
                  <a:pt x="2759" y="1656"/>
                  <a:pt x="2828" y="1655"/>
                </a:cubicBezTo>
                <a:cubicBezTo>
                  <a:pt x="2897" y="1654"/>
                  <a:pt x="2951" y="1943"/>
                  <a:pt x="3024" y="1902"/>
                </a:cubicBezTo>
                <a:cubicBezTo>
                  <a:pt x="3097" y="1861"/>
                  <a:pt x="3204" y="1440"/>
                  <a:pt x="3266" y="1407"/>
                </a:cubicBezTo>
                <a:cubicBezTo>
                  <a:pt x="3328" y="1374"/>
                  <a:pt x="3363" y="1537"/>
                  <a:pt x="3398" y="17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4732200"/>
            <a:ext cx="5544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11840" y="2970360"/>
            <a:ext cx="1152720" cy="2565360"/>
          </a:xfrm>
          <a:custGeom>
            <a:avLst/>
            <a:gdLst/>
            <a:ahLst/>
            <a:rect l="l" t="t" r="r" b="b"/>
            <a:pathLst>
              <a:path w="755" h="1616">
                <a:moveTo>
                  <a:pt x="755" y="1616"/>
                </a:moveTo>
                <a:cubicBezTo>
                  <a:pt x="593" y="897"/>
                  <a:pt x="431" y="178"/>
                  <a:pt x="305" y="89"/>
                </a:cubicBezTo>
                <a:cubicBezTo>
                  <a:pt x="179" y="0"/>
                  <a:pt x="89" y="540"/>
                  <a:pt x="0" y="10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663960" y="4719600"/>
            <a:ext cx="36360" cy="300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734160" y="5554800"/>
            <a:ext cx="156204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46880" y="5553000"/>
            <a:ext cx="4190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36720" y="5456160"/>
            <a:ext cx="180720" cy="181080"/>
          </a:xfrm>
          <a:prstGeom prst="ellipse">
            <a:avLst/>
          </a:pr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86800" y="5467320"/>
            <a:ext cx="180720" cy="181080"/>
          </a:xfrm>
          <a:prstGeom prst="ellipse">
            <a:avLst/>
          </a:pr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90080" y="5384880"/>
            <a:ext cx="5479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Änd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88840" y="5295960"/>
            <a:ext cx="5479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Änd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99840" y="5397480"/>
            <a:ext cx="5479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Änd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11200" y="5308560"/>
            <a:ext cx="5479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Änd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6200" y="422280"/>
            <a:ext cx="499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stbedarf gemäss Lebenszyklus eines IT-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"/>
          <p:cNvSpPr/>
          <p:nvPr/>
        </p:nvSpPr>
        <p:spPr>
          <a:xfrm>
            <a:off x="220680" y="650880"/>
            <a:ext cx="9399600" cy="537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41280" y="803160"/>
            <a:ext cx="1408320" cy="446400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rozessdomän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Kundengewinn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Kundenbetreuun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479600" y="839880"/>
            <a:ext cx="247680" cy="136440"/>
          </a:xfrm>
          <a:custGeom>
            <a:avLst/>
            <a:gdLst>
              <a:gd name="textAreaLeft" fmla="*/ 0 w 247680"/>
              <a:gd name="textAreaRight" fmla="*/ 248040 w 24768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0" name=""/>
          <p:cNvGrpSpPr/>
          <p:nvPr/>
        </p:nvGrpSpPr>
        <p:grpSpPr>
          <a:xfrm>
            <a:off x="1517760" y="863640"/>
            <a:ext cx="161640" cy="91800"/>
            <a:chOff x="1517760" y="863640"/>
            <a:chExt cx="161640" cy="91800"/>
          </a:xfrm>
        </p:grpSpPr>
        <p:sp>
          <p:nvSpPr>
            <p:cNvPr id="1561" name=""/>
            <p:cNvSpPr/>
            <p:nvPr/>
          </p:nvSpPr>
          <p:spPr>
            <a:xfrm>
              <a:off x="1550160" y="863640"/>
              <a:ext cx="129240" cy="655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00" y="0"/>
                  </a:lnTo>
                  <a:lnTo>
                    <a:pt x="21600" y="10800"/>
                  </a:lnTo>
                  <a:lnTo>
                    <a:pt x="19200" y="21600"/>
                  </a:lnTo>
                  <a:lnTo>
                    <a:pt x="0" y="21600"/>
                  </a:lnTo>
                  <a:lnTo>
                    <a:pt x="2400" y="10800"/>
                  </a:lnTo>
                  <a:close/>
                </a:path>
              </a:pathLst>
            </a:cu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517760" y="889920"/>
              <a:ext cx="129240" cy="655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00" y="0"/>
                  </a:lnTo>
                  <a:lnTo>
                    <a:pt x="21600" y="10800"/>
                  </a:lnTo>
                  <a:lnTo>
                    <a:pt x="19200" y="21600"/>
                  </a:lnTo>
                  <a:lnTo>
                    <a:pt x="0" y="21600"/>
                  </a:lnTo>
                  <a:lnTo>
                    <a:pt x="2400" y="10800"/>
                  </a:lnTo>
                  <a:close/>
                </a:path>
              </a:pathLst>
            </a:cu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3" name=""/>
          <p:cNvSpPr/>
          <p:nvPr/>
        </p:nvSpPr>
        <p:spPr>
          <a:xfrm>
            <a:off x="1930320" y="803160"/>
            <a:ext cx="4359240" cy="100800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rozessdomä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Zahl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019920" y="839880"/>
            <a:ext cx="247680" cy="136440"/>
          </a:xfrm>
          <a:custGeom>
            <a:avLst/>
            <a:gdLst>
              <a:gd name="textAreaLeft" fmla="*/ 0 w 247680"/>
              <a:gd name="textAreaRight" fmla="*/ 248040 w 24768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6058080" y="863640"/>
            <a:ext cx="161640" cy="91800"/>
            <a:chOff x="6058080" y="863640"/>
            <a:chExt cx="161640" cy="91800"/>
          </a:xfrm>
        </p:grpSpPr>
        <p:sp>
          <p:nvSpPr>
            <p:cNvPr id="1566" name=""/>
            <p:cNvSpPr/>
            <p:nvPr/>
          </p:nvSpPr>
          <p:spPr>
            <a:xfrm>
              <a:off x="6090480" y="863640"/>
              <a:ext cx="129240" cy="655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00" y="0"/>
                  </a:lnTo>
                  <a:lnTo>
                    <a:pt x="21600" y="10800"/>
                  </a:lnTo>
                  <a:lnTo>
                    <a:pt x="19200" y="21600"/>
                  </a:lnTo>
                  <a:lnTo>
                    <a:pt x="0" y="21600"/>
                  </a:lnTo>
                  <a:lnTo>
                    <a:pt x="2400" y="10800"/>
                  </a:lnTo>
                  <a:close/>
                </a:path>
              </a:pathLst>
            </a:cu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058080" y="889920"/>
              <a:ext cx="129240" cy="655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00" y="0"/>
                  </a:lnTo>
                  <a:lnTo>
                    <a:pt x="21600" y="10800"/>
                  </a:lnTo>
                  <a:lnTo>
                    <a:pt x="19200" y="21600"/>
                  </a:lnTo>
                  <a:lnTo>
                    <a:pt x="0" y="21600"/>
                  </a:lnTo>
                  <a:lnTo>
                    <a:pt x="2400" y="10800"/>
                  </a:lnTo>
                  <a:close/>
                </a:path>
              </a:pathLst>
            </a:cu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8" name=""/>
          <p:cNvSpPr/>
          <p:nvPr/>
        </p:nvSpPr>
        <p:spPr>
          <a:xfrm>
            <a:off x="1928880" y="1955880"/>
            <a:ext cx="4362480" cy="100800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rozessdomäne 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Finanzieren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021360" y="1992240"/>
            <a:ext cx="247680" cy="136440"/>
          </a:xfrm>
          <a:custGeom>
            <a:avLst/>
            <a:gdLst>
              <a:gd name="textAreaLeft" fmla="*/ 0 w 247680"/>
              <a:gd name="textAreaRight" fmla="*/ 248040 w 24768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6059520" y="2016000"/>
            <a:ext cx="162000" cy="91800"/>
            <a:chOff x="6059520" y="2016000"/>
            <a:chExt cx="162000" cy="91800"/>
          </a:xfrm>
        </p:grpSpPr>
        <p:sp>
          <p:nvSpPr>
            <p:cNvPr id="1571" name=""/>
            <p:cNvSpPr/>
            <p:nvPr/>
          </p:nvSpPr>
          <p:spPr>
            <a:xfrm>
              <a:off x="6091920" y="2016000"/>
              <a:ext cx="129600" cy="6552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00" y="0"/>
                  </a:lnTo>
                  <a:lnTo>
                    <a:pt x="21600" y="10800"/>
                  </a:lnTo>
                  <a:lnTo>
                    <a:pt x="19200" y="21600"/>
                  </a:lnTo>
                  <a:lnTo>
                    <a:pt x="0" y="21600"/>
                  </a:lnTo>
                  <a:lnTo>
                    <a:pt x="2400" y="10800"/>
                  </a:lnTo>
                  <a:close/>
                </a:path>
              </a:pathLst>
            </a:cu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059520" y="2042280"/>
              <a:ext cx="129600" cy="6552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00" y="0"/>
                  </a:lnTo>
                  <a:lnTo>
                    <a:pt x="21600" y="10800"/>
                  </a:lnTo>
                  <a:lnTo>
                    <a:pt x="19200" y="21600"/>
                  </a:lnTo>
                  <a:lnTo>
                    <a:pt x="0" y="21600"/>
                  </a:lnTo>
                  <a:lnTo>
                    <a:pt x="2400" y="10800"/>
                  </a:lnTo>
                  <a:close/>
                </a:path>
              </a:pathLst>
            </a:cu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3" name=""/>
          <p:cNvSpPr/>
          <p:nvPr/>
        </p:nvSpPr>
        <p:spPr>
          <a:xfrm>
            <a:off x="1935000" y="3108240"/>
            <a:ext cx="4351680" cy="100800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rozessdomäne 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nlegen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016680" y="3144960"/>
            <a:ext cx="247680" cy="136440"/>
          </a:xfrm>
          <a:custGeom>
            <a:avLst/>
            <a:gdLst>
              <a:gd name="textAreaLeft" fmla="*/ 0 w 247680"/>
              <a:gd name="textAreaRight" fmla="*/ 248040 w 24768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6054840" y="3168720"/>
            <a:ext cx="161640" cy="91800"/>
            <a:chOff x="6054840" y="3168720"/>
            <a:chExt cx="161640" cy="91800"/>
          </a:xfrm>
        </p:grpSpPr>
        <p:sp>
          <p:nvSpPr>
            <p:cNvPr id="1576" name=""/>
            <p:cNvSpPr/>
            <p:nvPr/>
          </p:nvSpPr>
          <p:spPr>
            <a:xfrm>
              <a:off x="6087240" y="3168720"/>
              <a:ext cx="129240" cy="655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00" y="0"/>
                  </a:lnTo>
                  <a:lnTo>
                    <a:pt x="21600" y="10800"/>
                  </a:lnTo>
                  <a:lnTo>
                    <a:pt x="19200" y="21600"/>
                  </a:lnTo>
                  <a:lnTo>
                    <a:pt x="0" y="21600"/>
                  </a:lnTo>
                  <a:lnTo>
                    <a:pt x="2400" y="10800"/>
                  </a:lnTo>
                  <a:close/>
                </a:path>
              </a:pathLst>
            </a:cu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054840" y="3195000"/>
              <a:ext cx="129240" cy="655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00" y="0"/>
                  </a:lnTo>
                  <a:lnTo>
                    <a:pt x="21600" y="10800"/>
                  </a:lnTo>
                  <a:lnTo>
                    <a:pt x="19200" y="21600"/>
                  </a:lnTo>
                  <a:lnTo>
                    <a:pt x="0" y="21600"/>
                  </a:lnTo>
                  <a:lnTo>
                    <a:pt x="2400" y="10800"/>
                  </a:lnTo>
                  <a:close/>
                </a:path>
              </a:pathLst>
            </a:cu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1933560" y="4259160"/>
            <a:ext cx="4354560" cy="100800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rozessdomäne 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Handel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018120" y="4295880"/>
            <a:ext cx="247680" cy="136440"/>
          </a:xfrm>
          <a:custGeom>
            <a:avLst/>
            <a:gdLst>
              <a:gd name="textAreaLeft" fmla="*/ 0 w 247680"/>
              <a:gd name="textAreaRight" fmla="*/ 248040 w 24768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0" name=""/>
          <p:cNvGrpSpPr/>
          <p:nvPr/>
        </p:nvGrpSpPr>
        <p:grpSpPr>
          <a:xfrm>
            <a:off x="6056280" y="4319640"/>
            <a:ext cx="162000" cy="91800"/>
            <a:chOff x="6056280" y="4319640"/>
            <a:chExt cx="162000" cy="91800"/>
          </a:xfrm>
        </p:grpSpPr>
        <p:sp>
          <p:nvSpPr>
            <p:cNvPr id="1581" name=""/>
            <p:cNvSpPr/>
            <p:nvPr/>
          </p:nvSpPr>
          <p:spPr>
            <a:xfrm>
              <a:off x="6088680" y="4319640"/>
              <a:ext cx="129600" cy="6552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00" y="0"/>
                  </a:lnTo>
                  <a:lnTo>
                    <a:pt x="21600" y="10800"/>
                  </a:lnTo>
                  <a:lnTo>
                    <a:pt x="19200" y="21600"/>
                  </a:lnTo>
                  <a:lnTo>
                    <a:pt x="0" y="21600"/>
                  </a:lnTo>
                  <a:lnTo>
                    <a:pt x="2400" y="10800"/>
                  </a:lnTo>
                  <a:close/>
                </a:path>
              </a:pathLst>
            </a:cu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056280" y="4345920"/>
              <a:ext cx="129600" cy="6552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00" y="0"/>
                  </a:lnTo>
                  <a:lnTo>
                    <a:pt x="21600" y="10800"/>
                  </a:lnTo>
                  <a:lnTo>
                    <a:pt x="19200" y="21600"/>
                  </a:lnTo>
                  <a:lnTo>
                    <a:pt x="0" y="21600"/>
                  </a:lnTo>
                  <a:lnTo>
                    <a:pt x="2400" y="10800"/>
                  </a:lnTo>
                  <a:close/>
                </a:path>
              </a:pathLst>
            </a:cu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3" name=""/>
          <p:cNvSpPr/>
          <p:nvPr/>
        </p:nvSpPr>
        <p:spPr>
          <a:xfrm>
            <a:off x="6465960" y="803160"/>
            <a:ext cx="1407960" cy="446400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rozessdomäne 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Banksteuerung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7604280" y="839880"/>
            <a:ext cx="247320" cy="136440"/>
          </a:xfrm>
          <a:custGeom>
            <a:avLst/>
            <a:gdLst>
              <a:gd name="textAreaLeft" fmla="*/ 0 w 247320"/>
              <a:gd name="textAreaRight" fmla="*/ 247680 w 2473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7642080" y="863640"/>
            <a:ext cx="162000" cy="91800"/>
            <a:chOff x="7642080" y="863640"/>
            <a:chExt cx="162000" cy="91800"/>
          </a:xfrm>
        </p:grpSpPr>
        <p:sp>
          <p:nvSpPr>
            <p:cNvPr id="1586" name=""/>
            <p:cNvSpPr/>
            <p:nvPr/>
          </p:nvSpPr>
          <p:spPr>
            <a:xfrm>
              <a:off x="7674480" y="863640"/>
              <a:ext cx="129600" cy="6552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00" y="0"/>
                  </a:lnTo>
                  <a:lnTo>
                    <a:pt x="21600" y="10800"/>
                  </a:lnTo>
                  <a:lnTo>
                    <a:pt x="19200" y="21600"/>
                  </a:lnTo>
                  <a:lnTo>
                    <a:pt x="0" y="21600"/>
                  </a:lnTo>
                  <a:lnTo>
                    <a:pt x="2400" y="10800"/>
                  </a:lnTo>
                  <a:close/>
                </a:path>
              </a:pathLst>
            </a:cu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642080" y="889920"/>
              <a:ext cx="129600" cy="6552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00" y="0"/>
                  </a:lnTo>
                  <a:lnTo>
                    <a:pt x="21600" y="10800"/>
                  </a:lnTo>
                  <a:lnTo>
                    <a:pt x="19200" y="21600"/>
                  </a:lnTo>
                  <a:lnTo>
                    <a:pt x="0" y="21600"/>
                  </a:lnTo>
                  <a:lnTo>
                    <a:pt x="2400" y="10800"/>
                  </a:lnTo>
                  <a:close/>
                </a:path>
              </a:pathLst>
            </a:cu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8" name=""/>
          <p:cNvSpPr/>
          <p:nvPr/>
        </p:nvSpPr>
        <p:spPr>
          <a:xfrm>
            <a:off x="8083440" y="803160"/>
            <a:ext cx="1406520" cy="446400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rozessdomäne 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Rechnungswesen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9220320" y="839880"/>
            <a:ext cx="247680" cy="136440"/>
          </a:xfrm>
          <a:custGeom>
            <a:avLst/>
            <a:gdLst>
              <a:gd name="textAreaLeft" fmla="*/ 0 w 247680"/>
              <a:gd name="textAreaRight" fmla="*/ 248040 w 24768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0" name=""/>
          <p:cNvGrpSpPr/>
          <p:nvPr/>
        </p:nvGrpSpPr>
        <p:grpSpPr>
          <a:xfrm>
            <a:off x="9258480" y="863640"/>
            <a:ext cx="161640" cy="91800"/>
            <a:chOff x="9258480" y="863640"/>
            <a:chExt cx="161640" cy="91800"/>
          </a:xfrm>
        </p:grpSpPr>
        <p:sp>
          <p:nvSpPr>
            <p:cNvPr id="1591" name=""/>
            <p:cNvSpPr/>
            <p:nvPr/>
          </p:nvSpPr>
          <p:spPr>
            <a:xfrm>
              <a:off x="9290880" y="863640"/>
              <a:ext cx="129240" cy="655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00" y="0"/>
                  </a:lnTo>
                  <a:lnTo>
                    <a:pt x="21600" y="10800"/>
                  </a:lnTo>
                  <a:lnTo>
                    <a:pt x="19200" y="21600"/>
                  </a:lnTo>
                  <a:lnTo>
                    <a:pt x="0" y="21600"/>
                  </a:lnTo>
                  <a:lnTo>
                    <a:pt x="2400" y="10800"/>
                  </a:lnTo>
                  <a:close/>
                </a:path>
              </a:pathLst>
            </a:cu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9258480" y="889920"/>
              <a:ext cx="129240" cy="655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00" y="0"/>
                  </a:lnTo>
                  <a:lnTo>
                    <a:pt x="21600" y="10800"/>
                  </a:lnTo>
                  <a:lnTo>
                    <a:pt x="19200" y="21600"/>
                  </a:lnTo>
                  <a:lnTo>
                    <a:pt x="0" y="21600"/>
                  </a:lnTo>
                  <a:lnTo>
                    <a:pt x="2400" y="10800"/>
                  </a:lnTo>
                  <a:close/>
                </a:path>
              </a:pathLst>
            </a:cu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1460520" y="4656240"/>
            <a:ext cx="719280" cy="0"/>
          </a:xfrm>
          <a:prstGeom prst="line">
            <a:avLst/>
          </a:prstGeom>
          <a:ln w="7632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496880" y="1506600"/>
            <a:ext cx="719280" cy="0"/>
          </a:xfrm>
          <a:prstGeom prst="line">
            <a:avLst/>
          </a:prstGeom>
          <a:ln w="7632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141960" y="4584600"/>
            <a:ext cx="719280" cy="0"/>
          </a:xfrm>
          <a:prstGeom prst="line">
            <a:avLst/>
          </a:prstGeom>
          <a:ln w="9360">
            <a:solidFill>
              <a:srgbClr val="5f5f5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141960" y="2279520"/>
            <a:ext cx="719280" cy="0"/>
          </a:xfrm>
          <a:prstGeom prst="line">
            <a:avLst/>
          </a:prstGeom>
          <a:ln w="9360">
            <a:solidFill>
              <a:srgbClr val="5f5f5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081240" y="3898800"/>
            <a:ext cx="0" cy="612720"/>
          </a:xfrm>
          <a:prstGeom prst="line">
            <a:avLst/>
          </a:prstGeom>
          <a:ln w="7632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460520" y="2495520"/>
            <a:ext cx="719280" cy="0"/>
          </a:xfrm>
          <a:prstGeom prst="line">
            <a:avLst/>
          </a:prstGeom>
          <a:ln w="9360">
            <a:solidFill>
              <a:srgbClr val="5f5f5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140520" y="1631880"/>
            <a:ext cx="2305080" cy="0"/>
          </a:xfrm>
          <a:prstGeom prst="line">
            <a:avLst/>
          </a:prstGeom>
          <a:ln w="7632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140520" y="2782800"/>
            <a:ext cx="2305080" cy="0"/>
          </a:xfrm>
          <a:prstGeom prst="line">
            <a:avLst/>
          </a:prstGeom>
          <a:ln w="7632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140520" y="3935520"/>
            <a:ext cx="2305080" cy="0"/>
          </a:xfrm>
          <a:prstGeom prst="line">
            <a:avLst/>
          </a:prstGeom>
          <a:ln w="7632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140520" y="4835520"/>
            <a:ext cx="2305080" cy="0"/>
          </a:xfrm>
          <a:prstGeom prst="line">
            <a:avLst/>
          </a:prstGeom>
          <a:ln w="7632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460520" y="5087880"/>
            <a:ext cx="6985080" cy="0"/>
          </a:xfrm>
          <a:prstGeom prst="line">
            <a:avLst/>
          </a:prstGeom>
          <a:ln w="7632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3081240" y="1488960"/>
            <a:ext cx="0" cy="719280"/>
          </a:xfrm>
          <a:prstGeom prst="line">
            <a:avLst/>
          </a:prstGeom>
          <a:ln w="3816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3368520" y="1487160"/>
            <a:ext cx="0" cy="1871640"/>
          </a:xfrm>
          <a:prstGeom prst="line">
            <a:avLst/>
          </a:prstGeom>
          <a:ln w="9360">
            <a:solidFill>
              <a:srgbClr val="5f5f5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657600" y="2712960"/>
            <a:ext cx="0" cy="1798560"/>
          </a:xfrm>
          <a:prstGeom prst="line">
            <a:avLst/>
          </a:prstGeom>
          <a:ln w="9360">
            <a:solidFill>
              <a:srgbClr val="5f5f5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081240" y="2710800"/>
            <a:ext cx="0" cy="718920"/>
          </a:xfrm>
          <a:prstGeom prst="line">
            <a:avLst/>
          </a:prstGeom>
          <a:ln w="9360">
            <a:solidFill>
              <a:srgbClr val="5f5f5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V="1">
            <a:off x="3944880" y="2676600"/>
            <a:ext cx="0" cy="1798560"/>
          </a:xfrm>
          <a:prstGeom prst="line">
            <a:avLst/>
          </a:prstGeom>
          <a:ln w="3816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V="1">
            <a:off x="3368520" y="3757320"/>
            <a:ext cx="0" cy="718920"/>
          </a:xfrm>
          <a:prstGeom prst="line">
            <a:avLst/>
          </a:prstGeom>
          <a:ln w="3816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4197240" y="1487160"/>
            <a:ext cx="0" cy="2987640"/>
          </a:xfrm>
          <a:prstGeom prst="line">
            <a:avLst/>
          </a:prstGeom>
          <a:ln w="3816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425600" y="1711440"/>
            <a:ext cx="719280" cy="0"/>
          </a:xfrm>
          <a:prstGeom prst="line">
            <a:avLst/>
          </a:prstGeom>
          <a:ln w="9360">
            <a:solidFill>
              <a:srgbClr val="5f5f5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1423800" y="2747880"/>
            <a:ext cx="718920" cy="0"/>
          </a:xfrm>
          <a:prstGeom prst="line">
            <a:avLst/>
          </a:prstGeom>
          <a:ln w="9360">
            <a:solidFill>
              <a:srgbClr val="5f5f5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1423800" y="3611520"/>
            <a:ext cx="718920" cy="0"/>
          </a:xfrm>
          <a:prstGeom prst="line">
            <a:avLst/>
          </a:prstGeom>
          <a:ln w="9360">
            <a:solidFill>
              <a:srgbClr val="5f5f5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1425600" y="4871880"/>
            <a:ext cx="719280" cy="0"/>
          </a:xfrm>
          <a:prstGeom prst="line">
            <a:avLst/>
          </a:prstGeom>
          <a:ln w="9360">
            <a:solidFill>
              <a:srgbClr val="5f5f5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460520" y="3863880"/>
            <a:ext cx="719280" cy="0"/>
          </a:xfrm>
          <a:prstGeom prst="line">
            <a:avLst/>
          </a:prstGeom>
          <a:ln w="9360">
            <a:solidFill>
              <a:srgbClr val="5f5f5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6070320" y="2532240"/>
            <a:ext cx="718920" cy="0"/>
          </a:xfrm>
          <a:prstGeom prst="line">
            <a:avLst/>
          </a:prstGeom>
          <a:ln w="9360">
            <a:solidFill>
              <a:srgbClr val="5f5f5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rot="16200000">
            <a:off x="2178000" y="4622400"/>
            <a:ext cx="3646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 vert="eaVer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 Narrow"/>
              </a:rPr>
              <a:t>hohe Kritikalitä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53960" y="5775480"/>
            <a:ext cx="719280" cy="0"/>
          </a:xfrm>
          <a:prstGeom prst="line">
            <a:avLst/>
          </a:prstGeom>
          <a:ln w="7632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565600" y="5775480"/>
            <a:ext cx="719280" cy="0"/>
          </a:xfrm>
          <a:prstGeom prst="line">
            <a:avLst/>
          </a:prstGeom>
          <a:ln w="9360">
            <a:solidFill>
              <a:srgbClr val="5f5f5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081240" y="5775480"/>
            <a:ext cx="719280" cy="0"/>
          </a:xfrm>
          <a:prstGeom prst="line">
            <a:avLst/>
          </a:prstGeom>
          <a:ln w="3816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rot="16200000">
            <a:off x="4770360" y="4622400"/>
            <a:ext cx="3646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 vert="eaVer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 Narrow"/>
              </a:rPr>
              <a:t>mittlere Kritikalitä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rot="16200000">
            <a:off x="7326360" y="4652640"/>
            <a:ext cx="3646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 vert="eaVer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 Narrow"/>
              </a:rPr>
              <a:t>tiefe Kritikalitä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79000" y="379440"/>
            <a:ext cx="6067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bhängigkeiten zwischen Prozessdomänen im Bankenberei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/>
          <p:nvPr/>
        </p:nvSpPr>
        <p:spPr>
          <a:xfrm>
            <a:off x="2600280" y="2560680"/>
            <a:ext cx="2141640" cy="1404720"/>
          </a:xfrm>
          <a:prstGeom prst="rect">
            <a:avLst/>
          </a:prstGeom>
          <a:solidFill>
            <a:srgbClr val="ffffff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025960" y="2560680"/>
            <a:ext cx="2065320" cy="1404720"/>
          </a:xfrm>
          <a:prstGeom prst="rect">
            <a:avLst/>
          </a:prstGeom>
          <a:solidFill>
            <a:srgbClr val="ffffff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600280" y="4179960"/>
            <a:ext cx="2141640" cy="1357200"/>
          </a:xfrm>
          <a:prstGeom prst="rect">
            <a:avLst/>
          </a:prstGeom>
          <a:solidFill>
            <a:srgbClr val="ffffff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025960" y="4179960"/>
            <a:ext cx="2065320" cy="1357200"/>
          </a:xfrm>
          <a:prstGeom prst="rect">
            <a:avLst/>
          </a:prstGeom>
          <a:solidFill>
            <a:srgbClr val="ffffff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024520" y="2560680"/>
            <a:ext cx="2066760" cy="698400"/>
          </a:xfrm>
          <a:prstGeom prst="rect">
            <a:avLst/>
          </a:prstGeom>
          <a:solidFill>
            <a:srgbClr val="638d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603520" y="4821120"/>
            <a:ext cx="2138400" cy="716040"/>
          </a:xfrm>
          <a:prstGeom prst="rect">
            <a:avLst/>
          </a:prstGeom>
          <a:solidFill>
            <a:srgbClr val="638d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024520" y="4818240"/>
            <a:ext cx="2066760" cy="718920"/>
          </a:xfrm>
          <a:prstGeom prst="rect">
            <a:avLst/>
          </a:prstGeom>
          <a:solidFill>
            <a:srgbClr val="638d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981000" y="2560680"/>
            <a:ext cx="1273320" cy="29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981000" y="2560680"/>
            <a:ext cx="1273320" cy="1195200"/>
          </a:xfrm>
          <a:prstGeom prst="rect">
            <a:avLst/>
          </a:prstGeom>
          <a:solidFill>
            <a:srgbClr val="638d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763800" y="2948040"/>
            <a:ext cx="1297080" cy="995400"/>
          </a:xfrm>
          <a:custGeom>
            <a:avLst/>
            <a:gdLst/>
            <a:ahLst/>
            <a:rect l="l" t="t" r="r" b="b"/>
            <a:pathLst>
              <a:path w="1057" h="900">
                <a:moveTo>
                  <a:pt x="455" y="879"/>
                </a:moveTo>
                <a:lnTo>
                  <a:pt x="471" y="838"/>
                </a:lnTo>
                <a:lnTo>
                  <a:pt x="490" y="799"/>
                </a:lnTo>
                <a:lnTo>
                  <a:pt x="514" y="762"/>
                </a:lnTo>
                <a:lnTo>
                  <a:pt x="541" y="728"/>
                </a:lnTo>
                <a:lnTo>
                  <a:pt x="570" y="696"/>
                </a:lnTo>
                <a:lnTo>
                  <a:pt x="603" y="667"/>
                </a:lnTo>
                <a:lnTo>
                  <a:pt x="639" y="642"/>
                </a:lnTo>
                <a:lnTo>
                  <a:pt x="676" y="621"/>
                </a:lnTo>
                <a:lnTo>
                  <a:pt x="713" y="605"/>
                </a:lnTo>
                <a:lnTo>
                  <a:pt x="753" y="591"/>
                </a:lnTo>
                <a:lnTo>
                  <a:pt x="793" y="581"/>
                </a:lnTo>
                <a:lnTo>
                  <a:pt x="834" y="575"/>
                </a:lnTo>
                <a:lnTo>
                  <a:pt x="833" y="711"/>
                </a:lnTo>
                <a:lnTo>
                  <a:pt x="1056" y="374"/>
                </a:lnTo>
                <a:lnTo>
                  <a:pt x="818" y="0"/>
                </a:lnTo>
                <a:lnTo>
                  <a:pt x="819" y="137"/>
                </a:lnTo>
                <a:lnTo>
                  <a:pt x="757" y="143"/>
                </a:lnTo>
                <a:lnTo>
                  <a:pt x="694" y="154"/>
                </a:lnTo>
                <a:lnTo>
                  <a:pt x="634" y="168"/>
                </a:lnTo>
                <a:lnTo>
                  <a:pt x="574" y="188"/>
                </a:lnTo>
                <a:lnTo>
                  <a:pt x="516" y="211"/>
                </a:lnTo>
                <a:lnTo>
                  <a:pt x="460" y="238"/>
                </a:lnTo>
                <a:lnTo>
                  <a:pt x="405" y="270"/>
                </a:lnTo>
                <a:lnTo>
                  <a:pt x="352" y="306"/>
                </a:lnTo>
                <a:lnTo>
                  <a:pt x="302" y="346"/>
                </a:lnTo>
                <a:lnTo>
                  <a:pt x="255" y="390"/>
                </a:lnTo>
                <a:lnTo>
                  <a:pt x="211" y="437"/>
                </a:lnTo>
                <a:lnTo>
                  <a:pt x="170" y="486"/>
                </a:lnTo>
                <a:lnTo>
                  <a:pt x="134" y="539"/>
                </a:lnTo>
                <a:lnTo>
                  <a:pt x="101" y="595"/>
                </a:lnTo>
                <a:lnTo>
                  <a:pt x="72" y="653"/>
                </a:lnTo>
                <a:lnTo>
                  <a:pt x="47" y="711"/>
                </a:lnTo>
                <a:lnTo>
                  <a:pt x="27" y="773"/>
                </a:lnTo>
                <a:lnTo>
                  <a:pt x="11" y="835"/>
                </a:lnTo>
                <a:lnTo>
                  <a:pt x="0" y="899"/>
                </a:lnTo>
                <a:lnTo>
                  <a:pt x="238" y="741"/>
                </a:lnTo>
                <a:lnTo>
                  <a:pt x="455" y="879"/>
                </a:lnTo>
              </a:path>
            </a:pathLst>
          </a:custGeom>
          <a:solidFill>
            <a:srgbClr val="dddddd"/>
          </a:solidFill>
          <a:ln cap="rnd" w="324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632480" y="4194000"/>
            <a:ext cx="1263600" cy="998640"/>
          </a:xfrm>
          <a:custGeom>
            <a:avLst/>
            <a:gdLst/>
            <a:ahLst/>
            <a:rect l="l" t="t" r="r" b="b"/>
            <a:pathLst>
              <a:path w="1033" h="904">
                <a:moveTo>
                  <a:pt x="585" y="1"/>
                </a:moveTo>
                <a:lnTo>
                  <a:pt x="573" y="41"/>
                </a:lnTo>
                <a:lnTo>
                  <a:pt x="556" y="78"/>
                </a:lnTo>
                <a:lnTo>
                  <a:pt x="537" y="116"/>
                </a:lnTo>
                <a:lnTo>
                  <a:pt x="514" y="150"/>
                </a:lnTo>
                <a:lnTo>
                  <a:pt x="488" y="182"/>
                </a:lnTo>
                <a:lnTo>
                  <a:pt x="459" y="212"/>
                </a:lnTo>
                <a:lnTo>
                  <a:pt x="427" y="239"/>
                </a:lnTo>
                <a:lnTo>
                  <a:pt x="393" y="262"/>
                </a:lnTo>
                <a:lnTo>
                  <a:pt x="356" y="283"/>
                </a:lnTo>
                <a:lnTo>
                  <a:pt x="317" y="301"/>
                </a:lnTo>
                <a:lnTo>
                  <a:pt x="277" y="314"/>
                </a:lnTo>
                <a:lnTo>
                  <a:pt x="236" y="323"/>
                </a:lnTo>
                <a:lnTo>
                  <a:pt x="235" y="187"/>
                </a:lnTo>
                <a:lnTo>
                  <a:pt x="159" y="298"/>
                </a:lnTo>
                <a:lnTo>
                  <a:pt x="80" y="409"/>
                </a:lnTo>
                <a:lnTo>
                  <a:pt x="0" y="517"/>
                </a:lnTo>
                <a:lnTo>
                  <a:pt x="236" y="903"/>
                </a:lnTo>
                <a:lnTo>
                  <a:pt x="236" y="766"/>
                </a:lnTo>
                <a:lnTo>
                  <a:pt x="295" y="759"/>
                </a:lnTo>
                <a:lnTo>
                  <a:pt x="353" y="747"/>
                </a:lnTo>
                <a:lnTo>
                  <a:pt x="411" y="733"/>
                </a:lnTo>
                <a:lnTo>
                  <a:pt x="467" y="713"/>
                </a:lnTo>
                <a:lnTo>
                  <a:pt x="522" y="691"/>
                </a:lnTo>
                <a:lnTo>
                  <a:pt x="575" y="665"/>
                </a:lnTo>
                <a:lnTo>
                  <a:pt x="626" y="635"/>
                </a:lnTo>
                <a:lnTo>
                  <a:pt x="676" y="601"/>
                </a:lnTo>
                <a:lnTo>
                  <a:pt x="724" y="564"/>
                </a:lnTo>
                <a:lnTo>
                  <a:pt x="768" y="525"/>
                </a:lnTo>
                <a:lnTo>
                  <a:pt x="811" y="481"/>
                </a:lnTo>
                <a:lnTo>
                  <a:pt x="849" y="435"/>
                </a:lnTo>
                <a:lnTo>
                  <a:pt x="884" y="387"/>
                </a:lnTo>
                <a:lnTo>
                  <a:pt x="916" y="337"/>
                </a:lnTo>
                <a:lnTo>
                  <a:pt x="945" y="284"/>
                </a:lnTo>
                <a:lnTo>
                  <a:pt x="970" y="231"/>
                </a:lnTo>
                <a:lnTo>
                  <a:pt x="991" y="174"/>
                </a:lnTo>
                <a:lnTo>
                  <a:pt x="1009" y="117"/>
                </a:lnTo>
                <a:lnTo>
                  <a:pt x="1023" y="58"/>
                </a:lnTo>
                <a:lnTo>
                  <a:pt x="1032" y="0"/>
                </a:lnTo>
                <a:lnTo>
                  <a:pt x="812" y="132"/>
                </a:lnTo>
                <a:lnTo>
                  <a:pt x="585" y="1"/>
                </a:lnTo>
              </a:path>
            </a:pathLst>
          </a:custGeom>
          <a:solidFill>
            <a:srgbClr val="dddddd"/>
          </a:solidFill>
          <a:ln cap="rnd" w="324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614760" y="3828960"/>
            <a:ext cx="1139760" cy="1189080"/>
          </a:xfrm>
          <a:custGeom>
            <a:avLst/>
            <a:gdLst/>
            <a:ahLst/>
            <a:rect l="l" t="t" r="r" b="b"/>
            <a:pathLst>
              <a:path w="930" h="1075">
                <a:moveTo>
                  <a:pt x="929" y="645"/>
                </a:moveTo>
                <a:lnTo>
                  <a:pt x="887" y="634"/>
                </a:lnTo>
                <a:lnTo>
                  <a:pt x="847" y="620"/>
                </a:lnTo>
                <a:lnTo>
                  <a:pt x="807" y="603"/>
                </a:lnTo>
                <a:lnTo>
                  <a:pt x="771" y="582"/>
                </a:lnTo>
                <a:lnTo>
                  <a:pt x="735" y="557"/>
                </a:lnTo>
                <a:lnTo>
                  <a:pt x="703" y="529"/>
                </a:lnTo>
                <a:lnTo>
                  <a:pt x="673" y="497"/>
                </a:lnTo>
                <a:lnTo>
                  <a:pt x="648" y="465"/>
                </a:lnTo>
                <a:lnTo>
                  <a:pt x="624" y="428"/>
                </a:lnTo>
                <a:lnTo>
                  <a:pt x="607" y="398"/>
                </a:lnTo>
                <a:lnTo>
                  <a:pt x="594" y="366"/>
                </a:lnTo>
                <a:lnTo>
                  <a:pt x="583" y="332"/>
                </a:lnTo>
                <a:lnTo>
                  <a:pt x="577" y="298"/>
                </a:lnTo>
                <a:lnTo>
                  <a:pt x="575" y="264"/>
                </a:lnTo>
                <a:lnTo>
                  <a:pt x="576" y="229"/>
                </a:lnTo>
                <a:lnTo>
                  <a:pt x="748" y="229"/>
                </a:lnTo>
                <a:lnTo>
                  <a:pt x="360" y="0"/>
                </a:lnTo>
                <a:lnTo>
                  <a:pt x="0" y="236"/>
                </a:lnTo>
                <a:lnTo>
                  <a:pt x="136" y="237"/>
                </a:lnTo>
                <a:lnTo>
                  <a:pt x="141" y="299"/>
                </a:lnTo>
                <a:lnTo>
                  <a:pt x="150" y="362"/>
                </a:lnTo>
                <a:lnTo>
                  <a:pt x="165" y="422"/>
                </a:lnTo>
                <a:lnTo>
                  <a:pt x="182" y="483"/>
                </a:lnTo>
                <a:lnTo>
                  <a:pt x="204" y="541"/>
                </a:lnTo>
                <a:lnTo>
                  <a:pt x="231" y="598"/>
                </a:lnTo>
                <a:lnTo>
                  <a:pt x="262" y="653"/>
                </a:lnTo>
                <a:lnTo>
                  <a:pt x="296" y="704"/>
                </a:lnTo>
                <a:lnTo>
                  <a:pt x="333" y="752"/>
                </a:lnTo>
                <a:lnTo>
                  <a:pt x="374" y="797"/>
                </a:lnTo>
                <a:lnTo>
                  <a:pt x="419" y="841"/>
                </a:lnTo>
                <a:lnTo>
                  <a:pt x="465" y="880"/>
                </a:lnTo>
                <a:lnTo>
                  <a:pt x="514" y="917"/>
                </a:lnTo>
                <a:lnTo>
                  <a:pt x="566" y="951"/>
                </a:lnTo>
                <a:lnTo>
                  <a:pt x="620" y="980"/>
                </a:lnTo>
                <a:lnTo>
                  <a:pt x="675" y="1007"/>
                </a:lnTo>
                <a:lnTo>
                  <a:pt x="732" y="1029"/>
                </a:lnTo>
                <a:lnTo>
                  <a:pt x="790" y="1048"/>
                </a:lnTo>
                <a:lnTo>
                  <a:pt x="849" y="1062"/>
                </a:lnTo>
                <a:lnTo>
                  <a:pt x="910" y="1074"/>
                </a:lnTo>
                <a:lnTo>
                  <a:pt x="772" y="845"/>
                </a:lnTo>
                <a:lnTo>
                  <a:pt x="929" y="645"/>
                </a:lnTo>
              </a:path>
            </a:pathLst>
          </a:custGeom>
          <a:solidFill>
            <a:srgbClr val="dddddd"/>
          </a:solidFill>
          <a:ln cap="rnd" w="324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946760" y="3106800"/>
            <a:ext cx="1155600" cy="1177920"/>
          </a:xfrm>
          <a:custGeom>
            <a:avLst/>
            <a:gdLst/>
            <a:ahLst/>
            <a:rect l="l" t="t" r="r" b="b"/>
            <a:pathLst>
              <a:path w="943" h="1065">
                <a:moveTo>
                  <a:pt x="554" y="1064"/>
                </a:moveTo>
                <a:lnTo>
                  <a:pt x="942" y="840"/>
                </a:lnTo>
                <a:lnTo>
                  <a:pt x="781" y="840"/>
                </a:lnTo>
                <a:lnTo>
                  <a:pt x="776" y="778"/>
                </a:lnTo>
                <a:lnTo>
                  <a:pt x="767" y="716"/>
                </a:lnTo>
                <a:lnTo>
                  <a:pt x="754" y="655"/>
                </a:lnTo>
                <a:lnTo>
                  <a:pt x="737" y="595"/>
                </a:lnTo>
                <a:lnTo>
                  <a:pt x="714" y="536"/>
                </a:lnTo>
                <a:lnTo>
                  <a:pt x="688" y="480"/>
                </a:lnTo>
                <a:lnTo>
                  <a:pt x="658" y="425"/>
                </a:lnTo>
                <a:lnTo>
                  <a:pt x="624" y="372"/>
                </a:lnTo>
                <a:lnTo>
                  <a:pt x="586" y="323"/>
                </a:lnTo>
                <a:lnTo>
                  <a:pt x="547" y="275"/>
                </a:lnTo>
                <a:lnTo>
                  <a:pt x="502" y="232"/>
                </a:lnTo>
                <a:lnTo>
                  <a:pt x="455" y="191"/>
                </a:lnTo>
                <a:lnTo>
                  <a:pt x="405" y="153"/>
                </a:lnTo>
                <a:lnTo>
                  <a:pt x="352" y="120"/>
                </a:lnTo>
                <a:lnTo>
                  <a:pt x="298" y="89"/>
                </a:lnTo>
                <a:lnTo>
                  <a:pt x="241" y="63"/>
                </a:lnTo>
                <a:lnTo>
                  <a:pt x="182" y="41"/>
                </a:lnTo>
                <a:lnTo>
                  <a:pt x="122" y="23"/>
                </a:lnTo>
                <a:lnTo>
                  <a:pt x="61" y="9"/>
                </a:lnTo>
                <a:lnTo>
                  <a:pt x="0" y="0"/>
                </a:lnTo>
                <a:lnTo>
                  <a:pt x="137" y="226"/>
                </a:lnTo>
                <a:lnTo>
                  <a:pt x="5" y="451"/>
                </a:lnTo>
                <a:lnTo>
                  <a:pt x="48" y="465"/>
                </a:lnTo>
                <a:lnTo>
                  <a:pt x="90" y="483"/>
                </a:lnTo>
                <a:lnTo>
                  <a:pt x="130" y="505"/>
                </a:lnTo>
                <a:lnTo>
                  <a:pt x="168" y="531"/>
                </a:lnTo>
                <a:lnTo>
                  <a:pt x="202" y="561"/>
                </a:lnTo>
                <a:lnTo>
                  <a:pt x="233" y="594"/>
                </a:lnTo>
                <a:lnTo>
                  <a:pt x="262" y="629"/>
                </a:lnTo>
                <a:lnTo>
                  <a:pt x="285" y="668"/>
                </a:lnTo>
                <a:lnTo>
                  <a:pt x="305" y="709"/>
                </a:lnTo>
                <a:lnTo>
                  <a:pt x="321" y="751"/>
                </a:lnTo>
                <a:lnTo>
                  <a:pt x="333" y="795"/>
                </a:lnTo>
                <a:lnTo>
                  <a:pt x="340" y="840"/>
                </a:lnTo>
                <a:lnTo>
                  <a:pt x="188" y="841"/>
                </a:lnTo>
                <a:lnTo>
                  <a:pt x="554" y="1064"/>
                </a:lnTo>
              </a:path>
            </a:pathLst>
          </a:custGeom>
          <a:solidFill>
            <a:srgbClr val="dddddd"/>
          </a:solidFill>
          <a:ln cap="rnd" w="324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081760" y="2600280"/>
            <a:ext cx="193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urchfüh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181400" y="3400560"/>
            <a:ext cx="169920" cy="155520"/>
          </a:xfrm>
          <a:prstGeom prst="ellipse">
            <a:avLst/>
          </a:prstGeom>
          <a:solidFill>
            <a:srgbClr val="c0c0c0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321160" y="3400560"/>
            <a:ext cx="169920" cy="155520"/>
          </a:xfrm>
          <a:prstGeom prst="ellipse">
            <a:avLst/>
          </a:prstGeom>
          <a:solidFill>
            <a:srgbClr val="c0c0c0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179960" y="4473720"/>
            <a:ext cx="169920" cy="155520"/>
          </a:xfrm>
          <a:prstGeom prst="ellipse">
            <a:avLst/>
          </a:prstGeom>
          <a:solidFill>
            <a:srgbClr val="c0c0c0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307120" y="4473720"/>
            <a:ext cx="171360" cy="155520"/>
          </a:xfrm>
          <a:prstGeom prst="ellipse">
            <a:avLst/>
          </a:prstGeom>
          <a:solidFill>
            <a:srgbClr val="c0c0c0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081760" y="4965840"/>
            <a:ext cx="20620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Prüfung, Reporting, Analy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987480" y="2604960"/>
            <a:ext cx="1332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Konzepte 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Organ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320920" y="3267000"/>
            <a:ext cx="187200" cy="1636920"/>
          </a:xfrm>
          <a:custGeom>
            <a:avLst/>
            <a:gdLst>
              <a:gd name="textAreaLeft" fmla="*/ 0 w 187200"/>
              <a:gd name="textAreaRight" fmla="*/ 187560 w 18720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53" y="0"/>
                </a:lnTo>
                <a:lnTo>
                  <a:pt x="21600" y="10800"/>
                </a:lnTo>
                <a:lnTo>
                  <a:pt x="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2658960" y="4952880"/>
            <a:ext cx="2071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aßnahmen zur Optimier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85800" y="955800"/>
            <a:ext cx="8453520" cy="47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3216240" y="1069920"/>
            <a:ext cx="1490760" cy="542520"/>
            <a:chOff x="3216240" y="1069920"/>
            <a:chExt cx="1490760" cy="542520"/>
          </a:xfrm>
        </p:grpSpPr>
        <p:sp>
          <p:nvSpPr>
            <p:cNvPr id="1648" name=""/>
            <p:cNvSpPr/>
            <p:nvPr/>
          </p:nvSpPr>
          <p:spPr>
            <a:xfrm>
              <a:off x="3216240" y="1069920"/>
              <a:ext cx="1490760" cy="54252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s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Verantwortlic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9" name=""/>
            <p:cNvGrpSpPr/>
            <p:nvPr/>
          </p:nvGrpSpPr>
          <p:grpSpPr>
            <a:xfrm>
              <a:off x="4527000" y="1172160"/>
              <a:ext cx="115560" cy="291960"/>
              <a:chOff x="4527000" y="1172160"/>
              <a:chExt cx="115560" cy="291960"/>
            </a:xfrm>
          </p:grpSpPr>
          <p:sp>
            <p:nvSpPr>
              <p:cNvPr id="1650" name=""/>
              <p:cNvSpPr/>
              <p:nvPr/>
            </p:nvSpPr>
            <p:spPr>
              <a:xfrm>
                <a:off x="4543200" y="1172160"/>
                <a:ext cx="78840" cy="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4582080" y="1261440"/>
                <a:ext cx="0" cy="11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4582080" y="1381320"/>
                <a:ext cx="4176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H="1">
                <a:off x="4539240" y="1381320"/>
                <a:ext cx="4176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V="1">
                <a:off x="4527000" y="1310040"/>
                <a:ext cx="1155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5" name=""/>
          <p:cNvGrpSpPr/>
          <p:nvPr/>
        </p:nvGrpSpPr>
        <p:grpSpPr>
          <a:xfrm>
            <a:off x="879480" y="1314360"/>
            <a:ext cx="1433520" cy="498240"/>
            <a:chOff x="879480" y="1314360"/>
            <a:chExt cx="1433520" cy="498240"/>
          </a:xfrm>
        </p:grpSpPr>
        <p:sp>
          <p:nvSpPr>
            <p:cNvPr id="1656" name=""/>
            <p:cNvSpPr/>
            <p:nvPr/>
          </p:nvSpPr>
          <p:spPr>
            <a:xfrm>
              <a:off x="879480" y="1314360"/>
              <a:ext cx="1433520" cy="49824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st Mana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7" name=""/>
            <p:cNvGrpSpPr/>
            <p:nvPr/>
          </p:nvGrpSpPr>
          <p:grpSpPr>
            <a:xfrm>
              <a:off x="2139840" y="1408320"/>
              <a:ext cx="111240" cy="268200"/>
              <a:chOff x="2139840" y="1408320"/>
              <a:chExt cx="111240" cy="268200"/>
            </a:xfrm>
          </p:grpSpPr>
          <p:sp>
            <p:nvSpPr>
              <p:cNvPr id="1658" name=""/>
              <p:cNvSpPr/>
              <p:nvPr/>
            </p:nvSpPr>
            <p:spPr>
              <a:xfrm>
                <a:off x="2155320" y="1408320"/>
                <a:ext cx="75960" cy="8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2192760" y="149040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2192760" y="1600560"/>
                <a:ext cx="403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>
                <a:off x="2151000" y="1600560"/>
                <a:ext cx="39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V="1">
                <a:off x="2139840" y="1534680"/>
                <a:ext cx="1112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3" name=""/>
          <p:cNvGrpSpPr/>
          <p:nvPr/>
        </p:nvGrpSpPr>
        <p:grpSpPr>
          <a:xfrm>
            <a:off x="5794200" y="1249200"/>
            <a:ext cx="1549080" cy="520560"/>
            <a:chOff x="5794200" y="1249200"/>
            <a:chExt cx="1549080" cy="520560"/>
          </a:xfrm>
        </p:grpSpPr>
        <p:sp>
          <p:nvSpPr>
            <p:cNvPr id="1664" name=""/>
            <p:cNvSpPr/>
            <p:nvPr/>
          </p:nvSpPr>
          <p:spPr>
            <a:xfrm>
              <a:off x="5794200" y="1249200"/>
              <a:ext cx="1549080" cy="52056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5" name=""/>
            <p:cNvGrpSpPr/>
            <p:nvPr/>
          </p:nvGrpSpPr>
          <p:grpSpPr>
            <a:xfrm>
              <a:off x="7156440" y="1347120"/>
              <a:ext cx="120240" cy="279720"/>
              <a:chOff x="7156440" y="1347120"/>
              <a:chExt cx="120240" cy="279720"/>
            </a:xfrm>
          </p:grpSpPr>
          <p:sp>
            <p:nvSpPr>
              <p:cNvPr id="1666" name=""/>
              <p:cNvSpPr/>
              <p:nvPr/>
            </p:nvSpPr>
            <p:spPr>
              <a:xfrm>
                <a:off x="7173000" y="1347120"/>
                <a:ext cx="82080" cy="8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213680" y="1432800"/>
                <a:ext cx="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213680" y="1547640"/>
                <a:ext cx="435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H="1">
                <a:off x="7169040" y="1547640"/>
                <a:ext cx="4320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V="1">
                <a:off x="7156440" y="1479240"/>
                <a:ext cx="1202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1" name=""/>
          <p:cNvSpPr/>
          <p:nvPr/>
        </p:nvSpPr>
        <p:spPr>
          <a:xfrm>
            <a:off x="1393920" y="1824120"/>
            <a:ext cx="147600" cy="743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5973840" y="1428840"/>
            <a:ext cx="1549080" cy="520200"/>
            <a:chOff x="5973840" y="1428840"/>
            <a:chExt cx="1549080" cy="520200"/>
          </a:xfrm>
        </p:grpSpPr>
        <p:sp>
          <p:nvSpPr>
            <p:cNvPr id="1673" name=""/>
            <p:cNvSpPr/>
            <p:nvPr/>
          </p:nvSpPr>
          <p:spPr>
            <a:xfrm>
              <a:off x="5973840" y="1428840"/>
              <a:ext cx="1549080" cy="52020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4" name=""/>
            <p:cNvGrpSpPr/>
            <p:nvPr/>
          </p:nvGrpSpPr>
          <p:grpSpPr>
            <a:xfrm>
              <a:off x="7336080" y="1526760"/>
              <a:ext cx="120240" cy="279720"/>
              <a:chOff x="7336080" y="1526760"/>
              <a:chExt cx="120240" cy="279720"/>
            </a:xfrm>
          </p:grpSpPr>
          <p:sp>
            <p:nvSpPr>
              <p:cNvPr id="1675" name=""/>
              <p:cNvSpPr/>
              <p:nvPr/>
            </p:nvSpPr>
            <p:spPr>
              <a:xfrm>
                <a:off x="7352640" y="1526760"/>
                <a:ext cx="82080" cy="8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393320" y="1612440"/>
                <a:ext cx="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7393320" y="1727280"/>
                <a:ext cx="435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H="1">
                <a:off x="7348680" y="1727280"/>
                <a:ext cx="4320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>
                <a:off x="7336080" y="1658880"/>
                <a:ext cx="1202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0" name=""/>
          <p:cNvGrpSpPr/>
          <p:nvPr/>
        </p:nvGrpSpPr>
        <p:grpSpPr>
          <a:xfrm>
            <a:off x="6153120" y="1608120"/>
            <a:ext cx="1549080" cy="520200"/>
            <a:chOff x="6153120" y="1608120"/>
            <a:chExt cx="1549080" cy="520200"/>
          </a:xfrm>
        </p:grpSpPr>
        <p:sp>
          <p:nvSpPr>
            <p:cNvPr id="1681" name=""/>
            <p:cNvSpPr/>
            <p:nvPr/>
          </p:nvSpPr>
          <p:spPr>
            <a:xfrm>
              <a:off x="6153120" y="1608120"/>
              <a:ext cx="1549080" cy="52020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2" name=""/>
            <p:cNvGrpSpPr/>
            <p:nvPr/>
          </p:nvGrpSpPr>
          <p:grpSpPr>
            <a:xfrm>
              <a:off x="7515360" y="1706040"/>
              <a:ext cx="120240" cy="279720"/>
              <a:chOff x="7515360" y="1706040"/>
              <a:chExt cx="120240" cy="279720"/>
            </a:xfrm>
          </p:grpSpPr>
          <p:sp>
            <p:nvSpPr>
              <p:cNvPr id="1683" name=""/>
              <p:cNvSpPr/>
              <p:nvPr/>
            </p:nvSpPr>
            <p:spPr>
              <a:xfrm>
                <a:off x="7531920" y="1706040"/>
                <a:ext cx="82080" cy="8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7572600" y="1791720"/>
                <a:ext cx="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7572600" y="1906560"/>
                <a:ext cx="435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>
                <a:off x="7527960" y="1906560"/>
                <a:ext cx="4320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7515360" y="1838160"/>
                <a:ext cx="1202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8" name=""/>
          <p:cNvGrpSpPr/>
          <p:nvPr/>
        </p:nvGrpSpPr>
        <p:grpSpPr>
          <a:xfrm>
            <a:off x="6332400" y="1787400"/>
            <a:ext cx="1549080" cy="520560"/>
            <a:chOff x="6332400" y="1787400"/>
            <a:chExt cx="1549080" cy="520560"/>
          </a:xfrm>
        </p:grpSpPr>
        <p:sp>
          <p:nvSpPr>
            <p:cNvPr id="1689" name=""/>
            <p:cNvSpPr/>
            <p:nvPr/>
          </p:nvSpPr>
          <p:spPr>
            <a:xfrm>
              <a:off x="6332400" y="1787400"/>
              <a:ext cx="1549080" cy="52056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0" name=""/>
            <p:cNvGrpSpPr/>
            <p:nvPr/>
          </p:nvGrpSpPr>
          <p:grpSpPr>
            <a:xfrm>
              <a:off x="7694640" y="1885320"/>
              <a:ext cx="120240" cy="279720"/>
              <a:chOff x="7694640" y="1885320"/>
              <a:chExt cx="120240" cy="279720"/>
            </a:xfrm>
          </p:grpSpPr>
          <p:sp>
            <p:nvSpPr>
              <p:cNvPr id="1691" name=""/>
              <p:cNvSpPr/>
              <p:nvPr/>
            </p:nvSpPr>
            <p:spPr>
              <a:xfrm>
                <a:off x="7711200" y="1885320"/>
                <a:ext cx="82080" cy="8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7751880" y="1971000"/>
                <a:ext cx="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7751880" y="2085840"/>
                <a:ext cx="435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7707240" y="2085840"/>
                <a:ext cx="4320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V="1">
                <a:off x="7694640" y="2017440"/>
                <a:ext cx="1202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6" name=""/>
          <p:cNvGrpSpPr/>
          <p:nvPr/>
        </p:nvGrpSpPr>
        <p:grpSpPr>
          <a:xfrm>
            <a:off x="3395520" y="1249200"/>
            <a:ext cx="1490760" cy="542880"/>
            <a:chOff x="3395520" y="1249200"/>
            <a:chExt cx="1490760" cy="542880"/>
          </a:xfrm>
        </p:grpSpPr>
        <p:sp>
          <p:nvSpPr>
            <p:cNvPr id="1697" name=""/>
            <p:cNvSpPr/>
            <p:nvPr/>
          </p:nvSpPr>
          <p:spPr>
            <a:xfrm>
              <a:off x="3395520" y="1249200"/>
              <a:ext cx="1490760" cy="54288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s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Verantwortlic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8" name=""/>
            <p:cNvGrpSpPr/>
            <p:nvPr/>
          </p:nvGrpSpPr>
          <p:grpSpPr>
            <a:xfrm>
              <a:off x="4706280" y="1351440"/>
              <a:ext cx="115560" cy="292320"/>
              <a:chOff x="4706280" y="1351440"/>
              <a:chExt cx="115560" cy="292320"/>
            </a:xfrm>
          </p:grpSpPr>
          <p:sp>
            <p:nvSpPr>
              <p:cNvPr id="1699" name=""/>
              <p:cNvSpPr/>
              <p:nvPr/>
            </p:nvSpPr>
            <p:spPr>
              <a:xfrm>
                <a:off x="4722480" y="1351440"/>
                <a:ext cx="78840" cy="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761360" y="1441080"/>
                <a:ext cx="0" cy="11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761360" y="1560960"/>
                <a:ext cx="4176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4718520" y="1560960"/>
                <a:ext cx="4176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4706280" y="1489320"/>
                <a:ext cx="1155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4" name=""/>
          <p:cNvGrpSpPr/>
          <p:nvPr/>
        </p:nvGrpSpPr>
        <p:grpSpPr>
          <a:xfrm>
            <a:off x="3575160" y="1428840"/>
            <a:ext cx="1490400" cy="542520"/>
            <a:chOff x="3575160" y="1428840"/>
            <a:chExt cx="1490400" cy="542520"/>
          </a:xfrm>
        </p:grpSpPr>
        <p:sp>
          <p:nvSpPr>
            <p:cNvPr id="1705" name=""/>
            <p:cNvSpPr/>
            <p:nvPr/>
          </p:nvSpPr>
          <p:spPr>
            <a:xfrm>
              <a:off x="3575160" y="1428840"/>
              <a:ext cx="1490400" cy="54252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s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Verantwortlic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6" name=""/>
            <p:cNvGrpSpPr/>
            <p:nvPr/>
          </p:nvGrpSpPr>
          <p:grpSpPr>
            <a:xfrm>
              <a:off x="4885560" y="1531080"/>
              <a:ext cx="115560" cy="291960"/>
              <a:chOff x="4885560" y="1531080"/>
              <a:chExt cx="115560" cy="291960"/>
            </a:xfrm>
          </p:grpSpPr>
          <p:sp>
            <p:nvSpPr>
              <p:cNvPr id="1707" name=""/>
              <p:cNvSpPr/>
              <p:nvPr/>
            </p:nvSpPr>
            <p:spPr>
              <a:xfrm>
                <a:off x="4901760" y="1531080"/>
                <a:ext cx="78840" cy="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4940640" y="1620360"/>
                <a:ext cx="0" cy="11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4940640" y="1740240"/>
                <a:ext cx="4176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4897800" y="1740240"/>
                <a:ext cx="4176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4885560" y="1668960"/>
                <a:ext cx="1155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2" name=""/>
          <p:cNvGrpSpPr/>
          <p:nvPr/>
        </p:nvGrpSpPr>
        <p:grpSpPr>
          <a:xfrm>
            <a:off x="6512040" y="1967040"/>
            <a:ext cx="1549080" cy="520200"/>
            <a:chOff x="6512040" y="1967040"/>
            <a:chExt cx="1549080" cy="520200"/>
          </a:xfrm>
        </p:grpSpPr>
        <p:sp>
          <p:nvSpPr>
            <p:cNvPr id="1713" name=""/>
            <p:cNvSpPr/>
            <p:nvPr/>
          </p:nvSpPr>
          <p:spPr>
            <a:xfrm>
              <a:off x="6512040" y="1967040"/>
              <a:ext cx="1549080" cy="52020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4" name=""/>
            <p:cNvGrpSpPr/>
            <p:nvPr/>
          </p:nvGrpSpPr>
          <p:grpSpPr>
            <a:xfrm>
              <a:off x="7874280" y="2064960"/>
              <a:ext cx="120240" cy="279720"/>
              <a:chOff x="7874280" y="2064960"/>
              <a:chExt cx="120240" cy="279720"/>
            </a:xfrm>
          </p:grpSpPr>
          <p:sp>
            <p:nvSpPr>
              <p:cNvPr id="1715" name=""/>
              <p:cNvSpPr/>
              <p:nvPr/>
            </p:nvSpPr>
            <p:spPr>
              <a:xfrm>
                <a:off x="7890840" y="2064960"/>
                <a:ext cx="82080" cy="8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931520" y="2150640"/>
                <a:ext cx="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931520" y="2265480"/>
                <a:ext cx="435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>
                <a:off x="7886880" y="2265480"/>
                <a:ext cx="4320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V="1">
                <a:off x="7874280" y="2197080"/>
                <a:ext cx="1202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0" name=""/>
          <p:cNvGrpSpPr/>
          <p:nvPr/>
        </p:nvGrpSpPr>
        <p:grpSpPr>
          <a:xfrm>
            <a:off x="6691320" y="2146320"/>
            <a:ext cx="1549080" cy="520200"/>
            <a:chOff x="6691320" y="2146320"/>
            <a:chExt cx="1549080" cy="520200"/>
          </a:xfrm>
        </p:grpSpPr>
        <p:sp>
          <p:nvSpPr>
            <p:cNvPr id="1721" name=""/>
            <p:cNvSpPr/>
            <p:nvPr/>
          </p:nvSpPr>
          <p:spPr>
            <a:xfrm>
              <a:off x="6691320" y="2146320"/>
              <a:ext cx="1549080" cy="52020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8053560" y="2244240"/>
              <a:ext cx="120240" cy="279720"/>
              <a:chOff x="8053560" y="2244240"/>
              <a:chExt cx="120240" cy="279720"/>
            </a:xfrm>
          </p:grpSpPr>
          <p:sp>
            <p:nvSpPr>
              <p:cNvPr id="1723" name=""/>
              <p:cNvSpPr/>
              <p:nvPr/>
            </p:nvSpPr>
            <p:spPr>
              <a:xfrm>
                <a:off x="8070120" y="2244240"/>
                <a:ext cx="82080" cy="8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110800" y="2329920"/>
                <a:ext cx="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8110800" y="2444760"/>
                <a:ext cx="435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8066160" y="2444760"/>
                <a:ext cx="4320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V="1">
                <a:off x="8053560" y="2376360"/>
                <a:ext cx="1202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8" name=""/>
          <p:cNvGrpSpPr/>
          <p:nvPr/>
        </p:nvGrpSpPr>
        <p:grpSpPr>
          <a:xfrm>
            <a:off x="6870600" y="2325600"/>
            <a:ext cx="1549080" cy="520560"/>
            <a:chOff x="6870600" y="2325600"/>
            <a:chExt cx="1549080" cy="520560"/>
          </a:xfrm>
        </p:grpSpPr>
        <p:sp>
          <p:nvSpPr>
            <p:cNvPr id="1729" name=""/>
            <p:cNvSpPr/>
            <p:nvPr/>
          </p:nvSpPr>
          <p:spPr>
            <a:xfrm>
              <a:off x="6870600" y="2325600"/>
              <a:ext cx="1549080" cy="52056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0" name=""/>
            <p:cNvGrpSpPr/>
            <p:nvPr/>
          </p:nvGrpSpPr>
          <p:grpSpPr>
            <a:xfrm>
              <a:off x="8232840" y="2423520"/>
              <a:ext cx="120240" cy="279720"/>
              <a:chOff x="8232840" y="2423520"/>
              <a:chExt cx="120240" cy="279720"/>
            </a:xfrm>
          </p:grpSpPr>
          <p:sp>
            <p:nvSpPr>
              <p:cNvPr id="1731" name=""/>
              <p:cNvSpPr/>
              <p:nvPr/>
            </p:nvSpPr>
            <p:spPr>
              <a:xfrm>
                <a:off x="8249400" y="2423520"/>
                <a:ext cx="82080" cy="8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8290080" y="2509200"/>
                <a:ext cx="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8290080" y="2624040"/>
                <a:ext cx="435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8245440" y="2624040"/>
                <a:ext cx="4320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V="1">
                <a:off x="8232840" y="2555640"/>
                <a:ext cx="1202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6" name=""/>
          <p:cNvGrpSpPr/>
          <p:nvPr/>
        </p:nvGrpSpPr>
        <p:grpSpPr>
          <a:xfrm>
            <a:off x="7050240" y="2505240"/>
            <a:ext cx="1548720" cy="520200"/>
            <a:chOff x="7050240" y="2505240"/>
            <a:chExt cx="1548720" cy="520200"/>
          </a:xfrm>
        </p:grpSpPr>
        <p:sp>
          <p:nvSpPr>
            <p:cNvPr id="1737" name=""/>
            <p:cNvSpPr/>
            <p:nvPr/>
          </p:nvSpPr>
          <p:spPr>
            <a:xfrm>
              <a:off x="7050240" y="2505240"/>
              <a:ext cx="1548720" cy="52020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8" name=""/>
            <p:cNvGrpSpPr/>
            <p:nvPr/>
          </p:nvGrpSpPr>
          <p:grpSpPr>
            <a:xfrm>
              <a:off x="8412480" y="2603160"/>
              <a:ext cx="120240" cy="279720"/>
              <a:chOff x="8412480" y="2603160"/>
              <a:chExt cx="120240" cy="279720"/>
            </a:xfrm>
          </p:grpSpPr>
          <p:sp>
            <p:nvSpPr>
              <p:cNvPr id="1739" name=""/>
              <p:cNvSpPr/>
              <p:nvPr/>
            </p:nvSpPr>
            <p:spPr>
              <a:xfrm>
                <a:off x="8429040" y="2603160"/>
                <a:ext cx="82080" cy="8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8469720" y="2688840"/>
                <a:ext cx="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8469720" y="2803680"/>
                <a:ext cx="435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H="1">
                <a:off x="8425080" y="2803680"/>
                <a:ext cx="4320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V="1">
                <a:off x="8412480" y="2735280"/>
                <a:ext cx="1202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4" name=""/>
          <p:cNvGrpSpPr/>
          <p:nvPr/>
        </p:nvGrpSpPr>
        <p:grpSpPr>
          <a:xfrm>
            <a:off x="7229520" y="2684520"/>
            <a:ext cx="1549080" cy="520200"/>
            <a:chOff x="7229520" y="2684520"/>
            <a:chExt cx="1549080" cy="520200"/>
          </a:xfrm>
        </p:grpSpPr>
        <p:sp>
          <p:nvSpPr>
            <p:cNvPr id="1745" name=""/>
            <p:cNvSpPr/>
            <p:nvPr/>
          </p:nvSpPr>
          <p:spPr>
            <a:xfrm>
              <a:off x="7229520" y="2684520"/>
              <a:ext cx="1549080" cy="52020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6" name=""/>
            <p:cNvGrpSpPr/>
            <p:nvPr/>
          </p:nvGrpSpPr>
          <p:grpSpPr>
            <a:xfrm>
              <a:off x="8591760" y="2782440"/>
              <a:ext cx="120240" cy="279720"/>
              <a:chOff x="8591760" y="2782440"/>
              <a:chExt cx="120240" cy="279720"/>
            </a:xfrm>
          </p:grpSpPr>
          <p:sp>
            <p:nvSpPr>
              <p:cNvPr id="1747" name=""/>
              <p:cNvSpPr/>
              <p:nvPr/>
            </p:nvSpPr>
            <p:spPr>
              <a:xfrm>
                <a:off x="8608320" y="2782440"/>
                <a:ext cx="82080" cy="8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8649000" y="2868120"/>
                <a:ext cx="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8649000" y="2982960"/>
                <a:ext cx="435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H="1">
                <a:off x="8604360" y="2982960"/>
                <a:ext cx="4320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>
                <a:off x="8591760" y="2914560"/>
                <a:ext cx="1202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2" name=""/>
          <p:cNvGrpSpPr/>
          <p:nvPr/>
        </p:nvGrpSpPr>
        <p:grpSpPr>
          <a:xfrm>
            <a:off x="7408800" y="2863800"/>
            <a:ext cx="1549080" cy="520560"/>
            <a:chOff x="7408800" y="2863800"/>
            <a:chExt cx="1549080" cy="520560"/>
          </a:xfrm>
        </p:grpSpPr>
        <p:sp>
          <p:nvSpPr>
            <p:cNvPr id="1753" name=""/>
            <p:cNvSpPr/>
            <p:nvPr/>
          </p:nvSpPr>
          <p:spPr>
            <a:xfrm>
              <a:off x="7408800" y="2863800"/>
              <a:ext cx="1549080" cy="52056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4" name=""/>
            <p:cNvGrpSpPr/>
            <p:nvPr/>
          </p:nvGrpSpPr>
          <p:grpSpPr>
            <a:xfrm>
              <a:off x="8771040" y="2961720"/>
              <a:ext cx="120240" cy="279720"/>
              <a:chOff x="8771040" y="2961720"/>
              <a:chExt cx="120240" cy="279720"/>
            </a:xfrm>
          </p:grpSpPr>
          <p:sp>
            <p:nvSpPr>
              <p:cNvPr id="1755" name=""/>
              <p:cNvSpPr/>
              <p:nvPr/>
            </p:nvSpPr>
            <p:spPr>
              <a:xfrm>
                <a:off x="8787600" y="2961720"/>
                <a:ext cx="82080" cy="8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8828280" y="3047400"/>
                <a:ext cx="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8828280" y="3162240"/>
                <a:ext cx="435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H="1">
                <a:off x="8783640" y="3162240"/>
                <a:ext cx="4320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flipV="1">
                <a:off x="8771040" y="3093840"/>
                <a:ext cx="1202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0" name=""/>
          <p:cNvSpPr/>
          <p:nvPr/>
        </p:nvSpPr>
        <p:spPr>
          <a:xfrm>
            <a:off x="1744560" y="1797120"/>
            <a:ext cx="1166760" cy="30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984320" y="1787400"/>
            <a:ext cx="3657600" cy="304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H="1">
            <a:off x="3846600" y="1982880"/>
            <a:ext cx="217440" cy="61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754520" y="1951200"/>
            <a:ext cx="433440" cy="66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5908680" y="2098800"/>
            <a:ext cx="195120" cy="423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603520" y="2560680"/>
            <a:ext cx="2138400" cy="668160"/>
          </a:xfrm>
          <a:prstGeom prst="rect">
            <a:avLst/>
          </a:prstGeom>
          <a:solidFill>
            <a:srgbClr val="638d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625840" y="2625840"/>
            <a:ext cx="194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efinition und Planung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03080" y="744480"/>
            <a:ext cx="401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storganisation während Konzept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/>
          <p:nvPr/>
        </p:nvSpPr>
        <p:spPr>
          <a:xfrm>
            <a:off x="6170760" y="2502000"/>
            <a:ext cx="2528640" cy="32223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93600" y="1146240"/>
            <a:ext cx="9748800" cy="49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190520" y="2519280"/>
            <a:ext cx="4992840" cy="227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Rechteck 51"/>
          <p:cNvSpPr/>
          <p:nvPr/>
        </p:nvSpPr>
        <p:spPr>
          <a:xfrm>
            <a:off x="171360" y="1255680"/>
            <a:ext cx="3530520" cy="432000"/>
          </a:xfrm>
          <a:prstGeom prst="rect">
            <a:avLst/>
          </a:prstGeom>
          <a:solidFill>
            <a:srgbClr val="dddddd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ahr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hteck 51"/>
          <p:cNvSpPr/>
          <p:nvPr/>
        </p:nvSpPr>
        <p:spPr>
          <a:xfrm>
            <a:off x="3705120" y="1255680"/>
            <a:ext cx="4984920" cy="432000"/>
          </a:xfrm>
          <a:prstGeom prst="rect">
            <a:avLst/>
          </a:prstGeom>
          <a:solidFill>
            <a:srgbClr val="dddddd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ahr 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Rechteck 51"/>
          <p:cNvSpPr/>
          <p:nvPr/>
        </p:nvSpPr>
        <p:spPr>
          <a:xfrm>
            <a:off x="297000" y="2021040"/>
            <a:ext cx="900000" cy="492120"/>
          </a:xfrm>
          <a:prstGeom prst="rect">
            <a:avLst/>
          </a:prstGeom>
          <a:solidFill>
            <a:srgbClr val="777777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Konz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Rechteck 51"/>
          <p:cNvSpPr/>
          <p:nvPr/>
        </p:nvSpPr>
        <p:spPr>
          <a:xfrm>
            <a:off x="8688240" y="1258920"/>
            <a:ext cx="1090800" cy="431640"/>
          </a:xfrm>
          <a:prstGeom prst="rect">
            <a:avLst/>
          </a:prstGeom>
          <a:solidFill>
            <a:srgbClr val="dddddd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ahr n+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198440" y="1697040"/>
            <a:ext cx="1249560" cy="3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Rechteck 51"/>
          <p:cNvSpPr/>
          <p:nvPr/>
        </p:nvSpPr>
        <p:spPr>
          <a:xfrm>
            <a:off x="8715240" y="2030400"/>
            <a:ext cx="1032120" cy="493560"/>
          </a:xfrm>
          <a:prstGeom prst="rect">
            <a:avLst/>
          </a:prstGeom>
          <a:solidFill>
            <a:srgbClr val="777777">
              <a:alpha val="55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abili-si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8713800" y="2523960"/>
            <a:ext cx="1046160" cy="3194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183360" y="2544840"/>
            <a:ext cx="9360" cy="318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8724960" y="25336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201680" y="2913120"/>
            <a:ext cx="166680" cy="180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860400" y="2517840"/>
            <a:ext cx="202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1203480" y="251604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1366920" y="2911320"/>
            <a:ext cx="166680" cy="180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1368360" y="251460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533600" y="2911320"/>
            <a:ext cx="166680" cy="180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535040" y="251460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1698480" y="2909880"/>
            <a:ext cx="176400" cy="179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1700280" y="2509920"/>
            <a:ext cx="166680" cy="40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866960" y="2911320"/>
            <a:ext cx="16668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1868400" y="251460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031840" y="2909880"/>
            <a:ext cx="166680" cy="180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2033640" y="2509920"/>
            <a:ext cx="166680" cy="40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2200320" y="2911320"/>
            <a:ext cx="16668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201760" y="251460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365200" y="2909880"/>
            <a:ext cx="167040" cy="180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367000" y="2509920"/>
            <a:ext cx="166680" cy="40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532240" y="2909880"/>
            <a:ext cx="166680" cy="180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533680" y="2509920"/>
            <a:ext cx="166680" cy="40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697120" y="2908440"/>
            <a:ext cx="166680" cy="180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698920" y="250812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2865600" y="2909880"/>
            <a:ext cx="166680" cy="179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867040" y="2509920"/>
            <a:ext cx="166680" cy="40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030480" y="2908440"/>
            <a:ext cx="166680" cy="180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032280" y="250812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195720" y="2911320"/>
            <a:ext cx="16668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197160" y="251460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360600" y="2909880"/>
            <a:ext cx="166680" cy="180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362400" y="2509920"/>
            <a:ext cx="166680" cy="40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3527280" y="2909880"/>
            <a:ext cx="157320" cy="179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529080" y="2509920"/>
            <a:ext cx="166680" cy="40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692520" y="2908440"/>
            <a:ext cx="166680" cy="179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693960" y="250812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860640" y="2909880"/>
            <a:ext cx="166680" cy="179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862440" y="2509920"/>
            <a:ext cx="166680" cy="40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025880" y="2908440"/>
            <a:ext cx="166680" cy="179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4027320" y="250812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191120" y="2911320"/>
            <a:ext cx="166680" cy="178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192560" y="251460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356000" y="2909880"/>
            <a:ext cx="166680" cy="178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357800" y="2509920"/>
            <a:ext cx="166680" cy="40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522680" y="2909880"/>
            <a:ext cx="166680" cy="179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4524480" y="2509920"/>
            <a:ext cx="166680" cy="40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4687920" y="2908440"/>
            <a:ext cx="166680" cy="179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4689360" y="250812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856040" y="2909880"/>
            <a:ext cx="166680" cy="178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4857840" y="2509920"/>
            <a:ext cx="166680" cy="40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5021280" y="2908440"/>
            <a:ext cx="166680" cy="179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5022720" y="250812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5191200" y="2906640"/>
            <a:ext cx="166680" cy="179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5192640" y="2509920"/>
            <a:ext cx="166680" cy="40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356080" y="2905200"/>
            <a:ext cx="166680" cy="179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357880" y="250812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522760" y="2905200"/>
            <a:ext cx="166680" cy="179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524560" y="250812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688000" y="2913120"/>
            <a:ext cx="166680" cy="178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689440" y="251604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5856120" y="2905200"/>
            <a:ext cx="166680" cy="179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857920" y="250812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021360" y="2913120"/>
            <a:ext cx="157320" cy="179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022800" y="2516040"/>
            <a:ext cx="16704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91280" y="2911320"/>
            <a:ext cx="166680" cy="28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192720" y="251460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356520" y="2909880"/>
            <a:ext cx="166680" cy="28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357960" y="2509920"/>
            <a:ext cx="166680" cy="40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523200" y="2909880"/>
            <a:ext cx="166680" cy="28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524640" y="2509920"/>
            <a:ext cx="166680" cy="40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688080" y="2908440"/>
            <a:ext cx="166680" cy="280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689880" y="250812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6856560" y="2909880"/>
            <a:ext cx="166680" cy="28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858000" y="2509920"/>
            <a:ext cx="166680" cy="40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021440" y="2908440"/>
            <a:ext cx="166680" cy="280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7023240" y="250812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7189920" y="2909880"/>
            <a:ext cx="166680" cy="28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7191360" y="2509920"/>
            <a:ext cx="166680" cy="40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7354800" y="2908440"/>
            <a:ext cx="166680" cy="280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356600" y="250812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521480" y="2908440"/>
            <a:ext cx="166680" cy="280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7523280" y="250812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686720" y="2906640"/>
            <a:ext cx="166680" cy="28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688160" y="2509920"/>
            <a:ext cx="166680" cy="40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854840" y="2908440"/>
            <a:ext cx="166680" cy="280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856640" y="2508120"/>
            <a:ext cx="166680" cy="409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8020080" y="2906640"/>
            <a:ext cx="166680" cy="28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8021520" y="2509920"/>
            <a:ext cx="166680" cy="40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2448000" y="1695600"/>
            <a:ext cx="1249200" cy="32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695760" y="1692360"/>
            <a:ext cx="1249200" cy="32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944960" y="1690560"/>
            <a:ext cx="1249560" cy="3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Rechteck 51"/>
          <p:cNvSpPr/>
          <p:nvPr/>
        </p:nvSpPr>
        <p:spPr>
          <a:xfrm>
            <a:off x="1197000" y="2021040"/>
            <a:ext cx="4989600" cy="493560"/>
          </a:xfrm>
          <a:prstGeom prst="rect">
            <a:avLst/>
          </a:prstGeom>
          <a:solidFill>
            <a:srgbClr val="777777">
              <a:alpha val="55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Realisi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254160" y="1698480"/>
            <a:ext cx="938160" cy="3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97760" y="1692360"/>
            <a:ext cx="1249200" cy="32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7446960" y="1690560"/>
            <a:ext cx="1249200" cy="3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hteck 51"/>
          <p:cNvSpPr/>
          <p:nvPr/>
        </p:nvSpPr>
        <p:spPr>
          <a:xfrm>
            <a:off x="6186600" y="2027160"/>
            <a:ext cx="2517840" cy="493920"/>
          </a:xfrm>
          <a:prstGeom prst="rect">
            <a:avLst/>
          </a:prstGeom>
          <a:solidFill>
            <a:srgbClr val="777777">
              <a:alpha val="55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infüh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8688240" y="1687680"/>
            <a:ext cx="1078200" cy="32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Rechteck 84"/>
          <p:cNvSpPr/>
          <p:nvPr/>
        </p:nvSpPr>
        <p:spPr>
          <a:xfrm>
            <a:off x="1187280" y="3097080"/>
            <a:ext cx="4496040" cy="628920"/>
          </a:xfrm>
          <a:prstGeom prst="rect">
            <a:avLst/>
          </a:prstGeom>
          <a:solidFill>
            <a:srgbClr val="b6c9d8">
              <a:alpha val="82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Functional Unit Test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Rechteck 84"/>
          <p:cNvSpPr/>
          <p:nvPr/>
        </p:nvSpPr>
        <p:spPr>
          <a:xfrm>
            <a:off x="5773680" y="3095640"/>
            <a:ext cx="3963960" cy="628560"/>
          </a:xfrm>
          <a:prstGeom prst="rect">
            <a:avLst/>
          </a:prstGeom>
          <a:solidFill>
            <a:srgbClr val="b6c9d8">
              <a:alpha val="83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Issue Manag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Rechteck 99"/>
          <p:cNvSpPr/>
          <p:nvPr/>
        </p:nvSpPr>
        <p:spPr>
          <a:xfrm>
            <a:off x="1197000" y="3362400"/>
            <a:ext cx="150840" cy="133200"/>
          </a:xfrm>
          <a:custGeom>
            <a:avLst/>
            <a:gdLst>
              <a:gd name="textAreaLeft" fmla="*/ 0 w 150840"/>
              <a:gd name="textAreaRight" fmla="*/ 151200 w 1508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Rechteck 99"/>
          <p:cNvSpPr/>
          <p:nvPr/>
        </p:nvSpPr>
        <p:spPr>
          <a:xfrm>
            <a:off x="1376280" y="3541680"/>
            <a:ext cx="150840" cy="133560"/>
          </a:xfrm>
          <a:custGeom>
            <a:avLst/>
            <a:gdLst>
              <a:gd name="textAreaLeft" fmla="*/ 0 w 150840"/>
              <a:gd name="textAreaRight" fmla="*/ 151200 w 1508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Rechteck 99"/>
          <p:cNvSpPr/>
          <p:nvPr/>
        </p:nvSpPr>
        <p:spPr>
          <a:xfrm>
            <a:off x="1528920" y="3360600"/>
            <a:ext cx="150480" cy="133560"/>
          </a:xfrm>
          <a:custGeom>
            <a:avLst/>
            <a:gdLst>
              <a:gd name="textAreaLeft" fmla="*/ 0 w 150480"/>
              <a:gd name="textAreaRight" fmla="*/ 150840 w 1504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Rechteck 99"/>
          <p:cNvSpPr/>
          <p:nvPr/>
        </p:nvSpPr>
        <p:spPr>
          <a:xfrm>
            <a:off x="1708200" y="3540240"/>
            <a:ext cx="150840" cy="133200"/>
          </a:xfrm>
          <a:custGeom>
            <a:avLst/>
            <a:gdLst>
              <a:gd name="textAreaLeft" fmla="*/ 0 w 150840"/>
              <a:gd name="textAreaRight" fmla="*/ 151200 w 1508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Rechteck 99"/>
          <p:cNvSpPr/>
          <p:nvPr/>
        </p:nvSpPr>
        <p:spPr>
          <a:xfrm>
            <a:off x="1862280" y="3351240"/>
            <a:ext cx="150840" cy="133200"/>
          </a:xfrm>
          <a:custGeom>
            <a:avLst/>
            <a:gdLst>
              <a:gd name="textAreaLeft" fmla="*/ 0 w 150840"/>
              <a:gd name="textAreaRight" fmla="*/ 151200 w 1508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hteck 99"/>
          <p:cNvSpPr/>
          <p:nvPr/>
        </p:nvSpPr>
        <p:spPr>
          <a:xfrm>
            <a:off x="2041560" y="3530520"/>
            <a:ext cx="150840" cy="133560"/>
          </a:xfrm>
          <a:custGeom>
            <a:avLst/>
            <a:gdLst>
              <a:gd name="textAreaLeft" fmla="*/ 0 w 150840"/>
              <a:gd name="textAreaRight" fmla="*/ 151200 w 1508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Rechteck 99"/>
          <p:cNvSpPr/>
          <p:nvPr/>
        </p:nvSpPr>
        <p:spPr>
          <a:xfrm>
            <a:off x="2193840" y="3349800"/>
            <a:ext cx="150840" cy="133200"/>
          </a:xfrm>
          <a:custGeom>
            <a:avLst/>
            <a:gdLst>
              <a:gd name="textAreaLeft" fmla="*/ 0 w 150840"/>
              <a:gd name="textAreaRight" fmla="*/ 151200 w 1508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Rechteck 99"/>
          <p:cNvSpPr/>
          <p:nvPr/>
        </p:nvSpPr>
        <p:spPr>
          <a:xfrm>
            <a:off x="2373480" y="3529080"/>
            <a:ext cx="150480" cy="133200"/>
          </a:xfrm>
          <a:custGeom>
            <a:avLst/>
            <a:gdLst>
              <a:gd name="textAreaLeft" fmla="*/ 0 w 150480"/>
              <a:gd name="textAreaRight" fmla="*/ 150840 w 15048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Rechteck 99"/>
          <p:cNvSpPr/>
          <p:nvPr/>
        </p:nvSpPr>
        <p:spPr>
          <a:xfrm>
            <a:off x="2538360" y="3360600"/>
            <a:ext cx="150840" cy="133560"/>
          </a:xfrm>
          <a:custGeom>
            <a:avLst/>
            <a:gdLst>
              <a:gd name="textAreaLeft" fmla="*/ 0 w 150840"/>
              <a:gd name="textAreaRight" fmla="*/ 151200 w 1508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Rechteck 99"/>
          <p:cNvSpPr/>
          <p:nvPr/>
        </p:nvSpPr>
        <p:spPr>
          <a:xfrm>
            <a:off x="2717640" y="3540240"/>
            <a:ext cx="150840" cy="133200"/>
          </a:xfrm>
          <a:custGeom>
            <a:avLst/>
            <a:gdLst>
              <a:gd name="textAreaLeft" fmla="*/ 0 w 150840"/>
              <a:gd name="textAreaRight" fmla="*/ 151200 w 1508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Rechteck 99"/>
          <p:cNvSpPr/>
          <p:nvPr/>
        </p:nvSpPr>
        <p:spPr>
          <a:xfrm>
            <a:off x="2870280" y="3359160"/>
            <a:ext cx="150840" cy="133200"/>
          </a:xfrm>
          <a:custGeom>
            <a:avLst/>
            <a:gdLst>
              <a:gd name="textAreaLeft" fmla="*/ 0 w 150840"/>
              <a:gd name="textAreaRight" fmla="*/ 151200 w 1508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Rechteck 99"/>
          <p:cNvSpPr/>
          <p:nvPr/>
        </p:nvSpPr>
        <p:spPr>
          <a:xfrm>
            <a:off x="3049560" y="3538440"/>
            <a:ext cx="150840" cy="133560"/>
          </a:xfrm>
          <a:custGeom>
            <a:avLst/>
            <a:gdLst>
              <a:gd name="textAreaLeft" fmla="*/ 0 w 150840"/>
              <a:gd name="textAreaRight" fmla="*/ 151200 w 1508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Rechteck 99"/>
          <p:cNvSpPr/>
          <p:nvPr/>
        </p:nvSpPr>
        <p:spPr>
          <a:xfrm>
            <a:off x="3203640" y="3349800"/>
            <a:ext cx="150840" cy="133200"/>
          </a:xfrm>
          <a:custGeom>
            <a:avLst/>
            <a:gdLst>
              <a:gd name="textAreaLeft" fmla="*/ 0 w 150840"/>
              <a:gd name="textAreaRight" fmla="*/ 151200 w 1508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Rechteck 99"/>
          <p:cNvSpPr/>
          <p:nvPr/>
        </p:nvSpPr>
        <p:spPr>
          <a:xfrm>
            <a:off x="3382920" y="3529080"/>
            <a:ext cx="150840" cy="133200"/>
          </a:xfrm>
          <a:custGeom>
            <a:avLst/>
            <a:gdLst>
              <a:gd name="textAreaLeft" fmla="*/ 0 w 150840"/>
              <a:gd name="textAreaRight" fmla="*/ 151200 w 1508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Rechteck 99"/>
          <p:cNvSpPr/>
          <p:nvPr/>
        </p:nvSpPr>
        <p:spPr>
          <a:xfrm>
            <a:off x="3535200" y="3348000"/>
            <a:ext cx="150840" cy="133560"/>
          </a:xfrm>
          <a:custGeom>
            <a:avLst/>
            <a:gdLst>
              <a:gd name="textAreaLeft" fmla="*/ 0 w 150840"/>
              <a:gd name="textAreaRight" fmla="*/ 151200 w 1508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Rechteck 99"/>
          <p:cNvSpPr/>
          <p:nvPr/>
        </p:nvSpPr>
        <p:spPr>
          <a:xfrm>
            <a:off x="3714840" y="3527280"/>
            <a:ext cx="150840" cy="133560"/>
          </a:xfrm>
          <a:custGeom>
            <a:avLst/>
            <a:gdLst>
              <a:gd name="textAreaLeft" fmla="*/ 0 w 150840"/>
              <a:gd name="textAreaRight" fmla="*/ 151200 w 1508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Rechteck 99"/>
          <p:cNvSpPr/>
          <p:nvPr/>
        </p:nvSpPr>
        <p:spPr>
          <a:xfrm>
            <a:off x="3890880" y="3341520"/>
            <a:ext cx="150840" cy="133560"/>
          </a:xfrm>
          <a:custGeom>
            <a:avLst/>
            <a:gdLst>
              <a:gd name="textAreaLeft" fmla="*/ 0 w 150840"/>
              <a:gd name="textAreaRight" fmla="*/ 151200 w 1508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Rechteck 99"/>
          <p:cNvSpPr/>
          <p:nvPr/>
        </p:nvSpPr>
        <p:spPr>
          <a:xfrm>
            <a:off x="4070520" y="3521160"/>
            <a:ext cx="150480" cy="133200"/>
          </a:xfrm>
          <a:custGeom>
            <a:avLst/>
            <a:gdLst>
              <a:gd name="textAreaLeft" fmla="*/ 0 w 150480"/>
              <a:gd name="textAreaRight" fmla="*/ 150840 w 15048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Rechteck 99"/>
          <p:cNvSpPr/>
          <p:nvPr/>
        </p:nvSpPr>
        <p:spPr>
          <a:xfrm>
            <a:off x="4222800" y="3340080"/>
            <a:ext cx="150840" cy="133200"/>
          </a:xfrm>
          <a:custGeom>
            <a:avLst/>
            <a:gdLst>
              <a:gd name="textAreaLeft" fmla="*/ 0 w 150840"/>
              <a:gd name="textAreaRight" fmla="*/ 151200 w 1508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Rechteck 99"/>
          <p:cNvSpPr/>
          <p:nvPr/>
        </p:nvSpPr>
        <p:spPr>
          <a:xfrm>
            <a:off x="4402080" y="3519360"/>
            <a:ext cx="150840" cy="133560"/>
          </a:xfrm>
          <a:custGeom>
            <a:avLst/>
            <a:gdLst>
              <a:gd name="textAreaLeft" fmla="*/ 0 w 150840"/>
              <a:gd name="textAreaRight" fmla="*/ 151200 w 1508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Rechteck 99"/>
          <p:cNvSpPr/>
          <p:nvPr/>
        </p:nvSpPr>
        <p:spPr>
          <a:xfrm>
            <a:off x="4556160" y="3330720"/>
            <a:ext cx="150840" cy="133200"/>
          </a:xfrm>
          <a:custGeom>
            <a:avLst/>
            <a:gdLst>
              <a:gd name="textAreaLeft" fmla="*/ 0 w 150840"/>
              <a:gd name="textAreaRight" fmla="*/ 151200 w 1508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Rechteck 99"/>
          <p:cNvSpPr/>
          <p:nvPr/>
        </p:nvSpPr>
        <p:spPr>
          <a:xfrm>
            <a:off x="4735440" y="3510000"/>
            <a:ext cx="150840" cy="133200"/>
          </a:xfrm>
          <a:custGeom>
            <a:avLst/>
            <a:gdLst>
              <a:gd name="textAreaLeft" fmla="*/ 0 w 150840"/>
              <a:gd name="textAreaRight" fmla="*/ 151200 w 1508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Rechteck 99"/>
          <p:cNvSpPr/>
          <p:nvPr/>
        </p:nvSpPr>
        <p:spPr>
          <a:xfrm>
            <a:off x="4888080" y="3328920"/>
            <a:ext cx="150480" cy="133560"/>
          </a:xfrm>
          <a:custGeom>
            <a:avLst/>
            <a:gdLst>
              <a:gd name="textAreaLeft" fmla="*/ 0 w 150480"/>
              <a:gd name="textAreaRight" fmla="*/ 150840 w 1504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Rechteck 99"/>
          <p:cNvSpPr/>
          <p:nvPr/>
        </p:nvSpPr>
        <p:spPr>
          <a:xfrm>
            <a:off x="5067360" y="3508200"/>
            <a:ext cx="150840" cy="133560"/>
          </a:xfrm>
          <a:custGeom>
            <a:avLst/>
            <a:gdLst>
              <a:gd name="textAreaLeft" fmla="*/ 0 w 150840"/>
              <a:gd name="textAreaRight" fmla="*/ 151200 w 1508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Rechteck 99"/>
          <p:cNvSpPr/>
          <p:nvPr/>
        </p:nvSpPr>
        <p:spPr>
          <a:xfrm>
            <a:off x="5200560" y="3346560"/>
            <a:ext cx="150840" cy="133200"/>
          </a:xfrm>
          <a:custGeom>
            <a:avLst/>
            <a:gdLst>
              <a:gd name="textAreaLeft" fmla="*/ 0 w 150840"/>
              <a:gd name="textAreaRight" fmla="*/ 151200 w 1508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Rechteck 99"/>
          <p:cNvSpPr/>
          <p:nvPr/>
        </p:nvSpPr>
        <p:spPr>
          <a:xfrm>
            <a:off x="5380200" y="3525840"/>
            <a:ext cx="150480" cy="133200"/>
          </a:xfrm>
          <a:custGeom>
            <a:avLst/>
            <a:gdLst>
              <a:gd name="textAreaLeft" fmla="*/ 0 w 150480"/>
              <a:gd name="textAreaRight" fmla="*/ 150840 w 15048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Rechteck 99"/>
          <p:cNvSpPr/>
          <p:nvPr/>
        </p:nvSpPr>
        <p:spPr>
          <a:xfrm>
            <a:off x="5532480" y="3344760"/>
            <a:ext cx="150840" cy="133560"/>
          </a:xfrm>
          <a:custGeom>
            <a:avLst/>
            <a:gdLst>
              <a:gd name="textAreaLeft" fmla="*/ 0 w 150840"/>
              <a:gd name="textAreaRight" fmla="*/ 151200 w 1508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Rechteck 84"/>
          <p:cNvSpPr/>
          <p:nvPr/>
        </p:nvSpPr>
        <p:spPr>
          <a:xfrm>
            <a:off x="1519200" y="3905280"/>
            <a:ext cx="4903920" cy="627120"/>
          </a:xfrm>
          <a:prstGeom prst="rect">
            <a:avLst/>
          </a:prstGeom>
          <a:solidFill>
            <a:srgbClr val="e5efeb">
              <a:alpha val="83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Integration-Tes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Rechteck 99"/>
          <p:cNvSpPr/>
          <p:nvPr/>
        </p:nvSpPr>
        <p:spPr>
          <a:xfrm>
            <a:off x="1550880" y="4226040"/>
            <a:ext cx="123840" cy="152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Rechteck 99"/>
          <p:cNvSpPr/>
          <p:nvPr/>
        </p:nvSpPr>
        <p:spPr>
          <a:xfrm>
            <a:off x="1725480" y="4224240"/>
            <a:ext cx="123840" cy="15264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Rechteck 99"/>
          <p:cNvSpPr/>
          <p:nvPr/>
        </p:nvSpPr>
        <p:spPr>
          <a:xfrm>
            <a:off x="1887480" y="4229280"/>
            <a:ext cx="123840" cy="152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Rechteck 99"/>
          <p:cNvSpPr/>
          <p:nvPr/>
        </p:nvSpPr>
        <p:spPr>
          <a:xfrm>
            <a:off x="2062080" y="4227480"/>
            <a:ext cx="123840" cy="152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Rechteck 99"/>
          <p:cNvSpPr/>
          <p:nvPr/>
        </p:nvSpPr>
        <p:spPr>
          <a:xfrm>
            <a:off x="2230560" y="4229280"/>
            <a:ext cx="123840" cy="152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Rechteck 99"/>
          <p:cNvSpPr/>
          <p:nvPr/>
        </p:nvSpPr>
        <p:spPr>
          <a:xfrm>
            <a:off x="2405160" y="4227480"/>
            <a:ext cx="123840" cy="152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Rechteck 99"/>
          <p:cNvSpPr/>
          <p:nvPr/>
        </p:nvSpPr>
        <p:spPr>
          <a:xfrm>
            <a:off x="2567160" y="4232160"/>
            <a:ext cx="123480" cy="152640"/>
          </a:xfrm>
          <a:custGeom>
            <a:avLst/>
            <a:gdLst>
              <a:gd name="textAreaLeft" fmla="*/ 0 w 123480"/>
              <a:gd name="textAreaRight" fmla="*/ 123840 w 123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Rechteck 99"/>
          <p:cNvSpPr/>
          <p:nvPr/>
        </p:nvSpPr>
        <p:spPr>
          <a:xfrm>
            <a:off x="2732040" y="4230720"/>
            <a:ext cx="123840" cy="152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hteck 99"/>
          <p:cNvSpPr/>
          <p:nvPr/>
        </p:nvSpPr>
        <p:spPr>
          <a:xfrm>
            <a:off x="2900520" y="4227480"/>
            <a:ext cx="123840" cy="152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hteck 99"/>
          <p:cNvSpPr/>
          <p:nvPr/>
        </p:nvSpPr>
        <p:spPr>
          <a:xfrm>
            <a:off x="3062160" y="4232160"/>
            <a:ext cx="123840" cy="15264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Rechteck 99"/>
          <p:cNvSpPr/>
          <p:nvPr/>
        </p:nvSpPr>
        <p:spPr>
          <a:xfrm>
            <a:off x="3236760" y="4230720"/>
            <a:ext cx="123840" cy="152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Rechteck 99"/>
          <p:cNvSpPr/>
          <p:nvPr/>
        </p:nvSpPr>
        <p:spPr>
          <a:xfrm>
            <a:off x="3387600" y="4229280"/>
            <a:ext cx="123840" cy="152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Rechteck 99"/>
          <p:cNvSpPr/>
          <p:nvPr/>
        </p:nvSpPr>
        <p:spPr>
          <a:xfrm>
            <a:off x="3552840" y="4227480"/>
            <a:ext cx="123840" cy="152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Rechteck 99"/>
          <p:cNvSpPr/>
          <p:nvPr/>
        </p:nvSpPr>
        <p:spPr>
          <a:xfrm>
            <a:off x="3714840" y="4232160"/>
            <a:ext cx="123840" cy="15264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Rechteck 99"/>
          <p:cNvSpPr/>
          <p:nvPr/>
        </p:nvSpPr>
        <p:spPr>
          <a:xfrm>
            <a:off x="3889440" y="4230720"/>
            <a:ext cx="123840" cy="152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Rechteck 99"/>
          <p:cNvSpPr/>
          <p:nvPr/>
        </p:nvSpPr>
        <p:spPr>
          <a:xfrm>
            <a:off x="4044960" y="4233960"/>
            <a:ext cx="123840" cy="152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Rechteck 99"/>
          <p:cNvSpPr/>
          <p:nvPr/>
        </p:nvSpPr>
        <p:spPr>
          <a:xfrm>
            <a:off x="4219560" y="4232160"/>
            <a:ext cx="123840" cy="15264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hteck 99"/>
          <p:cNvSpPr/>
          <p:nvPr/>
        </p:nvSpPr>
        <p:spPr>
          <a:xfrm>
            <a:off x="4381560" y="4237200"/>
            <a:ext cx="123840" cy="152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Rechteck 99"/>
          <p:cNvSpPr/>
          <p:nvPr/>
        </p:nvSpPr>
        <p:spPr>
          <a:xfrm>
            <a:off x="4556160" y="4235400"/>
            <a:ext cx="123840" cy="152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Rechteck 99"/>
          <p:cNvSpPr/>
          <p:nvPr/>
        </p:nvSpPr>
        <p:spPr>
          <a:xfrm>
            <a:off x="4722840" y="4235400"/>
            <a:ext cx="123840" cy="152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Rechteck 99"/>
          <p:cNvSpPr/>
          <p:nvPr/>
        </p:nvSpPr>
        <p:spPr>
          <a:xfrm>
            <a:off x="4897440" y="4233960"/>
            <a:ext cx="123840" cy="152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Rechteck 99"/>
          <p:cNvSpPr/>
          <p:nvPr/>
        </p:nvSpPr>
        <p:spPr>
          <a:xfrm>
            <a:off x="5048280" y="4232160"/>
            <a:ext cx="123840" cy="15264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Rechteck 99"/>
          <p:cNvSpPr/>
          <p:nvPr/>
        </p:nvSpPr>
        <p:spPr>
          <a:xfrm>
            <a:off x="5213520" y="4230720"/>
            <a:ext cx="123480" cy="152280"/>
          </a:xfrm>
          <a:custGeom>
            <a:avLst/>
            <a:gdLst>
              <a:gd name="textAreaLeft" fmla="*/ 0 w 123480"/>
              <a:gd name="textAreaRight" fmla="*/ 123840 w 123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Rechteck 99"/>
          <p:cNvSpPr/>
          <p:nvPr/>
        </p:nvSpPr>
        <p:spPr>
          <a:xfrm>
            <a:off x="5375160" y="4235400"/>
            <a:ext cx="123840" cy="152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Rechteck 99"/>
          <p:cNvSpPr/>
          <p:nvPr/>
        </p:nvSpPr>
        <p:spPr>
          <a:xfrm>
            <a:off x="5549760" y="4233960"/>
            <a:ext cx="123840" cy="152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Rechteck 99"/>
          <p:cNvSpPr/>
          <p:nvPr/>
        </p:nvSpPr>
        <p:spPr>
          <a:xfrm>
            <a:off x="5705640" y="4237200"/>
            <a:ext cx="123840" cy="152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Rechteck 99"/>
          <p:cNvSpPr/>
          <p:nvPr/>
        </p:nvSpPr>
        <p:spPr>
          <a:xfrm>
            <a:off x="5880240" y="4235400"/>
            <a:ext cx="123840" cy="152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Rechteck 99"/>
          <p:cNvSpPr/>
          <p:nvPr/>
        </p:nvSpPr>
        <p:spPr>
          <a:xfrm>
            <a:off x="6041880" y="4240080"/>
            <a:ext cx="123840" cy="15264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Rechteck 99"/>
          <p:cNvSpPr/>
          <p:nvPr/>
        </p:nvSpPr>
        <p:spPr>
          <a:xfrm>
            <a:off x="6216480" y="4238640"/>
            <a:ext cx="123840" cy="152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Rechteck 97"/>
          <p:cNvSpPr/>
          <p:nvPr/>
        </p:nvSpPr>
        <p:spPr>
          <a:xfrm>
            <a:off x="6189840" y="4789440"/>
            <a:ext cx="2028600" cy="719280"/>
          </a:xfrm>
          <a:prstGeom prst="rect">
            <a:avLst/>
          </a:prstGeom>
          <a:solidFill>
            <a:srgbClr val="efebcc">
              <a:alpha val="79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Abnahme-Tes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Rechteck 99"/>
          <p:cNvSpPr/>
          <p:nvPr/>
        </p:nvSpPr>
        <p:spPr>
          <a:xfrm>
            <a:off x="6199200" y="5149800"/>
            <a:ext cx="150840" cy="236520"/>
          </a:xfrm>
          <a:custGeom>
            <a:avLst/>
            <a:gdLst>
              <a:gd name="textAreaLeft" fmla="*/ 0 w 150840"/>
              <a:gd name="textAreaRight" fmla="*/ 151200 w 150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Rechteck 99"/>
          <p:cNvSpPr/>
          <p:nvPr/>
        </p:nvSpPr>
        <p:spPr>
          <a:xfrm>
            <a:off x="6372360" y="5151600"/>
            <a:ext cx="150840" cy="236520"/>
          </a:xfrm>
          <a:custGeom>
            <a:avLst/>
            <a:gdLst>
              <a:gd name="textAreaLeft" fmla="*/ 0 w 150840"/>
              <a:gd name="textAreaRight" fmla="*/ 151200 w 150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Rechteck 99"/>
          <p:cNvSpPr/>
          <p:nvPr/>
        </p:nvSpPr>
        <p:spPr>
          <a:xfrm>
            <a:off x="6537240" y="5151600"/>
            <a:ext cx="150840" cy="236520"/>
          </a:xfrm>
          <a:custGeom>
            <a:avLst/>
            <a:gdLst>
              <a:gd name="textAreaLeft" fmla="*/ 0 w 150840"/>
              <a:gd name="textAreaRight" fmla="*/ 151200 w 150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Rechteck 99"/>
          <p:cNvSpPr/>
          <p:nvPr/>
        </p:nvSpPr>
        <p:spPr>
          <a:xfrm>
            <a:off x="6710400" y="5153040"/>
            <a:ext cx="150840" cy="236520"/>
          </a:xfrm>
          <a:custGeom>
            <a:avLst/>
            <a:gdLst>
              <a:gd name="textAreaLeft" fmla="*/ 0 w 150840"/>
              <a:gd name="textAreaRight" fmla="*/ 151200 w 150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Rechteck 99"/>
          <p:cNvSpPr/>
          <p:nvPr/>
        </p:nvSpPr>
        <p:spPr>
          <a:xfrm>
            <a:off x="6880320" y="5151600"/>
            <a:ext cx="150840" cy="236520"/>
          </a:xfrm>
          <a:custGeom>
            <a:avLst/>
            <a:gdLst>
              <a:gd name="textAreaLeft" fmla="*/ 0 w 150840"/>
              <a:gd name="textAreaRight" fmla="*/ 151200 w 150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Rechteck 99"/>
          <p:cNvSpPr/>
          <p:nvPr/>
        </p:nvSpPr>
        <p:spPr>
          <a:xfrm>
            <a:off x="7053120" y="5153040"/>
            <a:ext cx="150840" cy="236520"/>
          </a:xfrm>
          <a:custGeom>
            <a:avLst/>
            <a:gdLst>
              <a:gd name="textAreaLeft" fmla="*/ 0 w 150840"/>
              <a:gd name="textAreaRight" fmla="*/ 151200 w 150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Rechteck 99"/>
          <p:cNvSpPr/>
          <p:nvPr/>
        </p:nvSpPr>
        <p:spPr>
          <a:xfrm>
            <a:off x="7218360" y="5153040"/>
            <a:ext cx="150840" cy="236520"/>
          </a:xfrm>
          <a:custGeom>
            <a:avLst/>
            <a:gdLst>
              <a:gd name="textAreaLeft" fmla="*/ 0 w 150840"/>
              <a:gd name="textAreaRight" fmla="*/ 151200 w 150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Rechteck 99"/>
          <p:cNvSpPr/>
          <p:nvPr/>
        </p:nvSpPr>
        <p:spPr>
          <a:xfrm>
            <a:off x="7391520" y="5154480"/>
            <a:ext cx="150840" cy="236520"/>
          </a:xfrm>
          <a:custGeom>
            <a:avLst/>
            <a:gdLst>
              <a:gd name="textAreaLeft" fmla="*/ 0 w 150840"/>
              <a:gd name="textAreaRight" fmla="*/ 151200 w 150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Rechteck 99"/>
          <p:cNvSpPr/>
          <p:nvPr/>
        </p:nvSpPr>
        <p:spPr>
          <a:xfrm>
            <a:off x="7547040" y="5157720"/>
            <a:ext cx="150840" cy="236520"/>
          </a:xfrm>
          <a:custGeom>
            <a:avLst/>
            <a:gdLst>
              <a:gd name="textAreaLeft" fmla="*/ 0 w 150840"/>
              <a:gd name="textAreaRight" fmla="*/ 151200 w 150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Rechteck 99"/>
          <p:cNvSpPr/>
          <p:nvPr/>
        </p:nvSpPr>
        <p:spPr>
          <a:xfrm>
            <a:off x="7719840" y="5159520"/>
            <a:ext cx="150840" cy="236520"/>
          </a:xfrm>
          <a:custGeom>
            <a:avLst/>
            <a:gdLst>
              <a:gd name="textAreaLeft" fmla="*/ 0 w 150840"/>
              <a:gd name="textAreaRight" fmla="*/ 151200 w 150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Rechteck 99"/>
          <p:cNvSpPr/>
          <p:nvPr/>
        </p:nvSpPr>
        <p:spPr>
          <a:xfrm>
            <a:off x="7885080" y="5159520"/>
            <a:ext cx="150840" cy="236520"/>
          </a:xfrm>
          <a:custGeom>
            <a:avLst/>
            <a:gdLst>
              <a:gd name="textAreaLeft" fmla="*/ 0 w 150840"/>
              <a:gd name="textAreaRight" fmla="*/ 151200 w 150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Rechteck 99"/>
          <p:cNvSpPr/>
          <p:nvPr/>
        </p:nvSpPr>
        <p:spPr>
          <a:xfrm>
            <a:off x="8058240" y="5160960"/>
            <a:ext cx="150840" cy="236520"/>
          </a:xfrm>
          <a:custGeom>
            <a:avLst/>
            <a:gdLst>
              <a:gd name="textAreaLeft" fmla="*/ 0 w 150840"/>
              <a:gd name="textAreaRight" fmla="*/ 151200 w 150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199200" y="24940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1198440" y="251316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132840" y="914400"/>
            <a:ext cx="4717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 der Testphasen mit einem iterativen Ansat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1316160" y="1407960"/>
            <a:ext cx="6449760" cy="483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0" y="2104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Rechteck 84"/>
          <p:cNvSpPr/>
          <p:nvPr/>
        </p:nvSpPr>
        <p:spPr>
          <a:xfrm>
            <a:off x="1601640" y="3871800"/>
            <a:ext cx="5662800" cy="619200"/>
          </a:xfrm>
          <a:prstGeom prst="rect">
            <a:avLst/>
          </a:prstGeom>
          <a:solidFill>
            <a:srgbClr val="ffffcc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leas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Rechteck 53"/>
          <p:cNvSpPr/>
          <p:nvPr/>
        </p:nvSpPr>
        <p:spPr>
          <a:xfrm>
            <a:off x="2232000" y="1395360"/>
            <a:ext cx="2243160" cy="52092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au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Gerade Verbindung 8"/>
          <p:cNvSpPr/>
          <p:nvPr/>
        </p:nvSpPr>
        <p:spPr>
          <a:xfrm flipH="1">
            <a:off x="2225160" y="1928880"/>
            <a:ext cx="19080" cy="422892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Rechteck 53"/>
          <p:cNvSpPr/>
          <p:nvPr/>
        </p:nvSpPr>
        <p:spPr>
          <a:xfrm>
            <a:off x="4478400" y="1393920"/>
            <a:ext cx="2243160" cy="5205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au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Rechteck 53"/>
          <p:cNvSpPr/>
          <p:nvPr/>
        </p:nvSpPr>
        <p:spPr>
          <a:xfrm>
            <a:off x="6705720" y="1392120"/>
            <a:ext cx="909360" cy="52092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au 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Rechteck 84"/>
          <p:cNvSpPr/>
          <p:nvPr/>
        </p:nvSpPr>
        <p:spPr>
          <a:xfrm>
            <a:off x="1411200" y="2023920"/>
            <a:ext cx="6158160" cy="1474920"/>
          </a:xfrm>
          <a:prstGeom prst="rect">
            <a:avLst/>
          </a:prstGeom>
          <a:solidFill>
            <a:srgbClr val="b6c9d8">
              <a:alpha val="82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Parametrisierung und Fu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Rechteck 84"/>
          <p:cNvSpPr/>
          <p:nvPr/>
        </p:nvSpPr>
        <p:spPr>
          <a:xfrm>
            <a:off x="2274840" y="2340000"/>
            <a:ext cx="2062080" cy="426960"/>
          </a:xfrm>
          <a:prstGeom prst="rect">
            <a:avLst/>
          </a:prstGeom>
          <a:solidFill>
            <a:srgbClr val="ffffff">
              <a:alpha val="63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rametrisi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au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Rechteck 84"/>
          <p:cNvSpPr/>
          <p:nvPr/>
        </p:nvSpPr>
        <p:spPr>
          <a:xfrm>
            <a:off x="2471760" y="3052800"/>
            <a:ext cx="1936800" cy="3603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59" y="0"/>
                </a:lnTo>
                <a:lnTo>
                  <a:pt x="21600" y="10800"/>
                </a:lnTo>
                <a:lnTo>
                  <a:pt x="20859" y="21600"/>
                </a:lnTo>
                <a:lnTo>
                  <a:pt x="0" y="21600"/>
                </a:lnTo>
                <a:lnTo>
                  <a:pt x="741" y="10800"/>
                </a:lnTo>
                <a:close/>
              </a:path>
            </a:pathLst>
          </a:custGeom>
          <a:solidFill>
            <a:srgbClr val="ffffff">
              <a:alpha val="63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uT Bau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814480" y="2765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979720" y="2765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144960" y="2765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309840" y="2765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476520" y="2765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641760" y="2765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3807000" y="2765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973680" y="2765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138560" y="2765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2492280" y="2773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657520" y="2773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Rechteck 84"/>
          <p:cNvSpPr/>
          <p:nvPr/>
        </p:nvSpPr>
        <p:spPr>
          <a:xfrm>
            <a:off x="4511520" y="2338560"/>
            <a:ext cx="2062440" cy="426960"/>
          </a:xfrm>
          <a:prstGeom prst="rect">
            <a:avLst/>
          </a:prstGeom>
          <a:solidFill>
            <a:srgbClr val="ffffff">
              <a:alpha val="63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rametrisi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au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Rechteck 84"/>
          <p:cNvSpPr/>
          <p:nvPr/>
        </p:nvSpPr>
        <p:spPr>
          <a:xfrm>
            <a:off x="4708440" y="3051000"/>
            <a:ext cx="1936800" cy="3603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59" y="0"/>
                </a:lnTo>
                <a:lnTo>
                  <a:pt x="21600" y="10800"/>
                </a:lnTo>
                <a:lnTo>
                  <a:pt x="20859" y="21600"/>
                </a:lnTo>
                <a:lnTo>
                  <a:pt x="0" y="21600"/>
                </a:lnTo>
                <a:lnTo>
                  <a:pt x="741" y="10800"/>
                </a:lnTo>
                <a:close/>
              </a:path>
            </a:pathLst>
          </a:custGeom>
          <a:solidFill>
            <a:srgbClr val="ffffff">
              <a:alpha val="63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uT Bau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051520" y="276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216400" y="276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381640" y="276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546880" y="276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713560" y="276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878440" y="276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43680" y="276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210360" y="276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375240" y="276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729320" y="27716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894200" y="27716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Rechteck 84"/>
          <p:cNvSpPr/>
          <p:nvPr/>
        </p:nvSpPr>
        <p:spPr>
          <a:xfrm>
            <a:off x="1982880" y="4724280"/>
            <a:ext cx="4967280" cy="1224000"/>
          </a:xfrm>
          <a:prstGeom prst="rect">
            <a:avLst/>
          </a:prstGeom>
          <a:solidFill>
            <a:srgbClr val="e5efeb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tegration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Rechteck 84"/>
          <p:cNvSpPr/>
          <p:nvPr/>
        </p:nvSpPr>
        <p:spPr>
          <a:xfrm>
            <a:off x="2274840" y="5043600"/>
            <a:ext cx="2200320" cy="652320"/>
          </a:xfrm>
          <a:prstGeom prst="rect">
            <a:avLst/>
          </a:prstGeom>
          <a:solidFill>
            <a:srgbClr val="ffffff">
              <a:alpha val="63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efinition und Planung der Integrationstests 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ür Bau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Rechteck 84"/>
          <p:cNvSpPr/>
          <p:nvPr/>
        </p:nvSpPr>
        <p:spPr>
          <a:xfrm>
            <a:off x="4873680" y="4987800"/>
            <a:ext cx="1770120" cy="70812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44" y="0"/>
                </a:lnTo>
                <a:lnTo>
                  <a:pt x="21600" y="10800"/>
                </a:lnTo>
                <a:lnTo>
                  <a:pt x="19044" y="21600"/>
                </a:lnTo>
                <a:lnTo>
                  <a:pt x="0" y="21600"/>
                </a:lnTo>
                <a:lnTo>
                  <a:pt x="2556" y="10800"/>
                </a:lnTo>
                <a:close/>
              </a:path>
            </a:pathLst>
          </a:custGeom>
          <a:solidFill>
            <a:srgbClr val="ffffff">
              <a:alpha val="63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au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Gerade Verbindung 8"/>
          <p:cNvSpPr/>
          <p:nvPr/>
        </p:nvSpPr>
        <p:spPr>
          <a:xfrm flipH="1">
            <a:off x="4463640" y="1951200"/>
            <a:ext cx="9720" cy="420840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Rechteck 84"/>
          <p:cNvSpPr/>
          <p:nvPr/>
        </p:nvSpPr>
        <p:spPr>
          <a:xfrm>
            <a:off x="4160880" y="3944880"/>
            <a:ext cx="679320" cy="474840"/>
          </a:xfrm>
          <a:prstGeom prst="rect">
            <a:avLst/>
          </a:prstGeom>
          <a:solidFill>
            <a:srgbClr val="ffffff">
              <a:alpha val="63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uild Bau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Gerade Verbindung 8"/>
          <p:cNvSpPr/>
          <p:nvPr/>
        </p:nvSpPr>
        <p:spPr>
          <a:xfrm>
            <a:off x="4834080" y="3960720"/>
            <a:ext cx="9360" cy="216540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Gerade Verbindung 8"/>
          <p:cNvSpPr/>
          <p:nvPr/>
        </p:nvSpPr>
        <p:spPr>
          <a:xfrm flipH="1">
            <a:off x="6691320" y="1920960"/>
            <a:ext cx="9360" cy="420840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460760" y="5130720"/>
            <a:ext cx="498600" cy="468360"/>
          </a:xfrm>
          <a:prstGeom prst="rightArrow">
            <a:avLst>
              <a:gd name="adj1" fmla="val 48472"/>
              <a:gd name="adj2" fmla="val 35066"/>
            </a:avLst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rot="3940200">
            <a:off x="3781080" y="3704760"/>
            <a:ext cx="2193840" cy="432000"/>
          </a:xfrm>
          <a:prstGeom prst="rightArrow">
            <a:avLst>
              <a:gd name="adj1" fmla="val 48583"/>
              <a:gd name="adj2" fmla="val 69169"/>
            </a:avLst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rot="3940200">
            <a:off x="5979600" y="3646440"/>
            <a:ext cx="2193840" cy="431640"/>
          </a:xfrm>
          <a:prstGeom prst="rightArrow">
            <a:avLst>
              <a:gd name="adj1" fmla="val 48583"/>
              <a:gd name="adj2" fmla="val 69226"/>
            </a:avLst>
          </a:prstGeom>
          <a:solidFill>
            <a:srgbClr val="ff33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028880" y="635040"/>
            <a:ext cx="7176960" cy="573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Rechteck 51"/>
          <p:cNvSpPr/>
          <p:nvPr/>
        </p:nvSpPr>
        <p:spPr>
          <a:xfrm>
            <a:off x="1246320" y="787320"/>
            <a:ext cx="6770520" cy="615960"/>
          </a:xfrm>
          <a:prstGeom prst="rect">
            <a:avLst/>
          </a:prstGeom>
          <a:solidFill>
            <a:srgbClr val="777777">
              <a:alpha val="55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Realisi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007280" y="430200"/>
            <a:ext cx="527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hasenverschiebung von FUT und Integration-Tes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"/>
          <p:cNvSpPr/>
          <p:nvPr/>
        </p:nvSpPr>
        <p:spPr>
          <a:xfrm>
            <a:off x="1341360" y="828720"/>
            <a:ext cx="7313760" cy="52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Rechteck 84"/>
          <p:cNvSpPr/>
          <p:nvPr/>
        </p:nvSpPr>
        <p:spPr>
          <a:xfrm>
            <a:off x="1542960" y="3168720"/>
            <a:ext cx="6580440" cy="504720"/>
          </a:xfrm>
          <a:prstGeom prst="rect">
            <a:avLst/>
          </a:prstGeom>
          <a:solidFill>
            <a:srgbClr val="ffffcc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leas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Rechteck 84"/>
          <p:cNvSpPr/>
          <p:nvPr/>
        </p:nvSpPr>
        <p:spPr>
          <a:xfrm>
            <a:off x="1542960" y="1657440"/>
            <a:ext cx="6580440" cy="1403280"/>
          </a:xfrm>
          <a:prstGeom prst="rect">
            <a:avLst/>
          </a:prstGeom>
          <a:solidFill>
            <a:srgbClr val="b6c9d8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rametrisierung und F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Rechteck 84"/>
          <p:cNvSpPr/>
          <p:nvPr/>
        </p:nvSpPr>
        <p:spPr>
          <a:xfrm>
            <a:off x="1542960" y="4176720"/>
            <a:ext cx="6580440" cy="1655640"/>
          </a:xfrm>
          <a:prstGeom prst="rect">
            <a:avLst/>
          </a:prstGeom>
          <a:solidFill>
            <a:srgbClr val="e5efeb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tegration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Rechteck 53"/>
          <p:cNvSpPr/>
          <p:nvPr/>
        </p:nvSpPr>
        <p:spPr>
          <a:xfrm>
            <a:off x="2201760" y="1181160"/>
            <a:ext cx="1833840" cy="177840"/>
          </a:xfrm>
          <a:prstGeom prst="rect">
            <a:avLst/>
          </a:prstGeom>
          <a:solidFill>
            <a:srgbClr val="8b8c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Bau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Rechteck 54"/>
          <p:cNvSpPr/>
          <p:nvPr/>
        </p:nvSpPr>
        <p:spPr>
          <a:xfrm>
            <a:off x="4035600" y="1181160"/>
            <a:ext cx="1830240" cy="177840"/>
          </a:xfrm>
          <a:prstGeom prst="rect">
            <a:avLst/>
          </a:prstGeom>
          <a:solidFill>
            <a:srgbClr val="8b8c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Bau 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Gerade Verbindung 8"/>
          <p:cNvSpPr/>
          <p:nvPr/>
        </p:nvSpPr>
        <p:spPr>
          <a:xfrm flipH="1">
            <a:off x="2182680" y="1244520"/>
            <a:ext cx="5040" cy="407376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Gerade Verbindung 8"/>
          <p:cNvSpPr/>
          <p:nvPr/>
        </p:nvSpPr>
        <p:spPr>
          <a:xfrm>
            <a:off x="4024440" y="1251000"/>
            <a:ext cx="0" cy="439272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Gerade Verbindung 8"/>
          <p:cNvSpPr/>
          <p:nvPr/>
        </p:nvSpPr>
        <p:spPr>
          <a:xfrm flipH="1">
            <a:off x="5854680" y="1251000"/>
            <a:ext cx="6480" cy="435780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Gerade Verbindung 8"/>
          <p:cNvSpPr/>
          <p:nvPr/>
        </p:nvSpPr>
        <p:spPr>
          <a:xfrm flipH="1">
            <a:off x="7695720" y="1251000"/>
            <a:ext cx="3240" cy="407340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Rechteck 54"/>
          <p:cNvSpPr/>
          <p:nvPr/>
        </p:nvSpPr>
        <p:spPr>
          <a:xfrm>
            <a:off x="5865840" y="1181160"/>
            <a:ext cx="1835280" cy="177840"/>
          </a:xfrm>
          <a:prstGeom prst="rect">
            <a:avLst/>
          </a:prstGeom>
          <a:solidFill>
            <a:srgbClr val="8b8c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Bau 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Rechteck 51"/>
          <p:cNvSpPr/>
          <p:nvPr/>
        </p:nvSpPr>
        <p:spPr>
          <a:xfrm>
            <a:off x="1476360" y="1001880"/>
            <a:ext cx="6945480" cy="179280"/>
          </a:xfrm>
          <a:prstGeom prst="rect">
            <a:avLst/>
          </a:prstGeom>
          <a:solidFill>
            <a:srgbClr val="8b8c8f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Jahr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Rechteck 84"/>
          <p:cNvSpPr/>
          <p:nvPr/>
        </p:nvSpPr>
        <p:spPr>
          <a:xfrm>
            <a:off x="2206800" y="4753080"/>
            <a:ext cx="1828800" cy="395280"/>
          </a:xfrm>
          <a:prstGeom prst="rect">
            <a:avLst/>
          </a:pr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finition und Planung der Integrationstests für Bau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Rechteck 84"/>
          <p:cNvSpPr/>
          <p:nvPr/>
        </p:nvSpPr>
        <p:spPr>
          <a:xfrm>
            <a:off x="2206800" y="1944720"/>
            <a:ext cx="1760400" cy="360360"/>
          </a:xfrm>
          <a:prstGeom prst="rect">
            <a:avLst/>
          </a:prstGeom>
          <a:solidFill>
            <a:srgbClr val="638dab">
              <a:alpha val="63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rametrisierung Bau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Rechteck 84"/>
          <p:cNvSpPr/>
          <p:nvPr/>
        </p:nvSpPr>
        <p:spPr>
          <a:xfrm>
            <a:off x="2241720" y="2590920"/>
            <a:ext cx="1722240" cy="360360"/>
          </a:xfrm>
          <a:custGeom>
            <a:avLst/>
            <a:gdLst>
              <a:gd name="textAreaLeft" fmla="*/ 0 w 1722240"/>
              <a:gd name="textAreaRight" fmla="*/ 1722600 w 17222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59" y="0"/>
                </a:lnTo>
                <a:lnTo>
                  <a:pt x="21600" y="10800"/>
                </a:lnTo>
                <a:lnTo>
                  <a:pt x="20859" y="21600"/>
                </a:lnTo>
                <a:lnTo>
                  <a:pt x="0" y="21600"/>
                </a:lnTo>
                <a:lnTo>
                  <a:pt x="741" y="10800"/>
                </a:lnTo>
                <a:close/>
              </a:path>
            </a:pathLst>
          </a:custGeom>
          <a:solidFill>
            <a:srgbClr val="638dab">
              <a:alpha val="63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uT Bau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Rechteck 84"/>
          <p:cNvSpPr/>
          <p:nvPr/>
        </p:nvSpPr>
        <p:spPr>
          <a:xfrm>
            <a:off x="4035600" y="1946160"/>
            <a:ext cx="1758600" cy="360360"/>
          </a:xfrm>
          <a:prstGeom prst="rect">
            <a:avLst/>
          </a:prstGeom>
          <a:solidFill>
            <a:srgbClr val="638dab">
              <a:alpha val="63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rametrisierung Bau 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Rechteck 84"/>
          <p:cNvSpPr/>
          <p:nvPr/>
        </p:nvSpPr>
        <p:spPr>
          <a:xfrm>
            <a:off x="5897520" y="1946160"/>
            <a:ext cx="1749600" cy="360360"/>
          </a:xfrm>
          <a:prstGeom prst="rect">
            <a:avLst/>
          </a:prstGeom>
          <a:solidFill>
            <a:srgbClr val="638dab">
              <a:alpha val="63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rametrisierung Bau 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374920" y="2303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540160" y="2303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705040" y="2303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870280" y="2303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36960" y="2303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201840" y="2303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367080" y="2303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533760" y="2303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699000" y="2303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863880" y="2303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Rechteck 84"/>
          <p:cNvSpPr/>
          <p:nvPr/>
        </p:nvSpPr>
        <p:spPr>
          <a:xfrm>
            <a:off x="4068720" y="2590920"/>
            <a:ext cx="1731960" cy="36036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59" y="0"/>
                </a:lnTo>
                <a:lnTo>
                  <a:pt x="21600" y="10800"/>
                </a:lnTo>
                <a:lnTo>
                  <a:pt x="20859" y="21600"/>
                </a:lnTo>
                <a:lnTo>
                  <a:pt x="0" y="21600"/>
                </a:lnTo>
                <a:lnTo>
                  <a:pt x="741" y="10800"/>
                </a:lnTo>
                <a:close/>
              </a:path>
            </a:pathLst>
          </a:custGeom>
          <a:solidFill>
            <a:srgbClr val="638dab">
              <a:alpha val="63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uT Bau 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4202280" y="2303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4367160" y="2303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4532400" y="2303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4699080" y="2303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4863960" y="2303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5029200" y="2303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5194440" y="2303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5361120" y="2303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526000" y="2303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5691240" y="2303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Rechteck 84"/>
          <p:cNvSpPr/>
          <p:nvPr/>
        </p:nvSpPr>
        <p:spPr>
          <a:xfrm>
            <a:off x="5896080" y="2592360"/>
            <a:ext cx="1730160" cy="360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59" y="0"/>
                </a:lnTo>
                <a:lnTo>
                  <a:pt x="21600" y="10800"/>
                </a:lnTo>
                <a:lnTo>
                  <a:pt x="20859" y="21600"/>
                </a:lnTo>
                <a:lnTo>
                  <a:pt x="0" y="21600"/>
                </a:lnTo>
                <a:lnTo>
                  <a:pt x="741" y="10800"/>
                </a:lnTo>
                <a:close/>
              </a:path>
            </a:pathLst>
          </a:custGeom>
          <a:solidFill>
            <a:srgbClr val="638dab">
              <a:alpha val="63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uT Bau 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029280" y="2305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194520" y="2305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359400" y="2305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6526080" y="2305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6691320" y="2305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6856560" y="2305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023240" y="2305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188120" y="2305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7353360" y="2305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7518240" y="2305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Rechteck 84"/>
          <p:cNvSpPr/>
          <p:nvPr/>
        </p:nvSpPr>
        <p:spPr>
          <a:xfrm>
            <a:off x="4035600" y="5294160"/>
            <a:ext cx="1827000" cy="395280"/>
          </a:xfrm>
          <a:prstGeom prst="rect">
            <a:avLst/>
          </a:pr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finition und Planung der Integrationstests für Bau 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Rechteck 84"/>
          <p:cNvSpPr/>
          <p:nvPr/>
        </p:nvSpPr>
        <p:spPr>
          <a:xfrm>
            <a:off x="3867120" y="3241800"/>
            <a:ext cx="399960" cy="360360"/>
          </a:xfrm>
          <a:prstGeom prst="rect">
            <a:avLst/>
          </a:prstGeom>
          <a:solidFill>
            <a:srgbClr val="ffff99">
              <a:alpha val="63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uild B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Rechteck 84"/>
          <p:cNvSpPr/>
          <p:nvPr/>
        </p:nvSpPr>
        <p:spPr>
          <a:xfrm>
            <a:off x="5694480" y="3241800"/>
            <a:ext cx="436320" cy="360360"/>
          </a:xfrm>
          <a:prstGeom prst="rect">
            <a:avLst/>
          </a:prstGeom>
          <a:solidFill>
            <a:srgbClr val="ffff99">
              <a:alpha val="63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 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Rechteck 84"/>
          <p:cNvSpPr/>
          <p:nvPr/>
        </p:nvSpPr>
        <p:spPr>
          <a:xfrm>
            <a:off x="4235400" y="4753080"/>
            <a:ext cx="1778040" cy="360360"/>
          </a:xfrm>
          <a:custGeom>
            <a:avLst/>
            <a:gdLst>
              <a:gd name="textAreaLeft" fmla="*/ 0 w 1778040"/>
              <a:gd name="textAreaRight" fmla="*/ 1778400 w 1778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45" y="0"/>
                </a:lnTo>
                <a:lnTo>
                  <a:pt x="21600" y="10800"/>
                </a:lnTo>
                <a:lnTo>
                  <a:pt x="19645" y="21600"/>
                </a:lnTo>
                <a:lnTo>
                  <a:pt x="0" y="21600"/>
                </a:lnTo>
                <a:lnTo>
                  <a:pt x="195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T-Tes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au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Rechteck 84"/>
          <p:cNvSpPr/>
          <p:nvPr/>
        </p:nvSpPr>
        <p:spPr>
          <a:xfrm>
            <a:off x="6143760" y="5284800"/>
            <a:ext cx="1493640" cy="404640"/>
          </a:xfrm>
          <a:custGeom>
            <a:avLst/>
            <a:gdLst>
              <a:gd name="textAreaLeft" fmla="*/ 0 w 1493640"/>
              <a:gd name="textAreaRight" fmla="*/ 1494000 w 149364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44" y="0"/>
                </a:lnTo>
                <a:lnTo>
                  <a:pt x="21600" y="10800"/>
                </a:lnTo>
                <a:lnTo>
                  <a:pt x="19044" y="21600"/>
                </a:lnTo>
                <a:lnTo>
                  <a:pt x="0" y="21600"/>
                </a:lnTo>
                <a:lnTo>
                  <a:pt x="2556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T-Tes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au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Gerade Verbindung 8"/>
          <p:cNvSpPr/>
          <p:nvPr/>
        </p:nvSpPr>
        <p:spPr>
          <a:xfrm>
            <a:off x="4238640" y="3565440"/>
            <a:ext cx="0" cy="126072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Gerade Verbindung 8"/>
          <p:cNvSpPr/>
          <p:nvPr/>
        </p:nvSpPr>
        <p:spPr>
          <a:xfrm>
            <a:off x="6141960" y="3600360"/>
            <a:ext cx="0" cy="223380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027320" y="1547640"/>
            <a:ext cx="1827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1587600" y="3343320"/>
            <a:ext cx="2206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lease bauen und au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estplattform zur Verfügung stell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700160" y="13842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 Woch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Rechteck 84"/>
          <p:cNvSpPr/>
          <p:nvPr/>
        </p:nvSpPr>
        <p:spPr>
          <a:xfrm>
            <a:off x="1774800" y="4392720"/>
            <a:ext cx="6215040" cy="215640"/>
          </a:xfrm>
          <a:prstGeom prst="rect">
            <a:avLst/>
          </a:pr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üfung der Integrationstests + Repor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Rechteck 84"/>
          <p:cNvSpPr/>
          <p:nvPr/>
        </p:nvSpPr>
        <p:spPr>
          <a:xfrm>
            <a:off x="1547640" y="3708360"/>
            <a:ext cx="6580440" cy="433440"/>
          </a:xfrm>
          <a:prstGeom prst="rect">
            <a:avLst/>
          </a:prstGeom>
          <a:solidFill>
            <a:srgbClr val="ffffcc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mok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Rechteck 84"/>
          <p:cNvSpPr/>
          <p:nvPr/>
        </p:nvSpPr>
        <p:spPr>
          <a:xfrm>
            <a:off x="4270320" y="3781440"/>
            <a:ext cx="293760" cy="360360"/>
          </a:xfrm>
          <a:prstGeom prst="rect">
            <a:avLst/>
          </a:prstGeom>
          <a:solidFill>
            <a:srgbClr val="ffff99">
              <a:alpha val="63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est B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Rechteck 84"/>
          <p:cNvSpPr/>
          <p:nvPr/>
        </p:nvSpPr>
        <p:spPr>
          <a:xfrm>
            <a:off x="6141960" y="3781440"/>
            <a:ext cx="289080" cy="360360"/>
          </a:xfrm>
          <a:prstGeom prst="rect">
            <a:avLst/>
          </a:prstGeom>
          <a:solidFill>
            <a:srgbClr val="ffff99">
              <a:alpha val="63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est B 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5877000" y="1558800"/>
            <a:ext cx="182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354320" y="623880"/>
            <a:ext cx="410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nereller Ablauf für die Integrationstes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"/>
          <p:cNvSpPr/>
          <p:nvPr/>
        </p:nvSpPr>
        <p:spPr>
          <a:xfrm>
            <a:off x="200160" y="858960"/>
            <a:ext cx="9504360" cy="503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09600" y="944640"/>
            <a:ext cx="4551480" cy="482436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17600" y="1077840"/>
            <a:ext cx="3887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Produkt/Vertriebskanal-Matri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4976640" y="979560"/>
            <a:ext cx="4392720" cy="479880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955800" y="2131920"/>
            <a:ext cx="1296720" cy="30607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01240" y="630360"/>
            <a:ext cx="5180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taillierter Aufbau der Produkt/Vertriebskanal-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 rot="16200000">
            <a:off x="160200" y="3659040"/>
            <a:ext cx="8888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 Narrow"/>
              </a:rPr>
              <a:t>Produk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 rot="16200000">
            <a:off x="1234080" y="4605840"/>
            <a:ext cx="682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 Narrow"/>
              </a:rPr>
              <a:t>Schal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028880" y="5284800"/>
            <a:ext cx="13809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 Narrow"/>
              </a:rPr>
              <a:t>Vertriebskanä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397240" y="546588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1046160" y="3978360"/>
            <a:ext cx="23652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319040" y="3978360"/>
            <a:ext cx="23832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593720" y="3978360"/>
            <a:ext cx="23832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1868400" y="3976560"/>
            <a:ext cx="238320" cy="2509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1046160" y="3692520"/>
            <a:ext cx="23652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1319040" y="3692520"/>
            <a:ext cx="23832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1593720" y="3692520"/>
            <a:ext cx="23832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1868400" y="3691080"/>
            <a:ext cx="238320" cy="2505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1046160" y="3402000"/>
            <a:ext cx="23652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1319040" y="3402000"/>
            <a:ext cx="23832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593720" y="3402000"/>
            <a:ext cx="23832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1868400" y="3400560"/>
            <a:ext cx="238320" cy="2505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1046160" y="3116160"/>
            <a:ext cx="236520" cy="2494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319040" y="3116160"/>
            <a:ext cx="238320" cy="2494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593720" y="3116160"/>
            <a:ext cx="238320" cy="2494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868400" y="3114720"/>
            <a:ext cx="238320" cy="2509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046160" y="2825640"/>
            <a:ext cx="236520" cy="2494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19040" y="2825640"/>
            <a:ext cx="238320" cy="2494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1593720" y="2825640"/>
            <a:ext cx="238320" cy="2494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868400" y="2824200"/>
            <a:ext cx="238320" cy="2509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046160" y="2540160"/>
            <a:ext cx="23652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319040" y="2540160"/>
            <a:ext cx="23832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93720" y="2540160"/>
            <a:ext cx="23832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1868400" y="2538360"/>
            <a:ext cx="238320" cy="2509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flipV="1">
            <a:off x="633240" y="268272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2324160" y="2131920"/>
            <a:ext cx="1297080" cy="30607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2414520" y="3978360"/>
            <a:ext cx="23652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687760" y="3978360"/>
            <a:ext cx="23796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2962440" y="3978360"/>
            <a:ext cx="23796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236760" y="3976560"/>
            <a:ext cx="238320" cy="2509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2414520" y="3692520"/>
            <a:ext cx="23652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2687760" y="3692520"/>
            <a:ext cx="23796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962440" y="3692520"/>
            <a:ext cx="23796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236760" y="3691080"/>
            <a:ext cx="238320" cy="2505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2414520" y="3402000"/>
            <a:ext cx="23652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687760" y="3402000"/>
            <a:ext cx="23796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962440" y="3402000"/>
            <a:ext cx="23796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36760" y="3400560"/>
            <a:ext cx="238320" cy="2505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2414520" y="3116160"/>
            <a:ext cx="236520" cy="2494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2687760" y="3116160"/>
            <a:ext cx="237960" cy="2494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2962440" y="3116160"/>
            <a:ext cx="237960" cy="2494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36760" y="3114720"/>
            <a:ext cx="238320" cy="2509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2414520" y="2825640"/>
            <a:ext cx="236520" cy="2494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2687760" y="2825640"/>
            <a:ext cx="237960" cy="2494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2962440" y="2825640"/>
            <a:ext cx="237960" cy="2494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236760" y="2824200"/>
            <a:ext cx="238320" cy="2509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414520" y="2540160"/>
            <a:ext cx="23652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687760" y="2540160"/>
            <a:ext cx="23796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962440" y="2540160"/>
            <a:ext cx="237960" cy="249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236760" y="2538360"/>
            <a:ext cx="238320" cy="2509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rot="16200000">
            <a:off x="2596320" y="4635360"/>
            <a:ext cx="6213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 Narrow"/>
              </a:rPr>
              <a:t>Bera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100160" y="2162160"/>
            <a:ext cx="13809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M     V      N    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2468520" y="2162160"/>
            <a:ext cx="13813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M     V      N    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5157720" y="3538440"/>
            <a:ext cx="1986120" cy="1440000"/>
          </a:xfrm>
          <a:prstGeom prst="rect">
            <a:avLst/>
          </a:prstGeom>
          <a:solidFill>
            <a:srgbClr val="dddddd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7203960" y="3538440"/>
            <a:ext cx="1986120" cy="1440000"/>
          </a:xfrm>
          <a:prstGeom prst="rect">
            <a:avLst/>
          </a:prstGeom>
          <a:solidFill>
            <a:srgbClr val="dddddd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5156280" y="2025720"/>
            <a:ext cx="1985760" cy="1439640"/>
          </a:xfrm>
          <a:prstGeom prst="rect">
            <a:avLst/>
          </a:prstGeom>
          <a:solidFill>
            <a:srgbClr val="dddddd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7202520" y="2025720"/>
            <a:ext cx="1985760" cy="1439640"/>
          </a:xfrm>
          <a:prstGeom prst="rect">
            <a:avLst/>
          </a:prstGeom>
          <a:solidFill>
            <a:srgbClr val="dddddd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5219640" y="2085840"/>
            <a:ext cx="1273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rketing (M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, Interesse wecken über Marketingaktionen/ Werb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7926480" y="2085840"/>
            <a:ext cx="12031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trieb (V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, Beratung, Angebot erstellen, Vertrag abschlies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7924680" y="4186080"/>
            <a:ext cx="1265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utzung (N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unde nutzt das Produkt/ Dienstleis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5219640" y="4006800"/>
            <a:ext cx="12621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upport (S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unde braucht Unterstützung für die optimale Nutz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299280" y="2455920"/>
            <a:ext cx="1052280" cy="927000"/>
          </a:xfrm>
          <a:custGeom>
            <a:avLst/>
            <a:gdLst/>
            <a:ahLst/>
            <a:rect l="l" t="t" r="r" b="b"/>
            <a:pathLst>
              <a:path w="1057" h="900">
                <a:moveTo>
                  <a:pt x="455" y="879"/>
                </a:moveTo>
                <a:lnTo>
                  <a:pt x="471" y="838"/>
                </a:lnTo>
                <a:lnTo>
                  <a:pt x="490" y="799"/>
                </a:lnTo>
                <a:lnTo>
                  <a:pt x="514" y="762"/>
                </a:lnTo>
                <a:lnTo>
                  <a:pt x="541" y="728"/>
                </a:lnTo>
                <a:lnTo>
                  <a:pt x="570" y="696"/>
                </a:lnTo>
                <a:lnTo>
                  <a:pt x="603" y="667"/>
                </a:lnTo>
                <a:lnTo>
                  <a:pt x="639" y="642"/>
                </a:lnTo>
                <a:lnTo>
                  <a:pt x="676" y="621"/>
                </a:lnTo>
                <a:lnTo>
                  <a:pt x="713" y="605"/>
                </a:lnTo>
                <a:lnTo>
                  <a:pt x="753" y="591"/>
                </a:lnTo>
                <a:lnTo>
                  <a:pt x="793" y="581"/>
                </a:lnTo>
                <a:lnTo>
                  <a:pt x="834" y="575"/>
                </a:lnTo>
                <a:lnTo>
                  <a:pt x="833" y="711"/>
                </a:lnTo>
                <a:lnTo>
                  <a:pt x="1056" y="374"/>
                </a:lnTo>
                <a:lnTo>
                  <a:pt x="818" y="0"/>
                </a:lnTo>
                <a:lnTo>
                  <a:pt x="819" y="137"/>
                </a:lnTo>
                <a:lnTo>
                  <a:pt x="757" y="143"/>
                </a:lnTo>
                <a:lnTo>
                  <a:pt x="694" y="154"/>
                </a:lnTo>
                <a:lnTo>
                  <a:pt x="634" y="168"/>
                </a:lnTo>
                <a:lnTo>
                  <a:pt x="574" y="188"/>
                </a:lnTo>
                <a:lnTo>
                  <a:pt x="516" y="211"/>
                </a:lnTo>
                <a:lnTo>
                  <a:pt x="460" y="238"/>
                </a:lnTo>
                <a:lnTo>
                  <a:pt x="405" y="270"/>
                </a:lnTo>
                <a:lnTo>
                  <a:pt x="352" y="306"/>
                </a:lnTo>
                <a:lnTo>
                  <a:pt x="302" y="346"/>
                </a:lnTo>
                <a:lnTo>
                  <a:pt x="255" y="390"/>
                </a:lnTo>
                <a:lnTo>
                  <a:pt x="211" y="437"/>
                </a:lnTo>
                <a:lnTo>
                  <a:pt x="170" y="486"/>
                </a:lnTo>
                <a:lnTo>
                  <a:pt x="134" y="539"/>
                </a:lnTo>
                <a:lnTo>
                  <a:pt x="101" y="595"/>
                </a:lnTo>
                <a:lnTo>
                  <a:pt x="72" y="653"/>
                </a:lnTo>
                <a:lnTo>
                  <a:pt x="47" y="711"/>
                </a:lnTo>
                <a:lnTo>
                  <a:pt x="27" y="773"/>
                </a:lnTo>
                <a:lnTo>
                  <a:pt x="11" y="835"/>
                </a:lnTo>
                <a:lnTo>
                  <a:pt x="0" y="899"/>
                </a:lnTo>
                <a:lnTo>
                  <a:pt x="238" y="741"/>
                </a:lnTo>
                <a:lnTo>
                  <a:pt x="455" y="87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7002360" y="3616200"/>
            <a:ext cx="1027080" cy="932040"/>
          </a:xfrm>
          <a:custGeom>
            <a:avLst/>
            <a:gdLst/>
            <a:ahLst/>
            <a:rect l="l" t="t" r="r" b="b"/>
            <a:pathLst>
              <a:path w="1033" h="904">
                <a:moveTo>
                  <a:pt x="585" y="1"/>
                </a:moveTo>
                <a:lnTo>
                  <a:pt x="573" y="41"/>
                </a:lnTo>
                <a:lnTo>
                  <a:pt x="556" y="78"/>
                </a:lnTo>
                <a:lnTo>
                  <a:pt x="537" y="116"/>
                </a:lnTo>
                <a:lnTo>
                  <a:pt x="514" y="150"/>
                </a:lnTo>
                <a:lnTo>
                  <a:pt x="488" y="182"/>
                </a:lnTo>
                <a:lnTo>
                  <a:pt x="459" y="212"/>
                </a:lnTo>
                <a:lnTo>
                  <a:pt x="427" y="239"/>
                </a:lnTo>
                <a:lnTo>
                  <a:pt x="393" y="262"/>
                </a:lnTo>
                <a:lnTo>
                  <a:pt x="356" y="283"/>
                </a:lnTo>
                <a:lnTo>
                  <a:pt x="317" y="301"/>
                </a:lnTo>
                <a:lnTo>
                  <a:pt x="277" y="314"/>
                </a:lnTo>
                <a:lnTo>
                  <a:pt x="236" y="323"/>
                </a:lnTo>
                <a:lnTo>
                  <a:pt x="235" y="187"/>
                </a:lnTo>
                <a:lnTo>
                  <a:pt x="159" y="298"/>
                </a:lnTo>
                <a:lnTo>
                  <a:pt x="80" y="409"/>
                </a:lnTo>
                <a:lnTo>
                  <a:pt x="0" y="517"/>
                </a:lnTo>
                <a:lnTo>
                  <a:pt x="236" y="903"/>
                </a:lnTo>
                <a:lnTo>
                  <a:pt x="236" y="766"/>
                </a:lnTo>
                <a:lnTo>
                  <a:pt x="295" y="759"/>
                </a:lnTo>
                <a:lnTo>
                  <a:pt x="353" y="747"/>
                </a:lnTo>
                <a:lnTo>
                  <a:pt x="411" y="733"/>
                </a:lnTo>
                <a:lnTo>
                  <a:pt x="467" y="713"/>
                </a:lnTo>
                <a:lnTo>
                  <a:pt x="522" y="691"/>
                </a:lnTo>
                <a:lnTo>
                  <a:pt x="575" y="665"/>
                </a:lnTo>
                <a:lnTo>
                  <a:pt x="626" y="635"/>
                </a:lnTo>
                <a:lnTo>
                  <a:pt x="676" y="601"/>
                </a:lnTo>
                <a:lnTo>
                  <a:pt x="724" y="564"/>
                </a:lnTo>
                <a:lnTo>
                  <a:pt x="768" y="525"/>
                </a:lnTo>
                <a:lnTo>
                  <a:pt x="811" y="481"/>
                </a:lnTo>
                <a:lnTo>
                  <a:pt x="849" y="435"/>
                </a:lnTo>
                <a:lnTo>
                  <a:pt x="884" y="387"/>
                </a:lnTo>
                <a:lnTo>
                  <a:pt x="916" y="337"/>
                </a:lnTo>
                <a:lnTo>
                  <a:pt x="945" y="284"/>
                </a:lnTo>
                <a:lnTo>
                  <a:pt x="970" y="231"/>
                </a:lnTo>
                <a:lnTo>
                  <a:pt x="991" y="174"/>
                </a:lnTo>
                <a:lnTo>
                  <a:pt x="1009" y="117"/>
                </a:lnTo>
                <a:lnTo>
                  <a:pt x="1023" y="58"/>
                </a:lnTo>
                <a:lnTo>
                  <a:pt x="1032" y="0"/>
                </a:lnTo>
                <a:lnTo>
                  <a:pt x="812" y="132"/>
                </a:lnTo>
                <a:lnTo>
                  <a:pt x="585" y="1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6180120" y="3276720"/>
            <a:ext cx="924120" cy="1108080"/>
          </a:xfrm>
          <a:custGeom>
            <a:avLst/>
            <a:gdLst/>
            <a:ahLst/>
            <a:rect l="l" t="t" r="r" b="b"/>
            <a:pathLst>
              <a:path w="930" h="1075">
                <a:moveTo>
                  <a:pt x="929" y="645"/>
                </a:moveTo>
                <a:lnTo>
                  <a:pt x="887" y="634"/>
                </a:lnTo>
                <a:lnTo>
                  <a:pt x="847" y="620"/>
                </a:lnTo>
                <a:lnTo>
                  <a:pt x="807" y="603"/>
                </a:lnTo>
                <a:lnTo>
                  <a:pt x="771" y="582"/>
                </a:lnTo>
                <a:lnTo>
                  <a:pt x="735" y="557"/>
                </a:lnTo>
                <a:lnTo>
                  <a:pt x="703" y="529"/>
                </a:lnTo>
                <a:lnTo>
                  <a:pt x="673" y="497"/>
                </a:lnTo>
                <a:lnTo>
                  <a:pt x="648" y="465"/>
                </a:lnTo>
                <a:lnTo>
                  <a:pt x="624" y="428"/>
                </a:lnTo>
                <a:lnTo>
                  <a:pt x="607" y="398"/>
                </a:lnTo>
                <a:lnTo>
                  <a:pt x="594" y="366"/>
                </a:lnTo>
                <a:lnTo>
                  <a:pt x="583" y="332"/>
                </a:lnTo>
                <a:lnTo>
                  <a:pt x="577" y="298"/>
                </a:lnTo>
                <a:lnTo>
                  <a:pt x="575" y="264"/>
                </a:lnTo>
                <a:lnTo>
                  <a:pt x="576" y="229"/>
                </a:lnTo>
                <a:lnTo>
                  <a:pt x="748" y="229"/>
                </a:lnTo>
                <a:lnTo>
                  <a:pt x="360" y="0"/>
                </a:lnTo>
                <a:lnTo>
                  <a:pt x="0" y="236"/>
                </a:lnTo>
                <a:lnTo>
                  <a:pt x="136" y="237"/>
                </a:lnTo>
                <a:lnTo>
                  <a:pt x="141" y="299"/>
                </a:lnTo>
                <a:lnTo>
                  <a:pt x="150" y="362"/>
                </a:lnTo>
                <a:lnTo>
                  <a:pt x="165" y="422"/>
                </a:lnTo>
                <a:lnTo>
                  <a:pt x="182" y="483"/>
                </a:lnTo>
                <a:lnTo>
                  <a:pt x="204" y="541"/>
                </a:lnTo>
                <a:lnTo>
                  <a:pt x="231" y="598"/>
                </a:lnTo>
                <a:lnTo>
                  <a:pt x="262" y="653"/>
                </a:lnTo>
                <a:lnTo>
                  <a:pt x="296" y="704"/>
                </a:lnTo>
                <a:lnTo>
                  <a:pt x="333" y="752"/>
                </a:lnTo>
                <a:lnTo>
                  <a:pt x="374" y="797"/>
                </a:lnTo>
                <a:lnTo>
                  <a:pt x="419" y="841"/>
                </a:lnTo>
                <a:lnTo>
                  <a:pt x="465" y="880"/>
                </a:lnTo>
                <a:lnTo>
                  <a:pt x="514" y="917"/>
                </a:lnTo>
                <a:lnTo>
                  <a:pt x="566" y="951"/>
                </a:lnTo>
                <a:lnTo>
                  <a:pt x="620" y="980"/>
                </a:lnTo>
                <a:lnTo>
                  <a:pt x="675" y="1007"/>
                </a:lnTo>
                <a:lnTo>
                  <a:pt x="732" y="1029"/>
                </a:lnTo>
                <a:lnTo>
                  <a:pt x="790" y="1048"/>
                </a:lnTo>
                <a:lnTo>
                  <a:pt x="849" y="1062"/>
                </a:lnTo>
                <a:lnTo>
                  <a:pt x="910" y="1074"/>
                </a:lnTo>
                <a:lnTo>
                  <a:pt x="772" y="845"/>
                </a:lnTo>
                <a:lnTo>
                  <a:pt x="929" y="645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7259760" y="2603520"/>
            <a:ext cx="936360" cy="1098360"/>
          </a:xfrm>
          <a:custGeom>
            <a:avLst/>
            <a:gdLst/>
            <a:ahLst/>
            <a:rect l="l" t="t" r="r" b="b"/>
            <a:pathLst>
              <a:path w="943" h="1065">
                <a:moveTo>
                  <a:pt x="554" y="1064"/>
                </a:moveTo>
                <a:lnTo>
                  <a:pt x="942" y="840"/>
                </a:lnTo>
                <a:lnTo>
                  <a:pt x="781" y="840"/>
                </a:lnTo>
                <a:lnTo>
                  <a:pt x="776" y="778"/>
                </a:lnTo>
                <a:lnTo>
                  <a:pt x="767" y="716"/>
                </a:lnTo>
                <a:lnTo>
                  <a:pt x="754" y="655"/>
                </a:lnTo>
                <a:lnTo>
                  <a:pt x="737" y="595"/>
                </a:lnTo>
                <a:lnTo>
                  <a:pt x="714" y="536"/>
                </a:lnTo>
                <a:lnTo>
                  <a:pt x="688" y="480"/>
                </a:lnTo>
                <a:lnTo>
                  <a:pt x="658" y="425"/>
                </a:lnTo>
                <a:lnTo>
                  <a:pt x="624" y="372"/>
                </a:lnTo>
                <a:lnTo>
                  <a:pt x="586" y="323"/>
                </a:lnTo>
                <a:lnTo>
                  <a:pt x="547" y="275"/>
                </a:lnTo>
                <a:lnTo>
                  <a:pt x="502" y="232"/>
                </a:lnTo>
                <a:lnTo>
                  <a:pt x="455" y="191"/>
                </a:lnTo>
                <a:lnTo>
                  <a:pt x="405" y="153"/>
                </a:lnTo>
                <a:lnTo>
                  <a:pt x="352" y="120"/>
                </a:lnTo>
                <a:lnTo>
                  <a:pt x="298" y="89"/>
                </a:lnTo>
                <a:lnTo>
                  <a:pt x="241" y="63"/>
                </a:lnTo>
                <a:lnTo>
                  <a:pt x="182" y="41"/>
                </a:lnTo>
                <a:lnTo>
                  <a:pt x="122" y="23"/>
                </a:lnTo>
                <a:lnTo>
                  <a:pt x="61" y="9"/>
                </a:lnTo>
                <a:lnTo>
                  <a:pt x="0" y="0"/>
                </a:lnTo>
                <a:lnTo>
                  <a:pt x="137" y="226"/>
                </a:lnTo>
                <a:lnTo>
                  <a:pt x="5" y="451"/>
                </a:lnTo>
                <a:lnTo>
                  <a:pt x="48" y="465"/>
                </a:lnTo>
                <a:lnTo>
                  <a:pt x="90" y="483"/>
                </a:lnTo>
                <a:lnTo>
                  <a:pt x="130" y="505"/>
                </a:lnTo>
                <a:lnTo>
                  <a:pt x="168" y="531"/>
                </a:lnTo>
                <a:lnTo>
                  <a:pt x="202" y="561"/>
                </a:lnTo>
                <a:lnTo>
                  <a:pt x="233" y="594"/>
                </a:lnTo>
                <a:lnTo>
                  <a:pt x="262" y="629"/>
                </a:lnTo>
                <a:lnTo>
                  <a:pt x="285" y="668"/>
                </a:lnTo>
                <a:lnTo>
                  <a:pt x="305" y="709"/>
                </a:lnTo>
                <a:lnTo>
                  <a:pt x="321" y="751"/>
                </a:lnTo>
                <a:lnTo>
                  <a:pt x="333" y="795"/>
                </a:lnTo>
                <a:lnTo>
                  <a:pt x="340" y="840"/>
                </a:lnTo>
                <a:lnTo>
                  <a:pt x="188" y="841"/>
                </a:lnTo>
                <a:lnTo>
                  <a:pt x="554" y="1064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6597720" y="2889360"/>
            <a:ext cx="196920" cy="2016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7520040" y="2889360"/>
            <a:ext cx="198360" cy="2016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6597720" y="3889440"/>
            <a:ext cx="196920" cy="2016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7508880" y="3889440"/>
            <a:ext cx="196920" cy="2016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084640" y="1077840"/>
            <a:ext cx="42116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hasen des Customer Buying Cyc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rot="5400000">
            <a:off x="1567440" y="1329480"/>
            <a:ext cx="144720" cy="936720"/>
          </a:xfrm>
          <a:custGeom>
            <a:avLst/>
            <a:gdLst>
              <a:gd name="textAreaLeft" fmla="*/ 92520 w 144720"/>
              <a:gd name="textAreaRight" fmla="*/ 145080 w 1447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 rot="5400000">
            <a:off x="2935440" y="1415160"/>
            <a:ext cx="144720" cy="936360"/>
          </a:xfrm>
          <a:custGeom>
            <a:avLst/>
            <a:gdLst>
              <a:gd name="textAreaLeft" fmla="*/ 92520 w 144720"/>
              <a:gd name="textAreaRight" fmla="*/ 145080 w 1447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146480" y="1771560"/>
            <a:ext cx="765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690560" y="1600200"/>
            <a:ext cx="2711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693960" y="2131920"/>
            <a:ext cx="936720" cy="30607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 rot="16200000">
            <a:off x="3985200" y="4750560"/>
            <a:ext cx="3423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 Narrow"/>
              </a:rPr>
              <a:t>. . 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5156280" y="5284800"/>
            <a:ext cx="4105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Der Kunde hat abhängig vom Produkt und aktueller Phase des CBC eine klar definierte Auswahl von Interaktionskanälen zu der Fir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8" name=""/>
          <p:cNvCxnSpPr>
            <a:stCxn id="2143" idx="0"/>
            <a:endCxn id="2126" idx="0"/>
          </p:cNvCxnSpPr>
          <p:nvPr/>
        </p:nvCxnSpPr>
        <p:spPr>
          <a:xfrm flipH="1" rot="16200000">
            <a:off x="5402880" y="1279440"/>
            <a:ext cx="254880" cy="1238760"/>
          </a:xfrm>
          <a:prstGeom prst="bentConnector3">
            <a:avLst>
              <a:gd name="adj1" fmla="val 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9" name=""/>
          <p:cNvCxnSpPr>
            <a:stCxn id="2143" idx="1"/>
            <a:endCxn id="2127" idx="0"/>
          </p:cNvCxnSpPr>
          <p:nvPr/>
        </p:nvCxnSpPr>
        <p:spPr>
          <a:xfrm flipH="1" rot="16200000">
            <a:off x="6426000" y="256320"/>
            <a:ext cx="254880" cy="3285000"/>
          </a:xfrm>
          <a:prstGeom prst="bentConnector3">
            <a:avLst>
              <a:gd name="adj1" fmla="val -18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0" name=""/>
          <p:cNvCxnSpPr>
            <a:stCxn id="2143" idx="1"/>
            <a:endCxn id="2124" idx="1"/>
          </p:cNvCxnSpPr>
          <p:nvPr/>
        </p:nvCxnSpPr>
        <p:spPr>
          <a:xfrm flipH="1" rot="16200000">
            <a:off x="3790080" y="2892240"/>
            <a:ext cx="2488320" cy="246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1" name=""/>
          <p:cNvCxnSpPr>
            <a:stCxn id="2143" idx="1"/>
            <a:endCxn id="2125" idx="2"/>
          </p:cNvCxnSpPr>
          <p:nvPr/>
        </p:nvCxnSpPr>
        <p:spPr>
          <a:xfrm flipH="1" rot="16200000">
            <a:off x="4951440" y="1731600"/>
            <a:ext cx="3207600" cy="3286800"/>
          </a:xfrm>
          <a:prstGeom prst="bentConnector3">
            <a:avLst>
              <a:gd name="adj1" fmla="val 107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2" name=""/>
          <p:cNvSpPr/>
          <p:nvPr/>
        </p:nvSpPr>
        <p:spPr>
          <a:xfrm>
            <a:off x="3022560" y="1684440"/>
            <a:ext cx="174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"/>
          <p:cNvSpPr/>
          <p:nvPr/>
        </p:nvSpPr>
        <p:spPr>
          <a:xfrm>
            <a:off x="1790640" y="1243080"/>
            <a:ext cx="6219720" cy="425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888360" y="1611360"/>
            <a:ext cx="11502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</a:rPr>
              <a:t>Rechnungswe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3724920" y="1797120"/>
            <a:ext cx="9979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</a:rPr>
              <a:t>Banksteu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3205800" y="2174760"/>
            <a:ext cx="9381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</a:rPr>
              <a:t>CRM, Verka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 rot="16200000">
            <a:off x="4330080" y="4488120"/>
            <a:ext cx="612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</a:rPr>
              <a:t>Scha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rot="16200000">
            <a:off x="4751280" y="4511880"/>
            <a:ext cx="5634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</a:rPr>
              <a:t>Ber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rot="16200000">
            <a:off x="5039280" y="4402440"/>
            <a:ext cx="7783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</a:rPr>
              <a:t>Call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rot="16200000">
            <a:off x="5659920" y="4666320"/>
            <a:ext cx="3272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 rot="16200000">
            <a:off x="3157560" y="2553840"/>
            <a:ext cx="33408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611680" y="3343320"/>
            <a:ext cx="336600" cy="357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5442120" y="3522600"/>
            <a:ext cx="338040" cy="357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5611680" y="2925720"/>
            <a:ext cx="336600" cy="357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5442120" y="3105000"/>
            <a:ext cx="338040" cy="3574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611680" y="2508120"/>
            <a:ext cx="336600" cy="3574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5442120" y="2687760"/>
            <a:ext cx="338040" cy="357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4483080" y="3703680"/>
            <a:ext cx="338040" cy="357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4876920" y="3703680"/>
            <a:ext cx="339480" cy="357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483080" y="3271680"/>
            <a:ext cx="338040" cy="3556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4876920" y="3271680"/>
            <a:ext cx="339480" cy="3556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4483080" y="2844720"/>
            <a:ext cx="338040" cy="3556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4876920" y="2844720"/>
            <a:ext cx="339480" cy="3556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5272200" y="3703680"/>
            <a:ext cx="339480" cy="357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5272200" y="3271680"/>
            <a:ext cx="339480" cy="3556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5272200" y="2844720"/>
            <a:ext cx="339480" cy="3556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4991040" y="1887480"/>
            <a:ext cx="338040" cy="3589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384880" y="1887480"/>
            <a:ext cx="338040" cy="3589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5780160" y="1887480"/>
            <a:ext cx="338040" cy="3589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4821120" y="2068560"/>
            <a:ext cx="338400" cy="357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5216400" y="2068560"/>
            <a:ext cx="338400" cy="357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5611680" y="2068560"/>
            <a:ext cx="336600" cy="357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653000" y="2246400"/>
            <a:ext cx="338040" cy="3585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5048280" y="2246400"/>
            <a:ext cx="336600" cy="3585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442120" y="2246400"/>
            <a:ext cx="338040" cy="3585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4483080" y="2425680"/>
            <a:ext cx="338040" cy="35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876920" y="2425680"/>
            <a:ext cx="339480" cy="35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272200" y="2425680"/>
            <a:ext cx="339480" cy="35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3433680" y="1960560"/>
            <a:ext cx="13748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</a:rPr>
              <a:t>Abwick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173640" y="3164040"/>
            <a:ext cx="338400" cy="3585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005520" y="3343320"/>
            <a:ext cx="338040" cy="357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5837400" y="3522600"/>
            <a:ext cx="336240" cy="357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173640" y="2746440"/>
            <a:ext cx="338400" cy="3585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05520" y="2925720"/>
            <a:ext cx="338040" cy="357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837400" y="3105000"/>
            <a:ext cx="336240" cy="3574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173640" y="2297160"/>
            <a:ext cx="338400" cy="3585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005520" y="2476440"/>
            <a:ext cx="338040" cy="357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5837400" y="2655720"/>
            <a:ext cx="336240" cy="3574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173640" y="1881360"/>
            <a:ext cx="338400" cy="3585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005520" y="2060640"/>
            <a:ext cx="338040" cy="3585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5837400" y="2243160"/>
            <a:ext cx="336240" cy="3571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645160" y="3700440"/>
            <a:ext cx="338040" cy="3589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5667480" y="3268800"/>
            <a:ext cx="338040" cy="3585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5667480" y="2836800"/>
            <a:ext cx="338040" cy="3589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667480" y="2421000"/>
            <a:ext cx="338040" cy="35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 rot="16200000">
            <a:off x="3324600" y="2754360"/>
            <a:ext cx="334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rot="16200000">
            <a:off x="3281760" y="3626640"/>
            <a:ext cx="334080" cy="4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</a:rPr>
              <a:t>Ka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 rot="16200000">
            <a:off x="3295440" y="3217680"/>
            <a:ext cx="3340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 Narrow"/>
              </a:rPr>
              <a:t>Kred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4464000" y="1700280"/>
            <a:ext cx="2188800" cy="2376000"/>
            <a:chOff x="4464000" y="1700280"/>
            <a:chExt cx="2188800" cy="2376000"/>
          </a:xfrm>
        </p:grpSpPr>
        <p:sp>
          <p:nvSpPr>
            <p:cNvPr id="2210" name=""/>
            <p:cNvSpPr/>
            <p:nvPr/>
          </p:nvSpPr>
          <p:spPr>
            <a:xfrm>
              <a:off x="4464000" y="2395080"/>
              <a:ext cx="1542960" cy="1677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V="1">
              <a:off x="4464000" y="1722600"/>
              <a:ext cx="644040" cy="680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V="1">
              <a:off x="5994360" y="1709640"/>
              <a:ext cx="644040" cy="68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V="1">
              <a:off x="6008760" y="3395880"/>
              <a:ext cx="644040" cy="680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643440" y="1700280"/>
              <a:ext cx="0" cy="170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115960" y="1714680"/>
              <a:ext cx="15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6" name=""/>
          <p:cNvSpPr/>
          <p:nvPr/>
        </p:nvSpPr>
        <p:spPr>
          <a:xfrm rot="18755400">
            <a:off x="2387160" y="1635120"/>
            <a:ext cx="1263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sz="1500" spc="-1" strike="noStrike">
                <a:solidFill>
                  <a:srgbClr val="000000"/>
                </a:solidFill>
                <a:latin typeface="Arial Narrow"/>
              </a:rPr>
              <a:t>Verarbeitungs-schrit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 rot="16200000">
            <a:off x="2461680" y="3548160"/>
            <a:ext cx="88920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sz="1500" spc="-1" strike="noStrike">
                <a:solidFill>
                  <a:srgbClr val="000000"/>
                </a:solidFill>
                <a:latin typeface="Arial Narrow"/>
              </a:rPr>
              <a:t>Produk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441680" y="5013360"/>
            <a:ext cx="13813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sz="1500" spc="-1" strike="noStrike">
                <a:solidFill>
                  <a:srgbClr val="000000"/>
                </a:solidFill>
                <a:latin typeface="Arial Narrow"/>
              </a:rPr>
              <a:t>Vertriebskanä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V="1">
            <a:off x="3510000" y="1552680"/>
            <a:ext cx="252360" cy="25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5713560" y="5194440"/>
            <a:ext cx="54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V="1">
            <a:off x="2933640" y="273996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1789200" y="1241280"/>
            <a:ext cx="6238800" cy="426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Gerade Verbindung 8"/>
          <p:cNvSpPr/>
          <p:nvPr/>
        </p:nvSpPr>
        <p:spPr>
          <a:xfrm>
            <a:off x="4468680" y="4083120"/>
            <a:ext cx="0" cy="90972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Gerade Verbindung 8"/>
          <p:cNvSpPr/>
          <p:nvPr/>
        </p:nvSpPr>
        <p:spPr>
          <a:xfrm>
            <a:off x="3079800" y="4067280"/>
            <a:ext cx="1368360" cy="468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Gerade Verbindung 8"/>
          <p:cNvSpPr/>
          <p:nvPr/>
        </p:nvSpPr>
        <p:spPr>
          <a:xfrm>
            <a:off x="3108240" y="2400480"/>
            <a:ext cx="1368360" cy="468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 rot="16200000">
            <a:off x="5642280" y="4654800"/>
            <a:ext cx="2768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784880" y="1023840"/>
            <a:ext cx="370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3 Dimensionen des Testing Bereich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/>
          <p:nvPr/>
        </p:nvSpPr>
        <p:spPr>
          <a:xfrm>
            <a:off x="2560680" y="5165640"/>
            <a:ext cx="6603840" cy="11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2984400" y="1738440"/>
            <a:ext cx="6345360" cy="1820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554200" y="2789280"/>
            <a:ext cx="6604200" cy="1971720"/>
          </a:xfrm>
          <a:custGeom>
            <a:avLst/>
            <a:gdLst/>
            <a:ahLst/>
            <a:rect l="l" t="t" r="r" b="b"/>
            <a:pathLst>
              <a:path w="4160" h="1242">
                <a:moveTo>
                  <a:pt x="1386" y="0"/>
                </a:moveTo>
                <a:lnTo>
                  <a:pt x="4160" y="1242"/>
                </a:lnTo>
                <a:lnTo>
                  <a:pt x="0" y="1242"/>
                </a:lnTo>
                <a:lnTo>
                  <a:pt x="138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08040" y="3510000"/>
            <a:ext cx="6615000" cy="11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997360" y="2031840"/>
            <a:ext cx="450720" cy="8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3452760" y="2030400"/>
            <a:ext cx="451080" cy="8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3911760" y="2031840"/>
            <a:ext cx="468000" cy="8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378320" y="2030400"/>
            <a:ext cx="468360" cy="8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4846680" y="2023920"/>
            <a:ext cx="476280" cy="8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5315040" y="2033640"/>
            <a:ext cx="477720" cy="8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5786280" y="2033640"/>
            <a:ext cx="478080" cy="8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257880" y="2025720"/>
            <a:ext cx="450720" cy="8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719760" y="2025720"/>
            <a:ext cx="468360" cy="8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7189920" y="2033640"/>
            <a:ext cx="460080" cy="8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7653240" y="2023920"/>
            <a:ext cx="476280" cy="8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131320" y="2025720"/>
            <a:ext cx="468000" cy="8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Rechteck 84"/>
          <p:cNvSpPr/>
          <p:nvPr/>
        </p:nvSpPr>
        <p:spPr>
          <a:xfrm>
            <a:off x="5959440" y="4248000"/>
            <a:ext cx="1214640" cy="395280"/>
          </a:xfrm>
          <a:prstGeom prst="rect">
            <a:avLst/>
          </a:pr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tailplanun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der nächsten Woc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Rechteck 84"/>
          <p:cNvSpPr/>
          <p:nvPr/>
        </p:nvSpPr>
        <p:spPr>
          <a:xfrm>
            <a:off x="4672080" y="4227480"/>
            <a:ext cx="1224000" cy="395280"/>
          </a:xfrm>
          <a:prstGeom prst="rect">
            <a:avLst/>
          </a:pr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urchfüh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ssu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Rechteck 84"/>
          <p:cNvSpPr/>
          <p:nvPr/>
        </p:nvSpPr>
        <p:spPr>
          <a:xfrm>
            <a:off x="5959440" y="3882960"/>
            <a:ext cx="1214640" cy="333360"/>
          </a:xfrm>
          <a:prstGeom prst="rect">
            <a:avLst/>
          </a:pr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eportin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vorberei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Rechteck 84"/>
          <p:cNvSpPr/>
          <p:nvPr/>
        </p:nvSpPr>
        <p:spPr>
          <a:xfrm>
            <a:off x="650880" y="3532320"/>
            <a:ext cx="1274760" cy="1076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ieferun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des neuen Baustei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Rechteck 84"/>
          <p:cNvSpPr/>
          <p:nvPr/>
        </p:nvSpPr>
        <p:spPr>
          <a:xfrm>
            <a:off x="2017800" y="4030560"/>
            <a:ext cx="1274760" cy="579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inspielun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des neuen Bausteines auf dem Test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Rechteck 84"/>
          <p:cNvSpPr/>
          <p:nvPr/>
        </p:nvSpPr>
        <p:spPr>
          <a:xfrm>
            <a:off x="2017800" y="3543480"/>
            <a:ext cx="1274760" cy="43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urchführu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moke-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Rechteck 84"/>
          <p:cNvSpPr/>
          <p:nvPr/>
        </p:nvSpPr>
        <p:spPr>
          <a:xfrm>
            <a:off x="3368520" y="3533760"/>
            <a:ext cx="1224000" cy="1095480"/>
          </a:xfrm>
          <a:prstGeom prst="rect">
            <a:avLst/>
          </a:pr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urchführu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nahmetests, vor allem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e-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Rechteck 84"/>
          <p:cNvSpPr/>
          <p:nvPr/>
        </p:nvSpPr>
        <p:spPr>
          <a:xfrm>
            <a:off x="4667400" y="3552840"/>
            <a:ext cx="1223640" cy="625320"/>
          </a:xfrm>
          <a:prstGeom prst="rect">
            <a:avLst/>
          </a:pr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urchführu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e-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Rechteck 84"/>
          <p:cNvSpPr/>
          <p:nvPr/>
        </p:nvSpPr>
        <p:spPr>
          <a:xfrm>
            <a:off x="5959440" y="3532320"/>
            <a:ext cx="1216080" cy="322200"/>
          </a:xfrm>
          <a:prstGeom prst="rect">
            <a:avLst/>
          </a:pr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urchführu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e-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Rechteck 51"/>
          <p:cNvSpPr/>
          <p:nvPr/>
        </p:nvSpPr>
        <p:spPr>
          <a:xfrm>
            <a:off x="911160" y="747720"/>
            <a:ext cx="8410680" cy="317520"/>
          </a:xfrm>
          <a:prstGeom prst="rect">
            <a:avLst/>
          </a:prstGeom>
          <a:solidFill>
            <a:srgbClr val="dddddd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ahr 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9329760" y="1727280"/>
            <a:ext cx="9360" cy="458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2987640" y="1979640"/>
            <a:ext cx="0" cy="91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6153120" y="1058760"/>
            <a:ext cx="3166920" cy="3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Rechteck 51"/>
          <p:cNvSpPr/>
          <p:nvPr/>
        </p:nvSpPr>
        <p:spPr>
          <a:xfrm>
            <a:off x="2992320" y="1397160"/>
            <a:ext cx="6334200" cy="325440"/>
          </a:xfrm>
          <a:prstGeom prst="rect">
            <a:avLst/>
          </a:prstGeom>
          <a:solidFill>
            <a:srgbClr val="777777">
              <a:alpha val="55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Einfüh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2989440" y="1057320"/>
            <a:ext cx="3166920" cy="32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2989440" y="1724040"/>
            <a:ext cx="468000" cy="311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3452760" y="1724040"/>
            <a:ext cx="468360" cy="311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3913200" y="1724040"/>
            <a:ext cx="468360" cy="311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4376880" y="1724040"/>
            <a:ext cx="468000" cy="311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4856040" y="1724040"/>
            <a:ext cx="468360" cy="311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5319720" y="1724040"/>
            <a:ext cx="468360" cy="311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5780160" y="1724040"/>
            <a:ext cx="485640" cy="311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6261120" y="1724040"/>
            <a:ext cx="468360" cy="311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6721560" y="1724040"/>
            <a:ext cx="468360" cy="311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7184880" y="1724040"/>
            <a:ext cx="468360" cy="311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7664400" y="1724040"/>
            <a:ext cx="468360" cy="311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8128080" y="1724040"/>
            <a:ext cx="468360" cy="311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Rechteck 97"/>
          <p:cNvSpPr/>
          <p:nvPr/>
        </p:nvSpPr>
        <p:spPr>
          <a:xfrm>
            <a:off x="2995560" y="2025720"/>
            <a:ext cx="5607000" cy="844560"/>
          </a:xfrm>
          <a:prstGeom prst="rect">
            <a:avLst/>
          </a:prstGeom>
          <a:solidFill>
            <a:srgbClr val="efebcc">
              <a:alpha val="59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Rechteck 99"/>
          <p:cNvSpPr/>
          <p:nvPr/>
        </p:nvSpPr>
        <p:spPr>
          <a:xfrm>
            <a:off x="3965400" y="2449440"/>
            <a:ext cx="355680" cy="236520"/>
          </a:xfrm>
          <a:custGeom>
            <a:avLst/>
            <a:gdLst>
              <a:gd name="textAreaLeft" fmla="*/ 0 w 355680"/>
              <a:gd name="textAreaRight" fmla="*/ 356040 w 355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Rechteck 99"/>
          <p:cNvSpPr/>
          <p:nvPr/>
        </p:nvSpPr>
        <p:spPr>
          <a:xfrm>
            <a:off x="4432320" y="2440080"/>
            <a:ext cx="355680" cy="236520"/>
          </a:xfrm>
          <a:custGeom>
            <a:avLst/>
            <a:gdLst>
              <a:gd name="textAreaLeft" fmla="*/ 0 w 355680"/>
              <a:gd name="textAreaRight" fmla="*/ 356040 w 355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Rechteck 99"/>
          <p:cNvSpPr/>
          <p:nvPr/>
        </p:nvSpPr>
        <p:spPr>
          <a:xfrm>
            <a:off x="4890960" y="2433600"/>
            <a:ext cx="355680" cy="236520"/>
          </a:xfrm>
          <a:custGeom>
            <a:avLst/>
            <a:gdLst>
              <a:gd name="textAreaLeft" fmla="*/ 0 w 355680"/>
              <a:gd name="textAreaRight" fmla="*/ 356040 w 355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Rechteck 99"/>
          <p:cNvSpPr/>
          <p:nvPr/>
        </p:nvSpPr>
        <p:spPr>
          <a:xfrm>
            <a:off x="5378400" y="2443320"/>
            <a:ext cx="355680" cy="236520"/>
          </a:xfrm>
          <a:custGeom>
            <a:avLst/>
            <a:gdLst>
              <a:gd name="textAreaLeft" fmla="*/ 0 w 355680"/>
              <a:gd name="textAreaRight" fmla="*/ 356040 w 355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Rechteck 99"/>
          <p:cNvSpPr/>
          <p:nvPr/>
        </p:nvSpPr>
        <p:spPr>
          <a:xfrm>
            <a:off x="5832360" y="2443320"/>
            <a:ext cx="355680" cy="236520"/>
          </a:xfrm>
          <a:custGeom>
            <a:avLst/>
            <a:gdLst>
              <a:gd name="textAreaLeft" fmla="*/ 0 w 355680"/>
              <a:gd name="textAreaRight" fmla="*/ 356040 w 355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Rechteck 99"/>
          <p:cNvSpPr/>
          <p:nvPr/>
        </p:nvSpPr>
        <p:spPr>
          <a:xfrm>
            <a:off x="6294600" y="2435400"/>
            <a:ext cx="355320" cy="236520"/>
          </a:xfrm>
          <a:custGeom>
            <a:avLst/>
            <a:gdLst>
              <a:gd name="textAreaLeft" fmla="*/ 0 w 355320"/>
              <a:gd name="textAreaRight" fmla="*/ 355680 w 3553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Rechteck 99"/>
          <p:cNvSpPr/>
          <p:nvPr/>
        </p:nvSpPr>
        <p:spPr>
          <a:xfrm>
            <a:off x="6756480" y="2435400"/>
            <a:ext cx="355680" cy="236520"/>
          </a:xfrm>
          <a:custGeom>
            <a:avLst/>
            <a:gdLst>
              <a:gd name="textAreaLeft" fmla="*/ 0 w 355680"/>
              <a:gd name="textAreaRight" fmla="*/ 356040 w 355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Rechteck 99"/>
          <p:cNvSpPr/>
          <p:nvPr/>
        </p:nvSpPr>
        <p:spPr>
          <a:xfrm>
            <a:off x="7226280" y="2443320"/>
            <a:ext cx="355680" cy="236520"/>
          </a:xfrm>
          <a:custGeom>
            <a:avLst/>
            <a:gdLst>
              <a:gd name="textAreaLeft" fmla="*/ 0 w 355680"/>
              <a:gd name="textAreaRight" fmla="*/ 356040 w 355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Rechteck 99"/>
          <p:cNvSpPr/>
          <p:nvPr/>
        </p:nvSpPr>
        <p:spPr>
          <a:xfrm>
            <a:off x="7715160" y="2433600"/>
            <a:ext cx="355680" cy="236520"/>
          </a:xfrm>
          <a:custGeom>
            <a:avLst/>
            <a:gdLst>
              <a:gd name="textAreaLeft" fmla="*/ 0 w 355680"/>
              <a:gd name="textAreaRight" fmla="*/ 356040 w 355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Rechteck 99"/>
          <p:cNvSpPr/>
          <p:nvPr/>
        </p:nvSpPr>
        <p:spPr>
          <a:xfrm>
            <a:off x="8167680" y="2435400"/>
            <a:ext cx="355680" cy="236520"/>
          </a:xfrm>
          <a:custGeom>
            <a:avLst/>
            <a:gdLst>
              <a:gd name="textAreaLeft" fmla="*/ 0 w 355680"/>
              <a:gd name="textAreaRight" fmla="*/ 356040 w 355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Rechteck 99"/>
          <p:cNvSpPr/>
          <p:nvPr/>
        </p:nvSpPr>
        <p:spPr>
          <a:xfrm>
            <a:off x="3033720" y="2441520"/>
            <a:ext cx="355680" cy="236520"/>
          </a:xfrm>
          <a:custGeom>
            <a:avLst/>
            <a:gdLst>
              <a:gd name="textAreaLeft" fmla="*/ 0 w 355680"/>
              <a:gd name="textAreaRight" fmla="*/ 356040 w 355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Rechteck 99"/>
          <p:cNvSpPr/>
          <p:nvPr/>
        </p:nvSpPr>
        <p:spPr>
          <a:xfrm>
            <a:off x="3489480" y="2440080"/>
            <a:ext cx="355320" cy="236520"/>
          </a:xfrm>
          <a:custGeom>
            <a:avLst/>
            <a:gdLst>
              <a:gd name="textAreaLeft" fmla="*/ 0 w 355320"/>
              <a:gd name="textAreaRight" fmla="*/ 355680 w 3553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3082680" y="2136600"/>
            <a:ext cx="13906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Abnahme-Tes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Rechteck 51"/>
          <p:cNvSpPr/>
          <p:nvPr/>
        </p:nvSpPr>
        <p:spPr>
          <a:xfrm>
            <a:off x="596880" y="3325680"/>
            <a:ext cx="1405080" cy="176400"/>
          </a:xfrm>
          <a:prstGeom prst="rect">
            <a:avLst/>
          </a:prstGeom>
          <a:solidFill>
            <a:srgbClr val="8b8c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Rechteck 52"/>
          <p:cNvSpPr/>
          <p:nvPr/>
        </p:nvSpPr>
        <p:spPr>
          <a:xfrm>
            <a:off x="1978200" y="3325680"/>
            <a:ext cx="1366560" cy="176400"/>
          </a:xfrm>
          <a:prstGeom prst="rect">
            <a:avLst/>
          </a:prstGeom>
          <a:solidFill>
            <a:srgbClr val="8b8c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Rechteck 53"/>
          <p:cNvSpPr/>
          <p:nvPr/>
        </p:nvSpPr>
        <p:spPr>
          <a:xfrm>
            <a:off x="3344760" y="3325680"/>
            <a:ext cx="1290600" cy="176400"/>
          </a:xfrm>
          <a:prstGeom prst="rect">
            <a:avLst/>
          </a:prstGeom>
          <a:solidFill>
            <a:srgbClr val="8b8c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Rechteck 54"/>
          <p:cNvSpPr/>
          <p:nvPr/>
        </p:nvSpPr>
        <p:spPr>
          <a:xfrm>
            <a:off x="4635360" y="3325680"/>
            <a:ext cx="1295640" cy="176400"/>
          </a:xfrm>
          <a:prstGeom prst="rect">
            <a:avLst/>
          </a:prstGeom>
          <a:solidFill>
            <a:srgbClr val="8b8c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Rechteck 54"/>
          <p:cNvSpPr/>
          <p:nvPr/>
        </p:nvSpPr>
        <p:spPr>
          <a:xfrm>
            <a:off x="5931000" y="3325680"/>
            <a:ext cx="1290600" cy="176400"/>
          </a:xfrm>
          <a:prstGeom prst="rect">
            <a:avLst/>
          </a:prstGeom>
          <a:solidFill>
            <a:srgbClr val="8b8c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F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Rechteck 51"/>
          <p:cNvSpPr/>
          <p:nvPr/>
        </p:nvSpPr>
        <p:spPr>
          <a:xfrm>
            <a:off x="2548080" y="4762440"/>
            <a:ext cx="6624360" cy="219240"/>
          </a:xfrm>
          <a:prstGeom prst="rect">
            <a:avLst/>
          </a:prstGeom>
          <a:solidFill>
            <a:srgbClr val="8b8c8f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2. Wo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Rechteck 84"/>
          <p:cNvSpPr/>
          <p:nvPr/>
        </p:nvSpPr>
        <p:spPr>
          <a:xfrm>
            <a:off x="7918560" y="5894280"/>
            <a:ext cx="1216080" cy="368280"/>
          </a:xfrm>
          <a:prstGeom prst="rect">
            <a:avLst/>
          </a:pr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reies Tes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Rechteck 84"/>
          <p:cNvSpPr/>
          <p:nvPr/>
        </p:nvSpPr>
        <p:spPr>
          <a:xfrm>
            <a:off x="6622920" y="5883120"/>
            <a:ext cx="1224000" cy="395280"/>
          </a:xfrm>
          <a:prstGeom prst="rect">
            <a:avLst/>
          </a:pr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urchfüh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ssu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Rechteck 84"/>
          <p:cNvSpPr/>
          <p:nvPr/>
        </p:nvSpPr>
        <p:spPr>
          <a:xfrm>
            <a:off x="7918560" y="5529240"/>
            <a:ext cx="1216080" cy="316080"/>
          </a:xfrm>
          <a:prstGeom prst="rect">
            <a:avLst/>
          </a:pr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eportin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vorberei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Rechteck 84"/>
          <p:cNvSpPr/>
          <p:nvPr/>
        </p:nvSpPr>
        <p:spPr>
          <a:xfrm>
            <a:off x="5319720" y="5189400"/>
            <a:ext cx="1224000" cy="1086120"/>
          </a:xfrm>
          <a:prstGeom prst="rect">
            <a:avLst/>
          </a:pr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urchführu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bnahme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Rechteck 84"/>
          <p:cNvSpPr/>
          <p:nvPr/>
        </p:nvSpPr>
        <p:spPr>
          <a:xfrm>
            <a:off x="6618240" y="5208480"/>
            <a:ext cx="1224000" cy="625680"/>
          </a:xfrm>
          <a:prstGeom prst="rect">
            <a:avLst/>
          </a:pr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urchführu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bnahme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Rechteck 84"/>
          <p:cNvSpPr/>
          <p:nvPr/>
        </p:nvSpPr>
        <p:spPr>
          <a:xfrm>
            <a:off x="7918560" y="5178600"/>
            <a:ext cx="1217520" cy="322200"/>
          </a:xfrm>
          <a:prstGeom prst="rect">
            <a:avLst/>
          </a:pr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urchführu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bnahme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Rechteck 51"/>
          <p:cNvSpPr/>
          <p:nvPr/>
        </p:nvSpPr>
        <p:spPr>
          <a:xfrm>
            <a:off x="2548080" y="4981680"/>
            <a:ext cx="1404720" cy="176040"/>
          </a:xfrm>
          <a:prstGeom prst="rect">
            <a:avLst/>
          </a:prstGeom>
          <a:solidFill>
            <a:srgbClr val="8b8c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Rechteck 52"/>
          <p:cNvSpPr/>
          <p:nvPr/>
        </p:nvSpPr>
        <p:spPr>
          <a:xfrm>
            <a:off x="3929040" y="4981680"/>
            <a:ext cx="1366920" cy="176040"/>
          </a:xfrm>
          <a:prstGeom prst="rect">
            <a:avLst/>
          </a:prstGeom>
          <a:solidFill>
            <a:srgbClr val="8b8c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Rechteck 53"/>
          <p:cNvSpPr/>
          <p:nvPr/>
        </p:nvSpPr>
        <p:spPr>
          <a:xfrm>
            <a:off x="5295960" y="4981680"/>
            <a:ext cx="1290600" cy="176040"/>
          </a:xfrm>
          <a:prstGeom prst="rect">
            <a:avLst/>
          </a:prstGeom>
          <a:solidFill>
            <a:srgbClr val="8b8c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Rechteck 54"/>
          <p:cNvSpPr/>
          <p:nvPr/>
        </p:nvSpPr>
        <p:spPr>
          <a:xfrm>
            <a:off x="6586560" y="4981680"/>
            <a:ext cx="1295280" cy="176040"/>
          </a:xfrm>
          <a:prstGeom prst="rect">
            <a:avLst/>
          </a:prstGeom>
          <a:solidFill>
            <a:srgbClr val="8b8c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Rechteck 54"/>
          <p:cNvSpPr/>
          <p:nvPr/>
        </p:nvSpPr>
        <p:spPr>
          <a:xfrm>
            <a:off x="7881840" y="4981680"/>
            <a:ext cx="1290600" cy="176040"/>
          </a:xfrm>
          <a:prstGeom prst="rect">
            <a:avLst/>
          </a:prstGeom>
          <a:solidFill>
            <a:srgbClr val="8b8c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F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Rechteck 84"/>
          <p:cNvSpPr/>
          <p:nvPr/>
        </p:nvSpPr>
        <p:spPr>
          <a:xfrm>
            <a:off x="3971880" y="5200560"/>
            <a:ext cx="1268280" cy="1076400"/>
          </a:xfrm>
          <a:prstGeom prst="rect">
            <a:avLst/>
          </a:pr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urchführu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bnahme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Rechteck 84"/>
          <p:cNvSpPr/>
          <p:nvPr/>
        </p:nvSpPr>
        <p:spPr>
          <a:xfrm>
            <a:off x="2622600" y="5199120"/>
            <a:ext cx="1268280" cy="1068480"/>
          </a:xfrm>
          <a:prstGeom prst="rect">
            <a:avLst/>
          </a:prstGeom>
          <a:solidFill>
            <a:srgbClr val="d6c67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urchführu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bnahme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rot="16200000">
            <a:off x="4587840" y="2515680"/>
            <a:ext cx="42840" cy="484200"/>
          </a:xfrm>
          <a:custGeom>
            <a:avLst/>
            <a:gdLst>
              <a:gd name="textAreaLeft" fmla="*/ 27360 w 42840"/>
              <a:gd name="textAreaRight" fmla="*/ 43200 w 42840"/>
              <a:gd name="textAreaTop" fmla="*/ 12600 h 484200"/>
              <a:gd name="textAreaBottom" fmla="*/ 471600 h 48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592200" y="2816280"/>
            <a:ext cx="6656400" cy="284040"/>
          </a:xfrm>
          <a:custGeom>
            <a:avLst/>
            <a:gdLst/>
            <a:ahLst/>
            <a:rect l="l" t="t" r="r" b="b"/>
            <a:pathLst>
              <a:path w="4171" h="134">
                <a:moveTo>
                  <a:pt x="2471" y="0"/>
                </a:moveTo>
                <a:lnTo>
                  <a:pt x="0" y="129"/>
                </a:lnTo>
                <a:lnTo>
                  <a:pt x="4171" y="134"/>
                </a:lnTo>
                <a:lnTo>
                  <a:pt x="2471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Gerade Verbindung 8"/>
          <p:cNvSpPr/>
          <p:nvPr/>
        </p:nvSpPr>
        <p:spPr>
          <a:xfrm>
            <a:off x="5911920" y="3529080"/>
            <a:ext cx="17280" cy="113652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Gerade Verbindung 8"/>
          <p:cNvSpPr/>
          <p:nvPr/>
        </p:nvSpPr>
        <p:spPr>
          <a:xfrm>
            <a:off x="4626000" y="3495600"/>
            <a:ext cx="17280" cy="113688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Gerade Verbindung 8"/>
          <p:cNvSpPr/>
          <p:nvPr/>
        </p:nvSpPr>
        <p:spPr>
          <a:xfrm>
            <a:off x="3321000" y="3522600"/>
            <a:ext cx="17640" cy="113688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Gerade Verbindung 8"/>
          <p:cNvSpPr/>
          <p:nvPr/>
        </p:nvSpPr>
        <p:spPr>
          <a:xfrm>
            <a:off x="1981080" y="3513240"/>
            <a:ext cx="17640" cy="113652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Gerade Verbindung 8"/>
          <p:cNvSpPr/>
          <p:nvPr/>
        </p:nvSpPr>
        <p:spPr>
          <a:xfrm>
            <a:off x="3917880" y="5140440"/>
            <a:ext cx="17640" cy="113652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Gerade Verbindung 8"/>
          <p:cNvSpPr/>
          <p:nvPr/>
        </p:nvSpPr>
        <p:spPr>
          <a:xfrm>
            <a:off x="5268960" y="5176800"/>
            <a:ext cx="17280" cy="113652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Gerade Verbindung 8"/>
          <p:cNvSpPr/>
          <p:nvPr/>
        </p:nvSpPr>
        <p:spPr>
          <a:xfrm>
            <a:off x="6583320" y="5160960"/>
            <a:ext cx="17640" cy="113652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Gerade Verbindung 8"/>
          <p:cNvSpPr/>
          <p:nvPr/>
        </p:nvSpPr>
        <p:spPr>
          <a:xfrm>
            <a:off x="7880400" y="5195880"/>
            <a:ext cx="17280" cy="113652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Rechteck 51"/>
          <p:cNvSpPr/>
          <p:nvPr/>
        </p:nvSpPr>
        <p:spPr>
          <a:xfrm>
            <a:off x="596880" y="3106800"/>
            <a:ext cx="6624720" cy="218880"/>
          </a:xfrm>
          <a:prstGeom prst="rect">
            <a:avLst/>
          </a:prstGeom>
          <a:solidFill>
            <a:srgbClr val="8b8c8f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1. Wo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436680" y="612720"/>
            <a:ext cx="9113760" cy="580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88160" y="396720"/>
            <a:ext cx="531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ochenraster für die Durchführung der Abnahmetes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Rechteck 84"/>
          <p:cNvSpPr/>
          <p:nvPr/>
        </p:nvSpPr>
        <p:spPr>
          <a:xfrm>
            <a:off x="3746520" y="2698920"/>
            <a:ext cx="2627280" cy="718920"/>
          </a:xfrm>
          <a:prstGeom prst="ellipse">
            <a:avLst/>
          </a:prstGeom>
          <a:solidFill>
            <a:srgbClr val="638dab">
              <a:alpha val="51000"/>
            </a:srgbClr>
          </a:solidFill>
          <a:ln w="3240">
            <a:solidFill>
              <a:srgbClr val="638d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neralpro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Rechteck 84"/>
          <p:cNvSpPr/>
          <p:nvPr/>
        </p:nvSpPr>
        <p:spPr>
          <a:xfrm>
            <a:off x="1655640" y="1619280"/>
            <a:ext cx="2016360" cy="574560"/>
          </a:xfrm>
          <a:prstGeom prst="ellipse">
            <a:avLst/>
          </a:prstGeom>
          <a:solidFill>
            <a:srgbClr val="dddddd">
              <a:alpha val="51000"/>
            </a:srgbClr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P-System-bereitstellung, Cut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Rechteck 84"/>
          <p:cNvSpPr/>
          <p:nvPr/>
        </p:nvSpPr>
        <p:spPr>
          <a:xfrm>
            <a:off x="4068720" y="1004760"/>
            <a:ext cx="2016000" cy="574920"/>
          </a:xfrm>
          <a:prstGeom prst="ellipse">
            <a:avLst/>
          </a:prstGeom>
          <a:solidFill>
            <a:srgbClr val="dddddd">
              <a:alpha val="51000"/>
            </a:srgbClr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frastrukt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IT-System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Rechteck 84"/>
          <p:cNvSpPr/>
          <p:nvPr/>
        </p:nvSpPr>
        <p:spPr>
          <a:xfrm>
            <a:off x="6516720" y="1652760"/>
            <a:ext cx="2016000" cy="574560"/>
          </a:xfrm>
          <a:prstGeom prst="ellipse">
            <a:avLst/>
          </a:prstGeom>
          <a:solidFill>
            <a:srgbClr val="dddddd">
              <a:alpha val="51000"/>
            </a:srgbClr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frastrukt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Gebäude, Arbeitsplat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Rechteck 84"/>
          <p:cNvSpPr/>
          <p:nvPr/>
        </p:nvSpPr>
        <p:spPr>
          <a:xfrm>
            <a:off x="1189080" y="3813120"/>
            <a:ext cx="2016000" cy="574560"/>
          </a:xfrm>
          <a:prstGeom prst="ellipse">
            <a:avLst/>
          </a:prstGeom>
          <a:solidFill>
            <a:srgbClr val="dddddd">
              <a:alpha val="51000"/>
            </a:srgbClr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rametrierung in den Fach-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Rechteck 84"/>
          <p:cNvSpPr/>
          <p:nvPr/>
        </p:nvSpPr>
        <p:spPr>
          <a:xfrm>
            <a:off x="5184720" y="4678200"/>
            <a:ext cx="2016360" cy="574920"/>
          </a:xfrm>
          <a:prstGeom prst="ellipse">
            <a:avLst/>
          </a:prstGeom>
          <a:solidFill>
            <a:srgbClr val="dddddd">
              <a:alpha val="51000"/>
            </a:srgbClr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u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Rechteck 84"/>
          <p:cNvSpPr/>
          <p:nvPr/>
        </p:nvSpPr>
        <p:spPr>
          <a:xfrm>
            <a:off x="396720" y="2697120"/>
            <a:ext cx="2016360" cy="574560"/>
          </a:xfrm>
          <a:prstGeom prst="ellipse">
            <a:avLst/>
          </a:prstGeom>
          <a:solidFill>
            <a:srgbClr val="dddddd">
              <a:alpha val="51000"/>
            </a:srgbClr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chnischer Betri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Rechteck 84"/>
          <p:cNvSpPr/>
          <p:nvPr/>
        </p:nvSpPr>
        <p:spPr>
          <a:xfrm>
            <a:off x="2808360" y="4678200"/>
            <a:ext cx="2016000" cy="574920"/>
          </a:xfrm>
          <a:prstGeom prst="ellipse">
            <a:avLst/>
          </a:prstGeom>
          <a:solidFill>
            <a:srgbClr val="dddddd">
              <a:alpha val="51000"/>
            </a:srgbClr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nutzer-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Rechteck 84"/>
          <p:cNvSpPr/>
          <p:nvPr/>
        </p:nvSpPr>
        <p:spPr>
          <a:xfrm>
            <a:off x="6840360" y="3813120"/>
            <a:ext cx="2016360" cy="574560"/>
          </a:xfrm>
          <a:prstGeom prst="ellipse">
            <a:avLst/>
          </a:prstGeom>
          <a:solidFill>
            <a:srgbClr val="dddddd">
              <a:alpha val="51000"/>
            </a:srgbClr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nahme-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Rechteck 84"/>
          <p:cNvSpPr/>
          <p:nvPr/>
        </p:nvSpPr>
        <p:spPr>
          <a:xfrm>
            <a:off x="7634160" y="2697120"/>
            <a:ext cx="2051280" cy="576360"/>
          </a:xfrm>
          <a:prstGeom prst="ellipse">
            <a:avLst/>
          </a:prstGeom>
          <a:solidFill>
            <a:srgbClr val="dddddd">
              <a:alpha val="51000"/>
            </a:srgbClr>
          </a:solidFill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mmunik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7" name=""/>
          <p:cNvCxnSpPr>
            <a:stCxn id="2319" idx="2"/>
            <a:endCxn id="2318" idx="0"/>
          </p:cNvCxnSpPr>
          <p:nvPr/>
        </p:nvCxnSpPr>
        <p:spPr>
          <a:xfrm flipV="1" rot="10800000">
            <a:off x="2663280" y="1292040"/>
            <a:ext cx="1405440" cy="327600"/>
          </a:xfrm>
          <a:prstGeom prst="curvedConnector2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</p:cxnSp>
      <p:cxnSp>
        <p:nvCxnSpPr>
          <p:cNvPr id="2328" name=""/>
          <p:cNvCxnSpPr>
            <a:stCxn id="2318" idx="3"/>
            <a:endCxn id="2323" idx="0"/>
          </p:cNvCxnSpPr>
          <p:nvPr/>
        </p:nvCxnSpPr>
        <p:spPr>
          <a:xfrm rot="5400000">
            <a:off x="1383840" y="2130480"/>
            <a:ext cx="587880" cy="546480"/>
          </a:xfrm>
          <a:prstGeom prst="curvedConnector5">
            <a:avLst>
              <a:gd name="adj1" fmla="val 56985"/>
              <a:gd name="adj2" fmla="val 49967"/>
              <a:gd name="adj3" fmla="val 56985"/>
            </a:avLst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</p:cxnSp>
      <p:cxnSp>
        <p:nvCxnSpPr>
          <p:cNvPr id="2329" name=""/>
          <p:cNvCxnSpPr>
            <a:stCxn id="2319" idx="1"/>
            <a:endCxn id="2323" idx="1"/>
          </p:cNvCxnSpPr>
          <p:nvPr/>
        </p:nvCxnSpPr>
        <p:spPr>
          <a:xfrm rot="5400000">
            <a:off x="1681200" y="98280"/>
            <a:ext cx="1693080" cy="3672360"/>
          </a:xfrm>
          <a:prstGeom prst="curvedConnector5">
            <a:avLst>
              <a:gd name="adj1" fmla="val -3466"/>
              <a:gd name="adj2" fmla="val 50000"/>
              <a:gd name="adj3" fmla="val -3466"/>
            </a:avLst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</p:cxnSp>
      <p:cxnSp>
        <p:nvCxnSpPr>
          <p:cNvPr id="2330" name=""/>
          <p:cNvCxnSpPr>
            <a:stCxn id="2321" idx="7"/>
            <a:endCxn id="2318" idx="4"/>
          </p:cNvCxnSpPr>
          <p:nvPr/>
        </p:nvCxnSpPr>
        <p:spPr>
          <a:xfrm flipV="1" rot="16200000">
            <a:off x="1934640" y="2922120"/>
            <a:ext cx="1704240" cy="246600"/>
          </a:xfrm>
          <a:prstGeom prst="curvedConnector5">
            <a:avLst>
              <a:gd name="adj1" fmla="val 41369"/>
              <a:gd name="adj2" fmla="val 50000"/>
              <a:gd name="adj3" fmla="val 41369"/>
            </a:avLst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</p:cxnSp>
      <p:cxnSp>
        <p:nvCxnSpPr>
          <p:cNvPr id="2331" name=""/>
          <p:cNvCxnSpPr>
            <a:stCxn id="2321" idx="2"/>
            <a:endCxn id="2323" idx="3"/>
          </p:cNvCxnSpPr>
          <p:nvPr/>
        </p:nvCxnSpPr>
        <p:spPr>
          <a:xfrm rot="10800000">
            <a:off x="691560" y="3187080"/>
            <a:ext cx="497520" cy="913320"/>
          </a:xfrm>
          <a:prstGeom prst="curvedConnector2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</p:cxnSp>
      <p:cxnSp>
        <p:nvCxnSpPr>
          <p:cNvPr id="2332" name=""/>
          <p:cNvCxnSpPr>
            <a:stCxn id="2321" idx="3"/>
            <a:endCxn id="2322" idx="4"/>
          </p:cNvCxnSpPr>
          <p:nvPr/>
        </p:nvCxnSpPr>
        <p:spPr>
          <a:xfrm flipH="1" rot="16200000">
            <a:off x="3362760" y="2423880"/>
            <a:ext cx="950040" cy="4709160"/>
          </a:xfrm>
          <a:prstGeom prst="curvedConnector5">
            <a:avLst>
              <a:gd name="adj1" fmla="val 133927"/>
              <a:gd name="adj2" fmla="val 50000"/>
              <a:gd name="adj3" fmla="val 133927"/>
            </a:avLst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</p:cxnSp>
      <p:cxnSp>
        <p:nvCxnSpPr>
          <p:cNvPr id="2333" name=""/>
          <p:cNvCxnSpPr>
            <a:stCxn id="2321" idx="4"/>
            <a:endCxn id="2324" idx="2"/>
          </p:cNvCxnSpPr>
          <p:nvPr/>
        </p:nvCxnSpPr>
        <p:spPr>
          <a:xfrm flipH="1" rot="16200000">
            <a:off x="2213640" y="4370760"/>
            <a:ext cx="578880" cy="612000"/>
          </a:xfrm>
          <a:prstGeom prst="curvedConnector2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</p:cxnSp>
      <p:cxnSp>
        <p:nvCxnSpPr>
          <p:cNvPr id="2334" name=""/>
          <p:cNvCxnSpPr>
            <a:stCxn id="2320" idx="0"/>
            <a:endCxn id="2319" idx="6"/>
          </p:cNvCxnSpPr>
          <p:nvPr/>
        </p:nvCxnSpPr>
        <p:spPr>
          <a:xfrm flipV="1" rot="16200000">
            <a:off x="6624360" y="752040"/>
            <a:ext cx="361080" cy="1440360"/>
          </a:xfrm>
          <a:prstGeom prst="curvedConnector2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</p:cxnSp>
      <p:cxnSp>
        <p:nvCxnSpPr>
          <p:cNvPr id="2335" name=""/>
          <p:cNvCxnSpPr>
            <a:stCxn id="2318" idx="5"/>
            <a:endCxn id="2324" idx="7"/>
          </p:cNvCxnSpPr>
          <p:nvPr/>
        </p:nvCxnSpPr>
        <p:spPr>
          <a:xfrm flipH="1" rot="16200000">
            <a:off x="2626560" y="2859480"/>
            <a:ext cx="2653200" cy="1153440"/>
          </a:xfrm>
          <a:prstGeom prst="curvedConnector5">
            <a:avLst>
              <a:gd name="adj1" fmla="val 54091"/>
              <a:gd name="adj2" fmla="val 49984"/>
              <a:gd name="adj3" fmla="val 54091"/>
            </a:avLst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</p:cxnSp>
      <p:cxnSp>
        <p:nvCxnSpPr>
          <p:cNvPr id="2336" name=""/>
          <p:cNvCxnSpPr>
            <a:stCxn id="2323" idx="6"/>
            <a:endCxn id="2324" idx="0"/>
          </p:cNvCxnSpPr>
          <p:nvPr/>
        </p:nvCxnSpPr>
        <p:spPr>
          <a:xfrm>
            <a:off x="2413080" y="2984040"/>
            <a:ext cx="1404000" cy="1694520"/>
          </a:xfrm>
          <a:prstGeom prst="curvedConnector2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</p:cxnSp>
      <p:cxnSp>
        <p:nvCxnSpPr>
          <p:cNvPr id="2337" name=""/>
          <p:cNvCxnSpPr>
            <a:stCxn id="2318" idx="6"/>
            <a:endCxn id="2325" idx="1"/>
          </p:cNvCxnSpPr>
          <p:nvPr/>
        </p:nvCxnSpPr>
        <p:spPr>
          <a:xfrm>
            <a:off x="3672000" y="1906560"/>
            <a:ext cx="3464640" cy="1991520"/>
          </a:xfrm>
          <a:prstGeom prst="curvedConnector2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</p:cxnSp>
      <p:cxnSp>
        <p:nvCxnSpPr>
          <p:cNvPr id="2338" name=""/>
          <p:cNvCxnSpPr>
            <a:stCxn id="2322" idx="2"/>
            <a:endCxn id="2324" idx="6"/>
          </p:cNvCxnSpPr>
          <p:nvPr/>
        </p:nvCxnSpPr>
        <p:spPr>
          <a:xfrm rot="10800000">
            <a:off x="4823640" y="4965120"/>
            <a:ext cx="361080" cy="1080"/>
          </a:xfrm>
          <a:prstGeom prst="curvedConnector2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</p:cxnSp>
      <p:cxnSp>
        <p:nvCxnSpPr>
          <p:cNvPr id="2339" name=""/>
          <p:cNvCxnSpPr>
            <a:stCxn id="2321" idx="6"/>
            <a:endCxn id="2325" idx="2"/>
          </p:cNvCxnSpPr>
          <p:nvPr/>
        </p:nvCxnSpPr>
        <p:spPr>
          <a:xfrm>
            <a:off x="3205080" y="4100040"/>
            <a:ext cx="3636000" cy="1080"/>
          </a:xfrm>
          <a:prstGeom prst="curvedConnector2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</p:cxnSp>
      <p:cxnSp>
        <p:nvCxnSpPr>
          <p:cNvPr id="2340" name=""/>
          <p:cNvCxnSpPr>
            <a:stCxn id="2322" idx="6"/>
            <a:endCxn id="2325" idx="4"/>
          </p:cNvCxnSpPr>
          <p:nvPr/>
        </p:nvCxnSpPr>
        <p:spPr>
          <a:xfrm flipV="1">
            <a:off x="7200720" y="4387320"/>
            <a:ext cx="648360" cy="578880"/>
          </a:xfrm>
          <a:prstGeom prst="curvedConnector2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</p:cxnSp>
      <p:cxnSp>
        <p:nvCxnSpPr>
          <p:cNvPr id="2341" name=""/>
          <p:cNvCxnSpPr>
            <a:stCxn id="2320" idx="3"/>
            <a:endCxn id="2325" idx="0"/>
          </p:cNvCxnSpPr>
          <p:nvPr/>
        </p:nvCxnSpPr>
        <p:spPr>
          <a:xfrm flipH="1" rot="16200000">
            <a:off x="6495120" y="2459160"/>
            <a:ext cx="1670760" cy="1037520"/>
          </a:xfrm>
          <a:prstGeom prst="curvedConnector5">
            <a:avLst>
              <a:gd name="adj1" fmla="val 52456"/>
              <a:gd name="adj2" fmla="val 49982"/>
              <a:gd name="adj3" fmla="val 52456"/>
            </a:avLst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</p:cxnSp>
      <p:sp>
        <p:nvSpPr>
          <p:cNvPr id="2342" name=""/>
          <p:cNvSpPr/>
          <p:nvPr/>
        </p:nvSpPr>
        <p:spPr>
          <a:xfrm>
            <a:off x="4824360" y="1689120"/>
            <a:ext cx="503280" cy="736560"/>
          </a:xfrm>
          <a:prstGeom prst="upDownArrow">
            <a:avLst>
              <a:gd name="adj1" fmla="val 50000"/>
              <a:gd name="adj2" fmla="val 29134"/>
            </a:avLst>
          </a:prstGeom>
          <a:solidFill>
            <a:srgbClr val="638dab">
              <a:alpha val="46000"/>
            </a:srgbClr>
          </a:solidFill>
          <a:ln w="9360">
            <a:solidFill>
              <a:srgbClr val="638d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rot="2880600">
            <a:off x="5986080" y="2005200"/>
            <a:ext cx="503280" cy="738000"/>
          </a:xfrm>
          <a:prstGeom prst="upDownArrow">
            <a:avLst>
              <a:gd name="adj1" fmla="val 50000"/>
              <a:gd name="adj2" fmla="val 29192"/>
            </a:avLst>
          </a:prstGeom>
          <a:solidFill>
            <a:srgbClr val="638dab">
              <a:alpha val="46000"/>
            </a:srgbClr>
          </a:solidFill>
          <a:ln w="9360">
            <a:solidFill>
              <a:srgbClr val="638d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rot="5400000">
            <a:off x="6731640" y="2659680"/>
            <a:ext cx="539640" cy="687600"/>
          </a:xfrm>
          <a:prstGeom prst="upDownArrow">
            <a:avLst>
              <a:gd name="adj1" fmla="val 50000"/>
              <a:gd name="adj2" fmla="val 25366"/>
            </a:avLst>
          </a:prstGeom>
          <a:solidFill>
            <a:srgbClr val="638dab">
              <a:alpha val="46000"/>
            </a:srgbClr>
          </a:solidFill>
          <a:ln w="9360">
            <a:solidFill>
              <a:srgbClr val="638d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 rot="7766400">
            <a:off x="6263280" y="3307320"/>
            <a:ext cx="539640" cy="687240"/>
          </a:xfrm>
          <a:prstGeom prst="upDownArrow">
            <a:avLst>
              <a:gd name="adj1" fmla="val 50000"/>
              <a:gd name="adj2" fmla="val 25352"/>
            </a:avLst>
          </a:prstGeom>
          <a:solidFill>
            <a:srgbClr val="638dab">
              <a:alpha val="46000"/>
            </a:srgbClr>
          </a:solidFill>
          <a:ln w="9360">
            <a:solidFill>
              <a:srgbClr val="638d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rot="10228800">
            <a:off x="5471640" y="3741840"/>
            <a:ext cx="505080" cy="736560"/>
          </a:xfrm>
          <a:prstGeom prst="upDownArrow">
            <a:avLst>
              <a:gd name="adj1" fmla="val 50000"/>
              <a:gd name="adj2" fmla="val 29031"/>
            </a:avLst>
          </a:prstGeom>
          <a:solidFill>
            <a:srgbClr val="638dab">
              <a:alpha val="46000"/>
            </a:srgbClr>
          </a:solidFill>
          <a:ln w="9360">
            <a:solidFill>
              <a:srgbClr val="638d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 rot="12207600">
            <a:off x="4213080" y="3705120"/>
            <a:ext cx="503280" cy="736560"/>
          </a:xfrm>
          <a:prstGeom prst="upDownArrow">
            <a:avLst>
              <a:gd name="adj1" fmla="val 50000"/>
              <a:gd name="adj2" fmla="val 29134"/>
            </a:avLst>
          </a:prstGeom>
          <a:solidFill>
            <a:srgbClr val="638dab">
              <a:alpha val="46000"/>
            </a:srgbClr>
          </a:solidFill>
          <a:ln w="9360">
            <a:solidFill>
              <a:srgbClr val="638d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 rot="14268000">
            <a:off x="3288240" y="3306960"/>
            <a:ext cx="539640" cy="687240"/>
          </a:xfrm>
          <a:prstGeom prst="upDownArrow">
            <a:avLst>
              <a:gd name="adj1" fmla="val 50000"/>
              <a:gd name="adj2" fmla="val 25352"/>
            </a:avLst>
          </a:prstGeom>
          <a:solidFill>
            <a:srgbClr val="638dab">
              <a:alpha val="46000"/>
            </a:srgbClr>
          </a:solidFill>
          <a:ln w="9360">
            <a:solidFill>
              <a:srgbClr val="638d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rot="16200000">
            <a:off x="2918520" y="2659320"/>
            <a:ext cx="539640" cy="687600"/>
          </a:xfrm>
          <a:prstGeom prst="upDownArrow">
            <a:avLst>
              <a:gd name="adj1" fmla="val 50000"/>
              <a:gd name="adj2" fmla="val 25366"/>
            </a:avLst>
          </a:prstGeom>
          <a:solidFill>
            <a:srgbClr val="638dab">
              <a:alpha val="46000"/>
            </a:srgbClr>
          </a:solidFill>
          <a:ln w="9360">
            <a:solidFill>
              <a:srgbClr val="638d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 rot="18543600">
            <a:off x="3710520" y="2012040"/>
            <a:ext cx="540000" cy="687240"/>
          </a:xfrm>
          <a:prstGeom prst="upDownArrow">
            <a:avLst>
              <a:gd name="adj1" fmla="val 50000"/>
              <a:gd name="adj2" fmla="val 25335"/>
            </a:avLst>
          </a:prstGeom>
          <a:solidFill>
            <a:srgbClr val="638dab">
              <a:alpha val="46000"/>
            </a:srgbClr>
          </a:solidFill>
          <a:ln w="9360">
            <a:solidFill>
              <a:srgbClr val="638d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252360" y="784080"/>
            <a:ext cx="9533160" cy="494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62160" y="523800"/>
            <a:ext cx="63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chtigste Abhängigkeiten für die Abwicklung der Generalprob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263160" y="595440"/>
            <a:ext cx="842004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76a81"/>
                </a:solidFill>
                <a:latin typeface="Arial"/>
              </a:rPr>
              <a:t>Sicht Business: KW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 rot="16200000">
            <a:off x="3073320" y="-1533600"/>
            <a:ext cx="3724200" cy="935352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436680" y="1471680"/>
            <a:ext cx="279396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eic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teilung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teilung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teilung 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teilung A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teilung A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479760" y="1467000"/>
            <a:ext cx="2792520" cy="34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eich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teilung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teilung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teilung 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teilung B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teilung B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teilung B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559560" y="1467000"/>
            <a:ext cx="2792520" cy="34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eich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teilung 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teilung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teilung 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teilung C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teilung C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teilung 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teilung C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7072200" y="590400"/>
            <a:ext cx="232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röberes Problem (r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icht dramatisch (gel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buClr>
                <a:srgbClr val="60ce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0ce6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leinere Störungen (grü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655720" y="1560600"/>
            <a:ext cx="360360" cy="3380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5675400" y="1535040"/>
            <a:ext cx="361800" cy="3380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8658360" y="1544760"/>
            <a:ext cx="360360" cy="3380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rot="16200000">
            <a:off x="4299840" y="999360"/>
            <a:ext cx="1255680" cy="9353520"/>
          </a:xfrm>
          <a:prstGeom prst="rect">
            <a:avLst/>
          </a:prstGeom>
          <a:solidFill>
            <a:srgbClr val="969696">
              <a:alpha val="9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1270080" y="5160960"/>
            <a:ext cx="3098880" cy="9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utsourcing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5172120" y="5135400"/>
            <a:ext cx="3098880" cy="9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utsourcing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7815240" y="5227560"/>
            <a:ext cx="360360" cy="3380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3844800" y="5249880"/>
            <a:ext cx="362160" cy="3380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2779560" y="2352600"/>
            <a:ext cx="236520" cy="233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2779560" y="2722680"/>
            <a:ext cx="236520" cy="23328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2779560" y="3087720"/>
            <a:ext cx="236520" cy="23328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2779560" y="3435480"/>
            <a:ext cx="236520" cy="23328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2779560" y="3795840"/>
            <a:ext cx="236520" cy="233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799240" y="2354400"/>
            <a:ext cx="237960" cy="23328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799240" y="2724120"/>
            <a:ext cx="237960" cy="233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5799240" y="3089160"/>
            <a:ext cx="237960" cy="2336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5799240" y="3436920"/>
            <a:ext cx="237960" cy="233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5799240" y="3797280"/>
            <a:ext cx="237960" cy="233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5799240" y="4187880"/>
            <a:ext cx="237960" cy="233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8782200" y="2355840"/>
            <a:ext cx="236520" cy="233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8782200" y="2725560"/>
            <a:ext cx="236520" cy="233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8782200" y="3090960"/>
            <a:ext cx="236520" cy="23328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8782200" y="3438360"/>
            <a:ext cx="236520" cy="2336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782200" y="3798720"/>
            <a:ext cx="236520" cy="2336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8782200" y="4189320"/>
            <a:ext cx="236520" cy="23328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8782200" y="4572000"/>
            <a:ext cx="236520" cy="233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22400" y="509760"/>
            <a:ext cx="9580320" cy="594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168120" y="293760"/>
            <a:ext cx="4626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age der Fachbereiche nach Systemeinführ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735280" y="927000"/>
            <a:ext cx="3279600" cy="2317680"/>
          </a:xfrm>
          <a:prstGeom prst="rect">
            <a:avLst/>
          </a:prstGeom>
          <a:solidFill>
            <a:srgbClr val="ffffff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50120" y="927000"/>
            <a:ext cx="3165480" cy="2317680"/>
          </a:xfrm>
          <a:prstGeom prst="rect">
            <a:avLst/>
          </a:prstGeom>
          <a:solidFill>
            <a:srgbClr val="ffffff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3598920"/>
            <a:ext cx="3279600" cy="2238480"/>
          </a:xfrm>
          <a:prstGeom prst="rect">
            <a:avLst/>
          </a:prstGeom>
          <a:solidFill>
            <a:srgbClr val="ffffff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50120" y="3598920"/>
            <a:ext cx="3165480" cy="2238480"/>
          </a:xfrm>
          <a:prstGeom prst="rect">
            <a:avLst/>
          </a:prstGeom>
          <a:solidFill>
            <a:srgbClr val="ffffff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39960" y="927000"/>
            <a:ext cx="3274920" cy="373320"/>
          </a:xfrm>
          <a:prstGeom prst="rect">
            <a:avLst/>
          </a:prstGeom>
          <a:solidFill>
            <a:srgbClr val="638d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48320" y="927000"/>
            <a:ext cx="3167280" cy="373320"/>
          </a:xfrm>
          <a:prstGeom prst="rect">
            <a:avLst/>
          </a:prstGeom>
          <a:solidFill>
            <a:srgbClr val="638d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39960" y="5440320"/>
            <a:ext cx="3274920" cy="397080"/>
          </a:xfrm>
          <a:prstGeom prst="rect">
            <a:avLst/>
          </a:prstGeom>
          <a:solidFill>
            <a:srgbClr val="638d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8320" y="5440320"/>
            <a:ext cx="3167280" cy="397080"/>
          </a:xfrm>
          <a:prstGeom prst="rect">
            <a:avLst/>
          </a:prstGeom>
          <a:solidFill>
            <a:srgbClr val="638d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" y="927000"/>
            <a:ext cx="1949400" cy="4910400"/>
          </a:xfrm>
          <a:prstGeom prst="rect">
            <a:avLst/>
          </a:prstGeom>
          <a:solidFill>
            <a:srgbClr val="ffffff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5600" y="927000"/>
            <a:ext cx="1949400" cy="625680"/>
          </a:xfrm>
          <a:prstGeom prst="rect">
            <a:avLst/>
          </a:prstGeom>
          <a:solidFill>
            <a:srgbClr val="638d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18000" y="1566720"/>
            <a:ext cx="1986120" cy="1641600"/>
          </a:xfrm>
          <a:custGeom>
            <a:avLst/>
            <a:gdLst/>
            <a:ahLst/>
            <a:rect l="l" t="t" r="r" b="b"/>
            <a:pathLst>
              <a:path w="1057" h="900">
                <a:moveTo>
                  <a:pt x="455" y="879"/>
                </a:moveTo>
                <a:lnTo>
                  <a:pt x="471" y="838"/>
                </a:lnTo>
                <a:lnTo>
                  <a:pt x="490" y="799"/>
                </a:lnTo>
                <a:lnTo>
                  <a:pt x="514" y="762"/>
                </a:lnTo>
                <a:lnTo>
                  <a:pt x="541" y="728"/>
                </a:lnTo>
                <a:lnTo>
                  <a:pt x="570" y="696"/>
                </a:lnTo>
                <a:lnTo>
                  <a:pt x="603" y="667"/>
                </a:lnTo>
                <a:lnTo>
                  <a:pt x="639" y="642"/>
                </a:lnTo>
                <a:lnTo>
                  <a:pt x="676" y="621"/>
                </a:lnTo>
                <a:lnTo>
                  <a:pt x="713" y="605"/>
                </a:lnTo>
                <a:lnTo>
                  <a:pt x="753" y="591"/>
                </a:lnTo>
                <a:lnTo>
                  <a:pt x="793" y="581"/>
                </a:lnTo>
                <a:lnTo>
                  <a:pt x="834" y="575"/>
                </a:lnTo>
                <a:lnTo>
                  <a:pt x="833" y="711"/>
                </a:lnTo>
                <a:lnTo>
                  <a:pt x="1056" y="374"/>
                </a:lnTo>
                <a:lnTo>
                  <a:pt x="818" y="0"/>
                </a:lnTo>
                <a:lnTo>
                  <a:pt x="819" y="137"/>
                </a:lnTo>
                <a:lnTo>
                  <a:pt x="757" y="143"/>
                </a:lnTo>
                <a:lnTo>
                  <a:pt x="694" y="154"/>
                </a:lnTo>
                <a:lnTo>
                  <a:pt x="634" y="168"/>
                </a:lnTo>
                <a:lnTo>
                  <a:pt x="574" y="188"/>
                </a:lnTo>
                <a:lnTo>
                  <a:pt x="516" y="211"/>
                </a:lnTo>
                <a:lnTo>
                  <a:pt x="460" y="238"/>
                </a:lnTo>
                <a:lnTo>
                  <a:pt x="405" y="270"/>
                </a:lnTo>
                <a:lnTo>
                  <a:pt x="352" y="306"/>
                </a:lnTo>
                <a:lnTo>
                  <a:pt x="302" y="346"/>
                </a:lnTo>
                <a:lnTo>
                  <a:pt x="255" y="390"/>
                </a:lnTo>
                <a:lnTo>
                  <a:pt x="211" y="437"/>
                </a:lnTo>
                <a:lnTo>
                  <a:pt x="170" y="486"/>
                </a:lnTo>
                <a:lnTo>
                  <a:pt x="134" y="539"/>
                </a:lnTo>
                <a:lnTo>
                  <a:pt x="101" y="595"/>
                </a:lnTo>
                <a:lnTo>
                  <a:pt x="72" y="653"/>
                </a:lnTo>
                <a:lnTo>
                  <a:pt x="47" y="711"/>
                </a:lnTo>
                <a:lnTo>
                  <a:pt x="27" y="773"/>
                </a:lnTo>
                <a:lnTo>
                  <a:pt x="11" y="835"/>
                </a:lnTo>
                <a:lnTo>
                  <a:pt x="0" y="899"/>
                </a:lnTo>
                <a:lnTo>
                  <a:pt x="238" y="741"/>
                </a:lnTo>
                <a:lnTo>
                  <a:pt x="455" y="879"/>
                </a:lnTo>
              </a:path>
            </a:pathLst>
          </a:custGeom>
          <a:solidFill>
            <a:srgbClr val="dddddd"/>
          </a:solidFill>
          <a:ln cap="rnd" w="324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46760" y="3621240"/>
            <a:ext cx="1938240" cy="1649160"/>
          </a:xfrm>
          <a:custGeom>
            <a:avLst/>
            <a:gdLst/>
            <a:ahLst/>
            <a:rect l="l" t="t" r="r" b="b"/>
            <a:pathLst>
              <a:path w="1033" h="904">
                <a:moveTo>
                  <a:pt x="585" y="1"/>
                </a:moveTo>
                <a:lnTo>
                  <a:pt x="573" y="41"/>
                </a:lnTo>
                <a:lnTo>
                  <a:pt x="556" y="78"/>
                </a:lnTo>
                <a:lnTo>
                  <a:pt x="537" y="116"/>
                </a:lnTo>
                <a:lnTo>
                  <a:pt x="514" y="150"/>
                </a:lnTo>
                <a:lnTo>
                  <a:pt x="488" y="182"/>
                </a:lnTo>
                <a:lnTo>
                  <a:pt x="459" y="212"/>
                </a:lnTo>
                <a:lnTo>
                  <a:pt x="427" y="239"/>
                </a:lnTo>
                <a:lnTo>
                  <a:pt x="393" y="262"/>
                </a:lnTo>
                <a:lnTo>
                  <a:pt x="356" y="283"/>
                </a:lnTo>
                <a:lnTo>
                  <a:pt x="317" y="301"/>
                </a:lnTo>
                <a:lnTo>
                  <a:pt x="277" y="314"/>
                </a:lnTo>
                <a:lnTo>
                  <a:pt x="236" y="323"/>
                </a:lnTo>
                <a:lnTo>
                  <a:pt x="235" y="187"/>
                </a:lnTo>
                <a:lnTo>
                  <a:pt x="159" y="298"/>
                </a:lnTo>
                <a:lnTo>
                  <a:pt x="80" y="409"/>
                </a:lnTo>
                <a:lnTo>
                  <a:pt x="0" y="517"/>
                </a:lnTo>
                <a:lnTo>
                  <a:pt x="236" y="903"/>
                </a:lnTo>
                <a:lnTo>
                  <a:pt x="236" y="766"/>
                </a:lnTo>
                <a:lnTo>
                  <a:pt x="295" y="759"/>
                </a:lnTo>
                <a:lnTo>
                  <a:pt x="353" y="747"/>
                </a:lnTo>
                <a:lnTo>
                  <a:pt x="411" y="733"/>
                </a:lnTo>
                <a:lnTo>
                  <a:pt x="467" y="713"/>
                </a:lnTo>
                <a:lnTo>
                  <a:pt x="522" y="691"/>
                </a:lnTo>
                <a:lnTo>
                  <a:pt x="575" y="665"/>
                </a:lnTo>
                <a:lnTo>
                  <a:pt x="626" y="635"/>
                </a:lnTo>
                <a:lnTo>
                  <a:pt x="676" y="601"/>
                </a:lnTo>
                <a:lnTo>
                  <a:pt x="724" y="564"/>
                </a:lnTo>
                <a:lnTo>
                  <a:pt x="768" y="525"/>
                </a:lnTo>
                <a:lnTo>
                  <a:pt x="811" y="481"/>
                </a:lnTo>
                <a:lnTo>
                  <a:pt x="849" y="435"/>
                </a:lnTo>
                <a:lnTo>
                  <a:pt x="884" y="387"/>
                </a:lnTo>
                <a:lnTo>
                  <a:pt x="916" y="337"/>
                </a:lnTo>
                <a:lnTo>
                  <a:pt x="945" y="284"/>
                </a:lnTo>
                <a:lnTo>
                  <a:pt x="970" y="231"/>
                </a:lnTo>
                <a:lnTo>
                  <a:pt x="991" y="174"/>
                </a:lnTo>
                <a:lnTo>
                  <a:pt x="1009" y="117"/>
                </a:lnTo>
                <a:lnTo>
                  <a:pt x="1023" y="58"/>
                </a:lnTo>
                <a:lnTo>
                  <a:pt x="1032" y="0"/>
                </a:lnTo>
                <a:lnTo>
                  <a:pt x="812" y="132"/>
                </a:lnTo>
                <a:lnTo>
                  <a:pt x="585" y="1"/>
                </a:lnTo>
              </a:path>
            </a:pathLst>
          </a:custGeom>
          <a:solidFill>
            <a:srgbClr val="dddddd"/>
          </a:solidFill>
          <a:ln cap="rnd" w="324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89400" y="3021120"/>
            <a:ext cx="1746360" cy="1960560"/>
          </a:xfrm>
          <a:custGeom>
            <a:avLst/>
            <a:gdLst/>
            <a:ahLst/>
            <a:rect l="l" t="t" r="r" b="b"/>
            <a:pathLst>
              <a:path w="930" h="1075">
                <a:moveTo>
                  <a:pt x="929" y="645"/>
                </a:moveTo>
                <a:lnTo>
                  <a:pt x="887" y="634"/>
                </a:lnTo>
                <a:lnTo>
                  <a:pt x="847" y="620"/>
                </a:lnTo>
                <a:lnTo>
                  <a:pt x="807" y="603"/>
                </a:lnTo>
                <a:lnTo>
                  <a:pt x="771" y="582"/>
                </a:lnTo>
                <a:lnTo>
                  <a:pt x="735" y="557"/>
                </a:lnTo>
                <a:lnTo>
                  <a:pt x="703" y="529"/>
                </a:lnTo>
                <a:lnTo>
                  <a:pt x="673" y="497"/>
                </a:lnTo>
                <a:lnTo>
                  <a:pt x="648" y="465"/>
                </a:lnTo>
                <a:lnTo>
                  <a:pt x="624" y="428"/>
                </a:lnTo>
                <a:lnTo>
                  <a:pt x="607" y="398"/>
                </a:lnTo>
                <a:lnTo>
                  <a:pt x="594" y="366"/>
                </a:lnTo>
                <a:lnTo>
                  <a:pt x="583" y="332"/>
                </a:lnTo>
                <a:lnTo>
                  <a:pt x="577" y="298"/>
                </a:lnTo>
                <a:lnTo>
                  <a:pt x="575" y="264"/>
                </a:lnTo>
                <a:lnTo>
                  <a:pt x="576" y="229"/>
                </a:lnTo>
                <a:lnTo>
                  <a:pt x="748" y="229"/>
                </a:lnTo>
                <a:lnTo>
                  <a:pt x="360" y="0"/>
                </a:lnTo>
                <a:lnTo>
                  <a:pt x="0" y="236"/>
                </a:lnTo>
                <a:lnTo>
                  <a:pt x="136" y="237"/>
                </a:lnTo>
                <a:lnTo>
                  <a:pt x="141" y="299"/>
                </a:lnTo>
                <a:lnTo>
                  <a:pt x="150" y="362"/>
                </a:lnTo>
                <a:lnTo>
                  <a:pt x="165" y="422"/>
                </a:lnTo>
                <a:lnTo>
                  <a:pt x="182" y="483"/>
                </a:lnTo>
                <a:lnTo>
                  <a:pt x="204" y="541"/>
                </a:lnTo>
                <a:lnTo>
                  <a:pt x="231" y="598"/>
                </a:lnTo>
                <a:lnTo>
                  <a:pt x="262" y="653"/>
                </a:lnTo>
                <a:lnTo>
                  <a:pt x="296" y="704"/>
                </a:lnTo>
                <a:lnTo>
                  <a:pt x="333" y="752"/>
                </a:lnTo>
                <a:lnTo>
                  <a:pt x="374" y="797"/>
                </a:lnTo>
                <a:lnTo>
                  <a:pt x="419" y="841"/>
                </a:lnTo>
                <a:lnTo>
                  <a:pt x="465" y="880"/>
                </a:lnTo>
                <a:lnTo>
                  <a:pt x="514" y="917"/>
                </a:lnTo>
                <a:lnTo>
                  <a:pt x="566" y="951"/>
                </a:lnTo>
                <a:lnTo>
                  <a:pt x="620" y="980"/>
                </a:lnTo>
                <a:lnTo>
                  <a:pt x="675" y="1007"/>
                </a:lnTo>
                <a:lnTo>
                  <a:pt x="732" y="1029"/>
                </a:lnTo>
                <a:lnTo>
                  <a:pt x="790" y="1048"/>
                </a:lnTo>
                <a:lnTo>
                  <a:pt x="849" y="1062"/>
                </a:lnTo>
                <a:lnTo>
                  <a:pt x="910" y="1074"/>
                </a:lnTo>
                <a:lnTo>
                  <a:pt x="772" y="845"/>
                </a:lnTo>
                <a:lnTo>
                  <a:pt x="929" y="645"/>
                </a:lnTo>
              </a:path>
            </a:pathLst>
          </a:custGeom>
          <a:solidFill>
            <a:srgbClr val="dddddd"/>
          </a:solidFill>
          <a:ln cap="rnd" w="324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9520" y="1828800"/>
            <a:ext cx="1769760" cy="1943280"/>
          </a:xfrm>
          <a:custGeom>
            <a:avLst/>
            <a:gdLst/>
            <a:ahLst/>
            <a:rect l="l" t="t" r="r" b="b"/>
            <a:pathLst>
              <a:path w="943" h="1065">
                <a:moveTo>
                  <a:pt x="554" y="1064"/>
                </a:moveTo>
                <a:lnTo>
                  <a:pt x="942" y="840"/>
                </a:lnTo>
                <a:lnTo>
                  <a:pt x="781" y="840"/>
                </a:lnTo>
                <a:lnTo>
                  <a:pt x="776" y="778"/>
                </a:lnTo>
                <a:lnTo>
                  <a:pt x="767" y="716"/>
                </a:lnTo>
                <a:lnTo>
                  <a:pt x="754" y="655"/>
                </a:lnTo>
                <a:lnTo>
                  <a:pt x="737" y="595"/>
                </a:lnTo>
                <a:lnTo>
                  <a:pt x="714" y="536"/>
                </a:lnTo>
                <a:lnTo>
                  <a:pt x="688" y="480"/>
                </a:lnTo>
                <a:lnTo>
                  <a:pt x="658" y="425"/>
                </a:lnTo>
                <a:lnTo>
                  <a:pt x="624" y="372"/>
                </a:lnTo>
                <a:lnTo>
                  <a:pt x="586" y="323"/>
                </a:lnTo>
                <a:lnTo>
                  <a:pt x="547" y="275"/>
                </a:lnTo>
                <a:lnTo>
                  <a:pt x="502" y="232"/>
                </a:lnTo>
                <a:lnTo>
                  <a:pt x="455" y="191"/>
                </a:lnTo>
                <a:lnTo>
                  <a:pt x="405" y="153"/>
                </a:lnTo>
                <a:lnTo>
                  <a:pt x="352" y="120"/>
                </a:lnTo>
                <a:lnTo>
                  <a:pt x="298" y="89"/>
                </a:lnTo>
                <a:lnTo>
                  <a:pt x="241" y="63"/>
                </a:lnTo>
                <a:lnTo>
                  <a:pt x="182" y="41"/>
                </a:lnTo>
                <a:lnTo>
                  <a:pt x="122" y="23"/>
                </a:lnTo>
                <a:lnTo>
                  <a:pt x="61" y="9"/>
                </a:lnTo>
                <a:lnTo>
                  <a:pt x="0" y="0"/>
                </a:lnTo>
                <a:lnTo>
                  <a:pt x="137" y="226"/>
                </a:lnTo>
                <a:lnTo>
                  <a:pt x="5" y="451"/>
                </a:lnTo>
                <a:lnTo>
                  <a:pt x="48" y="465"/>
                </a:lnTo>
                <a:lnTo>
                  <a:pt x="90" y="483"/>
                </a:lnTo>
                <a:lnTo>
                  <a:pt x="130" y="505"/>
                </a:lnTo>
                <a:lnTo>
                  <a:pt x="168" y="531"/>
                </a:lnTo>
                <a:lnTo>
                  <a:pt x="202" y="561"/>
                </a:lnTo>
                <a:lnTo>
                  <a:pt x="233" y="594"/>
                </a:lnTo>
                <a:lnTo>
                  <a:pt x="262" y="629"/>
                </a:lnTo>
                <a:lnTo>
                  <a:pt x="285" y="668"/>
                </a:lnTo>
                <a:lnTo>
                  <a:pt x="305" y="709"/>
                </a:lnTo>
                <a:lnTo>
                  <a:pt x="321" y="751"/>
                </a:lnTo>
                <a:lnTo>
                  <a:pt x="333" y="795"/>
                </a:lnTo>
                <a:lnTo>
                  <a:pt x="340" y="840"/>
                </a:lnTo>
                <a:lnTo>
                  <a:pt x="188" y="841"/>
                </a:lnTo>
                <a:lnTo>
                  <a:pt x="554" y="1064"/>
                </a:lnTo>
              </a:path>
            </a:pathLst>
          </a:custGeom>
          <a:solidFill>
            <a:srgbClr val="dddddd"/>
          </a:solidFill>
          <a:ln cap="rnd" w="324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74880" y="990720"/>
            <a:ext cx="2979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efinition und Planung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35800" y="990720"/>
            <a:ext cx="297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urchfüh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57720" y="2311560"/>
            <a:ext cx="260280" cy="258480"/>
          </a:xfrm>
          <a:prstGeom prst="ellipse">
            <a:avLst/>
          </a:prstGeom>
          <a:solidFill>
            <a:srgbClr val="c0c0c0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04080" y="2311560"/>
            <a:ext cx="260280" cy="258480"/>
          </a:xfrm>
          <a:prstGeom prst="ellipse">
            <a:avLst/>
          </a:prstGeom>
          <a:solidFill>
            <a:srgbClr val="c0c0c0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56280" y="4081320"/>
            <a:ext cx="260280" cy="258840"/>
          </a:xfrm>
          <a:prstGeom prst="ellipse">
            <a:avLst/>
          </a:prstGeom>
          <a:solidFill>
            <a:srgbClr val="c0c0c0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81760" y="4081320"/>
            <a:ext cx="260280" cy="258840"/>
          </a:xfrm>
          <a:prstGeom prst="ellipse">
            <a:avLst/>
          </a:prstGeom>
          <a:solidFill>
            <a:srgbClr val="c0c0c0"/>
          </a:solidFill>
          <a:ln w="3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35800" y="5518080"/>
            <a:ext cx="315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Prüfung, Reporting, Analy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7120" y="990720"/>
            <a:ext cx="184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Konzepte 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Organ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08320" y="2092320"/>
            <a:ext cx="287280" cy="2700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00360"/>
              <a:gd name="textAreaBottom" fmla="*/ 2700720 h 27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53" y="0"/>
                </a:lnTo>
                <a:lnTo>
                  <a:pt x="21600" y="10800"/>
                </a:lnTo>
                <a:lnTo>
                  <a:pt x="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16680" y="3736800"/>
            <a:ext cx="17640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haltung der Qualitäts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tschrittskontro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llständigkeits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üfergebnisse dokument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7960" y="3713040"/>
            <a:ext cx="17636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rbesserungs-maßnahmen für das Testing aus der Analyse ablei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sues prioris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ßnahmen zu offenen Issues definieren und verfol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816680" y="1406520"/>
            <a:ext cx="17640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s durchführen gemäß Testpla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ergebnisse dokument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sue eröff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47960" y="1395360"/>
            <a:ext cx="18003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forderungen defin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plan festle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fälle defin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sets bil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daten vorberei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sue Management defin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24200" y="5513400"/>
            <a:ext cx="347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assnahmen zur Optimier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6040" y="760320"/>
            <a:ext cx="9552240" cy="526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0120" y="1608120"/>
            <a:ext cx="18003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strat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pla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organ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Infrastrukt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8200" y="565200"/>
            <a:ext cx="2750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Testzyklus als Kreislau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263160" y="560520"/>
            <a:ext cx="842004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76a81"/>
                </a:solidFill>
                <a:latin typeface="Arial"/>
              </a:rPr>
              <a:t>Sicht Projekt: KW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 rot="16200000">
            <a:off x="4339440" y="-2794320"/>
            <a:ext cx="1192320" cy="935352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436680" y="1498680"/>
            <a:ext cx="2793960" cy="78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eic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3479760" y="1494000"/>
            <a:ext cx="2792520" cy="78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eich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559560" y="1494000"/>
            <a:ext cx="2792520" cy="78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eich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2620800" y="1587600"/>
            <a:ext cx="362160" cy="3380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5675400" y="1562040"/>
            <a:ext cx="361800" cy="3380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8658360" y="1571760"/>
            <a:ext cx="360360" cy="3380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 rot="16200000">
            <a:off x="2987640" y="-260280"/>
            <a:ext cx="3880080" cy="9353520"/>
          </a:xfrm>
          <a:prstGeom prst="rect">
            <a:avLst/>
          </a:prstGeom>
          <a:solidFill>
            <a:srgbClr val="c0c0c0">
              <a:alpha val="9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58920" y="2587680"/>
            <a:ext cx="9138960" cy="1119240"/>
          </a:xfrm>
          <a:prstGeom prst="rect">
            <a:avLst/>
          </a:prstGeom>
          <a:solidFill>
            <a:srgbClr val="b9b098">
              <a:alpha val="6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584280" y="2700360"/>
            <a:ext cx="191124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tri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Verfügbark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 flipH="1">
            <a:off x="3338280" y="1909800"/>
            <a:ext cx="6120" cy="679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2017800" y="2770200"/>
            <a:ext cx="360360" cy="3380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 flipH="1">
            <a:off x="3301560" y="3726000"/>
            <a:ext cx="17640" cy="2628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 flipH="1">
            <a:off x="6451560" y="1906560"/>
            <a:ext cx="6480" cy="679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 flipH="1">
            <a:off x="6415200" y="3722760"/>
            <a:ext cx="17280" cy="2628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3747960" y="2693880"/>
            <a:ext cx="190980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tri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Performa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094360" y="2752560"/>
            <a:ext cx="360360" cy="3384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7040520" y="2689200"/>
            <a:ext cx="191124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8386920" y="2747880"/>
            <a:ext cx="361800" cy="338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385920" y="5189400"/>
            <a:ext cx="190944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Team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1892160" y="5246640"/>
            <a:ext cx="360360" cy="3380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720720" y="3860640"/>
            <a:ext cx="191124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Team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127240" y="3903840"/>
            <a:ext cx="361800" cy="3380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639880" y="4968720"/>
            <a:ext cx="191160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Team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986280" y="5027760"/>
            <a:ext cx="361800" cy="3380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3962520" y="3800520"/>
            <a:ext cx="191124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Team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5411880" y="3859200"/>
            <a:ext cx="361800" cy="3380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7548480" y="3840120"/>
            <a:ext cx="190980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Team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8993160" y="4159080"/>
            <a:ext cx="360360" cy="3384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7286760" y="5191200"/>
            <a:ext cx="191124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Team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8632800" y="5249880"/>
            <a:ext cx="361800" cy="3380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5256360" y="4827600"/>
            <a:ext cx="190944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Team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6602400" y="4886280"/>
            <a:ext cx="360360" cy="3380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122400" y="474840"/>
            <a:ext cx="9580320" cy="594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7072200" y="555480"/>
            <a:ext cx="232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röberes Problem (r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icht dramatisch (gel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buClr>
                <a:srgbClr val="60ce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0ce6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leinere Störungen (grü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155520" y="303120"/>
            <a:ext cx="4476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bstimmungscockpit nach Systemeinführ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"/>
          <p:cNvSpPr/>
          <p:nvPr/>
        </p:nvSpPr>
        <p:spPr>
          <a:xfrm>
            <a:off x="193680" y="655560"/>
            <a:ext cx="9441000" cy="563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270000" y="790560"/>
            <a:ext cx="779400" cy="179280"/>
          </a:xfrm>
          <a:prstGeom prst="rect">
            <a:avLst/>
          </a:pr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W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68200" y="790560"/>
            <a:ext cx="771480" cy="5386320"/>
          </a:xfrm>
          <a:prstGeom prst="rect">
            <a:avLst/>
          </a:prstGeom>
          <a:noFill/>
          <a:ln w="9360">
            <a:solidFill>
              <a:srgbClr val="b9b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039680" y="789120"/>
            <a:ext cx="779760" cy="179280"/>
          </a:xfrm>
          <a:prstGeom prst="rect">
            <a:avLst/>
          </a:pr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W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038240" y="789120"/>
            <a:ext cx="771480" cy="5386320"/>
          </a:xfrm>
          <a:prstGeom prst="rect">
            <a:avLst/>
          </a:prstGeom>
          <a:noFill/>
          <a:ln w="9360">
            <a:solidFill>
              <a:srgbClr val="b9b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1811160" y="789120"/>
            <a:ext cx="779760" cy="179280"/>
          </a:xfrm>
          <a:prstGeom prst="rect">
            <a:avLst/>
          </a:pr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W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1809720" y="789120"/>
            <a:ext cx="771480" cy="5386320"/>
          </a:xfrm>
          <a:prstGeom prst="rect">
            <a:avLst/>
          </a:prstGeom>
          <a:noFill/>
          <a:ln w="9360">
            <a:solidFill>
              <a:srgbClr val="b9b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2581200" y="787320"/>
            <a:ext cx="779400" cy="179640"/>
          </a:xfrm>
          <a:prstGeom prst="rect">
            <a:avLst/>
          </a:pr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W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2579760" y="787320"/>
            <a:ext cx="771480" cy="5386320"/>
          </a:xfrm>
          <a:prstGeom prst="rect">
            <a:avLst/>
          </a:prstGeom>
          <a:noFill/>
          <a:ln w="9360">
            <a:solidFill>
              <a:srgbClr val="b9b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3349800" y="789120"/>
            <a:ext cx="779400" cy="179280"/>
          </a:xfrm>
          <a:prstGeom prst="rect">
            <a:avLst/>
          </a:pr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W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3348000" y="789120"/>
            <a:ext cx="771480" cy="5386320"/>
          </a:xfrm>
          <a:prstGeom prst="rect">
            <a:avLst/>
          </a:prstGeom>
          <a:noFill/>
          <a:ln w="9360">
            <a:solidFill>
              <a:srgbClr val="b9b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4119480" y="787320"/>
            <a:ext cx="779400" cy="179640"/>
          </a:xfrm>
          <a:prstGeom prst="rect">
            <a:avLst/>
          </a:pr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W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118040" y="787320"/>
            <a:ext cx="771480" cy="5386320"/>
          </a:xfrm>
          <a:prstGeom prst="rect">
            <a:avLst/>
          </a:prstGeom>
          <a:noFill/>
          <a:ln w="9360">
            <a:solidFill>
              <a:srgbClr val="b9b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4890960" y="787320"/>
            <a:ext cx="779760" cy="179640"/>
          </a:xfrm>
          <a:prstGeom prst="rect">
            <a:avLst/>
          </a:pr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W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889520" y="787320"/>
            <a:ext cx="771480" cy="5386320"/>
          </a:xfrm>
          <a:prstGeom prst="rect">
            <a:avLst/>
          </a:prstGeom>
          <a:noFill/>
          <a:ln w="9360">
            <a:solidFill>
              <a:srgbClr val="b9b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5661000" y="785880"/>
            <a:ext cx="779400" cy="179280"/>
          </a:xfrm>
          <a:prstGeom prst="rect">
            <a:avLst/>
          </a:pr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W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5659560" y="785880"/>
            <a:ext cx="771480" cy="5386320"/>
          </a:xfrm>
          <a:prstGeom prst="rect">
            <a:avLst/>
          </a:prstGeom>
          <a:noFill/>
          <a:ln w="9360">
            <a:solidFill>
              <a:srgbClr val="b9b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427800" y="782640"/>
            <a:ext cx="779400" cy="179280"/>
          </a:xfrm>
          <a:prstGeom prst="rect">
            <a:avLst/>
          </a:pr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W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426360" y="782640"/>
            <a:ext cx="771480" cy="5386320"/>
          </a:xfrm>
          <a:prstGeom prst="rect">
            <a:avLst/>
          </a:prstGeom>
          <a:noFill/>
          <a:ln w="9360">
            <a:solidFill>
              <a:srgbClr val="b9b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7197840" y="781200"/>
            <a:ext cx="779400" cy="179280"/>
          </a:xfrm>
          <a:prstGeom prst="rect">
            <a:avLst/>
          </a:pr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W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7969320" y="781200"/>
            <a:ext cx="779400" cy="179280"/>
          </a:xfrm>
          <a:prstGeom prst="rect">
            <a:avLst/>
          </a:pr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W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8745480" y="785880"/>
            <a:ext cx="779400" cy="179280"/>
          </a:xfrm>
          <a:prstGeom prst="rect">
            <a:avLst/>
          </a:pr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KW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8737560" y="779400"/>
            <a:ext cx="771480" cy="5386320"/>
          </a:xfrm>
          <a:prstGeom prst="rect">
            <a:avLst/>
          </a:prstGeom>
          <a:noFill/>
          <a:ln w="9360">
            <a:solidFill>
              <a:srgbClr val="b9b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7189920" y="784080"/>
            <a:ext cx="771480" cy="5386680"/>
          </a:xfrm>
          <a:prstGeom prst="rect">
            <a:avLst/>
          </a:prstGeom>
          <a:noFill/>
          <a:ln w="9360">
            <a:solidFill>
              <a:srgbClr val="b9b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307800" y="1165320"/>
            <a:ext cx="2249640" cy="630000"/>
          </a:xfrm>
          <a:custGeom>
            <a:avLst/>
            <a:gdLst>
              <a:gd name="textAreaLeft" fmla="*/ 0 w 2249640"/>
              <a:gd name="textAreaRight" fmla="*/ 2250000 w 2249640"/>
              <a:gd name="textAreaTop" fmla="*/ 0 h 630000"/>
              <a:gd name="textAreaBottom" fmla="*/ 630360 h 63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1" y="0"/>
                </a:lnTo>
                <a:lnTo>
                  <a:pt x="21600" y="10800"/>
                </a:lnTo>
                <a:lnTo>
                  <a:pt x="175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leaseanforder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Bug-Fixing, kleinere Verbesserung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108160" y="1840320"/>
            <a:ext cx="952200" cy="2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900" spc="-1" strike="noStrike">
                <a:solidFill>
                  <a:srgbClr val="000000"/>
                </a:solidFill>
                <a:latin typeface="Frutiger 55 Roman"/>
              </a:rPr>
              <a:t>Release Umfa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900" spc="-1" strike="noStrike">
                <a:solidFill>
                  <a:srgbClr val="000000"/>
                </a:solidFill>
                <a:latin typeface="Frutiger 55 Roman"/>
              </a:rPr>
              <a:t>definie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2468520" y="1589040"/>
            <a:ext cx="220680" cy="196920"/>
          </a:xfrm>
          <a:prstGeom prst="diamond">
            <a:avLst/>
          </a:prstGeom>
          <a:solidFill>
            <a:srgbClr val="808080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2563920" y="2152800"/>
            <a:ext cx="1482480" cy="612720"/>
          </a:xfrm>
          <a:custGeom>
            <a:avLst/>
            <a:gdLst>
              <a:gd name="textAreaLeft" fmla="*/ 0 w 1482480"/>
              <a:gd name="textAreaRight" fmla="*/ 1482840 w 148248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83" y="0"/>
                </a:lnTo>
                <a:lnTo>
                  <a:pt x="21600" y="10800"/>
                </a:lnTo>
                <a:lnTo>
                  <a:pt x="198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-Spezifikation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nzep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7964640" y="777960"/>
            <a:ext cx="771480" cy="5386320"/>
          </a:xfrm>
          <a:prstGeom prst="rect">
            <a:avLst/>
          </a:prstGeom>
          <a:noFill/>
          <a:ln w="9360">
            <a:solidFill>
              <a:srgbClr val="b9b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3335400" y="2833560"/>
            <a:ext cx="2278080" cy="579600"/>
          </a:xfrm>
          <a:custGeom>
            <a:avLst/>
            <a:gdLst>
              <a:gd name="textAreaLeft" fmla="*/ 0 w 2278080"/>
              <a:gd name="textAreaRight" fmla="*/ 2278440 w 2278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86" y="0"/>
                </a:lnTo>
                <a:lnTo>
                  <a:pt x="21600" y="10800"/>
                </a:lnTo>
                <a:lnTo>
                  <a:pt x="201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grammieru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ametrisieru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it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5553000" y="3225960"/>
            <a:ext cx="220680" cy="196560"/>
          </a:xfrm>
          <a:prstGeom prst="diamond">
            <a:avLst/>
          </a:prstGeom>
          <a:solidFill>
            <a:srgbClr val="808080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5095080" y="3540240"/>
            <a:ext cx="1052640" cy="18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900" spc="-1" strike="noStrike">
                <a:solidFill>
                  <a:srgbClr val="000000"/>
                </a:solidFill>
                <a:latin typeface="Frutiger 55 Roman"/>
              </a:rPr>
              <a:t>Release zugestell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619520" y="3846600"/>
            <a:ext cx="1025640" cy="45072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83" y="0"/>
                </a:lnTo>
                <a:lnTo>
                  <a:pt x="21600" y="10800"/>
                </a:lnTo>
                <a:lnTo>
                  <a:pt x="198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ste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285840" y="1073160"/>
            <a:ext cx="2781360" cy="1057320"/>
          </a:xfrm>
          <a:prstGeom prst="rect">
            <a:avLst/>
          </a:prstGeom>
          <a:noFill/>
          <a:ln w="9360">
            <a:solidFill>
              <a:srgbClr val="b9b09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541600" y="2157480"/>
            <a:ext cx="3610080" cy="1562040"/>
          </a:xfrm>
          <a:prstGeom prst="rect">
            <a:avLst/>
          </a:prstGeom>
          <a:noFill/>
          <a:ln w="9360">
            <a:solidFill>
              <a:srgbClr val="b9b09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5665680" y="3863880"/>
            <a:ext cx="1482840" cy="45108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83" y="0"/>
                </a:lnTo>
                <a:lnTo>
                  <a:pt x="21600" y="10800"/>
                </a:lnTo>
                <a:lnTo>
                  <a:pt x="198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grations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+ Korrektu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180200" y="3873600"/>
            <a:ext cx="844560" cy="469800"/>
          </a:xfrm>
          <a:custGeom>
            <a:avLst/>
            <a:gdLst>
              <a:gd name="textAreaLeft" fmla="*/ 0 w 844560"/>
              <a:gd name="textAreaRight" fmla="*/ 844920 w 8445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83" y="0"/>
                </a:lnTo>
                <a:lnTo>
                  <a:pt x="21600" y="10800"/>
                </a:lnTo>
                <a:lnTo>
                  <a:pt x="198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nah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923240" y="4290840"/>
            <a:ext cx="220680" cy="196920"/>
          </a:xfrm>
          <a:prstGeom prst="diamond">
            <a:avLst/>
          </a:prstGeom>
          <a:solidFill>
            <a:srgbClr val="808080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7582320" y="4551840"/>
            <a:ext cx="817920" cy="2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900" spc="-1" strike="noStrike">
                <a:solidFill>
                  <a:srgbClr val="000000"/>
                </a:solidFill>
                <a:latin typeface="Frutiger 55 Roman"/>
              </a:rPr>
              <a:t>Rele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900" spc="-1" strike="noStrike">
                <a:solidFill>
                  <a:srgbClr val="000000"/>
                </a:solidFill>
                <a:latin typeface="Frutiger 55 Roman"/>
              </a:rPr>
              <a:t>abgenom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4606920" y="3784680"/>
            <a:ext cx="3790800" cy="1057320"/>
          </a:xfrm>
          <a:prstGeom prst="rect">
            <a:avLst/>
          </a:prstGeom>
          <a:noFill/>
          <a:ln w="9360">
            <a:solidFill>
              <a:srgbClr val="b9b09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8038440" y="5180400"/>
            <a:ext cx="684000" cy="2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900" spc="-1" strike="noStrike">
                <a:solidFill>
                  <a:srgbClr val="000000"/>
                </a:solidFill>
                <a:latin typeface="Frutiger 55 Roman"/>
              </a:rPr>
              <a:t>Release in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900" spc="-1" strike="noStrike">
                <a:solidFill>
                  <a:srgbClr val="000000"/>
                </a:solidFill>
                <a:latin typeface="Frutiger 55 Roman"/>
              </a:rPr>
              <a:t>Produk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8369280" y="5481720"/>
            <a:ext cx="1111320" cy="488880"/>
          </a:xfrm>
          <a:custGeom>
            <a:avLst/>
            <a:gdLst>
              <a:gd name="textAreaLeft" fmla="*/ 0 w 1111320"/>
              <a:gd name="textAreaRight" fmla="*/ 1111680 w 11113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83" y="0"/>
                </a:lnTo>
                <a:lnTo>
                  <a:pt x="21600" y="10800"/>
                </a:lnTo>
                <a:lnTo>
                  <a:pt x="198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Überwa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schlu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6035760" y="4395960"/>
            <a:ext cx="1482480" cy="450720"/>
          </a:xfrm>
          <a:custGeom>
            <a:avLst/>
            <a:gdLst>
              <a:gd name="textAreaLeft" fmla="*/ 0 w 1482480"/>
              <a:gd name="textAreaRight" fmla="*/ 1482840 w 148248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83" y="0"/>
                </a:lnTo>
                <a:lnTo>
                  <a:pt x="21600" y="10800"/>
                </a:lnTo>
                <a:lnTo>
                  <a:pt x="198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u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+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7958160" y="5011560"/>
            <a:ext cx="1533600" cy="1057320"/>
          </a:xfrm>
          <a:prstGeom prst="rect">
            <a:avLst/>
          </a:prstGeom>
          <a:noFill/>
          <a:ln w="9360">
            <a:solidFill>
              <a:srgbClr val="b9b09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8234280" y="4722840"/>
            <a:ext cx="382680" cy="423720"/>
          </a:xfrm>
          <a:prstGeom prst="diamond">
            <a:avLst/>
          </a:prstGeom>
          <a:gradFill rotWithShape="0">
            <a:gsLst>
              <a:gs pos="0">
                <a:srgbClr val="fefefe"/>
              </a:gs>
              <a:gs pos="100000">
                <a:srgbClr val="ff505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8177040" y="1008000"/>
            <a:ext cx="1263960" cy="2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Zeit (Woche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193320" y="457200"/>
            <a:ext cx="2288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hasen eines Relea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"/>
          <p:cNvSpPr/>
          <p:nvPr/>
        </p:nvSpPr>
        <p:spPr>
          <a:xfrm>
            <a:off x="569880" y="628560"/>
            <a:ext cx="8637480" cy="57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853920" y="979560"/>
            <a:ext cx="3765600" cy="395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890640" y="1014480"/>
            <a:ext cx="369396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 Narrow"/>
              </a:rPr>
              <a:t>SW-Herst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862520" y="977760"/>
            <a:ext cx="3765600" cy="395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4898880" y="1012680"/>
            <a:ext cx="36943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 Narrow"/>
              </a:rPr>
              <a:t>Applikationsanw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4724280" y="981000"/>
            <a:ext cx="0" cy="454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7" name="" descr=""/>
          <p:cNvPicPr/>
          <p:nvPr/>
        </p:nvPicPr>
        <p:blipFill>
          <a:blip r:embed="rId1"/>
          <a:stretch/>
        </p:blipFill>
        <p:spPr>
          <a:xfrm>
            <a:off x="8021520" y="1862280"/>
            <a:ext cx="365400" cy="372960"/>
          </a:xfrm>
          <a:prstGeom prst="rect">
            <a:avLst/>
          </a:prstGeom>
          <a:ln w="0">
            <a:noFill/>
          </a:ln>
        </p:spPr>
      </p:pic>
      <p:pic>
        <p:nvPicPr>
          <p:cNvPr id="2478" name="" descr=""/>
          <p:cNvPicPr/>
          <p:nvPr/>
        </p:nvPicPr>
        <p:blipFill>
          <a:blip r:embed="rId2"/>
          <a:stretch/>
        </p:blipFill>
        <p:spPr>
          <a:xfrm>
            <a:off x="7851600" y="690480"/>
            <a:ext cx="777960" cy="959040"/>
          </a:xfrm>
          <a:prstGeom prst="rect">
            <a:avLst/>
          </a:prstGeom>
          <a:ln w="0">
            <a:noFill/>
          </a:ln>
        </p:spPr>
      </p:pic>
      <p:pic>
        <p:nvPicPr>
          <p:cNvPr id="2479" name="" descr=""/>
          <p:cNvPicPr/>
          <p:nvPr/>
        </p:nvPicPr>
        <p:blipFill>
          <a:blip r:embed="rId3"/>
          <a:stretch/>
        </p:blipFill>
        <p:spPr>
          <a:xfrm>
            <a:off x="2914560" y="819000"/>
            <a:ext cx="1062000" cy="652680"/>
          </a:xfrm>
          <a:prstGeom prst="rect">
            <a:avLst/>
          </a:prstGeom>
          <a:ln w="0">
            <a:noFill/>
          </a:ln>
        </p:spPr>
      </p:pic>
      <p:sp>
        <p:nvSpPr>
          <p:cNvPr id="2480" name="Rechteck 84"/>
          <p:cNvSpPr/>
          <p:nvPr/>
        </p:nvSpPr>
        <p:spPr>
          <a:xfrm>
            <a:off x="853920" y="1684440"/>
            <a:ext cx="2944800" cy="504720"/>
          </a:xfrm>
          <a:prstGeom prst="rect">
            <a:avLst/>
          </a:prstGeom>
          <a:solidFill>
            <a:srgbClr val="ffffcc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sion 1.0 verfügbar auf dem Mar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1" name="" descr=""/>
          <p:cNvPicPr/>
          <p:nvPr/>
        </p:nvPicPr>
        <p:blipFill>
          <a:blip r:embed="rId4"/>
          <a:stretch/>
        </p:blipFill>
        <p:spPr>
          <a:xfrm>
            <a:off x="3495600" y="1890720"/>
            <a:ext cx="401760" cy="428760"/>
          </a:xfrm>
          <a:prstGeom prst="rect">
            <a:avLst/>
          </a:prstGeom>
          <a:ln w="0">
            <a:noFill/>
          </a:ln>
        </p:spPr>
      </p:pic>
      <p:sp>
        <p:nvSpPr>
          <p:cNvPr id="2482" name="Rechteck 84"/>
          <p:cNvSpPr/>
          <p:nvPr/>
        </p:nvSpPr>
        <p:spPr>
          <a:xfrm>
            <a:off x="1076400" y="2638440"/>
            <a:ext cx="2944800" cy="504720"/>
          </a:xfrm>
          <a:prstGeom prst="rect">
            <a:avLst/>
          </a:prstGeom>
          <a:solidFill>
            <a:srgbClr val="ffffcc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sion 2.0 verfügbar auf dem Mar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3" name="" descr=""/>
          <p:cNvPicPr/>
          <p:nvPr/>
        </p:nvPicPr>
        <p:blipFill>
          <a:blip r:embed="rId5"/>
          <a:stretch/>
        </p:blipFill>
        <p:spPr>
          <a:xfrm>
            <a:off x="3772080" y="2787480"/>
            <a:ext cx="466560" cy="463680"/>
          </a:xfrm>
          <a:prstGeom prst="rect">
            <a:avLst/>
          </a:prstGeom>
          <a:ln w="0">
            <a:noFill/>
          </a:ln>
        </p:spPr>
      </p:pic>
      <p:sp>
        <p:nvSpPr>
          <p:cNvPr id="2484" name="Rechteck 84"/>
          <p:cNvSpPr/>
          <p:nvPr/>
        </p:nvSpPr>
        <p:spPr>
          <a:xfrm>
            <a:off x="1441440" y="3657600"/>
            <a:ext cx="2944800" cy="504720"/>
          </a:xfrm>
          <a:prstGeom prst="rect">
            <a:avLst/>
          </a:prstGeom>
          <a:solidFill>
            <a:srgbClr val="ffffcc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sion 3.0 verfügbar auf dem Mar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5" name="" descr=""/>
          <p:cNvPicPr/>
          <p:nvPr/>
        </p:nvPicPr>
        <p:blipFill>
          <a:blip r:embed="rId6"/>
          <a:stretch/>
        </p:blipFill>
        <p:spPr>
          <a:xfrm>
            <a:off x="3954600" y="3892680"/>
            <a:ext cx="536400" cy="492120"/>
          </a:xfrm>
          <a:prstGeom prst="rect">
            <a:avLst/>
          </a:prstGeom>
          <a:ln w="0">
            <a:noFill/>
          </a:ln>
        </p:spPr>
      </p:pic>
      <p:sp>
        <p:nvSpPr>
          <p:cNvPr id="2486" name="Rechteck 84"/>
          <p:cNvSpPr/>
          <p:nvPr/>
        </p:nvSpPr>
        <p:spPr>
          <a:xfrm>
            <a:off x="1684440" y="4759200"/>
            <a:ext cx="2944800" cy="505080"/>
          </a:xfrm>
          <a:prstGeom prst="rect">
            <a:avLst/>
          </a:prstGeom>
          <a:solidFill>
            <a:srgbClr val="ffffcc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sion 4.0 verfügbar auf dem Mar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Rechteck 84"/>
          <p:cNvSpPr/>
          <p:nvPr/>
        </p:nvSpPr>
        <p:spPr>
          <a:xfrm>
            <a:off x="2300400" y="5603760"/>
            <a:ext cx="2357280" cy="505080"/>
          </a:xfrm>
          <a:prstGeom prst="rect">
            <a:avLst/>
          </a:prstGeom>
          <a:solidFill>
            <a:srgbClr val="ffffcc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 rot="5400000">
            <a:off x="1463400" y="3195720"/>
            <a:ext cx="577800" cy="304920"/>
          </a:xfrm>
          <a:custGeom>
            <a:avLst/>
            <a:gdLst>
              <a:gd name="textAreaLeft" fmla="*/ 101160 w 577800"/>
              <a:gd name="textAreaRight" fmla="*/ 419040 w 5778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rot="5400000">
            <a:off x="1986840" y="4217760"/>
            <a:ext cx="578160" cy="304920"/>
          </a:xfrm>
          <a:custGeom>
            <a:avLst/>
            <a:gdLst>
              <a:gd name="textAreaLeft" fmla="*/ 101160 w 578160"/>
              <a:gd name="textAreaRight" fmla="*/ 419400 w 57816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rot="5400000">
            <a:off x="2454120" y="5240160"/>
            <a:ext cx="577800" cy="304560"/>
          </a:xfrm>
          <a:custGeom>
            <a:avLst/>
            <a:gdLst>
              <a:gd name="textAreaLeft" fmla="*/ 101160 w 577800"/>
              <a:gd name="textAreaRight" fmla="*/ 419040 w 5778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Rechteck 84"/>
          <p:cNvSpPr/>
          <p:nvPr/>
        </p:nvSpPr>
        <p:spPr>
          <a:xfrm>
            <a:off x="3989520" y="1946160"/>
            <a:ext cx="2274840" cy="360360"/>
          </a:xfrm>
          <a:custGeom>
            <a:avLst/>
            <a:gdLst>
              <a:gd name="textAreaLeft" fmla="*/ 0 w 2274840"/>
              <a:gd name="textAreaRight" fmla="*/ 2274840 w 22748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45" y="0"/>
                </a:lnTo>
                <a:lnTo>
                  <a:pt x="21600" y="10800"/>
                </a:lnTo>
                <a:lnTo>
                  <a:pt x="19645" y="21600"/>
                </a:lnTo>
                <a:lnTo>
                  <a:pt x="0" y="21600"/>
                </a:lnTo>
                <a:lnTo>
                  <a:pt x="195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6535800" y="1870200"/>
            <a:ext cx="714240" cy="420480"/>
          </a:xfrm>
          <a:prstGeom prst="can">
            <a:avLst>
              <a:gd name="adj" fmla="val 25000"/>
            </a:avLst>
          </a:prstGeom>
          <a:solidFill>
            <a:srgbClr val="638dab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3" name="" descr=""/>
          <p:cNvPicPr/>
          <p:nvPr/>
        </p:nvPicPr>
        <p:blipFill>
          <a:blip r:embed="rId7"/>
          <a:stretch/>
        </p:blipFill>
        <p:spPr>
          <a:xfrm>
            <a:off x="7753320" y="1765440"/>
            <a:ext cx="365040" cy="372960"/>
          </a:xfrm>
          <a:prstGeom prst="rect">
            <a:avLst/>
          </a:prstGeom>
          <a:ln w="0">
            <a:noFill/>
          </a:ln>
        </p:spPr>
      </p:pic>
      <p:pic>
        <p:nvPicPr>
          <p:cNvPr id="2494" name="" descr=""/>
          <p:cNvPicPr/>
          <p:nvPr/>
        </p:nvPicPr>
        <p:blipFill>
          <a:blip r:embed="rId8"/>
          <a:stretch/>
        </p:blipFill>
        <p:spPr>
          <a:xfrm>
            <a:off x="7515360" y="1690560"/>
            <a:ext cx="365040" cy="373320"/>
          </a:xfrm>
          <a:prstGeom prst="rect">
            <a:avLst/>
          </a:prstGeom>
          <a:ln w="0">
            <a:noFill/>
          </a:ln>
        </p:spPr>
      </p:pic>
      <p:sp>
        <p:nvSpPr>
          <p:cNvPr id="2495" name=""/>
          <p:cNvSpPr/>
          <p:nvPr/>
        </p:nvSpPr>
        <p:spPr>
          <a:xfrm rot="5400000">
            <a:off x="7249680" y="2254320"/>
            <a:ext cx="576360" cy="293400"/>
          </a:xfrm>
          <a:custGeom>
            <a:avLst/>
            <a:gdLst>
              <a:gd name="textAreaLeft" fmla="*/ 100800 w 576360"/>
              <a:gd name="textAreaRight" fmla="*/ 417960 w 576360"/>
              <a:gd name="textAreaTop" fmla="*/ 39240 h 293400"/>
              <a:gd name="textAreaBottom" fmla="*/ 254160 h 293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6813720" y="2735280"/>
            <a:ext cx="714240" cy="420840"/>
          </a:xfrm>
          <a:prstGeom prst="can">
            <a:avLst>
              <a:gd name="adj" fmla="val 25000"/>
            </a:avLst>
          </a:prstGeom>
          <a:solidFill>
            <a:srgbClr val="638dab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Rechteck 84"/>
          <p:cNvSpPr/>
          <p:nvPr/>
        </p:nvSpPr>
        <p:spPr>
          <a:xfrm>
            <a:off x="4530600" y="3780000"/>
            <a:ext cx="2274840" cy="360360"/>
          </a:xfrm>
          <a:custGeom>
            <a:avLst/>
            <a:gdLst>
              <a:gd name="textAreaLeft" fmla="*/ 0 w 2274840"/>
              <a:gd name="textAreaRight" fmla="*/ 2274840 w 22748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45" y="0"/>
                </a:lnTo>
                <a:lnTo>
                  <a:pt x="21600" y="10800"/>
                </a:lnTo>
                <a:lnTo>
                  <a:pt x="19645" y="21600"/>
                </a:lnTo>
                <a:lnTo>
                  <a:pt x="0" y="21600"/>
                </a:lnTo>
                <a:lnTo>
                  <a:pt x="195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pgrade 1.0 =&gt; 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8" name="" descr=""/>
          <p:cNvPicPr/>
          <p:nvPr/>
        </p:nvPicPr>
        <p:blipFill>
          <a:blip r:embed="rId9"/>
          <a:stretch/>
        </p:blipFill>
        <p:spPr>
          <a:xfrm>
            <a:off x="8091360" y="3457440"/>
            <a:ext cx="563760" cy="549360"/>
          </a:xfrm>
          <a:prstGeom prst="rect">
            <a:avLst/>
          </a:prstGeom>
          <a:ln w="0">
            <a:noFill/>
          </a:ln>
        </p:spPr>
      </p:pic>
      <p:sp>
        <p:nvSpPr>
          <p:cNvPr id="2499" name=""/>
          <p:cNvSpPr/>
          <p:nvPr/>
        </p:nvSpPr>
        <p:spPr>
          <a:xfrm>
            <a:off x="7188120" y="3807000"/>
            <a:ext cx="714600" cy="420480"/>
          </a:xfrm>
          <a:prstGeom prst="can">
            <a:avLst>
              <a:gd name="adj" fmla="val 25000"/>
            </a:avLst>
          </a:prstGeom>
          <a:solidFill>
            <a:srgbClr val="638dab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 rot="5400000">
            <a:off x="7549920" y="3260520"/>
            <a:ext cx="576360" cy="293760"/>
          </a:xfrm>
          <a:custGeom>
            <a:avLst/>
            <a:gdLst>
              <a:gd name="textAreaLeft" fmla="*/ 100800 w 576360"/>
              <a:gd name="textAreaRight" fmla="*/ 417960 w 576360"/>
              <a:gd name="textAreaTop" fmla="*/ 39240 h 293760"/>
              <a:gd name="textAreaBottom" fmla="*/ 254520 h 293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Rechteck 84"/>
          <p:cNvSpPr/>
          <p:nvPr/>
        </p:nvSpPr>
        <p:spPr>
          <a:xfrm>
            <a:off x="4829040" y="4807080"/>
            <a:ext cx="2275200" cy="360360"/>
          </a:xfrm>
          <a:custGeom>
            <a:avLst/>
            <a:gdLst>
              <a:gd name="textAreaLeft" fmla="*/ 0 w 2275200"/>
              <a:gd name="textAreaRight" fmla="*/ 2275560 w 22752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45" y="0"/>
                </a:lnTo>
                <a:lnTo>
                  <a:pt x="21600" y="10800"/>
                </a:lnTo>
                <a:lnTo>
                  <a:pt x="19645" y="21600"/>
                </a:lnTo>
                <a:lnTo>
                  <a:pt x="0" y="21600"/>
                </a:lnTo>
                <a:lnTo>
                  <a:pt x="195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pgrade 3.0 =&gt; 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7781760" y="4792680"/>
            <a:ext cx="714600" cy="420840"/>
          </a:xfrm>
          <a:prstGeom prst="can">
            <a:avLst>
              <a:gd name="adj" fmla="val 25000"/>
            </a:avLst>
          </a:prstGeom>
          <a:solidFill>
            <a:srgbClr val="638dab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 rot="5400000">
            <a:off x="7892640" y="4311720"/>
            <a:ext cx="576360" cy="293400"/>
          </a:xfrm>
          <a:custGeom>
            <a:avLst/>
            <a:gdLst>
              <a:gd name="textAreaLeft" fmla="*/ 100800 w 576360"/>
              <a:gd name="textAreaRight" fmla="*/ 417960 w 576360"/>
              <a:gd name="textAreaTop" fmla="*/ 39240 h 293400"/>
              <a:gd name="textAreaBottom" fmla="*/ 254160 h 293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4" name="" descr=""/>
          <p:cNvPicPr/>
          <p:nvPr/>
        </p:nvPicPr>
        <p:blipFill>
          <a:blip r:embed="rId10"/>
          <a:stretch/>
        </p:blipFill>
        <p:spPr>
          <a:xfrm>
            <a:off x="8271000" y="3637080"/>
            <a:ext cx="563400" cy="549000"/>
          </a:xfrm>
          <a:prstGeom prst="rect">
            <a:avLst/>
          </a:prstGeom>
          <a:ln w="0">
            <a:noFill/>
          </a:ln>
        </p:spPr>
      </p:pic>
      <p:pic>
        <p:nvPicPr>
          <p:cNvPr id="2505" name="" descr=""/>
          <p:cNvPicPr/>
          <p:nvPr/>
        </p:nvPicPr>
        <p:blipFill>
          <a:blip r:embed="rId11"/>
          <a:stretch/>
        </p:blipFill>
        <p:spPr>
          <a:xfrm>
            <a:off x="8450280" y="3816360"/>
            <a:ext cx="563400" cy="549360"/>
          </a:xfrm>
          <a:prstGeom prst="rect">
            <a:avLst/>
          </a:prstGeom>
          <a:ln w="0">
            <a:noFill/>
          </a:ln>
        </p:spPr>
      </p:pic>
      <p:sp>
        <p:nvSpPr>
          <p:cNvPr id="2506" name=""/>
          <p:cNvSpPr/>
          <p:nvPr/>
        </p:nvSpPr>
        <p:spPr>
          <a:xfrm>
            <a:off x="739800" y="2406600"/>
            <a:ext cx="8240760" cy="0"/>
          </a:xfrm>
          <a:prstGeom prst="line">
            <a:avLst/>
          </a:prstGeom>
          <a:ln w="9360">
            <a:solidFill>
              <a:srgbClr val="928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rot="5400000">
            <a:off x="947160" y="2133360"/>
            <a:ext cx="578160" cy="304920"/>
          </a:xfrm>
          <a:custGeom>
            <a:avLst/>
            <a:gdLst>
              <a:gd name="textAreaLeft" fmla="*/ 101160 w 578160"/>
              <a:gd name="textAreaRight" fmla="*/ 419400 w 57816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719280" y="3397320"/>
            <a:ext cx="8240400" cy="0"/>
          </a:xfrm>
          <a:prstGeom prst="line">
            <a:avLst/>
          </a:prstGeom>
          <a:ln w="9360">
            <a:solidFill>
              <a:srgbClr val="928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730080" y="4497480"/>
            <a:ext cx="8240760" cy="0"/>
          </a:xfrm>
          <a:prstGeom prst="line">
            <a:avLst/>
          </a:prstGeom>
          <a:ln w="9360">
            <a:solidFill>
              <a:srgbClr val="928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Rechteck 84"/>
          <p:cNvSpPr/>
          <p:nvPr/>
        </p:nvSpPr>
        <p:spPr>
          <a:xfrm>
            <a:off x="4375080" y="2832120"/>
            <a:ext cx="2274840" cy="360360"/>
          </a:xfrm>
          <a:custGeom>
            <a:avLst/>
            <a:gdLst>
              <a:gd name="textAreaLeft" fmla="*/ 0 w 2274840"/>
              <a:gd name="textAreaRight" fmla="*/ 2274840 w 22748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45" y="0"/>
                </a:lnTo>
                <a:lnTo>
                  <a:pt x="21600" y="10800"/>
                </a:lnTo>
                <a:lnTo>
                  <a:pt x="19645" y="21600"/>
                </a:lnTo>
                <a:lnTo>
                  <a:pt x="0" y="21600"/>
                </a:lnTo>
                <a:lnTo>
                  <a:pt x="195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5072040" y="2743200"/>
            <a:ext cx="741240" cy="587520"/>
          </a:xfrm>
          <a:prstGeom prst="line">
            <a:avLst/>
          </a:prstGeom>
          <a:ln w="57240">
            <a:solidFill>
              <a:srgbClr val="e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 flipV="1">
            <a:off x="5099040" y="2759040"/>
            <a:ext cx="752400" cy="566640"/>
          </a:xfrm>
          <a:prstGeom prst="line">
            <a:avLst/>
          </a:prstGeom>
          <a:ln w="57240">
            <a:solidFill>
              <a:srgbClr val="e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8043840" y="2530440"/>
            <a:ext cx="91440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33509"/>
              <a:gd name="adj5" fmla="val 52916"/>
              <a:gd name="adj6" fmla="val -595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ur Rel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601200" y="430200"/>
            <a:ext cx="495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gradepolitik des SW-Herstellers und Umsetz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Rechteck 51"/>
          <p:cNvSpPr/>
          <p:nvPr/>
        </p:nvSpPr>
        <p:spPr>
          <a:xfrm>
            <a:off x="625320" y="1262160"/>
            <a:ext cx="1441440" cy="379440"/>
          </a:xfrm>
          <a:prstGeom prst="rect">
            <a:avLst/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on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34880" y="1065240"/>
            <a:ext cx="8994960" cy="48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Rechteck 51"/>
          <p:cNvSpPr/>
          <p:nvPr/>
        </p:nvSpPr>
        <p:spPr>
          <a:xfrm>
            <a:off x="2060640" y="1255680"/>
            <a:ext cx="1441440" cy="379440"/>
          </a:xfrm>
          <a:prstGeom prst="rect">
            <a:avLst/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ona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Rechteck 51"/>
          <p:cNvSpPr/>
          <p:nvPr/>
        </p:nvSpPr>
        <p:spPr>
          <a:xfrm>
            <a:off x="3503520" y="1257480"/>
            <a:ext cx="1441440" cy="379080"/>
          </a:xfrm>
          <a:prstGeom prst="rect">
            <a:avLst/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ona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Rechteck 51"/>
          <p:cNvSpPr/>
          <p:nvPr/>
        </p:nvSpPr>
        <p:spPr>
          <a:xfrm>
            <a:off x="4944960" y="1258920"/>
            <a:ext cx="1441440" cy="379440"/>
          </a:xfrm>
          <a:prstGeom prst="rect">
            <a:avLst/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ona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Rechteck 51"/>
          <p:cNvSpPr/>
          <p:nvPr/>
        </p:nvSpPr>
        <p:spPr>
          <a:xfrm>
            <a:off x="6380280" y="1260360"/>
            <a:ext cx="1441440" cy="379440"/>
          </a:xfrm>
          <a:prstGeom prst="rect">
            <a:avLst/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onat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Rechteck 51"/>
          <p:cNvSpPr/>
          <p:nvPr/>
        </p:nvSpPr>
        <p:spPr>
          <a:xfrm>
            <a:off x="7823160" y="1262160"/>
            <a:ext cx="1441440" cy="379440"/>
          </a:xfrm>
          <a:prstGeom prst="rect">
            <a:avLst/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onat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620640" y="1643040"/>
            <a:ext cx="0" cy="4206960"/>
          </a:xfrm>
          <a:prstGeom prst="line">
            <a:avLst/>
          </a:prstGeom>
          <a:ln w="9360">
            <a:solidFill>
              <a:srgbClr val="928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054160" y="1644480"/>
            <a:ext cx="0" cy="4176720"/>
          </a:xfrm>
          <a:prstGeom prst="line">
            <a:avLst/>
          </a:prstGeom>
          <a:ln w="9360">
            <a:solidFill>
              <a:srgbClr val="928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 flipH="1">
            <a:off x="3490920" y="1725480"/>
            <a:ext cx="7920" cy="4083120"/>
          </a:xfrm>
          <a:prstGeom prst="line">
            <a:avLst/>
          </a:prstGeom>
          <a:ln w="9360">
            <a:solidFill>
              <a:srgbClr val="928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4932360" y="1727280"/>
            <a:ext cx="20520" cy="4066920"/>
          </a:xfrm>
          <a:prstGeom prst="line">
            <a:avLst/>
          </a:prstGeom>
          <a:ln w="9360">
            <a:solidFill>
              <a:srgbClr val="928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6394320" y="1674720"/>
            <a:ext cx="7920" cy="4146480"/>
          </a:xfrm>
          <a:prstGeom prst="line">
            <a:avLst/>
          </a:prstGeom>
          <a:ln w="9360">
            <a:solidFill>
              <a:srgbClr val="928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7827840" y="1676520"/>
            <a:ext cx="0" cy="4160880"/>
          </a:xfrm>
          <a:prstGeom prst="line">
            <a:avLst/>
          </a:prstGeom>
          <a:ln w="9360">
            <a:solidFill>
              <a:srgbClr val="928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9253440" y="1644480"/>
            <a:ext cx="7920" cy="4168800"/>
          </a:xfrm>
          <a:prstGeom prst="line">
            <a:avLst/>
          </a:prstGeom>
          <a:ln w="9360">
            <a:solidFill>
              <a:srgbClr val="928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Rechteck 84"/>
          <p:cNvSpPr/>
          <p:nvPr/>
        </p:nvSpPr>
        <p:spPr>
          <a:xfrm>
            <a:off x="673200" y="1781280"/>
            <a:ext cx="8542080" cy="763560"/>
          </a:xfrm>
          <a:prstGeom prst="rect">
            <a:avLst/>
          </a:prstGeom>
          <a:solidFill>
            <a:srgbClr val="e5efeb">
              <a:alpha val="90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llgemeine Koord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Rechteck 97"/>
          <p:cNvSpPr/>
          <p:nvPr/>
        </p:nvSpPr>
        <p:spPr>
          <a:xfrm>
            <a:off x="1792440" y="2673360"/>
            <a:ext cx="7453080" cy="1122480"/>
          </a:xfrm>
          <a:prstGeom prst="rect">
            <a:avLst/>
          </a:prstGeom>
          <a:solidFill>
            <a:srgbClr val="efebcc">
              <a:alpha val="80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ystem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Rechteck 97"/>
          <p:cNvSpPr/>
          <p:nvPr/>
        </p:nvSpPr>
        <p:spPr>
          <a:xfrm>
            <a:off x="2762280" y="4919760"/>
            <a:ext cx="6499080" cy="880920"/>
          </a:xfrm>
          <a:prstGeom prst="rect">
            <a:avLst/>
          </a:prstGeom>
          <a:solidFill>
            <a:srgbClr val="ff9900">
              <a:alpha val="45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ystem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Rechteck 97"/>
          <p:cNvSpPr/>
          <p:nvPr/>
        </p:nvSpPr>
        <p:spPr>
          <a:xfrm>
            <a:off x="3470400" y="3944880"/>
            <a:ext cx="4263840" cy="790560"/>
          </a:xfrm>
          <a:prstGeom prst="rect">
            <a:avLst/>
          </a:prstGeom>
          <a:solidFill>
            <a:srgbClr val="6699ff">
              <a:alpha val="60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ystem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750960" y="2076480"/>
            <a:ext cx="712800" cy="34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lan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1619280" y="2062080"/>
            <a:ext cx="1146240" cy="38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Kündig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r Verträ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2616120" y="1846440"/>
            <a:ext cx="179640" cy="215640"/>
          </a:xfrm>
          <a:prstGeom prst="diamond">
            <a:avLst/>
          </a:prstGeom>
          <a:solidFill>
            <a:srgbClr val="ff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3673440" y="4218120"/>
            <a:ext cx="1146240" cy="38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ogisc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ch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6488280" y="4214880"/>
            <a:ext cx="1145880" cy="38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en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5110200" y="4224240"/>
            <a:ext cx="1146240" cy="38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rstell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on Lis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1962000" y="2922480"/>
            <a:ext cx="1565280" cy="6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rstell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euerbescheinigung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660840" y="2922480"/>
            <a:ext cx="2720880" cy="67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rstellung von Lis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und Archivierung der Lis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m Archiv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526080" y="2908440"/>
            <a:ext cx="2316240" cy="38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ogisc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cherung auf Ta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7632720" y="3352680"/>
            <a:ext cx="1525680" cy="38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öschung der Da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7988400" y="2057400"/>
            <a:ext cx="1245960" cy="38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bschlu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5073480" y="5078520"/>
            <a:ext cx="2035440" cy="60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enmig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zu Webapplik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917800" y="5164200"/>
            <a:ext cx="2035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enbereinig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7329600" y="5072040"/>
            <a:ext cx="18716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formation an Anw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7334280" y="5394240"/>
            <a:ext cx="18716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hutdown Alt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3030480" y="2055960"/>
            <a:ext cx="4795920" cy="38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egelmäßige Statusberich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9140760" y="1816200"/>
            <a:ext cx="179280" cy="215640"/>
          </a:xfrm>
          <a:prstGeom prst="diamond">
            <a:avLst/>
          </a:prstGeom>
          <a:solidFill>
            <a:srgbClr val="ff33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455400" y="861840"/>
            <a:ext cx="491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ung der Aktivitäten zu Systemausschaltun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"/>
          <p:cNvSpPr/>
          <p:nvPr/>
        </p:nvSpPr>
        <p:spPr>
          <a:xfrm>
            <a:off x="1911240" y="1484280"/>
            <a:ext cx="6318360" cy="4105440"/>
          </a:xfrm>
          <a:prstGeom prst="ellipse">
            <a:avLst/>
          </a:prstGeom>
          <a:solidFill>
            <a:srgbClr val="ffffff">
              <a:alpha val="64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521080" y="1639800"/>
            <a:ext cx="4330440" cy="3602160"/>
          </a:xfrm>
          <a:custGeom>
            <a:avLst/>
            <a:gdLst/>
            <a:ahLst/>
            <a:rect l="l" t="t" r="r" b="b"/>
            <a:pathLst>
              <a:path w="2518" h="2269">
                <a:moveTo>
                  <a:pt x="325" y="628"/>
                </a:moveTo>
                <a:cubicBezTo>
                  <a:pt x="325" y="719"/>
                  <a:pt x="386" y="825"/>
                  <a:pt x="371" y="900"/>
                </a:cubicBezTo>
                <a:cubicBezTo>
                  <a:pt x="356" y="975"/>
                  <a:pt x="288" y="1044"/>
                  <a:pt x="235" y="1082"/>
                </a:cubicBezTo>
                <a:cubicBezTo>
                  <a:pt x="182" y="1120"/>
                  <a:pt x="91" y="1104"/>
                  <a:pt x="53" y="1127"/>
                </a:cubicBezTo>
                <a:cubicBezTo>
                  <a:pt x="15" y="1150"/>
                  <a:pt x="0" y="1188"/>
                  <a:pt x="8" y="1218"/>
                </a:cubicBezTo>
                <a:cubicBezTo>
                  <a:pt x="16" y="1248"/>
                  <a:pt x="54" y="1285"/>
                  <a:pt x="99" y="1308"/>
                </a:cubicBezTo>
                <a:cubicBezTo>
                  <a:pt x="144" y="1331"/>
                  <a:pt x="205" y="1339"/>
                  <a:pt x="280" y="1354"/>
                </a:cubicBezTo>
                <a:cubicBezTo>
                  <a:pt x="355" y="1369"/>
                  <a:pt x="499" y="1361"/>
                  <a:pt x="552" y="1399"/>
                </a:cubicBezTo>
                <a:cubicBezTo>
                  <a:pt x="605" y="1437"/>
                  <a:pt x="598" y="1528"/>
                  <a:pt x="598" y="1581"/>
                </a:cubicBezTo>
                <a:cubicBezTo>
                  <a:pt x="598" y="1634"/>
                  <a:pt x="545" y="1664"/>
                  <a:pt x="552" y="1717"/>
                </a:cubicBezTo>
                <a:cubicBezTo>
                  <a:pt x="559" y="1770"/>
                  <a:pt x="590" y="1853"/>
                  <a:pt x="643" y="1898"/>
                </a:cubicBezTo>
                <a:cubicBezTo>
                  <a:pt x="696" y="1943"/>
                  <a:pt x="802" y="1981"/>
                  <a:pt x="870" y="1989"/>
                </a:cubicBezTo>
                <a:cubicBezTo>
                  <a:pt x="938" y="1997"/>
                  <a:pt x="990" y="1935"/>
                  <a:pt x="1051" y="1943"/>
                </a:cubicBezTo>
                <a:cubicBezTo>
                  <a:pt x="1112" y="1951"/>
                  <a:pt x="1180" y="1996"/>
                  <a:pt x="1233" y="2034"/>
                </a:cubicBezTo>
                <a:cubicBezTo>
                  <a:pt x="1286" y="2072"/>
                  <a:pt x="1278" y="2132"/>
                  <a:pt x="1369" y="2170"/>
                </a:cubicBezTo>
                <a:cubicBezTo>
                  <a:pt x="1460" y="2208"/>
                  <a:pt x="1634" y="2253"/>
                  <a:pt x="1777" y="2261"/>
                </a:cubicBezTo>
                <a:cubicBezTo>
                  <a:pt x="1920" y="2269"/>
                  <a:pt x="2124" y="2246"/>
                  <a:pt x="2230" y="2216"/>
                </a:cubicBezTo>
                <a:cubicBezTo>
                  <a:pt x="2336" y="2186"/>
                  <a:pt x="2382" y="2148"/>
                  <a:pt x="2412" y="2080"/>
                </a:cubicBezTo>
                <a:cubicBezTo>
                  <a:pt x="2442" y="2012"/>
                  <a:pt x="2442" y="1883"/>
                  <a:pt x="2412" y="1807"/>
                </a:cubicBezTo>
                <a:cubicBezTo>
                  <a:pt x="2382" y="1731"/>
                  <a:pt x="2268" y="1686"/>
                  <a:pt x="2230" y="1626"/>
                </a:cubicBezTo>
                <a:cubicBezTo>
                  <a:pt x="2192" y="1566"/>
                  <a:pt x="2177" y="1498"/>
                  <a:pt x="2185" y="1445"/>
                </a:cubicBezTo>
                <a:cubicBezTo>
                  <a:pt x="2193" y="1392"/>
                  <a:pt x="2238" y="1338"/>
                  <a:pt x="2276" y="1308"/>
                </a:cubicBezTo>
                <a:cubicBezTo>
                  <a:pt x="2314" y="1278"/>
                  <a:pt x="2374" y="1286"/>
                  <a:pt x="2412" y="1263"/>
                </a:cubicBezTo>
                <a:cubicBezTo>
                  <a:pt x="2450" y="1240"/>
                  <a:pt x="2488" y="1210"/>
                  <a:pt x="2503" y="1172"/>
                </a:cubicBezTo>
                <a:cubicBezTo>
                  <a:pt x="2518" y="1134"/>
                  <a:pt x="2518" y="1081"/>
                  <a:pt x="2503" y="1036"/>
                </a:cubicBezTo>
                <a:cubicBezTo>
                  <a:pt x="2488" y="991"/>
                  <a:pt x="2458" y="938"/>
                  <a:pt x="2412" y="900"/>
                </a:cubicBezTo>
                <a:cubicBezTo>
                  <a:pt x="2366" y="862"/>
                  <a:pt x="2268" y="839"/>
                  <a:pt x="2230" y="809"/>
                </a:cubicBezTo>
                <a:cubicBezTo>
                  <a:pt x="2192" y="779"/>
                  <a:pt x="2200" y="794"/>
                  <a:pt x="2185" y="719"/>
                </a:cubicBezTo>
                <a:cubicBezTo>
                  <a:pt x="2170" y="644"/>
                  <a:pt x="2117" y="432"/>
                  <a:pt x="2140" y="356"/>
                </a:cubicBezTo>
                <a:cubicBezTo>
                  <a:pt x="2163" y="280"/>
                  <a:pt x="2314" y="318"/>
                  <a:pt x="2321" y="265"/>
                </a:cubicBezTo>
                <a:cubicBezTo>
                  <a:pt x="2328" y="212"/>
                  <a:pt x="2268" y="76"/>
                  <a:pt x="2185" y="38"/>
                </a:cubicBezTo>
                <a:cubicBezTo>
                  <a:pt x="2102" y="0"/>
                  <a:pt x="1913" y="8"/>
                  <a:pt x="1822" y="38"/>
                </a:cubicBezTo>
                <a:cubicBezTo>
                  <a:pt x="1731" y="68"/>
                  <a:pt x="1679" y="152"/>
                  <a:pt x="1641" y="220"/>
                </a:cubicBezTo>
                <a:cubicBezTo>
                  <a:pt x="1603" y="288"/>
                  <a:pt x="1603" y="364"/>
                  <a:pt x="1595" y="447"/>
                </a:cubicBezTo>
                <a:cubicBezTo>
                  <a:pt x="1587" y="530"/>
                  <a:pt x="1633" y="659"/>
                  <a:pt x="1595" y="719"/>
                </a:cubicBezTo>
                <a:cubicBezTo>
                  <a:pt x="1557" y="779"/>
                  <a:pt x="1437" y="832"/>
                  <a:pt x="1369" y="809"/>
                </a:cubicBezTo>
                <a:cubicBezTo>
                  <a:pt x="1301" y="786"/>
                  <a:pt x="1233" y="674"/>
                  <a:pt x="1187" y="583"/>
                </a:cubicBezTo>
                <a:cubicBezTo>
                  <a:pt x="1141" y="492"/>
                  <a:pt x="1119" y="348"/>
                  <a:pt x="1096" y="265"/>
                </a:cubicBezTo>
                <a:cubicBezTo>
                  <a:pt x="1073" y="182"/>
                  <a:pt x="1104" y="122"/>
                  <a:pt x="1051" y="84"/>
                </a:cubicBezTo>
                <a:cubicBezTo>
                  <a:pt x="998" y="46"/>
                  <a:pt x="862" y="23"/>
                  <a:pt x="779" y="38"/>
                </a:cubicBezTo>
                <a:cubicBezTo>
                  <a:pt x="696" y="53"/>
                  <a:pt x="597" y="144"/>
                  <a:pt x="552" y="174"/>
                </a:cubicBezTo>
                <a:cubicBezTo>
                  <a:pt x="507" y="204"/>
                  <a:pt x="537" y="190"/>
                  <a:pt x="507" y="220"/>
                </a:cubicBezTo>
                <a:cubicBezTo>
                  <a:pt x="477" y="250"/>
                  <a:pt x="401" y="288"/>
                  <a:pt x="371" y="356"/>
                </a:cubicBezTo>
                <a:cubicBezTo>
                  <a:pt x="341" y="424"/>
                  <a:pt x="325" y="537"/>
                  <a:pt x="325" y="628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506160" y="1773360"/>
            <a:ext cx="22039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0000"/>
                </a:solidFill>
                <a:latin typeface="Arial"/>
              </a:rPr>
              <a:t>Zeitdruck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6903360" y="1916280"/>
            <a:ext cx="17193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0000"/>
                </a:solidFill>
                <a:latin typeface="Arial"/>
              </a:rPr>
              <a:t>Koste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506520" y="4653000"/>
            <a:ext cx="485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0000"/>
                </a:solidFill>
                <a:latin typeface="Arial"/>
              </a:rPr>
              <a:t>verschieden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0000"/>
                </a:solidFill>
                <a:latin typeface="Arial"/>
              </a:rPr>
              <a:t>Ziele / Anforderunge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7292880" y="4724280"/>
            <a:ext cx="18000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0000"/>
                </a:solidFill>
                <a:latin typeface="Arial"/>
              </a:rPr>
              <a:t>Risike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 rot="20219400">
            <a:off x="1833480" y="3789360"/>
            <a:ext cx="1170000" cy="863640"/>
          </a:xfrm>
          <a:prstGeom prst="rightArrow">
            <a:avLst>
              <a:gd name="adj1" fmla="val 50000"/>
              <a:gd name="adj2" fmla="val 33868"/>
            </a:avLst>
          </a:prstGeom>
          <a:solidFill>
            <a:srgbClr val="ffffff">
              <a:alpha val="64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 rot="12269400">
            <a:off x="6825960" y="3789000"/>
            <a:ext cx="1168200" cy="863640"/>
          </a:xfrm>
          <a:prstGeom prst="rightArrow">
            <a:avLst>
              <a:gd name="adj1" fmla="val 50000"/>
              <a:gd name="adj2" fmla="val 33816"/>
            </a:avLst>
          </a:prstGeom>
          <a:solidFill>
            <a:srgbClr val="ffffff">
              <a:alpha val="64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 rot="2135400">
            <a:off x="1676160" y="2491920"/>
            <a:ext cx="1170000" cy="863640"/>
          </a:xfrm>
          <a:prstGeom prst="rightArrow">
            <a:avLst>
              <a:gd name="adj1" fmla="val 50000"/>
              <a:gd name="adj2" fmla="val 33868"/>
            </a:avLst>
          </a:prstGeom>
          <a:solidFill>
            <a:srgbClr val="ffffff">
              <a:alpha val="64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 rot="9136800">
            <a:off x="6903720" y="2491920"/>
            <a:ext cx="1168200" cy="863640"/>
          </a:xfrm>
          <a:prstGeom prst="rightArrow">
            <a:avLst>
              <a:gd name="adj1" fmla="val 50000"/>
              <a:gd name="adj2" fmla="val 33816"/>
            </a:avLst>
          </a:prstGeom>
          <a:solidFill>
            <a:srgbClr val="ffffff">
              <a:alpha val="64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289080" y="949320"/>
            <a:ext cx="9177120" cy="511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315360" y="735120"/>
            <a:ext cx="2553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ptimierung des Test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043600" y="2549520"/>
            <a:ext cx="3306600" cy="1911240"/>
          </a:xfrm>
          <a:prstGeom prst="rect">
            <a:avLst/>
          </a:pr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41400" y="2538360"/>
            <a:ext cx="2627280" cy="1919520"/>
          </a:xfrm>
          <a:prstGeom prst="rect">
            <a:avLst/>
          </a:pr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1520" y="433440"/>
            <a:ext cx="2760480" cy="1917720"/>
          </a:xfrm>
          <a:prstGeom prst="rect">
            <a:avLst/>
          </a:pr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82760" y="743040"/>
          <a:ext cx="2606040" cy="1552320"/>
        </p:xfrm>
        <a:graphic>
          <a:graphicData uri="http://schemas.openxmlformats.org/drawingml/2006/table">
            <a:tbl>
              <a:tblPr/>
              <a:tblGrid>
                <a:gridCol w="570240"/>
                <a:gridCol w="1018080"/>
                <a:gridCol w="1017720"/>
              </a:tblGrid>
              <a:tr h="388080"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r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chreib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wartetes Ergebn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38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9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455400" y="441360"/>
            <a:ext cx="709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estf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89280" y="2549520"/>
            <a:ext cx="416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122800" y="2805120"/>
          <a:ext cx="3187800" cy="1563480"/>
        </p:xfrm>
        <a:graphic>
          <a:graphicData uri="http://schemas.openxmlformats.org/drawingml/2006/table">
            <a:tbl>
              <a:tblPr/>
              <a:tblGrid>
                <a:gridCol w="1062000"/>
                <a:gridCol w="1063440"/>
                <a:gridCol w="1062360"/>
              </a:tblGrid>
              <a:tr h="390240"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sier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heb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390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5124600" y="2514600"/>
            <a:ext cx="518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9240" y="347760"/>
            <a:ext cx="9499320" cy="20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20960" y="2857680"/>
          <a:ext cx="2431440" cy="1539360"/>
        </p:xfrm>
        <a:graphic>
          <a:graphicData uri="http://schemas.openxmlformats.org/drawingml/2006/table">
            <a:tbl>
              <a:tblPr/>
              <a:tblGrid>
                <a:gridCol w="574200"/>
                <a:gridCol w="1027800"/>
                <a:gridCol w="829440"/>
              </a:tblGrid>
              <a:tr h="490320"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r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ngetroffenes Ergebn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hl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347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8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7031160" y="4710240"/>
            <a:ext cx="2627280" cy="1919160"/>
          </a:xfrm>
          <a:prstGeom prst="rect">
            <a:avLst/>
          </a:pr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80120" y="4721400"/>
            <a:ext cx="9226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Re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7110360" y="5029200"/>
          <a:ext cx="2431800" cy="1539360"/>
        </p:xfrm>
        <a:graphic>
          <a:graphicData uri="http://schemas.openxmlformats.org/drawingml/2006/table">
            <a:tbl>
              <a:tblPr/>
              <a:tblGrid>
                <a:gridCol w="574200"/>
                <a:gridCol w="1028160"/>
                <a:gridCol w="829440"/>
              </a:tblGrid>
              <a:tr h="490320"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r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ngetroffenes Ergebn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hl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347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8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217440" y="2470320"/>
            <a:ext cx="9499680" cy="20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6280" y="4611600"/>
            <a:ext cx="9499680" cy="206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5400000">
            <a:off x="3123720" y="1704960"/>
            <a:ext cx="1009800" cy="94284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05400" y="3295800"/>
            <a:ext cx="495360" cy="637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f24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8399520" y="1655640"/>
            <a:ext cx="1009440" cy="943200"/>
          </a:xfrm>
          <a:custGeom>
            <a:avLst/>
            <a:gdLst>
              <a:gd name="textAreaLeft" fmla="*/ 0 w 1009440"/>
              <a:gd name="textAreaRight" fmla="*/ 1009800 w 100944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8172360" y="3543120"/>
            <a:ext cx="1895400" cy="628560"/>
          </a:xfrm>
          <a:custGeom>
            <a:avLst/>
            <a:gdLst>
              <a:gd name="textAreaLeft" fmla="*/ 295920 w 1895400"/>
              <a:gd name="textAreaRight" fmla="*/ 1725480 w 1895400"/>
              <a:gd name="textAreaTop" fmla="*/ 156960 h 628560"/>
              <a:gd name="textAreaBottom" fmla="*/ 471600 h 628560"/>
            </a:gdLst>
            <a:ahLst/>
            <a:rect l="textAreaLeft" t="textAreaTop" r="textAreaRight" b="textAreaBottom"/>
            <a:pathLst>
              <a:path w="21600" h="21600">
                <a:moveTo>
                  <a:pt x="3375" y="5399"/>
                </a:moveTo>
                <a:lnTo>
                  <a:pt x="17728" y="5399"/>
                </a:lnTo>
                <a:lnTo>
                  <a:pt x="17728" y="0"/>
                </a:lnTo>
                <a:lnTo>
                  <a:pt x="21600" y="10800"/>
                </a:lnTo>
                <a:lnTo>
                  <a:pt x="17728" y="21600"/>
                </a:lnTo>
                <a:lnTo>
                  <a:pt x="17728" y="16201"/>
                </a:lnTo>
                <a:lnTo>
                  <a:pt x="3375" y="16201"/>
                </a:lnTo>
                <a:close/>
              </a:path>
              <a:path w="21600" h="21600">
                <a:moveTo>
                  <a:pt x="0" y="5399"/>
                </a:moveTo>
                <a:lnTo>
                  <a:pt x="675" y="5399"/>
                </a:lnTo>
                <a:lnTo>
                  <a:pt x="675" y="16201"/>
                </a:lnTo>
                <a:lnTo>
                  <a:pt x="0" y="16201"/>
                </a:lnTo>
                <a:close/>
              </a:path>
              <a:path w="21600" h="21600">
                <a:moveTo>
                  <a:pt x="1350" y="5399"/>
                </a:moveTo>
                <a:lnTo>
                  <a:pt x="2700" y="5399"/>
                </a:lnTo>
                <a:lnTo>
                  <a:pt x="2700" y="16201"/>
                </a:lnTo>
                <a:lnTo>
                  <a:pt x="1350" y="1620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8400" y="141120"/>
            <a:ext cx="3678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nterscheidung von Testfall und Te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82600" y="5942160"/>
            <a:ext cx="571680" cy="42840"/>
          </a:xfrm>
          <a:prstGeom prst="rect">
            <a:avLst/>
          </a:prstGeom>
          <a:solidFill>
            <a:srgbClr val="928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27880" y="2784600"/>
            <a:ext cx="571680" cy="3200400"/>
          </a:xfrm>
          <a:prstGeom prst="rect">
            <a:avLst/>
          </a:prstGeom>
          <a:solidFill>
            <a:srgbClr val="928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52320" y="677880"/>
            <a:ext cx="1014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st-intensitä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1144080" y="1191960"/>
            <a:ext cx="9720" cy="521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09520" y="2589120"/>
            <a:ext cx="936720" cy="3419640"/>
          </a:xfrm>
          <a:custGeom>
            <a:avLst/>
            <a:gdLst/>
            <a:ahLst/>
            <a:rect l="l" t="t" r="r" b="b"/>
            <a:pathLst>
              <a:path w="590" h="2154">
                <a:moveTo>
                  <a:pt x="0" y="2154"/>
                </a:moveTo>
                <a:cubicBezTo>
                  <a:pt x="193" y="1105"/>
                  <a:pt x="386" y="57"/>
                  <a:pt x="590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09520" y="2498760"/>
            <a:ext cx="4969080" cy="3510000"/>
          </a:xfrm>
          <a:custGeom>
            <a:avLst/>
            <a:gdLst/>
            <a:ahLst/>
            <a:rect l="l" t="t" r="r" b="b"/>
            <a:pathLst>
              <a:path w="3130" h="2211">
                <a:moveTo>
                  <a:pt x="0" y="2211"/>
                </a:moveTo>
                <a:cubicBezTo>
                  <a:pt x="193" y="1162"/>
                  <a:pt x="386" y="114"/>
                  <a:pt x="590" y="57"/>
                </a:cubicBezTo>
                <a:cubicBezTo>
                  <a:pt x="794" y="0"/>
                  <a:pt x="1040" y="1648"/>
                  <a:pt x="1225" y="1871"/>
                </a:cubicBezTo>
                <a:cubicBezTo>
                  <a:pt x="1410" y="2094"/>
                  <a:pt x="1542" y="1395"/>
                  <a:pt x="1701" y="1395"/>
                </a:cubicBezTo>
                <a:cubicBezTo>
                  <a:pt x="1860" y="1395"/>
                  <a:pt x="2018" y="1871"/>
                  <a:pt x="2177" y="1871"/>
                </a:cubicBezTo>
                <a:cubicBezTo>
                  <a:pt x="2336" y="1871"/>
                  <a:pt x="2495" y="1395"/>
                  <a:pt x="2654" y="1395"/>
                </a:cubicBezTo>
                <a:cubicBezTo>
                  <a:pt x="2813" y="1395"/>
                  <a:pt x="2971" y="1871"/>
                  <a:pt x="3130" y="1871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90320" y="5635800"/>
            <a:ext cx="2980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6840" y="557280"/>
            <a:ext cx="8872560" cy="590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4840" y="2509920"/>
            <a:ext cx="2011320" cy="3494160"/>
          </a:xfrm>
          <a:custGeom>
            <a:avLst/>
            <a:gdLst/>
            <a:ahLst/>
            <a:rect l="l" t="t" r="r" b="b"/>
            <a:pathLst>
              <a:path w="1267" h="2201">
                <a:moveTo>
                  <a:pt x="0" y="2201"/>
                </a:moveTo>
                <a:cubicBezTo>
                  <a:pt x="194" y="1147"/>
                  <a:pt x="388" y="94"/>
                  <a:pt x="599" y="47"/>
                </a:cubicBezTo>
                <a:cubicBezTo>
                  <a:pt x="810" y="0"/>
                  <a:pt x="1129" y="1629"/>
                  <a:pt x="1267" y="1919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44480" y="6014520"/>
            <a:ext cx="7775640" cy="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46360" y="5667480"/>
            <a:ext cx="574560" cy="341280"/>
          </a:xfrm>
          <a:prstGeom prst="rect">
            <a:avLst/>
          </a:prstGeom>
          <a:solidFill>
            <a:srgbClr val="928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22360" y="5380200"/>
            <a:ext cx="571680" cy="601560"/>
          </a:xfrm>
          <a:prstGeom prst="rect">
            <a:avLst/>
          </a:prstGeom>
          <a:solidFill>
            <a:srgbClr val="928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84320" y="5059440"/>
            <a:ext cx="571680" cy="923760"/>
          </a:xfrm>
          <a:prstGeom prst="rect">
            <a:avLst/>
          </a:prstGeom>
          <a:solidFill>
            <a:srgbClr val="928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52760" y="4734000"/>
            <a:ext cx="571680" cy="1245960"/>
          </a:xfrm>
          <a:prstGeom prst="rect">
            <a:avLst/>
          </a:prstGeom>
          <a:solidFill>
            <a:srgbClr val="928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24440" y="4483080"/>
            <a:ext cx="571320" cy="1496880"/>
          </a:xfrm>
          <a:prstGeom prst="rect">
            <a:avLst/>
          </a:prstGeom>
          <a:solidFill>
            <a:srgbClr val="928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87840" y="4187880"/>
            <a:ext cx="571680" cy="1792080"/>
          </a:xfrm>
          <a:prstGeom prst="rect">
            <a:avLst/>
          </a:prstGeom>
          <a:solidFill>
            <a:srgbClr val="928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59520" y="3913200"/>
            <a:ext cx="571320" cy="2066760"/>
          </a:xfrm>
          <a:prstGeom prst="rect">
            <a:avLst/>
          </a:prstGeom>
          <a:solidFill>
            <a:srgbClr val="928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21480" y="3619440"/>
            <a:ext cx="571320" cy="2362320"/>
          </a:xfrm>
          <a:prstGeom prst="rect">
            <a:avLst/>
          </a:prstGeom>
          <a:solidFill>
            <a:srgbClr val="928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3440" y="3332160"/>
            <a:ext cx="571320" cy="2647800"/>
          </a:xfrm>
          <a:prstGeom prst="rect">
            <a:avLst/>
          </a:prstGeom>
          <a:solidFill>
            <a:srgbClr val="928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3320" y="3046320"/>
            <a:ext cx="571320" cy="2935440"/>
          </a:xfrm>
          <a:prstGeom prst="rect">
            <a:avLst/>
          </a:prstGeom>
          <a:solidFill>
            <a:srgbClr val="928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121600" y="1114560"/>
            <a:ext cx="957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esting &amp; Re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74080" y="2322360"/>
            <a:ext cx="957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999560" y="1611360"/>
            <a:ext cx="0" cy="43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6840" y="4813200"/>
            <a:ext cx="117792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unktionsb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51040" y="5667480"/>
            <a:ext cx="582480" cy="277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n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5920" y="5732640"/>
            <a:ext cx="4183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au 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86440" y="5740560"/>
            <a:ext cx="4183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au +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974680" y="4282560"/>
            <a:ext cx="1789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117440" y="1318680"/>
            <a:ext cx="6902640" cy="46422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125360" y="2491920"/>
            <a:ext cx="6872400" cy="351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12480" y="5754600"/>
            <a:ext cx="4258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au +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68840" y="5713560"/>
            <a:ext cx="1530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82600" y="1306440"/>
            <a:ext cx="6819840" cy="4705560"/>
          </a:xfrm>
          <a:custGeom>
            <a:avLst/>
            <a:gdLst/>
            <a:ahLst/>
            <a:rect l="l" t="t" r="r" b="b"/>
            <a:pathLst>
              <a:path w="4296" h="2604">
                <a:moveTo>
                  <a:pt x="0" y="2604"/>
                </a:moveTo>
                <a:cubicBezTo>
                  <a:pt x="223" y="2595"/>
                  <a:pt x="447" y="2586"/>
                  <a:pt x="642" y="2574"/>
                </a:cubicBezTo>
                <a:cubicBezTo>
                  <a:pt x="837" y="2562"/>
                  <a:pt x="1008" y="2549"/>
                  <a:pt x="1170" y="2532"/>
                </a:cubicBezTo>
                <a:cubicBezTo>
                  <a:pt x="1332" y="2515"/>
                  <a:pt x="1450" y="2517"/>
                  <a:pt x="1614" y="2472"/>
                </a:cubicBezTo>
                <a:cubicBezTo>
                  <a:pt x="1778" y="2427"/>
                  <a:pt x="1989" y="2349"/>
                  <a:pt x="2154" y="2262"/>
                </a:cubicBezTo>
                <a:cubicBezTo>
                  <a:pt x="2319" y="2175"/>
                  <a:pt x="2476" y="2066"/>
                  <a:pt x="2604" y="1950"/>
                </a:cubicBezTo>
                <a:cubicBezTo>
                  <a:pt x="2732" y="1834"/>
                  <a:pt x="2835" y="1719"/>
                  <a:pt x="2922" y="1566"/>
                </a:cubicBezTo>
                <a:cubicBezTo>
                  <a:pt x="3009" y="1413"/>
                  <a:pt x="3035" y="1215"/>
                  <a:pt x="3126" y="1032"/>
                </a:cubicBezTo>
                <a:cubicBezTo>
                  <a:pt x="3217" y="849"/>
                  <a:pt x="3273" y="640"/>
                  <a:pt x="3468" y="468"/>
                </a:cubicBezTo>
                <a:cubicBezTo>
                  <a:pt x="3663" y="296"/>
                  <a:pt x="3979" y="148"/>
                  <a:pt x="4296" y="0"/>
                </a:cubicBezTo>
              </a:path>
            </a:pathLst>
          </a:custGeom>
          <a:noFill/>
          <a:ln w="38160">
            <a:solidFill>
              <a:srgbClr val="2b1c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30280" y="5370480"/>
            <a:ext cx="554040" cy="27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n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90800" y="5073480"/>
            <a:ext cx="554040" cy="27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n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52760" y="4740120"/>
            <a:ext cx="554040" cy="27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n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24440" y="4492800"/>
            <a:ext cx="554040" cy="277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n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05480" y="4178160"/>
            <a:ext cx="554040" cy="277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n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67440" y="3921120"/>
            <a:ext cx="554040" cy="277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n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29400" y="3616200"/>
            <a:ext cx="554040" cy="2779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n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00720" y="3330720"/>
            <a:ext cx="554040" cy="277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n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72400" y="3044880"/>
            <a:ext cx="554040" cy="277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n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34360" y="2787480"/>
            <a:ext cx="554040" cy="2779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n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54160" y="1306440"/>
            <a:ext cx="6848280" cy="4686480"/>
          </a:xfrm>
          <a:custGeom>
            <a:avLst/>
            <a:gdLst/>
            <a:ahLst/>
            <a:rect l="l" t="t" r="r" b="b"/>
            <a:pathLst>
              <a:path w="4314" h="2952">
                <a:moveTo>
                  <a:pt x="0" y="2952"/>
                </a:moveTo>
                <a:lnTo>
                  <a:pt x="4314" y="0"/>
                </a:lnTo>
                <a:lnTo>
                  <a:pt x="4314" y="750"/>
                </a:lnTo>
                <a:lnTo>
                  <a:pt x="0" y="2952"/>
                </a:lnTo>
                <a:close/>
              </a:path>
            </a:pathLst>
          </a:custGeom>
          <a:blipFill rotWithShape="0">
            <a:blip r:embed="rId12">
              <a:alphaModFix amt="2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6040" y="355680"/>
            <a:ext cx="499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stintensität in Beziehung zur Systementwickl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hteck 84"/>
          <p:cNvSpPr/>
          <p:nvPr/>
        </p:nvSpPr>
        <p:spPr>
          <a:xfrm>
            <a:off x="892080" y="1131840"/>
            <a:ext cx="7299360" cy="797040"/>
          </a:xfrm>
          <a:prstGeom prst="rect">
            <a:avLst/>
          </a:prstGeom>
          <a:solidFill>
            <a:srgbClr val="b6c9d8">
              <a:alpha val="82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hteck 84"/>
          <p:cNvSpPr/>
          <p:nvPr/>
        </p:nvSpPr>
        <p:spPr>
          <a:xfrm>
            <a:off x="2546280" y="2122560"/>
            <a:ext cx="4332240" cy="3740040"/>
          </a:xfrm>
          <a:prstGeom prst="rect">
            <a:avLst/>
          </a:prstGeom>
          <a:solidFill>
            <a:srgbClr val="e5efeb">
              <a:alpha val="83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hteck 84"/>
          <p:cNvSpPr/>
          <p:nvPr/>
        </p:nvSpPr>
        <p:spPr>
          <a:xfrm>
            <a:off x="890640" y="709560"/>
            <a:ext cx="7299360" cy="420840"/>
          </a:xfrm>
          <a:prstGeom prst="rect">
            <a:avLst/>
          </a:prstGeom>
          <a:solidFill>
            <a:srgbClr val="638dab">
              <a:alpha val="63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58960" y="689040"/>
            <a:ext cx="7359480" cy="532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46080" y="573120"/>
            <a:ext cx="34405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estphase (Maßstab: Mon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67160" y="2085840"/>
            <a:ext cx="4341600" cy="379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02080" y="2048040"/>
            <a:ext cx="36324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kampagne (Maßstab: Wo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94200" y="3035160"/>
            <a:ext cx="2627280" cy="1919520"/>
          </a:xfrm>
          <a:prstGeom prst="rect">
            <a:avLst/>
          </a:pr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46760" y="3046320"/>
            <a:ext cx="1968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est (Maßstab : Ta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073400" y="3354480"/>
          <a:ext cx="2431800" cy="1539360"/>
        </p:xfrm>
        <a:graphic>
          <a:graphicData uri="http://schemas.openxmlformats.org/drawingml/2006/table">
            <a:tbl>
              <a:tblPr/>
              <a:tblGrid>
                <a:gridCol w="574200"/>
                <a:gridCol w="1028160"/>
                <a:gridCol w="829440"/>
              </a:tblGrid>
              <a:tr h="490320"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r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ngetroffenes Ergebn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hl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347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8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hteck 99"/>
          <p:cNvSpPr/>
          <p:nvPr/>
        </p:nvSpPr>
        <p:spPr>
          <a:xfrm>
            <a:off x="973080" y="1241280"/>
            <a:ext cx="1316160" cy="457200"/>
          </a:xfrm>
          <a:custGeom>
            <a:avLst/>
            <a:gdLst>
              <a:gd name="textAreaLeft" fmla="*/ 0 w 1316160"/>
              <a:gd name="textAreaRight" fmla="*/ 1316160 w 1316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hteck 99"/>
          <p:cNvSpPr/>
          <p:nvPr/>
        </p:nvSpPr>
        <p:spPr>
          <a:xfrm>
            <a:off x="2352600" y="1238400"/>
            <a:ext cx="1316160" cy="457200"/>
          </a:xfrm>
          <a:custGeom>
            <a:avLst/>
            <a:gdLst>
              <a:gd name="textAreaLeft" fmla="*/ 0 w 1316160"/>
              <a:gd name="textAreaRight" fmla="*/ 1316160 w 1316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hteck 99"/>
          <p:cNvSpPr/>
          <p:nvPr/>
        </p:nvSpPr>
        <p:spPr>
          <a:xfrm>
            <a:off x="6777000" y="1249200"/>
            <a:ext cx="1316160" cy="457200"/>
          </a:xfrm>
          <a:custGeom>
            <a:avLst/>
            <a:gdLst>
              <a:gd name="textAreaLeft" fmla="*/ 0 w 1316160"/>
              <a:gd name="textAreaRight" fmla="*/ 1316160 w 1316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hteck 99"/>
          <p:cNvSpPr/>
          <p:nvPr/>
        </p:nvSpPr>
        <p:spPr>
          <a:xfrm>
            <a:off x="5311800" y="1236600"/>
            <a:ext cx="1316160" cy="457200"/>
          </a:xfrm>
          <a:custGeom>
            <a:avLst/>
            <a:gdLst>
              <a:gd name="textAreaLeft" fmla="*/ 0 w 1316160"/>
              <a:gd name="textAreaRight" fmla="*/ 1316160 w 1316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41" y="0"/>
                </a:lnTo>
                <a:lnTo>
                  <a:pt x="21600" y="10800"/>
                </a:lnTo>
                <a:lnTo>
                  <a:pt x="20541" y="21600"/>
                </a:lnTo>
                <a:lnTo>
                  <a:pt x="0" y="21600"/>
                </a:lnTo>
                <a:lnTo>
                  <a:pt x="1059" y="10800"/>
                </a:lnTo>
                <a:close/>
              </a:path>
            </a:pathLst>
          </a:custGeom>
          <a:solidFill>
            <a:srgbClr val="638dab">
              <a:alpha val="6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95080" y="1093680"/>
            <a:ext cx="4838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62320" y="1693800"/>
            <a:ext cx="239760" cy="37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75160" y="1701720"/>
            <a:ext cx="333684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hteck 99"/>
          <p:cNvSpPr/>
          <p:nvPr/>
        </p:nvSpPr>
        <p:spPr>
          <a:xfrm>
            <a:off x="2793960" y="2754360"/>
            <a:ext cx="460440" cy="203040"/>
          </a:xfrm>
          <a:custGeom>
            <a:avLst/>
            <a:gdLst>
              <a:gd name="textAreaLeft" fmla="*/ 0 w 460440"/>
              <a:gd name="textAreaRight" fmla="*/ 460800 w 4604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hteck 99"/>
          <p:cNvSpPr/>
          <p:nvPr/>
        </p:nvSpPr>
        <p:spPr>
          <a:xfrm>
            <a:off x="2793960" y="3105000"/>
            <a:ext cx="460440" cy="203400"/>
          </a:xfrm>
          <a:custGeom>
            <a:avLst/>
            <a:gdLst>
              <a:gd name="textAreaLeft" fmla="*/ 0 w 460440"/>
              <a:gd name="textAreaRight" fmla="*/ 460800 w 4604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hteck 99"/>
          <p:cNvSpPr/>
          <p:nvPr/>
        </p:nvSpPr>
        <p:spPr>
          <a:xfrm>
            <a:off x="2793960" y="3459240"/>
            <a:ext cx="460440" cy="203040"/>
          </a:xfrm>
          <a:custGeom>
            <a:avLst/>
            <a:gdLst>
              <a:gd name="textAreaLeft" fmla="*/ 0 w 460440"/>
              <a:gd name="textAreaRight" fmla="*/ 460800 w 4604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hteck 99"/>
          <p:cNvSpPr/>
          <p:nvPr/>
        </p:nvSpPr>
        <p:spPr>
          <a:xfrm>
            <a:off x="2793960" y="3848040"/>
            <a:ext cx="460440" cy="203400"/>
          </a:xfrm>
          <a:custGeom>
            <a:avLst/>
            <a:gdLst>
              <a:gd name="textAreaLeft" fmla="*/ 0 w 460440"/>
              <a:gd name="textAreaRight" fmla="*/ 460800 w 4604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hteck 99"/>
          <p:cNvSpPr/>
          <p:nvPr/>
        </p:nvSpPr>
        <p:spPr>
          <a:xfrm>
            <a:off x="2793960" y="5057640"/>
            <a:ext cx="460440" cy="203400"/>
          </a:xfrm>
          <a:custGeom>
            <a:avLst/>
            <a:gdLst>
              <a:gd name="textAreaLeft" fmla="*/ 0 w 460440"/>
              <a:gd name="textAreaRight" fmla="*/ 460800 w 4604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hteck 99"/>
          <p:cNvSpPr/>
          <p:nvPr/>
        </p:nvSpPr>
        <p:spPr>
          <a:xfrm>
            <a:off x="2793960" y="5446800"/>
            <a:ext cx="460440" cy="203040"/>
          </a:xfrm>
          <a:custGeom>
            <a:avLst/>
            <a:gdLst>
              <a:gd name="textAreaLeft" fmla="*/ 0 w 460440"/>
              <a:gd name="textAreaRight" fmla="*/ 460800 w 4604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2853360" y="4187520"/>
            <a:ext cx="4838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203640" y="3052440"/>
            <a:ext cx="787320" cy="785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0400" y="4052880"/>
            <a:ext cx="822240" cy="88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45280" y="490680"/>
            <a:ext cx="5919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schachtelte Testaktivitäten und entsprechende Zeitskal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H="1">
            <a:off x="5577840" y="1414440"/>
            <a:ext cx="3562920" cy="3562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80000" y="1481760"/>
            <a:ext cx="3574080" cy="355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8200" y="1606680"/>
            <a:ext cx="214956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forde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60480" y="2468520"/>
            <a:ext cx="214956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39960" y="3325680"/>
            <a:ext cx="214956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oftwar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82720" y="4184640"/>
            <a:ext cx="214956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oftware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13240" y="4187880"/>
            <a:ext cx="214956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pili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73640" y="3324240"/>
            <a:ext cx="214956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nit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48440" y="2462040"/>
            <a:ext cx="214956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grations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560" y="1606680"/>
            <a:ext cx="214956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bnahme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7440" y="981000"/>
            <a:ext cx="9191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8880" y="663480"/>
            <a:ext cx="90201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41360" y="947880"/>
            <a:ext cx="25200" cy="476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-2015640" y="3135240"/>
            <a:ext cx="4543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tail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920" y="584280"/>
            <a:ext cx="9747360" cy="55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14760" y="1824120"/>
            <a:ext cx="4879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857840" y="4389480"/>
            <a:ext cx="43488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146400" y="2681280"/>
            <a:ext cx="38768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019400" y="3526920"/>
            <a:ext cx="2121120" cy="19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7560" y="5094360"/>
            <a:ext cx="4489560" cy="420480"/>
          </a:xfrm>
          <a:prstGeom prst="rect">
            <a:avLst/>
          </a:pr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dukter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43680" y="5091120"/>
            <a:ext cx="4489200" cy="420840"/>
          </a:xfrm>
          <a:prstGeom prst="rect">
            <a:avLst/>
          </a:prstGeom>
          <a:solidFill>
            <a:srgbClr val="928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duktprüf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4880" y="378000"/>
            <a:ext cx="4008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ematische Darstellung des V-Model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Gerade Verbindung 8"/>
          <p:cNvSpPr/>
          <p:nvPr/>
        </p:nvSpPr>
        <p:spPr>
          <a:xfrm>
            <a:off x="4344840" y="1558800"/>
            <a:ext cx="0" cy="417204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hteck 51"/>
          <p:cNvSpPr/>
          <p:nvPr/>
        </p:nvSpPr>
        <p:spPr>
          <a:xfrm>
            <a:off x="1155600" y="1219320"/>
            <a:ext cx="1068480" cy="350640"/>
          </a:xfrm>
          <a:prstGeom prst="rect">
            <a:avLst/>
          </a:prstGeom>
          <a:solidFill>
            <a:srgbClr val="8b8c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Bau 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hteck 51"/>
          <p:cNvSpPr/>
          <p:nvPr/>
        </p:nvSpPr>
        <p:spPr>
          <a:xfrm>
            <a:off x="1165320" y="655560"/>
            <a:ext cx="7172280" cy="563760"/>
          </a:xfrm>
          <a:prstGeom prst="rect">
            <a:avLst/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Gerade Verbindung 8"/>
          <p:cNvSpPr/>
          <p:nvPr/>
        </p:nvSpPr>
        <p:spPr>
          <a:xfrm flipH="1">
            <a:off x="1171080" y="1587600"/>
            <a:ext cx="1800" cy="417168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Gerade Verbindung 8"/>
          <p:cNvSpPr/>
          <p:nvPr/>
        </p:nvSpPr>
        <p:spPr>
          <a:xfrm>
            <a:off x="2227320" y="1574640"/>
            <a:ext cx="0" cy="417204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Gerade Verbindung 8"/>
          <p:cNvSpPr/>
          <p:nvPr/>
        </p:nvSpPr>
        <p:spPr>
          <a:xfrm>
            <a:off x="3286080" y="1563840"/>
            <a:ext cx="0" cy="417168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Gerade Verbindung 8"/>
          <p:cNvSpPr/>
          <p:nvPr/>
        </p:nvSpPr>
        <p:spPr>
          <a:xfrm>
            <a:off x="8337600" y="1565280"/>
            <a:ext cx="0" cy="417204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Gerade Verbindung 8"/>
          <p:cNvSpPr/>
          <p:nvPr/>
        </p:nvSpPr>
        <p:spPr>
          <a:xfrm flipH="1">
            <a:off x="7280280" y="1579680"/>
            <a:ext cx="1440" cy="417168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hteck 84"/>
          <p:cNvSpPr/>
          <p:nvPr/>
        </p:nvSpPr>
        <p:spPr>
          <a:xfrm>
            <a:off x="1176480" y="1595520"/>
            <a:ext cx="8215200" cy="718920"/>
          </a:xfrm>
          <a:prstGeom prst="rect">
            <a:avLst/>
          </a:prstGeom>
          <a:solidFill>
            <a:srgbClr val="b6c9d8">
              <a:alpha val="82000"/>
            </a:srgbClr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hteck 84"/>
          <p:cNvSpPr/>
          <p:nvPr/>
        </p:nvSpPr>
        <p:spPr>
          <a:xfrm>
            <a:off x="1152360" y="1563840"/>
            <a:ext cx="8259840" cy="420480"/>
          </a:xfrm>
          <a:prstGeom prst="rect">
            <a:avLst/>
          </a:prstGeom>
          <a:solidFill>
            <a:srgbClr val="638dab">
              <a:alpha val="63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est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93720" y="4062240"/>
            <a:ext cx="4838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95400" y="961920"/>
            <a:ext cx="4838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1200" y="584280"/>
            <a:ext cx="8778600" cy="55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hteck 51"/>
          <p:cNvSpPr/>
          <p:nvPr/>
        </p:nvSpPr>
        <p:spPr>
          <a:xfrm>
            <a:off x="2214720" y="1219320"/>
            <a:ext cx="1068120" cy="350640"/>
          </a:xfrm>
          <a:prstGeom prst="rect">
            <a:avLst/>
          </a:prstGeom>
          <a:solidFill>
            <a:srgbClr val="8b8c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Bau 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hteck 51"/>
          <p:cNvSpPr/>
          <p:nvPr/>
        </p:nvSpPr>
        <p:spPr>
          <a:xfrm>
            <a:off x="3290760" y="1219320"/>
            <a:ext cx="1068480" cy="350640"/>
          </a:xfrm>
          <a:prstGeom prst="rect">
            <a:avLst/>
          </a:prstGeom>
          <a:solidFill>
            <a:srgbClr val="8b8c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Bau 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hteck 51"/>
          <p:cNvSpPr/>
          <p:nvPr/>
        </p:nvSpPr>
        <p:spPr>
          <a:xfrm>
            <a:off x="7265880" y="1219320"/>
            <a:ext cx="1068480" cy="350640"/>
          </a:xfrm>
          <a:prstGeom prst="rect">
            <a:avLst/>
          </a:prstGeom>
          <a:solidFill>
            <a:srgbClr val="8b8c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Bau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hteck 99"/>
          <p:cNvSpPr/>
          <p:nvPr/>
        </p:nvSpPr>
        <p:spPr>
          <a:xfrm>
            <a:off x="2239920" y="2379600"/>
            <a:ext cx="1077840" cy="70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08400" y="2433600"/>
            <a:ext cx="869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ampag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hteck 99"/>
          <p:cNvSpPr/>
          <p:nvPr/>
        </p:nvSpPr>
        <p:spPr>
          <a:xfrm>
            <a:off x="3252960" y="3073320"/>
            <a:ext cx="1077840" cy="70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21080" y="3127320"/>
            <a:ext cx="869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ampag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hteck 99"/>
          <p:cNvSpPr/>
          <p:nvPr/>
        </p:nvSpPr>
        <p:spPr>
          <a:xfrm>
            <a:off x="4338720" y="3805200"/>
            <a:ext cx="1077840" cy="70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06840" y="3859200"/>
            <a:ext cx="870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ampag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hteck 99"/>
          <p:cNvSpPr/>
          <p:nvPr/>
        </p:nvSpPr>
        <p:spPr>
          <a:xfrm>
            <a:off x="8352000" y="5049720"/>
            <a:ext cx="1077840" cy="70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520120" y="5103720"/>
            <a:ext cx="870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ampag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Gerade Verbindung 8"/>
          <p:cNvSpPr/>
          <p:nvPr/>
        </p:nvSpPr>
        <p:spPr>
          <a:xfrm flipH="1">
            <a:off x="9402840" y="1530360"/>
            <a:ext cx="1440" cy="4172040"/>
          </a:xfrm>
          <a:prstGeom prst="line">
            <a:avLst/>
          </a:prstGeom>
          <a:ln w="3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hteck 99"/>
          <p:cNvSpPr/>
          <p:nvPr/>
        </p:nvSpPr>
        <p:spPr>
          <a:xfrm>
            <a:off x="8329680" y="5049720"/>
            <a:ext cx="1077840" cy="70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9115" y="0"/>
                </a:lnTo>
                <a:lnTo>
                  <a:pt x="21600" y="10800"/>
                </a:lnTo>
                <a:lnTo>
                  <a:pt x="19115" y="21600"/>
                </a:lnTo>
                <a:lnTo>
                  <a:pt x="0" y="21600"/>
                </a:lnTo>
                <a:lnTo>
                  <a:pt x="2485" y="10800"/>
                </a:lnTo>
                <a:close/>
              </a:path>
            </a:pathLst>
          </a:custGeom>
          <a:solidFill>
            <a:srgbClr val="ccdfd7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497800" y="5103720"/>
            <a:ext cx="870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ampag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07840" y="371520"/>
            <a:ext cx="392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ungsvorgehensweise im Testwes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Basler Kantonalban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7:19:20Z</dcterms:created>
  <dc:creator>Lionel Pilorget</dc:creator>
  <dc:description/>
  <dc:language>en-US</dc:language>
  <cp:lastModifiedBy>Linonel Pilorget</cp:lastModifiedBy>
  <dcterms:modified xsi:type="dcterms:W3CDTF">2011-11-07T19:49:46Z</dcterms:modified>
  <cp:revision>620</cp:revision>
  <dc:subject/>
  <dc:title>Testing von Informationssystem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