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1360" y="385560"/>
            <a:ext cx="58294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1360" y="385560"/>
            <a:ext cx="58294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1360" y="385560"/>
            <a:ext cx="582948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90440" y="9534600"/>
            <a:ext cx="472464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92897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92897d"/>
                </a:solidFill>
                <a:latin typeface="Arial"/>
              </a:rPr>
              <a:t>Seite </a:t>
            </a:r>
            <a:fld id="{64CBC3BF-8FEE-45FF-A622-7D2E9C363562}" type="slidenum">
              <a:rPr b="0" lang="de-CH" sz="1000" spc="-1" strike="noStrike">
                <a:solidFill>
                  <a:srgbClr val="92897d"/>
                </a:solidFill>
                <a:latin typeface="Arial"/>
              </a:rPr>
              <a:t>&lt;number&gt;</a:t>
            </a:fld>
            <a:r>
              <a:rPr b="0" lang="de-CH" sz="1000" spc="-1" strike="noStrike">
                <a:solidFill>
                  <a:srgbClr val="92897d"/>
                </a:solidFill>
                <a:latin typeface="Arial"/>
              </a:rPr>
              <a:t> | 27.06.2011 | </a:t>
            </a:r>
            <a:r>
              <a:rPr b="0" lang="de-DE" sz="1000" spc="-1" strike="noStrike">
                <a:solidFill>
                  <a:srgbClr val="92897d"/>
                </a:solidFill>
                <a:latin typeface="Arial"/>
              </a:rPr>
              <a:t>Testing von Informationssystemen</a:t>
            </a:r>
            <a:r>
              <a:rPr b="0" lang="de-CH" sz="1000" spc="-1" strike="noStrike">
                <a:solidFill>
                  <a:srgbClr val="92897d"/>
                </a:solidFill>
                <a:latin typeface="Arial"/>
              </a:rPr>
              <a:t> | L. Pilor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143000" y="2017800"/>
            <a:ext cx="45720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a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2520" y="3081240"/>
            <a:ext cx="58150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73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7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7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a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2520" y="3081240"/>
            <a:ext cx="601812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Testing von Informationssystemen </a:t>
            </a:r>
            <a:br>
              <a:rPr sz="3800"/>
            </a:b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(Folien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86920" y="6019560"/>
            <a:ext cx="4241880" cy="15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iertes und Prozessorientiertes Tes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2610000"/>
            <a:ext cx="5765760" cy="4444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5400" y="4646520"/>
            <a:ext cx="1346040" cy="5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nanz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5480" y="2822400"/>
            <a:ext cx="57261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 e r n p r o z e s s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36720" y="3645000"/>
            <a:ext cx="134640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ndengewin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amp; Betreu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41760" y="4637160"/>
            <a:ext cx="134640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le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84200" y="6073920"/>
            <a:ext cx="134640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ah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62240" y="6024600"/>
            <a:ext cx="134640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64280" y="3032280"/>
            <a:ext cx="13388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Indifferentes Geschä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66600" y="3033720"/>
            <a:ext cx="8312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Aktivgeschä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0160" y="3019320"/>
            <a:ext cx="9212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ssivgeschä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51240" y="4273560"/>
            <a:ext cx="1942920" cy="1701720"/>
          </a:xfrm>
          <a:prstGeom prst="star5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2546280" y="-1235160"/>
            <a:ext cx="1663920" cy="5880240"/>
          </a:xfrm>
          <a:custGeom>
            <a:avLst/>
            <a:gdLst>
              <a:gd name="textAreaLeft" fmla="*/ 0 w 1663920"/>
              <a:gd name="textAreaRight" fmla="*/ 1664280 w 1663920"/>
              <a:gd name="textAreaTop" fmla="*/ 0 h 5880240"/>
              <a:gd name="textAreaBottom" fmla="*/ 5880600 h 588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4040" y="1204920"/>
            <a:ext cx="119376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nksteu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1225440"/>
            <a:ext cx="12697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mmunik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65360" y="1474920"/>
            <a:ext cx="1270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trolle und Beurtei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944640"/>
            <a:ext cx="5751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 ü h r u n g s p r o z e s s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4160" y="1473120"/>
            <a:ext cx="1270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ternehmens-führung und -pla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2573280" y="5002200"/>
            <a:ext cx="1625760" cy="586728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5867280"/>
              <a:gd name="textAreaBottom" fmla="*/ 5867640 h 58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rot="10800000">
            <a:noAutofit/>
          </a:bodyPr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7680" y="8313840"/>
            <a:ext cx="5767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 n t e r s t ü t z u n g s p r o z e s s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27680" y="7661160"/>
            <a:ext cx="1282680" cy="52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chnungswe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3880" y="7701120"/>
            <a:ext cx="1257480" cy="4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rsonalwe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79760" y="7381800"/>
            <a:ext cx="128268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cht &amp; Comp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33640" y="7383600"/>
            <a:ext cx="1257120" cy="53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 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kt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1800" y="3292560"/>
            <a:ext cx="1549440" cy="2082600"/>
          </a:xfrm>
          <a:custGeom>
            <a:avLst/>
            <a:gdLst/>
            <a:ahLst/>
            <a:rect l="l" t="t" r="r" b="b"/>
            <a:pathLst>
              <a:path w="976" h="1312">
                <a:moveTo>
                  <a:pt x="0" y="0"/>
                </a:moveTo>
                <a:lnTo>
                  <a:pt x="0" y="1312"/>
                </a:lnTo>
                <a:lnTo>
                  <a:pt x="976" y="1312"/>
                </a:lnTo>
                <a:lnTo>
                  <a:pt x="976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6720" y="3294000"/>
            <a:ext cx="1549440" cy="2082960"/>
          </a:xfrm>
          <a:custGeom>
            <a:avLst/>
            <a:gdLst/>
            <a:ahLst/>
            <a:rect l="l" t="t" r="r" b="b"/>
            <a:pathLst>
              <a:path w="976" h="1312">
                <a:moveTo>
                  <a:pt x="0" y="0"/>
                </a:moveTo>
                <a:lnTo>
                  <a:pt x="0" y="1312"/>
                </a:lnTo>
                <a:lnTo>
                  <a:pt x="976" y="1312"/>
                </a:lnTo>
                <a:lnTo>
                  <a:pt x="976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1800" y="3292560"/>
            <a:ext cx="5092560" cy="3543120"/>
          </a:xfrm>
          <a:custGeom>
            <a:avLst/>
            <a:gdLst/>
            <a:ahLst/>
            <a:rect l="l" t="t" r="r" b="b"/>
            <a:pathLst>
              <a:path w="3208" h="2232">
                <a:moveTo>
                  <a:pt x="1008" y="0"/>
                </a:moveTo>
                <a:lnTo>
                  <a:pt x="1008" y="1488"/>
                </a:lnTo>
                <a:lnTo>
                  <a:pt x="0" y="1488"/>
                </a:lnTo>
                <a:lnTo>
                  <a:pt x="0" y="2232"/>
                </a:lnTo>
                <a:lnTo>
                  <a:pt x="3208" y="2232"/>
                </a:lnTo>
                <a:lnTo>
                  <a:pt x="3208" y="1480"/>
                </a:lnTo>
                <a:lnTo>
                  <a:pt x="2176" y="1480"/>
                </a:lnTo>
                <a:lnTo>
                  <a:pt x="2176" y="0"/>
                </a:lnTo>
                <a:lnTo>
                  <a:pt x="10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080" y="425520"/>
            <a:ext cx="311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zessdomäne im Bankumfe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7800" y="696960"/>
            <a:ext cx="6204240" cy="825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5400" y="573120"/>
            <a:ext cx="6705360" cy="8694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14560" y="1592280"/>
            <a:ext cx="4676760" cy="665496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38320" y="1593720"/>
            <a:ext cx="2828880" cy="5911920"/>
          </a:xfrm>
          <a:prstGeom prst="rect">
            <a:avLst/>
          </a:prstGeom>
          <a:solidFill>
            <a:srgbClr val="4d4d4d">
              <a:alpha val="58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8120" y="598320"/>
            <a:ext cx="269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Kundengewinnung &amp; Betreu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357280"/>
            <a:ext cx="8668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82960" y="1649520"/>
            <a:ext cx="8665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artenverwal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81160" y="1650960"/>
            <a:ext cx="8668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ntact Cen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65320" y="2359080"/>
            <a:ext cx="8668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a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30520" y="3098880"/>
            <a:ext cx="50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nle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5360" y="914400"/>
            <a:ext cx="8668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eldausgabe-automaten Fremdbezü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9480" y="1643040"/>
            <a:ext cx="86652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eldausgabe-automa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9480" y="2359080"/>
            <a:ext cx="8665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winSafe / SafeMa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44880" y="531720"/>
            <a:ext cx="231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räsidialbereich/Bankensteu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02120" y="1630440"/>
            <a:ext cx="8668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W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02120" y="2332080"/>
            <a:ext cx="8668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6600" y="3105000"/>
            <a:ext cx="70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inanzie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0360" y="4900680"/>
            <a:ext cx="40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Zahl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08280" y="4917960"/>
            <a:ext cx="42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n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2760" y="3494160"/>
            <a:ext cx="8668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fandbrief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36520" y="3494160"/>
            <a:ext cx="8668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iegenschafts-schätz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21200" y="5294160"/>
            <a:ext cx="8668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IS (SI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0" y="5291280"/>
            <a:ext cx="866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alorensta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1627200"/>
            <a:ext cx="8668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auptbu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6560" y="2330280"/>
            <a:ext cx="8668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eldwäscherei-Bekämpf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8921880"/>
            <a:ext cx="177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Output / Archiv / Infrastrukt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82960" y="8282160"/>
            <a:ext cx="86652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uck- und Versandstra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000" y="5300640"/>
            <a:ext cx="86652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IC / euroS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4200" y="6006960"/>
            <a:ext cx="8668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3920" y="1639800"/>
            <a:ext cx="86652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artenabgle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6240" y="909720"/>
            <a:ext cx="8668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orld Money Dir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0" y="3510000"/>
            <a:ext cx="8668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ortfolio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1360" y="838080"/>
            <a:ext cx="3714840" cy="22464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680" y="2352600"/>
            <a:ext cx="8668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artenbestell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32280" y="849240"/>
            <a:ext cx="2819520" cy="222732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9920" y="3421080"/>
            <a:ext cx="3714840" cy="149688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63880" y="3490920"/>
            <a:ext cx="866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reditverarb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3489480"/>
            <a:ext cx="8668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reditanbahn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8840" y="4194000"/>
            <a:ext cx="8668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ndition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62440" y="4192560"/>
            <a:ext cx="86652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n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3640" y="4192560"/>
            <a:ext cx="86652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reditrisiko-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8120" y="5234040"/>
            <a:ext cx="3714840" cy="1484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4440" y="5294160"/>
            <a:ext cx="8668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Ban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63880" y="5294160"/>
            <a:ext cx="8668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slands-zahl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5291280"/>
            <a:ext cx="866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land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ahl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65320" y="6005520"/>
            <a:ext cx="8668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aueraufträ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898560"/>
            <a:ext cx="8668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andelsregi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21120" y="3419640"/>
            <a:ext cx="2819520" cy="149688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5400" y="4210200"/>
            <a:ext cx="8668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ebalancing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witch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43000" y="6769080"/>
            <a:ext cx="1838520" cy="220032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071800" y="7548480"/>
            <a:ext cx="1770120" cy="652320"/>
            <a:chOff x="2071800" y="7548480"/>
            <a:chExt cx="1770120" cy="652320"/>
          </a:xfrm>
        </p:grpSpPr>
        <p:sp>
          <p:nvSpPr>
            <p:cNvPr id="158" name=""/>
            <p:cNvSpPr/>
            <p:nvPr/>
          </p:nvSpPr>
          <p:spPr>
            <a:xfrm>
              <a:off x="2071800" y="7550280"/>
              <a:ext cx="866880" cy="65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Benutzer-verwalt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75040" y="7548480"/>
              <a:ext cx="8668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BatchJob-Steuer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60640" y="6805440"/>
            <a:ext cx="1770120" cy="650520"/>
            <a:chOff x="2060640" y="6805440"/>
            <a:chExt cx="1770120" cy="650520"/>
          </a:xfrm>
        </p:grpSpPr>
        <p:sp>
          <p:nvSpPr>
            <p:cNvPr id="161" name=""/>
            <p:cNvSpPr/>
            <p:nvPr/>
          </p:nvSpPr>
          <p:spPr>
            <a:xfrm>
              <a:off x="2060640" y="6807240"/>
              <a:ext cx="866880" cy="6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utput Management Syste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63880" y="6805440"/>
              <a:ext cx="86688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Berechtigungs-prüf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917880" y="5230800"/>
            <a:ext cx="2809800" cy="1484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0720" y="6005520"/>
            <a:ext cx="8668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andelsgeschäf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14640" y="6873840"/>
            <a:ext cx="9208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Bankenkern-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8560" y="7721640"/>
            <a:ext cx="12636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Umsyst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97480" y="8505720"/>
            <a:ext cx="12636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rittsyst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9840" y="270000"/>
            <a:ext cx="4310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bauungsplan eines Banksystemverbu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5904000" y="971640"/>
          <a:ext cx="306360" cy="56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0" y="971640"/>
                    <a:ext cx="30636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239360" y="981000"/>
            <a:ext cx="662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cc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cc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789360" y="112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89360" y="14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60640" y="97164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tr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60640" y="1763640"/>
            <a:ext cx="1368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nforderu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efiniere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estplan aufsetz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60640" y="2556000"/>
            <a:ext cx="1368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estkampag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ufsetz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estfall definier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60640" y="3419640"/>
            <a:ext cx="1368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est durchführ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60640" y="4284720"/>
            <a:ext cx="1368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estergebni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okumentier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60640" y="601200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estkampag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bschließ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60640" y="6732720"/>
            <a:ext cx="1368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estreport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60640" y="7596360"/>
            <a:ext cx="1368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estrepor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ubliziere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ontrol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60640" y="845964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789360" y="1835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92760" y="169236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stanforderu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3160" y="1619280"/>
            <a:ext cx="6532560" cy="9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38160" y="185724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 Manag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74" idx="2"/>
            <a:endCxn id="175" idx="0"/>
          </p:cNvCxnSpPr>
          <p:nvPr/>
        </p:nvCxnSpPr>
        <p:spPr>
          <a:xfrm>
            <a:off x="2744280" y="1476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75" idx="2"/>
            <a:endCxn id="176" idx="0"/>
          </p:cNvCxnSpPr>
          <p:nvPr/>
        </p:nvCxnSpPr>
        <p:spPr>
          <a:xfrm>
            <a:off x="2744280" y="2340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6" idx="2"/>
            <a:endCxn id="177" idx="0"/>
          </p:cNvCxnSpPr>
          <p:nvPr/>
        </p:nvCxnSpPr>
        <p:spPr>
          <a:xfrm>
            <a:off x="2744280" y="313164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77" idx="2"/>
            <a:endCxn id="178" idx="0"/>
          </p:cNvCxnSpPr>
          <p:nvPr/>
        </p:nvCxnSpPr>
        <p:spPr>
          <a:xfrm>
            <a:off x="2744280" y="3995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8" idx="2"/>
            <a:endCxn id="192" idx="0"/>
          </p:cNvCxnSpPr>
          <p:nvPr/>
        </p:nvCxnSpPr>
        <p:spPr>
          <a:xfrm>
            <a:off x="2744280" y="486108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1" idx="2"/>
            <a:endCxn id="182" idx="0"/>
          </p:cNvCxnSpPr>
          <p:nvPr/>
        </p:nvCxnSpPr>
        <p:spPr>
          <a:xfrm>
            <a:off x="2744280" y="8172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0" idx="2"/>
            <a:endCxn id="181" idx="0"/>
          </p:cNvCxnSpPr>
          <p:nvPr/>
        </p:nvCxnSpPr>
        <p:spPr>
          <a:xfrm>
            <a:off x="2744280" y="730836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79" idx="2"/>
            <a:endCxn id="180" idx="0"/>
          </p:cNvCxnSpPr>
          <p:nvPr/>
        </p:nvCxnSpPr>
        <p:spPr>
          <a:xfrm>
            <a:off x="2744280" y="6443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2"/>
            <a:endCxn id="179" idx="0"/>
          </p:cNvCxnSpPr>
          <p:nvPr/>
        </p:nvCxnSpPr>
        <p:spPr>
          <a:xfrm>
            <a:off x="2744280" y="572400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 flipH="1">
            <a:off x="3703320" y="920880"/>
            <a:ext cx="27000" cy="786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72280" y="933480"/>
            <a:ext cx="0" cy="787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32040" y="963720"/>
            <a:ext cx="12600" cy="7853400"/>
          </a:xfrm>
          <a:prstGeom prst="line">
            <a:avLst/>
          </a:prstGeom>
          <a:ln w="32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9000" y="5183280"/>
            <a:ext cx="151272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2" idx="1"/>
            <a:endCxn id="200" idx="3"/>
          </p:cNvCxnSpPr>
          <p:nvPr/>
        </p:nvCxnSpPr>
        <p:spPr>
          <a:xfrm flipH="1" flipV="1">
            <a:off x="1701360" y="5435280"/>
            <a:ext cx="432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3789360" y="2828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01080" y="2700360"/>
            <a:ext cx="141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-Verantwortlich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63720" y="358920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89360" y="45957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3120" y="4462560"/>
            <a:ext cx="104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stergebnis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25560" y="4471920"/>
            <a:ext cx="5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89360" y="5292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93480" y="5148360"/>
            <a:ext cx="84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üfung 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00360" y="52927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89360" y="621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92400" y="6084720"/>
            <a:ext cx="13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luss der 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89360" y="7081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93120" y="6948360"/>
            <a:ext cx="82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stre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89360" y="79167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4200" y="7783560"/>
            <a:ext cx="136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streports publizi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5148360"/>
            <a:ext cx="122220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rgebnis ok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00" idx="0"/>
            <a:endCxn id="177" idx="1"/>
          </p:cNvCxnSpPr>
          <p:nvPr/>
        </p:nvCxnSpPr>
        <p:spPr>
          <a:xfrm flipH="1" flipV="1" rot="5400000">
            <a:off x="765720" y="3888000"/>
            <a:ext cx="1475640" cy="111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4023360" y="295740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stfal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89360" y="3095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93120" y="270360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sts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89360" y="56037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92400" y="5470560"/>
            <a:ext cx="130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ssue, wenn nötig, eröffn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01080" y="6084720"/>
            <a:ext cx="141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-Verantwortlich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46080" y="694836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 Manag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46080" y="778356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 Manag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5400" y="754200"/>
            <a:ext cx="6705360" cy="816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3760" y="21844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07160" y="2033640"/>
            <a:ext cx="87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lanung 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stphas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779640" y="3527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83760" y="338472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stda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90800" y="3924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5280" y="37908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740040" y="25988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44520" y="245592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stpla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1080" y="2417760"/>
            <a:ext cx="6532560" cy="9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000" y="3263760"/>
            <a:ext cx="6532560" cy="97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7200" y="4138560"/>
            <a:ext cx="6532560" cy="97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5760" y="4965840"/>
            <a:ext cx="6532560" cy="9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3680" y="5850000"/>
            <a:ext cx="6532560" cy="9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2240" y="6581880"/>
            <a:ext cx="6532560" cy="9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440" y="7418520"/>
            <a:ext cx="6532560" cy="9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360" y="8302680"/>
            <a:ext cx="6532560" cy="9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9120" y="409680"/>
            <a:ext cx="227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nerischer Testablau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4400" y="294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60480" y="56116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84160" y="515628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78200" y="8121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760" y="798840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alitätskontro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5400" y="668160"/>
            <a:ext cx="6705360" cy="835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904000" y="971640"/>
          <a:ext cx="306360" cy="56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0" y="971640"/>
                    <a:ext cx="30636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4239360" y="981000"/>
            <a:ext cx="662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cc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cc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789360" y="112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89360" y="14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60640" y="97164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tdec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0640" y="1763640"/>
            <a:ext cx="1368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Fehler priorisier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60640" y="2556000"/>
            <a:ext cx="1368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ssue zuteil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60640" y="3419640"/>
            <a:ext cx="1368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ssue analysieren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Lösung realisier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60640" y="4284720"/>
            <a:ext cx="1368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Lösu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ntegrier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60640" y="601200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Fehler abschließe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60640" y="6732720"/>
            <a:ext cx="1368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Fehler-Report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0640" y="7596360"/>
            <a:ext cx="1368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Fehler-Repor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ublizier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60640" y="845964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789360" y="1835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94920" y="1692360"/>
            <a:ext cx="10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ehlermeldu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00360" y="1692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89360" y="2195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95280" y="209556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iorisieu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4840" y="2411280"/>
            <a:ext cx="65008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55" idx="2"/>
            <a:endCxn id="256" idx="0"/>
          </p:cNvCxnSpPr>
          <p:nvPr/>
        </p:nvCxnSpPr>
        <p:spPr>
          <a:xfrm>
            <a:off x="2744280" y="1476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6" idx="2"/>
            <a:endCxn id="257" idx="0"/>
          </p:cNvCxnSpPr>
          <p:nvPr/>
        </p:nvCxnSpPr>
        <p:spPr>
          <a:xfrm>
            <a:off x="2744280" y="2340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57" idx="2"/>
            <a:endCxn id="258" idx="0"/>
          </p:cNvCxnSpPr>
          <p:nvPr/>
        </p:nvCxnSpPr>
        <p:spPr>
          <a:xfrm>
            <a:off x="2744280" y="313164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58" idx="2"/>
            <a:endCxn id="259" idx="0"/>
          </p:cNvCxnSpPr>
          <p:nvPr/>
        </p:nvCxnSpPr>
        <p:spPr>
          <a:xfrm>
            <a:off x="2744280" y="3995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59" idx="2"/>
            <a:endCxn id="275" idx="0"/>
          </p:cNvCxnSpPr>
          <p:nvPr/>
        </p:nvCxnSpPr>
        <p:spPr>
          <a:xfrm>
            <a:off x="2744280" y="486108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2" idx="2"/>
            <a:endCxn id="263" idx="0"/>
          </p:cNvCxnSpPr>
          <p:nvPr/>
        </p:nvCxnSpPr>
        <p:spPr>
          <a:xfrm>
            <a:off x="2744280" y="8172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1" idx="2"/>
            <a:endCxn id="262" idx="0"/>
          </p:cNvCxnSpPr>
          <p:nvPr/>
        </p:nvCxnSpPr>
        <p:spPr>
          <a:xfrm>
            <a:off x="2744280" y="730836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0" idx="2"/>
            <a:endCxn id="261" idx="0"/>
          </p:cNvCxnSpPr>
          <p:nvPr/>
        </p:nvCxnSpPr>
        <p:spPr>
          <a:xfrm>
            <a:off x="2744280" y="6443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5" idx="2"/>
            <a:endCxn id="260" idx="0"/>
          </p:cNvCxnSpPr>
          <p:nvPr/>
        </p:nvCxnSpPr>
        <p:spPr>
          <a:xfrm>
            <a:off x="2744280" y="572400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 flipH="1">
            <a:off x="3703680" y="755640"/>
            <a:ext cx="14400" cy="807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72280" y="755640"/>
            <a:ext cx="0" cy="808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44640" y="824040"/>
            <a:ext cx="0" cy="8132760"/>
          </a:xfrm>
          <a:prstGeom prst="line">
            <a:avLst/>
          </a:prstGeom>
          <a:ln w="32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9000" y="5183280"/>
            <a:ext cx="151272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75" idx="1"/>
            <a:endCxn id="283" idx="3"/>
          </p:cNvCxnSpPr>
          <p:nvPr/>
        </p:nvCxnSpPr>
        <p:spPr>
          <a:xfrm flipH="1" flipV="1">
            <a:off x="1701000" y="5435280"/>
            <a:ext cx="359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5361120" y="2637000"/>
            <a:ext cx="1496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Issue Manag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Fehler-SP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(single point of conta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9280" y="3564000"/>
            <a:ext cx="141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Fach- oder IT-Expe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89360" y="4524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93480" y="4390920"/>
            <a:ext cx="102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ösung a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stumgeb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ingespiel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00720" y="4400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leas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89360" y="5356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00360" y="5254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89360" y="61801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93480" y="6046920"/>
            <a:ext cx="102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ehlermeld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geschlos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89360" y="7081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94200" y="6948360"/>
            <a:ext cx="102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ehler-Re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9360" y="79167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94200" y="7783560"/>
            <a:ext cx="106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ehler-Repor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ublizi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89360" y="28814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94560" y="274320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ugeteilte Fehl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00720" y="6046920"/>
            <a:ext cx="144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 Verantwortlicher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er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45720" y="6948360"/>
            <a:ext cx="10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Issue Manag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45720" y="7783560"/>
            <a:ext cx="10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Issue Manag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60640" y="5148360"/>
            <a:ext cx="1368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etest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urchführ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000" y="4319640"/>
            <a:ext cx="151272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259" idx="1"/>
            <a:endCxn id="303" idx="3"/>
          </p:cNvCxnSpPr>
          <p:nvPr/>
        </p:nvCxnSpPr>
        <p:spPr>
          <a:xfrm flipH="1" flipV="1">
            <a:off x="1701000" y="4571640"/>
            <a:ext cx="359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3801960" y="3544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05360" y="3411360"/>
            <a:ext cx="1298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ösung, z.B. Codeänderu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der Datenbereinig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93480" y="525456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stergeb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94600" y="2014560"/>
            <a:ext cx="144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 Verantwortlicher 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1840" y="1574640"/>
            <a:ext cx="65008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6280" y="3238560"/>
            <a:ext cx="65008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680" y="4103640"/>
            <a:ext cx="65008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2120" y="5006880"/>
            <a:ext cx="65008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6920" y="5832360"/>
            <a:ext cx="65008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360" y="6570720"/>
            <a:ext cx="65008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5760" y="7446960"/>
            <a:ext cx="65008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3160" y="8310600"/>
            <a:ext cx="65005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5520" y="358920"/>
            <a:ext cx="255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ssue Management Ablau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7:19:20Z</dcterms:created>
  <dc:creator>Lionel Pilorget</dc:creator>
  <dc:description/>
  <dc:language>en-US</dc:language>
  <cp:lastModifiedBy>Linonel Pilorget</cp:lastModifiedBy>
  <dcterms:modified xsi:type="dcterms:W3CDTF">2011-08-13T06:56:23Z</dcterms:modified>
  <cp:revision>593</cp:revision>
  <dc:subject/>
  <dc:title>Testing von Informationssystem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