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9648-F8C9-4F32-AB89-623E698C7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B8B6-7BA1-46AD-83F0-C3FF03495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00353-7BAE-41AC-980E-D6AD5D1D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8960" y="40676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15B2B-CFEB-4CC8-BFFB-4982CD50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4052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5E49F-0C90-4471-B9BA-45BC4D60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7252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608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896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7252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608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3E28B-5249-42F5-8893-EA9FFF70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D91BE-F72F-4AF4-A85F-BC4C446537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0FEB9-1DBE-404E-A655-E4210397B0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15716-11B8-4B8B-B977-A329943F11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DD9F1-8AF8-424D-978F-9EB2D3FCCA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C4AA3-3F6E-4014-9ABB-7F330C45AC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896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D23A3-B0F1-4DCA-ADF8-9C9F0519F0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6D1FA-5BC6-4C94-A223-70EE6DBFEB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FC2AB-A0C2-4D90-A0FD-2160E3A1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4052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33E97-B21C-41C4-8245-65BA748334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8DBF3-4D11-47FE-A5DE-3FD64E5E60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18960" y="40676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01E99-BB76-46C2-A318-F69F7B4071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4052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544C0-53F7-4FC8-A3FC-4B84E9DE90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7252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2608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1896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7252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2608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E78C5-D4E1-44F8-A4DD-EAEA05033A5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2659D6-0814-4143-A8CE-F32B9053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1F8B87-64DF-4FB7-BF02-DD62BADE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C1997B-5986-4C62-BDF9-ED9566C1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A67D6D-B6A1-4E1E-9A75-889BDACD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2B3140-F74D-48A9-BFD8-9F53C4E2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70A9A-313C-4678-9E46-68400694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1896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3F28EB-763C-4A74-8280-9ED6ED7B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ADA384-0CA4-482C-9003-76C18E5C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24052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DDD8C5-1DFE-4B7E-9572-45175AE8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0663D0-5A5D-4D3F-A3DE-44462EAF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18960" y="40676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4CE88B-8428-4AAD-AF18-BCD28716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24052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191790-06FA-41C6-941E-6F7EF1C7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7252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2608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1896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7252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52608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3737E9-1D4C-4F3D-BFB8-FF593787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FC7024-96E7-434D-BCD5-15A1BDB8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C7ED48-594C-4B77-82FF-8955E2C1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E04B5C-1782-4873-8BBA-5AAA3022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0F736-ABF1-4382-A4C6-4092CB98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6399C3-FE0B-4536-9485-762EDA7D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21A40F-82E4-4941-B030-86CC143C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21896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C90EE1-7C9A-42FB-B41D-F6F9FD8A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BBAA8C-61B6-407D-AC33-D9BF9CA8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24052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D3C4A2-BCB4-4335-ABA6-F8F29FC4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77E543-3B08-4391-960B-1DD4E65E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218960" y="40676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6DD157-D109-46EB-B0B6-198EA8B3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24052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C1AEF4-4898-4E5C-830D-9D985947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7252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26080" y="15998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21896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87252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526080" y="4067640"/>
            <a:ext cx="252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5ACF26-FF5A-47B5-9FB4-CF7927A0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6A284-472C-44F1-9826-4AC0F627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896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70CED-2FFE-4CAB-94D8-B72A6D3A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139DC-307C-4B0D-AF26-FA6E62C1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40520" y="40676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96FF1-BE3D-4E33-A20B-79F33D51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0520" y="1599840"/>
            <a:ext cx="3829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8960" y="4067640"/>
            <a:ext cx="7848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8D27E-DA83-441B-A8DA-52D5A8B9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eft_bar art"/>
          <p:cNvPicPr/>
          <p:nvPr/>
        </p:nvPicPr>
        <p:blipFill>
          <a:blip r:embed="rId2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2-</a:t>
            </a:r>
            <a:fld id="{BE649FCF-BBEF-47BF-8C75-5E812D4BC473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left_bar art"/>
          <p:cNvPicPr/>
          <p:nvPr/>
        </p:nvPicPr>
        <p:blipFill>
          <a:blip r:embed="rId2"/>
          <a:stretch/>
        </p:blipFill>
        <p:spPr>
          <a:xfrm>
            <a:off x="0" y="0"/>
            <a:ext cx="2514600" cy="70866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190512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18288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ias M. Aw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18288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Edi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18288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CTRONIC COMMER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1828800" y="4343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m Vision to Fulfill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2-</a:t>
            </a:r>
            <a:fld id="{1111E644-8054-4634-8BDC-DEA082FC102B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6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7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2-</a:t>
            </a:r>
            <a:fld id="{4C068D6B-6FFE-48B8-A7D1-B9EB81B13E7A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9"/>
          </p:nvPr>
        </p:nvSpPr>
        <p:spPr>
          <a:xfrm>
            <a:off x="91404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2-</a:t>
            </a:r>
            <a:fld id="{93A185EE-41D9-4FB2-989E-7D951D77077F}" type="slidenum">
              <a:rPr b="0" lang="en-US" sz="1400" spc="-1" strike="noStrike">
                <a:solidFill>
                  <a:srgbClr val="99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2666880" y="6381360"/>
            <a:ext cx="3810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fasterwhois.com/" TargetMode="External"/><Relationship Id="rId2" Type="http://schemas.openxmlformats.org/officeDocument/2006/relationships/hyperlink" Target="http://www.internic.net/alpha.html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plagiarisma.net/" TargetMode="External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Chapters 2 &amp; 3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DCD1BF73-F6BC-4B83-890E-9AE045476A37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143000" y="2514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Technologies for e-commerce and web hosting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IN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Link layer is the starting point for the network - deals with physical and medium of acces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network layer forwards packets to their destinations - similar to usage of a courier - address of the destination and mode of routing the packe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P address layer - Each IP address has 32 bits - IP address has two parts: the networmk number and the host nu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Routing helps in forwarding the packets to and from internet - Each routing has rules in the form of table which directs where a packet should be forward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2D882F87-8141-4FF0-ABA2-8B8EF98A4E3E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6633"/>
                </a:solidFill>
                <a:latin typeface="Garamond"/>
              </a:rPr>
              <a:t>IPv4 vs IPv6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New version of IP called IPv6 and current version is IPv4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Pv4 uses 32 bit addres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 packet is transmitted by multiplicating and then sent to different loca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results in clogging the network bandwidth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astages of the network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Pv^6 multicast is us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ingle packet can be transmitted to multiple loca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ecurity control : IPSec has been us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266B8605-8854-401A-AD79-80217CC0456F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3D8EEA94-C4DA-4C23-8393-B02D6D711E10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Technology evolution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ernet is the infrastructure that links thousands of networks togeth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ernet owes its existence to the Pentagon and the cold wa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riginal networked sites were military installations, universities, and business firms with defense department contrac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itial goal was to design a network that would maintain the safe transition of data between military computers at select sites through redundant communication rout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0AA0134C-3150-4AFE-9DA3-CA414EE142B0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6633"/>
                </a:solidFill>
                <a:latin typeface="Garamond"/>
              </a:rPr>
              <a:t>cont'd…</a:t>
            </a:r>
            <a:endParaRPr b="1" lang="en-US" sz="3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searchers devised a way of bundling information into packets that carried the network address of the recipien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ach packet is sent into a so-called network “cloud” across the vast array of computers on the network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ach computer checks to see if the information belongs to any of its clients and forwards it to the next computer to which it might belo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nce claimed by the right computer, the packet is opened to reveal the messag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s message delivery system is moved by a protoco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2B749417-B940-49E9-BD5F-87CD1197A2D4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6633"/>
                </a:solidFill>
                <a:latin typeface="Garamond"/>
              </a:rPr>
              <a:t>cont‘d</a:t>
            </a:r>
            <a:endParaRPr b="1" lang="en-US" sz="3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18960" y="1142640"/>
            <a:ext cx="78483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t first, Internet traffic was government related and government subsidized:  No ordinary person or company could use the Interne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April 1995 the U.S. government relinquished control of the Internet to independent governing bodies, which relaxed entry for almost everyone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6"/>
          <p:cNvGrpSpPr/>
          <p:nvPr/>
        </p:nvGrpSpPr>
        <p:grpSpPr>
          <a:xfrm>
            <a:off x="1600200" y="3505320"/>
            <a:ext cx="5486400" cy="3200400"/>
            <a:chOff x="1600200" y="3505320"/>
            <a:chExt cx="5486400" cy="3200400"/>
          </a:xfrm>
        </p:grpSpPr>
        <p:sp>
          <p:nvSpPr>
            <p:cNvPr id="290" name="AutoShape 16"/>
            <p:cNvSpPr/>
            <p:nvPr/>
          </p:nvSpPr>
          <p:spPr>
            <a:xfrm>
              <a:off x="1600200" y="3505320"/>
              <a:ext cx="548640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5"/>
            <p:cNvSpPr/>
            <p:nvPr/>
          </p:nvSpPr>
          <p:spPr>
            <a:xfrm>
              <a:off x="2057400" y="4762800"/>
              <a:ext cx="799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Web user/ web client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14"/>
            <p:cNvSpPr/>
            <p:nvPr/>
          </p:nvSpPr>
          <p:spPr>
            <a:xfrm>
              <a:off x="3543120" y="4762800"/>
              <a:ext cx="914400" cy="457200"/>
            </a:xfrm>
            <a:prstGeom prst="parallelogram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Internet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13"/>
            <p:cNvSpPr/>
            <p:nvPr/>
          </p:nvSpPr>
          <p:spPr>
            <a:xfrm>
              <a:off x="5029200" y="4534560"/>
              <a:ext cx="914400" cy="6850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Web Applications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12"/>
            <p:cNvSpPr/>
            <p:nvPr/>
          </p:nvSpPr>
          <p:spPr>
            <a:xfrm>
              <a:off x="6172200" y="4762800"/>
              <a:ext cx="571320" cy="45720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Web Server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11"/>
            <p:cNvSpPr/>
            <p:nvPr/>
          </p:nvSpPr>
          <p:spPr>
            <a:xfrm>
              <a:off x="6057720" y="5677200"/>
              <a:ext cx="685440" cy="5713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Database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6" name="AutoShape 10"/>
            <p:cNvCxnSpPr/>
            <p:nvPr/>
          </p:nvCxnSpPr>
          <p:spPr>
            <a:xfrm>
              <a:off x="2857320" y="4990680"/>
              <a:ext cx="80064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7" name="AutoShape 9"/>
            <p:cNvCxnSpPr/>
            <p:nvPr/>
          </p:nvCxnSpPr>
          <p:spPr>
            <a:xfrm flipV="1">
              <a:off x="4343400" y="4961880"/>
              <a:ext cx="686160" cy="2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8" name="AutoShape 8"/>
            <p:cNvCxnSpPr/>
            <p:nvPr/>
          </p:nvCxnSpPr>
          <p:spPr>
            <a:xfrm>
              <a:off x="5943240" y="4792320"/>
              <a:ext cx="229320" cy="19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9" name="AutoShape 7"/>
            <p:cNvCxnSpPr/>
            <p:nvPr/>
          </p:nvCxnSpPr>
          <p:spPr>
            <a:xfrm flipH="1">
              <a:off x="6400440" y="5220000"/>
              <a:ext cx="576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996633"/>
                </a:solidFill>
                <a:latin typeface="Garamond"/>
              </a:rPr>
              <a:t>COPYRIGHT INFRINGEMENTS</a:t>
            </a:r>
            <a:br>
              <a:rPr sz="3200"/>
            </a:br>
            <a:endParaRPr b="1" lang="en-US" sz="32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Making infringing copies for sale or hire or selling or letting them for hire;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Permitting any place for the performance of works in public where such performance constitutes infringement of copyright;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Distributing infringing copies for the purpose of trade or to such an extent so as to affect prejudicially the interest of the owner of copyright ;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Public exhibition of infringing copies by way of trade; an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Importation of infringing copie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E5622C64-4F8A-4F6F-8E8D-DFCC731698BE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58CA14F8-8570-497F-874B-7B758F17513B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IP Address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Web site’s address includes the name of the host computer’s link the Web site resides 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ach host is identified by a unique host number (called an IP address) and by a name that is easier to remember than the nu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8AAF5507-08A4-44B5-B016-B345B87F94D1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IP Address Arithmetic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 IP address consists of 32 binary digits or bits (zeros and ones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vide the 32 bits into 4 groups of 8 bits called a byte, or octe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ach octet represents a decimal value from 0 through 255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rite the four decimal values separated by do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91.170.64.12 - computer friendly, but not human friendl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very host on the Internet has a host nu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C97070AB-82E0-4E6D-8126-5863CA702BAC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Host Naming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host </a:t>
            </a:r>
            <a:r>
              <a:rPr b="1" i="1" lang="en-US" sz="2400" spc="-1" strike="noStrike">
                <a:solidFill>
                  <a:srgbClr val="333399"/>
                </a:solidFill>
                <a:latin typeface="Arial Black"/>
              </a:rPr>
              <a:t>nam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is an Internet address consisting of text labels separated by do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ost name is people friendl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ost names used instead of IP addresses or host number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18B49D30-4EF4-4FA7-B101-854C112CD9F2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Networks and Number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ost number divided into two part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etwork part - 2 octet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ocal part - 2 octet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niversity of Virginia host number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91  .  170  .  64  .  12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network         local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part             par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ll UVa addresses begin with 191 . 170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4 identifies a subnet at UVa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2 is the machine on the subne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 rot="16200000">
            <a:off x="2427840" y="3058200"/>
            <a:ext cx="66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 rot="16200000">
            <a:off x="3875760" y="3058200"/>
            <a:ext cx="66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Learning Objectiv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Role of technologies in e-commerc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b architectur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Hypertext Transfer Protoco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b pages (static and dynamic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oki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How to design web pag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e steps required to make the design error fre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cess for publishing web pag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cess for hosting web pag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0E55FBEC-9F25-4FCC-ACE1-E7DAB0F61B1A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686576B1-AFD4-4683-A889-E5F4CA1C9513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Networks and Siz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etworks are classified in three sizes: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ass A (large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ass B (medium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ass C (small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ass D is a multicast network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initial bits of the IP address tells the size of the network hos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E875B565-B7DF-41A4-A7FB-C489C3DC2C00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IP Address Class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pic>
        <p:nvPicPr>
          <p:cNvPr id="329" name="Picture 4" descr="Table 3"/>
          <p:cNvPicPr/>
          <p:nvPr/>
        </p:nvPicPr>
        <p:blipFill>
          <a:blip r:embed="rId1"/>
          <a:stretch/>
        </p:blipFill>
        <p:spPr>
          <a:xfrm>
            <a:off x="1038240" y="2263680"/>
            <a:ext cx="81057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A122F86F-135F-4E89-8AD9-2E117B6065B7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Web Search Element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ernet contains thousands of Web sites dedicated to tens of thousands of topic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ey elements that make the search process feasible: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rows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lug-I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arch Engin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FEA3513B-3B04-4051-B604-7236DFDF5730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The Browser </a:t>
            </a:r>
            <a:r>
              <a:rPr b="1" i="1" lang="en-US" sz="3400" spc="-1" strike="noStrike">
                <a:solidFill>
                  <a:srgbClr val="996633"/>
                </a:solidFill>
                <a:latin typeface="Garamond"/>
              </a:rPr>
              <a:t>(cont'd)</a:t>
            </a:r>
            <a:endParaRPr b="1" lang="en-US" sz="3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 browser is a piece of software that allows users to navigate the Web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etscape Navigato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icrosoft Internet Explor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refox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era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FB3A96F7-FE1F-45AA-BD79-63DE8409E155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The Browser </a:t>
            </a:r>
            <a:r>
              <a:rPr b="1" i="1" lang="en-US" sz="3400" spc="-1" strike="noStrike">
                <a:solidFill>
                  <a:srgbClr val="996633"/>
                </a:solidFill>
                <a:latin typeface="Garamond"/>
              </a:rPr>
              <a:t>(cont'd)</a:t>
            </a:r>
            <a:endParaRPr b="1" lang="en-US" sz="3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browser is a Web client program that uses Hypertext Transfer Protocol (HTTP) to make requests of Web servers throughout the Internet on behalf of the browser us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ext-only mod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such as Lynx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Graphic mod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involves a graphical software program that retrieves text, audio, and vide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45F4E6E6-7CE5-4BFA-B7FC-3BE1BA20C0DE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Plug-In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oftware programs configured to a Web browser to improve its capabilitie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orking together with plug-ins, browsers today offer seamless multimedia experience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popular plug-in on the Web is Adobe Acrobat Reader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icrosoft developed software called Active X, which makes plug-ins unnecessary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is software makes it possible to embed animated objects and data on Web page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eing a Microsoft product, Active X works best with Microsoft’s Internet Explorer browser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CA1D4368-6704-4CBC-917A-0A808F4C23CC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Internet Service Provider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ernet service provider (ISP) is a company that links users to the Internet for a fe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rvices offered by ISP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inking consumers and businesses to the Interne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nitoring and maintaining customers’ Web sit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viding network management and system integr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viding backbone access services for other ISPs (like PSI and UUNET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ffering payment systems for online purchas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6633"/>
                </a:solidFill>
                <a:latin typeface="Garamond"/>
              </a:rPr>
              <a:t>Uniform Resource Locator (URL)</a:t>
            </a:r>
            <a:br>
              <a:rPr sz="4000"/>
            </a:br>
            <a:endParaRPr b="1" lang="en-US" sz="40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Used for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viding unique address for a web pag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General representation of any URL :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rotocol://domain_name/directory/resource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tocol represents definition of protocol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http stands for hypertext transfer protoco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https represent secure hypertext transfer protoco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ftp represents file transfer protoco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elnet represents protocol for accessing a remote comput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66B4DC61-355C-408F-B345-0CD2C6D94E5D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6633"/>
                </a:solidFill>
                <a:latin typeface="Garamond"/>
              </a:rPr>
              <a:t>Hypertext Transfer Protocol (HTTP)</a:t>
            </a:r>
            <a:br>
              <a:rPr sz="3600"/>
            </a:br>
            <a:endParaRPr b="1" lang="en-US" sz="36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HTTP is used for communicating between web client and web serv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browser obtains the IP address of the domain through D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en web client establishes a TCP connection to port 80 of the web serv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ort number 80 is the default port for HTTP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response is specified in Multipurpose Internet Mail Extension (MIME) format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 proxy server for security and other administrative reas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0008861B-733A-45D7-8D46-6542F08647A3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Cooki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HTTP does not keep any information related to user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b server receives a HTTP request for any information, it can be for a new client or an extended sess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ata about the users state and requests are important  - business analytics are develop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okies’ were developed by which a web server would save these data at the web clien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893F9950-E4A9-45C3-AE07-DBDB22D8EF4E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E-commerce technology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-commerce has three-tiered system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ree tier refers to three main component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lient side,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erver side and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e connecting bridge which is known as interne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For fulfilling any order, we ne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ree tier model PLU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upplier system,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arehouse system,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logistics system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84C2FEAA-6328-4DCA-9D02-0D999F7C451F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6633"/>
                </a:solidFill>
                <a:latin typeface="Garamond"/>
              </a:rPr>
              <a:t>Client side or web programming</a:t>
            </a:r>
            <a:endParaRPr b="1" lang="en-US" sz="40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gramming can be done in HTML, JavaScript, Java Applets, ActiveX control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lugins can be used which are small applications that are embedded in a web page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pecial functions (such as animations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lient side programming techniques such as HTML and JavaScipt, LINKS, Images, Tables, Frames, Form, Styleshee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57ABE340-25B4-4759-922C-B98334990308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CA328CC8-358F-426A-BCAE-EE6A681F1231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Managerial Implication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Web has changed the way business and information technology work together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-commerce is transforming the Internet from a “browse-and-surf” environment into a mammoth information exchange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important thing is to keep an eye on the technologies, as they evolve, and to be familiar with the changes before taking a dive into the Internet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rategize first, test the waters, and be sure you have a unique product supported by qualified staff to follow up on the Web traffic that it attract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EEED711F-229E-44E4-9BA0-6ABF342E887D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Internet has many uses; it also has many limita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orld Wide Web is a global hypertext network of millions of Web servers and browsers connected by hypertext transfer protocol (HTTP) and its many derivative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t is important to learn the language of the Internet before starting an e-commerce project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Internet and the Web have changed the way business and technology work together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C663FC86-827E-49C1-B378-ABBF629A3BF8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Chapter 3 Learning objectiv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How to design web pag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e steps required to make the design error fre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cess for publishing web pag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cess for hosting web pag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C1812B6D-C211-4FB6-BE70-CDB8D10AF01B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What Is a Network?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connection between at least two computers for the purpose of sharing resourc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l networks are based on the concept of shar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2C0A21B6-D5EA-438A-BB8D-947852C6987D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Types of Network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eer-to-Peer Networks are the linking of several PCs so that each acts as a peer, sharing and exchanging information without the need for a centralized serv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ent / Server Networks are a cluster of computers (called clients) connected to one or more servers to form a network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DF016E41-B690-4A62-AF7F-C262D48F1340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Peer-to-Peer Network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mputers are linked together as equal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centralized server or contro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y computer can share its resources with any other computer on the same network in any way and whenever it choos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sers are network administrators in that they control access to the resources residing on their own comput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n result in institutionalized chaos, and security can be a problem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336CC7F6-54D0-48E9-83A7-8141B6D1744D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Peer-to-Peer Networks (</a:t>
            </a:r>
            <a:r>
              <a:rPr b="1" i="1" lang="en-US" sz="4400" spc="-1" strike="noStrike">
                <a:solidFill>
                  <a:srgbClr val="996633"/>
                </a:solidFill>
                <a:latin typeface="Garamond"/>
              </a:rPr>
              <a:t>cont'd</a:t>
            </a: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)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tup usually connects fewer than 10 comput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s the number of users increases, the peer-to-peer environment becomes impractica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0D1743D0-5E4B-43B0-9C94-FB053AD16483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How to Pick a Domain Name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inter for picking domain name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f you sell bricks, pick a domain name containing a word like brick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nsider name length and ease of remembering the nam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yphens to force search engines to see keywords in your domain nam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ake sure the domain name is easy for Web users to remember and find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domain name should suggest the nature of your product or servic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domain name should serve as a trademark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domain name should be free of legal conflict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A3E0C494-6F4A-4985-AA67-2B75A42AABD0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How to Register a Domain Name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heck if the domain name you propose has been take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asterWhois.com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ne of the most popular and reliable registration sites is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ternic.net/alpha.htm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Contd..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Webpage ha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GUI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Back end serv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Combination of data and applic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Rule based protocol (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lled the Hypertext Transfer Protocol (HTTP)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E3C55686-2178-4DB0-9646-9058F731BE0C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9A3A7EA7-7C5B-4E21-BD67-1A4F65427966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Garamond"/>
              </a:rPr>
              <a:t>Web page elements</a:t>
            </a:r>
            <a:endParaRPr b="1" lang="en-US" sz="4000" spc="-1" strike="noStrike">
              <a:solidFill>
                <a:srgbClr val="996633"/>
              </a:solidFill>
              <a:latin typeface="Garamond"/>
            </a:endParaRPr>
          </a:p>
        </p:txBody>
      </p:sp>
      <p:pic>
        <p:nvPicPr>
          <p:cNvPr id="405" name="Picture 5" descr="awad_fig03"/>
          <p:cNvPicPr/>
          <p:nvPr/>
        </p:nvPicPr>
        <p:blipFill>
          <a:blip r:embed="rId1"/>
          <a:stretch/>
        </p:blipFill>
        <p:spPr>
          <a:xfrm>
            <a:off x="1219320" y="1525680"/>
            <a:ext cx="761976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Designing web page element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b browser displays ASCII text file with extensions .htm or .htm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offline web page are to be prepared firs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b server and internet connection not required immediatel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nitially original formatting is not seen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isplay of final web page done such that laptops, desktops with different screen sizes can see all the web pag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1BF81017-ABD8-4164-8823-0CBBD9DE17F5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996633"/>
                </a:solidFill>
                <a:latin typeface="Garamond"/>
              </a:rPr>
              <a:t>Designing web page elements Contd..</a:t>
            </a:r>
            <a:endParaRPr b="1" lang="en-US" sz="36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four basic elements that should be presented in any web pag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HTML, HEAD, TITAL and BODY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HTML : This contains information that the web browser should know about the web page such as title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&lt;HEAD&gt; This information is not displayed in the browser’s web page display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&lt;TITLE&gt; This information is displayed in the browser window’s title bar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&lt;BODY&gt; This information is displayed in the browser’s web page display (both text and graphics)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A9E74C43-AE89-4C75-9C40-4421E540D669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996633"/>
                </a:solidFill>
                <a:latin typeface="Garamond"/>
              </a:rPr>
              <a:t>Web page development life cycle</a:t>
            </a:r>
            <a:endParaRPr b="1" lang="en-US" sz="36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Stages in life cycle ar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1) Prepare a file with .HTM or &gt;HTML extension and save it to your hard disk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(2) Open the file through brows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(3) Review the web page and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(4) Rework on the page using a text editor or HTML edito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Formatting,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roubleshooting,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ublish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nstalling on a web serv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133601E9-C802-4E61-B078-A93B7FD0FF5C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Web publishing step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mode of access to web pag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NS addres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ath Nam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Uploading the fil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Find the UR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Final Touch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2400" spc="-1" strike="noStrike">
                <a:solidFill>
                  <a:srgbClr val="333399"/>
                </a:solidFill>
                <a:latin typeface="Arial"/>
              </a:rPr>
              <a:t>{GIVE A SAMPLE OF CODE AS GIVEN IN THE TEXT}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9AF3414F-45EB-4D0A-939D-EB704C5325A6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Legal and Ethical Issu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Following considerations need to be mad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Are the files being published have already been published elsewher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Are the files being published are modified versions of already existing and published file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Are the materials to be published are excerpts of existing materials (already published somewhere else)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Are there sufficient permissions to download the materials and then publish them as min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Can the pictures and figures that have been published by someone else and available in the public domain be made available by another publisher (in partial or full display)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CB025912-4EB5-4E8B-9C66-D1ED0CC54C7E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Plagiarism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Tools can be used for checking plagiarism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Check before publish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Websites that offer plagiarism servic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9999"/>
                </a:solidFill>
                <a:uFillTx/>
                <a:latin typeface="Arial"/>
              </a:rPr>
              <a:t>www.plagiarism-detector.com,www.writecheck.com,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9999"/>
                </a:solidFill>
                <a:uFillTx/>
                <a:latin typeface="Arial"/>
              </a:rPr>
              <a:t>www.plagiarismchecker.com,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9999"/>
                </a:solidFill>
                <a:uFillTx/>
                <a:latin typeface="Arial"/>
              </a:rPr>
              <a:t>www.dustball.com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lagiarisma.net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808F39F4-8DF2-47BF-BE1B-4E859674E977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Copyright Issu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333399"/>
                </a:solidFill>
                <a:latin typeface="Arial"/>
              </a:rPr>
              <a:t>Copyright is a right given by the law to creators of literary, dramatic, musical and artistic works and producers of cinematograph films and sound recording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333399"/>
                </a:solidFill>
                <a:latin typeface="Arial"/>
              </a:rPr>
              <a:t>Copyright ensures certain minimum safeguards of the rights of author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333399"/>
                </a:solidFill>
                <a:latin typeface="Arial"/>
              </a:rPr>
              <a:t>Some of the exemptions are the uses of the work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333399"/>
                </a:solidFill>
                <a:latin typeface="Arial"/>
              </a:rPr>
              <a:t>for the purpose of research or private study,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333399"/>
                </a:solidFill>
                <a:latin typeface="Arial"/>
              </a:rPr>
              <a:t>for criticism or review,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333399"/>
                </a:solidFill>
                <a:latin typeface="Arial"/>
              </a:rPr>
              <a:t>for reporting current events,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333399"/>
                </a:solidFill>
                <a:latin typeface="Arial"/>
              </a:rPr>
              <a:t>in connection with judicial proceeding,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333399"/>
                </a:solidFill>
                <a:latin typeface="Arial"/>
              </a:rPr>
              <a:t>performance by an amateur club or society if the performance is given to a non-paying audience, and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333399"/>
                </a:solidFill>
                <a:latin typeface="Arial"/>
              </a:rPr>
              <a:t>the making of sound recordings of literary, dramatic or musical works under certain condition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7C9F134E-1893-45B6-8132-CA0DE4838B1E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Terms used in copyright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Work : </a:t>
            </a:r>
            <a:r>
              <a:rPr b="1" lang="en-IN" sz="2000" spc="-1" strike="noStrike">
                <a:solidFill>
                  <a:srgbClr val="333399"/>
                </a:solidFill>
                <a:latin typeface="Arial"/>
              </a:rPr>
              <a:t>A work means a literary, dramatic, musical or artistic work, a cinematograph film, or a sound recording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work of joint authorship: </a:t>
            </a:r>
            <a:r>
              <a:rPr b="1" lang="en-IN" sz="2000" spc="-1" strike="noStrike">
                <a:solidFill>
                  <a:srgbClr val="333399"/>
                </a:solidFill>
                <a:latin typeface="Arial"/>
              </a:rPr>
              <a:t>work produced by the collaboration of two or more author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333399"/>
                </a:solidFill>
                <a:latin typeface="Arial"/>
              </a:rPr>
              <a:t>What is an artistic work :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333399"/>
                </a:solidFill>
                <a:latin typeface="Arial"/>
              </a:rPr>
              <a:t>a painting, a sculpture, a drawing (including a diagram, map, chart or plan), an engraving or a photograph, whether or not any such work possesses artistic quality;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333399"/>
                </a:solidFill>
                <a:latin typeface="Arial"/>
              </a:rPr>
              <a:t>a work of architecture; an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333399"/>
                </a:solidFill>
                <a:latin typeface="Arial"/>
              </a:rPr>
              <a:t>any other work of artistic craftsmanship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333399"/>
                </a:solidFill>
                <a:latin typeface="Arial"/>
              </a:rPr>
              <a:t>musical work: </a:t>
            </a:r>
            <a:r>
              <a:rPr b="1" lang="en-IN" sz="1600" spc="-1" strike="noStrike">
                <a:solidFill>
                  <a:srgbClr val="333399"/>
                </a:solidFill>
                <a:latin typeface="Arial"/>
              </a:rPr>
              <a:t>work consisting of music and includes any graphical notation of such work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333399"/>
                </a:solidFill>
                <a:latin typeface="Arial"/>
              </a:rPr>
              <a:t>sound recording: </a:t>
            </a:r>
            <a:r>
              <a:rPr b="1" lang="en-IN" sz="1400" spc="-1" strike="noStrike">
                <a:solidFill>
                  <a:srgbClr val="333399"/>
                </a:solidFill>
                <a:latin typeface="Arial"/>
              </a:rPr>
              <a:t>recording of sounds from which sounds may be produced regardless of the medium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2C553501-74E2-4394-8F5A-DBB117CA1B8E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Terms used in copyright..contd..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cinematograph film; work of visual recording on any medium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government work: work which is made or published by or under the direction or control of the government or any department of the governmen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539F899A-C8C4-4FA2-8427-838D8C6A9BC9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Architecture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nternet is a combination several network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networks are connected through router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ese routers are connected through Internet Service Providers (ISP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ransfer information through packe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nternet is on layered model - Transmission Control Protocol/ Internet Protocol (TCP/IP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386ED5A0-44F9-4CB6-BF86-5B5065D634D0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Terms used in copyright..contd..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MORAL RIGHTS: the right to claim authorship of the work and to restrain or claim damages in respect of any modific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The moral rights are independent of the author’s copyright and remains with him even after assignment of the copyrigh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333399"/>
                </a:solidFill>
                <a:latin typeface="Arial"/>
              </a:rPr>
              <a:t>Failure to display a work or to display it to the satisfaction of the author shall not be deemed to be an infringement of the moral rights of the autho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E978953A-C573-4894-BEAA-38547FDF668E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28EEF1D4-2DDD-4B3D-B45C-F09DA1956B42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E-Commerce Issues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nancial Exposur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P Exposur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gal Securit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acket Sniff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rewall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PSec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rusion Detection Systems (IDS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lide Number Placeholder 4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3-</a:t>
            </a:r>
            <a:fld id="{7BC2DEFA-2934-4E63-AA7B-0EE0C351F89A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oter Placeholder 5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o communicate over a line, you need a modem, which converts incoming analog signals into digital signals.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Several factors need to be considered in designing a network:  location, capacity, distance limitations, cost, potential growth, and security.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Web page publication should follow proper steps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Plagiarism check should be done (using tools)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Copyright issues and moral issues should be taken care of while publishing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Network diagram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D71C0514-05BD-4146-AB71-1EC11DC3F482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1295280" y="1752480"/>
            <a:ext cx="7010640" cy="4206960"/>
            <a:chOff x="1295280" y="1752480"/>
            <a:chExt cx="7010640" cy="4206960"/>
          </a:xfrm>
        </p:grpSpPr>
        <p:sp>
          <p:nvSpPr>
            <p:cNvPr id="203" name="AutoShape 24"/>
            <p:cNvSpPr/>
            <p:nvPr/>
          </p:nvSpPr>
          <p:spPr>
            <a:xfrm>
              <a:off x="1295280" y="1752480"/>
              <a:ext cx="7010640" cy="4206960"/>
            </a:xfrm>
            <a:prstGeom prst="octagon">
              <a:avLst>
                <a:gd name="adj" fmla="val 292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>
              <a:off x="2180160" y="2596680"/>
              <a:ext cx="2003760" cy="6642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Network no.1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22"/>
            <p:cNvSpPr/>
            <p:nvPr/>
          </p:nvSpPr>
          <p:spPr>
            <a:xfrm>
              <a:off x="4183920" y="4018680"/>
              <a:ext cx="2003760" cy="6638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Internet Service Provider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21"/>
            <p:cNvSpPr/>
            <p:nvPr/>
          </p:nvSpPr>
          <p:spPr>
            <a:xfrm>
              <a:off x="5210280" y="2725200"/>
              <a:ext cx="2002680" cy="6638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Network no.2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0"/>
            <p:cNvSpPr/>
            <p:nvPr/>
          </p:nvSpPr>
          <p:spPr>
            <a:xfrm>
              <a:off x="4733280" y="5124960"/>
              <a:ext cx="2003760" cy="6642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Network No.3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9"/>
            <p:cNvSpPr/>
            <p:nvPr/>
          </p:nvSpPr>
          <p:spPr>
            <a:xfrm>
              <a:off x="1623240" y="4111200"/>
              <a:ext cx="1535400" cy="6638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Modem</a:t>
              </a:r>
              <a:endParaRPr b="0" i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ADSL</a:t>
              </a:r>
              <a:endParaRPr b="0" i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Dedicated Connection</a:t>
              </a:r>
              <a:endParaRPr b="0" i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8"/>
            <p:cNvSpPr/>
            <p:nvPr/>
          </p:nvSpPr>
          <p:spPr>
            <a:xfrm>
              <a:off x="3299040" y="3389400"/>
              <a:ext cx="501120" cy="51228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7"/>
            <p:cNvSpPr/>
            <p:nvPr/>
          </p:nvSpPr>
          <p:spPr>
            <a:xfrm>
              <a:off x="6455520" y="3505320"/>
              <a:ext cx="501120" cy="5130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1" name="AutoShape 16"/>
            <p:cNvCxnSpPr/>
            <p:nvPr/>
          </p:nvCxnSpPr>
          <p:spPr>
            <a:xfrm flipH="1">
              <a:off x="2391120" y="3260520"/>
              <a:ext cx="791280" cy="850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triangle" w="med"/>
            </a:ln>
          </p:spPr>
        </p:cxnSp>
        <p:cxnSp>
          <p:nvCxnSpPr>
            <p:cNvPr id="212" name="AutoShape 15"/>
            <p:cNvCxnSpPr/>
            <p:nvPr/>
          </p:nvCxnSpPr>
          <p:spPr>
            <a:xfrm flipH="1" flipV="1">
              <a:off x="2391120" y="4775400"/>
              <a:ext cx="2342160" cy="682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triangle" w="med"/>
            </a:ln>
          </p:spPr>
        </p:cxnSp>
        <p:cxnSp>
          <p:nvCxnSpPr>
            <p:cNvPr id="213" name="AutoShape 14"/>
            <p:cNvCxnSpPr/>
            <p:nvPr/>
          </p:nvCxnSpPr>
          <p:spPr>
            <a:xfrm flipH="1" flipV="1">
              <a:off x="2391120" y="4775040"/>
              <a:ext cx="148248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4" name="AutoShape 13"/>
            <p:cNvCxnSpPr/>
            <p:nvPr/>
          </p:nvCxnSpPr>
          <p:spPr>
            <a:xfrm>
              <a:off x="3727440" y="3826440"/>
              <a:ext cx="4572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triangle" w="med"/>
            </a:ln>
          </p:spPr>
        </p:cxnSp>
        <p:cxnSp>
          <p:nvCxnSpPr>
            <p:cNvPr id="215" name="AutoShape 12"/>
            <p:cNvCxnSpPr/>
            <p:nvPr/>
          </p:nvCxnSpPr>
          <p:spPr>
            <a:xfrm flipH="1">
              <a:off x="2391120" y="3056760"/>
              <a:ext cx="4822560" cy="1054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triangle" w="med"/>
            </a:ln>
          </p:spPr>
        </p:cxnSp>
        <p:cxnSp>
          <p:nvCxnSpPr>
            <p:cNvPr id="216" name="AutoShape 11"/>
            <p:cNvCxnSpPr/>
            <p:nvPr/>
          </p:nvCxnSpPr>
          <p:spPr>
            <a:xfrm flipV="1">
              <a:off x="3181680" y="3900960"/>
              <a:ext cx="392040" cy="54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triangle" w="med"/>
            </a:ln>
          </p:spPr>
        </p:cxnSp>
        <p:cxnSp>
          <p:nvCxnSpPr>
            <p:cNvPr id="217" name="AutoShape 10"/>
            <p:cNvCxnSpPr/>
            <p:nvPr/>
          </p:nvCxnSpPr>
          <p:spPr>
            <a:xfrm flipH="1" flipV="1" rot="5400000">
              <a:off x="4219920" y="2112480"/>
              <a:ext cx="833040" cy="4492440"/>
            </a:xfrm>
            <a:prstGeom prst="bentConnector3">
              <a:avLst>
                <a:gd name="adj1" fmla="val -33506"/>
              </a:avLst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triangle" w="med"/>
            </a:ln>
          </p:spPr>
        </p:cxnSp>
        <p:cxnSp>
          <p:nvCxnSpPr>
            <p:cNvPr id="218" name="AutoShape 9"/>
            <p:cNvCxnSpPr/>
            <p:nvPr/>
          </p:nvCxnSpPr>
          <p:spPr>
            <a:xfrm flipH="1">
              <a:off x="6187680" y="3942360"/>
              <a:ext cx="342000" cy="408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triangle" w="med"/>
            </a:ln>
          </p:spPr>
        </p:cxnSp>
        <p:sp>
          <p:nvSpPr>
            <p:cNvPr id="219" name="AutoShape 8"/>
            <p:cNvSpPr/>
            <p:nvPr/>
          </p:nvSpPr>
          <p:spPr>
            <a:xfrm>
              <a:off x="3454920" y="5276880"/>
              <a:ext cx="501120" cy="51228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0" name="AutoShape 7"/>
            <p:cNvCxnSpPr/>
            <p:nvPr/>
          </p:nvCxnSpPr>
          <p:spPr>
            <a:xfrm flipH="1" rot="16200000">
              <a:off x="2543040" y="4622400"/>
              <a:ext cx="758160" cy="1063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AutoShape 6"/>
            <p:cNvCxnSpPr/>
            <p:nvPr/>
          </p:nvCxnSpPr>
          <p:spPr>
            <a:xfrm flipV="1">
              <a:off x="3956400" y="4350600"/>
              <a:ext cx="228240" cy="118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triangle" w="med"/>
            </a:ln>
          </p:spPr>
        </p:cxnSp>
        <p:sp>
          <p:nvSpPr>
            <p:cNvPr id="222" name="AutoShape 5"/>
            <p:cNvSpPr/>
            <p:nvPr/>
          </p:nvSpPr>
          <p:spPr>
            <a:xfrm>
              <a:off x="7586280" y="4711680"/>
              <a:ext cx="501120" cy="48888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4"/>
            <p:cNvSpPr/>
            <p:nvPr/>
          </p:nvSpPr>
          <p:spPr>
            <a:xfrm>
              <a:off x="7365240" y="5276880"/>
              <a:ext cx="9403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ROUTERS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6633"/>
                </a:solidFill>
                <a:latin typeface="Garamond"/>
              </a:rPr>
              <a:t>TCP/IP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295280" y="12189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ransmission Control Protocol/ Internet Protoco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cess of transferring packets from one computer to another comput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Medium interne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ese layers are connected through different rules and definitions in four layer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Network layer :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network layer helps in forwarding packets to different layers depending on the address on the packet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ransport Layer: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forwarding takes place through transport layer 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pplication Layer: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supports transport of each and every application across network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nd Link Layer: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Links between layer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3C3F4B33-1062-4F60-9F34-BF26EEED32AA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TCP/IP Diagram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CB8D680D-5A16-49BD-A9F1-1027E990BDC3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"/>
          <p:cNvGrpSpPr/>
          <p:nvPr/>
        </p:nvGrpSpPr>
        <p:grpSpPr>
          <a:xfrm>
            <a:off x="1371600" y="1676520"/>
            <a:ext cx="6553080" cy="4706640"/>
            <a:chOff x="1371600" y="1676520"/>
            <a:chExt cx="6553080" cy="4706640"/>
          </a:xfrm>
        </p:grpSpPr>
        <p:sp>
          <p:nvSpPr>
            <p:cNvPr id="232" name="AutoShape 19"/>
            <p:cNvSpPr/>
            <p:nvPr/>
          </p:nvSpPr>
          <p:spPr>
            <a:xfrm>
              <a:off x="1371600" y="1676520"/>
              <a:ext cx="6553080" cy="47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8"/>
            <p:cNvSpPr/>
            <p:nvPr/>
          </p:nvSpPr>
          <p:spPr>
            <a:xfrm>
              <a:off x="1763280" y="2124360"/>
              <a:ext cx="1916640" cy="57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Application Layer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7"/>
            <p:cNvSpPr/>
            <p:nvPr/>
          </p:nvSpPr>
          <p:spPr>
            <a:xfrm>
              <a:off x="4987800" y="2189880"/>
              <a:ext cx="1959480" cy="63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TCP Layer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6"/>
            <p:cNvSpPr/>
            <p:nvPr/>
          </p:nvSpPr>
          <p:spPr>
            <a:xfrm>
              <a:off x="5128560" y="4379040"/>
              <a:ext cx="1818720" cy="81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IP Layer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5"/>
            <p:cNvSpPr/>
            <p:nvPr/>
          </p:nvSpPr>
          <p:spPr>
            <a:xfrm>
              <a:off x="1948680" y="4379040"/>
              <a:ext cx="10670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Link Layer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7" name="AutoShape 14"/>
            <p:cNvCxnSpPr/>
            <p:nvPr/>
          </p:nvCxnSpPr>
          <p:spPr>
            <a:xfrm>
              <a:off x="3680280" y="2413440"/>
              <a:ext cx="1308240" cy="92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8" name="AutoShape 13"/>
            <p:cNvSpPr/>
            <p:nvPr/>
          </p:nvSpPr>
          <p:spPr>
            <a:xfrm>
              <a:off x="3919680" y="2265840"/>
              <a:ext cx="817200" cy="424800"/>
            </a:xfrm>
            <a:prstGeom prst="borderCallout1">
              <a:avLst>
                <a:gd name="adj1" fmla="val 18750"/>
                <a:gd name="adj2" fmla="val -8333"/>
                <a:gd name="adj3" fmla="val 20513"/>
                <a:gd name="adj4" fmla="val -1066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Carries Applications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12"/>
            <p:cNvSpPr/>
            <p:nvPr/>
          </p:nvSpPr>
          <p:spPr>
            <a:xfrm>
              <a:off x="6272280" y="3322440"/>
              <a:ext cx="1045440" cy="653400"/>
            </a:xfrm>
            <a:prstGeom prst="borderCallout1">
              <a:avLst>
                <a:gd name="adj1" fmla="val 18750"/>
                <a:gd name="adj2" fmla="val -8333"/>
                <a:gd name="adj3" fmla="val -13333"/>
                <a:gd name="adj4" fmla="val -2395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Carries Application, and TCP details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0" name="AutoShape 11"/>
            <p:cNvCxnSpPr/>
            <p:nvPr/>
          </p:nvCxnSpPr>
          <p:spPr>
            <a:xfrm>
              <a:off x="5967720" y="2821320"/>
              <a:ext cx="70920" cy="1558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1" name="AutoShape 10"/>
            <p:cNvSpPr/>
            <p:nvPr/>
          </p:nvSpPr>
          <p:spPr>
            <a:xfrm>
              <a:off x="2232000" y="5381280"/>
              <a:ext cx="1045440" cy="52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3400" y="5400"/>
                  </a:moveTo>
                  <a:lnTo>
                    <a:pt x="42525" y="5400"/>
                  </a:lnTo>
                  <a:lnTo>
                    <a:pt x="42525" y="5400"/>
                  </a:lnTo>
                  <a:lnTo>
                    <a:pt x="42525" y="-2415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Carries Application, TCP details, and IP details</a:t>
              </a:r>
              <a:endParaRPr b="0" i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2" name="AutoShape 9"/>
            <p:cNvCxnSpPr/>
            <p:nvPr/>
          </p:nvCxnSpPr>
          <p:spPr>
            <a:xfrm flipH="1" flipV="1">
              <a:off x="3015720" y="4759920"/>
              <a:ext cx="2113200" cy="28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3" name="AutoShape 8"/>
            <p:cNvSpPr/>
            <p:nvPr/>
          </p:nvSpPr>
          <p:spPr>
            <a:xfrm>
              <a:off x="1534680" y="2995920"/>
              <a:ext cx="696960" cy="69696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START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7"/>
            <p:cNvSpPr/>
            <p:nvPr/>
          </p:nvSpPr>
          <p:spPr>
            <a:xfrm>
              <a:off x="2580120" y="3213720"/>
              <a:ext cx="696960" cy="69696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END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>
              <a:off x="3767400" y="3061080"/>
              <a:ext cx="903600" cy="980280"/>
            </a:xfrm>
            <a:prstGeom prst="borderCallout1">
              <a:avLst>
                <a:gd name="adj1" fmla="val 18750"/>
                <a:gd name="adj2" fmla="val -8333"/>
                <a:gd name="adj3" fmla="val -8888"/>
                <a:gd name="adj4" fmla="val -855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Carries Application, TCP details, IP details and Link details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6" name="AutoShape 5"/>
            <p:cNvCxnSpPr/>
            <p:nvPr/>
          </p:nvCxnSpPr>
          <p:spPr>
            <a:xfrm flipV="1">
              <a:off x="2482200" y="3910320"/>
              <a:ext cx="447120" cy="46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AutoShape 4"/>
            <p:cNvCxnSpPr/>
            <p:nvPr/>
          </p:nvCxnSpPr>
          <p:spPr>
            <a:xfrm flipV="1">
              <a:off x="1882800" y="2701440"/>
              <a:ext cx="839160" cy="294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8" name="AutoShape 3"/>
            <p:cNvSpPr/>
            <p:nvPr/>
          </p:nvSpPr>
          <p:spPr>
            <a:xfrm>
              <a:off x="6947640" y="5533560"/>
              <a:ext cx="500760" cy="37008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"/>
            <p:cNvSpPr/>
            <p:nvPr/>
          </p:nvSpPr>
          <p:spPr>
            <a:xfrm>
              <a:off x="6947640" y="6001920"/>
              <a:ext cx="631440" cy="21780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routers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400" spc="-1" strike="noStrike">
                <a:solidFill>
                  <a:srgbClr val="996633"/>
                </a:solidFill>
                <a:latin typeface="Garamond"/>
              </a:rPr>
              <a:t>Routing connection for packet transmission</a:t>
            </a:r>
            <a:endParaRPr b="1" lang="en-US" sz="4400" spc="-1" strike="noStrike">
              <a:solidFill>
                <a:srgbClr val="996633"/>
              </a:solidFill>
              <a:latin typeface="Garamond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2-</a:t>
            </a:r>
            <a:fld id="{C323B993-5D76-40A4-B650-BC39027A2C3F}" type="slidenum">
              <a:rPr b="0" lang="en-US" sz="14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2666880" y="6381720"/>
            <a:ext cx="3810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"/>
          <p:cNvGrpSpPr/>
          <p:nvPr/>
        </p:nvGrpSpPr>
        <p:grpSpPr>
          <a:xfrm>
            <a:off x="1371600" y="1828800"/>
            <a:ext cx="6629400" cy="3978360"/>
            <a:chOff x="1371600" y="1828800"/>
            <a:chExt cx="6629400" cy="3978360"/>
          </a:xfrm>
        </p:grpSpPr>
        <p:sp>
          <p:nvSpPr>
            <p:cNvPr id="255" name="AutoShape 14"/>
            <p:cNvSpPr/>
            <p:nvPr/>
          </p:nvSpPr>
          <p:spPr>
            <a:xfrm>
              <a:off x="1371600" y="1828800"/>
              <a:ext cx="6629400" cy="39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13"/>
            <p:cNvSpPr/>
            <p:nvPr/>
          </p:nvSpPr>
          <p:spPr>
            <a:xfrm>
              <a:off x="3001320" y="3029760"/>
              <a:ext cx="848160" cy="7041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Router 1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>
              <a:off x="4037040" y="3866400"/>
              <a:ext cx="826920" cy="7041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Router 3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11"/>
            <p:cNvSpPr/>
            <p:nvPr/>
          </p:nvSpPr>
          <p:spPr>
            <a:xfrm>
              <a:off x="4863960" y="3128040"/>
              <a:ext cx="936360" cy="70488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Router 2</a:t>
              </a: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0"/>
            <p:cNvSpPr/>
            <p:nvPr/>
          </p:nvSpPr>
          <p:spPr>
            <a:xfrm>
              <a:off x="2054520" y="2301840"/>
              <a:ext cx="148716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Network 1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9"/>
            <p:cNvSpPr/>
            <p:nvPr/>
          </p:nvSpPr>
          <p:spPr>
            <a:xfrm>
              <a:off x="5613120" y="2368440"/>
              <a:ext cx="141012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Network 2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8"/>
            <p:cNvSpPr/>
            <p:nvPr/>
          </p:nvSpPr>
          <p:spPr>
            <a:xfrm>
              <a:off x="3542040" y="4935960"/>
              <a:ext cx="1883880" cy="36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Network 3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2" name="AutoShape 7"/>
            <p:cNvCxnSpPr/>
            <p:nvPr/>
          </p:nvCxnSpPr>
          <p:spPr>
            <a:xfrm>
              <a:off x="2798280" y="2809080"/>
              <a:ext cx="327240" cy="32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3" name="AutoShape 6"/>
            <p:cNvCxnSpPr/>
            <p:nvPr/>
          </p:nvCxnSpPr>
          <p:spPr>
            <a:xfrm flipV="1">
              <a:off x="3849120" y="3231360"/>
              <a:ext cx="1152360" cy="15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4" name="AutoShape 5"/>
            <p:cNvCxnSpPr/>
            <p:nvPr/>
          </p:nvCxnSpPr>
          <p:spPr>
            <a:xfrm flipV="1">
              <a:off x="5662800" y="2808720"/>
              <a:ext cx="655560" cy="42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5" name="AutoShape 4"/>
            <p:cNvCxnSpPr/>
            <p:nvPr/>
          </p:nvCxnSpPr>
          <p:spPr>
            <a:xfrm>
              <a:off x="3725280" y="3631320"/>
              <a:ext cx="433080" cy="33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6" name="AutoShape 3"/>
            <p:cNvCxnSpPr/>
            <p:nvPr/>
          </p:nvCxnSpPr>
          <p:spPr>
            <a:xfrm flipV="1">
              <a:off x="4743000" y="3728880"/>
              <a:ext cx="259200" cy="240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7" name="AutoShape 2"/>
            <p:cNvCxnSpPr/>
            <p:nvPr/>
          </p:nvCxnSpPr>
          <p:spPr>
            <a:xfrm>
              <a:off x="4450320" y="4570920"/>
              <a:ext cx="34200" cy="36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21:47Z</dcterms:created>
  <dc:creator>RGPlatt</dc:creator>
  <dc:description/>
  <dc:language>en-US</dc:language>
  <cp:lastModifiedBy>Sanjay</cp:lastModifiedBy>
  <dcterms:modified xsi:type="dcterms:W3CDTF">2013-02-28T06:59:38Z</dcterms:modified>
  <cp:revision>270</cp:revision>
  <dc:subject>Awad 3rd ed</dc:subject>
  <dc:title>The World Wide We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