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72F8-7180-44A6-A952-9CDA039FE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D7FC-818D-40C3-AB36-83CD957F1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1049-32B9-4EF7-B9AE-E8A19547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D507-D9F6-482D-A690-B4F5A845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1940-D720-4E59-BA07-4EB3BF4B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3C05D-9DB6-4EF6-80E6-5DD99F28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3F42D-7E0C-4D60-AC38-5234E543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80477-1469-45E3-AF0C-76E77186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A33EB-4411-4BA9-8F23-63703AD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07B83-61E8-442B-81D5-74CF282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9047B-B1A8-4C65-8164-1C5F092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5BF98-F28A-4386-A2E1-9BE1D51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F0BA7-C862-4F0C-98FC-E2A87804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80127-3C23-4ED9-B9A7-CFAFDA33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F4915-D10C-47F4-A6F3-50F04F3B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21F9-D366-46CD-B219-1438B590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13FD8-2936-4A03-A187-E8C54B0D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43E9B-28FA-4DD3-8997-D7309DA0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0CC08-E22A-46D0-9D1F-CAF4D66C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40AE2-663F-4AAD-9C36-4358FE2F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9419F-5F89-4B45-A410-EBC9BC97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889C3-3D78-424F-9CB3-5C4DAA33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86C5C-6958-4234-B6F1-6A17AC0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E8E3C-D2A3-44B5-B6E6-97412197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9732E-4116-4D8F-BA88-48B37840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EFAAA-520A-40BB-AC28-4FFB0F8A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8240-8879-4226-BEEF-F7DC1D25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9CF39-1693-40F9-B03F-BF24A743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11346A-0D19-4220-9181-01055566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E3EB15-D141-4B26-9021-E6DA700E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BCE54B-8243-426F-B6D6-3411A470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A04C9F-E2C8-4689-8646-385C4414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9C2539-5E5A-4099-94CA-433CBED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AB3813-DBFE-4074-A1D8-131F5C13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79B18A-2159-4D8A-B67B-74BD0401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FB9AB9-B1D4-48AA-B2E5-B3B0A63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C8B788-EA46-4158-9D03-E266A03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AFFA-9741-4FD2-908F-00266C8C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A2AA3D-B8BE-4D67-B346-0CD1749E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83E787-CA24-4F12-B7A9-0A3ACB22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9379C8-EFF3-4E80-A3F6-92F229C7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3FCFC-8C23-4812-918E-582B41E3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22E6F-3E96-4753-BC6A-57FEC005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5CE7B-7140-4245-B9B8-9243DA2F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DE0C8-2ECE-49F8-B618-8418AE95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BFBA2-B07B-4B0F-BDBC-C9E6DA5B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3C6F1-B063-4697-BAC6-E554CD04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10DF4-68FA-4430-876D-DE5F85F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7AA9-A5AE-46E2-ADB1-36A94016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86026-0ACC-44EE-B458-C7DEADE7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17967-9B36-47E4-99EC-4921669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1AE94-9837-4C94-8DCA-86F3DE07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ED164-16C3-4E21-B748-389D096D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FF358-5D8B-4C2C-A158-5AB7C888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D29159-20C7-4C77-9A76-89A744ED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011875-BDC0-4BCB-98C1-AC62D65F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5C09CC-79AF-4F4C-936C-D82CC5B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4A15FF-DDCB-4CEC-B91D-8399CFD0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684129-B456-45D3-AEB8-0C1A86A9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DAC6-83AD-424B-820F-3FBD362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CFF50E-1A0C-4EE3-9978-00761350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197412-B536-48BD-8724-B25AC30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2F04B6-323A-466B-924C-6738088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50C415-631D-44D7-8E01-0364B277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F02E21-C529-4920-A3AE-B5ADD0E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216189-E33A-4DCF-8003-3EEA12A9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FFB154-195F-49F7-A179-9B83050D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90E353-F613-47F4-9437-35C7040D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4AE6B6-2168-48E5-A037-0F34CDF7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E90B86-F465-441B-A867-EBF38319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2EE-9988-4B37-BD32-1879013B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FAB3D9-39D0-4F46-AA72-C1753B9B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422395-F3D1-4D53-99A2-29B48A16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4523E1-22EC-41EB-9A48-EFE5B0B9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EFB238-0187-4C7D-9046-9F13A852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032A2D-A8ED-4816-A497-4399EBAC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51169A-042B-401A-8ED9-172EBBFA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387F26-CB8F-49A5-9D3D-FADD8BD8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F9B2D9-0316-4CC7-A2FD-8050F0D5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F68D03-8788-4AD5-A310-E49BCD5E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B0068A-B191-4843-9095-2A20A2FC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7C83-1123-4923-B56B-C70792E6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FE6A0C-7119-4083-807A-A22579E4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6F7C41-57A2-4F2E-BE06-1C718A9C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C320FD-CB14-4357-B71C-B85643AE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47BF25-8407-4980-B9B6-3303A570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44BC88-49F1-49F8-9BE6-0B5C38BE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610F98-BE7F-4F44-9BC2-4EE585C4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00212B-6556-45BF-A78B-C126ABA2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0B1C5B-BCB4-4A12-B4E5-A53E646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82F21E-6BDC-4DA7-81AC-4D23AB7C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56512B-E7B1-4C0B-B2DD-4305E19B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6851-F666-42AF-9331-2C719F4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63B658-FADA-469C-8E32-26110486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39D5EC-242D-4C60-AA61-82FDA5FE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651E97-2081-48DF-95C7-E3B533EE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128401-D851-483C-A4F1-60F210A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E38C46-BE7F-4F4C-9BEE-BC729530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FD8C90-6E2D-4C27-8DFB-4ACBCD6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F35903-8B41-4CF9-9082-4CA80C7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FF7C7C-FBE6-4649-93EE-4D1D3FA2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003A04-34CC-41BF-823A-6E72482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ED9DB7-A805-4D67-AFBD-A424DFE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8A32-B954-494B-A05C-EBDB5A1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CAED0F-C8F2-4754-9E35-FADCE442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93F4A2-49DE-43FC-805D-43B9EF12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FE9C73-CBC4-4E34-A922-A29EDB0A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14617A-CD51-4C99-9895-4D60AF32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85363D-8EF5-4749-B438-86F937B9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276649-0A60-41C2-96EB-DEE63193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679263-4E5F-439F-A746-9BFC24A9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7C724A-BC17-4DB5-8586-3356BDB9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0F8CFC-534E-4004-9342-54E50D2D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002FF0-17FB-4A25-B482-370E3A93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962E-EAB4-4B2F-B6B5-763D882E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D2D0-B11F-4B36-A71A-D2DD8061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72FBA1-C3C5-4598-8943-DFF9225C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C7422A-8282-4EF2-9D32-FAB370C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BECFD6-8306-4C80-ACBF-0DDCEFF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9A11EF-386E-45DB-9B8D-F09E77D8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5B46ED-B807-4069-9625-8F69F65E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555FEB-4E75-4108-BD86-43F70F40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1B4D19-21C3-4029-A05E-5C6FBFBC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F90755-18A7-4CF4-BA8F-CAA38B8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A2F1EF-032B-4AD2-81AF-071AFA5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1C61DD-C42B-442C-9EFB-393D42C5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6499-45B9-4D41-903A-5628D02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E699B4-5BD6-4B1B-B0C6-D475329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3A3297-39D3-4242-A025-47016DD8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3CBAFF-07E5-4BDA-B87A-A126971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B40AD0-FE30-462D-9F60-074C103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A1F15B-65BA-42F4-99F8-51E6778C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FD04B24-11E7-4E74-84D5-912CA2B6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3D72FA-BDB8-4F6E-8F7D-CC3B9BEE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3CF725-327D-4588-AC04-A7646781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389671-A5B7-4C02-99A6-B08CC7E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BBF5DE-103B-4CF6-A97F-2823C4D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29CB-915D-4C90-9F5F-9330882E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FDFD9A-A99C-47B0-A103-EB87DE39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AA1395-BEA8-40E6-A376-81A10591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511E48-991D-4560-810E-21C050F1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D685FD5-D50E-49C9-B1E9-7FBE48B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FE3BB2-36DB-45C6-B05A-50F911DD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BF03F0-C7D0-4D79-9660-205E04EB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3634D6-E1DA-41C0-B258-088B483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75302D-B29B-4003-9F7E-CA40B35D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0F4AA9-46BA-49D0-810A-46CA3B4A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EA15955-1DD5-4D80-BF29-C371E78A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11D9-9F81-43C3-9032-5E4980D7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225F1B-DC46-44E6-8D77-BB4EEAC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3E843E-9CF5-41D8-91CB-3EBAE257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933E83-6FBB-4823-B44A-983E8469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B66823-9F8E-412B-BFF0-161E050B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0E5E56B-EA93-48A4-8949-27C68C7A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83D903-F111-4A61-92EF-33CDAAEC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513D28-2CFA-489C-B45D-F36FCEFA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D940ED-15AE-430B-8335-C4715A97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32DC1B-9183-43D9-8084-37F247B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AB2C328-2872-4BA7-9C00-E3F685E0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735D-7C7B-4009-B182-6029EBC2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64FD90-66F6-452F-A614-9B3401BF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04A4E3-8F5A-4B4E-9ABB-9F9B38BF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A6BA8E-A45D-4389-A81C-0BF2675C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54A757-8924-4CC2-B66E-56C3AF56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A785FA9-7D3F-4ABA-B005-A6C5A84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0C65E0-D5C4-4DFB-B559-6461EA65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261FDE-A1A6-461F-99F7-593A1001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4471BB6-ED98-4269-A0EF-F5F31B79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EE6F84-B7CF-47BD-801F-EF45456B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FCA215A-C79E-44BC-9FC9-0778684D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F6A62-8242-4AB6-89A1-4286D17BB27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E08C3EB-4AD4-4C05-A81A-383B7871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25541B5-0926-487C-89D3-BE5710DE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8464A6-2585-45B1-9C92-8DC2617E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10E0DCB-339E-464D-ADEC-0199BDC3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F065F7-88AE-4813-8B9E-44F525CF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F5235B-0E8D-4DBD-A1ED-E8A6FABB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511B1F-29F9-4137-9F1A-1938BEC4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AA98ED-4419-4B23-A986-719C0F88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446AA5-67C1-457A-8B9D-5206FC1B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3309E3F-5C6E-4412-91C4-F433C52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11E3D-4302-45F0-90CB-BCCE9F943D3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69C10AB-E210-4E3D-BCA9-599D76F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378B43A-7C4B-4E5F-B14F-70862E6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38D8F9-FDEB-4B78-ACB8-A529BA77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900E6AC-0382-47B7-B381-D417A0CE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671F11-3E8F-4204-8ECF-4FDB9386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A51B72B-02B7-44B8-BAB3-268F6ACA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0EFDCF-41E7-420D-82A4-D19D5639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031516-6D9F-4B95-8D6E-5F0511E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11F091-B511-42C6-83B0-8A19DA10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B5846D-4C39-4FFE-BAB3-BA3C3420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6ADEA-DE5D-4671-862E-29D8A9062C6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1E754E-1129-4CB1-BC8E-7966B4E1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7280881-3E0B-4C69-A6FD-F60C4D11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9E76ED-12FC-435D-8C8A-1298F5E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6D8596F-8C18-4A80-B3C4-6851EE8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0BAEA8-0282-402F-B990-C0FED7F0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12AD51-6D2B-4D80-9223-9B9E96C1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C12FA0-C065-432F-833B-9EF6996E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37D125C-9D03-406F-AB13-4162CB5A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D75BD7-D239-4365-AE24-437FA7A6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500823-B27C-40DB-A017-DFA7EB2E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646D4-4374-44A9-8592-054E127BB8E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B6D42D-6E83-465D-8663-D6A4E1C2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9C1092-AC46-477D-8197-A140F426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5DEEE4-8E8C-4694-AA70-CE8FEEB9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82F9476-26F7-4C89-B5F3-0B7165D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76A545-AA9E-4402-8F57-5338295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B9B9142-20A5-4534-8607-94180BC6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89389A-D12C-4F3D-841C-5DCB0766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A01312-5541-40A1-957B-CFDED489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CC6F28-CF77-4F0F-99C6-B5BE50CA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130C8D-5724-4379-8BF3-A3F7DFCB04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6EC4F-8D9D-4809-B48E-652DE9EDA72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DC8533-CADC-47A8-9B72-FD343D7BBB6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94C898-B99F-4923-A80D-43CA1CBDEAA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E9F26B-8F53-4F6A-8B01-14A3F53FA35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CA850-A1F8-4438-9DAD-AC3969552B0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26214-CB02-4A29-A30E-D35F30C7767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529251-5861-4160-BFE1-FC8D53F0EEA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B7244D-7861-4F7F-864B-9EFC575F94B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89A412-C3B3-4206-88ED-A1A36F82B6F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6CFFE1-3509-42ED-8692-643292A5677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15C2D4-1F76-412A-BED5-2DD63D462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1B10-0635-43DF-8593-1879164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2C358-FEA1-418E-B9AE-DF3358BA7CE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1BF79E-8E18-4E25-B527-8771AC4DF7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1E711-1C70-4F56-9557-13765D254F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69DC8-7C51-4532-9DAE-D65F4E18B8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1C7DC-E74E-4D4E-BE8D-21EA5D8E1A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A8C4A-2B4C-446F-8844-A14E4837D0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AB737-197F-4B0C-A2D5-7834723972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F4D006-7D29-4447-BDAE-63A00730EB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A8FBF-14C0-42D0-94A3-17D77AC4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F0A92-6A0D-4419-B127-AE3922E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8984B-A94E-4981-93A4-66449F20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2153-6B9B-418B-8FEF-32FDF328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A5251-D6F6-4AA2-91B0-9BA1BD38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105C2-7266-4F77-A60B-D4A9D17E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B05A0-1B40-4510-98AE-781F5BA5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49C21-E018-4B13-B04D-B8118206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546C9-5573-40F0-9A35-6B82AD1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809D7-DC1B-4CA2-9FC4-80CF78F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30DBB-26E2-4F3D-B934-74C49210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6EA2D-A0EC-4AE2-8EF3-94FFBAE6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81719-6A85-4E16-808E-09BD76BE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7DD1A-7C27-4869-A75D-F6E4B983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EEC1-7DE0-42E5-9130-F2EE4A48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7FA130-1815-47A5-91F3-D0EFB668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96CD57-72F9-47A7-B2FD-F812B061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A3F36-8BF5-4A7C-B0A6-A1399D73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547603-3009-40DA-8124-17B153ED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8AF0C6-A9BC-43DE-AD88-AC05B913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A502D-7470-4971-9059-D1F91D1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51F22-F943-4B2D-AF8F-0ECAD1C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4E403E-086F-4F9D-95F8-42735262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C7A1CF-311E-4886-87F0-501F01EE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13164F-91B8-4E3B-94DB-C68F504B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DA9A-F082-4BD8-8983-857EF942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643358-4044-414E-8ACD-4081A8D4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8BA62-8133-4DE8-9E25-7033B995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569667-568B-4F2B-85F0-56B59F74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E7D14-3DCF-4DC6-81F8-57D0D3D0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6463E3-3409-4094-873A-80C11CCF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D40B8B-EE3A-439E-95F9-6F198A00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484787-C2F9-4FF0-AF6C-E4335699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7EFF07-148E-429D-AFE8-D350EF4C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589B22-4BCA-41AD-9609-81DD80B9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3540A-83FC-49DB-A7C8-348DA88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321E-EEAD-4B8B-AFCF-9378B9DD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21AA4E-D1E8-42B5-AF56-884A905E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4DEB7F-A16A-4E16-B9E9-C0FE2957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0C807-C37F-413C-A66C-982795F3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88D32-3768-4441-AA42-58755ADC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3B1B92-CDA4-4190-9D50-704F2447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2C6488-C919-4470-9461-D1CDF68B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30C7BD-500D-4C52-812D-E4AAB0C7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2409E-BA2E-45CD-B029-B8CE537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CB6492-ACF3-42E2-A92B-C02FD107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5EC1C5-D4BC-4108-AFE0-50811B2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2D68-DC45-4013-BFC9-B477789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240855-C4F7-46FC-94DA-AD9BF573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7E6FBA-BA0E-445F-8FA9-27D0FD89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FEF60E-8BFE-4D21-9765-54DD002B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93CFC-DFFC-4AD8-BD73-1F4BD60A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AA2FE1-18DB-4345-9BCF-F6DF2CB1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FF1564-48A5-4594-AF1D-7ECEE2C6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112669-C3AC-4E5D-B19A-89FBB1F3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3A85D6-A0BD-45A4-81DF-D51F5A15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2A73AA-D8BB-4DB4-816B-43C481AC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BB98D5-FCBA-4CA9-840F-DF4B1765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EB6A-F7C4-4906-8D68-ABB55E94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75E408-4657-4499-9476-16545914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B7BB25-653A-47ED-9D73-36593A9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65732-295F-4B18-9F27-8C5A837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318CD6-4FC2-4F20-9088-DCDCD480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C24279-651F-452C-8CA7-41731AC6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823E7-A775-4076-BFB4-C91F3850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5CB7F-04F1-41C0-BA97-F023F553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D1EC9-B2A0-4ED3-A436-A086AF31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E1262-33BB-4B68-93C8-60C6D38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D24F6-B981-46CE-9096-01557AC1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2B2D-638D-41F1-90C1-836695B8619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19A5-E434-4B60-B9E5-29804D9F4C47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5624-9B9A-4AE1-9918-EF341BD96654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E656-70CA-4924-AFAE-0843BFFEEDD2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B22A-C1D0-4A2F-B5D3-1A0FE97DDA60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E578-496E-45A8-BEB6-A7FB6BDE310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8371-602D-465C-A737-0D246EB93AB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A50A-4C80-48D5-A48F-9374A693052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41F0-EE80-4032-9EE0-3B10150A47B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511-14C4-4B51-A810-630C4DCF684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A389-DC71-4546-AF69-D99B7D375A0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E4AC-58CE-484B-BF30-816B8BC76DD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3D2F-FDA9-402C-ADC2-D3BB9CA6323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0700-983C-4FDA-8B87-776C8F05314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1B71-0945-47D2-9BD3-A37808E70C8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8188-63B6-4265-9641-93066D594D5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4E51-7419-4D3B-8CC5-6D0037BEED6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113-697A-469E-90D4-CA06D898A14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A6D-C14A-4797-BAEE-478FBEF8CA4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8459-F7BA-4F63-B73C-11B1606A740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2396-903F-49CE-A924-B76C8728640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C9C7-EE45-40EB-A230-088A6A20CD2B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FBCA-43E0-45A4-8AD4-11BE24A3578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80D-A434-4525-BBA8-31938D8238D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9479-DBB1-4F52-9BC7-135AA6F4122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724D-C128-4729-BB9F-A5F5EAE3143A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-commerce portal design strateg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ortals provide enterprise wide solutions to a broad and diverse set of departmental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helps in providing solutions to business proce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olvement of end users and different stakeholders is necess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t the priorities and provide solutions to the business model through e-commerce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lps in defining a portal strateg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E238-4008-4B25-9422-30E7D5664A4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t the end of the chapter, the students would lear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need to design e-commerce port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framework to design the portal for effective channel manag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ation strategy for the port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E41C-F4ED-45F7-A9BE-A97516EC5765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Need for e-commerce port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351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Internet has impacted on the way we interacted with friends, carried out our business oper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Has impacted on brand equity of a firm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ecommerce surviving and growing every yea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Survived 7/11 because internet based organizations executed their disaster recovery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Survival was easy for the organizations who had e-commerce portal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Could regroup faste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dopted changes in the regulations faste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Least affected in corporate accounting scandal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fter dot com bust, ecommerce was an essential and growing part of the organiz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e-commerce portal gives optimum benefit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20680" indent="-2206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ligned with business model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44352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100"/>
            </a:b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81E1-4334-4477-86C5-40AB724FF5D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0492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olidate IT infrastructur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duce costs in maintai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et all the requirements of regulatory as well as other stakeholders, such 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uman Resource (HR) portal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nance portal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355680" indent="-17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arketing porta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IO is asked to justify existence of each portal and provide the value to the stakehold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ign the business model with technology investme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7120" indent="-17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commerce portal strategy  is desirable in consultation with all stakehild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9CAF-8829-4230-8371-3D4EFAB75C29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318960"/>
            <a:ext cx="7491240" cy="1114560"/>
          </a:xfrm>
          <a:prstGeom prst="rect">
            <a:avLst/>
          </a:prstGeom>
          <a:noFill/>
          <a:ln w="0">
            <a:noFill/>
          </a:ln>
        </p:spPr>
        <p:txBody>
          <a:bodyPr tIns="15228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Delivering Value through e-commerce portal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mbria"/>
                <a:ea typeface="Arial Unicode MS"/>
              </a:rPr>
              <a:t>Delivering Value through e-commerce portal..contd..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igning business model with portal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ng a steering committee for design and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head should be the leader for the committ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ng strategic goals that would feasible and also technically possi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nior management commit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road 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derstand As-Is and To-Be pro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stakeholders expec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measurement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tainab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oss functional integration for fu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versus techn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81D-85AE-4141-803C-E70F214B1BD1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Role of CIO in portal desig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CIO has been defined in many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ward looking organiz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 IT to support business goa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itiatives in IT infrastructur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ign IT goals with vision and missio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IO is </a:t>
            </a: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responsible for the information technology and computer systems that support organization goa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Use IT as a strategic tool for business mode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CIO is involved with analyzing and reworking existing business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dentifying and exploiting the enterprise's knowledge resour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to integrate IT with immediate business pla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Prepares an effective risk management pla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Involves stakeholders participation in decision mak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Gill Sans MT"/>
              </a:rPr>
              <a:t>On summary, CIO has a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bined role of enterprise architects, project managers, and business analys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756A-26B2-4D73-8E9F-46FB995194F4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Cloud Computing and e-commerce portal design</a:t>
            </a: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9144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oice of private, hybrid or public cloud - as per its convenience and business require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need to require spending time and efforts for designing the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daptation of best practices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global standardization of tools and procedur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reate a portal easier and faster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sier for new enterprise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sier for using data mines and Artificial Intelligen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 analytics tool from existing portal too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akes the development cost les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st suited to market niches, where small-volume manufacturing or niche talent and skills are requir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B605-E266-4FE9-833D-2FB587F5F6B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Case Study – Walmart.com and Futurebazaar.co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Analyze the case in the following manne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Industry characterist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Porter’s five for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Illustrate traditional supply cha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300" spc="-1" strike="noStrike">
                <a:solidFill>
                  <a:srgbClr val="464653"/>
                </a:solidFill>
                <a:latin typeface="Gill Sans MT"/>
              </a:rPr>
              <a:t>Advantages and disadvantages of traditional supply cha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Vision, Mission and Business goals of the compa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SWOT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Issues and challenges faced by the compa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strate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Challenges faced in changing from traditional to e-commerce strate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DA15-DD3F-49B0-8F53-C218DF89149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Case Study – Walmart.com and Futurebazaar.com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keholders and their value proposi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le of CIO in ecommerce strate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oadmap for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eering committ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Who should be members?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Roles and responsibilities for member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Communication Strategy during imple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Rewards and recognition to be given for motivating employe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Status review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Mileston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64653"/>
                </a:solidFill>
                <a:latin typeface="Gill Sans MT"/>
              </a:rPr>
              <a:t>Critical Success Factors to be reviewed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Gill Sans MT"/>
              </a:rPr>
              <a:t>Feedback mechanism for further improv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0AE7-79EE-4B21-A29F-E3F18587900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10T14:19:52Z</dcterms:modified>
  <cp:revision>428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