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0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9"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10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2"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3"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D450-7800-4CC1-9828-D6FAB4588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4004-CAF8-4584-A560-6B90B4CA1B1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E720-1735-4C21-9518-98C2832700D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C398C22-9AC6-444C-993A-40D6F5783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9863FA-7F51-4B77-B0EB-F54AB4135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8E9B2CFF-A07E-4513-ABBA-42AEBD6F54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52E2E8F8-A3A3-4B6B-8445-7355CCF2AB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C70F2051-515C-4BFE-AE80-EBD5A1A5AF6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EC669BA6-1A89-4ED4-9ECF-8F77E16273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5FFF288-D1F2-45D4-90BC-77FA37DBC6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BB280407-88C0-4804-89B0-A3289A744C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A86ADE78-7F22-48F8-9ECF-5C1FB148C1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A7FB7C05-B738-4877-B105-3587586990B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9C64C698-9EC1-4CEE-9344-13C8D53B8AF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A970A773-A4C3-4530-B5C4-943FA16C428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350C257-02FC-476A-9787-A4B8E7E98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B906353-462F-44E5-8046-9E7E35D5570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98F978D8-CE4F-4A77-8A57-4FD68D38F15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03208394-B595-4E01-BE2E-847EFF8AE9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006448CB-FB96-40B3-ADF2-F25263AEA8D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69F1A3A-22EA-4980-B7FB-A5F0C25B960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D33360E4-8C7C-4D68-88D1-54FB1BF539D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A82EB01F-C6DA-459B-B71E-0C5C2D200E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C3711968-3ACF-42A3-8E7B-09A375A4BB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E5D56872-2ADE-454B-A053-D9480C04CA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030C4B77-05FE-4741-BC0E-12D146BD2FE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E8C6A71-E80D-4723-9D64-F28533F88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4CC96705-566C-4939-9B50-9CEF0D9CB90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5D4DFCB-F4E1-4105-8EC6-CCC6C54DD9F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533FBE7-AB79-4841-A1AB-45226DCB03A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852F33C-DEFC-452D-AF3B-A9096BE373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F82AFF60-2C58-47E1-9DE6-F3F76623A71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2C0C85E6-440D-4792-A31E-7A1DB7848C5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C858579F-9E8A-4E4B-8DF5-F4BAB737A64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91E56CD4-D373-4780-96D9-9E677DE18D4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9098379-3F93-445B-9ECA-2957928B548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F13402A9-DF4C-4D3D-A420-54954397FD0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0711B-F43D-4CAB-8F15-E53CBB1F1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1A5B1D06-18FD-477B-9C27-3961B55CB4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3DD3CFFA-B985-4936-8CA8-B508D919085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13B0EA06-FE99-4A2B-9A61-2B1112EBC0A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2A3B8346-FA16-4AA7-B9A4-EF2DA8ACB5B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C0ECE1FA-A8B5-4964-857C-63EB2B806A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95982799-EAC3-4EA5-BDF9-8C2D490A1CD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4F26DD56-84C8-4F5F-9BA8-9DA24D10867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676181B4-3BF0-413A-A70A-2E22BCF9782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322B84D4-AC7E-428C-B2EC-BA71C88CCA5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60529997-FFD5-463C-9AC4-3300655CE08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CBC5E-CA53-4AFD-AE33-9D1C6EE91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E9C41349-2A19-4169-9E43-BCB4AE07D10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C455823E-E568-40BC-A6EE-47B9164E91A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F0F6CB81-D11B-4537-9539-E3B960474D4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F3520D29-5033-4C9A-9EA0-3B074133499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5ECC3BE5-F397-43B7-A91C-A7705920484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2FCADE39-CA3C-4FA8-B23C-891389EDED3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7CBE7C57-3B55-46E6-9DCB-6F5D4ED362E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2F48C7BC-E17D-4FD6-8EE9-54EB9F9FC2C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4EF6EC90-8CC7-43F0-BC91-04736F13252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B8B8CD84-9C02-4A36-A2B7-C0BCC69B016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492B9-3670-46A0-9619-85B2F3891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9CD2A112-B4A1-4B9D-8414-F5226C68E1E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E9029719-3585-45C3-9A9E-7CDE7946759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AF37F77D-D266-4217-BA3E-25B42263D06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2EB38D09-0FDD-4200-BA8A-F22632C3F75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2AA1E5D4-C1FF-4AAD-820E-A859F7484F2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56DFBEB8-8DA6-43E6-86BF-07A81F31C93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E012CE59-A131-40BC-BFD6-D53EA10B168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DC03D9D-4C0C-44AA-845A-BB389E6BE51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C0F4106-2D2F-49F9-983C-5A896DEB6A0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C6B0D73-3D34-4EC7-A74D-F45809FD6DE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1BDD3-D873-4BA3-B128-C1C9894DB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EA00C52-2B36-46A7-BE98-0F32AF7B6D8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2A05DCF-B157-44B9-9BC5-C47655F7C09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0CB22A4-FC2D-4C02-963D-1542350EE45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932DB92-2AAE-4AA3-8BA1-AC8FAEDC7BD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537C495-0ED9-4E4F-991F-4F40A0E3D37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5BF7C22-EB7B-4AE5-A875-F58139EDAFE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6694AD6-2CCA-400B-B337-A5FEFC463B4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7F4BDB05-B5E7-40B5-859A-22E5C4E10FBE}"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491B81E-247C-4AE0-937F-D6EF59C346CD}"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264B19DE-46AA-4BCC-B8B2-0A6EDF32744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0E8D2-EE06-4180-AF30-BCA34D75B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E9BD1BC-CAF5-4B23-8634-BD842B8D583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315FB42-8770-48B9-8022-82732EE03E2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0FBEDBB-11F2-4037-BCF9-1506BAA1749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57BD6AB-0A30-4603-BAC4-5E584F91C61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A7A08F6-46BE-427F-9780-CE442413147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F1285D4-2890-413C-80D9-5AC97493D16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C306AB1-F852-4714-B1B5-D51EF50B7D3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56325CD-30B2-427F-8C8C-7BA8DF834F0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BC9EAB5-8CC6-475D-AEBD-0D14D853D3F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86DDCE34-7B4E-475B-904C-DF9732E8F389}"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13AFD-57E1-45EB-9323-4AF3DEEB2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34D26473-152F-43F5-814D-42BF0593CA2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1C680AE3-2FB9-4355-9246-8C360F08959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9D60482-3928-4C50-96C2-00335F124EF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F65E243-D55C-44C7-9CD0-413F571813D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8CF89DF-C784-4C9D-8610-18073ECC181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A9A5108-17F1-4FC1-8247-32260B79F3D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204FC489-AF32-4CCD-99FF-44586B4A9D59}"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C963E4C-67EF-4802-9258-5BF8F940871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243D95A-A3FF-4FA2-ADF1-C1FC9D0C240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F455A09-6B98-47F8-8E26-FD531F4146B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A0888-D299-4AA3-969F-1F54E438D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033AAE19-196E-41BC-977A-D8FC09DAE57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4EE2FD8A-1545-47FC-B4D9-BAD59A2C0C6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C3AD5FA3-A7B4-435A-9002-A6F222F0FB88}"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C9532C4-8467-4A18-83FF-0BB73E66BC64}"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BF7C467-F2DA-4639-818E-52644F4FA0F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07797782-11B3-4E6B-A6B4-054C9D591A0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22EC098-352C-41A9-98D4-486962E93600}"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2EC7CDE-AD17-48A5-8F0C-E7DD8599808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2385548D-A60C-4E24-A8EC-D87C07028BC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6CF1FD7-094E-494E-9EF3-05FAB356497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00EEDD-EB14-48EA-9DCC-97D53AF01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9FF0A-550C-4F67-937E-5EE81780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F996F0B-E711-4D8B-B528-463D2F9F19F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8FAFCF2-E55B-4EDE-B86A-64A4A3366EA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4681465-EDDE-4260-B4A4-61B1942DFCF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905266B-0D54-4CB7-9EB9-78E0D3798AAB}"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53B36A7-014A-4DC7-B524-57DE3F790590}"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98300FAB-885F-44EF-8A54-48B01E4D949E}"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D32A766-DE8D-4708-9964-DE14155BAFD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9EB181D-BC98-4387-88C5-DA2CB1749B1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CF4C32B-ABE9-4807-AE9E-217477CB7B8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5084F63-0C7E-4440-866B-D58192A85B5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43F02-AA5A-4BDF-8B2E-2A758683B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5A3D435-FD62-4C66-8072-BFA69A06A14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4A740AB-1E3F-49CB-88F6-4EB1D625872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8E2A071-2FAF-45D3-BB70-3D74FEA5371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1A1FF8D-8856-406A-9C3E-2D3EF0154B7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DDAE0B7-B076-4C2E-B241-584A827039B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FF0622F6-F487-4301-AA8E-64CAFAD3042B}"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5FD052ED-B77B-4480-8BAA-90E0926502D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7447D7DB-B80A-41BB-BFF7-BD66FCB786C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3E0A040-F273-48CF-92DE-C08F2D148EA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126E22B-93C6-4904-9423-B046C36A384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A7E4D-A239-4739-A9B3-6683CF564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A234DCF-7F14-41C8-B9C2-59919FBD7EC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D663A01-2234-4078-A9FA-87E17457025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3F6D93F-0AFE-4F5C-B273-99DEFE4D39F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9BEEA42-A95A-44BE-AFB2-DB53C3FA002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05199E4-E6B8-4BB7-938A-1150B48DB2E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59754E0-6263-4AA3-8E02-9CC73AC25B8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D0D5932-D673-44F2-98D5-4B57711FE08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C9850903-DE0C-418F-A75B-293D69A7393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1BEC48C2-16D5-4BE9-80A3-4C28A9E0A6B9}"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F71E6ADC-BD36-4DCD-8772-F5764CED2B2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7B639-5684-4346-9CAB-21D07AF58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374247AE-3D29-4DAD-B24D-38DFFBAA18D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476417F-AB59-4A70-A39B-DBC30C8CA6C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88FEE50-D9E0-490E-AAA9-8B37A101A44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88D0F84-2C1A-46F1-BB0A-AD2C3C5CCB3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40A94892-180E-4122-BA3F-4313F889D145}"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0E36532-FE85-4FA1-BB94-604753D22C4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F6352C0-11D4-45C7-A477-85A3F0ACAFA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D953903-E840-46B1-AC7D-4588D6685C9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DA6734E-4144-40CE-B2B1-1BFBDCA5AE6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28EDD6E0-F7FF-4CBA-B27E-ECB636E02E8C}"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BADF1-C5F4-41D2-86D1-13B0F7752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8EFB0B9-6B02-4FD5-8C51-30CE90B8C72C}"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646DE36-0C4B-4489-8208-604FEDF1E339}"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43B4917-B610-4E70-BC9D-2C0A949BD40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0EA7E80-7738-45B2-BB9F-2EAC547AE8F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0FFAF54-F51B-4127-986F-24849C5E987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5CA9721-BE5B-4966-BF98-CAC9F60DA49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46CC276-4E25-45CE-A24F-5A88DEE328B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3FAC309-CD5B-406C-BE8B-18A9F9F5A23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C7C9B96-C881-4C51-994D-38A8CB38BDF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8F5E85C-06FB-4F94-87AA-ABBE2FB1200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B158599-E9BD-40C5-AEDA-0D8DE71E65A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64682817-D82F-4F5C-BB34-A59296663F0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1BA6B661-9A96-4A17-93C0-F15D234E9B08}"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410852BD-7DEF-4AA9-9CAB-CB536AB2E87F}"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D3D380D1-DB34-4C2F-8846-4269F7A46F89}"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D97E011-A4F1-4FE6-8EA6-FE24282A8C7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4212D5C-791F-4DB1-8E7C-CC587A97056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6612D58-0047-40A9-8002-629921F0369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8A96D7FC-8C60-41E7-A5E8-2B1261E3A8A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4E84E75-A793-4343-989C-78AB11E43021}"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47E05E74-1468-488A-8A3A-9E1372BED62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06B0A0-86C0-4C10-9AD6-65791E5A09E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DFAE898-0F22-4ACF-BBA8-C2E75A2C397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5F80C7D-30C8-4A36-A54A-FEEA1BF2B86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BE0ECEC5-3965-4E18-A36D-CE6EEB76636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6D93C431-0D85-4EC0-9A60-53F5D864ACED}"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2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32BA07CD-3B51-4AA6-9A29-33A65256952D}"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4922E4C2-2F70-4497-AD9F-EAE44FBBA89E}"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E43BA311-98DD-483C-AC47-FADA6EC1BD2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3D37ADBE-B6FE-4A58-B28F-0A19939B197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ED3BB75-B05B-4476-8B60-48D7755FFF4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84CAACDA-6781-4EFB-9B6B-D67066B626B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5CD045-7200-48B9-8387-351D02A6EA9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220966D4-BEC6-4602-B0E8-8169778CE7AB}"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8BB321E-D0E2-4FDB-A896-611E9640831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85C9871A-4595-40EF-B896-7EC958ABC8D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354F5B2A-6F16-45D8-8FEB-8BDABF7C181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67A4E09-C937-4985-B928-A54FAEFFCE8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B7E9F85C-123F-428C-AE2C-A081A548CED9}"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948D639C-4CE4-41E8-994C-4E891AA10A24}"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A48EC790-8A82-4222-B178-B8256A87A848}"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C2093B9C-A366-4705-BA8A-D984EF55FA9D}"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87FDB7E3-F990-49D6-A348-1D6D2D95DDC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D67BC18-15E5-4277-9FE2-BE1FB30F897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B928F245-74A1-4EA8-BF18-61ADF24F25F6}"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193CF8E5-A578-4047-9A95-458AB448B870}"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28B4BEA-C8DC-4E57-A44A-CF240769040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5E06449C-FC25-47B8-8538-426D54ABF975}"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2790F060-F5B4-4D7F-8447-EAB0611C2A1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C99BE029-347B-4FF9-98EB-CD3FA39E670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15285328-FDF4-4AB7-8B51-F323C183C74E}"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09223B28-17F2-4EB5-B24E-5303DBB1F8B2}"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E124EE6C-DE32-4681-841A-D8CDB5F75A37}"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2"/>
          </p:nvPr>
        </p:nvSpPr>
        <p:spPr/>
        <p:txBody>
          <a:bodyPr/>
          <a:p>
            <a:fld id="{11A442DC-9D05-4363-ADDB-9E7C7627AC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026B19D-8B53-484B-AF5A-32FF48E841D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B40B0B66-8AA3-44E0-952B-167F4A00C0E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73D7EF8C-7F5A-4597-B58E-369DCC5478F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73573CAF-0DED-4088-9AA2-1615CF174334}"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27E9A33D-9313-4DFC-8D19-C82AA93E287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55DB3881-BB18-4759-9B8B-ECDC8C92A3B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E6840079-DE22-461A-9657-2BB6D2CE6DD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66DC56A4-B33C-4667-9AF1-11CDC45C0FF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76DBA10D-42F3-4B1F-AEE3-EBFA2E9F298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EB552D5C-7BBC-49FE-A51F-08C6A3C33B7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2"/>
          </p:nvPr>
        </p:nvSpPr>
        <p:spPr/>
        <p:txBody>
          <a:bodyPr/>
          <a:p>
            <a:fld id="{A75928ED-1CE2-432F-94AF-F194A3F735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906150-3747-4DEC-AC6F-C566452C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CF1BA9-E9D4-4F3C-B248-0A2EE9FCB45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2"/>
          </p:nvPr>
        </p:nvSpPr>
        <p:spPr/>
        <p:txBody>
          <a:bodyPr/>
          <a:p>
            <a:fld id="{686417A7-0F3E-415E-BEAF-3CDFB808DA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49AF44-735A-4489-AF10-DA1A2F3915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7343DF-EF5C-4E1B-A5EE-3C816114FE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2D3224B-3B44-4B22-A091-7DBFCC71FC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823C89-0CF4-400C-85DF-C84C419879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05E55F2-70A0-4A80-A4E1-DB0876F61B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0B16EE7-AB95-46B2-8FE8-4963A65C5E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EB7F0FC-A3A1-4DC1-BF76-E5C28CFBDF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F71456D-23AD-429E-8613-A7F0B90B45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FE607D2-70D9-412D-82CE-F6F810C81A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70C025-7B21-4045-B04F-43CA90EAD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8B29806-5B75-4495-8962-1FC11E5734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2F9714D-6AC2-43EF-BA27-D1D0EAF3B2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34C331F-1606-44D8-B348-5AF9BCA0AF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634E4B6-6B04-4736-8776-F01EDB74A3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05A3B18-8953-4673-875B-C88D0DCB08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A7812BE-F5DB-4B8D-B35C-97E84718D1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FC0FC35-A88C-4300-967A-D7B647E769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5404E3C-0432-4DD1-9C2C-08A9C6FA82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DA6DA65-DC6F-411B-AD34-BD6B670F3C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7F7AF588-2AF2-4B07-A715-101039A0E56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EDA1EB-D21B-49B5-90EC-25168C008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7EA11E09-0F4F-4CFB-8C35-960564131D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14A6D74-D562-4A16-81E2-1BA3D73989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49E5C1E0-2EA7-4D0C-8843-75E0E06F7D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0725F0E5-FC09-47F0-B993-96BF2F55A0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3042E82-EF39-4278-BC83-11FC4CB6A5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239EF9E-B406-4873-A196-A8406E6868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2063953-28AC-4E4F-BD58-263DA0B143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9A00A76-23BE-4AFC-ADCE-81E3DAF54C6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19EBB4A-4A6E-438B-A6B0-95DEDB1C13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12B3E145-31EB-4517-96D9-3E43EDFBF01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E1FE5E-9A3C-43EA-BFB2-C269269AC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DE9F442-6C19-4B84-A87F-13ADA3E060F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A8D21F76-FDD2-42D1-B483-B195D1AC15E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FE7CBA06-7E41-436F-A1AF-29E5334F26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C28F0103-8803-4EAD-924F-4D8AE1392E1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0446945F-B7E6-457C-8FD5-139F59A0FB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4EA813A3-54D9-4485-AC8E-D9D2D48AC6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13E690E3-D927-4C96-B18D-71F987676F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60E54A83-0826-45F4-B388-1F571A5EA29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403881E-8064-4DC4-8E87-3C1FEE8058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770AC53-5CAA-401B-BEC4-95E02A0157B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020715-8B4A-43D6-8DD6-89AB9EB8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D6E3D49D-9DA5-44B2-8456-18D67F7F28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84BF7592-8DDA-45DC-8127-AAA50999B2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E128085E-8621-40D3-93E2-ABDEB69B8F5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DC691BC0-50FD-4088-A591-0986B8A5988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8A8D2B2-8947-41BB-9233-A31098FFA65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4ADE37C0-7E8E-4C00-A1B4-A4BC1DD3C5E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8E4852B-D8CE-48EE-BED3-6B1F0C021B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72ECEBE-6709-44F9-B03C-F4801FC0825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8ADE31E-9378-4B7A-86B2-BD2A68DC3DC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2A023DF-F3E0-43E9-AD6B-A7EEC52CBE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97BFE3-FB1F-4E95-8D85-9A51A13C7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C93F4E7-F2FF-49E6-A2A8-44C5987006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3E1A308-DCB1-4B64-A142-9E84B26693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3819DD2-DF43-4DB4-BE01-E50CB8E90F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C65148F7-F60D-43FA-B40C-DDB24B54F3D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38259345-EA0D-430A-B9A2-F5D49400714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A38D73AE-397C-4CDC-8F00-9F0892AE623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140C0E0A-F62F-44AB-928F-B2F72762B4B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1EB3B402-FD7D-48D3-8389-0E7871EC383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33A78C06-BC4A-42C0-9D10-0EEE491A79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7D5211D6-6911-4B5D-ACF0-8993F427A7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B3F734-3291-42CB-B3AB-2F134D327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1E555E4C-C0AA-4426-8929-B111158B12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E22457F-2380-4DFC-BD15-BF89F5C13D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E323B4A2-A2EE-44A0-ACCC-87AC76290ED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DB1480B-B358-4EA6-8BD3-C7E92BCF1B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28A1E5DB-431D-43F4-92C6-8AC9A17D66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1CDCCB31-7C6D-4728-98BB-7C6F8B8D2BB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2076F6E8-F3DC-407D-AE1D-B365119EEAB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0263BABC-7AEB-49C4-B021-0EE00D4EE25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13C79FFC-7592-4A76-8E0B-5E667FCB5E9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269AB8B7-0C6B-4264-A61B-B2D9DB6A74F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left_bar art"/>
          <p:cNvPicPr/>
          <p:nvPr/>
        </p:nvPicPr>
        <p:blipFill>
          <a:blip r:embed="rId3"/>
          <a:stretch/>
        </p:blipFill>
        <p:spPr>
          <a:xfrm>
            <a:off x="0" y="0"/>
            <a:ext cx="2514600" cy="7086600"/>
          </a:xfrm>
          <a:prstGeom prst="rect">
            <a:avLst/>
          </a:prstGeom>
          <a:ln w="0">
            <a:noFill/>
          </a:ln>
        </p:spPr>
      </p:pic>
      <p:sp>
        <p:nvSpPr>
          <p:cNvPr id="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 name="PlaceHolder 3"/>
          <p:cNvSpPr>
            <a:spLocks noGrp="1"/>
          </p:cNvSpPr>
          <p:nvPr>
            <p:ph type="dt" idx="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4"/>
          <p:cNvSpPr>
            <a:spLocks noGrp="1"/>
          </p:cNvSpPr>
          <p:nvPr>
            <p:ph type="sldNum" idx="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4422-9DC3-42B1-BED2-21B818469275}"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80"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81" name="PlaceHolder 3"/>
          <p:cNvSpPr>
            <a:spLocks noGrp="1"/>
          </p:cNvSpPr>
          <p:nvPr>
            <p:ph type="dt" idx="27"/>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PlaceHolder 4"/>
          <p:cNvSpPr>
            <a:spLocks noGrp="1"/>
          </p:cNvSpPr>
          <p:nvPr>
            <p:ph type="sldNum" idx="28"/>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6A06-6C03-4F32-8F44-55B83088AADA}"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83" name="PlaceHolder 5"/>
          <p:cNvSpPr>
            <a:spLocks noGrp="1"/>
          </p:cNvSpPr>
          <p:nvPr>
            <p:ph type="ftr" idx="29"/>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21"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22" name="PlaceHolder 3"/>
          <p:cNvSpPr>
            <a:spLocks noGrp="1"/>
          </p:cNvSpPr>
          <p:nvPr>
            <p:ph type="dt" idx="30"/>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PlaceHolder 4"/>
          <p:cNvSpPr>
            <a:spLocks noGrp="1"/>
          </p:cNvSpPr>
          <p:nvPr>
            <p:ph type="sldNum" idx="31"/>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AC07-9020-4CCB-B3F7-A16B0171E312}"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24" name="PlaceHolder 5"/>
          <p:cNvSpPr>
            <a:spLocks noGrp="1"/>
          </p:cNvSpPr>
          <p:nvPr>
            <p:ph type="ftr" idx="32"/>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6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63" name="PlaceHolder 3"/>
          <p:cNvSpPr>
            <a:spLocks noGrp="1"/>
          </p:cNvSpPr>
          <p:nvPr>
            <p:ph type="dt" idx="33"/>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PlaceHolder 4"/>
          <p:cNvSpPr>
            <a:spLocks noGrp="1"/>
          </p:cNvSpPr>
          <p:nvPr>
            <p:ph type="sldNum" idx="34"/>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C4C2-D53A-4C91-8757-4EDE2402AAA5}"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65" name="PlaceHolder 5"/>
          <p:cNvSpPr>
            <a:spLocks noGrp="1"/>
          </p:cNvSpPr>
          <p:nvPr>
            <p:ph type="ftr" idx="35"/>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503"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504" name="PlaceHolder 3"/>
          <p:cNvSpPr>
            <a:spLocks noGrp="1"/>
          </p:cNvSpPr>
          <p:nvPr>
            <p:ph type="dt" idx="36"/>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PlaceHolder 4"/>
          <p:cNvSpPr>
            <a:spLocks noGrp="1"/>
          </p:cNvSpPr>
          <p:nvPr>
            <p:ph type="sldNum" idx="37"/>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61C6-8E27-4BAB-93B0-A4CFD58634C8}"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06" name="PlaceHolder 5"/>
          <p:cNvSpPr>
            <a:spLocks noGrp="1"/>
          </p:cNvSpPr>
          <p:nvPr>
            <p:ph type="ftr" idx="38"/>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3"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4"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4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9" name="PlaceHolder 3"/>
          <p:cNvSpPr>
            <a:spLocks noGrp="1"/>
          </p:cNvSpPr>
          <p:nvPr>
            <p:ph type="dt" idx="39"/>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PlaceHolder 4"/>
          <p:cNvSpPr>
            <a:spLocks noGrp="1"/>
          </p:cNvSpPr>
          <p:nvPr>
            <p:ph type="ftr" idx="40"/>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PlaceHolder 5"/>
          <p:cNvSpPr>
            <a:spLocks noGrp="1"/>
          </p:cNvSpPr>
          <p:nvPr>
            <p:ph type="sldNum" idx="41"/>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189C-F5C1-4D3B-B910-E42466A61E1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8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90" name="PlaceHolder 3"/>
          <p:cNvSpPr>
            <a:spLocks noGrp="1"/>
          </p:cNvSpPr>
          <p:nvPr>
            <p:ph type="dt" idx="4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PlaceHolder 4"/>
          <p:cNvSpPr>
            <a:spLocks noGrp="1"/>
          </p:cNvSpPr>
          <p:nvPr>
            <p:ph type="ftr" idx="4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2" name="PlaceHolder 5"/>
          <p:cNvSpPr>
            <a:spLocks noGrp="1"/>
          </p:cNvSpPr>
          <p:nvPr>
            <p:ph type="sldNum" idx="4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6DF2-A479-4517-8A98-DB1B590008B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6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633" name="PlaceHolder 3"/>
          <p:cNvSpPr>
            <a:spLocks noGrp="1"/>
          </p:cNvSpPr>
          <p:nvPr>
            <p:ph type="dt" idx="45"/>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4" name="PlaceHolder 4"/>
          <p:cNvSpPr>
            <a:spLocks noGrp="1"/>
          </p:cNvSpPr>
          <p:nvPr>
            <p:ph type="ftr" idx="46"/>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5" name="PlaceHolder 5"/>
          <p:cNvSpPr>
            <a:spLocks noGrp="1"/>
          </p:cNvSpPr>
          <p:nvPr>
            <p:ph type="sldNum" idx="47"/>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D4F9-0C95-4534-A0B9-2122BC97A297}"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74" name="PlaceHolder 3"/>
          <p:cNvSpPr>
            <a:spLocks noGrp="1"/>
          </p:cNvSpPr>
          <p:nvPr>
            <p:ph type="dt" idx="4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PlaceHolder 4"/>
          <p:cNvSpPr>
            <a:spLocks noGrp="1"/>
          </p:cNvSpPr>
          <p:nvPr>
            <p:ph type="ftr" idx="4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PlaceHolder 5"/>
          <p:cNvSpPr>
            <a:spLocks noGrp="1"/>
          </p:cNvSpPr>
          <p:nvPr>
            <p:ph type="sldNum" idx="5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8EC2-2E64-4548-A7DB-16855D22BAF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1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15" name="PlaceHolder 3"/>
          <p:cNvSpPr>
            <a:spLocks noGrp="1"/>
          </p:cNvSpPr>
          <p:nvPr>
            <p:ph type="dt" idx="5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6" name="PlaceHolder 4"/>
          <p:cNvSpPr>
            <a:spLocks noGrp="1"/>
          </p:cNvSpPr>
          <p:nvPr>
            <p:ph type="ftr" idx="5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7" name="PlaceHolder 5"/>
          <p:cNvSpPr>
            <a:spLocks noGrp="1"/>
          </p:cNvSpPr>
          <p:nvPr>
            <p:ph type="sldNum" idx="5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CBED-10BF-43A5-9D8E-2D07521963A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4"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57" name="PlaceHolder 3"/>
          <p:cNvSpPr>
            <a:spLocks noGrp="1"/>
          </p:cNvSpPr>
          <p:nvPr>
            <p:ph type="dt" idx="5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8" name="PlaceHolder 4"/>
          <p:cNvSpPr>
            <a:spLocks noGrp="1"/>
          </p:cNvSpPr>
          <p:nvPr>
            <p:ph type="ftr" idx="5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9" name="PlaceHolder 5"/>
          <p:cNvSpPr>
            <a:spLocks noGrp="1"/>
          </p:cNvSpPr>
          <p:nvPr>
            <p:ph type="sldNum" idx="5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B8CB-BD3B-47C8-B4BE-4DB52E2E212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3BCE-1C21-49C3-A5B0-95921C89AF8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4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0" name="Picture 2" descr="left_bar art"/>
          <p:cNvPicPr/>
          <p:nvPr/>
        </p:nvPicPr>
        <p:blipFill>
          <a:blip r:embed="rId3"/>
          <a:stretch/>
        </p:blipFill>
        <p:spPr>
          <a:xfrm>
            <a:off x="0" y="0"/>
            <a:ext cx="2514600" cy="708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9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00" name="PlaceHolder 3"/>
          <p:cNvSpPr>
            <a:spLocks noGrp="1"/>
          </p:cNvSpPr>
          <p:nvPr>
            <p:ph type="dt" idx="5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PlaceHolder 4"/>
          <p:cNvSpPr>
            <a:spLocks noGrp="1"/>
          </p:cNvSpPr>
          <p:nvPr>
            <p:ph type="ftr" idx="5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PlaceHolder 5"/>
          <p:cNvSpPr>
            <a:spLocks noGrp="1"/>
          </p:cNvSpPr>
          <p:nvPr>
            <p:ph type="sldNum" idx="5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3B13-6A8E-4D75-8DEB-48643E4981C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0"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1"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44" name="PlaceHolder 3"/>
          <p:cNvSpPr>
            <a:spLocks noGrp="1"/>
          </p:cNvSpPr>
          <p:nvPr>
            <p:ph type="dt" idx="6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5" name="PlaceHolder 4"/>
          <p:cNvSpPr>
            <a:spLocks noGrp="1"/>
          </p:cNvSpPr>
          <p:nvPr>
            <p:ph type="ftr" idx="6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PlaceHolder 5"/>
          <p:cNvSpPr>
            <a:spLocks noGrp="1"/>
          </p:cNvSpPr>
          <p:nvPr>
            <p:ph type="sldNum" idx="6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2E0F-4629-4491-9F14-7A9E6F34390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5"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8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888" name="PlaceHolder 3"/>
          <p:cNvSpPr>
            <a:spLocks noGrp="1"/>
          </p:cNvSpPr>
          <p:nvPr>
            <p:ph type="dt" idx="6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PlaceHolder 4"/>
          <p:cNvSpPr>
            <a:spLocks noGrp="1"/>
          </p:cNvSpPr>
          <p:nvPr>
            <p:ph type="ftr" idx="6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PlaceHolder 5"/>
          <p:cNvSpPr>
            <a:spLocks noGrp="1"/>
          </p:cNvSpPr>
          <p:nvPr>
            <p:ph type="sldNum" idx="6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AF66-F170-4EE5-97FA-8ADE953ACE4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29" name="PlaceHolder 3"/>
          <p:cNvSpPr>
            <a:spLocks noGrp="1"/>
          </p:cNvSpPr>
          <p:nvPr>
            <p:ph type="dt" idx="6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PlaceHolder 4"/>
          <p:cNvSpPr>
            <a:spLocks noGrp="1"/>
          </p:cNvSpPr>
          <p:nvPr>
            <p:ph type="ftr" idx="6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1" name="PlaceHolder 5"/>
          <p:cNvSpPr>
            <a:spLocks noGrp="1"/>
          </p:cNvSpPr>
          <p:nvPr>
            <p:ph type="sldNum" idx="6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393C-5C7A-4E1E-A050-E84ED5DB1C3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73" name="PlaceHolder 3"/>
          <p:cNvSpPr>
            <a:spLocks noGrp="1"/>
          </p:cNvSpPr>
          <p:nvPr>
            <p:ph type="dt" idx="6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4" name="PlaceHolder 4"/>
          <p:cNvSpPr>
            <a:spLocks noGrp="1"/>
          </p:cNvSpPr>
          <p:nvPr>
            <p:ph type="ftr" idx="7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PlaceHolder 5"/>
          <p:cNvSpPr>
            <a:spLocks noGrp="1"/>
          </p:cNvSpPr>
          <p:nvPr>
            <p:ph type="sldNum" idx="7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2376-9E8F-41B2-A7AF-D3A9CEF7F8B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012" name="Picture 2" descr="left_bar art"/>
          <p:cNvPicPr/>
          <p:nvPr/>
        </p:nvPicPr>
        <p:blipFill>
          <a:blip r:embed="rId3"/>
          <a:stretch/>
        </p:blipFill>
        <p:spPr>
          <a:xfrm>
            <a:off x="0" y="0"/>
            <a:ext cx="2514600" cy="7086600"/>
          </a:xfrm>
          <a:prstGeom prst="rect">
            <a:avLst/>
          </a:prstGeom>
          <a:ln w="0">
            <a:noFill/>
          </a:ln>
        </p:spPr>
      </p:pic>
      <p:sp>
        <p:nvSpPr>
          <p:cNvPr id="1013"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4"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15"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1016"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10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0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019" name="PlaceHolder 3"/>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B027-E56C-4026-B9DE-169973FFA65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1020" name="PlaceHolder 4"/>
          <p:cNvSpPr>
            <a:spLocks noGrp="1"/>
          </p:cNvSpPr>
          <p:nvPr>
            <p:ph type="ftr" idx="73"/>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7" name="Picture 2" descr="left_bar art"/>
          <p:cNvPicPr/>
          <p:nvPr/>
        </p:nvPicPr>
        <p:blipFill>
          <a:blip r:embed="rId3"/>
          <a:stretch/>
        </p:blipFill>
        <p:spPr>
          <a:xfrm>
            <a:off x="0" y="0"/>
            <a:ext cx="2514600" cy="7086600"/>
          </a:xfrm>
          <a:prstGeom prst="rect">
            <a:avLst/>
          </a:prstGeom>
          <a:ln w="0">
            <a:noFill/>
          </a:ln>
        </p:spPr>
      </p:pic>
      <p:sp>
        <p:nvSpPr>
          <p:cNvPr id="88"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828800" y="579132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ias M. Awad</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0"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1"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92"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9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9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95"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80EE-A6FD-4570-8372-CB20A587E59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3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35" name="PlaceHolder 3"/>
          <p:cNvSpPr>
            <a:spLocks noGrp="1"/>
          </p:cNvSpPr>
          <p:nvPr>
            <p:ph type="dt" idx="9"/>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PlaceHolder 4"/>
          <p:cNvSpPr>
            <a:spLocks noGrp="1"/>
          </p:cNvSpPr>
          <p:nvPr>
            <p:ph type="sldNum" idx="10"/>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BFFE-E3F7-4DFD-A644-68C453804962}"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37" name="PlaceHolder 5"/>
          <p:cNvSpPr>
            <a:spLocks noGrp="1"/>
          </p:cNvSpPr>
          <p:nvPr>
            <p:ph type="ftr" idx="11"/>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75"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76" name="PlaceHolder 3"/>
          <p:cNvSpPr>
            <a:spLocks noGrp="1"/>
          </p:cNvSpPr>
          <p:nvPr>
            <p:ph type="dt" idx="12"/>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PlaceHolder 4"/>
          <p:cNvSpPr>
            <a:spLocks noGrp="1"/>
          </p:cNvSpPr>
          <p:nvPr>
            <p:ph type="sldNum" idx="13"/>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C02E-BFBB-45E3-9E5F-BFDB2B40AE8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78" name="PlaceHolder 5"/>
          <p:cNvSpPr>
            <a:spLocks noGrp="1"/>
          </p:cNvSpPr>
          <p:nvPr>
            <p:ph type="ftr" idx="14"/>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16"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17" name="PlaceHolder 3"/>
          <p:cNvSpPr>
            <a:spLocks noGrp="1"/>
          </p:cNvSpPr>
          <p:nvPr>
            <p:ph type="dt" idx="15"/>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PlaceHolder 4"/>
          <p:cNvSpPr>
            <a:spLocks noGrp="1"/>
          </p:cNvSpPr>
          <p:nvPr>
            <p:ph type="sldNum" idx="16"/>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781B-84E0-4B72-AE3D-0DE0824FAF23}"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19" name="PlaceHolder 5"/>
          <p:cNvSpPr>
            <a:spLocks noGrp="1"/>
          </p:cNvSpPr>
          <p:nvPr>
            <p:ph type="ftr" idx="17"/>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57"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58" name="PlaceHolder 3"/>
          <p:cNvSpPr>
            <a:spLocks noGrp="1"/>
          </p:cNvSpPr>
          <p:nvPr>
            <p:ph type="dt" idx="18"/>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PlaceHolder 4"/>
          <p:cNvSpPr>
            <a:spLocks noGrp="1"/>
          </p:cNvSpPr>
          <p:nvPr>
            <p:ph type="sldNum" idx="19"/>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BD2D-76D9-4BC8-BC10-72DF17617A6B}"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20"/>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98"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99" name="PlaceHolder 3"/>
          <p:cNvSpPr>
            <a:spLocks noGrp="1"/>
          </p:cNvSpPr>
          <p:nvPr>
            <p:ph type="dt" idx="2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0" name="PlaceHolder 4"/>
          <p:cNvSpPr>
            <a:spLocks noGrp="1"/>
          </p:cNvSpPr>
          <p:nvPr>
            <p:ph type="sldNum" idx="2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66E6-4B60-4C82-8020-B7EE65229B5D}"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01" name="PlaceHolder 5"/>
          <p:cNvSpPr>
            <a:spLocks noGrp="1"/>
          </p:cNvSpPr>
          <p:nvPr>
            <p:ph type="ftr" idx="2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39"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40" name="PlaceHolder 3"/>
          <p:cNvSpPr>
            <a:spLocks noGrp="1"/>
          </p:cNvSpPr>
          <p:nvPr>
            <p:ph type="dt" idx="24"/>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PlaceHolder 4"/>
          <p:cNvSpPr>
            <a:spLocks noGrp="1"/>
          </p:cNvSpPr>
          <p:nvPr>
            <p:ph type="sldNum" idx="25"/>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675B-86B7-4791-A5D6-4E1DDCB53538}"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6"/>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84EC-6977-4443-B823-053B2EE9B995}" type="slidenum">
              <a:rPr b="0" i="1" lang="en-US" sz="1400" spc="-1" strike="noStrike">
                <a:solidFill>
                  <a:srgbClr val="996633"/>
                </a:solidFill>
                <a:latin typeface="Arial"/>
              </a:rPr>
              <a:t>&lt;number&gt;</a:t>
            </a:fld>
            <a:endParaRPr b="0" i="1" lang="en-US" sz="1400" spc="-1" strike="noStrike">
              <a:solidFill>
                <a:srgbClr val="000000"/>
              </a:solidFill>
              <a:latin typeface="Arial"/>
            </a:endParaRPr>
          </a:p>
        </p:txBody>
      </p:sp>
      <p:sp>
        <p:nvSpPr>
          <p:cNvPr id="1065" name="Rectangle 12"/>
          <p:cNvSpPr/>
          <p:nvPr/>
        </p:nvSpPr>
        <p:spPr>
          <a:xfrm>
            <a:off x="3124080" y="6245280"/>
            <a:ext cx="3353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Rectangle 7"/>
          <p:cNvSpPr/>
          <p:nvPr/>
        </p:nvSpPr>
        <p:spPr>
          <a:xfrm>
            <a:off x="380880" y="2286000"/>
            <a:ext cx="86868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Chapter Seven</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Ecommerce Strategy</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rPr>
              <a:t>Learning objectives</a:t>
            </a:r>
            <a:endParaRPr b="0" lang="en-US" sz="4000" spc="-1" strike="noStrike">
              <a:solidFill>
                <a:srgbClr val="464653"/>
              </a:solidFill>
              <a:latin typeface="Bookman Old Style"/>
            </a:endParaRPr>
          </a:p>
        </p:txBody>
      </p:sp>
      <p:sp>
        <p:nvSpPr>
          <p:cNvPr id="10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ategic positioning of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etitive advantage from ecommerce</a:t>
            </a:r>
            <a:endParaRPr b="0" lang="en-US" sz="2000" spc="-1" strike="noStrike">
              <a:solidFill>
                <a:srgbClr val="000000"/>
              </a:solidFill>
              <a:latin typeface="Gill Sans MT"/>
            </a:endParaRPr>
          </a:p>
        </p:txBody>
      </p:sp>
      <p:sp>
        <p:nvSpPr>
          <p:cNvPr id="106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7F24-F6C6-403D-B7C7-3F3A50F96CCE}"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10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net has impacted on the way we interacted with friends, carried out our business operation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impacted on brand equity  of a fi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created competitive advant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as built brand awareness in online markets through ecommerce rout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isting brand assets onlin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etitive ecommerce initiatives</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br>
              <a:rPr sz="2300"/>
            </a:br>
            <a:endParaRPr b="0" lang="en-US" sz="2300" spc="-1" strike="noStrike">
              <a:solidFill>
                <a:srgbClr val="464653"/>
              </a:solidFill>
              <a:latin typeface="Gill Sans MT"/>
            </a:endParaRPr>
          </a:p>
        </p:txBody>
      </p:sp>
      <p:sp>
        <p:nvSpPr>
          <p:cNvPr id="107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8BF9-E378-4269-B637-98AF8681EF7A}"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CASE : Indian Railways – strategic initiatives using ecommerce</a:t>
            </a:r>
            <a:br>
              <a:rPr sz="2000"/>
            </a:br>
            <a:endParaRPr b="0" lang="en-US" sz="2000" spc="-1" strike="noStrike">
              <a:solidFill>
                <a:srgbClr val="464653"/>
              </a:solidFill>
              <a:latin typeface="Bookman Old Style"/>
            </a:endParaRPr>
          </a:p>
        </p:txBody>
      </p:sp>
      <p:sp>
        <p:nvSpPr>
          <p:cNvPr id="1075" name=""/>
          <p:cNvSpPr txBox="1"/>
          <p:nvPr/>
        </p:nvSpPr>
        <p:spPr>
          <a:xfrm>
            <a:off x="304920" y="2133720"/>
            <a:ext cx="8229600" cy="838080"/>
          </a:xfrm>
          <a:prstGeom prst="rect">
            <a:avLst/>
          </a:prstGeom>
          <a:noFill/>
          <a:ln w="0">
            <a:noFill/>
          </a:ln>
        </p:spPr>
        <p:txBody>
          <a:bodyPr anchor="t">
            <a:normAutofit fontScale="39000"/>
          </a:bodyPr>
          <a:p>
            <a:pPr marL="106200" indent="-1062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he company initially dealt with automating business processes only. It provided ticketing facilities to customers who benefitted from its transparent operations (through ecommerce). Today, it has used ecommerce to collaborate with other logistics partners to provide tourism services, hotel accommodation, flight tickets. This case can also be compared with Amazon.com, where using ecommerce capabilities, they have taken strategic initiatives to provide kindle and tablet based ebooks.</a:t>
            </a:r>
            <a:endParaRPr b="0" lang="en-US" sz="2600" spc="-1" strike="noStrike">
              <a:solidFill>
                <a:srgbClr val="000000"/>
              </a:solidFill>
              <a:latin typeface="Gill Sans MT"/>
            </a:endParaRPr>
          </a:p>
        </p:txBody>
      </p:sp>
      <p:sp>
        <p:nvSpPr>
          <p:cNvPr id="10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A7EB-ED9A-4E0B-ABD1-D4E70218E9CF}"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Brand equity through ecommerce</a:t>
            </a:r>
            <a:endParaRPr b="0" lang="en-US" sz="3200" spc="-1" strike="noStrike">
              <a:solidFill>
                <a:srgbClr val="464653"/>
              </a:solidFill>
              <a:latin typeface="Bookman Old Style"/>
            </a:endParaRPr>
          </a:p>
        </p:txBody>
      </p:sp>
      <p:sp>
        <p:nvSpPr>
          <p:cNvPr id="10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rand equity </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ttracts good human resource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justifies higher margin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builds influence over distribution channels</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akes time to be built over time by </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esting in mass-media advertising </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liable customer servi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rand equity through ecommerce</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Removes constraints of geography</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imeliness, </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t reduced cost</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Mass advertisement</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Deeper reach</a:t>
            </a:r>
            <a:endParaRPr b="0" lang="en-US" sz="2000" spc="-1" strike="noStrike">
              <a:solidFill>
                <a:srgbClr val="464653"/>
              </a:solidFill>
              <a:latin typeface="Gill Sans MT"/>
            </a:endParaRPr>
          </a:p>
        </p:txBody>
      </p:sp>
      <p:sp>
        <p:nvSpPr>
          <p:cNvPr id="108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6ACD-2B34-4F4D-9350-F1DF5039B974}"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759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Bookman Old Style"/>
              </a:rPr>
              <a:t>Assessing readiness of existing brands</a:t>
            </a:r>
            <a:endParaRPr b="0" lang="en-US" sz="2800" spc="-1" strike="noStrike">
              <a:solidFill>
                <a:srgbClr val="464653"/>
              </a:solidFill>
              <a:latin typeface="Bookman Old Style"/>
            </a:endParaRPr>
          </a:p>
        </p:txBody>
      </p:sp>
      <p:sp>
        <p:nvSpPr>
          <p:cNvPr id="1083" name=""/>
          <p:cNvSpPr txBox="1"/>
          <p:nvPr/>
        </p:nvSpPr>
        <p:spPr>
          <a:xfrm>
            <a:off x="457200" y="1066320"/>
            <a:ext cx="8229600" cy="4937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termine brand equity</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risks involved in being the first mover in the industry</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readiness of customers for online surfing</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brand compatibility with ecommerce and online marketing </a:t>
            </a:r>
            <a:endParaRPr b="0" lang="en-US" sz="17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Assess the degree of transparency for the products (in terms of product information, pricing </a:t>
            </a:r>
            <a:endParaRPr b="0" lang="en-US" sz="17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ignment with changing customer behavior</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encourages customer-to-customer communications</a:t>
            </a:r>
            <a:endParaRPr b="0" lang="en-US" sz="1800" spc="-1" strike="noStrike">
              <a:solidFill>
                <a:srgbClr val="464653"/>
              </a:solidFill>
              <a:latin typeface="Gill Sans MT"/>
            </a:endParaRPr>
          </a:p>
        </p:txBody>
      </p:sp>
      <p:sp>
        <p:nvSpPr>
          <p:cNvPr id="108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3BCA-891B-4A71-9DFE-DA465A39B5EB}"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Summary</a:t>
            </a:r>
            <a:endParaRPr b="0" lang="en-US" sz="3200" spc="-1" strike="noStrike">
              <a:solidFill>
                <a:srgbClr val="464653"/>
              </a:solidFill>
              <a:latin typeface="Bookman Old Style"/>
            </a:endParaRPr>
          </a:p>
        </p:txBody>
      </p:sp>
      <p:sp>
        <p:nvSpPr>
          <p:cNvPr id="10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o remain competitive in ecommerce business, a firm should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Increase in repeat busine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Using interactive technolog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Creating a brand equity</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Strategic initiative to collaborate with business partner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Advertisement (digita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Consistent performance</a:t>
            </a: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1743-85B4-4EE6-AF2A-6CD9F998BA95}"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2T00:21:47Z</dcterms:created>
  <dc:creator>RGPlatt</dc:creator>
  <dc:description/>
  <dc:language>en-US</dc:language>
  <cp:lastModifiedBy>Sanjay</cp:lastModifiedBy>
  <dcterms:modified xsi:type="dcterms:W3CDTF">2013-04-03T13:44:24Z</dcterms:modified>
  <cp:revision>403</cp:revision>
  <dc:subject>Awad 3rd ed</dc:subject>
  <dc:title>The Dawn of a Maturing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