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7792-4874-4828-B29C-B1A3D9E94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711A-37AA-470D-B88C-3BF83960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9F75-D13C-4054-84D8-805B047E5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95E2-53F7-40A7-8CDF-A87B6087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4A5F-E9EA-44AB-B34A-40DF9796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BA1AE-6EF7-42C5-8A1A-4E20289E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A0242-4D16-4D9C-A1D9-1210072B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78B69-08F3-4FBB-991F-2FB0BF8D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BBB31-F823-4F5D-995B-C31F374A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63877-1812-4C94-A1AB-41284C30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B73D8-AF63-419D-B6DA-0BB4062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58B71-6918-4BE5-9C61-15E3855A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76FBF-44E6-4054-9B30-48A65B89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BC5DD-064E-4104-BA95-C3A76418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027B5-D20D-4963-BF31-692171B4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465F-EB69-4A20-B327-2090DBBD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2B62A-EB9C-46BF-BBA6-39137CAC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4C235-C831-4B8C-B32D-975B5B0E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67B5C-1BE7-4060-831F-8C57B98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AF371-8F25-4FCF-B21B-D3C019FE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C66F1-0234-442E-9002-0C1B01E6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A7B4A-573C-485C-991E-E40AA86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6637F-438B-4554-94A8-659B21F4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9619C-2EF9-4734-863D-D3441D52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4D2C8-21A0-4DEB-BA7B-80E57DBE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EC87D-F005-4A0C-9190-9323402E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1CF4-C1F0-41FC-8B95-9A402E98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351F8-843A-499A-B1A3-85802B11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76E0E1-8C37-4E78-88A1-01205FE8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852F1C-F404-42F6-AA14-0171273C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F33BE4-429E-4B72-AAA6-09D9E29B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1AE7E9-E1BB-474A-B299-423C0C4C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0E5E32-026C-4242-814F-332DA38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3E1583-7C71-4214-84A3-F2E0D183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691967-FB95-4C29-BB94-26F51FE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A2F6A5-D64A-442F-AD02-44EC95E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D461F6-2F95-499A-B33E-4C4B341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E320-2232-4C7E-8AA6-8B3FDF57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49BEF6-BD28-49CE-90E3-2714C5D2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4A7620-2FB4-44FF-8581-87BAAD7C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139652-D929-4C41-9F44-C0E30A1D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8E91D-8EF2-447E-AD62-3DEB5B80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EB995-A0A9-4269-9692-2FC6156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0E70C-5047-471C-8074-7B04CF56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B5089-B4DB-4330-92E8-83513C1B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1DC91-5516-4467-B6A4-51686D5B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408A4-7890-4C45-97C7-AF835AA6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6BEF9-B603-4E20-92BD-5FF3534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5648-CE4A-4A93-896D-DD7B9EB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9992A-105B-4F47-8FA3-B70099E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A3CA6-61C0-444E-8770-0D9F5BA6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DF7A0-4F07-4DD8-A55D-2064D08F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05DBA-7281-4A89-87F4-E10B6C93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C6C07-8788-4226-8227-A3B5BCBC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15FBC7-B173-4D4C-9E47-67D81018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1E28BB-5036-4B65-A31F-0F7D486A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BA2A43-E1E9-4324-B03B-249DE42E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C65C48-419B-4F14-9DA1-BD7F4F8A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596AA9-DCFD-4BB2-96FD-4EFBD1C4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B9A6-D57C-4B43-AC2C-B0743C4E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9EB0FF-D07B-4BE0-ACFB-F5C43A2C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6C90ED-30C6-4A0B-8C29-2839504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E87D6D-C6CA-455F-BD29-C314B2D2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3404DD-618A-4C75-A22F-677EB1D9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462F88-6314-4F2B-AC45-AC75FD98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3EF8F1-BE1B-4758-8B46-2C496E34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C516DC-5E6B-4C1D-8CE0-4D4FFDFC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C0C4E8-4A80-449F-831B-66F895AA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ADC801-8325-4C18-AB7A-B92DC9CD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821CE3-D704-46B0-AA5A-E3CF6609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0666-A5FC-41B8-953D-4903CDD5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5B5A23-B84B-49E3-A0EE-10B0592D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56B44A-1704-44CD-AC68-FEBE3842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AAB4F1-CCD5-4847-9E9D-FA4A657E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E463A0-C989-4316-9075-EE6E3E5E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C74A68-38EA-4A34-BDAC-840CD635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4CDF0D-5A87-4FB6-85D0-9DFB7F10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A3F189-22C4-40A6-8A33-4E6BC69C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17CF3A-73EF-49AB-9544-4D427BA3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DD44A9-5DE5-48C0-93E8-7B8DF865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AA9DE8-24DE-4F4D-92FD-581B0710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C1F8-81EB-432B-9C2B-109F32D7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F7B5F6-2D3C-4741-ACA1-7DCE75D1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9D2925-6750-4D8D-A41D-50320C8A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2C51B5-D41E-46E5-9F44-6B55E9B5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4F3348-CD78-4293-B731-D0868F6D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B55A52-3032-4FF4-9B94-59897C82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EABB31-3754-4840-A64B-4DF08F33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4B0B17-8834-4F14-923F-2A8C9711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90A814-9F45-4CE4-9DA8-FBD4292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CAD1F2-6FB0-4484-A571-3919EA94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70ADDD-D5B1-4303-83E2-A28CB195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6155-B982-48F5-BAA4-2A746B9B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295A0B-4F5E-4CB6-B214-39DC8C2B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94EA4D-AC27-4766-9BB4-BCF9E96F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5CDE39-F576-4894-B73F-84938FAA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BF630D-AF44-4745-8EFB-2F865505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9F2437-E566-42E4-B2D7-EB439633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16CBA5-DD06-4ABB-A131-A41A9BFF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60D2F4-ABF9-42BC-BABD-EFACA577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CA7CED-7817-46A2-8EF1-78DF21C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4EE632-81EA-42BD-A56E-2F3E7AC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340202-B70B-46C5-B498-591E6BDE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9649-FD5E-40D2-BB3A-CE3CBD52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2018BD-21A0-4B1D-BDF9-00F42311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0BEF2A-963E-4194-9AA2-7BCB22F8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B47404-0048-46F7-944C-FBD96852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52DBDF-FE4A-4DED-9DB9-9F16EE7E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B4EA19-A99D-4EDC-9156-BABD5313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2FA86B-5430-478F-8C2F-F34CD81E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B5624D-0CE7-4725-82AF-A6F41904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70C374-341D-4AC1-A147-0838AA21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FEA76B-3A87-4726-8B72-4F48D0C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553834-0A0D-4842-967C-79F63B7A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81B7-DA0C-4F38-8D6E-B1B7A8D3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25EE-DA71-48AE-AA44-B5573D3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28606E-A8F2-44B4-BA5C-3D6F7A4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2237EF-B3F2-4F92-9B74-C3A0C3ED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6D11EA-52EC-4B0E-9798-A0A80494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229B9E-4CC9-4BDD-A35C-518B882B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E66B57-ABB6-4E21-93B9-CE397B3E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047DDF-45D0-4C08-BDBD-106FC61F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450505-5ECD-486C-8336-B1037B3E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1121AF-3AD2-4FDB-B109-7FFD363C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5E6672-EF35-4127-B713-2BD0DE7B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D124F4-3A26-4D1A-9181-344D28EB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6972-15AB-41B3-BBFB-50290E0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472A71-294B-41B0-AEC4-A14F5D62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F95130-8812-4E2C-8ACD-3132554D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7A937B-E1D0-4F87-96C0-358688D3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ACAC93-D48E-48A1-8A0B-A7AB404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5A9CBF-B370-45F7-8DEC-44A2F375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FF1A51-7C5C-42A3-BC54-20AA25E3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A5E052-9E56-48ED-BCBB-509473E8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ADAA71-F5B0-4462-BA50-4B0211C8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29C010-CF59-47CE-BEFA-16B578D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037A29-3D2A-4A5E-A55F-E9AC6328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D3AB-C799-4C96-AD4D-06E90D2F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7D683A-99D2-4032-ADCC-2A878C31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959047-3361-4281-80EF-5F0D8412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F2853D-C1A9-44EC-9FB2-C36086C2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D50236-6938-4914-B644-F60AD5A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8CFA96-FA8A-445C-9B03-C96D3B3D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EA2D2E-D023-445E-84B2-D826C84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1423ED-CE04-42DF-A659-4659A69B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673408-3F1B-469B-A621-0D94AAEF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D93E23-C1DD-4AC9-BE58-318F4AC7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01E03F-43A3-445F-B810-CB050001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FAEF-C69C-4FE9-8AAE-A8B1B11E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991781-7DDB-45F1-B691-C51EE313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033FBD-EE05-4D4B-9761-58C5611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90CAEB-98FA-4556-BE3E-4D898F28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3772C7-DD25-4317-ADAB-3B00FADF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824667-7970-44A9-8074-B7A3F2A9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2258478-713D-490F-A203-4054FD87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141C74-A07B-4BEA-99D8-8EF1558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1FC259-9EDE-4F84-88CB-AA3B3928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DD6734-5966-40A8-AF1B-613D9D5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FB3520-8F16-4FD1-89C3-C43F8A5C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AB83-C48D-48CF-8A83-D0874D3D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4201681-5B76-4322-A8DF-EEAD96B5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BCB526-BA68-4327-9E08-7286470B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B34821-1E37-420E-8F45-6ABA1A7E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3EF65F-C0EB-4A4A-B835-4335BFF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9485D7-D4A0-4E13-B67F-87D7AB5F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DD91CE-A1AD-4973-81EB-2E68B76F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4B6AED-66A4-45EE-9C39-B7FFD55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56A3CB-4ECE-4CBE-8B03-E9EB4834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83828BB-918E-4CED-A307-A3092611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1BBBB0-18B0-4542-A07E-CF8B865D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734C72-6E26-4B82-816D-DF3DBC33532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B0822D-212B-45AE-92C6-9BBE3720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0B1F3C-6366-4F73-B132-87D78923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F804FC-A00A-4B8E-9FE7-0800870C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1F0A44-9645-481F-8A4A-1A2D3AAC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8E1F96-96F0-4AAC-B67C-9C034A5A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E034B51-E026-4396-96A8-DCF20830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78B4D6-1294-49CF-9419-B0C5217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4A2A953-D858-4998-9DE4-E9761704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5F5E43A-12C3-419F-96BD-1B342798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34E275-C2E3-461C-A3E9-184EA653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F8E1F-5AB0-4C58-877A-41240A630EF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FCF0906-22AB-45B7-908E-E5205A0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F3ED6F2-42F7-4F25-817F-BC8E42EC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5CD798-1472-4F58-B872-4E6A8656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0EAFE4-1594-46F5-92F7-A6EDA864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7865290-02CC-4697-A485-8B619F56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31E6535-459E-4AC4-8DFC-E2625FDA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9BBAACD-9434-4B4A-92C6-06E8CEF2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24B20FD-D8AF-426E-95DC-AE5D0824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709A0D-AB53-4DAB-8EB9-9FB6520D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7C5931-F566-47F8-9AA5-B74BF383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0E7FA-75CB-4332-90B2-E883F027F32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5C116EC-80B4-4808-8809-53D4766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F920E8-ABC8-4925-8455-79925075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6F79F6E-E59D-41F3-A729-9189A216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427AE3-D6DB-4C9A-9746-3721F828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C2C4B1-18EB-4A30-9BE7-3967C2CC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FC3F136-415E-4D46-AA54-3C4A701A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9515F4-C859-4350-8F56-546EC405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AA2E568-0447-4264-BB9C-280AAD31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9D5D62-9209-452E-8CFC-5D86B810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1F7405-E10D-4C9C-91D6-6B5412B1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61EB65-49A1-4C03-A524-D2DD97B90CF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98A79F-8E52-4D32-8AE2-A9BFDC5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9001A3-038C-42ED-9C2E-24B0996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F5EE186-B503-47B3-8FD6-D3FEF59B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3AE2F1-83A8-4A67-A797-54E7FDE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B38F50-83D5-476E-958D-ABDD97C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E0AA81-9E8C-4C46-90AC-CF538572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C31374A-118B-43D6-8570-D6EEDB72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6AD4D27-ACE3-4099-B581-EC415C0B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672C60C-BF58-4618-8368-D1B0D0AB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386C6A-9085-41F8-9CAA-54E5A5E6EE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B5F67-E330-4E88-AC4E-BFD0D52E11E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F2FD22-A1B2-4F66-927E-6F22B58DAEF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FB5B3-6225-4CB7-AB4C-934517ABB94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9FFF37-410A-4D5B-BF01-FC8BEAD1BD3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12A83D-23EE-4BB0-8668-339E7190991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70C4B2-C2C3-495D-8D1B-A317E2DF388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9BBD5F-EA09-4850-A98A-5DDD2E614F0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BF756B-18F8-46A7-802A-B89CAFC6387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A0D5CA-3A20-47BB-8C76-BF5916822AA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0C7C6D-4808-4661-B699-A12BF67FFD2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C4FA8B-78C8-471B-BED6-5486879EC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2FA6-DFE4-4A52-8A3B-E1C3025F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562B1-B182-41EC-921E-81F6F661E64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7E31B6-BAC4-4953-BB42-23A26BD984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0E2E5-7165-45C5-A23F-C626C28085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FABF2-D72A-49A8-947D-CCD1A96CB2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84DE2-5CDB-40EB-A160-C1732654D7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3490E-2C00-4BD4-B449-77FD92BEB8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7BB284-DC1B-4747-8452-CF95209FF1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0F9C01-7991-4810-88D2-55E983A7D2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07CB3-AE21-4D54-8A77-C63DE86C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C547C-5E32-46BB-BCBD-5D85AB65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7978F-0BD0-460E-ABB5-9F9F6BF6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FA3C-80FB-4C01-B4A1-253F0C58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6B5D5-63E7-4A33-B2F6-3D45403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C9627-79BF-4161-BB06-E34F3CEF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33783-AA4C-4F3B-8294-A3FCC238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BA063-134D-4594-AC40-EEDAB88D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FD227-881E-497A-B09B-70EE67D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24764-1D47-4A94-93B2-58C6909C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19337-2C36-452A-8D3A-F1FEEAD6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11DF1-741E-4173-8D4F-175CC23B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1C904-9CCC-4F39-A1C1-566621D0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798E29-D8B0-4B0C-A9BF-9C82ACAA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45E0-AF19-49AA-9FD0-98440522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7E1D5-DA16-4846-854D-BCBF2753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A17ADB-4AFA-473C-9C16-62D6F29D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DC4533-6108-4604-BDE4-64E72843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3464FD-5AD8-4312-B991-93EAD0DA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CB9EF8-85F3-4F74-A12E-66072017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303042-D0D5-4A02-B74C-0659AD30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E69E4-8666-4D0E-B213-49E9180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F75FB-2194-4050-AE07-9C21515B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01089-2B13-4EB1-9249-FC5EF5F4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091DC-1E97-4B45-BB1B-17863A9E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97FD-0844-481B-B93F-5470751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F37C1C-523A-4833-A972-FC073712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896181-6210-45FF-9E75-308F2E93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2C7FD8-AD32-4A3A-87F1-9FB8CFD8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D17C15-1871-4A78-A132-C4AE1FB3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B2664-9CAE-4BBD-9A64-C4172960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1695A6-FE3E-4A60-B69B-7A1A909D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40C88-5AAF-4989-8C9A-A231EF4D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3F6625-6A43-4374-9744-6E864258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784D5-D767-4317-99FB-05C365F6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112EBF-8AEB-4880-A01B-66FF1B5C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C749-6CD7-4087-A7AD-5DC0EFE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9019F1-E13E-4D5D-A055-AFEFB569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9A9A5-D2A6-40F9-854B-63B8CB3B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94C456-E24B-4BC0-AED5-EDFB460C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EBBE36-7B1E-409F-BE5D-DF167427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6A7C93-EE91-4C4D-AFC2-E22A9406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019DA1-5B59-41A3-9FF2-D79CC3EA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4CC1DE-E629-404A-A4A7-684B8EB6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9785FE-828B-4E51-84FE-6D21E7AD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DB9E4-85BE-409F-BE6A-913B5AAF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CF659A-9402-4314-B337-31A918D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2FDA-DFF0-4B89-95D4-14606245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67C73A-7FD0-4F87-86C8-A9DEB537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CE504-56B2-46DE-A190-9E3F5E31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5A9F5F-C5A3-45D1-BC54-5C9426ED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A7F590-1857-48EB-A0F5-039F0724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244244-90E6-4CE6-BA7A-43646EF7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D1E8D1-4EB8-4FC7-BED8-9204BA50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6F3944-A4A9-4416-B86C-9E723BB9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799A7-A721-47AF-B762-8A08235A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648A5A-4B2C-4E77-BA4D-CB418865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023822-8348-4C49-B545-D17AE2A3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0213-B6DB-4CEF-A8F4-F13CA78B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9C851B-6211-4AF4-9A8C-A4F6951E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F1A626-AB86-42D1-8BFA-9703AA1F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FFDD00-F0CD-4C3F-BB63-0F55FBD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5F8701-F050-4ABB-85CE-2267DABD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847C21-1413-4472-B60B-1E34CA19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62698D-9126-400C-BA97-364A86E0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13FB0B-CAA8-4F20-B7CC-AB2BDA71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A7A7D-3072-45B3-8F79-12152176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22FAB-9C22-4A92-88BF-8524D8B3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3456F-2935-40E6-9EF7-749BD7A7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54AD-E902-49F8-A2E9-319B0425895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A637-4CB2-4B27-B3B3-1C6177C1AE3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240C-231A-4844-BFE2-4FA7730D76F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3526-9FD8-46E1-B74D-AF7A8361FD1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860B-E1C7-40D5-AA0D-2D79496E132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AA9C-438D-42A3-8F72-69BE3084724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7A1E-15F5-407C-8193-555B0D701F2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831C-0818-498A-8489-301D197342D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39CA-6069-42B2-B29B-359E07C9FC8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482-27C1-4EDE-899E-CC2766EF7DF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15AB-A559-46B5-B94A-0A055BD86CB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7A28-7A31-4927-9D2B-B9C29B974EE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0B96-FF32-4247-B6AE-633980A1642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2A81-95B5-43FD-B585-0049E2416C8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1BCE-739D-4E1A-B091-E775BCA0E02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7262-5963-4F98-88BA-1108BD34E0F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F60C-482F-4E5F-B4AB-93AD4BE8AEC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9F92-B4A8-4FDA-ABC3-0278B80C73B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2BC9-A216-4F28-A33F-B642296EC6A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A974-DB06-41C5-A241-9F8AD32F699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998F-B582-4F88-9C22-CF254584F11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F712-A920-4126-B218-2CBA4B4D9AA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8616-4AD7-4160-B5A1-9DFAFC63901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058B-13A6-4565-90ED-13168135B75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CE12-CB83-46CB-91FE-90C9A59E14A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A07E-3A80-4F67-9885-971FFB0A3400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uture Trend – Social Commerc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To address these challen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uring portal design, the following steps need to be follow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ilitation of planning and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inimization of information redunda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gration of proce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icient metr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sonalization/Customiz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edbac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5AD9-5B2F-46EF-B404-D7BF97D919A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Future of social commerce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known to be effective only for impulse purch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 balance between data privacy policies (EU fight against goog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ore B2B transactions in fu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2C transactions increasing at faster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gulatory and privacy policy to be tighten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aintaining trust with transpar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3-D effect on products to be so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uge user base and hence ability to make meaningful data 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New marketing techniques such as Cash On Delivery (COD) will help induce more purch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0D20-F670-42B7-8A29-3F6DAD2F0A7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53"/>
                </a:solidFill>
                <a:latin typeface="Bookman Old Style"/>
              </a:rPr>
              <a:t>Case: Halfmantr, Traveltriangle and Lenskart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or each c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Discuss traditional supply vs online purch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Issues such as mindse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Face to face consultation vs online cha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Feel vs 2D online displa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Element of doubt regarding customer satisfaction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Promotion polic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Less margin initiall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unding issues with such firm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Achieving break ev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Retaining customer – customer loyal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Risk involved in this mode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ivacy issu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inancial data secur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ntegration of social network with the si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Using feedback to improve quality of deliverable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464653"/>
                </a:solidFill>
                <a:latin typeface="Gill Sans MT"/>
              </a:rPr>
              <a:t>Using social platforms for promotion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0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987B-A108-4527-B03F-C7CFDB9201F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ocio-commerce is the way to make e-commerce a sustainable mod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ustomers who will enjoy discounts, free shipping, cash on delivery, and experience of a product without touching 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enture Capitalists, including Tiger Global, has been increasing their investment exposure in internet 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curity risks that can put the individual or a company in a compromising position or at serious ris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st practices can be standardized and updat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5238-CAA5-4F98-80BC-E3E0F472D46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chapter will discuss the following concept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hat is social e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ow do firms get benefits out of 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alue addition from social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trategy for social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AE43-18C4-49F9-9CD4-84C61BF533F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35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commerce </a:t>
            </a: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termed as innovative,  expansive, immature, FAD’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In spite of dot com burst e-commerce was reviv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Today customers have become tech savvy and are willing to spend time online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Customers willing to purchase through online even if they are illiterat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ubiquitous internet changing behavioural pattern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Online Indian social life has taken the lea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Ecommerce with online social life is called socio-commerc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Socio commerce uses potent technologies and harness social media to organize the business strategi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managers use social power and reframe their policies and strategies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This approach shows authenticity, fairness, transparency and good faith to its stakeholders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100"/>
            </a:b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5FAB-1339-4EF3-BC27-72A98E3A8D0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lectronic commerce with social networking network si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ubset of electronic comme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lso involves social networking sites (onlin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ocial interaction and user contrib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 set of online collaborative shopping too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lso available - information on different products and services as experienced by these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ser-generated reviews, com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ntents that can act as ‘free advertisements’ for different produ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sing these comments prospective buyers can buy these products and servic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3E79-5210-41C6-A568-2084B5021FD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318960"/>
            <a:ext cx="6280200" cy="1114560"/>
          </a:xfrm>
          <a:prstGeom prst="rect">
            <a:avLst/>
          </a:prstGeom>
          <a:noFill/>
          <a:ln w="0">
            <a:noFill/>
          </a:ln>
        </p:spPr>
        <p:txBody>
          <a:bodyPr tIns="15228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Understanding Social Commerce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Understanding Social Commerc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these online marketing sites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n be accessed from the social networking sit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llaborative e-commerce tool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Prospects use these tools to get advice from trusted individuals, find goods and services and then purchase th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Using these collaborative tools manufacturers have tried to improve their product featur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rvice providers use these tools to improve service levels in their supply ch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xamples of these tools - customer ratings and reviews, user recommendations and referr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ocial commerce is a collaborative networks of online participants such as vendors, users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ocial shopping as collaborative activity of online shopp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23B1-1396-4639-BA49-DE37B5EB5CF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Evolution of </a:t>
            </a: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social commerce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arted with social networking sites such as facebo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Facebook commerce (f-commerce) has become popul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ollaboration amongst customers, suppliers and retail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Retailers are looking at having their own Facebook p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onsumers can take buying  and purchase decis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reation of virtual marketplace with social shopping websi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Social Commerce important dates (please refer to the chapter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4D44-0D3F-4E53-8FA7-78E4069B801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64653"/>
                </a:solidFill>
                <a:latin typeface="Bookman Old Style"/>
              </a:rPr>
              <a:t>Features of Social Commer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Ratings and reviews for the products and services by us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recommendation technology featu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get product recommendations based on their own interests, preferen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ustomers likely to check online for reviews prior to making a purch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networked users generate new ideas, advertise, and create added value at virtually no cos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creasing efficiency by understanding customer needs, identifying potential customers &amp; building customer loyal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Ex: Volkswagen launched an ad campaign using YouTube, focusing on ecological concern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Volkswagon utilizes these ideas and incorporates i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Facebook ‘Like’ Button on the product’s web pag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Better Understanding of the Consumer’s behavi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stant Personalization of the user experi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Brand Grow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F043-D926-4BC5-85E0-C2EADDDDF4E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dvantages of Social 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sures a personalized shopping exper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ccess to the customer’s social graph and inter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tailers can develop promotional strategies and plans that suit to the customer’s preferences and inter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reates comm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anintains direct contact with ‘Communities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mmunity can exchange reviews about the products they have purchas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ocial commerce also creates a trusted enviro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akes the experience seamless for a customer right from providing the content, product reviews, payment options to final purch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71CC-1CF6-4E6A-8CF5-207B2A798CB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53"/>
                </a:solidFill>
                <a:latin typeface="Bookman Old Style"/>
              </a:rPr>
              <a:t>Trends and the challenges of social commerce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Moving Away from the Traditional Med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ffering a United Shopping Experie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Customer Engag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tegrate the payment gateway inside the Social Media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ebook’s security iss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ools for social commerce change rapid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dden soft cos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uilding a strong relationship with the customer takes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ustomers can express their disappointment and negatively impact a brand’s repu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Usability testing is complex and requires advance ski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domain knowledge to have effective data analy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10T18:29:41Z</dcterms:modified>
  <cp:revision>451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