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notesMasterIdLst>
    <p:notesMasterId r:id="rId27"/>
  </p:notes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  <p:sldId id="265" r:id="rId37"/>
    <p:sldId id="266" r:id="rId38"/>
    <p:sldId id="267" r:id="rId39"/>
    <p:sldId id="268" r:id="rId40"/>
    <p:sldId id="269" r:id="rId41"/>
    <p:sldId id="270" r:id="rId42"/>
    <p:sldId id="271" r:id="rId43"/>
    <p:sldId id="272" r:id="rId44"/>
    <p:sldId id="273" r:id="rId45"/>
    <p:sldId id="274" r:id="rId46"/>
    <p:sldId id="275" r:id="rId47"/>
    <p:sldId id="276" r:id="rId48"/>
    <p:sldId id="277" r:id="rId49"/>
    <p:sldId id="278" r:id="rId50"/>
    <p:sldId id="279" r:id="rId51"/>
    <p:sldId id="280" r:id="rId52"/>
    <p:sldId id="281" r:id="rId53"/>
    <p:sldId id="282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notesMaster" Target="notesMasters/notesMaster1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slide" Target="slides/slide10.xml"/><Relationship Id="rId38" Type="http://schemas.openxmlformats.org/officeDocument/2006/relationships/slide" Target="slides/slide11.xml"/><Relationship Id="rId39" Type="http://schemas.openxmlformats.org/officeDocument/2006/relationships/slide" Target="slides/slide12.xml"/><Relationship Id="rId40" Type="http://schemas.openxmlformats.org/officeDocument/2006/relationships/slide" Target="slides/slide13.xml"/><Relationship Id="rId41" Type="http://schemas.openxmlformats.org/officeDocument/2006/relationships/slide" Target="slides/slide14.xml"/><Relationship Id="rId42" Type="http://schemas.openxmlformats.org/officeDocument/2006/relationships/slide" Target="slides/slide15.xml"/><Relationship Id="rId43" Type="http://schemas.openxmlformats.org/officeDocument/2006/relationships/slide" Target="slides/slide16.xml"/><Relationship Id="rId44" Type="http://schemas.openxmlformats.org/officeDocument/2006/relationships/slide" Target="slides/slide17.xml"/><Relationship Id="rId45" Type="http://schemas.openxmlformats.org/officeDocument/2006/relationships/slide" Target="slides/slide18.xml"/><Relationship Id="rId46" Type="http://schemas.openxmlformats.org/officeDocument/2006/relationships/slide" Target="slides/slide19.xml"/><Relationship Id="rId47" Type="http://schemas.openxmlformats.org/officeDocument/2006/relationships/slide" Target="slides/slide20.xml"/><Relationship Id="rId48" Type="http://schemas.openxmlformats.org/officeDocument/2006/relationships/slide" Target="slides/slide21.xml"/><Relationship Id="rId49" Type="http://schemas.openxmlformats.org/officeDocument/2006/relationships/slide" Target="slides/slide22.xml"/><Relationship Id="rId50" Type="http://schemas.openxmlformats.org/officeDocument/2006/relationships/slide" Target="slides/slide23.xml"/><Relationship Id="rId51" Type="http://schemas.openxmlformats.org/officeDocument/2006/relationships/slide" Target="slides/slide24.xml"/><Relationship Id="rId52" Type="http://schemas.openxmlformats.org/officeDocument/2006/relationships/slide" Target="slides/slide25.xml"/><Relationship Id="rId53" Type="http://schemas.openxmlformats.org/officeDocument/2006/relationships/slide" Target="slides/slide26.xml"/><Relationship Id="rId54" Type="http://schemas.openxmlformats.org/officeDocument/2006/relationships/slide" Target="slides/slide27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dt" idx="7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 type="ftr" idx="7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6"/>
          <p:cNvSpPr>
            <a:spLocks noGrp="1"/>
          </p:cNvSpPr>
          <p:nvPr>
            <p:ph type="sldNum" idx="7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1E3F5-E360-4081-A0E7-F4C7135900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4F205-54C0-40AD-A211-CBD7706D6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544A9-B65E-4AE9-9868-AD745ECDF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4521A-AE83-44ED-8CFD-7429E7A23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EF601-FA0E-403B-B66D-9060E9142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6AB9C-0ACE-4D49-9E1C-F44197D12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26D96-0CC3-4C0D-B69A-847D6F9B9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9371B-1F3D-4E77-89E6-92148903C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2703A-ABB1-4486-B609-ACDF6C4F1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C5514-66E2-4CA3-8DCA-EB930CBD3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72018-CDCA-4006-925B-2353E07E0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36C63-8CEB-47C9-8612-0073464DC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657680-D3C3-4D90-BFA6-4587B38BE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4EB28F-7459-446A-A829-9B905C1E7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FC73D1-618D-4A68-BE28-85065A6C9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A100CB-173E-4CFF-ADB6-CB1A312C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2ACAD0-81EA-4D9C-A793-454FC705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0CC433-A3EA-4E66-8E38-CC98527C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5CA7C5-56CA-4FDD-837F-9A8EC5175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93AF64-0DB9-4984-8F9C-CB86BB708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441C1C-C138-4D5B-8A4E-52FAE25AA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45EF08-DFD6-4828-967B-681FE59D8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B4DC5-C7E7-4A36-87D6-9166373CF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853297-EEF2-424E-9B0D-70F7D6BC8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1029DE-1161-4C95-BA2A-ABA73D336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F8E7DD-A408-424B-8492-D397A05E1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DAAD9F-A9EA-4965-8168-6DCB33F0D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D24CB9-2AEA-47DB-955A-BA7700D12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7BB86D-ECE7-4F88-BB47-8E84D605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A41B34-986B-414C-9680-0326AF0C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7681D8-815F-4ED7-AFAE-1A9462BC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31A549-44BB-4F1C-B098-F1FAAFD92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0F3B96-AFA0-43BD-9764-CB52B7BC4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4C972-8DCD-4066-808B-8A1EE83FF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9B88E3-83C9-4033-ABCB-ADD157CBE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12D5606-E2DB-4769-9C07-2EB74BC73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2297226-9AC7-4AE3-A662-F94E6E9D8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C73274B-6E25-4816-A5A0-B3D2CF4F8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A9F7B82-6C3F-4AF0-8441-10F7E1C8D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D22AB9B-10D0-441C-90C3-23852A613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C7E383F-FCD1-4CF3-A290-4F3E142AF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E8F29EE-C68C-4CD6-BE83-A3736558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97DC407-E0AE-444D-BCB7-B3BB0C10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6648DB6-5C9F-42D8-A0A7-DABBCFA9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39EEE-DBEF-4D8E-B087-C6D788FBD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D9E3C6B-AEAA-4F07-8BFA-05DCFB671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7900C59-47C0-4830-B495-DAAE5E113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E668340-7146-4706-953F-599F7D4D6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172212-2158-424F-A74F-3233C17B5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96E88D-EAFD-45F8-886A-5280352EA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2A5076-E50E-4BB5-BA2D-727CE13AE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731645-664A-4159-8E0A-F347FA7CF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6E1B28-CCC1-406C-B4EC-BE213080B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E700A2-93C0-455C-9427-714B5B785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6172B7-F70A-42E6-B12B-54A93C32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4EF5D-DA91-4176-B52A-702FA44C9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CBF940-931C-4AB7-878F-DEAE4A46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652FF7-3648-4BDF-BB6A-A2EE1AA7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226ECB-E645-43F3-8B61-C0B8C7805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D3345C-76AD-4C77-80E1-155F2EB7B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47A622-9FD1-454D-B1AD-F4475A01B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3292336-E395-4B50-917D-4AEC5CCB0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6C2CF0D-F5F5-4122-8F2A-99B31BDBB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35C0712-C93F-4A87-A205-5DF16EB51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05333F2-D36A-4B13-863C-CBF553C99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83FC220-5667-43B0-9247-5FA6C973F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D6DA8-8D76-4A63-8732-8DA88DB6F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BACEE67-4710-46EA-A8EA-067F8247D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C0F1DD7-070D-4151-8C39-810347C4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22CF921-557D-4C40-AFC0-AC59A161B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F66AF94-7F58-4EB1-B5DC-1568DD84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8CB6A98-032D-45E9-A22B-2BC1DB662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A579E47-EAB7-45CF-A8EE-CFB0950A5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F40B526-4E00-4476-B97A-D65AE1673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06E5C95-066D-4B0C-8CBE-6A3DE6352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08FCB3E-B6F4-4BFD-A961-EA9229EAF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B7FF00C-47C9-489A-BB28-967FE03D3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02ABF-8B34-4CBC-821D-AB6B5EF9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0537097-C0B2-4FB2-AFD0-91926E77A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5F33196-839B-4BE2-A425-74401159F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58BE5C5-FD17-4AF8-AD49-C3A39075F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3534AB5-72A1-48C0-A99A-68D46B92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A7F4B90-F19C-4913-B527-1516722B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AD9D54F-2368-420C-A18F-7DE0E880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4A3541A-F880-4BA4-A39E-C39712AE0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E6B64B3-7E88-4B7B-8BE2-FF0258811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CD53B1D-9A38-41CC-A56F-1BEF45788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D0E67A0-44A7-4B74-AC20-70E18F8E5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E11C4-B66E-4EE1-AD37-3B7F3ABD8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9F8B004-3D58-4E28-B76E-AF7DD0800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5F8FBF7-5BFA-4E45-B346-EB69EBFE2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F09F293-E56F-4B14-96CA-8098C289F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DFCD339-F482-4E22-8479-3161F3FD5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75F7504-31F0-4F34-BE9A-251FF9772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CAB8E63-98B5-4926-951E-9B3BEE32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44647E7-2E06-4CDE-A2DF-13BE5271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94D25C5-DCA3-4876-B822-D3211F3C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EE66DA9-D477-4D96-9AB7-B36739689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B8C899B-8D3C-4BDC-B3F6-C8A3C3DB2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BC4AC-E6A5-416B-B7F6-623ED2CA9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5953BB2-8729-4CFE-BFA8-FB4F16DD7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EE95018-4D2E-4104-8388-1EFD6D616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714E418-0797-4B7D-B6EB-9121E552D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5ADDEB5-EFEE-4F31-9EC1-D06A8EF3B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6C46977-F839-45E6-A9CE-CBD3D9DE7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CB63793-C384-405B-A21D-749597480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2DB6591-E51B-4159-BF78-88FF2DCEF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B5F1805-9926-4EEC-A0AF-C8567888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C25F159-E29E-4A30-A68F-D6746CD8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8B03737-7A9E-4287-A6D4-C9132E16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4EADB-3EC7-43B2-8076-453C8C1D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232FFB7-4583-4BA2-883C-F6CCA1B8B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FBB6955-0169-4B82-BA76-78135064F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E8DDF3E-AEEC-4C15-8E12-74B780D2B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4E40A07-B82F-4800-984A-255353F7D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453840F-355F-445A-88DC-A81C6AA6E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0BAB2DA-3EC0-43D7-A987-AE7DC5335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CC58AE2-4ECD-4422-B256-5A70952DD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956D92B-4931-4433-BD45-24A8F4A00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564D0D7-73E5-4B2D-8C1E-59A5749AD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415F6C6-65D3-43C9-BCEB-DE015974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B281F-2787-4300-B2E6-F9A831F42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678BD-A922-4355-A92E-7650C2DC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B6F2FE0-B1B1-4EF7-8B93-C8A1EC8E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9F5C87B-A2D2-4998-9CBC-147C8CD2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147712E-6E4C-4BC7-B018-74EAB2A88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D1FD1DB-DBAF-496A-A095-16581976A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252E6CA-9C10-44E4-A7DA-C3A35224D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CD4258D-A298-4026-9D74-0F065D470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449BDA1-46CE-40B5-8E36-AD8E404D9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5482AEA-6C9A-47F9-AD52-BA355B00B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9E5693B-B4FD-4DA7-A736-7CC435A98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86C7026-7604-428B-A086-6FEEE64FB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42D41-C102-46B4-8824-4C28E188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5F8B859-FEF9-4B89-936D-C197FE32D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D85A024-88A4-4C12-B80C-14D50D56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69E2EBB-3271-4F65-A13E-433125CC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40E665D-B08A-411F-AB72-C6D6466E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853DFAA-F49E-42A9-B1FD-907C76B59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BFCEA28-AE4C-497D-9246-537977AA5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0C07F97-512B-4617-84C1-223EFFE41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1E689F2-F1AD-4869-A65D-89DEBDE85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405363B-ED43-4E7B-ACDD-81003D163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BFEE755-9258-42E4-B7E2-F6BFDDA8A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B1C50-E0C7-466B-9021-64A3560B3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CE0209F-44B4-481F-88A3-53C823BBE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8DC02C9-B692-4C1C-9752-84D404641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DD5696C-B13B-4423-A39A-EA2899E07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F0311C2-40EF-49F2-B8D3-BD531D40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28CF3F6-5478-46C9-9738-6762AAA3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476ED3C-4533-4BCB-ADC1-E8C773B2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D25EA57-BF16-4A6F-8961-FD7082C76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E0553FD-C163-47E9-A8A6-42786A5FB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E6FD730-0342-45D3-91CB-A78E5388E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63D5922-3102-4AFB-95A1-529AF8116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908EF-1451-4462-BBC8-C65728727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C8CEC67-9D5A-41FF-9E00-7CE564033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2DDC6E4-88A9-4D13-AB20-20C20FF0F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33E1A04-56D0-430B-86C7-B19965D13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8C53007-02BE-4F9D-9667-D3179E720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51ABF0C-1ED0-4715-8130-D5ECF0EDD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8458572-D647-44B2-AC40-DFB0D426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20F1773-65EB-4069-930E-48FD696B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4A56403-C63F-41C7-9131-B0FFEFCF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38BA5B5-3B7C-4092-8FE4-79B5BF8D2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C29EBAC-4A48-42A7-9C40-F77B8AE73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A61F1-383F-49D5-B224-A7C68C46F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25AAB72-6E1A-47FF-B3FF-F38893744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9151276-AEC5-4A61-A0DC-692822C68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72C5267-8D46-4BD4-A813-775DE2622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E542277-A980-47DA-9736-445D0D7A6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58E31D4-D017-40EF-BB73-043CBEA39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820CF22-B6D2-4360-B8F8-5F2D9AB64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8FFB0F1-3BEA-4F1B-8056-95090F2B4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6273556-C47E-4434-9B30-3625F733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7FFB207-95F6-4946-AF5D-B4C52DE6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6DC1309-869D-4421-84BF-1E55931F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C3D722-340F-46A7-A48F-C3D7C03E05E4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AA6ACDC-9DCC-4CD0-B6B6-5FF1F00FB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8D47597-A3C5-44E9-9AAF-22D5E2A91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F59856D-DC97-4B59-8509-212D474E1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C18BF1E-029F-45E1-95B2-A27BC82C7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295937B-7817-4B0F-AC64-7E1E63F33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CB670EB-3482-4945-B740-890C03EFF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1F8EA62-28A5-4A4B-B7C9-91DB1C1D8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3E702DF-FB70-473F-A1FC-8402424DD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5FD127C-1A21-4B8C-B4AE-AC5994394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695A182-D2F1-4BC2-9506-668FEC89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F5F7B9-5A54-43DC-8384-A168F878AB36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AB1A761-0996-4958-8E25-2C32DEBC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519E5B0-79F5-483A-9EB3-C676F88F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721D8E7-B183-46B2-A757-8F2E8E7B3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C00281E-BFD2-4F4C-8936-F28622A79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6E775FE-9375-4510-AF1D-77B7E8A47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E65FC0C-A7EC-4868-984E-933378B91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AEA1183-B7CC-41AD-B137-5B961F3B3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94929DD-6710-4EA8-B5A2-BB2CC8D39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4BDADD8-EEF6-4A08-BA6D-4BC5C94E9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D4FBD35-34C3-4F27-8EF0-748663E88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135318-1908-4BB4-8E11-5AA1FAD32C2C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8898605-1B4D-42A9-9D56-5A78C889A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2BE4486-027A-4870-A265-816C7F0F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0F36B63-F6DD-4ADA-9A10-59E30D48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A9B8446-D527-4D24-A23A-4E30A1C6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0EB3472-6917-42D1-9527-554B3F972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2FA7C7C-68F5-451B-B187-D07DE7380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37E6D69-3896-447E-8F22-AF8D7FDB0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ECEF007-1B49-4654-A4AB-FA305BB44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4CE5E7D-02DF-4E15-A131-5AB35EE5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3E8F765-E567-4F9A-8A01-97E8929B9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F625E7-4ABC-4A59-8B61-55B24D2FF2EF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DFE683A-E8F8-439A-8072-318AEFB2B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2134C8B-1EF0-45F4-828F-C624CF6E9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789A2A2-AADC-4D09-92DC-4A5197E3E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9422D23-AA23-416F-B163-97A7FC95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E6B3B5F-F517-41B3-B58E-D53667B6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E2849D9-B2DE-4A41-A000-A42F2BB1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A73D055-D5D1-4289-8576-54990B45B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C49A2F1-4646-4821-88A9-92C8E8EBF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FEF4535-656E-40AF-B6B5-3D9EA6506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BC96CA0-E3EF-460B-AD63-512EB20AA89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1111FB-9A56-4F25-9687-DCC4F0E24F81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9202AA5-D9B5-49B9-A886-94CE033DD747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8511BD9-519B-4C49-9212-12107A52F410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4855A9B-8077-4495-BC3E-BA45621EA6E6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E7B7B7E-C7C6-4152-A5A7-2FE3C9DB3CDE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BCD914C-76B8-4004-A93B-399212E260ED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628BAC6-5E97-40C3-8832-7C4FA3007D05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D9633CD-820A-4176-9919-9DBAAC64CC9E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4DBC2D9-15F4-41EA-97CC-7DBB7384E8EF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DA86113-EEC2-4E0B-B02B-BBDA39B4D77E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18FAA48-554C-4047-BCA6-6D15105AA0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49E65-AEBD-4EF9-B1E8-88CF1A685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BDB046-16FE-48B9-99FB-5DC40B4B4D1F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BF67D98-3119-4947-9A4F-62863900833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8E16F7-34D1-4D65-9094-76D3E04D3A0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82890D-A4BA-46AC-96D6-3FF739DC72F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36828F-0E0C-4B8A-9C0C-9E22ECEACEC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199C32-F694-4510-817F-50B2B190DC9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A25B74-E90D-45C8-9AF6-3DF89A96976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A2F581-F23C-4003-8B8B-CA02751AEF3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D1A16C-7C93-490E-ACE7-915B0C468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11FF8D-F34D-4352-A7AE-E0095E80C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65EFF2-99DB-4CF5-9558-D6476D86F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73F1C-FE88-4A03-A5B5-76A0AFDC6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0D3602-3333-432B-8444-1030F2F13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E3B960-AA32-46B4-B07A-4F8FEFE74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FD10AD-48CA-4BAE-88C7-CDBD3CF6A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54AE9E-9BD2-4C4F-A2CB-68B2F97E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04441F-1BA8-40D3-B4AE-A24A1743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1C400D-100E-45DC-BD99-826F37FA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18B729-D5E2-4AC3-BBC4-3F283A10B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FE92F5-C119-48AF-9668-2E745B83C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0334D4-5BBB-4DA0-87A9-79C5B8F5E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6A2FBC-5D40-49BC-BD20-50DC2A972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7439A-8D03-4225-BF12-81C462877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4007A6-4008-43D6-9E7A-C697E3DDF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890A76-BE5A-4873-AB84-BCE25BC35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F893AB2-C091-4FA8-AA49-3DFA900DF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A29873-3785-485B-9831-AB904DFA0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598A0F-5D3A-4D47-A13D-8A8AEB3B0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469B94-C244-44D0-B09E-048E6F83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9A9E37-AEC9-4D4F-B0AE-B64D7F1A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92D7E6-45F9-4AB1-B452-ACB76952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B831F8-7DB3-41A9-81E8-0F480B6E9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95C2502-F10C-4F17-8885-A001CE962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FE939-738D-455F-B6E3-5C72CC6A1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F58CBE-0A08-42CA-A306-5C95025B7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108A18-FD28-4A0C-8176-5A1953F70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27E25D-8BE0-4538-994C-04EB2B550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81D637-8565-42E4-88A5-077CC5346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4A41319-27D5-4C68-B54E-B30E7D9F4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06DB05-6AC2-42E3-BE71-161EED34A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1D4656-DFCC-4568-9B3C-BB85DB8DD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17DD39-7540-4534-8A5E-954E18D0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FDDA30-A74E-43A6-A2B7-B7EF8329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524161-4E24-4693-81B6-ACB77917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94B4F-BF14-4CB9-B16A-7287CFF2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C827C6-C571-47DF-8B2F-AD65CE1A5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1F1917-B9F4-4D0E-BE64-C93A1606E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7163E2-AEAB-4356-8AE6-4EA37ABB2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D33FC47-28BD-4207-A46D-A712B2E34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8599108-E634-4783-82DE-49BA9D6E8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E4F0191-9874-4DEC-BB30-63449A370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EE7E68F-77A3-4342-82AA-900FFCFBA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697843E-3A27-40AE-8282-DA4D30E3D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29F9D94-30D2-45A7-8CDA-616782BE2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2CCFACB-E0A7-4573-9B1A-E9745405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35126-92B2-4553-A9F0-5EED8694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B92E45A-3AE9-4E21-A4F3-9D459CFB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F8D7344-9E77-45B1-AD25-1E41F8F4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2F04A55-C463-4313-B062-5673F88E5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686DBD9-0AC6-4068-A5AB-A22E54EAC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841F797-6A1B-4884-93DC-A8A4DCFA8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EBFB989-2EED-4B6F-923C-B85AFE71E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F9AF57A-B2F7-4EC5-8F90-FF2371A98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8BC4754-3ADD-4E3C-A018-E1E54E284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45B3DB4-AF62-4BDE-B625-B0A2FBBB6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922BCE7-0AD2-45F3-ABB7-BB043B34F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DCB36-08B7-49A9-9769-B8BE1602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AA7B09E-0320-41DB-8CE3-827D1789A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36FB326-9FB9-4625-8731-F10EEAD0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EC5107E-1AEA-478B-B7DB-897A25B6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3A1920E-67C5-4298-8FA9-57FF2924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7E4740E-D428-4A6C-9AC0-4F72D106D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3B220FA-5AEF-4FF9-8AD0-F8CDAEAEE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269EA97-AE7E-4111-B3E5-881CA38AD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53285F-0E51-462C-BBA4-8835FD8B3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5B34CD-B97A-4694-9694-641A534AF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463FFB-5E84-4F2C-8584-D61E2CE95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left_bar art"/>
          <p:cNvPicPr/>
          <p:nvPr/>
        </p:nvPicPr>
        <p:blipFill>
          <a:blip r:embed="rId3"/>
          <a:stretch/>
        </p:blipFill>
        <p:spPr>
          <a:xfrm>
            <a:off x="0" y="0"/>
            <a:ext cx="2514600" cy="7086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1E964-5A9C-48A9-99ED-DEA51921CEA5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7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sldNum" idx="28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2CBF8-310D-4F19-A05A-6C7837C3CA93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ftr" idx="29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0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sldNum" idx="31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1FF01-A0A0-4688-841A-9AB7B7C8CE60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ftr" idx="32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3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sldNum" idx="34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B732F-91F8-4A11-A2FB-D7A86047473C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ftr" idx="35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36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sldNum" idx="37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27DA9-32B1-4F7F-B3B2-03D933DA8632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38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39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40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41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D1AAA-9AA0-4525-8560-8842BFCADB58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dt" idx="4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 type="ftr" idx="4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 type="sldNum" idx="4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44803-B45B-484A-893C-C44F4F18FD8B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dt" idx="45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ftr" idx="46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 type="sldNum" idx="47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F9E55-39FD-49B2-A4CC-D8B3BF33F1B8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dt" idx="48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ftr" idx="49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 type="sldNum" idx="50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AC1F3-CA06-49D6-A4F6-5B7B1F3E694B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dt" idx="5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ftr" idx="5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 type="sldNum" idx="5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472E7-CB39-42A2-A49A-86EAB41F9266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 type="dt" idx="5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 type="ftr" idx="5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 type="sldNum" idx="5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ACE6F-7D34-4F38-9F18-0E0D5D3B639A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42C8F-5C48-4580-81BB-D58E8A4A0807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left_bar art"/>
          <p:cNvPicPr/>
          <p:nvPr/>
        </p:nvPicPr>
        <p:blipFill>
          <a:blip r:embed="rId3"/>
          <a:stretch/>
        </p:blipFill>
        <p:spPr>
          <a:xfrm>
            <a:off x="0" y="0"/>
            <a:ext cx="2514600" cy="708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 type="dt" idx="5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 type="ftr" idx="5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 type="sldNum" idx="59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9BA30-D0E9-46BE-BED9-2275680F98EE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 type="dt" idx="6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 type="ftr" idx="6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 type="sldNum" idx="6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0A663-7D13-48B7-9A62-94F1A5D80BC1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 type="dt" idx="6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 type="ftr" idx="6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 type="sldNum" idx="6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2AEB1-AEB6-409C-A111-AE34313DBFDE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dt" idx="6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ftr" idx="6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 type="sldNum" idx="6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325B6-3622-4E48-9A9E-BCFA883E805E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 type="dt" idx="6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 type="ftr" idx="7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 type="sldNum" idx="7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47399-4E27-47CE-8ACF-90964E574D1C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2" name="Picture 2" descr="left_bar art"/>
          <p:cNvPicPr/>
          <p:nvPr/>
        </p:nvPicPr>
        <p:blipFill>
          <a:blip r:embed="rId3"/>
          <a:stretch/>
        </p:blipFill>
        <p:spPr>
          <a:xfrm>
            <a:off x="0" y="0"/>
            <a:ext cx="2514600" cy="7086600"/>
          </a:xfrm>
          <a:prstGeom prst="rect">
            <a:avLst/>
          </a:prstGeom>
          <a:ln w="0">
            <a:noFill/>
          </a:ln>
        </p:spPr>
      </p:pic>
      <p:sp>
        <p:nvSpPr>
          <p:cNvPr id="1013" name="Rectangle 7"/>
          <p:cNvSpPr/>
          <p:nvPr/>
        </p:nvSpPr>
        <p:spPr>
          <a:xfrm>
            <a:off x="1905120" y="571500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9"/>
          <p:cNvSpPr/>
          <p:nvPr/>
        </p:nvSpPr>
        <p:spPr>
          <a:xfrm>
            <a:off x="1828800" y="5105520"/>
            <a:ext cx="6400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ird Editio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Rectangle 10"/>
          <p:cNvSpPr/>
          <p:nvPr/>
        </p:nvSpPr>
        <p:spPr>
          <a:xfrm>
            <a:off x="1828800" y="3886200"/>
            <a:ext cx="640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LECTRONIC COMMERC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Rectangle 11"/>
          <p:cNvSpPr/>
          <p:nvPr/>
        </p:nvSpPr>
        <p:spPr>
          <a:xfrm>
            <a:off x="1828800" y="43434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rom Vision to Fulfillmen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F0F48-7606-4DC6-81F9-0C010E252FA7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 type="ftr" idx="73"/>
          </p:nvPr>
        </p:nvSpPr>
        <p:spPr>
          <a:xfrm>
            <a:off x="3124080" y="6244920"/>
            <a:ext cx="3353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left_bar art"/>
          <p:cNvPicPr/>
          <p:nvPr/>
        </p:nvPicPr>
        <p:blipFill>
          <a:blip r:embed="rId3"/>
          <a:stretch/>
        </p:blipFill>
        <p:spPr>
          <a:xfrm>
            <a:off x="0" y="0"/>
            <a:ext cx="2514600" cy="70866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7"/>
          <p:cNvSpPr/>
          <p:nvPr/>
        </p:nvSpPr>
        <p:spPr>
          <a:xfrm>
            <a:off x="1905120" y="571500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1828800" y="579132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lias M. Awa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1828800" y="5105520"/>
            <a:ext cx="6400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ird Editio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1828800" y="3886200"/>
            <a:ext cx="640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LECTRONIC COMMERC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1828800" y="43434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rom Vision to Fulfillmen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44875-97E8-40B9-93E6-00F427FF15ED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3353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9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sldNum" idx="10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748A1-890B-4BC5-BDA5-C486CE147C9B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2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3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6DC61-6120-4B27-B95B-95AC9C284A01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ftr" idx="14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5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6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68D6-7298-44F4-A168-1A1481A7A0CD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7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8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sldNum" idx="19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1A577-0E8B-4E31-AF7F-4FB7DBAC2B09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ftr" idx="20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1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sldNum" idx="22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19E2D-D1E1-44E2-A189-896B0A15C305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ftr" idx="23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4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sldNum" idx="25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599EE-A089-4747-B9FF-221348FC212E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ftr" idx="26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Rectangl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24FA5-31D2-4CC7-ABF0-37ABCB0F5C1F}" type="slidenum">
              <a:rPr b="0" i="1" lang="en-US" sz="1400" spc="-1" strike="noStrike">
                <a:solidFill>
                  <a:srgbClr val="99663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12"/>
          <p:cNvSpPr/>
          <p:nvPr/>
        </p:nvSpPr>
        <p:spPr>
          <a:xfrm>
            <a:off x="3124080" y="6245280"/>
            <a:ext cx="3353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7"/>
          <p:cNvSpPr/>
          <p:nvPr/>
        </p:nvSpPr>
        <p:spPr>
          <a:xfrm>
            <a:off x="1143000" y="251460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Garamond"/>
              </a:rPr>
              <a:t>Chapter Four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Garamond"/>
              </a:rPr>
              <a:t>Concepts in e-commerce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Types of e-commerce..contd…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600" spc="-1" strike="noStrike">
                <a:solidFill>
                  <a:srgbClr val="000000"/>
                </a:solidFill>
                <a:latin typeface="Gill Sans MT"/>
              </a:rPr>
              <a:t>B2C Commerc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commerce between companies and consumer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nvolves customers gathering information; purchasing physical goods or information goods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online retailing companies such as Amazon.com, Drugstore.com, Beyond.com, Flipkart.com, Lenskart.com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reduces transactions cost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ncreasing consumer access to information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reduces market entry barrier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1099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3D976-63CB-4BA4-8106-2B7C60739ACD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464653"/>
                </a:solidFill>
                <a:latin typeface="Bookman Old Style"/>
              </a:rPr>
              <a:t>..Contd…</a:t>
            </a:r>
            <a:endParaRPr b="0" lang="en-US" sz="24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2" name=""/>
          <p:cNvSpPr txBox="1"/>
          <p:nvPr/>
        </p:nvSpPr>
        <p:spPr>
          <a:xfrm>
            <a:off x="457200" y="5331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B2G e-commerc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31000" indent="-2646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commerce between companies and the public sector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31000" indent="-2646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use of the Internet for public procurement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31000" indent="-2646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licensing procedure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C2C e-commerc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31000" indent="-26460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64653"/>
                </a:solidFill>
                <a:latin typeface="Calibri"/>
              </a:rPr>
              <a:t>commerce between private individuals or consumers</a:t>
            </a:r>
            <a:endParaRPr b="0" lang="en-US" sz="1500" spc="-1" strike="noStrike">
              <a:solidFill>
                <a:srgbClr val="464653"/>
              </a:solidFill>
              <a:latin typeface="Gill Sans MT"/>
            </a:endParaRPr>
          </a:p>
          <a:p>
            <a:pPr lvl="1" marL="531000" indent="-26460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64653"/>
                </a:solidFill>
                <a:latin typeface="Calibri"/>
              </a:rPr>
              <a:t>online auctions</a:t>
            </a:r>
            <a:endParaRPr b="0" lang="en-US" sz="1500" spc="-1" strike="noStrike">
              <a:solidFill>
                <a:srgbClr val="464653"/>
              </a:solidFill>
              <a:latin typeface="Gill Sans MT"/>
            </a:endParaRPr>
          </a:p>
          <a:p>
            <a:pPr lvl="1" marL="531000" indent="-26460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64653"/>
                </a:solidFill>
                <a:latin typeface="Calibri"/>
              </a:rPr>
              <a:t>auctions facilitated at a portal, such as eBay, which allows online real-time bidding on items being sold in the Web; </a:t>
            </a:r>
            <a:endParaRPr b="0" lang="en-US" sz="1500" spc="-1" strike="noStrike">
              <a:solidFill>
                <a:srgbClr val="464653"/>
              </a:solidFill>
              <a:latin typeface="Gill Sans MT"/>
            </a:endParaRPr>
          </a:p>
          <a:p>
            <a:pPr lvl="1" marL="531000" indent="-26460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64653"/>
                </a:solidFill>
                <a:latin typeface="Calibri"/>
              </a:rPr>
              <a:t>peer-to-peer systems, such as the Napster model (a protocol for sharing files between users used by chat forums similar to IRC) and other file exchange and later money exchange models; and </a:t>
            </a:r>
            <a:endParaRPr b="0" lang="en-US" sz="1500" spc="-1" strike="noStrike">
              <a:solidFill>
                <a:srgbClr val="464653"/>
              </a:solidFill>
              <a:latin typeface="Gill Sans MT"/>
            </a:endParaRPr>
          </a:p>
          <a:p>
            <a:pPr lvl="1" marL="531000" indent="-26460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64653"/>
                </a:solidFill>
                <a:latin typeface="Calibri"/>
              </a:rPr>
              <a:t>classified ads at portal sites such as Excite Classifieds and eWanted (an inter- active, online marketplace where buyers and sellers can negotiate and which features “Buyer Leads &amp; Want Ads”).</a:t>
            </a:r>
            <a:endParaRPr b="0" lang="en-US" sz="1500" spc="-1" strike="noStrike">
              <a:solidFill>
                <a:srgbClr val="464653"/>
              </a:solidFill>
              <a:latin typeface="Gill Sans MT"/>
            </a:endParaRPr>
          </a:p>
          <a:p>
            <a:pPr lvl="1" marL="531000" indent="-26460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64653"/>
                </a:solidFill>
                <a:latin typeface="Calibri"/>
              </a:rPr>
              <a:t>Consumer-to-business (C2B) transactions involve reverse auctions, which empower the consumer to drive transactions. A concrete example of this when competing airlines gives a traveler best travel and ticket offers in response to the traveler’s post that she wants to fly from New York to San Francisco. </a:t>
            </a:r>
            <a:endParaRPr b="0" lang="en-US" sz="1500" spc="-1" strike="noStrike">
              <a:solidFill>
                <a:srgbClr val="464653"/>
              </a:solidFill>
              <a:latin typeface="Gill Sans MT"/>
            </a:endParaRPr>
          </a:p>
          <a:p>
            <a:pPr lvl="1" marL="531000" indent="-26460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64653"/>
                </a:solidFill>
                <a:latin typeface="Calibri"/>
              </a:rPr>
              <a:t>There is little information on the relative size of global C2C e-commerce. However, C2C figures of popular C2C sites such as eBay and Napster indicate that this market is quite large. These sites produce millions of dollars in sales every day</a:t>
            </a:r>
            <a:endParaRPr b="0" lang="en-US" sz="15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1103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3578C-E208-42D5-B86F-AD991A678910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-Commer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6" name="Footer Placeholder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94134-9743-44E4-A8C1-CB1E32240250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buying and selling of goods and services through wireless technology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handheld devices such as cellular telephones and personal digital assistants (PDAs) are used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m-commerce will become the choice for digital commerce transactions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bill payment and account reviews can all be conducted from the handheld devices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consumers are given the ability to place and pay for orders on-the-fly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delivery of entertainment, financial news, sports figures and traffic updates to a single mobile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different server than that accessed by the regular online users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allow users to book and cancel rail, flight, movie tickets through their mobile devices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464653"/>
                </a:solidFill>
                <a:latin typeface="Bookman Old Style"/>
              </a:rPr>
              <a:t>M-Commerce..contd..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ritical considerations for this strategy is the software solution that the organization us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‘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ll in one’ device strategy vs individual device based technolog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anks can use cost effective virtual distribution channel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19840" indent="-2592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Financial inclusion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19840" indent="-2592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Greater reach across the population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nvenience without compromising securit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enefits are in terms of usage, reach, cost of installation, efforts and money for maintenance, upgradeability and sustainabilit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1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04D20-F7DB-4CD3-BE73-F2425D48DB19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464653"/>
                </a:solidFill>
                <a:latin typeface="Bookman Old Style"/>
              </a:rPr>
              <a:t>M commerce..contd..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ddress the needs of all the players (including regulatory requirements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lution is adopted that can be deployed fast, and can be scalab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re of disparate systems, customized solutions and maintenance co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 platform that easily integrates new services and allows banks to be flexibl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lowing the bank to reap benefits from the full potential of the mobile commer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 commerce strategy requires a clear vision and objectives and not ‘one size fits all’ approa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5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2A88B-681A-4F21-B695-4E3CB8BA5450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Factors affecting e-commerce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jor forces fuelling e-commerc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31000" indent="-2646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economic forces, 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31000" indent="-2646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marketing and customer interaction forces, and 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31000" indent="-2646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Technology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31000" indent="-2646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communications costs, 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31000" indent="-2646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low-cost technological infrastructure, 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31000" indent="-2646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speedier and more economic electronic transactions with suppliers, 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31000" indent="-2646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lower global information sharing and advertising costs, and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31000" indent="-2646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cheaper customer service cost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31000" indent="-2646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networking of corporations, suppliers, customers/clients, and independent contractors into one community 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31000" indent="-2646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Networking of the various departments within a corporation, and of business operations and processes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9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7B22B-4677-44C5-8DA3-8FB16A3D0364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53"/>
                </a:solidFill>
                <a:latin typeface="Bookman Old Style"/>
              </a:rPr>
              <a:t>Factors affecting e-commerce..contd..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2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ritical business information to be stored in a digital form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retrieved instantly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ransmitted electronically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nnecting businesses (small, medium or large) to trading partner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ourcing out supplies, buying and selling goods and services online in real tim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enter for management of content and the processing of business transaction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upport services such as financial clearance and information service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regional, vertical and industry-specific interoperable B2B e-markets across the glob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3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B5F87-3B84-4CB0-9E2D-E2D85803CA5B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53"/>
                </a:solidFill>
                <a:latin typeface="Bookman Old Style"/>
              </a:rPr>
              <a:t>Factors affecting e-commerce..contd..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ovide their target consumers with more detailed product and service information using e-commerc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logistical and technological infrastructure to other retailer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xpertise in credit analys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racking order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oduct comparison system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igitizing content, compression and the promotion of open systems technology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nvergence of telephone services, television broadcast, cable television, and Internet acces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7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AA408-8E4E-412D-9555-75AE131BFA8A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E-commerce components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3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 corporate Web site with e-commerce capabilit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 corporate intranet so that orders are processed in an efficient manner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T-literate employees to manage the information flows and maintain the e-commerce syste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anking institutions that offer transaction clearing servic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ational and international logistic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st-efficient transport of small and big package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ritical mass of the population with access to the Internet and disposable incom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rms/Businesses with order fulfilling capabil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1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7C3B5-AAD5-4CA4-8234-81010B74433B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E-commerce components..contd..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3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A legal framework governing e-commerce transactions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Legal institutions that would enforce the legal framework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A robust and reliable Internet infrastructure;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A pricing structure that doesn’t penalize consumers for spending time on and buying goods over the Internet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global collection of networks connected to share information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common set of protocols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5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E29A-B68D-421C-8F8A-B9B858A9637E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Learning objectives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hat is e-commerce and different models in e-commer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ole of e-commerce in developing econom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ow e-commerce is different than e-busines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ternet security requirement for e-commer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actors that would influence adoption of e-commer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hat is m-commerce and how is it related to e-commer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lectronic payment system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-bank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egal and policy issues in e-commer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-commerce and online publish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actors that impact adoption of e-commerce among Small and Medium Enterprises (SMEs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gulatory monitoring required for e-commer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9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3B4BD-6ECE-41DF-BD07-07A0D8227AD9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E-commerce component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38" name="Footer Placeholder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7C0D0-38B1-4AB2-8228-3F31488853A6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Important component </a:t>
            </a:r>
            <a:r>
              <a:rPr b="0" lang="en-IN" sz="2600" spc="-1" strike="noStrike">
                <a:solidFill>
                  <a:srgbClr val="000000"/>
                </a:solidFill>
                <a:latin typeface="Gill Sans MT"/>
              </a:rPr>
              <a:t>of e-commerce based firm is the websi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70880" indent="-2343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300" spc="-1" strike="noStrike">
                <a:solidFill>
                  <a:srgbClr val="464653"/>
                </a:solidFill>
                <a:latin typeface="Gill Sans MT"/>
              </a:rPr>
              <a:t>website should have technology that will make it easier for its customers to navigat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70880" indent="-2343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300" spc="-1" strike="noStrike">
                <a:solidFill>
                  <a:srgbClr val="464653"/>
                </a:solidFill>
                <a:latin typeface="Gill Sans MT"/>
              </a:rPr>
              <a:t>site should offer every single feature necessary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70880" indent="-2343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300" spc="-1" strike="noStrike">
                <a:solidFill>
                  <a:srgbClr val="464653"/>
                </a:solidFill>
                <a:latin typeface="Gill Sans MT"/>
              </a:rPr>
              <a:t>fully-functional and sustainable ecommerce web sit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70880" indent="-2343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300" spc="-1" strike="noStrike">
                <a:solidFill>
                  <a:srgbClr val="464653"/>
                </a:solidFill>
                <a:latin typeface="Gill Sans MT"/>
              </a:rPr>
              <a:t>stable server for hosting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70880" indent="-2343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300" spc="-1" strike="noStrike">
                <a:solidFill>
                  <a:srgbClr val="464653"/>
                </a:solidFill>
                <a:latin typeface="Gill Sans MT"/>
              </a:rPr>
              <a:t>provide customer specific service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70880" indent="-2343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300" spc="-1" strike="noStrike">
                <a:solidFill>
                  <a:srgbClr val="464653"/>
                </a:solidFill>
                <a:latin typeface="Gill Sans MT"/>
              </a:rPr>
              <a:t>technology partners who constantly upgrade the features as well as technology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70880" indent="-2343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300" spc="-1" strike="noStrike">
                <a:solidFill>
                  <a:srgbClr val="464653"/>
                </a:solidFill>
                <a:latin typeface="Gill Sans MT"/>
              </a:rPr>
              <a:t>help business partners such as logistics partners and suppliers to share and exchange business data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34360" indent="-2343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600" spc="-1" strike="noStrike">
                <a:solidFill>
                  <a:srgbClr val="000000"/>
                </a:solidFill>
                <a:latin typeface="Gill Sans MT"/>
              </a:rPr>
              <a:t>Alternatively SaaS can be used for running these services (reduce cost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70880" indent="-2343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53"/>
                </a:solidFill>
                <a:latin typeface="Bookman Old Style"/>
              </a:rPr>
              <a:t>Business transformation through e-commerce</a:t>
            </a:r>
            <a:br>
              <a:rPr sz="2400"/>
            </a:br>
            <a:endParaRPr b="0" lang="en-US" sz="24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2" name=""/>
          <p:cNvSpPr txBox="1"/>
          <p:nvPr/>
        </p:nvSpPr>
        <p:spPr>
          <a:xfrm>
            <a:off x="457200" y="91440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Linking stakeholders through e-commerc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53"/>
                </a:solidFill>
                <a:latin typeface="Gill Sans MT"/>
              </a:rPr>
              <a:t>Supply chain management integration</a:t>
            </a:r>
            <a:endParaRPr b="0" lang="en-US" sz="22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53"/>
                </a:solidFill>
                <a:latin typeface="Gill Sans MT"/>
              </a:rPr>
              <a:t>The product flow</a:t>
            </a:r>
            <a:endParaRPr b="0" lang="en-US" sz="22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53"/>
                </a:solidFill>
                <a:latin typeface="Gill Sans MT"/>
              </a:rPr>
              <a:t>The information flow</a:t>
            </a:r>
            <a:endParaRPr b="0" lang="en-US" sz="22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53"/>
                </a:solidFill>
                <a:latin typeface="Gill Sans MT"/>
              </a:rPr>
              <a:t>The finances flow</a:t>
            </a:r>
            <a:endParaRPr b="0" lang="en-US" sz="22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53"/>
                </a:solidFill>
                <a:latin typeface="Gill Sans MT"/>
              </a:rPr>
              <a:t>Shared data in diverse database systems, data warehouse</a:t>
            </a:r>
            <a:endParaRPr b="0" lang="en-US" sz="22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53"/>
                </a:solidFill>
                <a:latin typeface="Gill Sans MT"/>
              </a:rPr>
              <a:t>Sharing data “upstream” (with a company’s suppliers) and “downstream” (with a company’s clients)</a:t>
            </a:r>
            <a:endParaRPr b="0" lang="en-US" sz="22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53"/>
                </a:solidFill>
                <a:latin typeface="Gill Sans MT"/>
              </a:rPr>
              <a:t>shared digital business infrastructure</a:t>
            </a:r>
            <a:endParaRPr b="0" lang="en-US" sz="22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53"/>
                </a:solidFill>
                <a:latin typeface="Gill Sans MT"/>
              </a:rPr>
              <a:t>including integrated value chains</a:t>
            </a:r>
            <a:endParaRPr b="0" lang="en-US" sz="22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53"/>
                </a:solidFill>
                <a:latin typeface="Gill Sans MT"/>
              </a:rPr>
              <a:t>e-business management model</a:t>
            </a:r>
            <a:endParaRPr b="0" lang="en-US" sz="22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53"/>
                </a:solidFill>
                <a:latin typeface="Gill Sans MT"/>
              </a:rPr>
              <a:t>business policies consistent with e-commerce laws, teleworking/virtual work, distance learning, incentive schemes</a:t>
            </a:r>
            <a:endParaRPr b="0" lang="en-US" sz="22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1143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FD166-6E4E-47FA-80D7-2F4B0C8A91EA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4653"/>
                </a:solidFill>
                <a:latin typeface="Bookman Old Style"/>
              </a:rPr>
              <a:t>E-COMMERCE APPLICATIONS: ISSUES AND PROSPECTS </a:t>
            </a:r>
            <a:br>
              <a:rPr sz="2000"/>
            </a:br>
            <a:endParaRPr b="0" lang="en-US" sz="2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6" name=""/>
          <p:cNvSpPr txBox="1"/>
          <p:nvPr/>
        </p:nvSpPr>
        <p:spPr>
          <a:xfrm>
            <a:off x="457200" y="1066320"/>
            <a:ext cx="82296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-banking, e-tailing and online publishing/online retail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70880" indent="-2343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telephone banking, credit cards, ATM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34360" indent="-2343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-commerce in developing countr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70880" indent="-2343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Cash-on-delivery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70880" indent="-2343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Bank payment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70880" indent="-2343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electronic payment system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70880" indent="-2343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urity issues in e-payment 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34360" indent="-2343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actors the growth of e-banking in developing countr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70880" indent="-2343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access to the Internet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70880" indent="-2343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nclination for banking over the internet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70880" indent="-2343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access to high-quality product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70880" indent="-2343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urity over internet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34360" indent="-2343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34360" indent="-2343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34360" indent="-2343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7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0380E-24B5-4E62-9BA2-461B0F8F513F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53"/>
                </a:solidFill>
                <a:latin typeface="Bookman Old Style"/>
              </a:rPr>
              <a:t>Future trend in e-banking in third world countries</a:t>
            </a:r>
            <a:br>
              <a:rPr sz="2400"/>
            </a:br>
            <a:endParaRPr b="0" lang="en-US" sz="24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457200" y="91440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Gill Sans MT"/>
              </a:rPr>
              <a:t>Lead us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Gill Sans MT"/>
              </a:rPr>
              <a:t>Follow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Gill Sans MT"/>
              </a:rPr>
              <a:t>Reject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Gill Sans MT"/>
              </a:rPr>
              <a:t>Interest in conducting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plex activities over the Intern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-tailing (or electronic retailing)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14440" indent="-2563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selling of retail goods on the Internet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14440" indent="-2563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1997 is considered the initial year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14440" indent="-2563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Lower customer acquisition costs 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line publishing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14440" indent="-2563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newsletters, online magazines and databases, brochures and other promotional materials, books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14440" indent="-2563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Internet as a medium 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1151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3032E-343F-4F3F-8C72-A49708B5BABD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Future trend in e-banking in third world countries..contd..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600" spc="-1" strike="noStrike">
                <a:solidFill>
                  <a:srgbClr val="000000"/>
                </a:solidFill>
                <a:latin typeface="Gill Sans MT"/>
              </a:rPr>
              <a:t>Online publish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31000" indent="-2646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Advantage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797400" indent="-2214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ow-cost universal acces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97400" indent="-2214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dependence of time and pla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97400" indent="-2214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ase of distribu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97400" indent="-2214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ffective marketing outreach medium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31000" indent="-2646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ssue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797400" indent="-2214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hat kind of business model would result in the most revenu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97400" indent="-2214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ricing, mark u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97400" indent="-2214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airness of charges to advertiser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97400" indent="-2214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adequate copyright protec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97400" indent="-2214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ncryption for paid subscriber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97400" indent="-2214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unsolicited commercial e-mail or “spam mail”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5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2268F-A9DC-47CE-BE47-08E958E424B2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53"/>
                </a:solidFill>
                <a:latin typeface="Bookman Old Style"/>
              </a:rPr>
              <a:t>e-commerce AND entrepreneurs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1.   It facilitates the access of artisans and SMEs to world markets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2.   It facilitates the promotion and development of tourism of developing countries in a global scale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3.   It facilitates the marketing of agricultural and tropical products in the global market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4.   It provides avenues for firms in poorer countries to enter into B2B and B2G supply chains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5.   It assists service-providing enterprises in developing countries by allowing them to operate more efficiently and directly provide specific services to customers globall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9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4EDE9-8226-4036-9FA5-D092218A93CA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e-commerce AND entrepreneurs..contd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62" name=""/>
          <p:cNvSpPr txBox="1"/>
          <p:nvPr/>
        </p:nvSpPr>
        <p:spPr>
          <a:xfrm>
            <a:off x="457200" y="1066320"/>
            <a:ext cx="82296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-commerce evolution for entrepreneu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92480" indent="-2455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use of the Internet for communication 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492480" indent="-2455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use of the Internet for research and information search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492480" indent="-2455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information about a firm’s goods or services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492480" indent="-2455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Internet for e-commerce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492480" indent="-2455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maintaining business relationships with business partners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marL="245520" indent="-245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ssues with adoption of e-commerce by entrepreneu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92480" indent="-2455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unfavorable economic environment, 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492480" indent="-2455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high cost of ICT 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492480" indent="-2455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security concerns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492480" indent="-2455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lack of ICT awareness and knowledg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492480" indent="-2455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Lack of ICT-capable employees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492480" indent="-2455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1163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D4441-84FC-4BEC-A50B-203171E00DC2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Role of government and e-commerce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66" name=""/>
          <p:cNvSpPr txBox="1"/>
          <p:nvPr/>
        </p:nvSpPr>
        <p:spPr>
          <a:xfrm>
            <a:off x="457200" y="9907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reating a favorable polic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ecoming a leading-edge user of e-commerc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ts applications in its operation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provider to citizens of e-government services,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o encourage its mass us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ridging the digital divid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legal recognition of e-commerce transaction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nsumer protection from frau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otection of consumers’ right to privac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legal protection against crack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otection of intellectual propert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7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49229-06C6-4F15-B7EE-BA5FCD587B21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Bookman Old Style"/>
              </a:rPr>
              <a:t>Infrastructure in e-commerce development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1" name="Footer Placeholder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 txBox="1"/>
          <p:nvPr/>
        </p:nvSpPr>
        <p:spPr>
          <a:xfrm>
            <a:off x="457200" y="1066320"/>
            <a:ext cx="82296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High Internet access costs, including connection service fees, communication fees, and hosting charges for websites with sufficient bandwidth;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Limited availability of credit cards and a nationwide credit card system;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Underdeveloped transportation infrastructure resulting in slow and uncertain delivery of goods and services;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Network security problems and insufficient security safeguards;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Lack of skilled human resources and key technologies (i.e., inadequate professional IT workforce);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Content restriction on national security and other public policy grounds, which greatly affect business in the field of  information services, such as the media and entertainment sectors;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Cross-border issues, such as the recognition of transactions under laws of other ASEAN member-countries, certification services, improvement of delivery methods and customs facilitation; and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the relatively low cost of labor, which implies that a shift to a comparatively capital intensive solution (including investments on  the improvement of the physical and network infrastructure) is not apparent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531000" indent="-264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ONT’D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4" name="Footer Placeholder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190C5-9F64-45D0-A343-D6511443960A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owerful tool in the economic growth of developing countr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-commerce promises better business for SME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ustainable economic development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equires strong political will and good governanc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equires responsible and supportive private secto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What is e-commer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8" name="Footer Placeholder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53B07-FB1C-4A6A-8002-7FA35803F26B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 txBox="1"/>
          <p:nvPr/>
        </p:nvSpPr>
        <p:spPr>
          <a:xfrm>
            <a:off x="457200" y="12189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188280" indent="-1882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nline business activities for products and servic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188280" indent="-1882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-commerce is usually associated with buying and selling over the Interne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188280" indent="-1882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New Definition: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o create, transform, and redefine relationships for value creation between or among organizations, and between organizations and individual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188280" indent="-1882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188280" indent="-1882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188280" indent="-1882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What is e-commer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82" name="Footer Placeholder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FDFDD-5DD0-4C76-B225-8381A4D7CAE0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E-commerce is a short version of the term Electronic Commer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transactions related to online buying and selling of products or servic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done using electronic systems such as the Internet and other computer network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penetration and spread of the internet has fuelled e-commer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Examples os e-commerce are electronic funds transfer, supply chain management, Internet marketing, online transaction processing, electronic data interchange (EDI), inventory management systems, and automated data collection system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definition of e-commerce in modern the modern times implies that it typically uses the World Wide Web at least at any point in the transaction's lifecycl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Online retailers are sometimes known as e-tailer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online retail is sometimes known as e-tai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e-commerce and e-busines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600" spc="-1" strike="noStrike">
                <a:solidFill>
                  <a:srgbClr val="000000"/>
                </a:solidFill>
                <a:latin typeface="Gill Sans MT"/>
              </a:rPr>
              <a:t>E-commerce: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formation and communications technology (ICT) is used in inter-business or inter-organizational transaction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-business:  ICT is used to enhance one’s busines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ree primary processes are enhanced in e-busines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14440" indent="-2563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Gill Sans MT"/>
              </a:rPr>
              <a:t>1.</a:t>
            </a:r>
            <a:r>
              <a:rPr b="0" lang="en-US" sz="1800" spc="-1" strike="noStrike">
                <a:solidFill>
                  <a:srgbClr val="464653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464653"/>
                </a:solidFill>
                <a:latin typeface="Gill Sans MT"/>
              </a:rPr>
              <a:t>Production processes, which include procurement, ordering and replenishment of stocks; processing of payments; electronic links with suppliers; and production control processes, among others; 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lvl="1" marL="514440" indent="-2563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Gill Sans MT"/>
              </a:rPr>
              <a:t>2.   Customer-focused processes, which include promotional and marketing efforts, selling over the Internet, processing of customers’ purchase orders and payments, and customer support, among others; and 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lvl="1" marL="514440" indent="-2563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Gill Sans MT"/>
              </a:rPr>
              <a:t>3.   Internal management processes, which include employee services, training, internal information-sharing, video-conferencing, and recruiting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1087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EF6EB-EAB5-47FF-9D2A-8223784B5BCC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Internet economy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9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cludes e-commerce and e-busines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ertains to all economic activities using electronic network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t is made up of three major segment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physical (ICT) infrastructure,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business infrastructure, and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Commerc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ntermediarie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1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F8B2C-9563-47FB-A265-EE8840E87064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Types of e-commer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94" name="Footer Placeholder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CBC34-9FA9-4511-87A4-D3A8541C7E27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2B: </a:t>
            </a:r>
            <a:r>
              <a:rPr b="0" lang="en-IN" sz="2600" spc="-1" strike="noStrike">
                <a:solidFill>
                  <a:srgbClr val="000000"/>
                </a:solidFill>
                <a:latin typeface="Gill Sans MT"/>
              </a:rPr>
              <a:t>E-commerce that is conducted between businesses is referred to as Business-to-busines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300" spc="-1" strike="noStrike">
                <a:solidFill>
                  <a:srgbClr val="464653"/>
                </a:solidFill>
                <a:latin typeface="Gill Sans MT"/>
              </a:rPr>
              <a:t>(1) open to the entire public or (2) limited to a group of businesses who have been part of the specific group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300" spc="-1" strike="noStrike">
                <a:solidFill>
                  <a:srgbClr val="464653"/>
                </a:solidFill>
                <a:latin typeface="Gill Sans MT"/>
              </a:rPr>
              <a:t>Transaction cost reduced through reduction in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arch cost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sts of processing transactions (e.g. invoices, purchase orders and payment schemes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st in trading processe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eliminating intermediaries and distributor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ncrease in price transparency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creates supply-side cost-based economies of scal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2T00:21:47Z</dcterms:created>
  <dc:creator>RGPlatt</dc:creator>
  <dc:description/>
  <dc:language>en-US</dc:language>
  <cp:lastModifiedBy>Sanjay</cp:lastModifiedBy>
  <dcterms:modified xsi:type="dcterms:W3CDTF">2013-03-04T19:04:21Z</dcterms:modified>
  <cp:revision>320</cp:revision>
  <dc:subject>Awad 3rd ed</dc:subject>
  <dc:title>The Dawn of a Maturing Indust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