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62D-AD53-4119-A883-9B2360E3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C0DB-F564-44E7-ADDD-EEAA9AD5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D81-B784-42BB-801C-7DE7D433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B4D8-84B0-4599-8BC1-503A2D53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6075-2EF0-4D98-8B33-7C851E16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522A8-73B4-4BF9-AE0B-6DA5ACE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8817F-4920-4582-969A-6ADCD49F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A9B93-383E-4E16-AE65-6175E27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9E76D-E750-447D-8BE9-A1A9DF3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C814D-F809-491B-A4E5-4173240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5D7CF-708B-42DE-8AA7-FA7EBF7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EFF90-B702-4617-87EA-477CAC98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620EC-C1F5-4F76-B47E-947192C7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5DAC7-B8B0-4133-B6B5-1A317B4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6059C-7BC8-40AA-9F82-1DDB3AFC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6BD3-DAA4-42AD-B325-26A92FF1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6DE30-460B-491A-87F2-F8296B9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ECE5F-01D9-439A-B40E-1E303A5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514F4-5A4D-4B89-BD0A-CC41C2A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AD1D4-AC79-45E5-9B79-B39C23F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457A6-B0D5-42FC-A81F-B2A5FAD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CE20B-9ECB-43E8-A810-75844E2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427CF-A0D5-4A55-A65C-4EBBC963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5D7A4-DCC9-47E1-98C5-5CAC47F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E57B3-BBAC-49C2-A6BE-B3DD25D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ACBF4-E000-4147-A507-8B1C0C1D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0A51-B7D3-4740-ADE4-3456845A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CD276-31F3-430C-8740-F55E8DAC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FED83F-D25D-4A3B-82BE-EE79C03E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0CC165-6603-4491-8ECB-46EF2E8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31C34-FE83-462C-8F96-7A036CC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AAD04-A381-4E8D-AA75-FDF6C34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227D32-F370-406E-9AA1-3C99C68C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0504F-C127-42CF-9B50-A2AC97E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22141F-EB54-4F54-966F-70B6F8D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A4F1C5-41A2-4F8B-BD73-611985C2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F19510-8A77-4954-BCEC-2567609F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A82A-085B-41D8-A1D6-7F5C7855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1A47C5-5129-4C6C-B289-1B6363F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4C7DB2-44C5-41E1-B44A-8012EA8A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CDD95-99D0-46B1-989D-3FB4CDA4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9AA4F-61F7-4C32-AE02-3857585B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4F1E2-5098-4587-B5F9-6FF5622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D8402-40F1-4421-A57B-8B44A13B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7096B-A4B2-40A2-9B4A-BFEA7D0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B8C93-33AA-4B33-B78E-388F91A5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5EE55-C1B9-4F42-A85A-A7E91C7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88AC-3130-4753-8363-FC1EF68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A247-1F83-4815-96AF-2A5210E4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26AA3-CD12-4D15-BC9D-193A0A0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404FB-0C94-4D6A-86C7-5C81588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B1E72-88C4-4101-A36E-AA6FA13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0B039-7D84-43FA-B78D-0C273CDF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02834-B553-4139-BF42-585FB601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F78AD7-3BB4-45C9-8222-BB00DD2D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2CA581-FC3F-4B22-88C6-D7DA2ADF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A677DF-FB24-40C4-ACF3-A42FC66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3B78CE-0043-489C-82C9-38F3AB2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1BE30-BD2F-4C58-8C4D-1C7414B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5AEA-C923-46E0-8314-9727540E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B15E03-7B16-46CA-AAF6-4A594DF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B6FF29-3F6D-41ED-AEA2-D995940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08B360-3A61-4846-9822-A97CA6B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7823C4-4A27-4A98-8BFE-AEBCFC6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171F57-8A00-42B5-B355-1AFFD15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5EA499-E88E-4BC6-8C43-C3F7176C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6A62AF-E277-42F6-9A2E-F25C3EA6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89971C-3C93-4076-A486-4288D89E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04D967-4FAB-4100-8653-846D87CC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09466A-BA56-40C8-96B1-D21E9B5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9C18-A48F-4FE3-8BCB-58FBC50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B65B3B-9CBA-4274-A915-7C63F7A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E4A679-437B-4441-93C0-B03A3984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446454-6BB5-49E9-921D-C3DE506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AE623E-0374-4B7F-A95B-322C5A1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33EB2B-8B17-499D-8012-E7E1109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B2E6D9-557C-46DE-B883-9E49DDF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21211D-5F59-49A1-96F7-3F07D262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4464EF-6477-4D06-A6AA-4D332F17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E998A6-C7A7-4315-9E71-9432E873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34E39D-7F6B-47A2-B866-685C21B0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AD93-3560-4F3C-B102-0ECC0FD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2B6C9F-4957-408E-BC41-8F94C160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162B94-0E2B-41B7-B496-4BBBDFF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574034-6FC1-4ED1-9B14-9D49D134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28BC2D-CCF6-4F0A-A617-CD716770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8F1D9E-4663-470B-8D5A-690245D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E2BF34-87A2-4E90-A4A7-076C887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7D3E6F-666C-4895-AF0B-5F37C1D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848180-57FB-430F-B614-37A1C24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D5AE82-8B32-424E-A322-9A43CDA0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D6F083-0236-4601-99E2-B7C33D88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517C-DDDC-4C51-A935-8DBD8A6F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AA3041-2902-4C39-86C6-5069026B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B115E1-DB2A-4A9F-BB9A-AE4C6AEB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C3B7D2-8834-45F1-8811-90B1A92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AA30D2-5A96-4285-95B4-4A3BE8FD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35CBB4-36DA-482F-84CC-1019922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BA2CEA-99DE-438F-8DBF-6751C9D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E5AED8-4242-4CC8-B115-49BF672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57F45E-69A3-44EA-A74B-1FF44E2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130911-F8D3-4FA5-BB44-F7D95447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A99935-5C69-4B8E-889B-0E004DAB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5185-C6EA-4CD3-8FB6-04DFD05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D470FA-DC09-4EB0-9DC8-EF74091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BF9DC7-741F-4846-8749-F53EFACB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5C855A-43E5-4384-84D8-F55C8789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8DEDDF-C28A-4849-8794-16744374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CE3B3F-D5CE-4836-AD38-3403FAD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D077AB-6D00-4B22-89B4-2A3266A2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A06586-A32B-47F8-BBB5-A7264017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7E2ED1-80A4-4FD5-A546-BE91983D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51516E-884C-4A45-9652-119B466B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170B47-0AEB-4E59-A839-56086A9D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FCA5-453E-4969-BE87-4BD2BED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843F-A0F5-44B3-B0DD-D57E9B9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C6A3C1-96DB-4C23-B384-2C0B650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0B2D1B-10B0-4F56-AC5F-FBC37AC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D285BE-E29A-471D-A930-AF73D90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53A95E-4F03-416F-98A2-4D1A3D4E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4ED661-1E2D-48A4-BF87-2C9CA9E5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BEBBBF-0968-4F85-BA40-BEA61CF2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3E283F-080F-49D0-81D4-E140F85A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11E8AF-4BFA-41D0-A47D-C8691F03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70CF0F-27AC-43F0-9C2F-1EEC7B0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2546DC-61BE-40D1-8764-653CC59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F0D3-8B68-4F17-B2BC-6F189AC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FFA2AA-5563-4913-894D-F390A787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1E9E1C-9FCC-4F7C-81F6-89BDC14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C9B6C6-40DA-499B-89EC-894382D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B6D208-F3DA-4060-A586-8B84F14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5F4A5E-2D5E-4BF0-8D80-A316D2D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C47BF1-7F31-4915-851B-69E0433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CE90AE-3B4F-4D31-B7E3-7DED1EBD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31B723-F06C-448E-A5E0-D7DBF802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03C8C0-E2A2-4A4E-BB09-3A9542B8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0FE939-DC4B-462C-A8CE-2E8E0D3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F34C-39DE-4198-961B-277AE6E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4E0A33-B697-4092-AC93-589D49EF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4E3E5D-7628-4C4A-95E6-DB75E70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5A0764-7445-4BC9-9F16-C8B7C29A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5519BC-4320-4FE9-AAFB-4FC2107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757E1C-AFA1-4987-AA8F-BCA0EC7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93020E-2B05-4C39-B887-611E550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6E6802-B68C-41EB-A1EA-644A440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A8B8A5-591E-43F5-AC4E-051B4313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95F1F3-C944-4120-99EF-E7F65054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FBB700-D950-44F5-9DC7-5CC5D2B0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23A0-8645-4C25-89B8-00C658AA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FC1D7C-1FF1-4942-BB67-A1BE68F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39583F-7C7E-4D15-A249-03DB376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4848E5-37CA-46B8-A309-FAE217C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1CFCF5-2926-4134-A374-4154DBB9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AE4540-CEE3-4286-BDE8-9A12719D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8903069-A2A5-4CD8-A104-0A066C7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A97EED-0F76-432B-B47C-8A55A57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E2830D-0985-4897-B31F-C3CF5BC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E6E273-464B-4B80-BE84-A41FA90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1CE580-702F-45AF-B821-87B646A1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8B8E-4DB0-481E-8480-3A1EF16F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E2283E-5390-4796-B468-4B03DAD3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4455BF-6D3F-47BB-BE6B-D084B3E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AE3DF9-2DFA-47F4-B271-FD61D0B5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2AD7BD-1D87-4468-9609-3C3B975A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BDE065-190B-4ECA-B7CD-AF336358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AE35FD-B9AE-4EC1-B5E9-FC3D4B8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D32F26-1AD6-4FCD-A276-25D8EB7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13EBEE-A82E-4CD6-8B77-191F39A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FF2E0D-3978-4E98-85FA-295693B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D616F6-83C1-4776-ACB0-98A0541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0AEC3-4E38-41F1-86E1-B5F9B8AF702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33FE70-4B5D-47EF-8A44-A8DB32E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7D9F51-2A16-4778-9ACF-7096F726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9291F9-062F-4C06-B9C7-C7DEEB51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9A7BDC9-FA60-426D-A60E-7A30C07D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D0A58D-F64E-4E89-AFED-D112362B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6222AE-70C2-4374-A6AC-AB29273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E4593C-8FFB-4026-A3A2-A50898EA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CE6D0C-2ABF-474D-B4C6-CF0B48F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19D41B-C164-479A-96E5-CCF726A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E4192E-1C79-49BD-B09B-D05B981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C8B83-0831-473C-B15A-7BBE7175892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8AE196-5014-4956-9A5A-ABE2FE0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754BAD-1C09-4BF0-BD4B-2C40C0F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A9780C-60E7-4804-9498-A66F980C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CAD9A7-5326-4165-8758-25D966AC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DE3190-9E93-437E-B8F6-30B48530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E33CA4-2BF0-4D55-843D-54F3C37A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BAB1DE-F35D-4101-AAE1-3F833DD4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A0ECBA-8D1F-4577-9BDC-3DB5F67A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A34524-4342-419A-871F-8A7174A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8F2918-721E-4B17-BB17-6B96B67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84787-DF66-4F1E-84CC-BE2D162FDC9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2FE62B-08E7-4D6A-9EFB-49600F4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187EFD-2B82-4056-BC2E-12E6D92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FBE639-6919-4645-898B-F6DB36C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EFE5E0-42A9-4721-968C-A7283715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B3EBF0-6A65-4DED-9016-36B9EAD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29BF00-9A37-422A-B073-D3E510DC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9FCE10-AA38-4574-81A0-C50DC687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455E0C-403E-4404-8011-42CC7BD6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23C855-8C8D-434A-BB15-32148B33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DB6928-D0A5-4069-A595-D8B45D1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16974-992C-4AD8-AA60-8D7E535A722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D298D6-E0D8-4451-813B-E27C684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C6C25A-3346-4D60-9A00-2C5E729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C6CFA5-6020-410B-9A8B-0F095CC8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EAD456-7D7D-46D8-9A70-A20E325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3E1230-E619-4EE0-8D58-4FEFFA5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351543-4C15-47CA-AB15-28107AC8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9AF948-C6B8-4CA8-9011-74D3B92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10D820-6D59-48C0-BDD3-AFBD3854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4A7842-4AD5-403C-81AD-C23A361A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14A1B9-FD4E-4208-815C-9E7A5440C3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E00EC-26B7-4FA8-B612-C473E0E6C30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CA1882-DAEA-43C7-AF3E-6EEEEED4AD0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2EC704-C7B8-4C40-B1C9-2057E5A7A4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0678F5-21CE-4000-9FE2-3D38E89FB9D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606774-EF9B-4C96-AB84-7A8955E3C9E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CC57FB-55FA-4AE9-AF39-3889DDCB5CE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099EC-2F47-407E-8990-A0AD85831C5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ABD6EA-1F35-4547-A143-04BBC85AB36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8BBD30-D891-44F4-AD61-34C67FBE060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6FA3F4-F610-48B7-A9B7-C1D948AC76D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21082C-D381-4D7D-99FC-966135D1E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47BB-4402-4F49-B2A9-27682012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F34FA-D72E-45B6-8041-E086849E30C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78B54E-B921-4213-9C58-AC17E428BB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B88B0-B06F-431A-965B-140CB333F4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C5AC6-5B75-4CAF-B098-E2AB8D32C2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75766-336C-4D31-8511-A7153E3BF6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C4A9-571D-4FA5-8294-2D91F8A65C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1E0BE-2DCB-4DA4-8749-0452AE4CA9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201BA-3CC0-43AF-B0AB-9B1A9BE636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3CE6E-8729-4707-A641-FE416D45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B4A44-9372-4BC6-8370-A18C5E4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1B9B0-732C-46E0-8A9F-F77BF4E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9FC5-2627-49FB-9B4A-589C0A2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9CC31-A929-4D6D-8956-10EEAEF6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B5ABA-3712-447F-AF3D-7486B49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0C5E3-524E-4C7B-926E-45C9C78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ED400-5886-4578-9C46-E9583A78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161FA-1E8E-4629-A470-8450F505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6E3FB-8954-4F51-B563-87A05F8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736CC-1CF2-48FD-A92E-D958EBA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29961-0F47-4F7A-849F-44E28BB9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0DDDA-C6D6-423F-A72F-2EB9638B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6DDF2-CFB2-4729-95A8-5391B11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5BFB-76A4-4FCF-8AC7-1D7A5D2F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22BC2-8D8C-41E1-BDCB-AF0F37DF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55E9E-A941-4E5A-B43E-28B1B17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32EEE-437D-4806-B6EB-C7EACC5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ED05D-11BA-4C0B-8F26-EDAEBFDE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97E5E-0BB6-433C-A8A7-C8C7555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0B052-212E-466C-ADA0-2A0823B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2A1368-7591-4798-95D3-5C36936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3239D4-3F36-49AE-9120-C4CFCFF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7F7CF-E9FD-4A53-92F1-8F15FCF8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297AE-1049-4414-8196-4D9EB26D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CCBE-FE0E-4BA2-8647-BD6AFF8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420AD-23AE-4328-A2C8-857B3307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A0AB0-FBA9-4038-A551-5570A68E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79DC1-F43E-4BD3-9174-0BC4312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38AFB-58F5-4F56-9BD1-3021351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BE972-7029-44FD-901E-996E436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5FB1A-B0D0-4575-91B9-938930E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22EC5-950F-44D9-A47C-703BCE8B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C5F47-7BAC-4E0B-AD34-B4FB826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11A97-02B5-46C7-A2EB-8F4A8E7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17663-CCE9-4326-9688-2213A05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91D1-3D30-4EFF-856D-95D2E79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A4953-76A3-4364-BB09-AFB1958A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3961E-DE91-417B-A000-DE3CC45A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B3368-EACA-4AC0-9D5F-482705B6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6C42A0-A6AD-41C6-82D4-A814DB3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FAC4DF-3CEF-4D7F-94EB-B212AE94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06E0DB-E4D6-490B-86A4-F5D259E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CB035-CF89-4BA5-9D6B-3733B49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A67BC4-7EEB-4639-AB2C-504E787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6109DC-F97E-480A-9A23-CCD5BFD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16352-E26B-47A2-8EDE-41B6C87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46D8-1708-4427-B3E0-42FCC564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146F6-6CBA-42D3-90E6-1ACF08C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D73C5-EADC-4ECC-9D4F-FE77C60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69A3C-6649-4D11-BEEB-0BDA637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28FF85-6F18-4BFD-98E8-36749F7C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546629-E266-4890-B4E6-79F1E7A1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A6CF8-4384-4462-8B93-F97F56FE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6756AF-4E3C-4771-8C25-4B8B32D8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2B072-0173-429F-B5EB-C31B28D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5B07D1-6F4B-408B-9869-D257892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E1603-67AE-41FB-9BF4-5FA6450C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A0EA-42D9-462D-AFAE-F43E665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A8962-CEF4-466A-B0FC-2F3E5FDA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62E68C-A106-4FCC-8CD8-5F4B4BE1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16C4B-0184-468D-886E-A74B8A7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CB777-F209-42D9-9E21-F8FE71B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8DAE4-51A3-4981-9611-66FA783F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A43AFD-79B7-412E-BA54-60683296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E5FB6-F6B5-484E-91E6-C22A2259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ABC0F-CA1D-4915-B8CF-D282CF8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5D8B4-5FB9-4851-B518-E1EF5AF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75A55-FFA0-4936-A9FA-62FD90CA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0E8-FCB7-4F70-8034-2ACA13DED4B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31F3-9B30-47A6-8A48-23528690296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844-FFFD-4C03-9A51-256949B0F9E6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492-012B-4DC9-9F78-4F8110D3B17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145-3E86-4395-93AA-3AA84B4BEE0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0269-BDEB-4CF9-869E-D2DE9B0B9F4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9A8-E4D3-4CB4-A70C-2F5655258B3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343-32AE-4EC6-BA3E-FEBA3DB1A13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5234-0483-46DD-B899-5528EBECBD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58B-4263-4D54-9165-3E47B23C310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8B9-47C2-46A2-9A12-2CA9A9B5447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D07-11CF-43A5-A747-22048AF6BF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A0B-1CE7-4B40-8322-E0650E8CF4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079-D8C5-453A-948F-8BDA6117380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50B-7B7E-489A-8024-B04841C8CA6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785-8535-4B32-851B-06153BC0EF3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BFA-34E2-44DD-A6E3-D3A12CE2B50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707-E818-46D3-B5D9-912FBE53549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18C0-57C3-4648-85C0-40BCC19E5D6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B1B-CE8C-4AE1-9244-B96FDFAE5181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1AC-D298-4694-9D83-AABC990EFAA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B17E-93F9-4C2C-8B54-C9E70946508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DA3-23F9-4798-B88F-3A1E599AF7A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B05-E2F0-4A53-8B67-F1EA08DA0F5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E9C-C4C7-4BAF-AC7B-06EB5CBDB51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A15-C8E2-41D7-AEE2-0A59E36B914B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Drivers of online-selling diffu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chapter will discuss the following concept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784-0CF8-43A7-A097-46C96AAF530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Ecommerce has been on the rise, however, there are still certain pockets where the concept is in its infancy stag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Marketers should know the factors that impact the online sal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his helps in strategiz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ioritizing their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ing a roadmap for their products and servi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100" spc="-1" strike="noStrike">
                <a:solidFill>
                  <a:srgbClr val="464653"/>
                </a:solidFill>
                <a:latin typeface="Gill Sans MT"/>
              </a:rPr>
              <a:t>The factors are 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continuously evolving (Cagliano</a:t>
            </a:r>
            <a:r>
              <a:rPr b="0" i="1" lang="en-GB" sz="2000" spc="-1" strike="noStrike">
                <a:solidFill>
                  <a:srgbClr val="464653"/>
                </a:solidFill>
                <a:latin typeface="Gill Sans MT"/>
              </a:rPr>
              <a:t> et al</a:t>
            </a: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., 2003) and even now generalizable evidence is lack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terminants of B2C online-selling require further deliveration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imitations of online selling should be known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7538-DD29-4A5E-82C2-E3A2ADB4100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le of information, goods and services through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terconnecting and interrelating millions of consumers and fi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ables marketing communications to become intera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size of the potential mar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behavioural pattern of custom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echnological infra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broadband penetration rat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gal framewor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degree of involvement of the public authorities in framing legal framework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olicies that favor its develop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legal, fisca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7F4-B226-4EA7-AEE6-BFFB277914B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18960"/>
            <a:ext cx="708336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egal framework ..contd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464653"/>
                </a:solidFill>
                <a:latin typeface="Gill Sans MT"/>
              </a:rPr>
              <a:t>consumer protection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Privacy policy (information about individuals can be combined and integrated with information obtained from conventional physical channels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firm’s internal environment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cision to adopt online-selling as a strategy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consumer empowerment (information on product features, price comparisons, etc.)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dentifying the best products to satisfy their need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evaluating their different purchase option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intervening in the design of the value proposition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online price levels compared to traditional form of sale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roduct differentiation, brand awareness and reputation from online users review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B07-C227-496A-A595-2F7CA9FB9C5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 firm’s business strategy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..contd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roduct inform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website desig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customer servic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reliability and speed of delivery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brand image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facilities for making order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loyalty programs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personalization of the communication, 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switching costs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benefits of convenience provided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Perception about financial data security (fraudulent use of credit cards)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winning the consumer’s confid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234-5E38-4D02-A6D2-2E2720AF205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635F-0E5D-4798-9A33-06DC406FCAD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Objeto 2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685800" y="11430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64653"/>
                </a:solidFill>
                <a:latin typeface="Bookman Old Style"/>
              </a:rPr>
              <a:t>Driving Factors of B2C online-selling</a:t>
            </a:r>
            <a:r>
              <a:rPr b="1" lang="en-US" sz="26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mmary from empirical 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influence of a marketing factor from the Internet firms’ competitive environmen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environment,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ir value proposition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he technological infrastructur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adoption of broadband technolo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framework of consumer protection on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differentiation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rice leadership strategy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02B3-3A56-4AFA-8005-527A525D9F3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2T03:07:48Z</dcterms:modified>
  <cp:revision>453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