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Arial"/>
            </a:endParaRPr>
          </a:p>
        </p:txBody>
      </p:sp>
      <p:sp>
        <p:nvSpPr>
          <p:cNvPr id="10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9" name="PlaceHolder 2"/>
          <p:cNvSpPr>
            <a:spLocks noGrp="1"/>
          </p:cNvSpPr>
          <p:nvPr>
            <p:ph type="dt" idx="7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10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2" name="PlaceHolder 5"/>
          <p:cNvSpPr>
            <a:spLocks noGrp="1"/>
          </p:cNvSpPr>
          <p:nvPr>
            <p:ph type="ftr" idx="7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3" name="PlaceHolder 6"/>
          <p:cNvSpPr>
            <a:spLocks noGrp="1"/>
          </p:cNvSpPr>
          <p:nvPr>
            <p:ph type="sldNum" idx="7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A60CD-C162-4F66-81B4-2EC369CCC4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F53C3-4329-46B4-A9A8-5B464A48D7AE}"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115" name="PlaceHolder 1"/>
          <p:cNvSpPr>
            <a:spLocks noGrp="1"/>
          </p:cNvSpPr>
          <p:nvPr>
            <p:ph type="sldImg"/>
          </p:nvPr>
        </p:nvSpPr>
        <p:spPr>
          <a:xfrm>
            <a:off x="1143000" y="685800"/>
            <a:ext cx="4572000" cy="3429000"/>
          </a:xfrm>
          <a:prstGeom prst="rect">
            <a:avLst/>
          </a:prstGeom>
          <a:ln w="0">
            <a:noFill/>
          </a:ln>
        </p:spPr>
      </p:sp>
      <p:sp>
        <p:nvSpPr>
          <p:cNvPr id="1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9A014-9E01-4BD6-8ADC-763F5AC434F8}"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CAFC3A8-27FC-4A97-B0A8-F914B5F47E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A34E100-1A7E-463B-937B-7B87DFDE7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94A1022B-3849-4272-88CA-F649DADC572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FB4A3434-1A8E-4AE5-8F9D-27B3BF76653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5DDAD948-BA68-4550-8BA4-A862304CDD4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93339286-1627-4264-8E9D-497E5D23F48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917CDE16-9C73-4DD7-A909-016F34BD343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5A097C97-2647-436D-BD69-F18741DDB1D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C7C7409B-C8AD-4724-8CF6-F483E6817B6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5"/>
          </p:nvPr>
        </p:nvSpPr>
        <p:spPr/>
        <p:txBody>
          <a:bodyPr/>
          <a:p>
            <a:fld id="{BB3C8B3B-40C1-4C18-B921-09F1BDAD4FB5}"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5"/>
          </p:nvPr>
        </p:nvSpPr>
        <p:spPr/>
        <p:txBody>
          <a:bodyPr/>
          <a:p>
            <a:fld id="{1C6AE799-62D9-48C8-87C2-115E080B2D35}"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28"/>
          </p:nvPr>
        </p:nvSpPr>
        <p:spPr/>
        <p:txBody>
          <a:bodyPr/>
          <a:p>
            <a:fld id="{8EFB0D39-9A7D-4B40-8FBE-A8E04AAD4BF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7AE4554-3B29-45FA-91B6-F9C854B0A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8B3D2DEC-37ED-4B8B-A687-B2EC56B6598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0A971355-9E9A-48BF-AA51-AA37417359E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73EB3A65-0E36-4FCE-A688-D4B0E1DAA87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4ABEE776-CB26-475C-8E43-6BA9E312662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4F8F46FF-CC74-4845-9F2C-90C3FCBC6D9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0643B3D5-D8A5-4958-A26D-3D09171ED38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0C1F36AC-965F-4DEB-A497-E6C62B34083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F0EEFE11-26B4-4F09-97A1-BF675072343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EB37D3E8-FA62-4242-9AD2-C80CD1A1E04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28"/>
          </p:nvPr>
        </p:nvSpPr>
        <p:spPr/>
        <p:txBody>
          <a:bodyPr/>
          <a:p>
            <a:fld id="{E5D34B23-7876-457E-B452-3182C8F4BA65}"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69ECC65-210C-4A3D-9486-14CB6EE287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28"/>
          </p:nvPr>
        </p:nvSpPr>
        <p:spPr/>
        <p:txBody>
          <a:bodyPr/>
          <a:p>
            <a:fld id="{D8C2D0CF-5E8B-47B6-9FE3-4BDFB0119673}"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1"/>
          </p:nvPr>
        </p:nvSpPr>
        <p:spPr/>
        <p:txBody>
          <a:bodyPr/>
          <a:p>
            <a:fld id="{7BCFF2F8-CB47-45A2-B7E1-B977FF4BACB7}"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6"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9A525E95-512B-4C0C-BAC3-711E7D36288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5F51FDB1-B879-4895-9FB5-A39D505EFCB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643EA38F-34CD-4B13-86E6-CF5E877E3F8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53A1768D-C837-4DC6-B859-085B92CBD05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C87EDA56-4E74-4FA7-905A-9A388E65B79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3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9B587788-019A-447B-8D16-71EE0308452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1"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2407F5C2-079D-4830-9663-2734D43FAF2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4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5"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6E393C5A-6557-4612-81E8-BDF72247D55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74BA0B-4978-48D6-8861-C287A2BD67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47"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8"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D5F7B49B-173A-4289-A244-DB35AA5129F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5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3"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1"/>
          </p:nvPr>
        </p:nvSpPr>
        <p:spPr/>
        <p:txBody>
          <a:bodyPr/>
          <a:p>
            <a:fld id="{7DD28CDF-36D0-4259-AEA3-8058D6DBBAB8}"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55"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6"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7"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8"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9"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0"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1"/>
          </p:nvPr>
        </p:nvSpPr>
        <p:spPr/>
        <p:txBody>
          <a:bodyPr/>
          <a:p>
            <a:fld id="{F2AAC103-973B-4F6D-906F-F8D45742AD94}"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4"/>
          </p:nvPr>
        </p:nvSpPr>
        <p:spPr/>
        <p:txBody>
          <a:bodyPr/>
          <a:p>
            <a:fld id="{4B2C65BA-BC4C-4B90-924C-1148172DD749}"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6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4"/>
          </p:nvPr>
        </p:nvSpPr>
        <p:spPr/>
        <p:txBody>
          <a:bodyPr/>
          <a:p>
            <a:fld id="{2C0C5422-1801-4759-8DCF-A842CEBE41F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6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4"/>
          </p:nvPr>
        </p:nvSpPr>
        <p:spPr/>
        <p:txBody>
          <a:bodyPr/>
          <a:p>
            <a:fld id="{1D3DBC5C-E8DE-4422-81DA-81D030482A1E}"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7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4"/>
          </p:nvPr>
        </p:nvSpPr>
        <p:spPr/>
        <p:txBody>
          <a:bodyPr/>
          <a:p>
            <a:fld id="{077C1359-D69D-4885-B024-404E897B9F40}"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4"/>
          </p:nvPr>
        </p:nvSpPr>
        <p:spPr/>
        <p:txBody>
          <a:bodyPr/>
          <a:p>
            <a:fld id="{BED9E937-FBAE-4773-9E55-42F518768CC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4"/>
          </p:nvPr>
        </p:nvSpPr>
        <p:spPr/>
        <p:txBody>
          <a:bodyPr/>
          <a:p>
            <a:fld id="{E966C1F9-1AEB-483C-8705-08E9492157F3}"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7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8278FF56-637D-4D36-B42E-B89F854C60A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8845B0-6875-4F08-8A23-03EDFCD895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8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5EA7D6A6-4385-4B97-A4B6-90E998B3CA2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8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69A93117-B93D-4EA8-AA8E-306E2570FE0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8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4"/>
          </p:nvPr>
        </p:nvSpPr>
        <p:spPr/>
        <p:txBody>
          <a:bodyPr/>
          <a:p>
            <a:fld id="{6763C7FB-E24F-4348-BEF3-CFAB5FC30DB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9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4"/>
          </p:nvPr>
        </p:nvSpPr>
        <p:spPr/>
        <p:txBody>
          <a:bodyPr/>
          <a:p>
            <a:fld id="{CD6C205E-ABBA-4F3B-83C0-E55BB5C60E42}"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9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4"/>
          </p:nvPr>
        </p:nvSpPr>
        <p:spPr/>
        <p:txBody>
          <a:bodyPr/>
          <a:p>
            <a:fld id="{C6920939-C5F9-4986-9FF1-27F41F7BC53A}"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7"/>
          </p:nvPr>
        </p:nvSpPr>
        <p:spPr/>
        <p:txBody>
          <a:bodyPr/>
          <a:p>
            <a:fld id="{A69D2223-2CB2-45C3-A881-759EFA58FE6F}"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0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7"/>
          </p:nvPr>
        </p:nvSpPr>
        <p:spPr/>
        <p:txBody>
          <a:bodyPr/>
          <a:p>
            <a:fld id="{BC0F5C48-C074-48A5-9585-097FCC7B5C55}"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1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7"/>
          </p:nvPr>
        </p:nvSpPr>
        <p:spPr/>
        <p:txBody>
          <a:bodyPr/>
          <a:p>
            <a:fld id="{7D29CF40-D22E-42E3-872C-5DC97111B45B}"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1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7"/>
          </p:nvPr>
        </p:nvSpPr>
        <p:spPr/>
        <p:txBody>
          <a:bodyPr/>
          <a:p>
            <a:fld id="{73CB7785-C1E3-411C-9CA9-40458A30E196}"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7"/>
          </p:nvPr>
        </p:nvSpPr>
        <p:spPr/>
        <p:txBody>
          <a:bodyPr/>
          <a:p>
            <a:fld id="{F08904B4-8941-4D02-B8AA-B9E6249380A5}"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8BB86A-669E-4F75-AA36-36FA3E6BE5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7"/>
          </p:nvPr>
        </p:nvSpPr>
        <p:spPr/>
        <p:txBody>
          <a:bodyPr/>
          <a:p>
            <a:fld id="{19E04218-7A9E-4580-A117-DDF41C30D9C4}"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1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0DC47C68-7025-4B82-B224-C3454EB17A08}"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733CD780-2B1D-4CFC-BC5E-664FFB8A6630}"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2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7"/>
          </p:nvPr>
        </p:nvSpPr>
        <p:spPr/>
        <p:txBody>
          <a:bodyPr/>
          <a:p>
            <a:fld id="{CEDDE079-D32F-4253-9DD8-2555A6FC8DF0}"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2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7"/>
          </p:nvPr>
        </p:nvSpPr>
        <p:spPr/>
        <p:txBody>
          <a:bodyPr/>
          <a:p>
            <a:fld id="{90E72CF8-CEDD-4B7C-9D6F-B8D9604B04B0}"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7"/>
          </p:nvPr>
        </p:nvSpPr>
        <p:spPr/>
        <p:txBody>
          <a:bodyPr/>
          <a:p>
            <a:fld id="{4800342F-68D7-477D-A27C-5A9265632748}"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3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7"/>
          </p:nvPr>
        </p:nvSpPr>
        <p:spPr/>
        <p:txBody>
          <a:bodyPr/>
          <a:p>
            <a:fld id="{2022698D-8374-4202-8576-F49F6F320C3F}"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EE19893E-955A-49F2-B38D-5C9CB8ACE659}"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5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D6520EC0-D6A3-407A-8A7B-484BF16FDDC7}"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5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58A7C39E-6841-4891-A3D2-5AB0B1E2369F}"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44AEB5-BB4A-491F-A2AE-FF03E638BB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5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7C53254C-4DFA-40AB-AEFB-46E1AC4627C8}"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DD660275-891A-47A9-B9EA-8BCB8C094911}"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05412AA8-7799-4ECA-833B-099A898CDE9C}"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88589A47-CF28-49FC-8759-FCC0CD7CEAD7}"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D8632D64-3205-497A-AF94-6BA11BFBD9E6}"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E872550F-8218-426A-A00D-D9D0CFE9EBF3}"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7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EC44671C-7572-4BE0-916A-2CCA6FAE4296}"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7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83AA834E-95FA-4C31-A3DB-C5F5B9720A2D}"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7054ED84-EEF2-4A84-8BF6-FC11F4EC22B3}"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CB5EA4C4-2FE5-444F-B051-789E22E425DA}"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1FE183-A080-4BC6-BFD0-9F3FF32BFB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91E0EEB4-7427-4A10-9A7B-9195EB3E7E78}"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25F02908-47B0-478A-8EEB-C9869F557E21}"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E85472F1-0150-4620-957E-393579ABC812}"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D355A837-5277-4697-8FEF-F566306C698E}"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54CC5F01-055E-47C4-9B1A-0F1DC1D43176}"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2815AA0C-FDDD-4402-9157-7F06BD4AFB8A}"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FE215DCC-C6E7-4BC8-B596-607FC3556B2A}"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F0329A47-B576-446E-9DF0-6F31A0804E24}"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4B9A8625-BA10-48D0-9520-EFC61718CE05}"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48247E99-7E6B-4811-BD84-B6DDAB82CF92}"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A6D496-3DD1-42A3-B076-99E039183F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2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E1AD5A76-5EFC-4EAD-89F3-517B46CE25AD}"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623CE3EB-4204-4EEE-AD17-A0FA5C0E174B}"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6CCA0311-0954-4C04-8C0D-CA6DD1CFD9B6}"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33B961B3-9556-4066-BD0B-6C11F5F4953A}"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4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53C287D3-B8E1-41CD-9730-6EECA5C79E3D}"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E7610456-F1F7-44DB-8388-E8BA33B3C853}"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EDE8FD1D-54C0-452B-B5CE-9310E0D6E1FD}"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0E84407A-FE4E-4A70-BD39-3F0FA5DBFEF8}"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5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984D9727-C876-4151-884F-CF1946ADDA78}"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5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1A9BDF33-26F6-4A05-9892-DD04F492E126}"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0709C-09E1-4376-BB35-3696752B3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5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6B0F5533-F221-4A49-9EC9-E088A1A84666}"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6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7C9DD6D9-47F3-46F4-9D8E-907D9F384ED3}"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6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F7EBD0A4-8B67-4DB5-9C20-7A796C08C2C0}"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A7CBFD19-68F7-4978-B1A6-1459020CF573}"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F92D8F7D-F195-4F0E-9EE4-FA87E7DC0BE4}"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8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2A16E7E6-4FAB-4483-9A28-1E5A5BCDEC69}"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8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0D77D8FC-73ED-4769-95D6-DA269115B2A6}"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3C702D0C-D5F7-4F52-84AF-385256FF5338}"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4634E33D-AC76-447B-90D2-0BBE4AAABA63}"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8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87C76300-9873-4306-B816-A2F87389BD53}"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A258795-D385-422D-89F0-91D6A69C5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05EA4-130B-46B2-8B78-3EEA3A394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9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7A2EF2B1-AEC0-428C-8269-5FDFB95C3A07}"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9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081BEB0B-478E-461F-9678-99DCB0D3DADF}"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9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279478B7-B76B-4C2F-9C9A-36508DC586ED}"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EC49DF0A-CF8D-4FB8-90D5-17880689140E}"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0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E81F4CBC-DA41-4010-AAE3-780AC407A84B}"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6903265F-30AB-4790-B081-AB348A960B47}"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1360F681-A204-491C-ADB1-65B3B2E303C3}"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2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156A9D96-7B9C-46A5-A185-EC399BFE581B}"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2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0CCC17D6-1628-4852-BDA8-E89897BAF41A}"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8F915E38-DB95-4BE6-A551-963049DBF835}"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2A5D9-3759-45AA-A445-CE77F1511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D1B87B04-9334-4863-82FF-4897F695BE99}"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2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1FD54D7B-5644-4FF0-AEC0-B9C00E7F280D}"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3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0CDAEEC5-9841-4B58-B609-2B94E2B73367}"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3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0E9714B4-FDC9-4BFC-96C9-AE94430D44D3}"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4CA712BA-786F-4298-9A67-E9C2BCA82D6E}"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5AF8119B-4DC0-484D-80F2-81F408584FC3}"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4A56CB60-90F7-4027-87BB-166ABBBE6F5C}"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D5A7843B-D13F-47D8-A0D9-62D46576C9F1}"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6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ADD17582-EB0D-4976-9C1B-7B14CBF3A327}"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6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F96C0282-4222-44B3-9A18-8A88709690A5}"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C8DEE6-4D8A-4583-A54B-800AC8D8F2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6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4C327184-4849-4D2F-A39D-D857F4CF5E99}"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AF56F86E-B9AE-477C-BC2F-166E186B1447}"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C9733C08-DAA6-4ED8-A44D-2290D8D094B9}"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3EF1C695-582F-4FDC-B1ED-C93E331B020B}"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7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D1CB169A-70D1-4CC1-A3B6-9434EC99AE7F}"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0072AC6D-C2DD-4812-8A17-D7B20869ABBE}"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D521A673-9A37-4627-8930-32CAF8754223}"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5F303D40-D356-4845-992D-6B5E4BEDA16F}"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9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0BD4B5D9-9BFD-4946-B195-B1F9F9DC808C}"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2E1E4715-080B-475D-87D8-571CD3CC7256}"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D3E705-A3E3-4934-A2A8-FB50B8D728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0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15A03094-FF67-4D87-BB76-9D1F58BB8FED}"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0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CC2318C0-272E-417A-AF1F-B921458E843E}"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0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DAE52245-E0F2-4FAF-B17C-BC4AF3A09803}"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19FAE61A-38C9-4D53-A665-9D42993DDE24}"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F3018C0D-774E-4D45-950E-7C0CCE220CFA}"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1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B1CF8EDF-FBCD-4A70-AE5D-96DEEA78269F}"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1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9F8A981B-6A79-4376-BECE-A853D5255A8A}"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0CA4223C-C6AF-459C-A5AD-E7C359F88DD8}"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2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A24A07A8-BF12-4D40-A7CA-3BD8AB399C2D}"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2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EFFB72CC-6FC5-4B58-9789-C4346CB38A68}"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F4E5F3-E71B-4805-A74D-407575F9B3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D6460F27-DD4F-44BF-8B4F-D8DDB770F015}"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7EB6BC31-11F6-4685-962B-BAB5A70A6971}"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709206CE-7397-4A10-AE1B-11E137A39A8E}"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97DB7B3B-5F53-47EF-8FE8-61623777958E}"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F24813F9-FC50-4FDA-929B-F70CA69EF5CB}"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B1FC632B-AD79-4A16-9887-9C3B16C07639}"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24633107-CA1B-4ABD-806E-1BF0B4AE9425}"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AA56F9F1-3C9E-4C2C-9714-61EF8D2B26ED}"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E761AE85-677A-4143-AEB3-E04789A31030}"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E6B281B1-9623-44D4-B3A3-E9754154FEAC}"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9F27B374-BE84-4285-8702-D62AD26C8DE0}"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F31532C8-7436-46BD-80D6-216B2616389A}"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4F0BBB90-6399-442F-A4BE-B03497B3ACC6}"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6161EA6D-9795-46C7-9B87-C7B009B2C63F}"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231AE314-4627-4448-A1E6-C943EAA058AF}"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9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F63CBAAF-F1A5-4BFE-93D2-6EFEC18587D9}"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9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E9299F3D-776D-4737-80E5-4C3E732AD977}"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9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526F08EB-AEEF-499E-933D-CA7EEB535777}"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734157FF-32F4-4C94-A778-3A151FA9EF0F}"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AF210BED-4B98-44F9-A92F-FA771E8BFD63}"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0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4B6AEDD0-4F91-4B46-B7C6-037A49C5C644}"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9C0E972-0B90-443D-9D08-AA52BA17ED2B}"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0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EE74A631-B5EA-417B-BB2C-9165DF4D999F}"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AE4F1D66-7E6E-4F89-9057-B0A112C8BD08}"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1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14ABCF36-8DB2-4829-A973-FA1A30E75B59}"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1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A4538F86-C54D-402F-B345-A65478CD6C6D}"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2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2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2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2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2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2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84E2533D-6B8E-4AD9-8867-19A337DD541F}"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1BCA08E4-6865-4488-A0A9-6EE88C438298}"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3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820A6C6D-2AD9-4A8F-89E0-17120A43B172}"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3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C75D9B17-2096-42D6-A93C-7CD11DF760B1}"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3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3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1BF0AD2B-BE0A-4BDC-86C1-457AF7B0EA10}"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A87F3988-FCAF-4715-B9A6-3A53CA3B5B15}"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2EA21E5-CBC6-46AE-861E-029248AECFF3}"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76AF38F4-5DC1-4BAC-9CF7-89DD9137B0CD}"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4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4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4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01254678-3A40-4359-8009-0C264A758246}"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4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0E4E81DB-CDEF-4382-9244-F7DA54BEB945}"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5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5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5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A2DB3684-887C-4161-B6AE-F975EFFBA271}"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5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5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300ACF0E-D753-4B01-8E6A-D0333F3DF550}"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5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6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5A07F049-8CA2-4D4B-B039-5A6F575A6B52}" type="slidenum">
              <a:t>&lt;#&gt;</a:t>
            </a:fld>
          </a:p>
        </p:txBody>
      </p:sp>
      <p:sp>
        <p:nvSpPr>
          <p:cNvPr id="9" name="PlaceHolder 8"/>
          <p:cNvSpPr>
            <a:spLocks noGrp="1"/>
          </p:cNvSpPr>
          <p:nvPr>
            <p:ph type="dt" idx="66"/>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6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6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6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6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6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6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E0373278-8A8C-4333-8E08-56686DB2A98E}" type="slidenum">
              <a:t>&lt;#&gt;</a:t>
            </a:fld>
          </a:p>
        </p:txBody>
      </p:sp>
      <p:sp>
        <p:nvSpPr>
          <p:cNvPr id="11" name="PlaceHolder 10"/>
          <p:cNvSpPr>
            <a:spLocks noGrp="1"/>
          </p:cNvSpPr>
          <p:nvPr>
            <p:ph type="dt" idx="66"/>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0"/>
          </p:nvPr>
        </p:nvSpPr>
        <p:spPr/>
        <p:txBody>
          <a:bodyPr/>
          <a:p>
            <a:r>
              <a:t>Footer</a:t>
            </a:r>
          </a:p>
        </p:txBody>
      </p:sp>
      <p:sp>
        <p:nvSpPr>
          <p:cNvPr id="3" name="PlaceHolder 2"/>
          <p:cNvSpPr>
            <a:spLocks noGrp="1"/>
          </p:cNvSpPr>
          <p:nvPr>
            <p:ph type="sldNum" idx="71"/>
          </p:nvPr>
        </p:nvSpPr>
        <p:spPr/>
        <p:txBody>
          <a:bodyPr/>
          <a:p>
            <a:fld id="{113B830B-935B-44B2-AA79-84D97803DC86}"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B7C9E9BA-F78F-4196-88EE-7745A36AB232}"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DB365652-3906-40BA-B4B5-52D07408AF49}"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007F35D-01F6-4146-8CC1-83D62619C498}"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8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8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B29239DE-8E9C-4E77-B7AD-DC237CDA55CF}"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093E24C5-4423-42BC-8F3A-0E39801733E2}"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6843672C-35A5-4B8A-994A-4F312019DC41}"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8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8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8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E9B9F4EA-F57A-4B7F-B607-B59CE81F6106}"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9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FF85F091-8BAE-4A12-9EF9-A04A8343B420}"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9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9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6558EF83-78B8-4E5F-8765-71B4F5F00CDC}"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9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F2556F81-A31C-4431-9BCE-EC694EB4DC56}"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0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0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0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70"/>
          </p:nvPr>
        </p:nvSpPr>
        <p:spPr/>
        <p:txBody>
          <a:bodyPr/>
          <a:p>
            <a:r>
              <a:t>Footer</a:t>
            </a:r>
          </a:p>
        </p:txBody>
      </p:sp>
      <p:sp>
        <p:nvSpPr>
          <p:cNvPr id="8" name="PlaceHolder 7"/>
          <p:cNvSpPr>
            <a:spLocks noGrp="1"/>
          </p:cNvSpPr>
          <p:nvPr>
            <p:ph type="sldNum" idx="71"/>
          </p:nvPr>
        </p:nvSpPr>
        <p:spPr/>
        <p:txBody>
          <a:bodyPr/>
          <a:p>
            <a:fld id="{1ACB4F4D-8F11-4296-B490-5509F84D2CD4}" type="slidenum">
              <a:t>&lt;#&gt;</a:t>
            </a:fld>
          </a:p>
        </p:txBody>
      </p:sp>
      <p:sp>
        <p:nvSpPr>
          <p:cNvPr id="9" name="PlaceHolder 8"/>
          <p:cNvSpPr>
            <a:spLocks noGrp="1"/>
          </p:cNvSpPr>
          <p:nvPr>
            <p:ph type="dt" idx="69"/>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0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0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0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1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1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70"/>
          </p:nvPr>
        </p:nvSpPr>
        <p:spPr/>
        <p:txBody>
          <a:bodyPr/>
          <a:p>
            <a:r>
              <a:t>Footer</a:t>
            </a:r>
          </a:p>
        </p:txBody>
      </p:sp>
      <p:sp>
        <p:nvSpPr>
          <p:cNvPr id="10" name="PlaceHolder 9"/>
          <p:cNvSpPr>
            <a:spLocks noGrp="1"/>
          </p:cNvSpPr>
          <p:nvPr>
            <p:ph type="sldNum" idx="71"/>
          </p:nvPr>
        </p:nvSpPr>
        <p:spPr/>
        <p:txBody>
          <a:bodyPr/>
          <a:p>
            <a:fld id="{4259C2A9-C661-48B6-9FB0-4149F5C110B0}" type="slidenum">
              <a:t>&lt;#&gt;</a:t>
            </a:fld>
          </a:p>
        </p:txBody>
      </p:sp>
      <p:sp>
        <p:nvSpPr>
          <p:cNvPr id="11" name="PlaceHolder 10"/>
          <p:cNvSpPr>
            <a:spLocks noGrp="1"/>
          </p:cNvSpPr>
          <p:nvPr>
            <p:ph type="dt" idx="69"/>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
        <p:nvSpPr>
          <p:cNvPr id="3" name="PlaceHolder 2"/>
          <p:cNvSpPr>
            <a:spLocks noGrp="1"/>
          </p:cNvSpPr>
          <p:nvPr>
            <p:ph type="sldNum" idx="72"/>
          </p:nvPr>
        </p:nvSpPr>
        <p:spPr/>
        <p:txBody>
          <a:bodyPr/>
          <a:p>
            <a:fld id="{0FE13358-5B64-4369-990D-CFC4779E6AA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96DBD4F-2194-4CEA-ADC1-3D821F384E89}"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2"/>
          </p:nvPr>
        </p:nvSpPr>
        <p:spPr/>
        <p:txBody>
          <a:bodyPr/>
          <a:p>
            <a:fld id="{132AC151-DAAD-407F-93C5-B70C5DEED2F8}"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2"/>
          </p:nvPr>
        </p:nvSpPr>
        <p:spPr/>
        <p:txBody>
          <a:bodyPr/>
          <a:p>
            <a:fld id="{3B3461B8-A49E-4721-B4DB-1BCB3206F1BC}"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2"/>
          </p:nvPr>
        </p:nvSpPr>
        <p:spPr/>
        <p:txBody>
          <a:bodyPr/>
          <a:p>
            <a:fld id="{836A003A-76F4-4958-93D2-7F17D470E3C3}"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2"/>
          </p:nvPr>
        </p:nvSpPr>
        <p:spPr/>
        <p:txBody>
          <a:bodyPr/>
          <a:p>
            <a:fld id="{D23544D5-33F2-44DA-AA6C-46EB10E4B9C9}"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2"/>
          </p:nvPr>
        </p:nvSpPr>
        <p:spPr/>
        <p:txBody>
          <a:bodyPr/>
          <a:p>
            <a:fld id="{42F20662-DDBF-42A2-9B7D-80E2A0CF45C4}"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3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3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3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2"/>
          </p:nvPr>
        </p:nvSpPr>
        <p:spPr/>
        <p:txBody>
          <a:bodyPr/>
          <a:p>
            <a:fld id="{AC993E76-E4CB-42A7-8E07-39F6C717A1C8}"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3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3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3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2"/>
          </p:nvPr>
        </p:nvSpPr>
        <p:spPr/>
        <p:txBody>
          <a:bodyPr/>
          <a:p>
            <a:fld id="{C0AFE275-9FAB-463E-A5DA-22D2AB1AAF43}"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3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4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4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2"/>
          </p:nvPr>
        </p:nvSpPr>
        <p:spPr/>
        <p:txBody>
          <a:bodyPr/>
          <a:p>
            <a:fld id="{3E008D8D-7E1B-419D-989D-476E37118E72}"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4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4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2"/>
          </p:nvPr>
        </p:nvSpPr>
        <p:spPr/>
        <p:txBody>
          <a:bodyPr/>
          <a:p>
            <a:fld id="{A5900FE0-89D3-47E0-B521-30D71DD7388B}"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4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4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73"/>
          </p:nvPr>
        </p:nvSpPr>
        <p:spPr/>
        <p:txBody>
          <a:bodyPr/>
          <a:p>
            <a:r>
              <a:t>Footer</a:t>
            </a:r>
          </a:p>
        </p:txBody>
      </p:sp>
      <p:sp>
        <p:nvSpPr>
          <p:cNvPr id="8" name="PlaceHolder 7"/>
          <p:cNvSpPr>
            <a:spLocks noGrp="1"/>
          </p:cNvSpPr>
          <p:nvPr>
            <p:ph type="sldNum" idx="72"/>
          </p:nvPr>
        </p:nvSpPr>
        <p:spPr/>
        <p:txBody>
          <a:bodyPr/>
          <a:p>
            <a:fld id="{254D2DFF-0764-4514-9ED8-CF57391CE7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9FD1169-E11E-4A83-9DB7-FEBA9AC14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A080683-5128-4A48-8B11-2F3BE220504F}"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5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73"/>
          </p:nvPr>
        </p:nvSpPr>
        <p:spPr/>
        <p:txBody>
          <a:bodyPr/>
          <a:p>
            <a:r>
              <a:t>Footer</a:t>
            </a:r>
          </a:p>
        </p:txBody>
      </p:sp>
      <p:sp>
        <p:nvSpPr>
          <p:cNvPr id="10" name="PlaceHolder 9"/>
          <p:cNvSpPr>
            <a:spLocks noGrp="1"/>
          </p:cNvSpPr>
          <p:nvPr>
            <p:ph type="sldNum" idx="72"/>
          </p:nvPr>
        </p:nvSpPr>
        <p:spPr/>
        <p:txBody>
          <a:bodyPr/>
          <a:p>
            <a:fld id="{34DC5387-6988-4343-9F23-4A68E5DB996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699D868-5083-4967-A90F-CD8DE80ED12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6E65BCA-A0D4-4BA1-83F2-7EE6D015B6A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685521A-A02F-462F-8DEC-77EBCC6E0DC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6D6DCD1-2C21-4AE6-855D-8500D754762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B2B6A138-05B4-442E-AB12-03B2E41D7D6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B8C5B48C-9E1B-4AAC-843E-54E17E852BE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4832540F-5A59-4CD4-B0CF-EA1DADB9A87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B455D481-A7A7-4338-A755-12F84E32FF9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95437C1B-71FA-4F9F-9D25-51FB45CB7CC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D0A4E7A-3DC7-4F3F-9A53-6E8E1A7EA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E12C66F4-175A-47C3-803F-E54451409DA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63E4B775-5626-43FF-A880-753ACBA065D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036B42C7-5974-409C-AA6A-177417144E5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4A238307-B4E5-4630-A70D-16E444B4156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73403C2B-571A-4F8D-9EE4-C269B658EC1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9E8359A2-A808-4497-B1E8-BBF735DAF0F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778283CD-75E8-4DFA-8995-50300DB756E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EB50C630-32D7-4B43-8066-B77F0721C5A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A22C2CFE-36EE-46ED-BB85-AF7E366AB4A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F4E229F6-CA46-43CC-BBE2-E454580986A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3AE9A0F-8259-41B1-8ABA-35F10877A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6BEC129A-B28D-44C7-8652-A9A516929C4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636F5391-7C86-4234-A468-FA359D84E04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AF1B4504-5335-40FB-8C99-4E63CE08940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9B1FEB2E-E97C-442F-8C35-E9FE20401C0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CD16B4A3-FA8D-445D-A741-0F0E4456506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7E488B1D-E498-4320-9D0E-5564100B4FC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6C8AABD3-67CB-4868-8E05-0033E71F434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E8F17407-975D-48AB-AB78-EDBEA1CFBE4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C863121F-E04D-464F-B3AC-B5F8DD22D34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9008AFF5-9D4A-434B-BE6B-CA235DAB512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D00B5B8-67A0-4107-B580-B3BACA44E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215D9C31-9873-458A-A7F6-F68DF81D7B1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6"/>
          </p:nvPr>
        </p:nvSpPr>
        <p:spPr/>
        <p:txBody>
          <a:bodyPr/>
          <a:p>
            <a:fld id="{128EE7E0-EA31-4946-AD74-7D86F154802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45A72BEB-8CB7-465E-9ACD-4B5FDC80E3E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F856B25B-D34A-436A-AB09-525A748AAC8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5B0929AA-F851-483D-B6E2-002201A00A1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5740B345-AF81-439D-A25B-84CF63361A6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49213363-C8BE-4269-A49E-BB7310AAC04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15132F13-FEA5-47F5-B41F-DC234E7CFCB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47899B5B-A16C-4326-9AA7-881B2D60CF4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2DE59156-B99D-421F-A74A-BE5B533E107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C954331-D4FD-47E5-9924-1CEA295D7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47AC5F43-DC3A-4B4D-B0B8-D8FBCF6BD6F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6"/>
          </p:nvPr>
        </p:nvSpPr>
        <p:spPr/>
        <p:txBody>
          <a:bodyPr/>
          <a:p>
            <a:fld id="{4B933905-168A-4D62-BD23-48C18B0DC20F}"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6"/>
          </p:nvPr>
        </p:nvSpPr>
        <p:spPr/>
        <p:txBody>
          <a:bodyPr/>
          <a:p>
            <a:fld id="{92E25974-F751-463C-8BCD-4E5682F4705F}"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2EEDADB0-B1AF-46FC-8A98-92AD1D094EC2}"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CE5D84F3-65F7-4F16-A0AC-A77DE330D09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B36695CB-7DA3-4AA0-A67C-DE3EA0327AA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35308851-0161-4B05-A83E-73F4D9F6711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CE10B616-A43A-47D9-B215-B95DE4B8138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4EF1B892-53FE-404C-89B5-35DC7202561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10A8BDC6-337C-421E-A14C-F73863EA7C3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7877DCA-CE31-4F3A-82E4-5303E09B5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F2E4F5BC-A3EB-4AE0-9F9E-B00864C9A8F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438B47B3-6C0C-43EB-8EDD-4CE65251D65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9C7AE87E-4325-4A55-A4CA-08DE9E6BED1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10237C26-35B5-4BAB-8D76-AD3BA52D3CA3}"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2BE1789A-48F8-40D7-ABC3-E631F1E5EE69}"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2"/>
          </p:nvPr>
        </p:nvSpPr>
        <p:spPr/>
        <p:txBody>
          <a:bodyPr/>
          <a:p>
            <a:fld id="{A7E95285-2F2D-4D76-97EE-C4CA9C0AB7B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39AE2ABD-8DC8-46B3-BF71-C9F0257B794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D2C6B414-B360-4E91-8CAB-8A66DE778E3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F6CC9486-A2BA-4826-88F2-2E850747BB5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652EBC1D-EE21-4499-BDE0-1311AC0C9D2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0F00877-D42B-457B-905A-811D9E914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2450C536-AD12-4691-A01F-2DD5D508A8B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BF24EA39-EA51-4EB0-A8CF-1B960FEB17B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88DA4D04-5ED7-4851-9F86-0BFA1CFDCE5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A58601C5-17BC-4FC8-9897-B04C809E871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AFD0B4CF-30C6-4ADC-9CD3-B40A31F4576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2"/>
          </p:nvPr>
        </p:nvSpPr>
        <p:spPr/>
        <p:txBody>
          <a:bodyPr/>
          <a:p>
            <a:fld id="{1CC6CEBF-64D7-4A93-A4AD-ECC04244888B}"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2"/>
          </p:nvPr>
        </p:nvSpPr>
        <p:spPr/>
        <p:txBody>
          <a:bodyPr/>
          <a:p>
            <a:fld id="{66F26788-B162-4782-84B4-8059054465C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5"/>
          </p:nvPr>
        </p:nvSpPr>
        <p:spPr/>
        <p:txBody>
          <a:bodyPr/>
          <a:p>
            <a:fld id="{99980443-42CA-464D-8F15-1BBA6C3DAFB1}"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158AB8DE-86D6-40F7-B514-FC9516ED56C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7B8B876A-0D4A-49D0-9703-FC7B0F8A6B01}"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left_bar art"/>
          <p:cNvPicPr/>
          <p:nvPr/>
        </p:nvPicPr>
        <p:blipFill>
          <a:blip r:embed="rId3"/>
          <a:stretch/>
        </p:blipFill>
        <p:spPr>
          <a:xfrm>
            <a:off x="0" y="0"/>
            <a:ext cx="2514600" cy="7086600"/>
          </a:xfrm>
          <a:prstGeom prst="rect">
            <a:avLst/>
          </a:prstGeom>
          <a:ln w="0">
            <a:noFill/>
          </a:ln>
        </p:spPr>
      </p:pic>
      <p:sp>
        <p:nvSpPr>
          <p:cNvPr id="1"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2"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3" name="PlaceHolder 3"/>
          <p:cNvSpPr>
            <a:spLocks noGrp="1"/>
          </p:cNvSpPr>
          <p:nvPr>
            <p:ph type="dt" idx="1"/>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 name="PlaceHolder 4"/>
          <p:cNvSpPr>
            <a:spLocks noGrp="1"/>
          </p:cNvSpPr>
          <p:nvPr>
            <p:ph type="sldNum" idx="2"/>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D54A9-63FA-4153-B5F3-B4600A7CE956}"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5" name="PlaceHolder 5"/>
          <p:cNvSpPr>
            <a:spLocks noGrp="1"/>
          </p:cNvSpPr>
          <p:nvPr>
            <p:ph type="ftr" idx="3"/>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380"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381" name="PlaceHolder 3"/>
          <p:cNvSpPr>
            <a:spLocks noGrp="1"/>
          </p:cNvSpPr>
          <p:nvPr>
            <p:ph type="dt" idx="27"/>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82" name="PlaceHolder 4"/>
          <p:cNvSpPr>
            <a:spLocks noGrp="1"/>
          </p:cNvSpPr>
          <p:nvPr>
            <p:ph type="sldNum" idx="28"/>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D6429-A962-41C6-B864-776C6B006B65}"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383" name="PlaceHolder 5"/>
          <p:cNvSpPr>
            <a:spLocks noGrp="1"/>
          </p:cNvSpPr>
          <p:nvPr>
            <p:ph type="ftr" idx="29"/>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421"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422" name="PlaceHolder 3"/>
          <p:cNvSpPr>
            <a:spLocks noGrp="1"/>
          </p:cNvSpPr>
          <p:nvPr>
            <p:ph type="dt" idx="30"/>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3" name="PlaceHolder 4"/>
          <p:cNvSpPr>
            <a:spLocks noGrp="1"/>
          </p:cNvSpPr>
          <p:nvPr>
            <p:ph type="sldNum" idx="31"/>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132B6-2CE4-44B6-8BE6-65E1739DD4AB}"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424" name="PlaceHolder 5"/>
          <p:cNvSpPr>
            <a:spLocks noGrp="1"/>
          </p:cNvSpPr>
          <p:nvPr>
            <p:ph type="ftr" idx="32"/>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462"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463" name="PlaceHolder 3"/>
          <p:cNvSpPr>
            <a:spLocks noGrp="1"/>
          </p:cNvSpPr>
          <p:nvPr>
            <p:ph type="dt" idx="33"/>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4" name="PlaceHolder 4"/>
          <p:cNvSpPr>
            <a:spLocks noGrp="1"/>
          </p:cNvSpPr>
          <p:nvPr>
            <p:ph type="sldNum" idx="34"/>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9FDA2-A6BA-4E2E-BB9D-1A68EA85418E}"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465" name="PlaceHolder 5"/>
          <p:cNvSpPr>
            <a:spLocks noGrp="1"/>
          </p:cNvSpPr>
          <p:nvPr>
            <p:ph type="ftr" idx="35"/>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503"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504" name="PlaceHolder 3"/>
          <p:cNvSpPr>
            <a:spLocks noGrp="1"/>
          </p:cNvSpPr>
          <p:nvPr>
            <p:ph type="dt" idx="36"/>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5" name="PlaceHolder 4"/>
          <p:cNvSpPr>
            <a:spLocks noGrp="1"/>
          </p:cNvSpPr>
          <p:nvPr>
            <p:ph type="sldNum" idx="37"/>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2B8C9-D893-417B-9B0D-9BCFAA021568}"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506" name="PlaceHolder 5"/>
          <p:cNvSpPr>
            <a:spLocks noGrp="1"/>
          </p:cNvSpPr>
          <p:nvPr>
            <p:ph type="ftr" idx="38"/>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43"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4"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5"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6"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4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49" name="PlaceHolder 3"/>
          <p:cNvSpPr>
            <a:spLocks noGrp="1"/>
          </p:cNvSpPr>
          <p:nvPr>
            <p:ph type="dt" idx="39"/>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0" name="PlaceHolder 4"/>
          <p:cNvSpPr>
            <a:spLocks noGrp="1"/>
          </p:cNvSpPr>
          <p:nvPr>
            <p:ph type="ftr" idx="40"/>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1" name="PlaceHolder 5"/>
          <p:cNvSpPr>
            <a:spLocks noGrp="1"/>
          </p:cNvSpPr>
          <p:nvPr>
            <p:ph type="sldNum" idx="41"/>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693E8-8B6D-46C3-8049-32003A9FFCBC}"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8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90" name="PlaceHolder 3"/>
          <p:cNvSpPr>
            <a:spLocks noGrp="1"/>
          </p:cNvSpPr>
          <p:nvPr>
            <p:ph type="dt" idx="4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91" name="PlaceHolder 4"/>
          <p:cNvSpPr>
            <a:spLocks noGrp="1"/>
          </p:cNvSpPr>
          <p:nvPr>
            <p:ph type="ftr" idx="4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92" name="PlaceHolder 5"/>
          <p:cNvSpPr>
            <a:spLocks noGrp="1"/>
          </p:cNvSpPr>
          <p:nvPr>
            <p:ph type="sldNum" idx="4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C9FCE-6CA5-47FB-98C0-974ACEACE6FE}"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2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63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633" name="PlaceHolder 3"/>
          <p:cNvSpPr>
            <a:spLocks noGrp="1"/>
          </p:cNvSpPr>
          <p:nvPr>
            <p:ph type="dt" idx="45"/>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4" name="PlaceHolder 4"/>
          <p:cNvSpPr>
            <a:spLocks noGrp="1"/>
          </p:cNvSpPr>
          <p:nvPr>
            <p:ph type="ftr" idx="46"/>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5" name="PlaceHolder 5"/>
          <p:cNvSpPr>
            <a:spLocks noGrp="1"/>
          </p:cNvSpPr>
          <p:nvPr>
            <p:ph type="sldNum" idx="47"/>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829D2-1EF4-4D72-A079-62059EB97F3E}"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67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674" name="PlaceHolder 3"/>
          <p:cNvSpPr>
            <a:spLocks noGrp="1"/>
          </p:cNvSpPr>
          <p:nvPr>
            <p:ph type="dt" idx="48"/>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75" name="PlaceHolder 4"/>
          <p:cNvSpPr>
            <a:spLocks noGrp="1"/>
          </p:cNvSpPr>
          <p:nvPr>
            <p:ph type="ftr" idx="49"/>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76" name="PlaceHolder 5"/>
          <p:cNvSpPr>
            <a:spLocks noGrp="1"/>
          </p:cNvSpPr>
          <p:nvPr>
            <p:ph type="sldNum" idx="50"/>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AB22A-BFBF-41C1-9ED6-772A24E26F9E}"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71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715" name="PlaceHolder 3"/>
          <p:cNvSpPr>
            <a:spLocks noGrp="1"/>
          </p:cNvSpPr>
          <p:nvPr>
            <p:ph type="dt" idx="5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16" name="PlaceHolder 4"/>
          <p:cNvSpPr>
            <a:spLocks noGrp="1"/>
          </p:cNvSpPr>
          <p:nvPr>
            <p:ph type="ftr" idx="5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17" name="PlaceHolder 5"/>
          <p:cNvSpPr>
            <a:spLocks noGrp="1"/>
          </p:cNvSpPr>
          <p:nvPr>
            <p:ph type="sldNum" idx="5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82CAD-3990-4851-98E9-7CD0C041F9E7}"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54"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75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757" name="PlaceHolder 3"/>
          <p:cNvSpPr>
            <a:spLocks noGrp="1"/>
          </p:cNvSpPr>
          <p:nvPr>
            <p:ph type="dt" idx="54"/>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58" name="PlaceHolder 4"/>
          <p:cNvSpPr>
            <a:spLocks noGrp="1"/>
          </p:cNvSpPr>
          <p:nvPr>
            <p:ph type="ftr" idx="55"/>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59" name="PlaceHolder 5"/>
          <p:cNvSpPr>
            <a:spLocks noGrp="1"/>
          </p:cNvSpPr>
          <p:nvPr>
            <p:ph type="sldNum" idx="5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4A65C-D8FD-46EA-825C-3269D41809C2}"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44" name="PlaceHolder 3"/>
          <p:cNvSpPr>
            <a:spLocks noGrp="1"/>
          </p:cNvSpPr>
          <p:nvPr>
            <p:ph type="dt" idx="4"/>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 name="PlaceHolder 4"/>
          <p:cNvSpPr>
            <a:spLocks noGrp="1"/>
          </p:cNvSpPr>
          <p:nvPr>
            <p:ph type="ftr" idx="5"/>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 name="PlaceHolder 5"/>
          <p:cNvSpPr>
            <a:spLocks noGrp="1"/>
          </p:cNvSpPr>
          <p:nvPr>
            <p:ph type="sldNum" idx="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C1666-729B-4435-93A5-570607CD012B}"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47"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9"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50" name="Picture 2" descr="left_bar art"/>
          <p:cNvPicPr/>
          <p:nvPr/>
        </p:nvPicPr>
        <p:blipFill>
          <a:blip r:embed="rId3"/>
          <a:stretch/>
        </p:blipFill>
        <p:spPr>
          <a:xfrm>
            <a:off x="0" y="0"/>
            <a:ext cx="2514600" cy="708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96"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97"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79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800" name="PlaceHolder 3"/>
          <p:cNvSpPr>
            <a:spLocks noGrp="1"/>
          </p:cNvSpPr>
          <p:nvPr>
            <p:ph type="dt" idx="57"/>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01" name="PlaceHolder 4"/>
          <p:cNvSpPr>
            <a:spLocks noGrp="1"/>
          </p:cNvSpPr>
          <p:nvPr>
            <p:ph type="ftr" idx="58"/>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02" name="PlaceHolder 5"/>
          <p:cNvSpPr>
            <a:spLocks noGrp="1"/>
          </p:cNvSpPr>
          <p:nvPr>
            <p:ph type="sldNum" idx="59"/>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9F3EB-E0F4-439B-8C3B-1E1D9D08C601}"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39"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40"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41"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8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844" name="PlaceHolder 3"/>
          <p:cNvSpPr>
            <a:spLocks noGrp="1"/>
          </p:cNvSpPr>
          <p:nvPr>
            <p:ph type="dt" idx="6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45" name="PlaceHolder 4"/>
          <p:cNvSpPr>
            <a:spLocks noGrp="1"/>
          </p:cNvSpPr>
          <p:nvPr>
            <p:ph type="ftr" idx="6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46" name="PlaceHolder 5"/>
          <p:cNvSpPr>
            <a:spLocks noGrp="1"/>
          </p:cNvSpPr>
          <p:nvPr>
            <p:ph type="sldNum" idx="6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FEC97-4023-4F04-B640-265B1AA20CD8}"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83"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84"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5"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88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888" name="PlaceHolder 3"/>
          <p:cNvSpPr>
            <a:spLocks noGrp="1"/>
          </p:cNvSpPr>
          <p:nvPr>
            <p:ph type="dt" idx="6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9" name="PlaceHolder 4"/>
          <p:cNvSpPr>
            <a:spLocks noGrp="1"/>
          </p:cNvSpPr>
          <p:nvPr>
            <p:ph type="ftr" idx="6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90" name="PlaceHolder 5"/>
          <p:cNvSpPr>
            <a:spLocks noGrp="1"/>
          </p:cNvSpPr>
          <p:nvPr>
            <p:ph type="sldNum" idx="6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3E4EF-E608-4F23-81F0-C08CC45CEABE}"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92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929" name="PlaceHolder 3"/>
          <p:cNvSpPr>
            <a:spLocks noGrp="1"/>
          </p:cNvSpPr>
          <p:nvPr>
            <p:ph type="dt" idx="6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30" name="PlaceHolder 4"/>
          <p:cNvSpPr>
            <a:spLocks noGrp="1"/>
          </p:cNvSpPr>
          <p:nvPr>
            <p:ph type="ftr" idx="6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31" name="PlaceHolder 5"/>
          <p:cNvSpPr>
            <a:spLocks noGrp="1"/>
          </p:cNvSpPr>
          <p:nvPr>
            <p:ph type="sldNum" idx="6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84A62-2B8B-45A9-B84A-3E7107FB1F2A}"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6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6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7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97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973" name="PlaceHolder 3"/>
          <p:cNvSpPr>
            <a:spLocks noGrp="1"/>
          </p:cNvSpPr>
          <p:nvPr>
            <p:ph type="dt" idx="6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74" name="PlaceHolder 4"/>
          <p:cNvSpPr>
            <a:spLocks noGrp="1"/>
          </p:cNvSpPr>
          <p:nvPr>
            <p:ph type="ftr" idx="7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75" name="PlaceHolder 5"/>
          <p:cNvSpPr>
            <a:spLocks noGrp="1"/>
          </p:cNvSpPr>
          <p:nvPr>
            <p:ph type="sldNum" idx="7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51104-73A0-4B23-A343-C83A713BDF8F}"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012" name="Picture 2" descr="left_bar art"/>
          <p:cNvPicPr/>
          <p:nvPr/>
        </p:nvPicPr>
        <p:blipFill>
          <a:blip r:embed="rId3"/>
          <a:stretch/>
        </p:blipFill>
        <p:spPr>
          <a:xfrm>
            <a:off x="0" y="0"/>
            <a:ext cx="2514600" cy="7086600"/>
          </a:xfrm>
          <a:prstGeom prst="rect">
            <a:avLst/>
          </a:prstGeom>
          <a:ln w="0">
            <a:noFill/>
          </a:ln>
        </p:spPr>
      </p:pic>
      <p:sp>
        <p:nvSpPr>
          <p:cNvPr id="1013" name="Rectangle 7"/>
          <p:cNvSpPr/>
          <p:nvPr/>
        </p:nvSpPr>
        <p:spPr>
          <a:xfrm>
            <a:off x="1905120" y="5715000"/>
            <a:ext cx="64008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14" name="Rectangle 9"/>
          <p:cNvSpPr/>
          <p:nvPr/>
        </p:nvSpPr>
        <p:spPr>
          <a:xfrm>
            <a:off x="1828800" y="5105520"/>
            <a:ext cx="64008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ird Edition</a:t>
            </a:r>
            <a:endParaRPr b="0" i="1"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1015" name="Rectangle 10"/>
          <p:cNvSpPr/>
          <p:nvPr/>
        </p:nvSpPr>
        <p:spPr>
          <a:xfrm>
            <a:off x="1828800" y="3886200"/>
            <a:ext cx="64008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LECTRONIC COMMERCE</a:t>
            </a:r>
            <a:endParaRPr b="0" i="1" lang="en-US" sz="2400" spc="-1" strike="noStrike">
              <a:solidFill>
                <a:srgbClr val="000000"/>
              </a:solidFill>
              <a:latin typeface="Arial"/>
            </a:endParaRPr>
          </a:p>
        </p:txBody>
      </p:sp>
      <p:sp>
        <p:nvSpPr>
          <p:cNvPr id="1016" name="Rectangle 11"/>
          <p:cNvSpPr/>
          <p:nvPr/>
        </p:nvSpPr>
        <p:spPr>
          <a:xfrm>
            <a:off x="1828800" y="4343400"/>
            <a:ext cx="64008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From Vision to Fulfillment</a:t>
            </a:r>
            <a:endParaRPr b="0" i="1" lang="en-US" sz="2400" spc="-1" strike="noStrike">
              <a:solidFill>
                <a:srgbClr val="000000"/>
              </a:solidFill>
              <a:latin typeface="Arial"/>
            </a:endParaRPr>
          </a:p>
        </p:txBody>
      </p:sp>
      <p:sp>
        <p:nvSpPr>
          <p:cNvPr id="10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0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019" name="PlaceHolder 3"/>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0ABDC-7BB3-43E5-8D4B-AF51767CE990}"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
        <p:nvSpPr>
          <p:cNvPr id="1020" name="PlaceHolder 4"/>
          <p:cNvSpPr>
            <a:spLocks noGrp="1"/>
          </p:cNvSpPr>
          <p:nvPr>
            <p:ph type="ftr" idx="73"/>
          </p:nvPr>
        </p:nvSpPr>
        <p:spPr>
          <a:xfrm>
            <a:off x="3124080" y="6244920"/>
            <a:ext cx="33530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87" name="Picture 2" descr="left_bar art"/>
          <p:cNvPicPr/>
          <p:nvPr/>
        </p:nvPicPr>
        <p:blipFill>
          <a:blip r:embed="rId3"/>
          <a:stretch/>
        </p:blipFill>
        <p:spPr>
          <a:xfrm>
            <a:off x="0" y="0"/>
            <a:ext cx="2514600" cy="7086600"/>
          </a:xfrm>
          <a:prstGeom prst="rect">
            <a:avLst/>
          </a:prstGeom>
          <a:ln w="0">
            <a:noFill/>
          </a:ln>
        </p:spPr>
      </p:pic>
      <p:sp>
        <p:nvSpPr>
          <p:cNvPr id="88" name="Rectangle 7"/>
          <p:cNvSpPr/>
          <p:nvPr/>
        </p:nvSpPr>
        <p:spPr>
          <a:xfrm>
            <a:off x="1905120" y="5715000"/>
            <a:ext cx="64008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9" name="Rectangle 8"/>
          <p:cNvSpPr/>
          <p:nvPr/>
        </p:nvSpPr>
        <p:spPr>
          <a:xfrm>
            <a:off x="1828800" y="5791320"/>
            <a:ext cx="64008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lias M. Awad</a:t>
            </a:r>
            <a:endParaRPr b="0" i="1"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90" name="Rectangle 9"/>
          <p:cNvSpPr/>
          <p:nvPr/>
        </p:nvSpPr>
        <p:spPr>
          <a:xfrm>
            <a:off x="1828800" y="5105520"/>
            <a:ext cx="64008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ird Edition</a:t>
            </a:r>
            <a:endParaRPr b="0" i="1"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91" name="Rectangle 10"/>
          <p:cNvSpPr/>
          <p:nvPr/>
        </p:nvSpPr>
        <p:spPr>
          <a:xfrm>
            <a:off x="1828800" y="3886200"/>
            <a:ext cx="64008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LECTRONIC COMMERCE</a:t>
            </a:r>
            <a:endParaRPr b="0" i="1" lang="en-US" sz="2400" spc="-1" strike="noStrike">
              <a:solidFill>
                <a:srgbClr val="000000"/>
              </a:solidFill>
              <a:latin typeface="Arial"/>
            </a:endParaRPr>
          </a:p>
        </p:txBody>
      </p:sp>
      <p:sp>
        <p:nvSpPr>
          <p:cNvPr id="92" name="Rectangle 11"/>
          <p:cNvSpPr/>
          <p:nvPr/>
        </p:nvSpPr>
        <p:spPr>
          <a:xfrm>
            <a:off x="1828800" y="4343400"/>
            <a:ext cx="64008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From Vision to Fulfillment</a:t>
            </a:r>
            <a:endParaRPr b="0" i="1" lang="en-US" sz="2400" spc="-1" strike="noStrike">
              <a:solidFill>
                <a:srgbClr val="000000"/>
              </a:solidFill>
              <a:latin typeface="Arial"/>
            </a:endParaRPr>
          </a:p>
        </p:txBody>
      </p:sp>
      <p:sp>
        <p:nvSpPr>
          <p:cNvPr id="93"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94"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95" name="PlaceHolder 3"/>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9AD08-DEAD-4557-9E0E-5E75D0CD8132}"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
        <p:nvSpPr>
          <p:cNvPr id="96" name="PlaceHolder 4"/>
          <p:cNvSpPr>
            <a:spLocks noGrp="1"/>
          </p:cNvSpPr>
          <p:nvPr>
            <p:ph type="ftr" idx="8"/>
          </p:nvPr>
        </p:nvSpPr>
        <p:spPr>
          <a:xfrm>
            <a:off x="3124080" y="6244920"/>
            <a:ext cx="33530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134"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135" name="PlaceHolder 3"/>
          <p:cNvSpPr>
            <a:spLocks noGrp="1"/>
          </p:cNvSpPr>
          <p:nvPr>
            <p:ph type="dt" idx="9"/>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6" name="PlaceHolder 4"/>
          <p:cNvSpPr>
            <a:spLocks noGrp="1"/>
          </p:cNvSpPr>
          <p:nvPr>
            <p:ph type="sldNum" idx="10"/>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6FA5A-ED38-48FA-806C-2DF94020AE04}"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137" name="PlaceHolder 5"/>
          <p:cNvSpPr>
            <a:spLocks noGrp="1"/>
          </p:cNvSpPr>
          <p:nvPr>
            <p:ph type="ftr" idx="11"/>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175"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176" name="PlaceHolder 3"/>
          <p:cNvSpPr>
            <a:spLocks noGrp="1"/>
          </p:cNvSpPr>
          <p:nvPr>
            <p:ph type="dt" idx="12"/>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7" name="PlaceHolder 4"/>
          <p:cNvSpPr>
            <a:spLocks noGrp="1"/>
          </p:cNvSpPr>
          <p:nvPr>
            <p:ph type="sldNum" idx="13"/>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5C0B7-E881-4F56-ADF2-7F945868EC44}"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178" name="PlaceHolder 5"/>
          <p:cNvSpPr>
            <a:spLocks noGrp="1"/>
          </p:cNvSpPr>
          <p:nvPr>
            <p:ph type="ftr" idx="14"/>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216"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217" name="PlaceHolder 3"/>
          <p:cNvSpPr>
            <a:spLocks noGrp="1"/>
          </p:cNvSpPr>
          <p:nvPr>
            <p:ph type="dt" idx="15"/>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8" name="PlaceHolder 4"/>
          <p:cNvSpPr>
            <a:spLocks noGrp="1"/>
          </p:cNvSpPr>
          <p:nvPr>
            <p:ph type="sldNum" idx="16"/>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C9355-711B-4D2E-BDCF-4E6D3F1576AD}"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219" name="PlaceHolder 5"/>
          <p:cNvSpPr>
            <a:spLocks noGrp="1"/>
          </p:cNvSpPr>
          <p:nvPr>
            <p:ph type="ftr" idx="17"/>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257"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258" name="PlaceHolder 3"/>
          <p:cNvSpPr>
            <a:spLocks noGrp="1"/>
          </p:cNvSpPr>
          <p:nvPr>
            <p:ph type="dt" idx="18"/>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9" name="PlaceHolder 4"/>
          <p:cNvSpPr>
            <a:spLocks noGrp="1"/>
          </p:cNvSpPr>
          <p:nvPr>
            <p:ph type="sldNum" idx="19"/>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72E4B-2DDE-41D2-ABEF-7301CF07CC62}"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260" name="PlaceHolder 5"/>
          <p:cNvSpPr>
            <a:spLocks noGrp="1"/>
          </p:cNvSpPr>
          <p:nvPr>
            <p:ph type="ftr" idx="20"/>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298"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299" name="PlaceHolder 3"/>
          <p:cNvSpPr>
            <a:spLocks noGrp="1"/>
          </p:cNvSpPr>
          <p:nvPr>
            <p:ph type="dt" idx="21"/>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00" name="PlaceHolder 4"/>
          <p:cNvSpPr>
            <a:spLocks noGrp="1"/>
          </p:cNvSpPr>
          <p:nvPr>
            <p:ph type="sldNum" idx="22"/>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CCB1C-8F2A-4C69-98C2-C0056762E663}"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301" name="PlaceHolder 5"/>
          <p:cNvSpPr>
            <a:spLocks noGrp="1"/>
          </p:cNvSpPr>
          <p:nvPr>
            <p:ph type="ftr" idx="23"/>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189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Garamond"/>
              </a:rPr>
              <a:t>Click to edit the title text format</a:t>
            </a:r>
            <a:endParaRPr b="1" lang="en-US" sz="4400" spc="-1" strike="noStrike">
              <a:solidFill>
                <a:srgbClr val="996633"/>
              </a:solidFill>
              <a:latin typeface="Garamond"/>
            </a:endParaRPr>
          </a:p>
        </p:txBody>
      </p:sp>
      <p:sp>
        <p:nvSpPr>
          <p:cNvPr id="339" name="PlaceHolder 2"/>
          <p:cNvSpPr>
            <a:spLocks noGrp="1"/>
          </p:cNvSpPr>
          <p:nvPr>
            <p:ph type="body"/>
          </p:nvPr>
        </p:nvSpPr>
        <p:spPr>
          <a:xfrm>
            <a:off x="1218960" y="1599840"/>
            <a:ext cx="7848360" cy="472428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outline text form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cond Outline Level</a:t>
            </a:r>
            <a:endParaRPr b="1"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urth Outline Level</a:t>
            </a:r>
            <a:endParaRPr b="1"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ifth Outline Level</a:t>
            </a:r>
            <a:endParaRPr b="1"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xth Outline Level</a:t>
            </a:r>
            <a:endParaRPr b="1"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venth Outline Level</a:t>
            </a:r>
            <a:endParaRPr b="1" lang="en-US" sz="2400" spc="-1" strike="noStrike">
              <a:solidFill>
                <a:srgbClr val="333399"/>
              </a:solidFill>
              <a:latin typeface="Arial"/>
            </a:endParaRPr>
          </a:p>
        </p:txBody>
      </p:sp>
      <p:sp>
        <p:nvSpPr>
          <p:cNvPr id="340" name="PlaceHolder 3"/>
          <p:cNvSpPr>
            <a:spLocks noGrp="1"/>
          </p:cNvSpPr>
          <p:nvPr>
            <p:ph type="dt" idx="24"/>
          </p:nvPr>
        </p:nvSpPr>
        <p:spPr>
          <a:xfrm>
            <a:off x="914040" y="6244920"/>
            <a:ext cx="167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1" name="PlaceHolder 4"/>
          <p:cNvSpPr>
            <a:spLocks noGrp="1"/>
          </p:cNvSpPr>
          <p:nvPr>
            <p:ph type="sldNum" idx="25"/>
          </p:nvPr>
        </p:nvSpPr>
        <p:spPr>
          <a:xfrm>
            <a:off x="65527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05089-EDE8-4741-AE6E-42BE6C6154FB}" type="slidenum">
              <a:rPr b="0" lang="en-US" sz="1400" spc="-1" strike="noStrike">
                <a:solidFill>
                  <a:srgbClr val="996600"/>
                </a:solidFill>
                <a:latin typeface="Times New Roman"/>
              </a:rPr>
              <a:t>&lt;number&gt;</a:t>
            </a:fld>
            <a:endParaRPr b="0" lang="en-US" sz="1400" spc="-1" strike="noStrike">
              <a:solidFill>
                <a:srgbClr val="000000"/>
              </a:solidFill>
              <a:latin typeface="Times New Roman"/>
            </a:endParaRPr>
          </a:p>
        </p:txBody>
      </p:sp>
      <p:sp>
        <p:nvSpPr>
          <p:cNvPr id="342" name="PlaceHolder 5"/>
          <p:cNvSpPr>
            <a:spLocks noGrp="1"/>
          </p:cNvSpPr>
          <p:nvPr>
            <p:ph type="ftr" idx="26"/>
          </p:nvPr>
        </p:nvSpPr>
        <p:spPr>
          <a:xfrm>
            <a:off x="2666880" y="6381360"/>
            <a:ext cx="3810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4" name="Rectangl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D54B6-B8B2-4AAC-960A-4F71D3B6FB52}" type="slidenum">
              <a:rPr b="0" i="1" lang="en-US" sz="1400" spc="-1" strike="noStrike">
                <a:solidFill>
                  <a:srgbClr val="996633"/>
                </a:solidFill>
                <a:latin typeface="Arial"/>
              </a:rPr>
              <a:t>&lt;number&gt;</a:t>
            </a:fld>
            <a:endParaRPr b="0" i="1" lang="en-US" sz="1400" spc="-1" strike="noStrike">
              <a:solidFill>
                <a:srgbClr val="000000"/>
              </a:solidFill>
              <a:latin typeface="Arial"/>
            </a:endParaRPr>
          </a:p>
        </p:txBody>
      </p:sp>
      <p:sp>
        <p:nvSpPr>
          <p:cNvPr id="1065" name="Rectangle 12"/>
          <p:cNvSpPr/>
          <p:nvPr/>
        </p:nvSpPr>
        <p:spPr>
          <a:xfrm>
            <a:off x="3124080" y="6245280"/>
            <a:ext cx="33530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66" name="Rectangle 7"/>
          <p:cNvSpPr/>
          <p:nvPr/>
        </p:nvSpPr>
        <p:spPr>
          <a:xfrm>
            <a:off x="380880" y="2286000"/>
            <a:ext cx="86868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hapter 8 </a:t>
            </a:r>
            <a:endParaRPr b="0"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hannels in ecommerce</a:t>
            </a:r>
            <a:endParaRPr b="0" i="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464653"/>
                </a:solidFill>
                <a:latin typeface="Bookman Old Style"/>
              </a:rPr>
              <a:t>Order fulfilment through ecommerce..contd..</a:t>
            </a:r>
            <a:endParaRPr b="0" lang="en-US" sz="2400" spc="-1" strike="noStrike">
              <a:solidFill>
                <a:srgbClr val="464653"/>
              </a:solidFill>
              <a:latin typeface="Bookman Old Style"/>
            </a:endParaRPr>
          </a:p>
        </p:txBody>
      </p:sp>
      <p:sp>
        <p:nvSpPr>
          <p:cNvPr id="1099" name=""/>
          <p:cNvSpPr txBox="1"/>
          <p:nvPr/>
        </p:nvSpPr>
        <p:spPr>
          <a:xfrm>
            <a:off x="457200" y="1219320"/>
            <a:ext cx="8229600" cy="4937040"/>
          </a:xfrm>
          <a:prstGeom prst="rect">
            <a:avLst/>
          </a:prstGeom>
          <a:noFill/>
          <a:ln w="0">
            <a:noFill/>
          </a:ln>
        </p:spPr>
        <p:txBody>
          <a:bodyPr anchor="t">
            <a:normAutofit fontScale="88000"/>
          </a:bodyPr>
          <a:p>
            <a:pPr marL="240120" indent="-240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nsolidating Orders through the portal</a:t>
            </a:r>
            <a:endParaRPr b="0" lang="en-US" sz="2400" spc="-1" strike="noStrike">
              <a:solidFill>
                <a:srgbClr val="000000"/>
              </a:solidFill>
              <a:latin typeface="Gill Sans MT"/>
            </a:endParaRPr>
          </a:p>
          <a:p>
            <a:pPr lvl="1" marL="481680" indent="-240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Load Planning Module (LPM) tools help in consolidation</a:t>
            </a:r>
            <a:endParaRPr b="0" lang="en-US" sz="2400" spc="-1" strike="noStrike">
              <a:solidFill>
                <a:srgbClr val="464653"/>
              </a:solidFill>
              <a:latin typeface="Gill Sans MT"/>
            </a:endParaRPr>
          </a:p>
          <a:p>
            <a:pPr lvl="1" marL="481680" indent="-240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LPM considers trailer availability, customer and SKU loading constraints to plan loads</a:t>
            </a:r>
            <a:endParaRPr b="0" lang="en-US" sz="2400" spc="-1" strike="noStrike">
              <a:solidFill>
                <a:srgbClr val="464653"/>
              </a:solidFill>
              <a:latin typeface="Gill Sans MT"/>
            </a:endParaRPr>
          </a:p>
          <a:p>
            <a:pPr lvl="1" marL="481680" indent="-240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Warehouse level inventory allocation is done for the load</a:t>
            </a:r>
            <a:endParaRPr b="0" lang="en-US" sz="2400" spc="-1" strike="noStrike">
              <a:solidFill>
                <a:srgbClr val="464653"/>
              </a:solidFill>
              <a:latin typeface="Gill Sans MT"/>
            </a:endParaRPr>
          </a:p>
          <a:p>
            <a:pPr lvl="1" marL="481680" indent="-240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Shipments can be grouped</a:t>
            </a:r>
            <a:endParaRPr b="0" lang="en-US" sz="2400" spc="-1" strike="noStrike">
              <a:solidFill>
                <a:srgbClr val="464653"/>
              </a:solidFill>
              <a:latin typeface="Gill Sans MT"/>
            </a:endParaRPr>
          </a:p>
          <a:p>
            <a:pPr marL="240120" indent="-240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commerce portal in supply chain</a:t>
            </a:r>
            <a:endParaRPr b="0" lang="en-US" sz="2400" spc="-1" strike="noStrike">
              <a:solidFill>
                <a:srgbClr val="000000"/>
              </a:solidFill>
              <a:latin typeface="Gill Sans MT"/>
            </a:endParaRPr>
          </a:p>
          <a:p>
            <a:pPr lvl="1" marL="481680" indent="-240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Builds long-term strategic relationships with all the business partners including customers</a:t>
            </a:r>
            <a:endParaRPr b="0" lang="en-US" sz="2400" spc="-1" strike="noStrike">
              <a:solidFill>
                <a:srgbClr val="464653"/>
              </a:solidFill>
              <a:latin typeface="Gill Sans MT"/>
            </a:endParaRPr>
          </a:p>
          <a:p>
            <a:pPr lvl="1" marL="481680" indent="-240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Recognizes and rewards team efforts </a:t>
            </a:r>
            <a:endParaRPr b="0" lang="en-US" sz="2400" spc="-1" strike="noStrike">
              <a:solidFill>
                <a:srgbClr val="464653"/>
              </a:solidFill>
              <a:latin typeface="Gill Sans MT"/>
            </a:endParaRPr>
          </a:p>
          <a:p>
            <a:pPr lvl="1" marL="481680" indent="-240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Easy to use and implement</a:t>
            </a:r>
            <a:endParaRPr b="0" lang="en-US" sz="2400" spc="-1" strike="noStrike">
              <a:solidFill>
                <a:srgbClr val="464653"/>
              </a:solidFill>
              <a:latin typeface="Gill Sans MT"/>
            </a:endParaRPr>
          </a:p>
          <a:p>
            <a:pPr lvl="1" marL="481680" indent="-240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Flexible, modular and scaleable</a:t>
            </a:r>
            <a:endParaRPr b="0" lang="en-US" sz="2400" spc="-1" strike="noStrike">
              <a:solidFill>
                <a:srgbClr val="464653"/>
              </a:solidFill>
              <a:latin typeface="Gill Sans MT"/>
            </a:endParaRPr>
          </a:p>
          <a:p>
            <a:pPr lvl="1" marL="481680" indent="-240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Open systems, client/server</a:t>
            </a:r>
            <a:endParaRPr b="0" lang="en-US" sz="2400" spc="-1" strike="noStrike">
              <a:solidFill>
                <a:srgbClr val="464653"/>
              </a:solidFill>
              <a:latin typeface="Gill Sans MT"/>
            </a:endParaRPr>
          </a:p>
        </p:txBody>
      </p:sp>
      <p:sp>
        <p:nvSpPr>
          <p:cNvPr id="1100"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01"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BA3F7-02E6-4F7A-B2A9-BDB83FE346F1}"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464653"/>
                </a:solidFill>
                <a:latin typeface="Bookman Old Style"/>
              </a:rPr>
              <a:t>CASE: Carwale.com</a:t>
            </a:r>
            <a:r>
              <a:rPr b="0" lang="en-US" sz="3200" spc="-1" strike="noStrike">
                <a:solidFill>
                  <a:srgbClr val="464653"/>
                </a:solidFill>
                <a:latin typeface="Bookman Old Style"/>
              </a:rPr>
              <a:t> and Cardekho.com </a:t>
            </a:r>
            <a:endParaRPr b="0" lang="en-US" sz="3200" spc="-1" strike="noStrike">
              <a:solidFill>
                <a:srgbClr val="464653"/>
              </a:solidFill>
              <a:latin typeface="Bookman Old Style"/>
            </a:endParaRPr>
          </a:p>
        </p:txBody>
      </p:sp>
      <p:sp>
        <p:nvSpPr>
          <p:cNvPr id="110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Points to be discussed</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Research on suitable model based on</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464653"/>
                </a:solidFill>
                <a:latin typeface="Gill Sans MT"/>
              </a:rPr>
              <a:t>Pric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464653"/>
                </a:solidFill>
                <a:latin typeface="Gill Sans MT"/>
              </a:rPr>
              <a:t>Model</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464653"/>
                </a:solidFill>
                <a:latin typeface="Gill Sans MT"/>
              </a:rPr>
              <a:t>Features</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Prospect to convert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Scheduling of test drive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Options provided</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464653"/>
                </a:solidFill>
                <a:latin typeface="Gill Sans MT"/>
              </a:rPr>
              <a:t>Colour</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464653"/>
                </a:solidFill>
                <a:latin typeface="Gill Sans MT"/>
              </a:rPr>
              <a:t>Model</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464653"/>
                </a:solidFill>
                <a:latin typeface="Gill Sans MT"/>
              </a:rPr>
              <a:t>Financial</a:t>
            </a: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
        <p:nvSpPr>
          <p:cNvPr id="1104"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05"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063AF-0A03-40E1-88EE-BC30684D7366}"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Case: Cafe Coffee Day</a:t>
            </a:r>
            <a:endParaRPr b="0" lang="en-US" sz="3200" spc="-1" strike="noStrike">
              <a:solidFill>
                <a:srgbClr val="464653"/>
              </a:solidFill>
              <a:latin typeface="Bookman Old Style"/>
            </a:endParaRPr>
          </a:p>
        </p:txBody>
      </p:sp>
      <p:sp>
        <p:nvSpPr>
          <p:cNvPr id="110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Discus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New business model in coffe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New experience for all stakeholder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Order fulfilmen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Value propositions to all partners</a:t>
            </a:r>
            <a:endParaRPr b="0" lang="en-US" sz="2600" spc="-1" strike="noStrike">
              <a:solidFill>
                <a:srgbClr val="000000"/>
              </a:solidFill>
              <a:latin typeface="Gill Sans MT"/>
            </a:endParaRPr>
          </a:p>
        </p:txBody>
      </p:sp>
      <p:sp>
        <p:nvSpPr>
          <p:cNvPr id="1108"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09"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B5F4E-FB8A-43E7-9657-259105A0E6FB}"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464653"/>
                </a:solidFill>
                <a:latin typeface="Bookman Old Style"/>
              </a:rPr>
              <a:t>Summary</a:t>
            </a:r>
            <a:endParaRPr b="0" lang="en-US" sz="3200" spc="-1" strike="noStrike">
              <a:solidFill>
                <a:srgbClr val="464653"/>
              </a:solidFill>
              <a:latin typeface="Bookman Old Style"/>
            </a:endParaRPr>
          </a:p>
        </p:txBody>
      </p:sp>
      <p:sp>
        <p:nvSpPr>
          <p:cNvPr id="111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We discussed-</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role of e-commerce in a multi channel system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Using technology </a:t>
            </a:r>
            <a:r>
              <a:rPr b="0" lang="en-US" sz="2600" spc="-1" strike="noStrike">
                <a:solidFill>
                  <a:srgbClr val="000000"/>
                </a:solidFill>
                <a:latin typeface="Gill Sans MT"/>
              </a:rPr>
              <a:t>improve effective conversion rate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formation does not fall through crack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mproving predictability, sustainability and accuracy of results</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2"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13"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78298-BB65-40B3-8AEB-0ECA2F7BE45A}"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Bookman Old Style"/>
              </a:rPr>
              <a:t>Learning objectives</a:t>
            </a:r>
            <a:endParaRPr b="0" lang="en-US" sz="4000" spc="-1" strike="noStrike">
              <a:solidFill>
                <a:srgbClr val="464653"/>
              </a:solidFill>
              <a:latin typeface="Bookman Old Style"/>
            </a:endParaRPr>
          </a:p>
        </p:txBody>
      </p:sp>
      <p:sp>
        <p:nvSpPr>
          <p:cNvPr id="106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ifferent channels that are available for ecommerce</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ow to manage multiple sales in ecommerce</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ow to blend channels for growth and profitability</a:t>
            </a:r>
            <a:endParaRPr b="0" lang="en-US" sz="2000" spc="-1" strike="noStrike">
              <a:solidFill>
                <a:srgbClr val="000000"/>
              </a:solidFill>
              <a:latin typeface="Gill Sans MT"/>
            </a:endParaRPr>
          </a:p>
        </p:txBody>
      </p:sp>
      <p:sp>
        <p:nvSpPr>
          <p:cNvPr id="1069"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63C4E-987F-4839-B39F-115E0989542F}"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464653"/>
                </a:solidFill>
                <a:latin typeface="Bookman Old Style"/>
              </a:rPr>
              <a:t>Introduction</a:t>
            </a:r>
            <a:endParaRPr b="0" lang="en-US" sz="3200" spc="-1" strike="noStrike">
              <a:solidFill>
                <a:srgbClr val="464653"/>
              </a:solidFill>
              <a:latin typeface="Bookman Old Style"/>
            </a:endParaRPr>
          </a:p>
        </p:txBody>
      </p:sp>
      <p:sp>
        <p:nvSpPr>
          <p:cNvPr id="1071" name=""/>
          <p:cNvSpPr txBox="1"/>
          <p:nvPr/>
        </p:nvSpPr>
        <p:spPr>
          <a:xfrm>
            <a:off x="457200" y="1219320"/>
            <a:ext cx="8229600" cy="4937040"/>
          </a:xfrm>
          <a:prstGeom prst="rect">
            <a:avLst/>
          </a:prstGeom>
          <a:noFill/>
          <a:ln w="0">
            <a:noFill/>
          </a:ln>
        </p:spPr>
        <p:txBody>
          <a:bodyPr anchor="t">
            <a:normAutofit/>
          </a:bodyPr>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Channel for marketing is a mix of field sales, retail, business partners, direct marketing, call center, and electronic media</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This is already happening in In industries such as digital, technology, retail, and financial service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This implies to grow profitably and effectively, it will require a mixture of optimized channel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The optimization will lower selling costs, happier customers, and more reliable results</a:t>
            </a:r>
            <a:r>
              <a:rPr b="0" lang="en-US" sz="2300" spc="-1" strike="noStrike">
                <a:solidFill>
                  <a:srgbClr val="464653"/>
                </a:solidFill>
                <a:latin typeface="Gill Sans MT"/>
              </a:rPr>
              <a:t>	</a:t>
            </a:r>
            <a:r>
              <a:rPr b="0" lang="en-US" sz="2300" spc="-1" strike="noStrike">
                <a:solidFill>
                  <a:srgbClr val="464653"/>
                </a:solidFill>
                <a:latin typeface="Gill Sans MT"/>
              </a:rPr>
              <a:t>	</a:t>
            </a:r>
            <a:r>
              <a:rPr b="0" lang="en-US" sz="2300" spc="-1" strike="noStrike">
                <a:solidFill>
                  <a:srgbClr val="464653"/>
                </a:solidFill>
                <a:latin typeface="Gill Sans MT"/>
              </a:rPr>
              <a:t>	</a:t>
            </a:r>
            <a:br>
              <a:rPr sz="2300"/>
            </a:br>
            <a:r>
              <a:rPr b="0" lang="en-US" sz="2300" spc="-1" strike="noStrike">
                <a:solidFill>
                  <a:srgbClr val="464653"/>
                </a:solidFill>
                <a:latin typeface="Gill Sans MT"/>
              </a:rPr>
              <a:t> </a:t>
            </a:r>
            <a:endParaRPr b="0" lang="en-US" sz="2300" spc="-1" strike="noStrike">
              <a:solidFill>
                <a:srgbClr val="464653"/>
              </a:solidFill>
              <a:latin typeface="Gill Sans MT"/>
            </a:endParaRPr>
          </a:p>
        </p:txBody>
      </p:sp>
      <p:sp>
        <p:nvSpPr>
          <p:cNvPr id="1072"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73"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64AAA-3CCD-4994-9690-CD60B5CCF80F}"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685800" y="304560"/>
            <a:ext cx="82296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CASE : Airtel</a:t>
            </a:r>
            <a:br>
              <a:rPr sz="3200"/>
            </a:br>
            <a:endParaRPr b="0" lang="en-US" sz="3200" spc="-1" strike="noStrike">
              <a:solidFill>
                <a:srgbClr val="464653"/>
              </a:solidFill>
              <a:latin typeface="Bookman Old Style"/>
            </a:endParaRPr>
          </a:p>
        </p:txBody>
      </p:sp>
      <p:sp>
        <p:nvSpPr>
          <p:cNvPr id="1075" name=""/>
          <p:cNvSpPr txBox="1"/>
          <p:nvPr/>
        </p:nvSpPr>
        <p:spPr>
          <a:xfrm>
            <a:off x="304920" y="1219320"/>
            <a:ext cx="8229600" cy="838080"/>
          </a:xfrm>
          <a:prstGeom prst="rect">
            <a:avLst/>
          </a:prstGeom>
          <a:noFill/>
          <a:ln w="0">
            <a:noFill/>
          </a:ln>
        </p:spPr>
        <p:txBody>
          <a:bodyPr anchor="t">
            <a:normAutofit fontScale="40000"/>
          </a:bodyPr>
          <a:p>
            <a:pPr marL="109080" indent="-10908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Gill Sans MT"/>
              </a:rPr>
              <a:t>The company initially dealt with automating customer billing processes only. The marketing was done through sales force through direct marketing route. Then it adopted mass communication channels such as TV, digital banner to attract customers. Now </a:t>
            </a:r>
            <a:r>
              <a:rPr b="0" lang="en-US" sz="2400" spc="-1" strike="noStrike">
                <a:solidFill>
                  <a:srgbClr val="000000"/>
                </a:solidFill>
                <a:latin typeface="Gill Sans MT"/>
              </a:rPr>
              <a:t>a combination of third party business  partners, such as stationary shop owners who their own office space to sell ‘recharge vouchers’ to individuals and its own key customer account sales forces along with banner advertisements in different internet websites and call center channels to generate demand and support business partners.  </a:t>
            </a:r>
            <a:endParaRPr b="0" lang="en-US" sz="2400" spc="-1" strike="noStrike">
              <a:solidFill>
                <a:srgbClr val="000000"/>
              </a:solidFill>
              <a:latin typeface="Gill Sans MT"/>
            </a:endParaRPr>
          </a:p>
        </p:txBody>
      </p:sp>
      <p:sp>
        <p:nvSpPr>
          <p:cNvPr id="1076"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77"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DA9A4-7A34-4707-8706-7BDFA5649087}"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64653"/>
                </a:solidFill>
                <a:latin typeface="Bookman Old Style"/>
              </a:rPr>
              <a:t>e-commerce in multichannel marketing</a:t>
            </a:r>
            <a:endParaRPr b="0" lang="en-US" sz="3000" spc="-1" strike="noStrike">
              <a:solidFill>
                <a:srgbClr val="464653"/>
              </a:solidFill>
              <a:latin typeface="Bookman Old Style"/>
            </a:endParaRPr>
          </a:p>
        </p:txBody>
      </p:sp>
      <p:sp>
        <p:nvSpPr>
          <p:cNvPr id="1079" name=""/>
          <p:cNvSpPr txBox="1"/>
          <p:nvPr/>
        </p:nvSpPr>
        <p:spPr>
          <a:xfrm>
            <a:off x="457200" y="1066320"/>
            <a:ext cx="8229600" cy="5257800"/>
          </a:xfrm>
          <a:prstGeom prst="rect">
            <a:avLst/>
          </a:prstGeom>
          <a:noFill/>
          <a:ln w="0">
            <a:noFill/>
          </a:ln>
        </p:spPr>
        <p:txBody>
          <a:bodyPr anchor="t">
            <a:normAutofit fontScale="91000"/>
          </a:bodyPr>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commerce portals need to collect data for each and every sale</a:t>
            </a:r>
            <a:endParaRPr b="0" lang="en-US" sz="20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se data generate information so that proper managerial decision is taken</a:t>
            </a:r>
            <a:endParaRPr b="0" lang="en-US" sz="20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se decisions help improve sales for the organization</a:t>
            </a:r>
            <a:endParaRPr b="0" lang="en-US" sz="20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hannels come in many different types and roles</a:t>
            </a:r>
            <a:endParaRPr b="0" lang="en-US" sz="2000" spc="-1" strike="noStrike">
              <a:solidFill>
                <a:srgbClr val="000000"/>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Sales channel</a:t>
            </a:r>
            <a:endParaRPr b="0" lang="en-US" sz="17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Service channels</a:t>
            </a:r>
            <a:endParaRPr b="0" lang="en-US" sz="17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Direct marketing channel</a:t>
            </a:r>
            <a:endParaRPr b="0" lang="en-US" sz="17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Business partner channel</a:t>
            </a:r>
            <a:endParaRPr b="0" lang="en-US" sz="17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Ecommerce channel</a:t>
            </a:r>
            <a:endParaRPr b="0" lang="en-US" sz="17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Tele marketing channel</a:t>
            </a:r>
            <a:endParaRPr b="0" lang="en-US" sz="17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Call centre based channel</a:t>
            </a:r>
            <a:endParaRPr b="0" lang="en-US" sz="17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Email based channel</a:t>
            </a:r>
            <a:endParaRPr b="0" lang="en-US" sz="17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53"/>
                </a:solidFill>
                <a:latin typeface="Gill Sans MT"/>
              </a:rPr>
              <a:t>SMS based channel</a:t>
            </a:r>
            <a:endParaRPr b="0" lang="en-US" sz="1700" spc="-1" strike="noStrike">
              <a:solidFill>
                <a:srgbClr val="464653"/>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mbine these call center and electronic channels with traditional field sales, retail, and distribution partners into multichannel selling systems</a:t>
            </a:r>
            <a:endParaRPr b="0" lang="en-US" sz="20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080"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1"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18F18-E8C5-4BA1-A9FC-D7D7A8B91BFF}"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7632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4653"/>
                </a:solidFill>
                <a:latin typeface="Bookman Old Style"/>
              </a:rPr>
              <a:t>e-commerce in multichannel marketing...contd..</a:t>
            </a:r>
            <a:endParaRPr b="0" lang="en-US" sz="2400" spc="-1" strike="noStrike">
              <a:solidFill>
                <a:srgbClr val="464653"/>
              </a:solidFill>
              <a:latin typeface="Bookman Old Style"/>
            </a:endParaRPr>
          </a:p>
        </p:txBody>
      </p:sp>
      <p:sp>
        <p:nvSpPr>
          <p:cNvPr id="1083" name=""/>
          <p:cNvSpPr txBox="1"/>
          <p:nvPr/>
        </p:nvSpPr>
        <p:spPr>
          <a:xfrm>
            <a:off x="457200" y="914400"/>
            <a:ext cx="8229600" cy="4937040"/>
          </a:xfrm>
          <a:prstGeom prst="rect">
            <a:avLst/>
          </a:prstGeom>
          <a:noFill/>
          <a:ln w="0">
            <a:noFill/>
          </a:ln>
        </p:spPr>
        <p:txBody>
          <a:bodyPr anchor="t">
            <a:normAutofit fontScale="91000"/>
          </a:bodyPr>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ternet penetration and consumers becoming are tech savvy</a:t>
            </a:r>
            <a:endParaRPr b="0" lang="en-US" sz="18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an support both direct selling and indirect selling</a:t>
            </a:r>
            <a:endParaRPr b="0" lang="en-US" sz="18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ell vs HP :  unlike Dell, which thrusts its marketing only on e-commerce, HP has decided to use multi channel marketing so as to get maximum market share in personal computer industry - “hybrid” process had a 50 percent close rate</a:t>
            </a:r>
            <a:endParaRPr b="0" lang="en-US" sz="18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ybrid reduces </a:t>
            </a:r>
            <a:endParaRPr b="0" lang="en-US" sz="1800" spc="-1" strike="noStrike">
              <a:solidFill>
                <a:srgbClr val="000000"/>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Gill Sans MT"/>
              </a:rPr>
              <a:t>conflicts between selling channels,</a:t>
            </a:r>
            <a:endParaRPr b="0" lang="en-US" sz="18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Gill Sans MT"/>
              </a:rPr>
              <a:t>lost sales leads that fall through the cracks, </a:t>
            </a:r>
            <a:endParaRPr b="0" lang="en-US" sz="18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Gill Sans MT"/>
              </a:rPr>
              <a:t>gaps in market coverage</a:t>
            </a:r>
            <a:endParaRPr b="0" lang="en-US" sz="18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Gill Sans MT"/>
              </a:rPr>
              <a:t>focus from building channels to integrate channels</a:t>
            </a:r>
            <a:endParaRPr b="0" lang="en-US" sz="1800" spc="-1" strike="noStrike">
              <a:solidFill>
                <a:srgbClr val="464653"/>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uch hybrid channels reduce</a:t>
            </a:r>
            <a:endParaRPr b="0" lang="en-US" sz="1800" spc="-1" strike="noStrike">
              <a:solidFill>
                <a:srgbClr val="000000"/>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Gill Sans MT"/>
              </a:rPr>
              <a:t>Salespeople in different channels will compete for the same business;</a:t>
            </a:r>
            <a:endParaRPr b="0" lang="en-US" sz="18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Gill Sans MT"/>
              </a:rPr>
              <a:t>Leads might not be followed up for converting them to customers;</a:t>
            </a:r>
            <a:endParaRPr b="0" lang="en-US" sz="18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Gill Sans MT"/>
              </a:rPr>
              <a:t>Inconsistencies in customer relationship management;</a:t>
            </a:r>
            <a:endParaRPr b="0" lang="en-US" sz="18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Gill Sans MT"/>
              </a:rPr>
              <a:t>Ineffective integration of channels because of which there could be revenue leaks.</a:t>
            </a:r>
            <a:endParaRPr b="0" lang="en-US" sz="18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53"/>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084"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5"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B4D94-A5E3-4A0C-8CD0-33C26AF63E40}"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64653"/>
                </a:solidFill>
                <a:latin typeface="Bookman Old Style"/>
              </a:rPr>
              <a:t>e-commerce in multichannel marketing...contd..</a:t>
            </a:r>
            <a:endParaRPr b="0" lang="en-US" sz="3000" spc="-1" strike="noStrike">
              <a:solidFill>
                <a:srgbClr val="464653"/>
              </a:solidFill>
              <a:latin typeface="Bookman Old Style"/>
            </a:endParaRPr>
          </a:p>
        </p:txBody>
      </p:sp>
      <p:sp>
        <p:nvSpPr>
          <p:cNvPr id="108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To be effective in multichannel system, e-commerce should define</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Service Level Agreements (SLA) for each channel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new incentive plans that encourage people in different channels to work together</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strategizing the entire potential market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defining new rules and channel policies </a:t>
            </a:r>
            <a:endParaRPr b="0" lang="en-US" sz="2300" spc="-1" strike="noStrike">
              <a:solidFill>
                <a:srgbClr val="464653"/>
              </a:solidFill>
              <a:latin typeface="Gill Sans MT"/>
            </a:endParaRPr>
          </a:p>
        </p:txBody>
      </p:sp>
      <p:sp>
        <p:nvSpPr>
          <p:cNvPr id="1088"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9"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77FFA-6C3A-41A4-A49F-5E16AE85ECF6}"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464653"/>
                </a:solidFill>
                <a:latin typeface="Bookman Old Style"/>
              </a:rPr>
              <a:t>Order fulfilment through ecommerce</a:t>
            </a:r>
            <a:endParaRPr b="0" lang="en-US" sz="3200" spc="-1" strike="noStrike">
              <a:solidFill>
                <a:srgbClr val="464653"/>
              </a:solidFill>
              <a:latin typeface="Bookman Old Style"/>
            </a:endParaRPr>
          </a:p>
        </p:txBody>
      </p:sp>
      <p:sp>
        <p:nvSpPr>
          <p:cNvPr id="1091" name=""/>
          <p:cNvSpPr txBox="1"/>
          <p:nvPr/>
        </p:nvSpPr>
        <p:spPr>
          <a:xfrm>
            <a:off x="457200" y="1219320"/>
            <a:ext cx="8229600" cy="4937040"/>
          </a:xfrm>
          <a:prstGeom prst="rect">
            <a:avLst/>
          </a:prstGeom>
          <a:noFill/>
          <a:ln w="0">
            <a:noFill/>
          </a:ln>
        </p:spPr>
        <p:txBody>
          <a:bodyPr anchor="t">
            <a:normAutofit fontScale="90000"/>
          </a:bodyPr>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Gill Sans MT"/>
              </a:rPr>
              <a:t>Integrated environment so as to </a:t>
            </a:r>
            <a:r>
              <a:rPr b="0" lang="en-US" sz="2600" spc="-1" strike="noStrike">
                <a:solidFill>
                  <a:srgbClr val="000000"/>
                </a:solidFill>
                <a:latin typeface="Gill Sans MT"/>
              </a:rPr>
              <a:t>build partnerships with its vendors, sub-contractors, logistics providers as well as its customers</a:t>
            </a:r>
            <a:endParaRPr b="0" lang="en-US" sz="2600" spc="-1" strike="noStrike">
              <a:solidFill>
                <a:srgbClr val="000000"/>
              </a:solidFill>
              <a:latin typeface="Gill Sans MT"/>
            </a:endParaRPr>
          </a:p>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helps its stakeholders in increasing their value proposition</a:t>
            </a:r>
            <a:endParaRPr b="0" lang="en-US" sz="2600" spc="-1" strike="noStrike">
              <a:solidFill>
                <a:srgbClr val="000000"/>
              </a:solidFill>
              <a:latin typeface="Gill Sans MT"/>
            </a:endParaRPr>
          </a:p>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long term business strategic partnership is developed</a:t>
            </a:r>
            <a:endParaRPr b="0" lang="en-US" sz="2600" spc="-1" strike="noStrike">
              <a:solidFill>
                <a:srgbClr val="000000"/>
              </a:solidFill>
              <a:latin typeface="Gill Sans MT"/>
            </a:endParaRPr>
          </a:p>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ovides support with different degree of customization to suit the partners specific requirements</a:t>
            </a:r>
            <a:endParaRPr b="0" lang="en-US" sz="2600" spc="-1" strike="noStrike">
              <a:solidFill>
                <a:srgbClr val="000000"/>
              </a:solidFill>
              <a:latin typeface="Gill Sans MT"/>
            </a:endParaRPr>
          </a:p>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ustomers are offered a choice of different levels of support to suit their specific requirements</a:t>
            </a:r>
            <a:endParaRPr b="0" lang="en-US" sz="2600" spc="-1" strike="noStrike">
              <a:solidFill>
                <a:srgbClr val="000000"/>
              </a:solidFill>
              <a:latin typeface="Gill Sans MT"/>
            </a:endParaRPr>
          </a:p>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oject management tools help to provide a detailed plan and schedule for the implementation program</a:t>
            </a:r>
            <a:endParaRPr b="0" lang="en-US" sz="2600" spc="-1" strike="noStrike">
              <a:solidFill>
                <a:srgbClr val="000000"/>
              </a:solidFill>
              <a:latin typeface="Gill Sans MT"/>
            </a:endParaRPr>
          </a:p>
        </p:txBody>
      </p:sp>
      <p:sp>
        <p:nvSpPr>
          <p:cNvPr id="1092"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93"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0CD72-6958-4775-A201-65CD754AAD36}"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464653"/>
                </a:solidFill>
                <a:latin typeface="Bookman Old Style"/>
              </a:rPr>
              <a:t>Order fulfilment through ecommerce..contd..</a:t>
            </a:r>
            <a:endParaRPr b="0" lang="en-US" sz="2400" spc="-1" strike="noStrike">
              <a:solidFill>
                <a:srgbClr val="464653"/>
              </a:solidFill>
              <a:latin typeface="Bookman Old Style"/>
            </a:endParaRPr>
          </a:p>
        </p:txBody>
      </p:sp>
      <p:sp>
        <p:nvSpPr>
          <p:cNvPr id="1095" name=""/>
          <p:cNvSpPr txBox="1"/>
          <p:nvPr/>
        </p:nvSpPr>
        <p:spPr>
          <a:xfrm>
            <a:off x="457200" y="1219320"/>
            <a:ext cx="8229600" cy="4937040"/>
          </a:xfrm>
          <a:prstGeom prst="rect">
            <a:avLst/>
          </a:prstGeom>
          <a:noFill/>
          <a:ln w="0">
            <a:noFill/>
          </a:ln>
        </p:spPr>
        <p:txBody>
          <a:bodyPr anchor="t">
            <a:normAutofit fontScale="96000"/>
          </a:bodyPr>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commerce portals provide required training and skills to their partners </a:t>
            </a:r>
            <a:endParaRPr b="0" lang="en-US" sz="2000" spc="-1" strike="noStrike">
              <a:solidFill>
                <a:srgbClr val="000000"/>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impart online training modules </a:t>
            </a:r>
            <a:endParaRPr b="0" lang="en-US" sz="20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Online training reduces time involved in logistics</a:t>
            </a:r>
            <a:endParaRPr b="0" lang="en-US" sz="2000" spc="-1" strike="noStrike">
              <a:solidFill>
                <a:srgbClr val="464653"/>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ntinuously fine-tuned to enhance response to market needs</a:t>
            </a:r>
            <a:endParaRPr b="0" lang="en-US" sz="20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ventory Management through the portal</a:t>
            </a:r>
            <a:endParaRPr b="0" lang="en-US" sz="20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elps in Inbound Planning Process</a:t>
            </a:r>
            <a:endParaRPr b="0" lang="en-US" sz="2000" spc="-1" strike="noStrike">
              <a:solidFill>
                <a:srgbClr val="000000"/>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Inquire into expected receipts against purchase orders or Advance Shipment Notices (ASN)</a:t>
            </a:r>
            <a:endParaRPr b="0" lang="en-US" sz="20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Re) print receiving worksheets for an ASN </a:t>
            </a:r>
            <a:endParaRPr b="0" lang="en-US" sz="20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Create or modify ASNs</a:t>
            </a:r>
            <a:endParaRPr b="0" lang="en-US" sz="20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Create LPN's (License Plate Numbers)</a:t>
            </a:r>
            <a:endParaRPr b="0" lang="en-US" sz="20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464653"/>
                </a:solidFill>
                <a:latin typeface="Gill Sans MT"/>
              </a:rPr>
              <a:t>Schedule docks and workers for unloading</a:t>
            </a:r>
            <a:endParaRPr b="0" lang="en-US" sz="20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464653"/>
                </a:solidFill>
                <a:latin typeface="Gill Sans MT"/>
              </a:rPr>
              <a:t>Enter, modify or change the status of ASN's</a:t>
            </a:r>
            <a:endParaRPr b="0" lang="en-US" sz="20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096" name="Footer Placeholder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97"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B1CB3-1AA0-4B8B-A5E4-8D648E6DA11A}" type="slidenum">
              <a:rPr b="0" i="1" lang="en-US" sz="1400" spc="-1" strike="noStrike">
                <a:solidFill>
                  <a:srgbClr val="464653"/>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2T00:21:47Z</dcterms:created>
  <dc:creator>RGPlatt</dc:creator>
  <dc:description/>
  <dc:language>en-US</dc:language>
  <cp:lastModifiedBy>Sanjay</cp:lastModifiedBy>
  <dcterms:modified xsi:type="dcterms:W3CDTF">2013-04-03T17:07:59Z</dcterms:modified>
  <cp:revision>417</cp:revision>
  <dc:subject>Awad 3rd ed</dc:subject>
  <dc:title>The Dawn of a Maturing Industr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3</vt:r8>
  </property>
</Properties>
</file>