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7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ftr" idx="7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 type="sldNum" idx="7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7347-03AC-4A5A-A581-32E2A5289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38E9-8DFD-487B-8AC5-6509A268D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C422-F3EC-4A50-9516-25C46B74D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9BB91-2FFC-43A6-A43E-7E07639D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33154-163E-4862-B12F-21E0A301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5EFE0-2FBB-495E-B5C6-E37A2CB8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21B7EB-539F-41AD-9836-40DE1B25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EC702-AA82-47D2-9F64-6B7B5221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C99035-14AF-458A-B1D8-94547227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8E1F26-9282-4BA0-8F31-C9803941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87DB5-B483-420D-9E9C-0FC1EB8D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D332DA-573D-4FB8-AAE3-4F041CB5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878BEB-374E-4CBB-90DF-D8DC50A8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B7B122-BB0A-4DF4-93E5-7F4F2E4E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2025AF-5940-4999-9DA1-C61BD630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AE395-276D-4BF7-9C27-9592AC2A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8E08C3-85B3-432E-800E-373A6912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2DB63-F7D1-4FB1-9845-098ED046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AB713C-CB91-4043-BAB3-9E55A44E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D84BA9-7B36-4E0B-A8BF-9F487547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1763D3-E48D-41D2-AD58-D596F453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5E8ED-9692-4601-8EE5-7587CC10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2DA61B-A05B-47AF-A813-505D4A62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EF02CD-4663-463A-BD23-7923FB4C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FE4AC-BDB6-4C00-B2A8-B2944312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68DD9B-5C78-4B58-B9E7-02C0578E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C49DA-762A-47BC-9330-BE1C1F4D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2F71AC-355B-456D-9610-8FDE62FC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AD2274-3848-4602-8701-C8DDF90F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3034ED-65C6-43F2-892F-3910448E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078BC6-4D8A-4B18-9182-3413D3C7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0CA1AF-CD97-4301-8010-A7272EE8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1E271E-3069-4653-9419-08292FA4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01A0DC-B01D-445B-924A-7AA87F00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4C7627-0F60-4C1B-9FB0-6D6C8A96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816094-BD9B-4F81-8453-18C2D9F6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849FA6-4D95-4143-8DAF-D498478F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2F9E-8333-41F1-901C-7DC9D96F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461BB8-281E-43DA-9BDF-6FF6F444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4B8D60-8E4B-4E7F-AB0D-7DEE43EA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03024A-AD9D-4715-BE7D-47023420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A3573F-07BC-43CE-BBD3-74049056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5DE324-BD36-4D7D-BDD1-3D91A534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C2D60D-714F-4A8C-93B6-6E7A39E8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31859A-0CDF-41A1-82C6-3A376066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8264AF-3575-41B6-801A-7967ED07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B8DEB3-0131-4639-83B9-29EC9B60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65E3BA-28BA-4409-91C7-B3537321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5ED0-F909-43BA-9749-5A5248C9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F8724A-EDF4-4504-85F7-699BDA07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A4486A-CD53-4E9F-B0D8-280A2D44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1CF6B-FEDA-4F39-BD04-70863AC3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7719C-FCB7-4E55-AAA9-C8C63297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95DC03-409E-47C5-88C7-8E68FD90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7D883A-4792-4B88-9FD0-1AB5EFCB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5324CA-AE32-44F0-9BCB-DD079186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109C2F-7F3C-4F8A-8241-25833DB4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5DA70A-E227-454B-945D-4065634B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03A47E-9623-4B27-8332-51B61BC8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516F-58BF-4F6C-8499-E1AB6CBD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CC9AF25-1DB9-4996-8A69-112BF7EE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3E06D4-0A43-4D12-8984-84813BB4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E8EB7E-D042-4B2E-9B9C-F3E02B6A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C4D2B8-EADA-4ADB-9752-642711D2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0DF0533-E2B9-49B2-9335-E6938443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09CDF5-D38B-4E04-854E-4AADE7BA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C5849C-B4B2-459E-B9BB-3AFFA70F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BBB140-9C12-4638-AE40-9E51707B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1311C5-DC45-4301-ACBF-4F9A2B95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A257E9-3E25-477B-9A28-CE1F513A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4B05-71A3-4F71-AE4B-EEE1EC7B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F19A50-0A6F-4444-ACDA-D81BD84F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6EF4E54-0495-4806-A192-3B645166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500E8F2-C25E-4554-9EDC-FF6EEB0C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073503E-9B5A-4AEC-BB44-BA950BBD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22E9FD6-6822-46CD-BB71-1DF3F2DA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CDF929-7B69-43A5-BFE9-B909FFB3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0D0BCA-6595-4497-BE3B-932171DA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08C4B3-1A0D-4478-A782-4D031E33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F5121E-D770-4825-9BB9-C941633B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FF1290-4768-4856-B4C2-681AC3D4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0DDD-B5D5-472E-95CE-62D2BA83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B94FE1-5A32-454A-AB8D-8CF944EB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F5AF7D-ABF7-4CBE-96BA-36B2D262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51912B-54E0-4D08-B991-6367635D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DEB1B5-419C-43B6-A822-4AC306EB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7B9290-BCF2-4B4E-8AD9-69BB6B7B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3950FD-38EC-454C-8938-884B4138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188FBB-C146-4D48-8D52-5ACBAF3C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EAA5A3-84B9-402F-9312-CF9C55AD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6E8F4C-E8CE-4446-A58A-07513913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BEF47B-D9AC-4B3D-AB5C-371D1F5F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18F6-BE67-49AE-9EC0-3E36EF5F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F0FC3CF-D527-46E1-92F5-F3F4312A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633BB8E-A8E3-4F1A-BA7A-3C79FC94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99191BF-5F03-4F45-A98B-E42F9E73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F2F8268-A65D-4725-BD4E-BAC178B6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FA6DFF6-D928-4DA3-BE87-9E578982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DC50704-8FED-41C7-8072-75D0973D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AA1C20C-AEE9-478A-B607-FD87C2C1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D37E000-4E2F-457E-992F-248CD51B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FFBA85A-2BE0-47F2-B5A4-93D95165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92D2270-795D-4C4F-AECC-99E5B7CA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CB51-0072-484A-99BB-3D3E65CB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ECBB667-2F22-44ED-BD27-7EA3F877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F1210CA-87A8-4311-B7EB-B9FA1311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F8374E5-EDB3-445E-99CA-AEB5AA7A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B5A6DFC-3F43-41A8-B04B-BE6ACDB8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18FEA7A-6106-42D5-969F-C9504ED2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F8DE606-2EDD-4330-A21D-05F2CF8B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AC5DB9A-26F1-4B6A-9A57-49B04F88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610D55C-87E4-4C44-B02A-B597C387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8A14EA8-6936-499A-8D18-95B5A6CC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FAAA7EC-ED9A-4F6A-AC0E-CB8E86CB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1200B-E7BA-496C-91DA-F84F57E4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3E2E-665D-41A3-8FEE-1C48E0E4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1AF6EA1-6CD3-45A6-A085-2DE65914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54EC0B4-3484-4BC8-86B1-032EBC48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0439978-3E90-46F6-91DE-BE4572D6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A4DC14F-2E0F-4E6E-BBAC-4215B3F3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39F95B9-2771-483E-B392-8CFFB54B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5DB5920-EE1E-4754-B3E7-FAE4DAF9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CB1700E-8C44-44B7-9921-D4FA68EE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FD6CEFA-EBBD-4595-9D1A-0A169126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14F1989-B78D-4EF7-90E9-27F5935A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F71F0B7-695E-45EF-A070-5F3105AD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2535-8393-4161-AD34-3EAF20E3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A38599F-AE30-4896-B1F3-B34061D0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70D128A-965A-437D-89F9-8E917586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50AA7A6-B719-4D77-A874-73EEB188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AA1F177-1713-43FC-B510-964E75B9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4B1BCD1-B608-4B08-BD3D-8F5BC9CF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E0B34DF-4E32-4C0D-93A2-7EE0D91E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7E039F9-1A88-4876-80C3-00327DA5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81F0E65-0F5A-4B8E-903E-C98C1FF1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7E06A6F-2C34-429A-A450-B7AD480E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A8B0741-6B2E-4F1B-97EE-68AD0251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AEC1-2E39-4191-8EB7-2CAF99C4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D26D31E-BF47-4667-A9AF-0AAA5010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5284DDF-ABF9-4326-A35B-3AF5A40F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097B21D-A21D-49EF-A77D-F3554CBF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EFC93FC-D19C-4459-8D0F-0ACF7E84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1667052-FC09-499F-B132-C6A39113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6F98F7D-5129-4266-B93D-AA089ED2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7CDF22C-0CDA-41E7-9429-954C8FB2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BC7DC86-0E56-4898-A1C3-A6B55B78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0C79F8D-F27E-4C80-95BC-3F83FAD0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8873B90-A891-4EEA-A3A2-7C4D7D54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F3BD-586A-4E00-8A4A-622E11B1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EE11F3F-8DD6-4215-99C3-D3EA4A57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E681CA7-00B8-410E-A898-DD4C302C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F23082F-7B4C-4EA3-917F-5051FE24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F2F3BE2-7A0F-4BE9-BF6E-099C97E7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C9C26BE-9185-4037-9493-170557CD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90E1DC5-289C-430D-89A9-59AE7FE2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9E3E999-108F-48C9-96BE-746BDAE1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3D70D64-8DA6-47F1-9148-9AE26817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BD697C2-1E59-45A0-A6F2-04063672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4953887-A7E5-4EBE-976A-E59C37D5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0524-1903-4EEC-A1D7-F6ED1347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D4FF90D-F4F1-4717-9EA8-CC10A97A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DF0E688-8734-4368-B3D1-9E439BA6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119BD39-FD9F-4E2C-9115-D85B4D3C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26E0D22-17D3-4C76-9071-2C3A34F5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E55C477-2083-4BBE-9F51-16669B1E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C9357AD-3570-4ED9-A0AF-C3376DC5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4624507-9F4C-4978-9377-7C10D65A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F590127-5366-4AA1-9F3C-B11E205B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A18DDC5-BE8D-4BB8-90AB-4C73592A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9E4E34A-061B-4D9D-B518-A3616317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2BD732-618B-4B0B-B0C9-0C9981A13AB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B8FE8EA-A5F1-4F8C-BC84-118C9553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59EB775-0166-4BD8-8BBE-8C044280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0324C17-4A02-4833-A703-78043116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BCAF1C6-F3DB-4FA8-B3CC-5FFFC368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97D0D9B-3B48-4F39-B0A3-92DB2B82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AE9464C-022C-4F0F-B0BC-14D4C2B2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DBE058C-B07C-4B9A-B68B-CD7E5CFA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E3F80CF-B2C5-49FE-885C-37811B15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D1B1183-651A-4C5F-8BA7-28C312CA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40D777F-295E-49F7-96D1-28694036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723DCC-1B37-489C-A499-6CAFA9A5DBC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C5DC957-FBE4-4508-A9EA-D62F585C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C630B90-9742-4261-B712-474B4EDC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DC6EC90-E246-450A-9A23-9668F313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753BBA0-0282-4531-BE4E-FD6CBAD6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3AE6B40-1F40-44D3-88B9-47C36A0E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A0A4232-7CB3-4C1A-A211-83330A09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9D1B94C-9610-4ABF-B9C7-3202CCE4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ED062C0-CDB3-4F42-A18B-45062293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7979C86-5FCE-49F9-B22C-A2CA8361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5C8AD75-B2D6-441F-8B6A-EC19F30F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B4CFEE-9D5C-4F38-9D6C-E8F43CCF594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0ABAC9D-4736-497E-80E8-B0C5D73F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4485226-9617-450E-BDD9-E7C1E12F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8F32E7F-6748-404B-ADDB-F858422F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BEB7010-B598-4C41-9B45-96E318F0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5203E2B-6843-4EBA-8803-2F3B169A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284CD4C-1B3A-49E0-AB75-D1B420C0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60368F3-DF6C-452F-8AB3-D09FC375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6140486-C72A-4C1F-9549-9FA99F27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4FE3474-FB1B-4772-90DB-D6904230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3C9A9A3-60EC-4DC7-A1D0-4DA62ED8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3EFC2E-049A-4FEB-93B6-5DF6BB35AC2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DBB89B9-9F89-425E-84BB-0D3D5D03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6CAB2AB-E356-4376-8F45-714EE550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20FF644-77D2-485C-A68F-B019FE68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06042F2-048B-42FB-952B-444F94F3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4EA7EEB-F7CA-4596-8791-510CEEAF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AD4509A-C749-4356-AE84-0C42C9B5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A2AD498-9D8B-410E-A585-39294373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0F4549D-81CC-4C43-ACF2-B04E33BD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889C1DA-7E28-4850-9697-78FEFE2C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3B7663-A6B3-4DCD-B7E7-4A1341E7D6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BD08E7-3DFC-48D2-9BB7-25E77F3E32D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873112-767E-41E8-ACD3-47C5892F297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5A2967-D594-4505-A021-8BF529F2998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69DAAE-9228-445C-A16D-9A6B47F312E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1EFB54-7349-4509-81BA-2760FAABDAB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E1348C-0351-4BD8-A181-86CC6F6D17A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B28B75-96AB-4FE9-BD28-FD928F230C5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9651BA-AC3D-4190-B972-8D34994F49D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EB1F02-CA31-485B-9BBF-D5201E72275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9F61A0-271B-4712-AF14-EBD6DA66941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ACA51F-7C2E-44BD-8F86-35D617F1B9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38E64-A62C-43D3-AC0B-8A0B5C53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CA9531-62E9-4CF9-ACCB-2BA73931681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9D1CC2-F66C-4C11-9533-B8E97C12FC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DBC551-B844-41E4-90C4-B409E6C775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24A30A-AF88-4A28-BF11-0001CDD01F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51A6DC-639C-4F04-8026-E90FA391A4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BFEEFE-46C0-41A6-AC1F-D873B55E33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BB4E64-9C04-4DA0-AE25-2360E062BC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333C2A-14D2-476D-893B-8A8BA91181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ED7E32-08BA-4609-B25F-24799DC1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CEC7AE-2274-448A-856B-FC7C74FC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919581-745F-463A-A5B9-7486D08F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BA2F0-DFB2-420A-BC76-B0D10F6E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4CD835-F0E1-4B81-B51B-C4D3AC2D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8EFDD9-5F80-444F-8580-11685356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8ED4DF-181A-4ADB-922E-A9B30AEE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9809B1-90FE-4248-8367-07F64770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6C8E92-FE49-45C9-9FCE-7D93A63E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713645-A66C-4E50-87AD-D03BE7D4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315F16-2D72-430D-8A5F-46F34929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202745-962A-42D4-B6E5-F9ACF72D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50AB2D-0856-4B03-BA57-7913D8AA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A72C33-B143-4F86-9EC3-DB4A3B69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FCCAA-F57D-425F-B523-0BECD7C4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52DF4C-8D6B-49DC-8F4A-BF76CCBA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3C35F9-DC21-4551-A353-FC61D9C3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F51D3C-DB6C-428D-8EFC-C4C70C95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6A7B3F-F046-440B-95D6-C777F087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A9FD48-F3A0-4F03-BC8F-A07436E3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B03B09-42C4-4B2D-A604-C3C512E7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DA28E6-8366-4D19-9FE6-49A6B506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D33187-8965-42FC-97EC-B5E79534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777DCA-EB53-4239-8A16-F2F7F846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5AF6D9-96E8-4B73-AAA3-CA21DFF3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0CB93-2A0B-4F61-8705-4CD47827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5B9D0B-1A80-4C42-B629-69403860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E41582-7A82-4EFE-B42D-D00F7BA3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48B1B7-A6AB-4CF5-9041-98D1CEA7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63132F-DFEC-4582-A4AD-AE1CE791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3B0B5D-86AA-4604-98A7-37BF307D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4C1434-0FE8-493D-BD9A-6A2AAF31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94E4BD-B19C-4608-AB81-AC7D7E52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8C3C5B-EB34-4672-B36A-C4B8B74B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2DEA56-DA7E-4D8F-9082-10D038AE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9617D6-CEFC-41AF-A24A-B8B8DC4A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07697-84DB-4AE3-9F45-768CF1B5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4D8092-2408-4585-BB36-072430AB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FBE494-5AB6-419D-939D-554CD929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E87D9F-59FC-476E-9F2B-59311526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403EF3-1EC4-44C1-B80A-2F983C4F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93F97F-7C3D-4DBD-ACFA-A7296985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78A833-8FF1-49D7-8AE7-FD4B734C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0C7770-FC5F-4E82-9E93-20D7C66D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B47A69-F6E8-4F25-B385-03760841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1280DD-06B0-4FE4-9CC8-CA228FAB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F01C3D-084A-4743-BE0A-5C79805D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13072-315B-46ED-965C-19262DF7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46AC18-F4EB-49EE-9BA1-EFFBE8CF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1FEF5A-69CB-49FA-B1C8-685454BB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E89F13-2C34-4E77-817C-8AF7C9B0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2C6BBB-CB08-409D-A894-E7E3DBFC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C2C546-39D4-421C-BD2F-5A1A701A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C0B321-860B-42BF-9125-F650003F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5C0D9C-C536-4E51-A499-28EDFDD4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8BA724-264E-416B-8DD4-88B20C36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4EBA07-6253-40D0-BF73-361C0EA5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0AD80C-9224-4FAA-BCFD-1F8AC3B1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B2D03-18A9-4341-8026-9C50EC80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C1C8D0-8A27-465A-90F3-A9760DE2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258E2D-7450-49A5-B0A9-1EDD636C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F36AD9-CF9C-44B5-912F-E909E541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2CB61E-AD7F-4D23-859A-5EB99787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2B5633-1454-482D-B699-E9FC5C51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C9C4EF-FF51-480A-B8AD-7BB8D196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10729E-C48B-4A0A-B3EF-0E37059F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5358D-6390-4287-B615-E67A74B9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CE84D-A71C-4FBE-8F80-0D994926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4E3FC-1DC8-49CB-8473-BA68391D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05B3-FB47-48CB-9F79-DD150EBA8FEA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7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8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1224-C6AA-4D02-A1C8-5659942A2B7A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ftr" idx="29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1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9E94-4A8B-4C86-B495-ACBD16E87C5A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2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34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1A29-3F07-4A4F-9A3D-09FC11AB664D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5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6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37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372A-7B65-432C-8DC2-F0F12317FFA8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8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25EE-6968-4774-8E83-7F20FE7551D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01ED-F76D-4045-AF2F-A4EDD426D1D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7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0BEE-DE3A-4662-BF72-69DC8103289E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054D-221C-4998-B560-47B55844910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9AB7-C543-47FB-8FA1-B033AEA118E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01C8-8E1A-4DCE-BB0D-DEB49383F1C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26EF-A368-4114-AB07-AC0F87BB8F8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083D-A15D-4B61-8352-D35807CA7A7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6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6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78F2-F785-45BE-8EFD-CB22967F13C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6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6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6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13FA-64FF-4964-9F1F-5A5DE290DE83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4ED5-4777-42F6-B5C3-35BFE898B4D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E699-C92A-41B9-BB31-8CFE94ADC93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DE30-AAC7-4556-9567-107936D111BF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eft_bar art"/>
          <p:cNvPicPr/>
          <p:nvPr/>
        </p:nvPicPr>
        <p:blipFill>
          <a:blip r:embed="rId3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8288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ias M. Aw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1480-B73D-4E7C-B2BF-F459A676BAED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4D2B-EC57-4BDC-B77C-599B3D6D0E73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2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C842-46E7-4C94-B78E-1AA4A75B97CC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CF6F-222B-4EBC-B5A2-0C63FE6AD6E9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8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6776-60C1-4EF0-B7FE-683EE09D42CC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983D-200E-4169-86A2-5ED537652BDE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4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AB3F-E8A8-4C04-83EB-06CBC95B7CD5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6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1F33-24E3-417B-971D-8AD749BA0C24}" type="slidenum">
              <a:rPr b="0" i="1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2"/>
          <p:cNvSpPr/>
          <p:nvPr/>
        </p:nvSpPr>
        <p:spPr>
          <a:xfrm>
            <a:off x="3124080" y="6245280"/>
            <a:ext cx="3353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380880" y="22860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Chapter Six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Ecommerce and online auction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Risk associated with ecommer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Security issues with port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Private portal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464653"/>
                </a:solidFill>
                <a:latin typeface="Gill Sans MT"/>
              </a:rPr>
              <a:t>Buy services from existing portal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clusion from existing marke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ss of margins due to product and price transparen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hannel conflicts as online marketplaces overlap with and edge out traditional channels and distribut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commerce readiness for target custom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commerce readiness of potential marke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gins versus Volum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ket share versus market contro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0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CB73-517C-418D-A62A-5AA983D15828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Risk associated with ecommerce</a:t>
            </a:r>
            <a:r>
              <a:rPr b="1" lang="en-IN" sz="2800" spc="-1" strike="noStrike">
                <a:solidFill>
                  <a:srgbClr val="464653"/>
                </a:solidFill>
                <a:latin typeface="Bookman Old Style"/>
              </a:rPr>
              <a:t>..contd.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isk of arbitra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iquid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define Value Boundar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peed of delive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duce purch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osition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A3C5-EBB1-4682-9B9C-14FEEAAE48C0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Summa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E-commerce and online auctions can be successful if following points are considered while designing business mode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Channel manage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Readiness of the product and mark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Risk manage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8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6681-40F3-47BB-94E3-9561048DDF52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arning objective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at is online au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ortance of online auction in the indust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le of ecommerce in online au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0A95-3A1D-4E36-8075-DCB86EABBF1B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Introdu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keting options for new age fir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Online auctions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ying and selling articles through social network sites,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siness-to-business exchang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enetration of internet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ay-to-day customer interactions through online marketplac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alance of power from the seller to the buyer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ransparency in pri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ransparency in volum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ch more marke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tch the way customers want to bu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br>
              <a:rPr sz="2300"/>
            </a:b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72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C371-C5C7-4798-9314-180D54F6416C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Introduction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eates knowledge repositor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Volum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ic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Knowledge about new and value added servic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076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F888-CCD3-4E6F-8CC4-659A345A9ECD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y online market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457200" y="10663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act of online marke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ift in consumer preferen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opping and buying simpl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st-effectiv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mparing different features of available products, pricing an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yers and sellers into one place and help exchange infor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chnology supports more flexible and efficient pric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lows to set the limits for products and to define price for buy and sell activit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nslate into fairer prices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duced transaction costs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ortened cycle times, an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roved information flow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0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E059-9024-455A-B8AC-A89DE95AAF68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Types of online marketing and ecommerce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strategic management too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modities secondary marke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unctional spe­cialti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ve different types of servic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ying Services: support during the awareness and demand generation phases of the selling proces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uctions: aggregating demand and matching buyers and seller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2B Exchanges: commerce with vertical market and product-specific expertis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dustry-sponsored Exchanges: approved vendors can work with the purchase department of the buyer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ivate Exchanges: "private" or "captive" online marketplac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92480" indent="-2455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4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9B86-CA21-457D-9C3F-35F0DD5BE61A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Ecommerce Servic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service consists of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spective buyer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tacting a seller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mand gene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les and fulfill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rvice and sup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r ecommerce service to be successfu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ce and features of products should be transpar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ppliers who can supp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vide a wide range of value-added servic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8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9981-0045-4922-9C89-F93326FE32E3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464653"/>
                </a:solidFill>
                <a:latin typeface="Bookman Old Style"/>
              </a:rPr>
              <a:t>Ecommerce services..contd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To create USP in ecommerce servic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vide comparative online information for ecommerce transac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vide Internet auctions facilit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ive Business to Business (B2B) servic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dustry specific ecommerce sites (in some case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ured transac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vate exchang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4E52-6210-423E-B8FC-F704C55ABB20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Ecommerce and customer satisfactio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ustomer satisfaction comes because of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hifts information power from seller to buy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ransparency provided in sharing inform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ncourage repeat purchase from returning custom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crease the number of competitors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ose price differences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ow buyers to pool their buying power against sell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6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9433-B9C0-455C-A614-A759F9678B5F}" type="slidenum">
              <a:rPr b="0" i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21:47Z</dcterms:created>
  <dc:creator>RGPlatt</dc:creator>
  <dc:description/>
  <dc:language>en-US</dc:language>
  <cp:lastModifiedBy>Sanjay</cp:lastModifiedBy>
  <dcterms:modified xsi:type="dcterms:W3CDTF">2013-04-03T11:09:25Z</dcterms:modified>
  <cp:revision>394</cp:revision>
  <dc:subject>Awad 3rd ed</dc:subject>
  <dc:title>The Dawn of a Maturing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