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A051-3E6A-475A-B5FC-D05527CBA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CB83-7BD4-4EBC-A915-84BA2F39A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C5B3-C138-4333-8FCE-97E9A07B3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38EE-FC11-44CE-8117-002C30833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B484-C439-4E5A-AD7B-191F1E5B3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154E-DCB9-492E-9B55-FFDCA1839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F213-1BD8-4C7B-A168-BB8ED5D8D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8CD7-FD9B-4D01-8123-4BE912C5D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0C54-9096-4BF3-AAA6-C191EB8C6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9376-6EA3-465C-9627-744FD61E0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A61F-F23A-47AD-B10C-1C5DC3D3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F777-BC4F-41B4-9D8F-9273EB7F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ACAF9-F68D-437E-A05B-826F92FF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BFDCA-1675-4C95-81F7-1D0FEE3F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8F906-3893-4E81-A509-065C6187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17732-71AC-4741-940B-F228B210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70BD8-139F-4759-9FDE-07C1F542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97C59-83ED-480E-8954-6160851B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08CC69-5F0F-4E77-BEEC-185BE0C9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2ABC9-9D29-4C26-82C6-88705DCC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64D84-3415-4B1B-BE71-9B034737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F2C9B8-571F-41C2-856C-7D642D6F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8B32-F9CD-462B-90B4-8655005A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E1333-5792-44AB-A679-7CC5DE1E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0CB5C-9F80-44A9-B311-9B6F3847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8CF74-CE19-4893-84DD-D69D8E91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BE938-B82F-48D6-8724-7978E7A4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2E4C3-0C09-4C40-9A56-C44E46F6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087B4-2B08-4C02-924E-86650C7B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94632-1B05-4822-8214-CF74E719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F4A37-8A8F-40AC-A53B-00F38363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8E996-9A59-4017-93B3-3B958B9B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9B354-FFE0-492D-A4D5-E4B8AE94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0FD98-CACD-400A-8067-ADBCD35B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31BB5-2E2F-4281-9E33-03B4A9A3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8A1470-F742-4D7C-B928-BA50FC62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CBEBCD-30D5-40D1-BB44-367A0D62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447BEB-F614-4720-B72D-C8C90AA3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B4BEAC-0FF6-4FC2-A520-7408A442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0A20B4-EFC5-4BE2-8DDF-AB1504A1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1EC82C-555A-4A91-9924-7D471A85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19AED2-D312-4A93-9282-6489D2EF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613AFC-2721-4F15-A34D-E32B9938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6FDA23-B81F-44DD-9B0A-0EF1117E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B35B-0A93-4A80-9E2D-5E6C925B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5478FC-C057-42A2-8774-1A171258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DC28C5-AF0F-4A0B-9956-7A510BDE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7F1832-DA19-4EAE-8914-7A9B05E1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CC347E-8782-4F7E-812E-7806CBDE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C639C-D610-4BCE-BC70-9FF6CBB8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48F29-468F-4710-851E-82C36646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A968F-3402-472F-9F27-47AD7075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2FB23-23BC-4D22-B97B-4F421B3D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2FBD6-47B4-4001-B322-33A34C5B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29E9A-6F38-4F67-90EF-C4E0E42A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B212-16E1-4D52-9EDA-4DE29452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60B5C6-CFA2-45C8-B7F4-100C2227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4DDB0-C9FA-4592-B9F5-51871564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1AA44-37F6-41E5-9FDF-7F09B1FF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8D90B-AE12-4134-BA84-0D20914E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92350-7875-46C6-9464-49B7828E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649FD7-B7C7-4EDB-A932-F7D18B01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8C910F-6242-4326-9DB2-2B518BF6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028E87-92AB-4287-AF3F-40FD530C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1DA329-7013-4C80-9D65-BF18FB65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2228CA-B820-41B7-9319-E1581DDF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93BB-78E8-48F4-A8FC-E77DDD8F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DF943E-BDD5-409E-AEFF-7B16DC54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B68715-1DAC-4EC8-8F26-B0E2A1B2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F76FFA-9015-454D-8215-DBE1B07C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3E9EC5-4322-4999-A6E4-E1DE7A1F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550522-5A24-40C1-B4A2-E364AD22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CA2D20-76E4-4CB5-A9D2-38C37641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58C858-F2C6-4AA2-A773-9F5B3481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5C9A61-A061-43EA-B87E-960A0A27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6737DA-A3FF-4C44-B706-0B84A446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EDD861-A9D0-459F-BA61-8F4D7C52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0222-6134-4FED-B0B0-A5FFDEBF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34F1A8-309C-4590-A2FA-2043C824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BE3717-0942-4544-A263-0BAE10F4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40A151-7B6E-4DEB-A8FB-2E97A6A0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B9A857-DD39-44BE-9E8A-2A98DAF2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A19518-BC03-4215-992E-E0EF3125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471FE4-62BF-45CB-948B-10F5337E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155A35-F8D2-4D6A-8A8E-6AA7D804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A6BBFD-228C-479E-A4E7-2F67A282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81540F-7E25-4A03-966E-8E91D74D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EC9EEF-A677-4F5F-806D-D5F6A47E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ED61-4B41-4484-B612-9AFC00DA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AD1429-79EB-4267-86D3-5401BBBB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1FA458-4B0D-4070-A616-F1F9FFB0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3162C2-87C6-4781-8E72-641B1CB1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FDBBC5-B153-479B-83AE-F6626253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9C005C-7266-4AB7-98FC-61D325B3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7B5192-9137-4064-8809-87A2DE1F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D4C41F-0A27-48CB-8405-9AC56C5B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2D36ED-7312-4E52-8B5A-7DE7FB41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EB30A7-5C23-4695-8650-8B81DF89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ABA98C-A68D-46B8-AB20-5BA2C5DF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01FA-DD83-4CEA-8ADA-04D0A895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0D749A-F059-4595-95F5-21684F9F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7E25AF-8632-48BF-9C7C-6EC8935D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983AF1-0B12-48E8-87DE-EC37FA18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18CD72-83C5-4A9D-86B3-43EB0A91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30EF761-512F-4355-8148-DE2BB622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04A5BF-39E0-43F4-AD1C-EC056FC2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2C38401-994E-4D0F-BD11-9BBE23D9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D0B55B-CA99-4B1C-B45B-893D02DA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687A564-CFFA-4F5B-B681-C9496EB0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E29438-5F51-416C-B2B8-14FC8084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0D61-D79F-4DF1-8AA6-5D43B664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495BAA-7582-4BEB-B866-AC2EE100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D11F8CC-E059-405C-BE87-63BB81CB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1575CF-2B1E-4C7A-A316-78BF35FC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31A2DA-21CE-4438-B75C-2EB8C981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3E93F01-15F5-41C4-96EC-ED7DB5F2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27C202-1B0B-427D-B9EE-9807B515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CABD32-8D7E-4AF6-AE97-189CE065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E8BFF2-5F2B-42E4-B7BC-BCE5DE69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72DD51-46D2-4202-A055-214CB188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AA01F65-5795-4722-AC6C-757AB699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2686-5B7C-4AE1-98D5-F1DAE521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20A9-6C41-46D4-A2ED-42D2162D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04337E-A8BA-409D-86D6-D4EC86A4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58E3D1-1C48-4F91-B92B-52DA340C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587E52-56EE-447F-B75B-0561DFED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57036BD-DCEE-4F69-815C-EEEC088E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38C9FE-C106-4149-8DF5-99E24842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FE3736A-974E-4C31-9520-A8FB68C7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6326D3-D93D-4242-9FC8-1A9C270C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E35CBF7-337B-4B32-ABE0-9A39F90D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2C647CD-7614-40AE-A724-BF1A3A35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8D132F8-0F2F-427C-80AE-A7ABCCEF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19C0-84FE-4BCE-BC7E-C99EA26D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E76A5F-A6D2-4A19-80B9-37F945E9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023C491-373D-4DB3-AE1F-35E299F5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22C708-A2D0-4D2B-AF3F-59610E29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51302B6-21F5-4771-B021-C6032B4B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1667F36-3861-4DE7-B331-DBB82391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BFA3ADD-2C88-4A74-8D70-96B3C135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F8CB4D9-DFAE-45A9-95C4-28703CB0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0C3BC66-66C2-4CA0-942B-2292B76B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732937-9A6C-4423-B64F-DC5B1AF2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28AB1B-63FE-4C73-880A-0AEB1956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F9AD-3E68-4CDF-B364-86CBB181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54FCA39-96BF-49A8-B69D-F6F4F38C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6015D95-CCDB-4661-8B5B-A9E61F12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372D195-2A6B-49F4-AB72-0D0C2168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245F084-8385-4E93-9982-7C40FC0A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691A673-C3FA-46CE-B9E7-6CD913D5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EDE2A63-120C-4A69-B90A-37B44648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72B62A0-82D7-4E46-B51E-CC8E1169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FB32881-6933-42DF-9BD7-F9E2BF4E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4AA20BC-DEDE-401B-972F-4C05B90A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59036F5-9DD5-4922-A743-6C6DC091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B8DD-E133-4A90-910E-5B83BB13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29B95C-B1D9-4AEF-AA09-05AEA3DB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AAD2893-98B0-4A80-9B21-772CEAA4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BCB1A34-F4D6-4DD6-B3AA-1C6BA809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DAA7B86-E91C-470A-940D-0C379B43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B0E1C22-96BD-408E-8D85-1BCE5FE1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16CBD36-BE24-4F91-9B77-E53ACFC3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0235C3E-5FB5-4042-9235-5994238D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DA99E69-514B-441B-8414-7CE93ED0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32D9B9A-20E3-46FE-B673-395EA511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3B48DD2-83CD-446A-96B1-87AA9B44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E33F-433F-4CB6-8D4E-1061F39C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F93D739-FCF4-49C8-AA3B-E1C24576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B5C5350-8E92-4FDE-B181-A2DCC15F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8661038-2A00-432D-8782-59FD23E8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C42391F-1477-4B01-96B4-AE6441B4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A30E7C9-F8B7-4083-98E0-C788AFC7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91FF50F-F0D5-42E1-A835-0ABC8C15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7C003D0-C03E-414D-B967-CDE06BD5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9DA7A21-D83B-4816-B8E0-04323C47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424A945-F514-4896-AEC4-7224F553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2AFD565-E20F-4A7B-90E1-364C66A8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5852B-80C2-41F6-91C5-8C6AC50CD69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F296E00-91D8-4444-86CB-034107A3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794FA62-2184-468A-B194-852B5B1C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A86AE6C-1DD1-4521-BE0F-D86E68E4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0871A61-72D3-41D2-B47D-2C1D8889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06F45D7-9D51-4293-9C0A-E652461E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D47CA14-E175-4AE2-9860-1D069D71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E9B6AB8-AF71-4F6E-85A1-D08A1575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1C0DD18-9441-400F-B81B-E0A62574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5002F9F-29DB-4BAD-8780-7645DDB7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BB96CC7-B1B7-49C5-9509-91CD91C4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46FF05-AA65-495E-9356-F0FB97F31D0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58AF211-A7F6-4DAB-8F56-06F57706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18CBFDA-0FDC-4581-B888-3536CD1A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F56D7BB-56E9-4950-B570-5B4782EF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CDB1ABD-49DA-4083-94EA-ACF2A770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760D464-4168-47D1-822A-40B35F59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A05E7B5-A610-43C8-8D8C-87C14E8D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0D83CE8-BFE0-4C5F-8904-C590E05B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6611074-E133-496C-BDD8-DF87C49F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8B72304-24D2-40B2-88A2-B4459D9C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D72AAEF-9885-4387-B2E5-6F6216D9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1F3F98-DE7F-42D3-AED6-FE1AF4FD2DF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372BE03-DB32-493B-AA4C-12338D1D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635A8B7-3966-4440-BD3E-9E9D0C39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F5B6200-4887-40EB-A777-0A75419D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290513C-8A11-4422-BC2E-5C6AE51E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5600F1A-E9CC-4DB4-81F2-85F891FE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80F2D09-AA7C-46DF-B327-3C3F791C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B3A7458-E4E5-4091-8E51-4F19A26E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7000A69-63AE-4941-B9A3-B0CADD87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444F403-AAF3-4AF5-9D98-B050080B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32A3FC0-1086-4DD6-96D1-A2ECF00D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5E8A13-F33C-4D6A-B4A6-CAFD8F4D326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56945A6-C2F8-4504-8665-65AA7677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F2E877C-FEEE-48F5-921C-54C61019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D7F8DB4-A7AD-4C08-A47B-CC5875C3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20BE0C1-E980-4400-827C-30345203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7AD792E-6EE8-41A0-9EEC-8019F443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0472EB0-5441-459F-8472-FB6B9BAA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48D5A70-34B9-4A58-81F9-3C0F89CE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32A3C9B-67E7-4B4D-A986-B6CB9AA2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220F57B-300F-4D23-ADDC-77872212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516114-85E0-417F-A796-39F4F480F6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A8CD4F-BDD3-496E-9D72-7F258D4D5CE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2A1C9C-75A3-4663-BAE1-8244208ED27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ECCF77-C7BE-4C27-BD2A-3554AEA5C82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94C4EA-0441-4D87-83D7-46E54FFB27B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A5D62A-05CA-412F-9EB0-07E4E5E08B6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899DDB-8F50-4338-80F1-B7F71041B17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12F847-8BAA-4D66-863C-0EE9744FE19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A36DF7-1D96-4448-A69B-2B242BB8107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062A1E-88AE-461C-8E23-003877A6E11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1372A8-604B-4989-BF48-2AE1346A86A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9F6981-B84F-4E05-BEFB-3F2E777530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5132-EAF4-46DB-A394-B45C6874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070552-0F25-4B64-BFAF-17CC09694C2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231765-655F-4983-B2C7-EFB1F4B954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F41D61-594F-4239-B663-FCF220A16D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9AB49A-0A52-4E0B-BEA9-0F96BDA03F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0F28AA-42D9-4AD2-8090-0B19871532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D8D685-A61B-43FC-B2C2-8B49AE24B1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5E63B9-28CF-4C55-8293-FAAE1A85E6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D56CF9-3800-4610-8BB8-827EC3C74E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B5E29F-4229-43A6-8D38-1E40AC7F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2DEAFD-E3D8-4573-80FB-1270625B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09D2A0-ADB9-4717-922B-FCF747FB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6D7F4-81D4-4157-A122-47BAE1CD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EB7EEF-E033-4412-8E8C-B8608763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D24F7C-7C89-4651-A113-FEFB9122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A037E4-5118-418E-884A-D5F39036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36614-25EB-403B-B316-5E43B214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D3095-4576-49F1-AEAF-1F25C7A6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3A9B68-7D0F-4326-90ED-00A471B9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AF12C0-3E5F-4CE6-ACF9-43EF5F98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6C7F5-1831-4133-A665-B0F633A2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3FBBFB-B133-4737-AB28-83E5F4F6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1BDB65-5B78-44B1-A171-059CA717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A1A76-DB4B-466D-9A6B-766BF8DB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2AF105-4AE2-4AFC-9365-CBE2A18F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992A0F-C0F8-4A76-BBEA-F14FAF76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411B10-9B74-432B-A5F6-C7680F96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7E7404-5C13-4BFB-8C06-2A3C3DF5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493D6A-3B7F-493D-8DC9-1171BD78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73BE7D-19E6-4DE4-9C91-A611FE5A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6AF7F8-9B17-4C7A-8AC6-70F90B90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7594CC-CAB0-4431-BAF0-A4A2F0FA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3F54CD-DAE6-47A0-BF6E-F17E1549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8D7DDC-BCB8-4F22-91E4-B38E44E7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8AC9-850F-41B2-98CB-277D8696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F77CD3-E2CB-4CE2-AD4A-AE23C655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8B3DA3-F1FD-430F-A568-93E28ABF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31F126-E679-4FB9-A0F8-428E3D13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D6D762-1793-4886-BC51-E83A1171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ECD433-9B54-472D-8B70-FD31475C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E74E68-722B-44A8-A64E-13AA8A08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179EB4-C6C4-42CF-A321-C7ED9907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E708AA-5C49-4A69-8C4E-D8090771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396456-2AC7-4A64-836E-C7B1EC29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B61DBB-0E69-4B5E-B4A5-F45789D5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40EB-6664-4241-9000-E04A756F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DD37F3-A958-40A4-8740-83B302D0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5966F6-612A-4B77-95E9-770F0700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079BAB-7626-4D5E-8CB8-6024EE11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26C56D-7768-4889-A262-BB2B548D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307418-D646-40EF-B8D1-0A4C21B1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570D2A-7CF4-49EC-9DC5-7BD11AF7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291026-EFD2-4770-B98D-A0994352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99AEB8-DA56-4742-AD62-27CB7DB5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DCE959-FA2F-4DF4-994E-1F0EA28D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9B74F4-30D8-4827-AB17-E8B05F93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5E93E-EA24-450B-A889-5193E40A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D8B650-2716-4C82-8245-22A220DA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BA3D8A-BAE9-48B4-9AD9-5D1E6A4F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8B5367-8EB0-4831-B0B0-0B0162FC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9F4544-4CC3-48CE-ADA8-2A02C61F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49A6F7-2521-426D-82F5-6AF0D415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57CD3F-DCCF-43F1-9B66-E040C634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31B54C-3FBB-4500-8B7B-1462D077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F27184-299A-45EE-9E75-8193EE4F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46868A-0639-4621-9F7F-DED3772E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70B7AD-05B6-4F84-A083-86CF9098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47FD-3398-48EA-83CC-C875C333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7D5868-06ED-4601-9C25-F06E6BF3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DBA931-86EC-4849-ABCE-99329CBF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47B184-D68A-4593-96DD-9C974D2F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392A74-A906-4545-BC42-A0D762AC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0B884D-E1EA-4CFB-9505-C7BEAEAA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867B60-28C8-44A7-A569-6C7E5EF7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6D6DEA-8FFD-421A-96BD-5A294E05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504F2-32A3-4D62-8D84-348F66D6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17C21-6EA4-4C2E-89FA-1C4FF69E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5BB0A-1A2B-46CC-8F4A-A31B9AB5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66424BA3-7A94-431C-A51F-1573C087CFB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C54279B3-6578-44CA-9B13-FA85A641115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C9C3C67B-DA13-43A7-B571-C4A6DACA4000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D48D052B-8659-42FA-85DC-96BFA000A76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77096179-DCC7-4FD5-A85C-2F2EDE8E6AF0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DE2DE83E-A67D-42F9-A605-F28E539B89F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4863B568-5BAA-491F-8AF2-64A49ED6219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1-</a:t>
            </a:r>
            <a:fld id="{EF5D2609-10D8-4F4B-A8A2-D1735B91A287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E52FF4C1-1CB8-4893-887A-3C6C9DCCDF1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0173932D-B43B-4C2A-8597-B40D07BD805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4BAD9D6A-103E-4213-B8CA-2940DCB1E1B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2A249129-5551-41A8-9B1E-A160180EDA4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D9C462C4-AFD0-466C-BDE4-DB94F8E9846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4090E45E-B8C2-41F9-8E8F-77735D08C87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1-</a:t>
            </a:r>
            <a:fld id="{7BDB1AE7-8122-45FA-B9BC-C9779E52A93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F324826E-E508-45B8-ACAC-74DC6F4C41E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-</a:t>
            </a:r>
            <a:fld id="{F8960BBB-2136-4AC7-96B0-5EC5EE37106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1-</a:t>
            </a:r>
            <a:fld id="{CCEC7F5A-946D-4E32-A0F2-8D9F71C160EC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1-</a:t>
            </a:r>
            <a:fld id="{0818B8A4-7FB3-4E86-822C-9FD36A8AD3E8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402AC733-F7AB-45D0-ABF9-FFE5A15602C7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CC9C1B10-32E3-49CA-AC63-DCC78B296527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84987C77-8398-4FDE-BBBB-9373594F889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AB33DF6A-2B1C-40FF-91C5-4D57E65705A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AAFE2745-2CB1-412B-AB79-2755F4DDFD5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1-</a:t>
            </a:r>
            <a:fld id="{E844A3DD-3142-4763-B9A9-4CB112CAD6C7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mazon.com/" TargetMode="External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1-</a:t>
            </a:r>
            <a:fld id="{7D877D15-4C81-4097-A703-29B3A0081721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1143000" y="2514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Chapter One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Understanding e-commerce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Versus E-busines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9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1153E656-D1E0-42F1-962E-ECFAFE8B757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Selling goods and services on the retail level with anyone, anywhere, via the Interne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Greater efficiency and effective exchange of goods and servic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Exchange based upon </a:t>
            </a:r>
            <a:r>
              <a:rPr b="0" i="1" lang="en-US" sz="2000" spc="-1" strike="noStrike">
                <a:solidFill>
                  <a:srgbClr val="464653"/>
                </a:solidFill>
                <a:latin typeface="Gill Sans MT"/>
              </a:rPr>
              <a:t>transaction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 block of information exchange between the merchant and its customers via the corporate Web si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www.amazon.c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-busin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onnecting critical business systems and constituencies directly via the Internet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and Web 2.0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3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F1B0CCD1-259D-4A60-B5EC-F9BF854F22F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990720" y="11426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Gill Sans MT"/>
              </a:rPr>
              <a:t>web 2.0 and collaborat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Gill Sans MT"/>
              </a:rPr>
              <a:t>collaboration becomes a mutual touch point for all the stakeholder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Gill Sans MT"/>
              </a:rPr>
              <a:t>aggregating information about people, products and servic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Gill Sans MT"/>
              </a:rPr>
              <a:t>reduces time spent searching resources for information, eliminates redundant dat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Gill Sans MT"/>
              </a:rPr>
              <a:t>increased relevance, delivering key information to places where it can be used effective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gital Convergence - digital devices communicating with one anoth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ytime, anywhere, anyone - e-commerce is available to anyone (24/7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mand for customized products and services - mass customization puts pressure on firms to handle customized requests on a mass-market sca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usiness-to-Government (B2G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F6F430C2-61EE-4CDB-B8DD-41D15FC986A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government market is strikingly similar to B2B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uge potential for savings in $1.8 trillion federal and $1 trillion state and local expenditu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nging the status quo in government is not so eas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hanges to employee tasks and job restructuring often create resistance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Tax savings potential is not easily recognize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Committing to technology means constant need for upgrades and additional cost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Business Mode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1" name="Footer Placeholder 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3444AC06-0190-49E2-888F-EFA0200E7FA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1218960" y="1599840"/>
            <a:ext cx="436068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orefront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-and-Mortar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ilt to Order Merchant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ice Provider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scription-based Access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epaid Access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5506560" y="1599840"/>
            <a:ext cx="356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roker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vertiser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rtal Site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ee Access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irtual Mall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irtual Community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mediary Mod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CEE1A006-A23E-4790-8420-E2BBFC86CD47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195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lectronic commerce (EC) is the ability to deliver products, services, information, or payments via networks such as the Internet and the World Wide Web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195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lectronic business connects critical business systems directly to key constitu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195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rise of specialized Web sites and Web logs (blogs) generated opportunities to read and write on a vast array of topi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195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ral drivers promote EC: digital converge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195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vantages of E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Evolution of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Role of technology in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Internet and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7D217646-FD19-407C-BDF2-54B67474D2E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story of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CD9955D0-6C13-4D60-A8CA-8EEB309358A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History of ecommerce dates back to the year (1991) when the internet was made available for commercial purpos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web sites were allowed to use internet for business transaction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o business electronically from virtually anywhere in the world that has a computer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 2004 alone, e-commerce generated well over $100 billion in retail business and over $1.5 trillion business-to-business traffic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At first, the term ecommerce meant the process of execution of commercial transactions electronicall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leading technologies such as Electronic Data Interchange (EDI) and Electronic Funds Transfer (EFT) were use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T’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5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5723B959-3D63-4114-BDD3-91BADBE4958F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ctors that impacted e-comme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urit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wrong usage of credit informa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vac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security protocol such as HTTP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Dot Com er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9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D0CF9439-1EBB-492D-ABC9-D13B424F56B5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"brick and mortar" retailers recognized the advantages of electronic 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first generation e-commerce porta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In spite of ‘dotcom’ burst, the ecommerce sales continued to grow in the next few yea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customers prefer e-commerce over tele ord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day’s Internet promotes individualis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se: </a:t>
            </a:r>
            <a:r>
              <a:rPr b="1" lang="en-IN" sz="2000" spc="-1" strike="noStrike">
                <a:solidFill>
                  <a:srgbClr val="000000"/>
                </a:solidFill>
                <a:latin typeface="Gill Sans MT"/>
              </a:rPr>
              <a:t>Amazon.com: synonymous with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Gill Sans MT"/>
              </a:rPr>
              <a:t>Case: Dell: An evolutionary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3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53D575A8-FE56-4DA3-9F92-4B74F036A496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E-commerce is a short version of the term Electronic 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transactions related to online buying and selling of products or servi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done using electronic systems such as the Internet and other computer networ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penetration and spread of the internet has fuelled e-comme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Examples os e-commerce are electronic funds transfer, supply chain management, Internet marketing, online transaction processing, electronic data interchange (EDI), inventory management systems, and automated data collectio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definition of e-commerce in modern the modern times implies that it typically uses the World Wide Web at least at any point in the transaction's lifecyc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Online retailers are sometimes known as e-tail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online retail is sometimes known as e-tai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ypes of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C090F267-01E6-4735-81A7-EF11E7C2025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2B: 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E-commerce that is conducted between businesses is referred to as Business-to-busines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(1) open to the entire public or (2) limited to a group of businesses who have been part of the specific group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business-to-consumer </a:t>
            </a:r>
            <a:r>
              <a:rPr b="1" lang="en-IN" sz="2600" spc="-1" strike="noStrike">
                <a:solidFill>
                  <a:srgbClr val="000000"/>
                </a:solidFill>
                <a:latin typeface="Gill Sans MT"/>
              </a:rPr>
              <a:t>(B2C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business-to-government </a:t>
            </a:r>
            <a:r>
              <a:rPr b="1" lang="en-IN" sz="2600" spc="-1" strike="noStrike">
                <a:solidFill>
                  <a:srgbClr val="000000"/>
                </a:solidFill>
                <a:latin typeface="Gill Sans MT"/>
              </a:rPr>
              <a:t>(B2G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All the forms of e-commerce include following steps. i) account acquisition, ii) product discovery through search and browse, iii) price negotiation, iv) payment, and v) product delivery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In some cases, dispute resolution and customer services may also exis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nging times in e-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1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C36760EF-53FE-4E9B-9E05-FD9C2A9D60A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Electronic Data Interchange (EDI) and Electronic Funds Transfer (EFT)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Automated Teller Machines (ATMs)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growth and acceptance of credit cards, and telephone banking became part of e-commerce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Broadband connections to homes is fulfilling the ultimate mission of e-commerce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E-mail is now the very connectivity of e-commerce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Bar code scanning is on the way out, replaced by sophisticated biometric technology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Legal downloading of music, video, and other digital products via the Web is increasing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Big businesses, as well as small- and medium-sized firms, can afford to develop a Web presence quickly, reliably, and at an affordable cost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E-commerce has gone international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commerce compone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5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1-</a:t>
            </a:r>
            <a:fld id="{71CC9547-0167-4032-AD69-41B5DCAA9A0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mportant component 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of e-commerce based firm is the websi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website should have technology that will make it easier for its customers to navigat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site should offer every single feature necessar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fully-functional and sustainable ecommerce web sit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stable server for hosting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provide customer specific servi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technology partners who constantly upgrade the features as well as technolog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help business partners such as logistics partners and suppliers to share and exchange business data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Alternatively SaaS can be used for running these services (reduce cos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2-27T18:36:19Z</dcterms:modified>
  <cp:revision>261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