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8C5B-0D15-4624-B0B6-756AF183C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E917-1AD1-45AB-B008-759D142F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18E5-B8EE-45DA-97CB-59B3F99A4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D9E1-5D01-4833-B585-A4A2FF15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3A1E-EE54-479E-BA72-43D4B5F8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2C637-860A-48CF-B6E1-C1A52753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9368E-A050-46A5-998F-EF1F8532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6677A-E876-4C72-BE2E-5DA852CB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4B5F0-66AE-4B5C-8FC3-19400714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BDF2D-8608-4D64-819E-12FAD37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683D3-CBCA-4EA7-A05E-B69D315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3A927-4527-4A0D-8ED2-C8717C13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6F424-A4B3-4276-BD8F-779E15D8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87900-CA9F-4E11-A2FE-E4974903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2C60F-C385-4903-BA02-10F984FA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6E19-68ED-4A1D-9827-1C5DC3E6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4D7F4-A185-48FF-91BB-8F3B035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D0EFE-B7F6-428F-9222-7CA0BF9C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BAE2A-94CF-4AB2-8DFD-5755740D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0E9F6-BFA7-402D-BBC6-A1BBC466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689E4-9B3B-4283-9DA3-2D8824AC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A159F-1018-4D61-BE96-ADDBF4A1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2439B-5B4C-443D-8DE6-56201B5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22D11-6729-4A70-B7B4-A761B1A3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C24E4-FC48-4C1F-8988-12691FB3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F42B2-4F73-4BD5-B7E9-D2A0DB06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A0C5-831B-40FF-A8CE-E9739D5D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0E821-76A4-4DAF-A717-F66D3BCE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73E568-5EAE-4F0F-A962-848E01C6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B7486F-7B59-4493-A020-4BBA610E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E7E614-ACB0-4E08-AC63-EB9F73D2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0C6E9C-9C93-40E6-AB2D-C7516717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017B7D-F929-4995-B8E4-91E4A55F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92A724-924F-464F-9943-348F3E9D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0E77AA-5C1A-45F7-B493-5278267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AA991D-D066-4656-B345-F565049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44620-F2D9-45EC-BDD0-A02BA02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9D36-74A4-41F1-B311-801DA090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6C7F65-628B-4415-8F4E-D63C236B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3F695F-5D23-4E9D-A45A-DD4E0AD2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DD0FB5-E639-4565-AB75-3C4D6610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BC05D-DC6E-45E0-8620-8EC07678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62D03-36D1-4E10-B5B8-760F95CA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182F8-7B0F-4FB4-B7DD-C577D828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62FC0-4593-4403-B537-BE3AC32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C20F0-F5C2-4B22-BB85-9EEA7E1A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F5200-DA5B-4BC2-807E-1B20E87F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FCCA2-C100-4C6A-B2BC-CEE04828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1439-2BDB-4D57-84DF-BD6588F3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F6F9C-0D40-442E-B539-42EAF8C9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A7FC6-CB7C-4B28-9B9C-8C655EEC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2AE7B-5E11-48DE-83E3-2D397441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D3996-6330-4922-B1DF-25BD088F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74C47-DE0E-4F15-9EF3-91288616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6A0F1F-B660-4DD8-838B-D9D2D1C1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6B8832-A3F4-4CA7-B0BB-97FF6F6B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4B328A-BD87-4FEC-BD50-8B5370B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B574C1-BC86-4671-A84A-3AB89F4B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9D9362-E752-4111-9F96-EC882077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91CA-9A0F-47B8-94DE-03984C03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C8C1DC-2AF9-446F-9ACF-5FE69279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A8AC5A-AC70-4BAB-AAA6-ABE6C9BD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CF0AAC-7B4A-40CB-B290-00A3964D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EA5E95-9F06-434E-977A-B825AB01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C36EBF-BA1F-4AEA-966A-494454CA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E8CA8A-1ADE-48EA-918C-C0990C56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9A4186-B187-45CC-B823-88C8F176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644777-95BB-48F0-A2D2-5BD69CD1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3E841A-E39D-4CD4-9A42-A85E4D0B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6619C4-0CAA-46D6-BA65-594A34E2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425A-3B6C-4DE1-A789-2A72A999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2C3EC0-5420-4069-80DD-269898DF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EEA7A0-363B-4588-B250-ACBB1CDD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8AFD05-AFD7-4D78-B7E6-0C58FD97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E80999-ED6E-4074-B92A-FE03D40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937A5A-A992-4121-8A57-A3F65ECE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C50D83-54B7-440F-A159-F134CB5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FE3422-6968-47C7-ACC0-77CDCE74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F3FBB3-9F53-4532-9726-6882188A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42FD9D-379C-4CBA-B5A6-853D7556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A70301-F8F6-4EDC-B56E-92B45543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4DC2-F8F3-4244-9269-60F8423D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CBA91D-1EBA-4225-BBAE-A99962CC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05D89F-7224-4AB2-BC43-7F4C45E5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754E8B-3CD2-407E-BC56-51E57FBE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62642F-1B2C-47A4-8AF8-6967F3D9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D7E0F4-0283-4D71-A1A0-C0CC8928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3DF581-C689-4A4C-93F7-4661B06F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D69B44-FAAD-4B00-8CCE-2C250B5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F8DE27-8248-451C-82BF-34ED7C33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B3336F-FE07-4258-AF61-CC70CA3C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E0352C-2204-46FD-809C-CBF1DB8A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3294-25E2-4B7E-B813-0714E331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070128-9447-4540-889B-5DD6621D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FBCEC6-76D3-43CC-8470-EEDA42EF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54450B-9AFE-46B7-B052-CCA121DD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2E4CC2-8036-45FE-867B-F221227D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0FE4C7-AE1E-44ED-932F-3A597F5F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DA65D9-D548-47C1-8E5D-EA52C3D3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1145B2-9B7C-44B3-A0D9-31FA2F5A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7A06EA-EDA5-4871-8EF7-1E1E873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4C2CA3-214A-46BE-BBE0-DA54746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C4FF19-10CC-4C70-91B9-0A4DF46A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8670-6B24-41CB-BD95-9793E94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1E8CE2-FF74-4FCC-9357-161D6AC7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119F42-702B-4AD3-AC77-6E8B0136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596881-B460-4D2E-997E-EF367453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6FA419-757F-4516-B89A-0A1CE8ED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C6686E-18CE-4C65-AD92-2BDCF393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E5F0B7-2368-4F6D-84F9-7301DBCF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B7C010-52FE-4C9A-9BAD-30475FEB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134A65-3224-47F8-A284-156F7EB2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17F2B5-1688-4CB4-8871-19673BC8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284130-95B5-46DD-8B44-30EC9D3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525F-87E8-4E23-AD38-ADA9D6C5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A23B-6FC9-46E6-B066-7E34AF2A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B4C819-C8DB-4408-AA68-9DA0A730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E5F3A3-3E9B-4B43-9600-84911E11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6613C8-A1DE-4F5E-B708-53AC444C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0A70CB-5FB5-4455-8E2D-EF953112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DE58B1-3CEB-49E9-BE26-A98AD8DF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C34D73-8467-498B-A615-17A8FD03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A41D39B-106F-43A6-A382-D911F50B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64B9A2-9435-4CE4-B819-D21624CA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AE8BC4-245A-4D6F-8484-D0ED73D9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F8DBF4-AC47-417A-A311-E015E0A2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D472-96F9-4A15-9677-33F875A0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6D7454-FC46-4916-BE68-D8C724A6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B118E4-A7E3-4A5F-ADE6-CD3F26E7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97DEA7-213A-4CE1-945F-890E73C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7928F2-E043-4DA5-82B6-3709703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11FC783-37BC-49F0-AE80-26C320F6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C6A548-C6E7-48C8-B1EB-A28F9911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517091-CF27-4795-AFC0-11951264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27C9B4-491A-447D-BCFA-DBF69F8E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575154-F0AF-4EBA-93CC-60C602D5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B08C69-2586-4780-BEFD-CB976F0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22CB-A4AC-4867-98B7-A39BD050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866B71-4263-40C2-BB85-5471A983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6E6873-0D08-462E-BC4E-72EB3CBD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C7EA43-027D-4880-952E-0FC0F95C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7FFDA2-48DA-4C6B-AB3A-5F16064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41E25D-3EBD-4D77-86E0-A29C1C40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358BC8-2B36-4841-BBE4-C3624AF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5C0407-D22C-4BAF-9E42-F29F7598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AD349D-95D8-417A-A277-8BB59059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050772B-9A82-49E4-9923-5E08AF53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69F995-4DB5-4900-BDC7-E420782E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F73E-C209-4DC7-B861-DE249F6A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352A8E-23CA-4B36-861F-FEFB4937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811551-05BC-4BBD-9D45-36F8D177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0B4E22-09BD-4435-98AF-B92081F6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1E90D3-480C-4FBE-B67F-2502DF7F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328378-5DAD-4FC8-9861-AC0AC484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22BD254-7E52-4BAB-82DD-C420C534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E0D2DB-AC21-4289-A36F-8E85456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854520-7F68-43E4-B8CC-A25F014A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014C6A-01F2-44FA-A462-676C5700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9BAF17-7225-4AD0-8688-C485DB11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FFAE-3444-404D-AC07-42E822F7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520317B-E19A-4C9D-A6C8-535AB490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4072B8D-23CF-4E3B-9053-F853DCC4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4D488A-A827-49E6-B779-B4827B2D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4A27C5-BB83-4CE3-ABAB-07D83E38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A9D7FDA-6AF9-4024-8C9D-9AB1B450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C3C691-BB14-4D50-AB93-888D65E0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13F1DE-4515-442C-AC0A-FFB5B54E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F51043-55BC-47A1-A561-2BFE492C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511C33-B943-4677-B3D2-CDC5FCA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F7F6FA-962E-442B-8D25-CFF23C04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24DA5-DAE2-47F0-A326-353532DCB5F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CE087F-721F-44DA-A0C1-0F1F289B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03BB69-0285-4BE9-9051-8DCB8368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22C2F8-02C2-47C0-ABD6-CB17D1DD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4D882B-2D19-43C1-94E3-D59E9621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3727919-3B7A-4237-AC1F-15655BA2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0850A4-6337-4D3D-9204-A49D6EF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EEE712B-6B65-45C9-A32E-FD2703FA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E3C964F-79E3-4F8B-96EC-61C7DAF6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E6F705-8E7A-4908-8EE3-B50F37AA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278FBDB-69A5-434F-9FD4-8AA79C08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D1179-DAFD-4112-AB25-6979264C93A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AA66D85-81B9-4796-8104-CC3B2A8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0F81D5-A062-4FF5-A458-DE9C0387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DB0FF9-0757-45C6-9B12-7645CE08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2410AC-BF48-402B-B701-DA789BC5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5A0ADC-E155-465D-A466-52E94286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ABF7B5-2FC0-43C7-8C40-D669228F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22999FA-EBB1-4DEA-872D-65B5DABB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9E5FA0-23E1-45AD-8A27-E335DACF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F13B0A-6939-44FF-8BAE-05B78D9F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9483256-F2A4-4F5B-A165-D67FBF78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74C6FC-EAAA-45AF-A9F0-52EF513968A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95531DD-6DCD-4F63-8D48-E75B11C2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183387-04FA-402B-83C0-29C47A80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79DCDE-F05A-4CE3-BDFF-EC2F970E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B7BEB33-A96A-43CC-95CE-62672880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F558824-E2DB-4AF4-8240-25B29D50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843F6C-407F-461D-8CCF-9F27CE16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E46705-86C5-41F4-B492-5C159A03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30D2623-E8A8-49AD-965C-17B4F2E4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F79B9B-8AA3-4963-A56B-F8DC90CE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8A49F9D-0799-4AAD-942F-DDF982C1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596BE-F6E9-403E-B8AD-E8B6F5D4239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352EEAE-B53B-4F00-99D9-C084FD5F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31F50B-B34A-48F5-9CA3-0C8492EE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CF62BDD-8F32-4E58-A535-BB63AD0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955E77-0D9A-4037-991C-5968099A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8DED0B-973A-4093-A6DF-5B344569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A642BCE-6F95-4BD7-9B29-34DE0368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26BE7A-0275-44EB-9735-718C84C0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437A0B-F989-4A4F-8C6B-5A52ACB0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379CAF-7C62-4C85-AFA8-974D1D23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6290E6-43A0-4C32-8C3C-43A9867D64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2365B-747E-4FAB-B741-7F091A0175A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62E461-52A9-4C3A-ACF3-29FB042F943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D3105A-65DA-4ED8-A318-83D6E95C3EF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55FCBC-93C1-4028-8933-DEC30064E38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CD2916-C79A-472B-A077-420ADCEFDA1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1E6AD8-0795-4EAD-992B-2175BF834C2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BF228C-D1D5-41B7-8B61-374CBAF72FB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A2843C-705F-4E14-8989-7C18E5FD83F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6F9247-C50D-4E2E-BF8C-99831FF5466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DA4661-801A-49E0-8022-F9968257DE5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09A262-8000-4162-B491-C7ADE491E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2F7A-217A-484F-A1D9-44946CC4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83E12-F8C3-4153-A1FA-5D3C93FA972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3A99FC-2649-4FD7-A74F-0744100412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B9BB5-3D7F-438D-892A-CE5C82B31A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F9B70-1ED3-4008-8215-EF377982BB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1B2AC-B26F-4550-8258-5F09A8B333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5DFD7-73CD-40B3-AC93-0439F883AA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83C27-84B4-4672-8764-2C2183F39F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8FD0D-8168-41DC-937F-1E3877A60C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A0028-E1D3-4EDA-BECD-1D45634F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DABC5-109A-4B02-BB3D-F9835C80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F8E16-B0F9-497D-A07D-B5FAED33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018A8-53AA-47E2-B98C-43296DDA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BEF3E9-BD67-49C3-A4A0-7C924384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47BFF-8C7A-4329-B920-B38253D5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04490-4ED7-44A7-A5B2-5C74E957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5FFA4-66F1-482E-BBBE-321079D6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D2703-3C98-4E01-A198-66B94BA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03DA7-3AD5-49CB-9CC8-713013E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4FB66-4334-486A-8B7B-4BFED230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BDEBD-C9BF-4D1B-BD1D-1584487A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38C9F-B9E5-4B84-ADFA-01DDA55A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2A5261-FD23-4C1B-8E12-3D3F2BE5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0290-DE31-45D6-9157-BE593E50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E04F40-A08E-4269-AAF8-7DC4C1E3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ED8831-E9D5-4E9D-A3C6-AFA054B1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3A6A4F-CE9A-467E-8B60-2AC0A07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72167-0C77-4CDC-94EF-2544EB2B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ED9600-711C-414D-A75F-A195423F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428B30-DBD1-4507-B3F5-FA43DFCC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A2269-3118-4F77-B4EC-31F4D3DB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246B06-D941-4F9B-BCDB-9ED058F4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542D83-F206-4232-9425-60951348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F009AF-C7D9-4B66-8233-98FD1C58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CFE1-26BC-442E-85D9-A6E6BEF4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3CB89-3002-4E0C-AAB5-DD76C907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B469A1-6F23-4D89-84C6-73F7F912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FB4CD-EF70-4166-9468-88F4BDCB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E0CB0-0D91-4173-A64A-B49229F6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78D266-42E1-40DA-A4B2-B5AC48A1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930BAE-7C29-4E44-B534-77CCFD0A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42B2A0-1746-47E9-B660-55B3B03D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E2F71F-E540-4495-B16D-68C3307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300FA3-AF90-4E4A-BB3A-B805E2D5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B42EF-57DD-4F1E-B5D3-26B1A9A5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ED0B-564D-4924-8FFC-BBE364E1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7A0C1-7DFA-48BD-A5B2-7D2B2D2D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8524B4-86FF-4AA0-9A0E-12281A99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30C55F-C50E-40CD-B257-6A2AA8AE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F7105-97AB-4266-A6F5-56A6DC49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D875B7-6741-41DD-AB3F-92D81018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997195-FA11-420B-B04D-0769DABC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1F90CD-9CE3-4BDF-90CA-06CA92C8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CF9C50-ADD1-4BCA-8DA4-FE46C782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6CF4CF-FC58-4FD6-975B-D9041709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FFD3E3-3F86-4B9B-8A0E-F6E76A3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FCFA-E5FE-4B41-A038-33FDC9E1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1FD5F0-BF3D-428D-9CBA-F13D3DC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9629E3-BFF7-4130-9A57-27965914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B57F88-223C-4DF8-93DA-5AA92635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A4023B-FDA5-4E9D-8960-3A2F6F07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71DDB8-58F5-4603-ABE2-106D6FB8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19BD1-E635-48A4-A591-B1979DA7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7B6D46-CA62-4A3E-A3BD-3A4C9171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ABBF5-076D-4938-8BEF-9C185BCC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F9659B-6B9A-48DD-B90D-F967E75E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040476-15F4-4A8D-8249-6E0DCC27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3834-8EF8-4C08-8510-7F35545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B417CE-3980-4D65-A1DD-15D8520E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C7B97D-476C-4AA6-9F81-4462B53F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C8D524-4274-4F81-9293-B2D4E59C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43D7AA-3AAE-4E19-8F7C-B2EF98F0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701D6C-30A6-4730-AA59-DC7270D1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CAE7B6-F40C-4100-9FC9-230DAEDB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458798-D029-4E9D-B703-3036BD69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A42DA-3007-4636-BA52-676B19D3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1366F-867F-424A-A24E-9A648CEB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9D7B3-8178-42B4-9360-2AC199EF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66A8-9D30-43E7-B8B2-56C1AE7BD91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6DDC-4122-41A2-BC51-29C7716B8CF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695F-8023-4C83-8AF6-13305CDEE57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999E-3FBE-488D-8D9F-9BE598D04BC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AE65-B830-4581-926B-180793A1DD3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D274-7D59-4E09-A1F3-D9895994E06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23D2-B529-4477-B31F-469E51790E6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ADC2-3B9E-4542-ACEA-9BE75E5454C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CE19-43DF-409F-8BBA-58FD702332A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BE4B-F879-41D6-B31F-CD23B31C472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41F0-C602-4D2A-AA96-E86CC4A4544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B782-8578-4703-9098-7FF2A6168B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CB7B-3309-4A0C-AD7A-389E7FF0857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612A-BEFD-4E91-B717-9774D6D75BF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214B-9A1D-4989-B6B8-FB39B363C5E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7345-0CED-4D67-9BDA-074E88F0D37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8BD8-1BC1-4487-A432-0047A522C2C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1666-1FF8-4432-909F-F63C4E1F772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4C76-03F6-496E-8027-603DE916AAF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5011-83E8-45BE-9880-F9F5CFF5369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EE6B-5188-48CE-ABA2-58619843284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2EA-2F84-4319-B79B-9BB9A2614FC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7757-82D3-40F3-9DCA-DF2D4A16A35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59A0-A767-420F-ADA9-CF90CDE096E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5652-7484-4FC6-9655-5168F1C5D02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CB39-7013-4BE2-94C4-EE6809F7CEA5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hapter Fiv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Calibri"/>
              </a:rPr>
              <a:t>Understanding eCommerce product design strateg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veral material changes to the product are necessary for web enab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arch engine keywords and interactive links to make information available to potential buy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Graphics bring life to contents and make them look better on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Mechanism for impartial, open-source reviews and referrals from actual custom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e-segmenting and repackaging product based on feedback – making </a:t>
            </a:r>
            <a:r>
              <a:rPr b="0" i="1" lang="en-AU" sz="2600" spc="-1" strike="noStrike">
                <a:solidFill>
                  <a:srgbClr val="000000"/>
                </a:solidFill>
                <a:latin typeface="Gill Sans MT"/>
              </a:rPr>
              <a:t>products easier to sell buy on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4F5-7321-4554-89C9-A2617E3E7B5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ustomers should be able to select, configure, and buy products over inter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3G/4G technologies will increase the capability of ecommer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customers can feel the product onlin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6280" indent="-2372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take decisions without going to retail stor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gain competitive advanta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tandardization and availability of catalogues over interne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Local languag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arch and artificial intellige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Mass customization - </a:t>
            </a: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roducts to be readily configured and assembled as per customer specific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7A99-10FC-4E3B-B389-CD7A3649B5D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esign products that can be more easily configur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acilities to request the ingredients, textures, packaging, and chose delivery schedu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actor in large amounts of customer information into the design of the product, including health, diet, portion size, allergies, and demograph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Gill Sans MT"/>
              </a:rPr>
              <a:t>Dynamic pric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fast and accurate market pricing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calculate product profitability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s per the configuration demanded by the custome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lexible pric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8B89-D366-4859-AD79-54DBDFC80D2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market-based pricing stru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data mining/segmentation software will provide data analysis t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bundle products with other features and provide a pack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optimally align the value to the custom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ustomers are more demanding and innovate new ‘values’ for custom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hybrid distribution channel needs to be defin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Online billing for rapid decision and delivery and retu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mail response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Service and support integrated with e-comme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2372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7F6C-9EC0-40BC-87D7-5F146CC18BE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The chapter talks about </a:t>
            </a: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ifferent parameters that need to be considered before getting ready for e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esigning product feature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hybrid channels for distribution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ifferential pricing for products meant for different channels an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mass customiz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duct channel readi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9B88-2D66-4CC3-8030-1F46176609B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Benefits of internet based marke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E-commerce consider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When a product can be marketed over intern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Design criteria for selecting web enabled supply channe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2DAF-E1F5-4EA7-844B-765C3D1FA7D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hannels used for marketing is quite importa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hannels are different conduits to reach end us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orrect fitment of products and chann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lower selling cos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vailability of products at the right tim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fewer customer problem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echnology is changing the shape of the chann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enhancing capability of existing channel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creating new on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itment of products, technology and channel is becoming critic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E01F-BFE5-49DA-B986-1284E81DACB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duct marketing strategy - enabled by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nature and mix of chann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ackaging and designing of their offe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enabling internet with correct  design can take advantage of the web enabl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ducts that easily fit are digital music, news, financial services, and computer softwa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reates easy brand awareness among consum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0E9-9B3D-4187-AF9A-F7C270BF207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Benefits of Web Enabled Channe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Dell pioneered the concept of redesigning the produ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echnology enhances existing selling channels and creates new o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digitize” product catalogues and available to 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to re-architect product specif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ustomer configured information can be pushed to potential custom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Internet stores (virtual) and online marketplaces that sell products directly on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products are displayed on electronic shel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 MT"/>
              </a:rPr>
              <a:t>customers can customize and try out different combin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7152-F1B3-4775-9E9A-CDD99D4A87C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Benefits of Web Enabled Channels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Can help </a:t>
            </a: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apid-fire bidding during online au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Not only products but channels need to be web rea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ofessional services such as executive search, tax consult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Enabling product configuration and assembly that is fast and transparent to the custo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 MT"/>
              </a:rPr>
              <a:t>Designing products and services that can be sold through any channel or mix of chann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1611-C1F1-45E2-9DB6-CBB889172E3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apability of the chann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distribution requirements need to be underst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Features in an interactive mo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How the products can be stacked in logistics (if ordered through onlin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ersonalized products, personalised services, and fast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ackage, distribute, and configure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ompare prices and produc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adjusting product pricing on the f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A7D3-C4A1-4C8D-8B5A-2EBCA7A4A32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wider selection of products and servic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lf-service electronic chann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online marketing assista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Benchmark customer offe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lower transaction costs, more self-servi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building services into structured pricing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ccessorize mature products with desirable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automatic replenishment ordering, free returns and free delive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echnical capabilities of the chann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CA31-10D2-4A99-B230-05969FC2406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-commerce consideration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ackaging, price, placement, and promotion need to be appli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Be able to digitally represent the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Be able to distribute products through electronic order fulfil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ublishing and the music industry modify their offerings for digital distribu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icing by considering time, medium, and cont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Web’s unique ability to sell contents in small quant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helf life of perishable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17FB-E376-49E0-BB8E-B2CF05D3167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3-10T10:41:15Z</dcterms:modified>
  <cp:revision>380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