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C3D7-82E2-4A9A-ABF5-C49F24CB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9291-869B-4B04-9C21-6C38725B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B1A9-C6A4-4E6C-9EB3-F86CCFAF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0EC1-1712-4149-85CC-37341673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DE6D-B5ED-4654-9164-1BA02E2F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102-0AA9-42CC-B94E-B54F72AE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2101-967B-4C50-A29B-6369CAAE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D60C-5769-40A9-8374-4977E309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D07C-D5BF-44B7-A83B-8AD46166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C958-CE20-413B-8BAF-676E1CAA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179F-9ED2-4F47-89CB-5F0ADCA2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50F5-2386-4D41-8AD7-064A3744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85B0-E8FE-400A-BF09-393D81429B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riority areas for consideration, analysis, and evaluation (cont.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stent distribution of costs and benefi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ceability and food safe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pling at ports of ent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datory repor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reamline multi-agency regulatory progr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blic and private sector collabo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visory boards and committe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ertification of service provid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rtnering for risk manage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rket Failure and Legislative Failur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rvice programs to facilitate efficient marke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gulatory policies/programs affect marke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cused here on market failur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also found instances of legislative fail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exists for continuing reexamination and periodic evaluation of policies and programs affecting food and agricultural marketi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GRAM CHALLENGES AND FUTURE OPPORTUNITIES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verview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mmarize findings and policy options identifi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jor forces of change in the marketing syste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jor options identified for policy chang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orces leading to changes in marketing polici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tablishment and evolution of the various policies and program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ces possibly necessitating policy or program adjustme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rket struc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chn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ect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rket Struc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olution of markets to coordinated and managed supply cha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rted with poultry industry vertical integ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t and central wholesale market disinteg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lobalization and international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de and aid iss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 safety concerns and port-of-entry insp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-native pests and pathogens, zoonotic diseases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rket Structure (cont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ltinational firms with progressively larger market shar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w generation cooperatives; local food outle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conomies of siz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nterculture of smaller producers collabora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chn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rt insp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safety and trace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otechn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imal welf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pectations of Market Performanc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st/production effici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etition/allocative effici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ynamic effici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venience, health and consumer in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safe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riety vs.homogene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nmarket social val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riority areas for consideration, analysis, and evalu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intaining market efficiency; structural bal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stablishing balance in contract marke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cal foo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toring USDA cooperative supp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ing federal marketing order authority for farm-level fresh produce safe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stency of policies across program ar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st-benefit and feasibility analysis prior to regulatory decis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stent distribution of costs and benefi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cp:lastPrinted>2012-01-30T14:40:42Z</cp:lastPrinted>
  <dcterms:modified xsi:type="dcterms:W3CDTF">2012-06-05T20:20:15Z</dcterms:modified>
  <cp:revision>57</cp:revision>
  <dc:subject/>
  <dc:title>U.S. Policies Affecting Food and Agricultural Marketing</dc:title>
</cp:coreProperties>
</file>