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071C-4F1D-4857-9257-36D60305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A4AC-1D95-49D5-B5C5-B916A9EE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85C5-3B6D-41D0-B21D-5AB65418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5C13-A423-4D57-8E94-D2ED040B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3D06-193B-4751-91F1-6F5DA820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A63B-D4B4-4C98-AE79-F80F138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30FA-8C47-4553-A6A4-C4E07E4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3D99-CAA0-4EBF-8FE8-4FCA7E51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190F-1819-40B6-AFD1-3A1BEBAA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556-010E-48DF-9EDB-D7024B33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65FA-3321-4DAE-999F-B29D9E77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7767-E822-4AFF-BA4C-FEB1952A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E3AD-1C63-4B12-B66E-38E2D682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B9A4-C097-4B0A-9909-7C2BB92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F9BA-4AB9-4260-A5ED-CE63F204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930E-684D-4C42-A549-5DB3265B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BE15-1489-47AD-87E4-41CF8F92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0248-A8FF-46E5-B334-B746F7DD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F5A5-F179-49F0-8D9D-58B54038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FEF9-CB26-419B-977A-CA8AAE64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8E83-D978-42E4-AD79-341D2A85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4081-1C83-445E-B8E1-BF3A69F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2C14-6F9C-48DC-8F4D-164C01F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28BB-9CA4-4434-90BE-42E97CC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6A39-3EC4-4414-A9D4-5C71F96782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4D6D-0ABA-4FF7-974D-2D821A1690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og and Pork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hin spot markets for hogs (Lawrence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ught mostly through production contracts, using quality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stricting alternative marketing arrangements harm both producers and consumers (RTI 2007; Wohlgenant 2010; Zheng and Vukina 2009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ultry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igh degree of vertical integration in poult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ighly concentrated, numerous anticompetitive concerns: tournament pricing, single processor, holdup risk, short contra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Lower grower prices only in monopsonistic environments (Vukina and Leegomonchai 2006a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ew integrators, many growers leads to lack of regulatory response (Vukina and Leegomonchai (2006b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iry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ew very large bottlers and processors, large milk marketing cooperatives, many fewer dairy fa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arm milk price regulated by federal milk marketing orders (FMM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MMO are detrimental as a monopoly or oligopoly (Chouinard et al. 2010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-ops raise plant pay price 9% above the FMMO minimum price (Cakir and Balagtas 2012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arm level milk pricing is very complex (Paggi and Nicholson, Chapter 9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od Retailing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tailers dominant decision maker in the global food supply chain (Kinsey, Chapter 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ntration driven by product differentiation to satisfy consumer demand for attrib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verall market performance favo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arket power efficiency losses small (Marion 1986, Sexton 2000, Saitone and Sexton 20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distributive impacts harm producers and consumers (Sexton 201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Power and Market Efficie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Weak market power at nation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iotech seed companies capture large share of the economic surpl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eef processors capture technical efficiency gains; impose community/environmental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rk similar to beef impacts, but consumers gain from greater convenience, low cost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onopolistic buyers hurt some producers; consumers benefit from dynamic product choi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Power and Market Efficie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airy structure helps producers, hurts consumers; concentrated processors benef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tailers exercise limited market power;  consumers benefit some from prices and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ies for Countervailing Power and Trade Practice Regul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stablished programs currently well sui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ducers often face oligoposonistic mark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40% of sales contracted (MacDonald and Korb 20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 about market structure and trading practices having antitrust, anticompetitive and consumer implications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cies for Countervailing P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apper-Volstead Act provides limited antitrust immunity to growers in cooper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Not used effectively recently (Sexton 2000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Discussed for milk in depth (Knutson and Cropp, Chapter 5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Agricultural Fair Practice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Producer right to join cooperative associations is protected from interfe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Weak in practice (Vukina and Leegomonchai 2006b; Knutson and Cropp (Chapter 5)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Commodity Futures Trading Commi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ssures usefulness of futures mark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s about role in increased agricultural commodity price volatil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s about lack of convergence between cash and futures prices at contract matur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FTC Bureau of Consumer Protectio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tect consumers against unfair, deceptive, or fraudulent practices in the marketpla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nforce truth-in-advertising la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essure over advertising and childhood obe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posals to implement excise taxes to raise prices, decrease consumption of soft drink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lternative proposals to increase education about a healthy die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ARKET STRUCTURE, TRADE PRACTICE REGULATION, AND COMPETITION POLIC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Packers and Stockyards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tains multiple regulatory provis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gulates contracts in animal agri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SA actions relatively weak over the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llows firms to capture a greater share of gains derived from new technolog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Perishable Agricultural Commodities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motes fair trade in the fresh and frozen fruit and vegetable indus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ducers to be paid promptly and fully for perishable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ACA requirements are sufficient to handle vast majority of issue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anadian industry working hard to get something akin to PACA establis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United States Warehouse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SDA license warehouse operators who store agricultural produ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Voluntary program: observe the rules for licensing, and pay associated user fe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nding requirements assure money available to pay the value d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acilitates functioning of the marke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Federal Seed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terstate shipment of agricultural and vegetable see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Labeled truthfully to allow informed bu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Keeping up with technology for identifying biotechnology traits in seeds is challe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oncern that 50/50 states partners cu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cess verification programs enhance commer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Country of Origin Labeling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quires certain retailers inform their customers of the origin of products being purch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conomic studies support, question valu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WTO: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COOL violates global trade rules and unjustly harms agricultural commerce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Future of COOL will likely continue to be controversial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 Egg Products Inspection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spections of shell egg handlers to control the disposition of loss and under-grade eg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vides information to the marketing system that only quality eggs are offered for sa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SDA FSIS and FDA share authority for egg safety: control </a:t>
            </a:r>
            <a:r>
              <a:rPr b="0" i="1" lang="en-US" sz="3200" spc="-1" strike="noStrike">
                <a:solidFill>
                  <a:srgbClr val="ffff66"/>
                </a:solidFill>
                <a:latin typeface="Garamond"/>
              </a:rPr>
              <a:t>Salmonella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Enteriditis (SE) in eg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Need for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better government interagency collaboration? 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de Practice Reg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Livestock Mandatory Reporting Ac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vide information transparency to help producers/feeders obtain better pr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Questionable effect on better prices from highly concentrated packing fi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Increased transparency and information at the national level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(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Koontz and Ward 2011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Also reduced price information in regional markets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ncrease Industry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larify boundary for seed IPR-related exclusivity and antitrust-prohibited exclusionary 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ncrease policy enforcement to balance poultry processors’ vs. growers’ influence in con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place current formula pricing system for milk with direct reporting of pay pr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ncrease Industry Competition (continue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OJ monitor dominant cooperatives for anticompetitive pract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Clarify DOJ vs. USDA roles to enforce antitrust provisions for cooperatives’ limited exem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valuate potential benefits of enforcing antitrust prohibitions in local/smaller region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mprove Trade Pract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ost policies/programs adjust reasonably well to market evolution and remain releva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trengthen PSA enforcement on unfair or discriminatory actions by buyers and provide better market information on contract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evaluate the content of the COOL regulations and how they impact trading partn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ynamic Food And Agricultural Markets Evol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Larger farms and marketing fir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lobalization increased the scope of mark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Limit market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Regulate trade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grams evolved sufficiently that still relevan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cy Options to Improve Trade Practices (continue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ind workable alternatives to provide producers disaggregated and actionable LMRA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acilitate and promote electronic trading in live anim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ding Com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U.S. food and agricultural production and marketing system is efficient and dyna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ome government intervention is needed to maintain a well functioning marketing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treamline or eliminate unproductively overlapping/duplicative 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Maintain policies and regulations critical to facilitating efficient functioning of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U.S. programs adequate in today’s global market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mpacts of changing market stru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rograms to provide countervailing pow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rade practice regul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ptions for improving effectivene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reater public-private sector collabor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Research and education to foster improved market performa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Structure, Integration and Contracting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volved from traditional spot markets to negotiated agre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Often less transparent, based on product attributes, small base price, and payments for production servi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Potential beneficial, and less benign,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Agricultural products prone to market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overnment intervention may be nee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titrust Laws Impacting Agricultural and Food Marke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Sherman Antitrust Act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of 1890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Clayton Act of 1914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66"/>
                </a:solidFill>
                <a:latin typeface="Garamond"/>
              </a:rPr>
              <a:t>Federal Trade Commission Act of 191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010 Departments of Justice and Agriculture Competition Workshop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eed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Livestock markets: beef, hogs and pork, poul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Dairy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Food retai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eds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centrated biotechnology seed industry emer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Antitrust law-intellectual property (IP) law bal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Use to deter entry and R&amp;D spen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Societal tradeoffs positive (Moschini 20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centrated and complex industry implications (Fernandez-Cornejo 200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How licensing arrangements impact competition is an emerging issue (Stiegert et al. 2010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Difficult economic effects involved (Moschini 2010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ef Markets Structure and Competi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Boxed beef revolution in late 1960s (Ward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New system of pric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cale economies drive consolidation (MacDonald and Ollinger 2005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Economies led to purchasing more cattle though alternative pricing arrangements  (Ward 20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5-30T03:12:14Z</dcterms:modified>
  <cp:revision>56</cp:revision>
  <dc:subject/>
  <dc:title>U.S. Policies Affecting Food and Agricultural Marketing</dc:title>
</cp:coreProperties>
</file>