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1AAD-4252-4223-B030-139969B00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9D9A-D106-4CA8-B254-66E4D6DCE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9E9D-113B-457D-990C-AFEEA668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A1BC1-1534-4EC9-A04B-FF251B6C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E633-1B90-4191-A27A-C294BEBD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7E5A-A805-41F7-9F28-B83E9212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7FEA-11A3-4AEE-B0AB-A29BB7EF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DB6F-D83B-45A7-8D96-0B23B425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989B-F855-4AE0-B457-27537191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2096-BC18-4D66-AB3E-D0D22CF1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F5B6-1720-4BF9-85DD-47DC4FC1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8C27-EDA6-4B63-895B-372BFED7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EDF1-FE9F-493C-9853-5A5475E8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FEB63-8CD5-4A54-9379-2E35390E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102F-E890-48E1-903D-6B5CD333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B385-333A-4396-86B0-FEC94DEC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528E-5F2B-4518-9FDF-ABEE2267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F469-5CBB-4D0E-80F8-911EAB30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5FD0-8474-457C-BBB1-C2E5F1A2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3B052-7E94-4430-857A-F264AA9F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987E-0659-4914-8F56-73EF91A1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B14A6-FFF1-4D27-A676-B9ADE532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85E8B-8D2F-4482-BE52-A22A787D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C96AF-4C4B-48B9-A317-89DB395C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D9B81-86D9-40D9-829C-7269DF75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6F6B8-8AB7-4ED8-9F08-91460343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213A-4A85-4C8B-976B-27DB174E4D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4F6B-F8F0-4AD0-955C-B7B7EC3068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inimum Quality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hibit shipments of products not meeting minimum standards for grade, size and matur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duce quantity available in mar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acilitate marketing, lower transactions costs, improve marketing efficiency, allow product differenti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Minimum Quality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y increase demand due to increased buyer certainty and repeat sal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lso apply to some imported products covered by Ord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ay act as non-tariff barriers to tra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Price Discrimin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llows allocation of shipments among primary and secondary marke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ith different prices and demand characterist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ample:  US and export market for rais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depend on demand elastic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venues increased if inelast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Reserve Poo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ithholds supply from the market is supply is “large” relative to dema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eld “in reserve” if market conditions impro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f not, sale to secondary markets, for non-food use or held as carryover stoc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vision in MOs for CA walnuts, dates, almonds, Florida citrus, but not in 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Market Flow Provis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esigned to “smooth” shipments during a marketing seas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ut not affect total volu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t currently in 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vidence about impacts is limi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Outcomes similar to perfectly competitive mar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Pack and Container Standardiz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ssure buyers of shipment consistenc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y reduce marketing costs through efficient product handl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acilitate price report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nhance traceabil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erfectly competitive markets effici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y defini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s can be viewed as interventions to correct perceived market imperfec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s modify operational rules and conduct of fir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tended outcomes: “Orderly marketing”, increased price stability, enhance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evious studies address combined provisions or individual on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Key criteria include trade-offs in efficiency gains and losses, other social go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sults not definitive; depend on effects of MOs, substitution in consumption and risk avers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ew criteria required for global fruit, vegetable and tree nut supply chai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rm conduct and consumer expec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riteria should include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echnical, allocative, dynamic efficiency and nonmarket benef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imited evidence about these impacts from previous stud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ical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vidence is limited and inconclus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ders may provide incentives for innovation in quality contro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lson et al. (200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thers argue that incentives are reduc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amples:  limited use of shrink wrap for lemons, grading mechanisms for pru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Federal and State Marketing Order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les F. Nichol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chel S. Pagg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ocative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vidence is limited, extant studies illustrative, not definit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fficiency gains for pistachi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ray et al., (200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ains from reduced volume and price swings (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Zepp and Powers,199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re recent studies suggest no universal conclusion is poss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ocative Efficiency under MOs for Fruits, Vegetables and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imited evidence of impacts, but existing studies suggest that increased returns to growers reduce consumer surpl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isk response and time frame for the analysis can imply that impacts are indetermina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garded as the most complex of a suite of US dairy polic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Historical context includes severe market disruptions (milk strikes) and instabil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overnment action codified private actions previously attempted by dairy cooperativ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lassification of milk by 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icing of milk by class (use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ordination of prices across (geographic) market are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ooling of returns to produc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uditing to facilitate enforce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dministrative procedures to ame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Classification of Milk by 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mponents in milk (e.g., fat, protein) assigned to a “class” based on 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ederal Orders have 4 class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alifornia state Order has 5, but similar provi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Pricing of Milk by Cla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ders set 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minimum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prices that “first handlers” (processors) must p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ctual prices paid are higher; “over-order” prem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ices set based on recent product prices, adjusted for manufacturing cos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ational pricing for manufactured 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gional pricing for fluid milk 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Pricing of Milk by Cla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luid milk has highest regulated pr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nly fluid milk processors are 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required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to participate (pay the minimum price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ut other manufacturers of dairy products find it advantageous to do 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nhances price they can pay to dairy farmer suppli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Pooling of Returns to Produc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Value of the milk marketed shared among producers supplying a marketing are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lend Price” is the total value of milk components divided by the volume of milk marketed through the Ord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duces variation in price received among producers in a given marke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lk Marketing Order Provi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uditing to Facilitate Enforce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visions allow auditing of milk use reported by handl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dministrative Procedures to Amen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pecifics vary, but 2/3 vote required for amendment or elimin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dministrative hearing requir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volution of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cope and impact changed over ti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arly, limited number of Orders and small proportion of milk cover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 2000, about 92% of US milk regul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nsolidation with improvements in transportation and process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Orders reduced to 10 as of 200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verview of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eveloped in 1930s under Agricultural Marketing Agreement Act (193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egal instrument issued by USD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iginal objectives: “orderly marketing” and establishment of parity pri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arity” concept since abandon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Other fundamental statutory provisions have remained the same since th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volution of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on average prices paid decreasing over time, due t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arger growth of milk used in manufacturing rather than flui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maller proportion of milk paying higher pr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ifference paid for fluid versus manufacturing milk smaller as proportion of pr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ny studies have examined, but limited consensus, due t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re underlying markets competitive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teractions with other dairy polic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ssumptions about elasticitie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se of comparative static rather than dynamic framework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If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markets are competitive, Order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crease average prices paid produc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crease total milk production and dairy farmer revenu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crease price paid for fluid milk, but decrease dairy product pri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duce social welfare (surplus measure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s of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re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milk markets are competitive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etermination not easy after 70+ years of reg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any analysts assert but do not sh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f not competitive, do dairy cooperatives have offsetting market powe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vidence is inconclusive, and some suggest cooperatives need Orders to function effectiv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ical Efficiency Under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imited study for dairy farms, processing firms, food retailer (i.e., supply chai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on industry structure not well know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ders provide incentives for production in higher cost areas and conversion to Grade A milk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ical Efficiency Under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ynamic analysis indicates that Orders could facilitate farm growth and lower production cos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urrent Order pricing broadly consistent with least-cost spatial equilibrium models of US dairy sect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ocative Efficiency Under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llocative inefficiency a key criticism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verinvestment in milk production, for Grade A and in higher cost are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re costly milk transportation for pool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strictions on reconstituted milk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llocation of milk to highest value u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ocative Efficiency Under Milk Marketing Orders (continued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ransfers from consumers to produc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gional redistribution for producers based on class utiliz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Lower prices and revenues in regions with much manufacturing mil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nsumers of fluid products negatively affected, potential benefits for households consuming manufactured produc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ynamic Efficiency Under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on supply chain evolution and costs not well know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ductions in price variabil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isk management may be facilita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mpact on forward contracting a concern before 200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on product innovation uncertai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ders change, but too slowly for so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on-Market Benefits Under Milk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on-market” impacts may exist on nutrition, health, rural development, animal welfare and social just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ot well studied; more research need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maller, less favorably located farms may benefit more from Ord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distribution a social justice issu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verview of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mmodities covered include milk and 22 fruits, vegetables, nuts and specialty crop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conomic similarities of commodities covered by marketing Order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gree of perishability and storabil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ice volatility and price inequ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ice discrimination possibil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verall, evidence suggests that Orders have accomplished many of the objectives Congress intend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ttempts to change Orders must balance issue of inefficiencies and restraints on competition with unique nature of the agricultural business environ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olicy options for Orders include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39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(For the sake of completenes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intain current Order progra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place Orders with other progra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dify Orders to address industry and market change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liminate Orders, with/without phase-o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Maintain current Order programs or Eliminate Orders, with/without phase-ou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s can be assessed (at least to some extent) with existing research ba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hased versus immediate elimination impacts less cle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stitutional arrangements for milk Orders would influence outcom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Replace Orders with Other Progra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xtend current commodity programs to those covered by Ord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evelop new programs with similar objectives for Order commod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Replace Orders with Other Progra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bjectives of current programs differ from those of ord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ny “replacement” will be an imperfect substitu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placement” is a misnomer for milk, given numerous other progra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either is likely in current political and economic environ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Modify Orders with Industry and Market Chang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y not require major changes for fruits, vegetables and tree nu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amples:  additional emphasis on food safety and less emphasis on volume contro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hanges to milk Orders challenging given current winners and los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licy Options and Information Needs for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formation needs include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asic response information (elasticitie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on-market impacts under-research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ynamic impacts a prior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ice discovery, risk management options, organizational and institutional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at potential for collaboration among industry as a replacement for Order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verview of Marketing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rders apply to specific commodities produced in a specific geographic are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posed by producer group, but USDA makes determination of ne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lemented if 2/3 of eligible producers or production vote in fav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inding on ALL handlers once approved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ruit, Vegetable, Nut and Specialty Crop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tabilize” market conditions through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imits on amount marke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ntrol and disposition of surpl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Quality standards and inspec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strictions on packag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search and promotion on production, marketing, distribution or consump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ruit, Vegetable, Nut and Specialty Crop Ord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 2011, 32 federal marketing Orders for about 20 commod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arm value of regulated crops about $6 billion in 2007-2009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5% of farm receipts from crop sa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rketing Order Administration Branch of Fruit and Vegetable Program of USDA provides overall administr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volution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oth for provisions for all Orders and individual commod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1940s to 1960s: greater restrictions on quality, maturity, rate of flow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1970s:  Handler assessments authorized, but growing public concern and reviews of benefits and shortcoming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deral and State Marketing Order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volution of MOs for Fruits, Vegetables and Tree Nu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dividual Orders give more attention to food safe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specially related to grades and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xamples:  aflatoxin in pistachios, salmonella in almo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volution of Orders likely to continue, especially to address food safety issu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ore cooperation between USDA and FDA lik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6-03T19:48:48Z</dcterms:modified>
  <cp:revision>61</cp:revision>
  <dc:subject/>
  <dc:title>U.S. Policies Affecting Food and Agricultural Marketing</dc:title>
</cp:coreProperties>
</file>