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3AA-6F35-46A7-8ACF-8514BC91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301-2436-41DA-899F-BE9CE0FE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7678-A075-4D26-AB14-77E00F98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5ACF-C4E3-4BA5-A37C-1D524C4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CC6A-D0B3-40C9-8A17-E7A01BAB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1281-EC88-4F51-96FC-009D0243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C6E-674C-41FF-98C7-11FC2974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0E38-92E9-425E-876B-6B1465E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21F-1772-4AF0-B6FA-726D06BC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085B-62EB-42F2-87A5-3F1BB910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398-9C1F-4788-A5D4-A292B40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7694-AB14-49AB-A431-DA305B3E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074-7E1C-42E8-AB8F-FEFE2AF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BC42-C1DE-4DBF-9FE5-C5F6BDD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DBE7-F391-4D22-8445-4943FB5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16F9-4A0F-4604-A937-BD28BDD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F88-83D3-44CE-837F-D696A8C4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BFF-70C9-4055-B935-D561B3E4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12F0-6E31-440C-8376-2058E2FD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1D72-F64A-433A-B65A-8572F027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F258-6E1E-42E3-A71E-A733B62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C8CD-64A7-4620-B0FB-47550F2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19AA-A8CB-44F1-8069-19FB0BC4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2ADD-FC82-4734-B0D5-22702B9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B79E-0910-4C44-B0B3-38FAFF6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1869-AC6B-463E-9B63-31C55E5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9F9-FC5D-4767-A04C-849F0E3BE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CB4-CC50-4779-A801-A6695E398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70-1990: Some regulations were eased and others were modifi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ggers Rail Act of 1980 gave railroads more flexibility in competing for traf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hibitions against commodity options trading were lifted in 198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came under increased scrutin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fees were instituted for USDA grading servi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90-2010: New challenges arose for marketing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ood safety problems ar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for organic and locally grown foods expan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rns about concentration recur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datory price reporting was introduced for livesto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and cooperatives were question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uture of food and agricultural marketing program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ght federal budgets will constrain progr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communication technology will continue to impact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duction, processing, and distribution technologies will continue to evol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ing chronic and acute food borne disease will become more challeng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ation will be a continuing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hapter 3: A History of Government’s Role in the Food and Agricultural Marketing Syste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ard Heif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roductio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rograms have addressed failures in competition and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 fails when one or a few firms are able to distort prices to their advant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, grades and standards, and food safety regulations address information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in technology, tastes, and marketing practices require programs to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80-1900:  Regulation of competition beg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terstate Commerce Act of 1887 was Congress’ first exercise of its Constitutional authority to regulate commerce between the st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erman Antitrust Act of 1890 prohibit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combinations or coord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competitive practices and exclusionary conduc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00-1920: Food safety programs were launched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eat Inspection Act of 1906 required inspection of meats entering interstate and foreign comme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ure Food and Drug Act of 1906 prohibited ingredients that substituted for food, concealed damage, or posed a health hazard. Labeling could not be false and dangerous ingredients had to be list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10-1920: USDA market news and grading services bega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 news reporting began in 191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grade standards were developed over the next deca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ress passed three laws in 1916 calling for the development of grades and standard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Grain Standard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tton Futures 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andard Fruit and Vegetable Containers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20-1940: New programs protected &amp; empowered farmer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1 Packers and Stockyard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22 Capper-Volstead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 Perishable Agricultural Commodities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6 Commodity Exchange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7 The Agricultural Marketing Agreements Act authorized marketing or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strengthened and expanded the use of federal grades and standa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30-1970: Food safety regulations were expand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lerances for poisonous substances were established and factory inspection authoriz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laws tightened controls on chemicals in foods, limited pesticide residues, required makers of new additives to establish safety, and prohibited carcinoge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 labeling of consumer products for content, identity, and source was establish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-1980: Marketing programs evolved further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gricultural Marketing Act of 1946 reinvigorated marketing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orm milk pricing formulas were established nationwide in 196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armer-to-Consumer Direct Marketing Act was passed in 197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trading regulation moved from USDA to the CF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6T00:32:57Z</dcterms:modified>
  <cp:revision>41</cp:revision>
  <dc:subject/>
  <dc:title>U.S. Policies Affecting Food and Agricultural Marketing</dc:title>
</cp:coreProperties>
</file>