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12F97-9157-4F77-A218-DFE3AD3B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B5408-21AD-43EF-8A9A-D915F0F8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EB578-5C4A-442E-8B0F-9E1EF2B2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0BC2D-989C-43B9-9AB9-A455A3A4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82FB-CCBE-47CC-B37B-7D9C7FC0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6793-5280-46F0-9235-484330AE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A1DB-E002-4907-9FCF-DD0A25CB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270A-0150-460B-B368-03A5EFD3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E8AB-DF8D-4640-9D64-EF07A038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FC95-62FE-4B34-8F74-A62BA2C7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10D6-A9D1-47CA-8433-B23A18A8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B64BC-E10F-45B7-8252-3D6FB973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77A3-3FD3-4324-8B15-798C8BC9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A780-29CB-408D-AA04-D2C81210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8879-C5B9-4CED-AE5E-743EC3BB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4417-2999-4239-9887-E8919CD3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4B79-6B60-4189-B9DF-1D3C7394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B70A8-D815-4022-A178-6854D380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A566C-C1A8-4192-8595-0A656352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9A667-DDD5-4F6A-A800-E8FB2032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8EF5B-AEC6-4C40-A782-F406002E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59ABE-F7EC-4CB4-89B6-155539A7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49635-3FC7-4765-A392-345F8621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8C815-5EE1-406D-A4E4-32A47EEB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22CB-7EDC-41F0-9BEE-74756065CA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B8E8-E298-46D3-B42B-87D5CC8BAA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s of Public Information and Price Respons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Anticipation of USDA Crop Production Report Preceding the Sept. 10, 2008 Report Dat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5626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s of Public Information and Price Respons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SDA Crop Production Report Released at 7:30 a.m. EST Sept. 10, 2010 (shaded cells reflect report totals versus estimates and prior USDA values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209680" y="2695680"/>
            <a:ext cx="45529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s of Public Information and Price Respons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racking the Chicago Mercantile Exchange December Corn Futures Sept. 1-14, 2010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371600" y="2563920"/>
            <a:ext cx="640080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Affects Pri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52280" y="175248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we know in agricultural marke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Markets tend to be strong form efficient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lnSpc>
                <a:spcPct val="80000"/>
              </a:lnSpc>
              <a:spcBef>
                <a:spcPts val="32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Garamond"/>
              </a:rPr>
              <a:t>Not as much true for livestock markets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Futures are as efficient as forecasts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del costs vs. statistical significa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ot all commodities have underlying futures contracts, so may have valu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intended consequenc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Find that limiting information  increases price volatility and limits productive efficiency (Anderson et al; Koontz et al.)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Excess access to information/data may lead to collusion (Albaek, Mollgaard, &amp; Overgaard; Azzam)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search and extension marketing economists do not tend to agree (Parcell et al.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Research persons generally believe markets efficient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Extension persons generally believe in market inefficiencies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Affects Knowled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What we learn from information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ood recalls, spatial markets, or soybean rust, market opportuniti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Contributions to profession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redrick Waugh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Zvi Grillich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weeten and Breimyer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What about the information we develop?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Zilberman and Heima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Work has significant impact on policy (evaluation) and technology (economic benefit)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&amp; Knowled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agricultural economists changed their reliance on public data/dat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&amp; Knowled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ummary Statistics from Survey of Journal Articles Relative to the use of Data, Public Data, and USDA Data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3836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267840"/>
            <a:ext cx="89154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blic Data and Inform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600" y="18828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nfidential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ta requirements can bias inform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hin Marke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lower the power of hypothesis testing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nsistency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 data as product form changes may bias informat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elevanc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data allows for timeliness of inform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lobalizatio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agriculture market institutions increases the impact that global supply-demand factors have on the performance of domestic markets and the operations of market institution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and a New Socie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ublic Data, Public Inform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S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rivate Data, Public Inform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tail scanner price da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ing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ublic Data, Public/Private Inform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rious examp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ublic Data, Private Inform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rld Food Demand in 3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rivate Data, Private Inform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griSta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ase Stud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ayenga (2001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267840"/>
            <a:ext cx="89154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ding Com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18828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tructural change is a fact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ublic information must be able to change as the needs of society change in response to structural chang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rivate Data, Private Information has valu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Where there is sufficient value private firms will fill this gap to keep the value chain efficien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gricultural economists should step up to the call for the need to conduct cost-benefit analysis of public information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hapter 14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Information and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Market Institution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oe Parcell, University of Missour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lynn Tonsor, Kansas State Univers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blic Data and Inform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280" y="188280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[Ninety-five percent] of the information our firm provides to clientele originates from public (USDA) data sources and the other 5 [percent] of information is from proprietary data. While the 5 [percent] proprietary data differentiates our firm from the competition, it is the business’ presentation of the public data that makes our firm.”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Paraphrased from Anonymous Consultant, 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3"/>
          <p:cNvGrpSpPr/>
          <p:nvPr/>
        </p:nvGrpSpPr>
        <p:grpSpPr>
          <a:xfrm>
            <a:off x="101520" y="1439640"/>
            <a:ext cx="8966160" cy="3464280"/>
            <a:chOff x="101520" y="1439640"/>
            <a:chExt cx="8966160" cy="3464280"/>
          </a:xfrm>
        </p:grpSpPr>
        <p:sp>
          <p:nvSpPr>
            <p:cNvPr id="109" name="TextBox 1"/>
            <p:cNvSpPr/>
            <p:nvPr/>
          </p:nvSpPr>
          <p:spPr>
            <a:xfrm>
              <a:off x="290160" y="2909880"/>
              <a:ext cx="96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Input Supplier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110" name="Rectangle 2"/>
            <p:cNvGrpSpPr/>
            <p:nvPr/>
          </p:nvGrpSpPr>
          <p:grpSpPr>
            <a:xfrm>
              <a:off x="101520" y="1841040"/>
              <a:ext cx="1365120" cy="2694600"/>
              <a:chOff x="101520" y="1841040"/>
              <a:chExt cx="1365120" cy="2694600"/>
            </a:xfrm>
          </p:grpSpPr>
          <p:pic>
            <p:nvPicPr>
              <p:cNvPr id="111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520" y="1841040"/>
                <a:ext cx="1365120" cy="269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24640" y="1970640"/>
                <a:ext cx="1117800" cy="24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Rectangle 3"/>
            <p:cNvGrpSpPr/>
            <p:nvPr/>
          </p:nvGrpSpPr>
          <p:grpSpPr>
            <a:xfrm>
              <a:off x="1365120" y="2066400"/>
              <a:ext cx="1370880" cy="2237400"/>
              <a:chOff x="1365120" y="2066400"/>
              <a:chExt cx="1370880" cy="2237400"/>
            </a:xfrm>
          </p:grpSpPr>
          <p:pic>
            <p:nvPicPr>
              <p:cNvPr id="114" name="Rectangl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365120" y="2066400"/>
                <a:ext cx="1370880" cy="22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1491120" y="2192400"/>
                <a:ext cx="1117800" cy="19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Rectangle 4"/>
            <p:cNvGrpSpPr/>
            <p:nvPr/>
          </p:nvGrpSpPr>
          <p:grpSpPr>
            <a:xfrm>
              <a:off x="2635200" y="2298240"/>
              <a:ext cx="1365120" cy="1774080"/>
              <a:chOff x="2635200" y="2298240"/>
              <a:chExt cx="1365120" cy="1774080"/>
            </a:xfrm>
          </p:grpSpPr>
          <p:pic>
            <p:nvPicPr>
              <p:cNvPr id="117" name="Rectangl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635200" y="2298240"/>
                <a:ext cx="1365120" cy="177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2758320" y="2423520"/>
                <a:ext cx="1117800" cy="151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Rectangle 5"/>
            <p:cNvGrpSpPr/>
            <p:nvPr/>
          </p:nvGrpSpPr>
          <p:grpSpPr>
            <a:xfrm>
              <a:off x="3899160" y="2523960"/>
              <a:ext cx="1370880" cy="1292400"/>
              <a:chOff x="3899160" y="2523960"/>
              <a:chExt cx="1370880" cy="1292400"/>
            </a:xfrm>
          </p:grpSpPr>
          <p:pic>
            <p:nvPicPr>
              <p:cNvPr id="120" name="Rectangl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899160" y="2523960"/>
                <a:ext cx="1370880" cy="12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4025160" y="2654280"/>
                <a:ext cx="1117800" cy="10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Rectangle 6"/>
            <p:cNvGrpSpPr/>
            <p:nvPr/>
          </p:nvGrpSpPr>
          <p:grpSpPr>
            <a:xfrm>
              <a:off x="7702560" y="1822680"/>
              <a:ext cx="1365120" cy="2694600"/>
              <a:chOff x="7702560" y="1822680"/>
              <a:chExt cx="1365120" cy="2694600"/>
            </a:xfrm>
          </p:grpSpPr>
          <p:pic>
            <p:nvPicPr>
              <p:cNvPr id="123" name="Rectangle 6" descr=""/>
              <p:cNvPicPr/>
              <p:nvPr/>
            </p:nvPicPr>
            <p:blipFill>
              <a:blip r:embed="rId5"/>
              <a:stretch/>
            </p:blipFill>
            <p:spPr>
              <a:xfrm>
                <a:off x="7702560" y="1822680"/>
                <a:ext cx="1365120" cy="269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7825680" y="1952280"/>
                <a:ext cx="1117800" cy="24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Rectangle 7"/>
            <p:cNvGrpSpPr/>
            <p:nvPr/>
          </p:nvGrpSpPr>
          <p:grpSpPr>
            <a:xfrm>
              <a:off x="5168880" y="2286000"/>
              <a:ext cx="1365120" cy="1798200"/>
              <a:chOff x="5168880" y="2286000"/>
              <a:chExt cx="1365120" cy="1798200"/>
            </a:xfrm>
          </p:grpSpPr>
          <p:pic>
            <p:nvPicPr>
              <p:cNvPr id="126" name="Rectangle 7" descr=""/>
              <p:cNvPicPr/>
              <p:nvPr/>
            </p:nvPicPr>
            <p:blipFill>
              <a:blip r:embed="rId6"/>
              <a:stretch/>
            </p:blipFill>
            <p:spPr>
              <a:xfrm>
                <a:off x="5168880" y="2286000"/>
                <a:ext cx="1365120" cy="179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292000" y="2411640"/>
                <a:ext cx="1117800" cy="15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Rectangle 8"/>
            <p:cNvGrpSpPr/>
            <p:nvPr/>
          </p:nvGrpSpPr>
          <p:grpSpPr>
            <a:xfrm>
              <a:off x="6432840" y="2054520"/>
              <a:ext cx="1370880" cy="2237400"/>
              <a:chOff x="6432840" y="2054520"/>
              <a:chExt cx="1370880" cy="2237400"/>
            </a:xfrm>
          </p:grpSpPr>
          <p:pic>
            <p:nvPicPr>
              <p:cNvPr id="129" name="Rectangle 8" descr=""/>
              <p:cNvPicPr/>
              <p:nvPr/>
            </p:nvPicPr>
            <p:blipFill>
              <a:blip r:embed="rId7"/>
              <a:stretch/>
            </p:blipFill>
            <p:spPr>
              <a:xfrm>
                <a:off x="6432840" y="2054520"/>
                <a:ext cx="1370880" cy="22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6558840" y="2180880"/>
                <a:ext cx="1117800" cy="19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TextBox 9"/>
            <p:cNvSpPr/>
            <p:nvPr/>
          </p:nvSpPr>
          <p:spPr>
            <a:xfrm>
              <a:off x="1577160" y="300240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Production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2" name="TextBox 10"/>
            <p:cNvSpPr/>
            <p:nvPr/>
          </p:nvSpPr>
          <p:spPr>
            <a:xfrm>
              <a:off x="2832840" y="300240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Assembly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3" name="TextBox 11"/>
            <p:cNvSpPr/>
            <p:nvPr/>
          </p:nvSpPr>
          <p:spPr>
            <a:xfrm>
              <a:off x="4099680" y="299484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Processing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4" name="TextBox 12"/>
            <p:cNvSpPr/>
            <p:nvPr/>
          </p:nvSpPr>
          <p:spPr>
            <a:xfrm>
              <a:off x="5292000" y="2994840"/>
              <a:ext cx="111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Wholesaling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5" name="TextBox 13"/>
            <p:cNvSpPr/>
            <p:nvPr/>
          </p:nvSpPr>
          <p:spPr>
            <a:xfrm>
              <a:off x="6633360" y="2987280"/>
              <a:ext cx="96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Retailing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6" name="TextBox 14"/>
            <p:cNvSpPr/>
            <p:nvPr/>
          </p:nvSpPr>
          <p:spPr>
            <a:xfrm>
              <a:off x="7800840" y="2982600"/>
              <a:ext cx="119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Consumption</a:t>
              </a:r>
              <a:endParaRPr b="0" lang="en-US" sz="1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137" name="Group 19"/>
            <p:cNvGrpSpPr/>
            <p:nvPr/>
          </p:nvGrpSpPr>
          <p:grpSpPr>
            <a:xfrm>
              <a:off x="342000" y="4447080"/>
              <a:ext cx="8578800" cy="456840"/>
              <a:chOff x="342000" y="4447080"/>
              <a:chExt cx="8578800" cy="456840"/>
            </a:xfrm>
          </p:grpSpPr>
          <p:sp>
            <p:nvSpPr>
              <p:cNvPr id="138" name="Right Arrow 15"/>
              <p:cNvSpPr/>
              <p:nvPr/>
            </p:nvSpPr>
            <p:spPr>
              <a:xfrm>
                <a:off x="342000" y="4447080"/>
                <a:ext cx="8578800" cy="456840"/>
              </a:xfrm>
              <a:prstGeom prst="rightArrow">
                <a:avLst>
                  <a:gd name="adj1" fmla="val 50000"/>
                  <a:gd name="adj2" fmla="val 48946"/>
                </a:avLst>
              </a:prstGeom>
              <a:solidFill>
                <a:srgbClr val="0099cc"/>
              </a:solidFill>
              <a:ln w="25560">
                <a:solidFill>
                  <a:srgbClr val="006f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9" name="TextBox 17"/>
              <p:cNvSpPr/>
              <p:nvPr/>
            </p:nvSpPr>
            <p:spPr>
              <a:xfrm>
                <a:off x="700200" y="4530960"/>
                <a:ext cx="76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FLOW OF PRODUCT AND QUALITY INFORMATION</a:t>
                </a:r>
                <a:endParaRPr b="0" lang="en-US" sz="1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20"/>
            <p:cNvGrpSpPr/>
            <p:nvPr/>
          </p:nvGrpSpPr>
          <p:grpSpPr>
            <a:xfrm>
              <a:off x="299160" y="1439640"/>
              <a:ext cx="8578800" cy="456840"/>
              <a:chOff x="299160" y="1439640"/>
              <a:chExt cx="8578800" cy="456840"/>
            </a:xfrm>
          </p:grpSpPr>
          <p:sp>
            <p:nvSpPr>
              <p:cNvPr id="141" name="Right Arrow 16"/>
              <p:cNvSpPr/>
              <p:nvPr/>
            </p:nvSpPr>
            <p:spPr>
              <a:xfrm rot="10800000">
                <a:off x="299160" y="1439280"/>
                <a:ext cx="8578800" cy="456840"/>
              </a:xfrm>
              <a:prstGeom prst="rightArrow">
                <a:avLst>
                  <a:gd name="adj1" fmla="val 50000"/>
                  <a:gd name="adj2" fmla="val 48946"/>
                </a:avLst>
              </a:prstGeom>
              <a:solidFill>
                <a:srgbClr val="0099cc"/>
              </a:solidFill>
              <a:ln w="25560">
                <a:solidFill>
                  <a:srgbClr val="006f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42" name="TextBox 18"/>
              <p:cNvSpPr/>
              <p:nvPr/>
            </p:nvSpPr>
            <p:spPr>
              <a:xfrm>
                <a:off x="800280" y="1514520"/>
                <a:ext cx="767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FLOW OF PAYMENTS AND CONSUMER PREFERENCE INFORMATION</a:t>
                </a:r>
                <a:endParaRPr b="0" lang="en-US" sz="1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TextBox 21"/>
          <p:cNvSpPr/>
          <p:nvPr/>
        </p:nvSpPr>
        <p:spPr>
          <a:xfrm>
            <a:off x="2362320" y="609480"/>
            <a:ext cx="419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Stages in a Marketing Channel</a:t>
            </a:r>
            <a:endParaRPr b="0" lang="en-US" sz="2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TextBox 24"/>
          <p:cNvSpPr/>
          <p:nvPr/>
        </p:nvSpPr>
        <p:spPr>
          <a:xfrm>
            <a:off x="152280" y="5562720"/>
            <a:ext cx="8798040" cy="9471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Institutional players rely on information to reduce transaction costs and improve economic efficiency.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blic Data and Inform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he diversification, value added, etc. of agricultural commodities leads to a significantly increasing number of transactions to record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onfidentialit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 global agricultural economy requires enhanced depth of information --- pork, over 20% of US production exported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Resources left within USD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MS Pork Project…..if data is not captured appropriately, then can do more harm than good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cussion Poi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Public information is not costless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Public information is generally free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Public information availability is not the same as public data availability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Public data Issues - agriculture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Private sector role in creating public information and use of public data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67840"/>
            <a:ext cx="86868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 Balance of Public Inform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Content Placeholder 3" descr=""/>
          <p:cNvPicPr/>
          <p:nvPr/>
        </p:nvPicPr>
        <p:blipFill>
          <a:blip r:embed="rId1"/>
          <a:stretch/>
        </p:blipFill>
        <p:spPr>
          <a:xfrm>
            <a:off x="146160" y="1878120"/>
            <a:ext cx="8547120" cy="49068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228600" y="2438280"/>
            <a:ext cx="3886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Ensuring that firms have the right to realign resources and decision making (productive efficiency) and respond to changes over time (dynamic efficiency), while efficiently allocating societal resources (allocative efficiency)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ormation &amp; Pri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Theory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Grossman &amp; Stiglitz; Hayek; Working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ow information affects pric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Fama – Efficient market hypothesi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hallenged on many occasions, behavioral finan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Why do we care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tein and then Armstrong….forecast accurac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orecast smoothing:  Clements; Nordhau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onsensus view – U. of Illinoi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s of Public Information and Price Respons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eptember 2010 USDA NASS Crop Production Pre-Report Estimate Profile Released by Private Firms up to Two Weeks Prior to the Sept. 10, 2008 Report Dat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2209680" y="2771640"/>
            <a:ext cx="42292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5-31T15:36:04Z</dcterms:modified>
  <cp:revision>10</cp:revision>
  <dc:subject/>
  <dc:title>U.S. Policies Affecting Food and Agricultural Marketing</dc:title>
</cp:coreProperties>
</file>