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8093323-0930-4C78-A6FC-7EDD1957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988AF1-D188-47A1-B52A-A71CA1D6B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833C39-E366-4766-9BFE-972D1808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352AAB-950B-45E9-B2F0-1DBA48B6D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308AA-39B9-4824-B922-E353E970D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DB367-7831-4253-9D37-ECFB3DBA2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3CE97-1C57-48AD-B24C-FF762E1B7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5426F-8F25-4099-903A-D6804A1C4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B2411-99DE-414F-A490-89A3FB2B5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B31FE-63BD-46F5-B4BB-70E373EF3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02E82-FF40-48CA-947E-B37C9721E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88508E-40EA-4731-B32B-F6674C27C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19563-77CD-40AB-9F74-6858E5000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9C48C-D05C-454D-A0D8-7D7D0FCCC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E1FA5-ECC9-4A8E-8ACC-7B18CCB56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8EAC0-1484-4D1B-8DE6-04CB6128C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BADD9-979A-4466-936D-46086C9C3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9E0BD5-3613-4DC5-824E-F1EF08793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814832-6193-495B-9BD4-92DF2D9EE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DF9585-2112-4217-84BC-C1D6FACA4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9EE247-6E1D-489F-A2E9-E0F96FBB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EF17D6-996F-41F7-B320-D60084892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5A5457-E449-4D26-A0A6-3898E3FC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A86615-C8B1-4FE7-8C10-72ADFE9E0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EEDB-9BD4-410D-A8BE-4DA14845564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FAD4-2E05-46BB-9974-D5643BE0DD1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tax treatment of qualified allocated net margins based on patronage, even if retained</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ron must give consent</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imum 20% must be in cash</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tion 521 “exempt” coops can also deduct as taxable income nonpatronage income and capital stock dividends </a:t>
            </a:r>
            <a:endParaRPr b="0" lang="en-US" sz="3200" spc="-1" strike="noStrike">
              <a:solidFill>
                <a:srgbClr val="ffffff"/>
              </a:solidFill>
              <a:latin typeface="Garamond"/>
            </a:endParaRPr>
          </a:p>
        </p:txBody>
      </p:sp>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Performance Evaluation</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llowing allocated margins to be retained </a:t>
            </a:r>
            <a:r>
              <a:rPr b="0" lang="en-US" sz="3200" spc="-1" strike="noStrike" u="sng">
                <a:solidFill>
                  <a:srgbClr val="ffffff"/>
                </a:solidFill>
                <a:uFillTx/>
                <a:latin typeface="Garamond"/>
              </a:rPr>
              <a:t>and</a:t>
            </a:r>
            <a:r>
              <a:rPr b="0" lang="en-US" sz="3200" spc="-1" strike="noStrike">
                <a:solidFill>
                  <a:srgbClr val="ffffff"/>
                </a:solidFill>
                <a:latin typeface="Garamond"/>
              </a:rPr>
              <a:t> if the coop return is higher than the patron’s opportunity cost. If not, neutral or negative efficiency</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neutralizing market power and if refund is distributed in cash. If not, can be neutral or negativ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dynamic efficiency and nonmarket benefits/considerations impacts</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Tax Policy Option Eliminates 521 Exemption</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 coop benefit of 521 relates to securities regulation, few coops utilize, and creates confusion over coop tax stat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llocative, and dynamic efficiency</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benefits/considerations by eliminating an obsolete law</a:t>
            </a:r>
            <a:endParaRPr b="0" lang="en-US" sz="3200" spc="-1" strike="noStrike">
              <a:solidFill>
                <a:srgbClr val="ffffff"/>
              </a:solidFill>
              <a:latin typeface="Garamond"/>
            </a:endParaRPr>
          </a:p>
        </p:txBody>
      </p:sp>
      <p:sp>
        <p:nvSpPr>
          <p:cNvPr id="1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Equity and Debt Financing Policy</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 reliance on member-based qualified retains leads to equity financing problems/considerations vs. C-corporations, which rely on stock sales and on stock value appreciat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ops may issue unqualified allocations by paying higher than the 20% net margin minimum cash (say 40% cash) with the member paying tax on the higher allocation and the coop paying corporate tax</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Bank is an important coop debt capital source, but limited in lending to LLC and new generation coop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op Equity Financing Performance Relative to C Corporation</a:t>
            </a:r>
            <a:endParaRPr b="1" lang="en-US" sz="40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tive efficiency may be enhanced by coop equity and debt financing option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cative efficiency may be enhanced by lower capital costs if coop can maintain competivenes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 efficiency may be enhanced by coop financing flexibil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market benefits/considerations would be neutral</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ase CoBank Debt Financing Authority Policy Option Performance Evaluation    </a:t>
            </a:r>
            <a:endParaRPr b="1" lang="en-US" sz="36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CoBank lending authority to LLC cooperatives and new generation c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allocative, and dynamic  efficiency by broadening the range of coop financing opportuniti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opportunities/benefits in rural areas  </a:t>
            </a:r>
            <a:endParaRPr b="0" lang="en-US" sz="3200" spc="-1" strike="noStrike">
              <a:solidFill>
                <a:srgbClr val="ffffff"/>
              </a:solidFill>
              <a:latin typeface="Garamond"/>
            </a:endParaRPr>
          </a:p>
        </p:txBody>
      </p:sp>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Policy Under Marketing Orders and Agreements</a:t>
            </a:r>
            <a:endParaRPr b="1" lang="en-US" sz="4400" spc="-1" strike="noStrike">
              <a:solidFill>
                <a:srgbClr val="e5e5ff"/>
              </a:solidFill>
              <a:latin typeface="Garamond"/>
            </a:endParaRPr>
          </a:p>
        </p:txBody>
      </p:sp>
      <p:sp>
        <p:nvSpPr>
          <p:cNvPr id="146"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ps play a very important role in supporting the development of marketing orders and agreements for specialty crops and milk</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lk coops have bloc-voting privileges, which allows then to vote orders in or out as a bloc on behalf of all members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ty crop marketing orders may be more dynamic in adjusting to changing consumer demands than federal milk marketing orders </a:t>
            </a:r>
            <a:endParaRPr b="0" lang="en-US" sz="3200" spc="-1" strike="noStrike">
              <a:solidFill>
                <a:srgbClr val="ffffff"/>
              </a:solidFill>
              <a:latin typeface="Garamond"/>
            </a:endParaRPr>
          </a:p>
        </p:txBody>
      </p:sp>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lk Marketing Order Coop Policy Performance Evaluation</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may be enhanced by fostering larger, more scale-efficient, coop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would be enhanced if the coop paid higher </a:t>
            </a:r>
            <a:r>
              <a:rPr b="0" lang="en-US" sz="2800" spc="-1" strike="noStrike" u="sng">
                <a:solidFill>
                  <a:srgbClr val="ffffff"/>
                </a:solidFill>
                <a:uFillTx/>
                <a:latin typeface="Garamond"/>
              </a:rPr>
              <a:t>and</a:t>
            </a:r>
            <a:r>
              <a:rPr b="0" lang="en-US" sz="2800" spc="-1" strike="noStrike">
                <a:solidFill>
                  <a:srgbClr val="ffffff"/>
                </a:solidFill>
                <a:latin typeface="Garamond"/>
              </a:rPr>
              <a:t> cost-justified milk prices to all patrons. If not cost justified, allocative efficiency could be reduced.</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reduced by obsolete institutional and pricing arrangements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reduced when individual farmers opinions are not represented in order decisions</a:t>
            </a:r>
            <a:endParaRPr b="0" lang="en-US" sz="2800" spc="-1" strike="noStrike">
              <a:solidFill>
                <a:srgbClr val="ffffff"/>
              </a:solidFill>
              <a:latin typeface="Garamond"/>
            </a:endParaRPr>
          </a:p>
        </p:txBody>
      </p:sp>
      <p:sp>
        <p:nvSpPr>
          <p:cNvPr id="1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liminate Milk Order Coop Bloc Voting Policy Option Evaluation </a:t>
            </a:r>
            <a:endParaRPr b="1" lang="en-US" sz="36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could be reduced by curbing milk coop growth</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may be increased as marketing order decisions more fully reflect the will of farmers. It may decrease, if coops better understand complex order provisions than the majority of farme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may be fostered, reducing resistance to institutional change</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reflecting milk producer opinions</a:t>
            </a:r>
            <a:endParaRPr b="0" lang="en-US" sz="2800" spc="-1" strike="noStrike">
              <a:solidFill>
                <a:srgbClr val="ffffff"/>
              </a:solidFill>
              <a:latin typeface="Garamond"/>
            </a:endParaRPr>
          </a:p>
        </p:txBody>
      </p:sp>
      <p:sp>
        <p:nvSpPr>
          <p:cNvPr id="15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ew Generation Coop Policies and State Laws</a:t>
            </a:r>
            <a:endParaRPr b="1" lang="en-US" sz="36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supported by state laws, allow increased cooperative ability to generate equity capital b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ing nonmember, nonfarmer, nonpatron investor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investors have right to profit margins and voting rights</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have at least 50% representation on Board</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ron/members vote as a bloc, nonpatron members vote individually</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generation coops may be treated as limited-liability company</a:t>
            </a:r>
            <a:endParaRPr b="0" lang="en-US" sz="2400" spc="-1" strike="noStrike">
              <a:solidFill>
                <a:srgbClr val="ffffff"/>
              </a:solidFill>
              <a:latin typeface="Garamond"/>
            </a:endParaRPr>
          </a:p>
          <a:p>
            <a:pPr marL="294840" indent="-294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characteristics may be essential for competing in evolving supply chains</a:t>
            </a:r>
            <a:endParaRPr b="0" lang="en-US" sz="2400" spc="-1" strike="noStrike">
              <a:solidFill>
                <a:srgbClr val="ffffff"/>
              </a:solidFill>
              <a:latin typeface="Garamond"/>
            </a:endParaRPr>
          </a:p>
        </p:txBody>
      </p:sp>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Managing the Supply Chain Through Cooperatives and Contract Integration</a:t>
            </a:r>
            <a:endParaRPr b="1" lang="en-US" sz="54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bert A. Cropp</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Coop Policy Performance Evaluation</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Productive efficiency may be increased by access to outside capital</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Allocative efficiency may be increased by employing supply-managed strategies of C-corporations</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Dynamic efficiency may be enhanced by increased management flexibility</a:t>
            </a:r>
            <a:endParaRPr b="0" lang="en-US" sz="3100" spc="-1" strike="noStrike">
              <a:solidFill>
                <a:srgbClr val="ffffff"/>
              </a:solidFill>
              <a:latin typeface="Garamond"/>
            </a:endParaRPr>
          </a:p>
          <a:p>
            <a:pPr marL="332640" indent="-332640">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aramond"/>
              </a:rPr>
              <a:t>Nonmarket benefits may be enhanced by increased rural economic activity </a:t>
            </a:r>
            <a:endParaRPr b="0" lang="en-US" sz="31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Generation Federal and/or Uniform State Policy Options  </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e new generation cooperative legal concepts into existing coop policies by eliminating inconsistencies such as the Capper-Volstead exemp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option of uniform state cooperative model statute that encompasses traditional and new generation coops </a:t>
            </a:r>
            <a:endParaRPr b="0" lang="en-US" sz="3200" spc="-1" strike="noStrike">
              <a:solidFill>
                <a:srgbClr val="ffffff"/>
              </a:solidFill>
              <a:latin typeface="Garamond"/>
            </a:endParaRPr>
          </a:p>
        </p:txBody>
      </p:sp>
      <p:sp>
        <p:nvSpPr>
          <p:cNvPr id="16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New Generation Performance Evaluation Identical for both Options: Issue Feasibility </a:t>
            </a:r>
            <a:endParaRPr b="1" lang="en-US" sz="32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productive efficiency by providing uniformity in outside capital access</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allocative efficiency by facilitating the development of supply-chain managed systems </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enhance dynamic efficiency by increasing management flexibility</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Both options foster nonmarket investments in rural areas </a:t>
            </a:r>
            <a:endParaRPr b="0" lang="en-US" sz="3000" spc="-1" strike="noStrike">
              <a:solidFill>
                <a:srgbClr val="ffffff"/>
              </a:solidFill>
              <a:latin typeface="Garamond"/>
            </a:endParaRPr>
          </a:p>
        </p:txBody>
      </p:sp>
      <p:sp>
        <p:nvSpPr>
          <p:cNvPr id="16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Trade Practices Act (AFPA) Bargaining Policy</a:t>
            </a:r>
            <a:endParaRPr b="1" lang="en-US" sz="44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ed to improve market relationships in negotiating contracts with larger C corporate managed supply chain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hibits practices involving farmer coercion to sign contracts, refusing to deal, membership discrimination,  making false statements, conspiring with other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effective because of provision allowing integrators to select producer/suppliers for any reason other than membership in a bargaining association.</a:t>
            </a:r>
            <a:endParaRPr b="0" lang="en-US" sz="2800" spc="-1" strike="noStrike">
              <a:solidFill>
                <a:srgbClr val="ffffff"/>
              </a:solidFill>
              <a:latin typeface="Garamond"/>
            </a:endParaRPr>
          </a:p>
        </p:txBody>
      </p:sp>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riculture Fair Practices Act Bargaining Policy Performance</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providing integrators with legal grounds for refusing to bargain:</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mpacts have been neutral</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have not been realized</a:t>
            </a:r>
            <a:endParaRPr b="0" lang="en-US" sz="28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Option to AFPA</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 plain contract language with risk disclosu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3-day contract cancellation perio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producers first priority lien in event of integrator bankrupt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capricious/retribution contract termin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 tournament contracts</a:t>
            </a:r>
            <a:endParaRPr b="0" lang="en-US" sz="3200" spc="-1" strike="noStrike">
              <a:solidFill>
                <a:srgbClr val="ffffff"/>
              </a:solidFill>
              <a:latin typeface="Garamond"/>
            </a:endParaRPr>
          </a:p>
        </p:txBody>
      </p:sp>
      <p:sp>
        <p:nvSpPr>
          <p:cNvPr id="17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ducer Protection Act Performance Evaluation</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would be neutral because scale of operations would not be affected</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could be increased by making contract terms transparent and more evenly distributed in terms of risk sharin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would increase by allowing producer adjustment to changing risk condit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would be realized by improving the market and risk position of contract producer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erative Support Policy</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Historically USDA provided coop marketing, education, information/statistics and technical assistance</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1994, coop service agency status was removed and merged as a coop program into USDA’s rural development program</a:t>
            </a:r>
            <a:endParaRPr b="0" lang="en-US" sz="3000" spc="-1" strike="noStrike">
              <a:solidFill>
                <a:srgbClr val="ffffff"/>
              </a:solidFill>
              <a:latin typeface="Garamond"/>
            </a:endParaRPr>
          </a:p>
          <a:p>
            <a:pPr marL="329040" indent="-3290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xcept for the statistics and minority coop assistance, coop support has been largely eliminated  </a:t>
            </a:r>
            <a:endParaRPr b="0" lang="en-US" sz="3000" spc="-1" strike="noStrike">
              <a:solidFill>
                <a:srgbClr val="ffffff"/>
              </a:solidFill>
              <a:latin typeface="Garamond"/>
            </a:endParaRPr>
          </a:p>
        </p:txBody>
      </p:sp>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Support Performance</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Productive efficiency reduced by decreases in cooperative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llocative efficiency reduced by decreased analyses of coop competitiveness research and technical assistance</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Dynamic efficiency reduced by lack of information about changes in coop market position</a:t>
            </a:r>
            <a:endParaRPr b="0" lang="en-US" sz="3000" spc="-1" strike="noStrike">
              <a:solidFill>
                <a:srgbClr val="ffffff"/>
              </a:solidFill>
              <a:latin typeface="Garamond"/>
            </a:endParaRPr>
          </a:p>
          <a:p>
            <a:pPr marL="308520" indent="-3085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nmarket benefits increased for minority coops</a:t>
            </a:r>
            <a:endParaRPr b="0" lang="en-US" sz="3000" spc="-1" strike="noStrike">
              <a:solidFill>
                <a:srgbClr val="ffffff"/>
              </a:solidFill>
              <a:latin typeface="Garamond"/>
            </a:endParaRPr>
          </a:p>
        </p:txBody>
      </p:sp>
      <p:sp>
        <p:nvSpPr>
          <p:cNvPr id="18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DA’s Coop Agency Restoration Policy Performance </a:t>
            </a:r>
            <a:endParaRPr b="1" lang="en-US" sz="4400" spc="-1" strike="noStrike">
              <a:solidFill>
                <a:srgbClr val="e5e5ff"/>
              </a:solidFill>
              <a:latin typeface="Garamond"/>
            </a:endParaRPr>
          </a:p>
        </p:txBody>
      </p:sp>
      <p:sp>
        <p:nvSpPr>
          <p:cNvPr id="18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ve efficiency increased with increased emphasis on scale economies and needed supply chain adjust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cative efficiency increased with increased emphasis on cooperative competitivenes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namic efficiency increased with increased emphasis coop adjustment to supply chain development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market benefits enhanced by increased coop development in rural areas</a:t>
            </a:r>
            <a:endParaRPr b="0" lang="en-US" sz="2800" spc="-1" strike="noStrike">
              <a:solidFill>
                <a:srgbClr val="ffffff"/>
              </a:solidFill>
              <a:latin typeface="Garamond"/>
            </a:endParaRPr>
          </a:p>
        </p:txBody>
      </p:sp>
      <p:sp>
        <p:nvSpPr>
          <p:cNvPr id="18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ssessment of Need to Modernize Public Sector Coop Law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position of coop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alysis and efficiency performance evaluation of existing law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Description and efficiency performance evaluation of policy option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Limited to marketing and bargaining coops</a:t>
            </a:r>
            <a:r>
              <a:rPr b="0" lang="en-US" sz="3600" spc="-1" strike="noStrike">
                <a:solidFill>
                  <a:srgbClr val="ffffff"/>
                </a:solidFill>
                <a:latin typeface="Times New Roman"/>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Support for Cooperatives</a:t>
            </a:r>
            <a:endParaRPr b="1" lang="en-US" sz="4400" spc="-1" strike="noStrike">
              <a:solidFill>
                <a:srgbClr val="e5e5ff"/>
              </a:solidFill>
              <a:latin typeface="Garamond"/>
            </a:endParaRPr>
          </a:p>
        </p:txBody>
      </p:sp>
      <p:sp>
        <p:nvSpPr>
          <p:cNvPr id="18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statutory and university support, fostered by farmer interests, dates back to the early 1900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coop councils and institutes in major coop states provide information and education support to youth, coop members, and coop boards of director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versity coop centers and professorial coop chairs provide leadership in cooperative teaching and research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t overall state and university support has declined substantially in the past 30 years</a:t>
            </a:r>
            <a:endParaRPr b="0" lang="en-US" sz="2800" spc="-1" strike="noStrike">
              <a:solidFill>
                <a:srgbClr val="ffffff"/>
              </a:solidFill>
              <a:latin typeface="Garamond"/>
            </a:endParaRPr>
          </a:p>
        </p:txBody>
      </p:sp>
      <p:sp>
        <p:nvSpPr>
          <p:cNvPr id="1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ate/Private Sector Coop Performance Evaluation</a:t>
            </a:r>
            <a:endParaRPr b="1" lang="en-US" sz="4400" spc="-1" strike="noStrike">
              <a:solidFill>
                <a:srgbClr val="e5e5ff"/>
              </a:solidFill>
              <a:latin typeface="Garamond"/>
            </a:endParaRPr>
          </a:p>
        </p:txBody>
      </p:sp>
      <p:sp>
        <p:nvSpPr>
          <p:cNvPr id="19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duc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ocative efficiency increases by increased state/private sector statutory education and research support</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ncreased state/private sector statutory education and research support fosters dynamic market change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Nonmarket benefits result from coop growth in rural areas</a:t>
            </a:r>
            <a:endParaRPr b="0" lang="en-US" sz="2600" spc="-1" strike="noStrike">
              <a:solidFill>
                <a:srgbClr val="ffffff"/>
              </a:solidFill>
              <a:latin typeface="Garamond"/>
            </a:endParaRPr>
          </a:p>
          <a:p>
            <a:pPr marL="294840" indent="-29484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l of these efficiency and nonmarket benefits would be accelerated by further expansion of state/private sector support </a:t>
            </a:r>
            <a:endParaRPr b="0" lang="en-US" sz="2600" spc="-1" strike="noStrike">
              <a:solidFill>
                <a:srgbClr val="ffffff"/>
              </a:solidFill>
              <a:latin typeface="Garamond"/>
            </a:endParaRPr>
          </a:p>
        </p:txBody>
      </p:sp>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cy performance impacts generally positive but could be further improved</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tutory undergirding and support crucial to improving perform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ation of new generation coops is clear indication of coop dynamic efficienc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 education essential for accomplishing nonmarket social justice benefits  </a:t>
            </a:r>
            <a:endParaRPr b="0" lang="en-US" sz="3200" spc="-1" strike="noStrike">
              <a:solidFill>
                <a:srgbClr val="ffffff"/>
              </a:solidFill>
              <a:latin typeface="Garamond"/>
            </a:endParaRPr>
          </a:p>
        </p:txBody>
      </p:sp>
      <p:sp>
        <p:nvSpPr>
          <p:cNvPr id="19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ng History of Federal and State Support for Coops</a:t>
            </a:r>
            <a:br>
              <a:rPr sz="4400"/>
            </a:b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organize without violating antitrust law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ight to be taxed as a single ent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ccess to Farm Credit System financ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Marketing order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Bargaining suppor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Research and technical assist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Date Placeholder 2"/>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p Business Scorecard by Era</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ot market declining but still important in grai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rtical integration, milk coops major survivor</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ization wave to higher valued soy and dairy export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ly chain management, new generation coop and local food wa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se of biofuel wave of coop activity </a:t>
            </a:r>
            <a:endParaRPr b="0" lang="en-US" sz="3200" spc="-1" strike="noStrike">
              <a:solidFill>
                <a:srgbClr val="ffffff"/>
              </a:solidFill>
              <a:latin typeface="Garamond"/>
            </a:endParaRPr>
          </a:p>
        </p:txBody>
      </p:sp>
      <p:sp>
        <p:nvSpPr>
          <p:cNvPr id="11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 Coop Challenges</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grating farmer/members and coops into supply chai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fficiently adjusting to dynamic market condition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nize systems and institutions to generate sufficient capita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pping into growing consumer preferences for fresh, quality, local food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Coop Policy Foundation</a:t>
            </a:r>
            <a:endParaRPr b="1" lang="en-US" sz="4400" spc="-1" strike="noStrike">
              <a:solidFill>
                <a:srgbClr val="e5e5ff"/>
              </a:solidFill>
              <a:latin typeface="Garamond"/>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ables farmers to organize and market products as marketing agents in comm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mited exemption jointly administered by USDA and Department of Justic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erformance Evaluation </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productive efficiency by achieving scale economi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competition, cost-justified pricing, and margin allocation</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dynamic efficiency by pace-making adjustment to market condition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nonmarket efficiency through expanded local community economic activity</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pper-Volstead Policy Option Clarifying Antitrust Enforcement </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int USDA-DOJ enforcement responsibilit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utral impacts on productive and dynamic efficiency, and on nonmarket outcom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es allocative efficiency by increased assurance of competitive market conduct </a:t>
            </a:r>
            <a:endParaRPr b="0" lang="en-US" sz="32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cp:lastPrinted>2012-01-30T14:40:42Z</cp:lastPrinted>
  <dcterms:modified xsi:type="dcterms:W3CDTF">2012-06-04T22:17:08Z</dcterms:modified>
  <cp:revision>52</cp:revision>
  <dc:subject/>
  <dc:title>U.S. Policies Affecting Food and Agricultural Marketing</dc:title>
</cp:coreProperties>
</file>