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A1EF-AFE4-4763-92F5-968C91722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D427-8E7A-4484-AD7F-80D957D73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FBDB-7293-4EA2-A199-78DBD49F0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3D343-DF89-41DA-9B88-B0E46929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2FFF4-1463-4259-B25A-B1029EF0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F61FC-D58A-4605-8CCE-475BF97E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77707-F77F-4EFE-B082-78DE9D55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B2EF-1462-465F-9004-580E4A4B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6E8C-8874-48B2-B198-703B02F9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1074-F4C6-4BCB-84AA-9D2F76FC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DCC7-3FC7-4C9B-A2DD-7A1ED156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AD7B-73D4-437C-B603-D9E052FD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B672-C71A-4128-99D0-72E096F6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3D1F-72D9-44EE-8A98-74CE4042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23F1E-F31F-4D8C-92D7-96AE5B68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2767-214F-4F48-A2C3-55C00A74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E6DC-6612-4985-BA66-F2F88D25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7C78-0702-41C7-8FEC-DCE16960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008C-5463-4D5C-B90F-71CDCE07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F7CB-108E-4AC2-8BF2-4109A4D2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3400F-C66B-469A-B1AB-7268DEF1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A99BB-AB65-428A-83D0-6D7927AB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C7B1A-B886-4BB2-8409-4A184B2A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51ABA-E8CB-440E-A81C-B2A1CB7B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CFAD5-78C6-4241-B3AF-9E0F18CC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ADDFA-4B01-46CF-BD9D-1A2F7E31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5BF2E-153E-4F55-B771-9FD97E5B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F727-5E38-439D-82C1-1A1FE6CC53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D901-9635-415F-AF60-3CEEC990D5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cces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fordable food: Consumers spend an average of only 12-14% of their disposable income on all food in 2010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69084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most 1/2 of food dollars and 1/3 of food volume is from  restaurants/foodservic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erage farm income is as high or higher than  that of urban househol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than adequate nutrition? The dual problem of growing obesity and growing hunger/poverty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457200" y="62514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olume of Food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U.S. produced 1.3 trillion pounds of raw food commodities in 2009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3% went to animal fe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8% went to expor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~50% went to food manufacturing and processing –including fresh produ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ong the supply chain roughly 1/3 is lost – wasted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rocess 8"/>
          <p:cNvSpPr/>
          <p:nvPr/>
        </p:nvSpPr>
        <p:spPr>
          <a:xfrm>
            <a:off x="6553080" y="152280"/>
            <a:ext cx="2448000" cy="5337360"/>
          </a:xfrm>
          <a:prstGeom prst="flowChartProcess">
            <a:avLst/>
          </a:prstGeom>
          <a:gradFill rotWithShape="0">
            <a:gsLst>
              <a:gs pos="0">
                <a:srgbClr val="ccffcc"/>
              </a:gs>
              <a:gs pos="100000">
                <a:srgbClr val="000000"/>
              </a:gs>
            </a:gsLst>
            <a:lin ang="1524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Edible Food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Garamond"/>
              </a:rPr>
              <a:t>(By order of weight-B. lbs.) 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Veg. Proc. 63.3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Dairy Prod. 62.4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Veg. Fresh 56.9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Wheat Fl. 41.3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Fruit Proc. 39.9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Fruit Fresh 39.3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Red Meat 32.3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Veg. fats 22.4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Poultry 21.2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Sugar 19.6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Corn Swt. 15.4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Eggs 9.7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Rice 6.5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Fish/seafd. 4.9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Oats 2.4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Animal fat 2.3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Peanuts 2.2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Legumes 1.8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Tree nuts 1.2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Barley 0.5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8" name="Right Arrow Callout 3"/>
          <p:cNvSpPr/>
          <p:nvPr/>
        </p:nvSpPr>
        <p:spPr>
          <a:xfrm>
            <a:off x="380880" y="762120"/>
            <a:ext cx="3911760" cy="5113080"/>
          </a:xfrm>
          <a:prstGeom prst="rightArrowCallout">
            <a:avLst>
              <a:gd name="adj1" fmla="val 49929"/>
              <a:gd name="adj2" fmla="val 24998"/>
              <a:gd name="adj3" fmla="val 25000"/>
              <a:gd name="adj4" fmla="val 64977"/>
            </a:avLst>
          </a:prstGeom>
          <a:gradFill rotWithShape="0">
            <a:gsLst>
              <a:gs pos="0">
                <a:srgbClr val="ffffff"/>
              </a:gs>
              <a:gs pos="100000">
                <a:srgbClr val="326a94"/>
              </a:gs>
            </a:gsLst>
            <a:lin ang="108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rop Production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(Billion lbs.)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orn &amp; feed grains 772.5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oybeans 210.7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Oats 8.7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arley 15.9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ye 0.7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heat 42.5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ice 26.9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Fruit 32.9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egetables128.7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ugar15.9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Legumes 3.9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2446920" y="2895480"/>
            <a:ext cx="12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514"/>
                </a:solidFill>
                <a:latin typeface="Times New Roman"/>
              </a:rPr>
              <a:t>Animal Feed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514"/>
                </a:solidFill>
                <a:latin typeface="Times New Roman"/>
              </a:rPr>
              <a:t>416 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0" name="Pentagon 6" descr=""/>
          <p:cNvPicPr/>
          <p:nvPr/>
        </p:nvPicPr>
        <p:blipFill>
          <a:blip r:embed="rId1"/>
          <a:stretch/>
        </p:blipFill>
        <p:spPr>
          <a:xfrm>
            <a:off x="3681360" y="2103480"/>
            <a:ext cx="1981080" cy="2608200"/>
          </a:xfrm>
          <a:prstGeom prst="rect">
            <a:avLst/>
          </a:prstGeom>
          <a:ln w="0">
            <a:noFill/>
          </a:ln>
        </p:spPr>
      </p:pic>
      <p:sp>
        <p:nvSpPr>
          <p:cNvPr id="221" name="Right Arrow 7"/>
          <p:cNvSpPr/>
          <p:nvPr/>
        </p:nvSpPr>
        <p:spPr>
          <a:xfrm rot="19786800">
            <a:off x="2941200" y="725400"/>
            <a:ext cx="1997280" cy="1225800"/>
          </a:xfrm>
          <a:prstGeom prst="rightArrow">
            <a:avLst>
              <a:gd name="adj1" fmla="val 50000"/>
              <a:gd name="adj2" fmla="val 48896"/>
            </a:avLst>
          </a:prstGeom>
          <a:gradFill rotWithShape="0">
            <a:gsLst>
              <a:gs pos="0">
                <a:srgbClr val="ffffff"/>
              </a:gs>
              <a:gs pos="100000">
                <a:srgbClr val="cbb6ec"/>
              </a:gs>
            </a:gsLst>
            <a:lin ang="12612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Garamond"/>
              </a:rPr>
              <a:t>Exports Bulk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230.6 B. lbs.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8220960" y="61740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3" name="Right Arrow 15"/>
          <p:cNvSpPr/>
          <p:nvPr/>
        </p:nvSpPr>
        <p:spPr>
          <a:xfrm>
            <a:off x="2819520" y="4114800"/>
            <a:ext cx="3859200" cy="14479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a886e0"/>
              </a:gs>
            </a:gsLst>
            <a:lin ang="108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4" name="TextBox 18"/>
          <p:cNvSpPr/>
          <p:nvPr/>
        </p:nvSpPr>
        <p:spPr>
          <a:xfrm>
            <a:off x="2949480" y="464832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Times New Roman"/>
              </a:rPr>
              <a:t>Food Processing/handling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5" name="Down Arrow 20"/>
          <p:cNvSpPr/>
          <p:nvPr/>
        </p:nvSpPr>
        <p:spPr>
          <a:xfrm>
            <a:off x="3598920" y="5176800"/>
            <a:ext cx="2287440" cy="1308240"/>
          </a:xfrm>
          <a:prstGeom prst="downArrow">
            <a:avLst>
              <a:gd name="adj1" fmla="val 50000"/>
              <a:gd name="adj2" fmla="val 50699"/>
            </a:avLst>
          </a:prstGeom>
          <a:gradFill rotWithShape="0">
            <a:gsLst>
              <a:gs pos="0">
                <a:srgbClr val="cbb6e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Garamond"/>
              </a:rPr>
              <a:t>Exports High Value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348.9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B. lbs.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6" name="TextBox 21"/>
          <p:cNvSpPr/>
          <p:nvPr/>
        </p:nvSpPr>
        <p:spPr>
          <a:xfrm>
            <a:off x="272880" y="6448320"/>
            <a:ext cx="869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Approximations based on 2009 data from http://www.ers.usda.gov/data/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Right Arrow 22"/>
          <p:cNvSpPr/>
          <p:nvPr/>
        </p:nvSpPr>
        <p:spPr>
          <a:xfrm rot="1726800">
            <a:off x="4827240" y="709560"/>
            <a:ext cx="2003400" cy="125892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ffffff"/>
              </a:gs>
              <a:gs pos="100000">
                <a:srgbClr val="a886e0"/>
              </a:gs>
            </a:gsLst>
            <a:lin ang="9072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Garamond"/>
              </a:rPr>
              <a:t>Imports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66.8 B. lbs.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8" name="TextBox 23"/>
          <p:cNvSpPr/>
          <p:nvPr/>
        </p:nvSpPr>
        <p:spPr>
          <a:xfrm>
            <a:off x="235800" y="152280"/>
            <a:ext cx="53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Flow of Food in U.S. Food System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Half Frame 25"/>
          <p:cNvSpPr/>
          <p:nvPr/>
        </p:nvSpPr>
        <p:spPr>
          <a:xfrm rot="2428800">
            <a:off x="6891120" y="5924520"/>
            <a:ext cx="1927080" cy="1712880"/>
          </a:xfrm>
          <a:prstGeom prst="pie">
            <a:avLst/>
          </a:prstGeom>
          <a:gradFill rotWithShape="0">
            <a:gsLst>
              <a:gs pos="0">
                <a:srgbClr val="dccff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0" name="TextBox 26"/>
          <p:cNvSpPr/>
          <p:nvPr/>
        </p:nvSpPr>
        <p:spPr>
          <a:xfrm rot="18620400">
            <a:off x="6719040" y="5992560"/>
            <a:ext cx="149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99"/>
                </a:solidFill>
                <a:latin typeface="Times New Roman"/>
              </a:rPr>
              <a:t>Food Away from home</a:t>
            </a:r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99"/>
                </a:solidFill>
                <a:latin typeface="Times New Roman"/>
              </a:rPr>
              <a:t>1/3 volume eaten</a:t>
            </a:r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TextBox 27"/>
          <p:cNvSpPr/>
          <p:nvPr/>
        </p:nvSpPr>
        <p:spPr>
          <a:xfrm rot="2332800">
            <a:off x="7750800" y="6148800"/>
            <a:ext cx="1212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99"/>
                </a:solidFill>
                <a:latin typeface="Times New Roman"/>
              </a:rPr>
              <a:t>Food at Home</a:t>
            </a:r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99"/>
                </a:solidFill>
                <a:latin typeface="Times New Roman"/>
              </a:rPr>
              <a:t>2/3 volume eaten</a:t>
            </a:r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Bent Arrow 28"/>
          <p:cNvSpPr/>
          <p:nvPr/>
        </p:nvSpPr>
        <p:spPr>
          <a:xfrm rot="9645600">
            <a:off x="5687640" y="5235120"/>
            <a:ext cx="1477800" cy="1047960"/>
          </a:xfrm>
          <a:prstGeom prst="pie">
            <a:avLst/>
          </a:prstGeom>
          <a:solidFill>
            <a:srgbClr val="acac13"/>
          </a:soli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3" name="TextBox 31"/>
          <p:cNvSpPr/>
          <p:nvPr/>
        </p:nvSpPr>
        <p:spPr>
          <a:xfrm rot="20199600">
            <a:off x="6070320" y="581004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Times New Roman"/>
              </a:rPr>
              <a:t>Waste 30-50%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Rectangle 33"/>
          <p:cNvSpPr/>
          <p:nvPr/>
        </p:nvSpPr>
        <p:spPr>
          <a:xfrm>
            <a:off x="5715000" y="2286000"/>
            <a:ext cx="1295280" cy="1676520"/>
          </a:xfrm>
          <a:prstGeom prst="rect">
            <a:avLst/>
          </a:pr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Garamond"/>
              </a:rPr>
              <a:t>Beverag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Garamond"/>
              </a:rPr>
              <a:t>(B. lbs.)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Carb. Soda 114.0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Alcohol 61.4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Juices 18.2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Coffee/tea 7.5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5" name="Rectangle 19"/>
          <p:cNvSpPr/>
          <p:nvPr/>
        </p:nvSpPr>
        <p:spPr>
          <a:xfrm>
            <a:off x="3600" y="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igure 2.3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imal Prote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at &amp; Poultry sector receives over half of agricultural cash receip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ailability grew 5%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71 – 2009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with poultry up 104% and red meat down 22%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sh &amp; seafood up 37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lth warnings about red meat’s connection to heart disease and cancer led this chan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novation in production of poultry and fish lowered costs relative to red mea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novation Leads to Consolid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xed beef – led to efficiencies in the supply chai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ive breeding led to leaner por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imal welfare concerns force new production and slaughter metho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ce to be the low-cost provider leads to efficient operation and consolid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t packing firms and retailers the most concentrated after genomics compan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figure_310_full.jpg"/>
          <p:cNvPicPr/>
          <p:nvPr/>
        </p:nvPicPr>
        <p:blipFill>
          <a:blip r:embed="rId1"/>
          <a:stretch/>
        </p:blipFill>
        <p:spPr>
          <a:xfrm>
            <a:off x="152280" y="1371600"/>
            <a:ext cx="8842320" cy="5029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330120" y="635940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Source: Buhr and Ginn, 2011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380880" y="30492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Meat Supply Chain Concentration With Department of Justice (DOJ) Concentration  Classification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600" y="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igure 2.4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uits and Vegetabl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rease with Health Nee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90 – 2009 fresh fruits and vegetables increased 35% and 29% respective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stent with increased trade – Canada, Mexico, Chil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stent with quest for organic production, local foods, healthier school lunches, and rising incom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vernment support for production lags that of other commodit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457200" y="625140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uits and Vegetables 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rease with Health Nee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ing Orders have helped manage price ris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omics links produce to potential illness c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ventative health measures linked to fresh produce consump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suring year around supply  leads to “preferred suppliers” which leads to consolid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safety issues rise with more fresh fo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“kill step” between field and for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preferences evolve with increased income,  food exposure and demographic chan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versal hierarchy of preferences follows a pattern set by Maslow’s Hierarchy of Psychological Nee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sic needs come first –Nutritious, Affordable, Saf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ste and Convenience follow quickly behi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457200" y="625140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2"/>
          <p:cNvSpPr/>
          <p:nvPr/>
        </p:nvSpPr>
        <p:spPr>
          <a:xfrm>
            <a:off x="1066680" y="457200"/>
            <a:ext cx="7010640" cy="5486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326a94"/>
              </a:gs>
            </a:gsLst>
            <a:lin ang="564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6" name="Line 3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3048120" y="289548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2590920" y="35812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2133720" y="4419720"/>
            <a:ext cx="4800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1523880" y="518148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2133720" y="533412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Nutritious, Safe, Cheap (Sustains Life)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2879640" y="4648320"/>
            <a:ext cx="314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Tastes Good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3565440" y="3747960"/>
            <a:ext cx="18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onvenient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3581280" y="3062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Variety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2895480" y="2362320"/>
            <a:ext cx="32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Improve Health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62520" y="1219320"/>
            <a:ext cx="109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a7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c39c00"/>
                </a:solidFill>
                <a:latin typeface="Times New Roman"/>
              </a:rPr>
              <a:t>tatus’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9c00"/>
                </a:solidFill>
                <a:latin typeface="Times New Roman"/>
              </a:rPr>
              <a:t>Social Caus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1371600" y="762120"/>
            <a:ext cx="160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990720" y="58672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HIERARCHY OF FOOD CHOICE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3600" y="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igure 2.5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0" name="Date Placeholder 3"/>
          <p:cNvSpPr/>
          <p:nvPr/>
        </p:nvSpPr>
        <p:spPr>
          <a:xfrm>
            <a:off x="228600" y="632448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457200" y="624852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1736640"/>
            <a:ext cx="86868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hapter 2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Expectations and Realities of the Food System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an D. Kins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.S. population generally enjoys the basic nee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eptions are “food desserts” and homelessn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 assistance programs of USDA help ensure basic food needs are met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hool lunches and breakfa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men, Infants and Children programs (WIC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lemental Nutrition Assistance Program (SNAP – food stamps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thers that deliver food direct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venience dominates food choices – right after tas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umers pay for someone else to harvest and prepare their food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ed, ready-to-eat or heat foods for home or off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taurants – especially fast food pla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lf of food from restaurants is “taken-out.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fety is taken for granted in U.S. food 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et, 48 million people get foodborne illness and 3000 die annu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erous food recalls lead to eroded confidence in the safety of the food 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fidence fell from 70% to 33% between the  1990’s and 2008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_x0006_Food Modernization Act of 2011 helps to ensure traceability of food along the supply chain and better identify sources of safety/quality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ng term chronic illnesses related to food consumption add to food safety issu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s with allergens, foods that seem addictive, excess salt, sugar or fa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Date Placeholder 3"/>
          <p:cNvSpPr/>
          <p:nvPr/>
        </p:nvSpPr>
        <p:spPr>
          <a:xfrm>
            <a:off x="457200" y="625140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ety increases due to exposure to  larger number of “ethnic” foods, food innovation, line extensions by manufacturers and more “store brands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1,519 new foods and beverages were introduced on average, per year between 2006 and 2009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ore brands are more than 25% of offerings in large stores in 201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umers experience diminishing returns in the consumption of repeated food choi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743040" indent="-343080">
              <a:spcBef>
                <a:spcPts val="700"/>
              </a:spcBef>
              <a:buClr>
                <a:srgbClr val="9879c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ek new and different experienc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743040" indent="-343080">
              <a:spcBef>
                <a:spcPts val="700"/>
              </a:spcBef>
              <a:buClr>
                <a:srgbClr val="9879c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 seen as an experience as well as nourishmen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ess variety confuses consume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earch shows multiple choices takes more shopping ti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essive choices lead to no purchases at all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Date Placeholder 3"/>
          <p:cNvSpPr/>
          <p:nvPr/>
        </p:nvSpPr>
        <p:spPr>
          <a:xfrm>
            <a:off x="457200" y="625140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treme Health -- Food choice and diets tailored to enhance normal health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as preventative medicin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ural (unprocessed) foo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s processed with added nutrients--Calcium, Vitamin C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ergy drin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om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althy eating leads to lower health care cos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tus and Social Causes lead food tre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ncome and education rise, so does the quest of newer and better foods and drink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01040" indent="-154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picuous Consumption” ala Veblan (1899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01040" indent="-154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noisseur Culture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vironmental concerns and lifestyle quests support organic farming and the demand for organic, local, and natural fo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laps with concerns for personal health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01040" indent="-154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01040" indent="-154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Date Placeholder 3"/>
          <p:cNvSpPr/>
          <p:nvPr/>
        </p:nvSpPr>
        <p:spPr>
          <a:xfrm>
            <a:off x="457200" y="62514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ganic, local, and natural food literature, labels, and marketing has led to confusion and severa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istaken beliefs and myths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cal food is organic and grown within 100 miles of where it is sol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a common definition for these foo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ural, organic and/or local foods are safer and healthie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tically modified foods are a health hazar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38120" indent="-168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Date Placeholder 3"/>
          <p:cNvSpPr/>
          <p:nvPr/>
        </p:nvSpPr>
        <p:spPr>
          <a:xfrm>
            <a:off x="457200" y="625140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ds in Consumer P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tigious and innovative foods trickle down to the mass market creating the need for status seekers to find another set of “status” foo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ose who can afford to pay will demand foods consistent with their social causes or nee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 niche foods will migrate to the main stream as food companies adopt and advertise their compliance, e.g. cage free poult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oals of Food and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ricultural Poli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sure abundant, nutritious, safe, and affordable food for the American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mote healthy and productive citize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sure adequate farm income to continue produ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port economically viable rural are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courage agricultural innovation and productiv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457200" y="61722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- 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od Polic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umers are increasingly diverse in ethnicity, tastes, lifestyle, and incom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ographic trends are towards non-white, elderly, single person households and no-child coupl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me distribution is skewed towards more poor and a few very rich.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lining middle class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p 1% had 19% of earned  income (2009); 43% of financial wealth and 35% of net worth in the U.S. (2007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dian income fell to $49,445 in 2011 from  $55,303 in 2008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Date Placeholder 3"/>
          <p:cNvSpPr/>
          <p:nvPr/>
        </p:nvSpPr>
        <p:spPr>
          <a:xfrm>
            <a:off x="457200" y="6251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od Polic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Assistance Programs for the poor in greater demand as economy slows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/3 of the $98.4 Billion USDA budget in 2010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lps mitigate food insecurity for 15% of househol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NAP (Supplemental Nutrition Assistance Program) – formerly food stamps -  about 72% of food assistance budge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C (Women, Infants and Children) includes some health care and education. (Serves 1/2 of all infants.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Date Placeholder 3"/>
          <p:cNvSpPr/>
          <p:nvPr/>
        </p:nvSpPr>
        <p:spPr>
          <a:xfrm>
            <a:off x="457200" y="625140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od Polic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ool Lunch and Breakfast programs support demand for farm commod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s are regulated to provide needed nutr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dietary guidelines decrease fat and calories and increase fruits and vegetabl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s to demands from parents and health professionals to help reduce obesit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Date Placeholder 3"/>
          <p:cNvSpPr/>
          <p:nvPr/>
        </p:nvSpPr>
        <p:spPr>
          <a:xfrm>
            <a:off x="457200" y="62514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od Polic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Assistance Programs combine allocative and dynamic efficienc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programs increase economic activity because it gives spending power (for food) to consumers and profits to busines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programs increase demand for food and revenue for produce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ing hunger is an investment in human health and economic prosperit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Date Placeholder 3"/>
          <p:cNvSpPr/>
          <p:nvPr/>
        </p:nvSpPr>
        <p:spPr>
          <a:xfrm>
            <a:off x="457200" y="62514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umers seek credible inform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sing trust in professionals and food label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se of the “citizen expert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inion of individuals prized highl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cial media &amp; blogs boost this tre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deral truth-in-labeling &amp; advertis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 and Drug Administr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artment of  Trade and Commer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artment of  Agriculture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Date Placeholder 3"/>
          <p:cNvSpPr/>
          <p:nvPr/>
        </p:nvSpPr>
        <p:spPr>
          <a:xfrm>
            <a:off x="457200" y="625140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s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x food systems evolve from globalization of supply, consolidation of firms and fragmentation of consumer deman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retailers learn more about consumer demand the information is shared throughout the supply chain ultimately determining farm produ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policy can promote healthy agricultural industries, economic infrastructure, food safety and a healthy, productive popul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arm to Fork – a Complex Pat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minant players in the food supply chain evolved with urbanization, efficient production, innovation and new businesses that moved food to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ntury this dominance passed from farms to manufacturers to wholesalers to  retaile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ectronic technology created the information age of retailing and supply chain manage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pply Chain Management Becomes the Main Challen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digital information about sales, store inventories were shrunk and supplies were replenished “on demand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on about sales (consumer demand) was transmitted up through the supply chain to manufacturers and eventually to farme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micking the “just-in-time” delivery system started in the manufacturing secto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251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ational Food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de in agricultural commodities opened up exports and imports – boosting the supply of various foods and broadening consumers’ food experien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2010, food manufacturers depended on global markets for many suppl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ricate webs of production, shipment, and  regulations makes it hard to trace the origin of food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25140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2"/>
          <p:cNvSpPr/>
          <p:nvPr/>
        </p:nvSpPr>
        <p:spPr>
          <a:xfrm flipH="1">
            <a:off x="6400440" y="990720"/>
            <a:ext cx="121932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609480" y="1752480"/>
            <a:ext cx="1219320" cy="533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2.1 Million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U.S. Farm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7391520" y="1981080"/>
            <a:ext cx="1447560" cy="6098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? Million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oreign Farm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413080" y="1968480"/>
            <a:ext cx="1447560" cy="609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&gt;30,000 U.S.</a:t>
            </a:r>
            <a:br>
              <a:rPr sz="1600"/>
            </a:b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Processing/Manufacturing 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Sites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5105520" y="1968480"/>
            <a:ext cx="1447560" cy="609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94,000 Foreign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Processing Sit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990720" y="2743200"/>
            <a:ext cx="1666800" cy="7239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19,000 Domestic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Packers/Repackers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6477120" y="2743200"/>
            <a:ext cx="1447560" cy="609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87,000 Foreign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Packers/Repacker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6172200" y="5181480"/>
            <a:ext cx="1447920" cy="6098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960,000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oodservice  Outlet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5943600" y="4267080"/>
            <a:ext cx="2143080" cy="6098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225,000 Retail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ood  &amp; Beverage Stor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Freeform 11"/>
          <p:cNvSpPr/>
          <p:nvPr/>
        </p:nvSpPr>
        <p:spPr>
          <a:xfrm>
            <a:off x="2514600" y="380880"/>
            <a:ext cx="4191120" cy="304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Freeform 12"/>
          <p:cNvSpPr/>
          <p:nvPr/>
        </p:nvSpPr>
        <p:spPr>
          <a:xfrm>
            <a:off x="3657600" y="417600"/>
            <a:ext cx="3124080" cy="5968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Freeform 13"/>
          <p:cNvSpPr/>
          <p:nvPr/>
        </p:nvSpPr>
        <p:spPr>
          <a:xfrm>
            <a:off x="6172200" y="635040"/>
            <a:ext cx="914400" cy="3556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Line 14"/>
          <p:cNvSpPr/>
          <p:nvPr/>
        </p:nvSpPr>
        <p:spPr>
          <a:xfrm flipH="1">
            <a:off x="3962160" y="16765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Line 15"/>
          <p:cNvSpPr/>
          <p:nvPr/>
        </p:nvSpPr>
        <p:spPr>
          <a:xfrm flipH="1">
            <a:off x="6095520" y="1219320"/>
            <a:ext cx="16765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3885840" y="1981080"/>
            <a:ext cx="1219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4572000" y="5181480"/>
            <a:ext cx="9144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Line 18"/>
          <p:cNvSpPr/>
          <p:nvPr/>
        </p:nvSpPr>
        <p:spPr>
          <a:xfrm>
            <a:off x="2133720" y="1143000"/>
            <a:ext cx="30456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Line 19"/>
          <p:cNvSpPr/>
          <p:nvPr/>
        </p:nvSpPr>
        <p:spPr>
          <a:xfrm>
            <a:off x="3657600" y="1981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Line 20"/>
          <p:cNvSpPr/>
          <p:nvPr/>
        </p:nvSpPr>
        <p:spPr>
          <a:xfrm>
            <a:off x="3809880" y="1371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Line 21"/>
          <p:cNvSpPr/>
          <p:nvPr/>
        </p:nvSpPr>
        <p:spPr>
          <a:xfrm flipH="1">
            <a:off x="4038120" y="2743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Line 22"/>
          <p:cNvSpPr/>
          <p:nvPr/>
        </p:nvSpPr>
        <p:spPr>
          <a:xfrm>
            <a:off x="3962520" y="29718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Line 23"/>
          <p:cNvSpPr/>
          <p:nvPr/>
        </p:nvSpPr>
        <p:spPr>
          <a:xfrm flipH="1">
            <a:off x="4876560" y="3137040"/>
            <a:ext cx="53316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Line 24"/>
          <p:cNvSpPr/>
          <p:nvPr/>
        </p:nvSpPr>
        <p:spPr>
          <a:xfrm>
            <a:off x="3505320" y="3048120"/>
            <a:ext cx="6858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Line 25"/>
          <p:cNvSpPr/>
          <p:nvPr/>
        </p:nvSpPr>
        <p:spPr>
          <a:xfrm>
            <a:off x="3048120" y="2971800"/>
            <a:ext cx="685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Line 26"/>
          <p:cNvSpPr/>
          <p:nvPr/>
        </p:nvSpPr>
        <p:spPr>
          <a:xfrm flipH="1">
            <a:off x="4876920" y="2666880"/>
            <a:ext cx="76176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441972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51" name="Group 28"/>
          <p:cNvGrpSpPr/>
          <p:nvPr/>
        </p:nvGrpSpPr>
        <p:grpSpPr>
          <a:xfrm>
            <a:off x="304920" y="304920"/>
            <a:ext cx="2133360" cy="1414440"/>
            <a:chOff x="304920" y="304920"/>
            <a:chExt cx="2133360" cy="1414440"/>
          </a:xfrm>
        </p:grpSpPr>
        <p:pic>
          <p:nvPicPr>
            <p:cNvPr id="152" name="Picture 29" descr="Dairy Farm"/>
            <p:cNvPicPr/>
            <p:nvPr/>
          </p:nvPicPr>
          <p:blipFill>
            <a:blip r:embed="rId1"/>
            <a:stretch/>
          </p:blipFill>
          <p:spPr>
            <a:xfrm>
              <a:off x="304920" y="686160"/>
              <a:ext cx="1676160" cy="103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30" descr="cows"/>
            <p:cNvPicPr/>
            <p:nvPr/>
          </p:nvPicPr>
          <p:blipFill>
            <a:blip r:embed="rId2"/>
            <a:stretch/>
          </p:blipFill>
          <p:spPr>
            <a:xfrm>
              <a:off x="1371600" y="304920"/>
              <a:ext cx="1066680" cy="80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Group 31"/>
          <p:cNvGrpSpPr/>
          <p:nvPr/>
        </p:nvGrpSpPr>
        <p:grpSpPr>
          <a:xfrm>
            <a:off x="7086600" y="228600"/>
            <a:ext cx="1828440" cy="1636200"/>
            <a:chOff x="7086600" y="228600"/>
            <a:chExt cx="1828440" cy="1636200"/>
          </a:xfrm>
        </p:grpSpPr>
        <p:pic>
          <p:nvPicPr>
            <p:cNvPr id="155" name="Picture 32" descr="Loading animal feed"/>
            <p:cNvPicPr/>
            <p:nvPr/>
          </p:nvPicPr>
          <p:blipFill>
            <a:blip r:embed="rId3"/>
            <a:stretch/>
          </p:blipFill>
          <p:spPr>
            <a:xfrm>
              <a:off x="7722360" y="848160"/>
              <a:ext cx="1192680" cy="101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3" descr="sheep"/>
            <p:cNvPicPr/>
            <p:nvPr/>
          </p:nvPicPr>
          <p:blipFill>
            <a:blip r:embed="rId4"/>
            <a:stretch/>
          </p:blipFill>
          <p:spPr>
            <a:xfrm>
              <a:off x="7086600" y="228600"/>
              <a:ext cx="1113120" cy="92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Picture 34" descr="restraurant image"/>
          <p:cNvPicPr/>
          <p:nvPr/>
        </p:nvPicPr>
        <p:blipFill>
          <a:blip r:embed="rId5"/>
          <a:stretch/>
        </p:blipFill>
        <p:spPr>
          <a:xfrm>
            <a:off x="3657600" y="5181480"/>
            <a:ext cx="1676520" cy="757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5" descr="Retail milk"/>
          <p:cNvPicPr/>
          <p:nvPr/>
        </p:nvPicPr>
        <p:blipFill>
          <a:blip r:embed="rId6"/>
          <a:stretch/>
        </p:blipFill>
        <p:spPr>
          <a:xfrm>
            <a:off x="3809880" y="4267080"/>
            <a:ext cx="1219320" cy="819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6" descr="Milking parlor"/>
          <p:cNvPicPr/>
          <p:nvPr/>
        </p:nvPicPr>
        <p:blipFill>
          <a:blip r:embed="rId7"/>
          <a:stretch/>
        </p:blipFill>
        <p:spPr>
          <a:xfrm>
            <a:off x="2514600" y="1014480"/>
            <a:ext cx="1219320" cy="890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7" descr="P3170009"/>
          <p:cNvPicPr/>
          <p:nvPr/>
        </p:nvPicPr>
        <p:blipFill>
          <a:blip r:embed="rId8"/>
          <a:stretch/>
        </p:blipFill>
        <p:spPr>
          <a:xfrm>
            <a:off x="4952880" y="2629080"/>
            <a:ext cx="1067040" cy="799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8" descr="P3170013"/>
          <p:cNvPicPr/>
          <p:nvPr/>
        </p:nvPicPr>
        <p:blipFill>
          <a:blip r:embed="rId9"/>
          <a:stretch/>
        </p:blipFill>
        <p:spPr>
          <a:xfrm>
            <a:off x="2819520" y="266688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9" descr="P3170011"/>
          <p:cNvPicPr/>
          <p:nvPr/>
        </p:nvPicPr>
        <p:blipFill>
          <a:blip r:embed="rId10"/>
          <a:stretch/>
        </p:blipFill>
        <p:spPr>
          <a:xfrm>
            <a:off x="5105520" y="990720"/>
            <a:ext cx="1218960" cy="914400"/>
          </a:xfrm>
          <a:prstGeom prst="rect">
            <a:avLst/>
          </a:prstGeom>
          <a:ln w="0">
            <a:noFill/>
          </a:ln>
        </p:spPr>
      </p:pic>
      <p:sp>
        <p:nvSpPr>
          <p:cNvPr id="163" name="Line 40"/>
          <p:cNvSpPr/>
          <p:nvPr/>
        </p:nvSpPr>
        <p:spPr>
          <a:xfrm flipH="1">
            <a:off x="5029200" y="2133720"/>
            <a:ext cx="763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Rectangle 41"/>
          <p:cNvSpPr/>
          <p:nvPr/>
        </p:nvSpPr>
        <p:spPr>
          <a:xfrm>
            <a:off x="0" y="510552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Tahoma"/>
              </a:rPr>
              <a:t>U.S. Global Food System: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5" name="Picture 42" descr=""/>
          <p:cNvPicPr/>
          <p:nvPr/>
        </p:nvPicPr>
        <p:blipFill>
          <a:blip r:embed="rId11"/>
          <a:stretch/>
        </p:blipFill>
        <p:spPr>
          <a:xfrm>
            <a:off x="3962520" y="3352680"/>
            <a:ext cx="901440" cy="701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6" name="Text Box 45"/>
          <p:cNvSpPr/>
          <p:nvPr/>
        </p:nvSpPr>
        <p:spPr>
          <a:xfrm>
            <a:off x="2444760" y="365760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32,559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Wholesaler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Text Box 46"/>
          <p:cNvSpPr/>
          <p:nvPr/>
        </p:nvSpPr>
        <p:spPr>
          <a:xfrm>
            <a:off x="6518880" y="6172200"/>
            <a:ext cx="19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111 million U.S.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household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8" name="Picture 47" descr="j0383886[1]"/>
          <p:cNvPicPr/>
          <p:nvPr/>
        </p:nvPicPr>
        <p:blipFill>
          <a:blip r:embed="rId12"/>
          <a:stretch/>
        </p:blipFill>
        <p:spPr>
          <a:xfrm>
            <a:off x="5562720" y="5878440"/>
            <a:ext cx="981000" cy="979560"/>
          </a:xfrm>
          <a:prstGeom prst="rect">
            <a:avLst/>
          </a:prstGeom>
          <a:ln w="0">
            <a:noFill/>
          </a:ln>
        </p:spPr>
      </p:pic>
      <p:sp>
        <p:nvSpPr>
          <p:cNvPr id="169" name="Line 50"/>
          <p:cNvSpPr/>
          <p:nvPr/>
        </p:nvSpPr>
        <p:spPr>
          <a:xfrm>
            <a:off x="4495680" y="50292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Line 51"/>
          <p:cNvSpPr/>
          <p:nvPr/>
        </p:nvSpPr>
        <p:spPr>
          <a:xfrm>
            <a:off x="1981080" y="1828800"/>
            <a:ext cx="9144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Freeform 52"/>
          <p:cNvSpPr/>
          <p:nvPr/>
        </p:nvSpPr>
        <p:spPr>
          <a:xfrm rot="14869800">
            <a:off x="4700520" y="5074920"/>
            <a:ext cx="1371600" cy="2286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TextBox 49"/>
          <p:cNvSpPr/>
          <p:nvPr/>
        </p:nvSpPr>
        <p:spPr>
          <a:xfrm>
            <a:off x="219960" y="6399360"/>
            <a:ext cx="5199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cc00"/>
                </a:solidFill>
                <a:latin typeface="Times New Roman"/>
              </a:rPr>
              <a:t>Source: Shaun Kennedy, Director, The National Center for Food Protection and Defense,</a:t>
            </a:r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ffcc00"/>
                </a:solidFill>
                <a:latin typeface="Times New Roman"/>
              </a:rPr>
              <a:t>University of Minnesota. 2006,  Copyrighted; Used with permission. </a:t>
            </a:r>
            <a:endParaRPr b="0" lang="en-US" sz="11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TextBox 51"/>
          <p:cNvSpPr/>
          <p:nvPr/>
        </p:nvSpPr>
        <p:spPr>
          <a:xfrm>
            <a:off x="3600" y="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igure 2.1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st Savings and Consolid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supply chain management methods saved costs at all levels, leading to more efficient operations and the consolidation of firms into large enterprises. (Dynamic Efficienc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ustrial  farming, excess supply and export markets change the industr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 processors become food manufactur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okers and wholesalers market food to retail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ail grocery and foodservice bifurcates into self-distributing mega companies and independ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Date Placeholder 3"/>
          <p:cNvSpPr/>
          <p:nvPr/>
        </p:nvSpPr>
        <p:spPr>
          <a:xfrm>
            <a:off x="457200" y="625140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971800" y="6095880"/>
            <a:ext cx="2901960" cy="459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Food Manufacturer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762120" y="380880"/>
            <a:ext cx="2895480" cy="1374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Food Service: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estaurants-Quick Servic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thers…..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253560" y="304920"/>
            <a:ext cx="2586960" cy="459720"/>
          </a:xfrm>
          <a:prstGeom prst="rect">
            <a:avLst/>
          </a:prstGeom>
          <a:solidFill>
            <a:srgbClr val="30fb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etail Food Store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5947200" y="5715000"/>
            <a:ext cx="2893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mall Packaged food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0880" y="5562720"/>
            <a:ext cx="30481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pecial Foods/bulky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7315200" y="3962520"/>
            <a:ext cx="1638360" cy="14346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party wholesaler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e.g. Supervalu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Nash Finch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851040" y="1676520"/>
            <a:ext cx="2160360" cy="1435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pecialty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istributor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duct i.e. meat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gment i.e. airlin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Line 9"/>
          <p:cNvSpPr/>
          <p:nvPr/>
        </p:nvSpPr>
        <p:spPr>
          <a:xfrm flipV="1">
            <a:off x="5638680" y="762120"/>
            <a:ext cx="838440" cy="5333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Line 10"/>
          <p:cNvSpPr/>
          <p:nvPr/>
        </p:nvSpPr>
        <p:spPr>
          <a:xfrm flipV="1">
            <a:off x="5791320" y="837720"/>
            <a:ext cx="1600200" cy="5257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Line 11"/>
          <p:cNvSpPr/>
          <p:nvPr/>
        </p:nvSpPr>
        <p:spPr>
          <a:xfrm flipV="1">
            <a:off x="8001000" y="54860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Line 12"/>
          <p:cNvSpPr/>
          <p:nvPr/>
        </p:nvSpPr>
        <p:spPr>
          <a:xfrm flipV="1">
            <a:off x="7772400" y="837720"/>
            <a:ext cx="0" cy="3124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Line 13"/>
          <p:cNvSpPr/>
          <p:nvPr/>
        </p:nvSpPr>
        <p:spPr>
          <a:xfrm flipV="1">
            <a:off x="3124080" y="1523520"/>
            <a:ext cx="0" cy="403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 flipV="1">
            <a:off x="838080" y="41911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Line 15"/>
          <p:cNvSpPr/>
          <p:nvPr/>
        </p:nvSpPr>
        <p:spPr>
          <a:xfrm flipV="1">
            <a:off x="762120" y="1447920"/>
            <a:ext cx="0" cy="2133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Line 16"/>
          <p:cNvSpPr/>
          <p:nvPr/>
        </p:nvSpPr>
        <p:spPr>
          <a:xfrm flipV="1">
            <a:off x="1676520" y="373392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1676520" y="37339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Line 18"/>
          <p:cNvSpPr/>
          <p:nvPr/>
        </p:nvSpPr>
        <p:spPr>
          <a:xfrm flipV="1">
            <a:off x="2666880" y="3124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4" name="Line 19"/>
          <p:cNvSpPr/>
          <p:nvPr/>
        </p:nvSpPr>
        <p:spPr>
          <a:xfrm flipV="1">
            <a:off x="2514600" y="1447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Line 20"/>
          <p:cNvSpPr/>
          <p:nvPr/>
        </p:nvSpPr>
        <p:spPr>
          <a:xfrm flipV="1">
            <a:off x="4419720" y="914040"/>
            <a:ext cx="0" cy="5181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4221360" y="255960"/>
            <a:ext cx="1340640" cy="459720"/>
          </a:xfrm>
          <a:prstGeom prst="rect">
            <a:avLst/>
          </a:prstGeom>
          <a:solidFill>
            <a:srgbClr val="003399"/>
          </a:solidFill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ake out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3657600" y="609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Line 23"/>
          <p:cNvSpPr/>
          <p:nvPr/>
        </p:nvSpPr>
        <p:spPr>
          <a:xfrm flipH="1">
            <a:off x="5715000" y="457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Text Box 24"/>
          <p:cNvSpPr/>
          <p:nvPr/>
        </p:nvSpPr>
        <p:spPr>
          <a:xfrm>
            <a:off x="7383600" y="1598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stm. 20%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0" name="Text Box 25"/>
          <p:cNvSpPr/>
          <p:nvPr/>
        </p:nvSpPr>
        <p:spPr>
          <a:xfrm>
            <a:off x="6862320" y="1144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5021640" y="2437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tsm. 50%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2" name="Text Box 27"/>
          <p:cNvSpPr/>
          <p:nvPr/>
        </p:nvSpPr>
        <p:spPr>
          <a:xfrm>
            <a:off x="3048120" y="2437200"/>
            <a:ext cx="7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12%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Text Box 28"/>
          <p:cNvSpPr/>
          <p:nvPr/>
        </p:nvSpPr>
        <p:spPr>
          <a:xfrm>
            <a:off x="306000" y="43419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56%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299960" y="51066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32%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5" name="Text Box 31"/>
          <p:cNvSpPr/>
          <p:nvPr/>
        </p:nvSpPr>
        <p:spPr>
          <a:xfrm>
            <a:off x="0" y="3352680"/>
            <a:ext cx="1614600" cy="946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roadliner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e.g. Sysco, Ahold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Text Box 32"/>
          <p:cNvSpPr/>
          <p:nvPr/>
        </p:nvSpPr>
        <p:spPr>
          <a:xfrm>
            <a:off x="2369520" y="4038480"/>
            <a:ext cx="164088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istributor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Chains/In houses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6024600" y="2971800"/>
            <a:ext cx="1249200" cy="16779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irect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tore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elivery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Beverages,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Salty snacks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8" name="Text Box 34"/>
          <p:cNvSpPr/>
          <p:nvPr/>
        </p:nvSpPr>
        <p:spPr>
          <a:xfrm>
            <a:off x="5038560" y="1066680"/>
            <a:ext cx="1657440" cy="14346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elf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istribution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enter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Kroger, Wal-Mart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TextBox 33"/>
          <p:cNvSpPr/>
          <p:nvPr/>
        </p:nvSpPr>
        <p:spPr>
          <a:xfrm>
            <a:off x="3600" y="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igure 2.2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Date Placeholder 3"/>
          <p:cNvSpPr/>
          <p:nvPr/>
        </p:nvSpPr>
        <p:spPr>
          <a:xfrm>
            <a:off x="228600" y="624852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 – Chapter 2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8:40:30Z</dcterms:created>
  <dc:creator>Walt</dc:creator>
  <dc:description/>
  <dc:language>en-US</dc:language>
  <cp:lastModifiedBy>Walt</cp:lastModifiedBy>
  <cp:lastPrinted>2012-05-03T22:36:15Z</cp:lastPrinted>
  <dcterms:modified xsi:type="dcterms:W3CDTF">2012-05-31T15:49:11Z</dcterms:modified>
  <cp:revision>26</cp:revision>
  <dc:subject/>
  <dc:title>U.S. Policies Affecting Food and Agricultural Marketing</dc:title>
</cp:coreProperties>
</file>