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22F3-807C-445D-A496-517EC3FDD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A372-B831-460D-B366-F7E63F05C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AB84-559C-41F8-875E-6384A39DA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A074-6CF8-44A4-B6F2-A6D1BD3BE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AEDB-F338-48F2-8756-DD994A4D4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3EE9-0192-4172-813B-BE70E6E87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7341-A48A-43B7-A00A-FF5CFD842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E3C0-C1B5-4BBF-89AD-F00E32058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F7C5-4ABE-4527-A50E-97D16B2A5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6F90-7D9A-484B-9522-239C7895D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1F0FD-C83D-4ED9-B90B-8461DF03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EC003-CCB2-43E4-83AE-F8CAA698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1DBA-2539-4A27-BC77-EED7708D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CBAB-E1A6-42E6-9A35-6F1CCA36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0BDD-1BE1-4735-BB42-916891A7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AD8A-410D-4BE4-A152-C2A6A7AA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70DE-C241-44AE-ADBA-9A2C011A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61D3-2041-48CD-BFDD-2A02D5F3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AAEB-2F90-4B43-BDDB-6DF67DFF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CAA3-4ACD-4191-AE0A-D574FE0D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0F1A-8E75-437D-84C8-ACB3FE75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3C9D9-CBB6-4058-AD7F-5566114C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1DAA-7AD2-4D5A-B8EA-CC114E2D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4AF1-F759-4F4C-91FB-E0FB3074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86B5-76EB-49C7-8791-12581F79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4C99-EFA9-404E-8EF0-4903180A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DBE8-FF4A-43F9-82B9-5E45E8D7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21966-970D-459B-894B-5DF017C4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119B-6D00-4667-95E4-49E8FD78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8A43-1A7F-481C-BA3B-EE858488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48C47-BD91-4430-BF3D-81489F09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F8E6E-1B50-40B5-8137-F581B9C1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B08E5-9164-4056-BE0F-7FCE11D0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129EF-A61E-40E6-949D-68B7CBFA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3888-B2CC-4EAC-AAFB-8688630FE9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59BF-B486-488C-B610-7450B518D1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 Bold"/>
              </a:rPr>
              <a:t>Recent U.S. policy develop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Garamond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First to introduce traceabil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Garamond"/>
              </a:rPr>
              <a:t>Food Safety Modernization Ac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Preventive contro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Inspection and compli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Imported food safe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Garamond"/>
              </a:rPr>
              <a:t>Enhanced partnership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conomic impacts on food mark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Technical efficien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o what extent can regulations lead to cost saving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llocative efficien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revious research suggests risk based regulations increase concen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Dynamic efficien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conomic theory suggests performance standards foster innovation and adap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Do we need a comprehensive framewor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nmarket imp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od safety and traceability improvements impact public health outco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ever, there are concerns over wide access to safe f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Measuring nonmarket impacts is challen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ere are no clear cut ways to measure “distributive justice” of alternative poli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3040" y="549360"/>
            <a:ext cx="8686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on the horizon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59464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6440" indent="-316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Globalization of food supply is creating new challeng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Increasingly entwined supply cha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International sourc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Short run contractual arrang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6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440" indent="-316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The U.S. debate on a single food safety ag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Pros: Risk-based, consistent, public health focu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3240" indent="-247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Cons: Excessive centralized power, bureaucratic, budge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earch nee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termine how to best define a food chain wide traceability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aking into account technical and economic dimens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scertain to what extent new regulations will impact technical efficiencies in the food ch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vestigate whether HACCP regulations had a positive/negative impact on food innov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velop a comprehensive framework to determine food safety policy impact on technical, allocative and dynamic efficien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rap 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ood safety is critical to food mark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raceability system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nable a more effective management of outbrea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ntain information for enhanced risk manage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ince 1906 the U.S. has led food safety poli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n terms of institutional and regulatory innov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Over the past decade a number of private food safety schemes have emerg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hese are mainly farm standar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uture challenges relate to increasing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Globalized, connected and integrated food ch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Food Safety and Traceability polici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ogo M. Souza Monteir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al H. Hoo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utl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is food safety and traceabilit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y do we need polic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n overview of food safety policies in the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o is involv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Bioterrorism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Food Safety Modernization A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conomic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is on the horiz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76680" y="151920"/>
            <a:ext cx="95252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food safety and traceabilit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600" y="979560"/>
            <a:ext cx="86868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Food safety concerns the supply of wholesome and unharmful food to customers and consu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9440" indent="-25272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Improving food safety is reducing a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9440" indent="-25272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Consumers expect safe f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Traceability is the ability to follow the path of a product through production, processing and distrib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Well designed and effective traceability systems may mitigate the consequences of food safety outbrea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Why do we need polic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Times New Roman"/>
              </a:rPr>
              <a:t>Food safety and traceability are credence attributes of foo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Benefits are mainly avoided public health cost (public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Costs of safer food are mainly borne by the industry (privat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ere are both market and government failures in the provision of these attrib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olution of U.S. food safety poli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9800" y="875880"/>
            <a:ext cx="873900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rst food safety regulation was issued in 19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ain purpose was to limit adulteration of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DA is creat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uring the 1970/80s legislation followed a command and control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r example, mandatory pasteurization of dairy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1990 shift to science/risk based appr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r example, mandatory HACCP in meat and poultry pla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 implements these polici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9800" y="952200"/>
            <a:ext cx="873900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 the U.S., three Federal Departments have primary responsibilities over food safe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partment of Health &amp; Human Services (through FDA, CD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partment of Agriculture (FSIS, AMS, APHI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epartment of Home Security (CBP, NBAC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wo agencies have the lion’s share of oversigh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D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12880" indent="-277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SI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5680" indent="-355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tates have an important role in outbreak surveillance, prevention and mitig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ivate food safety and traceability standar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ince 2000, a number of retailers/caterers and food manufacturers created private standa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For example EurepGAP (now GlobalG.A.P.), a modular farm production standard with both food safety and traceability fea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Similar efforts in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May have emerged due to slow legislative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Industry initiatives may condition and anchor the regulatory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ivate food safety and traceability standar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Benefits of these private standards ar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Flexibility and dynamism (they are quickly update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Create strong incentives for farmers and processors to adopt safer practices (through preferred supplier program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Create a safer food supply to all of those purchasing from firms imposing these standar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aramond"/>
              </a:rPr>
              <a:t>The are however some issu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Private standards do not take social welfare into accou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Exclude producers and consumers that can’t comply or afford these produ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There may be distribution and equity issues in the benefits and costs of food safety/traceability in food chai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dcterms:modified xsi:type="dcterms:W3CDTF">2012-06-05T15:55:35Z</dcterms:modified>
  <cp:revision>18</cp:revision>
  <dc:subject/>
  <dc:title>U.S. Policies Affecting Food and Agricultural Marketing</dc:title>
</cp:coreProperties>
</file>