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6645-BDFC-4BD2-89FC-40ED2034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36C8-3EA0-444A-995F-6B9CCA45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9466-6E34-4896-9606-D1F9B607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FBC2-2D80-4CBF-B393-05A2978D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90AA-A0E5-441D-A79D-D97C1905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5A5-7C2B-4023-9429-A09311CD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36B9-639A-4E05-9F50-37E7720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C9EF-15EF-4757-AC4F-2EF6DA05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F260-8314-4FEC-88D1-97E29ED6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AB6A-AB23-479E-8E46-BEF68B6A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79B5-9EAB-446B-8EBB-64868FE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65DF-1B04-4208-9409-D276A181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06A8-C163-4DD0-ACAD-61F568D8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1008-D87E-4580-B09E-CED6895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C1A-8CE5-4046-BFE4-494BE105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4F8D-449F-41C3-8F73-81BC8763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3D2A-B8CF-4126-9E54-F37DF374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4753-D4C2-4C8D-974B-7C97E07C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875C-CEE9-484B-957F-E5646CA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D88B-9D5B-4DF6-824A-03C1AE9D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3CC7-A568-4EF2-A309-852A9667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8CDF-00F1-46EB-A43A-F9B83304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35C2-F193-40E6-9AD6-787D5E29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26DF-7F8A-478E-8CCF-427B644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AD2F-460E-40FF-8FFA-6FCECC386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5837-B016-4DED-BC4C-DA42958FC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Crop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p Risk Plans (G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APH, but indemnities are paid based on county yields, not farm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is less expensive and removes moral haz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P protection is less aligned with business risks of farm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Gross Margin (LG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ttle, Dairy, Sw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difference between market price for outputs and fe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quantity or quality cover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ains a premium subsidy, unlike a futures hed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estock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Risk Protection (L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ailable for feeder cattle, fed cattle, lamb, &amp; sw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only against declines in market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eder cattle prices are drawn from C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s use USDA-AMS reports for pric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le Farm Revenue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justed Gross Revenue (AG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farmer’s Schedule F revenue for production not covered by other insur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ures quality &amp; quantity as well as 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vernment Programs to Manage R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are the ‘farm programs’ that most refer 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rograms are usually costless to beneficiaries, and often have few if any eligibility requir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(D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iginally known as the Agricultural Market Transition Payments, and were compensation for ending of farm programs in 1996 Farm B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Ps are made based on historical acreage allocations and yields, not on current practices (‘decoupled’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 for land used for fruit and vegetable production, on which DPs are not pa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fully WTO compliant as they are minimally trade (i.e. production) distor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n Deficiency Payments (LDP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indirect price floor to covered cro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DPs are highly distorting instruments, as they blunt producer price sign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ce 2007, most prices have been far above LDP price guarantees, so they have had no effe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er Cyclical Payments (CC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2 Farm B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lac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d hoc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ster assistance to farmers in wake of late-90s Asian Financial Cri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payments of portion of difference between a target price set above cost of production and actual market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are decoupled for WTO compli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w Crop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erage Crop Revenue Election (AC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ed in 2008 Food, Conservation and Energy A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risk of systematic, multi-year declines in dema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made based on difference between target revenue (product of state yield and 5 year Olympic average of prices) and product of national price and state yiel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iry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Income Loss Con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ments based on difference between milk prices and a reference feed 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ly reduces profit volat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s incentives to adjust operations in response to changing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vels are set in statute, so cannot change with market con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5: The Policy of Risk Managemen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thew C. Robe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et-Based 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and options have long been available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available for major crops/livestock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often used directly by farmers, but very often by processors and intermedia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s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ontracts are the oldest risk management instru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present, futures only offer ability to manage price ri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contracts (Iowa yield) did not la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s cannot manage quality risk, ei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h contracts are contracts directly between producers and consumers or process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in producers have many cash contract options, even other risk management tools ‘wrapped’ into cash contr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dge-to-arriv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price contr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h Contr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ing has become very common in pork and poultry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rms are highly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re in cattle due to high capital costs &amp; long production cy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vestock production contracts are very contentio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later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rrent Controvers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 Impact of Spec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/Agricultural Price Corre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rgence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ct Pork and Poultry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 Ownership of Catt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vernment Program Eligibility and Planting Restri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has been extensive attention to effects of speculation on price levels in commodity markets, and the extent to which speculation drove commodity price spike in 2006-200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s and White typify speculation conc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nders, Irwin &amp; Merrin don’t find evidence of a speculative bub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theless, Dodd-Frank orders CFTC to pass and enforce position limits on speculato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relation of Energy and Ag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s in biofuels production have increased correlation between agricultural and energy mar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markets have traditionally been more volati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e end of 2011, two primary pieces of biofuels policy expired: Volumetric Ethanol Excise Tax Credit, and the tariff on imported ethan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6, CBOT Wheat futures stopp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ve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onvergenc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curs when the difference between the cash and futures prices falls to zero at the delivery point when futures expi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onvergence calls into question the ability of the futures contract to reflect physical market fundamentals—it is a sign that needed arbitrage is not occur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007 &amp; 2008, similar behavior occurred in CBOT Corn and Soybean fu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gence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BOT wheat contract has been modified twice in order to restore con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09, more areas became deliver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11, Variable Storage Rate was introduced in which the maximum storage charged by elevators was allowed to adjust to market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2011, KCBOT wheat began to exhibit noncoverg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r Ownership of Catt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ead of cash purchases of fed cattle, some packers began to purchase feeder cattle and contract their fee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ers claim reduced risk and increased efficienc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edlots believe this creates market power for pack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isk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isk is randomness i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nt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at matter to those invol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ost firms and individuals are risk-averse: they prefer less risk to m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ing Restrictions and Program Eligi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upled payments—payments that are not tied to current production decisions—are permissible under WTO ru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Payments are the primary form of decoupled pay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the 1996, 2002, and 2008 do not allow DPs to be paid on land currently used for fruit or vegetable prod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portunities for Improved Collabo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ing Crop Insur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ifting Risk to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Success/Failure of Fu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Understanding of Futures Delivery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oods degrade with stor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substa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y risk is often highly correlated among produc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is inela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ption is constant, but production is annual for many foodstuff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fferentiates food production? (cont’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ity of expenditures are early in production cycle. Harvest occurs weeks or months l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d can be a vector of pathogen transmi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til Recently, Most Risk Management was Part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ice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s existed to manage production ri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firms care abou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=Price*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or many commodities, the correlation is negative, so managing with only price &amp; production tools leads to costly overpro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Insu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sk Management Agency is ultimate guarantor of most Agricultural Insur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of 2012, more than 100 commodities cov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ual Production History (AP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itional ‘yield’ insurance, payments made at an RMA-determined reference p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ield Protection (Y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ilar to APH, but the price is set based on current futures pr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op Insurance (2)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 Protection (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vers price*yield, but is therefore more expensiv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mers can insure at the ‘Enterprise’ (whole farm) level instead of the ‘Unit’ (field or sub-farm) level to reduce premium co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0T21:28:16Z</dcterms:modified>
  <cp:revision>34</cp:revision>
  <dc:subject/>
  <dc:title>U.S. Policies Affecting Food and Agricultural Marketing</dc:title>
</cp:coreProperties>
</file>