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C86D2-96E7-4CD8-861C-1A3BC5EF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52D93-E677-472C-B49A-BA42262B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36607-A3BD-43A5-856B-616144CC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D4CC-6B02-4652-9CBD-F69C615C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ABB4-DF65-4215-85B7-D750B9BB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D1A5-DB54-40FE-AD5A-1C22CC15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28C4-CBF8-4E14-B31B-03182431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79C0-5CF3-4EE6-B8DD-FAA5933A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9121-B5BF-4C35-98BE-556780E1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DEE3-5F40-44AF-ACA6-6A9E50CC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3AD1-63C1-4FAD-8CD0-2CE1F680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426C-5D1E-4459-8D2F-7A62DF91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F729-89A6-434B-B097-1BECC32B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A219-68EC-478F-B342-C00C370B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300B-5AF2-4D93-A923-7FC4DB07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D0A0-4897-46F1-9215-8A3EBD32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CA59-B331-4090-B5B4-F6970057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4FBF2-2A3C-49A3-9315-C2B7B63C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B9A80-154A-40D8-8B32-942B3594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7A02-5EE1-4D93-84CB-CF5B8B94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F799-7814-4FAF-9B92-F3898DA6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1CCF-6949-41B4-86C7-5A940BE1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B125-FD2D-4166-A405-0BCA6AB7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411D-7DF7-49E8-99E0-C5DD52B0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D12CD-6C4B-4852-A7CA-AA94B9FE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FECDC-BDEF-4957-8BBB-5AF1236A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B5AE1-215F-4636-903E-5612F893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4185A-B6A2-4A89-8389-97E138E7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9042-9BE1-4526-81D0-363DCA9C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ED07E-1C5F-4519-BDAE-1513F87E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11A6-A212-489B-81CD-AEF1FCFA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A53C-829B-4400-BD3A-F82A235A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3886-2989-440F-847B-C27BCF89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B2C9-D166-47AB-9734-3C178A1D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5BA8C-34A7-4064-A2EB-8272554D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38E3-697F-4830-BD64-D79AAA1F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63F4-FD8B-47FA-9463-02A665E2EC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C707-6A3F-4DE7-9D78-B4074A5858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725C-2F4A-44B6-B6F5-4016E6ED0E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U.S. Policies Affecting Food and Agricultural Marke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lter J. Armbru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nald D. Knut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EVOLUTION OF AGRICULTURAL AND FOOD MARKETS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Walter J. Armbruster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onald D. Knuts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marketing policies and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 of agricultural and food products takes place within the framework of a set of federal policies and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policies and programs influence the production and terms of trade throughout the agriculture and food marketing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markets evolve, policies and programs need to adj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ricultural and Food Market Ev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t markets to central mar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rect marketing to forward pricing and vertical integ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umerism to reg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obalization to value-chain mark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teria for Evaluating Performanc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ical efficiency exists when production occurs at minimum c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cative efficiency involves the allocation of scarce resources among products, production activities, and uses to maximize welf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ynamic efficiency measures how well markets innovate to adjust/adapt to change over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Policies Affecting Food and Agricultural Marketing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teria for Evaluating Performance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market social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tributive justice, or redistribution of wealth and economic benefits generated by the private secto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lues driven by various interest group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rit goods such as food safety, nutrition and healt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3:39:48Z</dcterms:created>
  <dc:creator>Walt</dc:creator>
  <dc:description/>
  <dc:language>en-US</dc:language>
  <cp:lastModifiedBy>Walt</cp:lastModifiedBy>
  <cp:lastPrinted>2012-01-30T14:40:42Z</cp:lastPrinted>
  <dcterms:modified xsi:type="dcterms:W3CDTF">2012-06-05T16:28:18Z</dcterms:modified>
  <cp:revision>63</cp:revision>
  <dc:subject/>
  <dc:title>U.S. Policies Affecting Food and Agricultural Marketing</dc:title>
</cp:coreProperties>
</file>