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59E8-A7A6-4B99-97F4-C2223C61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CEAF-2496-4B94-9AA3-EA0DCA81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E41E-950E-4CAD-9567-458EF9CE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BCA1-4BB1-48A8-88C4-417226FF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7117-B701-4A30-82A4-1ED21672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2C11-B98B-48DB-947C-C6BF4DF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4F25-6D0B-496B-B7D9-4EC9895A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CEDC-5644-4C4A-8697-14FECEDB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F466-B428-44A4-BA99-A4D250AE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7157-6618-4895-B42E-0C9EFE9B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548F-F228-4957-997F-7B268FA3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3FDF-2434-461C-A9D8-A9205952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47BC-B649-4CA0-ADF7-D7147AE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02E3-E109-4619-B874-B9DC7C5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5FD-9840-4057-A2D6-378F7E22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CE0-CBFE-45DA-BAB5-6A5A9F3B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E27E-1867-4BB7-899D-6DD98BEE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FBA8-C384-4170-9B35-B2C0DD05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9B19-A776-4B6C-8FC6-DA27622A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B3C6-EE3E-4F2F-AED2-16F379C0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0E4C-FD69-453E-893D-E0D0656A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0C9A-08B6-4594-B883-BD389C9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250C-3CF4-43FB-B405-8C7D419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5244-8E71-46DC-81E8-55974AF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C5CD-3209-42FC-BEDF-895C5282AC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A7FB-09CC-4F17-8BAF-8D445B574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beling Claims and Stand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se help facilitate private, voluntary labeling eff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aim regulations: ensure truthfulness of a label (e.g., “heart health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ndards: help standardize the meaning of a label or claim (e.g.,  “natural” or “grass fed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cess certification and verification programs (e.g., Certified Angus Bee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rades and Standards (e.g., #2 yellow cor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duct ba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ans send information to consumers about the quality available for sa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Japanese ban on U.S. beef following BSE s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EU ban on growth hormones in beef pro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formation Provision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ducational campaig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 on tobac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chelle Obama’s “Let’s Move” campa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od pyramid and food pl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formation dissemi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ice repor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AQs on biotechnology, irradiation, cloning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ffective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523880"/>
          <a:ext cx="7696440" cy="4445280"/>
        </p:xfrm>
        <a:graphic>
          <a:graphicData uri="http://schemas.openxmlformats.org/drawingml/2006/table">
            <a:tbl>
              <a:tblPr/>
              <a:tblGrid>
                <a:gridCol w="3170520"/>
                <a:gridCol w="1131840"/>
                <a:gridCol w="1131840"/>
                <a:gridCol w="1130400"/>
                <a:gridCol w="1131840"/>
              </a:tblGrid>
              <a:tr h="24444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fficiency or Performance Criteria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locative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onmarket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Facilitate more voluntary labeling programs (e.g., process certification programs, standards)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905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acilitate more mandatory labeling programs (e.g., COOL labeling)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Ban “low quality” products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9236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rsue more education or information provision programs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984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ursue a more </a:t>
                      </a:r>
                      <a:r>
                        <a:rPr b="1" i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aissez faire </a:t>
                      </a: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pproach relative to the status quo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/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65160" marR="65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 Need to Lea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ow do information policies change consumers’ beliefs about the safety/quality of existing product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re there cases where consumers would prefer not to know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OI if consumers never find out the trut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 Need to Lea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alue of information if consumers have limited attentions or face “too many” choice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at is the value of government information campaig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of Information Regu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ly more on consumer access to modern technology (e.g., iPhones, bar codes, etc.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tter cost-benefit analy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ore work asking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h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f information could be beneficially presen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hould information policies promote social goals or ensure “truth in advertising”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onsumer Information and Label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yson L. Lu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ewer Americans than ever before are connected to agriculture or know where their food comes fr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s this change good or ba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does the change imply for food information polic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y Food Information Polic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conomic motiv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on-economic motiv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symmetric inform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kerlof’s lemon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es the presence of asymmetric information cause a market failur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lity uncertain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consumers can’t tell whether a product is “low” or “high” quality, their WTP will not be as high as it might be with better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ack of Credible Signa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sumers may not trust firms to tell the truth about quality claims – especially for credence go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n reputation help solve the problem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n-Economic Moti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nsumers’ “right to know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upport favored grou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mall farmers, local farmer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aternalis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udge consumers to make “better” cho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lleviate External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forming consumers of 3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party consequences of consumption might alter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lue of Information (VO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 VOI is the most consumers are willing to pay to be better inform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actically, this entails seeing how consumers change behavior after receiv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chnically, VOI is determined by calculating how many $ we’d have to give someone to make the same choices they did before they received inform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ulator Respon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Mandatory Lab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ducers or retailers are required to label 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E.g., mandatory nutritional labeling, mandatory country of origin lab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gredient-targeted mandatory labeling polices have been less successful in U.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.g., mandatory “rBST” or “GMO” labeling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5-31T15:37:15Z</dcterms:modified>
  <cp:revision>12</cp:revision>
  <dc:subject/>
  <dc:title>U.S. Policies Affecting Food and Agricultural Marketing</dc:title>
</cp:coreProperties>
</file>