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F433-5A95-4B15-9E32-8A6A0A46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22F6-E188-4CF1-9BB9-228C4B81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10ED-AE48-425C-88AC-22630D89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B2E8-83B9-4C2E-B4E5-4CD77DB9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CF37-0153-4606-AD8A-9758D92C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C255-AC4D-4A22-B879-6C623B52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8C94-68F2-4D13-BF29-4681033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9EC6-0B81-474C-9186-B746D741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98FF-0335-42E3-AB63-22BCAD27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2290-17CC-4BE7-A361-3CB64AEB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407A-DCF6-4E1C-B4A0-A31B60D7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96A4-C343-4FD5-8420-87664EA4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DEE5-44C7-45FD-A3C6-8F4E35B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F7CF-ECDC-4359-AF2E-9F77A26C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4570-6DDF-49A7-9994-DF29609C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3700-32DF-4DD2-830E-DF1CFDB0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2D3C-5B9D-4D34-A677-AFAA6ABE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14C9-4026-4227-A639-DBC2EF03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289E-A967-4769-8DB4-BDCF6415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7BEE-0A9E-4C9E-9224-C7CD7E28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8E63-4713-4047-B17A-85050D55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F49F-5FD6-479A-B264-E9FCBFF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C325-215D-47A1-B15D-C37C7E5E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F4B1-AEAB-4E98-9DE8-DB255779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22C4-4905-4D1C-B536-9A80D9B4DF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E60E-169E-42BD-9E9A-A19B462C69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 of Farm Animal Welfare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igher standards likely to increase production co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crease in cage size for laying hens increases costs by 10-20% and elimination of cages by 40-70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rge impact on producers if consumers switch to competing products or non-conforming sources of supp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Impact of Farm Animal Welfare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mpact is lower if consumers are willing to pay for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beling can be used to inform consumer cho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ut studies suggest that expressions of “willingness to pay” are not likely to be reflected in actual consumer cho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Measures The Fu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rowing pressure for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ifferences in legislation at the state level could lead to distor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lance needed between legislative and voluntary mechanis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research needed, particularly on economic aspects of higher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Humane Treatment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of Farm Animal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vid Blandf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umane Treatment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f Farm Anim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ductivity and animal welfare in conflict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rowing public pressure for higher welfare standards – production of eggs, pork and veal under particular scrutiny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approach should be used – self-regulation or legislatio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Concer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nimal welfare – a difficult concept to define and measure objectivel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Defining “humane” treatment even more challenging due to value judgm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cientific indicators of well-being based on productivity, health, physiology and behavi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nimal rights – animal agriculture should not exi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lfare as a “moral” good – absolute standards that must be me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lfare as a market failure issue to which economic principles can be appli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Feder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nimal Welfare Ac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966) does not apply to farm anim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Humane Methods of Slaughter Ac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(1978) excludes poult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Twenty-eight Hour La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(1873) regulates transportation of farm anim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St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w Jersey “humane” treatment act 1996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everal states (e.g., Florida) regulate use of crates for veal calves and sow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California Prevention of Farm Animal Cruelty Ac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comes into force in 20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llot initiatives have been used to promote legis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Farm Animal Welfare Legislation - St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everal states have established boards to advise on standards and practi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ulatory activity at the state level has been steadily increasing with differences in provisions and their scop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e Treatment of Farm Animals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rm Animal Welfar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dustry Mea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ited Egg Producers (UEP) setting standards for laying hens since 199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Voluntary approaches to higher standards promoted by food industry organizations and private firms (e.g., McDonalds®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ome companies terminate contracts with suppliers that fail performance audi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0T21:37:19Z</dcterms:modified>
  <cp:revision>20</cp:revision>
  <dc:subject/>
  <dc:title>U.S. Policies Affecting Food and Agricultural Marketing</dc:title>
</cp:coreProperties>
</file>