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AC44-4A04-48E7-8F61-429AF6BD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86456-BDA1-4018-9D9A-FDF1BD7F7D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E1C2-6BCF-458D-B2DB-EB98CF2F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A8E9-C0F6-40B7-9121-8D41AC87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276B-5410-460A-A1F2-F28986A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FCD3-2012-4F26-96F3-830B5091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8679-C615-4A06-B740-C34930EF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FCD0-BA4B-4DA7-BC01-8C0C8AB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5AD-FBD4-4D9B-9E0E-DDC31D4F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4E2-FCD2-4490-8862-558216AF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44D-FD81-4EB1-BC13-F9AF410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2C28-6B0F-4542-A530-4811850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D5C8-5517-42E7-BDAA-FBEAD769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0519-7EC1-49D8-BE4B-A0B2D05A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E32-9946-4BA9-AAC6-307030A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F3D-F91B-430F-B487-6504F85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F46-33E8-4789-80A1-2B4B8082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84C0-812D-459E-92A1-9520C79D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2416-A713-4DAC-9BF5-7854337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C760-8ABF-4301-9400-F1FD0433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8E3E-293B-43FE-AE27-8782B27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8D0F-1407-4707-8EB7-9E02BC48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8A11-F92A-4540-839D-932D25E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763F-0DE6-4027-9E5A-1218E0A1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E0C1-8F31-447B-B1B0-636266D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7E10-3698-4B01-95B4-2666A04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2EB-95A5-4965-A185-C2DF84FA1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30E-C543-422D-80CD-B518F1909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basis for evaluating 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effectivenes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echnical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ocative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ynamic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verall, focus in this area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ive and dynamic efficie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ing emphasis in some market segments on non-market social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ffects on technical efficiency should always also be under consid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rvey of current U.S. policy m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 possible to characterize the evolution of policy over time as beco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ublic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privately b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x keeps changing in differ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ok at policies using the framework discussed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safe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rimarily direct regul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with shift in emphasis to more private responsibility—preventative 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food safe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Safety and Inspection Service (FSIS)—US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, poultry, and processed egg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ous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meat and poul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d and Drug Administration (F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iodic insp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CCP for seafood and ju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utrition quality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label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nutrition quality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 &amp; 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tritio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I labeling of nutrition content in nutrition facts pa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V labeling of nutrient content and health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 of other voluntary clai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 on dietary guidelines &amp; healthy 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ignment of programs such as WIC and School Lunch/Breakfast with dietary guidel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sory/organoleptic &amp; value/function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 is market failure due 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opolistic competition and concentrated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untary Type V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sensory/organoleptic &amp; value/function agencies and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US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y 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grades and standards; quality grade marks for fruits, vegetables,  and me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ad range of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, standards of identity, quantity, and f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rationales are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failure due to inadequate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non-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licy instru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irect regulation and oversight/support of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Type VI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certification if using some voluntary claims (e.g., organ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ntary certification and labeling (Type 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jor process attribute agencies/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gricultural Marketing Service (AMS)—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broad range of programs, for 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c standards and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dit and accreditation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DA Process Verified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LLENGES IN CHOOSING THE MIX OF PUBLIC AND PRIVATE STANDARDS FOR FOOD QUALITY ASSUR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A. Casw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ional pattern of standards for process attribut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r the range of process attribute oriented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icult to identify a level of market fail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 consistently propels an issue forward strongly enoug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federal marketing policy to be viewed as warra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Lobbying by interested parties in support of government action may be the strongest factor in establishing these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ad map for policy eval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utline the quality attributes or external indicators and cues the policy is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alternative suites of attributes, cues, and indicators that it might addr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rticulate policy rat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Define policy instru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luding responsibilities for standard setting, certification to standards, and lab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valuate policy perform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tions for adjusting federal food quality assurance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valuation of existing and proposed polic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what quality assurance issues related t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attributes should be address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at policy instru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cus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sks (public health, market, trade, consumer perception, social sensitivity) the policy would be addres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nefits and costs of taking or not taking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act on performance cri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stematic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uld focus limited governmental resources on importan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slators, administrations, and agency personnel could respond systematica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calls for government action in markets for food quality attribut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anies, consumers, and citizens could evaluate what types of quality assur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suited to first-, second-, and third-party activities versus government policy or hybrid syste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ederal government faces challenges in choosing food quality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arge volume of domestic and international agricultural and foo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ange of quality attributes of interest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y chain particip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u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ivate sector/third party assurance systems are becoming increasingly sophistic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mework for characterizing and evaluating federal poli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Based 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attribute targ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ionales for government policies a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jor type of policy instrument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 regulation: Setting and enforcing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andat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inimum standards and/or labeling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sight/support of markets: 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ting, overseeing, and/or guid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olunta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tandards and/or labe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s for evaluating  policy effectiv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ich quality attribut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target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752480"/>
          <a:ext cx="6324840" cy="457200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insic Quality Attribut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Food safe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foodborne pathogens, pesticide resid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SzPct val="70000"/>
                        <a:buFont typeface="Garamond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utri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.   Sensory/organolet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taste and tenderness, colo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.   Value/func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compositional integr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.   Proces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.g., animal welfare, organic, use of GMO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economic rationales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 public policy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6858000" cy="44197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 Unsatisfactory Performanc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.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llocative inefficiency—market failure due to: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nadequate information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94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re likely with credence attributes, less likely with experience and search attribute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onopolistic competition and concentrated market pow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Extern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.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ailure to meet non-market social valu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5800" y="3456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policy instruments are us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8352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orthand for policy instruments us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752480"/>
          <a:ext cx="6858000" cy="3048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irect regulation: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692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egulatory policies focused on setting and enforcing mandatory minimum standards and/or labelin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versight/support of markets: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olicies focused on building markets; supporting fair trade; and setting, overseeing, and/or guiding voluntary standards and labeling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8000" y="836640"/>
          <a:ext cx="8889840" cy="5769000"/>
        </p:xfrm>
        <a:graphic>
          <a:graphicData uri="http://schemas.openxmlformats.org/drawingml/2006/table">
            <a:tbl>
              <a:tblPr/>
              <a:tblGrid>
                <a:gridCol w="581040"/>
                <a:gridCol w="1366920"/>
                <a:gridCol w="1365120"/>
                <a:gridCol w="1131840"/>
                <a:gridCol w="4444920"/>
              </a:tblGrid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 of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Standard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mary Means of Label Certifica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beling Approach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individual companies based on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 2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self certification by buyer or seller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,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ve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collective self-declared standards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standards set by independent body (e.g., non-governmental organization, private certification body), with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or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or 3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arty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datory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duct or process attribute claims on labels by companies based on government standard, with government certification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"/>
          <p:cNvSpPr/>
          <p:nvPr/>
        </p:nvSpPr>
        <p:spPr>
          <a:xfrm>
            <a:off x="250920" y="-41400"/>
            <a:ext cx="87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Which, if any, labeling type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22:39:24Z</dcterms:modified>
  <cp:revision>40</cp:revision>
  <dc:subject/>
  <dc:title>U.S. Policies Affecting Food and Agricultural Marketing</dc:title>
</cp:coreProperties>
</file>