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243463" cy="3960336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E86-91CB-48A9-B2F3-563F004E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2360" y="1585800"/>
            <a:ext cx="27217800" cy="660096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ctr">
            <a:noAutofit/>
          </a:bodyPr>
          <a:p>
            <a:pPr indent="0" algn="ctr">
              <a:buNone/>
              <a:tabLst>
                <a:tab algn="l" pos="0"/>
                <a:tab algn="l" pos="3990960"/>
                <a:tab algn="l" pos="7981920"/>
              </a:tabLst>
            </a:pPr>
            <a:endParaRPr b="0" lang="en-US" sz="19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2360" y="9240840"/>
            <a:ext cx="27217800" cy="1246788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2360" y="22893480"/>
            <a:ext cx="27217800" cy="1246788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0FD-905D-4AFD-950F-E0EA1BCB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2360" y="1585800"/>
            <a:ext cx="27217800" cy="660096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ctr">
            <a:noAutofit/>
          </a:bodyPr>
          <a:p>
            <a:pPr indent="0" algn="ctr">
              <a:buNone/>
              <a:tabLst>
                <a:tab algn="l" pos="0"/>
                <a:tab algn="l" pos="3990960"/>
                <a:tab algn="l" pos="7981920"/>
              </a:tabLst>
            </a:pPr>
            <a:endParaRPr b="0" lang="en-US" sz="19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2360" y="9240840"/>
            <a:ext cx="13282200" cy="1246788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459120" y="9240840"/>
            <a:ext cx="13282200" cy="1246788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2360" y="22893480"/>
            <a:ext cx="13282200" cy="1246788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459120" y="22893480"/>
            <a:ext cx="13282200" cy="1246788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3E5-290D-4099-8A16-2BB94EDA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2360" y="1585800"/>
            <a:ext cx="27217800" cy="660096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ctr">
            <a:noAutofit/>
          </a:bodyPr>
          <a:p>
            <a:pPr indent="0" algn="ctr">
              <a:buNone/>
              <a:tabLst>
                <a:tab algn="l" pos="0"/>
                <a:tab algn="l" pos="3990960"/>
                <a:tab algn="l" pos="7981920"/>
              </a:tabLst>
            </a:pPr>
            <a:endParaRPr b="0" lang="en-US" sz="19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2360" y="9240840"/>
            <a:ext cx="8763840" cy="1246788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14680" y="9240840"/>
            <a:ext cx="8763840" cy="1246788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917360" y="9240840"/>
            <a:ext cx="8763840" cy="1246788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2360" y="22893480"/>
            <a:ext cx="8763840" cy="1246788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714680" y="22893480"/>
            <a:ext cx="8763840" cy="1246788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917360" y="22893480"/>
            <a:ext cx="8763840" cy="1246788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454C-296D-43AE-8AC9-A591B56A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2360" y="1585800"/>
            <a:ext cx="27217800" cy="660096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ctr">
            <a:noAutofit/>
          </a:bodyPr>
          <a:p>
            <a:pPr indent="0" algn="ctr">
              <a:buNone/>
              <a:tabLst>
                <a:tab algn="l" pos="0"/>
                <a:tab algn="l" pos="3990960"/>
                <a:tab algn="l" pos="7981920"/>
              </a:tabLst>
            </a:pPr>
            <a:endParaRPr b="0" lang="en-US" sz="19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2360" y="9240840"/>
            <a:ext cx="27217800" cy="261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2C2F-82BE-4CF2-8E25-BECC0E49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2360" y="1585800"/>
            <a:ext cx="27217800" cy="660096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ctr">
            <a:noAutofit/>
          </a:bodyPr>
          <a:p>
            <a:pPr indent="0" algn="ctr">
              <a:buNone/>
              <a:tabLst>
                <a:tab algn="l" pos="0"/>
                <a:tab algn="l" pos="3990960"/>
                <a:tab algn="l" pos="7981920"/>
              </a:tabLst>
            </a:pPr>
            <a:endParaRPr b="0" lang="en-US" sz="19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2360" y="9240840"/>
            <a:ext cx="27217800" cy="2613816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A16-E220-46F5-B5FC-743EE3C0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2360" y="1585800"/>
            <a:ext cx="27217800" cy="660096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ctr">
            <a:noAutofit/>
          </a:bodyPr>
          <a:p>
            <a:pPr indent="0" algn="ctr">
              <a:buNone/>
              <a:tabLst>
                <a:tab algn="l" pos="0"/>
                <a:tab algn="l" pos="3990960"/>
                <a:tab algn="l" pos="7981920"/>
              </a:tabLst>
            </a:pPr>
            <a:endParaRPr b="0" lang="en-US" sz="19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2360" y="9240840"/>
            <a:ext cx="13282200" cy="2613816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59120" y="9240840"/>
            <a:ext cx="13282200" cy="2613816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2FE-0B1D-489F-927F-5D67976C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2360" y="1585800"/>
            <a:ext cx="27217800" cy="660096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ctr">
            <a:noAutofit/>
          </a:bodyPr>
          <a:p>
            <a:pPr indent="0" algn="ctr">
              <a:buNone/>
              <a:tabLst>
                <a:tab algn="l" pos="0"/>
                <a:tab algn="l" pos="3990960"/>
                <a:tab algn="l" pos="7981920"/>
              </a:tabLst>
            </a:pPr>
            <a:endParaRPr b="0" lang="en-US" sz="19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126C-E78A-43D9-90AF-F99528CA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2360" y="1585800"/>
            <a:ext cx="2721780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C76-9055-466B-93FC-6D4CB07A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2360" y="1585800"/>
            <a:ext cx="27217800" cy="660096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ctr">
            <a:noAutofit/>
          </a:bodyPr>
          <a:p>
            <a:pPr indent="0" algn="ctr">
              <a:buNone/>
              <a:tabLst>
                <a:tab algn="l" pos="0"/>
                <a:tab algn="l" pos="3990960"/>
                <a:tab algn="l" pos="7981920"/>
              </a:tabLst>
            </a:pPr>
            <a:endParaRPr b="0" lang="en-US" sz="19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2360" y="9240840"/>
            <a:ext cx="13282200" cy="1246788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59120" y="9240840"/>
            <a:ext cx="13282200" cy="2613816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2360" y="22893480"/>
            <a:ext cx="13282200" cy="1246788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C4E7-1E91-462D-A5AA-186A8DDD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2360" y="1585800"/>
            <a:ext cx="27217800" cy="660096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ctr">
            <a:noAutofit/>
          </a:bodyPr>
          <a:p>
            <a:pPr indent="0" algn="ctr">
              <a:buNone/>
              <a:tabLst>
                <a:tab algn="l" pos="0"/>
                <a:tab algn="l" pos="3990960"/>
                <a:tab algn="l" pos="7981920"/>
              </a:tabLst>
            </a:pPr>
            <a:endParaRPr b="0" lang="en-US" sz="19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2360" y="9240840"/>
            <a:ext cx="13282200" cy="2613816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459120" y="9240840"/>
            <a:ext cx="13282200" cy="1246788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459120" y="22893480"/>
            <a:ext cx="13282200" cy="1246788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38A-CF0B-4545-B1C0-19FDAD8A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2360" y="1585800"/>
            <a:ext cx="27217800" cy="660096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ctr">
            <a:noAutofit/>
          </a:bodyPr>
          <a:p>
            <a:pPr indent="0" algn="ctr">
              <a:buNone/>
              <a:tabLst>
                <a:tab algn="l" pos="0"/>
                <a:tab algn="l" pos="3990960"/>
                <a:tab algn="l" pos="7981920"/>
              </a:tabLst>
            </a:pPr>
            <a:endParaRPr b="0" lang="en-US" sz="19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2360" y="9240840"/>
            <a:ext cx="13282200" cy="1246788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459120" y="9240840"/>
            <a:ext cx="13282200" cy="1246788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2360" y="22893480"/>
            <a:ext cx="27217800" cy="1246788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3990960"/>
                <a:tab algn="l" pos="798192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3ADF-D741-4746-A8F8-7B66961B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3a6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2360" y="1585800"/>
            <a:ext cx="27217800" cy="660096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ctr">
            <a:noAutofit/>
          </a:bodyPr>
          <a:p>
            <a:pPr indent="0" algn="ctr">
              <a:buNone/>
              <a:tabLst>
                <a:tab algn="l" pos="0"/>
                <a:tab algn="l" pos="3990960"/>
                <a:tab algn="l" pos="7981920"/>
              </a:tabLst>
            </a:pPr>
            <a:r>
              <a:rPr b="0" lang="en-US" sz="19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9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2360" y="9240840"/>
            <a:ext cx="27217800" cy="2613816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rmAutofit/>
          </a:bodyPr>
          <a:p>
            <a:pPr marL="1496880" indent="-14968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3990960"/>
                <a:tab algn="l" pos="798192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lvl="1" marL="3243240" indent="-1247760">
              <a:spcBef>
                <a:spcPts val="3501"/>
              </a:spcBef>
              <a:buClr>
                <a:srgbClr val="000000"/>
              </a:buClr>
              <a:buFont typeface="Arial"/>
              <a:buChar char="–"/>
              <a:tabLst>
                <a:tab algn="l" pos="3990960"/>
                <a:tab algn="l" pos="798192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lvl="2" marL="4989600" indent="-99864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3990960"/>
                <a:tab algn="l" pos="798192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lvl="3" marL="6985080" indent="-998640">
              <a:spcBef>
                <a:spcPts val="3501"/>
              </a:spcBef>
              <a:buClr>
                <a:srgbClr val="000000"/>
              </a:buClr>
              <a:buFont typeface="Arial"/>
              <a:buChar char="–"/>
              <a:tabLst>
                <a:tab algn="l" pos="3990960"/>
                <a:tab algn="l" pos="798192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lvl="4" marL="8980560" indent="-998640">
              <a:spcBef>
                <a:spcPts val="3501"/>
              </a:spcBef>
              <a:buClr>
                <a:srgbClr val="000000"/>
              </a:buClr>
              <a:buFont typeface="Arial"/>
              <a:buChar char="»"/>
              <a:tabLst>
                <a:tab algn="l" pos="3990960"/>
                <a:tab algn="l" pos="798192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lvl="5" marL="8980560" indent="-998640">
              <a:spcBef>
                <a:spcPts val="3501"/>
              </a:spcBef>
              <a:buClr>
                <a:srgbClr val="000000"/>
              </a:buClr>
              <a:buFont typeface="Arial"/>
              <a:buChar char="»"/>
              <a:tabLst>
                <a:tab algn="l" pos="3990960"/>
                <a:tab algn="l" pos="798192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lvl="6" marL="8980560" indent="-998640">
              <a:spcBef>
                <a:spcPts val="3501"/>
              </a:spcBef>
              <a:buClr>
                <a:srgbClr val="000000"/>
              </a:buClr>
              <a:buFont typeface="Arial"/>
              <a:buChar char="»"/>
              <a:tabLst>
                <a:tab algn="l" pos="3990960"/>
                <a:tab algn="l" pos="798192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2720" y="36066240"/>
            <a:ext cx="7056720" cy="274968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33080" y="36066240"/>
            <a:ext cx="9577440" cy="274968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73800" y="36066240"/>
            <a:ext cx="7056360" cy="2749680"/>
          </a:xfrm>
          <a:prstGeom prst="rect">
            <a:avLst/>
          </a:prstGeom>
          <a:noFill/>
          <a:ln w="0">
            <a:noFill/>
          </a:ln>
        </p:spPr>
        <p:txBody>
          <a:bodyPr lIns="399240" rIns="399240" tIns="199440" bIns="199440" anchor="t">
            <a:noAutofit/>
          </a:bodyPr>
          <a:lstStyle>
            <a:lvl1pPr indent="0" algn="r">
              <a:buNone/>
              <a:tabLst>
                <a:tab algn="l" pos="0"/>
                <a:tab algn="l" pos="3990960"/>
                <a:tab algn="l" pos="7981920"/>
              </a:tabLst>
              <a:defRPr b="0" lang="de-DE" sz="6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990960"/>
                <a:tab algn="l" pos="7981920"/>
              </a:tabLst>
            </a:pPr>
            <a:fld id="{8D0FB807-80BC-4D3E-88B0-55E6D4A901C0}" type="slidenum">
              <a:rPr b="0" lang="de-DE" sz="6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package" Target="../embeddings/oleObject1.doc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4108320"/>
            <a:ext cx="30243600" cy="719280"/>
          </a:xfrm>
          <a:prstGeom prst="rect">
            <a:avLst/>
          </a:prstGeom>
          <a:solidFill>
            <a:srgbClr val="63a6a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38"/>
              </a:spcBef>
              <a:tabLst>
                <a:tab algn="l" pos="0"/>
                <a:tab algn="l" pos="3990960"/>
                <a:tab algn="l" pos="7981920"/>
              </a:tabLst>
            </a:pP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4824360"/>
            <a:ext cx="30243600" cy="1006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990960"/>
                <a:tab algn="l" pos="7981920"/>
              </a:tabLst>
            </a:pP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t-shirt"/>
          <p:cNvPicPr/>
          <p:nvPr/>
        </p:nvPicPr>
        <p:blipFill>
          <a:blip r:embed="rId1"/>
          <a:stretch/>
        </p:blipFill>
        <p:spPr>
          <a:xfrm>
            <a:off x="12739680" y="9361440"/>
            <a:ext cx="5046840" cy="96487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9"/>
          <p:cNvSpPr/>
          <p:nvPr/>
        </p:nvSpPr>
        <p:spPr>
          <a:xfrm>
            <a:off x="10009080" y="6624720"/>
            <a:ext cx="100094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990960"/>
                <a:tab algn="l" pos="7981920"/>
              </a:tabLst>
            </a:pPr>
            <a:r>
              <a:rPr b="1" lang="de-DE" sz="9600" spc="-1" strike="noStrike">
                <a:solidFill>
                  <a:srgbClr val="00cc00"/>
                </a:solidFill>
                <a:latin typeface="Arial"/>
              </a:rPr>
              <a:t>Na</a:t>
            </a:r>
            <a:r>
              <a:rPr b="1" lang="de-DE" sz="9600" spc="-1" strike="noStrike">
                <a:solidFill>
                  <a:srgbClr val="0000ff"/>
                </a:solidFill>
                <a:latin typeface="Arial"/>
              </a:rPr>
              <a:t>na</a:t>
            </a:r>
            <a:r>
              <a:rPr b="1" lang="de-DE" sz="9600" spc="-1" strike="noStrike">
                <a:solidFill>
                  <a:srgbClr val="000000"/>
                </a:solidFill>
                <a:latin typeface="Arial"/>
              </a:rPr>
              <a:t>-Studi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90960"/>
                <a:tab algn="l" pos="798192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4800" spc="-1" strike="noStrike">
                <a:solidFill>
                  <a:srgbClr val="00cc00"/>
                </a:solidFill>
                <a:latin typeface="Arial"/>
              </a:rPr>
              <a:t>Na</a:t>
            </a: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chkatze – </a:t>
            </a:r>
            <a:r>
              <a:rPr b="1" lang="de-DE" sz="4800" spc="-1" strike="noStrike">
                <a:solidFill>
                  <a:srgbClr val="0000ff"/>
                </a:solidFill>
                <a:latin typeface="Arial"/>
              </a:rPr>
              <a:t>Na</a:t>
            </a: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getiere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33699600"/>
            <a:ext cx="3024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3990960"/>
                <a:tab algn="l" pos="798192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Arial"/>
              </a:rPr>
              <a:t>Bitte bestimmen Sie Ihre Gruppenzugehörigke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90960"/>
                <a:tab algn="l" pos="798192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6000" spc="-1" strike="noStrike">
                <a:solidFill>
                  <a:srgbClr val="000000"/>
                </a:solidFill>
                <a:latin typeface="Arial"/>
              </a:rPr>
              <a:t>durch Auswahl einer Nascherei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90960"/>
                <a:tab algn="l" pos="798192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90960"/>
                <a:tab algn="l" pos="798192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Arial"/>
              </a:rPr>
              <a:t>entweder      -           od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36"/>
          <p:cNvGrpSpPr/>
          <p:nvPr/>
        </p:nvGrpSpPr>
        <p:grpSpPr>
          <a:xfrm>
            <a:off x="1008000" y="33605640"/>
            <a:ext cx="5256360" cy="3957840"/>
            <a:chOff x="1008000" y="33605640"/>
            <a:chExt cx="5256360" cy="3957840"/>
          </a:xfrm>
        </p:grpSpPr>
        <p:pic>
          <p:nvPicPr>
            <p:cNvPr id="47" name="Picture 31" descr="katze4jpeg"/>
            <p:cNvPicPr/>
            <p:nvPr/>
          </p:nvPicPr>
          <p:blipFill>
            <a:blip r:embed="rId2"/>
            <a:stretch/>
          </p:blipFill>
          <p:spPr>
            <a:xfrm>
              <a:off x="1238040" y="33605640"/>
              <a:ext cx="334584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34"/>
            <p:cNvSpPr/>
            <p:nvPr/>
          </p:nvSpPr>
          <p:spPr>
            <a:xfrm>
              <a:off x="1008000" y="36555120"/>
              <a:ext cx="525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6000" spc="-1" strike="noStrike">
                  <a:solidFill>
                    <a:srgbClr val="000000"/>
                  </a:solidFill>
                  <a:latin typeface="Arial"/>
                </a:rPr>
                <a:t>Naschkatze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66"/>
          <p:cNvGrpSpPr/>
          <p:nvPr/>
        </p:nvGrpSpPr>
        <p:grpSpPr>
          <a:xfrm>
            <a:off x="25706520" y="33556680"/>
            <a:ext cx="4392360" cy="3907080"/>
            <a:chOff x="25706520" y="33556680"/>
            <a:chExt cx="4392360" cy="3907080"/>
          </a:xfrm>
        </p:grpSpPr>
        <p:pic>
          <p:nvPicPr>
            <p:cNvPr id="50" name="Picture 32" descr="eich2"/>
            <p:cNvPicPr/>
            <p:nvPr/>
          </p:nvPicPr>
          <p:blipFill>
            <a:blip r:embed="rId3"/>
            <a:stretch/>
          </p:blipFill>
          <p:spPr>
            <a:xfrm>
              <a:off x="25842240" y="33556680"/>
              <a:ext cx="334944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35"/>
            <p:cNvSpPr/>
            <p:nvPr/>
          </p:nvSpPr>
          <p:spPr>
            <a:xfrm>
              <a:off x="25706520" y="36455400"/>
              <a:ext cx="439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6000" spc="-1" strike="noStrike">
                  <a:solidFill>
                    <a:srgbClr val="000000"/>
                  </a:solidFill>
                  <a:latin typeface="Arial"/>
                </a:rPr>
                <a:t>Nagetiere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34"/>
          <p:cNvGrpSpPr/>
          <p:nvPr/>
        </p:nvGrpSpPr>
        <p:grpSpPr>
          <a:xfrm>
            <a:off x="922320" y="6481800"/>
            <a:ext cx="9124920" cy="8713800"/>
            <a:chOff x="922320" y="6481800"/>
            <a:chExt cx="9124920" cy="8713800"/>
          </a:xfrm>
        </p:grpSpPr>
        <p:sp>
          <p:nvSpPr>
            <p:cNvPr id="53" name="Rectangle 13"/>
            <p:cNvSpPr/>
            <p:nvPr/>
          </p:nvSpPr>
          <p:spPr>
            <a:xfrm>
              <a:off x="974880" y="7002360"/>
              <a:ext cx="9072360" cy="819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40"/>
            <p:cNvSpPr/>
            <p:nvPr/>
          </p:nvSpPr>
          <p:spPr>
            <a:xfrm>
              <a:off x="922320" y="6481800"/>
              <a:ext cx="48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Das Design der Studi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0"/>
            <p:cNvSpPr/>
            <p:nvPr/>
          </p:nvSpPr>
          <p:spPr>
            <a:xfrm>
              <a:off x="3816360" y="7489800"/>
              <a:ext cx="6121440" cy="42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36000" tIns="0" bIns="0" anchor="t">
              <a:normAutofit/>
            </a:bodyPr>
            <a:p>
              <a:pPr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Gruppenzugehörigkeit eines jeden Studienteilnehmers wird nicht mit einem Zufallsverfahren festgelegt, sondern erfolgt anhand personenbezogener Eigenheiten: hier durch Wahl der Naschere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90960"/>
                  <a:tab algn="l" pos="79819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jeder Teilnehmer und das Studienpersonal kennen die jeweilige Gruppenzugehörigkeit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90960"/>
                  <a:tab algn="l" pos="79819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die Ergebnisse liegen in der Zukunft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90960"/>
                  <a:tab algn="l" pos="79819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in den Verlauf wird </a:t>
              </a:r>
              <a:r>
                <a:rPr b="0" lang="de-DE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nicht</a:t>
              </a: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 eingegriffen, sondern bestimmte Eigenschaften, z. B. Körperhöhe und Körpergewicht, werden nur beobachte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71"/>
            <p:cNvSpPr/>
            <p:nvPr/>
          </p:nvSpPr>
          <p:spPr>
            <a:xfrm>
              <a:off x="1204920" y="7480440"/>
              <a:ext cx="2611440" cy="39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nicht-randomisierte</a:t>
              </a:r>
              <a:br>
                <a:rPr sz="2200"/>
              </a:br>
              <a:br>
                <a:rPr sz="2200"/>
              </a:br>
              <a:br>
                <a:rPr sz="2200"/>
              </a:b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3990960"/>
                  <a:tab algn="l" pos="79819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2. offene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3990960"/>
                  <a:tab algn="l" pos="79819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3. prospektiv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3990960"/>
                  <a:tab algn="l" pos="79819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4. Erhebung</a:t>
              </a: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73"/>
            <p:cNvSpPr/>
            <p:nvPr/>
          </p:nvSpPr>
          <p:spPr>
            <a:xfrm>
              <a:off x="1440000" y="11737800"/>
              <a:ext cx="2160360" cy="505080"/>
            </a:xfrm>
            <a:prstGeom prst="downArrow">
              <a:avLst>
                <a:gd name="adj1" fmla="val 50037"/>
                <a:gd name="adj2" fmla="val 58806"/>
              </a:avLst>
            </a:prstGeom>
            <a:solidFill>
              <a:srgbClr val="63a6a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74"/>
            <p:cNvSpPr/>
            <p:nvPr/>
          </p:nvSpPr>
          <p:spPr>
            <a:xfrm>
              <a:off x="1079640" y="7489800"/>
              <a:ext cx="2665440" cy="4248000"/>
            </a:xfrm>
            <a:prstGeom prst="rect">
              <a:avLst/>
            </a:prstGeom>
            <a:solidFill>
              <a:srgbClr val="63a6a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75"/>
            <p:cNvSpPr/>
            <p:nvPr/>
          </p:nvSpPr>
          <p:spPr>
            <a:xfrm>
              <a:off x="3817800" y="12460320"/>
              <a:ext cx="6120000" cy="244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nicht sehr hochwertige Studie: </a:t>
              </a:r>
              <a:br>
                <a:rPr sz="2200"/>
              </a:b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  viele unbekannte und sich überlagernde   </a:t>
              </a:r>
              <a:br>
                <a:rPr sz="2200"/>
              </a:b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  Einflüsse werden nicht  erfasst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Ergebnisse geben daher nur </a:t>
              </a:r>
              <a:r>
                <a:rPr b="0" lang="de-DE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Hinweise</a:t>
              </a: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 auf </a:t>
              </a:r>
              <a:br>
                <a:rPr sz="2200"/>
              </a:b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  mögliche Zusammenhäng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Ergebnisse geben </a:t>
              </a:r>
              <a:r>
                <a:rPr b="0" lang="de-DE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Hinweise</a:t>
              </a: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 für weitere </a:t>
              </a:r>
              <a:br>
                <a:rPr sz="2200"/>
              </a:b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  Untersuchungen,  z. B. klinische Studie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76"/>
            <p:cNvSpPr/>
            <p:nvPr/>
          </p:nvSpPr>
          <p:spPr>
            <a:xfrm>
              <a:off x="1079640" y="12465000"/>
              <a:ext cx="273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3990960"/>
                  <a:tab algn="l" pos="798192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Zusammenfassu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31"/>
          <p:cNvGrpSpPr/>
          <p:nvPr/>
        </p:nvGrpSpPr>
        <p:grpSpPr>
          <a:xfrm>
            <a:off x="863640" y="15481440"/>
            <a:ext cx="9198000" cy="8648640"/>
            <a:chOff x="863640" y="15481440"/>
            <a:chExt cx="9198000" cy="8648640"/>
          </a:xfrm>
        </p:grpSpPr>
        <p:sp>
          <p:nvSpPr>
            <p:cNvPr id="62" name="Rectangle 82"/>
            <p:cNvSpPr/>
            <p:nvPr/>
          </p:nvSpPr>
          <p:spPr>
            <a:xfrm>
              <a:off x="988920" y="15936840"/>
              <a:ext cx="9072720" cy="819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83"/>
            <p:cNvSpPr/>
            <p:nvPr/>
          </p:nvSpPr>
          <p:spPr>
            <a:xfrm>
              <a:off x="863640" y="15481440"/>
              <a:ext cx="48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Das Anliegen der Studi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84"/>
            <p:cNvSpPr/>
            <p:nvPr/>
          </p:nvSpPr>
          <p:spPr>
            <a:xfrm>
              <a:off x="3817800" y="16354440"/>
              <a:ext cx="6120000" cy="626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36000" tIns="0" bIns="0" anchor="t">
              <a:normAutofit/>
            </a:bodyPr>
            <a:p>
              <a:pPr>
                <a:tabLst>
                  <a:tab algn="l" pos="0"/>
                  <a:tab algn="l" pos="3990960"/>
                  <a:tab algn="l" pos="7981920"/>
                </a:tabLst>
              </a:pPr>
              <a:br>
                <a:rPr sz="2200"/>
              </a:br>
              <a:br>
                <a:rPr sz="2200"/>
              </a:b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Es soll überprüft werden, ob sich Teilnehmer, die Süßes bevorzugen (Gruppe „Naschkatzen“), beim Körpermasse-Index (BMI) von den Teilnehmern unterscheiden, die eine Knabberei wählen (Gruppe „Nagetiere“)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90960"/>
                  <a:tab algn="l" pos="7981920"/>
                </a:tabLst>
              </a:pPr>
              <a:br>
                <a:rPr sz="2200"/>
              </a:br>
              <a:br>
                <a:rPr sz="2200"/>
              </a:b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Die Studienteilnehmer beider Gruppen („Naschkatzen“ und „Nagetiere“) unterscheiden sich nicht im Körpermasse-Index (BMI)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Es lassen sich beim Körpermasse-Index (BMI) Unterschiede zwischen den Teilnehmern aus der Gruppe der „Naschkatzen“ bzw. der Gruppe der „Nagetiere“ nachweisen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85"/>
            <p:cNvSpPr/>
            <p:nvPr/>
          </p:nvSpPr>
          <p:spPr>
            <a:xfrm>
              <a:off x="1081080" y="16272000"/>
              <a:ext cx="2808360" cy="57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3990960"/>
                  <a:tab algn="l" pos="7981920"/>
                </a:tabLst>
              </a:pPr>
              <a:r>
                <a:rPr b="0" lang="de-DE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Vor Beginn</a:t>
              </a: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 ein- deutig festlege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Durch </a:t>
              </a:r>
              <a:br>
                <a:rPr sz="2200"/>
              </a:b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Formulierung </a:t>
              </a:r>
              <a:br>
                <a:rPr sz="2200"/>
              </a:b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der </a:t>
              </a:r>
              <a:r>
                <a:rPr b="0" lang="de-DE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Hauptfrage</a:t>
              </a:r>
              <a:br>
                <a:rPr sz="2200"/>
              </a:br>
              <a:br>
                <a:rPr sz="2200"/>
              </a:br>
              <a:r>
                <a:rPr b="0" lang="de-DE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3. Mit zwei, sich </a:t>
              </a:r>
              <a:br>
                <a:rPr sz="2200"/>
              </a:b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ausschließenden Annahmen</a:t>
              </a:r>
              <a:br>
                <a:rPr sz="2200"/>
              </a:b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DE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Hypothesenpaar</a:t>
              </a: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lphaLcParenR"/>
                <a:tabLst>
                  <a:tab algn="l" pos="3990960"/>
                  <a:tab algn="l" pos="7981920"/>
                </a:tabLst>
              </a:pPr>
              <a:r>
                <a:rPr b="0" lang="de-DE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Grundannahme </a:t>
              </a: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(H0-Hypothese)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lphaLcParenR"/>
                <a:tabLst>
                  <a:tab algn="l" pos="3990960"/>
                  <a:tab algn="l" pos="7981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lphaLcParenR"/>
                <a:tabLst>
                  <a:tab algn="l" pos="3990960"/>
                  <a:tab algn="l" pos="7981920"/>
                </a:tabLst>
              </a:pPr>
              <a:r>
                <a:rPr b="0" lang="de-DE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Alternative</a:t>
              </a:r>
              <a:br>
                <a:rPr sz="2200"/>
              </a:b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(H1-Hypothese) </a:t>
              </a: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87"/>
            <p:cNvSpPr/>
            <p:nvPr/>
          </p:nvSpPr>
          <p:spPr>
            <a:xfrm>
              <a:off x="1081080" y="16353000"/>
              <a:ext cx="2664000" cy="6264000"/>
            </a:xfrm>
            <a:prstGeom prst="rect">
              <a:avLst/>
            </a:prstGeom>
            <a:solidFill>
              <a:srgbClr val="63a6a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01"/>
            <p:cNvSpPr/>
            <p:nvPr/>
          </p:nvSpPr>
          <p:spPr>
            <a:xfrm>
              <a:off x="1081080" y="22761720"/>
              <a:ext cx="8785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Die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Alternativ-Hypothese </a:t>
              </a: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ist 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nachgewiesen, </a:t>
              </a: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wenn für den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BMI </a:t>
              </a: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die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Unterschiede </a:t>
              </a: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zwischen beiden Studiengruppen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mit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weniger als 5 % </a:t>
              </a: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mit dem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Zufall </a:t>
              </a: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erklärt werden können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92"/>
          <p:cNvSpPr/>
          <p:nvPr/>
        </p:nvSpPr>
        <p:spPr>
          <a:xfrm>
            <a:off x="934920" y="24263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3990960"/>
                <a:tab algn="l" pos="7981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formationen zur Hauptzielgröß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30"/>
          <p:cNvGrpSpPr/>
          <p:nvPr/>
        </p:nvGrpSpPr>
        <p:grpSpPr>
          <a:xfrm>
            <a:off x="1009800" y="24803280"/>
            <a:ext cx="9143640" cy="7329240"/>
            <a:chOff x="1009800" y="24803280"/>
            <a:chExt cx="9143640" cy="7329240"/>
          </a:xfrm>
        </p:grpSpPr>
        <p:sp>
          <p:nvSpPr>
            <p:cNvPr id="70" name="Rectangle 91"/>
            <p:cNvSpPr/>
            <p:nvPr/>
          </p:nvSpPr>
          <p:spPr>
            <a:xfrm>
              <a:off x="1009800" y="24803280"/>
              <a:ext cx="9143640" cy="732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93"/>
            <p:cNvSpPr/>
            <p:nvPr/>
          </p:nvSpPr>
          <p:spPr>
            <a:xfrm>
              <a:off x="3926520" y="25203240"/>
              <a:ext cx="6095520" cy="25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36000" tIns="0" bIns="0" anchor="t">
              <a:normAutofit/>
            </a:bodyPr>
            <a:p>
              <a:pPr>
                <a:tabLst>
                  <a:tab algn="l" pos="0"/>
                  <a:tab algn="l" pos="3990960"/>
                  <a:tab algn="l" pos="798192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Berechnung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90960"/>
                  <a:tab algn="l" pos="7981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Körpermasse-Index (BMI) =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Körpergewicht in kg / (Körpergröße in m)²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96"/>
            <p:cNvSpPr/>
            <p:nvPr/>
          </p:nvSpPr>
          <p:spPr>
            <a:xfrm>
              <a:off x="1155240" y="25203240"/>
              <a:ext cx="2612880" cy="2520720"/>
            </a:xfrm>
            <a:prstGeom prst="rect">
              <a:avLst/>
            </a:prstGeom>
            <a:solidFill>
              <a:srgbClr val="63a6a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97"/>
            <p:cNvSpPr/>
            <p:nvPr/>
          </p:nvSpPr>
          <p:spPr>
            <a:xfrm>
              <a:off x="3928320" y="27939960"/>
              <a:ext cx="6093720" cy="277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990960"/>
                  <a:tab algn="l" pos="7981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Untergewicht    (leicht):           &lt; 18,5 kg/m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90960"/>
                  <a:tab algn="l" pos="7981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Normalgewicht (normal):         </a:t>
              </a:r>
              <a:r>
                <a:rPr b="0" lang="de-DE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≥ 18,5 kg/m² bis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            </a:t>
              </a:r>
              <a:r>
                <a:rPr b="0" lang="de-DE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  25,0 kg/m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90960"/>
                  <a:tab algn="l" pos="7981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Übergewicht     (schwer):         </a:t>
              </a: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≥ 25,0 kg/m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990960"/>
                  <a:tab algn="l" pos="798192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103"/>
            <p:cNvGrpSpPr/>
            <p:nvPr/>
          </p:nvGrpSpPr>
          <p:grpSpPr>
            <a:xfrm>
              <a:off x="1445040" y="25490520"/>
              <a:ext cx="2418840" cy="2459160"/>
              <a:chOff x="1445040" y="25490520"/>
              <a:chExt cx="2418840" cy="2459160"/>
            </a:xfrm>
          </p:grpSpPr>
          <p:sp>
            <p:nvSpPr>
              <p:cNvPr id="75" name="AutoShape 104"/>
              <p:cNvSpPr/>
              <p:nvPr/>
            </p:nvSpPr>
            <p:spPr>
              <a:xfrm rot="8067600">
                <a:off x="2021400" y="27533880"/>
                <a:ext cx="342720" cy="34524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05"/>
              <p:cNvSpPr/>
              <p:nvPr/>
            </p:nvSpPr>
            <p:spPr>
              <a:xfrm>
                <a:off x="1445040" y="27477360"/>
                <a:ext cx="161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7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106"/>
              <p:cNvSpPr/>
              <p:nvPr/>
            </p:nvSpPr>
            <p:spPr>
              <a:xfrm>
                <a:off x="1560240" y="26677080"/>
                <a:ext cx="460440" cy="799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4800" bIns="46800" anchor="t">
                <a:normAutofit/>
              </a:bodyPr>
              <a:p>
                <a:pPr algn="ctr">
                  <a:tabLst>
                    <a:tab algn="l" pos="0"/>
                    <a:tab algn="l" pos="3990960"/>
                    <a:tab algn="l" pos="7981920"/>
                  </a:tabLst>
                </a:pPr>
                <a:r>
                  <a:rPr b="0" lang="de-DE" sz="2200" spc="-1" strike="noStrike">
                    <a:solidFill>
                      <a:srgbClr val="ffffff"/>
                    </a:solidFill>
                    <a:latin typeface="Arial"/>
                  </a:rPr>
                  <a:t>kg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Oval 107"/>
              <p:cNvSpPr/>
              <p:nvPr/>
            </p:nvSpPr>
            <p:spPr>
              <a:xfrm>
                <a:off x="1675080" y="26562960"/>
                <a:ext cx="230400" cy="114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08"/>
              <p:cNvSpPr/>
              <p:nvPr/>
            </p:nvSpPr>
            <p:spPr>
              <a:xfrm flipH="1">
                <a:off x="2135880" y="25534440"/>
                <a:ext cx="230400" cy="19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" name="Group 109"/>
              <p:cNvGrpSpPr/>
              <p:nvPr/>
            </p:nvGrpSpPr>
            <p:grpSpPr>
              <a:xfrm>
                <a:off x="2366280" y="25490520"/>
                <a:ext cx="575640" cy="1942920"/>
                <a:chOff x="2366280" y="25490520"/>
                <a:chExt cx="575640" cy="1942920"/>
              </a:xfrm>
            </p:grpSpPr>
            <p:sp>
              <p:nvSpPr>
                <p:cNvPr id="81" name="Rectangle 110"/>
                <p:cNvSpPr/>
                <p:nvPr/>
              </p:nvSpPr>
              <p:spPr>
                <a:xfrm>
                  <a:off x="2509920" y="26548200"/>
                  <a:ext cx="144000" cy="885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Rectangle 111"/>
                <p:cNvSpPr/>
                <p:nvPr/>
              </p:nvSpPr>
              <p:spPr>
                <a:xfrm>
                  <a:off x="2653920" y="26548200"/>
                  <a:ext cx="144000" cy="885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112"/>
                <p:cNvSpPr/>
                <p:nvPr/>
              </p:nvSpPr>
              <p:spPr>
                <a:xfrm>
                  <a:off x="2509920" y="25789320"/>
                  <a:ext cx="288000" cy="885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113"/>
                <p:cNvSpPr/>
                <p:nvPr/>
              </p:nvSpPr>
              <p:spPr>
                <a:xfrm>
                  <a:off x="2366280" y="25789320"/>
                  <a:ext cx="143640" cy="885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114"/>
                <p:cNvSpPr/>
                <p:nvPr/>
              </p:nvSpPr>
              <p:spPr>
                <a:xfrm>
                  <a:off x="2797920" y="25789320"/>
                  <a:ext cx="144000" cy="885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Oval 115"/>
                <p:cNvSpPr/>
                <p:nvPr/>
              </p:nvSpPr>
              <p:spPr>
                <a:xfrm>
                  <a:off x="2797920" y="26674560"/>
                  <a:ext cx="144000" cy="12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Oval 116"/>
                <p:cNvSpPr/>
                <p:nvPr/>
              </p:nvSpPr>
              <p:spPr>
                <a:xfrm>
                  <a:off x="2366280" y="26674560"/>
                  <a:ext cx="143640" cy="12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AutoShape 117"/>
                <p:cNvSpPr/>
                <p:nvPr/>
              </p:nvSpPr>
              <p:spPr>
                <a:xfrm>
                  <a:off x="2458080" y="25490520"/>
                  <a:ext cx="339840" cy="29880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AutoShape 118"/>
              <p:cNvSpPr/>
              <p:nvPr/>
            </p:nvSpPr>
            <p:spPr>
              <a:xfrm>
                <a:off x="3057480" y="25534440"/>
                <a:ext cx="115200" cy="1828800"/>
              </a:xfrm>
              <a:custGeom>
                <a:avLst/>
                <a:gdLst>
                  <a:gd name="textAreaLeft" fmla="*/ 0 w 115200"/>
                  <a:gd name="textAreaRight" fmla="*/ 41400 w 1152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119"/>
              <p:cNvSpPr/>
              <p:nvPr/>
            </p:nvSpPr>
            <p:spPr>
              <a:xfrm>
                <a:off x="3172680" y="26334360"/>
                <a:ext cx="691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3990960"/>
                    <a:tab algn="l" pos="798192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 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 Box 120"/>
            <p:cNvSpPr/>
            <p:nvPr/>
          </p:nvSpPr>
          <p:spPr>
            <a:xfrm>
              <a:off x="1155240" y="28262160"/>
              <a:ext cx="2540880" cy="22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3990960"/>
                  <a:tab algn="l" pos="798192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Einteilung:</a:t>
              </a: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200"/>
              </a:b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des BMI für Erwachsene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375"/>
                </a:spcBef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nach</a:t>
              </a:r>
              <a:br>
                <a:rPr sz="2200"/>
              </a:b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WHO 2000/2004*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21"/>
            <p:cNvSpPr/>
            <p:nvPr/>
          </p:nvSpPr>
          <p:spPr>
            <a:xfrm>
              <a:off x="1081800" y="31179960"/>
              <a:ext cx="78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*http://www.who.int/bmi/index.jsp?introPage=intro_3.ht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129"/>
          <p:cNvSpPr/>
          <p:nvPr/>
        </p:nvSpPr>
        <p:spPr>
          <a:xfrm>
            <a:off x="20089800" y="32140440"/>
            <a:ext cx="94330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990960"/>
                <a:tab algn="l" pos="7981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/o Institut für Biometrie der Universität Ulm                                          01.03.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3990960"/>
                <a:tab algn="l" pos="7981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wabstr. 13, 89070 U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3990960"/>
                <a:tab algn="l" pos="7981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l: 0731 / 500-26 90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40"/>
          <p:cNvGrpSpPr/>
          <p:nvPr/>
        </p:nvGrpSpPr>
        <p:grpSpPr>
          <a:xfrm>
            <a:off x="20113560" y="6481800"/>
            <a:ext cx="9131400" cy="12457080"/>
            <a:chOff x="20113560" y="6481800"/>
            <a:chExt cx="9131400" cy="12457080"/>
          </a:xfrm>
        </p:grpSpPr>
        <p:sp>
          <p:nvSpPr>
            <p:cNvPr id="95" name="Rectangle 12"/>
            <p:cNvSpPr/>
            <p:nvPr/>
          </p:nvSpPr>
          <p:spPr>
            <a:xfrm>
              <a:off x="20172240" y="7129440"/>
              <a:ext cx="9072720" cy="1180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990960"/>
                  <a:tab algn="l" pos="7981920"/>
                </a:tabLst>
              </a:pPr>
              <a:endParaRPr b="0" lang="en-US" sz="7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47"/>
            <p:cNvSpPr/>
            <p:nvPr/>
          </p:nvSpPr>
          <p:spPr>
            <a:xfrm>
              <a:off x="20113560" y="6481800"/>
              <a:ext cx="36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Auswertung Teil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" name="Object 138"/>
            <p:cNvGraphicFramePr/>
            <p:nvPr/>
          </p:nvGraphicFramePr>
          <p:xfrm>
            <a:off x="21313800" y="7921800"/>
            <a:ext cx="6505560" cy="984060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98" name="Object 13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313800" y="7921800"/>
                      <a:ext cx="6505560" cy="98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9" name="Group 142"/>
          <p:cNvGrpSpPr/>
          <p:nvPr/>
        </p:nvGrpSpPr>
        <p:grpSpPr>
          <a:xfrm>
            <a:off x="20132640" y="19686600"/>
            <a:ext cx="9109080" cy="12511080"/>
            <a:chOff x="20132640" y="19686600"/>
            <a:chExt cx="9109080" cy="12511080"/>
          </a:xfrm>
        </p:grpSpPr>
        <p:sp>
          <p:nvSpPr>
            <p:cNvPr id="100" name="Rectangle 11"/>
            <p:cNvSpPr/>
            <p:nvPr/>
          </p:nvSpPr>
          <p:spPr>
            <a:xfrm>
              <a:off x="20169360" y="20388240"/>
              <a:ext cx="9072360" cy="1180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7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50"/>
            <p:cNvSpPr/>
            <p:nvPr/>
          </p:nvSpPr>
          <p:spPr>
            <a:xfrm>
              <a:off x="20132640" y="19686600"/>
              <a:ext cx="38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3990960"/>
                  <a:tab algn="l" pos="798192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Auswertung Teil 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2" name="Object 141"/>
            <p:cNvGraphicFramePr/>
            <p:nvPr/>
          </p:nvGraphicFramePr>
          <p:xfrm>
            <a:off x="21458160" y="21242160"/>
            <a:ext cx="6465960" cy="9768240"/>
          </p:xfrm>
          <a:graphic>
            <a:graphicData uri="http://schemas.openxmlformats.org/presentationml/2006/ole">
              <p:oleObj progId="Word.Document.12" r:id="rId6" spid="">
                <p:embed/>
                <p:pic>
                  <p:nvPicPr>
                    <p:cNvPr id="103" name="Object 14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1458160" y="21242160"/>
                      <a:ext cx="6465960" cy="976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04" name="Picture 143" descr=""/>
          <p:cNvPicPr/>
          <p:nvPr/>
        </p:nvPicPr>
        <p:blipFill>
          <a:blip r:embed="rId8"/>
          <a:stretch/>
        </p:blipFill>
        <p:spPr>
          <a:xfrm>
            <a:off x="11233080" y="20450160"/>
            <a:ext cx="8174160" cy="11593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45"/>
          <p:cNvSpPr/>
          <p:nvPr/>
        </p:nvSpPr>
        <p:spPr>
          <a:xfrm>
            <a:off x="11377440" y="1980252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3990960"/>
                <a:tab algn="l" pos="7981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hebungsb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8:29:54Z</dcterms:created>
  <dc:creator>mmeule</dc:creator>
  <dc:description/>
  <dc:language>en-US</dc:language>
  <cp:lastModifiedBy>Benjamin Mayer</cp:lastModifiedBy>
  <dcterms:modified xsi:type="dcterms:W3CDTF">2013-09-19T06:34:15Z</dcterms:modified>
  <cp:revision>70</cp:revision>
  <dc:subject/>
  <dc:title>Folie 1</dc:title>
</cp:coreProperties>
</file>