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681F-4080-4BD9-AF4E-16C9B3B19E2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A3A1-43C7-450C-8361-8EFC21B0570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828890-2742-41FC-A943-1B06337515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C483-944F-4847-9155-C6A156BA928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64AB-7A94-42B0-9895-78BCA68B3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0313-1A1C-493B-BBF8-7943DD025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B3F0-E904-4BCA-8DD7-21DC726EA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8547-5903-42BB-B334-40075A971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29A-6608-4C8B-92C0-7897102C09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214-DE3E-4A6E-8273-8ECED82DFD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811-361C-4180-A52D-CB12405E05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226-2569-4C16-AFE5-BCC2D98F44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58F-C72C-4025-884C-8A4A66852B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08C-39D2-426A-A0E8-B0CAD89514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770-10B6-4AA1-905D-9D893D1191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B85F-ECD8-4DD5-87B4-A039BAB1B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8DA-CEE6-42BF-8342-620AE812A5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1AF-E1B7-44E6-8C59-D1878A39B3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F5D-3584-42F9-937D-80AF86BA91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C91-518E-401E-ABE7-22B576F4E7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AF0-0B25-48E4-8C1E-C78CAE36B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A65F-0DEA-410A-BEC1-625E0ADBD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68DE-C696-4BBA-9F6E-EA8A2577F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643A-10C4-4A2E-A019-B28EBB6AA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4DA9-7B90-4F21-86BE-31F87724D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F884-43A6-48F6-B86D-83BA29E52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57C6-B3CA-4AC8-92A1-6304BBBF0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2DC56-A50B-4045-8224-9572E1257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1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356520"/>
            <a:ext cx="598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55FF-22C9-4885-919F-7126FED0448B}" type="slidenum">
              <a:rPr b="0" lang="de-DE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uppieren 9"/>
          <p:cNvGrpSpPr/>
          <p:nvPr/>
        </p:nvGrpSpPr>
        <p:grpSpPr>
          <a:xfrm>
            <a:off x="9360" y="0"/>
            <a:ext cx="9156960" cy="1200240"/>
            <a:chOff x="9360" y="0"/>
            <a:chExt cx="9156960" cy="1200240"/>
          </a:xfrm>
        </p:grpSpPr>
        <p:pic>
          <p:nvPicPr>
            <p:cNvPr id="4" name="Bild 1" descr=""/>
            <p:cNvPicPr/>
            <p:nvPr/>
          </p:nvPicPr>
          <p:blipFill>
            <a:blip r:embed="rId2"/>
            <a:stretch/>
          </p:blipFill>
          <p:spPr>
            <a:xfrm>
              <a:off x="9360" y="884520"/>
              <a:ext cx="9154800" cy="2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Bild 3" descr=""/>
            <p:cNvPicPr/>
            <p:nvPr/>
          </p:nvPicPr>
          <p:blipFill>
            <a:blip r:embed="rId3"/>
            <a:stretch/>
          </p:blipFill>
          <p:spPr>
            <a:xfrm>
              <a:off x="9360" y="1004400"/>
              <a:ext cx="915480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Bild 4" descr=""/>
            <p:cNvPicPr/>
            <p:nvPr/>
          </p:nvPicPr>
          <p:blipFill>
            <a:blip r:embed="rId4"/>
            <a:stretch/>
          </p:blipFill>
          <p:spPr>
            <a:xfrm>
              <a:off x="9360" y="0"/>
              <a:ext cx="9156960" cy="91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" name="Grafik 14" descr=""/>
          <p:cNvPicPr/>
          <p:nvPr/>
        </p:nvPicPr>
        <p:blipFill>
          <a:blip r:embed="rId5"/>
          <a:stretch/>
        </p:blipFill>
        <p:spPr>
          <a:xfrm>
            <a:off x="268200" y="0"/>
            <a:ext cx="1187640" cy="890640"/>
          </a:xfrm>
          <a:prstGeom prst="rect">
            <a:avLst/>
          </a:prstGeom>
          <a:ln w="0">
            <a:noFill/>
          </a:ln>
        </p:spPr>
      </p:pic>
      <p:sp>
        <p:nvSpPr>
          <p:cNvPr id="8" name="Titel 1"/>
          <p:cNvSpPr/>
          <p:nvPr/>
        </p:nvSpPr>
        <p:spPr>
          <a:xfrm>
            <a:off x="6984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Titelmasterformat durch Klicken bearbe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uppieren 9"/>
          <p:cNvGrpSpPr/>
          <p:nvPr/>
        </p:nvGrpSpPr>
        <p:grpSpPr>
          <a:xfrm>
            <a:off x="9360" y="0"/>
            <a:ext cx="9156960" cy="1200240"/>
            <a:chOff x="9360" y="0"/>
            <a:chExt cx="9156960" cy="1200240"/>
          </a:xfrm>
        </p:grpSpPr>
        <p:pic>
          <p:nvPicPr>
            <p:cNvPr id="46" name="Bild 1" descr=""/>
            <p:cNvPicPr/>
            <p:nvPr/>
          </p:nvPicPr>
          <p:blipFill>
            <a:blip r:embed="rId2"/>
            <a:stretch/>
          </p:blipFill>
          <p:spPr>
            <a:xfrm>
              <a:off x="9360" y="884520"/>
              <a:ext cx="9154800" cy="2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Bild 3" descr=""/>
            <p:cNvPicPr/>
            <p:nvPr/>
          </p:nvPicPr>
          <p:blipFill>
            <a:blip r:embed="rId3"/>
            <a:stretch/>
          </p:blipFill>
          <p:spPr>
            <a:xfrm>
              <a:off x="9360" y="1004400"/>
              <a:ext cx="915480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Bild 4" descr=""/>
            <p:cNvPicPr/>
            <p:nvPr/>
          </p:nvPicPr>
          <p:blipFill>
            <a:blip r:embed="rId4"/>
            <a:stretch/>
          </p:blipFill>
          <p:spPr>
            <a:xfrm>
              <a:off x="9360" y="0"/>
              <a:ext cx="9156960" cy="91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Grafik 14" descr=""/>
          <p:cNvPicPr/>
          <p:nvPr/>
        </p:nvPicPr>
        <p:blipFill>
          <a:blip r:embed="rId5"/>
          <a:stretch/>
        </p:blipFill>
        <p:spPr>
          <a:xfrm>
            <a:off x="268200" y="0"/>
            <a:ext cx="1187640" cy="890640"/>
          </a:xfrm>
          <a:prstGeom prst="rect">
            <a:avLst/>
          </a:prstGeom>
          <a:ln w="0">
            <a:noFill/>
          </a:ln>
        </p:spPr>
      </p:pic>
      <p:sp>
        <p:nvSpPr>
          <p:cNvPr id="50" name="Titel 1"/>
          <p:cNvSpPr/>
          <p:nvPr/>
        </p:nvSpPr>
        <p:spPr>
          <a:xfrm>
            <a:off x="6984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Titelmasterformat durch Klicken bearbe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uppieren 9"/>
          <p:cNvGrpSpPr/>
          <p:nvPr/>
        </p:nvGrpSpPr>
        <p:grpSpPr>
          <a:xfrm>
            <a:off x="9360" y="0"/>
            <a:ext cx="9156960" cy="1200240"/>
            <a:chOff x="9360" y="0"/>
            <a:chExt cx="9156960" cy="1200240"/>
          </a:xfrm>
        </p:grpSpPr>
        <p:pic>
          <p:nvPicPr>
            <p:cNvPr id="52" name="Bild 1" descr=""/>
            <p:cNvPicPr/>
            <p:nvPr/>
          </p:nvPicPr>
          <p:blipFill>
            <a:blip r:embed="rId6"/>
            <a:stretch/>
          </p:blipFill>
          <p:spPr>
            <a:xfrm>
              <a:off x="9360" y="884520"/>
              <a:ext cx="9154800" cy="2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Bild 3" descr=""/>
            <p:cNvPicPr/>
            <p:nvPr/>
          </p:nvPicPr>
          <p:blipFill>
            <a:blip r:embed="rId7"/>
            <a:stretch/>
          </p:blipFill>
          <p:spPr>
            <a:xfrm>
              <a:off x="9360" y="1004400"/>
              <a:ext cx="915480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Bild 4" descr=""/>
            <p:cNvPicPr/>
            <p:nvPr/>
          </p:nvPicPr>
          <p:blipFill>
            <a:blip r:embed="rId8"/>
            <a:stretch/>
          </p:blipFill>
          <p:spPr>
            <a:xfrm>
              <a:off x="9360" y="0"/>
              <a:ext cx="9156960" cy="91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hteck 19"/>
          <p:cNvSpPr/>
          <p:nvPr/>
        </p:nvSpPr>
        <p:spPr>
          <a:xfrm>
            <a:off x="268200" y="1268280"/>
            <a:ext cx="8624880" cy="4864320"/>
          </a:xfrm>
          <a:prstGeom prst="rect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Grafik 14" descr=""/>
          <p:cNvPicPr/>
          <p:nvPr/>
        </p:nvPicPr>
        <p:blipFill>
          <a:blip r:embed="rId9"/>
          <a:stretch/>
        </p:blipFill>
        <p:spPr>
          <a:xfrm>
            <a:off x="268200" y="0"/>
            <a:ext cx="1187640" cy="890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9943-5781-4DA1-9C52-CD1B18AFB32C}" type="slidenum">
              <a:rPr b="0" lang="de-DE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456840" y="6356520"/>
            <a:ext cx="598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Modul 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512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Innovationen im Betrie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Einführung zum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noGeKo-Verfahr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ußzeilenplatzhalter 1"/>
          <p:cNvSpPr/>
          <p:nvPr/>
        </p:nvSpPr>
        <p:spPr>
          <a:xfrm>
            <a:off x="457200" y="6356520"/>
            <a:ext cx="598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liennummernplatzhalt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2DB3-159D-486C-BCD8-37D44DB6F8DF}" type="slidenum">
              <a:rPr b="0" lang="de-DE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orum geht 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10920" y="134136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Herausforderung: demografischer Wan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lternde Belegschaf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achkräftemang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eränderte Kundenstruktu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ienstleistungsansprüche älterer Kunden (alles aus einer Han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Innovation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undenwünsche ändern s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neue Produkte/Verfahren und Dienstleistu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rbeitsbedingungen müssen angepasst werd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unternehmensinterne Veränderu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Kleinbetrieben fehlen oft Ressourcen und das passe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Werkzeug“, um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jetzt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für die Zukunft vorzusorg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InnoGeKo-Verfah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ußzeilenplatzhalter 1"/>
          <p:cNvSpPr/>
          <p:nvPr/>
        </p:nvSpPr>
        <p:spPr>
          <a:xfrm>
            <a:off x="457200" y="6356520"/>
            <a:ext cx="598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liennummernplatzhalt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70B7-6590-49B9-AEE9-F6BC5CA736F4}" type="slidenum">
              <a:rPr b="0" lang="de-DE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Welche Betriebe sind dabei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512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ußzeilenplatzhalter 1"/>
          <p:cNvSpPr/>
          <p:nvPr/>
        </p:nvSpPr>
        <p:spPr>
          <a:xfrm>
            <a:off x="457200" y="6356520"/>
            <a:ext cx="598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liennummernplatzhalt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D5A8-953C-40D5-A0E4-111CFDA90D72}" type="slidenum">
              <a:rPr b="0" lang="de-DE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erwartet Sie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Rechteck 6"/>
          <p:cNvSpPr/>
          <p:nvPr/>
        </p:nvSpPr>
        <p:spPr>
          <a:xfrm>
            <a:off x="1692360" y="2419200"/>
            <a:ext cx="3095640" cy="576360"/>
          </a:xfrm>
          <a:prstGeom prst="rect">
            <a:avLst/>
          </a:prstGeom>
          <a:solidFill>
            <a:srgbClr val="1f4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überbetriebliche Qualifizie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Führen im Innovationsproz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eck 7"/>
          <p:cNvSpPr/>
          <p:nvPr/>
        </p:nvSpPr>
        <p:spPr>
          <a:xfrm>
            <a:off x="1692360" y="4076640"/>
            <a:ext cx="6700680" cy="360360"/>
          </a:xfrm>
          <a:prstGeom prst="rect">
            <a:avLst/>
          </a:prstGeom>
          <a:solidFill>
            <a:srgbClr val="1f4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überbetrieblicher Austausch -   Projektc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eck 8"/>
          <p:cNvSpPr/>
          <p:nvPr/>
        </p:nvSpPr>
        <p:spPr>
          <a:xfrm>
            <a:off x="1692360" y="4579920"/>
            <a:ext cx="3166920" cy="360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Maßnahmenumsetzung vor 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hteck 12"/>
          <p:cNvSpPr/>
          <p:nvPr/>
        </p:nvSpPr>
        <p:spPr>
          <a:xfrm>
            <a:off x="1692360" y="3211560"/>
            <a:ext cx="3166920" cy="288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Analyse vor 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eck 14"/>
          <p:cNvSpPr/>
          <p:nvPr/>
        </p:nvSpPr>
        <p:spPr>
          <a:xfrm>
            <a:off x="5292720" y="4579920"/>
            <a:ext cx="3095640" cy="360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Maßnahmenumsetzung vor 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hteck 17"/>
          <p:cNvSpPr/>
          <p:nvPr/>
        </p:nvSpPr>
        <p:spPr>
          <a:xfrm>
            <a:off x="1692360" y="5084640"/>
            <a:ext cx="6700680" cy="503280"/>
          </a:xfrm>
          <a:prstGeom prst="rect">
            <a:avLst/>
          </a:prstGeom>
          <a:solidFill>
            <a:srgbClr val="1f4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überbetriebliche Netzwerk-Vereinba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Kontinuitätssicherung, Qualifizierung der Innovationsber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feld 68"/>
          <p:cNvSpPr/>
          <p:nvPr/>
        </p:nvSpPr>
        <p:spPr>
          <a:xfrm>
            <a:off x="4797360" y="28796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…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feld 87"/>
          <p:cNvSpPr/>
          <p:nvPr/>
        </p:nvSpPr>
        <p:spPr>
          <a:xfrm>
            <a:off x="468360" y="1484280"/>
            <a:ext cx="11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odul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feld 88"/>
          <p:cNvSpPr/>
          <p:nvPr/>
        </p:nvSpPr>
        <p:spPr>
          <a:xfrm>
            <a:off x="468360" y="241920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odul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feld 24"/>
          <p:cNvSpPr/>
          <p:nvPr/>
        </p:nvSpPr>
        <p:spPr>
          <a:xfrm>
            <a:off x="468360" y="364500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odul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feld 90"/>
          <p:cNvSpPr/>
          <p:nvPr/>
        </p:nvSpPr>
        <p:spPr>
          <a:xfrm>
            <a:off x="468360" y="4076640"/>
            <a:ext cx="11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odul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feld 92"/>
          <p:cNvSpPr/>
          <p:nvPr/>
        </p:nvSpPr>
        <p:spPr>
          <a:xfrm>
            <a:off x="468360" y="5084640"/>
            <a:ext cx="12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odul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eck 80"/>
          <p:cNvSpPr/>
          <p:nvPr/>
        </p:nvSpPr>
        <p:spPr>
          <a:xfrm>
            <a:off x="5292720" y="1484280"/>
            <a:ext cx="3105000" cy="719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asisqualifizierung Innoscout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Innovation/Gesundheit, Kundenbefrag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Altersstruktur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27"/>
          <p:cNvSpPr/>
          <p:nvPr/>
        </p:nvSpPr>
        <p:spPr>
          <a:xfrm>
            <a:off x="1692360" y="1484280"/>
            <a:ext cx="3095640" cy="719280"/>
          </a:xfrm>
          <a:prstGeom prst="rect">
            <a:avLst/>
          </a:prstGeom>
          <a:solidFill>
            <a:srgbClr val="1f4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asisqualifizierung Betriebsinhab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Innovation / Gesundh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Mitarbeitergespräche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Auswahl Inno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hteck 28"/>
          <p:cNvSpPr/>
          <p:nvPr/>
        </p:nvSpPr>
        <p:spPr>
          <a:xfrm>
            <a:off x="5292720" y="2389320"/>
            <a:ext cx="3105000" cy="576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überbetriebliche Qualifizierung Innoscoutleitf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hteck 29"/>
          <p:cNvSpPr/>
          <p:nvPr/>
        </p:nvSpPr>
        <p:spPr>
          <a:xfrm>
            <a:off x="1692360" y="3645000"/>
            <a:ext cx="6700680" cy="358560"/>
          </a:xfrm>
          <a:prstGeom prst="rect">
            <a:avLst/>
          </a:prstGeom>
          <a:solidFill>
            <a:srgbClr val="1f4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Zukunftswerkst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ck 30"/>
          <p:cNvSpPr/>
          <p:nvPr/>
        </p:nvSpPr>
        <p:spPr>
          <a:xfrm>
            <a:off x="5292720" y="3211560"/>
            <a:ext cx="3095640" cy="288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Analyse vor 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ußzeilenplatzhalter 1"/>
          <p:cNvSpPr/>
          <p:nvPr/>
        </p:nvSpPr>
        <p:spPr>
          <a:xfrm>
            <a:off x="457200" y="6356520"/>
            <a:ext cx="598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liennummernplatzhalt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A4B8-416B-4A70-A92D-688B760798F0}" type="slidenum">
              <a:rPr b="0" lang="de-DE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Was müssen Sie einbringen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512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esse und Offenh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reit sein zum Austaus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hr betriebliches Erfahrungswi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ran blei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ußzeilenplatzhalter 1"/>
          <p:cNvSpPr/>
          <p:nvPr/>
        </p:nvSpPr>
        <p:spPr>
          <a:xfrm>
            <a:off x="457200" y="6356520"/>
            <a:ext cx="598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liennummernplatzhalt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73B4-A3CC-4D3B-A025-11607CE9416B}" type="slidenum">
              <a:rPr b="0" lang="de-DE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Wo setzen wir an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feil nach rechts 3"/>
          <p:cNvSpPr/>
          <p:nvPr/>
        </p:nvSpPr>
        <p:spPr>
          <a:xfrm>
            <a:off x="1258920" y="2565360"/>
            <a:ext cx="649080" cy="289080"/>
          </a:xfrm>
          <a:prstGeom prst="rightArrow">
            <a:avLst>
              <a:gd name="adj1" fmla="val 50000"/>
              <a:gd name="adj2" fmla="val 4995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iagramm 5" descr=""/>
          <p:cNvPicPr/>
          <p:nvPr/>
        </p:nvPicPr>
        <p:blipFill>
          <a:blip r:embed="rId1"/>
          <a:stretch/>
        </p:blipFill>
        <p:spPr>
          <a:xfrm>
            <a:off x="1531800" y="1506600"/>
            <a:ext cx="5594400" cy="4276800"/>
          </a:xfrm>
          <a:prstGeom prst="rect">
            <a:avLst/>
          </a:prstGeom>
          <a:ln w="0">
            <a:noFill/>
          </a:ln>
        </p:spPr>
      </p:pic>
      <p:sp>
        <p:nvSpPr>
          <p:cNvPr id="143" name="Fußzeilenplatzhalter 1"/>
          <p:cNvSpPr/>
          <p:nvPr/>
        </p:nvSpPr>
        <p:spPr>
          <a:xfrm>
            <a:off x="457200" y="6356520"/>
            <a:ext cx="598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liennummernplatzhalt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EDDE-BD91-4C28-8C9E-9002458B7D81}" type="slidenum">
              <a:rPr b="0" lang="de-DE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Erfolgsfaktoren für Innovationsfähigke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93560" y="1447920"/>
            <a:ext cx="2592720" cy="574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Narrow"/>
              </a:rPr>
              <a:t>Betriebliche Fak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978520" y="1508040"/>
            <a:ext cx="2594160" cy="574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Narrow"/>
              </a:rPr>
              <a:t>Soziale Fak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3182760" y="2513160"/>
            <a:ext cx="2644920" cy="1272960"/>
          </a:xfrm>
          <a:prstGeom prst="ellipse">
            <a:avLst/>
          </a:prstGeom>
          <a:solidFill>
            <a:srgbClr val="008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ff"/>
                </a:solidFill>
                <a:latin typeface="Arial Narrow"/>
              </a:rPr>
              <a:t>Innovationsfähigkeit/</a:t>
            </a:r>
            <a:br>
              <a:rPr sz="2100"/>
            </a:br>
            <a:r>
              <a:rPr b="1" lang="de-DE" sz="2100" spc="-1" strike="noStrike">
                <a:solidFill>
                  <a:srgbClr val="ffffff"/>
                </a:solidFill>
                <a:latin typeface="Arial Narrow"/>
              </a:rPr>
              <a:t>Innovationsbereitschaf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65560" y="4354560"/>
            <a:ext cx="2592360" cy="577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Narrow"/>
              </a:rPr>
              <a:t>Individuelle Fak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3086280" y="1905120"/>
            <a:ext cx="723600" cy="685800"/>
          </a:xfrm>
          <a:prstGeom prst="line">
            <a:avLst/>
          </a:prstGeom>
          <a:ln w="1908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H="1">
            <a:off x="5259240" y="1905120"/>
            <a:ext cx="719280" cy="685800"/>
          </a:xfrm>
          <a:prstGeom prst="line">
            <a:avLst/>
          </a:prstGeom>
          <a:ln w="1908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4495680" y="3776760"/>
            <a:ext cx="0" cy="736560"/>
          </a:xfrm>
          <a:prstGeom prst="line">
            <a:avLst/>
          </a:prstGeom>
          <a:ln w="1908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1905120" y="2082960"/>
            <a:ext cx="0" cy="2719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7010280" y="2082960"/>
            <a:ext cx="0" cy="2719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1905120" y="4802040"/>
            <a:ext cx="1360440" cy="0"/>
          </a:xfrm>
          <a:prstGeom prst="line">
            <a:avLst/>
          </a:prstGeom>
          <a:ln w="284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 flipH="1">
            <a:off x="5857560" y="4802040"/>
            <a:ext cx="1152360" cy="0"/>
          </a:xfrm>
          <a:prstGeom prst="line">
            <a:avLst/>
          </a:prstGeom>
          <a:ln w="284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93560" y="2022480"/>
            <a:ext cx="2592720" cy="232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utonom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ufgabenvielfa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Vollständige Handl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ück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artiz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ranspare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eitspielraum für Id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Lern- und Fehlerkult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sbereitstel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978520" y="2082960"/>
            <a:ext cx="2594160" cy="1922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Unterstützender, kooperativ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 inspirierender Führungss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Vertrauensvolles Teamkl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Unterstü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umor im Umga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3265560" y="4916520"/>
            <a:ext cx="2592360" cy="1033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trinsische Motiv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nthusias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ffenheit, Neug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isikobereitsch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hteck 20"/>
          <p:cNvSpPr/>
          <p:nvPr/>
        </p:nvSpPr>
        <p:spPr>
          <a:xfrm>
            <a:off x="277920" y="6219720"/>
            <a:ext cx="31687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 Narrow"/>
              </a:rPr>
              <a:t>(Ryan &amp; Deci 2000; Guldin 2001; Gunkel et al. 200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hteck 21"/>
          <p:cNvSpPr/>
          <p:nvPr/>
        </p:nvSpPr>
        <p:spPr>
          <a:xfrm>
            <a:off x="6012000" y="6221520"/>
            <a:ext cx="2868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 Narrow"/>
              </a:rPr>
              <a:t>(Ohly &amp; Selzer 2007; Maier et al. 2007; Hardt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1"/>
          <p:cNvSpPr/>
          <p:nvPr/>
        </p:nvSpPr>
        <p:spPr>
          <a:xfrm>
            <a:off x="457200" y="6356520"/>
            <a:ext cx="598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4E91-EFCD-430E-BB12-6A0C83DA8ADF}" type="slidenum">
              <a:rPr b="0" lang="de-DE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Wann geht es wie weiter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1557360"/>
          <a:ext cx="8353440" cy="3557520"/>
        </p:xfrm>
        <a:graphic>
          <a:graphicData uri="http://schemas.openxmlformats.org/drawingml/2006/table">
            <a:tbl>
              <a:tblPr/>
              <a:tblGrid>
                <a:gridCol w="1008000"/>
                <a:gridCol w="2376720"/>
                <a:gridCol w="2520720"/>
                <a:gridCol w="2448000"/>
              </a:tblGrid>
              <a:tr h="39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2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2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a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2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arbe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23b"/>
                    </a:solidFill>
                  </a:tcPr>
                </a:tc>
              </a:tr>
              <a:tr h="71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squalifizi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38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squalifizieru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ermine eintrag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kunftswerksta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Überbetrieblicher Erfahrungsaustaus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zwerktr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Fußzeilenplatzhalter 1"/>
          <p:cNvSpPr/>
          <p:nvPr/>
        </p:nvSpPr>
        <p:spPr>
          <a:xfrm>
            <a:off x="457200" y="6356520"/>
            <a:ext cx="598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liennummernplatzhalt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CD89-B78B-4973-86E2-C0ADCD54E447}" type="slidenum">
              <a:rPr b="0" lang="de-DE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16:08:08Z</dcterms:created>
  <dc:creator>Antje Ducki</dc:creator>
  <dc:description/>
  <dc:language>en-US</dc:language>
  <cp:lastModifiedBy>Daniela Kunze</cp:lastModifiedBy>
  <cp:lastPrinted>2015-05-06T12:51:22Z</cp:lastPrinted>
  <dcterms:modified xsi:type="dcterms:W3CDTF">2016-05-10T12:07:58Z</dcterms:modified>
  <cp:revision>123</cp:revision>
  <dc:subject/>
  <dc:title>PowerPoint-Präsentation</dc:title>
</cp:coreProperties>
</file>