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3B0E-B84D-4157-86D9-EA4158D12E3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F776-B41D-4330-920B-B3187E44AC5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D0C826-4F13-41E5-BC83-D276BD8266A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4FA001-5180-4A87-89B3-6772C1D75AA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AD00-19F1-4AF5-8141-AC20046C3F3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1B1E-9484-4789-816D-7C2A737C6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BD20-F1EB-48C7-BAA7-CBC82C751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DD08B-ECD7-4B8E-A3ED-B1B6A5F10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63F6-6727-465A-98D6-8A5B1A04C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61496-325C-48E7-81AB-BC0659283E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7DB46-893C-41A6-930D-094A371BE1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4E900-DE83-44F4-B660-33A2FD35B4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78294-8644-4971-B30D-FFCA73BFAE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F96B8-9BAF-45F7-8888-7404A60D5B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A668E-4B45-46A2-BA6C-0935BC8DEE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584DD-528C-4523-B7F8-EF0FB647D9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59BB3-E657-42B2-8E9E-00B0CEE2C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7519A-C149-4408-84A7-0990A5814E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6B51D-6B68-4636-AFDE-2937570DEE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DBCC1-68ED-47FC-9AFB-2C3A39939A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E9F2A-B7D6-4458-AFBA-FCB8E3603F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7001E-E673-4EFD-90F4-036931037E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08752-730D-4358-930B-73C5E499C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866A4-5EDD-49A8-BB2C-47112C719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BDDA7-4917-432B-B219-2CD9BA8B3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ED806-E9CE-44A4-8079-5AC9CE6B0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1B218-FD2C-49BD-BE64-2C66C7669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8C1D8-E952-4B6D-B383-2F3174F0D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7651F-6F8B-4781-8396-BDCA1C442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1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1.wmf"/><Relationship Id="rId7" Type="http://schemas.openxmlformats.org/officeDocument/2006/relationships/image" Target="../media/image2.png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1.wmf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356520"/>
            <a:ext cx="598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b0f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8E7E-73BA-4A10-B7D0-F09FB7FC0262}" type="slidenum">
              <a:rPr b="0" lang="de-DE" sz="1200" spc="-1" strike="noStrike">
                <a:solidFill>
                  <a:srgbClr val="00b0f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Bild 4" descr=""/>
          <p:cNvPicPr/>
          <p:nvPr/>
        </p:nvPicPr>
        <p:blipFill>
          <a:blip r:embed="rId2"/>
          <a:stretch/>
        </p:blipFill>
        <p:spPr>
          <a:xfrm>
            <a:off x="28440" y="44280"/>
            <a:ext cx="9156960" cy="914400"/>
          </a:xfrm>
          <a:prstGeom prst="rect">
            <a:avLst/>
          </a:prstGeom>
          <a:ln w="0">
            <a:noFill/>
          </a:ln>
        </p:spPr>
      </p:pic>
      <p:pic>
        <p:nvPicPr>
          <p:cNvPr id="4" name="Grafik 14" descr=""/>
          <p:cNvPicPr/>
          <p:nvPr/>
        </p:nvPicPr>
        <p:blipFill>
          <a:blip r:embed="rId3"/>
          <a:stretch/>
        </p:blipFill>
        <p:spPr>
          <a:xfrm>
            <a:off x="0" y="44280"/>
            <a:ext cx="1187280" cy="890640"/>
          </a:xfrm>
          <a:prstGeom prst="rect">
            <a:avLst/>
          </a:prstGeom>
          <a:ln w="0">
            <a:noFill/>
          </a:ln>
        </p:spPr>
      </p:pic>
      <p:grpSp>
        <p:nvGrpSpPr>
          <p:cNvPr id="5" name="Gruppieren 9"/>
          <p:cNvGrpSpPr/>
          <p:nvPr/>
        </p:nvGrpSpPr>
        <p:grpSpPr>
          <a:xfrm>
            <a:off x="28440" y="44280"/>
            <a:ext cx="9156960" cy="1200240"/>
            <a:chOff x="28440" y="44280"/>
            <a:chExt cx="9156960" cy="1200240"/>
          </a:xfrm>
        </p:grpSpPr>
        <p:pic>
          <p:nvPicPr>
            <p:cNvPr id="6" name="Bild 1" descr=""/>
            <p:cNvPicPr/>
            <p:nvPr/>
          </p:nvPicPr>
          <p:blipFill>
            <a:blip r:embed="rId4"/>
            <a:stretch/>
          </p:blipFill>
          <p:spPr>
            <a:xfrm>
              <a:off x="28440" y="928800"/>
              <a:ext cx="9154800" cy="2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Bild 3" descr=""/>
            <p:cNvPicPr/>
            <p:nvPr/>
          </p:nvPicPr>
          <p:blipFill>
            <a:blip r:embed="rId5"/>
            <a:stretch/>
          </p:blipFill>
          <p:spPr>
            <a:xfrm>
              <a:off x="28440" y="1048680"/>
              <a:ext cx="915480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Bild 4" descr=""/>
            <p:cNvPicPr/>
            <p:nvPr/>
          </p:nvPicPr>
          <p:blipFill>
            <a:blip r:embed="rId6"/>
            <a:stretch/>
          </p:blipFill>
          <p:spPr>
            <a:xfrm>
              <a:off x="28440" y="44280"/>
              <a:ext cx="9156960" cy="91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Grafik 14" descr=""/>
          <p:cNvPicPr/>
          <p:nvPr/>
        </p:nvPicPr>
        <p:blipFill>
          <a:blip r:embed="rId7"/>
          <a:stretch/>
        </p:blipFill>
        <p:spPr>
          <a:xfrm>
            <a:off x="28440" y="982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4" descr=""/>
          <p:cNvPicPr/>
          <p:nvPr/>
        </p:nvPicPr>
        <p:blipFill>
          <a:blip r:embed="rId2"/>
          <a:stretch/>
        </p:blipFill>
        <p:spPr>
          <a:xfrm>
            <a:off x="28440" y="44280"/>
            <a:ext cx="915696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4" descr=""/>
          <p:cNvPicPr/>
          <p:nvPr/>
        </p:nvPicPr>
        <p:blipFill>
          <a:blip r:embed="rId3"/>
          <a:stretch/>
        </p:blipFill>
        <p:spPr>
          <a:xfrm>
            <a:off x="0" y="44280"/>
            <a:ext cx="1187280" cy="890640"/>
          </a:xfrm>
          <a:prstGeom prst="rect">
            <a:avLst/>
          </a:prstGeom>
          <a:ln w="0">
            <a:noFill/>
          </a:ln>
        </p:spPr>
      </p:pic>
      <p:grpSp>
        <p:nvGrpSpPr>
          <p:cNvPr id="48" name="Gruppieren 9"/>
          <p:cNvGrpSpPr/>
          <p:nvPr/>
        </p:nvGrpSpPr>
        <p:grpSpPr>
          <a:xfrm>
            <a:off x="28440" y="44280"/>
            <a:ext cx="9156960" cy="1200240"/>
            <a:chOff x="28440" y="44280"/>
            <a:chExt cx="9156960" cy="1200240"/>
          </a:xfrm>
        </p:grpSpPr>
        <p:pic>
          <p:nvPicPr>
            <p:cNvPr id="49" name="Bild 1" descr=""/>
            <p:cNvPicPr/>
            <p:nvPr/>
          </p:nvPicPr>
          <p:blipFill>
            <a:blip r:embed="rId4"/>
            <a:stretch/>
          </p:blipFill>
          <p:spPr>
            <a:xfrm>
              <a:off x="28440" y="928800"/>
              <a:ext cx="9154800" cy="2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Bild 3" descr=""/>
            <p:cNvPicPr/>
            <p:nvPr/>
          </p:nvPicPr>
          <p:blipFill>
            <a:blip r:embed="rId5"/>
            <a:stretch/>
          </p:blipFill>
          <p:spPr>
            <a:xfrm>
              <a:off x="28440" y="1048680"/>
              <a:ext cx="915480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Bild 4" descr=""/>
            <p:cNvPicPr/>
            <p:nvPr/>
          </p:nvPicPr>
          <p:blipFill>
            <a:blip r:embed="rId6"/>
            <a:stretch/>
          </p:blipFill>
          <p:spPr>
            <a:xfrm>
              <a:off x="28440" y="44280"/>
              <a:ext cx="9156960" cy="91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Grafik 14" descr=""/>
          <p:cNvPicPr/>
          <p:nvPr/>
        </p:nvPicPr>
        <p:blipFill>
          <a:blip r:embed="rId7"/>
          <a:stretch/>
        </p:blipFill>
        <p:spPr>
          <a:xfrm>
            <a:off x="28440" y="98280"/>
            <a:ext cx="1187640" cy="890640"/>
          </a:xfrm>
          <a:prstGeom prst="rect">
            <a:avLst/>
          </a:prstGeom>
          <a:ln w="0">
            <a:noFill/>
          </a:ln>
        </p:spPr>
      </p:pic>
      <p:grpSp>
        <p:nvGrpSpPr>
          <p:cNvPr id="53" name="Gruppieren 9"/>
          <p:cNvGrpSpPr/>
          <p:nvPr/>
        </p:nvGrpSpPr>
        <p:grpSpPr>
          <a:xfrm>
            <a:off x="28440" y="44280"/>
            <a:ext cx="9156960" cy="1200240"/>
            <a:chOff x="28440" y="44280"/>
            <a:chExt cx="9156960" cy="1200240"/>
          </a:xfrm>
        </p:grpSpPr>
        <p:pic>
          <p:nvPicPr>
            <p:cNvPr id="54" name="Bild 1" descr=""/>
            <p:cNvPicPr/>
            <p:nvPr/>
          </p:nvPicPr>
          <p:blipFill>
            <a:blip r:embed="rId8"/>
            <a:stretch/>
          </p:blipFill>
          <p:spPr>
            <a:xfrm>
              <a:off x="28440" y="928800"/>
              <a:ext cx="9154800" cy="2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Bild 3" descr=""/>
            <p:cNvPicPr/>
            <p:nvPr/>
          </p:nvPicPr>
          <p:blipFill>
            <a:blip r:embed="rId9"/>
            <a:stretch/>
          </p:blipFill>
          <p:spPr>
            <a:xfrm>
              <a:off x="28440" y="1048680"/>
              <a:ext cx="915480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Bild 4" descr=""/>
            <p:cNvPicPr/>
            <p:nvPr/>
          </p:nvPicPr>
          <p:blipFill>
            <a:blip r:embed="rId10"/>
            <a:stretch/>
          </p:blipFill>
          <p:spPr>
            <a:xfrm>
              <a:off x="28440" y="44280"/>
              <a:ext cx="9156960" cy="91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Rechteck 20"/>
          <p:cNvSpPr/>
          <p:nvPr/>
        </p:nvSpPr>
        <p:spPr>
          <a:xfrm>
            <a:off x="268200" y="1268280"/>
            <a:ext cx="8624880" cy="4864320"/>
          </a:xfrm>
          <a:prstGeom prst="rect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Grafik 14" descr=""/>
          <p:cNvPicPr/>
          <p:nvPr/>
        </p:nvPicPr>
        <p:blipFill>
          <a:blip r:embed="rId11"/>
          <a:stretch/>
        </p:blipFill>
        <p:spPr>
          <a:xfrm>
            <a:off x="0" y="44280"/>
            <a:ext cx="1187280" cy="890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3"/>
          </p:nvPr>
        </p:nvSpPr>
        <p:spPr>
          <a:xfrm>
            <a:off x="78840" y="6356520"/>
            <a:ext cx="614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b0f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BBEA-9942-45B5-9251-46B86EBB7426}" type="slidenum">
              <a:rPr b="0" lang="de-DE" sz="1200" spc="-1" strike="noStrike">
                <a:solidFill>
                  <a:srgbClr val="00b0f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9480" y="18900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alibri"/>
              </a:rPr>
              <a:t>Modul 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5120" y="160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Der gesunde We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zu Innovationen im Betrie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(Dat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liennummernplatzhalt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55DB-5330-472E-9806-6A5704951AED}" type="slidenum">
              <a:rPr b="0" lang="de-DE" sz="1200" spc="-1" strike="noStrike">
                <a:solidFill>
                  <a:srgbClr val="00b0f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79200" y="6356520"/>
            <a:ext cx="61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alibri"/>
              </a:rPr>
              <a:t>Wo setzen wir an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9" name="Diagramm 7" descr=""/>
          <p:cNvPicPr/>
          <p:nvPr/>
        </p:nvPicPr>
        <p:blipFill>
          <a:blip r:embed="rId1"/>
          <a:stretch/>
        </p:blipFill>
        <p:spPr>
          <a:xfrm>
            <a:off x="609480" y="1481040"/>
            <a:ext cx="7712280" cy="4402080"/>
          </a:xfrm>
          <a:prstGeom prst="rect">
            <a:avLst/>
          </a:prstGeom>
          <a:ln w="0">
            <a:noFill/>
          </a:ln>
        </p:spPr>
      </p:pic>
      <p:sp>
        <p:nvSpPr>
          <p:cNvPr id="160" name="Fußzeilenplatzhalter 2"/>
          <p:cNvSpPr/>
          <p:nvPr/>
        </p:nvSpPr>
        <p:spPr>
          <a:xfrm>
            <a:off x="79200" y="6356520"/>
            <a:ext cx="61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8E7F-F63D-4814-A249-65C8A54EBA85}" type="slidenum">
              <a:rPr b="0" lang="de-DE" sz="1200" spc="-1" strike="noStrike">
                <a:solidFill>
                  <a:srgbClr val="00b0f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alibri"/>
              </a:rPr>
              <a:t>Was müssen Sie einbringen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5120" y="160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teresse und Offenhe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reit sein zum Austau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hr betriebliches Erfahrungswis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noscout ben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ran bleib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ußzeilenplatzhalter 2"/>
          <p:cNvSpPr/>
          <p:nvPr/>
        </p:nvSpPr>
        <p:spPr>
          <a:xfrm>
            <a:off x="79200" y="6356520"/>
            <a:ext cx="61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3667-FDA8-4702-9EFF-A13337C62E31}" type="slidenum">
              <a:rPr b="0" lang="de-DE" sz="1200" spc="-1" strike="noStrike">
                <a:solidFill>
                  <a:srgbClr val="00b0f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alibri"/>
              </a:rPr>
              <a:t>Ihre Aufgab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5120" y="160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Modul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schäftsführerfragebogen ausfüllen und abgeb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ragbögen für Mitarbeiterbefragung mitnehmen und für Verteilung, Ausfüllen und Einsammeln sor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noscout suchen und ben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legschaft über das Projekt und die Rolle und Aufgaben des Innoscouts informier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ußzeilenplatzhalter 3"/>
          <p:cNvSpPr/>
          <p:nvPr/>
        </p:nvSpPr>
        <p:spPr>
          <a:xfrm>
            <a:off x="79200" y="6356520"/>
            <a:ext cx="61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C39F-19CE-42D7-8688-034766354CAB}" type="slidenum">
              <a:rPr b="0" lang="de-DE" sz="1200" spc="-1" strike="noStrike">
                <a:solidFill>
                  <a:srgbClr val="00b0f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alibri"/>
              </a:rPr>
              <a:t>Aufgaben des Innoscou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5120" y="160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Modul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rbeitsplätze des Betriebes beschreib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rbeitsplatzanalysen für die unterschiedlichen Arbeitsplätze gemeinsam mit den jeweiligen Beschäftigten durchfüh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noscoutleitfaden ausfüllen und zurückgeb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terstützung für die Aufgaben des Che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ußzeilenplatzhalter 3"/>
          <p:cNvSpPr/>
          <p:nvPr/>
        </p:nvSpPr>
        <p:spPr>
          <a:xfrm>
            <a:off x="79200" y="6356520"/>
            <a:ext cx="61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245A-FF23-455B-BCEB-9E9F0DAC80C6}" type="slidenum">
              <a:rPr b="0" lang="de-DE" sz="1200" spc="-1" strike="noStrike">
                <a:solidFill>
                  <a:srgbClr val="00b0f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alibri"/>
              </a:rPr>
              <a:t>Wie geht es weiter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1557360"/>
          <a:ext cx="8353440" cy="3679920"/>
        </p:xfrm>
        <a:graphic>
          <a:graphicData uri="http://schemas.openxmlformats.org/drawingml/2006/table">
            <a:tbl>
              <a:tblPr/>
              <a:tblGrid>
                <a:gridCol w="1008000"/>
                <a:gridCol w="2376720"/>
                <a:gridCol w="2946240"/>
                <a:gridCol w="20224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d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2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2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ührungskra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2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nosc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23b"/>
                    </a:solidFill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squalifiz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bb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squalifizieru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bb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bb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bb3"/>
                    </a:solidFill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kunftswerksta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 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bb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Überbetrieblicher Erfahrungsaustau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bb3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b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zwerktr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Fußzeilenplatzhalter 2"/>
          <p:cNvSpPr/>
          <p:nvPr/>
        </p:nvSpPr>
        <p:spPr>
          <a:xfrm>
            <a:off x="79200" y="6356520"/>
            <a:ext cx="61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ABDA-BDB6-41D3-A653-782B77C24BF6}" type="slidenum">
              <a:rPr b="0" lang="de-DE" sz="1200" spc="-1" strike="noStrike">
                <a:solidFill>
                  <a:srgbClr val="00b0f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alibri"/>
              </a:rPr>
              <a:t>Übersich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feld 1"/>
          <p:cNvSpPr/>
          <p:nvPr/>
        </p:nvSpPr>
        <p:spPr>
          <a:xfrm>
            <a:off x="666720" y="1484280"/>
            <a:ext cx="7785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grüßung und Einsti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Projektvorstell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Vorstellung der Fir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Wissensvermittlung I: Innovationen und die Gestaltung von Innovationsproze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Wissensvermittlung II: Arbeitsbedingungen und deren Auswirkungen auf die Gesundhe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Zusammenfassung und Ausbli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ußzeilenplatzhalter 1"/>
          <p:cNvSpPr/>
          <p:nvPr/>
        </p:nvSpPr>
        <p:spPr>
          <a:xfrm>
            <a:off x="79200" y="6356520"/>
            <a:ext cx="61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liennummernplatzhalt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A315-8416-42CA-8F0B-4441A68766D7}" type="slidenum">
              <a:rPr b="0" lang="de-DE" sz="1200" spc="-1" strike="noStrike">
                <a:solidFill>
                  <a:srgbClr val="00b0f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alibri"/>
              </a:rPr>
              <a:t>Wer sind wir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feld 2"/>
          <p:cNvSpPr/>
          <p:nvPr/>
        </p:nvSpPr>
        <p:spPr>
          <a:xfrm>
            <a:off x="539640" y="170028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orstellung der Berater und ihres institutionellen Hintergru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ußzeilenplatzhalter 3"/>
          <p:cNvSpPr/>
          <p:nvPr/>
        </p:nvSpPr>
        <p:spPr>
          <a:xfrm>
            <a:off x="79200" y="6356520"/>
            <a:ext cx="61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7594-BAA9-4624-A8A6-CA937FF4E36A}" type="slidenum">
              <a:rPr b="0" lang="de-DE" sz="1200" spc="-1" strike="noStrike">
                <a:solidFill>
                  <a:srgbClr val="00b0f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rum gibt es InnoGeKo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10920" y="134136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Herausforderung: demografischer Wan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lternde Belegschaf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achkräftemang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eränderte Kundenstruktu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ienstleistungsansprüche älterer Kunden (alles aus einer Han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Betriebe brauchen Innovation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undenwünsche ändern si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neue Produkte/Verfahren und Dienstleistu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rbeitsbedingungen müssen angepasst werd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unternehmensinterne Veränderu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Kleinen Betrieben fehlen oft Ressourcen und das passende „Werkzeug“, um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jetzt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für die Zukunft vorzusor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InnoGeKo – ein vom BMBF gefördertes Verfahren zur Unterstütz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ußzeilenplatzhalter 2"/>
          <p:cNvSpPr/>
          <p:nvPr/>
        </p:nvSpPr>
        <p:spPr>
          <a:xfrm>
            <a:off x="79200" y="6356520"/>
            <a:ext cx="61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15AA-589D-4032-9C36-06798D2B30A0}" type="slidenum">
              <a:rPr b="0" lang="de-DE" sz="1200" spc="-1" strike="noStrike">
                <a:solidFill>
                  <a:srgbClr val="00b0f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0000" y="189000"/>
            <a:ext cx="770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Fragen, die hier beantwortet werden sollen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4000" y="148428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o stehe ich aktuell im Vergleich mit anderen Betrieb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ie stelle ich mein eigenes Unternehmen zukunftsfähig au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ie kann ich Wissen und Erfahrung im Betrieb halt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„„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ie kann ich Fachkräfte bis zur Rente gesund erhalt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ie kann ich neue Fachkräfte gewinn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ußzeilenplatzhalter 2"/>
          <p:cNvSpPr/>
          <p:nvPr/>
        </p:nvSpPr>
        <p:spPr>
          <a:xfrm>
            <a:off x="79200" y="6356520"/>
            <a:ext cx="61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8068-B8FC-4F85-B468-441D0D1A48FF}" type="slidenum">
              <a:rPr b="0" lang="de-DE" sz="1200" spc="-1" strike="noStrike">
                <a:solidFill>
                  <a:srgbClr val="00b0f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alibri"/>
              </a:rPr>
              <a:t>Welche Betriebe sind dabei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Zuordnung nach Branchen oder Gewerken vornehm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ußzeilenplatzhalter 2"/>
          <p:cNvSpPr/>
          <p:nvPr/>
        </p:nvSpPr>
        <p:spPr>
          <a:xfrm>
            <a:off x="79200" y="6356520"/>
            <a:ext cx="61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59D7-F5E3-4974-9925-233E614806F3}" type="slidenum">
              <a:rPr b="0" lang="de-DE" sz="1200" spc="-1" strike="noStrike">
                <a:solidFill>
                  <a:srgbClr val="00b0f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alibri"/>
              </a:rPr>
              <a:t>Was können Sie mitnehmen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Tools und Anwendungshilf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nnovationscheck für ihr Unterneh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otentialcheck (Qualifikationen der Mitarbeit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undenche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ltersstrukturche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Gesundheitsche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Unterstützung und Beratung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er Stärkung Ihrer Innovationsfähigke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er gesundheitsförderlichen Gestaltung Ihrer Arbeitsprozes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er Stärkung der Motivation Ihrer Belegscha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Erfahrungsaustaus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oneinander lernen – miteinander stärker werden im regionalen Netzwe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ußzeilenplatzhalter 3"/>
          <p:cNvSpPr/>
          <p:nvPr/>
        </p:nvSpPr>
        <p:spPr>
          <a:xfrm>
            <a:off x="79200" y="6356520"/>
            <a:ext cx="61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ABEB-50CF-4CE1-A0A1-5F2E9468CEB0}" type="slidenum">
              <a:rPr b="0" lang="de-DE" sz="1200" spc="-1" strike="noStrike">
                <a:solidFill>
                  <a:srgbClr val="00b0f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n wenigen Schritten zum Zi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000" y="1413000"/>
            <a:ext cx="7848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Zukunftsperspektiven erken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58e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Zahlen, Daten, Fakten zu Kunden, Märkten, Innovationen und Gesundheit im Betri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Ideen entwickel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58e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Gezielt Veränderungspotenziale suchen und fin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Vorhaben umsetz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58e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aßnahmen zur Innovationsstärkung und Gesundheitsförderung begleitend umsetz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Erfolg versteti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58e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Qualifizierung zum Thema Innovation und Gesundhe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58e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nnoscouts  aus den eigenen Reihen entwickel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Region stär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58e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rfahrungsaustausch zu Innovationen durch regionale Netzwer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ußzeilenplatzhalter 3"/>
          <p:cNvSpPr/>
          <p:nvPr/>
        </p:nvSpPr>
        <p:spPr>
          <a:xfrm>
            <a:off x="79200" y="6356520"/>
            <a:ext cx="61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7028-BE5C-439D-90A1-80FBA8C801E3}" type="slidenum">
              <a:rPr b="0" lang="de-DE" sz="1200" spc="-1" strike="noStrike">
                <a:solidFill>
                  <a:srgbClr val="00b0f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9480" y="196920"/>
            <a:ext cx="90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erwartet Sie?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Rechteck 6"/>
          <p:cNvSpPr/>
          <p:nvPr/>
        </p:nvSpPr>
        <p:spPr>
          <a:xfrm>
            <a:off x="1692360" y="2492280"/>
            <a:ext cx="3095640" cy="576360"/>
          </a:xfrm>
          <a:prstGeom prst="rect">
            <a:avLst/>
          </a:prstGeom>
          <a:solidFill>
            <a:srgbClr val="1f4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überbetriebliche Qualifizier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Führen im Innovationsproz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hteck 7"/>
          <p:cNvSpPr/>
          <p:nvPr/>
        </p:nvSpPr>
        <p:spPr>
          <a:xfrm>
            <a:off x="1692360" y="4149720"/>
            <a:ext cx="6700680" cy="360360"/>
          </a:xfrm>
          <a:prstGeom prst="rect">
            <a:avLst/>
          </a:prstGeom>
          <a:solidFill>
            <a:srgbClr val="1f4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überbetrieblicher Austausch -   Projektc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hteck 8"/>
          <p:cNvSpPr/>
          <p:nvPr/>
        </p:nvSpPr>
        <p:spPr>
          <a:xfrm>
            <a:off x="1692360" y="4653000"/>
            <a:ext cx="3166920" cy="360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Maßnahmenumsetzung vor 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hteck 12"/>
          <p:cNvSpPr/>
          <p:nvPr/>
        </p:nvSpPr>
        <p:spPr>
          <a:xfrm>
            <a:off x="1692360" y="3284640"/>
            <a:ext cx="3166920" cy="288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Analyse vor 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hteck 14"/>
          <p:cNvSpPr/>
          <p:nvPr/>
        </p:nvSpPr>
        <p:spPr>
          <a:xfrm>
            <a:off x="5292720" y="4653000"/>
            <a:ext cx="3095640" cy="360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Maßnahmenumsetzung vor 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eck 17"/>
          <p:cNvSpPr/>
          <p:nvPr/>
        </p:nvSpPr>
        <p:spPr>
          <a:xfrm>
            <a:off x="1692360" y="5157720"/>
            <a:ext cx="6700680" cy="503280"/>
          </a:xfrm>
          <a:prstGeom prst="rect">
            <a:avLst/>
          </a:prstGeom>
          <a:solidFill>
            <a:srgbClr val="1f4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überbetriebliche Netzwerkvereinbar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Kontinuitätssicherung, Qualifizierung der Innovationsber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feld 68"/>
          <p:cNvSpPr/>
          <p:nvPr/>
        </p:nvSpPr>
        <p:spPr>
          <a:xfrm>
            <a:off x="4797360" y="2952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…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feld 87"/>
          <p:cNvSpPr/>
          <p:nvPr/>
        </p:nvSpPr>
        <p:spPr>
          <a:xfrm>
            <a:off x="468360" y="1700280"/>
            <a:ext cx="11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odul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feld 88"/>
          <p:cNvSpPr/>
          <p:nvPr/>
        </p:nvSpPr>
        <p:spPr>
          <a:xfrm>
            <a:off x="468360" y="263520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odul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feld 24"/>
          <p:cNvSpPr/>
          <p:nvPr/>
        </p:nvSpPr>
        <p:spPr>
          <a:xfrm>
            <a:off x="468360" y="371628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odul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feld 90"/>
          <p:cNvSpPr/>
          <p:nvPr/>
        </p:nvSpPr>
        <p:spPr>
          <a:xfrm>
            <a:off x="468360" y="4149720"/>
            <a:ext cx="11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odul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feld 92"/>
          <p:cNvSpPr/>
          <p:nvPr/>
        </p:nvSpPr>
        <p:spPr>
          <a:xfrm>
            <a:off x="468360" y="5300640"/>
            <a:ext cx="12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odul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eck 80"/>
          <p:cNvSpPr/>
          <p:nvPr/>
        </p:nvSpPr>
        <p:spPr>
          <a:xfrm>
            <a:off x="5292720" y="1557360"/>
            <a:ext cx="3105000" cy="719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Basisqualifizierung Innoscout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Innovation/Gesundhe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eck 27"/>
          <p:cNvSpPr/>
          <p:nvPr/>
        </p:nvSpPr>
        <p:spPr>
          <a:xfrm>
            <a:off x="1692360" y="1557360"/>
            <a:ext cx="3095640" cy="719280"/>
          </a:xfrm>
          <a:prstGeom prst="rect">
            <a:avLst/>
          </a:prstGeom>
          <a:solidFill>
            <a:srgbClr val="1f4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Basisqualifizierung Führungsk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Innovation / Gesundh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Auswahl Innosc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eck 28"/>
          <p:cNvSpPr/>
          <p:nvPr/>
        </p:nvSpPr>
        <p:spPr>
          <a:xfrm>
            <a:off x="5292720" y="2492280"/>
            <a:ext cx="3105000" cy="5763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überbetriebliche Qualifizierung Innoscoutleitf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eck 29"/>
          <p:cNvSpPr/>
          <p:nvPr/>
        </p:nvSpPr>
        <p:spPr>
          <a:xfrm>
            <a:off x="1692360" y="3718080"/>
            <a:ext cx="6700680" cy="358560"/>
          </a:xfrm>
          <a:prstGeom prst="rect">
            <a:avLst/>
          </a:prstGeom>
          <a:solidFill>
            <a:srgbClr val="1f4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Zukunftswerkst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eck 30"/>
          <p:cNvSpPr/>
          <p:nvPr/>
        </p:nvSpPr>
        <p:spPr>
          <a:xfrm>
            <a:off x="5292720" y="3284640"/>
            <a:ext cx="3095640" cy="288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Analyse vor 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ußzeilenplatzhalter 2"/>
          <p:cNvSpPr/>
          <p:nvPr/>
        </p:nvSpPr>
        <p:spPr>
          <a:xfrm>
            <a:off x="79200" y="6356520"/>
            <a:ext cx="61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  <a:ea typeface="Calibri"/>
              </a:rPr>
              <a:t>© Springer-Verlag Berlin Heidelberg 2016. Aus: A. Ducki et al.: Innovationen gesund gest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7388-754F-435D-B1B0-EA6CAB63EE0A}" type="slidenum">
              <a:rPr b="0" lang="de-DE" sz="1200" spc="-1" strike="noStrike">
                <a:solidFill>
                  <a:srgbClr val="00b0f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16:08:08Z</dcterms:created>
  <dc:creator>Antje Ducki</dc:creator>
  <dc:description/>
  <dc:language>en-US</dc:language>
  <cp:lastModifiedBy>Daniela Kunze</cp:lastModifiedBy>
  <dcterms:modified xsi:type="dcterms:W3CDTF">2016-05-10T11:31:43Z</dcterms:modified>
  <cp:revision>114</cp:revision>
  <dc:subject/>
  <dc:title>PowerPoint-Präsentation</dc:title>
</cp:coreProperties>
</file>