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907588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3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788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3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1788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9448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00"/>
                </a:solidFill>
                <a:latin typeface="Times New Roman"/>
              </a:rPr>
              <a:t>The PCP theore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Arithmetization and linear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ynomials of degre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ust be converted in set of linea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ach polynomial of degree 3 is the su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stant term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t of monomials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set of variable ind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t of binomials (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set of pair of variable ind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t of trinomials (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set of triple of variable ind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e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this cas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{4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{(1,4),(2,4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{(1,2,4),(1,3,4),(2,3,4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Computing the polynomial val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 an assignment to the polynomi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 baseline="-1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 baseline="-14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i,j,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an be computed as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ignment: 1,0,0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this c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= 0,0,0,1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(1,0,0,1) = 0+1+1+0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3-SAT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 PCP(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4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,1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9920" y="1811520"/>
            <a:ext cx="225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mula of siz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0656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67280" y="3432240"/>
            <a:ext cx="1081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93240" y="5108760"/>
            <a:ext cx="1948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andom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06560" y="3885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18120" y="1752480"/>
            <a:ext cx="330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18120" y="411480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79000" y="1889280"/>
            <a:ext cx="13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= 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95920" y="3124080"/>
            <a:ext cx="19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97000" y="4952880"/>
            <a:ext cx="23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18120" y="236232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8528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8528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85280" y="4114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18120" y="624852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18120" y="175248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759160" y="18129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87240" y="3048120"/>
            <a:ext cx="5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87240" y="4952880"/>
            <a:ext cx="5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 baseline="4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352680" y="3657600"/>
            <a:ext cx="17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blems to be solv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erifying tha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re (almost) linear and con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ust be done with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random bit and querying a constant number of values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erifying tha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ncode a satisfying truth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ust be done with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random bits and querying a constant number of values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order to compute the values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, B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corresponding to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 resp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of has exponential size because we have a polynomial number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quires a polynomial number of random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ternative: low degree polynomials with les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he degree depends on the length of the assig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hat’s another stor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Linear func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 functio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from {0,1}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o {0,1} i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linea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f, 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iven two function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their distanc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the fraction of input on which they di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close 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emma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&lt;1/3 and l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 a function from {0,1}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o {0,1} such that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32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+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+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2.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hen there exists a linear functio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hat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close to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majority{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g a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therwise, since Pr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4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1/2, if 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4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then Pr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24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g(x+y)-g(y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g(x)]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Pr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4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see l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Pr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0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Pr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0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Pr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20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Pr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4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1-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ependent from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ƒ is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oof (continue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, p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32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y hypothesis, 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y hypothesis, 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ence, 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 =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0] 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0]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1] 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1]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0]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(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1]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rom definition of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nce eithe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0 o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1, we finally have that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(1-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(1-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of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asic ingred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ithme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perties of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3-SAT belongs to PCP[O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(1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nearity te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near, then it answers YES with probability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lose to a linear function, then it answers NO with probability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terating, we can make the error probability arbitrarily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4160" y="1371600"/>
            <a:ext cx="458244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ly choos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 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lf-correcting procedur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mm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lose to a linear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32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SC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-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10000" y="1981080"/>
            <a:ext cx="3688920" cy="128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ly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re uniformly distributed (even if they are not independ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ence, 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nce, 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, we have that, 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32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1-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ence, P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32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SC-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1-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,j,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coefficients of linear fun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,j,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ly, 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{0,1}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elemen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milarly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random and we cannot directly use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los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use the self-correcting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onsistency te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mm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n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1/24,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not consistent, then with probability at least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least on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lications of the consistency test answers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est and lemma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5400" y="1523880"/>
            <a:ext cx="579060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ly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SC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SC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ume that coefficients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e not consist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therwise there is nothing to be 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nc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P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3200" spc="-1" strike="noStrike" baseline="-1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’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=1/2, then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P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3200" spc="-1" strike="noStrike" baseline="-1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’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efficients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form a matrix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efficients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form a vector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a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ence P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r,s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3200" spc="-1" strike="noStrike" baseline="-1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b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y property of self-correcting test, it follow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r,s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2400" spc="-1" strike="noStrike" baseline="-1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SC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SC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C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]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1/4-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atisfiability te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mma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lose to linear consistent functions, then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uch that with probability at least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least o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lications of the satisfiability test answers NO if the assignment does not satisfy 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-SAT is in PC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46080" y="1371600"/>
            <a:ext cx="6289560" cy="181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ly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polynomi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=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65080" y="1844640"/>
            <a:ext cx="349776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SA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[log,</a:t>
            </a:r>
            <a:r>
              <a:rPr b="0" lang="en-US" sz="2400" spc="-1" strike="noStrike">
                <a:solidFill>
                  <a:srgbClr val="000000"/>
                </a:solidFill>
                <a:latin typeface="Zapf Chancery"/>
              </a:rPr>
              <a:t>poly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10120" y="1827360"/>
            <a:ext cx="349776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SA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[log,</a:t>
            </a:r>
            <a:r>
              <a:rPr b="0" lang="en-US" sz="2400" spc="-1" strike="noStrike">
                <a:solidFill>
                  <a:srgbClr val="000000"/>
                </a:solidFill>
                <a:latin typeface="Zapf Chancery"/>
              </a:rPr>
              <a:t>poly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00480" y="232884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942160" y="2286000"/>
            <a:ext cx="1440" cy="36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87560" y="2590920"/>
            <a:ext cx="328464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osition le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39960" y="3078000"/>
            <a:ext cx="612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67440" y="3354480"/>
            <a:ext cx="394884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SA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[log,</a:t>
            </a:r>
            <a:r>
              <a:rPr b="0" lang="en-US" sz="2400" spc="-1" strike="noStrike">
                <a:solidFill>
                  <a:srgbClr val="000000"/>
                </a:solidFill>
                <a:latin typeface="Zapf Chancery"/>
              </a:rPr>
              <a:t>polylog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5280" y="3998880"/>
            <a:ext cx="329040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SA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[O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O(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08640" y="4454640"/>
            <a:ext cx="0" cy="26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83160" y="3840120"/>
            <a:ext cx="1440" cy="88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23560" y="4724280"/>
            <a:ext cx="2599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osition le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27720" y="5210280"/>
            <a:ext cx="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560" y="5553000"/>
            <a:ext cx="301608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SA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[log,O(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8120" y="5562720"/>
            <a:ext cx="275220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[log,O(1)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384720" y="5791320"/>
            <a:ext cx="189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0040" y="584352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CP is close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spect to polynomial-time Karp reduc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 structur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Basic ingredi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two univariate polynomials of degre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oincides on at leas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1 points, then they are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itmetization of Boolean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ow-degree probabilist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a small fraction of the value table of a (low degree) polynomial is wrong, it is still possible to compute the right values (with high probabil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lf-correcting probabilistic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olynomial associated with a formu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 a CNF Boolean formula with three literals per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lynomial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ƒ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 associated wit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=1-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ruth-assignments and valu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true, the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=0 where we identify the value TRUE with 1 and the value FALSE with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false, the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not necessarily i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pends on the parity of the number of satisfied cl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 no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 no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 no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 no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1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1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(0,0,0,1) is false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(0,0,0,1)=1 but 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ƒ(1,0,0,1) is false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(1,0,0,1)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Homogeniz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emma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e a non-zero vector. Then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1" i="1" lang="it-IT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32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1]=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asy proof by induction o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defin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true, then, for any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clearl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false, then from the lemma it follows tha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r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i="1" lang="it-IT" sz="2800" spc="-1" strike="noStrike" baseline="-1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1]=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0720" y="1676160"/>
            <a:ext cx="5867640" cy="472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no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no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no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no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(1,0,0,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!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5909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21337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2T11:55:54Z</dcterms:created>
  <dc:creator>Pierluigi Crescenzi and Giorgio Gambosi</dc:creator>
  <dc:description/>
  <dc:language>en-US</dc:language>
  <cp:lastModifiedBy>Viggo Kann</cp:lastModifiedBy>
  <cp:lastPrinted>1999-07-19T10:02:08Z</cp:lastPrinted>
  <dcterms:modified xsi:type="dcterms:W3CDTF">1999-07-23T13:30:50Z</dcterms:modified>
  <cp:revision>117</cp:revision>
  <dc:subject>Chapter 7</dc:subject>
  <dc:title>Approximation and Complex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itore">
    <vt:lpwstr>Springer-Verlag</vt:lpwstr>
  </property>
  <property fmtid="{D5CDD505-2E9C-101B-9397-08002B2CF9AE}" pid="3" name="Lingua">
    <vt:lpwstr>English</vt:lpwstr>
  </property>
</Properties>
</file>