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000000"/>
                </a:solidFill>
                <a:latin typeface="Times New Roman"/>
              </a:rPr>
              <a:t>Approximation Preserving Redu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independent se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XIMUM CLIQUE is AP-reducible to MAXIMUM INDEPENDE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=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which is called the complemen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ach clique 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s an independent set i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rollary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INDEPENDENT SET does not belong to A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2-satisfia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XIMUM 3-SAT is L-reducible to MAXIMUM 2-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ransforms each clau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to the following set of 10 clauses whe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new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restriction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o origin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3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)=6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13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))-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),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m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rollary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2-SAT is not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XIMUM NOT-ALL-EQUAL S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CNF Boolean formula, that is,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lauses over set of variabl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truth-assignme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Number of clauses that contain both a false and a true li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NAE 2-satisfia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XIMUM 2-SAT is L-reducible to MAXIMUM NAE 3-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ransforms each clau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to new clau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new global vari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restriction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o origin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ay be assumed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ach new clause is not-all-equal satisfied iff the original clause is satis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rollary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NAE 3-SAT is not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MAXIMUM SAT(</a:t>
            </a:r>
            <a:r>
              <a:rPr b="0" i="1" lang="it-IT" sz="4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andar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a variabl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ccurs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imes, create new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bstitu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 occurrence wit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1]) and 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[1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t useful: deleting one new clause may increase the measure arbitrar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e cycle of implications can be easily b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we add all possible implications (that is, we use a clique), then no the number of occurrences is not bounded and there is no linear relation between optim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Expander graph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grap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an expander if, for every subse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f the nodes, the corresponding cut has measure at least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n{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, |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|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cycle is not an exp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 clique is an expander (but has unbounded deg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consta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an algorithm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xist such that, 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constructs in time polynomial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 14-regular expander grap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P-reduction through expande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We may assume tha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it suffices to replicate any claus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i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if 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is an edge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it-IT" sz="32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hen add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  and  (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obally, we hav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auses where 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the sum of th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ach variable occurs in exactly 28 new clauses and 1 old clause: hence,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29, it is possible to arrive at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96775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lai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ny solution must satisfy all new clauses (that is, gives the same value to all copies of the same vari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rom the expansion property, if we change the truth value of the copies in the smaller set we do not loose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8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= 14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42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85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14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-14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Other inapproximability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INIMUM VERTEX COVER is not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duction from MAXIMUM 3-SAT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CUT is not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duction from MAXIMUM NAE 3-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INIMUM GRAPH COLORING is not in A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duction from variation of independent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The NPO world if P </a:t>
            </a:r>
            <a:r>
              <a:rPr b="0" lang="it-IT" sz="4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 N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9160" y="1149480"/>
            <a:ext cx="8325000" cy="53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9160" y="2901960"/>
            <a:ext cx="832500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4730760"/>
            <a:ext cx="8325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9120" y="150984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96800" y="295740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14800" y="3338640"/>
            <a:ext cx="4166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SATISF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96080" y="478620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13720" y="4938840"/>
            <a:ext cx="33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R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96080" y="55483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13720" y="5718240"/>
            <a:ext cx="250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5880" y="1219320"/>
            <a:ext cx="4561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INDEPENDE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XIMUM C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GRAPH COL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15520" y="295740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UM BIN 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-reduc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-reduction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xamples: MAXIMUM CLIQUE, MAXIMUM INDEPENDENT SET, MAXIMUM 2-SAT, MAXIMUM NAE 3-SAT, MAXIMUM SAT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25960" y="1682640"/>
            <a:ext cx="3041640" cy="444600"/>
          </a:xfrm>
          <a:prstGeom prst="rightArrow">
            <a:avLst>
              <a:gd name="adj1" fmla="val 50000"/>
              <a:gd name="adj2" fmla="val 34209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0360" y="1647720"/>
            <a:ext cx="62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,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11680" y="1647720"/>
            <a:ext cx="1143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,r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5752080" y="3225600"/>
            <a:ext cx="2197080" cy="482760"/>
          </a:xfrm>
          <a:prstGeom prst="rightArrow">
            <a:avLst>
              <a:gd name="adj1" fmla="val 50000"/>
              <a:gd name="adj2" fmla="val 2275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3120" y="46958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5560" y="5396040"/>
            <a:ext cx="387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e solution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225240" y="4730760"/>
            <a:ext cx="3041640" cy="444600"/>
          </a:xfrm>
          <a:prstGeom prst="rightArrow">
            <a:avLst>
              <a:gd name="adj1" fmla="val 50000"/>
              <a:gd name="adj2" fmla="val 34209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76000" y="4695840"/>
            <a:ext cx="112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5472000"/>
            <a:ext cx="38782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approximate solution of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Reducibility and NPO probl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P-reduci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P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f two function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a consta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1 exist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an instance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and for any solutio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a solution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fixe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re computable in polynomial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for an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and for any solutio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1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Basic propert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P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APX, then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A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approximation algorithm for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a (1+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))-approximation algorithm for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AP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PTAS, then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polynomial-time approximation scheme for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a polynomial-time approximation scheme for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+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1)/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67160" y="5794200"/>
            <a:ext cx="23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ct 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37160" y="51987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2240" y="4727520"/>
            <a:ext cx="187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384360" y="3522240"/>
            <a:ext cx="1238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629240" y="3522240"/>
            <a:ext cx="12254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5080" y="2975040"/>
            <a:ext cx="1862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0880" y="1832040"/>
            <a:ext cx="191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52800" y="3522240"/>
            <a:ext cx="12254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0920" y="4727520"/>
            <a:ext cx="187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860800" y="3522240"/>
            <a:ext cx="1238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8320" y="4727520"/>
            <a:ext cx="30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inuous 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23796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3320" y="2971800"/>
            <a:ext cx="208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A taxonom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6800" y="1828800"/>
            <a:ext cx="24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AS-reduc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429000" y="236196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2361960"/>
            <a:ext cx="14475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L-reduci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 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L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f two function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two constants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xist such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an instance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and for any solutio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a solution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re computable in polynomial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for any solutio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 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|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-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Basic property of L-redu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L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PTAS, then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lative error in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 bounded by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imes the relative error in </a:t>
            </a:r>
            <a:r>
              <a:rPr b="0" lang="it-IT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wever, in general, it is not true that if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L-reducible to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APX, then </a:t>
            </a:r>
            <a:r>
              <a:rPr b="0" lang="it-IT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s in A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e problem is that the relation betwee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may be non-inver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0000"/>
                </a:solidFill>
                <a:latin typeface="Times New Roman"/>
              </a:rPr>
              <a:t>Inapproximability of cl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3-SAT is L-reducible to MAXIMUM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the graph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{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in clau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{(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,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) :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a truth-assignment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true if and only if a claus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xists for which (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is i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atisfies at least |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timum measure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rollary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MAXIMUM CLIQUE does not belong to A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2T11:55:54Z</dcterms:created>
  <dc:creator>Pierluigi Crescenzi and Giorgio Gambosi</dc:creator>
  <dc:description/>
  <dc:language>en-US</dc:language>
  <cp:lastModifiedBy>Viggo Kann</cp:lastModifiedBy>
  <cp:lastPrinted>1999-07-19T10:02:35Z</cp:lastPrinted>
  <dcterms:modified xsi:type="dcterms:W3CDTF">1999-07-20T00:01:24Z</dcterms:modified>
  <cp:revision>42</cp:revision>
  <dc:subject>Chapter 8</dc:subject>
  <dc:title>Approximation and Complexity</dc:title>
</cp:coreProperties>
</file>