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73160" y="163440"/>
            <a:ext cx="6292800" cy="471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98520" y="5103360"/>
            <a:ext cx="5844960" cy="4016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76560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63800" y="-1440"/>
            <a:ext cx="288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1440" y="-1440"/>
            <a:ext cx="2877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63800" y="-1440"/>
            <a:ext cx="2881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1440" y="9286920"/>
            <a:ext cx="2877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1440" y="-1440"/>
            <a:ext cx="2877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63800" y="-1440"/>
            <a:ext cx="288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-1440" y="-1440"/>
            <a:ext cx="287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54000" y="5149440"/>
            <a:ext cx="484992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895320" y="747720"/>
            <a:ext cx="4851360" cy="363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376560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6560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14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-144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885960" y="739800"/>
            <a:ext cx="4871880" cy="36543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188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ED2-AECC-48AF-A73E-710F922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87324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EE5-2AC3-4ECF-9E68-5EA3A8B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2752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8DB-751B-4A71-BDD6-CEB461DE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2640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3680" y="183168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2640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3680" y="3873240"/>
            <a:ext cx="25873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085-588B-4320-918C-5D73E85D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0E9-FFBC-4F6B-971E-BCC58AE6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B64-B18E-4BA9-A8B6-D31542A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389-FA0B-4314-A8AA-BD3F5B3B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050-E2C8-4657-B718-439400DD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678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444-5CFB-44B4-9CF2-160DB532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B86-217D-4DA9-B230-C5A58F0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7520" y="387324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66D-9F76-4D17-A240-8ECA766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520" y="1831680"/>
            <a:ext cx="392148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873240"/>
            <a:ext cx="8035920" cy="18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4BD-C0D0-4C55-81AD-7B7BC23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C1C-105C-474F-9C89-A304476D9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52680" y="662940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b4487"/>
                </a:solidFill>
                <a:latin typeface="SunSansCondensed-Regular"/>
              </a:rPr>
              <a:t>© 1998 Sun Microsystems Gmb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90440"/>
            <a:ext cx="9144000" cy="9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361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32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5600"/>
            <a:ext cx="9144000" cy="152640"/>
          </a:xfrm>
          <a:prstGeom prst="rect">
            <a:avLst/>
          </a:prstGeom>
          <a:solidFill>
            <a:srgbClr val="4b4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0" y="1104840"/>
          <a:ext cx="9144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0484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4b4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SunSans-Italic"/>
              </a:rPr>
              <a:t>JAVA </a:t>
            </a:r>
            <a:r>
              <a:rPr b="0" lang="en-US" sz="1400" spc="-1" strike="noStrike">
                <a:solidFill>
                  <a:srgbClr val="ffffff"/>
                </a:solidFill>
                <a:latin typeface="SunSans-Demi"/>
              </a:rPr>
              <a:t>DAYS ´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8166240" y="241200"/>
            <a:ext cx="520560" cy="862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543800" y="6305400"/>
            <a:ext cx="1076400" cy="4762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46120" y="6566040"/>
            <a:ext cx="828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276720"/>
            <a:ext cx="9144000" cy="11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4343400"/>
          <a:ext cx="9144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343400"/>
                    <a:ext cx="9144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220040" y="3359160"/>
            <a:ext cx="44715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mbedded SQL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90160" y="4616280"/>
            <a:ext cx="417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ichael Sta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rater Strategische Pro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RACLE Deutschland Gm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2920" y="685800"/>
            <a:ext cx="1531800" cy="263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4360" y="317520"/>
            <a:ext cx="168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unSans-Italic"/>
              </a:rPr>
              <a:t>JAVA </a:t>
            </a:r>
            <a:r>
              <a:rPr b="0" lang="en-US" sz="1800" spc="-1" strike="noStrike">
                <a:solidFill>
                  <a:srgbClr val="ffffff"/>
                </a:solidFill>
                <a:latin typeface="SunSans-Demi"/>
              </a:rPr>
              <a:t>DAYS ´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H="1">
            <a:off x="2835360" y="2622600"/>
            <a:ext cx="1440" cy="3808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r 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8320" y="4357440"/>
            <a:ext cx="8009280" cy="16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Precompiler generiert Standard Java Sourcecode mit JDBC-Aufruf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Überprüft die SQL-Anweisungen gegen die Daten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400" indent="-2394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generierte Code wird wie jedes andere Java-Programm kompili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0760" y="1555920"/>
            <a:ext cx="152388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J-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*.sqlj Dat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073240" y="1784520"/>
            <a:ext cx="1905120" cy="8380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5" y="0"/>
                </a:lnTo>
                <a:lnTo>
                  <a:pt x="21600" y="10800"/>
                </a:lnTo>
                <a:lnTo>
                  <a:pt x="17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Präproz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0640" y="1555920"/>
            <a:ext cx="152388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-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DBC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ufru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3120" y="1784520"/>
            <a:ext cx="1387800" cy="898200"/>
          </a:xfrm>
          <a:custGeom>
            <a:avLst/>
            <a:gdLst>
              <a:gd name="textAreaLeft" fmla="*/ 0 w 1387800"/>
              <a:gd name="textAreaRight" fmla="*/ 1388160 w 138780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989" y="0"/>
                </a:lnTo>
                <a:lnTo>
                  <a:pt x="21600" y="10800"/>
                </a:lnTo>
                <a:lnTo>
                  <a:pt x="14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i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97640" y="1555920"/>
            <a:ext cx="1524240" cy="144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*.class Dat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32000" y="2959200"/>
            <a:ext cx="1244520" cy="965160"/>
            <a:chOff x="2232000" y="2959200"/>
            <a:chExt cx="1244520" cy="965160"/>
          </a:xfrm>
        </p:grpSpPr>
        <p:sp>
          <p:nvSpPr>
            <p:cNvPr id="691" name=""/>
            <p:cNvSpPr/>
            <p:nvPr/>
          </p:nvSpPr>
          <p:spPr>
            <a:xfrm>
              <a:off x="2254320" y="3568680"/>
              <a:ext cx="1222200" cy="355680"/>
            </a:xfrm>
            <a:prstGeom prst="ellipse">
              <a:avLst/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32000" y="3060720"/>
              <a:ext cx="1244520" cy="74916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43160" y="2959200"/>
              <a:ext cx="1222200" cy="279360"/>
            </a:xfrm>
            <a:prstGeom prst="ellipse">
              <a:avLst/>
            </a:prstGeom>
            <a:solidFill>
              <a:srgbClr val="777777"/>
            </a:solidFill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424600" y="3340080"/>
            <a:ext cx="94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B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406440"/>
            <a:ext cx="67820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gleich JDBC mit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7480" y="1913040"/>
            <a:ext cx="416880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va.sql.CallableStatement stm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nection con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et resul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n = DriverManager.get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“jdbc:default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 = conn.prepare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“SELECT ename FROM 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RE sal &gt; ? AND deptno = ?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.setInteger(1, salpar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mt.setInteger(2, deptnopara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 = stmt.executeQuer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7280" y="1392120"/>
            <a:ext cx="103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99ff"/>
                </a:solidFill>
                <a:latin typeface="Times New Roman"/>
              </a:rPr>
              <a:t>JDB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51360" y="1913040"/>
            <a:ext cx="3938760" cy="192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ultSet resul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#sql results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{SELECT ename FROM e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RE sal &gt; :salpa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D deptno = :deptnoparam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85120" y="141588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SQL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-120600" y="5911920"/>
            <a:ext cx="8600040" cy="458280"/>
            <a:chOff x="-120600" y="5911920"/>
            <a:chExt cx="8600040" cy="458280"/>
          </a:xfrm>
        </p:grpSpPr>
        <p:sp>
          <p:nvSpPr>
            <p:cNvPr id="702" name=""/>
            <p:cNvSpPr/>
            <p:nvPr/>
          </p:nvSpPr>
          <p:spPr>
            <a:xfrm>
              <a:off x="-120600" y="5911920"/>
              <a:ext cx="48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aramond"/>
                </a:rPr>
                <a:t>8 fehleranfällige Anweisun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3720" y="5911920"/>
              <a:ext cx="3915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2 einfache Anweisun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tandardisier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7240" y="1644120"/>
            <a:ext cx="790128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Partner: Compaq/Tandem, IBM, Informix, Javasoft, Oracle, Sybase und ander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QLJ-Sprachspezifikation wurde beim ANSI/ISO-Komitee eingereic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 Translatoren verschiedener Hersteller sind kompatibel Generiert Java-Code 100% kompatibel mit der JDBC Spezifik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närportabilität von SQLJ Stored Procedur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tegrierbar mit Standard Java-Werkzeu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480" indent="-3117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urce Level Debugger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4B8-14A8-414A-9AAB-8714054300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tandardisier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standteil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rt 0: Standard Syntax für Stored Procedures und Trigger in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rt 1: Syntax für Embedded SQL in 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9120" y="5275440"/>
            <a:ext cx="452520" cy="433080"/>
          </a:xfrm>
          <a:prstGeom prst="rightArrow">
            <a:avLst>
              <a:gd name="adj1" fmla="val 75009"/>
              <a:gd name="adj2" fmla="val 52249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teilungskonfiguration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53560" y="1638000"/>
            <a:ext cx="75265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bietet verschiedene Möglichkei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lient/Server mit JDBC Typ 2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in Clients mit JDBC Typ 4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3-tier Anwendungen mit  Typ 2 Treibe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QLJ in der Datenba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1D-66DC-4CF7-AD8D-9E5A1A4C4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Client/Server-Verteil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22520" y="1857240"/>
            <a:ext cx="1965240" cy="169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93880" y="1978200"/>
            <a:ext cx="1663560" cy="84276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486240" y="3208320"/>
            <a:ext cx="2612880" cy="648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63800" y="2855880"/>
            <a:ext cx="1846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C/S-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55760" y="1409760"/>
            <a:ext cx="58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93880" y="2747880"/>
            <a:ext cx="1668600" cy="3002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93880" y="3062160"/>
            <a:ext cx="1668600" cy="300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38680" y="3227400"/>
            <a:ext cx="1457280" cy="4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21400" y="2668680"/>
            <a:ext cx="1469880" cy="1346040"/>
          </a:xfrm>
          <a:prstGeom prst="roundRect">
            <a:avLst>
              <a:gd name="adj" fmla="val 12495"/>
            </a:avLst>
          </a:prstGeom>
          <a:solidFill>
            <a:srgbClr val="777777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27520" y="2549520"/>
            <a:ext cx="1455840" cy="3538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89520" y="2552760"/>
            <a:ext cx="116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08600" y="2978280"/>
            <a:ext cx="1079640" cy="39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Garamond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23000" y="3481560"/>
            <a:ext cx="1079280" cy="395280"/>
          </a:xfrm>
          <a:prstGeom prst="rect">
            <a:avLst/>
          </a:prstGeom>
          <a:solidFill>
            <a:srgbClr val="ff00cc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Stored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73240" y="4386240"/>
            <a:ext cx="69055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ist für  Client/Server Java Anwendungen einsetz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spcBef>
                <a:spcPts val="374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Java Application, SQLJ Runtime, und JDBC Typ 2 Treiber auf dem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5958000" y="3532320"/>
            <a:ext cx="1832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C/S-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Verteilung auf den Anwendungs-Serv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1040" y="4933800"/>
            <a:ext cx="808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kann für die  “3 tier” Verteilung genutz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JDBC Typ 2 und DBMS-Client verteilt auf den Anwendungs-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11760" y="2441520"/>
            <a:ext cx="0" cy="631800"/>
          </a:xfrm>
          <a:prstGeom prst="line">
            <a:avLst/>
          </a:prstGeom>
          <a:ln w="507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66760" y="2106720"/>
            <a:ext cx="1197000" cy="866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M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16280" y="1501920"/>
            <a:ext cx="2170080" cy="31845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536920" y="2251080"/>
            <a:ext cx="1595520" cy="936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1617840"/>
            <a:ext cx="1360440" cy="834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http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http Dispatc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1020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12160" y="1854360"/>
            <a:ext cx="74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Garamond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7240" y="1405080"/>
            <a:ext cx="0" cy="296532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45400" y="4498920"/>
            <a:ext cx="130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FIREWA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1080" y="1427040"/>
            <a:ext cx="13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21040" y="4348080"/>
            <a:ext cx="203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aramond"/>
              </a:rPr>
              <a:t>Anwendungs-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61920" y="1795320"/>
            <a:ext cx="1563840" cy="1506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44880" y="2973240"/>
            <a:ext cx="1663920" cy="8431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SQ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44880" y="3743280"/>
            <a:ext cx="1668600" cy="30024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44880" y="4057560"/>
            <a:ext cx="1668600" cy="300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41920" y="3870360"/>
            <a:ext cx="1974960" cy="6480"/>
          </a:xfrm>
          <a:prstGeom prst="line">
            <a:avLst/>
          </a:prstGeom>
          <a:ln w="507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97800" y="3098880"/>
            <a:ext cx="1474920" cy="1465200"/>
            <a:chOff x="7597800" y="3098880"/>
            <a:chExt cx="1474920" cy="1465200"/>
          </a:xfrm>
        </p:grpSpPr>
        <p:sp>
          <p:nvSpPr>
            <p:cNvPr id="748" name=""/>
            <p:cNvSpPr/>
            <p:nvPr/>
          </p:nvSpPr>
          <p:spPr>
            <a:xfrm>
              <a:off x="7874280" y="3828960"/>
              <a:ext cx="116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9933ff"/>
                  </a:solidFill>
                  <a:latin typeface="Garamond"/>
                </a:rPr>
                <a:t>SQL*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15080" y="3776760"/>
              <a:ext cx="1457640" cy="4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97800" y="3218040"/>
              <a:ext cx="1469880" cy="134604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04280" y="3098880"/>
              <a:ext cx="1455480" cy="3538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65920" y="3102120"/>
              <a:ext cx="116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DB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85000" y="3527280"/>
              <a:ext cx="1079640" cy="397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Garamond"/>
                </a:rPr>
                <a:t>SQ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99400" y="4030560"/>
              <a:ext cx="1079640" cy="395280"/>
            </a:xfrm>
            <a:prstGeom prst="rect">
              <a:avLst/>
            </a:prstGeom>
            <a:solidFill>
              <a:srgbClr val="ff00cc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Stored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Procedu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hin Client Verteil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17920" y="2274840"/>
            <a:ext cx="2655720" cy="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33880" y="3241800"/>
            <a:ext cx="33746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ff"/>
                </a:solidFill>
                <a:latin typeface="Garamond"/>
              </a:rPr>
              <a:t>herstellerspez. Protokoll</a:t>
            </a:r>
            <a:br>
              <a:rPr sz="2000"/>
            </a:br>
            <a:r>
              <a:rPr b="1" lang="de-DE" sz="1800" spc="-1" strike="noStrike">
                <a:solidFill>
                  <a:srgbClr val="9933ff"/>
                </a:solidFill>
                <a:latin typeface="Garamond"/>
              </a:rPr>
              <a:t>(TCP/I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82840" y="1960560"/>
            <a:ext cx="81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Garamond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67520" y="1887480"/>
            <a:ext cx="1550880" cy="676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14600" y="3556080"/>
            <a:ext cx="28958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11920" y="1763640"/>
            <a:ext cx="2120760" cy="24256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16760" y="4043520"/>
            <a:ext cx="1788840" cy="579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Gleiche Masch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26200" y="1471680"/>
            <a:ext cx="13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08240" y="1938240"/>
            <a:ext cx="2198520" cy="211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0760" y="2120760"/>
            <a:ext cx="1898640" cy="8604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Ja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aramond"/>
              </a:rPr>
              <a:t>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90760" y="2890800"/>
            <a:ext cx="1898640" cy="557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SQLJ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0760" y="3362400"/>
            <a:ext cx="1898640" cy="557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DBC Typ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254640" y="2620800"/>
            <a:ext cx="1422360" cy="1365480"/>
            <a:chOff x="6254640" y="2620800"/>
            <a:chExt cx="1422360" cy="1365480"/>
          </a:xfrm>
        </p:grpSpPr>
        <p:sp>
          <p:nvSpPr>
            <p:cNvPr id="769" name=""/>
            <p:cNvSpPr/>
            <p:nvPr/>
          </p:nvSpPr>
          <p:spPr>
            <a:xfrm>
              <a:off x="6510600" y="3301920"/>
              <a:ext cx="116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9933ff"/>
                  </a:solidFill>
                  <a:latin typeface="Garamond"/>
                </a:rPr>
                <a:t>SQL*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70480" y="3252960"/>
              <a:ext cx="1359000" cy="41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54640" y="2732040"/>
              <a:ext cx="1370160" cy="1254240"/>
            </a:xfrm>
            <a:prstGeom prst="roundRect">
              <a:avLst>
                <a:gd name="adj" fmla="val 12495"/>
              </a:avLst>
            </a:prstGeom>
            <a:solidFill>
              <a:srgbClr val="777777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59680" y="2620800"/>
              <a:ext cx="1358640" cy="330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11960" y="2624040"/>
              <a:ext cx="10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DB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29240" y="3021120"/>
              <a:ext cx="1006560" cy="368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Garamond"/>
                </a:rPr>
                <a:t>SQ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42200" y="3489480"/>
              <a:ext cx="1006200" cy="368280"/>
            </a:xfrm>
            <a:prstGeom prst="rect">
              <a:avLst/>
            </a:prstGeom>
            <a:solidFill>
              <a:srgbClr val="ff00cc"/>
            </a:solidFill>
            <a:ln w="12600">
              <a:solidFill>
                <a:srgbClr val="ffffff"/>
              </a:solidFill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Stored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Garamond"/>
                </a:rPr>
                <a:t>Procedu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20560" y="4287960"/>
            <a:ext cx="817884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Herunterladbare Applets verbinden sich direkt mit der Datenb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Java Security-Anforder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Datenbank muß sich auf der gleichen Maschine befinden wie der Web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42720">
              <a:lnSpc>
                <a:spcPct val="85000"/>
              </a:lnSpc>
              <a:spcBef>
                <a:spcPts val="49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Keine Restriktionen für JDK 1.1 Signed App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 in der Datenban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39920" y="4187880"/>
            <a:ext cx="29383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55760" y="3573360"/>
            <a:ext cx="2697120" cy="1764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02120" y="4297320"/>
            <a:ext cx="3484440" cy="1684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6320" y="1987560"/>
            <a:ext cx="3546720" cy="347328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54160" y="3832200"/>
            <a:ext cx="2102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herstellerspez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C/S-Protokol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87440" y="320976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I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21320" y="3768840"/>
            <a:ext cx="116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Garamond"/>
              </a:rPr>
              <a:t>SQL*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19640" y="2063880"/>
            <a:ext cx="268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RA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95520" y="4916520"/>
            <a:ext cx="2814840" cy="4953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SQL, Stored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1760" y="3213000"/>
            <a:ext cx="2840040" cy="16732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AVA 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90920" y="3751200"/>
            <a:ext cx="1977840" cy="509760"/>
          </a:xfrm>
          <a:prstGeom prst="rect">
            <a:avLst/>
          </a:prstGeom>
          <a:solidFill>
            <a:srgbClr val="ffd152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Embedded SQL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0280" y="4290840"/>
            <a:ext cx="2614680" cy="551160"/>
          </a:xfrm>
          <a:prstGeom prst="rect">
            <a:avLst/>
          </a:prstGeom>
          <a:solidFill>
            <a:srgbClr val="006633"/>
          </a:solidFill>
          <a:ln w="1260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mbedded JDBC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70080" y="1523880"/>
            <a:ext cx="3489480" cy="133056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57680" y="1963800"/>
            <a:ext cx="205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DB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16880" y="32306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Garamond"/>
              </a:rPr>
              <a:t>Java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222120"/>
            <a:ext cx="7299360" cy="8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4800" y="145080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81000" y="26640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9320" y="546408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29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Überblick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sführbare SQL-Klause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280" indent="-246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sult Set Iterator Objek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880" indent="-209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09640" y="1604880"/>
            <a:ext cx="771840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in SQLJ-Programm ist ein Java-Programm mit eingebetteten SQLJ-Konstruk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-Konstrukte beginnen mit ‘#sql’ und enden mit ‘;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s gibt zwei Arten von SQLJ-Klausel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876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Ausführ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876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Deklarat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6040" y="511200"/>
            <a:ext cx="5064120" cy="985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unSansCondensed-Regular"/>
              </a:rPr>
              <a:t>SQLJ Sprachübersic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809640" y="1604880"/>
            <a:ext cx="7731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Ein auführbares Konstrukt enthält SQL in geschweiften Klammer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{ INSERT INTO emp (ename, sal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VALUES ('Scott', 35000)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Text innerhalb der geschweiften Klammern nutzt  SQL Regeln, ansonsten Java Regel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Ausführbare Klauseln sind dort einsetzbar wo auch Java Blockanweisungen erlaubt s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7840" y="568440"/>
            <a:ext cx="85453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unSansCondensed-Regular"/>
              </a:rPr>
              <a:t>Ausführbare Klausel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8280" y="379080"/>
            <a:ext cx="854712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d-Variabl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06120" y="1576080"/>
            <a:ext cx="769284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sführbare Konstrukte können Java Bind-Variablen enthalt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kennzeichnet durch vorangestellten Doppelpunkt ':'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name = “SMITH”;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ary = 25000.0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 UPDATE emp SET sal = :salar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ERE ename = :name }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ind-Variablen können lokale Variablen, Parameter oder Felder se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nd-Variablen: Unterstützte Typ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38504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andard JDBC Ty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oolean, byte, short, int, long, double, flo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ring, byte[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ava.sql.Date, java.sql.Time, java.sql.Timest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Java Wrapper Klass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oolean, Byte, Short, Integer, Long, Double, Flo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eam Klassen (package sqlj.runtim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77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inaryStream, AsciiStream, UnicodeStr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rstellerspezifische Ty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6920" y="364680"/>
            <a:ext cx="85568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Runtime Connection zur Datenban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33120" y="1375920"/>
            <a:ext cx="7875720" cy="461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aden des JDBC-Treibers wie in einer JDBC-Session</a:t>
            </a:r>
            <a:br>
              <a:rPr sz="24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.forNam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(“oracle.jdbc.driver.OracleDriver”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zeugung einer Datenbankverbindung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faultContext ctx = new DefaultContext(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“jdbc:oracle:thin:@localhost:1521:orcl”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user, password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llation als default Verbindun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efaultContext.setDefaultContext(ctx);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 explizit in einer ausführbaren Klausel</a:t>
            </a:r>
            <a:br>
              <a:rPr sz="24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[ctx] { SQL operation }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klaration des ConnectionContex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nectionContext Klassen sind auch explizit deklarierb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115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context MyContex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iert eine Klasse die zur Ausführung von SQL-Anweisungen nutzbar 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yContext myCtx =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new MyContext(url, user, password)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#sql [myCtx] { … }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ationen können dort eingesetzt werden wo auch Klassendeklarationen erlaubt si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Connection Manage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261200" cy="36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ehrere Verbindungskontexte können gleichzeitig instantiiert und genutzt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erschiedene Verbindungskontext-Klassen können zur Partitionierung von Anweisungen die in verschiedenen Schemas ausgeführt werden genutzt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ur Übersetzungszeit kann für jede Verbindungskontext-Klasse eine unterschiedliche SQL-Überprüfung vorgenommen werd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10840" y="406080"/>
            <a:ext cx="658188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führung einer Abfr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3440" y="1442880"/>
            <a:ext cx="744372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finition eines Iterator-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zeugung einer Instanz des Iterator-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üllen des Iterators mit Abfrageergebniss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utzung der Iterator-Methoden um auf Abfragespalten per Namen zuzugreifen (Named Iterato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ETCH..INTO Syntax für den Zugriff auf Abfragespalten per Position (Positional Iterato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rum Java im Unternehmen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9440" y="1384200"/>
            <a:ext cx="800712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st bereit die dominierende Sprache für unternehmenskritische Anwendungen zu werd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- eine hochproduktive Programmiersprac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bjektorientiert, Komponentenmodel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now-how verfügb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st geeignet für eine neue Klasse von Unternehmens-Anwendung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ternehmens-Anwendungen migrieren von Client/Server hin zu Thin Client-basierten Intrane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578-7B37-40AA-902F-4C412B2EF5AF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15880" y="298080"/>
            <a:ext cx="818208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Definition eines Named Iterator Typ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7280" y="1700280"/>
            <a:ext cx="770868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plizite  Bereitstellung der Java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Nam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und </a:t>
            </a:r>
            <a:br>
              <a:rPr sz="2800"/>
            </a:b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Typ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der Abfragespal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Java-Names der Iterator-Spalten sollten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it den SQL-Namen in der Abfrage übereinstim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 Iterator-Typen Definition sollte dort eingesetzt werden wo eine Java-Klassendefinition erlaubt 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Beispiel eines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</a:rPr>
              <a:t>Named Iter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04840" y="1628640"/>
            <a:ext cx="728352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iterator EmpIter (String ENAME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es definiert eine Klass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mpIter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it unter anderem folgenden Methoden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oolean next();  // gets next row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5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if an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ENAME (); // gets column EN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6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as St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 ();   // gets column SA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6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// as dou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 close ();   // closes itera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72960" y="-36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Einsatz des Iterators für eine Abfr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50760" y="1685880"/>
            <a:ext cx="7621920" cy="25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klaration einer Variablen des Iterator Ty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ntiierung des Iterator-Typs mit einer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-Abfrag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mpIter emps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emps = { SELECT ename, sal FROM emp 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Holen der Abfragespalt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36360" y="1647360"/>
            <a:ext cx="7458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ext(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füllt den Iterator mit dem Result Set der aktuellen Zeile der Abfrage (nutzt den Spaltennam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sen der Daten mit den Iterator-Metho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while (emps.next ()) 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ring ename = emps.ENAM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ouble sal = emps.SAL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 …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hließen des Iterators zur Ressourcenfreiga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mps.close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60360" y="9000"/>
            <a:ext cx="854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Beispiel eines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</a:rPr>
              <a:t>Positional Iterat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02800" y="1501560"/>
            <a:ext cx="7659720" cy="42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6160" indent="-236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itional Iterator Typen holen Abfragespalten per Position (nicht per Nam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iterator EmpIter2 (String, double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…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mpIter2 emp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emps = { SELECT ename, sal FROM emp }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ring ename = null; double sal = 0.0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#sql { FETCH :emps INTO :ename, :sal}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f (emps.endFetch()) break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6160" indent="0">
              <a:lnSpc>
                <a:spcPct val="8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mps.close(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ranslator Installation und Set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Programmübersetz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und Java Kompilierungsanweis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utzung eines SQL Checkers während der Übersetz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Setu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23760" y="1562040"/>
            <a:ext cx="7593120" cy="363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30400" indent="-230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benötigt JDK 1.1 oder höh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 reines Java Programm, daher muß nur der CLASSPATH angepasst werden um die  SQLJ-Klassen zu fin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400" indent="-23040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tup Nutzerumgeb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%JAVA_HOME%\sqlj\lib\translator.zip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 CLASS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480" indent="-270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%JAVA_HOME%\sqlj\bi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 PA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Kompilierung eines SQLJ-Program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67960" y="1726920"/>
            <a:ext cx="7613640" cy="34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Übersetzung des SQLJ Program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sqlj [options] Beispiel1.sql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(erzeugt java Datei +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Serialized Profiles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ompilierung der sich ergebenden Java-Date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javac Beispiel1.jav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1760" indent="-2217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lauf des Program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11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% java Beispiel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4520" y="-36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indung zur Datenbank zur Übersetzungsze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55800" y="1542600"/>
            <a:ext cx="7385040" cy="41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möglicht statische SQL-Überprüfu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 verbindet sich zur Datenbank, und überprüft ob Tabellen und Stored Procedures im Schema enthalten si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Translator überprüft ob die SQL Anweisungen für die vorkommenden Tabellen und Prozeduren korrekt sin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gebungsargumente: Das default Schema zum Login, der JDBC Treiber, etc. --  können in die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atei eingetragen we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Properties Datei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73000" y="1360440"/>
            <a:ext cx="7872480" cy="40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Short-cu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für lange Kommandozeil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nennung: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qlj.proper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möglicht für Benutzer die Online-Überprüfung </a:t>
            </a:r>
            <a:br>
              <a:rPr sz="24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user=scot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dere Einstellungen für die Übersetzung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url=jdbc:oracle:thin:@localhost:1521:orcl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qlj.password=tig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9560" indent="-2595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rstellerspezifische Einstell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 verwendende JDBC-Trei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 verwendende SQL Chec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66880" y="1652760"/>
            <a:ext cx="6468120" cy="2309760"/>
            <a:chOff x="2666880" y="1652760"/>
            <a:chExt cx="6468120" cy="2309760"/>
          </a:xfrm>
        </p:grpSpPr>
        <p:sp>
          <p:nvSpPr>
            <p:cNvPr id="67" name=""/>
            <p:cNvSpPr/>
            <p:nvPr/>
          </p:nvSpPr>
          <p:spPr>
            <a:xfrm>
              <a:off x="2666880" y="3962520"/>
              <a:ext cx="58676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00400" y="21337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200400" y="274320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200400" y="33526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80920" y="236232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580920" y="312408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805120" y="2562120"/>
              <a:ext cx="449280" cy="514440"/>
              <a:chOff x="2805120" y="2562120"/>
              <a:chExt cx="449280" cy="514440"/>
            </a:xfrm>
          </p:grpSpPr>
          <p:sp>
            <p:nvSpPr>
              <p:cNvPr id="75" name=""/>
              <p:cNvSpPr/>
              <p:nvPr/>
            </p:nvSpPr>
            <p:spPr>
              <a:xfrm flipH="1">
                <a:off x="2811240" y="2871720"/>
                <a:ext cx="442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813040" y="287496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813040" y="2882880"/>
                <a:ext cx="4752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70360" y="279576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0656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05120" y="270504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820960" y="265284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86200" y="259704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17720" y="2562120"/>
                <a:ext cx="39060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0996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08520" y="2109960"/>
              <a:ext cx="473040" cy="519120"/>
              <a:chOff x="3908520" y="2109960"/>
              <a:chExt cx="473040" cy="519120"/>
            </a:xfrm>
          </p:grpSpPr>
          <p:sp>
            <p:nvSpPr>
              <p:cNvPr id="86" name=""/>
              <p:cNvSpPr/>
              <p:nvPr/>
            </p:nvSpPr>
            <p:spPr>
              <a:xfrm>
                <a:off x="3908520" y="2109960"/>
                <a:ext cx="43632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44960" y="2139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08520" y="2109960"/>
                <a:ext cx="18072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60800" y="2319480"/>
                <a:ext cx="29700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65480" y="2151000"/>
                <a:ext cx="31608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62240" y="2301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6872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8132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0220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624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3064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59080" y="2368440"/>
                <a:ext cx="17496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59080" y="2414520"/>
                <a:ext cx="17496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59080" y="2463840"/>
                <a:ext cx="17496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9080" y="2509920"/>
                <a:ext cx="17496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84640" y="2417760"/>
                <a:ext cx="12240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84640" y="2465280"/>
                <a:ext cx="12240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356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59080" y="2368440"/>
                <a:ext cx="17496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43320" y="23684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1880" y="238608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80040" y="237348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2432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7960" y="2395440"/>
                <a:ext cx="1260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6736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400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2604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91040" y="217332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94280" y="22366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60880" y="223200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048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0048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4512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76720" y="224964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05120" y="3171960"/>
              <a:ext cx="449280" cy="514080"/>
              <a:chOff x="2805120" y="3171960"/>
              <a:chExt cx="449280" cy="51408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2811240" y="3483000"/>
                <a:ext cx="442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813040" y="3484440"/>
                <a:ext cx="4752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813040" y="349416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70360" y="340524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0656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05120" y="331488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20960" y="326556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86200" y="320832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17720" y="3171960"/>
                <a:ext cx="39060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0996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806560" y="1949400"/>
              <a:ext cx="449280" cy="515880"/>
              <a:chOff x="2806560" y="1949400"/>
              <a:chExt cx="449280" cy="5158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2811240" y="2262240"/>
                <a:ext cx="442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813040" y="226548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813040" y="227340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71800" y="2182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0656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0656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20960" y="204480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8764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1949400"/>
                <a:ext cx="39204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08160" y="2028960"/>
                <a:ext cx="18432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906720" y="2868480"/>
              <a:ext cx="476280" cy="522360"/>
              <a:chOff x="3906720" y="2868480"/>
              <a:chExt cx="476280" cy="522360"/>
            </a:xfrm>
          </p:grpSpPr>
          <p:sp>
            <p:nvSpPr>
              <p:cNvPr id="143" name=""/>
              <p:cNvSpPr/>
              <p:nvPr/>
            </p:nvSpPr>
            <p:spPr>
              <a:xfrm>
                <a:off x="390672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46400" y="290052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08520" y="2868480"/>
                <a:ext cx="18252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062240" y="3081240"/>
                <a:ext cx="29700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6548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6080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70520" y="2903400"/>
                <a:ext cx="2664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8132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0364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624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3064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6088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088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088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088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8464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8464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7356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6088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4332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4332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8148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2576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89400" y="3156120"/>
                <a:ext cx="126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67360" y="3143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95800" y="318780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27480" y="319716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92480" y="29336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94280" y="299736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62320" y="2994120"/>
                <a:ext cx="18756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0228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0228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4656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76720" y="300996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10824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73360" y="1682640"/>
              <a:ext cx="189216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334120" y="21337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334120" y="274320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34120" y="33526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715000" y="23623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715000" y="31240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938840" y="2562120"/>
              <a:ext cx="449280" cy="514440"/>
              <a:chOff x="4938840" y="2562120"/>
              <a:chExt cx="449280" cy="514440"/>
            </a:xfrm>
          </p:grpSpPr>
          <p:sp>
            <p:nvSpPr>
              <p:cNvPr id="186" name=""/>
              <p:cNvSpPr/>
              <p:nvPr/>
            </p:nvSpPr>
            <p:spPr>
              <a:xfrm flipH="1">
                <a:off x="4944960" y="2871720"/>
                <a:ext cx="4464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946760" y="287496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946760" y="2882880"/>
                <a:ext cx="4752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03720" y="2795760"/>
                <a:ext cx="28440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4028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38840" y="2705040"/>
                <a:ext cx="44748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954680" y="265284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19560" y="2597040"/>
                <a:ext cx="22248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1440" y="2562120"/>
                <a:ext cx="39060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4368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041880" y="2109960"/>
              <a:ext cx="473400" cy="519120"/>
              <a:chOff x="6041880" y="2109960"/>
              <a:chExt cx="473400" cy="519120"/>
            </a:xfrm>
          </p:grpSpPr>
          <p:sp>
            <p:nvSpPr>
              <p:cNvPr id="197" name=""/>
              <p:cNvSpPr/>
              <p:nvPr/>
            </p:nvSpPr>
            <p:spPr>
              <a:xfrm>
                <a:off x="6041880" y="2109960"/>
                <a:ext cx="43668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8680" y="2139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41880" y="2109960"/>
                <a:ext cx="18108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94520" y="2319480"/>
                <a:ext cx="29664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99200" y="2151000"/>
                <a:ext cx="31608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95960" y="2301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0244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1504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556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4996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6436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92800" y="2368440"/>
                <a:ext cx="17460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92800" y="2414520"/>
                <a:ext cx="17460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92800" y="2463840"/>
                <a:ext cx="17460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92800" y="250992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18360" y="2417760"/>
                <a:ext cx="12204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18360" y="2465280"/>
                <a:ext cx="1220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0728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92800" y="2368440"/>
                <a:ext cx="17460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77040" y="2368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5240" y="2386080"/>
                <a:ext cx="8280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3400" y="2373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5804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21320" y="2395440"/>
                <a:ext cx="1296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0072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2772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5940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24760" y="217332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7640" y="2236680"/>
                <a:ext cx="4788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94600" y="223200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33420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420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7848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10440" y="2249640"/>
                <a:ext cx="2520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38840" y="3171960"/>
              <a:ext cx="449280" cy="514080"/>
              <a:chOff x="4938840" y="3171960"/>
              <a:chExt cx="449280" cy="51408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4944960" y="3483000"/>
                <a:ext cx="4464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946760" y="3484440"/>
                <a:ext cx="4752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946760" y="349416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03720" y="3405240"/>
                <a:ext cx="28440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4028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8840" y="3314880"/>
                <a:ext cx="44748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54680" y="326556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19560" y="3208320"/>
                <a:ext cx="22248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51440" y="3171960"/>
                <a:ext cx="39060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4368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940280" y="1949400"/>
              <a:ext cx="449280" cy="515880"/>
              <a:chOff x="4940280" y="1949400"/>
              <a:chExt cx="449280" cy="5158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4944960" y="2262240"/>
                <a:ext cx="4464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946760" y="2265480"/>
                <a:ext cx="4752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946760" y="2273400"/>
                <a:ext cx="4752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05520" y="2182680"/>
                <a:ext cx="28404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4028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4028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54680" y="2044800"/>
                <a:ext cx="17928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2136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52880" y="1949400"/>
                <a:ext cx="39240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41880" y="2028960"/>
                <a:ext cx="18432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040440" y="2868480"/>
              <a:ext cx="476280" cy="522360"/>
              <a:chOff x="6040440" y="2868480"/>
              <a:chExt cx="476280" cy="522360"/>
            </a:xfrm>
          </p:grpSpPr>
          <p:sp>
            <p:nvSpPr>
              <p:cNvPr id="254" name=""/>
              <p:cNvSpPr/>
              <p:nvPr/>
            </p:nvSpPr>
            <p:spPr>
              <a:xfrm>
                <a:off x="604044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80120" y="290052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41880" y="2868480"/>
                <a:ext cx="18288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95960" y="3081240"/>
                <a:ext cx="29700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9920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9452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0388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1504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3736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4996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6436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9460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9460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9460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460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1836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836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0728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9460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7704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704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1520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5948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23120" y="3156120"/>
                <a:ext cx="126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00720" y="3143160"/>
                <a:ext cx="16524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9520" y="3187800"/>
                <a:ext cx="10764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61200" y="319716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26200" y="29336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27640" y="2997360"/>
                <a:ext cx="4788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96040" y="299412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3564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3564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8028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10440" y="3009960"/>
                <a:ext cx="2520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24196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7080" y="1682640"/>
              <a:ext cx="189216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48720" y="2133720"/>
              <a:ext cx="0" cy="182880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467120" y="213372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67120" y="274320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467120" y="3352680"/>
              <a:ext cx="3812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848720" y="236232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48720" y="3124080"/>
              <a:ext cx="38088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072200" y="2562120"/>
              <a:ext cx="449280" cy="514440"/>
              <a:chOff x="7072200" y="2562120"/>
              <a:chExt cx="449280" cy="51444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7078320" y="2871720"/>
                <a:ext cx="442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079760" y="2874960"/>
                <a:ext cx="478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079760" y="2882880"/>
                <a:ext cx="47880" cy="1764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37440" y="279576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74000" y="2873520"/>
                <a:ext cx="166680" cy="19836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4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72200" y="270504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8040" y="265284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53280" y="259704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2562120"/>
                <a:ext cx="390240" cy="15408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77040" y="2637000"/>
                <a:ext cx="182520" cy="26640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8175600" y="2109960"/>
              <a:ext cx="473040" cy="519120"/>
              <a:chOff x="8175600" y="2109960"/>
              <a:chExt cx="473040" cy="519120"/>
            </a:xfrm>
          </p:grpSpPr>
          <p:sp>
            <p:nvSpPr>
              <p:cNvPr id="308" name=""/>
              <p:cNvSpPr/>
              <p:nvPr/>
            </p:nvSpPr>
            <p:spPr>
              <a:xfrm>
                <a:off x="8175600" y="2109960"/>
                <a:ext cx="436680" cy="36360"/>
              </a:xfrm>
              <a:custGeom>
                <a:avLst/>
                <a:gdLst/>
                <a:ahLst/>
                <a:rect l="l" t="t" r="r" b="b"/>
                <a:pathLst>
                  <a:path w="275" h="23">
                    <a:moveTo>
                      <a:pt x="86" y="22"/>
                    </a:moveTo>
                    <a:lnTo>
                      <a:pt x="274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6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12040" y="2139840"/>
                <a:ext cx="31932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75600" y="2109960"/>
                <a:ext cx="181080" cy="519120"/>
              </a:xfrm>
              <a:custGeom>
                <a:avLst/>
                <a:gdLst/>
                <a:ahLst/>
                <a:rect l="l" t="t" r="r" b="b"/>
                <a:pathLst>
                  <a:path w="114" h="327">
                    <a:moveTo>
                      <a:pt x="0" y="0"/>
                    </a:moveTo>
                    <a:lnTo>
                      <a:pt x="86" y="19"/>
                    </a:lnTo>
                    <a:lnTo>
                      <a:pt x="101" y="28"/>
                    </a:lnTo>
                    <a:lnTo>
                      <a:pt x="113" y="119"/>
                    </a:lnTo>
                    <a:lnTo>
                      <a:pt x="98" y="138"/>
                    </a:lnTo>
                    <a:lnTo>
                      <a:pt x="96" y="326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27880" y="2319480"/>
                <a:ext cx="297000" cy="307800"/>
              </a:xfrm>
              <a:custGeom>
                <a:avLst/>
                <a:gdLst/>
                <a:ahLst/>
                <a:rect l="l" t="t" r="r" b="b"/>
                <a:pathLst>
                  <a:path w="18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86" y="193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32920" y="2151000"/>
                <a:ext cx="315720" cy="154080"/>
              </a:xfrm>
              <a:custGeom>
                <a:avLst/>
                <a:gdLst/>
                <a:ahLst/>
                <a:rect l="l" t="t" r="r" b="b"/>
                <a:pathLst>
                  <a:path w="199" h="97">
                    <a:moveTo>
                      <a:pt x="0" y="0"/>
                    </a:moveTo>
                    <a:lnTo>
                      <a:pt x="188" y="0"/>
                    </a:lnTo>
                    <a:lnTo>
                      <a:pt x="198" y="96"/>
                    </a:lnTo>
                    <a:lnTo>
                      <a:pt x="7" y="9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29680" y="230184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16"/>
                    </a:moveTo>
                    <a:lnTo>
                      <a:pt x="183" y="16"/>
                    </a:lnTo>
                    <a:lnTo>
                      <a:pt x="200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3580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48760" y="2144880"/>
                <a:ext cx="30240" cy="484200"/>
              </a:xfrm>
              <a:custGeom>
                <a:avLst/>
                <a:gdLst/>
                <a:ahLst/>
                <a:rect l="l" t="t" r="r" b="b"/>
                <a:pathLst>
                  <a:path w="19" h="305">
                    <a:moveTo>
                      <a:pt x="0" y="0"/>
                    </a:moveTo>
                    <a:lnTo>
                      <a:pt x="8" y="5"/>
                    </a:lnTo>
                    <a:lnTo>
                      <a:pt x="18" y="100"/>
                    </a:lnTo>
                    <a:lnTo>
                      <a:pt x="8" y="111"/>
                    </a:lnTo>
                    <a:lnTo>
                      <a:pt x="8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6928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5" y="5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83680" y="214488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99"/>
                    </a:lnTo>
                    <a:lnTo>
                      <a:pt x="6" y="110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397720" y="2143080"/>
                <a:ext cx="27000" cy="482760"/>
              </a:xfrm>
              <a:custGeom>
                <a:avLst/>
                <a:gdLst/>
                <a:ahLst/>
                <a:rect l="l" t="t" r="r" b="b"/>
                <a:pathLst>
                  <a:path w="17" h="304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0"/>
                    </a:lnTo>
                    <a:lnTo>
                      <a:pt x="6" y="30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26520" y="2368440"/>
                <a:ext cx="174600" cy="223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26520" y="2414520"/>
                <a:ext cx="174600" cy="34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426520" y="2463840"/>
                <a:ext cx="17460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26520" y="250992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51720" y="2417760"/>
                <a:ext cx="12240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51720" y="2465280"/>
                <a:ext cx="12240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40640" y="2370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26520" y="2368440"/>
                <a:ext cx="174600" cy="320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10760" y="2368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08960" y="238608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547120" y="23734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591400" y="2374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555040" y="2395440"/>
                <a:ext cx="12600" cy="12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34440" y="2381400"/>
                <a:ext cx="163440" cy="2700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0" y="16"/>
                    </a:moveTo>
                    <a:lnTo>
                      <a:pt x="102" y="16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242568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493120" y="243540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6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1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58120" y="217332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4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61360" y="22366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27960" y="2232000"/>
                <a:ext cx="18756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467560" y="2241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67560" y="22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512200" y="2249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43800" y="224964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72200" y="3171960"/>
              <a:ext cx="449280" cy="514080"/>
              <a:chOff x="7072200" y="3171960"/>
              <a:chExt cx="449280" cy="51408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7078320" y="3483000"/>
                <a:ext cx="442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079760" y="3484440"/>
                <a:ext cx="47880" cy="208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079760" y="3494160"/>
                <a:ext cx="478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37440" y="3405240"/>
                <a:ext cx="284040" cy="28080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176"/>
                    </a:moveTo>
                    <a:lnTo>
                      <a:pt x="0" y="112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74000" y="3484440"/>
                <a:ext cx="166680" cy="196920"/>
              </a:xfrm>
              <a:custGeom>
                <a:avLst/>
                <a:gdLst/>
                <a:ahLst/>
                <a:rect l="l" t="t" r="r" b="b"/>
                <a:pathLst>
                  <a:path w="105" h="124">
                    <a:moveTo>
                      <a:pt x="103" y="6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04" y="123"/>
                    </a:lnTo>
                    <a:lnTo>
                      <a:pt x="103" y="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72200" y="3314880"/>
                <a:ext cx="447840" cy="271440"/>
              </a:xfrm>
              <a:custGeom>
                <a:avLst/>
                <a:gdLst/>
                <a:ahLst/>
                <a:rect l="l" t="t" r="r" b="b"/>
                <a:pathLst>
                  <a:path w="282" h="171">
                    <a:moveTo>
                      <a:pt x="103" y="170"/>
                    </a:moveTo>
                    <a:lnTo>
                      <a:pt x="281" y="55"/>
                    </a:lnTo>
                    <a:lnTo>
                      <a:pt x="179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88040" y="326556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253280" y="3208320"/>
                <a:ext cx="222120" cy="34308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0" y="215"/>
                    </a:moveTo>
                    <a:lnTo>
                      <a:pt x="0" y="71"/>
                    </a:lnTo>
                    <a:lnTo>
                      <a:pt x="138" y="0"/>
                    </a:lnTo>
                    <a:lnTo>
                      <a:pt x="139" y="124"/>
                    </a:lnTo>
                    <a:lnTo>
                      <a:pt x="0" y="21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085160" y="3171960"/>
                <a:ext cx="390240" cy="153720"/>
              </a:xfrm>
              <a:custGeom>
                <a:avLst/>
                <a:gdLst/>
                <a:ahLst/>
                <a:rect l="l" t="t" r="r" b="b"/>
                <a:pathLst>
                  <a:path w="246" h="97">
                    <a:moveTo>
                      <a:pt x="107" y="96"/>
                    </a:moveTo>
                    <a:lnTo>
                      <a:pt x="245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277040" y="3247920"/>
                <a:ext cx="182520" cy="266760"/>
              </a:xfrm>
              <a:custGeom>
                <a:avLst/>
                <a:gdLst/>
                <a:ahLst/>
                <a:rect l="l" t="t" r="r" b="b"/>
                <a:pathLst>
                  <a:path w="115" h="168">
                    <a:moveTo>
                      <a:pt x="0" y="167"/>
                    </a:moveTo>
                    <a:lnTo>
                      <a:pt x="0" y="55"/>
                    </a:lnTo>
                    <a:lnTo>
                      <a:pt x="114" y="0"/>
                    </a:lnTo>
                    <a:lnTo>
                      <a:pt x="114" y="87"/>
                    </a:lnTo>
                    <a:lnTo>
                      <a:pt x="0" y="167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74000" y="1949400"/>
              <a:ext cx="449280" cy="515880"/>
              <a:chOff x="7074000" y="1949400"/>
              <a:chExt cx="449280" cy="515880"/>
            </a:xfrm>
          </p:grpSpPr>
          <p:sp>
            <p:nvSpPr>
              <p:cNvPr id="354" name=""/>
              <p:cNvSpPr/>
              <p:nvPr/>
            </p:nvSpPr>
            <p:spPr>
              <a:xfrm flipH="1">
                <a:off x="7078320" y="2262240"/>
                <a:ext cx="442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7079760" y="2265480"/>
                <a:ext cx="47880" cy="172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079760" y="2273400"/>
                <a:ext cx="47880" cy="19080"/>
              </a:xfrm>
              <a:prstGeom prst="line">
                <a:avLst/>
              </a:prstGeom>
              <a:ln w="12600">
                <a:solidFill>
                  <a:srgbClr val="ffd1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38880" y="2182680"/>
                <a:ext cx="284400" cy="282600"/>
              </a:xfrm>
              <a:custGeom>
                <a:avLst/>
                <a:gdLst/>
                <a:ahLst/>
                <a:rect l="l" t="t" r="r" b="b"/>
                <a:pathLst>
                  <a:path w="179" h="178">
                    <a:moveTo>
                      <a:pt x="0" y="177"/>
                    </a:moveTo>
                    <a:lnTo>
                      <a:pt x="0" y="113"/>
                    </a:lnTo>
                    <a:lnTo>
                      <a:pt x="178" y="0"/>
                    </a:lnTo>
                    <a:lnTo>
                      <a:pt x="178" y="53"/>
                    </a:lnTo>
                    <a:lnTo>
                      <a:pt x="0" y="177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74000" y="2268360"/>
                <a:ext cx="166680" cy="195480"/>
              </a:xfrm>
              <a:custGeom>
                <a:avLst/>
                <a:gdLst/>
                <a:ahLst/>
                <a:rect l="l" t="t" r="r" b="b"/>
                <a:pathLst>
                  <a:path w="105" h="123">
                    <a:moveTo>
                      <a:pt x="103" y="6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4" y="122"/>
                    </a:lnTo>
                    <a:lnTo>
                      <a:pt x="103" y="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74000" y="2097000"/>
                <a:ext cx="449280" cy="271440"/>
              </a:xfrm>
              <a:custGeom>
                <a:avLst/>
                <a:gdLst/>
                <a:ahLst/>
                <a:rect l="l" t="t" r="r" b="b"/>
                <a:pathLst>
                  <a:path w="283" h="171">
                    <a:moveTo>
                      <a:pt x="103" y="170"/>
                    </a:moveTo>
                    <a:lnTo>
                      <a:pt x="282" y="55"/>
                    </a:lnTo>
                    <a:lnTo>
                      <a:pt x="180" y="0"/>
                    </a:lnTo>
                    <a:lnTo>
                      <a:pt x="0" y="107"/>
                    </a:lnTo>
                    <a:lnTo>
                      <a:pt x="103" y="17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8040" y="2044800"/>
                <a:ext cx="179640" cy="287280"/>
              </a:xfrm>
              <a:custGeom>
                <a:avLst/>
                <a:gdLst/>
                <a:ahLst/>
                <a:rect l="l" t="t" r="r" b="b"/>
                <a:pathLst>
                  <a:path w="113" h="181">
                    <a:moveTo>
                      <a:pt x="112" y="35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103" y="180"/>
                    </a:lnTo>
                    <a:lnTo>
                      <a:pt x="112" y="35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54720" y="1989000"/>
                <a:ext cx="223920" cy="344520"/>
              </a:xfrm>
              <a:custGeom>
                <a:avLst/>
                <a:gdLst/>
                <a:ahLst/>
                <a:rect l="l" t="t" r="r" b="b"/>
                <a:pathLst>
                  <a:path w="141" h="217">
                    <a:moveTo>
                      <a:pt x="0" y="216"/>
                    </a:moveTo>
                    <a:lnTo>
                      <a:pt x="0" y="72"/>
                    </a:lnTo>
                    <a:lnTo>
                      <a:pt x="139" y="0"/>
                    </a:lnTo>
                    <a:lnTo>
                      <a:pt x="140" y="124"/>
                    </a:lnTo>
                    <a:lnTo>
                      <a:pt x="0" y="21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6600" y="1949400"/>
                <a:ext cx="392040" cy="154080"/>
              </a:xfrm>
              <a:custGeom>
                <a:avLst/>
                <a:gdLst/>
                <a:ahLst/>
                <a:rect l="l" t="t" r="r" b="b"/>
                <a:pathLst>
                  <a:path w="247" h="97">
                    <a:moveTo>
                      <a:pt x="107" y="96"/>
                    </a:moveTo>
                    <a:lnTo>
                      <a:pt x="246" y="23"/>
                    </a:lnTo>
                    <a:lnTo>
                      <a:pt x="135" y="0"/>
                    </a:lnTo>
                    <a:lnTo>
                      <a:pt x="0" y="60"/>
                    </a:lnTo>
                    <a:lnTo>
                      <a:pt x="107" y="9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75600" y="2028960"/>
                <a:ext cx="183960" cy="268200"/>
              </a:xfrm>
              <a:custGeom>
                <a:avLst/>
                <a:gdLst/>
                <a:ahLst/>
                <a:rect l="l" t="t" r="r" b="b"/>
                <a:pathLst>
                  <a:path w="116" h="169">
                    <a:moveTo>
                      <a:pt x="0" y="168"/>
                    </a:moveTo>
                    <a:lnTo>
                      <a:pt x="0" y="56"/>
                    </a:lnTo>
                    <a:lnTo>
                      <a:pt x="115" y="0"/>
                    </a:lnTo>
                    <a:lnTo>
                      <a:pt x="115" y="88"/>
                    </a:lnTo>
                    <a:lnTo>
                      <a:pt x="0" y="168"/>
                    </a:lnTo>
                  </a:path>
                </a:pathLst>
              </a:custGeom>
              <a:gradFill rotWithShape="0">
                <a:gsLst>
                  <a:gs pos="0">
                    <a:srgbClr val="316daf"/>
                  </a:gs>
                  <a:gs pos="100000">
                    <a:srgbClr val="132b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8174160" y="2868480"/>
              <a:ext cx="476280" cy="522360"/>
              <a:chOff x="8174160" y="2868480"/>
              <a:chExt cx="476280" cy="522360"/>
            </a:xfrm>
          </p:grpSpPr>
          <p:sp>
            <p:nvSpPr>
              <p:cNvPr id="365" name=""/>
              <p:cNvSpPr/>
              <p:nvPr/>
            </p:nvSpPr>
            <p:spPr>
              <a:xfrm>
                <a:off x="8174160" y="2870280"/>
                <a:ext cx="438120" cy="36360"/>
              </a:xfrm>
              <a:custGeom>
                <a:avLst/>
                <a:gdLst/>
                <a:ahLst/>
                <a:rect l="l" t="t" r="r" b="b"/>
                <a:pathLst>
                  <a:path w="276" h="23">
                    <a:moveTo>
                      <a:pt x="87" y="22"/>
                    </a:moveTo>
                    <a:lnTo>
                      <a:pt x="275" y="19"/>
                    </a:lnTo>
                    <a:lnTo>
                      <a:pt x="145" y="0"/>
                    </a:lnTo>
                    <a:lnTo>
                      <a:pt x="0" y="0"/>
                    </a:lnTo>
                    <a:lnTo>
                      <a:pt x="87" y="2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313840" y="2900520"/>
                <a:ext cx="318960" cy="270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0" y="0"/>
                    </a:moveTo>
                    <a:lnTo>
                      <a:pt x="10" y="16"/>
                    </a:lnTo>
                    <a:lnTo>
                      <a:pt x="200" y="16"/>
                    </a:lnTo>
                    <a:lnTo>
                      <a:pt x="1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75600" y="2868480"/>
                <a:ext cx="182520" cy="522360"/>
              </a:xfrm>
              <a:custGeom>
                <a:avLst/>
                <a:gdLst/>
                <a:ahLst/>
                <a:rect l="l" t="t" r="r" b="b"/>
                <a:pathLst>
                  <a:path w="115" h="329">
                    <a:moveTo>
                      <a:pt x="0" y="0"/>
                    </a:moveTo>
                    <a:lnTo>
                      <a:pt x="87" y="19"/>
                    </a:lnTo>
                    <a:lnTo>
                      <a:pt x="102" y="28"/>
                    </a:lnTo>
                    <a:lnTo>
                      <a:pt x="114" y="120"/>
                    </a:lnTo>
                    <a:lnTo>
                      <a:pt x="98" y="139"/>
                    </a:lnTo>
                    <a:lnTo>
                      <a:pt x="97" y="328"/>
                    </a:lnTo>
                    <a:lnTo>
                      <a:pt x="0" y="24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29680" y="3081240"/>
                <a:ext cx="296640" cy="309600"/>
              </a:xfrm>
              <a:custGeom>
                <a:avLst/>
                <a:gdLst/>
                <a:ahLst/>
                <a:rect l="l" t="t" r="r" b="b"/>
                <a:pathLst>
                  <a:path w="187" h="195">
                    <a:moveTo>
                      <a:pt x="0" y="0"/>
                    </a:moveTo>
                    <a:lnTo>
                      <a:pt x="0" y="194"/>
                    </a:lnTo>
                    <a:lnTo>
                      <a:pt x="186" y="194"/>
                    </a:lnTo>
                    <a:lnTo>
                      <a:pt x="18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32920" y="290988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00" h="98">
                    <a:moveTo>
                      <a:pt x="0" y="0"/>
                    </a:moveTo>
                    <a:lnTo>
                      <a:pt x="189" y="0"/>
                    </a:lnTo>
                    <a:lnTo>
                      <a:pt x="199" y="97"/>
                    </a:lnTo>
                    <a:lnTo>
                      <a:pt x="7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7880" y="3065400"/>
                <a:ext cx="320760" cy="2700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0" y="16"/>
                    </a:moveTo>
                    <a:lnTo>
                      <a:pt x="184" y="16"/>
                    </a:lnTo>
                    <a:lnTo>
                      <a:pt x="201" y="0"/>
                    </a:lnTo>
                    <a:lnTo>
                      <a:pt x="9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3760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1"/>
                    </a:lnTo>
                    <a:lnTo>
                      <a:pt x="6" y="112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48760" y="2903400"/>
                <a:ext cx="30240" cy="487440"/>
              </a:xfrm>
              <a:custGeom>
                <a:avLst/>
                <a:gdLst/>
                <a:ahLst/>
                <a:rect l="l" t="t" r="r" b="b"/>
                <a:pathLst>
                  <a:path w="19" h="307">
                    <a:moveTo>
                      <a:pt x="0" y="0"/>
                    </a:moveTo>
                    <a:lnTo>
                      <a:pt x="8" y="5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7072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5" y="6"/>
                    </a:lnTo>
                    <a:lnTo>
                      <a:pt x="16" y="101"/>
                    </a:lnTo>
                    <a:lnTo>
                      <a:pt x="5" y="111"/>
                    </a:lnTo>
                    <a:lnTo>
                      <a:pt x="5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83680" y="2903400"/>
                <a:ext cx="27000" cy="48744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6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97720" y="2905200"/>
                <a:ext cx="27000" cy="484200"/>
              </a:xfrm>
              <a:custGeom>
                <a:avLst/>
                <a:gdLst/>
                <a:ahLst/>
                <a:rect l="l" t="t" r="r" b="b"/>
                <a:pathLst>
                  <a:path w="17" h="305">
                    <a:moveTo>
                      <a:pt x="0" y="0"/>
                    </a:moveTo>
                    <a:lnTo>
                      <a:pt x="6" y="3"/>
                    </a:lnTo>
                    <a:lnTo>
                      <a:pt x="16" y="100"/>
                    </a:lnTo>
                    <a:lnTo>
                      <a:pt x="6" y="111"/>
                    </a:lnTo>
                    <a:lnTo>
                      <a:pt x="6" y="30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27960" y="3129120"/>
                <a:ext cx="174600" cy="225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27960" y="3176640"/>
                <a:ext cx="17460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27960" y="3224160"/>
                <a:ext cx="17460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27960" y="3271680"/>
                <a:ext cx="174600" cy="33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51720" y="3179880"/>
                <a:ext cx="123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51720" y="3227400"/>
                <a:ext cx="123840" cy="270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540640" y="313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6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27960" y="3129120"/>
                <a:ext cx="17460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10760" y="31305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510760" y="3147840"/>
                <a:ext cx="8244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1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1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548560" y="31352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8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593200" y="313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556480" y="3156120"/>
                <a:ext cx="1296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34440" y="3143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0" y="16"/>
                    </a:moveTo>
                    <a:lnTo>
                      <a:pt x="103" y="16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62880" y="3187800"/>
                <a:ext cx="108000" cy="2700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0" y="16"/>
                    </a:moveTo>
                    <a:lnTo>
                      <a:pt x="67" y="16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94560" y="3197160"/>
                <a:ext cx="4932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0" y="16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59920" y="2933640"/>
                <a:ext cx="4572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361360" y="299736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7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760" y="2994120"/>
                <a:ext cx="187200" cy="4608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0"/>
                    </a:moveTo>
                    <a:lnTo>
                      <a:pt x="4" y="28"/>
                    </a:lnTo>
                    <a:lnTo>
                      <a:pt x="117" y="28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69360" y="3003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69360" y="3017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13640" y="3009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43800" y="3009960"/>
                <a:ext cx="2556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375680" y="1652760"/>
              <a:ext cx="175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ederlassu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40440" y="1682640"/>
              <a:ext cx="1892520" cy="212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12040" y="2209320"/>
            <a:ext cx="8017560" cy="2337120"/>
            <a:chOff x="212040" y="2209320"/>
            <a:chExt cx="8017560" cy="2337120"/>
          </a:xfrm>
        </p:grpSpPr>
        <p:grpSp>
          <p:nvGrpSpPr>
            <p:cNvPr id="402" name=""/>
            <p:cNvGrpSpPr/>
            <p:nvPr/>
          </p:nvGrpSpPr>
          <p:grpSpPr>
            <a:xfrm>
              <a:off x="212040" y="3835440"/>
              <a:ext cx="1819800" cy="711000"/>
              <a:chOff x="212040" y="3835440"/>
              <a:chExt cx="1819800" cy="711000"/>
            </a:xfrm>
          </p:grpSpPr>
          <p:sp>
            <p:nvSpPr>
              <p:cNvPr id="403" name=""/>
              <p:cNvSpPr/>
              <p:nvPr/>
            </p:nvSpPr>
            <p:spPr>
              <a:xfrm>
                <a:off x="254160" y="3835440"/>
                <a:ext cx="1777680" cy="711000"/>
              </a:xfrm>
              <a:prstGeom prst="rect">
                <a:avLst/>
              </a:prstGeom>
              <a:gradFill rotWithShape="0">
                <a:gsLst>
                  <a:gs pos="0">
                    <a:srgbClr val="00cc00"/>
                  </a:gs>
                  <a:gs pos="100000">
                    <a:srgbClr val="003c00"/>
                  </a:gs>
                </a:gsLst>
                <a:lin ang="13500000"/>
              </a:gradFill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2040" y="3894120"/>
                <a:ext cx="158256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Backup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057400" y="2209320"/>
              <a:ext cx="6172200" cy="2210040"/>
              <a:chOff x="2057400" y="2209320"/>
              <a:chExt cx="6172200" cy="221004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2057400" y="2285640"/>
                <a:ext cx="838080" cy="16002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2895480"/>
                <a:ext cx="838080" cy="10670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057400" y="2361960"/>
                <a:ext cx="1905120" cy="16002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2209320"/>
                <a:ext cx="3048120" cy="17528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057400" y="3504960"/>
                <a:ext cx="990720" cy="53316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057400" y="3124080"/>
                <a:ext cx="2057400" cy="9144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57400" y="2743200"/>
                <a:ext cx="3124080" cy="13716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2057400" y="2437920"/>
                <a:ext cx="4191120" cy="17528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057400" y="2209680"/>
                <a:ext cx="5181480" cy="19814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057400" y="2209320"/>
                <a:ext cx="6172200" cy="20574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057400" y="2819160"/>
                <a:ext cx="5257800" cy="152388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057400" y="3200040"/>
                <a:ext cx="4267080" cy="11430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057400" y="2971800"/>
                <a:ext cx="6172200" cy="137160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057400" y="3580920"/>
                <a:ext cx="5181480" cy="83844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2057400" y="3352680"/>
                <a:ext cx="3124080" cy="990720"/>
              </a:xfrm>
              <a:prstGeom prst="line">
                <a:avLst/>
              </a:prstGeom>
              <a:ln w="25560">
                <a:solidFill>
                  <a:srgbClr val="00cc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228600" y="515880"/>
            <a:ext cx="8001000" cy="4944960"/>
            <a:chOff x="228600" y="515880"/>
            <a:chExt cx="8001000" cy="4944960"/>
          </a:xfrm>
        </p:grpSpPr>
        <p:grpSp>
          <p:nvGrpSpPr>
            <p:cNvPr id="422" name=""/>
            <p:cNvGrpSpPr/>
            <p:nvPr/>
          </p:nvGrpSpPr>
          <p:grpSpPr>
            <a:xfrm>
              <a:off x="228600" y="2209320"/>
              <a:ext cx="8001000" cy="3251520"/>
              <a:chOff x="228600" y="2209320"/>
              <a:chExt cx="8001000" cy="3251520"/>
            </a:xfrm>
          </p:grpSpPr>
          <p:sp>
            <p:nvSpPr>
              <p:cNvPr id="423" name=""/>
              <p:cNvSpPr/>
              <p:nvPr/>
            </p:nvSpPr>
            <p:spPr>
              <a:xfrm>
                <a:off x="254160" y="4749840"/>
                <a:ext cx="1777680" cy="71100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55100"/>
                  </a:gs>
                </a:gsLst>
                <a:lin ang="13500000"/>
              </a:gradFill>
              <a:ln w="507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28600" y="2209320"/>
                <a:ext cx="8001000" cy="3164040"/>
                <a:chOff x="228600" y="2209320"/>
                <a:chExt cx="8001000" cy="31640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28600" y="4732200"/>
                  <a:ext cx="1905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ue Anwendunge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2057400" y="2209320"/>
                  <a:ext cx="6172200" cy="3124440"/>
                  <a:chOff x="2057400" y="2209320"/>
                  <a:chExt cx="6172200" cy="31244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V="1">
                    <a:off x="2057400" y="2285640"/>
                    <a:ext cx="838080" cy="25146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>
                    <a:off x="2057400" y="2895480"/>
                    <a:ext cx="838080" cy="19814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V="1">
                    <a:off x="2057400" y="2361960"/>
                    <a:ext cx="1905120" cy="25146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2057400" y="2209680"/>
                    <a:ext cx="3048120" cy="27432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2057400" y="3428640"/>
                    <a:ext cx="838080" cy="15238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2057400" y="2971800"/>
                    <a:ext cx="1905120" cy="190512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2057400" y="2743200"/>
                    <a:ext cx="3124080" cy="22860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2057400" y="2437920"/>
                    <a:ext cx="4191120" cy="259092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2057400" y="2209680"/>
                    <a:ext cx="5181480" cy="28958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2057400" y="2209320"/>
                    <a:ext cx="6172200" cy="29718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>
                    <a:off x="2057400" y="2819160"/>
                    <a:ext cx="5257800" cy="236196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2057400" y="3048120"/>
                    <a:ext cx="4191120" cy="22096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2057400" y="2971800"/>
                    <a:ext cx="6172200" cy="228600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057400" y="3580920"/>
                    <a:ext cx="5181480" cy="175284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>
                    <a:off x="2057400" y="3276720"/>
                    <a:ext cx="3048120" cy="1752480"/>
                  </a:xfrm>
                  <a:prstGeom prst="line">
                    <a:avLst/>
                  </a:prstGeom>
                  <a:ln w="25560">
                    <a:solidFill>
                      <a:srgbClr val="ffcc00"/>
                    </a:solidFill>
                    <a:miter/>
                    <a:tail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2" name=""/>
            <p:cNvSpPr/>
            <p:nvPr/>
          </p:nvSpPr>
          <p:spPr>
            <a:xfrm>
              <a:off x="7188120" y="515880"/>
              <a:ext cx="18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54160" y="2209320"/>
            <a:ext cx="7975440" cy="4200120"/>
            <a:chOff x="254160" y="2209320"/>
            <a:chExt cx="7975440" cy="4200120"/>
          </a:xfrm>
        </p:grpSpPr>
        <p:sp>
          <p:nvSpPr>
            <p:cNvPr id="444" name=""/>
            <p:cNvSpPr/>
            <p:nvPr/>
          </p:nvSpPr>
          <p:spPr>
            <a:xfrm>
              <a:off x="254160" y="56642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2d2d4b"/>
                </a:gs>
              </a:gsLst>
              <a:lin ang="13500000"/>
            </a:gra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3400" y="5646600"/>
              <a:ext cx="1362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Upgrad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057400" y="2209320"/>
              <a:ext cx="6172200" cy="3962520"/>
              <a:chOff x="2057400" y="2209320"/>
              <a:chExt cx="6172200" cy="396252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2057400" y="2285640"/>
                <a:ext cx="838080" cy="34290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057400" y="2895480"/>
                <a:ext cx="838080" cy="28195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2057400" y="2361960"/>
                <a:ext cx="1905120" cy="33526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057400" y="2209320"/>
                <a:ext cx="3048120" cy="358164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057400" y="3429000"/>
                <a:ext cx="838080" cy="22096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2057400" y="2971800"/>
                <a:ext cx="1905120" cy="27432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057400" y="2743200"/>
                <a:ext cx="3124080" cy="31240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2057400" y="2437920"/>
                <a:ext cx="4191120" cy="35053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2057400" y="2209680"/>
                <a:ext cx="5181480" cy="365760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2057400" y="2209680"/>
                <a:ext cx="6172200" cy="37339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057400" y="2971440"/>
                <a:ext cx="5257800" cy="30481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057400" y="3047760"/>
                <a:ext cx="4191120" cy="281916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057400" y="2971800"/>
                <a:ext cx="6172200" cy="312408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057400" y="3580920"/>
                <a:ext cx="5181480" cy="259092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057400" y="3276720"/>
                <a:ext cx="3048120" cy="259056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9544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ent/Server Verteilungskost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QLJ Translat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60400" y="1814040"/>
            <a:ext cx="738504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prachkonstruk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nslator Werkze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3120" indent="-21312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0033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33"/>
                </a:solidFill>
                <a:latin typeface="Times New Roman"/>
              </a:rPr>
              <a:t>Vort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öheres Abstraktionsniveau als bei JD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 Überprüfung der statischen SQL- Anweisun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249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ark typisierte Iterato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797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: Höherer Abstraktionsgrad als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14400" y="1879560"/>
            <a:ext cx="762624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 unterstützt eine </a:t>
            </a:r>
            <a:r>
              <a:rPr b="1" i="1" lang="de-DE" sz="2800" spc="-1" strike="noStrike">
                <a:solidFill>
                  <a:srgbClr val="000000"/>
                </a:solidFill>
                <a:latin typeface="Garamond"/>
              </a:rPr>
              <a:t>default</a:t>
            </a: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 Verbind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JDBC-Anweisungsobjekte sind verbor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-Anweisungen können mehrere Zeilen umf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Bind-Variablen sind direkt in SQL-Operationen eingebet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Automatisches Behandlung von Null-Wer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23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: Prägnanter als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41440" y="1486080"/>
            <a:ext cx="7523280" cy="37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 n = 17950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insert into EMP values (:n)}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JDB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ement stmt =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onn.prepareStat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("insert into EMP values (?)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setInt (1, n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execut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0">
              <a:lnSpc>
                <a:spcPct val="75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mt.close 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27040" y="231480"/>
            <a:ext cx="694224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ühe Typen-Überprüfu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58480" y="1419120"/>
            <a:ext cx="746748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ate d = new Date (1993,3,11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// 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#sql {insert into EMP (sal) values (:d)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34920" y="2968560"/>
            <a:ext cx="72882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Translator überprüft die Typen der Java Variablen gegen SQL-Ty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751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Wirft einen </a:t>
            </a:r>
            <a:r>
              <a:rPr b="1" i="1" lang="de-DE" sz="2000" spc="-1" strike="noStrike">
                <a:solidFill>
                  <a:srgbClr val="000000"/>
                </a:solidFill>
                <a:latin typeface="Garamond"/>
              </a:rPr>
              <a:t>Type Mismatch Error</a:t>
            </a: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751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Garamond"/>
              </a:rPr>
              <a:t>Ein äquivalentes JDBC-Programm würde nur einen Laufzeitfehler verursac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1225"/>
              </a:spcBef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SQLJ-Programme si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79160" y="1080"/>
            <a:ext cx="78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Stark getypte Iterator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20400" y="1846080"/>
            <a:ext cx="69166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rk getypte Iteratoren bieten eine Typüberprüfung durch Ja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teratoren sind Java Objekt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ind deklarierbar, übergebar an Methoden und zurückgebar als Ergebnis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genüberstellung SQLJ und JDB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3040" y="1734840"/>
            <a:ext cx="3868920" cy="42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e Sprache für statisches 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ist ein reines Java-Programm welches JDBC zur Laufzeit nutz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-Programme sind für jede Datenbank anpassba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 setzt auf JDBC auf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+ statische Optimierung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95920" y="1743120"/>
            <a:ext cx="3603600" cy="34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 ist ein API für dynamisches SQ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-Treiber können mittels C, Java, … implementiert we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DBC-Treiber können Datenbank-spezifische Eigenschaften enthalt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69480" y="5218200"/>
            <a:ext cx="383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5852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4640" indent="-2246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63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7720" y="6202440"/>
            <a:ext cx="452520" cy="433440"/>
          </a:xfrm>
          <a:prstGeom prst="rightArrow">
            <a:avLst>
              <a:gd name="adj1" fmla="val 75009"/>
              <a:gd name="adj2" fmla="val 52205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17560" y="1553760"/>
            <a:ext cx="7385040" cy="40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21760" indent="-2217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eispielTemplate.sql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sqlj.runtime.*;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Use SQLJ run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sqlj.runtime.ref.*;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More SQLJ runtim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java.sql.*;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// Use JDBC to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rator declarations go here …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lass ExampleTemplate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 (String args []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3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5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hier SQLJ Code einfügen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160" indent="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J Beispie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66320" y="1310760"/>
            <a:ext cx="716292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1.sqlj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: Ausgabe der Namen und Gehälter aller Angestellte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bfrage die ENAME und SAL der Tabelle EMPLOYEE selektiert. ENAME wird als Java String und SAL als Java double geh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2.sqlj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haltserhöhung für alle Mitarbeiter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klaration eines Iterators um alle Namen und Gehälter der Mitarbeiter zu erhalt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600" indent="-2570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pdate des Gehalts jedes Mitarbeiters mittles Java Bind-Variabl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8880" indent="-2188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Example3.sqlj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wie Beispiel 1 nur mit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positional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terator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1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 rot="16200000">
            <a:off x="1370880" y="405720"/>
            <a:ext cx="5440320" cy="63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1 (String ENAME, double SAL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the employee nam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1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ename, sal from emp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order by ename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emps.next()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ENAME() + " earns " + emps.SAL()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close()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5880" y="3962520"/>
            <a:ext cx="0" cy="1066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nsparpotential durch Network Compu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6880" y="3962520"/>
            <a:ext cx="58676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200400" y="213372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200400" y="274320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200400" y="335268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805120" y="2562120"/>
            <a:ext cx="449280" cy="514440"/>
            <a:chOff x="2805120" y="2562120"/>
            <a:chExt cx="449280" cy="514440"/>
          </a:xfrm>
        </p:grpSpPr>
        <p:sp>
          <p:nvSpPr>
            <p:cNvPr id="471" name=""/>
            <p:cNvSpPr/>
            <p:nvPr/>
          </p:nvSpPr>
          <p:spPr>
            <a:xfrm flipH="1">
              <a:off x="2811240" y="2871720"/>
              <a:ext cx="442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813040" y="287496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813040" y="2882880"/>
              <a:ext cx="4752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0360" y="279576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0656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05120" y="270504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20960" y="26528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86200" y="259704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17720" y="2562120"/>
              <a:ext cx="39060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0996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805120" y="3171960"/>
            <a:ext cx="449280" cy="514080"/>
            <a:chOff x="2805120" y="3171960"/>
            <a:chExt cx="449280" cy="514080"/>
          </a:xfrm>
        </p:grpSpPr>
        <p:sp>
          <p:nvSpPr>
            <p:cNvPr id="482" name=""/>
            <p:cNvSpPr/>
            <p:nvPr/>
          </p:nvSpPr>
          <p:spPr>
            <a:xfrm flipH="1">
              <a:off x="2811240" y="3483000"/>
              <a:ext cx="442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13040" y="3484440"/>
              <a:ext cx="4752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813040" y="349416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0360" y="340524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0656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05120" y="331488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0960" y="326556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86200" y="320832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17720" y="3171960"/>
              <a:ext cx="39060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0996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06560" y="1949400"/>
            <a:ext cx="449280" cy="515880"/>
            <a:chOff x="2806560" y="1949400"/>
            <a:chExt cx="449280" cy="515880"/>
          </a:xfrm>
        </p:grpSpPr>
        <p:sp>
          <p:nvSpPr>
            <p:cNvPr id="493" name=""/>
            <p:cNvSpPr/>
            <p:nvPr/>
          </p:nvSpPr>
          <p:spPr>
            <a:xfrm flipH="1">
              <a:off x="2811240" y="2262240"/>
              <a:ext cx="442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813040" y="226548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813040" y="227340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71800" y="2182680"/>
              <a:ext cx="28404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0656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0656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0960" y="204480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8764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9520" y="1949400"/>
              <a:ext cx="39204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08160" y="2028960"/>
              <a:ext cx="18432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108240" y="165276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73360" y="1682640"/>
            <a:ext cx="189216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4120" y="274320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334120" y="3352680"/>
            <a:ext cx="38088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938840" y="2562120"/>
            <a:ext cx="449280" cy="514440"/>
            <a:chOff x="4938840" y="2562120"/>
            <a:chExt cx="449280" cy="514440"/>
          </a:xfrm>
        </p:grpSpPr>
        <p:sp>
          <p:nvSpPr>
            <p:cNvPr id="510" name=""/>
            <p:cNvSpPr/>
            <p:nvPr/>
          </p:nvSpPr>
          <p:spPr>
            <a:xfrm flipH="1">
              <a:off x="4944960" y="2871720"/>
              <a:ext cx="4464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946760" y="287496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946760" y="2882880"/>
              <a:ext cx="4752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3720" y="2795760"/>
              <a:ext cx="28440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028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38840" y="2705040"/>
              <a:ext cx="44748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4680" y="26528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19560" y="2597040"/>
              <a:ext cx="22248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51440" y="2562120"/>
              <a:ext cx="39060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4368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938840" y="3171960"/>
            <a:ext cx="449280" cy="514080"/>
            <a:chOff x="4938840" y="3171960"/>
            <a:chExt cx="449280" cy="514080"/>
          </a:xfrm>
        </p:grpSpPr>
        <p:sp>
          <p:nvSpPr>
            <p:cNvPr id="521" name=""/>
            <p:cNvSpPr/>
            <p:nvPr/>
          </p:nvSpPr>
          <p:spPr>
            <a:xfrm flipH="1">
              <a:off x="4944960" y="3483000"/>
              <a:ext cx="4464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946760" y="3484440"/>
              <a:ext cx="4752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946760" y="349416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3720" y="3405240"/>
              <a:ext cx="28440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028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38840" y="3314880"/>
              <a:ext cx="44748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54680" y="326556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19560" y="3208320"/>
              <a:ext cx="22248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1440" y="3171960"/>
              <a:ext cx="39060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368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40280" y="1949400"/>
            <a:ext cx="449280" cy="515880"/>
            <a:chOff x="4940280" y="1949400"/>
            <a:chExt cx="449280" cy="515880"/>
          </a:xfrm>
        </p:grpSpPr>
        <p:sp>
          <p:nvSpPr>
            <p:cNvPr id="532" name=""/>
            <p:cNvSpPr/>
            <p:nvPr/>
          </p:nvSpPr>
          <p:spPr>
            <a:xfrm flipH="1">
              <a:off x="4944960" y="2262240"/>
              <a:ext cx="4464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46760" y="2265480"/>
              <a:ext cx="4752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946760" y="2273400"/>
              <a:ext cx="4752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05520" y="2182680"/>
              <a:ext cx="28404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4028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4028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4680" y="204480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2136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2880" y="1949400"/>
              <a:ext cx="39240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1880" y="2028960"/>
              <a:ext cx="18432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241960" y="165276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7080" y="1682640"/>
            <a:ext cx="189216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48720" y="2133720"/>
            <a:ext cx="0" cy="18288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7467120" y="213372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467120" y="274320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7467120" y="3352680"/>
            <a:ext cx="38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072200" y="2562120"/>
            <a:ext cx="449280" cy="514440"/>
            <a:chOff x="7072200" y="2562120"/>
            <a:chExt cx="449280" cy="514440"/>
          </a:xfrm>
        </p:grpSpPr>
        <p:sp>
          <p:nvSpPr>
            <p:cNvPr id="549" name=""/>
            <p:cNvSpPr/>
            <p:nvPr/>
          </p:nvSpPr>
          <p:spPr>
            <a:xfrm flipH="1">
              <a:off x="7078320" y="2871720"/>
              <a:ext cx="442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079760" y="2874960"/>
              <a:ext cx="478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079760" y="2882880"/>
              <a:ext cx="47880" cy="1764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7440" y="279576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4000" y="28735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4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72200" y="270504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8040" y="265284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53280" y="259704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5160" y="2562120"/>
              <a:ext cx="390240" cy="15408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7040" y="2637000"/>
              <a:ext cx="182520" cy="26640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072200" y="3171960"/>
            <a:ext cx="449280" cy="514080"/>
            <a:chOff x="7072200" y="3171960"/>
            <a:chExt cx="449280" cy="514080"/>
          </a:xfrm>
        </p:grpSpPr>
        <p:sp>
          <p:nvSpPr>
            <p:cNvPr id="560" name=""/>
            <p:cNvSpPr/>
            <p:nvPr/>
          </p:nvSpPr>
          <p:spPr>
            <a:xfrm flipH="1">
              <a:off x="7078320" y="3483000"/>
              <a:ext cx="442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079760" y="3484440"/>
              <a:ext cx="47880" cy="208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079760" y="3494160"/>
              <a:ext cx="478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37440" y="3405240"/>
              <a:ext cx="284040" cy="280800"/>
            </a:xfrm>
            <a:custGeom>
              <a:avLst/>
              <a:gdLst/>
              <a:ahLst/>
              <a:rect l="l" t="t" r="r" b="b"/>
              <a:pathLst>
                <a:path w="179" h="177">
                  <a:moveTo>
                    <a:pt x="0" y="176"/>
                  </a:moveTo>
                  <a:lnTo>
                    <a:pt x="0" y="112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74000" y="3484440"/>
              <a:ext cx="166680" cy="19692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103" y="61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04" y="123"/>
                  </a:lnTo>
                  <a:lnTo>
                    <a:pt x="103" y="61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72200" y="3314880"/>
              <a:ext cx="447840" cy="271440"/>
            </a:xfrm>
            <a:custGeom>
              <a:avLst/>
              <a:gdLst/>
              <a:ahLst/>
              <a:rect l="l" t="t" r="r" b="b"/>
              <a:pathLst>
                <a:path w="282" h="171">
                  <a:moveTo>
                    <a:pt x="103" y="170"/>
                  </a:moveTo>
                  <a:lnTo>
                    <a:pt x="281" y="55"/>
                  </a:lnTo>
                  <a:lnTo>
                    <a:pt x="179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8040" y="326556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53280" y="3208320"/>
              <a:ext cx="2221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0" y="215"/>
                  </a:moveTo>
                  <a:lnTo>
                    <a:pt x="0" y="71"/>
                  </a:lnTo>
                  <a:lnTo>
                    <a:pt x="138" y="0"/>
                  </a:lnTo>
                  <a:lnTo>
                    <a:pt x="139" y="124"/>
                  </a:lnTo>
                  <a:lnTo>
                    <a:pt x="0" y="21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85160" y="3171960"/>
              <a:ext cx="390240" cy="153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107" y="96"/>
                  </a:moveTo>
                  <a:lnTo>
                    <a:pt x="245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7040" y="324792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67"/>
                  </a:moveTo>
                  <a:lnTo>
                    <a:pt x="0" y="55"/>
                  </a:lnTo>
                  <a:lnTo>
                    <a:pt x="114" y="0"/>
                  </a:lnTo>
                  <a:lnTo>
                    <a:pt x="114" y="87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074000" y="1949400"/>
            <a:ext cx="449280" cy="515880"/>
            <a:chOff x="7074000" y="1949400"/>
            <a:chExt cx="449280" cy="515880"/>
          </a:xfrm>
        </p:grpSpPr>
        <p:sp>
          <p:nvSpPr>
            <p:cNvPr id="571" name=""/>
            <p:cNvSpPr/>
            <p:nvPr/>
          </p:nvSpPr>
          <p:spPr>
            <a:xfrm flipH="1">
              <a:off x="7078320" y="2262240"/>
              <a:ext cx="442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079760" y="2265480"/>
              <a:ext cx="47880" cy="172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079760" y="2273400"/>
              <a:ext cx="47880" cy="19080"/>
            </a:xfrm>
            <a:prstGeom prst="line">
              <a:avLst/>
            </a:prstGeom>
            <a:ln w="12600">
              <a:solidFill>
                <a:srgbClr val="ffd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38880" y="2182680"/>
              <a:ext cx="284400" cy="28260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7"/>
                  </a:moveTo>
                  <a:lnTo>
                    <a:pt x="0" y="113"/>
                  </a:lnTo>
                  <a:lnTo>
                    <a:pt x="178" y="0"/>
                  </a:lnTo>
                  <a:lnTo>
                    <a:pt x="178" y="53"/>
                  </a:lnTo>
                  <a:lnTo>
                    <a:pt x="0" y="177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74000" y="2268360"/>
              <a:ext cx="166680" cy="19548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103" y="6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4" y="122"/>
                  </a:lnTo>
                  <a:lnTo>
                    <a:pt x="103" y="6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74000" y="2097000"/>
              <a:ext cx="449280" cy="271440"/>
            </a:xfrm>
            <a:custGeom>
              <a:avLst/>
              <a:gdLst/>
              <a:ahLst/>
              <a:rect l="l" t="t" r="r" b="b"/>
              <a:pathLst>
                <a:path w="283" h="171">
                  <a:moveTo>
                    <a:pt x="103" y="170"/>
                  </a:moveTo>
                  <a:lnTo>
                    <a:pt x="282" y="55"/>
                  </a:lnTo>
                  <a:lnTo>
                    <a:pt x="180" y="0"/>
                  </a:lnTo>
                  <a:lnTo>
                    <a:pt x="0" y="107"/>
                  </a:lnTo>
                  <a:lnTo>
                    <a:pt x="103" y="17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8040" y="2044800"/>
              <a:ext cx="17964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35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03" y="180"/>
                  </a:lnTo>
                  <a:lnTo>
                    <a:pt x="112" y="35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54720" y="198900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0" y="216"/>
                  </a:moveTo>
                  <a:lnTo>
                    <a:pt x="0" y="72"/>
                  </a:lnTo>
                  <a:lnTo>
                    <a:pt x="139" y="0"/>
                  </a:lnTo>
                  <a:lnTo>
                    <a:pt x="140" y="124"/>
                  </a:lnTo>
                  <a:lnTo>
                    <a:pt x="0" y="21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1949400"/>
              <a:ext cx="392040" cy="154080"/>
            </a:xfrm>
            <a:custGeom>
              <a:avLst/>
              <a:gdLst/>
              <a:ahLst/>
              <a:rect l="l" t="t" r="r" b="b"/>
              <a:pathLst>
                <a:path w="247" h="97">
                  <a:moveTo>
                    <a:pt x="107" y="96"/>
                  </a:moveTo>
                  <a:lnTo>
                    <a:pt x="246" y="23"/>
                  </a:lnTo>
                  <a:lnTo>
                    <a:pt x="135" y="0"/>
                  </a:lnTo>
                  <a:lnTo>
                    <a:pt x="0" y="60"/>
                  </a:lnTo>
                  <a:lnTo>
                    <a:pt x="107" y="96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3434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75600" y="2028960"/>
              <a:ext cx="183960" cy="26820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0" y="168"/>
                  </a:moveTo>
                  <a:lnTo>
                    <a:pt x="0" y="56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0" y="168"/>
                  </a:lnTo>
                </a:path>
              </a:pathLst>
            </a:custGeom>
            <a:gradFill rotWithShape="0">
              <a:gsLst>
                <a:gs pos="0">
                  <a:srgbClr val="316daf"/>
                </a:gs>
                <a:gs pos="100000">
                  <a:srgbClr val="132b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232760" y="166680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derlas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0440" y="1682640"/>
            <a:ext cx="1892520" cy="2121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808600" y="4908600"/>
            <a:ext cx="789120" cy="865080"/>
            <a:chOff x="5808600" y="4908600"/>
            <a:chExt cx="789120" cy="865080"/>
          </a:xfrm>
        </p:grpSpPr>
        <p:sp>
          <p:nvSpPr>
            <p:cNvPr id="584" name=""/>
            <p:cNvSpPr/>
            <p:nvPr/>
          </p:nvSpPr>
          <p:spPr>
            <a:xfrm>
              <a:off x="5808600" y="4908600"/>
              <a:ext cx="728640" cy="58680"/>
            </a:xfrm>
            <a:custGeom>
              <a:avLst/>
              <a:gdLst/>
              <a:ahLst/>
              <a:rect l="l" t="t" r="r" b="b"/>
              <a:pathLst>
                <a:path w="459" h="37">
                  <a:moveTo>
                    <a:pt x="145" y="36"/>
                  </a:moveTo>
                  <a:lnTo>
                    <a:pt x="458" y="32"/>
                  </a:lnTo>
                  <a:lnTo>
                    <a:pt x="243" y="0"/>
                  </a:lnTo>
                  <a:lnTo>
                    <a:pt x="0" y="0"/>
                  </a:lnTo>
                  <a:lnTo>
                    <a:pt x="145" y="36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e0e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37200" y="4960800"/>
              <a:ext cx="531720" cy="27000"/>
            </a:xfrm>
            <a:custGeom>
              <a:avLst/>
              <a:gdLst/>
              <a:ahLst/>
              <a:rect l="l" t="t" r="r" b="b"/>
              <a:pathLst>
                <a:path w="335" h="17">
                  <a:moveTo>
                    <a:pt x="0" y="0"/>
                  </a:moveTo>
                  <a:lnTo>
                    <a:pt x="17" y="16"/>
                  </a:lnTo>
                  <a:lnTo>
                    <a:pt x="334" y="16"/>
                  </a:lnTo>
                  <a:lnTo>
                    <a:pt x="315" y="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08600" y="4908600"/>
              <a:ext cx="301680" cy="865080"/>
            </a:xfrm>
            <a:custGeom>
              <a:avLst/>
              <a:gdLst/>
              <a:ahLst/>
              <a:rect l="l" t="t" r="r" b="b"/>
              <a:pathLst>
                <a:path w="190" h="545">
                  <a:moveTo>
                    <a:pt x="0" y="0"/>
                  </a:moveTo>
                  <a:lnTo>
                    <a:pt x="145" y="33"/>
                  </a:lnTo>
                  <a:lnTo>
                    <a:pt x="170" y="47"/>
                  </a:lnTo>
                  <a:lnTo>
                    <a:pt x="189" y="200"/>
                  </a:lnTo>
                  <a:lnTo>
                    <a:pt x="164" y="231"/>
                  </a:lnTo>
                  <a:lnTo>
                    <a:pt x="161" y="544"/>
                  </a:ln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64200" y="5261040"/>
              <a:ext cx="493920" cy="512640"/>
            </a:xfrm>
            <a:custGeom>
              <a:avLst/>
              <a:gdLst/>
              <a:ahLst/>
              <a:rect l="l" t="t" r="r" b="b"/>
              <a:pathLst>
                <a:path w="311" h="323">
                  <a:moveTo>
                    <a:pt x="0" y="0"/>
                  </a:moveTo>
                  <a:lnTo>
                    <a:pt x="0" y="322"/>
                  </a:lnTo>
                  <a:lnTo>
                    <a:pt x="310" y="322"/>
                  </a:lnTo>
                  <a:lnTo>
                    <a:pt x="31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0680" y="4978440"/>
              <a:ext cx="527040" cy="255600"/>
            </a:xfrm>
            <a:custGeom>
              <a:avLst/>
              <a:gdLst/>
              <a:ahLst/>
              <a:rect l="l" t="t" r="r" b="b"/>
              <a:pathLst>
                <a:path w="332" h="161">
                  <a:moveTo>
                    <a:pt x="0" y="0"/>
                  </a:moveTo>
                  <a:lnTo>
                    <a:pt x="315" y="0"/>
                  </a:lnTo>
                  <a:lnTo>
                    <a:pt x="331" y="160"/>
                  </a:lnTo>
                  <a:lnTo>
                    <a:pt x="13" y="16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66000" y="5232240"/>
              <a:ext cx="531720" cy="30240"/>
            </a:xfrm>
            <a:custGeom>
              <a:avLst/>
              <a:gdLst/>
              <a:ahLst/>
              <a:rect l="l" t="t" r="r" b="b"/>
              <a:pathLst>
                <a:path w="335" h="19">
                  <a:moveTo>
                    <a:pt x="0" y="18"/>
                  </a:moveTo>
                  <a:lnTo>
                    <a:pt x="306" y="18"/>
                  </a:lnTo>
                  <a:lnTo>
                    <a:pt x="334" y="0"/>
                  </a:lnTo>
                  <a:lnTo>
                    <a:pt x="15" y="0"/>
                  </a:lnTo>
                  <a:lnTo>
                    <a:pt x="0" y="1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7860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8"/>
                  </a:lnTo>
                  <a:lnTo>
                    <a:pt x="10" y="187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97680" y="4965840"/>
              <a:ext cx="48960" cy="807840"/>
            </a:xfrm>
            <a:custGeom>
              <a:avLst/>
              <a:gdLst/>
              <a:ahLst/>
              <a:rect l="l" t="t" r="r" b="b"/>
              <a:pathLst>
                <a:path w="31" h="509">
                  <a:moveTo>
                    <a:pt x="0" y="0"/>
                  </a:moveTo>
                  <a:lnTo>
                    <a:pt x="14" y="9"/>
                  </a:lnTo>
                  <a:lnTo>
                    <a:pt x="30" y="168"/>
                  </a:lnTo>
                  <a:lnTo>
                    <a:pt x="14" y="186"/>
                  </a:lnTo>
                  <a:lnTo>
                    <a:pt x="14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2600" y="4965840"/>
              <a:ext cx="41040" cy="804600"/>
            </a:xfrm>
            <a:custGeom>
              <a:avLst/>
              <a:gdLst/>
              <a:ahLst/>
              <a:rect l="l" t="t" r="r" b="b"/>
              <a:pathLst>
                <a:path w="26" h="507">
                  <a:moveTo>
                    <a:pt x="0" y="0"/>
                  </a:moveTo>
                  <a:lnTo>
                    <a:pt x="9" y="10"/>
                  </a:lnTo>
                  <a:lnTo>
                    <a:pt x="25" y="169"/>
                  </a:lnTo>
                  <a:lnTo>
                    <a:pt x="9" y="186"/>
                  </a:lnTo>
                  <a:lnTo>
                    <a:pt x="9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5636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80120" y="4965840"/>
              <a:ext cx="42840" cy="804600"/>
            </a:xfrm>
            <a:custGeom>
              <a:avLst/>
              <a:gdLst/>
              <a:ahLst/>
              <a:rect l="l" t="t" r="r" b="b"/>
              <a:pathLst>
                <a:path w="27" h="507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24760" y="5335560"/>
              <a:ext cx="298440" cy="3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24760" y="5413320"/>
              <a:ext cx="298440" cy="65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24760" y="5494320"/>
              <a:ext cx="298440" cy="60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24760" y="5572080"/>
              <a:ext cx="298440" cy="63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9040" y="5423040"/>
              <a:ext cx="204840" cy="4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69040" y="5502240"/>
              <a:ext cx="204840" cy="44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18440" y="5342040"/>
              <a:ext cx="2664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6" y="23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24760" y="5335560"/>
              <a:ext cx="298440" cy="619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69120" y="5342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7" y="16"/>
                  </a:lnTo>
                  <a:lnTo>
                    <a:pt x="32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69120" y="537048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4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240" y="534996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1" y="16"/>
                  </a:lnTo>
                  <a:lnTo>
                    <a:pt x="4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02320" y="53499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38960" y="5380200"/>
              <a:ext cx="15840" cy="12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40600" y="5362560"/>
              <a:ext cx="272880" cy="27000"/>
            </a:xfrm>
            <a:custGeom>
              <a:avLst/>
              <a:gdLst/>
              <a:ahLst/>
              <a:rect l="l" t="t" r="r" b="b"/>
              <a:pathLst>
                <a:path w="172" h="17">
                  <a:moveTo>
                    <a:pt x="0" y="16"/>
                  </a:moveTo>
                  <a:lnTo>
                    <a:pt x="171" y="16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86680" y="5435640"/>
              <a:ext cx="177480" cy="27000"/>
            </a:xfrm>
            <a:custGeom>
              <a:avLst/>
              <a:gdLst/>
              <a:ahLst/>
              <a:rect l="l" t="t" r="r" b="b"/>
              <a:pathLst>
                <a:path w="112" h="17">
                  <a:moveTo>
                    <a:pt x="0" y="16"/>
                  </a:moveTo>
                  <a:lnTo>
                    <a:pt x="111" y="16"/>
                  </a:lnTo>
                  <a:lnTo>
                    <a:pt x="11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38880" y="545292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14960" y="501480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2" y="0"/>
                  </a:moveTo>
                  <a:lnTo>
                    <a:pt x="0" y="0"/>
                  </a:lnTo>
                  <a:lnTo>
                    <a:pt x="1" y="40"/>
                  </a:lnTo>
                  <a:lnTo>
                    <a:pt x="46" y="4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21440" y="5119560"/>
              <a:ext cx="77760" cy="637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5" y="0"/>
                  </a:moveTo>
                  <a:lnTo>
                    <a:pt x="0" y="0"/>
                  </a:lnTo>
                  <a:lnTo>
                    <a:pt x="1" y="39"/>
                  </a:lnTo>
                  <a:lnTo>
                    <a:pt x="48" y="39"/>
                  </a:lnTo>
                  <a:lnTo>
                    <a:pt x="4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34120" y="5113440"/>
              <a:ext cx="309600" cy="759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0"/>
                  </a:moveTo>
                  <a:lnTo>
                    <a:pt x="7" y="47"/>
                  </a:lnTo>
                  <a:lnTo>
                    <a:pt x="194" y="47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97480" y="51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97480" y="515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73800" y="51418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56440" y="5141880"/>
              <a:ext cx="27000" cy="255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522600" y="4908600"/>
            <a:ext cx="789120" cy="865080"/>
            <a:chOff x="3522600" y="4908600"/>
            <a:chExt cx="789120" cy="865080"/>
          </a:xfrm>
        </p:grpSpPr>
        <p:sp>
          <p:nvSpPr>
            <p:cNvPr id="619" name=""/>
            <p:cNvSpPr/>
            <p:nvPr/>
          </p:nvSpPr>
          <p:spPr>
            <a:xfrm>
              <a:off x="3522600" y="4908600"/>
              <a:ext cx="728640" cy="58680"/>
            </a:xfrm>
            <a:custGeom>
              <a:avLst/>
              <a:gdLst/>
              <a:ahLst/>
              <a:rect l="l" t="t" r="r" b="b"/>
              <a:pathLst>
                <a:path w="459" h="37">
                  <a:moveTo>
                    <a:pt x="145" y="36"/>
                  </a:moveTo>
                  <a:lnTo>
                    <a:pt x="458" y="32"/>
                  </a:lnTo>
                  <a:lnTo>
                    <a:pt x="243" y="0"/>
                  </a:lnTo>
                  <a:lnTo>
                    <a:pt x="0" y="0"/>
                  </a:lnTo>
                  <a:lnTo>
                    <a:pt x="145" y="36"/>
                  </a:lnTo>
                </a:path>
              </a:pathLst>
            </a:custGeom>
            <a:gradFill rotWithShape="0">
              <a:gsLst>
                <a:gs pos="0">
                  <a:srgbClr val="424242"/>
                </a:gs>
                <a:gs pos="100000">
                  <a:srgbClr val="e0e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1200" y="4960800"/>
              <a:ext cx="531720" cy="27000"/>
            </a:xfrm>
            <a:custGeom>
              <a:avLst/>
              <a:gdLst/>
              <a:ahLst/>
              <a:rect l="l" t="t" r="r" b="b"/>
              <a:pathLst>
                <a:path w="335" h="17">
                  <a:moveTo>
                    <a:pt x="0" y="0"/>
                  </a:moveTo>
                  <a:lnTo>
                    <a:pt x="17" y="16"/>
                  </a:lnTo>
                  <a:lnTo>
                    <a:pt x="334" y="16"/>
                  </a:lnTo>
                  <a:lnTo>
                    <a:pt x="315" y="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22600" y="4908600"/>
              <a:ext cx="301680" cy="865080"/>
            </a:xfrm>
            <a:custGeom>
              <a:avLst/>
              <a:gdLst/>
              <a:ahLst/>
              <a:rect l="l" t="t" r="r" b="b"/>
              <a:pathLst>
                <a:path w="190" h="545">
                  <a:moveTo>
                    <a:pt x="0" y="0"/>
                  </a:moveTo>
                  <a:lnTo>
                    <a:pt x="145" y="33"/>
                  </a:lnTo>
                  <a:lnTo>
                    <a:pt x="170" y="47"/>
                  </a:lnTo>
                  <a:lnTo>
                    <a:pt x="189" y="200"/>
                  </a:lnTo>
                  <a:lnTo>
                    <a:pt x="164" y="231"/>
                  </a:lnTo>
                  <a:lnTo>
                    <a:pt x="161" y="544"/>
                  </a:ln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78200" y="5261040"/>
              <a:ext cx="493920" cy="512640"/>
            </a:xfrm>
            <a:custGeom>
              <a:avLst/>
              <a:gdLst/>
              <a:ahLst/>
              <a:rect l="l" t="t" r="r" b="b"/>
              <a:pathLst>
                <a:path w="311" h="323">
                  <a:moveTo>
                    <a:pt x="0" y="0"/>
                  </a:moveTo>
                  <a:lnTo>
                    <a:pt x="0" y="322"/>
                  </a:lnTo>
                  <a:lnTo>
                    <a:pt x="310" y="322"/>
                  </a:lnTo>
                  <a:lnTo>
                    <a:pt x="31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4680" y="4978440"/>
              <a:ext cx="527040" cy="255600"/>
            </a:xfrm>
            <a:custGeom>
              <a:avLst/>
              <a:gdLst/>
              <a:ahLst/>
              <a:rect l="l" t="t" r="r" b="b"/>
              <a:pathLst>
                <a:path w="332" h="161">
                  <a:moveTo>
                    <a:pt x="0" y="0"/>
                  </a:moveTo>
                  <a:lnTo>
                    <a:pt x="315" y="0"/>
                  </a:lnTo>
                  <a:lnTo>
                    <a:pt x="331" y="160"/>
                  </a:lnTo>
                  <a:lnTo>
                    <a:pt x="13" y="16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0000" y="5232240"/>
              <a:ext cx="531720" cy="30240"/>
            </a:xfrm>
            <a:custGeom>
              <a:avLst/>
              <a:gdLst/>
              <a:ahLst/>
              <a:rect l="l" t="t" r="r" b="b"/>
              <a:pathLst>
                <a:path w="335" h="19">
                  <a:moveTo>
                    <a:pt x="0" y="18"/>
                  </a:moveTo>
                  <a:lnTo>
                    <a:pt x="306" y="18"/>
                  </a:lnTo>
                  <a:lnTo>
                    <a:pt x="334" y="0"/>
                  </a:lnTo>
                  <a:lnTo>
                    <a:pt x="15" y="0"/>
                  </a:lnTo>
                  <a:lnTo>
                    <a:pt x="0" y="18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260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8"/>
                  </a:lnTo>
                  <a:lnTo>
                    <a:pt x="10" y="187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1680" y="4965840"/>
              <a:ext cx="48960" cy="807840"/>
            </a:xfrm>
            <a:custGeom>
              <a:avLst/>
              <a:gdLst/>
              <a:ahLst/>
              <a:rect l="l" t="t" r="r" b="b"/>
              <a:pathLst>
                <a:path w="31" h="509">
                  <a:moveTo>
                    <a:pt x="0" y="0"/>
                  </a:moveTo>
                  <a:lnTo>
                    <a:pt x="14" y="9"/>
                  </a:lnTo>
                  <a:lnTo>
                    <a:pt x="30" y="168"/>
                  </a:lnTo>
                  <a:lnTo>
                    <a:pt x="14" y="186"/>
                  </a:lnTo>
                  <a:lnTo>
                    <a:pt x="14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46600" y="4965840"/>
              <a:ext cx="41040" cy="804600"/>
            </a:xfrm>
            <a:custGeom>
              <a:avLst/>
              <a:gdLst/>
              <a:ahLst/>
              <a:rect l="l" t="t" r="r" b="b"/>
              <a:pathLst>
                <a:path w="26" h="507">
                  <a:moveTo>
                    <a:pt x="0" y="0"/>
                  </a:moveTo>
                  <a:lnTo>
                    <a:pt x="9" y="10"/>
                  </a:lnTo>
                  <a:lnTo>
                    <a:pt x="25" y="169"/>
                  </a:lnTo>
                  <a:lnTo>
                    <a:pt x="9" y="186"/>
                  </a:lnTo>
                  <a:lnTo>
                    <a:pt x="9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0360" y="4965840"/>
              <a:ext cx="42840" cy="807840"/>
            </a:xfrm>
            <a:custGeom>
              <a:avLst/>
              <a:gdLst/>
              <a:ahLst/>
              <a:rect l="l" t="t" r="r" b="b"/>
              <a:pathLst>
                <a:path w="27" h="509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8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94120" y="4965840"/>
              <a:ext cx="42840" cy="804600"/>
            </a:xfrm>
            <a:custGeom>
              <a:avLst/>
              <a:gdLst/>
              <a:ahLst/>
              <a:rect l="l" t="t" r="r" b="b"/>
              <a:pathLst>
                <a:path w="27" h="507">
                  <a:moveTo>
                    <a:pt x="0" y="0"/>
                  </a:moveTo>
                  <a:lnTo>
                    <a:pt x="10" y="6"/>
                  </a:lnTo>
                  <a:lnTo>
                    <a:pt x="26" y="167"/>
                  </a:lnTo>
                  <a:lnTo>
                    <a:pt x="10" y="185"/>
                  </a:lnTo>
                  <a:lnTo>
                    <a:pt x="10" y="506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38760" y="5335560"/>
              <a:ext cx="298440" cy="3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38760" y="5413320"/>
              <a:ext cx="298440" cy="65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38760" y="5494320"/>
              <a:ext cx="298440" cy="60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38760" y="5572080"/>
              <a:ext cx="298440" cy="63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83040" y="5423040"/>
              <a:ext cx="204840" cy="4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83040" y="5502240"/>
              <a:ext cx="204840" cy="44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32440" y="5342040"/>
              <a:ext cx="2664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0"/>
                  </a:moveTo>
                  <a:lnTo>
                    <a:pt x="16" y="23"/>
                  </a:ln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38760" y="5335560"/>
              <a:ext cx="298440" cy="619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83120" y="5342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7" y="16"/>
                  </a:lnTo>
                  <a:lnTo>
                    <a:pt x="32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3120" y="5370480"/>
              <a:ext cx="135000" cy="27000"/>
            </a:xfrm>
            <a:custGeom>
              <a:avLst/>
              <a:gdLst/>
              <a:ahLst/>
              <a:rect l="l" t="t" r="r" b="b"/>
              <a:pathLst>
                <a:path w="85" h="17">
                  <a:moveTo>
                    <a:pt x="84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4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43240" y="5349960"/>
              <a:ext cx="7488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4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1" y="16"/>
                  </a:lnTo>
                  <a:lnTo>
                    <a:pt x="46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16320" y="534996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52960" y="5380200"/>
              <a:ext cx="15840" cy="12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4600" y="5362560"/>
              <a:ext cx="272880" cy="27000"/>
            </a:xfrm>
            <a:custGeom>
              <a:avLst/>
              <a:gdLst/>
              <a:ahLst/>
              <a:rect l="l" t="t" r="r" b="b"/>
              <a:pathLst>
                <a:path w="172" h="17">
                  <a:moveTo>
                    <a:pt x="0" y="16"/>
                  </a:moveTo>
                  <a:lnTo>
                    <a:pt x="171" y="16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00680" y="5435640"/>
              <a:ext cx="177480" cy="27000"/>
            </a:xfrm>
            <a:custGeom>
              <a:avLst/>
              <a:gdLst/>
              <a:ahLst/>
              <a:rect l="l" t="t" r="r" b="b"/>
              <a:pathLst>
                <a:path w="112" h="17">
                  <a:moveTo>
                    <a:pt x="0" y="16"/>
                  </a:moveTo>
                  <a:lnTo>
                    <a:pt x="111" y="16"/>
                  </a:lnTo>
                  <a:lnTo>
                    <a:pt x="111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52880" y="5452920"/>
              <a:ext cx="8244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16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51" y="16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28960" y="5014800"/>
              <a:ext cx="74880" cy="651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2" y="0"/>
                  </a:moveTo>
                  <a:lnTo>
                    <a:pt x="0" y="0"/>
                  </a:lnTo>
                  <a:lnTo>
                    <a:pt x="1" y="40"/>
                  </a:lnTo>
                  <a:lnTo>
                    <a:pt x="46" y="4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35440" y="5119560"/>
              <a:ext cx="77760" cy="637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5" y="0"/>
                  </a:moveTo>
                  <a:lnTo>
                    <a:pt x="0" y="0"/>
                  </a:lnTo>
                  <a:lnTo>
                    <a:pt x="1" y="39"/>
                  </a:lnTo>
                  <a:lnTo>
                    <a:pt x="48" y="39"/>
                  </a:lnTo>
                  <a:lnTo>
                    <a:pt x="4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48120" y="5113440"/>
              <a:ext cx="309600" cy="759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0"/>
                  </a:moveTo>
                  <a:lnTo>
                    <a:pt x="7" y="47"/>
                  </a:lnTo>
                  <a:lnTo>
                    <a:pt x="194" y="47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11480" y="51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11480" y="515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87800" y="51418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70440" y="5141880"/>
              <a:ext cx="27000" cy="255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132720" y="5821200"/>
            <a:ext cx="186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5760" y="5821200"/>
            <a:ext cx="157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bank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6200" y="3962520"/>
            <a:ext cx="0" cy="10666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12040" y="3835440"/>
            <a:ext cx="5807880" cy="1193760"/>
            <a:chOff x="212040" y="3835440"/>
            <a:chExt cx="5807880" cy="1193760"/>
          </a:xfrm>
        </p:grpSpPr>
        <p:sp>
          <p:nvSpPr>
            <p:cNvPr id="657" name=""/>
            <p:cNvSpPr/>
            <p:nvPr/>
          </p:nvSpPr>
          <p:spPr>
            <a:xfrm>
              <a:off x="254160" y="38354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3c00"/>
                </a:gs>
              </a:gsLst>
              <a:lin ang="13500000"/>
            </a:gradFill>
            <a:ln w="507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2040" y="3894120"/>
              <a:ext cx="1582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Backu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57400" y="4191120"/>
              <a:ext cx="3962520" cy="838080"/>
            </a:xfrm>
            <a:prstGeom prst="line">
              <a:avLst/>
            </a:prstGeom>
            <a:ln w="507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054240" y="4502160"/>
            <a:ext cx="4102200" cy="212076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94600" y="6256440"/>
            <a:ext cx="1751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5920" y="1760400"/>
            <a:ext cx="1828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 oder NC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4732200"/>
            <a:ext cx="5791320" cy="728640"/>
            <a:chOff x="228600" y="4732200"/>
            <a:chExt cx="5791320" cy="728640"/>
          </a:xfrm>
        </p:grpSpPr>
        <p:sp>
          <p:nvSpPr>
            <p:cNvPr id="664" name=""/>
            <p:cNvSpPr/>
            <p:nvPr/>
          </p:nvSpPr>
          <p:spPr>
            <a:xfrm>
              <a:off x="254160" y="47498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55100"/>
                </a:gs>
              </a:gsLst>
              <a:lin ang="13500000"/>
            </a:gradFill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4732200"/>
              <a:ext cx="1905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ue Anwendun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57400" y="4952880"/>
              <a:ext cx="1752480" cy="15264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57400" y="5181480"/>
              <a:ext cx="3962520" cy="7632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4160" y="5486400"/>
            <a:ext cx="5765760" cy="923040"/>
            <a:chOff x="254160" y="5486400"/>
            <a:chExt cx="5765760" cy="923040"/>
          </a:xfrm>
        </p:grpSpPr>
        <p:sp>
          <p:nvSpPr>
            <p:cNvPr id="669" name=""/>
            <p:cNvSpPr/>
            <p:nvPr/>
          </p:nvSpPr>
          <p:spPr>
            <a:xfrm>
              <a:off x="254160" y="5664240"/>
              <a:ext cx="1777680" cy="71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2d2d4b"/>
                </a:gs>
              </a:gsLst>
              <a:lin ang="13500000"/>
            </a:gra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560" y="5646600"/>
              <a:ext cx="1362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Upgrad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057400" y="5486400"/>
              <a:ext cx="1752480" cy="38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2057400" y="5486400"/>
              <a:ext cx="3962520" cy="533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 rot="16200000">
            <a:off x="1368000" y="158760"/>
            <a:ext cx="5373720" cy="71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2 (float pay, String who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employee names and salari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2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sal as "pay", ename as "who"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rom emp order by enam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Give each employee a 20% rai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emps.next()) 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loat pay = emps.pay(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tring who = emps.who(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{ update emp set sal = 1.2 * :pay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ere ename = :who 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ispiel 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 rot="16200000">
            <a:off x="992520" y="-284760"/>
            <a:ext cx="6121440" cy="71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java.sql.*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*;    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mport sqlj.runtime.ref.*; // SQLJ runtim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iterator EmpIter3 (String, double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class Example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ublic static void main (String args[])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hrows SQLExceptio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ry { // Connect to the database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lass.forName("oracle.jdbc.driver.OracleDriver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efaultContext.setDefaultContext( new DefaultContext (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jdbc:oracle:thin:@oudelsrv-1:5521:orcl", // ur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scott",     // us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"tiger" ));  // password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catch (Exception 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"Error connecting to database."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// Query the employee nam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Iter3 emps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emps = { select ename, sal from emp order by ename }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tring ename = null;  double sal = 0.0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#sql {FETCH :emps INTO :ename, :sal}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f (emps.endFetch()) break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System.out.println(ename + " earns " + sal)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mps.close()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8720" y="21960"/>
            <a:ext cx="854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itere Informationen über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4360" y="2054160"/>
            <a:ext cx="8290080" cy="29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eier Download von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http://www.oracle.com/produkte/free_software/#sqlj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04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mentare an 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qljsup@us.oracle.co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va Unternehmens-Strategi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62040" y="1660320"/>
            <a:ext cx="777240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198360" indent="-1983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als die Sprache für Enterprise Network Comput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400" indent="-232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9688"/>
                </a:solidFill>
                <a:latin typeface="Times New Roman"/>
              </a:rPr>
              <a:t>ENTERPRISE CLASS JAVA SERVER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Platt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frastruktur für serverbasierte Java-Anwendung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JDBC-Treiber, Embedded SQL in Java: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3640" indent="-27612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nterprise JavaBeans, CORB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400" indent="-232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mponentenbasierte Java-Entwicklungswerkzeuge welche diese Plattform ausnutzen und unterstütz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93F-F652-4B3C-8AD5-1062338751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66600" y="295200"/>
            <a:ext cx="7299000" cy="8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45880" y="1508040"/>
            <a:ext cx="560556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Java im Unternehm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Jav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mbedded SQL in Java: SQL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leitu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teilungskonfigur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912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2280" y="3817800"/>
            <a:ext cx="452160" cy="433440"/>
          </a:xfrm>
          <a:prstGeom prst="rightArrow">
            <a:avLst>
              <a:gd name="adj1" fmla="val 75009"/>
              <a:gd name="adj2" fmla="val 52164"/>
            </a:avLst>
          </a:prstGeom>
          <a:solidFill>
            <a:srgbClr val="9999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Embedded SQL in Java: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95240" y="1474560"/>
            <a:ext cx="7445520" cy="37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ermöglicht Anwendungsentwickler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inbettung von SQL-Anweisungen in Java-Programm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äprozessor zur Übersetzung von SQLJ in Java-Code mit JDBC-Aufruf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Laufzeitumgebung: Nutzung von JDBC-Treibern beliebiger Herste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QLJ verbessert die Entwicklungsproduktivitä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esentlich kompakterer Code als mit JDB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ypüberprüfung von SQL-Anweisungen zur Kompilierungszei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040" indent="-29448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ffd152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artbare und einfacher zu schreibende Java-Program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mente von SQLJ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831680"/>
            <a:ext cx="8035920" cy="39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ndardisierter Sprachsynta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meinsame Spezifikation verschiedener Herstell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QLJ Transla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d15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rei verfügbare Referenz-Implementieru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Andrea Carlevaro</cp:lastModifiedBy>
  <cp:lastPrinted>1998-11-23T12:40:02Z</cp:lastPrinted>
  <dcterms:modified xsi:type="dcterms:W3CDTF">1998-11-23T12:41:52Z</dcterms:modified>
  <cp:revision>141</cp:revision>
  <dc:subject/>
  <dc:title>&lt;Lesson Title&gt;</dc:title>
</cp:coreProperties>
</file>