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907588" cy="6858000"/>
  <p:notesSz cx="66421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283320"/>
            <a:ext cx="9448920" cy="7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28240" y="4008960"/>
            <a:ext cx="94489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283320"/>
            <a:ext cx="9448920" cy="7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610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9880" y="1143000"/>
            <a:ext cx="4610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240" y="4008960"/>
            <a:ext cx="4610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69880" y="4008960"/>
            <a:ext cx="4610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240" y="283320"/>
            <a:ext cx="9448920" cy="7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3042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23240" y="1143000"/>
            <a:ext cx="3042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617880" y="1143000"/>
            <a:ext cx="3042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28240" y="4008960"/>
            <a:ext cx="3042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23240" y="4008960"/>
            <a:ext cx="3042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617880" y="4008960"/>
            <a:ext cx="3042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28240" y="283320"/>
            <a:ext cx="9448920" cy="7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240" y="283320"/>
            <a:ext cx="9448920" cy="7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283320"/>
            <a:ext cx="9448920" cy="7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6108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69880" y="1143000"/>
            <a:ext cx="46108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283320"/>
            <a:ext cx="9448920" cy="7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28240" y="380880"/>
            <a:ext cx="9448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283320"/>
            <a:ext cx="9448920" cy="7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610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9880" y="1143000"/>
            <a:ext cx="46108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228240" y="4008960"/>
            <a:ext cx="4610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283320"/>
            <a:ext cx="9448920" cy="7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6108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9880" y="1143000"/>
            <a:ext cx="4610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69880" y="4008960"/>
            <a:ext cx="4610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283320"/>
            <a:ext cx="9448920" cy="7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610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9880" y="1143000"/>
            <a:ext cx="4610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240" y="4008960"/>
            <a:ext cx="94489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The Complexity 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of 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Optimization Problem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omplexity Class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y functi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TIME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 is the set of decision problems which can be solved with a time complexit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 = the union of TIME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for 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TIME = the union of TIME (2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4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for 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is contained in EXPTIM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possible to prove (by diagonalization) that EXPTIME is not contained in 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TISFYING TRUTH ASSIGNMENT: given a CNF formula </a:t>
            </a:r>
            <a:r>
              <a:rPr b="0" lang="en-US" sz="3200" spc="-1" strike="noStrike">
                <a:solidFill>
                  <a:srgbClr val="000000"/>
                </a:solidFill>
                <a:latin typeface="Zapf Chancery"/>
              </a:rPr>
              <a:t>F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a truth assignmen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do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atisfy </a:t>
            </a:r>
            <a:r>
              <a:rPr b="0" lang="en-US" sz="3200" spc="-1" strike="noStrike">
                <a:solidFill>
                  <a:srgbClr val="000000"/>
                </a:solidFill>
                <a:latin typeface="Zapf Chancery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TISFYING TRUTH ASSIGNMENT is in 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TISFIABILITY (simply, SAT): given a CNF formula </a:t>
            </a:r>
            <a:r>
              <a:rPr b="0" lang="en-US" sz="3200" spc="-1" strike="noStrike">
                <a:solidFill>
                  <a:srgbClr val="000000"/>
                </a:solidFill>
                <a:latin typeface="Zapf Chancery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s </a:t>
            </a:r>
            <a:r>
              <a:rPr b="0" lang="en-US" sz="3200" spc="-1" strike="noStrike">
                <a:solidFill>
                  <a:srgbClr val="000000"/>
                </a:solidFill>
                <a:latin typeface="Zapf Chancery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atisfiab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T is in EXP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problem: SAT is in P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ass NP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roblem </a:t>
            </a:r>
            <a:r>
              <a:rPr b="0" lang="en-US" sz="3200" spc="-1" strike="noStrike">
                <a:solidFill>
                  <a:srgbClr val="000000"/>
                </a:solidFill>
                <a:latin typeface="Zapf Chancery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ass N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there exist a polynomia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a polynomial-time algorithm </a:t>
            </a:r>
            <a:r>
              <a:rPr b="0" lang="en-US" sz="3200" spc="-1" strike="noStrike">
                <a:solidFill>
                  <a:srgbClr val="000000"/>
                </a:solidFill>
                <a:latin typeface="Zapf Chancery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uch that, for any instanc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YES-instance if and only if there exists a str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ith 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) such that </a:t>
            </a:r>
            <a:r>
              <a:rPr b="0" lang="en-US" sz="3200" spc="-1" strike="noStrike">
                <a:solidFill>
                  <a:srgbClr val="000000"/>
                </a:solidFill>
                <a:latin typeface="Zapf Chancery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returns Y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said to be a certific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SAT is in NP (the certificate is a truth assignment that satisfies the formul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 is contained in NP (the certificate is the computation of the polynomial-time algorith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Non-deterministic algorithms: S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724280" y="2266920"/>
            <a:ext cx="4800600" cy="42102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840240" y="3851280"/>
            <a:ext cx="334692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9600" y="1371600"/>
            <a:ext cx="4346280" cy="1739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ach variabl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ues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oolean valu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atisfies </a:t>
            </a:r>
            <a:r>
              <a:rPr b="0" lang="en-US" sz="1800" spc="-1" strike="noStrike">
                <a:solidFill>
                  <a:srgbClr val="000000"/>
                </a:solidFill>
                <a:latin typeface="Zapf Chancery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tur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tur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Non-deterministic algorithms and NP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73200" y="1447920"/>
            <a:ext cx="445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 problem in NP admits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ynomial-time non-determin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8960" y="1295280"/>
            <a:ext cx="4708800" cy="1465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ues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tring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with |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|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Zapf Chancery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returns YES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tur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tur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3708360" cy="32641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419720" y="3219480"/>
            <a:ext cx="525780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omputation path, which returns YES, is a certificate of polynomial length that can be checked in polynomial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 problem that admits a polynomial-time non-deterministic algorithm is in 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Karp reducibility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decision problem </a:t>
            </a:r>
            <a:r>
              <a:rPr b="0" lang="en-US" sz="3200" spc="-1" strike="noStrike">
                <a:solidFill>
                  <a:srgbClr val="000000"/>
                </a:solidFill>
                <a:latin typeface="Zapf Chancery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arp reduci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a decision problem </a:t>
            </a:r>
            <a:r>
              <a:rPr b="0" lang="en-US" sz="3200" spc="-1" strike="noStrike">
                <a:solidFill>
                  <a:srgbClr val="000000"/>
                </a:solidFill>
                <a:latin typeface="Zapf Chancery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in short, </a:t>
            </a:r>
            <a:r>
              <a:rPr b="0" lang="en-US" sz="3200" spc="-1" strike="noStrike">
                <a:solidFill>
                  <a:srgbClr val="000000"/>
                </a:solidFill>
                <a:latin typeface="Zapf Chancery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Zapf Chancery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f there exists a polynomial-time computable function </a:t>
            </a:r>
            <a:r>
              <a:rPr b="0" lang="en-US" sz="3200" spc="-1" strike="noStrike">
                <a:solidFill>
                  <a:srgbClr val="000000"/>
                </a:solidFill>
                <a:latin typeface="Zapf Chancery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uch that, for an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YES-instance of </a:t>
            </a:r>
            <a:r>
              <a:rPr b="0" lang="en-US" sz="3200" spc="-1" strike="noStrike">
                <a:solidFill>
                  <a:srgbClr val="000000"/>
                </a:solidFill>
                <a:latin typeface="Zapf Chancery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and only if </a:t>
            </a:r>
            <a:r>
              <a:rPr b="0" lang="en-US" sz="3200" spc="-1" strike="noStrike">
                <a:solidFill>
                  <a:srgbClr val="000000"/>
                </a:solidFill>
                <a:latin typeface="Zapf Chancery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YES-instance of </a:t>
            </a:r>
            <a:r>
              <a:rPr b="0" lang="en-US" sz="3200" spc="-1" strike="noStrike">
                <a:solidFill>
                  <a:srgbClr val="000000"/>
                </a:solidFill>
                <a:latin typeface="Zapf Chancery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Zapf Chancery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Zapf Chancery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Zapf Chancery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in P, then </a:t>
            </a:r>
            <a:r>
              <a:rPr b="0" lang="en-US" sz="3200" spc="-1" strike="noStrike">
                <a:solidFill>
                  <a:srgbClr val="000000"/>
                </a:solidFill>
                <a:latin typeface="Zapf Chancery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in 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702560" y="3276720"/>
            <a:ext cx="1136520" cy="32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Example: {0,1}-Linear programming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0,1}-LINEAR PROGRAM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ach Boolean varia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 CNF Boolean formula </a:t>
            </a:r>
            <a:r>
              <a:rPr b="0" lang="en-US" sz="2800" spc="-1" strike="noStrike">
                <a:solidFill>
                  <a:srgbClr val="000000"/>
                </a:solidFill>
                <a:latin typeface="Zapf Chancery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e introduce a {0,1}-valued varia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ach claus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lang="en-US" sz="2800" spc="-1" strike="noStrike">
                <a:solidFill>
                  <a:srgbClr val="000000"/>
                </a:solidFill>
                <a:latin typeface="Zapf Chancery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e introduce the inequalit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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… +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 wher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1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ransformed into the following two inequalities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(1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+(1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truth assignment, 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the natural corresponding {0,1}-value assignment (0=FALSE,1=TRU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atisfies </a:t>
            </a:r>
            <a:r>
              <a:rPr b="0" lang="en-US" sz="2400" spc="-1" strike="noStrike">
                <a:solidFill>
                  <a:srgbClr val="000000"/>
                </a:solidFill>
                <a:latin typeface="Zapf Chancery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f and onl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atisfies all inequa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Turing reducibility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decision problem </a:t>
            </a:r>
            <a:r>
              <a:rPr b="0" lang="en-US" sz="3200" spc="-1" strike="noStrike">
                <a:solidFill>
                  <a:srgbClr val="000000"/>
                </a:solidFill>
                <a:latin typeface="Zapf Chancery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uring reduci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a decision problem </a:t>
            </a:r>
            <a:r>
              <a:rPr b="0" lang="en-US" sz="3200" spc="-1" strike="noStrike">
                <a:solidFill>
                  <a:srgbClr val="000000"/>
                </a:solidFill>
                <a:latin typeface="Zapf Chancery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there exists a polynomial-time algorithm </a:t>
            </a:r>
            <a:r>
              <a:rPr b="0" lang="en-US" sz="3200" spc="-1" strike="noStrike">
                <a:solidFill>
                  <a:srgbClr val="000000"/>
                </a:solidFill>
                <a:latin typeface="Zapf Chancery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lving </a:t>
            </a:r>
            <a:r>
              <a:rPr b="0" lang="en-US" sz="3200" spc="-1" strike="noStrike">
                <a:solidFill>
                  <a:srgbClr val="000000"/>
                </a:solidFill>
                <a:latin typeface="Zapf Chancery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lang="en-US" sz="3200" spc="-1" strike="noStrike">
                <a:solidFill>
                  <a:srgbClr val="000000"/>
                </a:solidFill>
                <a:latin typeface="Zapf Chancery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y access to 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rac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gorithm solving </a:t>
            </a:r>
            <a:r>
              <a:rPr b="0" lang="en-US" sz="3200" spc="-1" strike="noStrike">
                <a:solidFill>
                  <a:srgbClr val="000000"/>
                </a:solidFill>
                <a:latin typeface="Zapf Chancery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209680" y="3514680"/>
            <a:ext cx="5639040" cy="22766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28600" y="5791320"/>
            <a:ext cx="9448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Zapf Chancery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Zapf Chancery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lang="en-US" sz="3200" spc="-1" strike="noStrike">
                <a:solidFill>
                  <a:srgbClr val="000000"/>
                </a:solidFill>
                <a:latin typeface="Zapf Chancery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uring reducible to </a:t>
            </a:r>
            <a:r>
              <a:rPr b="0" lang="en-US" sz="3200" spc="-1" strike="noStrike">
                <a:solidFill>
                  <a:srgbClr val="000000"/>
                </a:solidFill>
                <a:latin typeface="Zapf Chancery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Example: Equivalent formula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T is Turing reducible to EQUIVALENT FORMUL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CNF Boolean formula </a:t>
            </a:r>
            <a:r>
              <a:rPr b="0" lang="en-US" sz="2800" spc="-1" strike="noStrike">
                <a:solidFill>
                  <a:srgbClr val="000000"/>
                </a:solidFill>
                <a:latin typeface="Zapf Chancery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query the oracle with input </a:t>
            </a:r>
            <a:r>
              <a:rPr b="0" lang="en-US" sz="2800" spc="-1" strike="noStrike">
                <a:solidFill>
                  <a:srgbClr val="000000"/>
                </a:solidFill>
                <a:latin typeface="Zapf Chancery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oracle answers YES, then </a:t>
            </a:r>
            <a:r>
              <a:rPr b="0" lang="en-US" sz="2800" spc="-1" strike="noStrike">
                <a:solidFill>
                  <a:srgbClr val="000000"/>
                </a:solidFill>
                <a:latin typeface="Zapf Chancery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not satisfiable, otherwise </a:t>
            </a:r>
            <a:r>
              <a:rPr b="0" lang="en-US" sz="2800" spc="-1" strike="noStrike">
                <a:solidFill>
                  <a:srgbClr val="000000"/>
                </a:solidFill>
                <a:latin typeface="Zapf Chancery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satisf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not known whether SAT is Karp reducible to EQUIVALENT FORMU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NP-complete problem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decision problem </a:t>
            </a:r>
            <a:r>
              <a:rPr b="0" lang="en-US" sz="3200" spc="-1" strike="noStrike">
                <a:solidFill>
                  <a:srgbClr val="000000"/>
                </a:solidFill>
                <a:latin typeface="Zapf Chancery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P-comple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3200" spc="-1" strike="noStrike">
                <a:solidFill>
                  <a:srgbClr val="000000"/>
                </a:solidFill>
                <a:latin typeface="Zapf Chancery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in NP and, for any decision problem </a:t>
            </a:r>
            <a:r>
              <a:rPr b="0" lang="en-US" sz="3200" spc="-1" strike="noStrike">
                <a:solidFill>
                  <a:srgbClr val="000000"/>
                </a:solidFill>
                <a:latin typeface="Zapf Chancery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NP, </a:t>
            </a:r>
            <a:r>
              <a:rPr b="0" lang="en-US" sz="3200" spc="-1" strike="noStrike">
                <a:solidFill>
                  <a:srgbClr val="000000"/>
                </a:solidFill>
                <a:latin typeface="Zapf Chancery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Zapf Chancery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Zapf Chancery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NP-complete and </a:t>
            </a:r>
            <a:r>
              <a:rPr b="0" lang="en-US" sz="3200" spc="-1" strike="noStrike">
                <a:solidFill>
                  <a:srgbClr val="000000"/>
                </a:solidFill>
                <a:latin typeface="Zapf Chancery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in P, then P=N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-complete problems are the hardest in N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 versus NP question can be solved by focusing on an NP-complete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k’s Theorem: SAT is NP-compl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xity of algorithms and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xity classes: P and N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i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rp reduc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ring reduc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-complete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xity of optimization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es PO and N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-hard optimization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Optimization problem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zation problem </a:t>
            </a:r>
            <a:r>
              <a:rPr b="0" lang="en-US" sz="3200" spc="-1" strike="noStrike">
                <a:solidFill>
                  <a:srgbClr val="000000"/>
                </a:solidFill>
                <a:latin typeface="Zapf Chancery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haracterized 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of instanc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SOL that associates to any instance the set of feasibl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sur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, for any feasible solution, provides its positive integer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, that is, either MAX or 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ptimal solution is a feasible soluti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 such tha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) = Goal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|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L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y instanc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denotes optimal mea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MINIMUM VERTEX COVER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ANCE: Grap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=(V,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: A subs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uch that, for any edge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eithe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SURE: Cardinality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Three problems in on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structive probl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given  an instance, compute an optimal solution and its 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ill study these problem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aluation probl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given an instance, compute the optimal valu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cision probl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given  an instance and an intege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decide whether the optimal value is at least (if Goal=MAX) or at most (if Goal=MIN)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ass NPO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zation problems such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recognizable in polynomial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utions are polynomially bounded and recognizable in polynomial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computable in polynomial tim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MINIMUM VERTEX COV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ore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If </a:t>
            </a:r>
            <a:r>
              <a:rPr b="0" lang="en-US" sz="3200" spc="-1" strike="noStrike">
                <a:solidFill>
                  <a:srgbClr val="000000"/>
                </a:solidFill>
                <a:latin typeface="Zapf Chancery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in NPO, then the corresponding decision problem is in N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ass PO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PO problems solvable in polynomial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MINIMUM PA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ptimization problem </a:t>
            </a:r>
            <a:r>
              <a:rPr b="0" lang="en-US" sz="3200" spc="-1" strike="noStrike">
                <a:solidFill>
                  <a:srgbClr val="000000"/>
                </a:solidFill>
                <a:latin typeface="Zapf Chancery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NP-hard if any problem in NP is Turing reducible to </a:t>
            </a:r>
            <a:r>
              <a:rPr b="0" lang="en-US" sz="3200" spc="-1" strike="noStrike">
                <a:solidFill>
                  <a:srgbClr val="000000"/>
                </a:solidFill>
                <a:latin typeface="Zapf Chancery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or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If the decision problem corresponding to a NPO problem </a:t>
            </a:r>
            <a:r>
              <a:rPr b="0" lang="en-US" sz="3200" spc="-1" strike="noStrike">
                <a:solidFill>
                  <a:srgbClr val="000000"/>
                </a:solidFill>
                <a:latin typeface="Zapf Chancery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NP-complete, then </a:t>
            </a:r>
            <a:r>
              <a:rPr b="0" lang="en-US" sz="3200" spc="-1" strike="noStrike">
                <a:solidFill>
                  <a:srgbClr val="000000"/>
                </a:solidFill>
                <a:latin typeface="Zapf Chancery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NP-h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MINIMUM VERTEX C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rolla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If P 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P then PO 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Evaluating versus constructing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ision problem is Turing reducible to evaluation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uation problem is Turing reducible to constructive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uation problem is Turing reducible to decision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earch on space of possible measure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constructive problem Turing reducible to evaluation proble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MAXIMUM SATISFIABILITY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ANCE: CNF Boolean formula, that is, s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clauses over set of variabl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: A truth-assignmen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SURE: Number of satisfied cla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Evaluating versus constructing: MAX S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82720" y="1063800"/>
            <a:ext cx="6966000" cy="470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ach variabl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:= MAX SA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ev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= formula obtained by setting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o TRUE i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= formula obtained by setting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o FALSE i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MAX SA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ev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:= TRUE;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:= FALSE;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tur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5680" y="5807160"/>
            <a:ext cx="924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if the decision problem is NP-complete, then the constructive problem is Turing reducible to the decision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Uniform and logarithmic cos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iform co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the overall number of instructions executed by the algorithm before halt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ogarithmic co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each instruction has a cost depending on the number of bits of the oper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 product of tw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bit integer cos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(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)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for space measure (but we will talk only of time meas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i="1" lang="en-US" sz="4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4200" spc="-1" strike="noStrike" baseline="30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form cost: 2+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arithmic cost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lo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loglo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+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999160" y="3138480"/>
            <a:ext cx="4222080" cy="2654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=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hi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0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tur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d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Worst case analysi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ances of the same size may result in different execution costs (e.g. sorting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of applying the algorithm on the worst case instance of a given siz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s certainty that the algorithm will perform its task within the established time boun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easier to determ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Input siz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ze of input: number of bits needed to present the specific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istence of encoding scheme which is used to describe any problem in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ny pair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atur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ncoding schemes and for any insta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resulting strings are polynomially rel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, 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,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,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oid unary base enco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Asymptotic Analysi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the running time of algorithm </a:t>
            </a:r>
            <a:r>
              <a:rPr b="0" i="1" lang="en-US" sz="3200" spc="-1" strike="noStrike">
                <a:solidFill>
                  <a:srgbClr val="000000"/>
                </a:solidFill>
                <a:latin typeface="Zapf Chancery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n inpu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rst case running ti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Zapf Chancery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given by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=max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|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uch that 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pper bou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Zapf Chancery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s complexit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O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 (that is, we ignore constants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ower bou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Zapf Chancery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s complexit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omplexity of a problem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roblem </a:t>
            </a:r>
            <a:r>
              <a:rPr b="0" i="1" lang="en-US" sz="3200" spc="-1" strike="noStrike">
                <a:solidFill>
                  <a:srgbClr val="000000"/>
                </a:solidFill>
                <a:latin typeface="Zapf Chancery"/>
              </a:rPr>
              <a:t>P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Zapf Chance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mplexity lower bou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 if any algorithm for </a:t>
            </a:r>
            <a:r>
              <a:rPr b="0" lang="en-US" sz="2800" spc="-1" strike="noStrike">
                <a:solidFill>
                  <a:srgbClr val="000000"/>
                </a:solidFill>
                <a:latin typeface="Zapf Chancery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complexit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mplexity upper bou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 if an algorithm for </a:t>
            </a:r>
            <a:r>
              <a:rPr b="0" lang="en-US" sz="2800" spc="-1" strike="noStrike">
                <a:solidFill>
                  <a:srgbClr val="000000"/>
                </a:solidFill>
                <a:latin typeface="Zapf Chancery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xists with complex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676520" y="4594320"/>
            <a:ext cx="7162560" cy="14256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Decision problem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of instances partitioned into a YES-subset and a NO-sub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n insta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decide which sub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longs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decision problem </a:t>
            </a:r>
            <a:r>
              <a:rPr b="0" lang="en-US" sz="3200" spc="-1" strike="noStrike">
                <a:solidFill>
                  <a:srgbClr val="000000"/>
                </a:solidFill>
                <a:latin typeface="Zapf Chancery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solved by an algorithm </a:t>
            </a:r>
            <a:r>
              <a:rPr b="0" lang="en-US" sz="3200" spc="-1" strike="noStrike">
                <a:solidFill>
                  <a:srgbClr val="000000"/>
                </a:solidFill>
                <a:latin typeface="Zapf Chancery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, for every instance, </a:t>
            </a:r>
            <a:r>
              <a:rPr b="0" lang="en-US" sz="3200" spc="-1" strike="noStrike">
                <a:solidFill>
                  <a:srgbClr val="000000"/>
                </a:solidFill>
                <a:latin typeface="Zapf Chancery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lts and returns YES if and only if the instance belongs to the YES-sub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04T10:02:02Z</dcterms:created>
  <dc:creator>Pierluigi Crescenzi and Giorgio Gambosi</dc:creator>
  <dc:description/>
  <dc:language>en-US</dc:language>
  <cp:lastModifiedBy>Viggo Kann</cp:lastModifiedBy>
  <cp:lastPrinted>1999-07-19T10:00:38Z</cp:lastPrinted>
  <dcterms:modified xsi:type="dcterms:W3CDTF">1999-07-20T00:04:12Z</dcterms:modified>
  <cp:revision>69</cp:revision>
  <dc:subject>Chapter 1</dc:subject>
  <dc:title>Approximation and Complexity</dc:title>
</cp:coreProperties>
</file>