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Design Techniques for Approximation Algorithm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Approximation Class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equential algorithm: b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quential algorithm for MINIMUM GRAPH COL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6120" y="2590920"/>
            <a:ext cx="86893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respect to the degre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exists color not used by neighbor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ign this color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 new color and assign it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080" y="1108080"/>
            <a:ext cx="26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ormance ratio 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ing, the performance ratio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7816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Greedy technique: goo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-time 2-approximation algorithm for MAXIMUM 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5920" y="2743200"/>
            <a:ext cx="7343640" cy="29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y variabl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number of clauses, which conta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number of clauses, which conta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TR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ify the formu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variables, we prove that the algorithm satisfies at least half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: triv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first variable to which a value has been assigned. 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TRUE). By induction hypothesis at lea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s are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XIMUM INDEPENDENT SE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(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sub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edg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’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ardina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’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Greedy technique: b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reedy algorithm for MAXIMUM INDEPENDE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2280" y="2743200"/>
            <a:ext cx="703260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ø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ot emp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vertex of minimum degree in graph induced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x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all its neighbors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64040" y="1066680"/>
            <a:ext cx="6132240" cy="5486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080" y="1108080"/>
            <a:ext cx="26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ormance ratio 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ing, the performance ratio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XIMUM C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(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Parti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disjoint se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ardinality of the cut, i.e., the number of edges with one endpoin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ne endpoin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Local search techn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-time 2-approximation algorithm for MAXIMUM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9600" y="3048120"/>
            <a:ext cx="8639640" cy="236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changing one node betwe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mproves the cu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the ex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local optimum is reach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rove that any local optimum contains at least half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# of edges of the c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# of edges in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# of edges out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# of edges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nod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# of edges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node no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search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rogramming 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xation and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l-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io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PO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local optimum: 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 and,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ing over all nod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have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ing over all nodes no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have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Relaxation and rounding techn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-time 2-approximation algorithm for weighted version of MINIMUM VERTEX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te the problem as linear integer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relax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odes that have been chos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03320" y="2273400"/>
                <a:ext cx="6083280" cy="40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minimize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V</m:t>
                            </m:r>
                          </m:sub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³1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ÎE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Î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Î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LP for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55640" y="1739880"/>
                <a:ext cx="6083280" cy="405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minimize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V</m:t>
                            </m:r>
                          </m:sub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³1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ÎE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Î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LP relaxation and round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Final solution: </a:t>
            </a:r>
            <a:r>
              <a:rPr b="0" i="1" lang="it-IT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it-IT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it-IT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0.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ution is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one ed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t filled (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ution has measure at most twice the optimum of LP rel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riable is at most dou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um of LP relaxationis at most equal to that of I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t of feasible solutions is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imal-dual techn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approach for solving exactly combinatorial optimiza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ed combinatorial problems are reduced to purely combinatorial, unweighte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Dijkstra (shortest path), Ford and Fulkerson (maximum flow), Edmonds (maximum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-time 2-approximation algorithm for weighted version of MINIMUM VERTEX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LP for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03320" y="2273400"/>
                <a:ext cx="6083280" cy="40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minimize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V</m:t>
                            </m:r>
                          </m:sub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³1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ÎE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Î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Dual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33440" y="2811600"/>
                <a:ext cx="5423040" cy="29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maximize</m:t>
                        </m:r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≤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68720" y="5680080"/>
            <a:ext cx="69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denotes the neighborhood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160" y="4495680"/>
            <a:ext cx="64663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0;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not covered edge 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til either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s 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resp.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is filled then put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resp.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in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2-approximation algorith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ly maintains a (possibly unfeasible) integer solution of LP formulation and a (not necessarily optimal) feasible solution of du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 integer solution beco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sible and dual solution has better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s when integer solution becomes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sibility: tri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at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constraint is t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weights of the nod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the s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rofit of the incident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t most twice the sum of the profit of all edges which is at most equal to the maximum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uality, maximum profit is equal to minimum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ons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erformance rati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optimizat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feasible solu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performance rati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max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gorithm is said to be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pproximation algorithm if, for any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turns a solution whose performance ratio is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Finit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items, 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ositive integer weight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parti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disjoint se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Maximum between the sum of the weights of elemen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sum of the weights of elemen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Dynamic programming techn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eudo-polynomial time algorithm for MINIMUM PART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atrix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sum of the weights of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TRUE if a subset of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exists whose su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answer to the evaluation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rue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row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inimizes max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aximum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modified to obtain a feasibl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approximation algorith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the l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gits of the numb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he pseudo-polynomial time algorith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corresponding solution in the original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atio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notes an optimal solution for scaled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ratio is at most 1+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f we cho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 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hen the performance ratio i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Class AP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O problems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dmit a polynomial-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approximation algorithm, for given consta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roxim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MINIMUM BIN PACKING, MAXIMUM SAT, MAXIMUM CUT, MINIMUM VERTEX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Class PT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O problems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dmit a polynomial-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approximation algorithm, 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must be polynomial in the length of the instance but not necessarily in 1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admit a polynomial-time approxim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INIMUM PAR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NPO worl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454040"/>
            <a:ext cx="8325000" cy="455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6720" y="2368440"/>
            <a:ext cx="832500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6720" y="4197240"/>
            <a:ext cx="83250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9120" y="158580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4000" y="242424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360" y="2514600"/>
            <a:ext cx="4020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BIN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13640" y="425304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1280" y="4405320"/>
            <a:ext cx="33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13280" y="50148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6240" y="5261040"/>
            <a:ext cx="25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BIN PA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Finit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ational numbers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0,1]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Partition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…,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ns such that the sum of the numbers in each bin is at most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ardinality of the partition, i.e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quential algorith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-time 2-approximation algorithm for MINIMUM BIN 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xt F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69213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numb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ts into the last open b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ig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his 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new bin and assig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his 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bins used by the algorithm is at most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m of al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air of consecutive bins, the sum of the number included in these two bins is greater tha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easible solution uses at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case each bin is full (i.e., the sum of its numbers is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atio is at mos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Fit De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es solution whose measure is at most 1.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ghtnes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/2,1/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1/2,1/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1/2,1/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71629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avril’s algorithm for vertex cov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avril’s algorithm is a polynomial-time 2-approxim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1676520"/>
            <a:ext cx="619812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=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ed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,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GRAPH COLOR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(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coloring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is, func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edg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Number of colors, i.e., cardinality of the ran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1:07:05Z</dcterms:created>
  <dc:creator>Pierluigi Crescenzi and Giorgio Gambosi</dc:creator>
  <dc:description/>
  <dc:language>en-US</dc:language>
  <cp:lastModifiedBy>Viggo Kann</cp:lastModifiedBy>
  <cp:lastPrinted>1999-07-19T09:12:49Z</cp:lastPrinted>
  <dcterms:modified xsi:type="dcterms:W3CDTF">1999-07-20T00:12:59Z</dcterms:modified>
  <cp:revision>58</cp:revision>
  <dc:subject>Chapters 2 and 3</dc:subject>
  <dc:title>Approximation and Complexity</dc:title>
</cp:coreProperties>
</file>