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907588" cy="6858000"/>
  <p:notesSz cx="66421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283320"/>
            <a:ext cx="9448920" cy="7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28240" y="4008960"/>
            <a:ext cx="94489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283320"/>
            <a:ext cx="9448920" cy="7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610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9880" y="1143000"/>
            <a:ext cx="4610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240" y="4008960"/>
            <a:ext cx="4610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69880" y="4008960"/>
            <a:ext cx="4610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240" y="283320"/>
            <a:ext cx="9448920" cy="7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3042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23240" y="1143000"/>
            <a:ext cx="3042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17880" y="1143000"/>
            <a:ext cx="3042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28240" y="4008960"/>
            <a:ext cx="3042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23240" y="4008960"/>
            <a:ext cx="3042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17880" y="4008960"/>
            <a:ext cx="3042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240" y="283320"/>
            <a:ext cx="9448920" cy="7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240" y="283320"/>
            <a:ext cx="9448920" cy="7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283320"/>
            <a:ext cx="9448920" cy="7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6108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69880" y="1143000"/>
            <a:ext cx="46108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283320"/>
            <a:ext cx="9448920" cy="7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28240" y="380880"/>
            <a:ext cx="9448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283320"/>
            <a:ext cx="9448920" cy="7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610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9880" y="1143000"/>
            <a:ext cx="46108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28240" y="4008960"/>
            <a:ext cx="4610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283320"/>
            <a:ext cx="9448920" cy="7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6108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9880" y="1143000"/>
            <a:ext cx="4610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69880" y="4008960"/>
            <a:ext cx="4610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283320"/>
            <a:ext cx="9448920" cy="7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610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9880" y="1143000"/>
            <a:ext cx="4610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240" y="4008960"/>
            <a:ext cx="94489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200" spc="-1" strike="noStrike">
                <a:solidFill>
                  <a:srgbClr val="000000"/>
                </a:solidFill>
                <a:latin typeface="Times New Roman"/>
              </a:rPr>
              <a:t>Non-Approximability Resul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494160" y="3300480"/>
            <a:ext cx="1886040" cy="1054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7720" y="3584520"/>
            <a:ext cx="1149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Ver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12320" y="1749600"/>
            <a:ext cx="2648880" cy="82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s. Boolean form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12280" y="1749600"/>
            <a:ext cx="2616840" cy="82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ro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s. truth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4484520" y="2607840"/>
            <a:ext cx="1555920" cy="685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2744640" y="2607840"/>
            <a:ext cx="1733760" cy="685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95960" y="4367160"/>
            <a:ext cx="0" cy="1359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48760" y="5794200"/>
            <a:ext cx="1112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/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35320" y="4803840"/>
            <a:ext cx="337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ust read the entire pro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Deterministically checkable proof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803760" y="3300480"/>
            <a:ext cx="1885680" cy="1054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11200" y="3660840"/>
            <a:ext cx="1149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Ver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21920" y="1749600"/>
            <a:ext cx="2648880" cy="82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s. Boolean form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21520" y="1749600"/>
            <a:ext cx="2616840" cy="82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ro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s. truth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794120" y="2607840"/>
            <a:ext cx="1555920" cy="685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3054240" y="2607840"/>
            <a:ext cx="1733760" cy="685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05200" y="4367160"/>
            <a:ext cx="0" cy="1359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58360" y="5794200"/>
            <a:ext cx="1112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/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79320" y="4530600"/>
            <a:ext cx="43448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rade-off between the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of random bits and the number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bits rea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94320" y="3581280"/>
            <a:ext cx="1632240" cy="454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andom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47800" y="38275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Probabilistically checkable proof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PCP[</a:t>
            </a:r>
            <a:r>
              <a:rPr b="0" i="1" lang="it-IT" sz="4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it-IT" sz="4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 decision problem </a:t>
            </a:r>
            <a:r>
              <a:rPr b="0" lang="it-IT" sz="3200" spc="-1" strike="noStrike">
                <a:solidFill>
                  <a:srgbClr val="000000"/>
                </a:solidFill>
                <a:latin typeface="Zapf Chancery"/>
              </a:rPr>
              <a:t>P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belongs to PCP[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] if it admits a polynomial-time verifier </a:t>
            </a:r>
            <a:r>
              <a:rPr b="0" lang="it-IT" sz="3200" spc="-1" strike="noStrike">
                <a:solidFill>
                  <a:srgbClr val="000000"/>
                </a:solidFill>
                <a:latin typeface="Zapf Chancery"/>
              </a:rPr>
              <a:t>A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such th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For any input of length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2800" spc="-1" strike="noStrike">
                <a:solidFill>
                  <a:srgbClr val="000000"/>
                </a:solidFill>
                <a:latin typeface="Zapf Chancery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uses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 bits casu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For any input of length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2800" spc="-1" strike="noStrike">
                <a:solidFill>
                  <a:srgbClr val="000000"/>
                </a:solidFill>
                <a:latin typeface="Zapf Chancery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queries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 bits of the pro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For any YES-instance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, there exists a proof such that </a:t>
            </a:r>
            <a:r>
              <a:rPr b="0" lang="it-IT" sz="2800" spc="-1" strike="noStrike">
                <a:solidFill>
                  <a:srgbClr val="000000"/>
                </a:solidFill>
                <a:latin typeface="Zapf Chancery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answers Yes with probability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For any NO-instance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, for any proof </a:t>
            </a:r>
            <a:r>
              <a:rPr b="0" lang="it-IT" sz="2800" spc="-1" strike="noStrike">
                <a:solidFill>
                  <a:srgbClr val="000000"/>
                </a:solidFill>
                <a:latin typeface="Zapf Chancery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answers Yes with probability less than 1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NP=PCP[log,O(1)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The PCP theorem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Given a class </a:t>
            </a:r>
            <a:r>
              <a:rPr b="0" lang="it-IT" sz="3200" spc="-1" strike="noStrike">
                <a:solidFill>
                  <a:srgbClr val="000000"/>
                </a:solidFill>
                <a:latin typeface="Zapf Chancery"/>
              </a:rPr>
              <a:t>F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of functions, PCP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3200" spc="-1" strike="noStrike">
                <a:solidFill>
                  <a:srgbClr val="000000"/>
                </a:solidFill>
                <a:latin typeface="Zapf Chancery"/>
              </a:rPr>
              <a:t>F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 is the union of PCP[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], for all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Zapf Chancery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By definition, NP=PCP(0,</a:t>
            </a:r>
            <a:r>
              <a:rPr b="0" lang="it-IT" sz="3200" spc="-1" strike="noStrike">
                <a:solidFill>
                  <a:srgbClr val="000000"/>
                </a:solidFill>
                <a:latin typeface="Zapf Chancery"/>
              </a:rPr>
              <a:t>poly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 where </a:t>
            </a:r>
            <a:r>
              <a:rPr b="0" lang="it-IT" sz="3200" spc="-1" strike="noStrike">
                <a:solidFill>
                  <a:srgbClr val="000000"/>
                </a:solidFill>
                <a:latin typeface="Zapf Chancery"/>
              </a:rPr>
              <a:t>poly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s the set of polynomia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NP=PCP(log,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1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Proving that NP includes PCP(log,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1)) is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eas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Proving that NP is included in PCP(log,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1)) is hard (complete proof is more than 50 pages: we will see only a par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Inapproximability of satisfiability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Gap 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ntuitive motivation: gap in acceptance probability corresponds to gap in mea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Reduction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from SAT such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is satisfiable,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m*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)=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 where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 is the number of clauses in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is not satisfiable,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m*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)&lt;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/(1+g) with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&gt;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Gap: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not explicitily compu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MAXIMUM SAT is not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-approximable for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&lt;1+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The reductio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For any random string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of length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log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, we construct a Boolean formula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of constant size which is satisfiable if and only if there exists a sequence of answers to the queries that make the verifier answer Yes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an be written in CNF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The final formula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 is the union of all these formulas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 flipH="1">
            <a:off x="2724120" y="2766960"/>
            <a:ext cx="2146320" cy="74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1898280" y="3529080"/>
            <a:ext cx="825480" cy="74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2724120" y="3522240"/>
            <a:ext cx="74304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403280" y="4290840"/>
            <a:ext cx="495360" cy="90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1898280" y="4284720"/>
            <a:ext cx="33012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2971800" y="4367160"/>
            <a:ext cx="495360" cy="90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3466800" y="4361040"/>
            <a:ext cx="33012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6273360" y="3605040"/>
            <a:ext cx="825480" cy="74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7099200" y="3598920"/>
            <a:ext cx="7430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778360" y="4367160"/>
            <a:ext cx="495360" cy="90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6273360" y="4361040"/>
            <a:ext cx="33012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7346880" y="4443480"/>
            <a:ext cx="495360" cy="90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7841880" y="4437000"/>
            <a:ext cx="33012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876920" y="2766960"/>
            <a:ext cx="2216160" cy="82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09760" y="3127320"/>
            <a:ext cx="422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11640" y="2746440"/>
            <a:ext cx="476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35760" y="2746440"/>
            <a:ext cx="476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14960" y="3127320"/>
            <a:ext cx="422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825560" y="3508200"/>
            <a:ext cx="476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35760" y="3660840"/>
            <a:ext cx="476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108920" y="4422600"/>
            <a:ext cx="476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75160" y="4498920"/>
            <a:ext cx="476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651040" y="4498920"/>
            <a:ext cx="476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00080" y="4575240"/>
            <a:ext cx="476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28840" y="3584520"/>
            <a:ext cx="476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55680" y="4422600"/>
            <a:ext cx="476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24200" y="4498920"/>
            <a:ext cx="476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31120" y="4422600"/>
            <a:ext cx="476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099280" y="4575240"/>
            <a:ext cx="476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03760" y="2289240"/>
            <a:ext cx="422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59360" y="3965400"/>
            <a:ext cx="422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840440" y="3965400"/>
            <a:ext cx="422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47800" y="3889440"/>
            <a:ext cx="422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01480" y="3889440"/>
            <a:ext cx="422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47680" y="5184720"/>
            <a:ext cx="486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541320" y="5184720"/>
            <a:ext cx="486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605200" y="5261040"/>
            <a:ext cx="486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430680" y="5261040"/>
            <a:ext cx="486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173720" y="5261040"/>
            <a:ext cx="486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72800" y="5184720"/>
            <a:ext cx="588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33400" y="5184720"/>
            <a:ext cx="588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16400" y="5261040"/>
            <a:ext cx="588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The reduction (continued)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onsider the decision tree of the verifier corresponding to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nd let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encode the accepting pa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53840" y="5867280"/>
            <a:ext cx="6522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Proof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be the number of clauses in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we may assume it is the same for each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We have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it-IT" sz="32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it-IT" sz="3200" spc="-1" strike="noStrike" baseline="30000">
                <a:solidFill>
                  <a:srgbClr val="000000"/>
                </a:solidFill>
                <a:latin typeface="Times New Roman"/>
              </a:rPr>
              <a:t>log</a:t>
            </a:r>
            <a:r>
              <a:rPr b="0" i="1" lang="it-IT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it-IT" sz="32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formulas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 that is, the final formula has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kp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 cla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is satisfiable, the verifier accept for any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. Any formula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is satisfiable: hence,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m*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)=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is not satisfiable, less than 1/2 of the formulas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are satisfiable. Hence, 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m*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)&lt;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/2+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-1)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/2=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(1-1/(2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)=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/(1+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depends on the number of qu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MAXIMUM CLIQU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ANCE: Grap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,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: A subs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uch that, for any two vertic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: Cardinality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Product graph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Given a graph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=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, define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it-IT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 as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={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 :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} and</a:t>
            </a:r>
            <a:br>
              <a:rPr sz="3200"/>
            </a:b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it-IT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={(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,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) :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and 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 is in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or 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 is in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has a clique of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nodes iff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has a clique of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it-IT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362320" y="2932200"/>
            <a:ext cx="4518000" cy="240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Gap 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Examples: MINIMUM GRAPH COLORING, MINIMUM TSP, MINIMUM BIN PACKING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The PCP theor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pplication: Non-approximability of MAXIMUM 3-S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Self-improvability of cliqu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If MAXIMUM CLIQUE belongs to APX, then MAXIMUM CLIQUE belongs to P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it-IT" sz="2800" spc="-1" strike="noStrike">
                <a:solidFill>
                  <a:srgbClr val="000000"/>
                </a:solidFill>
                <a:latin typeface="Zapf Chancery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be an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-approximation algorithm for MAXIMUM CL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Compute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, then compute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it-IT" sz="2800" spc="-1" strike="noStrike">
                <a:solidFill>
                  <a:srgbClr val="000000"/>
                </a:solidFill>
                <a:latin typeface="Zapf Chancery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 and, finally, compute the corresponding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From theorem above,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m*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=sqrt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m*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) and |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|=sqrt(|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|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Hence, performance ratio of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is at most sqrt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terating we can obtain any performance rat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The NPO world if P</a:t>
            </a:r>
            <a:r>
              <a:rPr b="0" lang="it-IT" sz="4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66720" y="1073160"/>
            <a:ext cx="8325000" cy="4559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6720" y="1987560"/>
            <a:ext cx="8325000" cy="1816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66720" y="3816360"/>
            <a:ext cx="832500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149120" y="1204920"/>
            <a:ext cx="789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314000" y="2043000"/>
            <a:ext cx="789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P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131640" y="2424240"/>
            <a:ext cx="48175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AXIMUM S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INIMUM VERTEX COVER(     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AXIMUM CUT(     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13640" y="3871800"/>
            <a:ext cx="925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31280" y="4024440"/>
            <a:ext cx="3321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INIMUM PAR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313280" y="4633920"/>
            <a:ext cx="57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131280" y="4879800"/>
            <a:ext cx="2508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INIMUM 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130200" y="1281240"/>
            <a:ext cx="2238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INIMUM T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33080" y="2043000"/>
            <a:ext cx="3666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INIMUM BIN PA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20440" y="5776920"/>
            <a:ext cx="73411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INIMUM GRAPH COLORING? Certainly not in P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AXIMUM CLIQUE? Either in PTAS or not in AP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rot="16200000">
            <a:off x="7323840" y="2898720"/>
            <a:ext cx="215640" cy="2350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 rot="16200000">
            <a:off x="5716800" y="3273120"/>
            <a:ext cx="216000" cy="2350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The Gap Techniqu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Zapf Chance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Zapf Chancery"/>
              </a:rPr>
              <a:t>P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: NPO minimization problem (same for maximiz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Zapf Chance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Zapf Chancery"/>
              </a:rPr>
              <a:t>P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: NP-hard decision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 that maps instances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lang="it-IT" sz="3200" spc="-1" strike="noStrike">
                <a:solidFill>
                  <a:srgbClr val="000000"/>
                </a:solidFill>
                <a:latin typeface="Zapf Chancery"/>
              </a:rPr>
              <a:t>P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into instances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lang="it-IT" sz="3200" spc="-1" strike="noStrike">
                <a:solidFill>
                  <a:srgbClr val="000000"/>
                </a:solidFill>
                <a:latin typeface="Zapf Chancery"/>
              </a:rPr>
              <a:t>P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such th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is a YES-instance, then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m*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)=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is a NO-instance, then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m*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)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(1+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No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-approximation algorithm for </a:t>
            </a:r>
            <a:r>
              <a:rPr b="0" lang="it-IT" sz="3200" spc="-1" strike="noStrike">
                <a:solidFill>
                  <a:srgbClr val="000000"/>
                </a:solidFill>
                <a:latin typeface="Zapf Chancery"/>
              </a:rPr>
              <a:t>P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exists with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&lt;(1+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 (unless P=N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Proof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Zapf Chance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Zapf Chancery"/>
              </a:rPr>
              <a:t>A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-approximation algorithm with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&lt;(1+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is a YES-instance, then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m*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)=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. Hence,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it-IT" sz="3200" spc="-1" strike="noStrike">
                <a:solidFill>
                  <a:srgbClr val="000000"/>
                </a:solidFill>
                <a:latin typeface="Zapf Chancery"/>
              </a:rPr>
              <a:t>A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)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rm*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)=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rc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&lt;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(1+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is a NO-instance, then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m*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)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(1+g). Hence,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it-IT" sz="3200" spc="-1" strike="noStrike">
                <a:solidFill>
                  <a:srgbClr val="000000"/>
                </a:solidFill>
                <a:latin typeface="Zapf Chancery"/>
              </a:rPr>
              <a:t>A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))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(1+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Zapf Chance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Zapf Chancery"/>
              </a:rPr>
              <a:t>A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allows to decide </a:t>
            </a:r>
            <a:r>
              <a:rPr b="0" lang="it-IT" sz="3200" spc="-1" strike="noStrike">
                <a:solidFill>
                  <a:srgbClr val="000000"/>
                </a:solidFill>
                <a:latin typeface="Zapf Chancery"/>
              </a:rPr>
              <a:t>P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in polynomial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Inapproximability of graph coloring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NP-hard to decide whether a planar graph can be colored with 3 col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ny planar graph is 4-color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is a planar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s 3-colorable, then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m*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)=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s not 3-colorable, then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m*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)=4=3(1+1/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Gap: g=1/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Theorem: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MINIMUM GRAPH COLORING has no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-approximation algorithm with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&lt;4/3 (unless P=N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Inapproximability of bin packing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NP-hard to decide whether a set of integers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can be partitioned into two equal s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=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 where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is equal to half the total s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s a YES-instance, then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m*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)=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s a NO-instance, then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m*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)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3=2(1+1/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Gap: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=1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MINIMUM BIN PACKING has no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-approximation algorithm with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&lt;3/2 (unless P=N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9296280" cy="5335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MINIMUM TSP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ANCE: Complete grap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=(V,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eight function 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: A tour of all vertices, that is, a permutation π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: Cost of the tour, i.e.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|-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π[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π[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+1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π[|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|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π[1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Inapproximability of TSP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NP-hard to decide whether a graph contains an Hamiltonian circu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For any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&gt;0,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=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)=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=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 where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=1 if 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 is in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 otherwise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=1+|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has an Hamiltonian circuit, then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m*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)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has no Hamiltonian circuit, then 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m*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)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1+1+|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=|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|(1+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Gap: any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&gt;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Theorem: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MINIMUM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TSP has no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-approximation algorithm with r&gt;1 (unless P=N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The NPO world (unless P=NP)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66720" y="1073160"/>
            <a:ext cx="8325000" cy="4559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66720" y="1987560"/>
            <a:ext cx="8325000" cy="1816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66720" y="3816360"/>
            <a:ext cx="832500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96720" y="1204920"/>
            <a:ext cx="789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14000" y="2043000"/>
            <a:ext cx="789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P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31640" y="2424240"/>
            <a:ext cx="48175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AXIMUM SAT (     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INIMUM VERTEX COVER(     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AXIMUM CUT(     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13640" y="3871800"/>
            <a:ext cx="925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31280" y="4024440"/>
            <a:ext cx="3321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INIMUM PAR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313280" y="4633920"/>
            <a:ext cx="57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31280" y="4876920"/>
            <a:ext cx="2508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INIMUM 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30200" y="1281240"/>
            <a:ext cx="2238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INIMUM T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33080" y="2043000"/>
            <a:ext cx="3666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INIMUM BIN PA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20440" y="6081840"/>
            <a:ext cx="7341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INIMUM GRAPH COLORING? Certainly not in P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 rot="16200000">
            <a:off x="5723640" y="2581200"/>
            <a:ext cx="215640" cy="2350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 rot="16200000">
            <a:off x="7323840" y="2898720"/>
            <a:ext cx="215640" cy="2350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rot="16200000">
            <a:off x="5723280" y="3273120"/>
            <a:ext cx="216000" cy="2350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09T18:38:50Z</dcterms:created>
  <dc:creator>Pierluigi Crescenzi and Giorgio Gambosi</dc:creator>
  <dc:description/>
  <dc:language>en-US</dc:language>
  <cp:lastModifiedBy>Viggo Kann</cp:lastModifiedBy>
  <cp:lastPrinted>1999-07-19T10:01:06Z</cp:lastPrinted>
  <dcterms:modified xsi:type="dcterms:W3CDTF">1999-07-23T13:34:51Z</dcterms:modified>
  <cp:revision>51</cp:revision>
  <dc:subject>Chapters 3 and 6</dc:subject>
  <dc:title>Approximation and Complexity</dc:title>
</cp:coreProperties>
</file>