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3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788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3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788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9448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00"/>
                </a:solidFill>
                <a:latin typeface="Times New Roman"/>
              </a:rPr>
              <a:t>Input-Dependent and Asymptotic Approxim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First ste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9525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-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)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-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)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2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+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it-IT" sz="2400" spc="-1" strike="noStrike" baseline="2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it-IT" sz="3200" spc="-1" strike="noStrike" baseline="2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-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2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/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=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econd ste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set cover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=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*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/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nce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e have tha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, that is,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l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, we have that the performance ratio is logarith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EDGE COLOR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coloring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is, 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pair of edg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share a common endpoin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Number of colors, i.e., cardinality of the ran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Vizing’s algorith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-time algorithm to color a graph with at mos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 colors, wher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notes the maximum degree of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5000" y="3124080"/>
            <a:ext cx="9527760" cy="256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maximum degree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, E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ø)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s clearly colorable with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+1 co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dd an edge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xtend coloring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without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 into coloring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with at most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+1 colors;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E-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Asymptotic approximation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algorithm returns an edge-coloring with at mos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optimum is at leas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, performance ratio is at mos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)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1+ 1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t implies a 2-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without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has an edge-coloring with at mos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 col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µ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denote the set of colors that are not used to color an edge incident t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early, if the coloring use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 colors, then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µ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ø: 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be one of the colors in µ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ute in polynomial-time a sequence of edges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0]),...,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0]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the color of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) =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ere is no other edge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such that its color is equal to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2111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First case: 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]) is in µ(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his case, we can simply shift the colors of the sequence in order to obtain the new coloring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at is, for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we color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) wi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7816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econd case: 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]) is not in µ(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his case, one edge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 must have been colored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 (since the sequence is max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]) =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We compute in polynomial time a pa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tarting from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] formed by edges whose colors are, alternatively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464832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ion algorithm for graph col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ion algorithm for set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mptotic approximation scheme for edge col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696080" cy="310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First subcase: 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4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4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it-IT" sz="4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does not end in 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rchange color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 in the path, assign color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to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, shift the colors of the subsequence of edges preceding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1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econd subcase: 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4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4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 ends in 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ute in polynomial time a pa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formed by edges whose colors are, alternatively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oes not end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6019920" cy="32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rchange color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assign color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to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, and shift the colors of the subsequence of edges preceding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6197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it-IT" sz="4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-AP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a class of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-APX contains all NPO problems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hat admit a polynomial-time algorithm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uch that, for any instanc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), for a given functio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-approx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said to be a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-approxim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Class APT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class APTAS contains all NPO problems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hat admit a polynomial-time algorithm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a consta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uch that, for any instanc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for any rational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time complexity o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polynomial in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but not necessarily in 1/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said to be a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symptotic approxim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clearly a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-approxim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NPO worl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4280" y="1149480"/>
            <a:ext cx="8324640" cy="54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4280" y="2978280"/>
            <a:ext cx="832464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4280" y="4425840"/>
            <a:ext cx="832464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2520" y="119844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0200" y="325584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3440" y="3103560"/>
            <a:ext cx="4020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4360" y="59230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2360" y="5946840"/>
            <a:ext cx="250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1600200"/>
            <a:ext cx="83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4600" y="1731960"/>
            <a:ext cx="14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280" y="2362320"/>
            <a:ext cx="83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4240" y="2494080"/>
            <a:ext cx="185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log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0200" y="1731960"/>
            <a:ext cx="521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GRAPH COL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0200" y="2494080"/>
            <a:ext cx="521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SET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4280" y="5187960"/>
            <a:ext cx="83246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040" y="523728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2360" y="5237280"/>
            <a:ext cx="33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7760" y="4551480"/>
            <a:ext cx="114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4520" y="4551480"/>
            <a:ext cx="417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EDGE COL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3200" y="2362320"/>
            <a:ext cx="6242040" cy="41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ø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+1;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]:=ø;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graph induced by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ø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node of minimum degree i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d its neighbor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-V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Approximation of graph color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-tim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roximation algorithm for MINIMUM GRAPH COL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e first prove that, 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colorable, then the algorithm uses at most 3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colo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 any iteration of the inner loop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colo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, it contains an independent set of at least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odes of degree at most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)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 least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odes will be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t the next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 least 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iterations of the inner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| is at least 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 long as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1/2) 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hen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&lt;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, at most 2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colors have been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o color the remaining nodes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colors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at is, the algorithm uses at most 3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 (en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algorithm uses at most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/log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, that is, at most 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/log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performance ratio is at most 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log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SET COV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llectio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subsets of a finite s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t cover for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i.e., a subs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uch that every element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longs to at least one member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5160" y="2895480"/>
            <a:ext cx="5758200" cy="29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index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with maximum cardinal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{elements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ete all elements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from al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=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Johnson’s algorith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-time logarithmic approximation algorithm for MINIMUM SET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e prove that the performance ratio of the algorithm is at most ∑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the maximum cardinality of the sets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the sequence of indices obtained by th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th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art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fore index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has been ch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intersection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36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equal t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denote largest index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not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1:07:05Z</dcterms:created>
  <dc:creator>Pierluigi Crescenzi and Giorgio Gambosi</dc:creator>
  <dc:description/>
  <dc:language>en-US</dc:language>
  <cp:lastModifiedBy>Viggo Kann</cp:lastModifiedBy>
  <cp:lastPrinted>1997-05-17T10:44:42Z</cp:lastPrinted>
  <dcterms:modified xsi:type="dcterms:W3CDTF">1999-07-19T23:51:17Z</dcterms:modified>
  <cp:revision>100</cp:revision>
  <dc:subject>Chapter 4</dc:subject>
  <dc:title>Approximation and Complexity</dc:title>
</cp:coreProperties>
</file>