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04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396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04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04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396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396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04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04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04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396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396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396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048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048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685800"/>
            <a:ext cx="792504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04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048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396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048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04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396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04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04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396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04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396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04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04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96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396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04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04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04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396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396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396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048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048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685800"/>
            <a:ext cx="792504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04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048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396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048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04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396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04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04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396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Gewerbliche Schulen Medienb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929720" y="5943600"/>
            <a:ext cx="5284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7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50 Jahre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Gewerbliche Schulen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Medienburg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stakt am 20. Oktober 2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nhal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819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ückbli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itbli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8_5A" descr=""/>
          <p:cNvPicPr/>
          <p:nvPr/>
        </p:nvPicPr>
        <p:blipFill>
          <a:blip r:embed="rId2"/>
          <a:stretch/>
        </p:blipFill>
        <p:spPr>
          <a:xfrm>
            <a:off x="3505320" y="1828800"/>
            <a:ext cx="4952880" cy="3720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Rückblick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50  Gründung der GS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54  Brand im Dachgescho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8  Umzug in den Neuba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84  Partnerschule in Marseil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96  Vernetzung der Schulcompu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0  Anschluss ans Intern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Überblick: Schülerzahlen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4920" y="1676520"/>
          <a:ext cx="7772400" cy="37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76520"/>
                    <a:ext cx="77724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Überblick: Berufsfelder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447920"/>
          <a:ext cx="7769160" cy="43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447920"/>
                    <a:ext cx="776916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Überblick: Schularten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523880"/>
          <a:ext cx="7769160" cy="430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523880"/>
                    <a:ext cx="776916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Weitblick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ewerbliche Schulen Medienburg im Interne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2971800"/>
            <a:ext cx="2743200" cy="27432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ahoma"/>
              </a:rPr>
              <a:t>Intern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743200"/>
            <a:ext cx="2174760" cy="2514600"/>
          </a:xfrm>
          <a:custGeom>
            <a:avLst/>
            <a:gdLst/>
            <a:ahLst/>
            <a:rect l="l" t="t" r="r" b="b"/>
            <a:pathLst>
              <a:path w="1536" h="1776">
                <a:moveTo>
                  <a:pt x="0" y="1776"/>
                </a:moveTo>
                <a:lnTo>
                  <a:pt x="1536" y="1776"/>
                </a:lnTo>
                <a:lnTo>
                  <a:pt x="1536" y="528"/>
                </a:lnTo>
                <a:lnTo>
                  <a:pt x="1296" y="0"/>
                </a:lnTo>
                <a:lnTo>
                  <a:pt x="1056" y="576"/>
                </a:lnTo>
                <a:lnTo>
                  <a:pt x="1056" y="1104"/>
                </a:lnTo>
                <a:lnTo>
                  <a:pt x="432" y="1104"/>
                </a:lnTo>
                <a:lnTo>
                  <a:pt x="432" y="576"/>
                </a:lnTo>
                <a:lnTo>
                  <a:pt x="240" y="0"/>
                </a:lnTo>
                <a:lnTo>
                  <a:pt x="0" y="576"/>
                </a:lnTo>
                <a:lnTo>
                  <a:pt x="0" y="177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44956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4191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191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4191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4191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191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4191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162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Feiern Sie mit...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33412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...guten Appet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Glas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4468680" cy="35211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5T19:47:17Z</dcterms:created>
  <dc:creator>Patrick Schlaich</dc:creator>
  <dc:description/>
  <dc:language>en-US</dc:language>
  <cp:lastModifiedBy>Patrick Schlaich</cp:lastModifiedBy>
  <dcterms:modified xsi:type="dcterms:W3CDTF">2000-03-01T15:13:41Z</dcterms:modified>
  <cp:revision>26</cp:revision>
  <dc:subject/>
  <dc:title>PowerPoint-Präsentation</dc:title>
</cp:coreProperties>
</file>