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099-0A23-443A-B052-4AFC2B80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904-5D60-4E05-9102-E5876E39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CF8-B785-4065-BC4C-11BF3668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5F7-00FD-4FA7-9504-AB8FFE77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9BF-84EA-41ED-A4F4-2CCD1E69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46D-5594-4923-A9CC-A064AFA2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FE1-E14F-4D4D-8A60-4BD8AACA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224-8B7A-424D-AF5B-F6DE9684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40C-9C50-48B1-8940-8848DFBA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A80-1DFE-4DB6-A18B-E74A2642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B29-A800-4594-93EF-2D4B1B0C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D7C-793B-4899-9CB2-B7A181A5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82B8-1A5B-4459-9226-F9CDEFFC8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98600" y="1763640"/>
            <a:ext cx="2600280" cy="3392640"/>
            <a:chOff x="498600" y="1763640"/>
            <a:chExt cx="2600280" cy="3392640"/>
          </a:xfrm>
        </p:grpSpPr>
        <p:sp>
          <p:nvSpPr>
            <p:cNvPr id="42" name=""/>
            <p:cNvSpPr/>
            <p:nvPr/>
          </p:nvSpPr>
          <p:spPr>
            <a:xfrm>
              <a:off x="498600" y="1763640"/>
              <a:ext cx="2600280" cy="3392640"/>
            </a:xfrm>
            <a:prstGeom prst="rect">
              <a:avLst/>
            </a:prstGeom>
            <a:gradFill rotWithShape="0">
              <a:gsLst>
                <a:gs pos="0">
                  <a:srgbClr val="570000"/>
                </a:gs>
                <a:gs pos="50000">
                  <a:srgbClr val="800000"/>
                </a:gs>
                <a:gs pos="100000">
                  <a:srgbClr val="570000"/>
                </a:gs>
              </a:gsLst>
              <a:lin ang="13500000"/>
            </a:gra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3" name=""/>
            <p:cNvGraphicFramePr/>
            <p:nvPr/>
          </p:nvGraphicFramePr>
          <p:xfrm>
            <a:off x="679320" y="1855800"/>
            <a:ext cx="2381400" cy="316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9320" y="1855800"/>
                      <a:ext cx="2381400" cy="31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"/>
          <p:cNvSpPr/>
          <p:nvPr/>
        </p:nvSpPr>
        <p:spPr>
          <a:xfrm>
            <a:off x="504720" y="511200"/>
            <a:ext cx="889200" cy="812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89120" y="515880"/>
            <a:ext cx="888840" cy="812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7680" y="519120"/>
            <a:ext cx="888840" cy="812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06880" y="519120"/>
            <a:ext cx="888840" cy="812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49960" y="541440"/>
            <a:ext cx="888840" cy="812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1752480"/>
            <a:ext cx="304776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 GUIDE FOR STAGE MAKE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76720" y="4876920"/>
          <a:ext cx="2984400" cy="36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876920"/>
                    <a:ext cx="2984400" cy="36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657600" y="5410080"/>
            <a:ext cx="228600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tep-by-step application of basic makeup for the amateur 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77120"/>
            <a:ext cx="2640240" cy="1092240"/>
          </a:xfrm>
          <a:prstGeom prst="rect">
            <a:avLst/>
          </a:prstGeom>
          <a:solidFill>
            <a:srgbClr val="ffffff"/>
          </a:solidFill>
          <a:ln w="50760">
            <a:solidFill>
              <a:srgbClr val="800000"/>
            </a:solidFill>
            <a:miter/>
          </a:ln>
          <a:effectLst>
            <a:outerShdw dist="71785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553080"/>
            <a:ext cx="2614680" cy="853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ritten and illustrated by </a:t>
            </a:r>
            <a:br>
              <a:rPr sz="16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Kathleen Kotch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31920" y="1376280"/>
            <a:ext cx="4368960" cy="5830920"/>
          </a:xfrm>
          <a:prstGeom prst="rect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057400" y="2362320"/>
          <a:ext cx="297180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2362320"/>
                    <a:ext cx="29718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2:20:24Z</dcterms:created>
  <dc:creator>Kathleen Kotchon</dc:creator>
  <dc:description/>
  <dc:language>en-US</dc:language>
  <cp:lastModifiedBy>donna baker</cp:lastModifiedBy>
  <dcterms:modified xsi:type="dcterms:W3CDTF">2001-08-04T00:22:58Z</dcterms:modified>
  <cp:revision>12</cp:revision>
  <dc:subject>A Guide for Stage Makeup</dc:subject>
  <dc:title>covers</dc:title>
</cp:coreProperties>
</file>