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8A0-E87B-4F12-9C79-982C1716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1E4-8480-4DF3-8E52-885AEF5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E7A-B490-425B-B011-72FD33B2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CDD-08DA-4EC8-8588-519F2A0E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91D-6D8B-4E12-979B-3669EE6C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C10-1A4A-4BE5-B5D7-76F16AB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0D7-0B33-4B94-ACB9-B93E738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320-A9FD-4ED8-8A01-ADE7F8EC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ADF-B6AF-4E81-8518-513F20E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1ED-0DC9-47CE-8705-943DB9D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95A-CC80-471C-BC83-E2C01B5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15C-3E15-43AD-A3D3-1B139AF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9C6-0270-4DA8-B4BE-220A4B09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8600" y="1763640"/>
            <a:ext cx="2600280" cy="3392640"/>
            <a:chOff x="498600" y="1763640"/>
            <a:chExt cx="2600280" cy="3392640"/>
          </a:xfrm>
        </p:grpSpPr>
        <p:sp>
          <p:nvSpPr>
            <p:cNvPr id="42" name=""/>
            <p:cNvSpPr/>
            <p:nvPr/>
          </p:nvSpPr>
          <p:spPr>
            <a:xfrm>
              <a:off x="498600" y="1763640"/>
              <a:ext cx="2600280" cy="3392640"/>
            </a:xfrm>
            <a:prstGeom prst="rect">
              <a:avLst/>
            </a:prstGeom>
            <a:gradFill rotWithShape="0">
              <a:gsLst>
                <a:gs pos="0">
                  <a:srgbClr val="570000"/>
                </a:gs>
                <a:gs pos="50000">
                  <a:srgbClr val="800000"/>
                </a:gs>
                <a:gs pos="100000">
                  <a:srgbClr val="570000"/>
                </a:gs>
              </a:gsLst>
              <a:lin ang="135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679320" y="1855800"/>
            <a:ext cx="2381400" cy="31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9320" y="1855800"/>
                      <a:ext cx="2381400" cy="31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504720" y="511200"/>
            <a:ext cx="88920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9120" y="51588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7680" y="51912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6880" y="51912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960" y="541440"/>
            <a:ext cx="888840" cy="81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1752480"/>
            <a:ext cx="30477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 GUIDE FOR STAGE MAKE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4876920"/>
          <a:ext cx="2984400" cy="36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876920"/>
                    <a:ext cx="29844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657600" y="5410080"/>
            <a:ext cx="228600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ep-by-step application of basic makeup for the amateur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77120"/>
            <a:ext cx="264024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  <a:effectLst>
            <a:outerShdw dist="71785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553080"/>
            <a:ext cx="2614680" cy="853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ritten and illustrated by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athleen Kotc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31920" y="1376280"/>
            <a:ext cx="4368960" cy="583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057400" y="2362320"/>
          <a:ext cx="29718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362320"/>
                    <a:ext cx="2971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2:20:24Z</dcterms:created>
  <dc:creator>Kathleen Kotchon</dc:creator>
  <dc:description/>
  <dc:language>en-US</dc:language>
  <cp:lastModifiedBy>donna baker</cp:lastModifiedBy>
  <dcterms:modified xsi:type="dcterms:W3CDTF">2001-08-04T00:22:58Z</dcterms:modified>
  <cp:revision>12</cp:revision>
  <dc:subject>A Guide for Stage Makeup</dc:subject>
  <dc:title>covers</dc:title>
</cp:coreProperties>
</file>