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A364-C473-4400-B3AC-70686D06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91BE-8F6E-4AB7-ADB4-BC6EC622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08EB-7D75-4183-8B85-DE016F31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E00F-915C-4DD2-84F3-570D5A3E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D5C7-B1CF-466A-8CCA-8BADC615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696F-3742-4F16-BE8C-1603E94A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7929-A761-44D8-A369-DD12AF8B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C2B0-A225-4113-8942-F1C28290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868B-3130-4FC4-94A7-453108A0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201-C024-4942-8F29-5BC80D8D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D3C6-2A99-412C-A0B2-7C51A2C5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F569-9726-4690-876E-EF0F0F5A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F690-AE3C-4CEF-9E21-3F4828405D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lustrating the power of “choose” and “forall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59880"/>
            <a:ext cx="8940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nerating  all and only the pairs vw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* of different words v,w of same length (i.e. v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w and |v| = |w|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choose  n, i with i &lt;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choose a,b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with a 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v(i) :=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w(i) := b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forall j &lt; n, j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choose a,b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v(j) : =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w(j) :=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hen all possible choices are realized,  the set of reachable states vw of this ASM, started with (say)  a b for some a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b, is the set of all vw with v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w and |v| = |w|.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etri-asm1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5770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5880" y="5730840"/>
            <a:ext cx="1462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st v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 n, i, j : </a:t>
            </a:r>
            <a:r>
              <a:rPr b="0" lang="de-DE" sz="2400" spc="-1" strike="noStrike">
                <a:solidFill>
                  <a:srgbClr val="000000"/>
                </a:solidFill>
                <a:latin typeface="Math5"/>
                <a:ea typeface="Math5"/>
              </a:rPr>
              <a:t>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 a, b :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34520" y="0"/>
            <a:ext cx="609480" cy="2387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6064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quiv Petri ne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generating one word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66960" y="5842080"/>
            <a:ext cx="7277040" cy="1015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transition q:  at place B 1 mark is produced for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place C n-1 marks are produced for arbitrary le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etri-asm2" descr=""/>
          <p:cNvPicPr/>
          <p:nvPr/>
        </p:nvPicPr>
        <p:blipFill>
          <a:blip r:embed="rId1"/>
          <a:stretch/>
        </p:blipFill>
        <p:spPr>
          <a:xfrm>
            <a:off x="1066680" y="0"/>
            <a:ext cx="7675560" cy="603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1600" y="5410080"/>
            <a:ext cx="35236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st v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 n, i, j : </a:t>
            </a:r>
            <a:r>
              <a:rPr b="0" lang="de-DE" sz="2400" spc="-1" strike="noStrike">
                <a:solidFill>
                  <a:srgbClr val="000000"/>
                </a:solidFill>
                <a:latin typeface="Math5"/>
                <a:ea typeface="Math5"/>
              </a:rPr>
              <a:t>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 a, b,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y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3873600" cy="673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the iteration con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34520" y="0"/>
            <a:ext cx="609480" cy="2387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27400" y="6032520"/>
            <a:ext cx="501660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word has been complet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deleted to produce the next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lustrating the power of “forall” and “choose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59880"/>
            <a:ext cx="8940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enerating  the words over alphabet {0,1} of length at least n with a 1 in the n-th place, i.e. the words of form v1w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n-1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 {0,1}*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forall  n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N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              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choose v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{0,1}</a:t>
            </a:r>
            <a:r>
              <a:rPr b="0" lang="it-IT" sz="3200" spc="-1" strike="noStrike" baseline="30000">
                <a:solidFill>
                  <a:srgbClr val="3333cc"/>
                </a:solidFill>
                <a:latin typeface="Arial"/>
              </a:rPr>
              <a:t>n-1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              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choose w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{0,1}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                           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out(n) := v1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B. For each n, there is a non-deterministic FSM with O(n) states which accepts the set {0,1}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n-1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 {0,1}* , but every deterministic FSM accepting this set has at least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 of non-determi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= {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#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w and |v| = |w| = n}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xercise. Show that for each n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an be accepted by a non-deterministic finite automaton with O(n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very unambiguous  automaton accept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eds at least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. R. Kintala and K-Y P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tsch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ise representations of regular languages by degree and probabilistic finite autom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n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h. Systems The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6 (4) 1993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79—39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14:29:43Z</dcterms:created>
  <dc:creator>top10</dc:creator>
  <dc:description/>
  <dc:language>en-US</dc:language>
  <cp:lastModifiedBy>Egon Boerger</cp:lastModifiedBy>
  <dcterms:modified xsi:type="dcterms:W3CDTF">2002-04-07T17:45:22Z</dcterms:modified>
  <cp:revision>20</cp:revision>
  <dc:subject>Examples illustrating choose/forall</dc:subject>
  <dc:title>ASM constructs choose and forall</dc:title>
</cp:coreProperties>
</file>