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B27E-C0DC-40FD-BCDD-662BDCEE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46F7-3533-492D-A28C-7D004ECD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D2DE-9BFC-48E6-A857-64E57840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09EC-385A-4519-9652-89813A8D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0533-C95B-4C06-BDB6-491FBC60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FDD9-BEA0-4868-8EF0-6063B8B7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AAE-6B42-4CE8-95A2-3E8C85EB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7EA-26C9-416B-B9BD-45B23B14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BA6D-7D96-4498-A8B6-EBA444DE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1F48-DF32-4F1E-A65B-58550AF2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E9E-DD4C-4088-A72B-E674A10D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6018-9FAD-493D-B7F2-9B577BD8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39A5-27BE-4D3D-B50C-F3BF2DA3E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way’s game of life: cell evolution ru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838080"/>
            <a:ext cx="1752840" cy="533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all c in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590920"/>
            <a:ext cx="2666880" cy="609480"/>
          </a:xfrm>
          <a:prstGeom prst="hexagon">
            <a:avLst>
              <a:gd name="adj" fmla="val 109392"/>
              <a:gd name="vf" fmla="val 11547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veNeighb(c) =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3962520"/>
            <a:ext cx="1600200" cy="4572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me(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2514600"/>
            <a:ext cx="3200400" cy="762120"/>
          </a:xfrm>
          <a:prstGeom prst="hexagon">
            <a:avLst>
              <a:gd name="adj" fmla="val 104983"/>
              <a:gd name="vf" fmla="val 11547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veNeighb(c) &lt;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liveNeighb(c) &gt;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3962520"/>
            <a:ext cx="1676520" cy="4572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pend(c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4" idx="0"/>
          </p:cNvCxnSpPr>
          <p:nvPr/>
        </p:nvCxnSpPr>
        <p:spPr>
          <a:xfrm>
            <a:off x="2019240" y="3200400"/>
            <a:ext cx="360" cy="7624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5" idx="2"/>
            <a:endCxn id="46" idx="0"/>
          </p:cNvCxnSpPr>
          <p:nvPr/>
        </p:nvCxnSpPr>
        <p:spPr>
          <a:xfrm>
            <a:off x="7238880" y="3276720"/>
            <a:ext cx="360" cy="6861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495680" y="50292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6" idx="2"/>
          </p:cNvCxnSpPr>
          <p:nvPr/>
        </p:nvCxnSpPr>
        <p:spPr>
          <a:xfrm rot="5400000">
            <a:off x="5600160" y="3314520"/>
            <a:ext cx="533520" cy="2743920"/>
          </a:xfrm>
          <a:prstGeom prst="bentConnector3">
            <a:avLst>
              <a:gd name="adj1" fmla="val 71303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2"/>
          </p:cNvCxnSpPr>
          <p:nvPr/>
        </p:nvCxnSpPr>
        <p:spPr>
          <a:xfrm flipH="1" rot="16200000">
            <a:off x="2990520" y="3448080"/>
            <a:ext cx="533520" cy="2476080"/>
          </a:xfrm>
          <a:prstGeom prst="bentConnector3">
            <a:avLst>
              <a:gd name="adj1" fmla="val 71303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629400" y="3429000"/>
            <a:ext cx="546120" cy="337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429000"/>
            <a:ext cx="647640" cy="337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371600"/>
            <a:ext cx="8534520" cy="3886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5335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213372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20574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5600880"/>
            <a:ext cx="9144000" cy="847800"/>
            <a:chOff x="0" y="5600880"/>
            <a:chExt cx="9144000" cy="847800"/>
          </a:xfrm>
        </p:grpSpPr>
        <p:sp>
          <p:nvSpPr>
            <p:cNvPr id="59" name=""/>
            <p:cNvSpPr/>
            <p:nvPr/>
          </p:nvSpPr>
          <p:spPr>
            <a:xfrm>
              <a:off x="0" y="5600880"/>
              <a:ext cx="2971800" cy="5331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ume(c) = alive(c) := tr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94360" y="5600880"/>
              <a:ext cx="3149640" cy="520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spend(c) = alive(c) := fal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9680" y="6172200"/>
              <a:ext cx="4572000" cy="27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sume/suspend includes staying alive/de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way Game of L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5390-C70D-4C02-BE05-62E79E0874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way’s Game of Lif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352680" y="1676520"/>
            <a:ext cx="1600200" cy="1143000"/>
            <a:chOff x="3352680" y="1676520"/>
            <a:chExt cx="1600200" cy="1143000"/>
          </a:xfrm>
        </p:grpSpPr>
        <p:sp>
          <p:nvSpPr>
            <p:cNvPr id="64" name=""/>
            <p:cNvSpPr/>
            <p:nvPr/>
          </p:nvSpPr>
          <p:spPr>
            <a:xfrm>
              <a:off x="33526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812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098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384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670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956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242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526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1280" y="19051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098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384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670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956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52680" y="2133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81280" y="21337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09880" y="2133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38480" y="2133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67080" y="21337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95680" y="21337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24280" y="21337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23623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98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4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956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242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526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812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098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384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670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56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242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200400" y="2971800"/>
            <a:ext cx="2057400" cy="2590920"/>
            <a:chOff x="3200400" y="2971800"/>
            <a:chExt cx="2057400" cy="2590920"/>
          </a:xfrm>
        </p:grpSpPr>
        <p:sp>
          <p:nvSpPr>
            <p:cNvPr id="100" name=""/>
            <p:cNvSpPr/>
            <p:nvPr/>
          </p:nvSpPr>
          <p:spPr>
            <a:xfrm>
              <a:off x="4114800" y="2971800"/>
              <a:ext cx="228600" cy="1447920"/>
            </a:xfrm>
            <a:prstGeom prst="downArrow">
              <a:avLst>
                <a:gd name="adj1" fmla="val 48333"/>
                <a:gd name="adj2" fmla="val 141691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90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76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148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290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4876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148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34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43400" y="4876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006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576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57600" y="4876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576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14800" y="4876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0" y="46483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4876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1055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290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6200" y="4876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434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00600" y="4876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06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576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862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148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434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006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00400" y="3352680"/>
              <a:ext cx="2057400" cy="533520"/>
            </a:xfrm>
            <a:custGeom>
              <a:avLst/>
              <a:gdLst>
                <a:gd name="textAreaLeft" fmla="*/ 442800 w 2057400"/>
                <a:gd name="textAreaRight" fmla="*/ 1614600 w 2057400"/>
                <a:gd name="textAreaTop" fmla="*/ 114840 h 533520"/>
                <a:gd name="textAreaBottom" fmla="*/ 4186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7440" y="3429000"/>
              <a:ext cx="172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 evolv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way Game of L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0CE-F03B-4EF6-90CA-012329AEA89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04-02T11:25:59Z</dcterms:modified>
  <cp:revision>706</cp:revision>
  <dc:subject>Illustrating parallel synchronism of ASMs</dc:subject>
  <dc:title>ASM model for Conway's Game of Life</dc:title>
</cp:coreProperties>
</file>