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7C4-5A84-4DA7-800D-E7380344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22B-4FFE-427C-AB4C-7C9B76BC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056-CCF0-4622-8BC8-455159C8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D99-4251-4166-82BE-136A2733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939-C195-4B76-84DE-51233BD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006-C971-4674-A61C-B7BBFBBE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A81-A918-47BD-9D06-1BE40D90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EDA-4EF4-4A82-8D36-A9638FD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169-BA9F-4ED5-8806-99FC3FBA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6D4-F8E2-490F-A4E5-9CBB633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DF9-A75E-4B78-862D-C3F8C83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44C-60EA-4A98-A4DA-0C397C30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F10-B547-4A23-A000-0BA9CBA26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urner 1993)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blem Descrip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sign a system for the following multi-player g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A Daemon generates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Bump signals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at random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Players in system env have to guess whether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generated Bump signals is odd or even,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y sending 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b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signal. The system replies by sending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in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resp.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Los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if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the generated Bump signals is odd resp. e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ystem keeps track of the score of each player. The score is initially 0. It is increased (decreased) by 1 for each (un) successful guess. A player can ask for the current value of the score by the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esult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which is answered by the system with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Sc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efore a player can start playing , the player must log in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A player logs out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d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The system allocates a player a unique ID on logging in, and de-allocates it on logging out. The system cannot tell whether different IDs are being used by the same play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846-B628-4B46-8D13-0CEC5084A0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agent ASM for Daemon Gam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global dynamic extern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t issui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aem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514600"/>
            <a:ext cx="8610840" cy="1066680"/>
            <a:chOff x="380880" y="2514600"/>
            <a:chExt cx="8610840" cy="1066680"/>
          </a:xfrm>
        </p:grpSpPr>
        <p:sp>
          <p:nvSpPr>
            <p:cNvPr id="45" name=""/>
            <p:cNvSpPr/>
            <p:nvPr/>
          </p:nvSpPr>
          <p:spPr>
            <a:xfrm>
              <a:off x="5410080" y="259092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29718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Prob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57600" y="3048120"/>
              <a:ext cx="1905120" cy="457200"/>
            </a:xfrm>
            <a:prstGeom prst="hexagon">
              <a:avLst>
                <a:gd name="adj" fmla="val 10417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nning(lo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2514600"/>
              <a:ext cx="2514600" cy="5335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 : = p.score  +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W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327672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6" idx="3"/>
              <a:endCxn id="47" idx="1"/>
            </p:cNvCxnSpPr>
            <p:nvPr/>
          </p:nvCxnSpPr>
          <p:spPr>
            <a:xfrm>
              <a:off x="3200400" y="3276360"/>
              <a:ext cx="457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7" idx="3"/>
              <a:endCxn id="48" idx="1"/>
            </p:cNvCxnSpPr>
            <p:nvPr/>
          </p:nvCxnSpPr>
          <p:spPr>
            <a:xfrm flipV="1">
              <a:off x="5562360" y="278100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8763120" y="28195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410080" y="3276720"/>
            <a:ext cx="3581640" cy="761760"/>
            <a:chOff x="5410080" y="3276720"/>
            <a:chExt cx="3581640" cy="761760"/>
          </a:xfrm>
        </p:grpSpPr>
        <p:sp>
          <p:nvSpPr>
            <p:cNvPr id="54" name=""/>
            <p:cNvSpPr/>
            <p:nvPr/>
          </p:nvSpPr>
          <p:spPr>
            <a:xfrm>
              <a:off x="5410080" y="358128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8520" y="3505320"/>
              <a:ext cx="25146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: = p.score  -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L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7" idx="3"/>
              <a:endCxn id="55" idx="1"/>
            </p:cNvCxnSpPr>
            <p:nvPr/>
          </p:nvCxnSpPr>
          <p:spPr>
            <a:xfrm>
              <a:off x="5562360" y="327672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8763120" y="37339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4266720"/>
            <a:ext cx="5867640" cy="1067400"/>
            <a:chOff x="380880" y="4266720"/>
            <a:chExt cx="5867640" cy="1067400"/>
          </a:xfrm>
        </p:grpSpPr>
        <p:sp>
          <p:nvSpPr>
            <p:cNvPr id="59" name=""/>
            <p:cNvSpPr/>
            <p:nvPr/>
          </p:nvSpPr>
          <p:spPr>
            <a:xfrm>
              <a:off x="533520" y="4724280"/>
              <a:ext cx="2666880" cy="609840"/>
            </a:xfrm>
            <a:prstGeom prst="hexagon">
              <a:avLst>
                <a:gd name="adj" fmla="val 10932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Resu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280" y="4838760"/>
              <a:ext cx="213372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p.scor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2" idx="2"/>
              <a:endCxn id="59" idx="1"/>
            </p:cNvCxnSpPr>
            <p:nvPr/>
          </p:nvCxnSpPr>
          <p:spPr>
            <a:xfrm flipH="1" rot="16200000">
              <a:off x="152280" y="4647600"/>
              <a:ext cx="610200" cy="153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60" idx="1"/>
            </p:cNvCxnSpPr>
            <p:nvPr/>
          </p:nvCxnSpPr>
          <p:spPr>
            <a:xfrm>
              <a:off x="3200400" y="502884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248520" y="4266720"/>
              <a:ext cx="0" cy="762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5041440"/>
            <a:ext cx="5868000" cy="1295640"/>
            <a:chOff x="380880" y="5041440"/>
            <a:chExt cx="5868000" cy="1295640"/>
          </a:xfrm>
        </p:grpSpPr>
        <p:sp>
          <p:nvSpPr>
            <p:cNvPr id="67" name=""/>
            <p:cNvSpPr/>
            <p:nvPr/>
          </p:nvSpPr>
          <p:spPr>
            <a:xfrm>
              <a:off x="533520" y="57276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EndG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5842080"/>
              <a:ext cx="205740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ete p from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5041800"/>
              <a:ext cx="0" cy="99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7" idx="1"/>
            </p:cNvCxnSpPr>
            <p:nvPr/>
          </p:nvCxnSpPr>
          <p:spPr>
            <a:xfrm>
              <a:off x="380880" y="6032160"/>
              <a:ext cx="153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3"/>
              <a:endCxn id="68" idx="1"/>
            </p:cNvCxnSpPr>
            <p:nvPr/>
          </p:nvCxnSpPr>
          <p:spPr>
            <a:xfrm>
              <a:off x="3200400" y="603216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8" idx="3"/>
              <a:endCxn id="65" idx="0"/>
            </p:cNvCxnSpPr>
            <p:nvPr/>
          </p:nvCxnSpPr>
          <p:spPr>
            <a:xfrm flipV="1">
              <a:off x="5638680" y="5041440"/>
              <a:ext cx="610560" cy="99144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7010280" y="0"/>
            <a:ext cx="2133720" cy="49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&amp; play r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851040"/>
            <a:ext cx="8991720" cy="5727600"/>
            <a:chOff x="0" y="851040"/>
            <a:chExt cx="8991720" cy="5727600"/>
          </a:xfrm>
        </p:grpSpPr>
        <p:sp>
          <p:nvSpPr>
            <p:cNvPr id="75" name=""/>
            <p:cNvSpPr/>
            <p:nvPr/>
          </p:nvSpPr>
          <p:spPr>
            <a:xfrm>
              <a:off x="0" y="1308240"/>
              <a:ext cx="8991720" cy="525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851040"/>
              <a:ext cx="8978760" cy="5727600"/>
              <a:chOff x="0" y="851040"/>
              <a:chExt cx="8978760" cy="57276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851040"/>
                <a:ext cx="8940960" cy="44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all usr in USER , forall p in PLA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2000" y="5753160"/>
                <a:ext cx="2336760" cy="825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ynchronizing us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plays in parall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0" y="1460520"/>
            <a:ext cx="8991720" cy="2971800"/>
            <a:chOff x="0" y="1460520"/>
            <a:chExt cx="8991720" cy="297180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1460520"/>
              <a:ext cx="8763120" cy="2971800"/>
              <a:chOff x="228600" y="1460520"/>
              <a:chExt cx="8763120" cy="2971800"/>
            </a:xfrm>
          </p:grpSpPr>
          <p:sp>
            <p:nvSpPr>
              <p:cNvPr id="81" name=""/>
              <p:cNvSpPr/>
              <p:nvPr/>
            </p:nvSpPr>
            <p:spPr>
              <a:xfrm>
                <a:off x="533520" y="1460520"/>
                <a:ext cx="2666880" cy="609480"/>
              </a:xfrm>
              <a:prstGeom prst="hexagon">
                <a:avLst>
                  <a:gd name="adj" fmla="val 109392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r.in = NewGam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&amp; usr in US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81280" y="1498680"/>
                <a:ext cx="2210040" cy="53316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 p = new (PLAY)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.initializ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" y="4127400"/>
                <a:ext cx="304920" cy="304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3" name=""/>
              <p:cNvCxnSpPr>
                <a:stCxn id="62" idx="0"/>
                <a:endCxn id="81" idx="1"/>
              </p:cNvCxnSpPr>
              <p:nvPr/>
            </p:nvCxnSpPr>
            <p:spPr>
              <a:xfrm flipH="1" flipV="1" rot="5400000">
                <a:off x="-724320" y="2869560"/>
                <a:ext cx="2363040" cy="1533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84" name=""/>
              <p:cNvCxnSpPr>
                <a:stCxn id="81" idx="3"/>
                <a:endCxn id="82" idx="1"/>
              </p:cNvCxnSpPr>
              <p:nvPr/>
            </p:nvCxnSpPr>
            <p:spPr>
              <a:xfrm>
                <a:off x="3200400" y="1764720"/>
                <a:ext cx="38160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5791320" y="1765080"/>
                <a:ext cx="3200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91720" y="1765080"/>
                <a:ext cx="0" cy="2514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6" idx="0"/>
                <a:endCxn id="62" idx="3"/>
              </p:cNvCxnSpPr>
              <p:nvPr/>
            </p:nvCxnSpPr>
            <p:spPr>
              <a:xfrm flipH="1">
                <a:off x="532800" y="4279320"/>
                <a:ext cx="845892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sp>
          <p:nvSpPr>
            <p:cNvPr id="88" name=""/>
            <p:cNvSpPr/>
            <p:nvPr/>
          </p:nvSpPr>
          <p:spPr>
            <a:xfrm>
              <a:off x="0" y="427968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850-AE7C-41A3-831F-6BCD8899EC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.initializ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= p.score: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Is t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(lot issuing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Daemon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tegral part of the description’ or ‘artefact of the informal explanation’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bump count global </a:t>
            </a:r>
            <a:r>
              <a:rPr b="0" lang="it-IT" sz="1600" spc="-1" strike="noStrike">
                <a:solidFill>
                  <a:srgbClr val="ff9966"/>
                </a:solidFill>
                <a:latin typeface="Arial"/>
              </a:rPr>
              <a:t>(‘since the system started’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or pe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oth questions are abou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nature of a lo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global or local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Monitored fc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s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winning/losing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ot</a:t>
            </a:r>
            <a:r>
              <a:rPr b="0" lang="it-IT" sz="1800" spc="-1" strike="noStrike">
                <a:solidFill>
                  <a:srgbClr val="ff9966"/>
                </a:solidFill>
                <a:latin typeface="Arial"/>
              </a:rPr>
              <a:t>, Bump counter increasing  by 1, </a:t>
            </a:r>
            <a:r>
              <a:rPr b="0" lang="it-IT" sz="1800" spc="-1" strike="noStrike">
                <a:solidFill>
                  <a:srgbClr val="f2cab8"/>
                </a:solidFill>
                <a:latin typeface="Arial"/>
              </a:rPr>
              <a:t>alternating  0-1-f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gent with rule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forall p in PLAY  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:=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1 –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Derived fct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bump = bump–p.bump</a:t>
            </a:r>
            <a:r>
              <a:rPr b="0" lang="it-IT" sz="2000" spc="-1" strike="noStrike" baseline="-25000">
                <a:solidFill>
                  <a:srgbClr val="f2cab8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with global bump, adding to p.initialize the update p.bump</a:t>
            </a:r>
            <a:r>
              <a:rPr b="0" lang="it-IT" sz="2000" spc="-1" strike="noStrike" baseline="-25000">
                <a:solidFill>
                  <a:srgbClr val="ff9966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= b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entification of players and games: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’Presumably some identifiers are needed, but how should they be allocated and what should they distinguish?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‘The players should be an anonymous part of the env of the system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new(PLAY) adds fresh elements p to PLAY, identified as instance paramet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ossible to link user and play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dding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user:= sender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to p.initial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E1A-13BC-4ABD-B122-DFE48B7565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 (Cont’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0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ruption of Probe or Result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‘Should it be allowable for another signal to be processed by the system bw Probe and Win/Lose, or bw Result and Score?’ ‘Probe and Result should be followed by their respective responses before any other signal is processed.’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atomicity of ASM rule ex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obustness Condi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who is already logged in tries to issue NewGame again?’  ‘NewGame should be allowed to happen in a current game, but should be ignored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issues any signal other than NewGame before logging into a game?’ ‘The intention was to allow Probe, Result, or EndGame when a game is not current, but to ignore these signals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no ASM rule being applicable (equiv to SK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cluding behaviour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What should happen if the player issues Win, Lose, or Score signals?’ ‘The intention was to disallow such behaviour:it simply must not happen, as opposed to happening but be ignored.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xcluded by sign cond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x.in = NewGame, Probe, Result, EndG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8E53-B754-434E-9DD9-236C36ED0F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Referen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K. J. Turner (Ed.): Using Formal Description Techniques – An Introduction to Estelle, LOTOS and SD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John Wiley, New York,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 Petri net solution see section 11 (in particular Fig. 7, pg.314)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J. Billington: Protocol Specification Using P-Graphs, a Technique Based on Coloured Petri Nets.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: W. Reisig, G. Rozenberg (Eds.): Lectures on Petri Nets II: Applications. Springer LNCS 1492 (1998) 293-33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Chapter 2.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01C-2A73-42B2-A870-AC3995307F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59Z</dcterms:modified>
  <cp:revision>710</cp:revision>
  <dc:subject>Illustrating ASM construct forall</dc:subject>
  <dc:title>ASM Model for Daemon Game </dc:title>
</cp:coreProperties>
</file>