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367-E600-4C07-8580-27D77E14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8A0-63E0-45DD-A8AA-64A7820F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DCE-CA51-443D-9D93-279C4384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66E-F5F4-4740-B87E-A8EAE9F2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8D0B-C92B-47BD-9342-7AB19879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5B2-A929-4259-9E96-C4DFA894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3BC-C81F-4D1B-98B0-586B62DB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D63-E491-480D-9C6B-49123600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856-F057-4771-BAAA-C313A0C4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C25-3BFD-4F49-9DA1-DE3EC602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DEE-971D-4E15-BE24-BE1ACC34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F537-67B1-403E-BF30-BB553EC3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A051-9ADB-4B1B-8395-19D9D0B3A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Exclusive Use of Shared Resources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(Dining Philosophers Problem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lusive use of shared resources: problem stat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tha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every interested agent to eventually use some shared resource in exclusive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s two users to use the shared resource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g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et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ts each equipped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ource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sourc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(different agents may have the same resour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wner: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source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Agen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cording the current user of a given re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algorithm has to manipulate updates of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owne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n such a way that every attempt by an agent to become owner of his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resour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will eventually succ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4AD-30C2-48DA-A936-F8BB66CF45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lusive use of shared resources: single agent view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711000"/>
            <a:ext cx="87249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he algorithm has to manipulate updates of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owner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in such a way that every attempt by an agent to become owner of his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resourc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ill eventually succ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very single agent would like to execute alternately the following two ru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1640" y="3762360"/>
            <a:ext cx="4216680" cy="70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wner(resource) = n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n owner(resource):= sel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11680" y="3749760"/>
            <a:ext cx="4267080" cy="70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wner(resource) = sel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n owner(resource):= n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440" y="4800600"/>
            <a:ext cx="8775720" cy="1739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flicts in using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resour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shared among different agent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re risolved by defining a partial order among possibly conflicting moves in a distributed (appropriately initialized) run of an async ASM. Realizing such an order reflects appropriate scheduling and priority polic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7FD-0B2C-4BBC-B02C-D299BE688A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ning Philosopher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llustrating exclusive use of shared resour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054080"/>
            <a:ext cx="8978760" cy="1190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hared resources represented as “forks” used by “philosophers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source assigning function F: depends on the neighbourhood in the underlying gra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.g. each agent may have one left and one right neighbour sharing the resource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k = (leftF,rightF) with elementwise defined Ow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05080" y="2577960"/>
            <a:ext cx="4057200" cy="2222280"/>
            <a:chOff x="2305080" y="2577960"/>
            <a:chExt cx="4057200" cy="2222280"/>
          </a:xfrm>
        </p:grpSpPr>
        <p:sp>
          <p:nvSpPr>
            <p:cNvPr id="54" name=""/>
            <p:cNvSpPr/>
            <p:nvPr/>
          </p:nvSpPr>
          <p:spPr>
            <a:xfrm>
              <a:off x="2305080" y="2590560"/>
              <a:ext cx="799920" cy="66060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left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76760" y="2577960"/>
              <a:ext cx="785520" cy="66024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right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77920" y="3885840"/>
              <a:ext cx="912600" cy="914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ph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/>
            <p:nvPr/>
          </p:nvCxnSpPr>
          <p:spPr>
            <a:xfrm>
              <a:off x="2999880" y="3141000"/>
              <a:ext cx="1348200" cy="7326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/>
            <p:nvPr/>
          </p:nvCxnSpPr>
          <p:spPr>
            <a:xfrm flipH="1">
              <a:off x="4347720" y="3128760"/>
              <a:ext cx="1355760" cy="7452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/>
            <p:nvPr/>
          </p:nvCxnSpPr>
          <p:spPr>
            <a:xfrm flipV="1">
              <a:off x="4803480" y="3199680"/>
              <a:ext cx="1180080" cy="11059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/>
            <p:nvPr/>
          </p:nvCxnSpPr>
          <p:spPr>
            <a:xfrm rot="10800000">
              <a:off x="2678760" y="3250440"/>
              <a:ext cx="1173600" cy="10926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254160" y="5313240"/>
            <a:ext cx="8686800" cy="959400"/>
            <a:chOff x="254160" y="5313240"/>
            <a:chExt cx="8686800" cy="959400"/>
          </a:xfrm>
        </p:grpSpPr>
        <p:sp>
          <p:nvSpPr>
            <p:cNvPr id="62" name=""/>
            <p:cNvSpPr/>
            <p:nvPr/>
          </p:nvSpPr>
          <p:spPr>
            <a:xfrm>
              <a:off x="254160" y="5313240"/>
              <a:ext cx="4368600" cy="948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 owner(leftF) = owner(rightF) = n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n owner(leftF):= sel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wner(rightF):= self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88000" y="5324400"/>
              <a:ext cx="4152960" cy="948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 owner(leftF) = owner(rightF) = sel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n owner(leftF):= n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wner(rightF):= none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80C-5E70-4277-97A4-65D5D0976E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D92-4177-4322-9B1E-45885631CA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3:12Z</dcterms:modified>
  <cp:revision>716</cp:revision>
  <dc:subject/>
  <dc:title>ASM model for dining philosophers</dc:title>
</cp:coreProperties>
</file>