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1D27-1E8F-485E-9021-3D434D5F6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A21A-0509-42D0-A5EE-B99D555BD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4312-74B9-4A13-BBB6-AA2375FC4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6EE5-84E1-41C6-B232-E81A9A5CE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90A1-BE9B-436E-AB5F-CF806DB56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17A7-F87B-4503-A697-4022AB8F0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7C0A-D188-46FC-AA6D-8354CB585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BAFB-B89B-4800-8C29-721F3F1E2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0BCF-1BA9-4716-B0AB-2DB1368FF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FCCB-DD8F-4C95-904C-99EFA275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DBF0-CC74-4927-BAA8-B64F3815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C029-EE66-4185-9C68-9DD73E03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EE62-9CFF-49DC-B6C0-09A28D35D4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i.unipi.it/~boerger" TargetMode="External"/><Relationship Id="rId2" Type="http://schemas.openxmlformats.org/officeDocument/2006/relationships/hyperlink" Target="http://www.di.unipi.it/~boerger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di.unipi.it/~AsmBook" TargetMode="External"/><Relationship Id="rId2" Type="http://schemas.openxmlformats.org/officeDocument/2006/relationships/hyperlink" Target="http://www.di.unipi.it/~AsmBook" TargetMode="External"/><Relationship Id="rId3" Type="http://schemas.openxmlformats.org/officeDocument/2006/relationships/hyperlink" Target="http://www.di.unipi.it/~AsmBook" TargetMode="External"/><Relationship Id="rId4" Type="http://schemas.openxmlformats.org/officeDocument/2006/relationships/hyperlink" Target="http://www.di.unipi.it/~AsmBook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0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ffff00"/>
                </a:solidFill>
                <a:latin typeface="Arial"/>
              </a:rPr>
              <a:t>Asynchronous ASMs</a:t>
            </a: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Network Leader Elec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3565080"/>
            <a:ext cx="9296280" cy="31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on Bör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partimento di Informatica, Universita di Pis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~</a:t>
            </a: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boer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5335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9880" y="0"/>
            <a:ext cx="786132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1200" y="571320"/>
            <a:ext cx="8902800" cy="57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.Reisig: Elements of Distributed Algorithm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ringer-Verlag 199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 Section 32 (in particular Fig. 32.1 and 32.2) and Section 76 for a correctness proo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 Börger, R. Stärk: Abstract State Machines.  A Method for High-Level System Design and Analysis Springer-Verlag  2003, see  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unipi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3"/>
              </a:rPr>
              <a:t>.it/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4"/>
              </a:rPr>
              <a:t>AsmBoo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e Chapter 6.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Network Leader Ele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0649-29EB-433C-8968-2F566CCE7C2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Leader Election: problem statemen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7840" y="1028520"/>
            <a:ext cx="896616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al: Design a distributed algorithm  for the election of a leader in finite connected networks of homogeneous agents, using only communication (message passing) between neighbor nod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umptio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 nodes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n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are connected &amp;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linearly orde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der =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g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wrt the linear order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&l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gorithmic Idea: every agent (network nod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proposes to his neighbo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is current leader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a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a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check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leader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posal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eceived from his neighb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pon detecting a proposal which improves his leader candidate he improves his candidate  for his next propos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tually cand=max(Agent) holds for all agent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Network Leader Ele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5418-BB7D-4AC4-897B-3B2C3DBD908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Leader Election: Agent Signatur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7840" y="1028520"/>
            <a:ext cx="896616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gen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finite linearly ordered connected se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&lt;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ear order of Agent (external func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der =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Agent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rt the linear order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agent equipped with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eighb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Agent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(external func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and: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Ag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(controlled func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posals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Agent                    (controlled func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ctl_stat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{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proposeToNeighbor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checkProposal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Initially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ctl_state=proposeToNeighbors, cand=self, proposals = emp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Network Leader Ele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C48B-2AA4-4EDB-8AFF-028D5D9929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Leader Election Control State ASM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914400" y="1162080"/>
            <a:ext cx="7315200" cy="1028520"/>
            <a:chOff x="914400" y="1162080"/>
            <a:chExt cx="7315200" cy="1028520"/>
          </a:xfrm>
        </p:grpSpPr>
        <p:sp>
          <p:nvSpPr>
            <p:cNvPr id="50" name=""/>
            <p:cNvSpPr/>
            <p:nvPr/>
          </p:nvSpPr>
          <p:spPr>
            <a:xfrm>
              <a:off x="914400" y="1162080"/>
              <a:ext cx="1359000" cy="10285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propo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T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Neighbor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908760" y="1181160"/>
              <a:ext cx="1320840" cy="9907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hec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Proposal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2273400" y="1523880"/>
            <a:ext cx="4635720" cy="307080"/>
            <a:chOff x="2273400" y="1523880"/>
            <a:chExt cx="4635720" cy="307080"/>
          </a:xfrm>
        </p:grpSpPr>
        <p:sp>
          <p:nvSpPr>
            <p:cNvPr id="53" name=""/>
            <p:cNvSpPr/>
            <p:nvPr/>
          </p:nvSpPr>
          <p:spPr>
            <a:xfrm>
              <a:off x="3692520" y="1523880"/>
              <a:ext cx="1758960" cy="30708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propose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4" name=""/>
            <p:cNvCxnSpPr>
              <a:stCxn id="50" idx="6"/>
              <a:endCxn id="53" idx="1"/>
            </p:cNvCxnSpPr>
            <p:nvPr/>
          </p:nvCxnSpPr>
          <p:spPr>
            <a:xfrm>
              <a:off x="2273400" y="1676160"/>
              <a:ext cx="1419840" cy="1080"/>
            </a:xfrm>
            <a:prstGeom prst="straightConnector1">
              <a:avLst/>
            </a:prstGeom>
            <a:ln w="9360">
              <a:solidFill>
                <a:srgbClr val="ff9966"/>
              </a:solidFill>
              <a:miter/>
              <a:tailEnd len="med" type="triangle" w="med"/>
            </a:ln>
          </p:spPr>
        </p:cxnSp>
        <p:cxnSp>
          <p:nvCxnSpPr>
            <p:cNvPr id="55" name=""/>
            <p:cNvCxnSpPr>
              <a:stCxn id="53" idx="3"/>
              <a:endCxn id="51" idx="2"/>
            </p:cNvCxnSpPr>
            <p:nvPr/>
          </p:nvCxnSpPr>
          <p:spPr>
            <a:xfrm>
              <a:off x="5451480" y="1676160"/>
              <a:ext cx="1458000" cy="1080"/>
            </a:xfrm>
            <a:prstGeom prst="straightConnector1">
              <a:avLst/>
            </a:prstGeom>
            <a:ln w="9360">
              <a:solidFill>
                <a:srgbClr val="ff9966"/>
              </a:solidFill>
              <a:miter/>
              <a:tailEnd len="med" type="triangle" w="med"/>
            </a:ln>
          </p:spPr>
        </p:cxnSp>
      </p:grpSp>
      <p:grpSp>
        <p:nvGrpSpPr>
          <p:cNvPr id="56" name=""/>
          <p:cNvGrpSpPr/>
          <p:nvPr/>
        </p:nvGrpSpPr>
        <p:grpSpPr>
          <a:xfrm>
            <a:off x="3417840" y="1676160"/>
            <a:ext cx="5563800" cy="2512440"/>
            <a:chOff x="3417840" y="1676160"/>
            <a:chExt cx="5563800" cy="2512440"/>
          </a:xfrm>
        </p:grpSpPr>
        <p:sp>
          <p:nvSpPr>
            <p:cNvPr id="57" name=""/>
            <p:cNvSpPr/>
            <p:nvPr/>
          </p:nvSpPr>
          <p:spPr>
            <a:xfrm>
              <a:off x="3417840" y="2556000"/>
              <a:ext cx="2308320" cy="882360"/>
            </a:xfrm>
            <a:prstGeom prst="hexagon">
              <a:avLst>
                <a:gd name="adj" fmla="val 65402"/>
                <a:gd name="vf" fmla="val 115470"/>
              </a:avLst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posal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mprov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5040" y="2695680"/>
              <a:ext cx="2168280" cy="615960"/>
            </a:xfrm>
            <a:prstGeom prst="hexagon">
              <a:avLst>
                <a:gd name="adj" fmla="val 88004"/>
                <a:gd name="vf" fmla="val 115470"/>
              </a:avLst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here are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posal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994440" y="3881520"/>
              <a:ext cx="1758960" cy="3070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empty proposa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0" name=""/>
            <p:cNvCxnSpPr>
              <a:stCxn id="51" idx="4"/>
              <a:endCxn id="58" idx="0"/>
            </p:cNvCxnSpPr>
            <p:nvPr/>
          </p:nvCxnSpPr>
          <p:spPr>
            <a:xfrm>
              <a:off x="7569000" y="2171520"/>
              <a:ext cx="1080" cy="524160"/>
            </a:xfrm>
            <a:prstGeom prst="straightConnector1">
              <a:avLst/>
            </a:prstGeom>
            <a:ln w="9360">
              <a:solidFill>
                <a:srgbClr val="ff9966"/>
              </a:solidFill>
              <a:miter/>
              <a:tailEnd len="med" type="triangle" w="med"/>
            </a:ln>
          </p:spPr>
        </p:cxnSp>
        <p:cxnSp>
          <p:nvCxnSpPr>
            <p:cNvPr id="61" name=""/>
            <p:cNvCxnSpPr>
              <a:stCxn id="58" idx="1"/>
              <a:endCxn id="57" idx="3"/>
            </p:cNvCxnSpPr>
            <p:nvPr/>
          </p:nvCxnSpPr>
          <p:spPr>
            <a:xfrm flipH="1" flipV="1">
              <a:off x="5725800" y="2996640"/>
              <a:ext cx="759600" cy="6840"/>
            </a:xfrm>
            <a:prstGeom prst="straightConnector1">
              <a:avLst/>
            </a:prstGeom>
            <a:ln w="9360">
              <a:solidFill>
                <a:srgbClr val="ff9966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7" idx="2"/>
              <a:endCxn id="59" idx="1"/>
            </p:cNvCxnSpPr>
            <p:nvPr/>
          </p:nvCxnSpPr>
          <p:spPr>
            <a:xfrm flipH="1" rot="16200000">
              <a:off x="5484600" y="2524680"/>
              <a:ext cx="596160" cy="2423160"/>
            </a:xfrm>
            <a:prstGeom prst="bentConnector2">
              <a:avLst/>
            </a:prstGeom>
            <a:ln w="9360">
              <a:solidFill>
                <a:srgbClr val="ff9966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3"/>
              <a:endCxn id="51" idx="6"/>
            </p:cNvCxnSpPr>
            <p:nvPr/>
          </p:nvCxnSpPr>
          <p:spPr>
            <a:xfrm flipH="1" flipV="1">
              <a:off x="8229240" y="1676160"/>
              <a:ext cx="524160" cy="2358000"/>
            </a:xfrm>
            <a:prstGeom prst="bentConnector3">
              <a:avLst>
                <a:gd name="adj1" fmla="val -43642"/>
              </a:avLst>
            </a:prstGeom>
            <a:ln w="9360">
              <a:solidFill>
                <a:srgbClr val="ff9966"/>
              </a:solidFill>
              <a:miter/>
              <a:tailEnd len="med" type="triangle" w="med"/>
            </a:ln>
          </p:spPr>
        </p:cxnSp>
        <p:sp>
          <p:nvSpPr>
            <p:cNvPr id="64" name=""/>
            <p:cNvSpPr/>
            <p:nvPr/>
          </p:nvSpPr>
          <p:spPr>
            <a:xfrm>
              <a:off x="4114800" y="3576600"/>
              <a:ext cx="444600" cy="30708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no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70000" y="2190240"/>
            <a:ext cx="3209760" cy="1198080"/>
            <a:chOff x="270000" y="2190240"/>
            <a:chExt cx="3209760" cy="1198080"/>
          </a:xfrm>
        </p:grpSpPr>
        <p:sp>
          <p:nvSpPr>
            <p:cNvPr id="66" name=""/>
            <p:cNvSpPr/>
            <p:nvPr/>
          </p:nvSpPr>
          <p:spPr>
            <a:xfrm>
              <a:off x="270000" y="2738520"/>
              <a:ext cx="2635200" cy="52020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improve by proposa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empty proposa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7" idx="1"/>
              <a:endCxn id="66" idx="3"/>
            </p:cNvCxnSpPr>
            <p:nvPr/>
          </p:nvCxnSpPr>
          <p:spPr>
            <a:xfrm flipH="1">
              <a:off x="2904840" y="2997000"/>
              <a:ext cx="513360" cy="1080"/>
            </a:xfrm>
            <a:prstGeom prst="straightConnector1">
              <a:avLst/>
            </a:prstGeom>
            <a:ln w="9360">
              <a:solidFill>
                <a:srgbClr val="ff9966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66" idx="0"/>
              <a:endCxn id="50" idx="4"/>
            </p:cNvCxnSpPr>
            <p:nvPr/>
          </p:nvCxnSpPr>
          <p:spPr>
            <a:xfrm flipV="1">
              <a:off x="1587240" y="2190240"/>
              <a:ext cx="6840" cy="548640"/>
            </a:xfrm>
            <a:prstGeom prst="straightConnector1">
              <a:avLst/>
            </a:prstGeom>
            <a:ln w="9360">
              <a:solidFill>
                <a:srgbClr val="ff9966"/>
              </a:solidFill>
              <a:miter/>
              <a:tailEnd len="med" type="triangle" w="med"/>
            </a:ln>
          </p:spPr>
        </p:cxnSp>
        <p:sp>
          <p:nvSpPr>
            <p:cNvPr id="69" name=""/>
            <p:cNvSpPr/>
            <p:nvPr/>
          </p:nvSpPr>
          <p:spPr>
            <a:xfrm>
              <a:off x="2997360" y="3081240"/>
              <a:ext cx="482400" cy="30708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yes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0" y="4643280"/>
            <a:ext cx="8966160" cy="1757880"/>
            <a:chOff x="0" y="4643280"/>
            <a:chExt cx="8966160" cy="1757880"/>
          </a:xfrm>
        </p:grpSpPr>
        <p:sp>
          <p:nvSpPr>
            <p:cNvPr id="71" name=""/>
            <p:cNvSpPr/>
            <p:nvPr/>
          </p:nvSpPr>
          <p:spPr>
            <a:xfrm>
              <a:off x="0" y="4643280"/>
              <a:ext cx="6477120" cy="794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pose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forall n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 neighb      insert cand to proposals(n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031840" y="5405400"/>
              <a:ext cx="5232600" cy="3988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posals improve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max (proposals) &gt; can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984400" y="6002280"/>
              <a:ext cx="59817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mprove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y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posals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cand := max (proposals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Network Leader Ele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05AE-FBC8-4096-9E14-BE4E5C6FBC3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Leader Election: Correctness property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7840" y="1028520"/>
            <a:ext cx="896616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osition: In every distributed run of agents equipped with the leader election ASM, eventually for every agent hol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d=max(Agen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tl_state = checkPropos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posals = emp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roof (assuming that every enabled agent will eventually make a move): induction on runs and on </a:t>
            </a:r>
            <a:r>
              <a:rPr b="0" lang="it-IT" sz="3200" spc="-1" strike="noStrike">
                <a:solidFill>
                  <a:srgbClr val="ccecff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{leader - cand(n)| n </a:t>
            </a:r>
            <a:r>
              <a:rPr b="0" lang="en-US" sz="3200" spc="-1" strike="noStrike">
                <a:solidFill>
                  <a:srgbClr val="ccec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 Agent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measuring “distances” of candidates from lea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Network Leader Ele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84EA-FAF3-47C8-859B-8C24B0CCFDC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2800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fining Leader Election: compute minimal path to leade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7480" y="990360"/>
            <a:ext cx="8699400" cy="56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al: refine the leader election algorithm to compute for each agent also a shortest path to the leader, provi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neighbor (except for leader) which is closest to the lead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inimal distance to the lea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a: enrich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proposals by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eighbor with minimal distance to lead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earNeighb: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Ag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istance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ance    (e.g. = Nat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{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}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posals: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PowerSet(Agent x Agent x Distance)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lly     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nearNeighbor = self         distance =0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Network Leader Ele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7443-A107-4CD3-AC3E-90E301C341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SM Computing Minimal Path To Leader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219240" y="577800"/>
            <a:ext cx="8711640" cy="3039120"/>
            <a:chOff x="219240" y="577800"/>
            <a:chExt cx="8711640" cy="3039120"/>
          </a:xfrm>
        </p:grpSpPr>
        <p:grpSp>
          <p:nvGrpSpPr>
            <p:cNvPr id="80" name=""/>
            <p:cNvGrpSpPr/>
            <p:nvPr/>
          </p:nvGrpSpPr>
          <p:grpSpPr>
            <a:xfrm>
              <a:off x="863640" y="577800"/>
              <a:ext cx="7315200" cy="1028520"/>
              <a:chOff x="863640" y="577800"/>
              <a:chExt cx="7315200" cy="1028520"/>
            </a:xfrm>
          </p:grpSpPr>
          <p:sp>
            <p:nvSpPr>
              <p:cNvPr id="81" name=""/>
              <p:cNvSpPr/>
              <p:nvPr/>
            </p:nvSpPr>
            <p:spPr>
              <a:xfrm>
                <a:off x="863640" y="577800"/>
                <a:ext cx="1359000" cy="102852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propos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To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Neighbors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858000" y="596880"/>
                <a:ext cx="1320840" cy="99072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check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Proposals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2222640" y="952200"/>
              <a:ext cx="4635720" cy="307080"/>
              <a:chOff x="2222640" y="952200"/>
              <a:chExt cx="4635720" cy="307080"/>
            </a:xfrm>
          </p:grpSpPr>
          <p:sp>
            <p:nvSpPr>
              <p:cNvPr id="84" name=""/>
              <p:cNvSpPr/>
              <p:nvPr/>
            </p:nvSpPr>
            <p:spPr>
              <a:xfrm>
                <a:off x="3641760" y="952200"/>
                <a:ext cx="1758960" cy="307080"/>
              </a:xfrm>
              <a:prstGeom prst="rect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propose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85" name=""/>
              <p:cNvCxnSpPr>
                <a:stCxn id="81" idx="6"/>
                <a:endCxn id="84" idx="1"/>
              </p:cNvCxnSpPr>
              <p:nvPr/>
            </p:nvCxnSpPr>
            <p:spPr>
              <a:xfrm>
                <a:off x="2222640" y="1104480"/>
                <a:ext cx="1419840" cy="1080"/>
              </a:xfrm>
              <a:prstGeom prst="straightConnector1">
                <a:avLst/>
              </a:prstGeom>
              <a:ln w="9360">
                <a:solidFill>
                  <a:srgbClr val="ff9966"/>
                </a:solidFill>
                <a:miter/>
                <a:tailEnd len="med" type="triangle" w="med"/>
              </a:ln>
            </p:spPr>
          </p:cxnSp>
          <p:cxnSp>
            <p:nvCxnSpPr>
              <p:cNvPr id="86" name=""/>
              <p:cNvCxnSpPr>
                <a:stCxn id="84" idx="3"/>
                <a:endCxn id="82" idx="2"/>
              </p:cNvCxnSpPr>
              <p:nvPr/>
            </p:nvCxnSpPr>
            <p:spPr>
              <a:xfrm>
                <a:off x="5400720" y="1104480"/>
                <a:ext cx="1458000" cy="1080"/>
              </a:xfrm>
              <a:prstGeom prst="straightConnector1">
                <a:avLst/>
              </a:prstGeom>
              <a:ln w="9360">
                <a:solidFill>
                  <a:srgbClr val="ff9966"/>
                </a:solidFill>
                <a:miter/>
                <a:tailEnd len="med" type="triangle" w="med"/>
              </a:ln>
            </p:spPr>
          </p:cxnSp>
        </p:grpSp>
        <p:grpSp>
          <p:nvGrpSpPr>
            <p:cNvPr id="87" name=""/>
            <p:cNvGrpSpPr/>
            <p:nvPr/>
          </p:nvGrpSpPr>
          <p:grpSpPr>
            <a:xfrm>
              <a:off x="3367080" y="1104480"/>
              <a:ext cx="5563800" cy="2512440"/>
              <a:chOff x="3367080" y="1104480"/>
              <a:chExt cx="5563800" cy="2512440"/>
            </a:xfrm>
          </p:grpSpPr>
          <p:sp>
            <p:nvSpPr>
              <p:cNvPr id="88" name=""/>
              <p:cNvSpPr/>
              <p:nvPr/>
            </p:nvSpPr>
            <p:spPr>
              <a:xfrm>
                <a:off x="3367080" y="1984320"/>
                <a:ext cx="2308320" cy="882360"/>
              </a:xfrm>
              <a:prstGeom prst="hexagon">
                <a:avLst>
                  <a:gd name="adj" fmla="val 65402"/>
                  <a:gd name="vf" fmla="val 115470"/>
                </a:avLst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proposal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improv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434280" y="2124000"/>
                <a:ext cx="2168280" cy="615960"/>
              </a:xfrm>
              <a:prstGeom prst="hexagon">
                <a:avLst>
                  <a:gd name="adj" fmla="val 88004"/>
                  <a:gd name="vf" fmla="val 115470"/>
                </a:avLst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there are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proposal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943680" y="3309840"/>
                <a:ext cx="1758960" cy="30708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empty proposal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91" name=""/>
              <p:cNvCxnSpPr>
                <a:stCxn id="82" idx="4"/>
                <a:endCxn id="89" idx="0"/>
              </p:cNvCxnSpPr>
              <p:nvPr/>
            </p:nvCxnSpPr>
            <p:spPr>
              <a:xfrm>
                <a:off x="7518240" y="1599840"/>
                <a:ext cx="1080" cy="524160"/>
              </a:xfrm>
              <a:prstGeom prst="straightConnector1">
                <a:avLst/>
              </a:prstGeom>
              <a:ln w="9360">
                <a:solidFill>
                  <a:srgbClr val="ff9966"/>
                </a:solidFill>
                <a:miter/>
                <a:tailEnd len="med" type="triangle" w="med"/>
              </a:ln>
            </p:spPr>
          </p:cxnSp>
          <p:cxnSp>
            <p:nvCxnSpPr>
              <p:cNvPr id="92" name=""/>
              <p:cNvCxnSpPr>
                <a:stCxn id="89" idx="1"/>
                <a:endCxn id="88" idx="3"/>
              </p:cNvCxnSpPr>
              <p:nvPr/>
            </p:nvCxnSpPr>
            <p:spPr>
              <a:xfrm flipH="1" flipV="1">
                <a:off x="5675040" y="2424960"/>
                <a:ext cx="759600" cy="6840"/>
              </a:xfrm>
              <a:prstGeom prst="straightConnector1">
                <a:avLst/>
              </a:prstGeom>
              <a:ln w="9360">
                <a:solidFill>
                  <a:srgbClr val="ff9966"/>
                </a:solidFill>
                <a:miter/>
                <a:tailEnd len="med" type="triangle" w="med"/>
              </a:ln>
            </p:spPr>
          </p:cxnSp>
          <p:cxnSp>
            <p:nvCxnSpPr>
              <p:cNvPr id="93" name=""/>
              <p:cNvCxnSpPr>
                <a:stCxn id="88" idx="2"/>
                <a:endCxn id="90" idx="1"/>
              </p:cNvCxnSpPr>
              <p:nvPr/>
            </p:nvCxnSpPr>
            <p:spPr>
              <a:xfrm flipH="1" rot="16200000">
                <a:off x="5433840" y="1953000"/>
                <a:ext cx="596160" cy="2423160"/>
              </a:xfrm>
              <a:prstGeom prst="bentConnector2">
                <a:avLst/>
              </a:prstGeom>
              <a:ln w="9360">
                <a:solidFill>
                  <a:srgbClr val="ff9966"/>
                </a:solidFill>
                <a:miter/>
                <a:tailEnd len="med" type="triangle" w="med"/>
              </a:ln>
            </p:spPr>
          </p:cxnSp>
          <p:cxnSp>
            <p:nvCxnSpPr>
              <p:cNvPr id="94" name=""/>
              <p:cNvCxnSpPr>
                <a:stCxn id="90" idx="3"/>
                <a:endCxn id="82" idx="6"/>
              </p:cNvCxnSpPr>
              <p:nvPr/>
            </p:nvCxnSpPr>
            <p:spPr>
              <a:xfrm flipH="1" flipV="1">
                <a:off x="8178480" y="1104480"/>
                <a:ext cx="524160" cy="2358000"/>
              </a:xfrm>
              <a:prstGeom prst="bentConnector3">
                <a:avLst>
                  <a:gd name="adj1" fmla="val -43642"/>
                </a:avLst>
              </a:prstGeom>
              <a:ln w="9360">
                <a:solidFill>
                  <a:srgbClr val="ff9966"/>
                </a:solidFill>
                <a:miter/>
                <a:tailEnd len="med" type="triangle" w="med"/>
              </a:ln>
            </p:spPr>
          </p:cxnSp>
          <p:sp>
            <p:nvSpPr>
              <p:cNvPr id="95" name=""/>
              <p:cNvSpPr/>
              <p:nvPr/>
            </p:nvSpPr>
            <p:spPr>
              <a:xfrm>
                <a:off x="4064040" y="3004920"/>
                <a:ext cx="444600" cy="307080"/>
              </a:xfrm>
              <a:prstGeom prst="rect">
                <a:avLst/>
              </a:prstGeom>
              <a:solidFill>
                <a:srgbClr val="ff9966"/>
              </a:solidFill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no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6" name=""/>
            <p:cNvGrpSpPr/>
            <p:nvPr/>
          </p:nvGrpSpPr>
          <p:grpSpPr>
            <a:xfrm>
              <a:off x="219240" y="1618560"/>
              <a:ext cx="3209760" cy="1198080"/>
              <a:chOff x="219240" y="1618560"/>
              <a:chExt cx="3209760" cy="1198080"/>
            </a:xfrm>
          </p:grpSpPr>
          <p:sp>
            <p:nvSpPr>
              <p:cNvPr id="97" name=""/>
              <p:cNvSpPr/>
              <p:nvPr/>
            </p:nvSpPr>
            <p:spPr>
              <a:xfrm>
                <a:off x="219240" y="2166840"/>
                <a:ext cx="2635200" cy="5202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improve by proposal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empty proposal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98" name=""/>
              <p:cNvCxnSpPr>
                <a:stCxn id="88" idx="1"/>
                <a:endCxn id="97" idx="3"/>
              </p:cNvCxnSpPr>
              <p:nvPr/>
            </p:nvCxnSpPr>
            <p:spPr>
              <a:xfrm flipH="1">
                <a:off x="2854080" y="2425320"/>
                <a:ext cx="513360" cy="1080"/>
              </a:xfrm>
              <a:prstGeom prst="straightConnector1">
                <a:avLst/>
              </a:prstGeom>
              <a:ln w="9360">
                <a:solidFill>
                  <a:srgbClr val="ff9966"/>
                </a:solidFill>
                <a:miter/>
                <a:tailEnd len="med" type="triangle" w="med"/>
              </a:ln>
            </p:spPr>
          </p:cxnSp>
          <p:cxnSp>
            <p:nvCxnSpPr>
              <p:cNvPr id="99" name=""/>
              <p:cNvCxnSpPr>
                <a:stCxn id="97" idx="0"/>
                <a:endCxn id="81" idx="4"/>
              </p:cNvCxnSpPr>
              <p:nvPr/>
            </p:nvCxnSpPr>
            <p:spPr>
              <a:xfrm flipV="1">
                <a:off x="1536480" y="1618560"/>
                <a:ext cx="6840" cy="548640"/>
              </a:xfrm>
              <a:prstGeom prst="straightConnector1">
                <a:avLst/>
              </a:prstGeom>
              <a:ln w="9360">
                <a:solidFill>
                  <a:srgbClr val="ff9966"/>
                </a:solidFill>
                <a:miter/>
                <a:tailEnd len="med" type="triangle" w="med"/>
              </a:ln>
            </p:spPr>
          </p:cxnSp>
          <p:sp>
            <p:nvSpPr>
              <p:cNvPr id="100" name=""/>
              <p:cNvSpPr/>
              <p:nvPr/>
            </p:nvSpPr>
            <p:spPr>
              <a:xfrm>
                <a:off x="2946600" y="2509560"/>
                <a:ext cx="482400" cy="307080"/>
              </a:xfrm>
              <a:prstGeom prst="rect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yes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" name=""/>
          <p:cNvSpPr/>
          <p:nvPr/>
        </p:nvSpPr>
        <p:spPr>
          <a:xfrm>
            <a:off x="4889520" y="5607000"/>
            <a:ext cx="3835440" cy="947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rov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posal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and := Max (proposal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pdate PathInfo to Max (proposal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906720"/>
            <a:ext cx="9144000" cy="520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pos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orall 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neighb      insert (cand,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nearNeighb, distanc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 to proposals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0" y="4579920"/>
            <a:ext cx="8991720" cy="673200"/>
            <a:chOff x="0" y="4579920"/>
            <a:chExt cx="8991720" cy="673200"/>
          </a:xfrm>
        </p:grpSpPr>
        <p:sp>
          <p:nvSpPr>
            <p:cNvPr id="104" name=""/>
            <p:cNvSpPr/>
            <p:nvPr/>
          </p:nvSpPr>
          <p:spPr>
            <a:xfrm>
              <a:off x="0" y="4579920"/>
              <a:ext cx="6730920" cy="67320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posals improve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let 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m =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Max (proposals) 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in 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m &gt; cand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 (m=cand 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inDistance(proposalsFor m)+1 &lt; distanc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705720" y="4605480"/>
              <a:ext cx="22860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Max tak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over agen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0" y="5392800"/>
            <a:ext cx="486396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pdate PathInfo to m 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hoos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n,d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m,n,d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posa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=minDistance(proposalsFor m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arNeighb := 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 := d+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Network Leader Ele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D1E4-9336-4B14-9F20-FD5D96A428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inimal Path Computation: Correctnes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7840" y="1028520"/>
            <a:ext cx="896616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position: In every distributed run of agents equipped with the ASM computing a minimal path to the leader, eventually for every agent hold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d=max(Agent)=lea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ance=minimal distance of a path from agent to lea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Neighbor = a neighbor of agent on a minimal path to the leader (except for leader where nearNeighbor=lead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tl_state = checkPropos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posals = emp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Proof (assuming that every enabled agent will eventually make a move): induction on runs and on </a:t>
            </a:r>
            <a:r>
              <a:rPr b="0" lang="it-IT" sz="2800" spc="-1" strike="noStrike">
                <a:solidFill>
                  <a:srgbClr val="ccec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{leader - cand(n)| n </a:t>
            </a:r>
            <a:r>
              <a:rPr b="0" lang="en-US" sz="2800" spc="-1" strike="noStrike">
                <a:solidFill>
                  <a:srgbClr val="ccecf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 Agent} with side induction on the minimal distances in proposalsFor Max(proposal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Network Leader Ele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ECB6-4D18-4BA6-B3D3-EE4C56EAFC8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5356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ercis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240" y="863280"/>
            <a:ext cx="8699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ine the CHECK submachine of the leader election ASM by a machine which checks proposals elementwise. Prove that the refinement is correc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nt: See Reisig op.cit. Fig.3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pt the ASM for the election of a maximal leader and for computing a minimal path wrt a partial order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stead of a total ord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use the leader election ASM to define an algorithm which, given the leader, computes for each agent the distance (length of a shortest path) to the leader and a neighbor where to start a shortest path to the lead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nt: See Reisig op.cit. Fig.3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Network Leader Ele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43BF-4B08-46EB-8B57-4EE5BCD001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3-01-09T14:03:44Z</dcterms:modified>
  <cp:revision>734</cp:revision>
  <dc:subject>The ASM Method</dc:subject>
  <dc:title>The ASM Method</dc:title>
</cp:coreProperties>
</file>