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F18-3604-456D-97AD-666F76CA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3B2-17F0-4F77-B19A-B1F8F45B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BC5-7873-479A-8CD2-280D6F8A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09C-5147-4269-AD99-060BC6A9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174-EB26-41FC-8C1F-EC4A9AC7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E5A-898B-413C-B4B0-9DEF910D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05F-F37B-4854-8AE8-1538B867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025-3B2B-41BB-9A7B-C7E910BD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4A7-4D76-413F-895B-A7B40631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287-9F66-454B-95FB-55FB949B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A38-E4AB-4015-B2F3-E2919410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D20-5B77-48B0-BFCC-F372AD05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C050-9F56-4AAB-A809-4C175C9AC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ing Load Bala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ng Load Balance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for reaching workload balance among the agents of a ring (using only communication between right/left neighb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ing message passing mechanism and effective task transfer abstract, assuming fixed number of agents and total worklo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ring nod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ely s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 workload inf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mss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his right neighb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 task transfer mss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his left neighbor, transfering a task 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lance the workload with the left neighb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s his workload to balance it with his right neighbo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 eventually the difference between the workload of two nodes becom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3ED-4F76-434B-A415-A614DA4FCB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ng Load Balance ASM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a ring of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ts equipped with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ftNeighb, rightNeighb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orkLoa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rent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Loa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workload of leftNeig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nsferLoa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load transfered by rightNeig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nformRightNeighb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WithLeftNeighb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WithRightNeighb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tl_state = informRightNeigh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ighbLoad = transferLoad = un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DE2-F5BB-45CF-8E5C-1DE938D519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ng Load Balanc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942160"/>
            <a:ext cx="277488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nd(workLoad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ghtNeighb.neighb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= work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028880" y="412920"/>
            <a:ext cx="6959520" cy="2609640"/>
            <a:chOff x="1028880" y="412920"/>
            <a:chExt cx="6959520" cy="2609640"/>
          </a:xfrm>
        </p:grpSpPr>
        <p:sp>
          <p:nvSpPr>
            <p:cNvPr id="51" name=""/>
            <p:cNvSpPr/>
            <p:nvPr/>
          </p:nvSpPr>
          <p:spPr>
            <a:xfrm>
              <a:off x="1511280" y="425520"/>
              <a:ext cx="1270080" cy="1079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info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60840" y="660240"/>
              <a:ext cx="172080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end(workLoa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60640" y="1917720"/>
              <a:ext cx="1320840" cy="11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Wi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86680" y="412920"/>
              <a:ext cx="1320480" cy="11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Wi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67480" y="1790640"/>
              <a:ext cx="232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BalanceWithLeftNeigh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28880" y="1803240"/>
              <a:ext cx="232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BalanceWithRightNeigh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1" idx="6"/>
              <a:endCxn id="54" idx="2"/>
            </p:cNvCxnSpPr>
            <p:nvPr/>
          </p:nvCxnSpPr>
          <p:spPr>
            <a:xfrm>
              <a:off x="2781000" y="964800"/>
              <a:ext cx="350604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4" idx="3"/>
              <a:endCxn id="53" idx="7"/>
            </p:cNvCxnSpPr>
            <p:nvPr/>
          </p:nvCxnSpPr>
          <p:spPr>
            <a:xfrm flipH="1">
              <a:off x="4987080" y="1355400"/>
              <a:ext cx="1492920" cy="7246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3" idx="1"/>
              <a:endCxn id="51" idx="5"/>
            </p:cNvCxnSpPr>
            <p:nvPr/>
          </p:nvCxnSpPr>
          <p:spPr>
            <a:xfrm flipH="1" flipV="1">
              <a:off x="2595240" y="1345680"/>
              <a:ext cx="1459440" cy="73440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60" name=""/>
          <p:cNvGrpSpPr/>
          <p:nvPr/>
        </p:nvGrpSpPr>
        <p:grpSpPr>
          <a:xfrm>
            <a:off x="0" y="3235320"/>
            <a:ext cx="9144000" cy="992880"/>
            <a:chOff x="0" y="3235320"/>
            <a:chExt cx="9144000" cy="992880"/>
          </a:xfrm>
        </p:grpSpPr>
        <p:sp>
          <p:nvSpPr>
            <p:cNvPr id="61" name=""/>
            <p:cNvSpPr/>
            <p:nvPr/>
          </p:nvSpPr>
          <p:spPr>
            <a:xfrm>
              <a:off x="5676840" y="3235320"/>
              <a:ext cx="3467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alanceWithLeftNeighb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arrived(neighbLoad) the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er task to left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311280"/>
              <a:ext cx="3467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alanceWithRightNeighb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arrived(transferLoad) the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pt task from right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0" y="4286160"/>
            <a:ext cx="9144000" cy="1511640"/>
            <a:chOff x="0" y="4286160"/>
            <a:chExt cx="9144000" cy="1511640"/>
          </a:xfrm>
        </p:grpSpPr>
        <p:sp>
          <p:nvSpPr>
            <p:cNvPr id="64" name=""/>
            <p:cNvSpPr/>
            <p:nvPr/>
          </p:nvSpPr>
          <p:spPr>
            <a:xfrm>
              <a:off x="4660920" y="4286160"/>
              <a:ext cx="4483080" cy="146556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er task to leftNeigh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transfer = workLoad &gt; neighbLoad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ftNeighb.transferLoad:= trans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orkLoad:= workLoad 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trans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eighbLoad:= 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7080" y="5216400"/>
              <a:ext cx="2286000" cy="581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ived(l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n-US" sz="3200" spc="-1" strike="noStrike" baseline="1000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286160"/>
              <a:ext cx="4483080" cy="9169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pt task from rightNeigh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orkLoad:= workLoad + transferLo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transferLoad:= 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4D3-236F-4C16-A62D-73F4E6592E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ng Load Balance ASM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: Correctness proper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ring load balance ASM, eventually the  workload difference between two neighboring nodes becom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the wieght of run workload differences. Let w = total workLoad of all nodes, a= |Agent|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se 1: t|a. Then eventually workLoad(n)=w/a for every node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se 2: otherwise. Then eventually the workLoad of some neighboring nodes will differ by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1F6-C318-4488-A983-249690773F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7 (in particular Fig. 37.1) and Section 82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F05-A315-4830-BEE7-DEDFFDF1CA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27Z</dcterms:modified>
  <cp:revision>750</cp:revision>
  <dc:subject>The ASM Method</dc:subject>
  <dc:title>The ASM Method</dc:title>
</cp:coreProperties>
</file>