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3DD-AB63-4DDA-BB8B-FD3C528F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496-13AF-4676-A52C-5C5E8D15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955-D35C-45E5-9566-EE3B54FF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658-C776-4CD8-8683-DE8CCE18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C2E-9798-48A5-8C17-4ED1504B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911-1B52-432F-8E56-0642972C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B82-E6C2-40BB-BC1F-7675A56E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BB7-4135-41A1-A22B-8FA8DD86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BEF-87E0-4665-AA55-006ACA75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0B9-3DC2-4116-8ED5-87BD8C1E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BAAD-7EE1-4854-B24B-735F964E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79CF-BA47-4330-A5D6-E90A4BA9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F6B3-3731-4182-A255-F1866ED40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aster/Slave Agre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aster/Slave Agree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problem stat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000"/>
            <a:ext cx="89661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for a master launching orders to slave agents, to be confirmed by them and to be executed iff all of them confirm to the master the acceptance of the or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ter enquires about a job to be launched and then waits for answers from the sl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laves answer the enquiry and then wait for the order or the cancellation of the launched job from the ma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ter orders or cancels the job depending on whether all slaves answered to accept it or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 the master becomes idle, with all slaves either idle too or executing the accepted jo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381-F27C-4787-A04F-80F4E7F56E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aster/Slave Agreeme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: Agent Signa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748800"/>
            <a:ext cx="89661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s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istinguished ag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der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rder   external function yielding jobs to be sent to the sl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tl_state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dle, waitingForAnswe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la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set 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s equipped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ked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true,false}   recording whether a job request has been launched by the master to the sl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nsw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accept,refuse,undef} recording whether a job request has been acceped by the slav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tl_stat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dle, waitingForOrder, bus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tl_state = idle, order = answer =undef, asked =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B. Abstraction from message passing: functions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asked, answer, or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ared in writing resp.reading among slaves and mas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E26-9278-48D4-BF40-2CCDDF01BE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070000"/>
            <a:ext cx="47498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quire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al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  s.asked :=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aster/Slave Agreement A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879560"/>
            <a:ext cx="4343400" cy="1465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OrCancel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ans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or som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  s.answer = refu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order:=canc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order:=jo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89040"/>
            <a:ext cx="4762440" cy="6732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s Arrived 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for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answ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accept, refuse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11360" y="577800"/>
            <a:ext cx="7931160" cy="1159200"/>
            <a:chOff x="711360" y="577800"/>
            <a:chExt cx="7931160" cy="1159200"/>
          </a:xfrm>
        </p:grpSpPr>
        <p:grpSp>
          <p:nvGrpSpPr>
            <p:cNvPr id="53" name=""/>
            <p:cNvGrpSpPr/>
            <p:nvPr/>
          </p:nvGrpSpPr>
          <p:grpSpPr>
            <a:xfrm>
              <a:off x="711360" y="577800"/>
              <a:ext cx="7702200" cy="930240"/>
              <a:chOff x="711360" y="577800"/>
              <a:chExt cx="7702200" cy="930240"/>
            </a:xfrm>
          </p:grpSpPr>
          <p:sp>
            <p:nvSpPr>
              <p:cNvPr id="54" name=""/>
              <p:cNvSpPr/>
              <p:nvPr/>
            </p:nvSpPr>
            <p:spPr>
              <a:xfrm>
                <a:off x="711360" y="581040"/>
                <a:ext cx="102852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idl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70200" y="577800"/>
                <a:ext cx="102888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waitin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F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135400" y="752400"/>
                <a:ext cx="1812960" cy="577800"/>
              </a:xfrm>
              <a:prstGeom prst="hexagon">
                <a:avLst>
                  <a:gd name="adj" fmla="val 78442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nswer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riv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80440" y="782640"/>
                <a:ext cx="933120" cy="5202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OrderOrCance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146320" y="782640"/>
                <a:ext cx="1098360" cy="307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Enqui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9" name=""/>
              <p:cNvCxnSpPr>
                <a:stCxn id="54" idx="6"/>
                <a:endCxn id="58" idx="1"/>
              </p:cNvCxnSpPr>
              <p:nvPr/>
            </p:nvCxnSpPr>
            <p:spPr>
              <a:xfrm flipV="1">
                <a:off x="1739520" y="1040760"/>
                <a:ext cx="407160" cy="396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60" name=""/>
              <p:cNvCxnSpPr>
                <a:stCxn id="58" idx="3"/>
                <a:endCxn id="55" idx="2"/>
              </p:cNvCxnSpPr>
              <p:nvPr/>
            </p:nvCxnSpPr>
            <p:spPr>
              <a:xfrm>
                <a:off x="3244680" y="1041120"/>
                <a:ext cx="42624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5" idx="6"/>
                <a:endCxn id="56" idx="1"/>
              </p:cNvCxnSpPr>
              <p:nvPr/>
            </p:nvCxnSpPr>
            <p:spPr>
              <a:xfrm>
                <a:off x="4699080" y="1041120"/>
                <a:ext cx="43704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stCxn id="56" idx="3"/>
                <a:endCxn id="57" idx="1"/>
              </p:cNvCxnSpPr>
              <p:nvPr/>
            </p:nvCxnSpPr>
            <p:spPr>
              <a:xfrm>
                <a:off x="6948360" y="1041120"/>
                <a:ext cx="53280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</p:grpSp>
        <p:cxnSp>
          <p:nvCxnSpPr>
            <p:cNvPr id="63" name=""/>
            <p:cNvCxnSpPr>
              <a:stCxn id="57" idx="3"/>
              <a:endCxn id="54" idx="4"/>
            </p:cNvCxnSpPr>
            <p:nvPr/>
          </p:nvCxnSpPr>
          <p:spPr>
            <a:xfrm flipH="1">
              <a:off x="1225080" y="1041480"/>
              <a:ext cx="7189200" cy="467280"/>
            </a:xfrm>
            <a:prstGeom prst="bentConnector4">
              <a:avLst>
                <a:gd name="adj1" fmla="val -3179"/>
                <a:gd name="adj2" fmla="val 148959"/>
              </a:avLst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64" name=""/>
          <p:cNvSpPr/>
          <p:nvPr/>
        </p:nvSpPr>
        <p:spPr>
          <a:xfrm>
            <a:off x="216000" y="5667480"/>
            <a:ext cx="321300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sked then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accept, refuse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=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ed:=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8680" y="5931000"/>
            <a:ext cx="4749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Arrived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d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 job, cancel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3994200"/>
            <a:ext cx="9144000" cy="1778040"/>
            <a:chOff x="0" y="3994200"/>
            <a:chExt cx="9144000" cy="1778040"/>
          </a:xfrm>
        </p:grpSpPr>
        <p:grpSp>
          <p:nvGrpSpPr>
            <p:cNvPr id="67" name=""/>
            <p:cNvGrpSpPr/>
            <p:nvPr/>
          </p:nvGrpSpPr>
          <p:grpSpPr>
            <a:xfrm>
              <a:off x="0" y="3994200"/>
              <a:ext cx="9144000" cy="1151640"/>
              <a:chOff x="0" y="3994200"/>
              <a:chExt cx="9144000" cy="1151640"/>
            </a:xfrm>
          </p:grpSpPr>
          <p:sp>
            <p:nvSpPr>
              <p:cNvPr id="68" name=""/>
              <p:cNvSpPr/>
              <p:nvPr/>
            </p:nvSpPr>
            <p:spPr>
              <a:xfrm>
                <a:off x="0" y="3994200"/>
                <a:ext cx="102888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idl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870280" y="3994200"/>
                <a:ext cx="102852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waitin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F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22360" y="4305240"/>
                <a:ext cx="1098720" cy="307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80280" y="4200480"/>
                <a:ext cx="1368360" cy="514440"/>
              </a:xfrm>
              <a:prstGeom prst="hexagon">
                <a:avLst>
                  <a:gd name="adj" fmla="val 66498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= jo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165560" y="4168800"/>
                <a:ext cx="1812960" cy="577800"/>
              </a:xfrm>
              <a:prstGeom prst="hexagon">
                <a:avLst>
                  <a:gd name="adj" fmla="val 78442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riv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483760" y="4146480"/>
                <a:ext cx="660240" cy="622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bus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4" name=""/>
              <p:cNvCxnSpPr>
                <a:stCxn id="68" idx="6"/>
                <a:endCxn id="70" idx="1"/>
              </p:cNvCxnSpPr>
              <p:nvPr/>
            </p:nvCxnSpPr>
            <p:spPr>
              <a:xfrm>
                <a:off x="1028520" y="4457520"/>
                <a:ext cx="39420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5" name=""/>
              <p:cNvCxnSpPr>
                <a:stCxn id="70" idx="3"/>
                <a:endCxn id="69" idx="2"/>
              </p:cNvCxnSpPr>
              <p:nvPr/>
            </p:nvCxnSpPr>
            <p:spPr>
              <a:xfrm>
                <a:off x="2521080" y="4457520"/>
                <a:ext cx="34992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6" name=""/>
              <p:cNvCxnSpPr>
                <a:stCxn id="69" idx="6"/>
                <a:endCxn id="72" idx="1"/>
              </p:cNvCxnSpPr>
              <p:nvPr/>
            </p:nvCxnSpPr>
            <p:spPr>
              <a:xfrm>
                <a:off x="3898440" y="4457520"/>
                <a:ext cx="26712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7" name=""/>
              <p:cNvCxnSpPr>
                <a:stCxn id="72" idx="3"/>
                <a:endCxn id="71" idx="1"/>
              </p:cNvCxnSpPr>
              <p:nvPr/>
            </p:nvCxnSpPr>
            <p:spPr>
              <a:xfrm>
                <a:off x="5978520" y="4457520"/>
                <a:ext cx="40248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8" name=""/>
              <p:cNvCxnSpPr>
                <a:stCxn id="71" idx="3"/>
                <a:endCxn id="73" idx="2"/>
              </p:cNvCxnSpPr>
              <p:nvPr/>
            </p:nvCxnSpPr>
            <p:spPr>
              <a:xfrm>
                <a:off x="7748640" y="4457520"/>
                <a:ext cx="73584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sp>
            <p:nvSpPr>
              <p:cNvPr id="79" name=""/>
              <p:cNvSpPr/>
              <p:nvPr/>
            </p:nvSpPr>
            <p:spPr>
              <a:xfrm>
                <a:off x="7083360" y="4838760"/>
                <a:ext cx="44460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5480" y="4470480"/>
                <a:ext cx="48240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ye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8483760" y="5149800"/>
              <a:ext cx="660240" cy="622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1" idx="2"/>
              <a:endCxn id="81" idx="2"/>
            </p:cNvCxnSpPr>
            <p:nvPr/>
          </p:nvCxnSpPr>
          <p:spPr>
            <a:xfrm flipH="1" rot="16200000">
              <a:off x="7400160" y="4377960"/>
              <a:ext cx="746640" cy="142020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6C6-7571-45EF-BC45-930DC71A1A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aster/Slave Agreemen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orrectn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run of a set of master and slaves, all equipped with the corresponding  master/slave ASM, after the master has started an Enquiry, eventually the master becomes idle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ther all slaves become done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slaves become busy executing the job ordered by the m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of. Follows by run ind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31B4-4DC6-44F0-B44A-521C339E20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the definition of a Petri net in Section 30 (Fig.30.1) and a detailed correctness proof in Section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B5C-A9EA-4F4B-9DC6-FFEF0EF096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37Z</dcterms:modified>
  <cp:revision>769</cp:revision>
  <dc:subject>The ASM Method</dc:subject>
  <dc:title>The ASM Method</dc:title>
</cp:coreProperties>
</file>