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E4FF-3F09-4B38-B15C-CABEDFC9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404-B6CD-4A66-AFF0-EE72FE81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B8A-AC31-46F1-AED3-CBFCE5A1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C83-56B0-4598-B431-69CDC4B9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AAEB-D9E3-4EBA-83B3-680EFD63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814-529B-4E8C-9D75-48D64A4A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27CC-4BDF-4902-869A-4FA53D0F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A3D-22DB-40A7-891A-DB81598C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00C-1159-4E77-93CE-21FCF30E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AD9-54E7-48B8-B983-9C9C7FE7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D67A-A2A9-4F82-9389-FAB6DDF2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F555-A6EA-4DE0-A917-4011B7B0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C423-E21A-4BE7-B0F8-56A35E24B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ultiple Reads One Write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(non-exclusive and exclusive resource sharing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ultiple Reads One Writ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966160" cy="61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 Design a distributed algorithm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llowing at each step one agent to start a read or a write operation in a given file, up to  max-read&gt;0 simultaneous reads but only 1 write (not overlapping with any read)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elow we define agent rules for read/write access to files which in a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istributed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run of an async ASM (of agents all of which are equipped with those rules) reach the requested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B. In the example we do not define the partial order for such distributed ru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E9E-FC7D-4E67-95B8-1DF79A3567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ultiple Reads One Writ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set of agents which are allowed to access files for read/write op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ished:Fil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Bool indicating whether an agent has finished his current file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i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set of fil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equippe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at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dicating the number of agents which are currently reading or writing the fil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x-read,max-wri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al number of agents allowed to simultaneously use the file for reading/wr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8898-B928-4518-94DE-9524419978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Multiple Reads One Write: agent rules for act=read/wri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888840"/>
            <a:ext cx="9144000" cy="1904760"/>
            <a:chOff x="0" y="888840"/>
            <a:chExt cx="9144000" cy="1904760"/>
          </a:xfrm>
        </p:grpSpPr>
        <p:sp>
          <p:nvSpPr>
            <p:cNvPr id="50" name=""/>
            <p:cNvSpPr/>
            <p:nvPr/>
          </p:nvSpPr>
          <p:spPr>
            <a:xfrm>
              <a:off x="228600" y="888840"/>
              <a:ext cx="685800" cy="6858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act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77120" y="972720"/>
              <a:ext cx="2057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act-incre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938160"/>
              <a:ext cx="4114800" cy="585000"/>
            </a:xfrm>
            <a:prstGeom prst="hexagon">
              <a:avLst>
                <a:gd name="adj" fmla="val 175846"/>
                <a:gd name="vf" fmla="val 11547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t-accessible(fil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58200" y="2107800"/>
              <a:ext cx="685800" cy="6858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3200" y="2192040"/>
              <a:ext cx="13716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act-decre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2157480"/>
              <a:ext cx="2895480" cy="585000"/>
            </a:xfrm>
            <a:prstGeom prst="hexagon">
              <a:avLst>
                <a:gd name="adj" fmla="val 123738"/>
                <a:gd name="vf" fmla="val 11547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nished(fil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52" idx="3"/>
              <a:endCxn id="51" idx="1"/>
            </p:cNvCxnSpPr>
            <p:nvPr/>
          </p:nvCxnSpPr>
          <p:spPr>
            <a:xfrm>
              <a:off x="5714640" y="1231200"/>
              <a:ext cx="76284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50" idx="6"/>
              <a:endCxn id="52" idx="1"/>
            </p:cNvCxnSpPr>
            <p:nvPr/>
          </p:nvCxnSpPr>
          <p:spPr>
            <a:xfrm>
              <a:off x="914040" y="1231200"/>
              <a:ext cx="686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51" idx="3"/>
              <a:endCxn id="53" idx="0"/>
            </p:cNvCxnSpPr>
            <p:nvPr/>
          </p:nvCxnSpPr>
          <p:spPr>
            <a:xfrm>
              <a:off x="8534160" y="1231560"/>
              <a:ext cx="267120" cy="8769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3" idx="2"/>
              <a:endCxn id="55" idx="3"/>
            </p:cNvCxnSpPr>
            <p:nvPr/>
          </p:nvCxnSpPr>
          <p:spPr>
            <a:xfrm flipH="1">
              <a:off x="7695360" y="2450520"/>
              <a:ext cx="76284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60" name=""/>
            <p:cNvSpPr/>
            <p:nvPr/>
          </p:nvSpPr>
          <p:spPr>
            <a:xfrm>
              <a:off x="0" y="123156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286000" y="245088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55" idx="1"/>
              <a:endCxn id="54" idx="3"/>
            </p:cNvCxnSpPr>
            <p:nvPr/>
          </p:nvCxnSpPr>
          <p:spPr>
            <a:xfrm flipH="1">
              <a:off x="4114080" y="2450520"/>
              <a:ext cx="686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3" name=""/>
          <p:cNvSpPr/>
          <p:nvPr/>
        </p:nvSpPr>
        <p:spPr>
          <a:xfrm>
            <a:off x="0" y="4876920"/>
            <a:ext cx="9144000" cy="12826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 instead of 1 one wants to allow multiple simultaneous file access attempt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x-rea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becomes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umulativ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unter to have the expected overall eff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-access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ile) beco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ser (file) + newUse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ax-act (fi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here newUsers indicates the number of users attempting to access the file for re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3632040"/>
            <a:ext cx="9144000" cy="733320"/>
            <a:chOff x="0" y="3632040"/>
            <a:chExt cx="9144000" cy="733320"/>
          </a:xfrm>
        </p:grpSpPr>
        <p:sp>
          <p:nvSpPr>
            <p:cNvPr id="65" name=""/>
            <p:cNvSpPr/>
            <p:nvPr/>
          </p:nvSpPr>
          <p:spPr>
            <a:xfrm>
              <a:off x="0" y="3670200"/>
              <a:ext cx="3060720" cy="642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act-accessible(file)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user (file) &lt; max-act (fil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40080" y="3632040"/>
              <a:ext cx="2730600" cy="7333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ax-write(file) =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write-in/decrease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:=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00800" y="3632040"/>
              <a:ext cx="2743200" cy="7333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ax-read (file) =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write-in/decrease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:=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073-6D4B-421A-B385-F2AAA1FB32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7840" y="558360"/>
            <a:ext cx="9144000" cy="61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. Modeling and Analysis with Petri N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er 1998, Ch.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261-7F41-4628-B7D7-D26842B781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53Z</dcterms:modified>
  <cp:revision>715</cp:revision>
  <dc:subject/>
  <dc:title>ASM allowing multiple reads but only one write</dc:title>
</cp:coreProperties>
</file>