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4568-8946-472A-A1E9-DACB41295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7E34-7D02-4812-8093-592E7132D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8251-4363-43F3-9F05-301A09265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64CB-4115-4B82-A447-DEB17071D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2E45-B780-47F6-9553-76A190458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86F6-4B67-4CFE-A982-D9C6D066C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DE57-73C5-4517-8C49-1B627C522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C9A1-59D0-476D-948F-155855323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C27C-49BE-481E-A14E-FE34AD46C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8950-E8EE-4E5F-AA14-434E41BD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582C-E0B4-4303-9318-CFD70875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8420-85F0-4C97-ABD8-49F773DF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65CBE-9C7A-4271-A2E1-581879EC3A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i.unipi.it/~boerger" TargetMode="External"/><Relationship Id="rId2" Type="http://schemas.openxmlformats.org/officeDocument/2006/relationships/hyperlink" Target="http://www.di.unipi.it/~boerger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di.unipi.it/~AsmBook" TargetMode="External"/><Relationship Id="rId2" Type="http://schemas.openxmlformats.org/officeDocument/2006/relationships/hyperlink" Target="http://www.di.unipi.it/~AsmBook" TargetMode="External"/><Relationship Id="rId3" Type="http://schemas.openxmlformats.org/officeDocument/2006/relationships/hyperlink" Target="http://www.di.unipi.it/~AsmBook" TargetMode="External"/><Relationship Id="rId4" Type="http://schemas.openxmlformats.org/officeDocument/2006/relationships/hyperlink" Target="http://www.di.unipi.it/~AsmBook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0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ffff00"/>
                </a:solidFill>
                <a:latin typeface="Arial"/>
              </a:rPr>
              <a:t>Asynchronous ASMs</a:t>
            </a: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Phase Synchronization </a:t>
            </a:r>
            <a:br>
              <a:rPr sz="3600"/>
            </a:b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on Undirected Tre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3565080"/>
            <a:ext cx="9296280" cy="31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on Bör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partimento di Informatica, Universita di Pis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unipi.it/~</a:t>
            </a: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boer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5335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Phase Synchronization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: problem statemen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7840" y="711360"/>
            <a:ext cx="8712000" cy="58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al: Design a distributed algorithm  that guarantees synchronized execution of phases of computations, occurring at nodes of an undirected tree (connected acyclic network), using only communication between tree neighb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gorithmic Idea: every agent (tree node) before becoming busy in a new phase has t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nchronize with its neighbor nodes, moving the synchronization up along the tree struc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it until all agents are waiting for the phase increase to st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its phase - when the phase shift becomes movable down - and move the phase shift further down along the tree struc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til all nodes have become busy in the new pha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Phase Synchron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3FE5-280A-4AF3-8B2A-7E306B293D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Phase Synchronization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SM: Agent Signatur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7840" y="1028520"/>
            <a:ext cx="896616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gent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undirected tree of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ents equipped with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eighb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Agent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(external func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has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the current ph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ynchPartner, waitPartner: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Agent                     yields the neighbor node an agent is synchronized with (in moving the synchronization up or down the tree) resp. waiting for (to reverse the previous upward synchronization downwards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ctl_stat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{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busy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waiting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Initially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ctl_state = busy,  phase = 0, synchPartner = waitPartner = undef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Phase Synchron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71A6-4F81-46FE-918A-49C9C236A31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343080" y="216000"/>
            <a:ext cx="8394480" cy="1571040"/>
            <a:chOff x="343080" y="216000"/>
            <a:chExt cx="8394480" cy="1571040"/>
          </a:xfrm>
        </p:grpSpPr>
        <p:sp>
          <p:nvSpPr>
            <p:cNvPr id="49" name=""/>
            <p:cNvSpPr/>
            <p:nvPr/>
          </p:nvSpPr>
          <p:spPr>
            <a:xfrm>
              <a:off x="343080" y="631440"/>
              <a:ext cx="914400" cy="7236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bus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861320" y="625320"/>
              <a:ext cx="876240" cy="7362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waitin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897200" y="216000"/>
              <a:ext cx="2168640" cy="615600"/>
            </a:xfrm>
            <a:prstGeom prst="hexagon">
              <a:avLst>
                <a:gd name="adj" fmla="val 88070"/>
                <a:gd name="vf" fmla="val 115470"/>
              </a:avLst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ynchronization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vableU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042160" y="371160"/>
              <a:ext cx="2266920" cy="3070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MoveSynchronizationU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3" name=""/>
            <p:cNvCxnSpPr>
              <a:stCxn id="51" idx="3"/>
              <a:endCxn id="52" idx="1"/>
            </p:cNvCxnSpPr>
            <p:nvPr/>
          </p:nvCxnSpPr>
          <p:spPr>
            <a:xfrm>
              <a:off x="4065840" y="523440"/>
              <a:ext cx="977040" cy="1080"/>
            </a:xfrm>
            <a:prstGeom prst="straightConnector1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49" idx="0"/>
              <a:endCxn id="51" idx="1"/>
            </p:cNvCxnSpPr>
            <p:nvPr/>
          </p:nvCxnSpPr>
          <p:spPr>
            <a:xfrm flipH="1" flipV="1" rot="5400000">
              <a:off x="1294560" y="28440"/>
              <a:ext cx="108000" cy="1097640"/>
            </a:xfrm>
            <a:prstGeom prst="bentConnector2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55" name=""/>
            <p:cNvCxnSpPr>
              <a:stCxn id="52" idx="3"/>
              <a:endCxn id="50" idx="0"/>
            </p:cNvCxnSpPr>
            <p:nvPr/>
          </p:nvCxnSpPr>
          <p:spPr>
            <a:xfrm>
              <a:off x="7308720" y="523440"/>
              <a:ext cx="991080" cy="101880"/>
            </a:xfrm>
            <a:prstGeom prst="bentConnector2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</p:cxnSp>
        <p:sp>
          <p:nvSpPr>
            <p:cNvPr id="56" name=""/>
            <p:cNvSpPr/>
            <p:nvPr/>
          </p:nvSpPr>
          <p:spPr>
            <a:xfrm>
              <a:off x="5224680" y="1171440"/>
              <a:ext cx="2168280" cy="615600"/>
            </a:xfrm>
            <a:prstGeom prst="hexagon">
              <a:avLst>
                <a:gd name="adj" fmla="val 88056"/>
                <a:gd name="vf" fmla="val 115470"/>
              </a:avLst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haseShift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vableDow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994040" y="1323720"/>
              <a:ext cx="2050920" cy="3070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MovePhaseShiftDow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8" name=""/>
            <p:cNvCxnSpPr>
              <a:stCxn id="50" idx="4"/>
              <a:endCxn id="56" idx="3"/>
            </p:cNvCxnSpPr>
            <p:nvPr/>
          </p:nvCxnSpPr>
          <p:spPr>
            <a:xfrm rot="5400000">
              <a:off x="7787160" y="966960"/>
              <a:ext cx="117720" cy="907200"/>
            </a:xfrm>
            <a:prstGeom prst="bentConnector2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1"/>
              <a:endCxn id="57" idx="3"/>
            </p:cNvCxnSpPr>
            <p:nvPr/>
          </p:nvCxnSpPr>
          <p:spPr>
            <a:xfrm flipH="1" flipV="1">
              <a:off x="4044240" y="1475640"/>
              <a:ext cx="1180440" cy="3600"/>
            </a:xfrm>
            <a:prstGeom prst="straightConnector1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60" name=""/>
            <p:cNvCxnSpPr>
              <a:stCxn id="57" idx="1"/>
              <a:endCxn id="49" idx="4"/>
            </p:cNvCxnSpPr>
            <p:nvPr/>
          </p:nvCxnSpPr>
          <p:spPr>
            <a:xfrm rot="10800000">
              <a:off x="799560" y="1354680"/>
              <a:ext cx="1194480" cy="120960"/>
            </a:xfrm>
            <a:prstGeom prst="bentConnector2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</p:cxnSp>
      </p:grpSp>
      <p:grpSp>
        <p:nvGrpSpPr>
          <p:cNvPr id="61" name=""/>
          <p:cNvGrpSpPr/>
          <p:nvPr/>
        </p:nvGrpSpPr>
        <p:grpSpPr>
          <a:xfrm>
            <a:off x="0" y="1955880"/>
            <a:ext cx="9144000" cy="1452960"/>
            <a:chOff x="0" y="1955880"/>
            <a:chExt cx="9144000" cy="1452960"/>
          </a:xfrm>
        </p:grpSpPr>
        <p:sp>
          <p:nvSpPr>
            <p:cNvPr id="62" name=""/>
            <p:cNvSpPr/>
            <p:nvPr/>
          </p:nvSpPr>
          <p:spPr>
            <a:xfrm>
              <a:off x="0" y="1955880"/>
              <a:ext cx="914400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nchronizationMovableUp  </a:t>
              </a: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</a:t>
              </a: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eighb    SynchronizationMovableUpTo(y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for some neighb y all other neighbors synchronize with self in phase(self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2705040"/>
              <a:ext cx="914400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oveSynchronizationUp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choose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ighb with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ynchronizationMovableUpTo(y) </a:t>
              </a: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synchronize self with y in phase(self)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oveSynchronizationUpTo(y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0" y="3449520"/>
            <a:ext cx="9144000" cy="3106080"/>
            <a:chOff x="0" y="3449520"/>
            <a:chExt cx="9144000" cy="3106080"/>
          </a:xfrm>
        </p:grpSpPr>
        <p:sp>
          <p:nvSpPr>
            <p:cNvPr id="65" name=""/>
            <p:cNvSpPr/>
            <p:nvPr/>
          </p:nvSpPr>
          <p:spPr>
            <a:xfrm>
              <a:off x="6286680" y="3449520"/>
              <a:ext cx="2857320" cy="885960"/>
            </a:xfrm>
            <a:prstGeom prst="rect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haseShiftMovableDown </a:t>
              </a: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waitPartner synchronizes with self in phase(self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5546880"/>
              <a:ext cx="9144000" cy="1008720"/>
            </a:xfrm>
            <a:prstGeom prst="rect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ovePhaseShiftDown            </a:t>
              </a: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hase : = phase +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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eighb-{waitPartner}      self.synchPartner(phase(self)) : = z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aitPartner.synchPartner (phase(self)):= unde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0" y="6491160"/>
            <a:ext cx="35812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SM for Phase Synchroniz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0" y="3479760"/>
            <a:ext cx="9144000" cy="2008800"/>
            <a:chOff x="0" y="3479760"/>
            <a:chExt cx="9144000" cy="2008800"/>
          </a:xfrm>
        </p:grpSpPr>
        <p:sp>
          <p:nvSpPr>
            <p:cNvPr id="69" name=""/>
            <p:cNvSpPr/>
            <p:nvPr/>
          </p:nvSpPr>
          <p:spPr>
            <a:xfrm>
              <a:off x="0" y="4365720"/>
              <a:ext cx="6184800" cy="764640"/>
            </a:xfrm>
            <a:prstGeom prst="rect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oveSynchronizationUpTo(y)  </a:t>
              </a: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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eighb-{y}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z.synchPartner(phase(self)) := unde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0" y="3479760"/>
              <a:ext cx="9144000" cy="2008800"/>
              <a:chOff x="0" y="3479760"/>
              <a:chExt cx="9144000" cy="2008800"/>
            </a:xfrm>
          </p:grpSpPr>
          <p:sp>
            <p:nvSpPr>
              <p:cNvPr id="71" name=""/>
              <p:cNvSpPr/>
              <p:nvPr/>
            </p:nvSpPr>
            <p:spPr>
              <a:xfrm>
                <a:off x="0" y="3479760"/>
                <a:ext cx="6184800" cy="1191240"/>
              </a:xfrm>
              <a:prstGeom prst="rect">
                <a:avLst/>
              </a:prstGeom>
              <a:solidFill>
                <a:srgbClr val="66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ynchronizationMovableUpTo(y)  </a:t>
                </a:r>
                <a:r>
                  <a:rPr b="0" lang="it-IT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it-IT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</a:t>
                </a:r>
                <a:r>
                  <a:rPr b="1" lang="it-IT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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z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neighb-{y}    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z.synchPartner(phase(self)) = self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5089680"/>
                <a:ext cx="9144000" cy="398880"/>
              </a:xfrm>
              <a:prstGeom prst="rect">
                <a:avLst/>
              </a:prstGeom>
              <a:solidFill>
                <a:srgbClr val="66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       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self.synchPartner(phase(self)) := y,     self.waitPartner(phase(self)) := y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Phase Synchroniz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4E39-778B-4984-B837-DEF4B7ACDD8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Phase Synchronization</a:t>
            </a: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SM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: Correctness &amp; Livenes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7840" y="1028520"/>
            <a:ext cx="896616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osition: In every infinite distributed run of agents equipped with the ASM  for phase synchroniza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any state any two busy agents are in the same phase (correctness propert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every enabled agent will eventually make a move, then each agent will eventually  reach each phase (liveness propert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Phase Synchron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3474-7902-4988-8C5C-C3530CEBE02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hase Synch: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haseShiftMovableDown Lemm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7840" y="1028520"/>
            <a:ext cx="896616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mma: For every phase p, whenever in a run a state is reached where for the first tim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.waitPartner(p)=v synchronizes with u in phase p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 element of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tree(u,v)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subtree(v,u)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{u,v}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waiting in phase 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 </a:t>
            </a: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subtree(x,y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{n| n reachable by a path from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 x without touching y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Phase Synchron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C2D3-2477-4CD2-ADC7-E7575B7A248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Proof of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haseShiftMovableDown Lemm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7840" y="1028520"/>
            <a:ext cx="896616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of of the lemma follows from the following two claim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im 1. When Synchronization is moved up in phase(u)=p from busy u to to v=u.synchPartner(p), the elements of subtree(u,v) are waiting, u becomes waiting, and they all remain so until the next application of a Shift rule “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MovePhaseShiftDown”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Claim 1 follows by induction on the applications of the Synchronization rul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=1: true at the leav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+1: follows by induction hypothesis and Synchronization rule from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tree(u,v)=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it-IT" sz="2000" spc="-1" strike="noStrike" baseline="-25000">
                <a:solidFill>
                  <a:srgbClr val="ffffff"/>
                </a:solidFill>
                <a:latin typeface="Arial"/>
              </a:rPr>
              <a:t>i&lt;n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subtree(u</a:t>
            </a:r>
            <a:r>
              <a:rPr b="0" lang="it-IT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,u)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{u</a:t>
            </a:r>
            <a:r>
              <a:rPr b="0" lang="it-IT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,...,u</a:t>
            </a:r>
            <a:r>
              <a:rPr b="0" lang="it-IT" sz="2000" spc="-1" strike="noStrike" baseline="-25000">
                <a:solidFill>
                  <a:srgbClr val="ffffff"/>
                </a:solidFill>
                <a:latin typeface="Arial"/>
              </a:rPr>
              <a:t>n-1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} for neighb(u}= {u</a:t>
            </a:r>
            <a:r>
              <a:rPr b="0" lang="it-IT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,...,u</a:t>
            </a:r>
            <a:r>
              <a:rPr b="0" lang="it-IT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}  with v= u</a:t>
            </a:r>
            <a:r>
              <a:rPr b="0" lang="it-IT" sz="2000" spc="-1" strike="noStrike" baseline="-25000">
                <a:solidFill>
                  <a:srgbClr val="ffffff"/>
                </a:solidFill>
                <a:latin typeface="Arial"/>
              </a:rPr>
              <a:t>n   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(by connectednes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Phase Synchron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AFA7-71F2-4293-A77A-A9262AFE3E0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Proof of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haseShiftMovableDown Lemm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7840" y="1028520"/>
            <a:ext cx="896616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im 2. For every infinite run and every phase p, a state is reached in which all agents are waiting in phase p and for some agent u its waitPartner in phase p synchronizes with u in phase p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Follows by induction on p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Phase Synchron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8D2B-0361-4BA4-8D41-7AE00028246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9880" y="0"/>
            <a:ext cx="786132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ferenc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41200" y="571320"/>
            <a:ext cx="8902800" cy="57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.Reisig: Elements of Distributed Algorithm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ringer-Verlag 199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 Section 36 (in particular Fig. 36.1) and a correctness and liveness proof in Section 8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 Börger, R. Stärk: Abstract State Machines.  A Method for High-Level System Design and Analysis Springer-Verlag  2003, see  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unipi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3"/>
              </a:rPr>
              <a:t>.it/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4"/>
              </a:rPr>
              <a:t>AsmBoo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e Chapter 6.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Phase Synchron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7BCD-5AF6-410B-B3ED-D44640BDD5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3-01-09T14:05:03Z</dcterms:modified>
  <cp:revision>760</cp:revision>
  <dc:subject>The ASM Method</dc:subject>
  <dc:title>The ASM Method</dc:title>
</cp:coreProperties>
</file>