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361C-DB8D-4D0F-BED4-CD12253C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EF74-EAB7-48B3-9245-7211C387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F694-E111-47F1-BF4D-71A241F2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CF6-E93A-4348-B60A-72D65482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ED8-331A-4F7F-9B0B-386638CD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FDF0-B408-46CB-ACE3-76168123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CBD3-404E-4440-A01A-7447D746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C8D7-B669-407C-9376-DCAFD049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33A6-6C17-4BF6-BD6E-C5DB2A13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CB52-430F-4AF0-B106-61A335C1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1566-FF2D-4E3E-B690-F07F4502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3CE4-702E-4024-8035-5F2788F1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047F-C253-4343-860D-081244A01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on-deterministic Sorting AS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0265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deterministic sorting by iterating local swa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oose i,j in dom(a) s.t.i &lt; j &amp; a(i) &gt; a(j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(i) := a(j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(j) := a(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Sorting and Samp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3F0-4964-4C5E-84FD-7AE048FA36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Sampling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increasing real-time moments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or firing a rule in a discrete time sequenc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362320"/>
            <a:ext cx="85503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89089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Goal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ximate a continuous set of rules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rule(t,t’) with t&lt;t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which are to be fired in a discrete time sequence,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y a finite number of samples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with increasing sequence of real interval boundar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cab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oose t &gt; currtime 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ule(currtime,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amples := add(t,samples)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currtime :=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 currtime is a monitored function which is supposed to evolve continu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cab8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Sorting and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4AB-8BA3-458E-8DEC-BFC694CD88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04-08T20:51:46Z</dcterms:modified>
  <cp:revision>708</cp:revision>
  <dc:subject/>
  <dc:title>Illustrating ASM choose-construct</dc:title>
</cp:coreProperties>
</file>