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531-4DF4-4939-8878-C02E8BA4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6F7-1198-409C-94CC-F7602069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D20-938C-4B1F-9219-A2A417DB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FB3-DE6D-4D2C-9FB5-0C1F23A1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322-4EEE-49E5-9F5F-92755B91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90D-D63A-4612-B0E0-B8D871FB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A13-8A3E-4590-9FD7-762AECDE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6FF-A361-4360-9FEB-C1877E9F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9A0-4175-4A1B-8450-3899C07B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76E-09B6-4A78-9DF6-3C815FC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B21-68DF-4103-820F-D476B5FD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17B-7304-4EAD-A9C1-1F0F06E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EB13-0ECB-4163-849F-AFF43762E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Exercise: ASMs with Stack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0840" y="723960"/>
            <a:ext cx="396252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sing static concate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(Elem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ck:= Elem.stack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tack = Elem.q   then stack:=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se errormsg:=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673200"/>
            <a:ext cx="4762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ing dynamic head,nex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DD(Elem) =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et pos = new(POS)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xt(pos):= he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ad:= 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tack(pos):= 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MOVE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f head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n head:= next(h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se errormsg:=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40280"/>
            <a:ext cx="9144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ve: M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orrectly refines M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corresponding” runs have “equiv” stack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1.e2. … en  ~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ck(head)=e1, …, stack(next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head))=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execs of ADD resp. REMOVE ops correspond to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ta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FD2-B237-4F24-847F-5AC3C43408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7T15:17:03Z</dcterms:modified>
  <cp:revision>706</cp:revision>
  <dc:subject/>
  <dc:title>ASM model for stack</dc:title>
</cp:coreProperties>
</file>