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D9C-E810-4378-AA06-F6D02815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146-218E-4E0D-8E64-D164E52F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499-9C46-4E3E-955A-772FCD2C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921-50EF-474B-B5B5-C22DEDB6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BF3-06B2-453B-9275-32CBB7F0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F51-2054-4903-AA78-65DD3D7F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720-B4DC-4B02-8FCE-70E85E48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DEB-1134-4EDA-BF00-70629003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0D9-CC9A-4CE5-A09A-4BE2FF3E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859-D9AB-4518-A2B7-6E4C98B8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6BED-6594-4EED-8C60-5539475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B95-8910-4EDC-8567-91C03D65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27DB-20C4-414A-A226-C5F158044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TCH (  (cond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t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468440"/>
            <a:ext cx="8991720" cy="1287360"/>
            <a:chOff x="0" y="1468440"/>
            <a:chExt cx="8991720" cy="1287360"/>
          </a:xfrm>
        </p:grpSpPr>
        <p:grpSp>
          <p:nvGrpSpPr>
            <p:cNvPr id="43" name=""/>
            <p:cNvGrpSpPr/>
            <p:nvPr/>
          </p:nvGrpSpPr>
          <p:grpSpPr>
            <a:xfrm>
              <a:off x="0" y="1504800"/>
              <a:ext cx="8991720" cy="1251000"/>
              <a:chOff x="0" y="1504800"/>
              <a:chExt cx="8991720" cy="12510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57480" y="1714680"/>
                <a:ext cx="1498320" cy="355320"/>
              </a:xfrm>
              <a:prstGeom prst="hexagon">
                <a:avLst>
                  <a:gd name="adj" fmla="val 10542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2408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7732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35560" y="17017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73720" y="2400480"/>
                <a:ext cx="1498680" cy="355320"/>
              </a:xfrm>
              <a:prstGeom prst="hexagon">
                <a:avLst>
                  <a:gd name="adj" fmla="val 105446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0" name=""/>
              <p:cNvCxnSpPr>
                <a:stCxn id="44" idx="6"/>
                <a:endCxn id="45" idx="1"/>
              </p:cNvCxnSpPr>
              <p:nvPr/>
            </p:nvCxnSpPr>
            <p:spPr>
              <a:xfrm>
                <a:off x="914400" y="1892160"/>
                <a:ext cx="3434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1" name=""/>
              <p:cNvCxnSpPr>
                <a:stCxn id="45" idx="3"/>
                <a:endCxn id="46" idx="2"/>
              </p:cNvCxnSpPr>
              <p:nvPr/>
            </p:nvCxnSpPr>
            <p:spPr>
              <a:xfrm flipV="1">
                <a:off x="2755800" y="1892160"/>
                <a:ext cx="3686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2" name=""/>
              <p:cNvCxnSpPr>
                <a:stCxn id="47" idx="4"/>
                <a:endCxn id="49" idx="3"/>
              </p:cNvCxnSpPr>
              <p:nvPr/>
            </p:nvCxnSpPr>
            <p:spPr>
              <a:xfrm rot="5400000">
                <a:off x="8003880" y="2048040"/>
                <a:ext cx="299160" cy="76248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3" name=""/>
              <p:cNvCxnSpPr>
                <a:stCxn id="49" idx="1"/>
                <a:endCxn id="44" idx="4"/>
              </p:cNvCxnSpPr>
              <p:nvPr/>
            </p:nvCxnSpPr>
            <p:spPr>
              <a:xfrm rot="10800000">
                <a:off x="456840" y="2279520"/>
                <a:ext cx="5816880" cy="2991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grpSp>
          <p:nvGrpSpPr>
            <p:cNvPr id="54" name=""/>
            <p:cNvGrpSpPr/>
            <p:nvPr/>
          </p:nvGrpSpPr>
          <p:grpSpPr>
            <a:xfrm>
              <a:off x="4788000" y="1468440"/>
              <a:ext cx="3314520" cy="642600"/>
              <a:chOff x="4788000" y="1468440"/>
              <a:chExt cx="3314520" cy="642600"/>
            </a:xfrm>
          </p:grpSpPr>
          <p:sp>
            <p:nvSpPr>
              <p:cNvPr id="55" name=""/>
              <p:cNvSpPr/>
              <p:nvPr/>
            </p:nvSpPr>
            <p:spPr>
              <a:xfrm>
                <a:off x="7721640" y="187956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88000" y="1468440"/>
                <a:ext cx="774720" cy="642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3600" spc="-1" strike="noStrike">
                    <a:solidFill>
                      <a:srgbClr val="ffff00"/>
                    </a:solidFill>
                    <a:latin typeface="Arial"/>
                  </a:rPr>
                  <a:t>...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0" y="3919680"/>
            <a:ext cx="7378200" cy="2506680"/>
            <a:chOff x="0" y="3919680"/>
            <a:chExt cx="7378200" cy="2506680"/>
          </a:xfrm>
        </p:grpSpPr>
        <p:sp>
          <p:nvSpPr>
            <p:cNvPr id="58" name=""/>
            <p:cNvSpPr/>
            <p:nvPr/>
          </p:nvSpPr>
          <p:spPr>
            <a:xfrm>
              <a:off x="0" y="3919680"/>
              <a:ext cx="6591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se i=0,1: 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lipFlop  =  Switch((high,1),(low,0)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905120" y="4902120"/>
              <a:ext cx="5473080" cy="1524240"/>
              <a:chOff x="1905120" y="4902120"/>
              <a:chExt cx="5473080" cy="1524240"/>
            </a:xfrm>
          </p:grpSpPr>
          <p:sp>
            <p:nvSpPr>
              <p:cNvPr id="60" name=""/>
              <p:cNvSpPr/>
              <p:nvPr/>
            </p:nvSpPr>
            <p:spPr>
              <a:xfrm>
                <a:off x="190512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98800" y="490212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6416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98800" y="607068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0" idx="0"/>
                <a:endCxn id="61" idx="1"/>
              </p:cNvCxnSpPr>
              <p:nvPr/>
            </p:nvCxnSpPr>
            <p:spPr>
              <a:xfrm flipH="1" flipV="1" rot="5400000">
                <a:off x="3057480" y="4384800"/>
                <a:ext cx="146520" cy="1536840"/>
              </a:xfrm>
              <a:prstGeom prst="bentConnector4">
                <a:avLst>
                  <a:gd name="adj1" fmla="val 155172"/>
                  <a:gd name="adj2" fmla="val 64854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5" name=""/>
              <p:cNvCxnSpPr>
                <a:stCxn id="61" idx="3"/>
                <a:endCxn id="62" idx="0"/>
              </p:cNvCxnSpPr>
              <p:nvPr/>
            </p:nvCxnSpPr>
            <p:spPr>
              <a:xfrm>
                <a:off x="5396760" y="5079960"/>
                <a:ext cx="1524960" cy="146520"/>
              </a:xfrm>
              <a:prstGeom prst="bentConnector4">
                <a:avLst>
                  <a:gd name="adj1" fmla="val 34994"/>
                  <a:gd name="adj2" fmla="val -55172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6" name=""/>
              <p:cNvCxnSpPr>
                <a:stCxn id="62" idx="4"/>
                <a:endCxn id="63" idx="3"/>
              </p:cNvCxnSpPr>
              <p:nvPr/>
            </p:nvCxnSpPr>
            <p:spPr>
              <a:xfrm rot="5400000">
                <a:off x="6035040" y="5362560"/>
                <a:ext cx="248040" cy="15249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7" name=""/>
              <p:cNvCxnSpPr>
                <a:stCxn id="63" idx="1"/>
                <a:endCxn id="60" idx="4"/>
              </p:cNvCxnSpPr>
              <p:nvPr/>
            </p:nvCxnSpPr>
            <p:spPr>
              <a:xfrm rot="10800000">
                <a:off x="2362320" y="6000840"/>
                <a:ext cx="1536840" cy="24804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SWIT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325-132B-4031-9C49-70CC52ADAB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8-07T16:38:18Z</dcterms:modified>
  <cp:revision>713</cp:revision>
  <dc:subject>The ASM Method</dc:subject>
  <dc:title>The ASM Method</dc:title>
</cp:coreProperties>
</file>