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5C3-0C13-4866-A1E3-BF869F4E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E8C-ADF7-47F2-997B-C3CED1C4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0EB8-5BA2-43E0-A94A-E367E463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8BA4-129D-406B-B151-1B9053D8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06A-A6CD-4703-957A-EE13A56F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272-0C61-4562-8442-B8D3736E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A58-D02A-4781-B21B-93B92BD2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C08-88F4-4B4F-BAC5-A557993B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B926-4F8C-42E4-8463-F84CAA47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4BE-BDB7-4DA6-9699-86D47E55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1FB7-255F-445C-A03F-00375E3E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B930-C93D-40EA-9204-00AB92AB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F989-264E-4553-B3B6-6628CE2FB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hyperlink" Target="http://www.inf.ethz.ch/~jbook" TargetMode="External"/><Relationship Id="rId3" Type="http://schemas.openxmlformats.org/officeDocument/2006/relationships/hyperlink" Target="http://www.inf.ethz.ch/~jbook" TargetMode="External"/><Relationship Id="rId4" Type="http://schemas.openxmlformats.org/officeDocument/2006/relationships/hyperlink" Target="http://www.inf.ethz.ch/~jbook" TargetMode="External"/><Relationship Id="rId5" Type="http://schemas.openxmlformats.org/officeDocument/2006/relationships/hyperlink" Target="http://www.inf.ethz.ch/~jbook" TargetMode="External"/><Relationship Id="rId6" Type="http://schemas.openxmlformats.org/officeDocument/2006/relationships/hyperlink" Target="http://www.inf.ethz.ch/~jbook" TargetMode="External"/><Relationship Id="rId7" Type="http://schemas.openxmlformats.org/officeDocument/2006/relationships/hyperlink" Target="http://www.inf.ethz.ch/~jbook" TargetMode="External"/><Relationship Id="rId8" Type="http://schemas.openxmlformats.org/officeDocument/2006/relationships/hyperlink" Target="http://www.inf.ethz.ch/~jbook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409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An Abstract Component Model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253656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6984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onentConsistencyCheck(S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achi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90400"/>
            <a:ext cx="8953560" cy="1310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ecking for each component of a component structure S its connectors and constraint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) the connectors to connect import services to export services with matching signature and specific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) the constraints of all used components (those from where services are imported to execute a service exported by the component) to meet the related use structu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24080" y="2082960"/>
            <a:ext cx="2845080" cy="4584600"/>
            <a:chOff x="3124080" y="2082960"/>
            <a:chExt cx="2845080" cy="4584600"/>
          </a:xfrm>
        </p:grpSpPr>
        <p:sp>
          <p:nvSpPr>
            <p:cNvPr id="72" name=""/>
            <p:cNvSpPr/>
            <p:nvPr/>
          </p:nvSpPr>
          <p:spPr>
            <a:xfrm>
              <a:off x="3124080" y="2292480"/>
              <a:ext cx="284508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forall c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PONENT(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70520" y="4865760"/>
              <a:ext cx="950760" cy="733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nst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21280" y="2965320"/>
              <a:ext cx="85068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pe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22840" y="4046400"/>
              <a:ext cx="144756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Conne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pec(c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22840" y="5862600"/>
              <a:ext cx="144756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 Constraints(c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" name=""/>
            <p:cNvCxnSpPr>
              <a:stCxn id="72" idx="2"/>
              <a:endCxn id="74" idx="0"/>
            </p:cNvCxnSpPr>
            <p:nvPr/>
          </p:nvCxnSpPr>
          <p:spPr>
            <a:xfrm>
              <a:off x="4546080" y="2658600"/>
              <a:ext cx="1080" cy="30672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78" name=""/>
            <p:cNvCxnSpPr>
              <a:stCxn id="74" idx="4"/>
              <a:endCxn id="75" idx="0"/>
            </p:cNvCxnSpPr>
            <p:nvPr/>
          </p:nvCxnSpPr>
          <p:spPr>
            <a:xfrm>
              <a:off x="4546080" y="3739680"/>
              <a:ext cx="1080" cy="30672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75" idx="2"/>
              <a:endCxn id="73" idx="0"/>
            </p:cNvCxnSpPr>
            <p:nvPr/>
          </p:nvCxnSpPr>
          <p:spPr>
            <a:xfrm>
              <a:off x="4546080" y="4564080"/>
              <a:ext cx="1080" cy="30240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80" name=""/>
            <p:cNvCxnSpPr>
              <a:stCxn id="73" idx="4"/>
              <a:endCxn id="76" idx="0"/>
            </p:cNvCxnSpPr>
            <p:nvPr/>
          </p:nvCxnSpPr>
          <p:spPr>
            <a:xfrm>
              <a:off x="4546080" y="5599080"/>
              <a:ext cx="1080" cy="26424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4546440" y="6362640"/>
              <a:ext cx="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46440" y="2082960"/>
              <a:ext cx="0" cy="2030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74A-51D2-4844-B2A3-87A13CA36C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901800"/>
            <a:ext cx="91440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mports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 Connector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 ) = undef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ImpServiceNotConnected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lse let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(Connector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) is defined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not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equivSignatures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utput error-in-connector (s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,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no signature matc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rall v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View:  if SatisfiesSpec(v, ProvidedSpec(v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,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       RequiredSpec(v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 =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output error-in-connector 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o spec match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heckConnectSpec (c)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achin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hecking tha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connectors connect every import service to an export service with matching signature &amp; spec (for every view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777960"/>
            <a:ext cx="9144000" cy="6080760"/>
            <a:chOff x="0" y="777960"/>
            <a:chExt cx="9144000" cy="6080760"/>
          </a:xfrm>
        </p:grpSpPr>
        <p:sp>
          <p:nvSpPr>
            <p:cNvPr id="86" name=""/>
            <p:cNvSpPr/>
            <p:nvPr/>
          </p:nvSpPr>
          <p:spPr>
            <a:xfrm>
              <a:off x="0" y="5302080"/>
              <a:ext cx="5143680" cy="1556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equivSignatures(s,s’)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|ServiceParam(s)| = |ServiceParam(s’)| &amp; </a:t>
              </a:r>
              <a:r>
                <a:rPr b="1" lang="it-I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 it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erviceParam(s))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t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erviceParam(s’))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ere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 = |ServiceParam(s)|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34120" y="777960"/>
              <a:ext cx="3809880" cy="368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denotes equality of type and 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232240" y="5351400"/>
            <a:ext cx="3911760" cy="1128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mpServiceNotConnected(s) </a:t>
            </a:r>
            <a:r>
              <a:rPr b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f for all s’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SERVI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Connector(s,s’) = unde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error: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service s has no  conne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259E-1652-4FD1-AE50-5A907C2EDB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2260080"/>
            <a:ext cx="9144000" cy="21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xports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c’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UsedComponent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MeetsConstraint(ImportStructure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,Constraint(c’)) =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output error 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c’, component constraint is violated)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heckConstraint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(c)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6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794120"/>
            <a:ext cx="9144000" cy="1611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sedComponents(s)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{c|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m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tainedServices(ImportStructure(s)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nector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m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is defined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xports(c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870120"/>
            <a:ext cx="9144000" cy="916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ecking for each exported service the constraints of all used compone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those from where services are imported to execute the exported service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 meet the related use structure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6DA4-03C4-4F58-8A16-CCD86DEA0C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SystemRefinementCheck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(COMPSYSTEM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achi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303720"/>
            <a:ext cx="4356000" cy="1037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eckTypeViewCompRefinement(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,S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heckTypeRefinement (R,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heckViewRefinement (R,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heckComponentRefinement (R,S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035160" y="1079640"/>
            <a:ext cx="5867640" cy="4798800"/>
            <a:chOff x="3035160" y="1079640"/>
            <a:chExt cx="5867640" cy="4798800"/>
          </a:xfrm>
        </p:grpSpPr>
        <p:sp>
          <p:nvSpPr>
            <p:cNvPr id="96" name=""/>
            <p:cNvSpPr/>
            <p:nvPr/>
          </p:nvSpPr>
          <p:spPr>
            <a:xfrm>
              <a:off x="3035160" y="1327320"/>
              <a:ext cx="586764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forall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,S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MPSYSTE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uch that R-isRefinedBy-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79920" y="2063880"/>
              <a:ext cx="978120" cy="863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Typ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ViewCom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64280" y="3170160"/>
              <a:ext cx="1409400" cy="641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TypeViewCom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finement(R,S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5245200" y="4076640"/>
              <a:ext cx="1447560" cy="1801800"/>
              <a:chOff x="5245200" y="4076640"/>
              <a:chExt cx="1447560" cy="1801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492520" y="4076640"/>
                <a:ext cx="950400" cy="7333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chec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constr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245200" y="5073480"/>
                <a:ext cx="1447560" cy="459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CheckConnecto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finement(R,S)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2" name=""/>
              <p:cNvCxnSpPr>
                <a:stCxn id="100" idx="4"/>
                <a:endCxn id="101" idx="0"/>
              </p:cNvCxnSpPr>
              <p:nvPr/>
            </p:nvCxnSpPr>
            <p:spPr>
              <a:xfrm>
                <a:off x="5968440" y="4809960"/>
                <a:ext cx="1080" cy="26424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103" name=""/>
              <p:cNvSpPr/>
              <p:nvPr/>
            </p:nvSpPr>
            <p:spPr>
              <a:xfrm>
                <a:off x="5968800" y="5573520"/>
                <a:ext cx="0" cy="304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5969160" y="1079640"/>
              <a:ext cx="0" cy="253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96" idx="2"/>
              <a:endCxn id="97" idx="0"/>
            </p:cNvCxnSpPr>
            <p:nvPr/>
          </p:nvCxnSpPr>
          <p:spPr>
            <a:xfrm>
              <a:off x="5968800" y="1724040"/>
              <a:ext cx="1080" cy="34020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97" idx="4"/>
              <a:endCxn id="98" idx="0"/>
            </p:cNvCxnSpPr>
            <p:nvPr/>
          </p:nvCxnSpPr>
          <p:spPr>
            <a:xfrm>
              <a:off x="5968800" y="2927520"/>
              <a:ext cx="1080" cy="24336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98" idx="2"/>
              <a:endCxn id="100" idx="0"/>
            </p:cNvCxnSpPr>
            <p:nvPr/>
          </p:nvCxnSpPr>
          <p:spPr>
            <a:xfrm>
              <a:off x="5968800" y="3809520"/>
              <a:ext cx="1080" cy="26712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FC7-F802-4AA5-AD34-E9CD64A029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994040"/>
            <a:ext cx="9144000" cy="4216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TypeRefinement (R,S)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f not Types(R)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Types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hen set error-missing-types-in-refinement(R,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ViewRefinement(R,S)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If not Views(R) </a:t>
            </a:r>
            <a:r>
              <a:rPr b="0" lang="it-IT" sz="3200" spc="-1" strike="noStrike">
                <a:solidFill>
                  <a:srgbClr val="ff9900"/>
                </a:solidFill>
                <a:latin typeface="Symbol"/>
                <a:ea typeface="Symbol"/>
              </a:rPr>
              <a:t>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 Views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then set error-missing-views-in-refinement(R,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CheckType/ViewRefinemen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R,S)  Machi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11320"/>
            <a:ext cx="8953560" cy="337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ecking that abstract types and views are subsets of the refined 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838A-5710-4A5B-9016-6B1D1EBC9F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CheckComponentRefinemen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R,S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431640"/>
            <a:ext cx="8991720" cy="613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)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)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.t. ComponentName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= ComponentName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Imports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0" lang="en-US" sz="3600" spc="-1" strike="noStrike" baseline="1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not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co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hen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utput error-in-comp-refinemen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not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then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utput error-in-comp-refinemen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mponent-refined(R,S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:=(S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If   for some 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R)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there is no 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.t. ComponentName(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) = ComponentName(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then output error-in-comp-refinement (R,S,                                                  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NB. Each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R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admits at most one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S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with same component name, by well-formedness and assumption on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onentName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d as injective i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s) and with range disjoint from connector nam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07040" y="4424400"/>
            <a:ext cx="317484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mponent mu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refined ver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0320" y="2951280"/>
            <a:ext cx="664236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bstract &amp; refined components must have identical exp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22560" y="2100240"/>
            <a:ext cx="55879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component with import services cannot be refin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48720" y="0"/>
            <a:ext cx="129528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C6B-7F1F-4C75-8DAB-D08860C389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7840" y="0"/>
            <a:ext cx="8966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fining Equivalence of Components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966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c </a:t>
            </a:r>
            <a:r>
              <a:rPr b="0" lang="it-IT" sz="3600" spc="-1" strike="noStrike">
                <a:solidFill>
                  <a:srgbClr val="ff9900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9900"/>
                </a:solidFill>
                <a:latin typeface="Arial"/>
              </a:rPr>
              <a:t>exp</a:t>
            </a: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 c’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iff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equivalence wrt export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straint(c)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Constraint(c’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,c’ have the same number of export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xport services of c,c’ with same name ar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c </a:t>
            </a:r>
            <a:r>
              <a:rPr b="0" lang="it-IT" sz="3200" spc="-1" strike="noStrike">
                <a:solidFill>
                  <a:srgbClr val="ff9900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9900"/>
                </a:solidFill>
                <a:latin typeface="Arial"/>
              </a:rPr>
              <a:t>comp</a:t>
            </a: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 c’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ff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equivalence wrt export/import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’     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&amp; wrt import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xport services of c,c’ with same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ave the same Import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mport services of c,c’ with same name are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ffff"/>
                </a:solidFill>
                <a:latin typeface="Arial"/>
              </a:rPr>
              <a:t>servi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019-AAA9-46C8-B4A4-7E70D8C942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fining Service Equivalen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736560"/>
            <a:ext cx="9144000" cy="56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s </a:t>
            </a:r>
            <a:r>
              <a:rPr b="0" lang="it-IT" sz="3200" spc="-1" strike="noStrike">
                <a:solidFill>
                  <a:srgbClr val="ff9900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9900"/>
                </a:solidFill>
                <a:latin typeface="Arial"/>
              </a:rPr>
              <a:t>service </a:t>
            </a: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s’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ccecff"/>
                </a:solidFill>
                <a:latin typeface="Arial"/>
              </a:rPr>
              <a:t>i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s, s’ have the same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equivSignatures(s,s’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For each view v: Provided/RequiredSpec(v,s) </a:t>
            </a:r>
            <a:r>
              <a:rPr b="0" lang="it-IT" sz="2800" spc="-1" strike="noStrike">
                <a:solidFill>
                  <a:srgbClr val="ccec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 baseline="-25000">
                <a:solidFill>
                  <a:srgbClr val="ccecff"/>
                </a:solidFill>
                <a:latin typeface="Arial"/>
              </a:rPr>
              <a:t>v  </a:t>
            </a:r>
            <a:r>
              <a:rPr b="0" lang="it-IT" sz="2800" spc="-1" strike="noStrike" baseline="-25000">
                <a:solidFill>
                  <a:srgbClr val="ccecff"/>
                </a:solidFill>
                <a:latin typeface="Arial"/>
              </a:rPr>
              <a:t>	</a:t>
            </a:r>
            <a:r>
              <a:rPr b="0" lang="it-IT" sz="2800" spc="-1" strike="noStrike" baseline="-25000">
                <a:solidFill>
                  <a:srgbClr val="ccecff"/>
                </a:solidFill>
                <a:latin typeface="Arial"/>
              </a:rPr>
              <a:t>                                                 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Provided/RequiredSpec(v,s’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92C-EE5D-4D78-A084-347220C056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ement of connectors: an examp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: For each connector cn in R,  either c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 or there is a component cni that refines the connector in 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n in R is refined by cni in 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n and cni have the same 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ni exports a service that matches the import service of c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ni imports a service that matches the export service of c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l. connector C {A::s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[ ]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B::s2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nects import service s2 of B to export service s1 of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 valid refinement 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ector {A::s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C::s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ector  {C::s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B::s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with component C in S offering export service s2 to B and import service s1 to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B18A-B2F9-42FB-9290-6252E2CC65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CheckConnectorRefinemen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R,S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)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) s.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Name(ImportService(cn</a:t>
            </a:r>
            <a:r>
              <a:rPr b="0" lang="it-IT" sz="2400" spc="-1" strike="noStrike" baseline="-25000">
                <a:solidFill>
                  <a:srgbClr val="ccec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))= Name(ImportService(cn</a:t>
            </a:r>
            <a:r>
              <a:rPr b="0" lang="it-IT" sz="2400" spc="-1" strike="noStrike" baseline="-25000">
                <a:solidFill>
                  <a:srgbClr val="ccec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Component(ImportService(cn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)) is comp-refined by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                                      Component(ImportService(cn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both or none of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re abstract      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ccecff"/>
                </a:solidFill>
                <a:latin typeface="Arial"/>
              </a:rPr>
              <a:t>AbstractCONNECTOR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if Ex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refin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x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connector-refinement-ok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lse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heckConnectorRefinement(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abstract  and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not abstr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CheckConnectorRefinement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not abstract  and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abstr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tput error-in-connector-refinement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only abstract connectors refinab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56200" y="5797440"/>
            <a:ext cx="3187800" cy="5806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 is comp-refined by c’ if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ponent-refined(R,S,c)=(S,c’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683320"/>
            <a:ext cx="5918040" cy="872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(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refin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(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ff both have same es-name 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ponent(es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) is comp-refined by Component(es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BE0-6E6F-4B9E-B772-C362E57EA4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6440"/>
            <a:ext cx="886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etails see Chapter 3.1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AC9D-D582-45AC-92B1-11D609D4C1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CheckConnectorRefinemen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456840"/>
            <a:ext cx="89535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et 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Ex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Component(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Im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 there is n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p-refinement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f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xporting a service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with same name as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tput error-in-connector-refinement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no service matching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:: e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in 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lseif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in a component of 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here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o import service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connected t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s abo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o export service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o which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ne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tput error-in-connector-refinement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refining connector missing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lse connector-refinement-ok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476600"/>
            <a:ext cx="9144000" cy="337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connected to e iff Connector(i,e) or AbstractConnector(i,e) is defin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318680" y="5892840"/>
            <a:ext cx="2582640" cy="687960"/>
            <a:chOff x="1318680" y="5892840"/>
            <a:chExt cx="2582640" cy="687960"/>
          </a:xfrm>
        </p:grpSpPr>
        <p:sp>
          <p:nvSpPr>
            <p:cNvPr id="131" name=""/>
            <p:cNvSpPr/>
            <p:nvPr/>
          </p:nvSpPr>
          <p:spPr>
            <a:xfrm>
              <a:off x="2894760" y="6070680"/>
              <a:ext cx="1006560" cy="5101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::v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16040" y="5892840"/>
              <a:ext cx="58896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v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3" name=""/>
            <p:cNvCxnSpPr>
              <a:stCxn id="134" idx="3"/>
              <a:endCxn id="135" idx="1"/>
            </p:cNvCxnSpPr>
            <p:nvPr/>
          </p:nvCxnSpPr>
          <p:spPr>
            <a:xfrm>
              <a:off x="1318680" y="6298920"/>
              <a:ext cx="1412280" cy="684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0" y="5447880"/>
            <a:ext cx="1296000" cy="1132920"/>
            <a:chOff x="0" y="5447880"/>
            <a:chExt cx="1296000" cy="1132920"/>
          </a:xfrm>
        </p:grpSpPr>
        <p:sp>
          <p:nvSpPr>
            <p:cNvPr id="134" name=""/>
            <p:cNvSpPr/>
            <p:nvPr/>
          </p:nvSpPr>
          <p:spPr>
            <a:xfrm>
              <a:off x="289440" y="6070680"/>
              <a:ext cx="1006560" cy="51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::e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8" idx="2"/>
              <a:endCxn id="134" idx="0"/>
            </p:cNvCxnSpPr>
            <p:nvPr/>
          </p:nvCxnSpPr>
          <p:spPr>
            <a:xfrm>
              <a:off x="791640" y="5447880"/>
              <a:ext cx="2520" cy="62316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0" y="5587920"/>
              <a:ext cx="71604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ref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239800" y="6070680"/>
            <a:ext cx="1023480" cy="5101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:u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7200" y="4991040"/>
            <a:ext cx="8441280" cy="1602360"/>
            <a:chOff x="277200" y="4991040"/>
            <a:chExt cx="8441280" cy="1602360"/>
          </a:xfrm>
        </p:grpSpPr>
        <p:grpSp>
          <p:nvGrpSpPr>
            <p:cNvPr id="142" name=""/>
            <p:cNvGrpSpPr/>
            <p:nvPr/>
          </p:nvGrpSpPr>
          <p:grpSpPr>
            <a:xfrm>
              <a:off x="277200" y="4991040"/>
              <a:ext cx="8441280" cy="1602360"/>
              <a:chOff x="277200" y="4991040"/>
              <a:chExt cx="8441280" cy="160236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277200" y="4991040"/>
                <a:ext cx="8389800" cy="681840"/>
                <a:chOff x="277200" y="4991040"/>
                <a:chExt cx="8389800" cy="6818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858440" y="4991040"/>
                  <a:ext cx="808560" cy="510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 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::i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77200" y="4991040"/>
                  <a:ext cx="1028160" cy="510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 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::e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5" name=""/>
                <p:cNvCxnSpPr>
                  <a:stCxn id="138" idx="3"/>
                  <a:endCxn id="144" idx="1"/>
                </p:cNvCxnSpPr>
                <p:nvPr/>
              </p:nvCxnSpPr>
              <p:spPr>
                <a:xfrm>
                  <a:off x="1328400" y="5219280"/>
                  <a:ext cx="65077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sp>
              <p:nvSpPr>
                <p:cNvPr id="146" name=""/>
                <p:cNvSpPr/>
                <p:nvPr/>
              </p:nvSpPr>
              <p:spPr>
                <a:xfrm>
                  <a:off x="4257720" y="5232240"/>
                  <a:ext cx="614160" cy="440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0000"/>
                      </a:solidFill>
                      <a:latin typeface="Arial"/>
                    </a:rPr>
                    <a:t>cn</a:t>
                  </a:r>
                  <a:r>
                    <a:rPr b="0" lang="it-IT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7886880" y="6083280"/>
                <a:ext cx="831600" cy="5101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Arial"/>
                  </a:rPr>
                  <a:t>S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::i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6784920" y="5905440"/>
              <a:ext cx="60156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5" idx="3"/>
              <a:endCxn id="147" idx="1"/>
            </p:cNvCxnSpPr>
            <p:nvPr/>
          </p:nvCxnSpPr>
          <p:spPr>
            <a:xfrm>
              <a:off x="6413040" y="6305400"/>
              <a:ext cx="1474200" cy="720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grpSp>
        <p:nvGrpSpPr>
          <p:cNvPr id="150" name=""/>
          <p:cNvGrpSpPr/>
          <p:nvPr/>
        </p:nvGrpSpPr>
        <p:grpSpPr>
          <a:xfrm>
            <a:off x="2730600" y="5423040"/>
            <a:ext cx="6413400" cy="1434960"/>
            <a:chOff x="2730600" y="5423040"/>
            <a:chExt cx="6413400" cy="1434960"/>
          </a:xfrm>
        </p:grpSpPr>
        <p:sp>
          <p:nvSpPr>
            <p:cNvPr id="135" name=""/>
            <p:cNvSpPr/>
            <p:nvPr/>
          </p:nvSpPr>
          <p:spPr>
            <a:xfrm>
              <a:off x="2730600" y="5753160"/>
              <a:ext cx="3682800" cy="1104840"/>
            </a:xfrm>
            <a:prstGeom prst="rect">
              <a:avLst/>
            </a:prstGeom>
            <a:noFill/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/>
            <p:nvPr/>
          </p:nvCxnSpPr>
          <p:spPr>
            <a:xfrm>
              <a:off x="8249760" y="5423040"/>
              <a:ext cx="2520" cy="622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52" name=""/>
            <p:cNvSpPr/>
            <p:nvPr/>
          </p:nvSpPr>
          <p:spPr>
            <a:xfrm>
              <a:off x="8427960" y="5587920"/>
              <a:ext cx="71604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ref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/>
            <p:nvPr/>
          </p:nvCxnSpPr>
          <p:spPr>
            <a:xfrm>
              <a:off x="4565520" y="5629320"/>
              <a:ext cx="7200" cy="12456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DA0-C810-4E17-BEFF-DC0E6FD6CB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164880"/>
            <a:ext cx="807732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 (on sequentialization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1200" y="748800"/>
            <a:ext cx="8902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that th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onentConsistencyCheck(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M defined above is equivalent to the following 1-step machi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forall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66ffff"/>
                </a:solidFill>
                <a:latin typeface="Arial"/>
              </a:rPr>
              <a:t>COMPONENT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nectSpec(c) seq CheckConstraints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at th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SystemRefinementCheck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(COMPSYSTEM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M defined abo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equivalent to the following 1-step machi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forall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R,S 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COMPSYSTEM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such that R-isRefinedBy-S</a:t>
            </a:r>
            <a:r>
              <a:rPr b="1" lang="it-IT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TypeViewCompRefinement(R,S)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eq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CheckConnectorRefinement(R,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seq denotes the ASM sequentialization operator defined in 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ger&amp;Schmid2000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91D2-96CC-42E1-9040-300232ED88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2440" y="177840"/>
            <a:ext cx="80769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 (on refining forall-machines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ine the machine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ComponentConsistencyCheck(S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an iterated control state ASM working in each iteration on one component only, but with an abstract scheduling for the iteration order. Prove the equivale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nt (A. Sünbül,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sertation, Fig. 5.3): use iterated choose as shown below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93840" y="2387520"/>
            <a:ext cx="8533800" cy="3122640"/>
            <a:chOff x="393840" y="2387520"/>
            <a:chExt cx="8533800" cy="3122640"/>
          </a:xfrm>
        </p:grpSpPr>
        <p:sp>
          <p:nvSpPr>
            <p:cNvPr id="159" name=""/>
            <p:cNvSpPr/>
            <p:nvPr/>
          </p:nvSpPr>
          <p:spPr>
            <a:xfrm>
              <a:off x="5416560" y="4751280"/>
              <a:ext cx="950400" cy="758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nst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82880" y="2457360"/>
              <a:ext cx="1117080" cy="889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elect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p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68880" y="2387520"/>
              <a:ext cx="144720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electCurr Componen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59440" y="2482920"/>
              <a:ext cx="1168200" cy="838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pe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72120" y="4071960"/>
              <a:ext cx="1447560" cy="73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onnectSpe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(curr - comp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44640" y="4051440"/>
              <a:ext cx="1447560" cy="73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 Constraints (curr - comp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60" idx="6"/>
              <a:endCxn id="162" idx="2"/>
            </p:cNvCxnSpPr>
            <p:nvPr/>
          </p:nvCxnSpPr>
          <p:spPr>
            <a:xfrm>
              <a:off x="3999960" y="2901600"/>
              <a:ext cx="3759480" cy="10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62" idx="4"/>
              <a:endCxn id="159" idx="7"/>
            </p:cNvCxnSpPr>
            <p:nvPr/>
          </p:nvCxnSpPr>
          <p:spPr>
            <a:xfrm flipH="1">
              <a:off x="6226920" y="3321000"/>
              <a:ext cx="2116440" cy="154224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9" idx="1"/>
              <a:endCxn id="160" idx="4"/>
            </p:cNvCxnSpPr>
            <p:nvPr/>
          </p:nvCxnSpPr>
          <p:spPr>
            <a:xfrm flipH="1" flipV="1">
              <a:off x="3440880" y="3345840"/>
              <a:ext cx="2115000" cy="15166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0" idx="3"/>
            </p:cNvCxnSpPr>
            <p:nvPr/>
          </p:nvCxnSpPr>
          <p:spPr>
            <a:xfrm flipH="1">
              <a:off x="647280" y="3215880"/>
              <a:ext cx="2399040" cy="13438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69" name=""/>
            <p:cNvSpPr/>
            <p:nvPr/>
          </p:nvSpPr>
          <p:spPr>
            <a:xfrm>
              <a:off x="672840" y="3619440"/>
              <a:ext cx="2250720" cy="609840"/>
            </a:xfrm>
            <a:prstGeom prst="hexagon">
              <a:avLst>
                <a:gd name="adj" fmla="val 92267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l component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ve been visit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3840" y="2908440"/>
              <a:ext cx="2501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0" y="5670720"/>
            <a:ext cx="8674200" cy="855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lectCurrComponent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oose c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MPONENT(S) such that visited(c)=fa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urr - comp:=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visited(c):= tr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8DF8-983E-467F-A9CD-4C81EC807B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SystemRefinementCheck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(COMPSYSTEM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n iterated control state ASM which works in each iteration step on one refinement pair and prove the refinement correctnes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Define as in the preceding exercise a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electCurrRefinementPai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followed by CheckTypeViewCompRefinement and CheckConnectorRefinement (see A. Sünbül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sertation, pg. 89)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the abstract 1-step machines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nectSpe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strai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mponentRefin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nectorRefineme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iterated machines working in each iteration on one import service, export service, component, connector respectively, but with an abstract scheduling for the iteration order. Show the correctness of the refinemen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solution which uses the choose-construct see A. Sünbül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sertation, Fig. 5.4, Fig.5.6, pg.91, pg.9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069F-56ED-4954-A050-869547EF0E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80773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ASMs to comput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UsedCompon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ignature equivalence notion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equivSignature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,s’) , and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mponent and service equivalence notions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it-IT" sz="2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comp,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’, c </a:t>
            </a:r>
            <a:r>
              <a:rPr b="0" lang="it-IT" sz="2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co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’, s </a:t>
            </a:r>
            <a:r>
              <a:rPr b="0" lang="it-IT" sz="2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servic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’ specified abov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n implementation using the choose-construct see A. Sünbül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sertation, Fig. 5.2, 5.1, 5.8,  5.7, 5.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6AD-B37B-4375-9881-3527B7EEF0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80773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ject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43164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above described approach for abstract definitions of components, connectors, interface constraints, etc. to provide a  rigorous abstract model for real-life multi-platform middleware techniques for component composition (e.g. Corba) or for the component concept of a real-life component based programming system (e.g. JavaBeans)  or of your favorite glue-code providing scripting langu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4E89-E306-4E52-B3B0-E9D3067936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1200" y="571680"/>
            <a:ext cx="89028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Sünbül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 Architectural Design of Evolutionary Software Systems in Continuous Software Engine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ser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echnical University of Berlin,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J. Schmid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 Composition and Submachine Concepts for Sequential ASMs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. CSL’2000, LNCS 1862,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 2003, se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. Stärk, J. Schmid, E. Börger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Java and the Java Virtual Machine: Definition, Verification, Validation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er-Verlag  20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http://www.inf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ethz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6"/>
              </a:rPr>
              <a:t>ch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7"/>
              </a:rPr>
              <a:t>/~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8"/>
              </a:rPr>
              <a:t>jb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2A79-9FC2-4024-9C8E-700F3C29757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4240" y="0"/>
            <a:ext cx="83818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oal of abstract framework for component  composi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609120"/>
            <a:ext cx="89661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concepts f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e with interface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pecific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pending on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vie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 and import parameterized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rv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usage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composed and refined by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nne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upo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bstra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ions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erv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nstrai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odel of logi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nn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043C-6468-4F4D-8A48-6E63BEBA30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4240" y="0"/>
            <a:ext cx="83818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ponent Structure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840" y="952560"/>
            <a:ext cx="8966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omain of abstrac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 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pped with appropriat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abstract func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xpor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MPONENT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Powerset(EXPSERVICE)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yielding the services exported by a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mpor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MPONENT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Powerset(IMPSERVICE)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yielding the  services imported by a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ERV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EXPSERVIC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MP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ervicePara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RVIC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MODE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yielding the  parameter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of a service                                                                                    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erviceResTyp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RVIC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YPE    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yielding the “result” typ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MODE= {in,out,inout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ERV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MPONENT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yielding the</a:t>
            </a: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 component to </a:t>
            </a: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                                                                   which a service belo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278B-86FB-4EC8-B74D-FFD5DF1E0B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4240" y="0"/>
            <a:ext cx="83818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nstraint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n usage of component servic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8801280" cy="59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nstrai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STRA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xpressing allowed usages (e.g.application ordering) of the services which are exported by a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mportStruc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SERVICE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USESTRUCTU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xpressing allowed usages of an exported service (in relation to other services imported - in the body of the exporting component - and possibly used to execute the exported service), to be met by the constraints of the components from where those imported services are impor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ContainedServices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: USESTRUCTURE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Powerset(IMPSERVI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yielding the set of imported services which are contained in a given us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MeetsConstraint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USESTRUCTURE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NSTRAINT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BOO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dicating whether the usage of imported services (in the body of a component) is consistent with the given constraints (typically of the components which export those servic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1898-B9BD-42CE-9C79-1C5A2D70D2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pecification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nd related func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ProvidedSpec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VIEW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XPSERVICE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PEC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RequiredSpec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VIEW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MPSERVICE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SP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yielding the specification of a service under a given view.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class SPEC of allowed interface descriptions is deliberately kept abstrac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SatisfiesSpec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VIEW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PEC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PEC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BOOL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dicating whether a given (expservice) specification “satisfies” a given (impservice) specification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 that the service to be exported can safely be “plugged” into the component where to import it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satisfaction relation is deliberately kept abstract, it depends on the underlying class SPEC and on the logic adopted to describe the intended semantical relations between specific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7974-BEAA-4ED4-B73A-5493DE46C4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Connector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nd well-formedness assump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ONNECTOR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ain of connector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onnecting required (imported) services to exported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Connecto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MPSERVICE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XPSERVICE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ONNECTO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mapping the service required by a component to an exported service of another component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with two projection functions: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mportServ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ONNECTOR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IMP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xportServ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ONNECTOR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XP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bstractCONNECTOR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ONNEC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unction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AbstractConne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Abstract connectors are allowed not to obey the consistency conditions checked in the connector model below.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xiom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import service is connected to at most one exported service by either a connector or an abstract conn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xiom: No export service uses in its body an import service to which it is linked by a connector-chain (non-cyclic connec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DCF-D8AE-4159-832E-395ED02436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 System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 Syste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sets of component structures S as described above which satisfy the above stated well-formedness assump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component system COMPSYSTEM, the sets and functions of each of its component structures S are parameterized by S, although notationally we suppress the parameter when it is clear from the 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formedness component system assumption (axio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component/connector in a component system belongs to exactly one component structure of the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58B3-B20B-46D2-9345-203C43A91F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7840" y="1193400"/>
            <a:ext cx="896616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 a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consistency no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nent structures (correctness of connections and satisfaction of constrai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inement of component structures (correct refinement of types, views, components, connectors) belonging to component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y a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machine to chec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se two propert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or a given component system with a proposed refinement re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nsistency checks should  be implementable as stand-alone proce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ach single component struc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ach refinement pair of two component structures of a component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95356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-fold Goal: a consistency check for component structures and for component system refinement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04920" y="4610160"/>
            <a:ext cx="8013600" cy="1836360"/>
            <a:chOff x="304920" y="4610160"/>
            <a:chExt cx="8013600" cy="1836360"/>
          </a:xfrm>
        </p:grpSpPr>
        <p:sp>
          <p:nvSpPr>
            <p:cNvPr id="61" name=""/>
            <p:cNvSpPr/>
            <p:nvPr/>
          </p:nvSpPr>
          <p:spPr>
            <a:xfrm>
              <a:off x="800280" y="4807080"/>
              <a:ext cx="1117440" cy="888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nsistenc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29080" y="4610160"/>
              <a:ext cx="3835080" cy="947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forall S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PSYSTEM</a:t>
              </a: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onentConsistencyCheck(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49960" y="4844880"/>
              <a:ext cx="1168560" cy="838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mpsy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fine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61" idx="6"/>
              <a:endCxn id="63" idx="2"/>
            </p:cNvCxnSpPr>
            <p:nvPr/>
          </p:nvCxnSpPr>
          <p:spPr>
            <a:xfrm>
              <a:off x="1917720" y="5251320"/>
              <a:ext cx="5232960" cy="136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2717640" y="5803920"/>
              <a:ext cx="3632400" cy="64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SystemRefinementChe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OMPSYSTEM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5232240"/>
              <a:ext cx="5331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3" idx="4"/>
              <a:endCxn id="65" idx="3"/>
            </p:cNvCxnSpPr>
            <p:nvPr/>
          </p:nvCxnSpPr>
          <p:spPr>
            <a:xfrm rot="5400000">
              <a:off x="6820560" y="5211720"/>
              <a:ext cx="442080" cy="1384920"/>
            </a:xfrm>
            <a:prstGeom prst="bentConnector2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68" name=""/>
            <p:cNvSpPr/>
            <p:nvPr/>
          </p:nvSpPr>
          <p:spPr>
            <a:xfrm flipH="1">
              <a:off x="2044800" y="6095880"/>
              <a:ext cx="6602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642-E03F-4B40-AE0E-331E06DD62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3:51:50Z</dcterms:modified>
  <cp:revision>779</cp:revision>
  <dc:subject>Abstract Component Model</dc:subject>
  <dc:title>Component Model</dc:title>
</cp:coreProperties>
</file>