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39E8CA-3C9A-4D75-9F31-163F7B77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is no URT yet, we play a wizard who magically guesses a possible  behavior of UR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know what is a correct behavior we have to make some assumptions about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the internal event queue of URT may be a mixture of all kinds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only stopping events may occur in the even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3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anything else happens, the COM environment has to be set up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a new shell object is created with a pointer to the debugging services interface provided by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a callback interface is set up and the runtime is given a pointer to this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. Initializing COM is not part of the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oint of vew of the model, the outside world is set up in a way that is expected from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ent triggers binding of breakpoints and in this way introduces more state into cordbg (source code breakpoint objects and code breakpoints objects are created ads a result of this callback, they will be added to the module objec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lmost everything happens in one parallel step (binding is coinsidered as one step at this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3-4 steps on the groun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: class load callbacks have to enabled before the current process is continu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3 inncreasingly refined models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e shows the top level control structure of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t mainly reflects usrers view of the debugger, either there is a prompt  or there isn’t a prom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e make explicit also the state where the debugger is about to break (I.e. just going to pres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with a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the debugging commands on the internal state of cordbg (other than mode) is most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kip operation on this abstract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del exposes the central data structures and the main communication structure that is established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bg and URT, as a result of refining the commands that were mostly skip operations on the previou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level mainly stepping commands, breakpoint commands, and all callbacks are modeled, I.e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s concerned with compile tim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ble to see how stepping and breakpoints work, without bothering about the hairy det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more, at this level we ignore frame related information (like viewing local variables, or walking up and dow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stack) at thi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ted commands are treated independenly. One could call it a Data Model and add it as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layer between the Object model and  the grou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considered as being part of the ground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model also exposes all the details of how the intera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g and URT is re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do we look at the detai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cause this is a crash course on debugger construction, but to show how A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structure any big piece of software. As the software under consid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to be a debugger, we expect the audienc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bstract understanding of how the debugging services of URT are designed t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do not claim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 refinement in this case are very much different from procedural abstraction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we believe that’s probably more or less exactly what they are in this c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 the refeniments ar 1 to may.) All the abstraction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however executable, and do not require the lower level abstractions to be ful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lue of mode shows the current control state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Mode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  (not started or exited, I.e. outside, however, user is in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(user has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ay turn on or off events it wants to see as stopping events. (e.g. module load, class load, thread st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–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user as a result of an internal event related to a command set previously by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commands in the follow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stopp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ping ev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912-F15E-4256-AB0E-00EE6788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47A-722D-4135-A2BC-AD54FFB5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010-4730-4F13-8D3C-003D93C1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20E-72D7-4F38-AF65-E807BCE1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57B6-609B-4D1D-B583-BE5EEFF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B61-5829-415B-9857-59168883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4E1-BF6A-4F12-A85F-C15AF7A5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F7E-BFC5-4FCE-886F-87802E23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4AF-BE9F-4453-9D83-E6704CB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66D-8752-4865-B78A-5C811CC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CB2-B52B-4E7F-AE9E-405C1E2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B0B-1BB9-474D-BFA0-E4F8E00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54D-C1B0-44CC-8A7D-321DA6B14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bugger Specifi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Reengineering Case Stud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crosoft Research (Redmond)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999-200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6880" y="3378240"/>
            <a:ext cx="81662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:  Mike Barnett, Egon Börger, Yuri Gurevich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olfram Schulte, Margus Vean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courtesy of Mike Barnett and Margus Vea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lightly edited by E.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ger from the slides presented to the ASM’2000 Workshop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Ascona (CH), March 20-24, 20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command handl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520200"/>
            <a:ext cx="8953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andleBreakingCommand  = cas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mmand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AllThreads  -&gt; commandDisplayAllThrea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hread x            -&gt; commandSetThread              Clear         -&gt; commandCl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reshSource x -&gt; commandRefreshSource x        Ignore x     -&gt; commandIgnore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Path         -&gt; commandDisplayPath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SetPath x  -&gt; commandSetPath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Breakpoints  -&gt; commandDisplay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Breakpoint x        -&gt; commandSet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Breakpoint x        -&gt; commandDel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llBreakpoints     -&gt; commandDelAll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Events          -&gt; commandDisplayEv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chEvents x          -&gt; commandCatchEvents x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 x                     -&gt; commandDown x                    Up x   -&gt; commandUp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AllLocalVariables -&gt; commandPrintAllLocalVariab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 x  -&gt; commandPrint x                               ShowLines x  -&gt; commandShowLines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structions x      -&gt; commandShowInstructions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StackTrace x      -&gt; commandShowStackTrace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FullStackTrace   -&gt; commandShowFullStack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andsFromFile x -&gt; commandCommandsFromFil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CF2-C7A1-4BD5-8EF6-86C75FF398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966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533520"/>
            <a:ext cx="89409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Non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as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Process   x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AppDomain x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AppDomain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Assembly 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Assembly  x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Thread   x       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Thread  x          -&gt;   True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gMessage    x          -&gt;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Module    x  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Module  x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Class  x    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Class  x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ceptionCB  x            -&gt;  not isStoppingException(x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otherEvents                 -&gt; 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not isNonStopping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BD1-412A-4C07-AA68-5DA37AAA6B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andleNonStp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Process   x  -&gt; callbackCreateProcess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AppDomain x  -&gt; callbackCreateAppDomain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AppDomain   x  -&gt; callbackExitAppDomain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Assembly    x  -&gt; callbackLoadAssembly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Assembly  x  -&gt; callbackUnloadAssembly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Thread      x  -&gt; callbackExitThread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Thread    x  -&gt; callbackCreateThread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Message      x  -&gt; callbackLogMessage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Module      x  -&gt; callbackLoadModule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Module    x  -&gt; callbackUnloadModule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Class       x  -&gt; callbackLoadClass 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Class     x  -&gt; callbackUnloadClass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CB     x  -&gt; callbackException    x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FEA-66DB-44A9-8800-066272D4EB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83920"/>
            <a:ext cx="91440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ndleStpEvent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itProcess     x     -&gt; callbackExitProcess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Complete   x   -&gt; callbackStep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point      x      -&gt; callbackBreakpoint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CB         x      -&gt; callbackBreak     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Complete   x    -&gt; callbackEval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Exception   x    -&gt; callbackEvalException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buggerError  x    -&gt; callbackDebuggerError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Module x         -&gt; callback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Module x      -&gt; callbackUn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Class x            -&gt; callback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Class x         -&gt; callbackUn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ceptionCB x        -&gt; callbackException x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CF2-7411-4CD0-873E-AECC44F8FD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26160" y="2042640"/>
            <a:ext cx="3050640" cy="2694600"/>
            <a:chOff x="326160" y="2042640"/>
            <a:chExt cx="3050640" cy="2694600"/>
          </a:xfrm>
        </p:grpSpPr>
        <p:sp>
          <p:nvSpPr>
            <p:cNvPr id="172" name=""/>
            <p:cNvSpPr/>
            <p:nvPr/>
          </p:nvSpPr>
          <p:spPr>
            <a:xfrm>
              <a:off x="555480" y="2317680"/>
              <a:ext cx="689040" cy="81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0600" y="2317680"/>
              <a:ext cx="687240" cy="816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7"/>
              <a:endCxn id="173" idx="1"/>
            </p:cNvCxnSpPr>
            <p:nvPr/>
          </p:nvCxnSpPr>
          <p:spPr>
            <a:xfrm flipH="1" rot="16200000">
              <a:off x="1850760" y="1728720"/>
              <a:ext cx="2160" cy="1418040"/>
            </a:xfrm>
            <a:prstGeom prst="curvedConnector5">
              <a:avLst>
                <a:gd name="adj1" fmla="val -21900000"/>
                <a:gd name="adj2" fmla="val 50000"/>
                <a:gd name="adj3" fmla="val -219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2" idx="2"/>
            </p:cNvCxnSpPr>
            <p:nvPr/>
          </p:nvCxnSpPr>
          <p:spPr>
            <a:xfrm rot="5400000">
              <a:off x="522720" y="2349360"/>
              <a:ext cx="408960" cy="345240"/>
            </a:xfrm>
            <a:prstGeom prst="curvedConnector5">
              <a:avLst>
                <a:gd name="adj1" fmla="val -55947"/>
                <a:gd name="adj2" fmla="val 83089"/>
                <a:gd name="adj3" fmla="val -55947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3" idx="0"/>
              <a:endCxn id="173" idx="6"/>
            </p:cNvCxnSpPr>
            <p:nvPr/>
          </p:nvCxnSpPr>
          <p:spPr>
            <a:xfrm flipH="1" rot="16200000">
              <a:off x="2772360" y="2350080"/>
              <a:ext cx="408960" cy="343440"/>
            </a:xfrm>
            <a:prstGeom prst="curvedConnector5">
              <a:avLst>
                <a:gd name="adj1" fmla="val -55947"/>
                <a:gd name="adj2" fmla="val 83315"/>
                <a:gd name="adj3" fmla="val -55947"/>
              </a:avLst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3" idx="2"/>
              <a:endCxn id="178" idx="0"/>
            </p:cNvCxnSpPr>
            <p:nvPr/>
          </p:nvCxnSpPr>
          <p:spPr>
            <a:xfrm flipV="1" rot="10800000">
              <a:off x="2170800" y="2724480"/>
              <a:ext cx="289440" cy="11923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1698480" y="3917880"/>
              <a:ext cx="9460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TryToBre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8" idx="1"/>
              <a:endCxn id="172" idx="6"/>
            </p:cNvCxnSpPr>
            <p:nvPr/>
          </p:nvCxnSpPr>
          <p:spPr>
            <a:xfrm flipV="1" rot="16200000">
              <a:off x="883800" y="3085560"/>
              <a:ext cx="1313280" cy="5929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8" idx="6"/>
              <a:endCxn id="173" idx="5"/>
            </p:cNvCxnSpPr>
            <p:nvPr/>
          </p:nvCxnSpPr>
          <p:spPr>
            <a:xfrm flipV="1">
              <a:off x="2644560" y="3013920"/>
              <a:ext cx="403920" cy="131364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82" idx="1"/>
              <a:endCxn id="172" idx="3"/>
            </p:cNvCxnSpPr>
            <p:nvPr/>
          </p:nvCxnSpPr>
          <p:spPr>
            <a:xfrm flipV="1">
              <a:off x="65664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2" idx="5"/>
              <a:endCxn id="182" idx="7"/>
            </p:cNvCxnSpPr>
            <p:nvPr/>
          </p:nvCxnSpPr>
          <p:spPr>
            <a:xfrm flipV="1" rot="10800000">
              <a:off x="114228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55480" y="3917880"/>
              <a:ext cx="689040" cy="819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ing user scenarios with control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1"/>
            <a:endCxn id="187" idx="3"/>
          </p:cNvCxnSpPr>
          <p:nvPr/>
        </p:nvCxnSpPr>
        <p:spPr>
          <a:xfrm flipV="1">
            <a:off x="657000" y="3015720"/>
            <a:ext cx="1080" cy="1023120"/>
          </a:xfrm>
          <a:prstGeom prst="curvedConnector2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835440" y="1359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" y="39178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0240" y="16765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 hello.cpp: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6160" y="2089080"/>
            <a:ext cx="918360" cy="1047600"/>
            <a:chOff x="326160" y="2089080"/>
            <a:chExt cx="918360" cy="1047600"/>
          </a:xfrm>
        </p:grpSpPr>
        <p:cxnSp>
          <p:nvCxnSpPr>
            <p:cNvPr id="192" name=""/>
            <p:cNvCxnSpPr>
              <a:stCxn id="193" idx="0"/>
              <a:endCxn id="193" idx="2"/>
            </p:cNvCxnSpPr>
            <p:nvPr/>
          </p:nvCxnSpPr>
          <p:spPr>
            <a:xfrm rot="5400000">
              <a:off x="522000" y="2350080"/>
              <a:ext cx="410400" cy="345240"/>
            </a:xfrm>
            <a:prstGeom prst="curvedConnector5">
              <a:avLst>
                <a:gd name="adj1" fmla="val -55750"/>
                <a:gd name="adj2" fmla="val 83089"/>
                <a:gd name="adj3" fmla="val -55750"/>
              </a:avLst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55480" y="2317680"/>
              <a:ext cx="689040" cy="81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10960" y="1981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un hello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7"/>
            <a:endCxn id="173" idx="1"/>
          </p:cNvCxnSpPr>
          <p:nvPr/>
        </p:nvCxnSpPr>
        <p:spPr>
          <a:xfrm flipH="1" flipV="1" rot="5400000">
            <a:off x="1850760" y="1728360"/>
            <a:ext cx="2160" cy="1418400"/>
          </a:xfrm>
          <a:prstGeom prst="curvedConnector5">
            <a:avLst>
              <a:gd name="adj1" fmla="val 22000000"/>
              <a:gd name="adj2" fmla="val 49987"/>
              <a:gd name="adj3" fmla="val 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8920" y="22860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5280" y="25909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1</a:t>
            </a:r>
            <a:r>
              <a:rPr b="1" lang="en-US" sz="1800" spc="-1" strike="noStrike" baseline="30000">
                <a:solidFill>
                  <a:srgbClr val="99cc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  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4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7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0"/>
              <a:endCxn id="207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0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210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3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0"/>
              <a:endCxn id="213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2"/>
            <a:endCxn id="178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772400" y="380988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196" idx="6"/>
          </p:cNvCxnSpPr>
          <p:nvPr/>
        </p:nvCxnSpPr>
        <p:spPr>
          <a:xfrm flipV="1" rot="16200000">
            <a:off x="884520" y="3086640"/>
            <a:ext cx="1311480" cy="59292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0960" y="41911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87" idx="7"/>
            <a:endCxn id="215" idx="1"/>
          </p:cNvCxnSpPr>
          <p:nvPr/>
        </p:nvCxnSpPr>
        <p:spPr>
          <a:xfrm flipH="1" rot="16200000">
            <a:off x="1851480" y="1728360"/>
            <a:ext cx="2520" cy="1419840"/>
          </a:xfrm>
          <a:prstGeom prst="curvedConnector5">
            <a:avLst>
              <a:gd name="adj1" fmla="val -22000000"/>
              <a:gd name="adj2" fmla="val 49987"/>
              <a:gd name="adj3" fmla="val -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Hit break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2"/>
            <a:endCxn id="221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59800" y="532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6"/>
            <a:endCxn id="232" idx="5"/>
          </p:cNvCxnSpPr>
          <p:nvPr/>
        </p:nvCxnSpPr>
        <p:spPr>
          <a:xfrm flipV="1">
            <a:off x="2644920" y="3015360"/>
            <a:ext cx="403920" cy="131220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0600" y="2088000"/>
            <a:ext cx="917640" cy="1048680"/>
            <a:chOff x="2460600" y="2088000"/>
            <a:chExt cx="917640" cy="1048680"/>
          </a:xfrm>
        </p:grpSpPr>
        <p:sp>
          <p:nvSpPr>
            <p:cNvPr id="232" name=""/>
            <p:cNvSpPr/>
            <p:nvPr/>
          </p:nvSpPr>
          <p:spPr>
            <a:xfrm>
              <a:off x="2460600" y="2317680"/>
              <a:ext cx="689040" cy="819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2" idx="0"/>
              <a:endCxn id="232" idx="6"/>
            </p:cNvCxnSpPr>
            <p:nvPr/>
          </p:nvCxnSpPr>
          <p:spPr>
            <a:xfrm flipH="1" rot="16200000">
              <a:off x="2772360" y="2349000"/>
              <a:ext cx="410040" cy="345240"/>
            </a:xfrm>
            <a:prstGeom prst="curvedConnector5">
              <a:avLst>
                <a:gd name="adj1" fmla="val -55799"/>
                <a:gd name="adj2" fmla="val 83089"/>
                <a:gd name="adj3" fmla="val -55799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37" name=""/>
          <p:cNvSpPr/>
          <p:nvPr/>
        </p:nvSpPr>
        <p:spPr>
          <a:xfrm>
            <a:off x="7772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7113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vents in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105520"/>
            <a:ext cx="4343400" cy="1384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f the Control Model showing 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sired behavior (which 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 to have been fixed at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also in the C++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57880" y="5638680"/>
            <a:ext cx="4495680" cy="838440"/>
          </a:xfrm>
          <a:prstGeom prst="rect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n-stopping class loading event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, Break mode is un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breakpoint was reach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12880"/>
            <a:ext cx="32004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t exhibits state af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th step of control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4EB-1FE5-4394-91AF-13FB29262E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revi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6"/>
            <a:endCxn id="245" idx="6"/>
          </p:cNvCxnSpPr>
          <p:nvPr/>
        </p:nvCxnSpPr>
        <p:spPr>
          <a:xfrm flipH="1">
            <a:off x="6705000" y="3580920"/>
            <a:ext cx="153000" cy="2057760"/>
          </a:xfrm>
          <a:prstGeom prst="curvedConnector5">
            <a:avLst>
              <a:gd name="adj1" fmla="val -150000"/>
              <a:gd name="adj2" fmla="val 49991"/>
              <a:gd name="adj3" fmla="val -15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553080" y="4419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181480"/>
            <a:ext cx="129564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2"/>
            <a:endCxn id="244" idx="2"/>
          </p:cNvCxnSpPr>
          <p:nvPr/>
        </p:nvCxnSpPr>
        <p:spPr>
          <a:xfrm rot="10800000">
            <a:off x="5180760" y="3580560"/>
            <a:ext cx="229320" cy="2057760"/>
          </a:xfrm>
          <a:prstGeom prst="curvedConnector5">
            <a:avLst>
              <a:gd name="adj1" fmla="val 200000"/>
              <a:gd name="adj2" fmla="val 49991"/>
              <a:gd name="adj3" fmla="val 20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278520" y="508788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Any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7"/>
            <a:endCxn id="25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0"/>
            <a:endCxn id="24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0"/>
            <a:endCxn id="25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89676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2"/>
            <a:endCxn id="244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4" idx="1"/>
            <a:endCxn id="24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1"/>
            <a:endCxn id="24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9" idx="5"/>
            <a:endCxn id="261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728-E89C-4699-B51C-FBB0A47824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"/>
          <p:cNvCxnSpPr>
            <a:stCxn id="267" idx="7"/>
            <a:endCxn id="268" idx="1"/>
          </p:cNvCxnSpPr>
          <p:nvPr/>
        </p:nvCxnSpPr>
        <p:spPr>
          <a:xfrm flipH="1" rot="16200000">
            <a:off x="2367720" y="886320"/>
            <a:ext cx="76680" cy="1421280"/>
          </a:xfrm>
          <a:prstGeom prst="curvedConnector5">
            <a:avLst>
              <a:gd name="adj1" fmla="val -447641"/>
              <a:gd name="adj2" fmla="val 49987"/>
              <a:gd name="adj3" fmla="val -447641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8" idx="7"/>
            <a:endCxn id="270" idx="1"/>
          </p:cNvCxnSpPr>
          <p:nvPr/>
        </p:nvCxnSpPr>
        <p:spPr>
          <a:xfrm flipH="1" flipV="1" rot="5400000">
            <a:off x="4501080" y="821160"/>
            <a:ext cx="76680" cy="1551960"/>
          </a:xfrm>
          <a:prstGeom prst="curvedConnector5">
            <a:avLst>
              <a:gd name="adj1" fmla="val 548113"/>
              <a:gd name="adj2" fmla="val 50000"/>
              <a:gd name="adj3" fmla="val 548113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70" idx="7"/>
            <a:endCxn id="272" idx="1"/>
          </p:cNvCxnSpPr>
          <p:nvPr/>
        </p:nvCxnSpPr>
        <p:spPr>
          <a:xfrm flipH="1" rot="16200000">
            <a:off x="6704280" y="815760"/>
            <a:ext cx="2520" cy="148644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971800" y="1523880"/>
            <a:ext cx="914400" cy="7621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9520" y="1523880"/>
            <a:ext cx="8934480" cy="5035320"/>
            <a:chOff x="209520" y="1523880"/>
            <a:chExt cx="8934480" cy="5035320"/>
          </a:xfrm>
        </p:grpSpPr>
        <p:sp>
          <p:nvSpPr>
            <p:cNvPr id="275" name=""/>
            <p:cNvSpPr/>
            <p:nvPr/>
          </p:nvSpPr>
          <p:spPr>
            <a:xfrm>
              <a:off x="209520" y="2309400"/>
              <a:ext cx="8934480" cy="4249800"/>
            </a:xfrm>
            <a:custGeom>
              <a:avLst/>
              <a:gdLst/>
              <a:ahLst/>
              <a:rect l="l" t="t" r="r" b="b"/>
              <a:pathLst>
                <a:path w="5628" h="2677">
                  <a:moveTo>
                    <a:pt x="1073" y="197"/>
                  </a:moveTo>
                  <a:cubicBezTo>
                    <a:pt x="997" y="148"/>
                    <a:pt x="897" y="157"/>
                    <a:pt x="811" y="151"/>
                  </a:cubicBezTo>
                  <a:cubicBezTo>
                    <a:pt x="657" y="167"/>
                    <a:pt x="727" y="161"/>
                    <a:pt x="641" y="184"/>
                  </a:cubicBezTo>
                  <a:cubicBezTo>
                    <a:pt x="583" y="159"/>
                    <a:pt x="551" y="165"/>
                    <a:pt x="484" y="170"/>
                  </a:cubicBezTo>
                  <a:cubicBezTo>
                    <a:pt x="431" y="223"/>
                    <a:pt x="499" y="159"/>
                    <a:pt x="438" y="203"/>
                  </a:cubicBezTo>
                  <a:cubicBezTo>
                    <a:pt x="424" y="213"/>
                    <a:pt x="421" y="236"/>
                    <a:pt x="405" y="242"/>
                  </a:cubicBezTo>
                  <a:cubicBezTo>
                    <a:pt x="389" y="248"/>
                    <a:pt x="370" y="247"/>
                    <a:pt x="353" y="249"/>
                  </a:cubicBezTo>
                  <a:cubicBezTo>
                    <a:pt x="333" y="256"/>
                    <a:pt x="314" y="263"/>
                    <a:pt x="294" y="269"/>
                  </a:cubicBezTo>
                  <a:cubicBezTo>
                    <a:pt x="287" y="271"/>
                    <a:pt x="274" y="275"/>
                    <a:pt x="274" y="275"/>
                  </a:cubicBezTo>
                  <a:cubicBezTo>
                    <a:pt x="228" y="307"/>
                    <a:pt x="197" y="355"/>
                    <a:pt x="176" y="406"/>
                  </a:cubicBezTo>
                  <a:cubicBezTo>
                    <a:pt x="166" y="430"/>
                    <a:pt x="143" y="478"/>
                    <a:pt x="143" y="478"/>
                  </a:cubicBezTo>
                  <a:cubicBezTo>
                    <a:pt x="138" y="522"/>
                    <a:pt x="129" y="565"/>
                    <a:pt x="104" y="602"/>
                  </a:cubicBezTo>
                  <a:cubicBezTo>
                    <a:pt x="86" y="684"/>
                    <a:pt x="75" y="767"/>
                    <a:pt x="65" y="851"/>
                  </a:cubicBezTo>
                  <a:cubicBezTo>
                    <a:pt x="63" y="895"/>
                    <a:pt x="62" y="938"/>
                    <a:pt x="58" y="982"/>
                  </a:cubicBezTo>
                  <a:cubicBezTo>
                    <a:pt x="56" y="1006"/>
                    <a:pt x="45" y="1054"/>
                    <a:pt x="45" y="1054"/>
                  </a:cubicBezTo>
                  <a:cubicBezTo>
                    <a:pt x="41" y="1144"/>
                    <a:pt x="42" y="1261"/>
                    <a:pt x="19" y="1349"/>
                  </a:cubicBezTo>
                  <a:cubicBezTo>
                    <a:pt x="24" y="1419"/>
                    <a:pt x="30" y="1488"/>
                    <a:pt x="39" y="1558"/>
                  </a:cubicBezTo>
                  <a:cubicBezTo>
                    <a:pt x="43" y="1809"/>
                    <a:pt x="0" y="1832"/>
                    <a:pt x="84" y="1977"/>
                  </a:cubicBezTo>
                  <a:cubicBezTo>
                    <a:pt x="89" y="2004"/>
                    <a:pt x="100" y="2029"/>
                    <a:pt x="104" y="2056"/>
                  </a:cubicBezTo>
                  <a:cubicBezTo>
                    <a:pt x="109" y="2086"/>
                    <a:pt x="108" y="2117"/>
                    <a:pt x="111" y="2147"/>
                  </a:cubicBezTo>
                  <a:cubicBezTo>
                    <a:pt x="115" y="2182"/>
                    <a:pt x="119" y="2217"/>
                    <a:pt x="124" y="2252"/>
                  </a:cubicBezTo>
                  <a:cubicBezTo>
                    <a:pt x="132" y="2308"/>
                    <a:pt x="139" y="2451"/>
                    <a:pt x="189" y="2501"/>
                  </a:cubicBezTo>
                  <a:cubicBezTo>
                    <a:pt x="202" y="2514"/>
                    <a:pt x="226" y="2511"/>
                    <a:pt x="242" y="2520"/>
                  </a:cubicBezTo>
                  <a:cubicBezTo>
                    <a:pt x="252" y="2525"/>
                    <a:pt x="257" y="2539"/>
                    <a:pt x="268" y="2540"/>
                  </a:cubicBezTo>
                  <a:cubicBezTo>
                    <a:pt x="364" y="2548"/>
                    <a:pt x="460" y="2544"/>
                    <a:pt x="556" y="2546"/>
                  </a:cubicBezTo>
                  <a:cubicBezTo>
                    <a:pt x="731" y="2675"/>
                    <a:pt x="993" y="2632"/>
                    <a:pt x="1197" y="2638"/>
                  </a:cubicBezTo>
                  <a:cubicBezTo>
                    <a:pt x="1414" y="2677"/>
                    <a:pt x="1630" y="2643"/>
                    <a:pt x="1852" y="2638"/>
                  </a:cubicBezTo>
                  <a:cubicBezTo>
                    <a:pt x="1992" y="2617"/>
                    <a:pt x="1940" y="2628"/>
                    <a:pt x="2009" y="2612"/>
                  </a:cubicBezTo>
                  <a:cubicBezTo>
                    <a:pt x="2115" y="2621"/>
                    <a:pt x="2098" y="2625"/>
                    <a:pt x="2225" y="2612"/>
                  </a:cubicBezTo>
                  <a:cubicBezTo>
                    <a:pt x="2281" y="2593"/>
                    <a:pt x="2336" y="2591"/>
                    <a:pt x="2395" y="2586"/>
                  </a:cubicBezTo>
                  <a:cubicBezTo>
                    <a:pt x="2532" y="2601"/>
                    <a:pt x="2645" y="2610"/>
                    <a:pt x="2788" y="2618"/>
                  </a:cubicBezTo>
                  <a:cubicBezTo>
                    <a:pt x="2816" y="2639"/>
                    <a:pt x="2839" y="2656"/>
                    <a:pt x="2873" y="2664"/>
                  </a:cubicBezTo>
                  <a:cubicBezTo>
                    <a:pt x="3081" y="2654"/>
                    <a:pt x="3287" y="2644"/>
                    <a:pt x="3495" y="2638"/>
                  </a:cubicBezTo>
                  <a:cubicBezTo>
                    <a:pt x="3591" y="2624"/>
                    <a:pt x="3687" y="2613"/>
                    <a:pt x="3783" y="2599"/>
                  </a:cubicBezTo>
                  <a:cubicBezTo>
                    <a:pt x="3838" y="2576"/>
                    <a:pt x="3889" y="2545"/>
                    <a:pt x="3946" y="2527"/>
                  </a:cubicBezTo>
                  <a:cubicBezTo>
                    <a:pt x="3957" y="2528"/>
                    <a:pt x="4046" y="2528"/>
                    <a:pt x="4077" y="2540"/>
                  </a:cubicBezTo>
                  <a:cubicBezTo>
                    <a:pt x="4121" y="2557"/>
                    <a:pt x="4162" y="2574"/>
                    <a:pt x="4208" y="2586"/>
                  </a:cubicBezTo>
                  <a:cubicBezTo>
                    <a:pt x="4323" y="2568"/>
                    <a:pt x="4432" y="2540"/>
                    <a:pt x="4548" y="2533"/>
                  </a:cubicBezTo>
                  <a:cubicBezTo>
                    <a:pt x="4616" y="2511"/>
                    <a:pt x="4693" y="2508"/>
                    <a:pt x="4764" y="2501"/>
                  </a:cubicBezTo>
                  <a:cubicBezTo>
                    <a:pt x="4951" y="2452"/>
                    <a:pt x="5139" y="2465"/>
                    <a:pt x="5334" y="2461"/>
                  </a:cubicBezTo>
                  <a:cubicBezTo>
                    <a:pt x="5391" y="2444"/>
                    <a:pt x="5453" y="2446"/>
                    <a:pt x="5511" y="2429"/>
                  </a:cubicBezTo>
                  <a:cubicBezTo>
                    <a:pt x="5533" y="2406"/>
                    <a:pt x="5549" y="2385"/>
                    <a:pt x="5563" y="2357"/>
                  </a:cubicBezTo>
                  <a:cubicBezTo>
                    <a:pt x="5565" y="2344"/>
                    <a:pt x="5567" y="2330"/>
                    <a:pt x="5570" y="2317"/>
                  </a:cubicBezTo>
                  <a:cubicBezTo>
                    <a:pt x="5573" y="2304"/>
                    <a:pt x="5583" y="2278"/>
                    <a:pt x="5583" y="2278"/>
                  </a:cubicBezTo>
                  <a:cubicBezTo>
                    <a:pt x="5615" y="2000"/>
                    <a:pt x="5563" y="1719"/>
                    <a:pt x="5596" y="1440"/>
                  </a:cubicBezTo>
                  <a:cubicBezTo>
                    <a:pt x="5606" y="1261"/>
                    <a:pt x="5622" y="1084"/>
                    <a:pt x="5570" y="910"/>
                  </a:cubicBezTo>
                  <a:cubicBezTo>
                    <a:pt x="5568" y="778"/>
                    <a:pt x="5628" y="315"/>
                    <a:pt x="5393" y="229"/>
                  </a:cubicBezTo>
                  <a:cubicBezTo>
                    <a:pt x="5330" y="137"/>
                    <a:pt x="5129" y="147"/>
                    <a:pt x="5046" y="144"/>
                  </a:cubicBezTo>
                  <a:cubicBezTo>
                    <a:pt x="5003" y="127"/>
                    <a:pt x="4969" y="103"/>
                    <a:pt x="4928" y="79"/>
                  </a:cubicBezTo>
                  <a:cubicBezTo>
                    <a:pt x="4907" y="66"/>
                    <a:pt x="4897" y="39"/>
                    <a:pt x="4876" y="26"/>
                  </a:cubicBezTo>
                  <a:cubicBezTo>
                    <a:pt x="4863" y="17"/>
                    <a:pt x="4836" y="0"/>
                    <a:pt x="4836" y="0"/>
                  </a:cubicBezTo>
                  <a:cubicBezTo>
                    <a:pt x="4812" y="7"/>
                    <a:pt x="4787" y="11"/>
                    <a:pt x="4764" y="20"/>
                  </a:cubicBezTo>
                  <a:cubicBezTo>
                    <a:pt x="4741" y="29"/>
                    <a:pt x="4718" y="57"/>
                    <a:pt x="4699" y="72"/>
                  </a:cubicBezTo>
                  <a:cubicBezTo>
                    <a:pt x="4664" y="100"/>
                    <a:pt x="4618" y="114"/>
                    <a:pt x="4575" y="125"/>
                  </a:cubicBezTo>
                  <a:cubicBezTo>
                    <a:pt x="4516" y="121"/>
                    <a:pt x="4456" y="121"/>
                    <a:pt x="4398" y="112"/>
                  </a:cubicBezTo>
                  <a:cubicBezTo>
                    <a:pt x="4362" y="106"/>
                    <a:pt x="4329" y="86"/>
                    <a:pt x="4293" y="79"/>
                  </a:cubicBezTo>
                  <a:cubicBezTo>
                    <a:pt x="4039" y="107"/>
                    <a:pt x="4162" y="98"/>
                    <a:pt x="3743" y="92"/>
                  </a:cubicBezTo>
                  <a:cubicBezTo>
                    <a:pt x="3641" y="41"/>
                    <a:pt x="3650" y="40"/>
                    <a:pt x="3436" y="98"/>
                  </a:cubicBezTo>
                  <a:cubicBezTo>
                    <a:pt x="3391" y="110"/>
                    <a:pt x="3373" y="169"/>
                    <a:pt x="3331" y="190"/>
                  </a:cubicBezTo>
                  <a:cubicBezTo>
                    <a:pt x="3305" y="140"/>
                    <a:pt x="3288" y="113"/>
                    <a:pt x="3246" y="72"/>
                  </a:cubicBezTo>
                  <a:cubicBezTo>
                    <a:pt x="3239" y="66"/>
                    <a:pt x="3235" y="56"/>
                    <a:pt x="3226" y="53"/>
                  </a:cubicBezTo>
                  <a:cubicBezTo>
                    <a:pt x="3201" y="44"/>
                    <a:pt x="3148" y="33"/>
                    <a:pt x="3148" y="33"/>
                  </a:cubicBezTo>
                  <a:cubicBezTo>
                    <a:pt x="3122" y="35"/>
                    <a:pt x="3094" y="31"/>
                    <a:pt x="3069" y="40"/>
                  </a:cubicBezTo>
                  <a:cubicBezTo>
                    <a:pt x="3056" y="45"/>
                    <a:pt x="3052" y="62"/>
                    <a:pt x="3043" y="72"/>
                  </a:cubicBezTo>
                  <a:cubicBezTo>
                    <a:pt x="3027" y="89"/>
                    <a:pt x="2986" y="141"/>
                    <a:pt x="2958" y="151"/>
                  </a:cubicBezTo>
                  <a:cubicBezTo>
                    <a:pt x="2930" y="142"/>
                    <a:pt x="2900" y="137"/>
                    <a:pt x="2873" y="125"/>
                  </a:cubicBezTo>
                  <a:cubicBezTo>
                    <a:pt x="2864" y="121"/>
                    <a:pt x="2861" y="110"/>
                    <a:pt x="2853" y="105"/>
                  </a:cubicBezTo>
                  <a:cubicBezTo>
                    <a:pt x="2832" y="90"/>
                    <a:pt x="2818" y="90"/>
                    <a:pt x="2794" y="85"/>
                  </a:cubicBezTo>
                  <a:cubicBezTo>
                    <a:pt x="2535" y="97"/>
                    <a:pt x="2280" y="149"/>
                    <a:pt x="2022" y="177"/>
                  </a:cubicBezTo>
                  <a:cubicBezTo>
                    <a:pt x="1998" y="174"/>
                    <a:pt x="1971" y="177"/>
                    <a:pt x="1950" y="164"/>
                  </a:cubicBezTo>
                  <a:cubicBezTo>
                    <a:pt x="1888" y="127"/>
                    <a:pt x="1909" y="112"/>
                    <a:pt x="1832" y="98"/>
                  </a:cubicBezTo>
                  <a:cubicBezTo>
                    <a:pt x="1769" y="73"/>
                    <a:pt x="1695" y="62"/>
                    <a:pt x="1629" y="46"/>
                  </a:cubicBezTo>
                  <a:cubicBezTo>
                    <a:pt x="1598" y="31"/>
                    <a:pt x="1564" y="17"/>
                    <a:pt x="1531" y="7"/>
                  </a:cubicBezTo>
                  <a:cubicBezTo>
                    <a:pt x="1524" y="8"/>
                    <a:pt x="1483" y="12"/>
                    <a:pt x="1472" y="20"/>
                  </a:cubicBezTo>
                  <a:cubicBezTo>
                    <a:pt x="1417" y="59"/>
                    <a:pt x="1471" y="37"/>
                    <a:pt x="1426" y="53"/>
                  </a:cubicBezTo>
                  <a:cubicBezTo>
                    <a:pt x="1405" y="74"/>
                    <a:pt x="1378" y="106"/>
                    <a:pt x="1348" y="118"/>
                  </a:cubicBezTo>
                  <a:cubicBezTo>
                    <a:pt x="1284" y="143"/>
                    <a:pt x="1218" y="150"/>
                    <a:pt x="1151" y="164"/>
                  </a:cubicBezTo>
                  <a:cubicBezTo>
                    <a:pt x="1129" y="162"/>
                    <a:pt x="1108" y="155"/>
                    <a:pt x="1086" y="157"/>
                  </a:cubicBezTo>
                  <a:cubicBezTo>
                    <a:pt x="1086" y="157"/>
                    <a:pt x="1051" y="177"/>
                    <a:pt x="1053" y="184"/>
                  </a:cubicBezTo>
                  <a:cubicBezTo>
                    <a:pt x="1055" y="192"/>
                    <a:pt x="1066" y="193"/>
                    <a:pt x="1073" y="197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2960" y="152388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2513160"/>
            <a:ext cx="3200400" cy="3582720"/>
            <a:chOff x="533520" y="2513160"/>
            <a:chExt cx="3200400" cy="3582720"/>
          </a:xfrm>
        </p:grpSpPr>
        <p:sp>
          <p:nvSpPr>
            <p:cNvPr id="27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1520" y="25131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bug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14400" y="1447920"/>
            <a:ext cx="9144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2520" y="762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29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Star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hree submach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NewS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50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Dbg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447920"/>
            <a:ext cx="8077320" cy="4572000"/>
            <a:chOff x="914400" y="1447920"/>
            <a:chExt cx="8077320" cy="4572000"/>
          </a:xfrm>
        </p:grpSpPr>
        <p:grpSp>
          <p:nvGrpSpPr>
            <p:cNvPr id="286" name=""/>
            <p:cNvGrpSpPr/>
            <p:nvPr/>
          </p:nvGrpSpPr>
          <p:grpSpPr>
            <a:xfrm>
              <a:off x="5867280" y="2436840"/>
              <a:ext cx="3124440" cy="3583080"/>
              <a:chOff x="5867280" y="2436840"/>
              <a:chExt cx="3124440" cy="358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89120" y="243684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en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7280" y="289548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212640"/>
              <a:ext cx="4495680" cy="1892880"/>
              <a:chOff x="914400" y="3212640"/>
              <a:chExt cx="4495680" cy="18928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3352680"/>
                <a:ext cx="1828800" cy="1752840"/>
                <a:chOff x="914400" y="3352680"/>
                <a:chExt cx="1828800" cy="1752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3733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Console"/>
                    </a:rPr>
                    <a:t>Env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14400" y="39625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ocess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14400" y="41911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read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4400" y="44197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rame 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14400" y="4876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urier New"/>
                    </a:rPr>
                    <a:t>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4400" y="46483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Ps    ={}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71600" y="3352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hel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8" name=""/>
              <p:cNvCxnSpPr>
                <a:stCxn id="291" idx="3"/>
                <a:endCxn id="299" idx="0"/>
              </p:cNvCxnSpPr>
              <p:nvPr/>
            </p:nvCxnSpPr>
            <p:spPr>
              <a:xfrm flipV="1">
                <a:off x="2743200" y="3212640"/>
                <a:ext cx="2667240" cy="635760"/>
              </a:xfrm>
              <a:prstGeom prst="straightConnector1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300" name=""/>
            <p:cNvGrpSpPr/>
            <p:nvPr/>
          </p:nvGrpSpPr>
          <p:grpSpPr>
            <a:xfrm>
              <a:off x="4419720" y="2819520"/>
              <a:ext cx="1523880" cy="380880"/>
              <a:chOff x="4419720" y="2819520"/>
              <a:chExt cx="1523880" cy="3808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5410080" y="32004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9720" y="281952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g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1447920"/>
            <a:ext cx="5181480" cy="3504960"/>
            <a:chOff x="3048120" y="1447920"/>
            <a:chExt cx="5181480" cy="3504960"/>
          </a:xfrm>
        </p:grpSpPr>
        <p:grpSp>
          <p:nvGrpSpPr>
            <p:cNvPr id="304" name=""/>
            <p:cNvGrpSpPr/>
            <p:nvPr/>
          </p:nvGrpSpPr>
          <p:grpSpPr>
            <a:xfrm>
              <a:off x="3733920" y="1447920"/>
              <a:ext cx="4495680" cy="3009600"/>
              <a:chOff x="3733920" y="1447920"/>
              <a:chExt cx="4495680" cy="3009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733920" y="4038480"/>
                <a:ext cx="1523880" cy="381240"/>
                <a:chOff x="3733920" y="4038480"/>
                <a:chExt cx="1523880" cy="381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33920" y="4419720"/>
                  <a:ext cx="609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09880" y="4038480"/>
                  <a:ext cx="1447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allback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8" name=""/>
              <p:cNvCxnSpPr>
                <a:stCxn id="288" idx="1"/>
                <a:endCxn id="306" idx="0"/>
              </p:cNvCxnSpPr>
              <p:nvPr/>
            </p:nvCxnSpPr>
            <p:spPr>
              <a:xfrm flipH="1" flipV="1">
                <a:off x="4342680" y="4431600"/>
                <a:ext cx="1524600" cy="26280"/>
              </a:xfrm>
              <a:prstGeom prst="straightConnector1">
                <a:avLst/>
              </a:prstGeom>
              <a:ln w="25560">
                <a:solidFill>
                  <a:srgbClr val="00ccff"/>
                </a:solidFill>
                <a:miter/>
                <a:tailEnd len="med" type="triangle" w="med"/>
              </a:ln>
            </p:spPr>
          </p:cxnSp>
          <p:sp>
            <p:nvSpPr>
              <p:cNvPr id="272" name=""/>
              <p:cNvSpPr/>
              <p:nvPr/>
            </p:nvSpPr>
            <p:spPr>
              <a:xfrm>
                <a:off x="7315200" y="1447920"/>
                <a:ext cx="91440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rea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048120" y="43434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495680"/>
              <a:ext cx="6858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464832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8006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92520" y="762120"/>
            <a:ext cx="2161800" cy="873000"/>
            <a:chOff x="992520" y="762120"/>
            <a:chExt cx="2161800" cy="873000"/>
          </a:xfrm>
        </p:grpSpPr>
        <p:cxnSp>
          <p:nvCxnSpPr>
            <p:cNvPr id="314" name=""/>
            <p:cNvCxnSpPr>
              <a:stCxn id="267" idx="7"/>
              <a:endCxn id="268" idx="1"/>
            </p:cNvCxnSpPr>
            <p:nvPr/>
          </p:nvCxnSpPr>
          <p:spPr>
            <a:xfrm flipH="1" rot="16200000">
              <a:off x="2367720" y="886320"/>
              <a:ext cx="76680" cy="1421280"/>
            </a:xfrm>
            <a:prstGeom prst="curvedConnector5">
              <a:avLst>
                <a:gd name="adj1" fmla="val -447641"/>
                <a:gd name="adj2" fmla="val 49987"/>
                <a:gd name="adj3" fmla="val -447641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992520" y="7621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initialize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30440" y="762120"/>
            <a:ext cx="2314440" cy="873000"/>
            <a:chOff x="3430440" y="762120"/>
            <a:chExt cx="2314440" cy="873000"/>
          </a:xfrm>
        </p:grpSpPr>
        <p:cxnSp>
          <p:nvCxnSpPr>
            <p:cNvPr id="317" name=""/>
            <p:cNvCxnSpPr>
              <a:stCxn id="268" idx="7"/>
              <a:endCxn id="270" idx="1"/>
            </p:cNvCxnSpPr>
            <p:nvPr/>
          </p:nvCxnSpPr>
          <p:spPr>
            <a:xfrm flipH="1" flipV="1" rot="5400000">
              <a:off x="4501080" y="821160"/>
              <a:ext cx="76680" cy="1551960"/>
            </a:xfrm>
            <a:prstGeom prst="curvedConnector5">
              <a:avLst>
                <a:gd name="adj1" fmla="val 548113"/>
                <a:gd name="adj2" fmla="val 50000"/>
                <a:gd name="adj3" fmla="val 548113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34304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createNew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945040" y="762120"/>
            <a:ext cx="2314440" cy="797760"/>
            <a:chOff x="5945040" y="762120"/>
            <a:chExt cx="2314440" cy="797760"/>
          </a:xfrm>
        </p:grpSpPr>
        <p:cxnSp>
          <p:nvCxnSpPr>
            <p:cNvPr id="320" name=""/>
            <p:cNvCxnSpPr>
              <a:stCxn id="270" idx="7"/>
              <a:endCxn id="272" idx="1"/>
            </p:cNvCxnSpPr>
            <p:nvPr/>
          </p:nvCxnSpPr>
          <p:spPr>
            <a:xfrm flipH="1" rot="16200000">
              <a:off x="6704280" y="815760"/>
              <a:ext cx="2520" cy="148644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59450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setDbgCallb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86C-62EF-48BB-98D1-5B113ADEA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RunPg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y Process cre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RunPgm (name,arg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l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 = shell.cor.createProcess(name,args,…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ll.Process := proc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oc.continue2(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27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30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 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0" idx="3"/>
            <a:endCxn id="338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3"/>
            <a:endCxn id="342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789-087D-4E0A-A7AF-21D22B82AA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469440"/>
            <a:ext cx="85852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CreateThread(appDom,th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et proc  = appDom.getProcess(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bgEvents(CatchThread) == 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otFirstThrea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Mode       := TryToBrea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Process := pr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Thread  := t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fined(th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setDefaultFrame(th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.continue2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FirstThrea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49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52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52" idx="3"/>
            <a:endCxn id="360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3" idx="3"/>
            <a:endCxn id="364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54" idx="3"/>
          </p:cNvCxnSpPr>
          <p:nvPr/>
        </p:nvCxnSpPr>
        <p:spPr>
          <a:xfrm flipV="1">
            <a:off x="2666520" y="40384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3"/>
          </p:cNvCxnSpPr>
          <p:nvPr/>
        </p:nvCxnSpPr>
        <p:spPr>
          <a:xfrm flipV="1">
            <a:off x="2666520" y="42670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flipH="1">
            <a:off x="5334120" y="42670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IL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CreateTh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BD9-3A7D-4C67-B0F2-0728730BA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Callback “LoadModule” in the Object Mod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(LoadModule (proc,mod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playMessage("Loaded module: " ++ mod.name())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ecord mod in s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BPs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bind all breakpoints to the mod (in any or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.bind(mo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mod.enableClassLoadCallbacks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.resume()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ntinue via external c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Analogously for Unload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724280"/>
            <a:ext cx="838080" cy="7621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6"/>
            <a:endCxn id="378" idx="2"/>
          </p:cNvCxnSpPr>
          <p:nvPr/>
        </p:nvCxnSpPr>
        <p:spPr>
          <a:xfrm>
            <a:off x="3657600" y="5105160"/>
            <a:ext cx="3734640" cy="10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4191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me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class load callb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586728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 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8" idx="3"/>
            <a:endCxn id="376" idx="5"/>
          </p:cNvCxnSpPr>
          <p:nvPr/>
        </p:nvCxnSpPr>
        <p:spPr>
          <a:xfrm rot="5400000">
            <a:off x="5441760" y="3359520"/>
            <a:ext cx="108720" cy="3923640"/>
          </a:xfrm>
          <a:prstGeom prst="curvedConnector5">
            <a:avLst>
              <a:gd name="adj1" fmla="val 414617"/>
              <a:gd name="adj2" fmla="val 50000"/>
              <a:gd name="adj3" fmla="val 414617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2"/>
            <a:endCxn id="376" idx="7"/>
          </p:cNvCxnSpPr>
          <p:nvPr/>
        </p:nvCxnSpPr>
        <p:spPr>
          <a:xfrm flipH="1" rot="10800000">
            <a:off x="2819160" y="4834800"/>
            <a:ext cx="716400" cy="270720"/>
          </a:xfrm>
          <a:prstGeom prst="curvedConnector5">
            <a:avLst>
              <a:gd name="adj1" fmla="val -42533"/>
              <a:gd name="adj2" fmla="val 271105"/>
              <a:gd name="adj3" fmla="val -425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76" idx="0"/>
          </p:cNvCxnSpPr>
          <p:nvPr/>
        </p:nvCxnSpPr>
        <p:spPr>
          <a:xfrm flipH="1" rot="10800000">
            <a:off x="2819160" y="4723560"/>
            <a:ext cx="419760" cy="381960"/>
          </a:xfrm>
          <a:prstGeom prst="curvedConnector5">
            <a:avLst>
              <a:gd name="adj1" fmla="val -62832"/>
              <a:gd name="adj2" fmla="val 109339"/>
              <a:gd name="adj3" fmla="val -62832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971800" y="3733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34290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bind b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41148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p bind 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876920"/>
            <a:ext cx="457200" cy="4572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76" idx="5"/>
            <a:endCxn id="376" idx="3"/>
          </p:cNvCxnSpPr>
          <p:nvPr/>
        </p:nvCxnSpPr>
        <p:spPr>
          <a:xfrm rot="5400000">
            <a:off x="3236760" y="5078880"/>
            <a:ext cx="2520" cy="594360"/>
          </a:xfrm>
          <a:prstGeom prst="curvedConnector5">
            <a:avLst>
              <a:gd name="adj1" fmla="val 35183333"/>
              <a:gd name="adj2" fmla="val 50000"/>
              <a:gd name="adj3" fmla="val 351833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4BA-83C9-42CD-AEFA-968463DB8C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6440"/>
            <a:ext cx="886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hapter 3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quirements Capture by Ground Model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824-E57C-43C1-89AD-AC6984244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2388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523880"/>
            <a:ext cx="9144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7"/>
            <a:endCxn id="390" idx="1"/>
          </p:cNvCxnSpPr>
          <p:nvPr/>
        </p:nvCxnSpPr>
        <p:spPr>
          <a:xfrm flipH="1" flipV="1" rot="5400000">
            <a:off x="2933640" y="473040"/>
            <a:ext cx="76680" cy="2248560"/>
          </a:xfrm>
          <a:prstGeom prst="curvedConnector5">
            <a:avLst>
              <a:gd name="adj1" fmla="val 548113"/>
              <a:gd name="adj2" fmla="val 49991"/>
              <a:gd name="adj3" fmla="val 54811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1445760" y="81432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teICorDeb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0" idx="7"/>
            <a:endCxn id="389" idx="1"/>
          </p:cNvCxnSpPr>
          <p:nvPr/>
        </p:nvCxnSpPr>
        <p:spPr>
          <a:xfrm flipH="1" rot="16200000">
            <a:off x="6056640" y="244080"/>
            <a:ext cx="2520" cy="262980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7640" y="8143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33520" y="2514600"/>
            <a:ext cx="3200400" cy="3581280"/>
            <a:chOff x="533520" y="2514600"/>
            <a:chExt cx="3200400" cy="3581280"/>
          </a:xfrm>
        </p:grpSpPr>
        <p:sp>
          <p:nvSpPr>
            <p:cNvPr id="39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936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d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867280" y="2438280"/>
            <a:ext cx="3124440" cy="3581640"/>
            <a:chOff x="5867280" y="2438280"/>
            <a:chExt cx="3124440" cy="3581640"/>
          </a:xfrm>
        </p:grpSpPr>
        <p:sp>
          <p:nvSpPr>
            <p:cNvPr id="400" name=""/>
            <p:cNvSpPr/>
            <p:nvPr/>
          </p:nvSpPr>
          <p:spPr>
            <a:xfrm>
              <a:off x="7089120" y="2438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95480"/>
              <a:ext cx="312444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14400" y="3212640"/>
            <a:ext cx="4495680" cy="1892880"/>
            <a:chOff x="914400" y="3212640"/>
            <a:chExt cx="4495680" cy="1892880"/>
          </a:xfrm>
        </p:grpSpPr>
        <p:grpSp>
          <p:nvGrpSpPr>
            <p:cNvPr id="403" name=""/>
            <p:cNvGrpSpPr/>
            <p:nvPr/>
          </p:nvGrpSpPr>
          <p:grpSpPr>
            <a:xfrm>
              <a:off x="914400" y="3352680"/>
              <a:ext cx="1828800" cy="1752840"/>
              <a:chOff x="914400" y="3352680"/>
              <a:chExt cx="1828800" cy="1752840"/>
            </a:xfrm>
          </p:grpSpPr>
          <p:sp>
            <p:nvSpPr>
              <p:cNvPr id="404" name=""/>
              <p:cNvSpPr/>
              <p:nvPr/>
            </p:nvSpPr>
            <p:spPr>
              <a:xfrm>
                <a:off x="914400" y="3733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c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4400" y="39625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Proces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4400" y="41911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Thread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14400" y="44197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Frame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4400" y="4876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Module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14400" y="46483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BPs  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71600" y="3352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1" name=""/>
            <p:cNvCxnSpPr>
              <a:stCxn id="404" idx="3"/>
              <a:endCxn id="412" idx="0"/>
            </p:cNvCxnSpPr>
            <p:nvPr/>
          </p:nvCxnSpPr>
          <p:spPr>
            <a:xfrm flipV="1">
              <a:off x="2743200" y="3212640"/>
              <a:ext cx="2667240" cy="635760"/>
            </a:xfrm>
            <a:prstGeom prst="straightConnector1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413" name=""/>
          <p:cNvGrpSpPr/>
          <p:nvPr/>
        </p:nvGrpSpPr>
        <p:grpSpPr>
          <a:xfrm>
            <a:off x="4419720" y="2819520"/>
            <a:ext cx="1523880" cy="380880"/>
            <a:chOff x="4419720" y="2819520"/>
            <a:chExt cx="1523880" cy="380880"/>
          </a:xfrm>
        </p:grpSpPr>
        <p:sp>
          <p:nvSpPr>
            <p:cNvPr id="414" name=""/>
            <p:cNvSpPr/>
            <p:nvPr/>
          </p:nvSpPr>
          <p:spPr>
            <a:xfrm flipH="1">
              <a:off x="5410080" y="32004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orDebu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33920" y="4038480"/>
            <a:ext cx="1523880" cy="381240"/>
            <a:chOff x="3733920" y="4038480"/>
            <a:chExt cx="1523880" cy="381240"/>
          </a:xfrm>
        </p:grpSpPr>
        <p:sp>
          <p:nvSpPr>
            <p:cNvPr id="417" name="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9880" y="403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all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401" idx="1"/>
            <a:endCxn id="417" idx="0"/>
          </p:cNvCxnSpPr>
          <p:nvPr/>
        </p:nvCxnSpPr>
        <p:spPr>
          <a:xfrm flipH="1" flipV="1">
            <a:off x="4342680" y="4431600"/>
            <a:ext cx="1524600" cy="26280"/>
          </a:xfrm>
          <a:prstGeom prst="straightConnector1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228600" y="1434960"/>
            <a:ext cx="8915400" cy="4800600"/>
            <a:chOff x="228600" y="1434960"/>
            <a:chExt cx="8915400" cy="4800600"/>
          </a:xfrm>
        </p:grpSpPr>
        <p:sp>
          <p:nvSpPr>
            <p:cNvPr id="421" name=""/>
            <p:cNvSpPr/>
            <p:nvPr/>
          </p:nvSpPr>
          <p:spPr>
            <a:xfrm>
              <a:off x="3962520" y="143496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" y="2349360"/>
              <a:ext cx="8915400" cy="388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33520" y="2500200"/>
              <a:ext cx="3200400" cy="3582720"/>
              <a:chOff x="533520" y="2500200"/>
              <a:chExt cx="3200400" cy="3582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33520" y="2958840"/>
                <a:ext cx="3200400" cy="3124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1160" y="2500200"/>
                <a:ext cx="117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rdb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7280" y="2423880"/>
              <a:ext cx="3124440" cy="3583080"/>
              <a:chOff x="5867280" y="2423880"/>
              <a:chExt cx="3124440" cy="358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7089120" y="242388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8252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57200" y="1447920"/>
            <a:ext cx="8686800" cy="4724280"/>
            <a:chOff x="457200" y="1447920"/>
            <a:chExt cx="8686800" cy="4724280"/>
          </a:xfrm>
        </p:grpSpPr>
        <p:sp>
          <p:nvSpPr>
            <p:cNvPr id="430" name=""/>
            <p:cNvSpPr/>
            <p:nvPr/>
          </p:nvSpPr>
          <p:spPr>
            <a:xfrm>
              <a:off x="72388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514600"/>
              <a:ext cx="8686800" cy="3657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0"/>
            <a:ext cx="929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Exi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wo submachines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Break=Exit1, Exit3=I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C01-9421-4C01-8AC0-4F9D7E0299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Further Object Model Refin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747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inueCurrent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.continue2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mandSetBreakpoint(locatio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p = newDbgBP(location,Tru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.BPs := shell.BPs ++ [bp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all mod in shell.Mod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p.bind(m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p.bind(mo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p.isBoundToModule(mod)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case bp.location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FunctionName(loc)  -&gt; bp.bindFn(mod,lo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SrcFileName(loc)     -&gt; bp.bindSF(mod,lo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Contin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hell.Process == Null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Thread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Frame 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Process.continue2(0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343-1DBB-4F9F-8403-5781D866B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e Barnett, Egon Börger, Yuri Gurevich, Wolfram Schulte, Margus Veanes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sing Abstract State Machines at Microsoft: A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. ASM’2000 Worksh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scona (CH), March 20-24, 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pringer LNCS 1912,  pp.367-3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F1C-648F-44DC-B565-27CB21F045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Goa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Reengineering of a Debug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command line debugger (30 K loc C++) which works in a stack-based COM execution env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trolling exec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tepping through managed code, setting breakpoint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pecting program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iewing threads, stack frames, variabl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bugger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abstracted, forming a refinement hierarchy which specifies the APIs (Application Programming Interface) by which debugger components interac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  (Level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3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Size: 4 K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3 models, being executable by AsmHugs, have been used for experimen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ing the reengineering task, their definition was obtained in reverse o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B07-6C89-4BDA-80A8-3248B28F9F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990360"/>
            <a:ext cx="4562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(Level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s us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trol  moving between user, debugger and runtim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(Level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runtime system model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mpile time) program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y, module, class, fun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view of th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thread, chai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fines rel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comm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points, stepping cmds, execution control (inspection of run-time stack, 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4120" y="3382920"/>
            <a:ext cx="2286000" cy="2560680"/>
            <a:chOff x="5334120" y="3382920"/>
            <a:chExt cx="2286000" cy="2560680"/>
          </a:xfrm>
        </p:grpSpPr>
        <p:sp>
          <p:nvSpPr>
            <p:cNvPr id="57" name=""/>
            <p:cNvSpPr/>
            <p:nvPr/>
          </p:nvSpPr>
          <p:spPr>
            <a:xfrm>
              <a:off x="5334120" y="3429000"/>
              <a:ext cx="22860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3829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mbly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562720" y="3657600"/>
            <a:ext cx="1752480" cy="2057400"/>
            <a:chOff x="5562720" y="3657600"/>
            <a:chExt cx="1752480" cy="2057400"/>
          </a:xfrm>
        </p:grpSpPr>
        <p:sp>
          <p:nvSpPr>
            <p:cNvPr id="60" name=""/>
            <p:cNvSpPr/>
            <p:nvPr/>
          </p:nvSpPr>
          <p:spPr>
            <a:xfrm>
              <a:off x="5562720" y="3657600"/>
              <a:ext cx="1752480" cy="2057400"/>
            </a:xfrm>
            <a:prstGeom prst="rect">
              <a:avLst/>
            </a:prstGeom>
            <a:solidFill>
              <a:srgbClr val="f2cab8"/>
            </a:solidFill>
            <a:ln w="9360">
              <a:solidFill>
                <a:srgbClr val="f2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65760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B.ex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962520"/>
            <a:ext cx="990360" cy="1676160"/>
            <a:chOff x="5791320" y="3962520"/>
            <a:chExt cx="990360" cy="1676160"/>
          </a:xfrm>
        </p:grpSpPr>
        <p:sp>
          <p:nvSpPr>
            <p:cNvPr id="63" name=""/>
            <p:cNvSpPr/>
            <p:nvPr/>
          </p:nvSpPr>
          <p:spPr>
            <a:xfrm>
              <a:off x="5791320" y="5029200"/>
              <a:ext cx="99036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Class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3962520"/>
              <a:ext cx="990360" cy="914400"/>
              <a:chOff x="5791320" y="3962520"/>
              <a:chExt cx="99036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3962520"/>
                <a:ext cx="990360" cy="914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96252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Class 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848720" y="3809880"/>
            <a:ext cx="1143000" cy="1828800"/>
            <a:chOff x="7848720" y="3809880"/>
            <a:chExt cx="1143000" cy="1828800"/>
          </a:xfrm>
        </p:grpSpPr>
        <p:sp>
          <p:nvSpPr>
            <p:cNvPr id="68" name=""/>
            <p:cNvSpPr/>
            <p:nvPr/>
          </p:nvSpPr>
          <p:spPr>
            <a:xfrm>
              <a:off x="7848720" y="3809880"/>
              <a:ext cx="1143000" cy="1828800"/>
            </a:xfrm>
            <a:prstGeom prst="wedgeRectCallout">
              <a:avLst>
                <a:gd name="adj1" fmla="val -163611"/>
                <a:gd name="adj2" fmla="val -18314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3809880"/>
              <a:ext cx="114300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d A::f(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= x+1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43600" y="4267080"/>
            <a:ext cx="685800" cy="533520"/>
            <a:chOff x="5943600" y="4267080"/>
            <a:chExt cx="685800" cy="533520"/>
          </a:xfrm>
        </p:grpSpPr>
        <p:sp>
          <p:nvSpPr>
            <p:cNvPr id="71" name=""/>
            <p:cNvSpPr/>
            <p:nvPr/>
          </p:nvSpPr>
          <p:spPr>
            <a:xfrm>
              <a:off x="5943600" y="426708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457200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91320" y="6095880"/>
            <a:ext cx="1904760" cy="380880"/>
            <a:chOff x="5791320" y="6095880"/>
            <a:chExt cx="1904760" cy="380880"/>
          </a:xfrm>
        </p:grpSpPr>
        <p:sp>
          <p:nvSpPr>
            <p:cNvPr id="74" name=""/>
            <p:cNvSpPr/>
            <p:nvPr/>
          </p:nvSpPr>
          <p:spPr>
            <a:xfrm>
              <a:off x="5791320" y="6095880"/>
              <a:ext cx="1904760" cy="380880"/>
            </a:xfrm>
            <a:prstGeom prst="wedgeRoundRectCallout">
              <a:avLst>
                <a:gd name="adj1" fmla="val -113333"/>
                <a:gd name="adj2" fmla="val -105833"/>
                <a:gd name="adj3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943600" y="6095880"/>
              <a:ext cx="609120" cy="368280"/>
              <a:chOff x="5943600" y="6095880"/>
              <a:chExt cx="6091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60958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816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1840" y="6171840"/>
                <a:ext cx="759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553080" y="6095880"/>
              <a:ext cx="456840" cy="368280"/>
              <a:chOff x="6553080" y="6095880"/>
              <a:chExt cx="456840" cy="368280"/>
            </a:xfrm>
          </p:grpSpPr>
          <p:sp>
            <p:nvSpPr>
              <p:cNvPr id="80" name=""/>
              <p:cNvSpPr/>
              <p:nvPr/>
            </p:nvSpPr>
            <p:spPr>
              <a:xfrm>
                <a:off x="655308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629040" y="6171840"/>
                <a:ext cx="304560" cy="152640"/>
                <a:chOff x="6629040" y="6171840"/>
                <a:chExt cx="304560" cy="152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3600" y="6171840"/>
                  <a:ext cx="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29040" y="61718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7086600" y="6095880"/>
              <a:ext cx="456840" cy="368280"/>
              <a:chOff x="7086600" y="6095880"/>
              <a:chExt cx="456840" cy="368280"/>
            </a:xfrm>
          </p:grpSpPr>
          <p:sp>
            <p:nvSpPr>
              <p:cNvPr id="85" name=""/>
              <p:cNvSpPr/>
              <p:nvPr/>
            </p:nvSpPr>
            <p:spPr>
              <a:xfrm>
                <a:off x="708660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12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14840" y="6171840"/>
                <a:ext cx="151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14840" y="6171840"/>
                <a:ext cx="0" cy="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 flipV="1">
            <a:off x="2971800" y="4800600"/>
            <a:ext cx="48769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D9D-8914-43AF-A885-181574F6F7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86000"/>
            <a:ext cx="914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286000"/>
            <a:ext cx="16765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AsmH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16765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HaskellDir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609840" cy="266760"/>
          </a:xfrm>
          <a:prstGeom prst="rightArrow">
            <a:avLst>
              <a:gd name="adj1" fmla="val 50000"/>
              <a:gd name="adj2" fmla="val 57152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7339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343400"/>
            <a:ext cx="16765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M-E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                      (Level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core functionality as 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thful to dbg wrt usage of the dbg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22640"/>
            <a:ext cx="1828800" cy="3429000"/>
          </a:xfrm>
          <a:custGeom>
            <a:avLst/>
            <a:gdLst>
              <a:gd name="textAreaLeft" fmla="*/ 33840 w 1828800"/>
              <a:gd name="textAreaRight" fmla="*/ 1794960 w 1828800"/>
              <a:gd name="textAreaTop" fmla="*/ 33840 h 3429000"/>
              <a:gd name="textAreaBottom" fmla="*/ 3395160 h 3429000"/>
            </a:gdLst>
            <a:ahLst/>
            <a:rect l="textAreaLeft" t="textAreaTop" r="textAreaRight" b="textAreaBottom"/>
            <a:pathLst>
              <a:path w="21600" h="40496">
                <a:moveTo>
                  <a:pt x="1369" y="0"/>
                </a:moveTo>
                <a:arcTo wR="1369" hR="1369" stAng="16200000" swAng="-5400000"/>
                <a:lnTo>
                  <a:pt x="0" y="39127"/>
                </a:lnTo>
                <a:arcTo wR="1369" hR="1369" stAng="10800000" swAng="-5400000"/>
                <a:lnTo>
                  <a:pt x="20231" y="40496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158920"/>
            <a:ext cx="3581280" cy="3581640"/>
          </a:xfrm>
          <a:custGeom>
            <a:avLst/>
            <a:gdLst>
              <a:gd name="textAreaLeft" fmla="*/ 66240 w 3581280"/>
              <a:gd name="textAreaRight" fmla="*/ 3515040 w 3581280"/>
              <a:gd name="textAreaTop" fmla="*/ 66240 h 3581640"/>
              <a:gd name="textAreaBottom" fmla="*/ 3515400 h 3581640"/>
            </a:gdLst>
            <a:ahLst/>
            <a:rect l="textAreaLeft" t="textAreaTop" r="textAreaRight" b="textAreaBottom"/>
            <a:pathLst>
              <a:path w="21600" h="21602">
                <a:moveTo>
                  <a:pt x="1369" y="0"/>
                </a:moveTo>
                <a:arcTo wR="1369" hR="1369" stAng="16200000" swAng="-5400000"/>
                <a:lnTo>
                  <a:pt x="0" y="20233"/>
                </a:lnTo>
                <a:arcTo wR="1369" hR="1369" stAng="10800000" swAng="-5400000"/>
                <a:lnTo>
                  <a:pt x="20231" y="21602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108160"/>
            <a:ext cx="5257800" cy="3733920"/>
          </a:xfrm>
          <a:prstGeom prst="roundRect">
            <a:avLst>
              <a:gd name="adj" fmla="val 6338"/>
            </a:avLst>
          </a:prstGeom>
          <a:solidFill>
            <a:srgbClr val="333333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4120"/>
            <a:ext cx="256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ugger of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with ab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interface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CC5-87B1-4CB3-B23D-46CDDB8621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7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rol 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(at either user, debugger, or run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bgM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, 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Run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un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TryTo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ebug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functions set by the u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user command: a) starting/quitting debugger, b) state inspection/updates, c) passing control to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bg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whether stopping upon certain events is turn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, e.g.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Events(“classLoadEvent”) =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d functions set by the run tim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untime issues at most one event at a time, only in mode Run, &amp; then waits for an ack from the debug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response of the run time system (callback event), e.g. callback = “hit breakpoint”. When runtime has the control, debugger waits for callback before proceed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tQueueFl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olean indicating whether there are events still to be handled before user can get the prom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949-B470-4A6E-BC2C-597C7E24F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066680"/>
            <a:ext cx="3200400" cy="1067040"/>
            <a:chOff x="2438280" y="1066680"/>
            <a:chExt cx="3200400" cy="1067040"/>
          </a:xfrm>
        </p:grpSpPr>
        <p:sp>
          <p:nvSpPr>
            <p:cNvPr id="111" name=""/>
            <p:cNvSpPr/>
            <p:nvPr/>
          </p:nvSpPr>
          <p:spPr>
            <a:xfrm>
              <a:off x="4038480" y="1066680"/>
              <a:ext cx="1600200" cy="1067040"/>
            </a:xfrm>
            <a:custGeom>
              <a:avLst/>
              <a:gdLst/>
              <a:ahLst/>
              <a:rect l="l" t="t" r="r" b="b"/>
              <a:pathLst>
                <a:path w="924" h="690">
                  <a:moveTo>
                    <a:pt x="429" y="60"/>
                  </a:moveTo>
                  <a:cubicBezTo>
                    <a:pt x="386" y="20"/>
                    <a:pt x="347" y="43"/>
                    <a:pt x="282" y="47"/>
                  </a:cubicBezTo>
                  <a:cubicBezTo>
                    <a:pt x="224" y="65"/>
                    <a:pt x="259" y="52"/>
                    <a:pt x="215" y="74"/>
                  </a:cubicBezTo>
                  <a:cubicBezTo>
                    <a:pt x="197" y="83"/>
                    <a:pt x="161" y="101"/>
                    <a:pt x="161" y="101"/>
                  </a:cubicBezTo>
                  <a:cubicBezTo>
                    <a:pt x="132" y="146"/>
                    <a:pt x="105" y="163"/>
                    <a:pt x="54" y="174"/>
                  </a:cubicBezTo>
                  <a:cubicBezTo>
                    <a:pt x="11" y="217"/>
                    <a:pt x="25" y="191"/>
                    <a:pt x="14" y="235"/>
                  </a:cubicBezTo>
                  <a:cubicBezTo>
                    <a:pt x="10" y="253"/>
                    <a:pt x="0" y="288"/>
                    <a:pt x="0" y="288"/>
                  </a:cubicBezTo>
                  <a:cubicBezTo>
                    <a:pt x="5" y="344"/>
                    <a:pt x="7" y="413"/>
                    <a:pt x="40" y="462"/>
                  </a:cubicBezTo>
                  <a:cubicBezTo>
                    <a:pt x="60" y="492"/>
                    <a:pt x="94" y="513"/>
                    <a:pt x="114" y="543"/>
                  </a:cubicBezTo>
                  <a:cubicBezTo>
                    <a:pt x="142" y="585"/>
                    <a:pt x="160" y="601"/>
                    <a:pt x="194" y="636"/>
                  </a:cubicBezTo>
                  <a:cubicBezTo>
                    <a:pt x="224" y="666"/>
                    <a:pt x="190" y="652"/>
                    <a:pt x="228" y="663"/>
                  </a:cubicBezTo>
                  <a:cubicBezTo>
                    <a:pt x="250" y="678"/>
                    <a:pt x="270" y="681"/>
                    <a:pt x="295" y="690"/>
                  </a:cubicBezTo>
                  <a:cubicBezTo>
                    <a:pt x="402" y="678"/>
                    <a:pt x="388" y="674"/>
                    <a:pt x="462" y="657"/>
                  </a:cubicBezTo>
                  <a:cubicBezTo>
                    <a:pt x="486" y="631"/>
                    <a:pt x="517" y="619"/>
                    <a:pt x="543" y="596"/>
                  </a:cubicBezTo>
                  <a:cubicBezTo>
                    <a:pt x="573" y="570"/>
                    <a:pt x="605" y="534"/>
                    <a:pt x="643" y="523"/>
                  </a:cubicBezTo>
                  <a:cubicBezTo>
                    <a:pt x="658" y="508"/>
                    <a:pt x="678" y="484"/>
                    <a:pt x="697" y="476"/>
                  </a:cubicBezTo>
                  <a:cubicBezTo>
                    <a:pt x="744" y="456"/>
                    <a:pt x="802" y="459"/>
                    <a:pt x="851" y="442"/>
                  </a:cubicBezTo>
                  <a:cubicBezTo>
                    <a:pt x="873" y="420"/>
                    <a:pt x="874" y="400"/>
                    <a:pt x="891" y="375"/>
                  </a:cubicBezTo>
                  <a:cubicBezTo>
                    <a:pt x="915" y="284"/>
                    <a:pt x="924" y="179"/>
                    <a:pt x="851" y="114"/>
                  </a:cubicBezTo>
                  <a:cubicBezTo>
                    <a:pt x="796" y="66"/>
                    <a:pt x="832" y="82"/>
                    <a:pt x="791" y="67"/>
                  </a:cubicBezTo>
                  <a:cubicBezTo>
                    <a:pt x="753" y="31"/>
                    <a:pt x="702" y="24"/>
                    <a:pt x="657" y="0"/>
                  </a:cubicBezTo>
                  <a:cubicBezTo>
                    <a:pt x="610" y="4"/>
                    <a:pt x="578" y="7"/>
                    <a:pt x="536" y="20"/>
                  </a:cubicBezTo>
                  <a:cubicBezTo>
                    <a:pt x="523" y="34"/>
                    <a:pt x="524" y="37"/>
                    <a:pt x="503" y="40"/>
                  </a:cubicBezTo>
                  <a:cubicBezTo>
                    <a:pt x="412" y="51"/>
                    <a:pt x="393" y="26"/>
                    <a:pt x="429" y="6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219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    Break    Run    TryToBrea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371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Mod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0" y="2514600"/>
            <a:ext cx="0" cy="403848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7640" y="2514600"/>
            <a:ext cx="7848720" cy="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76720"/>
            <a:ext cx="3946680" cy="1249920"/>
            <a:chOff x="457200" y="3276720"/>
            <a:chExt cx="3946680" cy="1249920"/>
          </a:xfrm>
        </p:grpSpPr>
        <p:sp>
          <p:nvSpPr>
            <p:cNvPr id="117" name=""/>
            <p:cNvSpPr/>
            <p:nvPr/>
          </p:nvSpPr>
          <p:spPr>
            <a:xfrm>
              <a:off x="4572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mman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276720"/>
              <a:ext cx="2270160" cy="1130040"/>
            </a:xfrm>
            <a:custGeom>
              <a:avLst/>
              <a:gdLst/>
              <a:ahLst/>
              <a:rect l="l" t="t" r="r" b="b"/>
              <a:pathLst>
                <a:path w="1474" h="864">
                  <a:moveTo>
                    <a:pt x="1326" y="114"/>
                  </a:moveTo>
                  <a:cubicBezTo>
                    <a:pt x="1263" y="109"/>
                    <a:pt x="1229" y="99"/>
                    <a:pt x="1172" y="87"/>
                  </a:cubicBezTo>
                  <a:cubicBezTo>
                    <a:pt x="1152" y="78"/>
                    <a:pt x="1133" y="67"/>
                    <a:pt x="1112" y="60"/>
                  </a:cubicBezTo>
                  <a:cubicBezTo>
                    <a:pt x="1086" y="52"/>
                    <a:pt x="1056" y="51"/>
                    <a:pt x="1031" y="40"/>
                  </a:cubicBezTo>
                  <a:cubicBezTo>
                    <a:pt x="983" y="19"/>
                    <a:pt x="973" y="10"/>
                    <a:pt x="924" y="0"/>
                  </a:cubicBezTo>
                  <a:cubicBezTo>
                    <a:pt x="795" y="2"/>
                    <a:pt x="665" y="2"/>
                    <a:pt x="536" y="7"/>
                  </a:cubicBezTo>
                  <a:cubicBezTo>
                    <a:pt x="476" y="9"/>
                    <a:pt x="355" y="20"/>
                    <a:pt x="355" y="20"/>
                  </a:cubicBezTo>
                  <a:cubicBezTo>
                    <a:pt x="330" y="24"/>
                    <a:pt x="302" y="19"/>
                    <a:pt x="281" y="33"/>
                  </a:cubicBezTo>
                  <a:cubicBezTo>
                    <a:pt x="252" y="53"/>
                    <a:pt x="269" y="46"/>
                    <a:pt x="228" y="53"/>
                  </a:cubicBezTo>
                  <a:cubicBezTo>
                    <a:pt x="207" y="68"/>
                    <a:pt x="186" y="78"/>
                    <a:pt x="161" y="87"/>
                  </a:cubicBezTo>
                  <a:cubicBezTo>
                    <a:pt x="115" y="133"/>
                    <a:pt x="132" y="112"/>
                    <a:pt x="107" y="147"/>
                  </a:cubicBezTo>
                  <a:cubicBezTo>
                    <a:pt x="100" y="171"/>
                    <a:pt x="88" y="191"/>
                    <a:pt x="80" y="214"/>
                  </a:cubicBezTo>
                  <a:cubicBezTo>
                    <a:pt x="54" y="295"/>
                    <a:pt x="28" y="375"/>
                    <a:pt x="0" y="455"/>
                  </a:cubicBezTo>
                  <a:cubicBezTo>
                    <a:pt x="2" y="498"/>
                    <a:pt x="0" y="541"/>
                    <a:pt x="7" y="583"/>
                  </a:cubicBezTo>
                  <a:cubicBezTo>
                    <a:pt x="8" y="591"/>
                    <a:pt x="41" y="635"/>
                    <a:pt x="47" y="643"/>
                  </a:cubicBezTo>
                  <a:cubicBezTo>
                    <a:pt x="110" y="718"/>
                    <a:pt x="186" y="734"/>
                    <a:pt x="275" y="757"/>
                  </a:cubicBezTo>
                  <a:cubicBezTo>
                    <a:pt x="295" y="770"/>
                    <a:pt x="312" y="776"/>
                    <a:pt x="335" y="783"/>
                  </a:cubicBezTo>
                  <a:cubicBezTo>
                    <a:pt x="361" y="811"/>
                    <a:pt x="406" y="822"/>
                    <a:pt x="442" y="830"/>
                  </a:cubicBezTo>
                  <a:cubicBezTo>
                    <a:pt x="468" y="836"/>
                    <a:pt x="490" y="853"/>
                    <a:pt x="516" y="857"/>
                  </a:cubicBezTo>
                  <a:cubicBezTo>
                    <a:pt x="543" y="861"/>
                    <a:pt x="569" y="862"/>
                    <a:pt x="596" y="864"/>
                  </a:cubicBezTo>
                  <a:cubicBezTo>
                    <a:pt x="799" y="860"/>
                    <a:pt x="878" y="864"/>
                    <a:pt x="1038" y="830"/>
                  </a:cubicBezTo>
                  <a:cubicBezTo>
                    <a:pt x="1058" y="817"/>
                    <a:pt x="1075" y="811"/>
                    <a:pt x="1098" y="804"/>
                  </a:cubicBezTo>
                  <a:cubicBezTo>
                    <a:pt x="1160" y="763"/>
                    <a:pt x="1232" y="752"/>
                    <a:pt x="1299" y="723"/>
                  </a:cubicBezTo>
                  <a:cubicBezTo>
                    <a:pt x="1322" y="700"/>
                    <a:pt x="1353" y="689"/>
                    <a:pt x="1373" y="663"/>
                  </a:cubicBezTo>
                  <a:cubicBezTo>
                    <a:pt x="1383" y="650"/>
                    <a:pt x="1400" y="623"/>
                    <a:pt x="1400" y="623"/>
                  </a:cubicBezTo>
                  <a:cubicBezTo>
                    <a:pt x="1414" y="571"/>
                    <a:pt x="1435" y="522"/>
                    <a:pt x="1447" y="469"/>
                  </a:cubicBezTo>
                  <a:cubicBezTo>
                    <a:pt x="1452" y="449"/>
                    <a:pt x="1460" y="408"/>
                    <a:pt x="1460" y="408"/>
                  </a:cubicBezTo>
                  <a:cubicBezTo>
                    <a:pt x="1465" y="353"/>
                    <a:pt x="1474" y="309"/>
                    <a:pt x="1460" y="254"/>
                  </a:cubicBezTo>
                  <a:cubicBezTo>
                    <a:pt x="1456" y="239"/>
                    <a:pt x="1394" y="174"/>
                    <a:pt x="1380" y="167"/>
                  </a:cubicBezTo>
                  <a:cubicBezTo>
                    <a:pt x="1365" y="160"/>
                    <a:pt x="1348" y="159"/>
                    <a:pt x="1333" y="154"/>
                  </a:cubicBezTo>
                  <a:cubicBezTo>
                    <a:pt x="1331" y="147"/>
                    <a:pt x="1330" y="140"/>
                    <a:pt x="1326" y="134"/>
                  </a:cubicBezTo>
                  <a:cubicBezTo>
                    <a:pt x="1314" y="114"/>
                    <a:pt x="1304" y="124"/>
                    <a:pt x="1326" y="11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0160" y="341640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t breakpoint …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into” “step over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n …” “kill”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4495680"/>
            <a:ext cx="4114800" cy="2057400"/>
            <a:chOff x="304920" y="4495680"/>
            <a:chExt cx="4114800" cy="2057400"/>
          </a:xfrm>
        </p:grpSpPr>
        <p:sp>
          <p:nvSpPr>
            <p:cNvPr id="121" name=""/>
            <p:cNvSpPr/>
            <p:nvPr/>
          </p:nvSpPr>
          <p:spPr>
            <a:xfrm>
              <a:off x="1905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Ev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105160"/>
              <a:ext cx="1981080" cy="1447920"/>
            </a:xfrm>
            <a:custGeom>
              <a:avLst/>
              <a:gdLst/>
              <a:ahLst/>
              <a:rect l="l" t="t" r="r" b="b"/>
              <a:pathLst>
                <a:path w="1155" h="857">
                  <a:moveTo>
                    <a:pt x="348" y="830"/>
                  </a:moveTo>
                  <a:cubicBezTo>
                    <a:pt x="337" y="776"/>
                    <a:pt x="298" y="747"/>
                    <a:pt x="268" y="703"/>
                  </a:cubicBezTo>
                  <a:cubicBezTo>
                    <a:pt x="207" y="612"/>
                    <a:pt x="237" y="646"/>
                    <a:pt x="187" y="596"/>
                  </a:cubicBezTo>
                  <a:cubicBezTo>
                    <a:pt x="157" y="533"/>
                    <a:pt x="175" y="556"/>
                    <a:pt x="140" y="522"/>
                  </a:cubicBezTo>
                  <a:cubicBezTo>
                    <a:pt x="116" y="472"/>
                    <a:pt x="87" y="424"/>
                    <a:pt x="53" y="381"/>
                  </a:cubicBezTo>
                  <a:cubicBezTo>
                    <a:pt x="39" y="333"/>
                    <a:pt x="11" y="291"/>
                    <a:pt x="0" y="241"/>
                  </a:cubicBezTo>
                  <a:cubicBezTo>
                    <a:pt x="12" y="179"/>
                    <a:pt x="25" y="133"/>
                    <a:pt x="100" y="120"/>
                  </a:cubicBezTo>
                  <a:cubicBezTo>
                    <a:pt x="125" y="116"/>
                    <a:pt x="174" y="107"/>
                    <a:pt x="174" y="107"/>
                  </a:cubicBezTo>
                  <a:cubicBezTo>
                    <a:pt x="282" y="51"/>
                    <a:pt x="391" y="57"/>
                    <a:pt x="515" y="53"/>
                  </a:cubicBezTo>
                  <a:cubicBezTo>
                    <a:pt x="593" y="45"/>
                    <a:pt x="631" y="41"/>
                    <a:pt x="716" y="47"/>
                  </a:cubicBezTo>
                  <a:cubicBezTo>
                    <a:pt x="750" y="45"/>
                    <a:pt x="783" y="44"/>
                    <a:pt x="817" y="40"/>
                  </a:cubicBezTo>
                  <a:cubicBezTo>
                    <a:pt x="857" y="36"/>
                    <a:pt x="886" y="8"/>
                    <a:pt x="924" y="0"/>
                  </a:cubicBezTo>
                  <a:cubicBezTo>
                    <a:pt x="944" y="7"/>
                    <a:pt x="965" y="10"/>
                    <a:pt x="984" y="20"/>
                  </a:cubicBezTo>
                  <a:cubicBezTo>
                    <a:pt x="1039" y="50"/>
                    <a:pt x="1076" y="136"/>
                    <a:pt x="1105" y="187"/>
                  </a:cubicBezTo>
                  <a:cubicBezTo>
                    <a:pt x="1118" y="209"/>
                    <a:pt x="1126" y="236"/>
                    <a:pt x="1132" y="261"/>
                  </a:cubicBezTo>
                  <a:cubicBezTo>
                    <a:pt x="1137" y="281"/>
                    <a:pt x="1145" y="321"/>
                    <a:pt x="1145" y="321"/>
                  </a:cubicBezTo>
                  <a:cubicBezTo>
                    <a:pt x="1140" y="449"/>
                    <a:pt x="1155" y="675"/>
                    <a:pt x="998" y="730"/>
                  </a:cubicBezTo>
                  <a:cubicBezTo>
                    <a:pt x="979" y="748"/>
                    <a:pt x="962" y="750"/>
                    <a:pt x="937" y="757"/>
                  </a:cubicBezTo>
                  <a:cubicBezTo>
                    <a:pt x="891" y="787"/>
                    <a:pt x="945" y="755"/>
                    <a:pt x="891" y="777"/>
                  </a:cubicBezTo>
                  <a:cubicBezTo>
                    <a:pt x="873" y="785"/>
                    <a:pt x="837" y="803"/>
                    <a:pt x="837" y="803"/>
                  </a:cubicBezTo>
                  <a:cubicBezTo>
                    <a:pt x="808" y="835"/>
                    <a:pt x="764" y="846"/>
                    <a:pt x="723" y="857"/>
                  </a:cubicBezTo>
                  <a:cubicBezTo>
                    <a:pt x="597" y="852"/>
                    <a:pt x="473" y="830"/>
                    <a:pt x="348" y="83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13040" y="545292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480" y="555912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0"/>
            </p:cNvCxnSpPr>
            <p:nvPr/>
          </p:nvCxnSpPr>
          <p:spPr>
            <a:xfrm flipH="1" rot="16200000">
              <a:off x="2716200" y="4163400"/>
              <a:ext cx="303840" cy="2323440"/>
            </a:xfrm>
            <a:prstGeom prst="curvedConnector5">
              <a:avLst>
                <a:gd name="adj1" fmla="val -97864"/>
                <a:gd name="adj2" fmla="val 49992"/>
                <a:gd name="adj3" fmla="val -97864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304920" y="5257440"/>
              <a:ext cx="20574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class 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module (un)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thread st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exceptions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5638680"/>
            <a:ext cx="3297240" cy="718920"/>
            <a:chOff x="4952880" y="5638680"/>
            <a:chExt cx="3297240" cy="718920"/>
          </a:xfrm>
        </p:grpSpPr>
        <p:sp>
          <p:nvSpPr>
            <p:cNvPr id="128" name=""/>
            <p:cNvSpPr/>
            <p:nvPr/>
          </p:nvSpPr>
          <p:spPr>
            <a:xfrm>
              <a:off x="4952880" y="57146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eventQueueFla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440" y="563868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6880" y="574488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3200400"/>
            <a:ext cx="4114800" cy="2302920"/>
            <a:chOff x="4800600" y="3200400"/>
            <a:chExt cx="4114800" cy="2302920"/>
          </a:xfrm>
        </p:grpSpPr>
        <p:sp>
          <p:nvSpPr>
            <p:cNvPr id="132" name=""/>
            <p:cNvSpPr/>
            <p:nvPr/>
          </p:nvSpPr>
          <p:spPr>
            <a:xfrm>
              <a:off x="4800600" y="4264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urier New"/>
                </a:rPr>
                <a:t>callback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2720" y="3200400"/>
              <a:ext cx="2452680" cy="2206800"/>
            </a:xfrm>
            <a:custGeom>
              <a:avLst/>
              <a:gdLst/>
              <a:ahLst/>
              <a:rect l="l" t="t" r="r" b="b"/>
              <a:pathLst>
                <a:path w="1528" h="1032">
                  <a:moveTo>
                    <a:pt x="1193" y="127"/>
                  </a:moveTo>
                  <a:cubicBezTo>
                    <a:pt x="1118" y="105"/>
                    <a:pt x="1058" y="54"/>
                    <a:pt x="979" y="40"/>
                  </a:cubicBezTo>
                  <a:cubicBezTo>
                    <a:pt x="937" y="15"/>
                    <a:pt x="893" y="8"/>
                    <a:pt x="845" y="0"/>
                  </a:cubicBezTo>
                  <a:cubicBezTo>
                    <a:pt x="796" y="2"/>
                    <a:pt x="747" y="3"/>
                    <a:pt x="698" y="7"/>
                  </a:cubicBezTo>
                  <a:cubicBezTo>
                    <a:pt x="635" y="12"/>
                    <a:pt x="573" y="33"/>
                    <a:pt x="510" y="40"/>
                  </a:cubicBezTo>
                  <a:cubicBezTo>
                    <a:pt x="479" y="48"/>
                    <a:pt x="462" y="61"/>
                    <a:pt x="430" y="67"/>
                  </a:cubicBezTo>
                  <a:cubicBezTo>
                    <a:pt x="402" y="86"/>
                    <a:pt x="376" y="99"/>
                    <a:pt x="349" y="121"/>
                  </a:cubicBezTo>
                  <a:cubicBezTo>
                    <a:pt x="311" y="153"/>
                    <a:pt x="290" y="198"/>
                    <a:pt x="249" y="228"/>
                  </a:cubicBezTo>
                  <a:cubicBezTo>
                    <a:pt x="221" y="285"/>
                    <a:pt x="188" y="339"/>
                    <a:pt x="149" y="389"/>
                  </a:cubicBezTo>
                  <a:cubicBezTo>
                    <a:pt x="126" y="418"/>
                    <a:pt x="115" y="449"/>
                    <a:pt x="88" y="476"/>
                  </a:cubicBezTo>
                  <a:cubicBezTo>
                    <a:pt x="78" y="510"/>
                    <a:pt x="53" y="539"/>
                    <a:pt x="35" y="570"/>
                  </a:cubicBezTo>
                  <a:cubicBezTo>
                    <a:pt x="0" y="734"/>
                    <a:pt x="70" y="784"/>
                    <a:pt x="175" y="871"/>
                  </a:cubicBezTo>
                  <a:cubicBezTo>
                    <a:pt x="213" y="902"/>
                    <a:pt x="183" y="897"/>
                    <a:pt x="249" y="931"/>
                  </a:cubicBezTo>
                  <a:cubicBezTo>
                    <a:pt x="288" y="951"/>
                    <a:pt x="325" y="966"/>
                    <a:pt x="363" y="991"/>
                  </a:cubicBezTo>
                  <a:cubicBezTo>
                    <a:pt x="382" y="1003"/>
                    <a:pt x="407" y="1003"/>
                    <a:pt x="430" y="1005"/>
                  </a:cubicBezTo>
                  <a:cubicBezTo>
                    <a:pt x="492" y="1011"/>
                    <a:pt x="555" y="1023"/>
                    <a:pt x="617" y="1025"/>
                  </a:cubicBezTo>
                  <a:cubicBezTo>
                    <a:pt x="713" y="1029"/>
                    <a:pt x="809" y="1030"/>
                    <a:pt x="905" y="1032"/>
                  </a:cubicBezTo>
                  <a:cubicBezTo>
                    <a:pt x="1008" y="1030"/>
                    <a:pt x="1110" y="1031"/>
                    <a:pt x="1213" y="1025"/>
                  </a:cubicBezTo>
                  <a:cubicBezTo>
                    <a:pt x="1278" y="1021"/>
                    <a:pt x="1324" y="962"/>
                    <a:pt x="1381" y="945"/>
                  </a:cubicBezTo>
                  <a:cubicBezTo>
                    <a:pt x="1408" y="918"/>
                    <a:pt x="1445" y="895"/>
                    <a:pt x="1468" y="864"/>
                  </a:cubicBezTo>
                  <a:cubicBezTo>
                    <a:pt x="1478" y="851"/>
                    <a:pt x="1495" y="824"/>
                    <a:pt x="1495" y="824"/>
                  </a:cubicBezTo>
                  <a:cubicBezTo>
                    <a:pt x="1516" y="729"/>
                    <a:pt x="1528" y="611"/>
                    <a:pt x="1481" y="523"/>
                  </a:cubicBezTo>
                  <a:cubicBezTo>
                    <a:pt x="1450" y="379"/>
                    <a:pt x="1374" y="263"/>
                    <a:pt x="1240" y="194"/>
                  </a:cubicBezTo>
                  <a:cubicBezTo>
                    <a:pt x="1226" y="172"/>
                    <a:pt x="1215" y="162"/>
                    <a:pt x="1193" y="148"/>
                  </a:cubicBezTo>
                  <a:cubicBezTo>
                    <a:pt x="1178" y="123"/>
                    <a:pt x="1172" y="127"/>
                    <a:pt x="1193" y="127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654720"/>
              <a:ext cx="190512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was comple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un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read was crea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eakpoint was hit”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2514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COM E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560" y="3719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474-E490-41E5-A82F-5EEE5AEB16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ersio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  <a:endCxn id="14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760" y="8967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2"/>
            <a:endCxn id="149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1"/>
            <a:endCxn id="13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>
            <a:off x="6858000" y="2819160"/>
            <a:ext cx="1296000" cy="76248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3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9" idx="5"/>
            <a:endCxn id="154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5079960"/>
            <a:ext cx="5448240" cy="1320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tart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dbg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xit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Exit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rtdbg= stopdbg=sk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88E-9A07-4522-AAA2-8B4715BA3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8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user comm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34680"/>
            <a:ext cx="8889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nRunningCommand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and == “c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leRunningCommand(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e 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every running comm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RunningComm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can be specified in a modular fashion, instructionwise, e.g. b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dleRunningCommand ( c ) 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 c 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RunPgm x            -&gt; commandRunPgm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Attach x                -&gt; commandAttach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Continue               -&gt; command Continu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Kill x                      -&gt; commandKill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Line x             -&gt; commandStepLine 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epInstruction x   -&gt; commandStepInstruction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Out                 -&gt; commandStep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for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onBreakingComm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milarly for run time system ev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7880" y="3225960"/>
            <a:ext cx="2616120" cy="2234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rom the AS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er (groun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to debu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d f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E86-0BF2-4F5B-AD9F-8C2F7B3064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Mike Barnett and Margus Veanes</dc:creator>
  <dc:description/>
  <dc:language>en-US</dc:language>
  <cp:lastModifiedBy>Egon Boerger</cp:lastModifiedBy>
  <dcterms:modified xsi:type="dcterms:W3CDTF">2003-01-09T13:52:30Z</dcterms:modified>
  <cp:revision>200</cp:revision>
  <dc:subject>Refinement of Debugger Model</dc:subject>
  <dc:title>Debugger Model</dc:title>
</cp:coreProperties>
</file>