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B32C-2BD1-4E3A-A58B-8C483277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3254-1B6C-4E9F-A856-820ABD5C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9CDE-3141-4C62-8C55-72BF765A0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F7AB-3ECE-4EE1-B5C3-41C679286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702E-F6BA-44EC-A576-210ED36A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DDA7-8500-4D4A-9CC6-B18F213F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BA21-23EB-41F2-B404-DBF1A102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9ACF-50F3-4245-BA5E-C6545CD5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374E-ECEB-42BC-8656-F5FD66CA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F1F6-65CF-473C-A7DE-BB69368E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EFCE-3BCF-4C95-B807-984494A3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E50D-5EF8-4774-BAEF-FE89F615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9548-7689-47B8-985F-78412FD1E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Backtracking Machine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(for Tree Computation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915400" cy="5918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f mode = ramify then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Let k = |alternatives (Params)|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Let o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,..., o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k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=new (NO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andidates (currnode) := { o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,..., o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forall 1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i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k  do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parent (o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) := currn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nv (o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) := i-th (alternatives (Params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mode := sel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Arial"/>
              </a:rPr>
              <a:t>If mode = select then</a:t>
            </a: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If candidates (currnode) = </a:t>
            </a:r>
            <a:r>
              <a:rPr b="0" lang="it-IT" sz="2400" spc="-1" strike="noStrike">
                <a:solidFill>
                  <a:srgbClr val="eaeaea"/>
                </a:solidFill>
                <a:latin typeface="Symbol"/>
                <a:ea typeface="Symbol"/>
              </a:rPr>
              <a:t>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then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backtrack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else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try-next-candidate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                 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mode := exec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261120" y="838080"/>
            <a:ext cx="2590560" cy="2133720"/>
            <a:chOff x="6261120" y="838080"/>
            <a:chExt cx="2590560" cy="2133720"/>
          </a:xfrm>
        </p:grpSpPr>
        <p:cxnSp>
          <p:nvCxnSpPr>
            <p:cNvPr id="44" name=""/>
            <p:cNvCxnSpPr/>
            <p:nvPr/>
          </p:nvCxnSpPr>
          <p:spPr>
            <a:xfrm flipV="1">
              <a:off x="6489720" y="1555200"/>
              <a:ext cx="730800" cy="9597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5" name=""/>
            <p:cNvCxnSpPr/>
            <p:nvPr/>
          </p:nvCxnSpPr>
          <p:spPr>
            <a:xfrm flipH="1" flipV="1">
              <a:off x="7435440" y="1555200"/>
              <a:ext cx="883440" cy="9597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46" name=""/>
            <p:cNvSpPr/>
            <p:nvPr/>
          </p:nvSpPr>
          <p:spPr>
            <a:xfrm>
              <a:off x="6870600" y="838080"/>
              <a:ext cx="914400" cy="76212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ur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261120" y="2514600"/>
              <a:ext cx="533160" cy="45720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it-IT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13600" y="2514600"/>
              <a:ext cx="533520" cy="45720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it-IT" sz="16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632720" y="1066680"/>
              <a:ext cx="121896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andidat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94280" y="1981080"/>
              <a:ext cx="114300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par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876920" y="4038480"/>
            <a:ext cx="2361960" cy="2133360"/>
            <a:chOff x="4876920" y="4038480"/>
            <a:chExt cx="2361960" cy="2133360"/>
          </a:xfrm>
        </p:grpSpPr>
        <p:cxnSp>
          <p:nvCxnSpPr>
            <p:cNvPr id="52" name=""/>
            <p:cNvCxnSpPr/>
            <p:nvPr/>
          </p:nvCxnSpPr>
          <p:spPr>
            <a:xfrm flipV="1">
              <a:off x="5105520" y="4755240"/>
              <a:ext cx="730800" cy="9594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3" name=""/>
            <p:cNvCxnSpPr/>
            <p:nvPr/>
          </p:nvCxnSpPr>
          <p:spPr>
            <a:xfrm flipH="1" flipV="1">
              <a:off x="6051240" y="4755240"/>
              <a:ext cx="883440" cy="9594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54" name=""/>
            <p:cNvSpPr/>
            <p:nvPr/>
          </p:nvSpPr>
          <p:spPr>
            <a:xfrm>
              <a:off x="5486400" y="4038480"/>
              <a:ext cx="914400" cy="76176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ur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76920" y="5714640"/>
              <a:ext cx="53316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it-IT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629400" y="5714640"/>
              <a:ext cx="5335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it-IT" sz="16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62720" y="5714640"/>
              <a:ext cx="914400" cy="38124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51120 h 381240"/>
                <a:gd name="textAreaBottom" fmla="*/ 3301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72200" y="4343040"/>
              <a:ext cx="1066680" cy="457200"/>
            </a:xfrm>
            <a:custGeom>
              <a:avLst/>
              <a:gdLst>
                <a:gd name="textAreaLeft" fmla="*/ 186480 w 1066680"/>
                <a:gd name="textAreaRight" fmla="*/ 773280 w 106668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FB40-23A7-4D16-9D22-B00BA7DA3E9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acktracking Machin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6095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acktrack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parent (currnode) = roo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n mode := St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se currnode := parent (currno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try-next-candidate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it-IT" sz="2400" spc="-1" strike="noStrike">
                <a:solidFill>
                  <a:srgbClr val="ccecff"/>
                </a:solidFill>
                <a:latin typeface="Arial"/>
              </a:rPr>
              <a:t>depth-first tree travers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node:= next (candidates(currnode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et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(candidates(currnode))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rom candidates (currno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The fctn </a:t>
            </a: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next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 is a choice fct, possibly dynamic, which determines the</a:t>
            </a:r>
            <a:r>
              <a:rPr b="1" lang="it-IT" sz="28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order for trying out the alternati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The fct </a:t>
            </a: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alternatives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, possibly dynamic and coming with parameters, determines the solution space.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execution machine may update mode again to ramify (in case of successful exec) or to select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(for failed exec)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471A-DCAC-4718-AA65-D3CDFF7E41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acktracking Machine: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logic progg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instanti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60706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Prolog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Börger/Rosenzweig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ience of Computer Programming 24 (1995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lternatives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procdef (act,pgm),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yielding a sequence of clauses in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pgm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to be tried out in this order to execute the current statement (“goal”)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procdef (act,constr,pgm)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in CLAM with constraints for indexing mechanism               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Börger/Salamone OUP 1995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next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= first-of-sequence (</a:t>
            </a: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depth-first left-to-right tree traversal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execute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mode resolves act against the head of the next candidate, if possible, replacing act by that clauses’ body &amp; proceeding in mode ramify, otherwise it deletes that candidate &amp; switches to mode select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8294-AC83-4AB3-B2A9-A11A5B406A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acktracking Machine: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functional progg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instanti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457200"/>
            <a:ext cx="8991720" cy="60451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Babel        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Börger et al.</a:t>
            </a:r>
            <a:r>
              <a:rPr b="1" lang="it-IT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IP 13 World Computer Congress 1994, Vol.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lternatives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fundef (currexp,pgm)</a:t>
            </a: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,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yielding the list of defining rules provided in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pgm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for the outer fct of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currex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next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= first-of-sequ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execute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pplies the defining rules in the given order to reduce currexp to normal form (using narrowing, a combination of unification and reduction)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8856-30C0-4074-B663-BDD07D0713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Backtracking Machine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: context free grammar instanti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394956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Generating leftmost derivations of cf grammars 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lternatives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(currnode,G),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yields sequence of symbols Y1...Yk of the  conclusion of a G-rule with premisse X labeling currnode. Includes a choice bw different rules X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env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yields the label of a node: variable X or terminal letter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next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= first-of-sequence (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depth-first left-to-right tree traversal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xecute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for nodes labeled by a variable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triggers tree expan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for terminal nodes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extracts the yield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concatenating terminal word to output, continues derivation at parent node in mode sel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5613480"/>
            <a:ext cx="251460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itially NODE = {root}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oot=curr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nv(root)=G-axi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ode=ramif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56200" y="4457880"/>
            <a:ext cx="2514600" cy="1159560"/>
          </a:xfrm>
          <a:prstGeom prst="rect">
            <a:avLst/>
          </a:prstGeom>
          <a:solidFill>
            <a:srgbClr val="f2c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lternatives can be a  dynamic fct (possibly monitored by the user) or static (with first argument in VA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584600"/>
            <a:ext cx="5562720" cy="211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If mode = execute the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If env (currnode)</a:t>
            </a:r>
            <a:r>
              <a:rPr b="0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VA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then mode:=ramify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else output:=output * env(currnode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urrnode:= parent(currnode)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mode := sel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4194-8EE0-451C-89C9-62A40CA371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Backtracking Machine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: instantiation  for attribute grammar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438156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Synthesis of node attribute from children’s attributes v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backtrack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parent (currnode) = root  then mode := St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se currnode := parent (currno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X.a := f(Y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.a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..., Y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.a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where X = env(parent(currnode)),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=env(o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) for children no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nheriting attribute from parent and sibl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cluded in update of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env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e.g. upon node creation) generalized to update also node attribut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ttribute conditions for grammar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cluded in execute-rules as additional guard to yielding outpu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848120"/>
            <a:ext cx="9144000" cy="16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f mode = execute the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...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lse If Cond(currnode.a, parent(currnode).b, siblings(currnode).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hen output:=output * env(currnode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urrnode:= parent(currnode) , mode := sel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37640" y="2374920"/>
            <a:ext cx="1206360" cy="166356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Johnson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Mos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Linguist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&amp;Philosoph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17 (1994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537-56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EA14-1379-4649-9776-DC10117B97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482760" y="1994040"/>
            <a:ext cx="2361600" cy="2209680"/>
            <a:chOff x="482760" y="1994040"/>
            <a:chExt cx="2361600" cy="2209680"/>
          </a:xfrm>
        </p:grpSpPr>
        <p:sp>
          <p:nvSpPr>
            <p:cNvPr id="75" name=""/>
            <p:cNvSpPr/>
            <p:nvPr/>
          </p:nvSpPr>
          <p:spPr>
            <a:xfrm>
              <a:off x="1320840" y="3289320"/>
              <a:ext cx="53280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20840" y="3746520"/>
              <a:ext cx="532800" cy="457200"/>
            </a:xfrm>
            <a:prstGeom prst="triangle">
              <a:avLst>
                <a:gd name="adj" fmla="val 5000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482760" y="1994040"/>
              <a:ext cx="2361600" cy="1294920"/>
              <a:chOff x="482760" y="1994040"/>
              <a:chExt cx="2361600" cy="1294920"/>
            </a:xfrm>
          </p:grpSpPr>
          <p:sp>
            <p:nvSpPr>
              <p:cNvPr id="78" name=""/>
              <p:cNvSpPr/>
              <p:nvPr/>
            </p:nvSpPr>
            <p:spPr>
              <a:xfrm>
                <a:off x="1473120" y="2603520"/>
                <a:ext cx="304200" cy="304200"/>
              </a:xfrm>
              <a:prstGeom prst="ellipse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549080" y="1994040"/>
                <a:ext cx="152280" cy="152280"/>
              </a:xfrm>
              <a:prstGeom prst="ellipse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482760" y="2070000"/>
                <a:ext cx="1142640" cy="685440"/>
              </a:xfrm>
              <a:prstGeom prst="line">
                <a:avLst/>
              </a:prstGeom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625400" y="2070000"/>
                <a:ext cx="1142640" cy="685440"/>
              </a:xfrm>
              <a:prstGeom prst="line">
                <a:avLst/>
              </a:prstGeom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554120" y="2135160"/>
                <a:ext cx="105840" cy="462960"/>
              </a:xfrm>
              <a:custGeom>
                <a:avLst/>
                <a:gdLst/>
                <a:ahLst/>
                <a:rect l="l" t="t" r="r" b="b"/>
                <a:pathLst>
                  <a:path w="67" h="292">
                    <a:moveTo>
                      <a:pt x="45" y="0"/>
                    </a:moveTo>
                    <a:cubicBezTo>
                      <a:pt x="10" y="53"/>
                      <a:pt x="0" y="35"/>
                      <a:pt x="38" y="60"/>
                    </a:cubicBezTo>
                    <a:cubicBezTo>
                      <a:pt x="49" y="94"/>
                      <a:pt x="33" y="94"/>
                      <a:pt x="23" y="127"/>
                    </a:cubicBezTo>
                    <a:cubicBezTo>
                      <a:pt x="46" y="162"/>
                      <a:pt x="35" y="165"/>
                      <a:pt x="23" y="202"/>
                    </a:cubicBezTo>
                    <a:cubicBezTo>
                      <a:pt x="25" y="203"/>
                      <a:pt x="67" y="225"/>
                      <a:pt x="52" y="240"/>
                    </a:cubicBezTo>
                    <a:cubicBezTo>
                      <a:pt x="41" y="251"/>
                      <a:pt x="8" y="254"/>
                      <a:pt x="8" y="254"/>
                    </a:cubicBezTo>
                    <a:cubicBezTo>
                      <a:pt x="28" y="285"/>
                      <a:pt x="14" y="273"/>
                      <a:pt x="45" y="284"/>
                    </a:cubicBezTo>
                    <a:cubicBezTo>
                      <a:pt x="52" y="287"/>
                      <a:pt x="67" y="292"/>
                      <a:pt x="67" y="292"/>
                    </a:cubicBezTo>
                  </a:path>
                </a:pathLst>
              </a:custGeom>
              <a:noFill/>
              <a:ln w="9360">
                <a:solidFill>
                  <a:srgbClr val="f2cab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625400" y="2908080"/>
                <a:ext cx="0" cy="38088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777680" y="2908080"/>
                <a:ext cx="1066680" cy="3070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k-thChil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457200" y="4572000"/>
            <a:ext cx="2438280" cy="2057400"/>
            <a:chOff x="457200" y="4572000"/>
            <a:chExt cx="2438280" cy="2057400"/>
          </a:xfrm>
        </p:grpSpPr>
        <p:sp>
          <p:nvSpPr>
            <p:cNvPr id="86" name=""/>
            <p:cNvSpPr/>
            <p:nvPr/>
          </p:nvSpPr>
          <p:spPr>
            <a:xfrm>
              <a:off x="457200" y="5029200"/>
              <a:ext cx="2286000" cy="1600200"/>
            </a:xfrm>
            <a:prstGeom prst="triangle">
              <a:avLst>
                <a:gd name="adj" fmla="val 50000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33440" y="6172200"/>
              <a:ext cx="5335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47920" y="5562720"/>
              <a:ext cx="304560" cy="30456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52480" y="5867280"/>
              <a:ext cx="114300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00"/>
                  </a:solidFill>
                  <a:latin typeface="Times New Roman"/>
                </a:rPr>
                <a:t>j-thChil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33440" y="4572000"/>
              <a:ext cx="5335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65280" y="5011560"/>
              <a:ext cx="69840" cy="546120"/>
            </a:xfrm>
            <a:custGeom>
              <a:avLst/>
              <a:gdLst/>
              <a:ahLst/>
              <a:rect l="l" t="t" r="r" b="b"/>
              <a:pathLst>
                <a:path w="44" h="344">
                  <a:moveTo>
                    <a:pt x="15" y="0"/>
                  </a:moveTo>
                  <a:cubicBezTo>
                    <a:pt x="41" y="41"/>
                    <a:pt x="27" y="110"/>
                    <a:pt x="0" y="149"/>
                  </a:cubicBezTo>
                  <a:cubicBezTo>
                    <a:pt x="5" y="172"/>
                    <a:pt x="6" y="196"/>
                    <a:pt x="15" y="217"/>
                  </a:cubicBezTo>
                  <a:cubicBezTo>
                    <a:pt x="19" y="225"/>
                    <a:pt x="32" y="225"/>
                    <a:pt x="37" y="232"/>
                  </a:cubicBezTo>
                  <a:cubicBezTo>
                    <a:pt x="43" y="241"/>
                    <a:pt x="42" y="252"/>
                    <a:pt x="44" y="262"/>
                  </a:cubicBezTo>
                  <a:cubicBezTo>
                    <a:pt x="14" y="272"/>
                    <a:pt x="9" y="285"/>
                    <a:pt x="0" y="314"/>
                  </a:cubicBezTo>
                  <a:cubicBezTo>
                    <a:pt x="9" y="341"/>
                    <a:pt x="0" y="332"/>
                    <a:pt x="22" y="34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00200" y="5867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Tree Adjoining Gramm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533520"/>
            <a:ext cx="7912080" cy="1008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Generalizing Parikh’s analysis of context free languages by pumping of cf trees from basis trees (with terminal yield) and recursion trees (with terminal yield except for the root variabl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11480" y="1841400"/>
            <a:ext cx="3022560" cy="3448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f n=k-thChild(m) 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ymb(n)=symb(root(T)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&amp; T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RecTree 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ot(T) = j-thChild(p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et T’=new copy(T) 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k-thChild(m):=root(T’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j-thChild(p’):=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657600" y="2286000"/>
            <a:ext cx="5105160" cy="3886200"/>
            <a:chOff x="3657600" y="2286000"/>
            <a:chExt cx="5105160" cy="3886200"/>
          </a:xfrm>
        </p:grpSpPr>
        <p:grpSp>
          <p:nvGrpSpPr>
            <p:cNvPr id="97" name=""/>
            <p:cNvGrpSpPr/>
            <p:nvPr/>
          </p:nvGrpSpPr>
          <p:grpSpPr>
            <a:xfrm>
              <a:off x="6324120" y="2286000"/>
              <a:ext cx="2438640" cy="3886200"/>
              <a:chOff x="6324120" y="2286000"/>
              <a:chExt cx="2438640" cy="3886200"/>
            </a:xfrm>
          </p:grpSpPr>
          <p:sp>
            <p:nvSpPr>
              <p:cNvPr id="98" name=""/>
              <p:cNvSpPr/>
              <p:nvPr/>
            </p:nvSpPr>
            <p:spPr>
              <a:xfrm>
                <a:off x="7238880" y="5715000"/>
                <a:ext cx="533520" cy="457200"/>
              </a:xfrm>
              <a:prstGeom prst="triangle">
                <a:avLst>
                  <a:gd name="adj" fmla="val 5000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9" name=""/>
              <p:cNvGrpSpPr/>
              <p:nvPr/>
            </p:nvGrpSpPr>
            <p:grpSpPr>
              <a:xfrm>
                <a:off x="6324120" y="2286000"/>
                <a:ext cx="2438640" cy="3391200"/>
                <a:chOff x="6324120" y="2286000"/>
                <a:chExt cx="2438640" cy="3391200"/>
              </a:xfrm>
            </p:grpSpPr>
            <p:grpSp>
              <p:nvGrpSpPr>
                <p:cNvPr id="100" name=""/>
                <p:cNvGrpSpPr/>
                <p:nvPr/>
              </p:nvGrpSpPr>
              <p:grpSpPr>
                <a:xfrm>
                  <a:off x="6324120" y="2286000"/>
                  <a:ext cx="2362680" cy="1295640"/>
                  <a:chOff x="6324120" y="2286000"/>
                  <a:chExt cx="2362680" cy="129564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>
                    <a:off x="7315200" y="2895840"/>
                    <a:ext cx="304560" cy="304560"/>
                  </a:xfrm>
                  <a:prstGeom prst="ellipse">
                    <a:avLst/>
                  </a:prstGeom>
                  <a:solidFill>
                    <a:srgbClr val="ff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m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7391160" y="2286000"/>
                    <a:ext cx="152640" cy="152640"/>
                  </a:xfrm>
                  <a:prstGeom prst="ellipse">
                    <a:avLst/>
                  </a:prstGeom>
                  <a:solidFill>
                    <a:srgbClr val="ff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>
                    <a:off x="6324120" y="2362320"/>
                    <a:ext cx="1143000" cy="685800"/>
                  </a:xfrm>
                  <a:prstGeom prst="line">
                    <a:avLst/>
                  </a:prstGeom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7467480" y="2362320"/>
                    <a:ext cx="1143000" cy="685800"/>
                  </a:xfrm>
                  <a:prstGeom prst="line">
                    <a:avLst/>
                  </a:prstGeom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7396200" y="2427480"/>
                    <a:ext cx="106200" cy="46332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292">
                        <a:moveTo>
                          <a:pt x="45" y="0"/>
                        </a:moveTo>
                        <a:cubicBezTo>
                          <a:pt x="10" y="53"/>
                          <a:pt x="0" y="35"/>
                          <a:pt x="38" y="60"/>
                        </a:cubicBezTo>
                        <a:cubicBezTo>
                          <a:pt x="49" y="94"/>
                          <a:pt x="33" y="94"/>
                          <a:pt x="23" y="127"/>
                        </a:cubicBezTo>
                        <a:cubicBezTo>
                          <a:pt x="46" y="162"/>
                          <a:pt x="35" y="165"/>
                          <a:pt x="23" y="202"/>
                        </a:cubicBezTo>
                        <a:cubicBezTo>
                          <a:pt x="25" y="203"/>
                          <a:pt x="67" y="225"/>
                          <a:pt x="52" y="240"/>
                        </a:cubicBezTo>
                        <a:cubicBezTo>
                          <a:pt x="41" y="251"/>
                          <a:pt x="8" y="254"/>
                          <a:pt x="8" y="254"/>
                        </a:cubicBezTo>
                        <a:cubicBezTo>
                          <a:pt x="28" y="285"/>
                          <a:pt x="14" y="273"/>
                          <a:pt x="45" y="284"/>
                        </a:cubicBezTo>
                        <a:cubicBezTo>
                          <a:pt x="52" y="287"/>
                          <a:pt x="67" y="292"/>
                          <a:pt x="67" y="292"/>
                        </a:cubicBezTo>
                      </a:path>
                    </a:pathLst>
                  </a:custGeom>
                  <a:noFill/>
                  <a:ln w="9360">
                    <a:solidFill>
                      <a:srgbClr val="f2cab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7467480" y="3200400"/>
                    <a:ext cx="0" cy="38124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7619760" y="3200400"/>
                    <a:ext cx="1067040" cy="307080"/>
                  </a:xfrm>
                  <a:prstGeom prst="rect">
                    <a:avLst/>
                  </a:pr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400" spc="-1" strike="noStrike">
                        <a:solidFill>
                          <a:srgbClr val="000000"/>
                        </a:solidFill>
                        <a:latin typeface="Arial"/>
                      </a:rPr>
                      <a:t>k-thChil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" name=""/>
                <p:cNvGrpSpPr/>
                <p:nvPr/>
              </p:nvGrpSpPr>
              <p:grpSpPr>
                <a:xfrm>
                  <a:off x="6324480" y="3619800"/>
                  <a:ext cx="2438280" cy="2057400"/>
                  <a:chOff x="6324480" y="3619800"/>
                  <a:chExt cx="2438280" cy="205740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>
                    <a:off x="6324480" y="4077000"/>
                    <a:ext cx="2286000" cy="16002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ce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7200720" y="5220000"/>
                    <a:ext cx="533520" cy="45720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600" spc="-1" strike="noStrike">
                        <a:solidFill>
                          <a:srgbClr val="000000"/>
                        </a:solidFill>
                        <a:latin typeface="Arial"/>
                      </a:rPr>
                      <a:t>X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7315200" y="4610520"/>
                    <a:ext cx="304560" cy="304560"/>
                  </a:xfrm>
                  <a:prstGeom prst="ellipse">
                    <a:avLst/>
                  </a:prstGeom>
                  <a:solidFill>
                    <a:srgbClr val="ff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6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7619760" y="4915080"/>
                    <a:ext cx="1143000" cy="30708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j-thChil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7200720" y="3619800"/>
                    <a:ext cx="533520" cy="45720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600" spc="-1" strike="noStrike">
                        <a:solidFill>
                          <a:srgbClr val="000000"/>
                        </a:solidFill>
                        <a:latin typeface="Arial"/>
                      </a:rPr>
                      <a:t>X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7432560" y="4059360"/>
                    <a:ext cx="69840" cy="54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44">
                        <a:moveTo>
                          <a:pt x="15" y="0"/>
                        </a:moveTo>
                        <a:cubicBezTo>
                          <a:pt x="41" y="41"/>
                          <a:pt x="27" y="110"/>
                          <a:pt x="0" y="149"/>
                        </a:cubicBezTo>
                        <a:cubicBezTo>
                          <a:pt x="5" y="172"/>
                          <a:pt x="6" y="196"/>
                          <a:pt x="15" y="217"/>
                        </a:cubicBezTo>
                        <a:cubicBezTo>
                          <a:pt x="19" y="225"/>
                          <a:pt x="32" y="225"/>
                          <a:pt x="37" y="232"/>
                        </a:cubicBezTo>
                        <a:cubicBezTo>
                          <a:pt x="43" y="241"/>
                          <a:pt x="42" y="252"/>
                          <a:pt x="44" y="262"/>
                        </a:cubicBezTo>
                        <a:cubicBezTo>
                          <a:pt x="14" y="272"/>
                          <a:pt x="9" y="285"/>
                          <a:pt x="0" y="314"/>
                        </a:cubicBezTo>
                        <a:cubicBezTo>
                          <a:pt x="9" y="341"/>
                          <a:pt x="0" y="332"/>
                          <a:pt x="22" y="344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7467480" y="491508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6" name=""/>
            <p:cNvSpPr/>
            <p:nvPr/>
          </p:nvSpPr>
          <p:spPr>
            <a:xfrm>
              <a:off x="3657600" y="5791320"/>
              <a:ext cx="2133720" cy="228600"/>
            </a:xfrm>
            <a:prstGeom prst="rightArrow">
              <a:avLst>
                <a:gd name="adj1" fmla="val 50000"/>
                <a:gd name="adj2" fmla="val 233346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4058-8A2D-4CFB-A712-F16434E5A3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44000" cy="61722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Börger and D. Rosenzweig: Mathematical Definition of Full Prolo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In: Science of Computer Programming 24 (1995) 249-28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Börger and R.F.Salamone: CLAM Specification for Provably Correct Compilation of CLP ( R ) Pr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In: E.Börger (Ed.) Specification and Validation Methods. Oxford University Press, 1995, 97-1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Börger, F.J.Lopez-Fraguas, M.Rodrigues-Artalejo: A Model for Mathematical Analysis of Functional Programs and their Implemen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In: B.Pehrson and I.Simon (Eds.): IFIP 13 World Computer Congress 1994, Vol.I: Technology/Foundations, 410-4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Johnson and L. Moss: Grammar Formalisms Viewed als Evolving Algeb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Linguistics and Philosophy 17 (1994) 537-560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Backtracking AS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484B-7FDE-45FD-A01E-AA4A1D6987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2-12-21T11:20:39Z</dcterms:modified>
  <cp:revision>712</cp:revision>
  <dc:subject>Modeling backtracking mechanisms</dc:subject>
  <dc:title>Backtracking ASM</dc:title>
</cp:coreProperties>
</file>