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E62-11AE-45EC-AAB3-6CC2AEA1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3D6-4D2D-425F-89EC-138DA8D6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68B-B4A8-455A-8454-3BF591ED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E5D-3B93-4992-8AE3-C04E43AB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B16-8FC5-4AB1-A83D-33D1ED14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8BB-F74E-4ED9-A741-4F7D9605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81B-6C3C-40AA-B3AB-B85EBDA7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8AF-0E9F-4E67-AE17-0AB0EED2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D18-10A6-4DCC-B08A-9C3830EF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41C-299F-44AD-9FBE-BC668A20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88F-0DFA-4144-AEED-6058ECCB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762-0CC9-41AE-8158-E837F6F9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90F8-7B0F-4933-8F1F-EE085BF6C8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choose” and “forall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ting  all and only the pairs vw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* of different words v,w of same length (i.e.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 n, i with i &lt;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with a 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i) :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i) := b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forall j &lt; n, j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choose a,b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v(j) : =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             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w(j) :=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When all possible choices are realized,  the set of reachable states vw of this ASM, started with (say)  a b for some a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, is the set of all vw with v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w and |v| = |w|.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etri-asm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577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5880" y="5730840"/>
            <a:ext cx="1462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6064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quiv Petri ne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enerating one wor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66960" y="5842080"/>
            <a:ext cx="7277040" cy="1015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ransition q:  at place B 1 mark is produced for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lace C n-1 marks are produced for arbitrary 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etri-asm2" descr=""/>
          <p:cNvPicPr/>
          <p:nvPr/>
        </p:nvPicPr>
        <p:blipFill>
          <a:blip r:embed="rId1"/>
          <a:stretch/>
        </p:blipFill>
        <p:spPr>
          <a:xfrm>
            <a:off x="1066680" y="0"/>
            <a:ext cx="7675560" cy="603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00" y="5410080"/>
            <a:ext cx="35236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st v,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n, i, j : </a:t>
            </a:r>
            <a:r>
              <a:rPr b="0" lang="de-DE" sz="2400" spc="-1" strike="noStrike">
                <a:solidFill>
                  <a:srgbClr val="000000"/>
                </a:solidFill>
                <a:latin typeface="Math5"/>
                <a:ea typeface="Math5"/>
              </a:rPr>
              <a:t>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ar a, b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, y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873600" cy="673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the iteration con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34520" y="0"/>
            <a:ext cx="609480" cy="2387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27400" y="6032520"/>
            <a:ext cx="501660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word has been comple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leted to produce the nex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lustrating the power of “forall” and “choose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8940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enerating  the words over alphabet {0,1} of length at least n with a 1 in the n-th place, i.e. the words of form v1w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forall  n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N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v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{0,1}</a:t>
            </a:r>
            <a:r>
              <a:rPr b="0" lang="it-IT" sz="3200" spc="-1" strike="noStrike" baseline="30000">
                <a:solidFill>
                  <a:srgbClr val="3333cc"/>
                </a:solidFill>
                <a:latin typeface="Arial"/>
              </a:rPr>
              <a:t>n-1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choose w </a:t>
            </a:r>
            <a:r>
              <a:rPr b="0" lang="it-IT" sz="32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{0,1}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                            </a:t>
            </a:r>
            <a:r>
              <a:rPr b="0" lang="it-IT" sz="3200" spc="-1" strike="noStrike">
                <a:solidFill>
                  <a:srgbClr val="3333cc"/>
                </a:solidFill>
                <a:latin typeface="Arial"/>
              </a:rPr>
              <a:t>out(n) := v1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B. For each n, there is a non-deterministic FSM with O(n) states which accepts the set {0,1}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-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 {0,1}* , but every deterministic FSM accepting this set ha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wer of non-determi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= {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w and |v| = |w| = n}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xercise. Show that for each n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an be accepted by a non-deterministic finite automaton with O(n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ry unambiguous  automaton accep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eds at least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. R. Kintala and K-Y P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tsch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ise representations of regular languages by degree and probabilistic finite autom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n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h. Systems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6 (4) 1993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79—3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4:29:43Z</dcterms:created>
  <dc:creator>top10</dc:creator>
  <dc:description/>
  <dc:language>en-US</dc:language>
  <cp:lastModifiedBy>Egon Boerger</cp:lastModifiedBy>
  <dcterms:modified xsi:type="dcterms:W3CDTF">2002-04-07T17:45:22Z</dcterms:modified>
  <cp:revision>20</cp:revision>
  <dc:subject>Examples illustrating choose/forall</dc:subject>
  <dc:title>ASM constructs choose and forall</dc:title>
</cp:coreProperties>
</file>