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093-48AA-4A65-8CCB-55EF0631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F16-B10F-41EE-B416-F5F080D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4C-8218-418A-8F44-9BCE7C70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A68-44E5-4734-AC67-D31C58E7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9FC-D163-4FA8-9001-D2E534D5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45A-0749-457C-9AA4-BF37443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4AB-22D9-4103-8B8E-B1367A99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373-AB4C-4F3B-B69A-38CFE2F3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047-D8DD-4825-ABAE-C29D8479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5F6-ABF2-4E5C-AE87-853995D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E39-CC2B-4348-BE8C-7A1EAA2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B25-EF76-485B-8847-360FAD4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416-467C-45EA-A3C2-30AD0FEC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onsensus in Networ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in Networks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 for reaching consensus among homogeneous agents of finite connected networks (using only communication between neighbors, without broker or mediator, with abstract requests and answer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hmic Idea: every agent (node) m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aunch a requ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is neighbors and wait for the rep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agre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replies received from his neighbors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ply to req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d from hi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il all agents agree (maybe nev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3D9-13EA-4401-9EEB-EDE40D14C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sensus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finite connected set (of node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ch agent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es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questFrom(n)|n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ReplyFrom(n)|n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neighb 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(controlled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ending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gre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tl_state=pending, Request = empty, Reply = f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325-00BE-4230-93B7-371878684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02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Control State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90720" y="927000"/>
            <a:ext cx="3397320" cy="3301920"/>
            <a:chOff x="2790720" y="927000"/>
            <a:chExt cx="3397320" cy="3301920"/>
          </a:xfrm>
        </p:grpSpPr>
        <p:sp>
          <p:nvSpPr>
            <p:cNvPr id="50" name=""/>
            <p:cNvSpPr/>
            <p:nvPr/>
          </p:nvSpPr>
          <p:spPr>
            <a:xfrm>
              <a:off x="2790720" y="927000"/>
              <a:ext cx="1168560" cy="812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35480" y="3517920"/>
              <a:ext cx="952560" cy="71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gre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1333080"/>
            <a:ext cx="9144000" cy="2905560"/>
            <a:chOff x="0" y="1333080"/>
            <a:chExt cx="9144000" cy="2905560"/>
          </a:xfrm>
        </p:grpSpPr>
        <p:sp>
          <p:nvSpPr>
            <p:cNvPr id="53" name=""/>
            <p:cNvSpPr/>
            <p:nvPr/>
          </p:nvSpPr>
          <p:spPr>
            <a:xfrm>
              <a:off x="6235560" y="2344680"/>
              <a:ext cx="290844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ectedReplies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= f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333080"/>
              <a:ext cx="5235840" cy="2905560"/>
              <a:chOff x="0" y="1333080"/>
              <a:chExt cx="5235840" cy="2905560"/>
            </a:xfrm>
          </p:grpSpPr>
          <p:sp>
            <p:nvSpPr>
              <p:cNvPr id="55" name=""/>
              <p:cNvSpPr/>
              <p:nvPr/>
            </p:nvSpPr>
            <p:spPr>
              <a:xfrm>
                <a:off x="2354400" y="2263680"/>
                <a:ext cx="2041560" cy="819360"/>
              </a:xfrm>
              <a:prstGeom prst="hexagon">
                <a:avLst>
                  <a:gd name="adj" fmla="val 62291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c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pli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mplet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67240" y="387360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395440"/>
                <a:ext cx="147960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6520" y="3860640"/>
                <a:ext cx="48276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05160" y="3508200"/>
                <a:ext cx="1939680" cy="730440"/>
              </a:xfrm>
              <a:prstGeom prst="hexagon">
                <a:avLst>
                  <a:gd name="adj" fmla="val 66387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hosenRu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LaunchNe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0" name=""/>
              <p:cNvCxnSpPr>
                <a:stCxn id="50" idx="4"/>
                <a:endCxn id="55" idx="0"/>
              </p:cNvCxnSpPr>
              <p:nvPr/>
            </p:nvCxnSpPr>
            <p:spPr>
              <a:xfrm>
                <a:off x="3374640" y="1739520"/>
                <a:ext cx="1080" cy="52416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2"/>
                <a:endCxn id="59" idx="0"/>
              </p:cNvCxnSpPr>
              <p:nvPr/>
            </p:nvCxnSpPr>
            <p:spPr>
              <a:xfrm>
                <a:off x="3374640" y="3082680"/>
                <a:ext cx="1080" cy="4258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9" idx="3"/>
                <a:endCxn id="51" idx="2"/>
              </p:cNvCxnSpPr>
              <p:nvPr/>
            </p:nvCxnSpPr>
            <p:spPr>
              <a:xfrm>
                <a:off x="4344840" y="3873240"/>
                <a:ext cx="891360" cy="1080"/>
              </a:xfrm>
              <a:prstGeom prst="straightConnector1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3" name=""/>
              <p:cNvCxnSpPr>
                <a:stCxn id="59" idx="1"/>
                <a:endCxn id="57" idx="2"/>
              </p:cNvCxnSpPr>
              <p:nvPr/>
            </p:nvCxnSpPr>
            <p:spPr>
              <a:xfrm rot="10800000">
                <a:off x="739080" y="2912400"/>
                <a:ext cx="1666080" cy="96120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  <p:cxnSp>
            <p:nvCxnSpPr>
              <p:cNvPr id="64" name=""/>
              <p:cNvCxnSpPr>
                <a:stCxn id="57" idx="0"/>
                <a:endCxn id="50" idx="2"/>
              </p:cNvCxnSpPr>
              <p:nvPr/>
            </p:nvCxnSpPr>
            <p:spPr>
              <a:xfrm flipH="1" flipV="1" rot="5400000">
                <a:off x="1233720" y="838440"/>
                <a:ext cx="1062720" cy="2051640"/>
              </a:xfrm>
              <a:prstGeom prst="bentConnector2">
                <a:avLst/>
              </a:prstGeom>
              <a:ln w="9360">
                <a:solidFill>
                  <a:srgbClr val="ff9966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5" name=""/>
          <p:cNvGrpSpPr/>
          <p:nvPr/>
        </p:nvGrpSpPr>
        <p:grpSpPr>
          <a:xfrm>
            <a:off x="3374280" y="697680"/>
            <a:ext cx="4750560" cy="2820240"/>
            <a:chOff x="3374280" y="697680"/>
            <a:chExt cx="4750560" cy="2820240"/>
          </a:xfrm>
        </p:grpSpPr>
        <p:sp>
          <p:nvSpPr>
            <p:cNvPr id="66" name=""/>
            <p:cNvSpPr/>
            <p:nvPr/>
          </p:nvSpPr>
          <p:spPr>
            <a:xfrm>
              <a:off x="4843440" y="1038240"/>
              <a:ext cx="1736640" cy="590400"/>
            </a:xfrm>
            <a:prstGeom prst="hexagon">
              <a:avLst>
                <a:gd name="adj" fmla="val 73537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re a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76880" y="1180800"/>
              <a:ext cx="104796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51" idx="0"/>
              <a:endCxn id="66" idx="2"/>
            </p:cNvCxnSpPr>
            <p:nvPr/>
          </p:nvCxnSpPr>
          <p:spPr>
            <a:xfrm flipV="1">
              <a:off x="5711400" y="1628280"/>
              <a:ext cx="1080" cy="18900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66" idx="3"/>
              <a:endCxn id="67" idx="1"/>
            </p:cNvCxnSpPr>
            <p:nvPr/>
          </p:nvCxnSpPr>
          <p:spPr>
            <a:xfrm>
              <a:off x="6580080" y="1333080"/>
              <a:ext cx="49752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6"/>
              <a:endCxn id="66" idx="1"/>
            </p:cNvCxnSpPr>
            <p:nvPr/>
          </p:nvCxnSpPr>
          <p:spPr>
            <a:xfrm>
              <a:off x="3959280" y="1333080"/>
              <a:ext cx="88488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7" idx="0"/>
              <a:endCxn id="50" idx="0"/>
            </p:cNvCxnSpPr>
            <p:nvPr/>
          </p:nvCxnSpPr>
          <p:spPr>
            <a:xfrm flipV="1" rot="16200000">
              <a:off x="5360400" y="-1059840"/>
              <a:ext cx="254520" cy="4226760"/>
            </a:xfrm>
            <a:prstGeom prst="bentConnector3">
              <a:avLst>
                <a:gd name="adj1" fmla="val 189943"/>
              </a:avLst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0" y="5175360"/>
            <a:ext cx="5003640" cy="1684800"/>
            <a:chOff x="0" y="5175360"/>
            <a:chExt cx="5003640" cy="1684800"/>
          </a:xfrm>
        </p:grpSpPr>
        <p:sp>
          <p:nvSpPr>
            <p:cNvPr id="73" name=""/>
            <p:cNvSpPr/>
            <p:nvPr/>
          </p:nvSpPr>
          <p:spPr>
            <a:xfrm>
              <a:off x="0" y="5175360"/>
              <a:ext cx="2882880" cy="12218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unchNewReque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ply := empty BroadcastReques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126120"/>
              <a:ext cx="5003640" cy="73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roadcastRequest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sert RequestFrom(self) into Request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067360" y="4108320"/>
            <a:ext cx="4076640" cy="1984680"/>
            <a:chOff x="5067360" y="4108320"/>
            <a:chExt cx="4076640" cy="1984680"/>
          </a:xfrm>
        </p:grpSpPr>
        <p:sp>
          <p:nvSpPr>
            <p:cNvPr id="76" name=""/>
            <p:cNvSpPr/>
            <p:nvPr/>
          </p:nvSpPr>
          <p:spPr>
            <a:xfrm>
              <a:off x="5067360" y="5419800"/>
              <a:ext cx="407664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d answe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From(n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ert ReplyFrom(self) into Reply(n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1120" y="4108320"/>
              <a:ext cx="2882880" cy="131328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Request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elete r from Requ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end answer for 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033-EFD0-4A3D-8960-724505DA1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ensus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Stability propert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consensus ASM, if the run terminates, then for every agent hol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l_state = agr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y = fu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= 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follows from the definition of LaunchNewRequest, Answ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en Reply=full at agent, then there is no RequestFrom(agent) in Request(n) for any n </a:t>
            </a:r>
            <a:r>
              <a:rPr b="0" lang="en-US" sz="32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 neighb(ag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2CF-7730-4822-9AF7-5C5328582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5 (in particular Fig. 35.1) and Section 80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Network Consensu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857-D0A4-4E11-9AD0-6F82E630A6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2:39Z</dcterms:modified>
  <cp:revision>745</cp:revision>
  <dc:subject>The ASM Method</dc:subject>
  <dc:title>The ASM Method</dc:title>
</cp:coreProperties>
</file>