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1A9-DF63-4E7A-A5C7-A6E3E525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01C-64E1-4B9E-BF62-444C0E3A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AE3-99E0-4595-967C-CB79382B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A40-6D2D-424C-BA48-3F56B375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149-4096-4ED8-B3D0-089B0BAB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83A-6D44-4EF8-B4EE-864ECAD4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F87-7B1F-4B69-908D-4D13CFA8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4FA-62C4-4867-A9BC-FACB1AEA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750-360A-4000-8B66-EDBF75A8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2AB-BB09-4F78-AEA3-727D3C55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B54-4162-4F47-A7EF-323CBB36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FBD-8267-4208-B9F9-E618FC2A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5F2E-DD5B-4602-A7DC-162D7786B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Exclusive Use of Shared Resources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(Dining Philosophers Problem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lusive use of shared resources: problem stat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tha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every interested agent to eventually use some shared resource in exclusive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vents two users to use the shared resource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g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t 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ts each equipped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ourc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sourc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(different agents may have the same resour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wner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source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Agen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cording the current user of a given re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algorithm has to manipulate updates of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own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n such a way that every attempt by an agent to become owner of his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resour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will eventually succ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A94-F899-4F9D-81C2-78B20B54BD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lusive use of shared resources: single agent view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711000"/>
            <a:ext cx="87249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he algorithm has to manipulate updates of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owner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in such a way that every attempt by an agent to become owner of his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resourc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ill eventually succ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very single agent would like to execute alternately the following two ru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3762360"/>
            <a:ext cx="4216680" cy="70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wner(resource) = 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owner(resource):= se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11680" y="3749760"/>
            <a:ext cx="4267080" cy="70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wner(resource) = se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owner(resource):= n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440" y="4800600"/>
            <a:ext cx="8775720" cy="1739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flicts in using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resour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shared among different agent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re risolved by defining a partial order among possibly conflicting moves in a distributed (appropriately initialized) run of an async ASM. Realizing such an order reflects appropriate scheduling and priority polic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DC2-CD29-4F2D-9988-69C5BFB8BE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ning Philosopher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llustrating exclusive use of shared resour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54080"/>
            <a:ext cx="8978760" cy="1190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hared resources represented as “forks” used by “philosophers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source assigning function F: depends on the neighbourhood in the underlying grap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.g. each agent may have one left and one right neighbour sharing the resource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k = (leftF,rightF) with elementwise defined Ow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05080" y="2577960"/>
            <a:ext cx="4057200" cy="2222280"/>
            <a:chOff x="2305080" y="2577960"/>
            <a:chExt cx="4057200" cy="2222280"/>
          </a:xfrm>
        </p:grpSpPr>
        <p:sp>
          <p:nvSpPr>
            <p:cNvPr id="54" name=""/>
            <p:cNvSpPr/>
            <p:nvPr/>
          </p:nvSpPr>
          <p:spPr>
            <a:xfrm>
              <a:off x="2305080" y="2590560"/>
              <a:ext cx="799920" cy="66060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lef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76760" y="2577960"/>
              <a:ext cx="785520" cy="66024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igh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77920" y="3885840"/>
              <a:ext cx="912600" cy="914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h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/>
            <p:nvPr/>
          </p:nvCxnSpPr>
          <p:spPr>
            <a:xfrm>
              <a:off x="2999880" y="3141000"/>
              <a:ext cx="1348200" cy="732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/>
            <p:nvPr/>
          </p:nvCxnSpPr>
          <p:spPr>
            <a:xfrm flipH="1">
              <a:off x="4347720" y="3128760"/>
              <a:ext cx="1355760" cy="7452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/>
            <p:nvPr/>
          </p:nvCxnSpPr>
          <p:spPr>
            <a:xfrm flipV="1">
              <a:off x="4803480" y="3199680"/>
              <a:ext cx="1180080" cy="110592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/>
            <p:nvPr/>
          </p:nvCxnSpPr>
          <p:spPr>
            <a:xfrm rot="10800000">
              <a:off x="2678760" y="3250440"/>
              <a:ext cx="1173600" cy="10926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254160" y="5313240"/>
            <a:ext cx="8686800" cy="959400"/>
            <a:chOff x="254160" y="5313240"/>
            <a:chExt cx="8686800" cy="959400"/>
          </a:xfrm>
        </p:grpSpPr>
        <p:sp>
          <p:nvSpPr>
            <p:cNvPr id="62" name=""/>
            <p:cNvSpPr/>
            <p:nvPr/>
          </p:nvSpPr>
          <p:spPr>
            <a:xfrm>
              <a:off x="254160" y="5313240"/>
              <a:ext cx="4368600" cy="948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owner(leftF) = owner(rightF) = 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n owner(leftF):= sel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ner(rightF):= self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88000" y="5324400"/>
              <a:ext cx="4152960" cy="948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f owner(leftF) = owner(rightF) = sel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n owner(leftF):= n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wner(rightF):= none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955-B5EF-45F1-BA83-E2F1E7BA7D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ining Philosoph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862-ADC7-4507-A82D-E68854740F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3:12Z</dcterms:modified>
  <cp:revision>716</cp:revision>
  <dc:subject/>
  <dc:title>ASM model for dining philosophers</dc:title>
</cp:coreProperties>
</file>