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CBFA-37FF-4BC9-8BB8-4D34594FA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BACE-3E67-4D4F-8159-3E6815ED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A090-4DBC-4A14-9593-70175402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782E-CB9C-4BEB-9E88-E0C54A35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01BE-F955-441C-9678-FF4186AF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F917-51D9-4EEE-9C7D-CB1D183F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1333-6521-434E-8EFC-92B0C51A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057C-B630-47F9-A958-EFADFED8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182D-E88E-476D-9F0B-3A603559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EF90-49FF-4646-B0C6-72D4AC9F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7044-0071-4918-B0D2-FF8C7AE9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1A92-C74A-4E6C-BE24-1C6545A9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41D5-F71D-4809-AE48-E36D00277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Arial"/>
              </a:rPr>
              <a:t>Asynchronous ASMs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Ring Load Balanc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ing Load Balance: problem stat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7840" y="711360"/>
            <a:ext cx="8712000" cy="58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Design a distributed algorithm  for reaching workload balance among the agents of a ring (using only communication between right/left neighb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ing message passing mechanism and effective task transfer abstract, assuming fixed number of agents and total worklo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orithmic Idea: every agent (ring nod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ely s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a workload inf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mss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his right neighb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a task transfer mss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his left neighbor, transfering a task t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lance the workload with the left neighb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dates his workload to balance it with his right neighbor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that eventually the difference between the workload of two nodes becom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oad Bal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B6C0-93C2-42BE-81FB-D771D91C9E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ing Load Balance ASM: Agent Signatu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gen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 a ring of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gents equipped with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ftNeighb, rightNeighb: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gent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(external functio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orkLoad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current work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ighbLoad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workload of leftNeigh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ransferLoad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load transfered by rightNeigh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tl_stat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{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informRightNeighb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heckWithLeftNeighb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heckWithRightNeighb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itially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tl_state = informRightNeigh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neighbLoad = transferLoad = unde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oad Bal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B3A7-5FBC-49F2-B257-2EC1E0EC0F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ing Load Balanc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ASM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942160"/>
            <a:ext cx="277488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nd(workLoad)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ghtNeighb.neighbLo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= workLo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028880" y="412920"/>
            <a:ext cx="6959520" cy="2609640"/>
            <a:chOff x="1028880" y="412920"/>
            <a:chExt cx="6959520" cy="2609640"/>
          </a:xfrm>
        </p:grpSpPr>
        <p:sp>
          <p:nvSpPr>
            <p:cNvPr id="51" name=""/>
            <p:cNvSpPr/>
            <p:nvPr/>
          </p:nvSpPr>
          <p:spPr>
            <a:xfrm>
              <a:off x="1511280" y="425520"/>
              <a:ext cx="1270080" cy="1079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infor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Righ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Neigh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660840" y="660240"/>
              <a:ext cx="1720800" cy="307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Send(workLoad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860640" y="1917720"/>
              <a:ext cx="1320840" cy="11048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heckWit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Righ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Neigh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86680" y="412920"/>
              <a:ext cx="1320480" cy="11048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heckWit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Lef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Neigh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667480" y="1790640"/>
              <a:ext cx="2320920" cy="307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BalanceWithLeftNeigh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28880" y="1803240"/>
              <a:ext cx="2320920" cy="307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BalanceWithRightNeigh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1" idx="6"/>
              <a:endCxn id="54" idx="2"/>
            </p:cNvCxnSpPr>
            <p:nvPr/>
          </p:nvCxnSpPr>
          <p:spPr>
            <a:xfrm>
              <a:off x="2781000" y="964800"/>
              <a:ext cx="3506040" cy="108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58" name=""/>
            <p:cNvCxnSpPr>
              <a:stCxn id="54" idx="3"/>
              <a:endCxn id="53" idx="7"/>
            </p:cNvCxnSpPr>
            <p:nvPr/>
          </p:nvCxnSpPr>
          <p:spPr>
            <a:xfrm flipH="1">
              <a:off x="4987080" y="1355400"/>
              <a:ext cx="1492920" cy="72468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3" idx="1"/>
              <a:endCxn id="51" idx="5"/>
            </p:cNvCxnSpPr>
            <p:nvPr/>
          </p:nvCxnSpPr>
          <p:spPr>
            <a:xfrm flipH="1" flipV="1">
              <a:off x="2595240" y="1345680"/>
              <a:ext cx="1459440" cy="73440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</p:grpSp>
      <p:grpSp>
        <p:nvGrpSpPr>
          <p:cNvPr id="60" name=""/>
          <p:cNvGrpSpPr/>
          <p:nvPr/>
        </p:nvGrpSpPr>
        <p:grpSpPr>
          <a:xfrm>
            <a:off x="0" y="3235320"/>
            <a:ext cx="9144000" cy="992880"/>
            <a:chOff x="0" y="3235320"/>
            <a:chExt cx="9144000" cy="992880"/>
          </a:xfrm>
        </p:grpSpPr>
        <p:sp>
          <p:nvSpPr>
            <p:cNvPr id="61" name=""/>
            <p:cNvSpPr/>
            <p:nvPr/>
          </p:nvSpPr>
          <p:spPr>
            <a:xfrm>
              <a:off x="5676840" y="3235320"/>
              <a:ext cx="346716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BalanceWithLeftNeighb 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f arrived(neighbLoad) the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fer task to leftNeigh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311280"/>
              <a:ext cx="346716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BalanceWithRightNeighb 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f arrived(transferLoad) the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ept task from rightNeigh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0" y="4286160"/>
            <a:ext cx="9144000" cy="1511640"/>
            <a:chOff x="0" y="4286160"/>
            <a:chExt cx="9144000" cy="1511640"/>
          </a:xfrm>
        </p:grpSpPr>
        <p:sp>
          <p:nvSpPr>
            <p:cNvPr id="64" name=""/>
            <p:cNvSpPr/>
            <p:nvPr/>
          </p:nvSpPr>
          <p:spPr>
            <a:xfrm>
              <a:off x="4660920" y="4286160"/>
              <a:ext cx="4483080" cy="146556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fer task to leftNeighb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let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transfer = workLoad &gt; neighbLoad 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i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leftNeighb.transferLoad:= transf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workLoad:= workLoad 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transf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neighbLoad:= unde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7080" y="5216400"/>
              <a:ext cx="2286000" cy="5814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rived(l)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n-US" sz="3200" spc="-1" strike="noStrike" baseline="1000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unde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286160"/>
              <a:ext cx="4483080" cy="91692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ept task from rightNeighb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workLoad:= workLoad + transferLo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transferLoad:= unde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oad Bal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CC37-8266-4C86-BF92-73446270A0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ing Load Balance ASM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: Correctness proper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ition: In every distributed run of agents equipped with the ring load balance ASM, eventually the  workload difference between two neighboring nodes become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roof (assuming that every enabled agent will eventually make a move): induction on the wieght of run workload differences. Let w = total workLoad of all nodes, a= |Agent|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ase 1: t|a. Then eventually workLoad(n)=w/a for every node 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ase 2: otherwise. Then eventually the workLoad of some neighboring nodes will differ by 1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oad Bal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713B-7F30-49E0-A5EE-2747C3093D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Reisig: Elements of Distributed Algorith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Section 37 (in particular Fig. 37.1) and Section 82 for a correctness proo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6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oad Bal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228D-07D4-4A0F-99BA-480EA6A2D7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4:27Z</dcterms:modified>
  <cp:revision>750</cp:revision>
  <dc:subject>The ASM Method</dc:subject>
  <dc:title>The ASM Method</dc:title>
</cp:coreProperties>
</file>