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7AC7-8B47-459D-A3F6-6E90199A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B380-7E36-4205-9910-3D557D25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513C-6D05-4611-B3C8-9881F64F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30E6-6C09-4271-80B8-A1601E91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5733-36A8-4545-BEEE-3E81ACD8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0A35-4132-47DE-B147-E1BEC080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DE8F-78E3-4E96-843E-72F81A59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DC31-14E3-415D-8A79-3B3B9853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8164-A4CB-4875-A9A9-29249C02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E4D6-DE39-4C08-9CF1-CB8DECA4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D3C5-C570-4966-B03A-5233D008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FC95-8A61-48AA-BDF6-CA8AF5D7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5895-6513-44ED-BC29-73C16CE7D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Master/Slave Agre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aster/Slave Agreemen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problem stat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000"/>
            <a:ext cx="896616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sign a distributed algorithm for a master launching orders to slave agents, to be confirmed by them and to be executed iff all of them confirm to the master the acceptance of the or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ic Ide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ster enquires about a job to be launched and then waits for answers from the sla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laves answer the enquiry and then wait for the order or the cancellation of the launched job from the ma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ster orders or cancels the job depending on whether all slaves answered to accept it or 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ally the master becomes idle, with all slaves either idle too or executing the accepted jo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aster/Slave Agre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40BD-A635-4192-A2F9-5F8DD268A1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Master/Slave Agreeme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: Agent Signa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748800"/>
            <a:ext cx="896616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s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istinguished ag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der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rder   external function yielding jobs to be sent to the sla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tl_state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dle, waitingForAnswe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la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set of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s equipped w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ked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{true,false}   recording whether a job request has been launched by the master to the sl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nsw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{accept,refuse,undef} recording whether a job request has been acceped by the slav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tl_stat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dle, waitingForOrder, busy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itially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tl_state = idle, order = answer =undef, asked = fa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B. Abstraction from message passing: functions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asked, answer, or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hared in writing resp.reading among slaves and mast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aster/Slave Agre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30D8-6736-49D8-920E-6C814FF294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070000"/>
            <a:ext cx="47498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quire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al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  s.asked :=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aster/Slave Agreement AS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1879560"/>
            <a:ext cx="4343400" cy="1465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OrCancel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 ans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or som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  s.answer = refu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order:=canc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order:=jo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89040"/>
            <a:ext cx="4762440" cy="6732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s Arrived 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fora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answe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accept, refuse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11360" y="577800"/>
            <a:ext cx="7931160" cy="1159200"/>
            <a:chOff x="711360" y="577800"/>
            <a:chExt cx="7931160" cy="1159200"/>
          </a:xfrm>
        </p:grpSpPr>
        <p:grpSp>
          <p:nvGrpSpPr>
            <p:cNvPr id="53" name=""/>
            <p:cNvGrpSpPr/>
            <p:nvPr/>
          </p:nvGrpSpPr>
          <p:grpSpPr>
            <a:xfrm>
              <a:off x="711360" y="577800"/>
              <a:ext cx="7702200" cy="930240"/>
              <a:chOff x="711360" y="577800"/>
              <a:chExt cx="7702200" cy="930240"/>
            </a:xfrm>
          </p:grpSpPr>
          <p:sp>
            <p:nvSpPr>
              <p:cNvPr id="54" name=""/>
              <p:cNvSpPr/>
              <p:nvPr/>
            </p:nvSpPr>
            <p:spPr>
              <a:xfrm>
                <a:off x="711360" y="581040"/>
                <a:ext cx="1028520" cy="927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idl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670200" y="577800"/>
                <a:ext cx="1028880" cy="927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waiting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F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Answ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135400" y="752400"/>
                <a:ext cx="1812960" cy="577800"/>
              </a:xfrm>
              <a:prstGeom prst="hexagon">
                <a:avLst>
                  <a:gd name="adj" fmla="val 78442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nswer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rriv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80440" y="782640"/>
                <a:ext cx="933120" cy="5202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OrderOrCance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146320" y="782640"/>
                <a:ext cx="1098360" cy="3070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Enquir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59" name=""/>
              <p:cNvCxnSpPr>
                <a:stCxn id="54" idx="6"/>
                <a:endCxn id="58" idx="1"/>
              </p:cNvCxnSpPr>
              <p:nvPr/>
            </p:nvCxnSpPr>
            <p:spPr>
              <a:xfrm flipV="1">
                <a:off x="1739520" y="1040760"/>
                <a:ext cx="407160" cy="396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60" name=""/>
              <p:cNvCxnSpPr>
                <a:stCxn id="58" idx="3"/>
                <a:endCxn id="55" idx="2"/>
              </p:cNvCxnSpPr>
              <p:nvPr/>
            </p:nvCxnSpPr>
            <p:spPr>
              <a:xfrm>
                <a:off x="3244680" y="1041120"/>
                <a:ext cx="42624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61" name=""/>
              <p:cNvCxnSpPr>
                <a:stCxn id="55" idx="6"/>
                <a:endCxn id="56" idx="1"/>
              </p:cNvCxnSpPr>
              <p:nvPr/>
            </p:nvCxnSpPr>
            <p:spPr>
              <a:xfrm>
                <a:off x="4699080" y="1041120"/>
                <a:ext cx="43704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62" name=""/>
              <p:cNvCxnSpPr>
                <a:stCxn id="56" idx="3"/>
                <a:endCxn id="57" idx="1"/>
              </p:cNvCxnSpPr>
              <p:nvPr/>
            </p:nvCxnSpPr>
            <p:spPr>
              <a:xfrm>
                <a:off x="6948360" y="1041120"/>
                <a:ext cx="53280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</p:grpSp>
        <p:cxnSp>
          <p:nvCxnSpPr>
            <p:cNvPr id="63" name=""/>
            <p:cNvCxnSpPr>
              <a:stCxn id="57" idx="3"/>
              <a:endCxn id="54" idx="4"/>
            </p:cNvCxnSpPr>
            <p:nvPr/>
          </p:nvCxnSpPr>
          <p:spPr>
            <a:xfrm flipH="1">
              <a:off x="1225080" y="1041480"/>
              <a:ext cx="7189200" cy="467280"/>
            </a:xfrm>
            <a:prstGeom prst="bentConnector4">
              <a:avLst>
                <a:gd name="adj1" fmla="val -3179"/>
                <a:gd name="adj2" fmla="val 148959"/>
              </a:avLst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64" name=""/>
          <p:cNvSpPr/>
          <p:nvPr/>
        </p:nvSpPr>
        <p:spPr>
          <a:xfrm>
            <a:off x="216000" y="5667480"/>
            <a:ext cx="321300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sked then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accept, refuse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=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ed:=fa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68680" y="5931000"/>
            <a:ext cx="4749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Arrived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rde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 job, cancel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3994200"/>
            <a:ext cx="9144000" cy="1778040"/>
            <a:chOff x="0" y="3994200"/>
            <a:chExt cx="9144000" cy="1778040"/>
          </a:xfrm>
        </p:grpSpPr>
        <p:grpSp>
          <p:nvGrpSpPr>
            <p:cNvPr id="67" name=""/>
            <p:cNvGrpSpPr/>
            <p:nvPr/>
          </p:nvGrpSpPr>
          <p:grpSpPr>
            <a:xfrm>
              <a:off x="0" y="3994200"/>
              <a:ext cx="9144000" cy="1151640"/>
              <a:chOff x="0" y="3994200"/>
              <a:chExt cx="9144000" cy="1151640"/>
            </a:xfrm>
          </p:grpSpPr>
          <p:sp>
            <p:nvSpPr>
              <p:cNvPr id="68" name=""/>
              <p:cNvSpPr/>
              <p:nvPr/>
            </p:nvSpPr>
            <p:spPr>
              <a:xfrm>
                <a:off x="0" y="3994200"/>
                <a:ext cx="1028880" cy="927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idl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870280" y="3994200"/>
                <a:ext cx="1028520" cy="927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waiting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F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422360" y="4305240"/>
                <a:ext cx="1098720" cy="3070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Answ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80280" y="4200480"/>
                <a:ext cx="1368360" cy="514440"/>
              </a:xfrm>
              <a:prstGeom prst="hexagon">
                <a:avLst>
                  <a:gd name="adj" fmla="val 66498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= jo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165560" y="4168800"/>
                <a:ext cx="1812960" cy="577800"/>
              </a:xfrm>
              <a:prstGeom prst="hexagon">
                <a:avLst>
                  <a:gd name="adj" fmla="val 78442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rriv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483760" y="4146480"/>
                <a:ext cx="660240" cy="6224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busy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4" name=""/>
              <p:cNvCxnSpPr>
                <a:stCxn id="68" idx="6"/>
                <a:endCxn id="70" idx="1"/>
              </p:cNvCxnSpPr>
              <p:nvPr/>
            </p:nvCxnSpPr>
            <p:spPr>
              <a:xfrm>
                <a:off x="1028520" y="4457520"/>
                <a:ext cx="39420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75" name=""/>
              <p:cNvCxnSpPr>
                <a:stCxn id="70" idx="3"/>
                <a:endCxn id="69" idx="2"/>
              </p:cNvCxnSpPr>
              <p:nvPr/>
            </p:nvCxnSpPr>
            <p:spPr>
              <a:xfrm>
                <a:off x="2521080" y="4457520"/>
                <a:ext cx="34992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76" name=""/>
              <p:cNvCxnSpPr>
                <a:stCxn id="69" idx="6"/>
                <a:endCxn id="72" idx="1"/>
              </p:cNvCxnSpPr>
              <p:nvPr/>
            </p:nvCxnSpPr>
            <p:spPr>
              <a:xfrm>
                <a:off x="3898440" y="4457520"/>
                <a:ext cx="26712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77" name=""/>
              <p:cNvCxnSpPr>
                <a:stCxn id="72" idx="3"/>
                <a:endCxn id="71" idx="1"/>
              </p:cNvCxnSpPr>
              <p:nvPr/>
            </p:nvCxnSpPr>
            <p:spPr>
              <a:xfrm>
                <a:off x="5978520" y="4457520"/>
                <a:ext cx="40248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78" name=""/>
              <p:cNvCxnSpPr>
                <a:stCxn id="71" idx="3"/>
                <a:endCxn id="73" idx="2"/>
              </p:cNvCxnSpPr>
              <p:nvPr/>
            </p:nvCxnSpPr>
            <p:spPr>
              <a:xfrm>
                <a:off x="7748640" y="4457520"/>
                <a:ext cx="73584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sp>
            <p:nvSpPr>
              <p:cNvPr id="79" name=""/>
              <p:cNvSpPr/>
              <p:nvPr/>
            </p:nvSpPr>
            <p:spPr>
              <a:xfrm>
                <a:off x="7083360" y="4838760"/>
                <a:ext cx="444600" cy="30708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no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845480" y="4470480"/>
                <a:ext cx="48240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yes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8483760" y="5149800"/>
              <a:ext cx="660240" cy="6224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do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1" idx="2"/>
              <a:endCxn id="81" idx="2"/>
            </p:cNvCxnSpPr>
            <p:nvPr/>
          </p:nvCxnSpPr>
          <p:spPr>
            <a:xfrm flipH="1" rot="16200000">
              <a:off x="7400160" y="4377960"/>
              <a:ext cx="746640" cy="142020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aster/Slave Agreem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BC23-73B3-4848-BA6E-572171E86B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Master/Slave Agreemen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orrectnes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ition: In every run of a set of master and slaves, all equipped with the corresponding  master/slave ASM, after the master has started an Enquiry, eventually the master becomes idle 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ther all slaves become done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slaves become busy executing the job ordered by the ma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of. Follows by run indu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aster/Slave Agre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506D-5F24-40A3-BEE9-1BAD853174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the definition of a Petri net in Section 30 (Fig.30.1) and a detailed correctness proof in Section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aster/Slave Agre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A999-76BF-4BBF-AD95-7847FF430D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4:37Z</dcterms:modified>
  <cp:revision>769</cp:revision>
  <dc:subject>The ASM Method</dc:subject>
  <dc:title>The ASM Method</dc:title>
</cp:coreProperties>
</file>