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9CD-4516-4191-940D-45560D2D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6720-9187-4341-A74A-7A9649EE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C5D-9397-4E82-BDE8-A0204CF7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22B-F27C-4544-B03E-ECD52E46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AA0-4DD1-4F5A-8034-47923169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0DE-1C03-4A1B-8B51-C7B03F3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F3C-D53D-4A52-82ED-FD8D25B9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B57-ECEF-4AD5-A159-0DDE38B4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8B0-C622-4923-AADB-92970C2F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81C-F4C8-4394-BCF7-2FA84A00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93D-FC23-40EC-A356-5E33817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3E4-9C68-44B3-BA27-99CC66E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DE43-FC82-4BEC-8A04-4195BDA35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(non-exclusive and exclusive resource sharin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lowing at each step one agent to start a read or a write operation in a given file, up to  max-read&gt;0 simultaneous reads but only 1 write (not overlapping with any read)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elow we define agent rules for read/write access to files which in a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run of an async ASM (of agents all of which are equipped with those rules) reach the requested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In the example we do not define the partial order for such distributed r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6C15-4123-4044-9FED-5B4C482D8A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agents which are allowed to access files for read/write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ed:Fil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Bool indicating whether an agent has finished his current fil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fi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quipp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at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the number of agents which are currently reading or writing the fi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-read,max-wri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al number of agents allowed to simultaneously use the file for reading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405-CE2D-449F-B4EA-D710BC24A5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Multiple Reads One Write: agent rules for act=read/wr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888840"/>
            <a:ext cx="9144000" cy="1904760"/>
            <a:chOff x="0" y="888840"/>
            <a:chExt cx="9144000" cy="1904760"/>
          </a:xfrm>
        </p:grpSpPr>
        <p:sp>
          <p:nvSpPr>
            <p:cNvPr id="50" name=""/>
            <p:cNvSpPr/>
            <p:nvPr/>
          </p:nvSpPr>
          <p:spPr>
            <a:xfrm>
              <a:off x="228600" y="88884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972720"/>
              <a:ext cx="2057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in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938160"/>
              <a:ext cx="4114800" cy="585000"/>
            </a:xfrm>
            <a:prstGeom prst="hexagon">
              <a:avLst>
                <a:gd name="adj" fmla="val 175846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-accessible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8200" y="210780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92040"/>
              <a:ext cx="1371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de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157480"/>
              <a:ext cx="2895480" cy="585000"/>
            </a:xfrm>
            <a:prstGeom prst="hexagon">
              <a:avLst>
                <a:gd name="adj" fmla="val 123738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ished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2" idx="3"/>
              <a:endCxn id="51" idx="1"/>
            </p:cNvCxnSpPr>
            <p:nvPr/>
          </p:nvCxnSpPr>
          <p:spPr>
            <a:xfrm>
              <a:off x="5714640" y="123120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0" idx="6"/>
              <a:endCxn id="52" idx="1"/>
            </p:cNvCxnSpPr>
            <p:nvPr/>
          </p:nvCxnSpPr>
          <p:spPr>
            <a:xfrm>
              <a:off x="914040" y="123120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1" idx="3"/>
              <a:endCxn id="53" idx="0"/>
            </p:cNvCxnSpPr>
            <p:nvPr/>
          </p:nvCxnSpPr>
          <p:spPr>
            <a:xfrm>
              <a:off x="8534160" y="1231560"/>
              <a:ext cx="267120" cy="8769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2"/>
              <a:endCxn id="55" idx="3"/>
            </p:cNvCxnSpPr>
            <p:nvPr/>
          </p:nvCxnSpPr>
          <p:spPr>
            <a:xfrm flipH="1">
              <a:off x="7695360" y="245052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0" y="123156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86000" y="24508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5" idx="1"/>
              <a:endCxn id="54" idx="3"/>
            </p:cNvCxnSpPr>
            <p:nvPr/>
          </p:nvCxnSpPr>
          <p:spPr>
            <a:xfrm flipH="1">
              <a:off x="4114080" y="245052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" name=""/>
          <p:cNvSpPr/>
          <p:nvPr/>
        </p:nvSpPr>
        <p:spPr>
          <a:xfrm>
            <a:off x="0" y="4876920"/>
            <a:ext cx="9144000" cy="1282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 instead of 1 one wants to allow multiple simultaneous file access attempt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x-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ecomes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unter to have the expected overall eff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acce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ile) bec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er (file) + newUs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x-act (f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here newUsers indicates the number of users attempting to access the file for re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632040"/>
            <a:ext cx="9144000" cy="733320"/>
            <a:chOff x="0" y="363204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670200"/>
              <a:ext cx="306072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ct-accessible(file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ser (file) &lt; max-act (fil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0080" y="3632040"/>
              <a:ext cx="27306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write(file) =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3632040"/>
              <a:ext cx="27432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read (file) =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C0F-E1E9-41FD-9955-C084E5B634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840" y="558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. Modeling and Analysis with Petri N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 1998, Ch.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60A-6CC1-4446-90BF-A36C736D11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53Z</dcterms:modified>
  <cp:revision>715</cp:revision>
  <dc:subject/>
  <dc:title>ASM allowing multiple reads but only one write</dc:title>
</cp:coreProperties>
</file>