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F080-8AE6-481F-982D-946E931AE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6F39-479D-46B6-94A8-89AEC825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3154-5979-4DC6-AF0E-15445DE07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3FF8-8CF4-4793-A217-5A6DD7A3B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89F4-B2E5-4E02-ABAA-E8CE7E87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0378-E02F-48BA-BB04-434286C9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B939-1053-4C16-A857-53C28E4E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F229-C56E-4ACB-9AE5-E71BA9FE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74B8-2891-40C4-8B1E-6F1CF686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A9D6-1C59-4FC6-BE0C-9B6C8ED5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5174-4DA8-4B04-B8DF-5F37B901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D393-5999-417A-839D-D86846CF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1786-60AE-4E7B-BE76-D4275565A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00"/>
                </a:solidFill>
                <a:latin typeface="Arial"/>
              </a:rPr>
              <a:t>Asynchronous ASMs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Phase Synchronization </a:t>
            </a: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on Undirected Tre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Phase Synchronization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: problem stat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7840" y="711360"/>
            <a:ext cx="8712000" cy="58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: Design a distributed algorithm  that guarantees synchronized execution of phases of computations, occurring at nodes of an undirected tree (connected acyclic network), using only communication between tree neighb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orithmic Idea: every agent (tree node) before becoming busy in a new phase ha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chronize with its neighbor nodes, moving the synchronization up along the tree 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it until all agents are waiting for the phase increase to st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ts phase - when the phase shift becomes movable down - and move the phase shift further down along the tree 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til all nodes have become busy in the new ph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42E2-23C3-41A3-B351-77026F2B64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Phase Synchronizatio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SM: Agent Signat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gent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undirected tree of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nts equipped with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ighb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gent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(external func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as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current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ynchPartner, waitPartner: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gent                     yields the neighbor node an agent is synchronized with (in moving the synchronization up or down the tree) resp. waiting for (to reverse the previous upward synchronization downward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tl_stat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{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usy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waiting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nitially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tl_state = busy,  phase = 0, synchPartner = waitPartner = unde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DD08-5BF6-4FD3-9F43-A25F53CE6C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343080" y="216000"/>
            <a:ext cx="8394480" cy="1571040"/>
            <a:chOff x="343080" y="216000"/>
            <a:chExt cx="8394480" cy="1571040"/>
          </a:xfrm>
        </p:grpSpPr>
        <p:sp>
          <p:nvSpPr>
            <p:cNvPr id="49" name=""/>
            <p:cNvSpPr/>
            <p:nvPr/>
          </p:nvSpPr>
          <p:spPr>
            <a:xfrm>
              <a:off x="343080" y="631440"/>
              <a:ext cx="914400" cy="723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bus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861320" y="625320"/>
              <a:ext cx="876240" cy="7362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wait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97200" y="216000"/>
              <a:ext cx="2168640" cy="615600"/>
            </a:xfrm>
            <a:prstGeom prst="hexagon">
              <a:avLst>
                <a:gd name="adj" fmla="val 88070"/>
                <a:gd name="vf" fmla="val 115470"/>
              </a:avLst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ynchronization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vableU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42160" y="371160"/>
              <a:ext cx="2266920" cy="3070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MoveSynchronizationU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3" name=""/>
            <p:cNvCxnSpPr>
              <a:stCxn id="51" idx="3"/>
              <a:endCxn id="52" idx="1"/>
            </p:cNvCxnSpPr>
            <p:nvPr/>
          </p:nvCxnSpPr>
          <p:spPr>
            <a:xfrm>
              <a:off x="4065840" y="523440"/>
              <a:ext cx="977040" cy="108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49" idx="0"/>
              <a:endCxn id="51" idx="1"/>
            </p:cNvCxnSpPr>
            <p:nvPr/>
          </p:nvCxnSpPr>
          <p:spPr>
            <a:xfrm flipH="1" flipV="1" rot="5400000">
              <a:off x="1294560" y="28440"/>
              <a:ext cx="108000" cy="1097640"/>
            </a:xfrm>
            <a:prstGeom prst="bentConnector2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5" name=""/>
            <p:cNvCxnSpPr>
              <a:stCxn id="52" idx="3"/>
              <a:endCxn id="50" idx="0"/>
            </p:cNvCxnSpPr>
            <p:nvPr/>
          </p:nvCxnSpPr>
          <p:spPr>
            <a:xfrm>
              <a:off x="7308720" y="523440"/>
              <a:ext cx="991080" cy="101880"/>
            </a:xfrm>
            <a:prstGeom prst="bentConnector2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56" name=""/>
            <p:cNvSpPr/>
            <p:nvPr/>
          </p:nvSpPr>
          <p:spPr>
            <a:xfrm>
              <a:off x="5224680" y="1171440"/>
              <a:ext cx="2168280" cy="615600"/>
            </a:xfrm>
            <a:prstGeom prst="hexagon">
              <a:avLst>
                <a:gd name="adj" fmla="val 88056"/>
                <a:gd name="vf" fmla="val 115470"/>
              </a:avLst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aseShift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vableDow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94040" y="1323720"/>
              <a:ext cx="2050920" cy="3070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MovePhaseShiftDow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8" name=""/>
            <p:cNvCxnSpPr>
              <a:stCxn id="50" idx="4"/>
              <a:endCxn id="56" idx="3"/>
            </p:cNvCxnSpPr>
            <p:nvPr/>
          </p:nvCxnSpPr>
          <p:spPr>
            <a:xfrm rot="5400000">
              <a:off x="7787160" y="966960"/>
              <a:ext cx="117720" cy="907200"/>
            </a:xfrm>
            <a:prstGeom prst="bentConnector2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1"/>
              <a:endCxn id="57" idx="3"/>
            </p:cNvCxnSpPr>
            <p:nvPr/>
          </p:nvCxnSpPr>
          <p:spPr>
            <a:xfrm flipH="1" flipV="1">
              <a:off x="4044240" y="1475640"/>
              <a:ext cx="1180440" cy="360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57" idx="1"/>
              <a:endCxn id="49" idx="4"/>
            </p:cNvCxnSpPr>
            <p:nvPr/>
          </p:nvCxnSpPr>
          <p:spPr>
            <a:xfrm rot="10800000">
              <a:off x="799560" y="1354680"/>
              <a:ext cx="1194480" cy="120960"/>
            </a:xfrm>
            <a:prstGeom prst="bentConnector2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</p:grpSp>
      <p:grpSp>
        <p:nvGrpSpPr>
          <p:cNvPr id="61" name=""/>
          <p:cNvGrpSpPr/>
          <p:nvPr/>
        </p:nvGrpSpPr>
        <p:grpSpPr>
          <a:xfrm>
            <a:off x="0" y="1955880"/>
            <a:ext cx="9144000" cy="1452960"/>
            <a:chOff x="0" y="1955880"/>
            <a:chExt cx="9144000" cy="1452960"/>
          </a:xfrm>
        </p:grpSpPr>
        <p:sp>
          <p:nvSpPr>
            <p:cNvPr id="62" name=""/>
            <p:cNvSpPr/>
            <p:nvPr/>
          </p:nvSpPr>
          <p:spPr>
            <a:xfrm>
              <a:off x="0" y="1955880"/>
              <a:ext cx="91440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nchronizationMovableUp  </a:t>
              </a: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ighb    SynchronizationMovableUpTo(y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for some neighb y all other neighbors synchronize with self in phase(self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2705040"/>
              <a:ext cx="91440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veSynchronizationUp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choose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ighb with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ynchronizationMovableUpTo(y) </a:t>
              </a: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synchronize self with y in phase(self)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veSynchronizationUpTo(y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0" y="3449520"/>
            <a:ext cx="9144000" cy="3106080"/>
            <a:chOff x="0" y="3449520"/>
            <a:chExt cx="9144000" cy="3106080"/>
          </a:xfrm>
        </p:grpSpPr>
        <p:sp>
          <p:nvSpPr>
            <p:cNvPr id="65" name=""/>
            <p:cNvSpPr/>
            <p:nvPr/>
          </p:nvSpPr>
          <p:spPr>
            <a:xfrm>
              <a:off x="6286680" y="3449520"/>
              <a:ext cx="2857320" cy="8859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haseShiftMovableDown 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waitPartner synchronizes with self in phase(self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5546880"/>
              <a:ext cx="9144000" cy="100872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vePhaseShiftDown            </a:t>
              </a: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hase : = phase +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ighb-{waitPartner}      self.synchPartner(phase(self)) : = z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aitPartner.synchPartner (phase(self)):= unde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0" y="6491160"/>
            <a:ext cx="3581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SM for Phase Synchroniz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3479760"/>
            <a:ext cx="9144000" cy="2008800"/>
            <a:chOff x="0" y="3479760"/>
            <a:chExt cx="9144000" cy="2008800"/>
          </a:xfrm>
        </p:grpSpPr>
        <p:sp>
          <p:nvSpPr>
            <p:cNvPr id="69" name=""/>
            <p:cNvSpPr/>
            <p:nvPr/>
          </p:nvSpPr>
          <p:spPr>
            <a:xfrm>
              <a:off x="0" y="4365720"/>
              <a:ext cx="6184800" cy="76464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veSynchronizationUpTo(y)  </a:t>
              </a: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eighb-{y}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z.synchPartner(phase(self)) := unde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0" y="3479760"/>
              <a:ext cx="9144000" cy="2008800"/>
              <a:chOff x="0" y="3479760"/>
              <a:chExt cx="9144000" cy="2008800"/>
            </a:xfrm>
          </p:grpSpPr>
          <p:sp>
            <p:nvSpPr>
              <p:cNvPr id="71" name=""/>
              <p:cNvSpPr/>
              <p:nvPr/>
            </p:nvSpPr>
            <p:spPr>
              <a:xfrm>
                <a:off x="0" y="3479760"/>
                <a:ext cx="6184800" cy="1191240"/>
              </a:xfrm>
              <a:prstGeom prst="rect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ynchronizationMovableUpTo(y)  </a:t>
                </a:r>
                <a:r>
                  <a:rPr b="0" lang="it-I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it-IT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</a:t>
                </a: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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neighb-{y}    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z.synchPartner(phase(self)) = self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5089680"/>
                <a:ext cx="9144000" cy="398880"/>
              </a:xfrm>
              <a:prstGeom prst="rect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elf.synchPartner(phase(self)) := y,     self.waitPartner(phase(self)) := y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BEC1-1188-4ADF-8203-22C0FDC5A9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Phase Synchronization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M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: Correctness &amp; Livenes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ition: In every infinite distributed run of agents equipped with the ASM  for phase synchroniz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ny state any two busy agents are in the same phase (correctness proper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every enabled agent will eventually make a move, then each agent will eventually  reach each phase (liveness proper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3DC0-0BFE-441A-B691-03F88AA797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ase Synch: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aseShiftMovableDown Lemm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mma: For every phase p, whenever in a run a state is reached where for the first tim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waitPartner(p)=v synchronizes with u in phase p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element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tree(u,v)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subtree(v,u)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{u,v}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waiting in phase 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subtree(x,y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{n| n reachable by a path fro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x without touching y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62AE-E990-4F92-8607-D4FC409BBA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Proof of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aseShiftMovableDown Lemm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of of the lemma follows from the following two claim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im 1. When Synchronization is moved up in phase(u)=p from busy u to to v=u.synchPartner(p), the elements of subtree(u,v) are waiting, u becomes waiting, and they all remain so until the next application of a Shift rule “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ovePhaseShiftDown”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laim 1 follows by induction on the applications of the Synchronization ru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=1: true at the leav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+1: follows by induction hypothesis and Synchronization rule from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tree(u,v)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i&lt;n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subtree(u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u)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{u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...,u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n-1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} for neighb(u}= {u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...,u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}  with v= u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n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(by connectednes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05D7-D7F9-4805-BDFC-64E690B52A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Proof of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aseShiftMovableDown Lemm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im 2. For every infinite run and every phase p, a state is reached in which all agents are waiting in phase p and for some agent u its waitPartner in phase p synchronizes with u in phase p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ollows by induction on 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7975-DB03-4B06-8C45-0932549CF6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Reisig: Elements of Distributed Algorith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Section 36 (in particular Fig. 36.1) and a correctness and liveness proof in Section 8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6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FD6E-8CF2-446E-AA6A-1B0EFF6C59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5:03Z</dcterms:modified>
  <cp:revision>760</cp:revision>
  <dc:subject>The ASM Method</dc:subject>
  <dc:title>The ASM Method</dc:title>
</cp:coreProperties>
</file>