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7840-D4A6-409F-B43F-23750CD09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E25A-49FE-4CCC-B874-1588F35B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3740-7C67-4705-BE4B-26EF5F450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3553-64EB-40C9-9E76-BC39E819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B391-B0B1-4D8D-B10F-AEBB2FC8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72CF-8351-4D88-A83E-F8FD72D0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3AE2-E248-4F8F-AC81-18AC107A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0FCB-3087-42DE-ABFA-231B2568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825A-4637-4BF7-8746-9CB914CB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8B7F-73CC-443A-B40F-E7BB5252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DBE6-ACE9-4E05-A897-78B35055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3BE7-D635-47D6-A887-F429BD26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B938-4AB4-4F4D-B9B2-E55B5CB65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on-deterministic Sorting AS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0265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deterministic sorting by iterating local swa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oose i,j in dom(a) s.t.i &lt; j &amp; a(i) &gt; a(j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(i) := a(j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(j) := a(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Sorting and Samp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34BE-A4DC-4DF8-BCDF-B0F147361A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Arial"/>
              </a:rPr>
              <a:t>Sampling 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increasing real-time moments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or firing a rule in a discrete time sequence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362320"/>
            <a:ext cx="85503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89089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Goal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ximate a continuous set of rules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rule(t,t’) with t&lt;t’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which are to be fired in a discrete time sequence,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y a finite number of samples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 with increasing sequence of real interval boundar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cab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hoose t &gt; currtime i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ule(currtime,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amples := add(t,samples)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currtime := 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re currtime is a monitored function which is supposed to evolve continuous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cab8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Sorting and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4A6F-6D75-4AB5-9220-6FB2789337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2-04-08T20:51:46Z</dcterms:modified>
  <cp:revision>708</cp:revision>
  <dc:subject/>
  <dc:title>Illustrating ASM choose-construct</dc:title>
</cp:coreProperties>
</file>