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4B2-64C9-4359-A103-CC40F95D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10C-E8EC-40DD-90A1-BF08FD25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77C-912B-455A-A4C3-BC10D8AC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163-D578-46DA-96B6-E1D3CEA2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873-0D1E-49BF-8F1A-33C8BADB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F10-C2D9-4C44-92A3-29783D50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DC6-AD76-4FE6-89AB-6CCF5C8A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8BB-7533-45A9-B8BC-3417E292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3FE-14B3-4DEB-97B9-9A2252A8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3D8-7D5B-47FB-AD90-D25762D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FBE-6302-4D7A-A0E0-46CB32D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25C-E51F-46B3-AF43-E5953AE5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65AA-7A53-44F8-BA2A-1D06C0ABD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trol structure of the execution semantics of Pipe statements in SpecC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pe(Init,cond,Incr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,…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7840" y="1987560"/>
            <a:ext cx="7435800" cy="4400640"/>
            <a:chOff x="177840" y="1987560"/>
            <a:chExt cx="7435800" cy="4400640"/>
          </a:xfrm>
        </p:grpSpPr>
        <p:sp>
          <p:nvSpPr>
            <p:cNvPr id="43" name=""/>
            <p:cNvSpPr/>
            <p:nvPr/>
          </p:nvSpPr>
          <p:spPr>
            <a:xfrm>
              <a:off x="311040" y="2057400"/>
              <a:ext cx="749520" cy="635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81360" y="1987560"/>
              <a:ext cx="9144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ll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840" y="5613480"/>
              <a:ext cx="1015920" cy="761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nish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70200" y="5600880"/>
              <a:ext cx="110484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lus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85120" y="3498840"/>
              <a:ext cx="102852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95760" y="1916280"/>
            <a:ext cx="4379760" cy="3684600"/>
            <a:chOff x="3695760" y="1916280"/>
            <a:chExt cx="4379760" cy="3684600"/>
          </a:xfrm>
        </p:grpSpPr>
        <p:sp>
          <p:nvSpPr>
            <p:cNvPr id="49" name=""/>
            <p:cNvSpPr/>
            <p:nvPr/>
          </p:nvSpPr>
          <p:spPr>
            <a:xfrm>
              <a:off x="6350040" y="219708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7840" y="1916280"/>
              <a:ext cx="1295640" cy="9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ill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ond,Incr,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67480" y="2928960"/>
              <a:ext cx="5968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69080" y="2928960"/>
              <a:ext cx="5205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49" idx="2"/>
              <a:endCxn id="46" idx="0"/>
            </p:cNvCxnSpPr>
            <p:nvPr/>
          </p:nvCxnSpPr>
          <p:spPr>
            <a:xfrm flipH="1">
              <a:off x="4222800" y="2552760"/>
              <a:ext cx="2877120" cy="30484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6"/>
              <a:endCxn id="50" idx="1"/>
            </p:cNvCxnSpPr>
            <p:nvPr/>
          </p:nvCxnSpPr>
          <p:spPr>
            <a:xfrm>
              <a:off x="3695760" y="2374920"/>
              <a:ext cx="62244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0" idx="3"/>
              <a:endCxn id="49" idx="1"/>
            </p:cNvCxnSpPr>
            <p:nvPr/>
          </p:nvCxnSpPr>
          <p:spPr>
            <a:xfrm flipV="1">
              <a:off x="5613480" y="2374920"/>
              <a:ext cx="73692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9" idx="3"/>
              <a:endCxn id="47" idx="6"/>
            </p:cNvCxnSpPr>
            <p:nvPr/>
          </p:nvCxnSpPr>
          <p:spPr>
            <a:xfrm flipH="1">
              <a:off x="7613640" y="2374920"/>
              <a:ext cx="235440" cy="151812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57" name=""/>
          <p:cNvGrpSpPr/>
          <p:nvPr/>
        </p:nvGrpSpPr>
        <p:grpSpPr>
          <a:xfrm>
            <a:off x="1193760" y="5673600"/>
            <a:ext cx="2476440" cy="680040"/>
            <a:chOff x="1193760" y="5673600"/>
            <a:chExt cx="2476440" cy="680040"/>
          </a:xfrm>
        </p:grpSpPr>
        <p:sp>
          <p:nvSpPr>
            <p:cNvPr id="58" name=""/>
            <p:cNvSpPr/>
            <p:nvPr/>
          </p:nvSpPr>
          <p:spPr>
            <a:xfrm>
              <a:off x="1765440" y="5673600"/>
              <a:ext cx="129528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lush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46" idx="2"/>
              <a:endCxn id="58" idx="3"/>
            </p:cNvCxnSpPr>
            <p:nvPr/>
          </p:nvCxnSpPr>
          <p:spPr>
            <a:xfrm flipH="1">
              <a:off x="3060720" y="5994720"/>
              <a:ext cx="609840" cy="19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8" idx="1"/>
              <a:endCxn id="45" idx="6"/>
            </p:cNvCxnSpPr>
            <p:nvPr/>
          </p:nvCxnSpPr>
          <p:spPr>
            <a:xfrm flipH="1" flipV="1">
              <a:off x="1193760" y="5994360"/>
              <a:ext cx="572040" cy="19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1060560" y="2190600"/>
            <a:ext cx="1720800" cy="368280"/>
            <a:chOff x="1060560" y="2190600"/>
            <a:chExt cx="1720800" cy="368280"/>
          </a:xfrm>
        </p:grpSpPr>
        <p:sp>
          <p:nvSpPr>
            <p:cNvPr id="62" name=""/>
            <p:cNvSpPr/>
            <p:nvPr/>
          </p:nvSpPr>
          <p:spPr>
            <a:xfrm>
              <a:off x="1600200" y="2190600"/>
              <a:ext cx="596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>
              <a:stCxn id="62" idx="3"/>
              <a:endCxn id="44" idx="2"/>
            </p:cNvCxnSpPr>
            <p:nvPr/>
          </p:nvCxnSpPr>
          <p:spPr>
            <a:xfrm>
              <a:off x="2197080" y="2374560"/>
              <a:ext cx="58464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43" idx="6"/>
              <a:endCxn id="62" idx="1"/>
            </p:cNvCxnSpPr>
            <p:nvPr/>
          </p:nvCxnSpPr>
          <p:spPr>
            <a:xfrm flipV="1">
              <a:off x="1060560" y="2374560"/>
              <a:ext cx="54000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8160" y="2692440"/>
            <a:ext cx="1295280" cy="2921040"/>
            <a:chOff x="38160" y="2692440"/>
            <a:chExt cx="1295280" cy="2921040"/>
          </a:xfrm>
        </p:grpSpPr>
        <p:sp>
          <p:nvSpPr>
            <p:cNvPr id="66" name=""/>
            <p:cNvSpPr/>
            <p:nvPr/>
          </p:nvSpPr>
          <p:spPr>
            <a:xfrm>
              <a:off x="38160" y="3843360"/>
              <a:ext cx="1295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dv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45" idx="0"/>
              <a:endCxn id="66" idx="2"/>
            </p:cNvCxnSpPr>
            <p:nvPr/>
          </p:nvCxnSpPr>
          <p:spPr>
            <a:xfrm flipV="1">
              <a:off x="685800" y="4485960"/>
              <a:ext cx="360" cy="1127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43" idx="4"/>
            </p:cNvCxnSpPr>
            <p:nvPr/>
          </p:nvCxnSpPr>
          <p:spPr>
            <a:xfrm flipV="1">
              <a:off x="685800" y="2692440"/>
              <a:ext cx="360" cy="11512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4775040" y="3892680"/>
            <a:ext cx="3848400" cy="2477880"/>
            <a:chOff x="4775040" y="3892680"/>
            <a:chExt cx="3848400" cy="2477880"/>
          </a:xfrm>
        </p:grpSpPr>
        <p:grpSp>
          <p:nvGrpSpPr>
            <p:cNvPr id="70" name=""/>
            <p:cNvGrpSpPr/>
            <p:nvPr/>
          </p:nvGrpSpPr>
          <p:grpSpPr>
            <a:xfrm>
              <a:off x="4775040" y="4286160"/>
              <a:ext cx="3848400" cy="2084400"/>
              <a:chOff x="4775040" y="4286160"/>
              <a:chExt cx="3848400" cy="2084400"/>
            </a:xfrm>
          </p:grpSpPr>
          <p:sp>
            <p:nvSpPr>
              <p:cNvPr id="71" name=""/>
              <p:cNvSpPr/>
              <p:nvPr/>
            </p:nvSpPr>
            <p:spPr>
              <a:xfrm>
                <a:off x="5931000" y="6002280"/>
                <a:ext cx="44424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50040" y="58165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97760" y="4694400"/>
                <a:ext cx="1803240" cy="68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pawn(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...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q Inc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077320" y="5634000"/>
                <a:ext cx="54612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5" name=""/>
              <p:cNvCxnSpPr>
                <a:stCxn id="47" idx="4"/>
                <a:endCxn id="73" idx="0"/>
              </p:cNvCxnSpPr>
              <p:nvPr/>
            </p:nvCxnSpPr>
            <p:spPr>
              <a:xfrm>
                <a:off x="7099200" y="4286160"/>
                <a:ext cx="360" cy="40860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73" idx="2"/>
                <a:endCxn id="72" idx="0"/>
              </p:cNvCxnSpPr>
              <p:nvPr/>
            </p:nvCxnSpPr>
            <p:spPr>
              <a:xfrm>
                <a:off x="7099200" y="5374440"/>
                <a:ext cx="720" cy="44244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1"/>
                <a:endCxn id="46" idx="6"/>
              </p:cNvCxnSpPr>
              <p:nvPr/>
            </p:nvCxnSpPr>
            <p:spPr>
              <a:xfrm flipH="1">
                <a:off x="4775040" y="5994360"/>
                <a:ext cx="157536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72" idx="3"/>
              <a:endCxn id="47" idx="6"/>
            </p:cNvCxnSpPr>
            <p:nvPr/>
          </p:nvCxnSpPr>
          <p:spPr>
            <a:xfrm flipH="1" flipV="1">
              <a:off x="7613640" y="3892680"/>
              <a:ext cx="235440" cy="210204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 Mueller and R. Doemer and A. Gerstlauer: The Formal Execution Semantics of Spe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TR ICS-01-59 of University of California at Irvine, November 30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04Z</dcterms:modified>
  <cp:revision>716</cp:revision>
  <dc:subject>The ASM Method</dc:subject>
  <dc:title>The ASM Method</dc:title>
</cp:coreProperties>
</file>