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7280" y="696960"/>
            <a:ext cx="464040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000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2000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5091062-3259-4B4A-AB03-EFC70D587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"par") doesn't contradict ASMs being sequ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"par") doesn't contradict ASMs being sequ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03DD-8E90-4F3B-84C9-EC8B73FA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0458-8248-43A4-B36A-29D92550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F1B7-533C-4B5A-ABE9-4947852A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B1F9-DAD1-4C6A-BFB3-2CB5542E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BACD-8855-4D83-9FB3-DB34B61B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127D-9E17-486C-8660-FE12BAB1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6A9F-3A23-473C-BE97-E1E06BB7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65BC-3E6E-46D0-94DA-A1D31549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97B7-E9AB-47E0-B93F-131A1B3B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E52D-AFEF-4573-BAE7-3728E837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EE52-8AFF-4A79-85B2-DC2DE092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799D-8B67-4FB9-B030-46A50285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B237-F3AD-494D-82BB-D11D82659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uring Machine AS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51440" y="1925640"/>
            <a:ext cx="2987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44600" y="1447920"/>
            <a:ext cx="33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ruction (q1,a)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q2,b,-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257800" y="2362320"/>
            <a:ext cx="2743200" cy="1143000"/>
            <a:chOff x="5257800" y="2362320"/>
            <a:chExt cx="2743200" cy="1143000"/>
          </a:xfrm>
        </p:grpSpPr>
        <p:sp>
          <p:nvSpPr>
            <p:cNvPr id="52" name=""/>
            <p:cNvSpPr/>
            <p:nvPr/>
          </p:nvSpPr>
          <p:spPr>
            <a:xfrm>
              <a:off x="59436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008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580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67480" y="2514600"/>
              <a:ext cx="53352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57800" y="2514600"/>
              <a:ext cx="53352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58000" y="31240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q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8" name=""/>
            <p:cNvCxnSpPr>
              <a:stCxn id="57" idx="0"/>
              <a:endCxn id="54" idx="2"/>
            </p:cNvCxnSpPr>
            <p:nvPr/>
          </p:nvCxnSpPr>
          <p:spPr>
            <a:xfrm flipV="1">
              <a:off x="7086600" y="2743200"/>
              <a:ext cx="360" cy="381240"/>
            </a:xfrm>
            <a:prstGeom prst="straightConnector1">
              <a:avLst/>
            </a:prstGeom>
            <a:ln w="50760">
              <a:solidFill>
                <a:srgbClr val="ccecff"/>
              </a:solidFill>
              <a:miter/>
              <a:tailEnd len="med" type="triangle" w="med"/>
            </a:ln>
          </p:spPr>
        </p:cxnSp>
      </p:grpSp>
      <p:grpSp>
        <p:nvGrpSpPr>
          <p:cNvPr id="59" name=""/>
          <p:cNvGrpSpPr/>
          <p:nvPr/>
        </p:nvGrpSpPr>
        <p:grpSpPr>
          <a:xfrm>
            <a:off x="5334120" y="4724280"/>
            <a:ext cx="2743200" cy="1143000"/>
            <a:chOff x="5334120" y="4724280"/>
            <a:chExt cx="2743200" cy="1143000"/>
          </a:xfrm>
        </p:grpSpPr>
        <p:sp>
          <p:nvSpPr>
            <p:cNvPr id="60" name=""/>
            <p:cNvSpPr/>
            <p:nvPr/>
          </p:nvSpPr>
          <p:spPr>
            <a:xfrm>
              <a:off x="6019920" y="4724280"/>
              <a:ext cx="457200" cy="381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477120" y="4724280"/>
              <a:ext cx="457200" cy="381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34320" y="4724280"/>
              <a:ext cx="457200" cy="381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43800" y="4876920"/>
              <a:ext cx="53352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34120" y="4876920"/>
              <a:ext cx="53316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7120" y="5486400"/>
              <a:ext cx="4572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q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6" name=""/>
            <p:cNvCxnSpPr>
              <a:stCxn id="65" idx="0"/>
              <a:endCxn id="61" idx="2"/>
            </p:cNvCxnSpPr>
            <p:nvPr/>
          </p:nvCxnSpPr>
          <p:spPr>
            <a:xfrm flipV="1">
              <a:off x="6705720" y="5105520"/>
              <a:ext cx="360" cy="381240"/>
            </a:xfrm>
            <a:prstGeom prst="straightConnector1">
              <a:avLst/>
            </a:prstGeom>
            <a:ln w="50760">
              <a:solidFill>
                <a:srgbClr val="ccecff"/>
              </a:solidFill>
              <a:miter/>
              <a:tailEnd len="med" type="triangle" w="med"/>
            </a:ln>
          </p:spPr>
        </p:cxnSp>
      </p:grpSp>
      <p:sp>
        <p:nvSpPr>
          <p:cNvPr id="67" name=""/>
          <p:cNvSpPr/>
          <p:nvPr/>
        </p:nvSpPr>
        <p:spPr>
          <a:xfrm>
            <a:off x="6629400" y="38862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1280" y="1079280"/>
            <a:ext cx="803916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 with q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Bl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 with +1 and –1,0,1,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In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a.e. Blan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: Q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-1,0,1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s three funs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gram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 :=    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q,T(h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(h):=  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q,T(h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 := h +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q,T(h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EED5-450C-47A9-8CA6-83CFFFFAC5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fining Turing Machine ASM to FS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5079960" cy="25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M progra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q      := F</a:t>
            </a:r>
            <a:r>
              <a:rPr b="1" lang="en-US" sz="2800" spc="-1" strike="noStrike" baseline="-25000">
                <a:solidFill>
                  <a:srgbClr val="ffff66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(q,T(h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(h)   := F</a:t>
            </a:r>
            <a:r>
              <a:rPr b="1" lang="en-US" sz="28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(q,T(h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 :=  h + 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q,T(h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51440" y="1925640"/>
            <a:ext cx="2987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89200" y="1422360"/>
            <a:ext cx="33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ruction (q1,a)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q2,b,-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257800" y="2362320"/>
            <a:ext cx="2743200" cy="1143000"/>
            <a:chOff x="5257800" y="2362320"/>
            <a:chExt cx="2743200" cy="1143000"/>
          </a:xfrm>
        </p:grpSpPr>
        <p:sp>
          <p:nvSpPr>
            <p:cNvPr id="74" name=""/>
            <p:cNvSpPr/>
            <p:nvPr/>
          </p:nvSpPr>
          <p:spPr>
            <a:xfrm>
              <a:off x="59436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008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67480" y="2514600"/>
              <a:ext cx="53352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57800" y="2514600"/>
              <a:ext cx="53352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58000" y="31240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q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0"/>
              <a:endCxn id="76" idx="2"/>
            </p:cNvCxnSpPr>
            <p:nvPr/>
          </p:nvCxnSpPr>
          <p:spPr>
            <a:xfrm flipV="1">
              <a:off x="7086240" y="2742840"/>
              <a:ext cx="1080" cy="381600"/>
            </a:xfrm>
            <a:prstGeom prst="straightConnector1">
              <a:avLst/>
            </a:prstGeom>
            <a:ln w="50760">
              <a:solidFill>
                <a:srgbClr val="ccecff"/>
              </a:solidFill>
              <a:miter/>
              <a:tailEnd len="med" type="triangle" w="med"/>
            </a:ln>
          </p:spPr>
        </p:cxnSp>
      </p:grpSp>
      <p:sp>
        <p:nvSpPr>
          <p:cNvPr id="81" name=""/>
          <p:cNvSpPr/>
          <p:nvPr/>
        </p:nvSpPr>
        <p:spPr>
          <a:xfrm>
            <a:off x="6629400" y="38862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5680" y="3162240"/>
            <a:ext cx="100332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334120" y="3733920"/>
            <a:ext cx="3809880" cy="2133360"/>
            <a:chOff x="5334120" y="3733920"/>
            <a:chExt cx="3809880" cy="2133360"/>
          </a:xfrm>
        </p:grpSpPr>
        <p:grpSp>
          <p:nvGrpSpPr>
            <p:cNvPr id="84" name=""/>
            <p:cNvGrpSpPr/>
            <p:nvPr/>
          </p:nvGrpSpPr>
          <p:grpSpPr>
            <a:xfrm>
              <a:off x="5334120" y="4724280"/>
              <a:ext cx="2743200" cy="1143000"/>
              <a:chOff x="5334120" y="4724280"/>
              <a:chExt cx="2743200" cy="1143000"/>
            </a:xfrm>
          </p:grpSpPr>
          <p:sp>
            <p:nvSpPr>
              <p:cNvPr id="85" name=""/>
              <p:cNvSpPr/>
              <p:nvPr/>
            </p:nvSpPr>
            <p:spPr>
              <a:xfrm>
                <a:off x="6019920" y="4724280"/>
                <a:ext cx="457200" cy="3812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Franklin Gothic Book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477120" y="4724280"/>
                <a:ext cx="457200" cy="3812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Franklin Gothic Book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934320" y="4724280"/>
                <a:ext cx="457200" cy="3812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Franklin Gothic Book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543800" y="4876920"/>
                <a:ext cx="53352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334120" y="4876920"/>
                <a:ext cx="53316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477120" y="5486400"/>
                <a:ext cx="457200" cy="3808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Franklin Gothic Book"/>
                  </a:rPr>
                  <a:t>q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91" name=""/>
              <p:cNvCxnSpPr>
                <a:stCxn id="90" idx="0"/>
                <a:endCxn id="86" idx="2"/>
              </p:cNvCxnSpPr>
              <p:nvPr/>
            </p:nvCxnSpPr>
            <p:spPr>
              <a:xfrm flipV="1">
                <a:off x="6705360" y="5105160"/>
                <a:ext cx="1080" cy="381600"/>
              </a:xfrm>
              <a:prstGeom prst="straightConnector1">
                <a:avLst/>
              </a:prstGeom>
              <a:ln w="50760">
                <a:solidFill>
                  <a:srgbClr val="ccecff"/>
                </a:solidFill>
                <a:miter/>
                <a:tailEnd len="med" type="triangle" w="med"/>
              </a:ln>
            </p:spPr>
          </p:cxnSp>
        </p:grpSp>
        <p:sp>
          <p:nvSpPr>
            <p:cNvPr id="92" name=""/>
            <p:cNvSpPr/>
            <p:nvPr/>
          </p:nvSpPr>
          <p:spPr>
            <a:xfrm>
              <a:off x="7238880" y="3733920"/>
              <a:ext cx="1905120" cy="825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66"/>
                  </a:solidFill>
                  <a:latin typeface="Courier New"/>
                </a:rPr>
                <a:t>output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66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ff9966"/>
                  </a:solidFill>
                  <a:latin typeface="Courier New"/>
                </a:rPr>
                <a:t>:= 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-260640" y="914400"/>
            <a:ext cx="44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Franklin Gothic Book"/>
              </a:rPr>
              <a:t>Writing only as 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2640" y="4844880"/>
            <a:ext cx="4386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one-way/two-way FSM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depending on wheth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besides +1 also –1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llowed in instru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09A6-CE23-44AF-9D84-1F7841DC5E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tending Turing Machine to Alternating T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17160" y="926640"/>
            <a:ext cx="8394840" cy="56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ternating TMs 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ocussed to either accept or rejec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he initial ta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mitted 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invoke TM-subcomputation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explor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ther some or all </a:t>
            </a: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subcomputation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ept or reject their in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norma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xecution states with program TM(Nxtctl,Write,Move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:= Nxtctl(control, tape(head)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pe(head) := Write(control, tape(head)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 := head + Move(control, tape(head)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riched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 states which 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simply accept or re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existential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 states which accept/reject in case some/every subcomputation accepts/reje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univers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ontrol states which accept/reject in case every/some subcomputation accepts/reje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00FB-8B1F-4E2C-9FB9-85E0BF7726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ternating Turing automata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022560"/>
            <a:ext cx="8991720" cy="3507480"/>
          </a:xfrm>
          <a:prstGeom prst="rect">
            <a:avLst/>
          </a:prstGeom>
          <a:solidFill>
            <a:srgbClr val="f2c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lternatingTm(Nxtctl,Write,Move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ype(SELF.ctlstate)=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M(Nxtctl,Write,Move)(SEL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ype(SELF.ctlstate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istential,univers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TmSpawn(SEL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mYieldExistential(SEL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mYieldUniversal(SELF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ype(SELF.ctlstate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pt,re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ield(SELF):= type(SELF.ctlstat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47640"/>
            <a:ext cx="8991720" cy="22885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n an existential or universal control state subcomputations are created to be run (AltTmSpawn),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king computation becomes idle to observe whether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ield of the subcomputations switches f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f to either accept or reject and to def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s own yield corresponding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AE3B-6961-477F-8653-C4B2A7E5D8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ternating Turing automata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3040" y="609480"/>
            <a:ext cx="8775720" cy="2775960"/>
          </a:xfrm>
          <a:prstGeom prst="rect">
            <a:avLst/>
          </a:prstGeom>
          <a:solidFill>
            <a:srgbClr val="f2c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TmSpawn(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=     IF a.mode = running 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j_1,…,j_k = Nxtctl(a.ctlstate, a.tape(a.head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a_1,…,a_k = new(Agent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ALL 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1,…, k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ate(a_i,a,j_i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ent(a_i)   := 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mode := idl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581280"/>
            <a:ext cx="9144000" cy="28368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ate(b,a,j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SubComp(b,a,j),   b.mode := running,   b.yield:=unde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rtSubComp(b,a,j)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ctlstate:=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head:=a.h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ALL po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main(a.tape) 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tape(pos):=a.tape(pos)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4277-4BE9-4AF2-956B-44AFE205DB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ternating Turing automata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7840" y="1003320"/>
            <a:ext cx="8775720" cy="2410200"/>
          </a:xfrm>
          <a:prstGeom prst="rect">
            <a:avLst/>
          </a:prstGeom>
          <a:solidFill>
            <a:srgbClr val="f2c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mYieldExistential(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=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.mode = idle AND type(a.ctlstate) = existential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forall 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ildren(a)     yield(c)=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re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 yield(a) :=  rejec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exists 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ildren(a)  yield(c)=</a:t>
            </a: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accept</a:t>
            </a:r>
            <a:r>
              <a:rPr b="1" lang="en-US" sz="2400" spc="-1" strike="noStrike">
                <a:solidFill>
                  <a:srgbClr val="66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yield(a) := accept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7840" y="3886200"/>
            <a:ext cx="8775720" cy="2410200"/>
          </a:xfrm>
          <a:prstGeom prst="rect">
            <a:avLst/>
          </a:prstGeom>
          <a:solidFill>
            <a:srgbClr val="f2c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mYieldUniversal(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=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.mode = idle AND type(a.ctlstate) = universal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forall 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ildren(a)     yield(c)=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ac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 yield(a) :=  ac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exists 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ildren(a)  yield(c)=</a:t>
            </a: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yield(a) := rejec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B5EC-ED4D-4636-9D18-6AABF7CD58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. Börger, R. Stärk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bstract State Machines.  A Method for High-Level System Design and Analysi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er-Verlag  2003, Chapter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81A9-A359-4FB7-A41D-630972C9C5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6:30Z</dcterms:modified>
  <cp:revision>713</cp:revision>
  <dc:subject/>
  <dc:title>ASM for Turing machines</dc:title>
</cp:coreProperties>
</file>