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782300" cy="7656513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ADC8BF80-58D5-45FF-80A2-CB62EF8BEE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Img"/>
          </p:nvPr>
        </p:nvSpPr>
        <p:spPr>
          <a:xfrm>
            <a:off x="669960" y="553680"/>
            <a:ext cx="543888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4430880"/>
            <a:ext cx="57578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77880" y="4707360"/>
            <a:ext cx="54226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46AD55DC-56C9-4389-95BE-F5E09C6F3E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65160" y="879480"/>
            <a:ext cx="4851360" cy="3444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37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976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2144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976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2144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6919560"/>
            <a:ext cx="60498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5960" y="4456080"/>
            <a:ext cx="873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99200" y="798480"/>
            <a:ext cx="581652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527440" y="80316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5960" y="6988320"/>
            <a:ext cx="96822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5320" y="93348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5320" y="686916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20040" y="7147080"/>
            <a:ext cx="1873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de-DE" sz="1000" spc="-1" strike="noStrike">
                <a:solidFill>
                  <a:srgbClr val="081d58"/>
                </a:solidFill>
                <a:latin typeface="UniversS 55 Roman"/>
              </a:rPr>
              <a:t>Courtesy of P. Päppinghaus, Siemens A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1687680"/>
            <a:ext cx="9410760" cy="1589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port on a Practical Application of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SMs in Software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76080" y="5300280"/>
            <a:ext cx="7629480" cy="1336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gon Bör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ter Päppingha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oachim Schm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6240" y="3478320"/>
            <a:ext cx="94107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 FALKO Project </a:t>
            </a:r>
            <a:br>
              <a:rPr sz="3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emens (Munic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rch 1998 - Ma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al of „FALKO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n purpose of FALKO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ruct &amp; validate timetables f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m/sub-/railway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tables constructed offline from raw data wh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input manually via a GU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read in from files written in established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idation done by sim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main components + 1 hidden discrete event simulation kernel controlling th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urier New"/>
              </a:rPr>
              <a:t>Component modeling the railway process has been formally specified and designed using A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63de8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integrating an existing librar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or numerical computations (computing train velocities, trip times etc.) designed and hand coded conventio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ffort for Component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6000"/>
          </a:bodyPr>
          <a:p>
            <a:pPr marL="27432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Effort for Railway Process Model: 66 pw (person week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quirement specification based on predecessor system, developed in meetings of the      design team, documented by minutes of the meetings (4 persons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ign of 1st draft of executable ASM model (1 person 8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testing and debugging using the ASM Workbench (developed by Giuseppe Del Castillo as part of his Doctoral Thesis at University of Paderborn)  (1 person 8 weeks + 1 person 11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view of 2nd draft of ASM model by design team plus external reviewers (6 persons 1 we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improving, testing and debugging (2 persons 5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ment of ASM-SL to C++ Code Generator (developed by Joachim Schmid as part of his Doctoral Thesis at University of Ulm, 1 person 4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ecification and implementation of additional handwritten C++ code (1 person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gration of FALKO system including testing and debugging (3 persons 3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cumentation of railway process model component (as collection of HTML documents with literate programming features, linked to ASM Workbench) and final polish (1 person 6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arison: ca. 110% of estimated total effort for conventional software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ze of ASM Model and C++ Code for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7040" y="1216080"/>
            <a:ext cx="9231480" cy="5503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M Model (source of C++ code gene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3 000 lines of ASM Workbench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20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15 functions and relations (240 functions, 75 rel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1 dy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9 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9 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6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++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9 000 lines of generated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2 900 additional lines of handwritten C++ Code, consisting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400 lines wrapper code for interfacing to other components of FAL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2 500 lines low-level librar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ilway process model of prototypical predecessor system:                                                    ca. 20 000 lines of (handwritten)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 with Use of ASMs for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9000"/>
          </a:bodyPr>
          <a:p>
            <a:pPr marL="28296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ers and reviewers had no problems to understand the formal specification (ASM 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s with ASM model uncovered, at an early stage, bugs also in other components of the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herence of specification and implementation by seamless too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formance loss of generated code tolerable even for product qualit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 installations at Subway Vienna Operator since March 1999, 1 in daily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stomer reported no bugs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bugs discovered in tests run by FALKO developers, temporary fixes for the 2 bugs (by handhacking the generated C++ code) later replaced by recompiling updated ASM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uilt-up, supporting seamless flow from spec t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gon Börger, Peter Päppinghaus, Joachim Schmi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ort on a Practical Application of ASMs in Software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Y. Gurevich et al.( Eds.): Abstract State Machines. Theory and Applications. Springer LNCS 1912, 2002, 361-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iuseppe Del Castill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ASM Workbench. A Tool Environment for Computer-Aided Analysis and Validation of Abstract State Machin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sertation, Heinz Nixdorf Institut, Univers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 Paderborn, 2001, pp.iv + 212,   ISBN 3 - 9311 466 – 82 –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. Schmid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ing Abstract State Machines to C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Journal of Universal Computer Science 7 (11), 2001, 1069-10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12:20:14Z</dcterms:created>
  <dc:creator>Peter Paeppinghaus</dc:creator>
  <dc:description/>
  <dc:language>en-US</dc:language>
  <cp:lastModifiedBy>Egon Boerger</cp:lastModifiedBy>
  <cp:lastPrinted>2000-05-08T14:56:43Z</cp:lastPrinted>
  <dcterms:modified xsi:type="dcterms:W3CDTF">2002-04-03T11:54:17Z</dcterms:modified>
  <cp:revision>229</cp:revision>
  <dc:subject>Project Data on Use of ASMs in the Project</dc:subject>
  <dc:title>Falko Project at Siemens</dc:title>
</cp:coreProperties>
</file>