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F57-953E-428A-97DE-570E404D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AF7-8819-4AFE-A2DB-B53B43D1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C8E-26AD-40B0-99A4-E67EB96B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1C2-6A50-4520-A3BE-E85948D2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75A-BB6B-4340-8012-FC5BC65F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47D-301A-4E49-8CA1-2DB11FC7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05D-58F3-43AD-994E-433D344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738B-ADF4-4B45-9D08-15815421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579-6AF7-4955-A36A-B5900308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233-BF12-4508-8240-8A6B3A6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A42-4FCC-4003-AD27-DC46B3EB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366-C2D9-43C0-84D7-097C675B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6D9A-0FF2-4C58-BEAF-26FE98C0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eal-Time Process Control Systems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Real-Time Controller ASM for the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ailroad Crossing Case Study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s of Real-Time Controller A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es instan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s take place instantaneou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ch real-time moment, ther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ll define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s which satisf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In the definition below, we will allow that the controller is constituted by multiple agents, each of which executes a basic ASM. Atomicity of actions constitutes an idealization, to be refined by durative actions.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33F-AFEF-4B70-B235-5BE8DB6D49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alling Basic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asic A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nite set of rules, executed by a single agen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av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pdat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nite set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 (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,…,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:=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rbitrary functions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Boolean valued expression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der formul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urren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ructure)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ll the fireable rules in 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.t. Cond is true in 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ll exprs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 occuring in updates f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=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simultaneously all these function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pdating yield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ex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C7A-764C-416E-AC1A-C613F6810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s of Real-Time Controller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 of a Real-Time Controller AS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n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quence 0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– consisting of (all &amp; only) the computationally significant real-time “moments” of M - and associated states S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here currtime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is obtained from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 S(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minus currtim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ase 1: a computation step (of some agents) of M, without any change of monitored fcts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ase 2: a change of monitored fcts, without any M-comp step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xtension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7EE-CFA4-4CBC-BB59-E333E09871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 Extension of Runs of Real-Time Controller A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S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real-time controller AS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atur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rbitrary real-time mo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= t in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1 (result of the instantaneous M-step executed at ti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2 (unchanged M-state, since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-step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lace, &amp; the instantaneous change of monitored fcts becomes effective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mma.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t’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’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 discr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ly finitely ma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. This condition excludes so-called Zeno run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579-79C9-48DC-B990-191F07200F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4ED-3EC8-41F2-B1D8-BB1CD3E85A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902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blem Description of Railroad Crossing Case Stud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98400"/>
            <a:ext cx="91440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o be developed operates a gate at a railroad crossing. A set of trains travel on multiple tracks in both directions. Each track has four sensors, detecting when a train enters resp. exits the crossing: L1, L2 for trains coming from the left, R1, R2 for trains coming from the right. Based on these sensor signals, a controller should signal the gate to open/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 the following two proper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yst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n a train is in the crossing, the gate is cl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The gate is open when no train is in the cros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54C-0DBE-41B0-B6E9-358194757C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Motion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r every track, there i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in motio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with the following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 the initial mom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bserved track segment [L1,R1] is emp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Patte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 in the sequence, th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 in the sequenc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 incoming train is detected at either L1 or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reaches th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is detected to have left the crossing at L2 resp. 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eten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seque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..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s all the (and only) trains that appear on this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71A-A8C8-4BBF-8DAE-E17D0C1D07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&amp; Gate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Approach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minimal/maximal time for a train to reach the crossing after having been detected at L1/R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for all i in a train motion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no interv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p. 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is a signal to close/open in force without at some moment in this interval the gate being closed/ope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versus Tra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Gate may react to closure/opening commands with some (bounded) delay, whereas wlog we will assume the controller to react immediately, i.e. at the instant when it is enab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A5B-AA35-4F80-B5DE-D542F7FC3B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748800"/>
            <a:ext cx="8991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urrtime: REAL is the central monitored tim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static domain with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monitored fct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{empty, coming, inCrossing}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f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Deadline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AL 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to measure the allowable WaitingTime bw the train appearance and the latest possible moment to start the gate closing (for the gate to be closed in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two dynamic fct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o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gate moving direction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an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inal gat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, close}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ed, closed}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g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10C-B1A6-4E0C-B832-366EFD8DC7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oller ASM for Railroad Cross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22440"/>
            <a:ext cx="8991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forall x </a:t>
            </a:r>
            <a:r>
              <a:rPr b="0" lang="it-IT" sz="18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TRA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et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Clos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Clear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tDeadlin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coming &amp; Deadline (x) 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the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adline (x) := 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Wait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time = Deadline (x)  then Dir := 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learDeadline 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empty &amp; Deadline (x) &lt;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Deadline (x) :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Open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Dir = close &amp;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feTo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then Dir:=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here SafeToOpen 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CK: TrackStatus (x) = empty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99"/>
                </a:solidFill>
                <a:latin typeface="Arial"/>
              </a:rPr>
              <a:t>enough time to open before next closure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&lt; Deadline (x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5E0-53D8-4CF2-942B-8F533C741D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5 (Synchronous Multi-Agent ASM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1F2-0838-42BF-A161-EF02356E8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ASM: an instance of a Flip Flo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22080"/>
            <a:ext cx="914400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Open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lose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penGate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If Dir = op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ope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ose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Dir = clos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cl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= open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= 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l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(x) = empty             Deadline(x) =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Sharpening the guard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ate rules by GateStatus = closed/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gnalClose (x) by Dir = 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a machine where each step changes the state. We disregard this optimization, since the definition of  runs of a real-time controller ASM is not restricted to machine steps which change the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931-1C21-4977-80E3-85105794DC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Age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" y="584280"/>
            <a:ext cx="9131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lroad Crossing Controller ASM has three ag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troller, G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nv, represented by the monitored fct Track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epresentation of Env as agent has t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nalize the timing conditions of train motion sequenc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.g. by a timed automaton ASM, consisting of one machine for each track x,  each able to fire independently &amp; simultane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600" y="3809880"/>
            <a:ext cx="41274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B. The notion of real-time controller ASM run has to be adapted to treating env as a special team of ag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2760" y="3765600"/>
            <a:ext cx="4076640" cy="3092400"/>
            <a:chOff x="482760" y="3765600"/>
            <a:chExt cx="4076640" cy="3092400"/>
          </a:xfrm>
        </p:grpSpPr>
        <p:sp>
          <p:nvSpPr>
            <p:cNvPr id="127" name=""/>
            <p:cNvSpPr/>
            <p:nvPr/>
          </p:nvSpPr>
          <p:spPr>
            <a:xfrm>
              <a:off x="48276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7200" y="6058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nCrossin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98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000680"/>
              <a:ext cx="11430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(x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7" idx="6"/>
              <a:endCxn id="130" idx="1"/>
            </p:cNvCxnSpPr>
            <p:nvPr/>
          </p:nvCxnSpPr>
          <p:spPr>
            <a:xfrm>
              <a:off x="1422360" y="4152600"/>
              <a:ext cx="254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2" name=""/>
            <p:cNvCxnSpPr>
              <a:stCxn id="130" idx="3"/>
              <a:endCxn id="129" idx="2"/>
            </p:cNvCxnSpPr>
            <p:nvPr/>
          </p:nvCxnSpPr>
          <p:spPr>
            <a:xfrm>
              <a:off x="2819160" y="4152600"/>
              <a:ext cx="2610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27" idx="4"/>
            </p:cNvCxnSpPr>
            <p:nvPr/>
          </p:nvCxnSpPr>
          <p:spPr>
            <a:xfrm flipH="1" flipV="1">
              <a:off x="952200" y="4539600"/>
              <a:ext cx="2115360" cy="1918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2552760" y="4889520"/>
              <a:ext cx="2006640" cy="876240"/>
            </a:xfrm>
            <a:prstGeom prst="hexagon">
              <a:avLst>
                <a:gd name="adj" fmla="val 57251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lock(x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4"/>
              <a:endCxn id="134" idx="0"/>
            </p:cNvCxnSpPr>
            <p:nvPr/>
          </p:nvCxnSpPr>
          <p:spPr>
            <a:xfrm>
              <a:off x="3555720" y="4540320"/>
              <a:ext cx="1080" cy="349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128" idx="0"/>
            </p:cNvCxnSpPr>
            <p:nvPr/>
          </p:nvCxnSpPr>
          <p:spPr>
            <a:xfrm>
              <a:off x="3555720" y="5765760"/>
              <a:ext cx="1080" cy="293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582-7AAB-4B60-9F3E-B7E0847DBE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un of the Railroad Crossing AS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l-time controller ASM run. These runs reflect the train motion condition through the moments of change of the monitored function Track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computationally significant moments of the run,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track x has a subsequenc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ificant moments of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ckStatus(x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emp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every interval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com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&amp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inCros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ty over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f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final significant moment of track x, in which case 3|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In those runs, the Controller is assumed to react immediately, the reaction time of Gate to be bounded in the sense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ED8-0BC5-4649-BC22-79F28E9B6A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753-EAA0-4493-BEE4-FBDDF9E1CB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&amp; Liveness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arbitrary runs of the Railroad Crossing AS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two properties hol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 Theo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t any moment when a train is in the crossing (Gate Status (x) = inCrossing for some track x), the gate is closed (GateStatus = close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 Theor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the crossing is empty (i.e.TrackStatus(x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ossing for every x) in an open real-time interv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gate is open in the closed interval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where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aitTime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NB. It can be shown that the Liveness Thm fails if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are replaced with smaller val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B.One can also prove that the closing of the gate is never interrupted; under appropriate assumptions the same holds for ope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F9D-EB2F-4FBE-8ECD-97187D6FB9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Safety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some track x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= inCrossing over 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sho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ateStatus = closed ove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1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 d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Deadline (x) fires 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ntroller is immediate) setting Deadline(x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Wait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= (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ver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 makes SafeToOpen false, 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SignalOpen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lso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penG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ver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SignalClose(x) fires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immediately afte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ir=close holds (&amp; remains unchanged over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close immediately after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i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ateStatus = clo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some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t&lt;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SignalOpen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ver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therefore over [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OpenGate, fireable only after SignalOpen, can change it to 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525-C5AA-4326-B130-63D526CCCC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Liveness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Deadline Lemma (see below), for every track x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SafeToOpen holds at currtime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open holds immediately after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ossibly through firing of SignalOp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 ov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over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very SignalClose(x) is disabled, so that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ir remains o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loseGate i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 = open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me assumption impl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GateStatus = opened for some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&lt; t &lt;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CloseGate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mely o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ateStatus = open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 [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CloseGate, fireable only after some SignalClose(x), can change it to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341-1F04-4B58-A870-ED3C2C0C3B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adline Lemma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dline Lem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run of the Railroad Crossing ASM, let x be a track with significant moments 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(x)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inCrossing over an interval (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over this interval Deadline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it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 (a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b)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assume Deadline(x)&lt;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WaitTime -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 at some t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(x)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t t for so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&lt;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by hypothesis,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and the inCrossing interval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2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 are disj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WaitTim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aitTime = Deadline(x) (at t)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(by assumptio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D92-6280-4777-9D30-9141F5AA12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432-FD97-4D24-981B-452E9BB3EA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ase Study : Refinement Exercis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546120"/>
            <a:ext cx="8978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Railroad Crossing ASM by introducing gate positions between  Closed =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pened =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larify the real-world timing assumptions which allow that Dir=close/open only when GateStatus=opened/clo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. Consider the following timed automaton ASM, with additional GateStatus values closing, opening, and refined rules OpenGate, Close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160" y="3530520"/>
            <a:ext cx="9067680" cy="3177360"/>
            <a:chOff x="38160" y="3530520"/>
            <a:chExt cx="9067680" cy="3177360"/>
          </a:xfrm>
        </p:grpSpPr>
        <p:sp>
          <p:nvSpPr>
            <p:cNvPr id="154" name=""/>
            <p:cNvSpPr/>
            <p:nvPr/>
          </p:nvSpPr>
          <p:spPr>
            <a:xfrm>
              <a:off x="76644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3280" y="3898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040" y="574668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35440" y="353052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=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5520" y="4851360"/>
              <a:ext cx="1930320" cy="482760"/>
            </a:xfrm>
            <a:prstGeom prst="hexagon">
              <a:avLst>
                <a:gd name="adj" fmla="val 9996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3280" y="6400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5440" y="6019920"/>
              <a:ext cx="1498680" cy="355320"/>
            </a:xfrm>
            <a:prstGeom prst="hexagon">
              <a:avLst>
                <a:gd name="adj" fmla="val 105446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=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4876920"/>
              <a:ext cx="1930320" cy="482400"/>
            </a:xfrm>
            <a:prstGeom prst="hexagon">
              <a:avLst>
                <a:gd name="adj" fmla="val 10003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3" idx="7"/>
              <a:endCxn id="154" idx="1"/>
            </p:cNvCxnSpPr>
            <p:nvPr/>
          </p:nvCxnSpPr>
          <p:spPr>
            <a:xfrm>
              <a:off x="1334880" y="3877920"/>
              <a:ext cx="64695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H="1" flipV="1">
              <a:off x="1356840" y="6395760"/>
              <a:ext cx="64555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6" idx="0"/>
              <a:endCxn id="161" idx="2"/>
            </p:cNvCxnSpPr>
            <p:nvPr/>
          </p:nvCxnSpPr>
          <p:spPr>
            <a:xfrm flipV="1">
              <a:off x="1002960" y="5358960"/>
              <a:ext cx="1080" cy="388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6" name=""/>
            <p:cNvCxnSpPr>
              <a:stCxn id="161" idx="0"/>
              <a:endCxn id="163" idx="4"/>
            </p:cNvCxnSpPr>
            <p:nvPr/>
          </p:nvCxnSpPr>
          <p:spPr>
            <a:xfrm flipV="1">
              <a:off x="1002960" y="4539600"/>
              <a:ext cx="1080" cy="337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4" idx="4"/>
              <a:endCxn id="158" idx="0"/>
            </p:cNvCxnSpPr>
            <p:nvPr/>
          </p:nvCxnSpPr>
          <p:spPr>
            <a:xfrm>
              <a:off x="8140320" y="4540320"/>
              <a:ext cx="1080" cy="311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8" name=""/>
            <p:cNvCxnSpPr>
              <a:stCxn id="158" idx="2"/>
              <a:endCxn id="169" idx="0"/>
            </p:cNvCxnSpPr>
            <p:nvPr/>
          </p:nvCxnSpPr>
          <p:spPr>
            <a:xfrm>
              <a:off x="8140320" y="5333760"/>
              <a:ext cx="1080" cy="400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0" name=""/>
          <p:cNvGrpSpPr/>
          <p:nvPr/>
        </p:nvGrpSpPr>
        <p:grpSpPr>
          <a:xfrm>
            <a:off x="533520" y="3765600"/>
            <a:ext cx="8096040" cy="2768400"/>
            <a:chOff x="533520" y="3765600"/>
            <a:chExt cx="8096040" cy="2768400"/>
          </a:xfrm>
        </p:grpSpPr>
        <p:sp>
          <p:nvSpPr>
            <p:cNvPr id="163" name=""/>
            <p:cNvSpPr/>
            <p:nvPr/>
          </p:nvSpPr>
          <p:spPr>
            <a:xfrm>
              <a:off x="53352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1800" y="5734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3" idx="6"/>
              <a:endCxn id="169" idx="1"/>
            </p:cNvCxnSpPr>
            <p:nvPr/>
          </p:nvCxnSpPr>
          <p:spPr>
            <a:xfrm>
              <a:off x="1473120" y="4152960"/>
              <a:ext cx="6322320" cy="169920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9" idx="2"/>
              <a:endCxn id="163" idx="5"/>
            </p:cNvCxnSpPr>
            <p:nvPr/>
          </p:nvCxnSpPr>
          <p:spPr>
            <a:xfrm flipH="1" flipV="1">
              <a:off x="1334880" y="4427280"/>
              <a:ext cx="6317280" cy="170712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441600" y="509256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Open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4600" y="478800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se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20E-50CB-41C4-BAAD-2A7469A2CE0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F78-3994-431C-9C31-446B035EB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s for the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55760"/>
            <a:ext cx="91440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the following properties for runs of the Railroad Crossing 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with significant mo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 for a track 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Deadline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hen TrackStatus(x) has become co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Deadline 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&gt;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en TrackStatus(x) has become 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the local SafeToOpen(x) condition, nam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Status(x)=empty or currti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&lt; Deadline (x).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ho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and fail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] and fails over intervals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(x) changes from false to true at momen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i&gt;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rackStatus(x) has become emp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when SafeToOpen becomes true. If SafeToOpen becomes true at t, then some TrackStatus(x) has become empty at 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593-A612-4651-9427-D35AD3203F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ASM : Exercises (Cont’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Liveness Theorem fails if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replaced with smaller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 that the closing of the gate is never interrupted, i.e. if Dir is set to close at some moment t, then Dir = close holds over the interval   (t , t+d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 that if WaitTim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n the opening of the gate is never interrupted, i.e. if Dir is set to open at some moment t, then Dir = open holds over the interval (t, t+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that the Railroad Crossing ASM, viewed as consisting of three agents for Controller, Gate, and the Environment (representing a team that updates the monitored functions), in a natural way satisfies the axioms for an async 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he definition of real-time controller ASMs to the case where the changes of monitored functions are treated as resulting from updates of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en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D28-719D-46BC-AA54-CE23953559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eitmeyer and D. Mandrioli (Eds.) : Formal Methods for Real-Time Computin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iley &amp; Sons, Chichester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. Gurevich and J. K. Huggins: The Railroad Crossing Problem: An Experiment with Instantaneous Actions and Immediat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Computer Science Logic. Selected Papers from CSL’95 (Ed. H. Kleine Büning). Springer LNCS 1092, 1996, 266-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eauquier, T. Colard, A. Slissenko: A Predicate Logic Framework for Mechanical Verification of Real-Time Gurevich Abstract State Machines: A Case Study with P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00-25, University Paris 12, CS Dept, 2000. See http://www.univ-paris12.fr/lac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035-3B9D-4268-BD34-56A8ED98E9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L. Parnas and J. Madey: Functional Documentation for Computer Systems Engineering (Vol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 Master University TR CRL 237, Hamilton, Ontario, Sept.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L. Parnas and J. Madey: Functional documents for computer systems. I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of Computer Programming 25 (1995), 41-6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810-DAF7-4C95-9074-1F974B1ED6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-Variable Model for Process Control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3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ransforms continuous physical quantities, measured by e.g.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discrete softwar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transforms discrete sw OUTPUT into values for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nipulate the continuous physical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9360" y="1558440"/>
            <a:ext cx="8623440" cy="1946160"/>
            <a:chOff x="279360" y="1558440"/>
            <a:chExt cx="8623440" cy="1946160"/>
          </a:xfrm>
        </p:grpSpPr>
        <p:sp>
          <p:nvSpPr>
            <p:cNvPr id="51" name=""/>
            <p:cNvSpPr/>
            <p:nvPr/>
          </p:nvSpPr>
          <p:spPr>
            <a:xfrm>
              <a:off x="279360" y="204588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440" y="205884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4" idx="2"/>
              <a:endCxn id="51" idx="0"/>
            </p:cNvCxnSpPr>
            <p:nvPr/>
          </p:nvCxnSpPr>
          <p:spPr>
            <a:xfrm>
              <a:off x="1206000" y="1558440"/>
              <a:ext cx="1080" cy="4878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5" name=""/>
            <p:cNvCxnSpPr>
              <a:stCxn id="51" idx="2"/>
              <a:endCxn id="56" idx="0"/>
            </p:cNvCxnSpPr>
            <p:nvPr/>
          </p:nvCxnSpPr>
          <p:spPr>
            <a:xfrm>
              <a:off x="1206000" y="2930040"/>
              <a:ext cx="1080" cy="5464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8" idx="0"/>
              <a:endCxn id="52" idx="2"/>
            </p:cNvCxnSpPr>
            <p:nvPr/>
          </p:nvCxnSpPr>
          <p:spPr>
            <a:xfrm flipV="1">
              <a:off x="7975080" y="2942280"/>
              <a:ext cx="1080" cy="5626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9" name=""/>
            <p:cNvCxnSpPr>
              <a:stCxn id="52" idx="0"/>
              <a:endCxn id="60" idx="2"/>
            </p:cNvCxnSpPr>
            <p:nvPr/>
          </p:nvCxnSpPr>
          <p:spPr>
            <a:xfrm flipV="1">
              <a:off x="7975080" y="1567440"/>
              <a:ext cx="1080" cy="4914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79360" y="3489480"/>
            <a:ext cx="8655120" cy="947160"/>
            <a:chOff x="279360" y="3489480"/>
            <a:chExt cx="8655120" cy="947160"/>
          </a:xfrm>
        </p:grpSpPr>
        <p:sp>
          <p:nvSpPr>
            <p:cNvPr id="56" name=""/>
            <p:cNvSpPr/>
            <p:nvPr/>
          </p:nvSpPr>
          <p:spPr>
            <a:xfrm>
              <a:off x="279360" y="3489480"/>
              <a:ext cx="1854360" cy="9471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760" y="3517920"/>
              <a:ext cx="1917720" cy="886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9600" y="3519360"/>
              <a:ext cx="196848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>
              <a:off x="2133360" y="3962160"/>
              <a:ext cx="1416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64" name=""/>
            <p:cNvCxnSpPr>
              <a:stCxn id="62" idx="3"/>
              <a:endCxn id="58" idx="1"/>
            </p:cNvCxnSpPr>
            <p:nvPr/>
          </p:nvCxnSpPr>
          <p:spPr>
            <a:xfrm flipV="1">
              <a:off x="5517720" y="3960000"/>
              <a:ext cx="14994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222120" y="687240"/>
            <a:ext cx="8737560" cy="886320"/>
            <a:chOff x="222120" y="687240"/>
            <a:chExt cx="8737560" cy="886320"/>
          </a:xfrm>
        </p:grpSpPr>
        <p:sp>
          <p:nvSpPr>
            <p:cNvPr id="54" name=""/>
            <p:cNvSpPr/>
            <p:nvPr/>
          </p:nvSpPr>
          <p:spPr>
            <a:xfrm>
              <a:off x="22212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o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120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ll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870120"/>
              <a:ext cx="26668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Proc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3"/>
              <a:endCxn id="66" idx="1"/>
            </p:cNvCxnSpPr>
            <p:nvPr/>
          </p:nvCxnSpPr>
          <p:spPr>
            <a:xfrm>
              <a:off x="2190240" y="1130040"/>
              <a:ext cx="1010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68" name=""/>
            <p:cNvCxnSpPr>
              <a:stCxn id="66" idx="3"/>
              <a:endCxn id="60" idx="1"/>
            </p:cNvCxnSpPr>
            <p:nvPr/>
          </p:nvCxnSpPr>
          <p:spPr>
            <a:xfrm>
              <a:off x="5867280" y="1130040"/>
              <a:ext cx="1124640" cy="5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9" name=""/>
          <p:cNvSpPr/>
          <p:nvPr/>
        </p:nvSpPr>
        <p:spPr>
          <a:xfrm>
            <a:off x="2813040" y="1676520"/>
            <a:ext cx="3543480" cy="1574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define SOFT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i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C0C-E26A-4A7D-AA7E-CF16075D58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ing &amp; Synchronization Proble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ing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continuous flow of physical process data by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 finite number of) discrete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taken at real-time moments that form an increasing discrete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chronization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ynchronize the SOFT controller with the IN/OUT devices to guarantee a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orrect reactive behavi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ntire software system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wrt the en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table state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controller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524-FCE8-4881-8F86-7B99027D09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each moment, the software control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rough its input device takes INPUT from the environment, without involving any further internal computation st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akes an internal computation step (including the preparation of OUTPUT to be sent to the output device), without involving any further INPUT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s principle is applied by many process control systems. Its appropriateness for a physical system to be controlled depend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rrectness of sampl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fficient hw speed (for the internal controller steps) wrt sam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9A1-65AE-429D-9C27-DDDD3E9FD4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Neural Ne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83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ral 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ually seen as a black-box yield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env, as result of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nal compu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riggered by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the env. The internal computation consists of a finite sequence of atomic actions performed by the basic computing elements (nodes of a directed data-flow gra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orward propagation mode, the network input is transmitted by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ternal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hich propagate their results through the graph until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out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reached</a:t>
            </a:r>
            <a:r>
              <a:rPr b="1" lang="en-US" sz="2000" spc="-1" strike="noStrike">
                <a:solidFill>
                  <a:srgbClr val="ff9900"/>
                </a:solidFill>
                <a:latin typeface="Lucida Consol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5080" y="4102200"/>
            <a:ext cx="6361920" cy="2361600"/>
            <a:chOff x="415080" y="4102200"/>
            <a:chExt cx="6361920" cy="2361600"/>
          </a:xfrm>
        </p:grpSpPr>
        <p:sp>
          <p:nvSpPr>
            <p:cNvPr id="77" name=""/>
            <p:cNvSpPr/>
            <p:nvPr/>
          </p:nvSpPr>
          <p:spPr>
            <a:xfrm>
              <a:off x="834840" y="4201920"/>
              <a:ext cx="64152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5560" y="4102200"/>
              <a:ext cx="1746360" cy="636480"/>
            </a:xfrm>
            <a:prstGeom prst="hexagon">
              <a:avLst>
                <a:gd name="adj" fmla="val 685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put to be consum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2560" y="4162320"/>
              <a:ext cx="1112760" cy="517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ral Kern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6320" y="4201920"/>
              <a:ext cx="94284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51240" y="5035320"/>
              <a:ext cx="1413000" cy="649080"/>
            </a:xfrm>
            <a:prstGeom prst="hexagon">
              <a:avLst>
                <a:gd name="adj" fmla="val 5442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e units to be compu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3080" y="6099120"/>
              <a:ext cx="950760" cy="364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K st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5680" y="5086080"/>
              <a:ext cx="51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5680" y="5686200"/>
              <a:ext cx="5461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080" y="4421160"/>
              <a:ext cx="406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5178960"/>
              <a:ext cx="1112760" cy="362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ear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1" idx="1"/>
              <a:endCxn id="86" idx="3"/>
            </p:cNvCxnSpPr>
            <p:nvPr/>
          </p:nvCxnSpPr>
          <p:spPr>
            <a:xfrm flipH="1">
              <a:off x="3891600" y="5360400"/>
              <a:ext cx="125964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1"/>
              <a:endCxn id="77" idx="4"/>
            </p:cNvCxnSpPr>
            <p:nvPr/>
          </p:nvCxnSpPr>
          <p:spPr>
            <a:xfrm rot="10800000">
              <a:off x="1154880" y="4637880"/>
              <a:ext cx="1624680" cy="7225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77" idx="6"/>
              <a:endCxn id="78" idx="1"/>
            </p:cNvCxnSpPr>
            <p:nvPr/>
          </p:nvCxnSpPr>
          <p:spPr>
            <a:xfrm>
              <a:off x="1476360" y="4420800"/>
              <a:ext cx="349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78" idx="3"/>
              <a:endCxn id="79" idx="1"/>
            </p:cNvCxnSpPr>
            <p:nvPr/>
          </p:nvCxnSpPr>
          <p:spPr>
            <a:xfrm>
              <a:off x="357192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79" idx="3"/>
              <a:endCxn id="80" idx="2"/>
            </p:cNvCxnSpPr>
            <p:nvPr/>
          </p:nvCxnSpPr>
          <p:spPr>
            <a:xfrm>
              <a:off x="503496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0" idx="4"/>
              <a:endCxn id="81" idx="0"/>
            </p:cNvCxnSpPr>
            <p:nvPr/>
          </p:nvCxnSpPr>
          <p:spPr>
            <a:xfrm>
              <a:off x="5857560" y="4638240"/>
              <a:ext cx="1080" cy="397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1" idx="2"/>
              <a:endCxn id="82" idx="0"/>
            </p:cNvCxnSpPr>
            <p:nvPr/>
          </p:nvCxnSpPr>
          <p:spPr>
            <a:xfrm>
              <a:off x="5857920" y="5684760"/>
              <a:ext cx="2160" cy="414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2" idx="3"/>
              <a:endCxn id="80" idx="6"/>
            </p:cNvCxnSpPr>
            <p:nvPr/>
          </p:nvCxnSpPr>
          <p:spPr>
            <a:xfrm flipH="1" flipV="1">
              <a:off x="6328440" y="4420440"/>
              <a:ext cx="5400" cy="1860840"/>
            </a:xfrm>
            <a:prstGeom prst="bentConnector3">
              <a:avLst>
                <a:gd name="adj1" fmla="val -88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0" y="6058080"/>
            <a:ext cx="4508640" cy="799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s whether NK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d its internal comp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4191120"/>
            <a:ext cx="19303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u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7B9-53C9-4F5E-B010-A46AB25BB1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Circui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991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cuit Synchroniz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lock which alternates between low and high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it viewed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(representing the enviro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idle, input may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may change, input is 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DD5-BEC7-4E33-A1D7-6E43701231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al-Time Controller ASMs (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962-A538-4F28-82F7-AE70E037F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3:05Z</dcterms:modified>
  <cp:revision>511</cp:revision>
  <dc:subject>Railcrossing Gate Controller</dc:subject>
  <dc:title>Railcrossing Gate Controller</dc:title>
</cp:coreProperties>
</file>