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4A4-02CC-484F-9753-A66FB437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EA25-E051-429A-9EEC-88B9FC9D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88A-C223-4B1A-858D-2267DA6D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2B8-0B54-4A1D-B79E-CFB7D8C8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9C69-FD60-4026-B7C2-4499F93D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E4F-05B4-46F5-8521-D55BADE6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A19-B676-422D-AF62-6D118DA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919-1412-4ADC-A6CE-8F5141AA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DC0-D971-4471-A7AC-F2BDA441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D85-7B3C-45E0-9FB9-1AFF9CEB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9F9-AA94-47E9-93FE-CB5B5F55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622-3CFD-4369-A211-2B35468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9EC1-7535-49E8-A9C2-4912160B10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choose” and “foral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ting  all and only the pairs vw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* of different words v,w of same length (i.e.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 n, i with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with a 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i) :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i) := b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forall j &lt; n, j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j) : 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j) :=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hen all possible choices are realized,  the set of reachable states vw of this ASM, started with (say)  a b for some a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, is the set of all vw with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.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tri-asm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77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5880" y="5730840"/>
            <a:ext cx="146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606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quiv Petri ne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enerating one wor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5842080"/>
            <a:ext cx="7277040" cy="101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ransition q:  at place B 1 mark is produced for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lace C n-1 marks are produced for arbitrary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etri-asm2" descr=""/>
          <p:cNvPicPr/>
          <p:nvPr/>
        </p:nvPicPr>
        <p:blipFill>
          <a:blip r:embed="rId1"/>
          <a:stretch/>
        </p:blipFill>
        <p:spPr>
          <a:xfrm>
            <a:off x="1066680" y="0"/>
            <a:ext cx="7675560" cy="603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00" y="5410080"/>
            <a:ext cx="3523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873600" cy="673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the iteration 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27400" y="6032520"/>
            <a:ext cx="501660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word has been comple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leted to produce the nex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forall” and “choos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enerating  the words over alphabet {0,1} of length at least n with a 1 in the n-th place, i.e. the words of form v1w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forall  n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N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v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{0,1}</a:t>
            </a:r>
            <a:r>
              <a:rPr b="0" lang="it-IT" sz="3200" spc="-1" strike="noStrike" baseline="30000">
                <a:solidFill>
                  <a:srgbClr val="3333cc"/>
                </a:solidFill>
                <a:latin typeface="Arial"/>
              </a:rPr>
              <a:t>n-1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w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{0,1}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out(n) := v1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B. For each n, there is a non-deterministic FSM with O(n) states which accepts the set 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, but every deterministic FSM accepting this set ha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non-determi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= {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w and |v| = |w| = n}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ercise. Show that for each n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an be accepted by a non-deterministic finite automaton with O(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ry unambiguous  automaton accep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ed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. R. Kintala and K-Y P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tsch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ise representations of regular languages by degree and probabilistic finite autom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. Systems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6 (4) 1993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79—3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4:29:43Z</dcterms:created>
  <dc:creator>top10</dc:creator>
  <dc:description/>
  <dc:language>en-US</dc:language>
  <cp:lastModifiedBy>Egon Boerger</cp:lastModifiedBy>
  <dcterms:modified xsi:type="dcterms:W3CDTF">2002-04-07T17:45:22Z</dcterms:modified>
  <cp:revision>20</cp:revision>
  <dc:subject>Examples illustrating choose/forall</dc:subject>
  <dc:title>ASM constructs choose and forall</dc:title>
</cp:coreProperties>
</file>