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FAE-760A-404B-88D9-17E6447A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889-BD0D-4BC8-A9CB-1492C216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C3C-46A6-4F74-949A-551D2DCE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49B-638E-4398-B877-154800F4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1F0-E9A0-4C3B-89E2-726D264E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6F0-5B29-4E16-AC62-E874A120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12B-D0E9-4C42-A618-7373FF87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51E-ECC1-4631-98C2-E8E2E5E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AB4-3789-4330-AA74-B08D034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1D6-FC63-4692-839F-6B1BDB73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92A-C9DE-4AD7-B0EB-78FBE00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CAE-735C-403B-8669-89262E4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03C6-BB5C-4176-81B7-04A10961B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way’s game of life: cell evolution r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175284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all c in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90920"/>
            <a:ext cx="2666880" cy="609480"/>
          </a:xfrm>
          <a:prstGeom prst="hexagon">
            <a:avLst>
              <a:gd name="adj" fmla="val 109392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=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962520"/>
            <a:ext cx="160020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e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3200400" cy="762120"/>
          </a:xfrm>
          <a:prstGeom prst="hexagon">
            <a:avLst>
              <a:gd name="adj" fmla="val 104983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&lt;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liveNeighb(c) &gt;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962520"/>
            <a:ext cx="16765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(c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4" idx="0"/>
          </p:cNvCxnSpPr>
          <p:nvPr/>
        </p:nvCxnSpPr>
        <p:spPr>
          <a:xfrm>
            <a:off x="2019240" y="3200400"/>
            <a:ext cx="360" cy="762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6" idx="0"/>
          </p:cNvCxnSpPr>
          <p:nvPr/>
        </p:nvCxnSpPr>
        <p:spPr>
          <a:xfrm>
            <a:off x="7238880" y="3276720"/>
            <a:ext cx="360" cy="686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6" idx="2"/>
          </p:cNvCxnSpPr>
          <p:nvPr/>
        </p:nvCxnSpPr>
        <p:spPr>
          <a:xfrm rot="5400000">
            <a:off x="5600160" y="3314520"/>
            <a:ext cx="533520" cy="274392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2"/>
          </p:cNvCxnSpPr>
          <p:nvPr/>
        </p:nvCxnSpPr>
        <p:spPr>
          <a:xfrm flipH="1" rot="16200000">
            <a:off x="2990520" y="3448080"/>
            <a:ext cx="533520" cy="247608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629400" y="3429000"/>
            <a:ext cx="54612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29000"/>
            <a:ext cx="64764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534520" cy="388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33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5600880"/>
            <a:ext cx="9144000" cy="847800"/>
            <a:chOff x="0" y="5600880"/>
            <a:chExt cx="9144000" cy="847800"/>
          </a:xfrm>
        </p:grpSpPr>
        <p:sp>
          <p:nvSpPr>
            <p:cNvPr id="59" name=""/>
            <p:cNvSpPr/>
            <p:nvPr/>
          </p:nvSpPr>
          <p:spPr>
            <a:xfrm>
              <a:off x="0" y="5600880"/>
              <a:ext cx="29718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me(c) = alive(c) 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4360" y="5600880"/>
              <a:ext cx="3149640" cy="520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pend(c) = alive(c) := 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172200"/>
              <a:ext cx="4572000" cy="27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sume/suspend includes staying alive/de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016-4ABD-4CE0-9451-22C7C8D189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way’s Game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676520"/>
            <a:ext cx="1600200" cy="1143000"/>
            <a:chOff x="3352680" y="1676520"/>
            <a:chExt cx="1600200" cy="1143000"/>
          </a:xfrm>
        </p:grpSpPr>
        <p:sp>
          <p:nvSpPr>
            <p:cNvPr id="64" name=""/>
            <p:cNvSpPr/>
            <p:nvPr/>
          </p:nvSpPr>
          <p:spPr>
            <a:xfrm>
              <a:off x="3352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9051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362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2971800"/>
            <a:ext cx="2057400" cy="2590920"/>
            <a:chOff x="3200400" y="2971800"/>
            <a:chExt cx="2057400" cy="2590920"/>
          </a:xfrm>
        </p:grpSpPr>
        <p:sp>
          <p:nvSpPr>
            <p:cNvPr id="100" name=""/>
            <p:cNvSpPr/>
            <p:nvPr/>
          </p:nvSpPr>
          <p:spPr>
            <a:xfrm>
              <a:off x="4114800" y="2971800"/>
              <a:ext cx="228600" cy="1447920"/>
            </a:xfrm>
            <a:prstGeom prst="downArrow">
              <a:avLst>
                <a:gd name="adj1" fmla="val 48333"/>
                <a:gd name="adj2" fmla="val 14169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4648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1055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3352680"/>
              <a:ext cx="2057400" cy="533520"/>
            </a:xfrm>
            <a:custGeom>
              <a:avLst/>
              <a:gdLst>
                <a:gd name="textAreaLeft" fmla="*/ 442800 w 2057400"/>
                <a:gd name="textAreaRight" fmla="*/ 1614600 w 20574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7440" y="3429000"/>
              <a:ext cx="17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 evol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D49-DAF9-4682-8984-9239671094A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2T11:25:59Z</dcterms:modified>
  <cp:revision>706</cp:revision>
  <dc:subject>Illustrating parallel synchronism of ASMs</dc:subject>
  <dc:title>ASM model for Conway's Game of Life</dc:title>
</cp:coreProperties>
</file>