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7C03-9D42-4569-B18C-6955061E6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ECFD-2C12-4C99-B9E6-86DC8256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66FC-ABBA-444F-9B82-428C23081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2723-A093-4FA1-978B-85562CCE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0B4C-B02A-4A68-8C17-EC89F778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D749-ED42-4E02-8167-FA04D3F5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57B8-98D6-46B2-A14E-7E17E344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6631-0503-45FF-9ADE-821B8009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B94B-9368-4A3A-BD2E-8362528B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92B7-C29C-4A75-AE3A-1BA20BB5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ADA7-DC1A-4644-88C6-C98FAB5F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3F27-E97E-4677-B52E-4F2F99BC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F69F-6700-47BD-9B15-7B2D4C2EB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Exclusive Use of Shared Resources</a:t>
            </a: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(Dining Philosophers Problem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clusive use of shared resources: problem state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712000" cy="58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Design a distributed algorithm  tha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every interested agent to eventually use some shared resource in exclusive 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ents two users to use the shared resource simultane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g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et of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nts each equipped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source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esourc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(different agents may have the same resour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wner: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esource </a:t>
            </a:r>
            <a:r>
              <a:rPr b="0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Agent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ecording the current user of a given re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 algorithm has to manipulate updates of 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owne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n such a way that every attempt by an agent to become owner of his 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resour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will eventually succe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ining Philosoph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ACD1-DFD9-4643-B4D2-9C754CF84A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clusive use of shared resources: single agent view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711000"/>
            <a:ext cx="872496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he algorithm has to manipulate updates of </a:t>
            </a:r>
            <a:r>
              <a:rPr b="0" lang="it-IT" sz="2800" spc="-1" strike="noStrike">
                <a:solidFill>
                  <a:srgbClr val="00ffff"/>
                </a:solidFill>
                <a:latin typeface="Arial"/>
              </a:rPr>
              <a:t>owner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in such a way that every attempt by an agent to become owner of his </a:t>
            </a:r>
            <a:r>
              <a:rPr b="0" lang="it-IT" sz="2800" spc="-1" strike="noStrike">
                <a:solidFill>
                  <a:srgbClr val="00ffff"/>
                </a:solidFill>
                <a:latin typeface="Arial"/>
              </a:rPr>
              <a:t>resourc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will eventually succ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very single agent would like to execute alternately the following two ru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1640" y="3762360"/>
            <a:ext cx="4216680" cy="705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wner(resource) = n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n owner(resource):= sel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11680" y="3749760"/>
            <a:ext cx="4267080" cy="705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wner(resource) = sel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n owner(resource):= n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440" y="4800600"/>
            <a:ext cx="8775720" cy="1739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flicts in using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resour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shared among different agent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are risolved by defining a partial order among possibly conflicting moves in a distributed (appropriately initialized) run of an async ASM. Realizing such an order reflects appropriate scheduling and priority polic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ining Philosoph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0944-48B0-4F50-BA48-8E9318231F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ning Philosopher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llustrating exclusive use of shared resourc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054080"/>
            <a:ext cx="8978760" cy="1190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hared resources represented as “forks” used by “philosophers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source assigning function F: depends on the neighbourhood in the underlying grap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.g. each agent may have one left and one right neighbour sharing the resource: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k = (leftF,rightF) with elementwise defined Ow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305080" y="2577960"/>
            <a:ext cx="4057200" cy="2222280"/>
            <a:chOff x="2305080" y="2577960"/>
            <a:chExt cx="4057200" cy="2222280"/>
          </a:xfrm>
        </p:grpSpPr>
        <p:sp>
          <p:nvSpPr>
            <p:cNvPr id="54" name=""/>
            <p:cNvSpPr/>
            <p:nvPr/>
          </p:nvSpPr>
          <p:spPr>
            <a:xfrm>
              <a:off x="2305080" y="2590560"/>
              <a:ext cx="799920" cy="660600"/>
            </a:xfrm>
            <a:prstGeom prst="ellipse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left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76760" y="2577960"/>
              <a:ext cx="785520" cy="660240"/>
            </a:xfrm>
            <a:prstGeom prst="ellipse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right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77920" y="3885840"/>
              <a:ext cx="912600" cy="914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phi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/>
            <p:nvPr/>
          </p:nvCxnSpPr>
          <p:spPr>
            <a:xfrm>
              <a:off x="2999880" y="3141000"/>
              <a:ext cx="1348200" cy="73260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/>
            <p:nvPr/>
          </p:nvCxnSpPr>
          <p:spPr>
            <a:xfrm flipH="1">
              <a:off x="4347720" y="3128760"/>
              <a:ext cx="1355760" cy="74520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/>
            <p:nvPr/>
          </p:nvCxnSpPr>
          <p:spPr>
            <a:xfrm flipV="1">
              <a:off x="4803480" y="3199680"/>
              <a:ext cx="1180080" cy="110592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/>
            <p:nvPr/>
          </p:nvCxnSpPr>
          <p:spPr>
            <a:xfrm rot="10800000">
              <a:off x="2678760" y="3250440"/>
              <a:ext cx="1173600" cy="109260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61" name=""/>
          <p:cNvGrpSpPr/>
          <p:nvPr/>
        </p:nvGrpSpPr>
        <p:grpSpPr>
          <a:xfrm>
            <a:off x="254160" y="5313240"/>
            <a:ext cx="8686800" cy="959400"/>
            <a:chOff x="254160" y="5313240"/>
            <a:chExt cx="8686800" cy="959400"/>
          </a:xfrm>
        </p:grpSpPr>
        <p:sp>
          <p:nvSpPr>
            <p:cNvPr id="62" name=""/>
            <p:cNvSpPr/>
            <p:nvPr/>
          </p:nvSpPr>
          <p:spPr>
            <a:xfrm>
              <a:off x="254160" y="5313240"/>
              <a:ext cx="4368600" cy="9482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f owner(leftF) = owner(rightF) = n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n owner(leftF):= sel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wner(rightF):= self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88000" y="5324400"/>
              <a:ext cx="4152960" cy="9482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f owner(leftF) = owner(rightF) = sel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n owner(leftF):= n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wner(rightF):= none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ining Philosoph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5F1E-F781-4153-9069-54909ECD35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Section 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ining Philosoph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2DF6-D271-455C-A440-EDDD581447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3:12Z</dcterms:modified>
  <cp:revision>716</cp:revision>
  <dc:subject/>
  <dc:title>ASM model for dining philosophers</dc:title>
</cp:coreProperties>
</file>