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52A48-B281-4E01-9724-DC693824C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96812-CE7F-4F7D-BFB1-17A150854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54402-1C6B-435F-A887-64925E079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C6F47-A043-46DC-80E3-90270B96D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28456-54C3-41FA-A21B-C65FAB825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04DBE-F366-4C31-94F8-9A0300619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BDF4-F04C-4759-A1B5-C8EAD8D31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46F3C-9E7D-4E7B-9EE1-1E57AAB79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8EA45-C502-4DBB-96C3-1A4E37FB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48152-8E78-4ABF-BFAB-48F9DBFD6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F35B-F6C0-445C-8F87-B0297C919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D94F-0C4A-4F0F-97B7-A8BB05E87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6A7D-4CD1-4458-A291-B78095A8A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00"/>
                </a:solidFill>
                <a:latin typeface="Arial"/>
              </a:rPr>
              <a:t>Asynchronous ASMs</a:t>
            </a:r>
            <a:r>
              <a:rPr b="0" lang="it-IT" sz="3600" spc="-1" strike="noStrike">
                <a:solidFill>
                  <a:srgbClr val="ffff00"/>
                </a:solidFill>
                <a:latin typeface="Arial"/>
              </a:rPr>
              <a:t> </a:t>
            </a:r>
            <a:br>
              <a:rPr sz="3600"/>
            </a:br>
            <a:br>
              <a:rPr sz="3600"/>
            </a:br>
            <a:r>
              <a:rPr b="0" lang="it-IT" sz="3600" spc="-1" strike="noStrike">
                <a:solidFill>
                  <a:srgbClr val="ffff00"/>
                </a:solidFill>
                <a:latin typeface="Arial"/>
              </a:rPr>
              <a:t>Echo Algorithm</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45"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66A04D3E-45A0-4D36-9FF0-202DDDD6E8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47"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BFEBACD0-BDEE-420E-A51E-40FCDF170D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50" name=""/>
          <p:cNvGrpSpPr/>
          <p:nvPr/>
        </p:nvGrpSpPr>
        <p:grpSpPr>
          <a:xfrm>
            <a:off x="0" y="1479600"/>
            <a:ext cx="9144000" cy="930240"/>
            <a:chOff x="0" y="1479600"/>
            <a:chExt cx="9144000" cy="930240"/>
          </a:xfrm>
        </p:grpSpPr>
        <p:sp>
          <p:nvSpPr>
            <p:cNvPr id="51"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52"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53"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54"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55"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56"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57" name=""/>
            <p:cNvCxnSpPr>
              <a:stCxn id="51" idx="6"/>
              <a:endCxn id="55"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58" name=""/>
            <p:cNvCxnSpPr>
              <a:stCxn id="55" idx="3"/>
              <a:endCxn id="52"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59" name=""/>
            <p:cNvCxnSpPr>
              <a:stCxn id="52" idx="6"/>
              <a:endCxn id="53"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60" name=""/>
            <p:cNvCxnSpPr>
              <a:stCxn id="53" idx="3"/>
              <a:endCxn id="54"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61" name=""/>
            <p:cNvCxnSpPr>
              <a:stCxn id="54" idx="3"/>
              <a:endCxn id="56"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62" name=""/>
          <p:cNvGrpSpPr/>
          <p:nvPr/>
        </p:nvGrpSpPr>
        <p:grpSpPr>
          <a:xfrm>
            <a:off x="0" y="4572000"/>
            <a:ext cx="8978760" cy="1117800"/>
            <a:chOff x="0" y="4572000"/>
            <a:chExt cx="8978760" cy="1117800"/>
          </a:xfrm>
        </p:grpSpPr>
        <p:grpSp>
          <p:nvGrpSpPr>
            <p:cNvPr id="63" name=""/>
            <p:cNvGrpSpPr/>
            <p:nvPr/>
          </p:nvGrpSpPr>
          <p:grpSpPr>
            <a:xfrm>
              <a:off x="0" y="4572000"/>
              <a:ext cx="7429680" cy="1023480"/>
              <a:chOff x="0" y="4572000"/>
              <a:chExt cx="7429680" cy="1023480"/>
            </a:xfrm>
          </p:grpSpPr>
          <p:sp>
            <p:nvSpPr>
              <p:cNvPr id="64"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65"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66"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FE22EFED-9E43-40DC-A125-BA32531403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68" name=""/>
          <p:cNvGrpSpPr/>
          <p:nvPr/>
        </p:nvGrpSpPr>
        <p:grpSpPr>
          <a:xfrm>
            <a:off x="571680" y="863640"/>
            <a:ext cx="7898760" cy="1949400"/>
            <a:chOff x="571680" y="863640"/>
            <a:chExt cx="7898760" cy="1949400"/>
          </a:xfrm>
        </p:grpSpPr>
        <p:grpSp>
          <p:nvGrpSpPr>
            <p:cNvPr id="69" name=""/>
            <p:cNvGrpSpPr/>
            <p:nvPr/>
          </p:nvGrpSpPr>
          <p:grpSpPr>
            <a:xfrm>
              <a:off x="571680" y="863640"/>
              <a:ext cx="7898760" cy="1949400"/>
              <a:chOff x="571680" y="863640"/>
              <a:chExt cx="7898760" cy="1949400"/>
            </a:xfrm>
          </p:grpSpPr>
          <p:sp>
            <p:nvSpPr>
              <p:cNvPr id="70"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71"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72"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3"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4"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75"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76"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77" name=""/>
              <p:cNvCxnSpPr>
                <a:stCxn id="70" idx="6"/>
                <a:endCxn id="75"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78" name=""/>
              <p:cNvCxnSpPr>
                <a:stCxn id="75" idx="3"/>
                <a:endCxn id="73"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79" name=""/>
              <p:cNvCxnSpPr>
                <a:stCxn id="73" idx="3"/>
                <a:endCxn id="71"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80" name=""/>
              <p:cNvCxnSpPr>
                <a:stCxn id="72" idx="1"/>
                <a:endCxn id="76"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81" name=""/>
              <p:cNvCxnSpPr>
                <a:stCxn id="76" idx="1"/>
                <a:endCxn id="74"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82" name=""/>
            <p:cNvCxnSpPr>
              <a:stCxn id="71" idx="4"/>
              <a:endCxn id="72"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83" name=""/>
          <p:cNvGrpSpPr/>
          <p:nvPr/>
        </p:nvGrpSpPr>
        <p:grpSpPr>
          <a:xfrm>
            <a:off x="0" y="3365640"/>
            <a:ext cx="7734240" cy="1887480"/>
            <a:chOff x="0" y="3365640"/>
            <a:chExt cx="7734240" cy="1887480"/>
          </a:xfrm>
        </p:grpSpPr>
        <p:sp>
          <p:nvSpPr>
            <p:cNvPr id="84"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85"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86" name=""/>
          <p:cNvGrpSpPr/>
          <p:nvPr/>
        </p:nvGrpSpPr>
        <p:grpSpPr>
          <a:xfrm>
            <a:off x="0" y="4127400"/>
            <a:ext cx="9144000" cy="2339280"/>
            <a:chOff x="0" y="4127400"/>
            <a:chExt cx="9144000" cy="2339280"/>
          </a:xfrm>
        </p:grpSpPr>
        <p:sp>
          <p:nvSpPr>
            <p:cNvPr id="87"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88"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89"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03318835-DE7B-4C2B-A7EF-6748F086CC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9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7BE8A8CD-353C-4D96-BEBD-1522436749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9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1. In every echo ASM run, each time an agent executes InformAllOtherNeighbors, in the spanning tree of  agents waitingForAck the distance to the initiator grows until leafs are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downward induction on echo ASM runs</a:t>
            </a:r>
            <a:endParaRPr b="0" lang="en-US" sz="2800" spc="-1" strike="noStrike">
              <a:solidFill>
                <a:srgbClr val="ffffff"/>
              </a:solidFill>
              <a:latin typeface="Times New Roman"/>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2. In every echo ASM run, each time an agent executes InformParentNeighbor, in the spanning tree the distance to the initiator of nodes with a subtree of informed agents shrinks, until the initiator is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upward induction on echo ASM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A0A31AAC-2241-4446-ABF5-163B86049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9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B14D4D39-09F8-4B39-A0E5-F053560FC0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97"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definition of a Petri net in Section 33 and a detailed termination and correctness proof in Section 7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6.1</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F4F46C5E-5030-4428-B5A1-05F06AE30D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23Z</dcterms:modified>
  <cp:revision>763</cp:revision>
  <dc:subject>The ASM Method</dc:subject>
  <dc:title>The ASM Method</dc:title>
</cp:coreProperties>
</file>